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3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675-6513-4473-AC92-931ED41C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76A-2C15-47DB-92F4-06DAE570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E5F-AF89-47AB-9CFB-1E051E1A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8CA-BB2C-4924-ADDA-C70AB1BB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2656-692F-4C78-AD2F-170F51C5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D04A-A91F-438E-8FA3-0E79FAE0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6E7A-2E79-44CD-B65A-D842769B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1977-244C-4BE4-BEC5-50590F2B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4C6B-BE75-42E1-859D-32F2D0CB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993D-8E77-4B08-9A2E-BB8FCE33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DD8C-CA1B-4D2F-9BC7-BA1B017A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B85-5FB7-4B00-A633-6C262DBC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3677-AEC4-4167-A088-80CC420B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0EC0-4A5A-4EC1-BA4E-C4225CCB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6A80-EB72-4E81-81CD-7194A827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9439-3713-4EC6-87C7-2C686A52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3906-C987-4BC0-B377-F4E5711D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79EA-7FA4-4C3B-845C-F323F354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3DFE-B1E1-4C42-8580-5F6B122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6C91-E406-4206-873A-8E8C352C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EE59-B732-4072-88C0-985A5AD2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47C6-698B-4328-BEB6-0FB4961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8D7-E308-42EB-BEF7-E9186DE3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AFCB-4118-4348-8B0C-662F44D1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FA7C-1DDB-4314-9A5B-1B0EEE7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EE2A-0433-4B93-BC70-0E64ED5C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FEA1-3F7C-4B89-839E-82550D46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22A8-8930-484D-8DC8-E16D5663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54F4-593F-4CC0-841D-54415670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E9B6-1EE4-45DD-BD47-67137279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EC520-6CA9-4CB1-9587-18CE070D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152D-9ECB-4E5E-9089-5AB86577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D917-2F70-4235-ABC9-CAAF2105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BA2-5859-4CE8-AAE8-5446BF55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8B7C4-4A63-43B5-8612-19E6F8A3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F4347-7F9E-40FA-A382-2D415EBB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778F-8365-4450-8C72-40E08B4C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9C99-55B0-44A8-ACBF-6AE4EF06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7580-6D71-4FE8-87DF-8E1CD49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DC1D-28C6-4FFC-B320-90E21AE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7113-6C78-454A-A099-7CCC0AE4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96701-A958-451A-972E-7385DC01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6C3F-990A-4531-A649-FA672E42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BC1-56C4-4C07-811B-94182200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A83-AACF-4FCC-AEC3-56743554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1230-AADD-49EA-ACB5-14996267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CD914-95B8-479B-9DF4-63CCCFB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EE59-B5AF-458E-87CA-09783182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0012F-7A75-45AC-B9FB-7E4A91E5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A558-D617-4DA1-82CE-10335404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63796-BECC-45DA-AEA2-0EC76596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F7EC-785F-4F59-BFED-2B78E14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F8462-47AA-47C1-A55A-A906259F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84387-7176-473E-BB4D-04BCA28C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26C-4ACC-4799-ABF0-1B8018FB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C2DB-C462-4BB0-B683-4A587EB6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EE8D5-0FD7-454B-866F-3E7E20C9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80C6-716D-4604-8AF8-89526225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8AB30-D030-4DBA-92A5-3714EADB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64171-1B5A-4F36-BD54-03A51FFB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69F44-9A95-4E9A-8AB0-A1FF4D86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08E1-0D90-4FEA-922C-842FAF54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FF0F-43A1-48DD-BE34-8BE7BDC4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59877-B21A-4BB0-B3CC-6F7A59FD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0E689-F95F-4EE5-B6F4-D76E7A5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8DA-6BD6-4BC3-BCE4-59B9A424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59825-B56F-4A07-8E31-BA01C38A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0F417-5850-4C3D-9511-7DB13CCD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D6F9C-29B8-4923-9964-FC61B7CE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654BB-0256-4BC0-B484-EE4267FD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907FD-ECFB-4810-B166-714BEA50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8FE1C-6FFA-4381-851A-7FCEA31D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5F159-B948-4F51-ABF4-4A1B5D93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81040-E0E2-47C0-8F1C-B7997CC0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3AE96-21F5-474B-8495-FB9CAA16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3EE69-2675-4A4C-A6DF-60B74347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77E-0063-4853-A250-816C1A7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7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D8DA-3B9D-4690-AA51-41F882F8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B4C86-961B-4522-A90F-EE600CAD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41776-36C5-4C9E-84AE-9D7BA6E9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3B110-3795-4DE7-9CA7-48E3021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28120"/>
            <a:ext cx="77724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CE85-121E-4A06-9F59-C6152609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7604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28120"/>
            <a:ext cx="379260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C688D-14C2-4A29-8FD9-4DA8D803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2360" cy="1964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A48C3-1F7B-4931-9BA2-052B7B23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2680" indent="-147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-117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82224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51040"/>
            <a:ext cx="1905120" cy="452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marL="216000"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52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marL="216000"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51040"/>
            <a:ext cx="1905120" cy="452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marL="216000"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01BC784D-B7FF-4EE0-A9AF-46627132A5CB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427A-E764-48F8-82B4-FE261557C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C98-E346-49DC-A16E-4048BCAF5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79BA-0599-4AE2-9A82-B7BEAC30B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29F6-B90D-4FCD-BB94-D8D41A8D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AB82-0A7F-41C6-AD45-E0471860D1A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A13D-2928-42B1-9166-1088105ADD6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我国古代四大发明是什么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854064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指南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造纸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印刷术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火    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6000" y="404640"/>
            <a:ext cx="158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-166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4383000" cy="5832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5508720" y="549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08720" y="1125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92720" y="1700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发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92720" y="22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76720" y="2852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196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算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16360" y="458136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刻，制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76720" y="530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03640" y="393372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表示强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 rot="21180600">
            <a:off x="0" y="260280"/>
            <a:ext cx="32796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自学检查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205000"/>
            <a:ext cx="79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１、其上以松脂、蜡和纸灰之类冒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２、持就火炀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３、更互用之，瞬息可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４、有奇字素无备者，旋刻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５、用讫再火令药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６、其印为予群从所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763640" y="263700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用自己的语言描述活字印刷术的过程吗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 rot="1394400">
            <a:off x="4525920" y="779400"/>
            <a:ext cx="3733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7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课堂讨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checker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文说明对象是什么？说明对象的特点是什么？课文是如何体现这一特点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1000"/>
          </a:bodyPr>
          <a:p>
            <a:pPr marL="142560" indent="0">
              <a:spcBef>
                <a:spcPts val="7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对象：活板（活字版印刷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198900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：活（灵活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318960" y="3284640"/>
            <a:ext cx="24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8880" y="3789360"/>
            <a:ext cx="66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灵活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58920" y="2637000"/>
            <a:ext cx="216000" cy="4221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9800 h 4221000"/>
              <a:gd name="textAreaBottom" fmla="*/ 4111200 h 42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0920" y="4508640"/>
            <a:ext cx="1008360" cy="3603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71640" y="2637000"/>
            <a:ext cx="288720" cy="4221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109800 h 4221000"/>
              <a:gd name="textAreaBottom" fmla="*/ 4111200 h 42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40000" y="24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00720" y="249228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字为一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32097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版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98920" y="3213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密布字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8000" y="400212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印刷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35640" y="400536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互用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47214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印数目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4653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字皆有数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08000" y="5442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法是活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98920" y="5445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字无备，旋刻急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6165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存放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00720" y="616572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韵一帖，木格贮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说说下面句子运用了什么说明方法？作用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2949840" cy="4446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1000"/>
          </a:bodyPr>
          <a:p>
            <a:pPr marL="14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薄如钱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14810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打比方，形象地说明了刻字的厚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21286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字平如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27781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打比方，形象地说明了字模平整的程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1280" y="350028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以木为之者……殊不沾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9640" y="4162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比较，交代了不用木料制作字模的原因，突出了用胶泥制作字模的优越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373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优越性：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遇水不变形。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与药相沾。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拆板方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 rot="19162200">
            <a:off x="-318960" y="404280"/>
            <a:ext cx="477684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3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资料搜集</a:t>
            </a:r>
            <a:endParaRPr b="0" lang="en-US" sz="6000" spc="-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3" name=""/>
          <p:cNvSpPr/>
          <p:nvPr/>
        </p:nvSpPr>
        <p:spPr>
          <a:xfrm>
            <a:off x="2484360" y="2060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印刷术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活字印刷术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你了解多少呢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89154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《辞海》中，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印刷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这样介绍的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692280"/>
            <a:ext cx="6287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我国是最早发明印刷术的国家。早期的印刷方法是把图文刻在木板上用水墨印刷的，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刻板印刷术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。刻板印刷在我国唐代已开始盛行，并先后传至日本、朝鲜、越南、菲律宾、伊朗等国，影响到非洲和欧洲。宋代庆历年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41—1048)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毕昇首创泥活字板，使书籍印刷更为方便。之后，又陆续出现用木、锡、铜和铅等金属制成活字板印刷书籍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年左右德人谷登堡用铅合金制成活字板，用油墨印刷，为现代金属活字印刷术奠定了基础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    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可见，毕昇的活字印刷早于西方四百多年，毕昇开创了现代印刷术的先河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343560" y="457200"/>
            <a:ext cx="2311560" cy="6248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340000" y="2492280"/>
            <a:ext cx="4608360" cy="266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活 板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338" name=""/>
          <p:cNvSpPr/>
          <p:nvPr/>
        </p:nvSpPr>
        <p:spPr>
          <a:xfrm>
            <a:off x="3708360" y="4365720"/>
            <a:ext cx="194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79640" y="4220640"/>
            <a:ext cx="165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沈 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203280" y="1557360"/>
            <a:ext cx="594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汉仪南宫体简"/>
                <a:ea typeface="汉仪南宫体简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沈括：（</a:t>
            </a: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031—1095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字存中，杭州人，北宋科学家、政治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代表作《梦溪笔谈》，内容涉及天文、地理、数学、物理、化学、生物、医学、文艺、历史等各个方面。这部书被英国著名学者李约瑟誉为“中国科技史上的坐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21144000">
            <a:off x="4716360" y="-23796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汉仪萝卜体简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>
            <a:lum contrast="40000"/>
          </a:blip>
          <a:srcRect l="-9059" t="0" r="-9059" b="8314"/>
          <a:stretch/>
        </p:blipFill>
        <p:spPr>
          <a:xfrm>
            <a:off x="0" y="2205000"/>
            <a:ext cx="3962520" cy="4192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 rot="20660400">
            <a:off x="0" y="620640"/>
            <a:ext cx="41720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你了解沈括吗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p:transition>
    <p:cover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-45396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 rot="20281200">
            <a:off x="2127960" y="1411920"/>
            <a:ext cx="4103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自读课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熟读课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748600" y="2781360"/>
            <a:ext cx="3335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隶书"/>
              </a:rPr>
              <a:t>一  读正字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隶书"/>
              </a:rPr>
              <a:t>二  读准节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994800">
            <a:off x="7333920" y="9504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 rot="19638000">
            <a:off x="281160" y="835200"/>
            <a:ext cx="32796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友情提示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p:transition>
    <p:wipe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7926480" cy="42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 后 典 籍 皆 为 板 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 上 以 松 脂、蜡 和 纸 灰 之 类 冒 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 以 一 铁 范 置 铁 板 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 备 一 板 内 有 重 复 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 讫 再 火 令 药 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 印 为 予 群 从 所 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676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523880" cy="13780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820960" y="1600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4280" y="22096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7160" y="22096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20760" y="2819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8160" y="2819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38440" y="34448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342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54280" y="4038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05120" y="3978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5428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 rot="1270200">
            <a:off x="3970080" y="907560"/>
            <a:ext cx="51735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4128000"/>
                </a:gra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我能读准节奏吗</a:t>
            </a:r>
            <a:r>
              <a:rPr b="1" i="1" lang="en-US" sz="4400" spc="-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4128000"/>
                </a:gra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?</a:t>
            </a:r>
            <a:endParaRPr b="1" i="1" lang="en-US" sz="4400" spc="-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4128000"/>
              </a:gra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plus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9640" y="1125360"/>
            <a:ext cx="2781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ff66"/>
                    </a:gs>
                  </a:gsLst>
                  <a:lin ang="5400000"/>
                </a:gradFill>
                <a:latin typeface="华文行楷"/>
              </a:rPr>
              <a:t>自学课文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6ff66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364" name=""/>
          <p:cNvSpPr/>
          <p:nvPr/>
        </p:nvSpPr>
        <p:spPr>
          <a:xfrm>
            <a:off x="1116000" y="314172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对照书下注解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自由翻译全文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不懂的可同位讨论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06:26:06Z</dcterms:created>
  <dc:creator>1</dc:creator>
  <dc:description/>
  <dc:language>en-US</dc:language>
  <cp:lastModifiedBy>zmj</cp:lastModifiedBy>
  <cp:lastPrinted>1899-12-30T00:00:00Z</cp:lastPrinted>
  <dcterms:modified xsi:type="dcterms:W3CDTF">2011-04-19T11:57:45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