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wmf" ContentType="image/x-wmf"/>
  <Override PartName="/ppt/media/image25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6.png" ContentType="image/png"/>
  <Override PartName="/ppt/media/wind.wav" ContentType="audio/x-wav"/>
  <Override PartName="/ppt/media/image1.jpeg" ContentType="image/jpeg"/>
  <Override PartName="/ppt/media/image7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12.jpeg" ContentType="image/jpeg"/>
  <Override PartName="/ppt/media/image26.png" ContentType="image/png"/>
  <Override PartName="/ppt/media/image3.jpeg" ContentType="image/jpeg"/>
  <Override PartName="/ppt/media/hammer.wav" ContentType="audio/x-wav"/>
  <Override PartName="/ppt/media/image2.jpeg" ContentType="image/jpeg"/>
  <Override PartName="/ppt/media/image13.jpeg" ContentType="image/jpeg"/>
  <Override PartName="/ppt/media/image18.gif" ContentType="image/gif"/>
  <Override PartName="/ppt/media/image10.jpeg" ContentType="image/jpeg"/>
  <Override PartName="/ppt/media/image14.png" ContentType="image/png"/>
  <Override PartName="/ppt/media/image6.jpeg" ContentType="image/jpeg"/>
  <Override PartName="/ppt/media/type.wav" ContentType="audio/x-wav"/>
  <Override PartName="/ppt/media/image15.wmf" ContentType="image/x-wmf"/>
  <Override PartName="/ppt/media/image19.gif" ContentType="image/gif"/>
  <Override PartName="/ppt/media/image24.png" ContentType="image/png"/>
  <Override PartName="/ppt/media/image20.jpeg" ContentType="image/jpeg"/>
  <Override PartName="/ppt/media/chimes.wav" ContentType="audio/x-wav"/>
  <Override PartName="/ppt/media/image21.jpeg" ContentType="image/jpeg"/>
  <Override PartName="/ppt/media/image2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BB2-9595-46A4-8D1E-3CF5F291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6DA-C63C-405A-BF2F-A531B42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670B-EAC0-462A-89BA-F61CD711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1178-9BB1-4815-A384-F5A40995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0D108-DF13-416F-B247-BF45ABD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D6C2-D757-4BE4-8E79-28AF534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4CBDB-BC98-442C-8C91-1F5481D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6E79A-DD41-4E0C-92A2-9745EDC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3FA1-C057-4295-BD8A-77DF06C4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9231-66D6-4002-9408-CF16FC50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90A03-C85D-4DDC-BED5-B7CE4A29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5A8-ED9D-4669-8101-BB3BFFF0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318-0BAF-43ED-8537-B04485BB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CD8B-5B65-4FCD-A2B7-8079D12F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307-C6B8-4CB5-9F01-47D78CA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7C4-C75A-44D7-8C44-5E19DD1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BC8-9346-445F-8274-3608CCCE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E4F8-02A9-4BFE-B9E6-7372208D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7937-F927-473E-835F-35916F7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D968-AB36-4F93-8627-C6C9F2C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3D6-178D-4700-94CA-F6D2CED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2E80-4F0F-417C-A8FF-63D44A9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B8C4-61CD-4070-A2D2-D392B80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E96E-E88D-4F7B-A108-ECF750E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6A23-904C-48A9-8AFC-0A5935FD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3B7C-5961-4D05-B951-D6F59230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8570-13F9-47F8-8B47-6B62A0C9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918B-8DA4-4317-AE64-2F47B82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B4A1-5AAF-430B-BC11-83275277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EEF9-7F26-4CED-BD39-CCF169A3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B193-DB20-49AD-AA0E-C7490AF1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312-F91E-4310-8C76-5B0B32D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8830-4309-4F83-85EC-33B29EB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6589-959A-4C08-B22C-92A025F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3E60-5F35-4FF0-B92D-9D0DE55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C640-6FA7-49DA-8C4E-A662FDB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8BB8-6ED9-41A9-9A31-9F6AF7A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EFBA-C5C8-4EEC-8249-0C502D6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E131-B5FD-453B-9C84-0C1A6BD9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064D-6CF1-49E0-B9A8-0F3D6DD1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E2A7-C002-4028-9420-E3BEFB74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8FAE-1A6F-498F-8018-90EEB34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E22-A763-49D1-9EBA-8C0BDC9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3780-9BAF-4CAB-9664-23AE3F1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5B49-151A-4258-8FB6-9ADA0093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45EE-0F61-47E6-8B1C-BC2DCF8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CF70-CE17-48BB-8638-65AF534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E6B8-DB77-45FD-9546-1B24881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6867-A5D8-422C-B35E-2FE9829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37D7-CE26-489B-91B9-8CDB1E2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CD6C-3FCF-4FD2-9DB6-1C9FC43C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F0C9-3FEA-4BAC-AF5D-B83E749C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6D4B-C74D-45D2-A29C-767CD2FB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2E8-1630-45F8-A2A1-C497A99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CC72-DBF8-439E-BE51-70AF553C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E1FF-0FAC-435A-B498-63D8D69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9C21-30B6-4A2E-8664-87A2518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3CB6-A846-45CC-B20C-B30EC34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2CC2-56D8-459A-BA17-1FA4033D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D5E7-4051-42E3-B45E-9333C71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27EA4-BCD4-4FBE-A666-BAF6474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84F5-011A-4326-88FA-186CC8D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BBC2-154D-493A-9B7C-E9D6C7D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8959-C582-45B6-9A4D-6EC87D56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E98-7CC1-4530-A519-8A3CB90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0D4A-5E2F-43C0-96E7-BED840E9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3E73-195E-41B1-A08A-61759CA4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F433D-4829-43CC-8371-5383AAB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4123-07F0-4603-8678-BACC5FB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0060-6E5B-4567-AE0C-D450905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3797-E559-4F59-99D6-605F2889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3A89-CE92-42B7-AC51-04402139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3551-FD2F-4D4E-8A99-EA229D7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372A-FC04-4710-8EFF-1CDECC9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AF89-760C-43BC-B487-895CDD8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26C-5084-41B8-9094-246EC2F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B945-C2DC-4B79-B1FF-9F4E075A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40A3-B0A8-44D1-862B-0CE9738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23321-9C63-4F47-8908-19CBE473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73A97-78EF-4869-B215-F994F2E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4405-BA92-4082-9924-596FE937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805C-5251-4809-8016-4AE5186B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A3E73-500A-4F58-9E71-8F9019D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7822-988A-4729-A7E3-B31B5554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9E5B-EBF0-4B0D-953D-F38E8840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5371-8033-4860-96A7-F55F795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6F4-72D2-4A47-B66E-D256C6E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03A1-2BF0-469A-825F-B20AC18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FA69-63AA-4E51-957E-74BA7E1A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4A5BD-81F4-4CBD-A20F-6F51681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F5215-B230-4E66-A726-24E37E6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D0E9-730A-4E00-BE08-CFB6BE7F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243-1C6A-4FB5-8391-55344A3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3E87-DA1B-4B90-A89D-86465150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3B10-51D3-489C-A37C-7EAD74F9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CD06-2814-4DB2-AD04-C6DDB62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2B29A5C0-38D7-4D8A-87E5-6B6DBE2FA694}" type="slidenum"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312-AB75-465C-BF74-665AC4BF3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B56-C741-46C7-9468-6BBC1FC5F2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420-FE6B-47D8-8BBF-A85E19F06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772-8A1A-4ADA-90C8-B9120B473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287-F3E8-4392-9641-733101931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FAC-40F3-40A3-906B-AE1CD5D8C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49E2-F9E6-479C-B7F5-5A8D3A978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5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hammer.wav"/><Relationship Id="rId15" Type="http://schemas.openxmlformats.org/officeDocument/2006/relationships/audio" Target="../media/hammer.wav"/><Relationship Id="rId16" Type="http://schemas.openxmlformats.org/officeDocument/2006/relationships/audio" Target="../media/hammer.wav"/><Relationship Id="rId17" Type="http://schemas.openxmlformats.org/officeDocument/2006/relationships/audio" Target="../media/hammer.wav"/><Relationship Id="rId18" Type="http://schemas.openxmlformats.org/officeDocument/2006/relationships/slideLayout" Target="../slideLayouts/slideLayout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3.wm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我国古代四大发明是什么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造纸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印刷术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    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36000" y="404640"/>
            <a:ext cx="158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法：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胶泥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刻字，薄如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钱唇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每字为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印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烧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令坚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5406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它的方法是：用黏土刻字，字模薄得像铜钱边缘似的，每个字刻一个字模，用火烧使它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365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胶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9280" y="4227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钱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4803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5380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火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5956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令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47640" y="306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活字版印刷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19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黏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9280" y="479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字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92360" y="422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铜钱的边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47640" y="5373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词作状语，意思是“用火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59500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“令之坚”，令，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先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铁板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上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松脂、蜡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纸灰之类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先设置一块铁板，在它的上面用松脂、蜡混合着纸灰一类东西覆盖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3141720"/>
            <a:ext cx="79236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设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冒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9280" y="2924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47640" y="3573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铁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19280" y="4221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，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86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19280" y="5451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蒙，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47640" y="6100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“铁板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115920"/>
            <a:ext cx="85914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欲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印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以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铁范置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铁板上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密布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印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满铁范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板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持就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火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炀之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稍熔，则以一平板按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面，则字平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砥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35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想要印刷，就把一个铁框子放在铁板上面，便在铁框内密密地排上字模，排满了一铁框就成为一块印版，把它拿到火上烘烤；待铁板上的药物稍稍熔化，就用一块平板按在字模上面，那么字模就像磨刀石那样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41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欲：                      则：               以：                             铁范：                  置：               乃：                   字印：                  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其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砥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26920" y="3141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，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67280" y="3141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词，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04000" y="3141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，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铁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84720" y="3716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32720" y="371628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，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58920" y="42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11640" y="429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42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4797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靠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84720" y="486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479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铁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6920" y="5373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8000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好的字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7080" y="537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止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印三二本，未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简易；若印数十百千本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极为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速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如果只印三两本，不能算是简便；如果印几十本乃至成百上千本，那就极其快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0920" y="2924280"/>
            <a:ext cx="1008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神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58920" y="292428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87280" y="36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“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16000" y="4365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87280" y="508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587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异乎寻常地快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常作二铁板，一板印刷，一板已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布字，此印者才毕，则第二板已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互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用之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瞬息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可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823760"/>
            <a:ext cx="85406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通常是做两块铁板，这一块在印刷，那一块已另外在排字了，这块印刷才完，第二块板已准备好，两块互相交替使用，很短时间就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4005360"/>
            <a:ext cx="6696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：                           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更互：                      瞬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32000" y="40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另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32360" y="3933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4724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替、轮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76720" y="4724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极其短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03280" y="551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每一字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皆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数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印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如“之”“也”等字，每字有二十余印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备一板内有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复者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8423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每一个字都有好几个字模，像“之”“也”等字，每个字有二十多个字模，用来准备同一版内有重复的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39640" y="3500280"/>
            <a:ext cx="1584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重复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3500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19280" y="422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7640" y="49417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词，用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68360" y="57340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复的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用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以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帖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每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韵为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帖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木格贮之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5406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译文：不用时，就用纸条给它们做标志，（按字的韵部分类）每一个韵部做一个标签，用木格子把它们贮存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3573360"/>
            <a:ext cx="8064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则：                        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帖：                             之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韵：                        为：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帖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19280" y="35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0872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03280" y="4365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词，用标签标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4365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用的字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63640" y="52293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韵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0872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6093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词，标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字素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备者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刻之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草火烧，瞬息可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54064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遇到平时没有准备的生僻字，随即刻制，用草烧火烘烤，一会儿就能制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2852640"/>
            <a:ext cx="122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92360" y="2852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法特殊，或生僻、不常用的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357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时，一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19280" y="4365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即，立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63640" y="5084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19280" y="5734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，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木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之者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理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疏密，沾水则高下不平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兼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与药相粘，不可取；不若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燔土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用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讫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再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令药熔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手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拂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之，其印自落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殊不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沾污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541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不用木料制作字模的原因，是因为木料的纹理有疏有密，一沾水就会变得高低不平，再加上木刻的字会和药物粘在一起，（拆板时）拿不下来，不像用胶泥烧制的字模，印完后再用火一烤，使药物熔化，用手轻轻一掸，那些字模就会自己掉下来，一点也不会被药物弄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3933720"/>
            <a:ext cx="871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：                     为：                    之：                                者：                    文理：                 兼：               燔土：                                             讫：                火：                           以：              拂：               殊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1280" y="3860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，制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77080" y="38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00000" y="4365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24360" y="4365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纹理，质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4365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4869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烧过的黏土字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88000" y="486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了，完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42920" y="5373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火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00720" y="537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04000" y="537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擦拭，掸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5892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点也不。疏，极、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昇死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印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予群从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所得，至今保藏。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54064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毕昇死后，他的字模被我的堂兄弟和侄儿们得到，到今天还珍贵的收藏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2924280"/>
            <a:ext cx="1079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8000" y="29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，也可解释为那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8000" y="3645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63640" y="4365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63640" y="508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，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92360" y="587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堂房亲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76108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042920" y="227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42920" y="37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42920" y="5373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63640" y="981000"/>
            <a:ext cx="287280" cy="935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63640" y="765000"/>
            <a:ext cx="720720" cy="1224000"/>
          </a:xfrm>
          <a:custGeom>
            <a:avLst/>
            <a:gdLst>
              <a:gd name="textAreaLeft" fmla="*/ 460440 w 720720"/>
              <a:gd name="textAreaRight" fmla="*/ 721080 w 720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35280" y="692280"/>
            <a:ext cx="433080" cy="1152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11280" y="285264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763640" y="549360"/>
          <a:ext cx="677880" cy="86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549360"/>
                    <a:ext cx="677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4" name=""/>
          <p:cNvGrpSpPr/>
          <p:nvPr/>
        </p:nvGrpSpPr>
        <p:grpSpPr>
          <a:xfrm>
            <a:off x="2340000" y="333360"/>
            <a:ext cx="4032360" cy="1239840"/>
            <a:chOff x="2340000" y="333360"/>
            <a:chExt cx="4032360" cy="1239840"/>
          </a:xfrm>
        </p:grpSpPr>
        <p:sp>
          <p:nvSpPr>
            <p:cNvPr id="535" name=""/>
            <p:cNvSpPr/>
            <p:nvPr/>
          </p:nvSpPr>
          <p:spPr>
            <a:xfrm>
              <a:off x="2340000" y="40464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板印书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40000" y="105264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每字为一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59280" y="333360"/>
              <a:ext cx="15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印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88000" y="98100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字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9" name=""/>
          <p:cNvGraphicFramePr/>
          <p:nvPr/>
        </p:nvGraphicFramePr>
        <p:xfrm>
          <a:off x="1692360" y="2133720"/>
          <a:ext cx="745920" cy="895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2133720"/>
                    <a:ext cx="745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1" name=""/>
          <p:cNvGrpSpPr/>
          <p:nvPr/>
        </p:nvGrpSpPr>
        <p:grpSpPr>
          <a:xfrm>
            <a:off x="2268360" y="1916280"/>
            <a:ext cx="4822920" cy="1169640"/>
            <a:chOff x="2268360" y="1916280"/>
            <a:chExt cx="4822920" cy="1169640"/>
          </a:xfrm>
        </p:grpSpPr>
        <p:sp>
          <p:nvSpPr>
            <p:cNvPr id="542" name=""/>
            <p:cNvSpPr/>
            <p:nvPr/>
          </p:nvSpPr>
          <p:spPr>
            <a:xfrm>
              <a:off x="2268360" y="20052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以纸贴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8360" y="256536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每韵为一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59280" y="191628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用标签标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03640" y="2492280"/>
              <a:ext cx="13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标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692360" y="3500280"/>
          <a:ext cx="745920" cy="100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500280"/>
                    <a:ext cx="7459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8" name=""/>
          <p:cNvGrpSpPr/>
          <p:nvPr/>
        </p:nvGrpSpPr>
        <p:grpSpPr>
          <a:xfrm>
            <a:off x="2340000" y="3284640"/>
            <a:ext cx="4753080" cy="1239480"/>
            <a:chOff x="2340000" y="3284640"/>
            <a:chExt cx="4753080" cy="1239480"/>
          </a:xfrm>
        </p:grpSpPr>
        <p:sp>
          <p:nvSpPr>
            <p:cNvPr id="549" name=""/>
            <p:cNvSpPr/>
            <p:nvPr/>
          </p:nvSpPr>
          <p:spPr>
            <a:xfrm>
              <a:off x="2340000" y="33559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火烧令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40000" y="4003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用讫再火令药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80000" y="32846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用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51640" y="393228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用火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3" name=""/>
          <p:cNvGraphicFramePr/>
          <p:nvPr/>
        </p:nvGraphicFramePr>
        <p:xfrm>
          <a:off x="1763640" y="5229360"/>
          <a:ext cx="677880" cy="1044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63640" y="5229360"/>
                    <a:ext cx="6778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5" name=""/>
          <p:cNvGrpSpPr/>
          <p:nvPr/>
        </p:nvGrpSpPr>
        <p:grpSpPr>
          <a:xfrm>
            <a:off x="2268360" y="5084640"/>
            <a:ext cx="4248360" cy="1241280"/>
            <a:chOff x="2268360" y="5084640"/>
            <a:chExt cx="4248360" cy="1241280"/>
          </a:xfrm>
        </p:grpSpPr>
        <p:sp>
          <p:nvSpPr>
            <p:cNvPr id="556" name=""/>
            <p:cNvSpPr/>
            <p:nvPr/>
          </p:nvSpPr>
          <p:spPr>
            <a:xfrm>
              <a:off x="2268360" y="508464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持就火炀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40000" y="580536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瞬息可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64000" y="508464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靠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64000" y="58053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完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207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印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2" name=""/>
          <p:cNvGraphicFramePr/>
          <p:nvPr/>
        </p:nvGraphicFramePr>
        <p:xfrm>
          <a:off x="395280" y="404640"/>
          <a:ext cx="4383000" cy="583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04640"/>
                    <a:ext cx="438300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5508720" y="549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08720" y="1125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92720" y="1700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2720" y="22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76720" y="285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196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16360" y="45813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，制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03640" y="393372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050920" y="1844640"/>
            <a:ext cx="1109880" cy="13683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00720" y="1916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每字为一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62920" y="5029200"/>
            <a:ext cx="198108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5181480"/>
            <a:ext cx="1981080" cy="685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1636560" cy="23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55640" y="378900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火烧令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897440" cy="17287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H="1">
            <a:off x="5181480" y="16765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2362320"/>
            <a:ext cx="7772400" cy="1296720"/>
          </a:xfrm>
          <a:prstGeom prst="parallelogram">
            <a:avLst>
              <a:gd name="adj" fmla="val -15719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2362320"/>
            <a:ext cx="6781680" cy="987480"/>
          </a:xfrm>
          <a:prstGeom prst="parallelogram">
            <a:avLst>
              <a:gd name="adj" fmla="val 16463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19320" y="2133360"/>
            <a:ext cx="6860520" cy="1365120"/>
            <a:chOff x="1219320" y="2133360"/>
            <a:chExt cx="6860520" cy="1365120"/>
          </a:xfrm>
        </p:grpSpPr>
        <p:grpSp>
          <p:nvGrpSpPr>
            <p:cNvPr id="585" name=""/>
            <p:cNvGrpSpPr/>
            <p:nvPr/>
          </p:nvGrpSpPr>
          <p:grpSpPr>
            <a:xfrm>
              <a:off x="1219320" y="2133360"/>
              <a:ext cx="6705360" cy="1296000"/>
              <a:chOff x="1219320" y="2133360"/>
              <a:chExt cx="6705360" cy="1296000"/>
            </a:xfrm>
          </p:grpSpPr>
          <p:sp>
            <p:nvSpPr>
              <p:cNvPr id="586" name=""/>
              <p:cNvSpPr/>
              <p:nvPr/>
            </p:nvSpPr>
            <p:spPr>
              <a:xfrm flipV="1">
                <a:off x="1219320" y="3124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4480" y="3124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819160" y="21337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924680" y="21337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1219320" y="2133360"/>
                <a:ext cx="1599840" cy="9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219320" y="2133720"/>
                <a:ext cx="6705000" cy="1295640"/>
                <a:chOff x="1219320" y="2133720"/>
                <a:chExt cx="6705000" cy="12956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219320" y="3124440"/>
                  <a:ext cx="5105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819160" y="2133720"/>
                  <a:ext cx="5105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6324480" y="2133720"/>
                  <a:ext cx="159984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1676160" y="2438280"/>
                  <a:ext cx="1142640" cy="68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819160" y="2438280"/>
                  <a:ext cx="45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6324480" y="2437920"/>
                  <a:ext cx="1599840" cy="99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219320" y="3429360"/>
                  <a:ext cx="518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1219320" y="3125160"/>
              <a:ext cx="5105160" cy="30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9746600">
              <a:off x="6018120" y="2664000"/>
              <a:ext cx="2133720" cy="308160"/>
            </a:xfrm>
            <a:prstGeom prst="parallelogram">
              <a:avLst>
                <a:gd name="adj" fmla="val 5177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666880" y="1905120"/>
            <a:ext cx="38124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718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148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814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36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05720" y="1905120"/>
            <a:ext cx="53316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340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2428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48520" y="2060640"/>
            <a:ext cx="45720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2060640"/>
            <a:ext cx="304920" cy="606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460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2214720"/>
            <a:ext cx="45720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24480" y="2214720"/>
            <a:ext cx="381240" cy="5950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828800" y="2357280"/>
            <a:ext cx="4648320" cy="607680"/>
            <a:chOff x="1828800" y="2357280"/>
            <a:chExt cx="4648320" cy="607680"/>
          </a:xfrm>
        </p:grpSpPr>
        <p:sp>
          <p:nvSpPr>
            <p:cNvPr id="638" name=""/>
            <p:cNvSpPr/>
            <p:nvPr/>
          </p:nvSpPr>
          <p:spPr>
            <a:xfrm>
              <a:off x="182880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0968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9092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7180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268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3392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480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9568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7692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5780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3868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19920" y="2357280"/>
              <a:ext cx="457200" cy="6076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600200" y="2513160"/>
            <a:ext cx="4648320" cy="605880"/>
            <a:chOff x="1600200" y="2513160"/>
            <a:chExt cx="4648320" cy="605880"/>
          </a:xfrm>
        </p:grpSpPr>
        <p:sp>
          <p:nvSpPr>
            <p:cNvPr id="651" name=""/>
            <p:cNvSpPr/>
            <p:nvPr/>
          </p:nvSpPr>
          <p:spPr>
            <a:xfrm>
              <a:off x="160020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108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6232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0532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8620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6708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4832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2920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1008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1320" y="2513160"/>
              <a:ext cx="4572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143000" y="1905120"/>
            <a:ext cx="6705720" cy="904680"/>
          </a:xfrm>
          <a:prstGeom prst="parallelogram">
            <a:avLst>
              <a:gd name="adj" fmla="val 18530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15000" y="1371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以松脂、蜡和纸灰之类冒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533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欲印，则以一铁范置铁板上，                                            乃密布字印，满铁范为一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5486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持就火炀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7467480" y="304776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828800"/>
            <a:ext cx="609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258920" y="4941720"/>
            <a:ext cx="792000" cy="47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047760" y="990720"/>
            <a:ext cx="2286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6094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一平板按其面，则字平如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77080" y="3789360"/>
            <a:ext cx="1944720" cy="649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先设一铁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609480"/>
            <a:ext cx="7772400" cy="1820520"/>
            <a:chOff x="0" y="609480"/>
            <a:chExt cx="7772400" cy="1820520"/>
          </a:xfrm>
        </p:grpSpPr>
        <p:sp>
          <p:nvSpPr>
            <p:cNvPr id="674" name=""/>
            <p:cNvSpPr/>
            <p:nvPr/>
          </p:nvSpPr>
          <p:spPr>
            <a:xfrm>
              <a:off x="0" y="1140120"/>
              <a:ext cx="7772400" cy="1289880"/>
            </a:xfrm>
            <a:prstGeom prst="parallelogram">
              <a:avLst>
                <a:gd name="adj" fmla="val -15803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57200" y="609480"/>
              <a:ext cx="6859800" cy="1586880"/>
              <a:chOff x="457200" y="609480"/>
              <a:chExt cx="6859800" cy="158688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457200" y="837000"/>
                <a:ext cx="6859800" cy="1359360"/>
                <a:chOff x="457200" y="837000"/>
                <a:chExt cx="6859800" cy="13593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457200" y="837000"/>
                  <a:ext cx="6705360" cy="1289160"/>
                  <a:chOff x="457200" y="837000"/>
                  <a:chExt cx="6705360" cy="12891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flipV="1">
                    <a:off x="457200" y="182268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>
                    <a:off x="5562360" y="182268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>
                    <a:off x="2057040" y="83700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V="1">
                    <a:off x="7162560" y="83700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V="1">
                    <a:off x="457200" y="837000"/>
                    <a:ext cx="1599840" cy="9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457200" y="837000"/>
                    <a:ext cx="6705000" cy="1289160"/>
                    <a:chOff x="457200" y="837000"/>
                    <a:chExt cx="6705000" cy="128916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457200" y="1822680"/>
                      <a:ext cx="510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057040" y="837000"/>
                      <a:ext cx="510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V="1">
                      <a:off x="5562360" y="837000"/>
                      <a:ext cx="1599840" cy="985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V="1">
                      <a:off x="914040" y="1140120"/>
                      <a:ext cx="1142640" cy="682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057040" y="1140120"/>
                      <a:ext cx="4571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V="1">
                      <a:off x="5562360" y="1139760"/>
                      <a:ext cx="1599840" cy="98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457200" y="2126160"/>
                      <a:ext cx="5181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91" name=""/>
                <p:cNvSpPr/>
                <p:nvPr/>
              </p:nvSpPr>
              <p:spPr>
                <a:xfrm>
                  <a:off x="457200" y="1822680"/>
                  <a:ext cx="5105160" cy="3031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19746600">
                  <a:off x="5256000" y="1364040"/>
                  <a:ext cx="2133720" cy="306360"/>
                </a:xfrm>
                <a:prstGeom prst="parallelogram">
                  <a:avLst>
                    <a:gd name="adj" fmla="val 52074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990720" y="609480"/>
                <a:ext cx="5638680" cy="1208160"/>
                <a:chOff x="990720" y="609480"/>
                <a:chExt cx="5638680" cy="120816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1828800" y="609480"/>
                  <a:ext cx="4800600" cy="753120"/>
                  <a:chOff x="1828800" y="609480"/>
                  <a:chExt cx="4800600" cy="753120"/>
                </a:xfrm>
              </p:grpSpPr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057400" y="609480"/>
                    <a:ext cx="4572000" cy="601920"/>
                    <a:chOff x="2057400" y="609480"/>
                    <a:chExt cx="4572000" cy="60192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2057400" y="609480"/>
                      <a:ext cx="38124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236232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274320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312444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350532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381024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19112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57200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495324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533412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5715000" y="6094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6096240" y="609480"/>
                      <a:ext cx="53316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1828800" y="760680"/>
                    <a:ext cx="4496040" cy="601920"/>
                    <a:chOff x="1828800" y="760680"/>
                    <a:chExt cx="4496040" cy="6019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82880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221004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259092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297180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335304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373392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11480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449604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487692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525780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5639040" y="76068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6019920" y="760680"/>
                      <a:ext cx="30492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1524240" y="912240"/>
                  <a:ext cx="4572000" cy="601920"/>
                  <a:chOff x="1524240" y="912240"/>
                  <a:chExt cx="4572000" cy="60192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152424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190512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28600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66724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04812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42900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81024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19112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57200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95324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334120" y="91224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715000" y="912240"/>
                    <a:ext cx="38124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1219320" y="1064160"/>
                  <a:ext cx="4648320" cy="601920"/>
                  <a:chOff x="1219320" y="1064160"/>
                  <a:chExt cx="4648320" cy="60192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121932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60020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98144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36232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74320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12444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50532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88620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26744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64832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02920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410440" y="10641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990720" y="1215720"/>
                  <a:ext cx="4648320" cy="601920"/>
                  <a:chOff x="990720" y="1215720"/>
                  <a:chExt cx="4648320" cy="6019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99072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37160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75284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13372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51460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89584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327672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365760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03884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41972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80060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5181840" y="121572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60" name=""/>
          <p:cNvSpPr/>
          <p:nvPr/>
        </p:nvSpPr>
        <p:spPr>
          <a:xfrm>
            <a:off x="0" y="304920"/>
            <a:ext cx="7162920" cy="1369800"/>
          </a:xfrm>
          <a:prstGeom prst="parallelogram">
            <a:avLst>
              <a:gd name="adj" fmla="val 1590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77080" y="386064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板已布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2819520"/>
            <a:ext cx="7772400" cy="1820520"/>
            <a:chOff x="0" y="2819520"/>
            <a:chExt cx="7772400" cy="1820520"/>
          </a:xfrm>
        </p:grpSpPr>
        <p:sp>
          <p:nvSpPr>
            <p:cNvPr id="763" name=""/>
            <p:cNvSpPr/>
            <p:nvPr/>
          </p:nvSpPr>
          <p:spPr>
            <a:xfrm>
              <a:off x="0" y="3350160"/>
              <a:ext cx="7772400" cy="1289880"/>
            </a:xfrm>
            <a:prstGeom prst="parallelogram">
              <a:avLst>
                <a:gd name="adj" fmla="val -15803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57200" y="2819520"/>
              <a:ext cx="6859800" cy="1586880"/>
              <a:chOff x="457200" y="2819520"/>
              <a:chExt cx="6859800" cy="158688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457200" y="3047040"/>
                <a:ext cx="6859800" cy="1359360"/>
                <a:chOff x="457200" y="3047040"/>
                <a:chExt cx="6859800" cy="1359360"/>
              </a:xfrm>
            </p:grpSpPr>
            <p:grpSp>
              <p:nvGrpSpPr>
                <p:cNvPr id="766" name=""/>
                <p:cNvGrpSpPr/>
                <p:nvPr/>
              </p:nvGrpSpPr>
              <p:grpSpPr>
                <a:xfrm>
                  <a:off x="457200" y="3047040"/>
                  <a:ext cx="6705360" cy="1289160"/>
                  <a:chOff x="457200" y="3047040"/>
                  <a:chExt cx="6705360" cy="128916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flipV="1">
                    <a:off x="457200" y="403272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5562360" y="403272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V="1">
                    <a:off x="2057040" y="304704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V="1">
                    <a:off x="7162560" y="304704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457200" y="3047040"/>
                    <a:ext cx="1599840" cy="9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457200" y="3047040"/>
                    <a:ext cx="6705000" cy="1289160"/>
                    <a:chOff x="457200" y="3047040"/>
                    <a:chExt cx="6705000" cy="128916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457200" y="4032720"/>
                      <a:ext cx="510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2057040" y="3047040"/>
                      <a:ext cx="510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V="1">
                      <a:off x="5562360" y="3047040"/>
                      <a:ext cx="1599840" cy="985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flipV="1">
                      <a:off x="914040" y="3350160"/>
                      <a:ext cx="1142640" cy="682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2057040" y="3350160"/>
                      <a:ext cx="4571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V="1">
                      <a:off x="5562360" y="3349800"/>
                      <a:ext cx="1599840" cy="98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457200" y="4336200"/>
                      <a:ext cx="5181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0" name=""/>
                <p:cNvSpPr/>
                <p:nvPr/>
              </p:nvSpPr>
              <p:spPr>
                <a:xfrm>
                  <a:off x="457200" y="4032720"/>
                  <a:ext cx="5105160" cy="3031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19746600">
                  <a:off x="5256000" y="3574080"/>
                  <a:ext cx="2133720" cy="306360"/>
                </a:xfrm>
                <a:prstGeom prst="parallelogram">
                  <a:avLst>
                    <a:gd name="adj" fmla="val 52074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990720" y="2819520"/>
                <a:ext cx="5638680" cy="1208160"/>
                <a:chOff x="990720" y="2819520"/>
                <a:chExt cx="5638680" cy="12081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1828800" y="2819520"/>
                  <a:ext cx="4800600" cy="753120"/>
                  <a:chOff x="1828800" y="2819520"/>
                  <a:chExt cx="4800600" cy="753120"/>
                </a:xfrm>
              </p:grpSpPr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2057400" y="2819520"/>
                    <a:ext cx="4572000" cy="601920"/>
                    <a:chOff x="2057400" y="2819520"/>
                    <a:chExt cx="4572000" cy="601920"/>
                  </a:xfrm>
                </p:grpSpPr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2057400" y="2819520"/>
                      <a:ext cx="38124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236232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274320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312444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350532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81024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419112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457200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495324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533412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5715000" y="28195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6096240" y="2819520"/>
                      <a:ext cx="53316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1828800" y="2970720"/>
                    <a:ext cx="4496040" cy="601920"/>
                    <a:chOff x="1828800" y="2970720"/>
                    <a:chExt cx="4496040" cy="60192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182880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221004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259092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297180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35304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373392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411480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449604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487692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25780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639040" y="2970720"/>
                      <a:ext cx="457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6019920" y="2970720"/>
                      <a:ext cx="30492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1524240" y="3122280"/>
                  <a:ext cx="4572000" cy="601920"/>
                  <a:chOff x="1524240" y="3122280"/>
                  <a:chExt cx="4572000" cy="6019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152424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90512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28600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66724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04812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42900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81024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419112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57200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95324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5334120" y="312228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5715000" y="3122280"/>
                    <a:ext cx="38124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1219320" y="3274200"/>
                  <a:ext cx="4648320" cy="601920"/>
                  <a:chOff x="1219320" y="3274200"/>
                  <a:chExt cx="4648320" cy="60192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121932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60020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98144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36232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74320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12444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50532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88620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426744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464832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02920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410440" y="327420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990720" y="3425760"/>
                  <a:ext cx="4648320" cy="601920"/>
                  <a:chOff x="990720" y="3425760"/>
                  <a:chExt cx="4648320" cy="60192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99072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37160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75284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13372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1460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89584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327672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65760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03884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41972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480060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181840" y="3425760"/>
                    <a:ext cx="457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49" name=""/>
          <p:cNvSpPr/>
          <p:nvPr/>
        </p:nvSpPr>
        <p:spPr>
          <a:xfrm>
            <a:off x="1600200" y="4724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更互用之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瞬息可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5410080"/>
            <a:ext cx="327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0" y="56386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058160" y="1557000"/>
            <a:ext cx="2085840" cy="625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板印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思考：课文第一小节讲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说明活版印刷发明前我国雕版印刷发展的历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26920" y="2637000"/>
            <a:ext cx="1297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84360" y="2637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五代是雕版印刷开始推广应用的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84360" y="41450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应用的广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11280" y="55864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明普遍应用的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607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思考：课文第二小节分为几层？意思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440" y="1976040"/>
            <a:ext cx="12222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050920" y="1916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代活版发明的时间和发明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0920" y="2924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活版的制作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8000" y="400536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活版印刷的效能，印得越多速度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79640" y="501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叙述活版印刷的使用方法即注意事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说说下面句子运用了什么说明方法？作用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2949840" cy="444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1000"/>
          </a:bodyPr>
          <a:p>
            <a:pPr marL="14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薄如钱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8360" y="14810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，形象地说明了刻字的厚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9640" y="21286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字平如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9640" y="27781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，形象地说明了字模平整的程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1280" y="3500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以木为之者……殊不沾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9640" y="41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比较，交代了不用木料制作字模的原因，突出了用胶泥制作字模的优越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4360" y="537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优越性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遇水不变形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与药相沾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拆板方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文说明对象是什么？说明对象的特点是什么？课文是如何体现这一特点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1000"/>
          </a:bodyPr>
          <a:p>
            <a:pPr marL="142560" indent="0">
              <a:spcBef>
                <a:spcPts val="7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对象：活板（活字版印刷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4000" y="1989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活（灵活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-324000" y="328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8880" y="3789360"/>
            <a:ext cx="66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灵活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2637000"/>
            <a:ext cx="216000" cy="4221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9800 h 4221000"/>
              <a:gd name="textAreaBottom" fmla="*/ 4111200 h 42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50920" y="4508640"/>
            <a:ext cx="1008360" cy="3603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71640" y="2637000"/>
            <a:ext cx="288720" cy="4221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9800 h 4221000"/>
              <a:gd name="textAreaBottom" fmla="*/ 4111200 h 42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40000" y="24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00720" y="249228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字为一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8000" y="32097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版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98920" y="3213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密布字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08000" y="400212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印刷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35640" y="400536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互用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16000" y="47214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印数目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4653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字皆有数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8000" y="5442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法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8920" y="5445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字无备，旋刻急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6165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放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00720" y="61657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韵一帖，木格贮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9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4211640" y="333360"/>
          <a:ext cx="649440" cy="33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333360"/>
                    <a:ext cx="64944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4356000" y="4508640"/>
          <a:ext cx="395280" cy="101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4508640"/>
                    <a:ext cx="3952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"/>
          <p:cNvSpPr/>
          <p:nvPr/>
        </p:nvSpPr>
        <p:spPr>
          <a:xfrm>
            <a:off x="3048120" y="342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71800" y="342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895480" y="2209680"/>
            <a:ext cx="76320" cy="2895840"/>
          </a:xfrm>
          <a:custGeom>
            <a:avLst/>
            <a:gdLst>
              <a:gd name="textAreaLeft" fmla="*/ 48960 w 76320"/>
              <a:gd name="textAreaRight" fmla="*/ 76320 w 763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276000" y="1981080"/>
            <a:ext cx="75960" cy="2819520"/>
          </a:xfrm>
          <a:custGeom>
            <a:avLst/>
            <a:gdLst>
              <a:gd name="textAreaLeft" fmla="*/ 48600 w 75960"/>
              <a:gd name="textAreaRight" fmla="*/ 76320 w 759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733920" y="297180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00720" y="1557360"/>
            <a:ext cx="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00720" y="1484280"/>
            <a:ext cx="0" cy="309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227640" y="1125360"/>
            <a:ext cx="0" cy="345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27640" y="1557360"/>
            <a:ext cx="0" cy="30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8388360" y="1413000"/>
            <a:ext cx="71280" cy="345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675640" y="907920"/>
            <a:ext cx="0" cy="482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093080" y="836640"/>
            <a:ext cx="0" cy="4248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3200" y="2060640"/>
            <a:ext cx="1399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程   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6720" y="1830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76720" y="47815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91280" y="260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制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19640" y="10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92720" y="18302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排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92720" y="26226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炀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9272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32360" y="4365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板印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932360" y="5084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板布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84360" y="1916280"/>
            <a:ext cx="432000" cy="2952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2482920" y="1916280"/>
          <a:ext cx="642960" cy="316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2920" y="1916280"/>
                    <a:ext cx="64296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1187280" y="3141720"/>
            <a:ext cx="100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80000" y="76356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580000" y="155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8000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3068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42560" y="2923920"/>
            <a:ext cx="13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活</a:t>
            </a:r>
            <a:endParaRPr b="0" lang="en-US" sz="8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4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4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190600" y="1538280"/>
            <a:ext cx="4762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3024360" cy="446400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1770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-805680" y="692280"/>
            <a:ext cx="4752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隶书"/>
                <a:ea typeface="隶书"/>
              </a:rPr>
              <a:t>再见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1" dur="257228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340000" y="2492280"/>
            <a:ext cx="4608360" cy="26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活 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377" name=""/>
          <p:cNvSpPr/>
          <p:nvPr/>
        </p:nvSpPr>
        <p:spPr>
          <a:xfrm>
            <a:off x="3708360" y="4365720"/>
            <a:ext cx="19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779640" y="4220640"/>
            <a:ext cx="165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沈 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348000" y="-360"/>
            <a:ext cx="5796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沈括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31—10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字存中，钱塘（今浙江杭州市）人，北宋著名科学家、政治家。“博学善文，于天文、方志、律历、医药、卜算无所不通，均有所论著”。代表作有《梦溪笔谈》，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卷，内容丰富，包括天文、地理、数学、物理、文艺、历史等各个方面，是包容多种知识的笔记巨著。其中自然科学部分，总结了我国古代特别是北宋时期科学技术所取得的辉煌成就，详细记载了劳动人民在科学技术上的卓越贡献。《梦溪笔谈》被英国著名学者李约瑟誉为“中国科技史上的坐标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02436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活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板印书籍，唐人尚未盛为之。五代时始印五经，已后典籍皆为板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历中，有布衣毕昇，又为活板。其法：用胶泥刻字，薄如钱唇，每字为一印，火烧令坚。先设一铁板，其上以松脂、蜡和纸灰之类冒之。欲印，则以 一铁范置铁板上，乃密布字印，满铁范为一板，持就火炀之；药稍熔，则以一 平板按其面，则字平如砥。若止印三二本，未为简易；若印数十百千本，则极为神速。常作二铁板，一板印刷，一板已自布字，此印者才毕，则第二板已具，更互用之，瞬息可就。每一字皆有数印，如“之”“也”等字，每字有二十余印，以备一板内有重复者。不用，则以纸帖之，每韵为一帖，木格贮之。 有奇字素无备者，旋刻之，以草火烧，瞬息可成。不以木为之者，文理有疏密，沾水则高下不平，兼与药相粘，不可取；不若燔土，用讫再火令药熔，以 手拂之，其印自落，殊不沾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昇死，其印为予群从所得，至今保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33999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板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印书籍，唐人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尚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未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盛为之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1557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译文：用雕版印刷书籍，唐朝人还没有大规模地这么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2708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板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35082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429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盛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5084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587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2781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词作状语，“用雕版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3508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词，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292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大，这里是大规模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76360" y="5084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词，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6360" y="5877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代“板印书籍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代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时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印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经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后典籍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皆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板本。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981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译文：五代的时候才（用雕版）印刷五经，以后的经典文献就都是雕版印刷的本子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五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278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396720" y="3357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五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36360" y="41562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已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108000" y="48038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典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5380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920" y="5956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2211480"/>
            <a:ext cx="79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梁、后唐、后晋、后汉、后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79640" y="2781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词，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3357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诗》《书》《礼》《易》《春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8000" y="4149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，“已”通“以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4797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重要文献，泛指各种重要书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08000" y="537372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8000" y="595008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庆历中，有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衣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毕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昇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又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活板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5406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译文：宋朝庆历年间，有个叫毕昇的平民，又发明了活字版（印刷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60" y="2781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布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3933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508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79640" y="27874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民，这里指没有做官的读书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35280" y="4005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“升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6560" y="5084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6:26:06Z</dcterms:created>
  <dc:creator>1</dc:creator>
  <dc:description/>
  <dc:language>en-US</dc:language>
  <cp:lastModifiedBy>zmj</cp:lastModifiedBy>
  <dcterms:modified xsi:type="dcterms:W3CDTF">2011-04-19T11:57:45Z</dcterms:modified>
  <cp:revision>123</cp:revision>
  <dc:subject/>
  <dc:title>PowerPoint 演示文稿</dc:title>
</cp:coreProperties>
</file>