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gif" ContentType="image/gif"/>
  <Override PartName="/ppt/media/image19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3.png" ContentType="image/png"/>
  <Override PartName="/ppt/media/image25.jpeg" ContentType="image/jpeg"/>
  <Override PartName="/ppt/media/image4.jpeg" ContentType="image/jpeg"/>
  <Override PartName="/ppt/media/image5.jpeg" ContentType="image/jpeg"/>
  <Override PartName="/ppt/media/image12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9.jpeg" ContentType="image/jpeg"/>
  <Override PartName="/ppt/media/image27.wmf" ContentType="image/x-wmf"/>
  <Override PartName="/ppt/media/EXPLODE.WAV" ContentType="audio/x-wav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7.png" ContentType="image/png"/>
  <Override PartName="/ppt/media/image6.jpeg" ContentType="image/jpeg"/>
  <Override PartName="/ppt/media/type.wav" ContentType="audio/x-wav"/>
  <Override PartName="/ppt/media/image15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TYPE.WAV" ContentType="audio/x-wav"/>
  <Override PartName="/ppt/media/image11.jpeg" ContentType="image/jpe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  <p:custShowLst>
    <p:custShow name="自定义放映1" id="0">
      <p:sldLst>
        <p:sld r:id="rId3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6B31-4C2C-48B5-AE81-249AFE9E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44D9-445F-4B67-B851-80C104BC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DA21-7A4E-4708-A03C-67166F58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46AD-DD1D-489E-A92A-A82D519A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3214-6932-43A2-A8AD-643AEA5F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5C42-9D83-48EE-B012-3233ACA2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0915-E403-4D99-ABF6-FFDF5E4E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E53A-A71D-4F17-8D75-5876CA7D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0597-822F-42BB-A57F-884C36F1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9B45-5F6C-43A1-A8B1-1DAB1CC4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73EA-3ADB-4E65-8EA2-F11E6C5E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8F8C-65DE-446A-9988-DB6F5036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7E54-4317-4783-BFDE-37ED9656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29FC-7E71-4D8C-A1C4-E9379686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5F76-0BED-42F3-BA27-0DAC5A41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3696-49E0-4DBF-AFA5-C897AC88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4353-13BE-433B-A125-81A7C395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05849-8413-41BE-A6E1-2666AD1E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B4DED-7C7C-4531-A497-C142D44E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E2D7A-5C04-4486-AE6C-33A33FD2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C650E-206E-4A00-BD17-AD9B8AD6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6ECBF-54B2-4579-8175-FE3B0F18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4C32-2630-4F32-95F0-9A07DABC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FCF17-7053-4626-8251-02D8FA6C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9C2B7-40E2-4E0F-AA7B-8D7BC134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E5620-5B2E-43CE-B0FE-F2B10256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1DA52-382A-4579-8656-A11D74CC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538FA-AA24-41FF-A309-882EB64A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44391-C504-4593-9F89-DFEFF33A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A6E92-3C38-4377-AED2-6D18CE84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D86A-A556-4B80-A5B3-A126D4D8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7509-7FE7-4FC5-8801-6F8ABE87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E67C-7CC5-48C2-AACD-5472E403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BFC3-668C-47AD-A530-7BB7DF01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26DC-6E15-4B7E-8623-1B29F8C7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DCF8-DFA0-4A99-8431-C878B53C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2E9F-8033-4CEA-86E9-73AC177D00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9423-9362-43A1-82C4-11C8B20799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C0E4-6A81-4099-BE51-14946DB004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20.png"/><Relationship Id="rId5" Type="http://schemas.openxmlformats.org/officeDocument/2006/relationships/image" Target="../media/image17.png"/><Relationship Id="rId6" Type="http://schemas.openxmlformats.org/officeDocument/2006/relationships/image" Target="../media/image21.jpeg"/><Relationship Id="rId7" Type="http://schemas.openxmlformats.org/officeDocument/2006/relationships/image" Target="../media/image21.jpeg"/><Relationship Id="rId8" Type="http://schemas.openxmlformats.org/officeDocument/2006/relationships/image" Target="../media/image21.jpeg"/><Relationship Id="rId9" Type="http://schemas.openxmlformats.org/officeDocument/2006/relationships/image" Target="../media/image21.jpeg"/><Relationship Id="rId10" Type="http://schemas.openxmlformats.org/officeDocument/2006/relationships/image" Target="../media/image21.jpeg"/><Relationship Id="rId11" Type="http://schemas.openxmlformats.org/officeDocument/2006/relationships/image" Target="../media/image21.jpeg"/><Relationship Id="rId12" Type="http://schemas.openxmlformats.org/officeDocument/2006/relationships/image" Target="../media/image21.jpeg"/><Relationship Id="rId13" Type="http://schemas.openxmlformats.org/officeDocument/2006/relationships/image" Target="../media/image21.jpeg"/><Relationship Id="rId14" Type="http://schemas.openxmlformats.org/officeDocument/2006/relationships/image" Target="../media/image21.jpeg"/><Relationship Id="rId15" Type="http://schemas.openxmlformats.org/officeDocument/2006/relationships/image" Target="../media/image21.jpeg"/><Relationship Id="rId16" Type="http://schemas.openxmlformats.org/officeDocument/2006/relationships/image" Target="../media/image21.jpeg"/><Relationship Id="rId17" Type="http://schemas.openxmlformats.org/officeDocument/2006/relationships/image" Target="../media/image21.jpeg"/><Relationship Id="rId18" Type="http://schemas.openxmlformats.org/officeDocument/2006/relationships/image" Target="../media/image21.jpeg"/><Relationship Id="rId19" Type="http://schemas.openxmlformats.org/officeDocument/2006/relationships/image" Target="../media/image21.jpeg"/><Relationship Id="rId20" Type="http://schemas.openxmlformats.org/officeDocument/2006/relationships/image" Target="../media/image21.jpeg"/><Relationship Id="rId21" Type="http://schemas.openxmlformats.org/officeDocument/2006/relationships/image" Target="../media/image21.jpeg"/><Relationship Id="rId22" Type="http://schemas.openxmlformats.org/officeDocument/2006/relationships/image" Target="../media/image21.jpeg"/><Relationship Id="rId23" Type="http://schemas.openxmlformats.org/officeDocument/2006/relationships/audio" Target="../media/TYPE.WAV"/><Relationship Id="rId24" Type="http://schemas.openxmlformats.org/officeDocument/2006/relationships/audio" Target="../media/TYPE.WAV"/><Relationship Id="rId25" Type="http://schemas.openxmlformats.org/officeDocument/2006/relationships/audio" Target="../media/TYPE.WAV"/><Relationship Id="rId26" Type="http://schemas.openxmlformats.org/officeDocument/2006/relationships/audio" Target="../media/TYPE.WAV"/><Relationship Id="rId27" Type="http://schemas.openxmlformats.org/officeDocument/2006/relationships/audio" Target="../media/TYPE.WAV"/><Relationship Id="rId28" Type="http://schemas.openxmlformats.org/officeDocument/2006/relationships/audio" Target="../media/TYPE.WAV"/><Relationship Id="rId29" Type="http://schemas.openxmlformats.org/officeDocument/2006/relationships/audio" Target="../media/TYPE.WAV"/><Relationship Id="rId30" Type="http://schemas.openxmlformats.org/officeDocument/2006/relationships/audio" Target="../media/TYPE.WAV"/><Relationship Id="rId31" Type="http://schemas.openxmlformats.org/officeDocument/2006/relationships/audio" Target="../media/TYPE.WAV"/><Relationship Id="rId32" Type="http://schemas.openxmlformats.org/officeDocument/2006/relationships/audio" Target="../media/TYPE.WAV"/><Relationship Id="rId33" Type="http://schemas.openxmlformats.org/officeDocument/2006/relationships/audio" Target="../media/TYPE.WAV"/><Relationship Id="rId34" Type="http://schemas.openxmlformats.org/officeDocument/2006/relationships/audio" Target="../media/TYPE.WAV"/><Relationship Id="rId35" Type="http://schemas.openxmlformats.org/officeDocument/2006/relationships/audio" Target="../media/TYPE.WAV"/><Relationship Id="rId36" Type="http://schemas.openxmlformats.org/officeDocument/2006/relationships/audio" Target="../media/TYPE.WAV"/><Relationship Id="rId3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image" Target="../media/image21.jpeg"/><Relationship Id="rId7" Type="http://schemas.openxmlformats.org/officeDocument/2006/relationships/image" Target="../media/image21.jpeg"/><Relationship Id="rId8" Type="http://schemas.openxmlformats.org/officeDocument/2006/relationships/image" Target="../media/image21.jpeg"/><Relationship Id="rId9" Type="http://schemas.openxmlformats.org/officeDocument/2006/relationships/image" Target="../media/image21.jpeg"/><Relationship Id="rId10" Type="http://schemas.openxmlformats.org/officeDocument/2006/relationships/image" Target="../media/image21.jpeg"/><Relationship Id="rId11" Type="http://schemas.openxmlformats.org/officeDocument/2006/relationships/image" Target="../media/image21.jpeg"/><Relationship Id="rId12" Type="http://schemas.openxmlformats.org/officeDocument/2006/relationships/image" Target="../media/image21.jpeg"/><Relationship Id="rId13" Type="http://schemas.openxmlformats.org/officeDocument/2006/relationships/image" Target="../media/image21.jpeg"/><Relationship Id="rId14" Type="http://schemas.openxmlformats.org/officeDocument/2006/relationships/image" Target="../media/image21.jpeg"/><Relationship Id="rId15" Type="http://schemas.openxmlformats.org/officeDocument/2006/relationships/image" Target="../media/image21.jpeg"/><Relationship Id="rId16" Type="http://schemas.openxmlformats.org/officeDocument/2006/relationships/image" Target="../media/image21.jpeg"/><Relationship Id="rId17" Type="http://schemas.openxmlformats.org/officeDocument/2006/relationships/image" Target="../media/image21.jpeg"/><Relationship Id="rId18" Type="http://schemas.openxmlformats.org/officeDocument/2006/relationships/image" Target="../media/image21.jpeg"/><Relationship Id="rId19" Type="http://schemas.openxmlformats.org/officeDocument/2006/relationships/image" Target="../media/image21.jpeg"/><Relationship Id="rId20" Type="http://schemas.openxmlformats.org/officeDocument/2006/relationships/image" Target="../media/image21.jpeg"/><Relationship Id="rId21" Type="http://schemas.openxmlformats.org/officeDocument/2006/relationships/image" Target="../media/image21.jpeg"/><Relationship Id="rId22" Type="http://schemas.openxmlformats.org/officeDocument/2006/relationships/image" Target="../media/image21.jpeg"/><Relationship Id="rId23" Type="http://schemas.openxmlformats.org/officeDocument/2006/relationships/image" Target="../media/image21.jpeg"/><Relationship Id="rId24" Type="http://schemas.openxmlformats.org/officeDocument/2006/relationships/image" Target="../media/image21.jpeg"/><Relationship Id="rId2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image" Target="../media/image23.jpeg"/><Relationship Id="rId7" Type="http://schemas.openxmlformats.org/officeDocument/2006/relationships/image" Target="../media/image23.jpeg"/><Relationship Id="rId8" Type="http://schemas.openxmlformats.org/officeDocument/2006/relationships/image" Target="../media/image23.jpeg"/><Relationship Id="rId9" Type="http://schemas.openxmlformats.org/officeDocument/2006/relationships/image" Target="../media/image23.jpeg"/><Relationship Id="rId10" Type="http://schemas.openxmlformats.org/officeDocument/2006/relationships/image" Target="../media/image23.jpeg"/><Relationship Id="rId11" Type="http://schemas.openxmlformats.org/officeDocument/2006/relationships/image" Target="../media/image23.jpeg"/><Relationship Id="rId12" Type="http://schemas.openxmlformats.org/officeDocument/2006/relationships/image" Target="../media/image23.jpeg"/><Relationship Id="rId13" Type="http://schemas.openxmlformats.org/officeDocument/2006/relationships/image" Target="../media/image23.jpeg"/><Relationship Id="rId14" Type="http://schemas.openxmlformats.org/officeDocument/2006/relationships/image" Target="../media/image23.jpeg"/><Relationship Id="rId15" Type="http://schemas.openxmlformats.org/officeDocument/2006/relationships/image" Target="../media/image23.jpeg"/><Relationship Id="rId16" Type="http://schemas.openxmlformats.org/officeDocument/2006/relationships/image" Target="../media/image23.jpeg"/><Relationship Id="rId17" Type="http://schemas.openxmlformats.org/officeDocument/2006/relationships/image" Target="../media/image23.jpeg"/><Relationship Id="rId18" Type="http://schemas.openxmlformats.org/officeDocument/2006/relationships/image" Target="../media/image23.jpe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4.png"/><Relationship Id="rId2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5.jpe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" Target="slide33.xml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1.jpeg"/><Relationship Id="rId4" Type="http://schemas.openxmlformats.org/officeDocument/2006/relationships/slide" Target="slide6.xml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66680" y="228600"/>
            <a:ext cx="1559160" cy="5029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895480" y="1066680"/>
            <a:ext cx="44960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d60093"/>
                </a:solidFill>
                <a:latin typeface="Arial"/>
                <a:ea typeface="华文隶书"/>
              </a:rPr>
              <a:t>活板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32767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沈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867280" y="4343400"/>
            <a:ext cx="3048120" cy="20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-33480" y="0"/>
            <a:ext cx="92109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2743200" y="1219320"/>
            <a:ext cx="5067360" cy="1782720"/>
            <a:chOff x="2743200" y="1219320"/>
            <a:chExt cx="5067360" cy="1782720"/>
          </a:xfrm>
        </p:grpSpPr>
        <p:sp>
          <p:nvSpPr>
            <p:cNvPr id="330" name=""/>
            <p:cNvSpPr/>
            <p:nvPr/>
          </p:nvSpPr>
          <p:spPr>
            <a:xfrm>
              <a:off x="2743200" y="1371960"/>
              <a:ext cx="5067360" cy="1630080"/>
            </a:xfrm>
            <a:prstGeom prst="cube">
              <a:avLst>
                <a:gd name="adj" fmla="val 87245"/>
              </a:avLst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933960" y="16765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248160" y="2286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24386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2743200" y="1219320"/>
              <a:ext cx="5029200" cy="1600200"/>
              <a:chOff x="2743200" y="1219320"/>
              <a:chExt cx="5029200" cy="1600200"/>
            </a:xfrm>
          </p:grpSpPr>
          <p:sp>
            <p:nvSpPr>
              <p:cNvPr id="335" name=""/>
              <p:cNvSpPr/>
              <p:nvPr/>
            </p:nvSpPr>
            <p:spPr>
              <a:xfrm>
                <a:off x="2819160" y="1219320"/>
                <a:ext cx="1524240" cy="1554120"/>
              </a:xfrm>
              <a:prstGeom prst="cube">
                <a:avLst>
                  <a:gd name="adj" fmla="val 90361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267080" y="1219320"/>
                <a:ext cx="3352680" cy="228600"/>
              </a:xfrm>
              <a:prstGeom prst="cube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48160" y="1219320"/>
                <a:ext cx="1524240" cy="1554120"/>
              </a:xfrm>
              <a:prstGeom prst="cube">
                <a:avLst>
                  <a:gd name="adj" fmla="val 90361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743200" y="2590920"/>
                <a:ext cx="3657600" cy="228600"/>
              </a:xfrm>
              <a:prstGeom prst="cube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4190760" y="12193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14800" y="12956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38480" y="14479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962160" y="14479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16005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09880" y="16765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733560" y="17528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81280" y="18291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04960" y="19814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429000" y="21337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352680" y="213372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00600" y="12193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72000" y="12193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72000" y="1371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343400" y="12956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67080" y="14479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14800" y="15242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00400" y="2286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14800" y="16765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62160" y="17528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09880" y="19051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733560" y="20577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57600" y="21337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29000" y="2286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57600" y="2286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95680" y="14479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43400" y="16005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67080" y="17528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14800" y="18291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038480" y="19814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86200" y="21337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86200" y="2286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800600" y="12956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00600" y="1371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724280" y="14479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72000" y="15242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72000" y="16765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495680" y="18291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43400" y="19051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267080" y="20577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4800" y="21337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114800" y="2286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029200" y="12956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52880" y="14479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00600" y="16005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00600" y="16765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724280" y="17528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47960" y="18291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72000" y="19814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19360" y="21337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43400" y="2286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57800" y="12956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81480" y="1371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05160" y="15242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029200" y="16765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52880" y="18291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800600" y="19814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47960" y="21337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72000" y="2286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486400" y="12956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10080" y="1371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33760" y="15242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257800" y="16765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81480" y="17528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05160" y="19051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952880" y="20577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00600" y="21337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00600" y="2286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52880" y="2286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15000" y="12956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638680" y="1371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62360" y="15242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86400" y="16005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410080" y="17528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33760" y="19051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81480" y="20577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81480" y="21337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81480" y="2286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43600" y="12956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67280" y="1371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790960" y="15242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715000" y="16765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38680" y="17528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62360" y="19051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10080" y="20577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410080" y="21337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10080" y="2286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172200" y="12956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95880" y="1371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19560" y="14479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43600" y="16005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867280" y="17528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790960" y="18291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715000" y="19814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38680" y="20577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38680" y="21337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38680" y="2286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00800" y="12956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24480" y="1371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48160" y="14479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72200" y="16005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95880" y="16765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019560" y="17528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943600" y="18291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943600" y="19814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67280" y="20577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867280" y="21337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86600" y="12956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67280" y="2286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9400" y="12956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858000" y="12956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553080" y="1371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81680" y="1371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76760" y="14479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010280" y="1371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05360" y="14479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00800" y="16005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629400" y="16005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24480" y="16765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248160" y="17528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2200" y="19051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095880" y="20577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53080" y="16765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76760" y="18291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00800" y="19814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4542480" y="1523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就火炀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-100080" y="0"/>
            <a:ext cx="93441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6" name=""/>
          <p:cNvGrpSpPr/>
          <p:nvPr/>
        </p:nvGrpSpPr>
        <p:grpSpPr>
          <a:xfrm>
            <a:off x="2895480" y="3733920"/>
            <a:ext cx="5067360" cy="1782720"/>
            <a:chOff x="2895480" y="3733920"/>
            <a:chExt cx="5067360" cy="1782720"/>
          </a:xfrm>
        </p:grpSpPr>
        <p:sp>
          <p:nvSpPr>
            <p:cNvPr id="467" name=""/>
            <p:cNvSpPr/>
            <p:nvPr/>
          </p:nvSpPr>
          <p:spPr>
            <a:xfrm>
              <a:off x="2895480" y="3886560"/>
              <a:ext cx="5067360" cy="1630080"/>
            </a:xfrm>
            <a:prstGeom prst="cube">
              <a:avLst>
                <a:gd name="adj" fmla="val 87245"/>
              </a:avLst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86240" y="41911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400440" y="4800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248160" y="49532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2895480" y="3733920"/>
              <a:ext cx="5029200" cy="1600200"/>
              <a:chOff x="2895480" y="3733920"/>
              <a:chExt cx="5029200" cy="1600200"/>
            </a:xfrm>
          </p:grpSpPr>
          <p:sp>
            <p:nvSpPr>
              <p:cNvPr id="472" name=""/>
              <p:cNvSpPr/>
              <p:nvPr/>
            </p:nvSpPr>
            <p:spPr>
              <a:xfrm>
                <a:off x="2971440" y="3733920"/>
                <a:ext cx="1524240" cy="1554120"/>
              </a:xfrm>
              <a:prstGeom prst="cube">
                <a:avLst>
                  <a:gd name="adj" fmla="val 90361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19360" y="3733920"/>
                <a:ext cx="3352680" cy="228600"/>
              </a:xfrm>
              <a:prstGeom prst="cube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400440" y="3733920"/>
                <a:ext cx="1524240" cy="1554120"/>
              </a:xfrm>
              <a:prstGeom prst="cube">
                <a:avLst>
                  <a:gd name="adj" fmla="val 90361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895480" y="5105520"/>
                <a:ext cx="3657600" cy="228600"/>
              </a:xfrm>
              <a:prstGeom prst="cube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4343040" y="37339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67080" y="38102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90760" y="39625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14440" y="39625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38480" y="41151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62160" y="41911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885840" y="42674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733560" y="43437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57240" y="44960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581280" y="46483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504960" y="464832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52880" y="37339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24280" y="37339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724280" y="38865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95680" y="38102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19360" y="39625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267080" y="40388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352680" y="4800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267080" y="41911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114440" y="42674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962160" y="44197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85840" y="4572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09880" y="46483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81280" y="4800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09880" y="4800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647960" y="39625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495680" y="41151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419360" y="42674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267080" y="43437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190760" y="44960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038480" y="46483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038480" y="4800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952880" y="38102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952880" y="38865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876560" y="39625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724280" y="40388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24280" y="41911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47960" y="43437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95680" y="44197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419360" y="4572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267080" y="46483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267080" y="4800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181480" y="38102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105160" y="39625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52880" y="41151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952880" y="41911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76560" y="42674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800240" y="43437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24280" y="44960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71640" y="46483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95680" y="4800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10080" y="38102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33760" y="38865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257440" y="40388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181480" y="41911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105160" y="43437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952880" y="44960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800240" y="46483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724280" y="4800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638680" y="38102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62360" y="38865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486040" y="40388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410080" y="41911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333760" y="42674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7440" y="44197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05160" y="4572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952880" y="46483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952880" y="4800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105160" y="4800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67280" y="38102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790960" y="38865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14640" y="40388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638680" y="41151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62360" y="42674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86040" y="44197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33760" y="4572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3760" y="46483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33760" y="4800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5880" y="38102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19560" y="38865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43240" y="40388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67280" y="41911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790960" y="42674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714640" y="44197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562360" y="4572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62360" y="46483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562360" y="4800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324480" y="38102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48160" y="38865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71840" y="39625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095880" y="41151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019560" y="42674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43240" y="43437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67280" y="44960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790960" y="4572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790960" y="46483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790960" y="4800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53080" y="38102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476760" y="38865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00440" y="39625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324480" y="41151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48160" y="41911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171840" y="42674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095880" y="43437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095880" y="44960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19560" y="4572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19560" y="46483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38102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19560" y="4800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781680" y="38102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010280" y="38102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05360" y="38865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33960" y="38865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629040" y="39625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162560" y="38865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57640" y="39625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553080" y="41151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781680" y="41151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6760" y="41911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00440" y="42674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324480" y="44197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248160" y="4572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05360" y="41911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040" y="43437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53080" y="44960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2895480" y="3505320"/>
            <a:ext cx="5067360" cy="1676160"/>
            <a:chOff x="2895480" y="3505320"/>
            <a:chExt cx="5067360" cy="1676160"/>
          </a:xfrm>
        </p:grpSpPr>
        <p:sp>
          <p:nvSpPr>
            <p:cNvPr id="602" name=""/>
            <p:cNvSpPr/>
            <p:nvPr/>
          </p:nvSpPr>
          <p:spPr>
            <a:xfrm>
              <a:off x="2895480" y="3505320"/>
              <a:ext cx="5067360" cy="1676160"/>
            </a:xfrm>
            <a:prstGeom prst="cube">
              <a:avLst>
                <a:gd name="adj" fmla="val 87245"/>
              </a:avLst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3" name="" descr=""/>
            <p:cNvPicPr/>
            <p:nvPr/>
          </p:nvPicPr>
          <p:blipFill>
            <a:blip r:embed="rId3"/>
            <a:stretch/>
          </p:blipFill>
          <p:spPr>
            <a:xfrm>
              <a:off x="4724280" y="3886200"/>
              <a:ext cx="952560" cy="44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4" name=""/>
          <p:cNvSpPr/>
          <p:nvPr/>
        </p:nvSpPr>
        <p:spPr>
          <a:xfrm>
            <a:off x="4706280" y="3886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平板按其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-100080" y="0"/>
            <a:ext cx="93441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6" name=""/>
          <p:cNvGrpSpPr/>
          <p:nvPr/>
        </p:nvGrpSpPr>
        <p:grpSpPr>
          <a:xfrm>
            <a:off x="2819520" y="3276720"/>
            <a:ext cx="5067360" cy="1782720"/>
            <a:chOff x="2819520" y="3276720"/>
            <a:chExt cx="5067360" cy="1782720"/>
          </a:xfrm>
        </p:grpSpPr>
        <p:grpSp>
          <p:nvGrpSpPr>
            <p:cNvPr id="607" name=""/>
            <p:cNvGrpSpPr/>
            <p:nvPr/>
          </p:nvGrpSpPr>
          <p:grpSpPr>
            <a:xfrm>
              <a:off x="2819520" y="3429000"/>
              <a:ext cx="5067360" cy="1630440"/>
              <a:chOff x="2819520" y="3429000"/>
              <a:chExt cx="5067360" cy="1630440"/>
            </a:xfrm>
          </p:grpSpPr>
          <p:sp>
            <p:nvSpPr>
              <p:cNvPr id="608" name=""/>
              <p:cNvSpPr/>
              <p:nvPr/>
            </p:nvSpPr>
            <p:spPr>
              <a:xfrm>
                <a:off x="2819520" y="3429000"/>
                <a:ext cx="5067360" cy="1630440"/>
              </a:xfrm>
              <a:prstGeom prst="cube">
                <a:avLst>
                  <a:gd name="adj" fmla="val 87245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819520" y="3429000"/>
                <a:ext cx="5029200" cy="1371600"/>
              </a:xfrm>
              <a:prstGeom prst="parallelogram">
                <a:avLst>
                  <a:gd name="adj" fmla="val 101886"/>
                </a:avLst>
              </a:prstGeom>
              <a:blipFill rotWithShape="0">
                <a:blip r:embed="rId3"/>
                <a:srcRect/>
                <a:stretch/>
              </a:blip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10" name="" descr=""/>
            <p:cNvPicPr/>
            <p:nvPr/>
          </p:nvPicPr>
          <p:blipFill>
            <a:blip r:embed="rId4"/>
            <a:stretch/>
          </p:blipFill>
          <p:spPr>
            <a:xfrm>
              <a:off x="5105520" y="3809880"/>
              <a:ext cx="628560" cy="3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2895480" y="3276720"/>
              <a:ext cx="1524240" cy="1554120"/>
            </a:xfrm>
            <a:prstGeom prst="cube">
              <a:avLst>
                <a:gd name="adj" fmla="val 90361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343400" y="3276720"/>
              <a:ext cx="3352680" cy="2286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67080" y="33526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191120" y="34290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114800" y="35053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38480" y="35812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3886200" y="3657600"/>
              <a:ext cx="304920" cy="372960"/>
              <a:chOff x="3886200" y="3657600"/>
              <a:chExt cx="304920" cy="372960"/>
            </a:xfrm>
          </p:grpSpPr>
          <p:sp>
            <p:nvSpPr>
              <p:cNvPr id="618" name=""/>
              <p:cNvSpPr/>
              <p:nvPr/>
            </p:nvSpPr>
            <p:spPr>
              <a:xfrm>
                <a:off x="3962520" y="3657600"/>
                <a:ext cx="22860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886200" y="3733920"/>
                <a:ext cx="22860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3809880" y="38098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733920" y="38862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33920" y="38862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657600" y="39625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581280" y="40384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505320" y="41148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429000" y="41911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52680" y="42670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276720" y="43434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200400" y="44197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4419720" y="3352680"/>
              <a:ext cx="304200" cy="372960"/>
              <a:chOff x="4419720" y="3352680"/>
              <a:chExt cx="304200" cy="372960"/>
            </a:xfrm>
          </p:grpSpPr>
          <p:sp>
            <p:nvSpPr>
              <p:cNvPr id="631" name=""/>
              <p:cNvSpPr/>
              <p:nvPr/>
            </p:nvSpPr>
            <p:spPr>
              <a:xfrm>
                <a:off x="4495680" y="3352680"/>
                <a:ext cx="22824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419720" y="3429000"/>
                <a:ext cx="22824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4267080" y="3505320"/>
              <a:ext cx="304920" cy="372960"/>
              <a:chOff x="4267080" y="3505320"/>
              <a:chExt cx="304920" cy="372960"/>
            </a:xfrm>
          </p:grpSpPr>
          <p:sp>
            <p:nvSpPr>
              <p:cNvPr id="634" name=""/>
              <p:cNvSpPr/>
              <p:nvPr/>
            </p:nvSpPr>
            <p:spPr>
              <a:xfrm>
                <a:off x="4343400" y="3505320"/>
                <a:ext cx="22860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267080" y="3581640"/>
                <a:ext cx="22860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4191120" y="36576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114800" y="37339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3962520" y="3809880"/>
              <a:ext cx="304200" cy="372960"/>
              <a:chOff x="3962520" y="3809880"/>
              <a:chExt cx="304200" cy="372960"/>
            </a:xfrm>
          </p:grpSpPr>
          <p:sp>
            <p:nvSpPr>
              <p:cNvPr id="639" name=""/>
              <p:cNvSpPr/>
              <p:nvPr/>
            </p:nvSpPr>
            <p:spPr>
              <a:xfrm>
                <a:off x="4038480" y="3809880"/>
                <a:ext cx="22824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962520" y="3886200"/>
                <a:ext cx="22824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3962520" y="38862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886200" y="39625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809880" y="40384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733920" y="41148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657600" y="41911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2670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05320" y="43434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429000" y="44197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724280" y="33526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648320" y="34290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572000" y="35053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495680" y="35812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419720" y="36576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343400" y="37339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5" name=""/>
            <p:cNvGrpSpPr/>
            <p:nvPr/>
          </p:nvGrpSpPr>
          <p:grpSpPr>
            <a:xfrm>
              <a:off x="4191120" y="3809880"/>
              <a:ext cx="304200" cy="372960"/>
              <a:chOff x="4191120" y="3809880"/>
              <a:chExt cx="304200" cy="372960"/>
            </a:xfrm>
          </p:grpSpPr>
          <p:sp>
            <p:nvSpPr>
              <p:cNvPr id="656" name=""/>
              <p:cNvSpPr/>
              <p:nvPr/>
            </p:nvSpPr>
            <p:spPr>
              <a:xfrm>
                <a:off x="4267080" y="3809880"/>
                <a:ext cx="22824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191120" y="3886200"/>
                <a:ext cx="22824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4191120" y="38862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114800" y="39625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038480" y="40384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62520" y="41148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886200" y="41911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809880" y="42670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733920" y="43434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657600" y="44197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952880" y="33526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876920" y="34290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800600" y="35053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724280" y="35812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4419720" y="3657600"/>
              <a:ext cx="457200" cy="525240"/>
              <a:chOff x="4419720" y="3657600"/>
              <a:chExt cx="457200" cy="525240"/>
            </a:xfrm>
          </p:grpSpPr>
          <p:grpSp>
            <p:nvGrpSpPr>
              <p:cNvPr id="671" name=""/>
              <p:cNvGrpSpPr/>
              <p:nvPr/>
            </p:nvGrpSpPr>
            <p:grpSpPr>
              <a:xfrm>
                <a:off x="4572000" y="3657600"/>
                <a:ext cx="304920" cy="372960"/>
                <a:chOff x="4572000" y="3657600"/>
                <a:chExt cx="304920" cy="37296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4648320" y="3657600"/>
                  <a:ext cx="228600" cy="297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572000" y="3733920"/>
                  <a:ext cx="228600" cy="2966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4419720" y="3809880"/>
                <a:ext cx="304920" cy="372960"/>
                <a:chOff x="4419720" y="3809880"/>
                <a:chExt cx="304920" cy="37296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4496040" y="3809880"/>
                  <a:ext cx="228600" cy="297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419720" y="3886200"/>
                  <a:ext cx="228600" cy="2966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7" name=""/>
            <p:cNvSpPr/>
            <p:nvPr/>
          </p:nvSpPr>
          <p:spPr>
            <a:xfrm>
              <a:off x="4419720" y="38862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343400" y="39625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67080" y="40384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91120" y="41148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114800" y="41911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038480" y="42670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962520" y="43434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886200" y="44197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5105520" y="3352680"/>
              <a:ext cx="304200" cy="372960"/>
              <a:chOff x="5105520" y="3352680"/>
              <a:chExt cx="304200" cy="372960"/>
            </a:xfrm>
          </p:grpSpPr>
          <p:sp>
            <p:nvSpPr>
              <p:cNvPr id="686" name=""/>
              <p:cNvSpPr/>
              <p:nvPr/>
            </p:nvSpPr>
            <p:spPr>
              <a:xfrm>
                <a:off x="5181480" y="3352680"/>
                <a:ext cx="22824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105520" y="3429000"/>
                <a:ext cx="22824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5029200" y="35053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952880" y="35812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876920" y="36576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800600" y="37339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4648320" y="3809880"/>
              <a:ext cx="304200" cy="372960"/>
              <a:chOff x="4648320" y="3809880"/>
              <a:chExt cx="304200" cy="372960"/>
            </a:xfrm>
          </p:grpSpPr>
          <p:sp>
            <p:nvSpPr>
              <p:cNvPr id="693" name=""/>
              <p:cNvSpPr/>
              <p:nvPr/>
            </p:nvSpPr>
            <p:spPr>
              <a:xfrm>
                <a:off x="4724280" y="3809880"/>
                <a:ext cx="22824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648320" y="3886200"/>
                <a:ext cx="22824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4572000" y="3886200"/>
              <a:ext cx="304920" cy="372960"/>
              <a:chOff x="4572000" y="3886200"/>
              <a:chExt cx="304920" cy="372960"/>
            </a:xfrm>
          </p:grpSpPr>
          <p:sp>
            <p:nvSpPr>
              <p:cNvPr id="696" name=""/>
              <p:cNvSpPr/>
              <p:nvPr/>
            </p:nvSpPr>
            <p:spPr>
              <a:xfrm>
                <a:off x="4648320" y="3886200"/>
                <a:ext cx="22860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572000" y="3962520"/>
                <a:ext cx="22860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4419720" y="4038480"/>
              <a:ext cx="304200" cy="372960"/>
              <a:chOff x="4419720" y="4038480"/>
              <a:chExt cx="304200" cy="372960"/>
            </a:xfrm>
          </p:grpSpPr>
          <p:sp>
            <p:nvSpPr>
              <p:cNvPr id="699" name=""/>
              <p:cNvSpPr/>
              <p:nvPr/>
            </p:nvSpPr>
            <p:spPr>
              <a:xfrm>
                <a:off x="4495680" y="4038480"/>
                <a:ext cx="22824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419720" y="4114800"/>
                <a:ext cx="22824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4343400" y="41911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267080" y="42670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191120" y="43434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4800" y="44197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5334120" y="3352680"/>
              <a:ext cx="304200" cy="372960"/>
              <a:chOff x="5334120" y="3352680"/>
              <a:chExt cx="304200" cy="372960"/>
            </a:xfrm>
          </p:grpSpPr>
          <p:sp>
            <p:nvSpPr>
              <p:cNvPr id="706" name=""/>
              <p:cNvSpPr/>
              <p:nvPr/>
            </p:nvSpPr>
            <p:spPr>
              <a:xfrm>
                <a:off x="5410080" y="3352680"/>
                <a:ext cx="22824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334120" y="3429000"/>
                <a:ext cx="22824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>
              <a:off x="5257800" y="35053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81480" y="35812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105520" y="36576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029200" y="37339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52880" y="38098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76920" y="38862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4648320" y="3886200"/>
              <a:ext cx="457200" cy="525240"/>
              <a:chOff x="4648320" y="3886200"/>
              <a:chExt cx="457200" cy="525240"/>
            </a:xfrm>
          </p:grpSpPr>
          <p:grpSp>
            <p:nvGrpSpPr>
              <p:cNvPr id="715" name=""/>
              <p:cNvGrpSpPr/>
              <p:nvPr/>
            </p:nvGrpSpPr>
            <p:grpSpPr>
              <a:xfrm>
                <a:off x="4800600" y="3886200"/>
                <a:ext cx="304920" cy="372960"/>
                <a:chOff x="4800600" y="3886200"/>
                <a:chExt cx="304920" cy="37296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4876920" y="3886200"/>
                  <a:ext cx="228600" cy="297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4800600" y="3962520"/>
                  <a:ext cx="228600" cy="2966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4648320" y="4038480"/>
                <a:ext cx="304920" cy="372960"/>
                <a:chOff x="4648320" y="4038480"/>
                <a:chExt cx="304920" cy="37296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4724640" y="4038480"/>
                  <a:ext cx="228600" cy="297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4648320" y="4114800"/>
                  <a:ext cx="228600" cy="2966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1" name=""/>
            <p:cNvSpPr/>
            <p:nvPr/>
          </p:nvSpPr>
          <p:spPr>
            <a:xfrm>
              <a:off x="4572000" y="41911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495680" y="42670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419720" y="43434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343400" y="44197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5562720" y="3352680"/>
              <a:ext cx="304200" cy="372960"/>
              <a:chOff x="5562720" y="3352680"/>
              <a:chExt cx="304200" cy="372960"/>
            </a:xfrm>
          </p:grpSpPr>
          <p:sp>
            <p:nvSpPr>
              <p:cNvPr id="726" name=""/>
              <p:cNvSpPr/>
              <p:nvPr/>
            </p:nvSpPr>
            <p:spPr>
              <a:xfrm>
                <a:off x="5638680" y="3352680"/>
                <a:ext cx="22824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562720" y="3429000"/>
                <a:ext cx="22824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8" name=""/>
            <p:cNvSpPr/>
            <p:nvPr/>
          </p:nvSpPr>
          <p:spPr>
            <a:xfrm>
              <a:off x="5486400" y="35053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410080" y="35812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5105520" y="3657600"/>
              <a:ext cx="457200" cy="525240"/>
              <a:chOff x="5105520" y="3657600"/>
              <a:chExt cx="457200" cy="52524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5257800" y="3657600"/>
                <a:ext cx="304920" cy="372960"/>
                <a:chOff x="5257800" y="3657600"/>
                <a:chExt cx="304920" cy="37296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5334120" y="3657600"/>
                  <a:ext cx="228600" cy="297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5257800" y="3733920"/>
                  <a:ext cx="228600" cy="2966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4" name=""/>
              <p:cNvGrpSpPr/>
              <p:nvPr/>
            </p:nvGrpSpPr>
            <p:grpSpPr>
              <a:xfrm>
                <a:off x="5105520" y="3809880"/>
                <a:ext cx="304920" cy="372960"/>
                <a:chOff x="5105520" y="3809880"/>
                <a:chExt cx="304920" cy="372960"/>
              </a:xfrm>
            </p:grpSpPr>
            <p:sp>
              <p:nvSpPr>
                <p:cNvPr id="735" name=""/>
                <p:cNvSpPr/>
                <p:nvPr/>
              </p:nvSpPr>
              <p:spPr>
                <a:xfrm>
                  <a:off x="5181840" y="3809880"/>
                  <a:ext cx="228600" cy="297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5105520" y="3886200"/>
                  <a:ext cx="228600" cy="2966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37" name=""/>
            <p:cNvSpPr/>
            <p:nvPr/>
          </p:nvSpPr>
          <p:spPr>
            <a:xfrm>
              <a:off x="5105520" y="38862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029200" y="39625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40384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876920" y="41148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00600" y="41911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724280" y="42670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648320" y="43434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572000" y="44197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867280" y="33526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791320" y="34290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715000" y="35053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638680" y="35812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562720" y="36576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86400" y="37339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5334120" y="3809880"/>
              <a:ext cx="304200" cy="372960"/>
              <a:chOff x="5334120" y="3809880"/>
              <a:chExt cx="304200" cy="372960"/>
            </a:xfrm>
          </p:grpSpPr>
          <p:sp>
            <p:nvSpPr>
              <p:cNvPr id="752" name=""/>
              <p:cNvSpPr/>
              <p:nvPr/>
            </p:nvSpPr>
            <p:spPr>
              <a:xfrm>
                <a:off x="5410080" y="3809880"/>
                <a:ext cx="22824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334120" y="3886200"/>
                <a:ext cx="22824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5334120" y="38862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257800" y="39625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181480" y="40384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105520" y="41148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29200" y="41911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952880" y="42670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876920" y="43434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800600" y="44197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5880" y="33526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019920" y="34290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943600" y="35053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867280" y="35812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5715000" y="3657600"/>
              <a:ext cx="304920" cy="372960"/>
              <a:chOff x="5715000" y="3657600"/>
              <a:chExt cx="304920" cy="372960"/>
            </a:xfrm>
          </p:grpSpPr>
          <p:sp>
            <p:nvSpPr>
              <p:cNvPr id="767" name=""/>
              <p:cNvSpPr/>
              <p:nvPr/>
            </p:nvSpPr>
            <p:spPr>
              <a:xfrm>
                <a:off x="5791320" y="3657600"/>
                <a:ext cx="22860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715000" y="3733920"/>
                <a:ext cx="22860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5562720" y="3809880"/>
              <a:ext cx="304200" cy="372960"/>
              <a:chOff x="5562720" y="3809880"/>
              <a:chExt cx="304200" cy="372960"/>
            </a:xfrm>
          </p:grpSpPr>
          <p:sp>
            <p:nvSpPr>
              <p:cNvPr id="770" name=""/>
              <p:cNvSpPr/>
              <p:nvPr/>
            </p:nvSpPr>
            <p:spPr>
              <a:xfrm>
                <a:off x="5638680" y="3809880"/>
                <a:ext cx="22824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562720" y="3886200"/>
                <a:ext cx="22824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2" name=""/>
            <p:cNvSpPr/>
            <p:nvPr/>
          </p:nvSpPr>
          <p:spPr>
            <a:xfrm>
              <a:off x="5562720" y="38862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486400" y="39625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410080" y="40384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334120" y="41148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257800" y="41911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181480" y="42670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05520" y="43434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029200" y="44197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324480" y="33526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248520" y="34290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172200" y="35053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5880" y="35812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5943600" y="3657600"/>
              <a:ext cx="304920" cy="372960"/>
              <a:chOff x="5943600" y="3657600"/>
              <a:chExt cx="304920" cy="372960"/>
            </a:xfrm>
          </p:grpSpPr>
          <p:sp>
            <p:nvSpPr>
              <p:cNvPr id="785" name=""/>
              <p:cNvSpPr/>
              <p:nvPr/>
            </p:nvSpPr>
            <p:spPr>
              <a:xfrm>
                <a:off x="6019920" y="3657600"/>
                <a:ext cx="22860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943600" y="3733920"/>
                <a:ext cx="22860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5791320" y="3809880"/>
              <a:ext cx="304200" cy="372960"/>
              <a:chOff x="5791320" y="3809880"/>
              <a:chExt cx="304200" cy="372960"/>
            </a:xfrm>
          </p:grpSpPr>
          <p:sp>
            <p:nvSpPr>
              <p:cNvPr id="788" name=""/>
              <p:cNvSpPr/>
              <p:nvPr/>
            </p:nvSpPr>
            <p:spPr>
              <a:xfrm>
                <a:off x="5867280" y="3809880"/>
                <a:ext cx="22824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791320" y="3886200"/>
                <a:ext cx="22824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5715000" y="3886200"/>
              <a:ext cx="304920" cy="372960"/>
              <a:chOff x="5715000" y="3886200"/>
              <a:chExt cx="304920" cy="372960"/>
            </a:xfrm>
          </p:grpSpPr>
          <p:sp>
            <p:nvSpPr>
              <p:cNvPr id="791" name=""/>
              <p:cNvSpPr/>
              <p:nvPr/>
            </p:nvSpPr>
            <p:spPr>
              <a:xfrm>
                <a:off x="5791320" y="3886200"/>
                <a:ext cx="22860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715000" y="3962520"/>
                <a:ext cx="22860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5562720" y="4038480"/>
              <a:ext cx="304200" cy="372960"/>
              <a:chOff x="5562720" y="4038480"/>
              <a:chExt cx="304200" cy="372960"/>
            </a:xfrm>
          </p:grpSpPr>
          <p:sp>
            <p:nvSpPr>
              <p:cNvPr id="794" name=""/>
              <p:cNvSpPr/>
              <p:nvPr/>
            </p:nvSpPr>
            <p:spPr>
              <a:xfrm>
                <a:off x="5638680" y="4038480"/>
                <a:ext cx="22824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562720" y="4114800"/>
                <a:ext cx="22824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5410080" y="4191120"/>
              <a:ext cx="304920" cy="372960"/>
              <a:chOff x="5410080" y="4191120"/>
              <a:chExt cx="304920" cy="372960"/>
            </a:xfrm>
          </p:grpSpPr>
          <p:sp>
            <p:nvSpPr>
              <p:cNvPr id="797" name=""/>
              <p:cNvSpPr/>
              <p:nvPr/>
            </p:nvSpPr>
            <p:spPr>
              <a:xfrm>
                <a:off x="5486400" y="4191120"/>
                <a:ext cx="22860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410080" y="4267440"/>
                <a:ext cx="22860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9" name=""/>
            <p:cNvSpPr/>
            <p:nvPr/>
          </p:nvSpPr>
          <p:spPr>
            <a:xfrm>
              <a:off x="5334120" y="43434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257800" y="44197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1" name=""/>
            <p:cNvGrpSpPr/>
            <p:nvPr/>
          </p:nvGrpSpPr>
          <p:grpSpPr>
            <a:xfrm>
              <a:off x="6477120" y="3352680"/>
              <a:ext cx="304200" cy="372960"/>
              <a:chOff x="6477120" y="3352680"/>
              <a:chExt cx="304200" cy="372960"/>
            </a:xfrm>
          </p:grpSpPr>
          <p:sp>
            <p:nvSpPr>
              <p:cNvPr id="802" name=""/>
              <p:cNvSpPr/>
              <p:nvPr/>
            </p:nvSpPr>
            <p:spPr>
              <a:xfrm>
                <a:off x="6553080" y="3352680"/>
                <a:ext cx="22824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77120" y="3429000"/>
                <a:ext cx="22824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6324480" y="3505320"/>
              <a:ext cx="304920" cy="372960"/>
              <a:chOff x="6324480" y="3505320"/>
              <a:chExt cx="304920" cy="372960"/>
            </a:xfrm>
          </p:grpSpPr>
          <p:sp>
            <p:nvSpPr>
              <p:cNvPr id="805" name=""/>
              <p:cNvSpPr/>
              <p:nvPr/>
            </p:nvSpPr>
            <p:spPr>
              <a:xfrm>
                <a:off x="6400800" y="3505320"/>
                <a:ext cx="22860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324480" y="3581640"/>
                <a:ext cx="22860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6172200" y="3657600"/>
              <a:ext cx="304920" cy="372960"/>
              <a:chOff x="6172200" y="3657600"/>
              <a:chExt cx="304920" cy="372960"/>
            </a:xfrm>
          </p:grpSpPr>
          <p:sp>
            <p:nvSpPr>
              <p:cNvPr id="808" name=""/>
              <p:cNvSpPr/>
              <p:nvPr/>
            </p:nvSpPr>
            <p:spPr>
              <a:xfrm>
                <a:off x="6248520" y="3657600"/>
                <a:ext cx="22860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172200" y="3733920"/>
                <a:ext cx="22860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6019920" y="3809880"/>
              <a:ext cx="304200" cy="372960"/>
              <a:chOff x="6019920" y="3809880"/>
              <a:chExt cx="304200" cy="372960"/>
            </a:xfrm>
          </p:grpSpPr>
          <p:sp>
            <p:nvSpPr>
              <p:cNvPr id="811" name=""/>
              <p:cNvSpPr/>
              <p:nvPr/>
            </p:nvSpPr>
            <p:spPr>
              <a:xfrm>
                <a:off x="6095880" y="3809880"/>
                <a:ext cx="22824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19920" y="3886200"/>
                <a:ext cx="22824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"/>
            <p:cNvSpPr/>
            <p:nvPr/>
          </p:nvSpPr>
          <p:spPr>
            <a:xfrm>
              <a:off x="6019920" y="38862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943600" y="39625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5791320" y="4038480"/>
              <a:ext cx="304200" cy="372960"/>
              <a:chOff x="5791320" y="4038480"/>
              <a:chExt cx="304200" cy="372960"/>
            </a:xfrm>
          </p:grpSpPr>
          <p:sp>
            <p:nvSpPr>
              <p:cNvPr id="816" name=""/>
              <p:cNvSpPr/>
              <p:nvPr/>
            </p:nvSpPr>
            <p:spPr>
              <a:xfrm>
                <a:off x="5867280" y="4038480"/>
                <a:ext cx="22824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791320" y="4114800"/>
                <a:ext cx="22824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5638680" y="4191120"/>
              <a:ext cx="304920" cy="372960"/>
              <a:chOff x="5638680" y="4191120"/>
              <a:chExt cx="304920" cy="372960"/>
            </a:xfrm>
          </p:grpSpPr>
          <p:sp>
            <p:nvSpPr>
              <p:cNvPr id="819" name=""/>
              <p:cNvSpPr/>
              <p:nvPr/>
            </p:nvSpPr>
            <p:spPr>
              <a:xfrm>
                <a:off x="5715000" y="4191120"/>
                <a:ext cx="22860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638680" y="4267440"/>
                <a:ext cx="22860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1" name=""/>
            <p:cNvSpPr/>
            <p:nvPr/>
          </p:nvSpPr>
          <p:spPr>
            <a:xfrm>
              <a:off x="5562720" y="43434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486400" y="44197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781680" y="33526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705720" y="34290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629400" y="35053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553080" y="35812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477120" y="36576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400800" y="37339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9" name=""/>
            <p:cNvGrpSpPr/>
            <p:nvPr/>
          </p:nvGrpSpPr>
          <p:grpSpPr>
            <a:xfrm>
              <a:off x="6248520" y="3809880"/>
              <a:ext cx="304200" cy="372960"/>
              <a:chOff x="6248520" y="3809880"/>
              <a:chExt cx="304200" cy="372960"/>
            </a:xfrm>
          </p:grpSpPr>
          <p:sp>
            <p:nvSpPr>
              <p:cNvPr id="830" name=""/>
              <p:cNvSpPr/>
              <p:nvPr/>
            </p:nvSpPr>
            <p:spPr>
              <a:xfrm>
                <a:off x="6324480" y="3809880"/>
                <a:ext cx="22824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248520" y="3886200"/>
                <a:ext cx="22824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2" name=""/>
            <p:cNvSpPr/>
            <p:nvPr/>
          </p:nvSpPr>
          <p:spPr>
            <a:xfrm>
              <a:off x="6248520" y="38862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172200" y="39625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095880" y="40384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019920" y="41148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6" name=""/>
            <p:cNvGrpSpPr/>
            <p:nvPr/>
          </p:nvGrpSpPr>
          <p:grpSpPr>
            <a:xfrm>
              <a:off x="5867280" y="4191120"/>
              <a:ext cx="304920" cy="372960"/>
              <a:chOff x="5867280" y="4191120"/>
              <a:chExt cx="304920" cy="372960"/>
            </a:xfrm>
          </p:grpSpPr>
          <p:sp>
            <p:nvSpPr>
              <p:cNvPr id="837" name=""/>
              <p:cNvSpPr/>
              <p:nvPr/>
            </p:nvSpPr>
            <p:spPr>
              <a:xfrm>
                <a:off x="5943600" y="4191120"/>
                <a:ext cx="22860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867280" y="4267440"/>
                <a:ext cx="22860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9" name=""/>
            <p:cNvSpPr/>
            <p:nvPr/>
          </p:nvSpPr>
          <p:spPr>
            <a:xfrm>
              <a:off x="5791320" y="43434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715000" y="44197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010280" y="33526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934320" y="34290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6781680" y="3505320"/>
              <a:ext cx="304920" cy="372960"/>
              <a:chOff x="6781680" y="3505320"/>
              <a:chExt cx="304920" cy="372960"/>
            </a:xfrm>
          </p:grpSpPr>
          <p:sp>
            <p:nvSpPr>
              <p:cNvPr id="844" name=""/>
              <p:cNvSpPr/>
              <p:nvPr/>
            </p:nvSpPr>
            <p:spPr>
              <a:xfrm>
                <a:off x="6858000" y="3505320"/>
                <a:ext cx="22860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781680" y="3581640"/>
                <a:ext cx="22860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6629400" y="3657600"/>
              <a:ext cx="304920" cy="372960"/>
              <a:chOff x="6629400" y="3657600"/>
              <a:chExt cx="304920" cy="372960"/>
            </a:xfrm>
          </p:grpSpPr>
          <p:sp>
            <p:nvSpPr>
              <p:cNvPr id="847" name=""/>
              <p:cNvSpPr/>
              <p:nvPr/>
            </p:nvSpPr>
            <p:spPr>
              <a:xfrm>
                <a:off x="6705720" y="3657600"/>
                <a:ext cx="22860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629400" y="3733920"/>
                <a:ext cx="22860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6477120" y="3809880"/>
              <a:ext cx="304200" cy="372960"/>
              <a:chOff x="6477120" y="3809880"/>
              <a:chExt cx="304200" cy="372960"/>
            </a:xfrm>
          </p:grpSpPr>
          <p:sp>
            <p:nvSpPr>
              <p:cNvPr id="850" name=""/>
              <p:cNvSpPr/>
              <p:nvPr/>
            </p:nvSpPr>
            <p:spPr>
              <a:xfrm>
                <a:off x="6553080" y="3809880"/>
                <a:ext cx="22824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77120" y="3886200"/>
                <a:ext cx="22824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" name=""/>
            <p:cNvSpPr/>
            <p:nvPr/>
          </p:nvSpPr>
          <p:spPr>
            <a:xfrm>
              <a:off x="6477120" y="38862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400800" y="39625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324480" y="40384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248520" y="41148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172200" y="41911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095880" y="42670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19920" y="43434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943600" y="44197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238880" y="33526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162920" y="34290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086600" y="35053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010280" y="35812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934320" y="36576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58000" y="37339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781680" y="38098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705720" y="38862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705720" y="38862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629400" y="39625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553080" y="40384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477120" y="41148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400800" y="41911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324480" y="426708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248520" y="434340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172200" y="441972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324480" y="3276720"/>
              <a:ext cx="1524240" cy="1554120"/>
            </a:xfrm>
            <a:prstGeom prst="cube">
              <a:avLst>
                <a:gd name="adj" fmla="val 90361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819520" y="4648320"/>
              <a:ext cx="3657600" cy="2286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5105520" y="2438280"/>
            <a:ext cx="20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字平如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" descr=""/>
          <p:cNvPicPr/>
          <p:nvPr/>
        </p:nvPicPr>
        <p:blipFill>
          <a:blip r:embed="rId2"/>
          <a:stretch/>
        </p:blipFill>
        <p:spPr>
          <a:xfrm>
            <a:off x="-100080" y="0"/>
            <a:ext cx="93441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0" name=""/>
          <p:cNvGrpSpPr/>
          <p:nvPr/>
        </p:nvGrpSpPr>
        <p:grpSpPr>
          <a:xfrm>
            <a:off x="3733920" y="4419720"/>
            <a:ext cx="5067360" cy="1825200"/>
            <a:chOff x="3733920" y="4419720"/>
            <a:chExt cx="5067360" cy="1825200"/>
          </a:xfrm>
        </p:grpSpPr>
        <p:grpSp>
          <p:nvGrpSpPr>
            <p:cNvPr id="881" name=""/>
            <p:cNvGrpSpPr/>
            <p:nvPr/>
          </p:nvGrpSpPr>
          <p:grpSpPr>
            <a:xfrm>
              <a:off x="3733920" y="4572000"/>
              <a:ext cx="5067360" cy="1672920"/>
              <a:chOff x="3733920" y="4572000"/>
              <a:chExt cx="5067360" cy="1672920"/>
            </a:xfrm>
          </p:grpSpPr>
          <p:sp>
            <p:nvSpPr>
              <p:cNvPr id="882" name=""/>
              <p:cNvSpPr/>
              <p:nvPr/>
            </p:nvSpPr>
            <p:spPr>
              <a:xfrm>
                <a:off x="3733920" y="4572000"/>
                <a:ext cx="5067360" cy="1672920"/>
              </a:xfrm>
              <a:prstGeom prst="cube">
                <a:avLst>
                  <a:gd name="adj" fmla="val 87245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33920" y="4572000"/>
                <a:ext cx="5029200" cy="1407600"/>
              </a:xfrm>
              <a:prstGeom prst="parallelogram">
                <a:avLst>
                  <a:gd name="adj" fmla="val 99280"/>
                </a:avLst>
              </a:prstGeom>
              <a:blipFill rotWithShape="0">
                <a:blip r:embed="rId3"/>
                <a:srcRect/>
                <a:stretch/>
              </a:blip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84" name="" descr=""/>
            <p:cNvPicPr/>
            <p:nvPr/>
          </p:nvPicPr>
          <p:blipFill>
            <a:blip r:embed="rId4"/>
            <a:stretch/>
          </p:blipFill>
          <p:spPr>
            <a:xfrm>
              <a:off x="6019920" y="4952880"/>
              <a:ext cx="644400" cy="3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>
              <a:off x="3809880" y="4419720"/>
              <a:ext cx="1524240" cy="1595160"/>
            </a:xfrm>
            <a:prstGeom prst="cube">
              <a:avLst>
                <a:gd name="adj" fmla="val 90361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257800" y="4419720"/>
              <a:ext cx="3352680" cy="23472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181480" y="44956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105520" y="45720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029200" y="46483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952880" y="47242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4800600" y="4800600"/>
              <a:ext cx="304920" cy="382320"/>
              <a:chOff x="4800600" y="4800600"/>
              <a:chExt cx="304920" cy="382320"/>
            </a:xfrm>
          </p:grpSpPr>
          <p:sp>
            <p:nvSpPr>
              <p:cNvPr id="892" name=""/>
              <p:cNvSpPr/>
              <p:nvPr/>
            </p:nvSpPr>
            <p:spPr>
              <a:xfrm>
                <a:off x="4876920" y="4800600"/>
                <a:ext cx="228600" cy="30456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800600" y="4878720"/>
                <a:ext cx="228600" cy="3042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4" name=""/>
            <p:cNvSpPr/>
            <p:nvPr/>
          </p:nvSpPr>
          <p:spPr>
            <a:xfrm>
              <a:off x="4724280" y="49528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648320" y="50292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648320" y="50292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572000" y="51055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495680" y="51814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419720" y="52578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343400" y="53341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267080" y="54100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191120" y="54864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114800" y="55627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4" name=""/>
            <p:cNvGrpSpPr/>
            <p:nvPr/>
          </p:nvGrpSpPr>
          <p:grpSpPr>
            <a:xfrm>
              <a:off x="5334120" y="4495680"/>
              <a:ext cx="304200" cy="382320"/>
              <a:chOff x="5334120" y="4495680"/>
              <a:chExt cx="304200" cy="382320"/>
            </a:xfrm>
          </p:grpSpPr>
          <p:sp>
            <p:nvSpPr>
              <p:cNvPr id="905" name=""/>
              <p:cNvSpPr/>
              <p:nvPr/>
            </p:nvSpPr>
            <p:spPr>
              <a:xfrm>
                <a:off x="5410080" y="4495680"/>
                <a:ext cx="228240" cy="30456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334120" y="4573800"/>
                <a:ext cx="228240" cy="3042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5181480" y="4648320"/>
              <a:ext cx="304920" cy="381960"/>
              <a:chOff x="5181480" y="4648320"/>
              <a:chExt cx="304920" cy="381960"/>
            </a:xfrm>
          </p:grpSpPr>
          <p:sp>
            <p:nvSpPr>
              <p:cNvPr id="908" name=""/>
              <p:cNvSpPr/>
              <p:nvPr/>
            </p:nvSpPr>
            <p:spPr>
              <a:xfrm>
                <a:off x="5257800" y="4648320"/>
                <a:ext cx="228600" cy="3042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181480" y="4726440"/>
                <a:ext cx="2286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0" name=""/>
            <p:cNvSpPr/>
            <p:nvPr/>
          </p:nvSpPr>
          <p:spPr>
            <a:xfrm>
              <a:off x="5105520" y="48006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029200" y="48769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2" name=""/>
            <p:cNvGrpSpPr/>
            <p:nvPr/>
          </p:nvGrpSpPr>
          <p:grpSpPr>
            <a:xfrm>
              <a:off x="4876920" y="4952880"/>
              <a:ext cx="304200" cy="382320"/>
              <a:chOff x="4876920" y="4952880"/>
              <a:chExt cx="304200" cy="382320"/>
            </a:xfrm>
          </p:grpSpPr>
          <p:sp>
            <p:nvSpPr>
              <p:cNvPr id="913" name=""/>
              <p:cNvSpPr/>
              <p:nvPr/>
            </p:nvSpPr>
            <p:spPr>
              <a:xfrm>
                <a:off x="4952880" y="4952880"/>
                <a:ext cx="228240" cy="30456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876920" y="5031000"/>
                <a:ext cx="228240" cy="3042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5" name=""/>
            <p:cNvSpPr/>
            <p:nvPr/>
          </p:nvSpPr>
          <p:spPr>
            <a:xfrm>
              <a:off x="4876920" y="50292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800600" y="51055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724280" y="51814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648320" y="52578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72000" y="53341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95680" y="54100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419720" y="54864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343400" y="55627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638680" y="44956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562720" y="45720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486400" y="46483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410080" y="47242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334120" y="48006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257800" y="48769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9" name=""/>
            <p:cNvGrpSpPr/>
            <p:nvPr/>
          </p:nvGrpSpPr>
          <p:grpSpPr>
            <a:xfrm>
              <a:off x="5105520" y="4952880"/>
              <a:ext cx="304200" cy="382320"/>
              <a:chOff x="5105520" y="4952880"/>
              <a:chExt cx="304200" cy="382320"/>
            </a:xfrm>
          </p:grpSpPr>
          <p:sp>
            <p:nvSpPr>
              <p:cNvPr id="930" name=""/>
              <p:cNvSpPr/>
              <p:nvPr/>
            </p:nvSpPr>
            <p:spPr>
              <a:xfrm>
                <a:off x="5181480" y="4952880"/>
                <a:ext cx="228240" cy="30456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105520" y="5031000"/>
                <a:ext cx="228240" cy="3042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2" name=""/>
            <p:cNvSpPr/>
            <p:nvPr/>
          </p:nvSpPr>
          <p:spPr>
            <a:xfrm>
              <a:off x="5105520" y="50292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029200" y="51055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952880" y="51814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876920" y="52578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800600" y="53341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724280" y="54100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648320" y="54864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572000" y="55627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867280" y="44956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791320" y="45720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715000" y="46483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638680" y="47242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4" name=""/>
            <p:cNvGrpSpPr/>
            <p:nvPr/>
          </p:nvGrpSpPr>
          <p:grpSpPr>
            <a:xfrm>
              <a:off x="5334120" y="4800600"/>
              <a:ext cx="457200" cy="538920"/>
              <a:chOff x="5334120" y="4800600"/>
              <a:chExt cx="457200" cy="5389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5486400" y="4800600"/>
                <a:ext cx="304920" cy="382320"/>
                <a:chOff x="5486400" y="4800600"/>
                <a:chExt cx="304920" cy="3823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5562720" y="4800600"/>
                  <a:ext cx="22860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5486400" y="4878720"/>
                  <a:ext cx="228600" cy="304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5334120" y="4956840"/>
                <a:ext cx="304920" cy="382680"/>
                <a:chOff x="5334120" y="4956840"/>
                <a:chExt cx="304920" cy="38268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5410440" y="4956840"/>
                  <a:ext cx="22860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5334120" y="5034960"/>
                  <a:ext cx="22860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1" name=""/>
            <p:cNvSpPr/>
            <p:nvPr/>
          </p:nvSpPr>
          <p:spPr>
            <a:xfrm>
              <a:off x="5334120" y="50292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257800" y="51055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181480" y="51814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105520" y="52578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029200" y="53341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952880" y="54100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876920" y="54864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800600" y="55627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9" name=""/>
            <p:cNvGrpSpPr/>
            <p:nvPr/>
          </p:nvGrpSpPr>
          <p:grpSpPr>
            <a:xfrm>
              <a:off x="6019920" y="4495680"/>
              <a:ext cx="304200" cy="382320"/>
              <a:chOff x="6019920" y="4495680"/>
              <a:chExt cx="304200" cy="382320"/>
            </a:xfrm>
          </p:grpSpPr>
          <p:sp>
            <p:nvSpPr>
              <p:cNvPr id="960" name=""/>
              <p:cNvSpPr/>
              <p:nvPr/>
            </p:nvSpPr>
            <p:spPr>
              <a:xfrm>
                <a:off x="6095880" y="4495680"/>
                <a:ext cx="228240" cy="30456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019920" y="4573800"/>
                <a:ext cx="228240" cy="3042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2" name=""/>
            <p:cNvSpPr/>
            <p:nvPr/>
          </p:nvSpPr>
          <p:spPr>
            <a:xfrm>
              <a:off x="5943600" y="46483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867280" y="47242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791320" y="48006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715000" y="48769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6" name=""/>
            <p:cNvGrpSpPr/>
            <p:nvPr/>
          </p:nvGrpSpPr>
          <p:grpSpPr>
            <a:xfrm>
              <a:off x="5562720" y="4952880"/>
              <a:ext cx="304200" cy="382320"/>
              <a:chOff x="5562720" y="4952880"/>
              <a:chExt cx="304200" cy="382320"/>
            </a:xfrm>
          </p:grpSpPr>
          <p:sp>
            <p:nvSpPr>
              <p:cNvPr id="967" name=""/>
              <p:cNvSpPr/>
              <p:nvPr/>
            </p:nvSpPr>
            <p:spPr>
              <a:xfrm>
                <a:off x="5638680" y="4952880"/>
                <a:ext cx="228240" cy="30456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562720" y="5031000"/>
                <a:ext cx="228240" cy="3042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5486400" y="5029200"/>
              <a:ext cx="304920" cy="382320"/>
              <a:chOff x="5486400" y="5029200"/>
              <a:chExt cx="304920" cy="382320"/>
            </a:xfrm>
          </p:grpSpPr>
          <p:sp>
            <p:nvSpPr>
              <p:cNvPr id="970" name=""/>
              <p:cNvSpPr/>
              <p:nvPr/>
            </p:nvSpPr>
            <p:spPr>
              <a:xfrm>
                <a:off x="5562720" y="5029200"/>
                <a:ext cx="228600" cy="30456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486400" y="5107320"/>
                <a:ext cx="228600" cy="3042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5334120" y="5181480"/>
              <a:ext cx="304200" cy="382320"/>
              <a:chOff x="5334120" y="5181480"/>
              <a:chExt cx="304200" cy="382320"/>
            </a:xfrm>
          </p:grpSpPr>
          <p:sp>
            <p:nvSpPr>
              <p:cNvPr id="973" name=""/>
              <p:cNvSpPr/>
              <p:nvPr/>
            </p:nvSpPr>
            <p:spPr>
              <a:xfrm>
                <a:off x="5410080" y="5181480"/>
                <a:ext cx="228240" cy="30456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334120" y="5259600"/>
                <a:ext cx="228240" cy="3042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5" name=""/>
            <p:cNvSpPr/>
            <p:nvPr/>
          </p:nvSpPr>
          <p:spPr>
            <a:xfrm>
              <a:off x="5257800" y="53341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181480" y="54100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105520" y="54864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029200" y="55627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6248520" y="4495680"/>
              <a:ext cx="304200" cy="382320"/>
              <a:chOff x="6248520" y="4495680"/>
              <a:chExt cx="304200" cy="382320"/>
            </a:xfrm>
          </p:grpSpPr>
          <p:sp>
            <p:nvSpPr>
              <p:cNvPr id="980" name=""/>
              <p:cNvSpPr/>
              <p:nvPr/>
            </p:nvSpPr>
            <p:spPr>
              <a:xfrm>
                <a:off x="6324480" y="4495680"/>
                <a:ext cx="228240" cy="30456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248520" y="4573800"/>
                <a:ext cx="228240" cy="3042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"/>
            <p:cNvSpPr/>
            <p:nvPr/>
          </p:nvSpPr>
          <p:spPr>
            <a:xfrm>
              <a:off x="6172200" y="46483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095880" y="47242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019920" y="48006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43600" y="48769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867280" y="49528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791320" y="50292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8" name=""/>
            <p:cNvGrpSpPr/>
            <p:nvPr/>
          </p:nvGrpSpPr>
          <p:grpSpPr>
            <a:xfrm>
              <a:off x="5562720" y="5029200"/>
              <a:ext cx="457200" cy="538920"/>
              <a:chOff x="5562720" y="5029200"/>
              <a:chExt cx="457200" cy="538920"/>
            </a:xfrm>
          </p:grpSpPr>
          <p:grpSp>
            <p:nvGrpSpPr>
              <p:cNvPr id="989" name=""/>
              <p:cNvGrpSpPr/>
              <p:nvPr/>
            </p:nvGrpSpPr>
            <p:grpSpPr>
              <a:xfrm>
                <a:off x="5715000" y="5029200"/>
                <a:ext cx="304920" cy="382320"/>
                <a:chOff x="5715000" y="5029200"/>
                <a:chExt cx="304920" cy="38232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5791320" y="5029200"/>
                  <a:ext cx="22860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715000" y="5107320"/>
                  <a:ext cx="228600" cy="304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5562720" y="5185440"/>
                <a:ext cx="304920" cy="382680"/>
                <a:chOff x="5562720" y="5185440"/>
                <a:chExt cx="304920" cy="38268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5639040" y="5185440"/>
                  <a:ext cx="22860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562720" y="5263560"/>
                  <a:ext cx="22860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95" name=""/>
            <p:cNvSpPr/>
            <p:nvPr/>
          </p:nvSpPr>
          <p:spPr>
            <a:xfrm>
              <a:off x="5486400" y="53341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410080" y="54100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334120" y="54864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257800" y="55627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9" name=""/>
            <p:cNvGrpSpPr/>
            <p:nvPr/>
          </p:nvGrpSpPr>
          <p:grpSpPr>
            <a:xfrm>
              <a:off x="6477120" y="4495680"/>
              <a:ext cx="304200" cy="382320"/>
              <a:chOff x="6477120" y="4495680"/>
              <a:chExt cx="304200" cy="382320"/>
            </a:xfrm>
          </p:grpSpPr>
          <p:sp>
            <p:nvSpPr>
              <p:cNvPr id="1000" name=""/>
              <p:cNvSpPr/>
              <p:nvPr/>
            </p:nvSpPr>
            <p:spPr>
              <a:xfrm>
                <a:off x="6553080" y="4495680"/>
                <a:ext cx="228240" cy="30456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477120" y="4573800"/>
                <a:ext cx="228240" cy="3042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2" name=""/>
            <p:cNvSpPr/>
            <p:nvPr/>
          </p:nvSpPr>
          <p:spPr>
            <a:xfrm>
              <a:off x="6400800" y="46483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324480" y="47242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6019920" y="4800600"/>
              <a:ext cx="457200" cy="538920"/>
              <a:chOff x="6019920" y="4800600"/>
              <a:chExt cx="457200" cy="538920"/>
            </a:xfrm>
          </p:grpSpPr>
          <p:grpSp>
            <p:nvGrpSpPr>
              <p:cNvPr id="1005" name=""/>
              <p:cNvGrpSpPr/>
              <p:nvPr/>
            </p:nvGrpSpPr>
            <p:grpSpPr>
              <a:xfrm>
                <a:off x="6172200" y="4800600"/>
                <a:ext cx="304920" cy="382320"/>
                <a:chOff x="6172200" y="4800600"/>
                <a:chExt cx="304920" cy="38232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6248520" y="4800600"/>
                  <a:ext cx="22860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6172200" y="4878720"/>
                  <a:ext cx="228600" cy="304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6019920" y="4956840"/>
                <a:ext cx="304920" cy="382680"/>
                <a:chOff x="6019920" y="4956840"/>
                <a:chExt cx="304920" cy="38268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6096240" y="4956840"/>
                  <a:ext cx="22860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6019920" y="5034960"/>
                  <a:ext cx="22860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11" name=""/>
            <p:cNvSpPr/>
            <p:nvPr/>
          </p:nvSpPr>
          <p:spPr>
            <a:xfrm>
              <a:off x="6019920" y="50292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943600" y="51055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67280" y="51814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791320" y="52578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715000" y="53341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638680" y="54100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562720" y="54864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486400" y="55627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781680" y="44956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705720" y="45720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629400" y="46483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553080" y="47242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477120" y="48006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400800" y="48769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6248520" y="4952880"/>
              <a:ext cx="304200" cy="382320"/>
              <a:chOff x="6248520" y="4952880"/>
              <a:chExt cx="304200" cy="382320"/>
            </a:xfrm>
          </p:grpSpPr>
          <p:sp>
            <p:nvSpPr>
              <p:cNvPr id="1026" name=""/>
              <p:cNvSpPr/>
              <p:nvPr/>
            </p:nvSpPr>
            <p:spPr>
              <a:xfrm>
                <a:off x="6324480" y="4952880"/>
                <a:ext cx="228240" cy="30456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248520" y="5031000"/>
                <a:ext cx="228240" cy="3042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8" name=""/>
            <p:cNvSpPr/>
            <p:nvPr/>
          </p:nvSpPr>
          <p:spPr>
            <a:xfrm>
              <a:off x="6248520" y="50292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172200" y="51055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095880" y="51814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019920" y="52578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943600" y="53341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867280" y="54100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791320" y="54864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715000" y="55627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010280" y="44956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934320" y="45720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858000" y="46483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781680" y="47242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0" name=""/>
            <p:cNvGrpSpPr/>
            <p:nvPr/>
          </p:nvGrpSpPr>
          <p:grpSpPr>
            <a:xfrm>
              <a:off x="6629400" y="4800600"/>
              <a:ext cx="304920" cy="382320"/>
              <a:chOff x="6629400" y="4800600"/>
              <a:chExt cx="304920" cy="382320"/>
            </a:xfrm>
          </p:grpSpPr>
          <p:sp>
            <p:nvSpPr>
              <p:cNvPr id="1041" name=""/>
              <p:cNvSpPr/>
              <p:nvPr/>
            </p:nvSpPr>
            <p:spPr>
              <a:xfrm>
                <a:off x="6705720" y="4800600"/>
                <a:ext cx="228600" cy="30456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629400" y="4878720"/>
                <a:ext cx="228600" cy="3042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6477120" y="4952880"/>
              <a:ext cx="304200" cy="382320"/>
              <a:chOff x="6477120" y="4952880"/>
              <a:chExt cx="304200" cy="382320"/>
            </a:xfrm>
          </p:grpSpPr>
          <p:sp>
            <p:nvSpPr>
              <p:cNvPr id="1044" name=""/>
              <p:cNvSpPr/>
              <p:nvPr/>
            </p:nvSpPr>
            <p:spPr>
              <a:xfrm>
                <a:off x="6553080" y="4952880"/>
                <a:ext cx="228240" cy="30456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477120" y="5031000"/>
                <a:ext cx="228240" cy="3042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6" name=""/>
            <p:cNvSpPr/>
            <p:nvPr/>
          </p:nvSpPr>
          <p:spPr>
            <a:xfrm>
              <a:off x="6477120" y="50292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400800" y="51055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324480" y="51814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248520" y="52578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172200" y="53341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095880" y="54100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019920" y="54864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943600" y="55627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238880" y="44956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162920" y="45720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086600" y="46483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010280" y="47242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8" name=""/>
            <p:cNvGrpSpPr/>
            <p:nvPr/>
          </p:nvGrpSpPr>
          <p:grpSpPr>
            <a:xfrm>
              <a:off x="6858000" y="4800600"/>
              <a:ext cx="304920" cy="382320"/>
              <a:chOff x="6858000" y="4800600"/>
              <a:chExt cx="304920" cy="382320"/>
            </a:xfrm>
          </p:grpSpPr>
          <p:sp>
            <p:nvSpPr>
              <p:cNvPr id="1059" name=""/>
              <p:cNvSpPr/>
              <p:nvPr/>
            </p:nvSpPr>
            <p:spPr>
              <a:xfrm>
                <a:off x="6934320" y="4800600"/>
                <a:ext cx="228600" cy="30456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858000" y="4878720"/>
                <a:ext cx="228600" cy="3042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6705720" y="4952880"/>
              <a:ext cx="304200" cy="382320"/>
              <a:chOff x="6705720" y="4952880"/>
              <a:chExt cx="304200" cy="382320"/>
            </a:xfrm>
          </p:grpSpPr>
          <p:sp>
            <p:nvSpPr>
              <p:cNvPr id="1062" name=""/>
              <p:cNvSpPr/>
              <p:nvPr/>
            </p:nvSpPr>
            <p:spPr>
              <a:xfrm>
                <a:off x="6781680" y="4952880"/>
                <a:ext cx="228240" cy="30456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705720" y="5031000"/>
                <a:ext cx="228240" cy="3042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6629400" y="5029200"/>
              <a:ext cx="304920" cy="382320"/>
              <a:chOff x="6629400" y="5029200"/>
              <a:chExt cx="304920" cy="382320"/>
            </a:xfrm>
          </p:grpSpPr>
          <p:sp>
            <p:nvSpPr>
              <p:cNvPr id="1065" name=""/>
              <p:cNvSpPr/>
              <p:nvPr/>
            </p:nvSpPr>
            <p:spPr>
              <a:xfrm>
                <a:off x="6705720" y="5029200"/>
                <a:ext cx="228600" cy="30456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629400" y="5107320"/>
                <a:ext cx="228600" cy="3042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6477120" y="5181480"/>
              <a:ext cx="304200" cy="382320"/>
              <a:chOff x="6477120" y="5181480"/>
              <a:chExt cx="304200" cy="382320"/>
            </a:xfrm>
          </p:grpSpPr>
          <p:sp>
            <p:nvSpPr>
              <p:cNvPr id="1068" name=""/>
              <p:cNvSpPr/>
              <p:nvPr/>
            </p:nvSpPr>
            <p:spPr>
              <a:xfrm>
                <a:off x="6553080" y="5181480"/>
                <a:ext cx="228240" cy="30456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477120" y="5259600"/>
                <a:ext cx="228240" cy="3042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6324480" y="5334120"/>
              <a:ext cx="304920" cy="381960"/>
              <a:chOff x="6324480" y="5334120"/>
              <a:chExt cx="304920" cy="381960"/>
            </a:xfrm>
          </p:grpSpPr>
          <p:sp>
            <p:nvSpPr>
              <p:cNvPr id="1071" name=""/>
              <p:cNvSpPr/>
              <p:nvPr/>
            </p:nvSpPr>
            <p:spPr>
              <a:xfrm>
                <a:off x="6400800" y="5334120"/>
                <a:ext cx="228600" cy="3042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324480" y="5412240"/>
                <a:ext cx="2286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6248520" y="54864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172200" y="55627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5" name=""/>
            <p:cNvGrpSpPr/>
            <p:nvPr/>
          </p:nvGrpSpPr>
          <p:grpSpPr>
            <a:xfrm>
              <a:off x="7391520" y="4495680"/>
              <a:ext cx="304200" cy="382320"/>
              <a:chOff x="7391520" y="4495680"/>
              <a:chExt cx="304200" cy="382320"/>
            </a:xfrm>
          </p:grpSpPr>
          <p:sp>
            <p:nvSpPr>
              <p:cNvPr id="1076" name=""/>
              <p:cNvSpPr/>
              <p:nvPr/>
            </p:nvSpPr>
            <p:spPr>
              <a:xfrm>
                <a:off x="7467480" y="4495680"/>
                <a:ext cx="228240" cy="30456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391520" y="4573800"/>
                <a:ext cx="228240" cy="3042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7238880" y="4648320"/>
              <a:ext cx="304920" cy="381960"/>
              <a:chOff x="7238880" y="4648320"/>
              <a:chExt cx="304920" cy="381960"/>
            </a:xfrm>
          </p:grpSpPr>
          <p:sp>
            <p:nvSpPr>
              <p:cNvPr id="1079" name=""/>
              <p:cNvSpPr/>
              <p:nvPr/>
            </p:nvSpPr>
            <p:spPr>
              <a:xfrm>
                <a:off x="7315200" y="4648320"/>
                <a:ext cx="228600" cy="3042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238880" y="4726440"/>
                <a:ext cx="2286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7086600" y="4800600"/>
              <a:ext cx="304920" cy="382320"/>
              <a:chOff x="7086600" y="4800600"/>
              <a:chExt cx="304920" cy="382320"/>
            </a:xfrm>
          </p:grpSpPr>
          <p:sp>
            <p:nvSpPr>
              <p:cNvPr id="1082" name=""/>
              <p:cNvSpPr/>
              <p:nvPr/>
            </p:nvSpPr>
            <p:spPr>
              <a:xfrm>
                <a:off x="7162920" y="4800600"/>
                <a:ext cx="228600" cy="30456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086600" y="4878720"/>
                <a:ext cx="228600" cy="3042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6934320" y="4952880"/>
              <a:ext cx="304200" cy="382320"/>
              <a:chOff x="6934320" y="4952880"/>
              <a:chExt cx="304200" cy="382320"/>
            </a:xfrm>
          </p:grpSpPr>
          <p:sp>
            <p:nvSpPr>
              <p:cNvPr id="1085" name=""/>
              <p:cNvSpPr/>
              <p:nvPr/>
            </p:nvSpPr>
            <p:spPr>
              <a:xfrm>
                <a:off x="7010280" y="4952880"/>
                <a:ext cx="228240" cy="30456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934320" y="5031000"/>
                <a:ext cx="228240" cy="3042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7" name=""/>
            <p:cNvSpPr/>
            <p:nvPr/>
          </p:nvSpPr>
          <p:spPr>
            <a:xfrm>
              <a:off x="6934320" y="50292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858000" y="51055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9" name=""/>
            <p:cNvGrpSpPr/>
            <p:nvPr/>
          </p:nvGrpSpPr>
          <p:grpSpPr>
            <a:xfrm>
              <a:off x="6705720" y="5181480"/>
              <a:ext cx="304200" cy="382320"/>
              <a:chOff x="6705720" y="5181480"/>
              <a:chExt cx="304200" cy="382320"/>
            </a:xfrm>
          </p:grpSpPr>
          <p:sp>
            <p:nvSpPr>
              <p:cNvPr id="1090" name=""/>
              <p:cNvSpPr/>
              <p:nvPr/>
            </p:nvSpPr>
            <p:spPr>
              <a:xfrm>
                <a:off x="6781680" y="5181480"/>
                <a:ext cx="228240" cy="30456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705720" y="5259600"/>
                <a:ext cx="228240" cy="3042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6553080" y="5334120"/>
              <a:ext cx="304920" cy="381960"/>
              <a:chOff x="6553080" y="5334120"/>
              <a:chExt cx="304920" cy="381960"/>
            </a:xfrm>
          </p:grpSpPr>
          <p:sp>
            <p:nvSpPr>
              <p:cNvPr id="1093" name=""/>
              <p:cNvSpPr/>
              <p:nvPr/>
            </p:nvSpPr>
            <p:spPr>
              <a:xfrm>
                <a:off x="6629400" y="5334120"/>
                <a:ext cx="228600" cy="3042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553080" y="5412240"/>
                <a:ext cx="2286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5" name=""/>
            <p:cNvSpPr/>
            <p:nvPr/>
          </p:nvSpPr>
          <p:spPr>
            <a:xfrm>
              <a:off x="6477120" y="54864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400800" y="55627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696080" y="44956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620120" y="45720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543800" y="46483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467480" y="47242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391520" y="48006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315200" y="48769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3" name=""/>
            <p:cNvGrpSpPr/>
            <p:nvPr/>
          </p:nvGrpSpPr>
          <p:grpSpPr>
            <a:xfrm>
              <a:off x="7162920" y="4952880"/>
              <a:ext cx="304200" cy="382320"/>
              <a:chOff x="7162920" y="4952880"/>
              <a:chExt cx="304200" cy="382320"/>
            </a:xfrm>
          </p:grpSpPr>
          <p:sp>
            <p:nvSpPr>
              <p:cNvPr id="1104" name=""/>
              <p:cNvSpPr/>
              <p:nvPr/>
            </p:nvSpPr>
            <p:spPr>
              <a:xfrm>
                <a:off x="7238880" y="4952880"/>
                <a:ext cx="228240" cy="30456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162920" y="5031000"/>
                <a:ext cx="228240" cy="3042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6" name=""/>
            <p:cNvSpPr/>
            <p:nvPr/>
          </p:nvSpPr>
          <p:spPr>
            <a:xfrm>
              <a:off x="7162920" y="50292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086600" y="51055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010280" y="51814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934320" y="52578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6781680" y="5334120"/>
              <a:ext cx="304920" cy="381960"/>
              <a:chOff x="6781680" y="5334120"/>
              <a:chExt cx="304920" cy="381960"/>
            </a:xfrm>
          </p:grpSpPr>
          <p:sp>
            <p:nvSpPr>
              <p:cNvPr id="1111" name=""/>
              <p:cNvSpPr/>
              <p:nvPr/>
            </p:nvSpPr>
            <p:spPr>
              <a:xfrm>
                <a:off x="6858000" y="5334120"/>
                <a:ext cx="228600" cy="3042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781680" y="5412240"/>
                <a:ext cx="2286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3" name=""/>
            <p:cNvSpPr/>
            <p:nvPr/>
          </p:nvSpPr>
          <p:spPr>
            <a:xfrm>
              <a:off x="6705720" y="54864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629400" y="55627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924680" y="44956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848720" y="45720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7" name=""/>
            <p:cNvGrpSpPr/>
            <p:nvPr/>
          </p:nvGrpSpPr>
          <p:grpSpPr>
            <a:xfrm>
              <a:off x="7696080" y="4648320"/>
              <a:ext cx="304920" cy="381960"/>
              <a:chOff x="7696080" y="4648320"/>
              <a:chExt cx="304920" cy="381960"/>
            </a:xfrm>
          </p:grpSpPr>
          <p:sp>
            <p:nvSpPr>
              <p:cNvPr id="1118" name=""/>
              <p:cNvSpPr/>
              <p:nvPr/>
            </p:nvSpPr>
            <p:spPr>
              <a:xfrm>
                <a:off x="7772400" y="4648320"/>
                <a:ext cx="228600" cy="3042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696080" y="4726440"/>
                <a:ext cx="2286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"/>
            <p:cNvGrpSpPr/>
            <p:nvPr/>
          </p:nvGrpSpPr>
          <p:grpSpPr>
            <a:xfrm>
              <a:off x="7543800" y="4800600"/>
              <a:ext cx="304920" cy="382320"/>
              <a:chOff x="7543800" y="4800600"/>
              <a:chExt cx="304920" cy="382320"/>
            </a:xfrm>
          </p:grpSpPr>
          <p:sp>
            <p:nvSpPr>
              <p:cNvPr id="1121" name=""/>
              <p:cNvSpPr/>
              <p:nvPr/>
            </p:nvSpPr>
            <p:spPr>
              <a:xfrm>
                <a:off x="7620120" y="4800600"/>
                <a:ext cx="228600" cy="30456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543800" y="4878720"/>
                <a:ext cx="228600" cy="3042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3" name=""/>
            <p:cNvGrpSpPr/>
            <p:nvPr/>
          </p:nvGrpSpPr>
          <p:grpSpPr>
            <a:xfrm>
              <a:off x="7391520" y="4952880"/>
              <a:ext cx="304200" cy="382320"/>
              <a:chOff x="7391520" y="4952880"/>
              <a:chExt cx="304200" cy="382320"/>
            </a:xfrm>
          </p:grpSpPr>
          <p:sp>
            <p:nvSpPr>
              <p:cNvPr id="1124" name=""/>
              <p:cNvSpPr/>
              <p:nvPr/>
            </p:nvSpPr>
            <p:spPr>
              <a:xfrm>
                <a:off x="7467480" y="4952880"/>
                <a:ext cx="228240" cy="30456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391520" y="5031000"/>
                <a:ext cx="228240" cy="3042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6" name=""/>
            <p:cNvSpPr/>
            <p:nvPr/>
          </p:nvSpPr>
          <p:spPr>
            <a:xfrm>
              <a:off x="7391520" y="50292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315200" y="51055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238880" y="51814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162920" y="52578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086600" y="53341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010280" y="54100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934320" y="54864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858000" y="55627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153280" y="44956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8077320" y="45720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8001000" y="46483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924680" y="47242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848720" y="48006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772400" y="48769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696080" y="49528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620120" y="50292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620120" y="50292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543800" y="51055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467480" y="51814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391520" y="52578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315200" y="53341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238880" y="54100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162920" y="548640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086600" y="55627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238880" y="4419720"/>
              <a:ext cx="1524240" cy="1595160"/>
            </a:xfrm>
            <a:prstGeom prst="cube">
              <a:avLst>
                <a:gd name="adj" fmla="val 90361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733920" y="5791320"/>
              <a:ext cx="3657600" cy="23472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685800" y="2133720"/>
            <a:ext cx="5067360" cy="1630080"/>
          </a:xfrm>
          <a:prstGeom prst="cube">
            <a:avLst>
              <a:gd name="adj" fmla="val 87245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85800" y="2133720"/>
            <a:ext cx="4952880" cy="1447560"/>
          </a:xfrm>
          <a:prstGeom prst="parallelogram">
            <a:avLst>
              <a:gd name="adj" fmla="val 95074"/>
            </a:avLst>
          </a:prstGeom>
          <a:blipFill rotWithShape="0">
            <a:blip r:embed="rId5"/>
            <a:srcRect/>
            <a:stretch/>
          </a:blip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685800" y="1981080"/>
            <a:ext cx="5029200" cy="1600200"/>
            <a:chOff x="685800" y="1981080"/>
            <a:chExt cx="5029200" cy="1600200"/>
          </a:xfrm>
        </p:grpSpPr>
        <p:sp>
          <p:nvSpPr>
            <p:cNvPr id="1155" name=""/>
            <p:cNvSpPr/>
            <p:nvPr/>
          </p:nvSpPr>
          <p:spPr>
            <a:xfrm>
              <a:off x="761760" y="1981080"/>
              <a:ext cx="1524240" cy="1554120"/>
            </a:xfrm>
            <a:prstGeom prst="cube">
              <a:avLst>
                <a:gd name="adj" fmla="val 90361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209680" y="1981080"/>
              <a:ext cx="3352680" cy="2286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190760" y="1981080"/>
              <a:ext cx="1524240" cy="1554120"/>
            </a:xfrm>
            <a:prstGeom prst="cube">
              <a:avLst>
                <a:gd name="adj" fmla="val 90361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85800" y="3352680"/>
              <a:ext cx="3657600" cy="2286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9" name=""/>
          <p:cNvSpPr/>
          <p:nvPr/>
        </p:nvSpPr>
        <p:spPr>
          <a:xfrm>
            <a:off x="2362320" y="20574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133720" y="20574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981080" y="22096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828800" y="23623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752480" y="24382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76520" y="25146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523880" y="25909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447920" y="27432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371600" y="28954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295280" y="2895480"/>
            <a:ext cx="228600" cy="30492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743200" y="19810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286000" y="22096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209680" y="22096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514600" y="20574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209680" y="21337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057400" y="22860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143000" y="30481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057400" y="24382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905120" y="25146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752480" y="26668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676520" y="28195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600200" y="28954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371600" y="30481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600200" y="30481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438280" y="22096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286000" y="23623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209680" y="25146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057400" y="25909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981080" y="27432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828800" y="28954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828800" y="30481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743200" y="20574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743200" y="21337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666880" y="22096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14600" y="22860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514600" y="24382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438280" y="25909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286000" y="26668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209680" y="28195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057400" y="28954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057400" y="30481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971800" y="20574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895480" y="22096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743200" y="23623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743200" y="24382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666880" y="25146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590920" y="25909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514600" y="27432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362320" y="28954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286000" y="30481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200400" y="20574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124080" y="21337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971800" y="24382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895480" y="25909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743200" y="27432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590920" y="28954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514600" y="30481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429000" y="20574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352680" y="21337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276720" y="22860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200400" y="24382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124080" y="25146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048120" y="26668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895480" y="28195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743200" y="28954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30481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895480" y="30481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657600" y="20574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581280" y="21337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505320" y="22860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429000" y="23623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352680" y="25146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276720" y="26668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124080" y="28195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124080" y="28954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124080" y="30481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886200" y="20574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809880" y="21337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733920" y="22860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657600" y="24382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581280" y="25146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505320" y="26668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352680" y="28195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352680" y="28954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352680" y="30481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114800" y="20574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038480" y="21337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962520" y="22096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886200" y="23623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809880" y="25146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733920" y="25909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657600" y="27432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581280" y="28195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581280" y="28954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581280" y="30481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343400" y="20574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267080" y="21337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191120" y="22096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114800" y="23623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038480" y="24382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962520" y="25146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886200" y="25909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886200" y="27432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809880" y="28195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09880" y="28954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029200" y="20574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809880" y="30481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572000" y="20574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800600" y="20574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495680" y="21337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724280" y="21337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419720" y="22096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952880" y="21337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648320" y="22096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343400" y="23623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23623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267080" y="24382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191120" y="25146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114800" y="26668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038480" y="28195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495680" y="24382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419720" y="25909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343400" y="27432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9906120" y="4267080"/>
            <a:ext cx="4952880" cy="1447920"/>
          </a:xfrm>
          <a:prstGeom prst="parallelogram">
            <a:avLst>
              <a:gd name="adj" fmla="val 95051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9906120" y="4343400"/>
            <a:ext cx="4952880" cy="1447920"/>
          </a:xfrm>
          <a:prstGeom prst="parallelogram">
            <a:avLst>
              <a:gd name="adj" fmla="val 95051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9906120" y="4343400"/>
            <a:ext cx="4952880" cy="1447920"/>
          </a:xfrm>
          <a:prstGeom prst="parallelogram">
            <a:avLst>
              <a:gd name="adj" fmla="val 95051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9906120" y="4343400"/>
            <a:ext cx="4952880" cy="1447920"/>
          </a:xfrm>
          <a:prstGeom prst="parallelogram">
            <a:avLst>
              <a:gd name="adj" fmla="val 95051"/>
            </a:avLst>
          </a:prstGeom>
          <a:blipFill rotWithShape="0">
            <a:blip r:embed="rId9"/>
            <a:srcRect/>
            <a:tile tx="0" ty="0" sx="100000" sy="100000" algn="ctr"/>
          </a:blip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9906120" y="4343400"/>
            <a:ext cx="4952880" cy="1447920"/>
          </a:xfrm>
          <a:prstGeom prst="parallelogram">
            <a:avLst>
              <a:gd name="adj" fmla="val 95051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9906120" y="4343400"/>
            <a:ext cx="4952880" cy="1447920"/>
          </a:xfrm>
          <a:prstGeom prst="parallelogram">
            <a:avLst>
              <a:gd name="adj" fmla="val 95051"/>
            </a:avLst>
          </a:prstGeom>
          <a:blipFill rotWithShape="0">
            <a:blip r:embed="rId11"/>
            <a:srcRect/>
            <a:tile tx="0" ty="0" sx="100000" sy="100000" algn="ctr"/>
          </a:blip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9906120" y="4343400"/>
            <a:ext cx="4952880" cy="1447920"/>
          </a:xfrm>
          <a:prstGeom prst="parallelogram">
            <a:avLst>
              <a:gd name="adj" fmla="val 95051"/>
            </a:avLst>
          </a:prstGeom>
          <a:blipFill rotWithShape="0">
            <a:blip r:embed="rId12"/>
            <a:srcRect/>
            <a:tile tx="0" ty="0" sx="100000" sy="100000" algn="ctr"/>
          </a:blip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9906120" y="4343400"/>
            <a:ext cx="4952880" cy="1447920"/>
          </a:xfrm>
          <a:prstGeom prst="parallelogram">
            <a:avLst>
              <a:gd name="adj" fmla="val 95051"/>
            </a:avLst>
          </a:prstGeom>
          <a:blipFill rotWithShape="0">
            <a:blip r:embed="rId13"/>
            <a:srcRect/>
            <a:tile tx="0" ty="0" sx="100000" sy="100000" algn="ctr"/>
          </a:blip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9906120" y="4267080"/>
            <a:ext cx="4952880" cy="1447920"/>
          </a:xfrm>
          <a:prstGeom prst="parallelogram">
            <a:avLst>
              <a:gd name="adj" fmla="val 95051"/>
            </a:avLst>
          </a:prstGeom>
          <a:blipFill rotWithShape="0">
            <a:blip r:embed="rId14"/>
            <a:srcRect/>
            <a:tile tx="0" ty="0" sx="100000" sy="100000" algn="ctr"/>
          </a:blip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0744200" y="4267080"/>
            <a:ext cx="4952880" cy="1447920"/>
          </a:xfrm>
          <a:prstGeom prst="parallelogram">
            <a:avLst>
              <a:gd name="adj" fmla="val 95051"/>
            </a:avLst>
          </a:prstGeom>
          <a:blipFill rotWithShape="0">
            <a:blip r:embed="rId15"/>
            <a:srcRect/>
            <a:tile tx="0" ty="0" sx="100000" sy="100000" algn="ctr"/>
          </a:blip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0287000" y="4572000"/>
            <a:ext cx="4952880" cy="1447920"/>
          </a:xfrm>
          <a:prstGeom prst="parallelogram">
            <a:avLst>
              <a:gd name="adj" fmla="val 95051"/>
            </a:avLst>
          </a:prstGeom>
          <a:blipFill rotWithShape="0">
            <a:blip r:embed="rId16"/>
            <a:srcRect/>
            <a:tile tx="0" ty="0" sx="100000" sy="100000" algn="ctr"/>
          </a:blip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0134720" y="4343400"/>
            <a:ext cx="4952880" cy="1447920"/>
          </a:xfrm>
          <a:prstGeom prst="parallelogram">
            <a:avLst>
              <a:gd name="adj" fmla="val 95051"/>
            </a:avLst>
          </a:prstGeom>
          <a:blipFill rotWithShape="0">
            <a:blip r:embed="rId17"/>
            <a:srcRect/>
            <a:tile tx="0" ty="0" sx="100000" sy="100000" algn="ctr"/>
          </a:blip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9829800" y="4419720"/>
            <a:ext cx="4952880" cy="1447560"/>
          </a:xfrm>
          <a:prstGeom prst="parallelogram">
            <a:avLst>
              <a:gd name="adj" fmla="val 95074"/>
            </a:avLst>
          </a:prstGeom>
          <a:blipFill rotWithShape="0">
            <a:blip r:embed="rId18"/>
            <a:srcRect/>
            <a:tile tx="0" ty="0" sx="100000" sy="100000" algn="ctr"/>
          </a:blip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9753480" y="4267080"/>
            <a:ext cx="4953240" cy="1447920"/>
          </a:xfrm>
          <a:prstGeom prst="parallelogram">
            <a:avLst>
              <a:gd name="adj" fmla="val 95058"/>
            </a:avLst>
          </a:prstGeom>
          <a:blipFill rotWithShape="0">
            <a:blip r:embed="rId19"/>
            <a:srcRect/>
            <a:tile tx="0" ty="0" sx="100000" sy="100000" algn="ctr"/>
          </a:blip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0058400" y="4267080"/>
            <a:ext cx="4952880" cy="1447920"/>
          </a:xfrm>
          <a:prstGeom prst="parallelogram">
            <a:avLst>
              <a:gd name="adj" fmla="val 95051"/>
            </a:avLst>
          </a:prstGeom>
          <a:blipFill rotWithShape="0">
            <a:blip r:embed="rId20"/>
            <a:srcRect/>
            <a:tile tx="0" ty="0" sx="100000" sy="100000" algn="ctr"/>
          </a:blip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0820520" y="4267080"/>
            <a:ext cx="4952880" cy="1447920"/>
          </a:xfrm>
          <a:prstGeom prst="parallelogram">
            <a:avLst>
              <a:gd name="adj" fmla="val 95051"/>
            </a:avLst>
          </a:prstGeom>
          <a:blipFill rotWithShape="0">
            <a:blip r:embed="rId21"/>
            <a:srcRect/>
            <a:tile tx="0" ty="0" sx="100000" sy="100000" algn="ctr"/>
          </a:blip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485080" y="2438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已自布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615000" y="3581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板印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9829800" y="4267080"/>
            <a:ext cx="4952880" cy="1447920"/>
          </a:xfrm>
          <a:prstGeom prst="parallelogram">
            <a:avLst>
              <a:gd name="adj" fmla="val 95051"/>
            </a:avLst>
          </a:prstGeom>
          <a:blipFill rotWithShape="0">
            <a:blip r:embed="rId22"/>
            <a:srcRect/>
            <a:tile tx="0" ty="0" sx="100000" sy="100000" algn="ctr"/>
          </a:blip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5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500"/>
                            </p:stCondLst>
                            <p:childTnLst>
                              <p:par>
                                <p:cTn id="2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500"/>
                            </p:stCondLst>
                            <p:childTnLst>
                              <p:par>
                                <p:cTn id="2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500"/>
                            </p:stCondLst>
                            <p:childTnLst>
                              <p:par>
                                <p:cTn id="2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500"/>
                            </p:stCondLst>
                            <p:childTnLst>
                              <p:par>
                                <p:cTn id="2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7500"/>
                            </p:stCondLst>
                            <p:childTnLst>
                              <p:par>
                                <p:cTn id="2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02" name=""/>
          <p:cNvGrpSpPr/>
          <p:nvPr/>
        </p:nvGrpSpPr>
        <p:grpSpPr>
          <a:xfrm>
            <a:off x="3124080" y="2286000"/>
            <a:ext cx="5562720" cy="2057400"/>
            <a:chOff x="3124080" y="2286000"/>
            <a:chExt cx="5562720" cy="2057400"/>
          </a:xfrm>
        </p:grpSpPr>
        <p:sp>
          <p:nvSpPr>
            <p:cNvPr id="1303" name=""/>
            <p:cNvSpPr/>
            <p:nvPr/>
          </p:nvSpPr>
          <p:spPr>
            <a:xfrm>
              <a:off x="3124080" y="2286000"/>
              <a:ext cx="4952880" cy="1447920"/>
            </a:xfrm>
            <a:prstGeom prst="parallelogram">
              <a:avLst>
                <a:gd name="adj" fmla="val 95051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276360" y="2438640"/>
              <a:ext cx="4953240" cy="1447560"/>
            </a:xfrm>
            <a:prstGeom prst="parallelogram">
              <a:avLst>
                <a:gd name="adj" fmla="val 95081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429000" y="2590920"/>
              <a:ext cx="4952880" cy="1447920"/>
            </a:xfrm>
            <a:prstGeom prst="parallelogram">
              <a:avLst>
                <a:gd name="adj" fmla="val 95051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581280" y="2743200"/>
              <a:ext cx="4952880" cy="1447920"/>
            </a:xfrm>
            <a:prstGeom prst="parallelogram">
              <a:avLst>
                <a:gd name="adj" fmla="val 95051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733560" y="2895840"/>
              <a:ext cx="4953240" cy="1447560"/>
            </a:xfrm>
            <a:prstGeom prst="parallelogram">
              <a:avLst>
                <a:gd name="adj" fmla="val 95081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3333600" y="2638080"/>
            <a:ext cx="5905080" cy="3181320"/>
            <a:chOff x="3333600" y="2638080"/>
            <a:chExt cx="5905080" cy="3181320"/>
          </a:xfrm>
        </p:grpSpPr>
        <p:sp>
          <p:nvSpPr>
            <p:cNvPr id="1309" name=""/>
            <p:cNvSpPr/>
            <p:nvPr/>
          </p:nvSpPr>
          <p:spPr>
            <a:xfrm rot="11500200">
              <a:off x="3428640" y="3124080"/>
              <a:ext cx="4952880" cy="1447920"/>
            </a:xfrm>
            <a:prstGeom prst="parallelogram">
              <a:avLst>
                <a:gd name="adj" fmla="val 95051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rot="11500200">
              <a:off x="3580920" y="3276360"/>
              <a:ext cx="4952880" cy="1447920"/>
            </a:xfrm>
            <a:prstGeom prst="parallelogram">
              <a:avLst>
                <a:gd name="adj" fmla="val 95051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rot="11500200">
              <a:off x="3732840" y="3428640"/>
              <a:ext cx="4953240" cy="1447560"/>
            </a:xfrm>
            <a:prstGeom prst="parallelogram">
              <a:avLst>
                <a:gd name="adj" fmla="val 95081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rot="11500200">
              <a:off x="3885840" y="3581280"/>
              <a:ext cx="4952880" cy="1447920"/>
            </a:xfrm>
            <a:prstGeom prst="parallelogram">
              <a:avLst>
                <a:gd name="adj" fmla="val 95051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rot="11500200">
              <a:off x="4038120" y="3733560"/>
              <a:ext cx="4952880" cy="1447920"/>
            </a:xfrm>
            <a:prstGeom prst="parallelogram">
              <a:avLst>
                <a:gd name="adj" fmla="val 95051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rot="11500200">
              <a:off x="4190040" y="3885840"/>
              <a:ext cx="4953240" cy="1447560"/>
            </a:xfrm>
            <a:prstGeom prst="parallelogram">
              <a:avLst>
                <a:gd name="adj" fmla="val 95081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5" name=""/>
          <p:cNvGrpSpPr/>
          <p:nvPr/>
        </p:nvGrpSpPr>
        <p:grpSpPr>
          <a:xfrm>
            <a:off x="3514320" y="2950560"/>
            <a:ext cx="6003720" cy="4538520"/>
            <a:chOff x="3514320" y="2950560"/>
            <a:chExt cx="6003720" cy="4538520"/>
          </a:xfrm>
        </p:grpSpPr>
        <p:grpSp>
          <p:nvGrpSpPr>
            <p:cNvPr id="1316" name=""/>
            <p:cNvGrpSpPr/>
            <p:nvPr/>
          </p:nvGrpSpPr>
          <p:grpSpPr>
            <a:xfrm>
              <a:off x="3514320" y="2950560"/>
              <a:ext cx="6003720" cy="4538520"/>
              <a:chOff x="3514320" y="2950560"/>
              <a:chExt cx="6003720" cy="4538520"/>
            </a:xfrm>
          </p:grpSpPr>
          <p:sp>
            <p:nvSpPr>
              <p:cNvPr id="1317" name=""/>
              <p:cNvSpPr/>
              <p:nvPr/>
            </p:nvSpPr>
            <p:spPr>
              <a:xfrm rot="12359400">
                <a:off x="3580920" y="3962160"/>
                <a:ext cx="4952880" cy="1447920"/>
              </a:xfrm>
              <a:prstGeom prst="parallelogram">
                <a:avLst>
                  <a:gd name="adj" fmla="val 95051"/>
                </a:avLst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rot="12359400">
                <a:off x="3733200" y="4114440"/>
                <a:ext cx="4952880" cy="1447920"/>
              </a:xfrm>
              <a:prstGeom prst="parallelogram">
                <a:avLst>
                  <a:gd name="adj" fmla="val 95051"/>
                </a:avLst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rot="12359400">
                <a:off x="3885480" y="4266720"/>
                <a:ext cx="4953240" cy="1447560"/>
              </a:xfrm>
              <a:prstGeom prst="parallelogram">
                <a:avLst>
                  <a:gd name="adj" fmla="val 95081"/>
                </a:avLst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rot="12359400">
                <a:off x="4038120" y="4419360"/>
                <a:ext cx="4952880" cy="1447920"/>
              </a:xfrm>
              <a:prstGeom prst="parallelogram">
                <a:avLst>
                  <a:gd name="adj" fmla="val 95051"/>
                </a:avLst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rot="12359400">
                <a:off x="4190400" y="4571640"/>
                <a:ext cx="4952880" cy="1447920"/>
              </a:xfrm>
              <a:prstGeom prst="parallelogram">
                <a:avLst>
                  <a:gd name="adj" fmla="val 95051"/>
                </a:avLst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rot="12359400">
                <a:off x="4342680" y="4723920"/>
                <a:ext cx="4953240" cy="1447560"/>
              </a:xfrm>
              <a:prstGeom prst="parallelogram">
                <a:avLst>
                  <a:gd name="adj" fmla="val 95081"/>
                </a:avLst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rot="12359400">
                <a:off x="4495320" y="4876560"/>
                <a:ext cx="4952880" cy="1447920"/>
              </a:xfrm>
              <a:prstGeom prst="parallelogram">
                <a:avLst>
                  <a:gd name="adj" fmla="val 95051"/>
                </a:avLst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rot="12359400">
                <a:off x="4497840" y="5028840"/>
                <a:ext cx="4953240" cy="1447920"/>
              </a:xfrm>
              <a:prstGeom prst="parallelogram">
                <a:avLst>
                  <a:gd name="adj" fmla="val 95058"/>
                </a:avLst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5" name=""/>
            <p:cNvSpPr/>
            <p:nvPr/>
          </p:nvSpPr>
          <p:spPr>
            <a:xfrm rot="12359400">
              <a:off x="4497840" y="5028840"/>
              <a:ext cx="4953240" cy="1447920"/>
            </a:xfrm>
            <a:prstGeom prst="parallelogram">
              <a:avLst>
                <a:gd name="adj" fmla="val 95058"/>
              </a:avLst>
            </a:prstGeom>
            <a:blipFill rotWithShape="0">
              <a:blip r:embed="rId22"/>
              <a:srcRect/>
              <a:tile tx="0" ty="0" sx="100000" sy="100000" algn="ctr"/>
            </a:blip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rot="12359400">
              <a:off x="4497840" y="5028840"/>
              <a:ext cx="4953240" cy="1447920"/>
            </a:xfrm>
            <a:prstGeom prst="parallelogram">
              <a:avLst>
                <a:gd name="adj" fmla="val 95058"/>
              </a:avLst>
            </a:prstGeom>
            <a:blipFill rotWithShape="0">
              <a:blip r:embed="rId23"/>
              <a:srcRect/>
              <a:tile tx="0" ty="0" sx="100000" sy="100000" algn="ctr"/>
            </a:blip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rot="12359400">
              <a:off x="4497840" y="5028840"/>
              <a:ext cx="4953240" cy="1447920"/>
            </a:xfrm>
            <a:prstGeom prst="parallelogram">
              <a:avLst>
                <a:gd name="adj" fmla="val 95058"/>
              </a:avLst>
            </a:prstGeom>
            <a:blipFill rotWithShape="0">
              <a:blip r:embed="rId24"/>
              <a:srcRect/>
              <a:tile tx="0" ty="0" sx="100000" sy="100000" algn="ctr"/>
            </a:blip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8" name=""/>
          <p:cNvSpPr/>
          <p:nvPr/>
        </p:nvSpPr>
        <p:spPr>
          <a:xfrm>
            <a:off x="6219000" y="914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瞬息可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6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9" name="" descr=""/>
          <p:cNvPicPr/>
          <p:nvPr/>
        </p:nvPicPr>
        <p:blipFill>
          <a:blip r:embed="rId2"/>
          <a:stretch/>
        </p:blipFill>
        <p:spPr>
          <a:xfrm>
            <a:off x="-33480" y="0"/>
            <a:ext cx="92109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0" name=""/>
          <p:cNvGrpSpPr/>
          <p:nvPr/>
        </p:nvGrpSpPr>
        <p:grpSpPr>
          <a:xfrm>
            <a:off x="2743200" y="1219320"/>
            <a:ext cx="5067360" cy="1782720"/>
            <a:chOff x="2743200" y="1219320"/>
            <a:chExt cx="5067360" cy="1782720"/>
          </a:xfrm>
        </p:grpSpPr>
        <p:sp>
          <p:nvSpPr>
            <p:cNvPr id="1331" name=""/>
            <p:cNvSpPr/>
            <p:nvPr/>
          </p:nvSpPr>
          <p:spPr>
            <a:xfrm>
              <a:off x="2743200" y="1371960"/>
              <a:ext cx="5067360" cy="1630080"/>
            </a:xfrm>
            <a:prstGeom prst="cube">
              <a:avLst>
                <a:gd name="adj" fmla="val 87245"/>
              </a:avLst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933960" y="16765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248160" y="2286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095880" y="24386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2743200" y="1219320"/>
              <a:ext cx="5029200" cy="1600200"/>
              <a:chOff x="2743200" y="1219320"/>
              <a:chExt cx="5029200" cy="1600200"/>
            </a:xfrm>
          </p:grpSpPr>
          <p:sp>
            <p:nvSpPr>
              <p:cNvPr id="1336" name=""/>
              <p:cNvSpPr/>
              <p:nvPr/>
            </p:nvSpPr>
            <p:spPr>
              <a:xfrm>
                <a:off x="2819160" y="1219320"/>
                <a:ext cx="1524240" cy="1554120"/>
              </a:xfrm>
              <a:prstGeom prst="cube">
                <a:avLst>
                  <a:gd name="adj" fmla="val 90361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4267080" y="1219320"/>
                <a:ext cx="3352680" cy="228600"/>
              </a:xfrm>
              <a:prstGeom prst="cube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248160" y="1219320"/>
                <a:ext cx="1524240" cy="1554120"/>
              </a:xfrm>
              <a:prstGeom prst="cube">
                <a:avLst>
                  <a:gd name="adj" fmla="val 90361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2743200" y="2590920"/>
                <a:ext cx="3657600" cy="228600"/>
              </a:xfrm>
              <a:prstGeom prst="cube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0" name=""/>
            <p:cNvSpPr/>
            <p:nvPr/>
          </p:nvSpPr>
          <p:spPr>
            <a:xfrm>
              <a:off x="4190760" y="12193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114800" y="12956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038480" y="14479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962160" y="14479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886200" y="16005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809880" y="16765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733560" y="17528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581280" y="18291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504960" y="19814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429000" y="21337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352680" y="213372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800600" y="12193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572000" y="12193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572000" y="1371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343400" y="12956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267080" y="14479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114800" y="15242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200400" y="2286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114800" y="16765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962160" y="17528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09880" y="19051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33560" y="20577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657600" y="21337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429000" y="2286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657600" y="2286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495680" y="14479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343400" y="16005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267080" y="17528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114800" y="18291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038480" y="19814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86200" y="21337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86200" y="2286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800600" y="12956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800600" y="1371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724280" y="14479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572000" y="15242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572000" y="16765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495680" y="18291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343400" y="19051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267080" y="20577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114800" y="21337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114800" y="2286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029200" y="12956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952880" y="14479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800600" y="16005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800600" y="16765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724280" y="17528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647960" y="18291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572000" y="19814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419360" y="21337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343400" y="2286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257800" y="12956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181480" y="1371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105160" y="15242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029200" y="16765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952880" y="18291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800600" y="19814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647960" y="21337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572000" y="2286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486400" y="12956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410080" y="1371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333760" y="15242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257800" y="16765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181480" y="17528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105160" y="19051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952880" y="20577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800600" y="21337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800600" y="2286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952880" y="2286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715000" y="12956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638680" y="1371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562360" y="15242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486400" y="16005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410080" y="17528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333760" y="19051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181480" y="20577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181480" y="21337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181480" y="2286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943600" y="12956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67280" y="1371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790960" y="15242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715000" y="16765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638680" y="17528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562360" y="19051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410080" y="20577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410080" y="21337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410080" y="2286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172200" y="12956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095880" y="1371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019560" y="14479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943600" y="16005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867280" y="17528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790960" y="18291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715000" y="19814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638680" y="20577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638680" y="21337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638680" y="2286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400800" y="12956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324480" y="1371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248160" y="14479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172200" y="16005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095880" y="16765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019560" y="17528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43600" y="18291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943600" y="19814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867280" y="20577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867280" y="21337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086600" y="12956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67280" y="22863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629400" y="12956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858000" y="12956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553080" y="1371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781680" y="1371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476760" y="14479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010280" y="13719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705360" y="14479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400800" y="16005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629400" y="16005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324480" y="16765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48160" y="17528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172200" y="19051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095880" y="20577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553080" y="167652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476760" y="1829160"/>
              <a:ext cx="228600" cy="2966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400800" y="1981440"/>
              <a:ext cx="228600" cy="2970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5" name="">
            <a:hlinkClick r:id="rId3"/>
          </p:cNvPr>
          <p:cNvSpPr/>
          <p:nvPr/>
        </p:nvSpPr>
        <p:spPr>
          <a:xfrm>
            <a:off x="4401360" y="16765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再火令药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8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44160" cy="6858000"/>
          </a:xfrm>
          <a:prstGeom prst="rect">
            <a:avLst/>
          </a:prstGeom>
          <a:ln w="0">
            <a:noFill/>
          </a:ln>
        </p:spPr>
      </p:pic>
      <p:sp>
        <p:nvSpPr>
          <p:cNvPr id="1467" name=""/>
          <p:cNvSpPr/>
          <p:nvPr/>
        </p:nvSpPr>
        <p:spPr>
          <a:xfrm>
            <a:off x="4191120" y="2362320"/>
            <a:ext cx="228600" cy="30456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143000" y="1219320"/>
            <a:ext cx="1523880" cy="1595160"/>
          </a:xfrm>
          <a:prstGeom prst="cube">
            <a:avLst>
              <a:gd name="adj" fmla="val 9036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590920" y="1219320"/>
            <a:ext cx="3352680" cy="23472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572000" y="1219320"/>
            <a:ext cx="1523880" cy="1595160"/>
          </a:xfrm>
          <a:prstGeom prst="cube">
            <a:avLst>
              <a:gd name="adj" fmla="val 9036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1" name="" descr=""/>
          <p:cNvPicPr/>
          <p:nvPr/>
        </p:nvPicPr>
        <p:blipFill>
          <a:blip r:embed="rId3"/>
          <a:stretch/>
        </p:blipFill>
        <p:spPr>
          <a:xfrm>
            <a:off x="-685800" y="0"/>
            <a:ext cx="9344160" cy="6858000"/>
          </a:xfrm>
          <a:prstGeom prst="rect">
            <a:avLst/>
          </a:prstGeom>
          <a:ln w="0">
            <a:noFill/>
          </a:ln>
        </p:spPr>
      </p:pic>
      <p:sp>
        <p:nvSpPr>
          <p:cNvPr id="1472" name=""/>
          <p:cNvSpPr/>
          <p:nvPr/>
        </p:nvSpPr>
        <p:spPr>
          <a:xfrm>
            <a:off x="1447920" y="1447920"/>
            <a:ext cx="1523880" cy="1595160"/>
          </a:xfrm>
          <a:prstGeom prst="cube">
            <a:avLst>
              <a:gd name="adj" fmla="val 9036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743200" y="1371600"/>
            <a:ext cx="3352680" cy="2350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143000" y="990720"/>
            <a:ext cx="1523880" cy="1595160"/>
          </a:xfrm>
          <a:prstGeom prst="cube">
            <a:avLst>
              <a:gd name="adj" fmla="val 9036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1600200" y="2819160"/>
            <a:ext cx="3200400" cy="22680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4952880" y="1447920"/>
            <a:ext cx="304920" cy="381960"/>
            <a:chOff x="4952880" y="1447920"/>
            <a:chExt cx="304920" cy="381960"/>
          </a:xfrm>
        </p:grpSpPr>
        <p:sp>
          <p:nvSpPr>
            <p:cNvPr id="1477" name=""/>
            <p:cNvSpPr/>
            <p:nvPr/>
          </p:nvSpPr>
          <p:spPr>
            <a:xfrm>
              <a:off x="5029200" y="1447920"/>
              <a:ext cx="228600" cy="3042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952880" y="1526040"/>
              <a:ext cx="228600" cy="3038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3276720" y="1447920"/>
            <a:ext cx="228600" cy="30456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505320" y="1676520"/>
            <a:ext cx="228600" cy="30456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1" name=""/>
          <p:cNvGrpSpPr/>
          <p:nvPr/>
        </p:nvGrpSpPr>
        <p:grpSpPr>
          <a:xfrm>
            <a:off x="4267080" y="1219320"/>
            <a:ext cx="3962520" cy="3962160"/>
            <a:chOff x="4267080" y="1219320"/>
            <a:chExt cx="3962520" cy="3962160"/>
          </a:xfrm>
        </p:grpSpPr>
        <p:sp>
          <p:nvSpPr>
            <p:cNvPr id="1482" name=""/>
            <p:cNvSpPr/>
            <p:nvPr/>
          </p:nvSpPr>
          <p:spPr>
            <a:xfrm>
              <a:off x="6629400" y="33526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3" name=""/>
            <p:cNvGrpSpPr/>
            <p:nvPr/>
          </p:nvGrpSpPr>
          <p:grpSpPr>
            <a:xfrm>
              <a:off x="4267080" y="1219320"/>
              <a:ext cx="3962520" cy="3962160"/>
              <a:chOff x="4267080" y="1219320"/>
              <a:chExt cx="3962520" cy="3962160"/>
            </a:xfrm>
          </p:grpSpPr>
          <p:sp>
            <p:nvSpPr>
              <p:cNvPr id="1484" name=""/>
              <p:cNvSpPr/>
              <p:nvPr/>
            </p:nvSpPr>
            <p:spPr>
              <a:xfrm>
                <a:off x="6629400" y="3962520"/>
                <a:ext cx="228600" cy="30456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8001000" y="2362320"/>
                <a:ext cx="228600" cy="30456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248520" y="4419720"/>
                <a:ext cx="228600" cy="30456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391520" y="4343400"/>
                <a:ext cx="228600" cy="30492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7162920" y="4876920"/>
                <a:ext cx="228600" cy="30456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4267080" y="3581280"/>
                <a:ext cx="228600" cy="30492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0" name=""/>
              <p:cNvGrpSpPr/>
              <p:nvPr/>
            </p:nvGrpSpPr>
            <p:grpSpPr>
              <a:xfrm>
                <a:off x="6324480" y="2057400"/>
                <a:ext cx="457200" cy="538920"/>
                <a:chOff x="6324480" y="2057400"/>
                <a:chExt cx="457200" cy="538920"/>
              </a:xfrm>
            </p:grpSpPr>
            <p:grpSp>
              <p:nvGrpSpPr>
                <p:cNvPr id="1491" name=""/>
                <p:cNvGrpSpPr/>
                <p:nvPr/>
              </p:nvGrpSpPr>
              <p:grpSpPr>
                <a:xfrm>
                  <a:off x="6476760" y="2057400"/>
                  <a:ext cx="304920" cy="382320"/>
                  <a:chOff x="6476760" y="2057400"/>
                  <a:chExt cx="304920" cy="382320"/>
                </a:xfrm>
              </p:grpSpPr>
              <p:sp>
                <p:nvSpPr>
                  <p:cNvPr id="1492" name=""/>
                  <p:cNvSpPr/>
                  <p:nvPr/>
                </p:nvSpPr>
                <p:spPr>
                  <a:xfrm>
                    <a:off x="6553080" y="2057400"/>
                    <a:ext cx="228600" cy="304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6476760" y="2135520"/>
                    <a:ext cx="228600" cy="3042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94" name=""/>
                <p:cNvGrpSpPr/>
                <p:nvPr/>
              </p:nvGrpSpPr>
              <p:grpSpPr>
                <a:xfrm>
                  <a:off x="6324480" y="2213640"/>
                  <a:ext cx="304920" cy="382680"/>
                  <a:chOff x="6324480" y="2213640"/>
                  <a:chExt cx="304920" cy="382680"/>
                </a:xfrm>
              </p:grpSpPr>
              <p:sp>
                <p:nvSpPr>
                  <p:cNvPr id="1495" name=""/>
                  <p:cNvSpPr/>
                  <p:nvPr/>
                </p:nvSpPr>
                <p:spPr>
                  <a:xfrm>
                    <a:off x="6400800" y="2213640"/>
                    <a:ext cx="228600" cy="304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6" name=""/>
                  <p:cNvSpPr/>
                  <p:nvPr/>
                </p:nvSpPr>
                <p:spPr>
                  <a:xfrm>
                    <a:off x="6324480" y="2291760"/>
                    <a:ext cx="228600" cy="304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97" name=""/>
              <p:cNvSpPr/>
              <p:nvPr/>
            </p:nvSpPr>
            <p:spPr>
              <a:xfrm>
                <a:off x="6553080" y="2971800"/>
                <a:ext cx="228600" cy="30492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7010280" y="1219320"/>
                <a:ext cx="228600" cy="30456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9" name=""/>
              <p:cNvGrpSpPr/>
              <p:nvPr/>
            </p:nvGrpSpPr>
            <p:grpSpPr>
              <a:xfrm>
                <a:off x="5410080" y="4648320"/>
                <a:ext cx="304920" cy="381960"/>
                <a:chOff x="5410080" y="4648320"/>
                <a:chExt cx="304920" cy="381960"/>
              </a:xfrm>
            </p:grpSpPr>
            <p:sp>
              <p:nvSpPr>
                <p:cNvPr id="1500" name=""/>
                <p:cNvSpPr/>
                <p:nvPr/>
              </p:nvSpPr>
              <p:spPr>
                <a:xfrm>
                  <a:off x="5486400" y="4648320"/>
                  <a:ext cx="228600" cy="304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5410080" y="4726440"/>
                  <a:ext cx="2286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2" name=""/>
              <p:cNvSpPr/>
              <p:nvPr/>
            </p:nvSpPr>
            <p:spPr>
              <a:xfrm>
                <a:off x="7620120" y="1676520"/>
                <a:ext cx="228600" cy="30456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3" name=""/>
              <p:cNvGrpSpPr/>
              <p:nvPr/>
            </p:nvGrpSpPr>
            <p:grpSpPr>
              <a:xfrm>
                <a:off x="7238880" y="2438280"/>
                <a:ext cx="304920" cy="382320"/>
                <a:chOff x="7238880" y="2438280"/>
                <a:chExt cx="304920" cy="382320"/>
              </a:xfrm>
            </p:grpSpPr>
            <p:sp>
              <p:nvSpPr>
                <p:cNvPr id="1504" name=""/>
                <p:cNvSpPr/>
                <p:nvPr/>
              </p:nvSpPr>
              <p:spPr>
                <a:xfrm>
                  <a:off x="7315200" y="2438280"/>
                  <a:ext cx="22860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7238880" y="2516400"/>
                  <a:ext cx="228600" cy="304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6" name=""/>
              <p:cNvGrpSpPr/>
              <p:nvPr/>
            </p:nvGrpSpPr>
            <p:grpSpPr>
              <a:xfrm>
                <a:off x="5334120" y="2971800"/>
                <a:ext cx="304200" cy="382320"/>
                <a:chOff x="5334120" y="2971800"/>
                <a:chExt cx="304200" cy="382320"/>
              </a:xfrm>
            </p:grpSpPr>
            <p:sp>
              <p:nvSpPr>
                <p:cNvPr id="1507" name=""/>
                <p:cNvSpPr/>
                <p:nvPr/>
              </p:nvSpPr>
              <p:spPr>
                <a:xfrm>
                  <a:off x="5410080" y="2971800"/>
                  <a:ext cx="22824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5334120" y="3049920"/>
                  <a:ext cx="228240" cy="304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9" name=""/>
              <p:cNvGrpSpPr/>
              <p:nvPr/>
            </p:nvGrpSpPr>
            <p:grpSpPr>
              <a:xfrm>
                <a:off x="5943600" y="3657600"/>
                <a:ext cx="304920" cy="382320"/>
                <a:chOff x="5943600" y="3657600"/>
                <a:chExt cx="304920" cy="382320"/>
              </a:xfrm>
            </p:grpSpPr>
            <p:sp>
              <p:nvSpPr>
                <p:cNvPr id="1510" name=""/>
                <p:cNvSpPr/>
                <p:nvPr/>
              </p:nvSpPr>
              <p:spPr>
                <a:xfrm>
                  <a:off x="6019920" y="3657600"/>
                  <a:ext cx="22860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5943600" y="3735720"/>
                  <a:ext cx="228600" cy="304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2" name=""/>
              <p:cNvSpPr/>
              <p:nvPr/>
            </p:nvSpPr>
            <p:spPr>
              <a:xfrm>
                <a:off x="7848720" y="3505320"/>
                <a:ext cx="228600" cy="30456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3" name=""/>
          <p:cNvGrpSpPr/>
          <p:nvPr/>
        </p:nvGrpSpPr>
        <p:grpSpPr>
          <a:xfrm>
            <a:off x="1066680" y="1371600"/>
            <a:ext cx="5067360" cy="1672920"/>
            <a:chOff x="1066680" y="1371600"/>
            <a:chExt cx="5067360" cy="1672920"/>
          </a:xfrm>
        </p:grpSpPr>
        <p:sp>
          <p:nvSpPr>
            <p:cNvPr id="1514" name=""/>
            <p:cNvSpPr/>
            <p:nvPr/>
          </p:nvSpPr>
          <p:spPr>
            <a:xfrm>
              <a:off x="1066680" y="1371600"/>
              <a:ext cx="5067360" cy="1672920"/>
            </a:xfrm>
            <a:prstGeom prst="cube">
              <a:avLst>
                <a:gd name="adj" fmla="val 87245"/>
              </a:avLst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066680" y="1371600"/>
              <a:ext cx="5029200" cy="1407600"/>
            </a:xfrm>
            <a:prstGeom prst="parallelogram">
              <a:avLst>
                <a:gd name="adj" fmla="val 99280"/>
              </a:avLst>
            </a:prstGeom>
            <a:blipFill rotWithShape="0">
              <a:blip r:embed="rId4"/>
              <a:srcRect/>
              <a:stretch/>
            </a:blip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1066680" y="2590920"/>
            <a:ext cx="3657600" cy="23472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4648320" y="1143000"/>
            <a:ext cx="1523880" cy="1595520"/>
          </a:xfrm>
          <a:prstGeom prst="cube">
            <a:avLst>
              <a:gd name="adj" fmla="val 9036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2666880" y="990720"/>
            <a:ext cx="3353040" cy="30456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9" name=""/>
          <p:cNvGrpSpPr/>
          <p:nvPr/>
        </p:nvGrpSpPr>
        <p:grpSpPr>
          <a:xfrm>
            <a:off x="2514600" y="1447920"/>
            <a:ext cx="304920" cy="381960"/>
            <a:chOff x="2514600" y="1447920"/>
            <a:chExt cx="304920" cy="381960"/>
          </a:xfrm>
        </p:grpSpPr>
        <p:sp>
          <p:nvSpPr>
            <p:cNvPr id="1520" name=""/>
            <p:cNvSpPr/>
            <p:nvPr/>
          </p:nvSpPr>
          <p:spPr>
            <a:xfrm>
              <a:off x="2590920" y="1447920"/>
              <a:ext cx="228600" cy="30420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514600" y="1526040"/>
              <a:ext cx="228600" cy="303840"/>
            </a:xfrm>
            <a:prstGeom prst="cube">
              <a:avLst>
                <a:gd name="adj" fmla="val 25000"/>
              </a:avLst>
            </a:prstGeom>
            <a:solidFill>
              <a:srgbClr val="ae6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2971800" y="1523880"/>
            <a:ext cx="228600" cy="30492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3352680" y="1523880"/>
            <a:ext cx="228600" cy="30492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2590920" y="3108240"/>
            <a:ext cx="29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其印自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441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26" name=""/>
          <p:cNvGrpSpPr/>
          <p:nvPr/>
        </p:nvGrpSpPr>
        <p:grpSpPr>
          <a:xfrm>
            <a:off x="2057400" y="1981080"/>
            <a:ext cx="4571280" cy="2971080"/>
            <a:chOff x="2057400" y="1981080"/>
            <a:chExt cx="4571280" cy="2971080"/>
          </a:xfrm>
        </p:grpSpPr>
        <p:grpSp>
          <p:nvGrpSpPr>
            <p:cNvPr id="1527" name=""/>
            <p:cNvGrpSpPr/>
            <p:nvPr/>
          </p:nvGrpSpPr>
          <p:grpSpPr>
            <a:xfrm>
              <a:off x="2685600" y="1981080"/>
              <a:ext cx="2302920" cy="1602360"/>
              <a:chOff x="2685600" y="1981080"/>
              <a:chExt cx="2302920" cy="1602360"/>
            </a:xfrm>
          </p:grpSpPr>
          <p:sp>
            <p:nvSpPr>
              <p:cNvPr id="1528" name=""/>
              <p:cNvSpPr/>
              <p:nvPr/>
            </p:nvSpPr>
            <p:spPr>
              <a:xfrm>
                <a:off x="2720520" y="1981080"/>
                <a:ext cx="697680" cy="1591560"/>
              </a:xfrm>
              <a:prstGeom prst="cube">
                <a:avLst>
                  <a:gd name="adj" fmla="val 90361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383280" y="1981080"/>
                <a:ext cx="1535760" cy="234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348720" y="2057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313800" y="213264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278520" y="2208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243960" y="228492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4" name=""/>
              <p:cNvGrpSpPr/>
              <p:nvPr/>
            </p:nvGrpSpPr>
            <p:grpSpPr>
              <a:xfrm>
                <a:off x="3174120" y="2360880"/>
                <a:ext cx="139320" cy="381240"/>
                <a:chOff x="3174120" y="2360880"/>
                <a:chExt cx="139320" cy="381240"/>
              </a:xfrm>
            </p:grpSpPr>
            <p:sp>
              <p:nvSpPr>
                <p:cNvPr id="1535" name=""/>
                <p:cNvSpPr/>
                <p:nvPr/>
              </p:nvSpPr>
              <p:spPr>
                <a:xfrm>
                  <a:off x="3209040" y="236088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3174120" y="24386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7" name=""/>
              <p:cNvSpPr/>
              <p:nvPr/>
            </p:nvSpPr>
            <p:spPr>
              <a:xfrm>
                <a:off x="3139200" y="25131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104280" y="25887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104280" y="25887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069360" y="26650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034440" y="2741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999520" y="28170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964600" y="2892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929680" y="296928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894760" y="3044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859840" y="31212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7" name=""/>
              <p:cNvGrpSpPr/>
              <p:nvPr/>
            </p:nvGrpSpPr>
            <p:grpSpPr>
              <a:xfrm>
                <a:off x="3418200" y="2057040"/>
                <a:ext cx="139320" cy="380880"/>
                <a:chOff x="3418200" y="2057040"/>
                <a:chExt cx="139320" cy="380880"/>
              </a:xfrm>
            </p:grpSpPr>
            <p:sp>
              <p:nvSpPr>
                <p:cNvPr id="1548" name=""/>
                <p:cNvSpPr/>
                <p:nvPr/>
              </p:nvSpPr>
              <p:spPr>
                <a:xfrm>
                  <a:off x="3453120" y="20570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3418200" y="213480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0" name=""/>
              <p:cNvGrpSpPr/>
              <p:nvPr/>
            </p:nvGrpSpPr>
            <p:grpSpPr>
              <a:xfrm>
                <a:off x="3348720" y="2208960"/>
                <a:ext cx="139320" cy="381240"/>
                <a:chOff x="3348720" y="2208960"/>
                <a:chExt cx="139320" cy="381240"/>
              </a:xfrm>
            </p:grpSpPr>
            <p:sp>
              <p:nvSpPr>
                <p:cNvPr id="1551" name=""/>
                <p:cNvSpPr/>
                <p:nvPr/>
              </p:nvSpPr>
              <p:spPr>
                <a:xfrm>
                  <a:off x="3383640" y="220896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3348720" y="228672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3" name=""/>
              <p:cNvSpPr/>
              <p:nvPr/>
            </p:nvSpPr>
            <p:spPr>
              <a:xfrm>
                <a:off x="3313800" y="2360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278520" y="243684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5" name=""/>
              <p:cNvGrpSpPr/>
              <p:nvPr/>
            </p:nvGrpSpPr>
            <p:grpSpPr>
              <a:xfrm>
                <a:off x="3209040" y="2513160"/>
                <a:ext cx="139320" cy="380880"/>
                <a:chOff x="3209040" y="2513160"/>
                <a:chExt cx="139320" cy="380880"/>
              </a:xfrm>
            </p:grpSpPr>
            <p:sp>
              <p:nvSpPr>
                <p:cNvPr id="1556" name=""/>
                <p:cNvSpPr/>
                <p:nvPr/>
              </p:nvSpPr>
              <p:spPr>
                <a:xfrm>
                  <a:off x="3243960" y="25131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3209040" y="25909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8" name=""/>
              <p:cNvSpPr/>
              <p:nvPr/>
            </p:nvSpPr>
            <p:spPr>
              <a:xfrm>
                <a:off x="3209040" y="25887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174120" y="26650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139200" y="2741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104280" y="28170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069360" y="2892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034440" y="296928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999520" y="3044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964600" y="31212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557880" y="2057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522960" y="213264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488040" y="2208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453480" y="228492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418200" y="2360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383280" y="243684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2" name=""/>
              <p:cNvGrpSpPr/>
              <p:nvPr/>
            </p:nvGrpSpPr>
            <p:grpSpPr>
              <a:xfrm>
                <a:off x="3313800" y="2513160"/>
                <a:ext cx="139320" cy="380880"/>
                <a:chOff x="3313800" y="2513160"/>
                <a:chExt cx="139320" cy="380880"/>
              </a:xfrm>
            </p:grpSpPr>
            <p:sp>
              <p:nvSpPr>
                <p:cNvPr id="1573" name=""/>
                <p:cNvSpPr/>
                <p:nvPr/>
              </p:nvSpPr>
              <p:spPr>
                <a:xfrm>
                  <a:off x="3348720" y="25131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3313800" y="25909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5" name=""/>
              <p:cNvSpPr/>
              <p:nvPr/>
            </p:nvSpPr>
            <p:spPr>
              <a:xfrm>
                <a:off x="3313800" y="25887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278520" y="26650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243960" y="2741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209040" y="28170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174120" y="2892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139200" y="296928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104280" y="3044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069360" y="31212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662640" y="2057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627720" y="213264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592800" y="2208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557880" y="228492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7" name=""/>
              <p:cNvGrpSpPr/>
              <p:nvPr/>
            </p:nvGrpSpPr>
            <p:grpSpPr>
              <a:xfrm>
                <a:off x="3418200" y="2360880"/>
                <a:ext cx="208800" cy="537840"/>
                <a:chOff x="3418200" y="2360880"/>
                <a:chExt cx="208800" cy="537840"/>
              </a:xfrm>
            </p:grpSpPr>
            <p:grpSp>
              <p:nvGrpSpPr>
                <p:cNvPr id="1588" name=""/>
                <p:cNvGrpSpPr/>
                <p:nvPr/>
              </p:nvGrpSpPr>
              <p:grpSpPr>
                <a:xfrm>
                  <a:off x="3487680" y="2360880"/>
                  <a:ext cx="139320" cy="381600"/>
                  <a:chOff x="3487680" y="2360880"/>
                  <a:chExt cx="139320" cy="381600"/>
                </a:xfrm>
              </p:grpSpPr>
              <p:sp>
                <p:nvSpPr>
                  <p:cNvPr id="1589" name=""/>
                  <p:cNvSpPr/>
                  <p:nvPr/>
                </p:nvSpPr>
                <p:spPr>
                  <a:xfrm>
                    <a:off x="3522600" y="2360880"/>
                    <a:ext cx="104400" cy="30384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0" name=""/>
                  <p:cNvSpPr/>
                  <p:nvPr/>
                </p:nvSpPr>
                <p:spPr>
                  <a:xfrm>
                    <a:off x="3487680" y="2439000"/>
                    <a:ext cx="104400" cy="3034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1" name=""/>
                <p:cNvGrpSpPr/>
                <p:nvPr/>
              </p:nvGrpSpPr>
              <p:grpSpPr>
                <a:xfrm>
                  <a:off x="3418200" y="2516760"/>
                  <a:ext cx="139320" cy="381960"/>
                  <a:chOff x="3418200" y="2516760"/>
                  <a:chExt cx="139320" cy="381960"/>
                </a:xfrm>
              </p:grpSpPr>
              <p:sp>
                <p:nvSpPr>
                  <p:cNvPr id="1592" name=""/>
                  <p:cNvSpPr/>
                  <p:nvPr/>
                </p:nvSpPr>
                <p:spPr>
                  <a:xfrm>
                    <a:off x="3453120" y="2516760"/>
                    <a:ext cx="104400" cy="3042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3" name=""/>
                  <p:cNvSpPr/>
                  <p:nvPr/>
                </p:nvSpPr>
                <p:spPr>
                  <a:xfrm>
                    <a:off x="3418200" y="2594880"/>
                    <a:ext cx="104400" cy="30384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94" name=""/>
              <p:cNvSpPr/>
              <p:nvPr/>
            </p:nvSpPr>
            <p:spPr>
              <a:xfrm>
                <a:off x="3418200" y="25887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383280" y="26650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348720" y="2741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313800" y="28170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278520" y="2892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243960" y="296928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209040" y="3044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174120" y="31212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2" name=""/>
              <p:cNvGrpSpPr/>
              <p:nvPr/>
            </p:nvGrpSpPr>
            <p:grpSpPr>
              <a:xfrm>
                <a:off x="3732480" y="2057040"/>
                <a:ext cx="139320" cy="380880"/>
                <a:chOff x="3732480" y="2057040"/>
                <a:chExt cx="139320" cy="380880"/>
              </a:xfrm>
            </p:grpSpPr>
            <p:sp>
              <p:nvSpPr>
                <p:cNvPr id="1603" name=""/>
                <p:cNvSpPr/>
                <p:nvPr/>
              </p:nvSpPr>
              <p:spPr>
                <a:xfrm>
                  <a:off x="3767400" y="20570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3732480" y="213480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5" name=""/>
              <p:cNvSpPr/>
              <p:nvPr/>
            </p:nvSpPr>
            <p:spPr>
              <a:xfrm>
                <a:off x="3697560" y="2208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662640" y="228492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627720" y="2360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592800" y="243684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9" name=""/>
              <p:cNvGrpSpPr/>
              <p:nvPr/>
            </p:nvGrpSpPr>
            <p:grpSpPr>
              <a:xfrm>
                <a:off x="3522960" y="2513160"/>
                <a:ext cx="139320" cy="380880"/>
                <a:chOff x="3522960" y="2513160"/>
                <a:chExt cx="139320" cy="380880"/>
              </a:xfrm>
            </p:grpSpPr>
            <p:sp>
              <p:nvSpPr>
                <p:cNvPr id="1610" name=""/>
                <p:cNvSpPr/>
                <p:nvPr/>
              </p:nvSpPr>
              <p:spPr>
                <a:xfrm>
                  <a:off x="3557880" y="25131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3522960" y="25909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2" name=""/>
              <p:cNvGrpSpPr/>
              <p:nvPr/>
            </p:nvGrpSpPr>
            <p:grpSpPr>
              <a:xfrm>
                <a:off x="3488040" y="2588760"/>
                <a:ext cx="139320" cy="381240"/>
                <a:chOff x="3488040" y="2588760"/>
                <a:chExt cx="139320" cy="381240"/>
              </a:xfrm>
            </p:grpSpPr>
            <p:sp>
              <p:nvSpPr>
                <p:cNvPr id="1613" name=""/>
                <p:cNvSpPr/>
                <p:nvPr/>
              </p:nvSpPr>
              <p:spPr>
                <a:xfrm>
                  <a:off x="3522960" y="258876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3488040" y="266652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5" name=""/>
              <p:cNvGrpSpPr/>
              <p:nvPr/>
            </p:nvGrpSpPr>
            <p:grpSpPr>
              <a:xfrm>
                <a:off x="3418200" y="2741040"/>
                <a:ext cx="139320" cy="380880"/>
                <a:chOff x="3418200" y="2741040"/>
                <a:chExt cx="139320" cy="380880"/>
              </a:xfrm>
            </p:grpSpPr>
            <p:sp>
              <p:nvSpPr>
                <p:cNvPr id="1616" name=""/>
                <p:cNvSpPr/>
                <p:nvPr/>
              </p:nvSpPr>
              <p:spPr>
                <a:xfrm>
                  <a:off x="3453120" y="27410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3418200" y="281880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8" name=""/>
              <p:cNvSpPr/>
              <p:nvPr/>
            </p:nvSpPr>
            <p:spPr>
              <a:xfrm>
                <a:off x="3383280" y="2892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348720" y="296928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313800" y="3044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278520" y="31212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2" name=""/>
              <p:cNvGrpSpPr/>
              <p:nvPr/>
            </p:nvGrpSpPr>
            <p:grpSpPr>
              <a:xfrm>
                <a:off x="3837240" y="2057040"/>
                <a:ext cx="139320" cy="380880"/>
                <a:chOff x="3837240" y="2057040"/>
                <a:chExt cx="139320" cy="380880"/>
              </a:xfrm>
            </p:grpSpPr>
            <p:sp>
              <p:nvSpPr>
                <p:cNvPr id="1623" name=""/>
                <p:cNvSpPr/>
                <p:nvPr/>
              </p:nvSpPr>
              <p:spPr>
                <a:xfrm>
                  <a:off x="3872160" y="20570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3837240" y="213480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5" name=""/>
              <p:cNvSpPr/>
              <p:nvPr/>
            </p:nvSpPr>
            <p:spPr>
              <a:xfrm>
                <a:off x="3802320" y="2208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3767400" y="228492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3732480" y="2360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3697560" y="243684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662640" y="25131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627720" y="25887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1" name=""/>
              <p:cNvGrpSpPr/>
              <p:nvPr/>
            </p:nvGrpSpPr>
            <p:grpSpPr>
              <a:xfrm>
                <a:off x="3522960" y="2588760"/>
                <a:ext cx="208800" cy="537840"/>
                <a:chOff x="3522960" y="2588760"/>
                <a:chExt cx="208800" cy="537840"/>
              </a:xfrm>
            </p:grpSpPr>
            <p:grpSp>
              <p:nvGrpSpPr>
                <p:cNvPr id="1632" name=""/>
                <p:cNvGrpSpPr/>
                <p:nvPr/>
              </p:nvGrpSpPr>
              <p:grpSpPr>
                <a:xfrm>
                  <a:off x="3592440" y="2588760"/>
                  <a:ext cx="139320" cy="381600"/>
                  <a:chOff x="3592440" y="2588760"/>
                  <a:chExt cx="139320" cy="381600"/>
                </a:xfrm>
              </p:grpSpPr>
              <p:sp>
                <p:nvSpPr>
                  <p:cNvPr id="1633" name=""/>
                  <p:cNvSpPr/>
                  <p:nvPr/>
                </p:nvSpPr>
                <p:spPr>
                  <a:xfrm>
                    <a:off x="3627360" y="2588760"/>
                    <a:ext cx="104400" cy="30384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>
                    <a:off x="3592440" y="2666880"/>
                    <a:ext cx="104400" cy="3034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5" name=""/>
                <p:cNvGrpSpPr/>
                <p:nvPr/>
              </p:nvGrpSpPr>
              <p:grpSpPr>
                <a:xfrm>
                  <a:off x="3522960" y="2744640"/>
                  <a:ext cx="139320" cy="381960"/>
                  <a:chOff x="3522960" y="2744640"/>
                  <a:chExt cx="139320" cy="381960"/>
                </a:xfrm>
              </p:grpSpPr>
              <p:sp>
                <p:nvSpPr>
                  <p:cNvPr id="1636" name=""/>
                  <p:cNvSpPr/>
                  <p:nvPr/>
                </p:nvSpPr>
                <p:spPr>
                  <a:xfrm>
                    <a:off x="3557880" y="2744640"/>
                    <a:ext cx="104400" cy="3042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>
                    <a:off x="3522960" y="2822760"/>
                    <a:ext cx="104400" cy="30384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38" name=""/>
              <p:cNvSpPr/>
              <p:nvPr/>
            </p:nvSpPr>
            <p:spPr>
              <a:xfrm>
                <a:off x="3488040" y="2892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453480" y="296928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418200" y="3044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383280" y="31212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2" name=""/>
              <p:cNvGrpSpPr/>
              <p:nvPr/>
            </p:nvGrpSpPr>
            <p:grpSpPr>
              <a:xfrm>
                <a:off x="3942000" y="2057040"/>
                <a:ext cx="139320" cy="380880"/>
                <a:chOff x="3942000" y="2057040"/>
                <a:chExt cx="139320" cy="380880"/>
              </a:xfrm>
            </p:grpSpPr>
            <p:sp>
              <p:nvSpPr>
                <p:cNvPr id="1643" name=""/>
                <p:cNvSpPr/>
                <p:nvPr/>
              </p:nvSpPr>
              <p:spPr>
                <a:xfrm>
                  <a:off x="3976920" y="20570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3942000" y="213480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5" name=""/>
              <p:cNvSpPr/>
              <p:nvPr/>
            </p:nvSpPr>
            <p:spPr>
              <a:xfrm>
                <a:off x="3907080" y="2208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872160" y="228492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7" name=""/>
              <p:cNvGrpSpPr/>
              <p:nvPr/>
            </p:nvGrpSpPr>
            <p:grpSpPr>
              <a:xfrm>
                <a:off x="3732480" y="2360880"/>
                <a:ext cx="208800" cy="537840"/>
                <a:chOff x="3732480" y="2360880"/>
                <a:chExt cx="208800" cy="537840"/>
              </a:xfrm>
            </p:grpSpPr>
            <p:grpSp>
              <p:nvGrpSpPr>
                <p:cNvPr id="1648" name=""/>
                <p:cNvGrpSpPr/>
                <p:nvPr/>
              </p:nvGrpSpPr>
              <p:grpSpPr>
                <a:xfrm>
                  <a:off x="3801960" y="2360880"/>
                  <a:ext cx="139320" cy="381600"/>
                  <a:chOff x="3801960" y="2360880"/>
                  <a:chExt cx="139320" cy="381600"/>
                </a:xfrm>
              </p:grpSpPr>
              <p:sp>
                <p:nvSpPr>
                  <p:cNvPr id="1649" name=""/>
                  <p:cNvSpPr/>
                  <p:nvPr/>
                </p:nvSpPr>
                <p:spPr>
                  <a:xfrm>
                    <a:off x="3836880" y="2360880"/>
                    <a:ext cx="104400" cy="30384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>
                    <a:off x="3801960" y="2439000"/>
                    <a:ext cx="104400" cy="3034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1" name=""/>
                <p:cNvGrpSpPr/>
                <p:nvPr/>
              </p:nvGrpSpPr>
              <p:grpSpPr>
                <a:xfrm>
                  <a:off x="3732480" y="2516760"/>
                  <a:ext cx="139320" cy="381960"/>
                  <a:chOff x="3732480" y="2516760"/>
                  <a:chExt cx="139320" cy="381960"/>
                </a:xfrm>
              </p:grpSpPr>
              <p:sp>
                <p:nvSpPr>
                  <p:cNvPr id="1652" name=""/>
                  <p:cNvSpPr/>
                  <p:nvPr/>
                </p:nvSpPr>
                <p:spPr>
                  <a:xfrm>
                    <a:off x="3767400" y="2516760"/>
                    <a:ext cx="104400" cy="3042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3" name=""/>
                  <p:cNvSpPr/>
                  <p:nvPr/>
                </p:nvSpPr>
                <p:spPr>
                  <a:xfrm>
                    <a:off x="3732480" y="2594880"/>
                    <a:ext cx="104400" cy="30384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54" name=""/>
              <p:cNvSpPr/>
              <p:nvPr/>
            </p:nvSpPr>
            <p:spPr>
              <a:xfrm>
                <a:off x="3732480" y="25887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697560" y="26650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662640" y="2741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627720" y="28170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592800" y="2892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557880" y="296928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522960" y="3044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3488040" y="31212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081680" y="2057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4046400" y="213264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4011480" y="2208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976920" y="228492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942000" y="2360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907080" y="243684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8" name=""/>
              <p:cNvGrpSpPr/>
              <p:nvPr/>
            </p:nvGrpSpPr>
            <p:grpSpPr>
              <a:xfrm>
                <a:off x="3837240" y="2513160"/>
                <a:ext cx="139320" cy="380880"/>
                <a:chOff x="3837240" y="2513160"/>
                <a:chExt cx="139320" cy="380880"/>
              </a:xfrm>
            </p:grpSpPr>
            <p:sp>
              <p:nvSpPr>
                <p:cNvPr id="1669" name=""/>
                <p:cNvSpPr/>
                <p:nvPr/>
              </p:nvSpPr>
              <p:spPr>
                <a:xfrm>
                  <a:off x="3872160" y="25131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3837240" y="25909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1" name=""/>
              <p:cNvSpPr/>
              <p:nvPr/>
            </p:nvSpPr>
            <p:spPr>
              <a:xfrm>
                <a:off x="3837240" y="25887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802320" y="26650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767400" y="2741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732480" y="28170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697560" y="2892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3662640" y="296928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3627720" y="3044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3592800" y="31212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186080" y="2057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4151160" y="213264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4116240" y="2208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081680" y="228492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3" name=""/>
              <p:cNvGrpSpPr/>
              <p:nvPr/>
            </p:nvGrpSpPr>
            <p:grpSpPr>
              <a:xfrm>
                <a:off x="4011480" y="2360880"/>
                <a:ext cx="139320" cy="381240"/>
                <a:chOff x="4011480" y="2360880"/>
                <a:chExt cx="139320" cy="381240"/>
              </a:xfrm>
            </p:grpSpPr>
            <p:sp>
              <p:nvSpPr>
                <p:cNvPr id="1684" name=""/>
                <p:cNvSpPr/>
                <p:nvPr/>
              </p:nvSpPr>
              <p:spPr>
                <a:xfrm>
                  <a:off x="4046400" y="236088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4011480" y="24386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6" name=""/>
              <p:cNvGrpSpPr/>
              <p:nvPr/>
            </p:nvGrpSpPr>
            <p:grpSpPr>
              <a:xfrm>
                <a:off x="3942000" y="2513160"/>
                <a:ext cx="139320" cy="380880"/>
                <a:chOff x="3942000" y="2513160"/>
                <a:chExt cx="139320" cy="380880"/>
              </a:xfrm>
            </p:grpSpPr>
            <p:sp>
              <p:nvSpPr>
                <p:cNvPr id="1687" name=""/>
                <p:cNvSpPr/>
                <p:nvPr/>
              </p:nvSpPr>
              <p:spPr>
                <a:xfrm>
                  <a:off x="3976920" y="25131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3942000" y="25909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9" name=""/>
              <p:cNvSpPr/>
              <p:nvPr/>
            </p:nvSpPr>
            <p:spPr>
              <a:xfrm>
                <a:off x="3942000" y="25887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907080" y="26650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872160" y="2741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3837240" y="28170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3802320" y="2892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3767400" y="296928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732480" y="3044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697560" y="31212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4290840" y="2057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255920" y="213264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221000" y="2208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186080" y="228492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1" name=""/>
              <p:cNvGrpSpPr/>
              <p:nvPr/>
            </p:nvGrpSpPr>
            <p:grpSpPr>
              <a:xfrm>
                <a:off x="4116240" y="2360880"/>
                <a:ext cx="139320" cy="381240"/>
                <a:chOff x="4116240" y="2360880"/>
                <a:chExt cx="139320" cy="381240"/>
              </a:xfrm>
            </p:grpSpPr>
            <p:sp>
              <p:nvSpPr>
                <p:cNvPr id="1702" name=""/>
                <p:cNvSpPr/>
                <p:nvPr/>
              </p:nvSpPr>
              <p:spPr>
                <a:xfrm>
                  <a:off x="4151160" y="236088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4116240" y="24386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4" name=""/>
              <p:cNvGrpSpPr/>
              <p:nvPr/>
            </p:nvGrpSpPr>
            <p:grpSpPr>
              <a:xfrm>
                <a:off x="4046400" y="2513160"/>
                <a:ext cx="139320" cy="380880"/>
                <a:chOff x="4046400" y="2513160"/>
                <a:chExt cx="139320" cy="380880"/>
              </a:xfrm>
            </p:grpSpPr>
            <p:sp>
              <p:nvSpPr>
                <p:cNvPr id="1705" name=""/>
                <p:cNvSpPr/>
                <p:nvPr/>
              </p:nvSpPr>
              <p:spPr>
                <a:xfrm>
                  <a:off x="4081320" y="25131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4046400" y="25909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7" name=""/>
              <p:cNvGrpSpPr/>
              <p:nvPr/>
            </p:nvGrpSpPr>
            <p:grpSpPr>
              <a:xfrm>
                <a:off x="4011480" y="2588760"/>
                <a:ext cx="139320" cy="381240"/>
                <a:chOff x="4011480" y="2588760"/>
                <a:chExt cx="139320" cy="381240"/>
              </a:xfrm>
            </p:grpSpPr>
            <p:sp>
              <p:nvSpPr>
                <p:cNvPr id="1708" name=""/>
                <p:cNvSpPr/>
                <p:nvPr/>
              </p:nvSpPr>
              <p:spPr>
                <a:xfrm>
                  <a:off x="4046400" y="258876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4011480" y="266652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0" name=""/>
              <p:cNvGrpSpPr/>
              <p:nvPr/>
            </p:nvGrpSpPr>
            <p:grpSpPr>
              <a:xfrm>
                <a:off x="3942000" y="2741040"/>
                <a:ext cx="139320" cy="380880"/>
                <a:chOff x="3942000" y="2741040"/>
                <a:chExt cx="139320" cy="380880"/>
              </a:xfrm>
            </p:grpSpPr>
            <p:sp>
              <p:nvSpPr>
                <p:cNvPr id="1711" name=""/>
                <p:cNvSpPr/>
                <p:nvPr/>
              </p:nvSpPr>
              <p:spPr>
                <a:xfrm>
                  <a:off x="3976920" y="27410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3942000" y="281880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3" name=""/>
              <p:cNvGrpSpPr/>
              <p:nvPr/>
            </p:nvGrpSpPr>
            <p:grpSpPr>
              <a:xfrm>
                <a:off x="3872160" y="2892960"/>
                <a:ext cx="139320" cy="381240"/>
                <a:chOff x="3872160" y="2892960"/>
                <a:chExt cx="139320" cy="381240"/>
              </a:xfrm>
            </p:grpSpPr>
            <p:sp>
              <p:nvSpPr>
                <p:cNvPr id="1714" name=""/>
                <p:cNvSpPr/>
                <p:nvPr/>
              </p:nvSpPr>
              <p:spPr>
                <a:xfrm>
                  <a:off x="3907080" y="289296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3872160" y="297072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6" name=""/>
              <p:cNvSpPr/>
              <p:nvPr/>
            </p:nvSpPr>
            <p:spPr>
              <a:xfrm>
                <a:off x="3837240" y="3044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3802320" y="31212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8" name=""/>
              <p:cNvGrpSpPr/>
              <p:nvPr/>
            </p:nvGrpSpPr>
            <p:grpSpPr>
              <a:xfrm>
                <a:off x="4360680" y="2057040"/>
                <a:ext cx="139320" cy="380880"/>
                <a:chOff x="4360680" y="2057040"/>
                <a:chExt cx="139320" cy="380880"/>
              </a:xfrm>
            </p:grpSpPr>
            <p:sp>
              <p:nvSpPr>
                <p:cNvPr id="1719" name=""/>
                <p:cNvSpPr/>
                <p:nvPr/>
              </p:nvSpPr>
              <p:spPr>
                <a:xfrm>
                  <a:off x="4395600" y="20570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4360680" y="213480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1" name=""/>
              <p:cNvGrpSpPr/>
              <p:nvPr/>
            </p:nvGrpSpPr>
            <p:grpSpPr>
              <a:xfrm>
                <a:off x="4290840" y="2208960"/>
                <a:ext cx="139320" cy="381240"/>
                <a:chOff x="4290840" y="2208960"/>
                <a:chExt cx="139320" cy="381240"/>
              </a:xfrm>
            </p:grpSpPr>
            <p:sp>
              <p:nvSpPr>
                <p:cNvPr id="1722" name=""/>
                <p:cNvSpPr/>
                <p:nvPr/>
              </p:nvSpPr>
              <p:spPr>
                <a:xfrm>
                  <a:off x="4325760" y="220896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4290840" y="228672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4" name=""/>
              <p:cNvGrpSpPr/>
              <p:nvPr/>
            </p:nvGrpSpPr>
            <p:grpSpPr>
              <a:xfrm>
                <a:off x="4221000" y="2360880"/>
                <a:ext cx="139320" cy="381240"/>
                <a:chOff x="4221000" y="2360880"/>
                <a:chExt cx="139320" cy="381240"/>
              </a:xfrm>
            </p:grpSpPr>
            <p:sp>
              <p:nvSpPr>
                <p:cNvPr id="1725" name=""/>
                <p:cNvSpPr/>
                <p:nvPr/>
              </p:nvSpPr>
              <p:spPr>
                <a:xfrm>
                  <a:off x="4255920" y="236088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4221000" y="24386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7" name=""/>
              <p:cNvGrpSpPr/>
              <p:nvPr/>
            </p:nvGrpSpPr>
            <p:grpSpPr>
              <a:xfrm>
                <a:off x="4151160" y="2513160"/>
                <a:ext cx="139320" cy="380880"/>
                <a:chOff x="4151160" y="2513160"/>
                <a:chExt cx="139320" cy="380880"/>
              </a:xfrm>
            </p:grpSpPr>
            <p:sp>
              <p:nvSpPr>
                <p:cNvPr id="1728" name=""/>
                <p:cNvSpPr/>
                <p:nvPr/>
              </p:nvSpPr>
              <p:spPr>
                <a:xfrm>
                  <a:off x="4186080" y="25131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4151160" y="25909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0" name=""/>
              <p:cNvSpPr/>
              <p:nvPr/>
            </p:nvSpPr>
            <p:spPr>
              <a:xfrm>
                <a:off x="4151160" y="25887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116240" y="26650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2" name=""/>
              <p:cNvGrpSpPr/>
              <p:nvPr/>
            </p:nvGrpSpPr>
            <p:grpSpPr>
              <a:xfrm>
                <a:off x="4046400" y="2741040"/>
                <a:ext cx="139320" cy="380880"/>
                <a:chOff x="4046400" y="2741040"/>
                <a:chExt cx="139320" cy="380880"/>
              </a:xfrm>
            </p:grpSpPr>
            <p:sp>
              <p:nvSpPr>
                <p:cNvPr id="1733" name=""/>
                <p:cNvSpPr/>
                <p:nvPr/>
              </p:nvSpPr>
              <p:spPr>
                <a:xfrm>
                  <a:off x="4081320" y="27410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4046400" y="281880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5" name=""/>
              <p:cNvGrpSpPr/>
              <p:nvPr/>
            </p:nvGrpSpPr>
            <p:grpSpPr>
              <a:xfrm>
                <a:off x="3976920" y="2892960"/>
                <a:ext cx="139320" cy="381240"/>
                <a:chOff x="3976920" y="2892960"/>
                <a:chExt cx="139320" cy="381240"/>
              </a:xfrm>
            </p:grpSpPr>
            <p:sp>
              <p:nvSpPr>
                <p:cNvPr id="1736" name=""/>
                <p:cNvSpPr/>
                <p:nvPr/>
              </p:nvSpPr>
              <p:spPr>
                <a:xfrm>
                  <a:off x="4011840" y="289296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3976920" y="297072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8" name=""/>
              <p:cNvSpPr/>
              <p:nvPr/>
            </p:nvSpPr>
            <p:spPr>
              <a:xfrm>
                <a:off x="3942000" y="3044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907080" y="31212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500360" y="2057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465440" y="213264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430520" y="2208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395600" y="228492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360680" y="2360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325760" y="243684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6" name=""/>
              <p:cNvGrpSpPr/>
              <p:nvPr/>
            </p:nvGrpSpPr>
            <p:grpSpPr>
              <a:xfrm>
                <a:off x="4255920" y="2513160"/>
                <a:ext cx="139320" cy="380880"/>
                <a:chOff x="4255920" y="2513160"/>
                <a:chExt cx="139320" cy="380880"/>
              </a:xfrm>
            </p:grpSpPr>
            <p:sp>
              <p:nvSpPr>
                <p:cNvPr id="1747" name=""/>
                <p:cNvSpPr/>
                <p:nvPr/>
              </p:nvSpPr>
              <p:spPr>
                <a:xfrm>
                  <a:off x="4290840" y="25131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4255920" y="25909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9" name=""/>
              <p:cNvSpPr/>
              <p:nvPr/>
            </p:nvSpPr>
            <p:spPr>
              <a:xfrm>
                <a:off x="4255920" y="25887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4221000" y="26650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4186080" y="2741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4151160" y="28170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3" name=""/>
              <p:cNvGrpSpPr/>
              <p:nvPr/>
            </p:nvGrpSpPr>
            <p:grpSpPr>
              <a:xfrm>
                <a:off x="4081680" y="2892960"/>
                <a:ext cx="139320" cy="381240"/>
                <a:chOff x="4081680" y="2892960"/>
                <a:chExt cx="139320" cy="381240"/>
              </a:xfrm>
            </p:grpSpPr>
            <p:sp>
              <p:nvSpPr>
                <p:cNvPr id="1754" name=""/>
                <p:cNvSpPr/>
                <p:nvPr/>
              </p:nvSpPr>
              <p:spPr>
                <a:xfrm>
                  <a:off x="4116600" y="289296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4081680" y="297072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6" name=""/>
              <p:cNvSpPr/>
              <p:nvPr/>
            </p:nvSpPr>
            <p:spPr>
              <a:xfrm>
                <a:off x="4046400" y="3044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011480" y="31212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605120" y="2057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4570200" y="213264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60" name=""/>
              <p:cNvGrpSpPr/>
              <p:nvPr/>
            </p:nvGrpSpPr>
            <p:grpSpPr>
              <a:xfrm>
                <a:off x="4500360" y="2208960"/>
                <a:ext cx="139320" cy="381240"/>
                <a:chOff x="4500360" y="2208960"/>
                <a:chExt cx="139320" cy="381240"/>
              </a:xfrm>
            </p:grpSpPr>
            <p:sp>
              <p:nvSpPr>
                <p:cNvPr id="1761" name=""/>
                <p:cNvSpPr/>
                <p:nvPr/>
              </p:nvSpPr>
              <p:spPr>
                <a:xfrm>
                  <a:off x="4535280" y="220896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4500360" y="228672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3" name=""/>
              <p:cNvGrpSpPr/>
              <p:nvPr/>
            </p:nvGrpSpPr>
            <p:grpSpPr>
              <a:xfrm>
                <a:off x="4430520" y="2360880"/>
                <a:ext cx="139320" cy="381240"/>
                <a:chOff x="4430520" y="2360880"/>
                <a:chExt cx="139320" cy="381240"/>
              </a:xfrm>
            </p:grpSpPr>
            <p:sp>
              <p:nvSpPr>
                <p:cNvPr id="1764" name=""/>
                <p:cNvSpPr/>
                <p:nvPr/>
              </p:nvSpPr>
              <p:spPr>
                <a:xfrm>
                  <a:off x="4465440" y="236088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4430520" y="24386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6" name=""/>
              <p:cNvGrpSpPr/>
              <p:nvPr/>
            </p:nvGrpSpPr>
            <p:grpSpPr>
              <a:xfrm>
                <a:off x="4360680" y="2513160"/>
                <a:ext cx="139320" cy="380880"/>
                <a:chOff x="4360680" y="2513160"/>
                <a:chExt cx="139320" cy="380880"/>
              </a:xfrm>
            </p:grpSpPr>
            <p:sp>
              <p:nvSpPr>
                <p:cNvPr id="1767" name=""/>
                <p:cNvSpPr/>
                <p:nvPr/>
              </p:nvSpPr>
              <p:spPr>
                <a:xfrm>
                  <a:off x="4395600" y="25131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4360680" y="25909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9" name=""/>
              <p:cNvSpPr/>
              <p:nvPr/>
            </p:nvSpPr>
            <p:spPr>
              <a:xfrm>
                <a:off x="4360680" y="25887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325760" y="26650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290840" y="2741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255920" y="28170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4221000" y="2892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186080" y="296928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4151160" y="3044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4116240" y="31212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4709880" y="2057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4674960" y="213264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4639680" y="2208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4605120" y="228492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4570200" y="2360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4535280" y="243684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4500360" y="25131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465440" y="25887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465440" y="25887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4430520" y="26650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395600" y="2741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4360680" y="28170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4325760" y="2892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4290840" y="296928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255920" y="3044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221000" y="31212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290840" y="1981080"/>
                <a:ext cx="697680" cy="1591560"/>
              </a:xfrm>
              <a:prstGeom prst="cube">
                <a:avLst>
                  <a:gd name="adj" fmla="val 90361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685600" y="3349080"/>
                <a:ext cx="1675080" cy="234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5" name=""/>
            <p:cNvGrpSpPr/>
            <p:nvPr/>
          </p:nvGrpSpPr>
          <p:grpSpPr>
            <a:xfrm>
              <a:off x="2057400" y="3349800"/>
              <a:ext cx="2302920" cy="1602360"/>
              <a:chOff x="2057400" y="3349800"/>
              <a:chExt cx="2302920" cy="1602360"/>
            </a:xfrm>
          </p:grpSpPr>
          <p:sp>
            <p:nvSpPr>
              <p:cNvPr id="1796" name=""/>
              <p:cNvSpPr/>
              <p:nvPr/>
            </p:nvSpPr>
            <p:spPr>
              <a:xfrm>
                <a:off x="2092320" y="3349800"/>
                <a:ext cx="697680" cy="1591560"/>
              </a:xfrm>
              <a:prstGeom prst="cube">
                <a:avLst>
                  <a:gd name="adj" fmla="val 90361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755080" y="3349800"/>
                <a:ext cx="1535760" cy="234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2720520" y="3425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2685600" y="35013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2650320" y="3577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615760" y="36536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2" name=""/>
              <p:cNvGrpSpPr/>
              <p:nvPr/>
            </p:nvGrpSpPr>
            <p:grpSpPr>
              <a:xfrm>
                <a:off x="2545920" y="3729600"/>
                <a:ext cx="139320" cy="381240"/>
                <a:chOff x="2545920" y="3729600"/>
                <a:chExt cx="139320" cy="38124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2580840" y="372960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2545920" y="38073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5" name=""/>
              <p:cNvSpPr/>
              <p:nvPr/>
            </p:nvSpPr>
            <p:spPr>
              <a:xfrm>
                <a:off x="2511000" y="388188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476080" y="39574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2476080" y="39574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441160" y="40338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406240" y="4109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2371320" y="41857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2336400" y="4261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2301480" y="433800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2266560" y="4413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2231640" y="44899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5" name=""/>
              <p:cNvGrpSpPr/>
              <p:nvPr/>
            </p:nvGrpSpPr>
            <p:grpSpPr>
              <a:xfrm>
                <a:off x="2790000" y="3425760"/>
                <a:ext cx="139320" cy="380880"/>
                <a:chOff x="2790000" y="3425760"/>
                <a:chExt cx="139320" cy="380880"/>
              </a:xfrm>
            </p:grpSpPr>
            <p:sp>
              <p:nvSpPr>
                <p:cNvPr id="1816" name=""/>
                <p:cNvSpPr/>
                <p:nvPr/>
              </p:nvSpPr>
              <p:spPr>
                <a:xfrm>
                  <a:off x="2824920" y="34257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2790000" y="35035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8" name=""/>
              <p:cNvGrpSpPr/>
              <p:nvPr/>
            </p:nvGrpSpPr>
            <p:grpSpPr>
              <a:xfrm>
                <a:off x="2720520" y="3577680"/>
                <a:ext cx="139320" cy="381240"/>
                <a:chOff x="2720520" y="3577680"/>
                <a:chExt cx="139320" cy="381240"/>
              </a:xfrm>
            </p:grpSpPr>
            <p:sp>
              <p:nvSpPr>
                <p:cNvPr id="1819" name=""/>
                <p:cNvSpPr/>
                <p:nvPr/>
              </p:nvSpPr>
              <p:spPr>
                <a:xfrm>
                  <a:off x="2755440" y="357768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2720520" y="36554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1" name=""/>
              <p:cNvSpPr/>
              <p:nvPr/>
            </p:nvSpPr>
            <p:spPr>
              <a:xfrm>
                <a:off x="2685600" y="3729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2650320" y="38055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3" name=""/>
              <p:cNvGrpSpPr/>
              <p:nvPr/>
            </p:nvGrpSpPr>
            <p:grpSpPr>
              <a:xfrm>
                <a:off x="2580840" y="3881880"/>
                <a:ext cx="139320" cy="380880"/>
                <a:chOff x="2580840" y="3881880"/>
                <a:chExt cx="139320" cy="380880"/>
              </a:xfrm>
            </p:grpSpPr>
            <p:sp>
              <p:nvSpPr>
                <p:cNvPr id="1824" name=""/>
                <p:cNvSpPr/>
                <p:nvPr/>
              </p:nvSpPr>
              <p:spPr>
                <a:xfrm>
                  <a:off x="2615760" y="388188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2580840" y="395964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6" name=""/>
              <p:cNvSpPr/>
              <p:nvPr/>
            </p:nvSpPr>
            <p:spPr>
              <a:xfrm>
                <a:off x="2580840" y="39574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2545920" y="40338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2511000" y="4109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2476080" y="41857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2441160" y="4261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2406240" y="433800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2371320" y="4413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2336400" y="44899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2929680" y="3425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2894760" y="35013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2859840" y="3577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2825280" y="36536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2790000" y="3729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2755080" y="38055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0" name=""/>
              <p:cNvGrpSpPr/>
              <p:nvPr/>
            </p:nvGrpSpPr>
            <p:grpSpPr>
              <a:xfrm>
                <a:off x="2685600" y="3881880"/>
                <a:ext cx="139320" cy="380880"/>
                <a:chOff x="2685600" y="3881880"/>
                <a:chExt cx="139320" cy="380880"/>
              </a:xfrm>
            </p:grpSpPr>
            <p:sp>
              <p:nvSpPr>
                <p:cNvPr id="1841" name=""/>
                <p:cNvSpPr/>
                <p:nvPr/>
              </p:nvSpPr>
              <p:spPr>
                <a:xfrm>
                  <a:off x="2720520" y="388188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2685600" y="395964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3" name=""/>
              <p:cNvSpPr/>
              <p:nvPr/>
            </p:nvSpPr>
            <p:spPr>
              <a:xfrm>
                <a:off x="2685600" y="39574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2650320" y="40338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2615760" y="4109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2580840" y="41857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2545920" y="4261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2511000" y="433800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2476080" y="4413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2441160" y="44899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034440" y="3425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2999520" y="35013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2964600" y="3577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2929680" y="36536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5" name=""/>
              <p:cNvGrpSpPr/>
              <p:nvPr/>
            </p:nvGrpSpPr>
            <p:grpSpPr>
              <a:xfrm>
                <a:off x="2790000" y="3729600"/>
                <a:ext cx="208800" cy="537840"/>
                <a:chOff x="2790000" y="3729600"/>
                <a:chExt cx="208800" cy="537840"/>
              </a:xfrm>
            </p:grpSpPr>
            <p:grpSp>
              <p:nvGrpSpPr>
                <p:cNvPr id="1856" name=""/>
                <p:cNvGrpSpPr/>
                <p:nvPr/>
              </p:nvGrpSpPr>
              <p:grpSpPr>
                <a:xfrm>
                  <a:off x="2859480" y="3729600"/>
                  <a:ext cx="139320" cy="381600"/>
                  <a:chOff x="2859480" y="3729600"/>
                  <a:chExt cx="139320" cy="381600"/>
                </a:xfrm>
              </p:grpSpPr>
              <p:sp>
                <p:nvSpPr>
                  <p:cNvPr id="1857" name=""/>
                  <p:cNvSpPr/>
                  <p:nvPr/>
                </p:nvSpPr>
                <p:spPr>
                  <a:xfrm>
                    <a:off x="2894400" y="3729600"/>
                    <a:ext cx="104400" cy="30384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8" name=""/>
                  <p:cNvSpPr/>
                  <p:nvPr/>
                </p:nvSpPr>
                <p:spPr>
                  <a:xfrm>
                    <a:off x="2859480" y="3807720"/>
                    <a:ext cx="104400" cy="3034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9" name=""/>
                <p:cNvGrpSpPr/>
                <p:nvPr/>
              </p:nvGrpSpPr>
              <p:grpSpPr>
                <a:xfrm>
                  <a:off x="2790000" y="3885480"/>
                  <a:ext cx="139320" cy="381960"/>
                  <a:chOff x="2790000" y="3885480"/>
                  <a:chExt cx="139320" cy="381960"/>
                </a:xfrm>
              </p:grpSpPr>
              <p:sp>
                <p:nvSpPr>
                  <p:cNvPr id="1860" name=""/>
                  <p:cNvSpPr/>
                  <p:nvPr/>
                </p:nvSpPr>
                <p:spPr>
                  <a:xfrm>
                    <a:off x="2824920" y="3885480"/>
                    <a:ext cx="104400" cy="3042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1" name=""/>
                  <p:cNvSpPr/>
                  <p:nvPr/>
                </p:nvSpPr>
                <p:spPr>
                  <a:xfrm>
                    <a:off x="2790000" y="3963600"/>
                    <a:ext cx="104400" cy="30384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62" name=""/>
              <p:cNvSpPr/>
              <p:nvPr/>
            </p:nvSpPr>
            <p:spPr>
              <a:xfrm>
                <a:off x="2790000" y="39574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2755080" y="40338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2720520" y="4109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2685600" y="41857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2650320" y="4261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2615760" y="433800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2580840" y="4413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2545920" y="44899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0" name=""/>
              <p:cNvGrpSpPr/>
              <p:nvPr/>
            </p:nvGrpSpPr>
            <p:grpSpPr>
              <a:xfrm>
                <a:off x="3104280" y="3425760"/>
                <a:ext cx="139320" cy="380880"/>
                <a:chOff x="3104280" y="3425760"/>
                <a:chExt cx="139320" cy="380880"/>
              </a:xfrm>
            </p:grpSpPr>
            <p:sp>
              <p:nvSpPr>
                <p:cNvPr id="1871" name=""/>
                <p:cNvSpPr/>
                <p:nvPr/>
              </p:nvSpPr>
              <p:spPr>
                <a:xfrm>
                  <a:off x="3139200" y="34257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3104280" y="35035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3" name=""/>
              <p:cNvSpPr/>
              <p:nvPr/>
            </p:nvSpPr>
            <p:spPr>
              <a:xfrm>
                <a:off x="3069360" y="3577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3034440" y="36536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2999520" y="3729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2964600" y="38055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7" name=""/>
              <p:cNvGrpSpPr/>
              <p:nvPr/>
            </p:nvGrpSpPr>
            <p:grpSpPr>
              <a:xfrm>
                <a:off x="2894760" y="3881880"/>
                <a:ext cx="139320" cy="380880"/>
                <a:chOff x="2894760" y="3881880"/>
                <a:chExt cx="139320" cy="38088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2929680" y="388188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2894760" y="395964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2859840" y="3957480"/>
                <a:ext cx="139320" cy="381240"/>
                <a:chOff x="2859840" y="3957480"/>
                <a:chExt cx="139320" cy="38124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2894760" y="395748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2859840" y="40352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3" name=""/>
              <p:cNvGrpSpPr/>
              <p:nvPr/>
            </p:nvGrpSpPr>
            <p:grpSpPr>
              <a:xfrm>
                <a:off x="2790000" y="4109760"/>
                <a:ext cx="139320" cy="380880"/>
                <a:chOff x="2790000" y="4109760"/>
                <a:chExt cx="139320" cy="380880"/>
              </a:xfrm>
            </p:grpSpPr>
            <p:sp>
              <p:nvSpPr>
                <p:cNvPr id="1884" name=""/>
                <p:cNvSpPr/>
                <p:nvPr/>
              </p:nvSpPr>
              <p:spPr>
                <a:xfrm>
                  <a:off x="2824920" y="41097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2790000" y="41875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6" name=""/>
              <p:cNvSpPr/>
              <p:nvPr/>
            </p:nvSpPr>
            <p:spPr>
              <a:xfrm>
                <a:off x="2755080" y="4261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720520" y="433800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2685600" y="4413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2650320" y="44899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0" name=""/>
              <p:cNvGrpSpPr/>
              <p:nvPr/>
            </p:nvGrpSpPr>
            <p:grpSpPr>
              <a:xfrm>
                <a:off x="3209040" y="3425760"/>
                <a:ext cx="139320" cy="380880"/>
                <a:chOff x="3209040" y="3425760"/>
                <a:chExt cx="139320" cy="38088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3243960" y="34257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209040" y="35035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3" name=""/>
              <p:cNvSpPr/>
              <p:nvPr/>
            </p:nvSpPr>
            <p:spPr>
              <a:xfrm>
                <a:off x="3174120" y="3577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3139200" y="36536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3104280" y="3729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3069360" y="38055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3034440" y="388188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2999520" y="39574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9" name=""/>
              <p:cNvGrpSpPr/>
              <p:nvPr/>
            </p:nvGrpSpPr>
            <p:grpSpPr>
              <a:xfrm>
                <a:off x="2894760" y="3957480"/>
                <a:ext cx="208800" cy="537840"/>
                <a:chOff x="2894760" y="3957480"/>
                <a:chExt cx="208800" cy="537840"/>
              </a:xfrm>
            </p:grpSpPr>
            <p:grpSp>
              <p:nvGrpSpPr>
                <p:cNvPr id="1900" name=""/>
                <p:cNvGrpSpPr/>
                <p:nvPr/>
              </p:nvGrpSpPr>
              <p:grpSpPr>
                <a:xfrm>
                  <a:off x="2964240" y="3957480"/>
                  <a:ext cx="139320" cy="381600"/>
                  <a:chOff x="2964240" y="3957480"/>
                  <a:chExt cx="139320" cy="381600"/>
                </a:xfrm>
              </p:grpSpPr>
              <p:sp>
                <p:nvSpPr>
                  <p:cNvPr id="1901" name=""/>
                  <p:cNvSpPr/>
                  <p:nvPr/>
                </p:nvSpPr>
                <p:spPr>
                  <a:xfrm>
                    <a:off x="2999160" y="3957480"/>
                    <a:ext cx="104400" cy="30384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2" name=""/>
                  <p:cNvSpPr/>
                  <p:nvPr/>
                </p:nvSpPr>
                <p:spPr>
                  <a:xfrm>
                    <a:off x="2964240" y="4035600"/>
                    <a:ext cx="104400" cy="3034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3" name=""/>
                <p:cNvGrpSpPr/>
                <p:nvPr/>
              </p:nvGrpSpPr>
              <p:grpSpPr>
                <a:xfrm>
                  <a:off x="2894760" y="4113360"/>
                  <a:ext cx="139320" cy="381960"/>
                  <a:chOff x="2894760" y="4113360"/>
                  <a:chExt cx="139320" cy="381960"/>
                </a:xfrm>
              </p:grpSpPr>
              <p:sp>
                <p:nvSpPr>
                  <p:cNvPr id="1904" name=""/>
                  <p:cNvSpPr/>
                  <p:nvPr/>
                </p:nvSpPr>
                <p:spPr>
                  <a:xfrm>
                    <a:off x="2929680" y="4113360"/>
                    <a:ext cx="104400" cy="3042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5" name=""/>
                  <p:cNvSpPr/>
                  <p:nvPr/>
                </p:nvSpPr>
                <p:spPr>
                  <a:xfrm>
                    <a:off x="2894760" y="4191480"/>
                    <a:ext cx="104400" cy="30384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06" name=""/>
              <p:cNvSpPr/>
              <p:nvPr/>
            </p:nvSpPr>
            <p:spPr>
              <a:xfrm>
                <a:off x="2859840" y="4261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2825280" y="433800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2790000" y="4413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2755080" y="44899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0" name=""/>
              <p:cNvGrpSpPr/>
              <p:nvPr/>
            </p:nvGrpSpPr>
            <p:grpSpPr>
              <a:xfrm>
                <a:off x="3313800" y="3425760"/>
                <a:ext cx="139320" cy="380880"/>
                <a:chOff x="3313800" y="3425760"/>
                <a:chExt cx="139320" cy="380880"/>
              </a:xfrm>
            </p:grpSpPr>
            <p:sp>
              <p:nvSpPr>
                <p:cNvPr id="1911" name=""/>
                <p:cNvSpPr/>
                <p:nvPr/>
              </p:nvSpPr>
              <p:spPr>
                <a:xfrm>
                  <a:off x="3348720" y="34257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3313800" y="35035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3" name=""/>
              <p:cNvSpPr/>
              <p:nvPr/>
            </p:nvSpPr>
            <p:spPr>
              <a:xfrm>
                <a:off x="3278880" y="3577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243960" y="36536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5" name=""/>
              <p:cNvGrpSpPr/>
              <p:nvPr/>
            </p:nvGrpSpPr>
            <p:grpSpPr>
              <a:xfrm>
                <a:off x="3104280" y="3729600"/>
                <a:ext cx="208800" cy="537840"/>
                <a:chOff x="3104280" y="3729600"/>
                <a:chExt cx="208800" cy="537840"/>
              </a:xfrm>
            </p:grpSpPr>
            <p:grpSp>
              <p:nvGrpSpPr>
                <p:cNvPr id="1916" name=""/>
                <p:cNvGrpSpPr/>
                <p:nvPr/>
              </p:nvGrpSpPr>
              <p:grpSpPr>
                <a:xfrm>
                  <a:off x="3173760" y="3729600"/>
                  <a:ext cx="139320" cy="381600"/>
                  <a:chOff x="3173760" y="3729600"/>
                  <a:chExt cx="139320" cy="381600"/>
                </a:xfrm>
              </p:grpSpPr>
              <p:sp>
                <p:nvSpPr>
                  <p:cNvPr id="1917" name=""/>
                  <p:cNvSpPr/>
                  <p:nvPr/>
                </p:nvSpPr>
                <p:spPr>
                  <a:xfrm>
                    <a:off x="3208680" y="3729600"/>
                    <a:ext cx="104400" cy="30384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8" name=""/>
                  <p:cNvSpPr/>
                  <p:nvPr/>
                </p:nvSpPr>
                <p:spPr>
                  <a:xfrm>
                    <a:off x="3173760" y="3807720"/>
                    <a:ext cx="104400" cy="3034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19" name=""/>
                <p:cNvGrpSpPr/>
                <p:nvPr/>
              </p:nvGrpSpPr>
              <p:grpSpPr>
                <a:xfrm>
                  <a:off x="3104280" y="3885480"/>
                  <a:ext cx="139320" cy="381960"/>
                  <a:chOff x="3104280" y="3885480"/>
                  <a:chExt cx="139320" cy="381960"/>
                </a:xfrm>
              </p:grpSpPr>
              <p:sp>
                <p:nvSpPr>
                  <p:cNvPr id="1920" name=""/>
                  <p:cNvSpPr/>
                  <p:nvPr/>
                </p:nvSpPr>
                <p:spPr>
                  <a:xfrm>
                    <a:off x="3139200" y="3885480"/>
                    <a:ext cx="104400" cy="3042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1" name=""/>
                  <p:cNvSpPr/>
                  <p:nvPr/>
                </p:nvSpPr>
                <p:spPr>
                  <a:xfrm>
                    <a:off x="3104280" y="3963600"/>
                    <a:ext cx="104400" cy="30384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22" name=""/>
              <p:cNvSpPr/>
              <p:nvPr/>
            </p:nvSpPr>
            <p:spPr>
              <a:xfrm>
                <a:off x="3104280" y="39574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3069360" y="40338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3034440" y="4109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999520" y="41857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2964600" y="4261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929680" y="433800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894760" y="4413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859840" y="44899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3453480" y="3425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3418200" y="35013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3383280" y="3577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3348720" y="36536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3313800" y="3729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3278880" y="38055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6" name=""/>
              <p:cNvGrpSpPr/>
              <p:nvPr/>
            </p:nvGrpSpPr>
            <p:grpSpPr>
              <a:xfrm>
                <a:off x="3209040" y="3881880"/>
                <a:ext cx="139320" cy="380880"/>
                <a:chOff x="3209040" y="3881880"/>
                <a:chExt cx="139320" cy="380880"/>
              </a:xfrm>
            </p:grpSpPr>
            <p:sp>
              <p:nvSpPr>
                <p:cNvPr id="1937" name=""/>
                <p:cNvSpPr/>
                <p:nvPr/>
              </p:nvSpPr>
              <p:spPr>
                <a:xfrm>
                  <a:off x="3243960" y="388188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3209040" y="395964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9" name=""/>
              <p:cNvSpPr/>
              <p:nvPr/>
            </p:nvSpPr>
            <p:spPr>
              <a:xfrm>
                <a:off x="3209040" y="39574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3174120" y="40338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3139200" y="4109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3104280" y="41857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3069360" y="4261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3034440" y="433800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999520" y="4413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2964600" y="44899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3557880" y="3425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3522960" y="35013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3488040" y="3577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3453480" y="36536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1" name=""/>
              <p:cNvGrpSpPr/>
              <p:nvPr/>
            </p:nvGrpSpPr>
            <p:grpSpPr>
              <a:xfrm>
                <a:off x="3383280" y="3729600"/>
                <a:ext cx="139320" cy="381240"/>
                <a:chOff x="3383280" y="3729600"/>
                <a:chExt cx="139320" cy="381240"/>
              </a:xfrm>
            </p:grpSpPr>
            <p:sp>
              <p:nvSpPr>
                <p:cNvPr id="1952" name=""/>
                <p:cNvSpPr/>
                <p:nvPr/>
              </p:nvSpPr>
              <p:spPr>
                <a:xfrm>
                  <a:off x="3418200" y="372960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3383280" y="38073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4" name=""/>
              <p:cNvGrpSpPr/>
              <p:nvPr/>
            </p:nvGrpSpPr>
            <p:grpSpPr>
              <a:xfrm>
                <a:off x="3313800" y="3881880"/>
                <a:ext cx="139320" cy="380880"/>
                <a:chOff x="3313800" y="3881880"/>
                <a:chExt cx="139320" cy="380880"/>
              </a:xfrm>
            </p:grpSpPr>
            <p:sp>
              <p:nvSpPr>
                <p:cNvPr id="1955" name=""/>
                <p:cNvSpPr/>
                <p:nvPr/>
              </p:nvSpPr>
              <p:spPr>
                <a:xfrm>
                  <a:off x="3348720" y="388188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3313800" y="395964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7" name=""/>
              <p:cNvSpPr/>
              <p:nvPr/>
            </p:nvSpPr>
            <p:spPr>
              <a:xfrm>
                <a:off x="3313800" y="39574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3278880" y="40338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3243960" y="4109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3209040" y="41857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174120" y="4261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139200" y="433800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104280" y="4413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3069360" y="44899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3662640" y="3425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627720" y="35013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592800" y="3577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557880" y="36536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9" name=""/>
              <p:cNvGrpSpPr/>
              <p:nvPr/>
            </p:nvGrpSpPr>
            <p:grpSpPr>
              <a:xfrm>
                <a:off x="3488040" y="3729600"/>
                <a:ext cx="139320" cy="381240"/>
                <a:chOff x="3488040" y="3729600"/>
                <a:chExt cx="139320" cy="381240"/>
              </a:xfrm>
            </p:grpSpPr>
            <p:sp>
              <p:nvSpPr>
                <p:cNvPr id="1970" name=""/>
                <p:cNvSpPr/>
                <p:nvPr/>
              </p:nvSpPr>
              <p:spPr>
                <a:xfrm>
                  <a:off x="3522960" y="372960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3488040" y="38073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2" name=""/>
              <p:cNvGrpSpPr/>
              <p:nvPr/>
            </p:nvGrpSpPr>
            <p:grpSpPr>
              <a:xfrm>
                <a:off x="3418200" y="3881880"/>
                <a:ext cx="139320" cy="380880"/>
                <a:chOff x="3418200" y="3881880"/>
                <a:chExt cx="139320" cy="380880"/>
              </a:xfrm>
            </p:grpSpPr>
            <p:sp>
              <p:nvSpPr>
                <p:cNvPr id="1973" name=""/>
                <p:cNvSpPr/>
                <p:nvPr/>
              </p:nvSpPr>
              <p:spPr>
                <a:xfrm>
                  <a:off x="3453120" y="388188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3418200" y="395964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5" name=""/>
              <p:cNvGrpSpPr/>
              <p:nvPr/>
            </p:nvGrpSpPr>
            <p:grpSpPr>
              <a:xfrm>
                <a:off x="3383280" y="3957480"/>
                <a:ext cx="139320" cy="381240"/>
                <a:chOff x="3383280" y="3957480"/>
                <a:chExt cx="139320" cy="381240"/>
              </a:xfrm>
            </p:grpSpPr>
            <p:sp>
              <p:nvSpPr>
                <p:cNvPr id="1976" name=""/>
                <p:cNvSpPr/>
                <p:nvPr/>
              </p:nvSpPr>
              <p:spPr>
                <a:xfrm>
                  <a:off x="3418200" y="395748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3383280" y="40352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8" name=""/>
              <p:cNvGrpSpPr/>
              <p:nvPr/>
            </p:nvGrpSpPr>
            <p:grpSpPr>
              <a:xfrm>
                <a:off x="3313800" y="4109760"/>
                <a:ext cx="139320" cy="380880"/>
                <a:chOff x="3313800" y="4109760"/>
                <a:chExt cx="139320" cy="380880"/>
              </a:xfrm>
            </p:grpSpPr>
            <p:sp>
              <p:nvSpPr>
                <p:cNvPr id="1979" name=""/>
                <p:cNvSpPr/>
                <p:nvPr/>
              </p:nvSpPr>
              <p:spPr>
                <a:xfrm>
                  <a:off x="3348720" y="41097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3313800" y="41875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1" name=""/>
              <p:cNvGrpSpPr/>
              <p:nvPr/>
            </p:nvGrpSpPr>
            <p:grpSpPr>
              <a:xfrm>
                <a:off x="3243960" y="4261680"/>
                <a:ext cx="139320" cy="381240"/>
                <a:chOff x="3243960" y="4261680"/>
                <a:chExt cx="139320" cy="381240"/>
              </a:xfrm>
            </p:grpSpPr>
            <p:sp>
              <p:nvSpPr>
                <p:cNvPr id="1982" name=""/>
                <p:cNvSpPr/>
                <p:nvPr/>
              </p:nvSpPr>
              <p:spPr>
                <a:xfrm>
                  <a:off x="3278880" y="426168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3243960" y="43394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4" name=""/>
              <p:cNvSpPr/>
              <p:nvPr/>
            </p:nvSpPr>
            <p:spPr>
              <a:xfrm>
                <a:off x="3209040" y="4413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174120" y="44899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6" name=""/>
              <p:cNvGrpSpPr/>
              <p:nvPr/>
            </p:nvGrpSpPr>
            <p:grpSpPr>
              <a:xfrm>
                <a:off x="3732480" y="3425760"/>
                <a:ext cx="139320" cy="380880"/>
                <a:chOff x="3732480" y="3425760"/>
                <a:chExt cx="139320" cy="380880"/>
              </a:xfrm>
            </p:grpSpPr>
            <p:sp>
              <p:nvSpPr>
                <p:cNvPr id="1987" name=""/>
                <p:cNvSpPr/>
                <p:nvPr/>
              </p:nvSpPr>
              <p:spPr>
                <a:xfrm>
                  <a:off x="3767400" y="34257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3732480" y="35035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9" name=""/>
              <p:cNvGrpSpPr/>
              <p:nvPr/>
            </p:nvGrpSpPr>
            <p:grpSpPr>
              <a:xfrm>
                <a:off x="3662640" y="3577680"/>
                <a:ext cx="139320" cy="381240"/>
                <a:chOff x="3662640" y="3577680"/>
                <a:chExt cx="139320" cy="381240"/>
              </a:xfrm>
            </p:grpSpPr>
            <p:sp>
              <p:nvSpPr>
                <p:cNvPr id="1990" name=""/>
                <p:cNvSpPr/>
                <p:nvPr/>
              </p:nvSpPr>
              <p:spPr>
                <a:xfrm>
                  <a:off x="3697560" y="357768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3662640" y="36554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2" name=""/>
              <p:cNvGrpSpPr/>
              <p:nvPr/>
            </p:nvGrpSpPr>
            <p:grpSpPr>
              <a:xfrm>
                <a:off x="3592800" y="3729600"/>
                <a:ext cx="139320" cy="381240"/>
                <a:chOff x="3592800" y="3729600"/>
                <a:chExt cx="139320" cy="381240"/>
              </a:xfrm>
            </p:grpSpPr>
            <p:sp>
              <p:nvSpPr>
                <p:cNvPr id="1993" name=""/>
                <p:cNvSpPr/>
                <p:nvPr/>
              </p:nvSpPr>
              <p:spPr>
                <a:xfrm>
                  <a:off x="3627720" y="372960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3592800" y="38073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5" name=""/>
              <p:cNvGrpSpPr/>
              <p:nvPr/>
            </p:nvGrpSpPr>
            <p:grpSpPr>
              <a:xfrm>
                <a:off x="3522960" y="3881880"/>
                <a:ext cx="139320" cy="380880"/>
                <a:chOff x="3522960" y="3881880"/>
                <a:chExt cx="139320" cy="380880"/>
              </a:xfrm>
            </p:grpSpPr>
            <p:sp>
              <p:nvSpPr>
                <p:cNvPr id="1996" name=""/>
                <p:cNvSpPr/>
                <p:nvPr/>
              </p:nvSpPr>
              <p:spPr>
                <a:xfrm>
                  <a:off x="3557880" y="388188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3522960" y="395964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8" name=""/>
              <p:cNvSpPr/>
              <p:nvPr/>
            </p:nvSpPr>
            <p:spPr>
              <a:xfrm>
                <a:off x="3522960" y="39574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488040" y="40338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0" name=""/>
              <p:cNvGrpSpPr/>
              <p:nvPr/>
            </p:nvGrpSpPr>
            <p:grpSpPr>
              <a:xfrm>
                <a:off x="3418200" y="4109760"/>
                <a:ext cx="139320" cy="380880"/>
                <a:chOff x="3418200" y="4109760"/>
                <a:chExt cx="139320" cy="380880"/>
              </a:xfrm>
            </p:grpSpPr>
            <p:sp>
              <p:nvSpPr>
                <p:cNvPr id="2001" name=""/>
                <p:cNvSpPr/>
                <p:nvPr/>
              </p:nvSpPr>
              <p:spPr>
                <a:xfrm>
                  <a:off x="3453120" y="41097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3418200" y="41875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3" name=""/>
              <p:cNvGrpSpPr/>
              <p:nvPr/>
            </p:nvGrpSpPr>
            <p:grpSpPr>
              <a:xfrm>
                <a:off x="3348720" y="4261680"/>
                <a:ext cx="139320" cy="381240"/>
                <a:chOff x="3348720" y="4261680"/>
                <a:chExt cx="139320" cy="381240"/>
              </a:xfrm>
            </p:grpSpPr>
            <p:sp>
              <p:nvSpPr>
                <p:cNvPr id="2004" name=""/>
                <p:cNvSpPr/>
                <p:nvPr/>
              </p:nvSpPr>
              <p:spPr>
                <a:xfrm>
                  <a:off x="3383640" y="426168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3348720" y="43394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6" name=""/>
              <p:cNvSpPr/>
              <p:nvPr/>
            </p:nvSpPr>
            <p:spPr>
              <a:xfrm>
                <a:off x="3313800" y="4413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3278880" y="44899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872160" y="3425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3837240" y="35013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3802320" y="3577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3767400" y="36536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732480" y="3729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697560" y="38055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4" name=""/>
              <p:cNvGrpSpPr/>
              <p:nvPr/>
            </p:nvGrpSpPr>
            <p:grpSpPr>
              <a:xfrm>
                <a:off x="3627720" y="3881880"/>
                <a:ext cx="139320" cy="380880"/>
                <a:chOff x="3627720" y="3881880"/>
                <a:chExt cx="139320" cy="380880"/>
              </a:xfrm>
            </p:grpSpPr>
            <p:sp>
              <p:nvSpPr>
                <p:cNvPr id="2015" name=""/>
                <p:cNvSpPr/>
                <p:nvPr/>
              </p:nvSpPr>
              <p:spPr>
                <a:xfrm>
                  <a:off x="3662640" y="388188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3627720" y="395964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7" name=""/>
              <p:cNvSpPr/>
              <p:nvPr/>
            </p:nvSpPr>
            <p:spPr>
              <a:xfrm>
                <a:off x="3627720" y="39574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592800" y="40338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557880" y="4109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522960" y="41857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21" name=""/>
              <p:cNvGrpSpPr/>
              <p:nvPr/>
            </p:nvGrpSpPr>
            <p:grpSpPr>
              <a:xfrm>
                <a:off x="3453480" y="4261680"/>
                <a:ext cx="139320" cy="381240"/>
                <a:chOff x="3453480" y="4261680"/>
                <a:chExt cx="139320" cy="381240"/>
              </a:xfrm>
            </p:grpSpPr>
            <p:sp>
              <p:nvSpPr>
                <p:cNvPr id="2022" name=""/>
                <p:cNvSpPr/>
                <p:nvPr/>
              </p:nvSpPr>
              <p:spPr>
                <a:xfrm>
                  <a:off x="3488400" y="426168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3453480" y="43394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4" name=""/>
              <p:cNvSpPr/>
              <p:nvPr/>
            </p:nvSpPr>
            <p:spPr>
              <a:xfrm>
                <a:off x="3418200" y="4413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83280" y="44899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976920" y="3425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942000" y="35013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28" name=""/>
              <p:cNvGrpSpPr/>
              <p:nvPr/>
            </p:nvGrpSpPr>
            <p:grpSpPr>
              <a:xfrm>
                <a:off x="3872160" y="3577680"/>
                <a:ext cx="139320" cy="381240"/>
                <a:chOff x="3872160" y="3577680"/>
                <a:chExt cx="139320" cy="381240"/>
              </a:xfrm>
            </p:grpSpPr>
            <p:sp>
              <p:nvSpPr>
                <p:cNvPr id="2029" name=""/>
                <p:cNvSpPr/>
                <p:nvPr/>
              </p:nvSpPr>
              <p:spPr>
                <a:xfrm>
                  <a:off x="3907080" y="357768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3872160" y="36554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1" name=""/>
              <p:cNvGrpSpPr/>
              <p:nvPr/>
            </p:nvGrpSpPr>
            <p:grpSpPr>
              <a:xfrm>
                <a:off x="3802320" y="3729600"/>
                <a:ext cx="139320" cy="381240"/>
                <a:chOff x="3802320" y="3729600"/>
                <a:chExt cx="139320" cy="381240"/>
              </a:xfrm>
            </p:grpSpPr>
            <p:sp>
              <p:nvSpPr>
                <p:cNvPr id="2032" name=""/>
                <p:cNvSpPr/>
                <p:nvPr/>
              </p:nvSpPr>
              <p:spPr>
                <a:xfrm>
                  <a:off x="3837240" y="372960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3802320" y="38073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4" name=""/>
              <p:cNvGrpSpPr/>
              <p:nvPr/>
            </p:nvGrpSpPr>
            <p:grpSpPr>
              <a:xfrm>
                <a:off x="3732480" y="3881880"/>
                <a:ext cx="139320" cy="380880"/>
                <a:chOff x="3732480" y="3881880"/>
                <a:chExt cx="139320" cy="380880"/>
              </a:xfrm>
            </p:grpSpPr>
            <p:sp>
              <p:nvSpPr>
                <p:cNvPr id="2035" name=""/>
                <p:cNvSpPr/>
                <p:nvPr/>
              </p:nvSpPr>
              <p:spPr>
                <a:xfrm>
                  <a:off x="3767400" y="388188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3732480" y="395964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7" name=""/>
              <p:cNvSpPr/>
              <p:nvPr/>
            </p:nvSpPr>
            <p:spPr>
              <a:xfrm>
                <a:off x="3732480" y="39574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697560" y="40338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3662640" y="4109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3627720" y="41857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592800" y="4261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557880" y="433800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522960" y="4413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488040" y="44899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4081680" y="3425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4046760" y="35013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4011480" y="3577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3976920" y="36536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3942000" y="3729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3907080" y="38055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872160" y="388188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837240" y="39574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837240" y="39574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802320" y="40338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767400" y="4109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3732480" y="41857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3697560" y="4261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3662640" y="433800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3627720" y="4413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3592800" y="44899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3662640" y="3349800"/>
                <a:ext cx="697680" cy="1591560"/>
              </a:xfrm>
              <a:prstGeom prst="cube">
                <a:avLst>
                  <a:gd name="adj" fmla="val 90361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057400" y="4717800"/>
                <a:ext cx="1675080" cy="234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"/>
            <p:cNvGrpSpPr/>
            <p:nvPr/>
          </p:nvGrpSpPr>
          <p:grpSpPr>
            <a:xfrm>
              <a:off x="4325760" y="1981080"/>
              <a:ext cx="2302920" cy="1602360"/>
              <a:chOff x="4325760" y="1981080"/>
              <a:chExt cx="2302920" cy="1602360"/>
            </a:xfrm>
          </p:grpSpPr>
          <p:sp>
            <p:nvSpPr>
              <p:cNvPr id="2064" name=""/>
              <p:cNvSpPr/>
              <p:nvPr/>
            </p:nvSpPr>
            <p:spPr>
              <a:xfrm>
                <a:off x="4360680" y="1981080"/>
                <a:ext cx="697680" cy="1591560"/>
              </a:xfrm>
              <a:prstGeom prst="cube">
                <a:avLst>
                  <a:gd name="adj" fmla="val 90361"/>
                </a:avLst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5023440" y="1981080"/>
                <a:ext cx="1535760" cy="234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4988880" y="2057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4953960" y="213264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4918680" y="2208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4884120" y="228492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0" name=""/>
              <p:cNvGrpSpPr/>
              <p:nvPr/>
            </p:nvGrpSpPr>
            <p:grpSpPr>
              <a:xfrm>
                <a:off x="4814280" y="2360880"/>
                <a:ext cx="139320" cy="381240"/>
                <a:chOff x="4814280" y="2360880"/>
                <a:chExt cx="139320" cy="381240"/>
              </a:xfrm>
            </p:grpSpPr>
            <p:sp>
              <p:nvSpPr>
                <p:cNvPr id="2071" name=""/>
                <p:cNvSpPr/>
                <p:nvPr/>
              </p:nvSpPr>
              <p:spPr>
                <a:xfrm>
                  <a:off x="4849200" y="236088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4814280" y="24386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3" name=""/>
              <p:cNvSpPr/>
              <p:nvPr/>
            </p:nvSpPr>
            <p:spPr>
              <a:xfrm>
                <a:off x="4779360" y="25131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4744440" y="25887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4744440" y="25887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4709520" y="26650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4674600" y="2741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4639680" y="28170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4604760" y="2892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569840" y="296928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4534920" y="3044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4500000" y="31212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3" name=""/>
              <p:cNvGrpSpPr/>
              <p:nvPr/>
            </p:nvGrpSpPr>
            <p:grpSpPr>
              <a:xfrm>
                <a:off x="5058360" y="2057040"/>
                <a:ext cx="139320" cy="380880"/>
                <a:chOff x="5058360" y="2057040"/>
                <a:chExt cx="139320" cy="380880"/>
              </a:xfrm>
            </p:grpSpPr>
            <p:sp>
              <p:nvSpPr>
                <p:cNvPr id="2084" name=""/>
                <p:cNvSpPr/>
                <p:nvPr/>
              </p:nvSpPr>
              <p:spPr>
                <a:xfrm>
                  <a:off x="5093280" y="20570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5058360" y="213480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6" name=""/>
              <p:cNvGrpSpPr/>
              <p:nvPr/>
            </p:nvGrpSpPr>
            <p:grpSpPr>
              <a:xfrm>
                <a:off x="4988880" y="2208960"/>
                <a:ext cx="139320" cy="381240"/>
                <a:chOff x="4988880" y="2208960"/>
                <a:chExt cx="139320" cy="381240"/>
              </a:xfrm>
            </p:grpSpPr>
            <p:sp>
              <p:nvSpPr>
                <p:cNvPr id="2087" name=""/>
                <p:cNvSpPr/>
                <p:nvPr/>
              </p:nvSpPr>
              <p:spPr>
                <a:xfrm>
                  <a:off x="5023800" y="220896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4988880" y="228672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9" name=""/>
              <p:cNvSpPr/>
              <p:nvPr/>
            </p:nvSpPr>
            <p:spPr>
              <a:xfrm>
                <a:off x="4953960" y="2360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918680" y="243684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1" name=""/>
              <p:cNvGrpSpPr/>
              <p:nvPr/>
            </p:nvGrpSpPr>
            <p:grpSpPr>
              <a:xfrm>
                <a:off x="4849200" y="2513160"/>
                <a:ext cx="139320" cy="380880"/>
                <a:chOff x="4849200" y="2513160"/>
                <a:chExt cx="139320" cy="380880"/>
              </a:xfrm>
            </p:grpSpPr>
            <p:sp>
              <p:nvSpPr>
                <p:cNvPr id="2092" name=""/>
                <p:cNvSpPr/>
                <p:nvPr/>
              </p:nvSpPr>
              <p:spPr>
                <a:xfrm>
                  <a:off x="4884120" y="25131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4849200" y="25909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4" name=""/>
              <p:cNvSpPr/>
              <p:nvPr/>
            </p:nvSpPr>
            <p:spPr>
              <a:xfrm>
                <a:off x="4849200" y="25887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4814280" y="26650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4779360" y="2741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4744440" y="28170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4709520" y="2892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4674600" y="296928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4639680" y="3044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4604760" y="31212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198040" y="2057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5163120" y="213264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5128200" y="2208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5093640" y="228492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058360" y="2360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5023440" y="243684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8" name=""/>
              <p:cNvGrpSpPr/>
              <p:nvPr/>
            </p:nvGrpSpPr>
            <p:grpSpPr>
              <a:xfrm>
                <a:off x="4953960" y="2513160"/>
                <a:ext cx="139320" cy="380880"/>
                <a:chOff x="4953960" y="2513160"/>
                <a:chExt cx="139320" cy="380880"/>
              </a:xfrm>
            </p:grpSpPr>
            <p:sp>
              <p:nvSpPr>
                <p:cNvPr id="2109" name=""/>
                <p:cNvSpPr/>
                <p:nvPr/>
              </p:nvSpPr>
              <p:spPr>
                <a:xfrm>
                  <a:off x="4988880" y="25131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4953960" y="25909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1" name=""/>
              <p:cNvSpPr/>
              <p:nvPr/>
            </p:nvSpPr>
            <p:spPr>
              <a:xfrm>
                <a:off x="4953960" y="25887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4918680" y="26650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4884120" y="2741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4849200" y="28170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4814280" y="2892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4779360" y="296928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4744440" y="3044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4709520" y="31212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302800" y="2057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267880" y="213264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5232960" y="2208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5198040" y="228492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3" name=""/>
              <p:cNvGrpSpPr/>
              <p:nvPr/>
            </p:nvGrpSpPr>
            <p:grpSpPr>
              <a:xfrm>
                <a:off x="5058360" y="2360880"/>
                <a:ext cx="208800" cy="537840"/>
                <a:chOff x="5058360" y="2360880"/>
                <a:chExt cx="208800" cy="537840"/>
              </a:xfrm>
            </p:grpSpPr>
            <p:grpSp>
              <p:nvGrpSpPr>
                <p:cNvPr id="2124" name=""/>
                <p:cNvGrpSpPr/>
                <p:nvPr/>
              </p:nvGrpSpPr>
              <p:grpSpPr>
                <a:xfrm>
                  <a:off x="5127840" y="2360880"/>
                  <a:ext cx="139320" cy="381600"/>
                  <a:chOff x="5127840" y="2360880"/>
                  <a:chExt cx="139320" cy="381600"/>
                </a:xfrm>
              </p:grpSpPr>
              <p:sp>
                <p:nvSpPr>
                  <p:cNvPr id="2125" name=""/>
                  <p:cNvSpPr/>
                  <p:nvPr/>
                </p:nvSpPr>
                <p:spPr>
                  <a:xfrm>
                    <a:off x="5162760" y="2360880"/>
                    <a:ext cx="104400" cy="30384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6" name=""/>
                  <p:cNvSpPr/>
                  <p:nvPr/>
                </p:nvSpPr>
                <p:spPr>
                  <a:xfrm>
                    <a:off x="5127840" y="2439000"/>
                    <a:ext cx="104400" cy="3034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7" name=""/>
                <p:cNvGrpSpPr/>
                <p:nvPr/>
              </p:nvGrpSpPr>
              <p:grpSpPr>
                <a:xfrm>
                  <a:off x="5058360" y="2516760"/>
                  <a:ext cx="139320" cy="381960"/>
                  <a:chOff x="5058360" y="2516760"/>
                  <a:chExt cx="139320" cy="381960"/>
                </a:xfrm>
              </p:grpSpPr>
              <p:sp>
                <p:nvSpPr>
                  <p:cNvPr id="2128" name=""/>
                  <p:cNvSpPr/>
                  <p:nvPr/>
                </p:nvSpPr>
                <p:spPr>
                  <a:xfrm>
                    <a:off x="5093280" y="2516760"/>
                    <a:ext cx="104400" cy="3042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>
                    <a:off x="5058360" y="2594880"/>
                    <a:ext cx="104400" cy="30384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30" name=""/>
              <p:cNvSpPr/>
              <p:nvPr/>
            </p:nvSpPr>
            <p:spPr>
              <a:xfrm>
                <a:off x="5058360" y="25887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5023440" y="26650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4988880" y="2741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4953960" y="28170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4918680" y="2892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4884120" y="296928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4849200" y="3044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4814280" y="31212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8" name=""/>
              <p:cNvGrpSpPr/>
              <p:nvPr/>
            </p:nvGrpSpPr>
            <p:grpSpPr>
              <a:xfrm>
                <a:off x="5372640" y="2057040"/>
                <a:ext cx="139320" cy="380880"/>
                <a:chOff x="5372640" y="2057040"/>
                <a:chExt cx="139320" cy="380880"/>
              </a:xfrm>
            </p:grpSpPr>
            <p:sp>
              <p:nvSpPr>
                <p:cNvPr id="2139" name=""/>
                <p:cNvSpPr/>
                <p:nvPr/>
              </p:nvSpPr>
              <p:spPr>
                <a:xfrm>
                  <a:off x="5407560" y="20570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5372640" y="213480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1" name=""/>
              <p:cNvSpPr/>
              <p:nvPr/>
            </p:nvSpPr>
            <p:spPr>
              <a:xfrm>
                <a:off x="5337720" y="2208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5302800" y="228492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5267880" y="2360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5232960" y="243684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45" name=""/>
              <p:cNvGrpSpPr/>
              <p:nvPr/>
            </p:nvGrpSpPr>
            <p:grpSpPr>
              <a:xfrm>
                <a:off x="5163120" y="2513160"/>
                <a:ext cx="139320" cy="380880"/>
                <a:chOff x="5163120" y="2513160"/>
                <a:chExt cx="139320" cy="380880"/>
              </a:xfrm>
            </p:grpSpPr>
            <p:sp>
              <p:nvSpPr>
                <p:cNvPr id="2146" name=""/>
                <p:cNvSpPr/>
                <p:nvPr/>
              </p:nvSpPr>
              <p:spPr>
                <a:xfrm>
                  <a:off x="5198040" y="25131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5163120" y="25909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8" name=""/>
              <p:cNvGrpSpPr/>
              <p:nvPr/>
            </p:nvGrpSpPr>
            <p:grpSpPr>
              <a:xfrm>
                <a:off x="5128200" y="2588760"/>
                <a:ext cx="139320" cy="381240"/>
                <a:chOff x="5128200" y="2588760"/>
                <a:chExt cx="139320" cy="381240"/>
              </a:xfrm>
            </p:grpSpPr>
            <p:sp>
              <p:nvSpPr>
                <p:cNvPr id="2149" name=""/>
                <p:cNvSpPr/>
                <p:nvPr/>
              </p:nvSpPr>
              <p:spPr>
                <a:xfrm>
                  <a:off x="5163120" y="258876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5128200" y="266652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1" name=""/>
              <p:cNvGrpSpPr/>
              <p:nvPr/>
            </p:nvGrpSpPr>
            <p:grpSpPr>
              <a:xfrm>
                <a:off x="5058360" y="2741040"/>
                <a:ext cx="139320" cy="380880"/>
                <a:chOff x="5058360" y="2741040"/>
                <a:chExt cx="139320" cy="380880"/>
              </a:xfrm>
            </p:grpSpPr>
            <p:sp>
              <p:nvSpPr>
                <p:cNvPr id="2152" name=""/>
                <p:cNvSpPr/>
                <p:nvPr/>
              </p:nvSpPr>
              <p:spPr>
                <a:xfrm>
                  <a:off x="5093280" y="27410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5058360" y="281880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4" name=""/>
              <p:cNvSpPr/>
              <p:nvPr/>
            </p:nvSpPr>
            <p:spPr>
              <a:xfrm>
                <a:off x="5023440" y="2892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4988880" y="296928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4953960" y="3044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4918680" y="31212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8" name=""/>
              <p:cNvGrpSpPr/>
              <p:nvPr/>
            </p:nvGrpSpPr>
            <p:grpSpPr>
              <a:xfrm>
                <a:off x="5477400" y="2057040"/>
                <a:ext cx="139320" cy="380880"/>
                <a:chOff x="5477400" y="2057040"/>
                <a:chExt cx="139320" cy="380880"/>
              </a:xfrm>
            </p:grpSpPr>
            <p:sp>
              <p:nvSpPr>
                <p:cNvPr id="2159" name=""/>
                <p:cNvSpPr/>
                <p:nvPr/>
              </p:nvSpPr>
              <p:spPr>
                <a:xfrm>
                  <a:off x="5512320" y="20570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5477400" y="213480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1" name=""/>
              <p:cNvSpPr/>
              <p:nvPr/>
            </p:nvSpPr>
            <p:spPr>
              <a:xfrm>
                <a:off x="5442480" y="2208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5407560" y="228492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5372640" y="2360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5337720" y="243684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5302800" y="25131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5267880" y="25887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7" name=""/>
              <p:cNvGrpSpPr/>
              <p:nvPr/>
            </p:nvGrpSpPr>
            <p:grpSpPr>
              <a:xfrm>
                <a:off x="5163120" y="2588760"/>
                <a:ext cx="208800" cy="537840"/>
                <a:chOff x="5163120" y="2588760"/>
                <a:chExt cx="208800" cy="537840"/>
              </a:xfrm>
            </p:grpSpPr>
            <p:grpSp>
              <p:nvGrpSpPr>
                <p:cNvPr id="2168" name=""/>
                <p:cNvGrpSpPr/>
                <p:nvPr/>
              </p:nvGrpSpPr>
              <p:grpSpPr>
                <a:xfrm>
                  <a:off x="5232600" y="2588760"/>
                  <a:ext cx="139320" cy="381600"/>
                  <a:chOff x="5232600" y="2588760"/>
                  <a:chExt cx="139320" cy="381600"/>
                </a:xfrm>
              </p:grpSpPr>
              <p:sp>
                <p:nvSpPr>
                  <p:cNvPr id="2169" name=""/>
                  <p:cNvSpPr/>
                  <p:nvPr/>
                </p:nvSpPr>
                <p:spPr>
                  <a:xfrm>
                    <a:off x="5267520" y="2588760"/>
                    <a:ext cx="104400" cy="30384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0" name=""/>
                  <p:cNvSpPr/>
                  <p:nvPr/>
                </p:nvSpPr>
                <p:spPr>
                  <a:xfrm>
                    <a:off x="5232600" y="2666880"/>
                    <a:ext cx="104400" cy="3034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71" name=""/>
                <p:cNvGrpSpPr/>
                <p:nvPr/>
              </p:nvGrpSpPr>
              <p:grpSpPr>
                <a:xfrm>
                  <a:off x="5163120" y="2744640"/>
                  <a:ext cx="139320" cy="381960"/>
                  <a:chOff x="5163120" y="2744640"/>
                  <a:chExt cx="139320" cy="381960"/>
                </a:xfrm>
              </p:grpSpPr>
              <p:sp>
                <p:nvSpPr>
                  <p:cNvPr id="2172" name=""/>
                  <p:cNvSpPr/>
                  <p:nvPr/>
                </p:nvSpPr>
                <p:spPr>
                  <a:xfrm>
                    <a:off x="5198040" y="2744640"/>
                    <a:ext cx="104400" cy="3042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3" name=""/>
                  <p:cNvSpPr/>
                  <p:nvPr/>
                </p:nvSpPr>
                <p:spPr>
                  <a:xfrm>
                    <a:off x="5163120" y="2822760"/>
                    <a:ext cx="104400" cy="30384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74" name=""/>
              <p:cNvSpPr/>
              <p:nvPr/>
            </p:nvSpPr>
            <p:spPr>
              <a:xfrm>
                <a:off x="5128200" y="2892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5093640" y="296928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5058360" y="3044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5023440" y="31212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8" name=""/>
              <p:cNvGrpSpPr/>
              <p:nvPr/>
            </p:nvGrpSpPr>
            <p:grpSpPr>
              <a:xfrm>
                <a:off x="5582160" y="2057040"/>
                <a:ext cx="139320" cy="380880"/>
                <a:chOff x="5582160" y="2057040"/>
                <a:chExt cx="139320" cy="380880"/>
              </a:xfrm>
            </p:grpSpPr>
            <p:sp>
              <p:nvSpPr>
                <p:cNvPr id="2179" name=""/>
                <p:cNvSpPr/>
                <p:nvPr/>
              </p:nvSpPr>
              <p:spPr>
                <a:xfrm>
                  <a:off x="5617080" y="20570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5582160" y="213480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1" name=""/>
              <p:cNvSpPr/>
              <p:nvPr/>
            </p:nvSpPr>
            <p:spPr>
              <a:xfrm>
                <a:off x="5547240" y="2208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5512320" y="228492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3" name=""/>
              <p:cNvGrpSpPr/>
              <p:nvPr/>
            </p:nvGrpSpPr>
            <p:grpSpPr>
              <a:xfrm>
                <a:off x="5372640" y="2360880"/>
                <a:ext cx="208800" cy="537840"/>
                <a:chOff x="5372640" y="2360880"/>
                <a:chExt cx="208800" cy="537840"/>
              </a:xfrm>
            </p:grpSpPr>
            <p:grpSp>
              <p:nvGrpSpPr>
                <p:cNvPr id="2184" name=""/>
                <p:cNvGrpSpPr/>
                <p:nvPr/>
              </p:nvGrpSpPr>
              <p:grpSpPr>
                <a:xfrm>
                  <a:off x="5442120" y="2360880"/>
                  <a:ext cx="139320" cy="381600"/>
                  <a:chOff x="5442120" y="2360880"/>
                  <a:chExt cx="139320" cy="381600"/>
                </a:xfrm>
              </p:grpSpPr>
              <p:sp>
                <p:nvSpPr>
                  <p:cNvPr id="2185" name=""/>
                  <p:cNvSpPr/>
                  <p:nvPr/>
                </p:nvSpPr>
                <p:spPr>
                  <a:xfrm>
                    <a:off x="5477040" y="2360880"/>
                    <a:ext cx="104400" cy="30384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6" name=""/>
                  <p:cNvSpPr/>
                  <p:nvPr/>
                </p:nvSpPr>
                <p:spPr>
                  <a:xfrm>
                    <a:off x="5442120" y="2439000"/>
                    <a:ext cx="104400" cy="3034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7" name=""/>
                <p:cNvGrpSpPr/>
                <p:nvPr/>
              </p:nvGrpSpPr>
              <p:grpSpPr>
                <a:xfrm>
                  <a:off x="5372640" y="2516760"/>
                  <a:ext cx="139320" cy="381960"/>
                  <a:chOff x="5372640" y="2516760"/>
                  <a:chExt cx="139320" cy="381960"/>
                </a:xfrm>
              </p:grpSpPr>
              <p:sp>
                <p:nvSpPr>
                  <p:cNvPr id="2188" name=""/>
                  <p:cNvSpPr/>
                  <p:nvPr/>
                </p:nvSpPr>
                <p:spPr>
                  <a:xfrm>
                    <a:off x="5407560" y="2516760"/>
                    <a:ext cx="104400" cy="3042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9" name=""/>
                  <p:cNvSpPr/>
                  <p:nvPr/>
                </p:nvSpPr>
                <p:spPr>
                  <a:xfrm>
                    <a:off x="5372640" y="2594880"/>
                    <a:ext cx="104400" cy="30384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90" name=""/>
              <p:cNvSpPr/>
              <p:nvPr/>
            </p:nvSpPr>
            <p:spPr>
              <a:xfrm>
                <a:off x="5372640" y="25887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337720" y="26650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302800" y="2741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267880" y="28170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232960" y="2892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5198040" y="296928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163120" y="3044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128200" y="31212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721840" y="2057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686560" y="213264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651640" y="2208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617080" y="228492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582160" y="2360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547240" y="243684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4" name=""/>
              <p:cNvGrpSpPr/>
              <p:nvPr/>
            </p:nvGrpSpPr>
            <p:grpSpPr>
              <a:xfrm>
                <a:off x="5477400" y="2513160"/>
                <a:ext cx="139320" cy="380880"/>
                <a:chOff x="5477400" y="2513160"/>
                <a:chExt cx="139320" cy="380880"/>
              </a:xfrm>
            </p:grpSpPr>
            <p:sp>
              <p:nvSpPr>
                <p:cNvPr id="2205" name=""/>
                <p:cNvSpPr/>
                <p:nvPr/>
              </p:nvSpPr>
              <p:spPr>
                <a:xfrm>
                  <a:off x="5512320" y="25131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5477400" y="25909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7" name=""/>
              <p:cNvSpPr/>
              <p:nvPr/>
            </p:nvSpPr>
            <p:spPr>
              <a:xfrm>
                <a:off x="5477400" y="25887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442480" y="26650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407560" y="2741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372640" y="28170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337720" y="2892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302800" y="296928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267880" y="3044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232960" y="31212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826240" y="2057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791320" y="213264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756400" y="2208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721840" y="228492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9" name=""/>
              <p:cNvGrpSpPr/>
              <p:nvPr/>
            </p:nvGrpSpPr>
            <p:grpSpPr>
              <a:xfrm>
                <a:off x="5651640" y="2360880"/>
                <a:ext cx="139320" cy="381240"/>
                <a:chOff x="5651640" y="2360880"/>
                <a:chExt cx="139320" cy="381240"/>
              </a:xfrm>
            </p:grpSpPr>
            <p:sp>
              <p:nvSpPr>
                <p:cNvPr id="2220" name=""/>
                <p:cNvSpPr/>
                <p:nvPr/>
              </p:nvSpPr>
              <p:spPr>
                <a:xfrm>
                  <a:off x="5686560" y="236088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5651640" y="24386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2" name=""/>
              <p:cNvGrpSpPr/>
              <p:nvPr/>
            </p:nvGrpSpPr>
            <p:grpSpPr>
              <a:xfrm>
                <a:off x="5582160" y="2513160"/>
                <a:ext cx="139320" cy="380880"/>
                <a:chOff x="5582160" y="2513160"/>
                <a:chExt cx="139320" cy="380880"/>
              </a:xfrm>
            </p:grpSpPr>
            <p:sp>
              <p:nvSpPr>
                <p:cNvPr id="2223" name=""/>
                <p:cNvSpPr/>
                <p:nvPr/>
              </p:nvSpPr>
              <p:spPr>
                <a:xfrm>
                  <a:off x="5617080" y="25131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5582160" y="25909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5" name=""/>
              <p:cNvSpPr/>
              <p:nvPr/>
            </p:nvSpPr>
            <p:spPr>
              <a:xfrm>
                <a:off x="5582160" y="25887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547240" y="26650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5512320" y="2741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477400" y="28170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5442480" y="2892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5407560" y="296928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5372640" y="3044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5337720" y="31212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5931000" y="2057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5896080" y="213264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5861160" y="2208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5826240" y="228492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37" name=""/>
              <p:cNvGrpSpPr/>
              <p:nvPr/>
            </p:nvGrpSpPr>
            <p:grpSpPr>
              <a:xfrm>
                <a:off x="5756400" y="2360880"/>
                <a:ext cx="139320" cy="381240"/>
                <a:chOff x="5756400" y="2360880"/>
                <a:chExt cx="139320" cy="381240"/>
              </a:xfrm>
            </p:grpSpPr>
            <p:sp>
              <p:nvSpPr>
                <p:cNvPr id="2238" name=""/>
                <p:cNvSpPr/>
                <p:nvPr/>
              </p:nvSpPr>
              <p:spPr>
                <a:xfrm>
                  <a:off x="5791320" y="236088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5756400" y="24386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0" name=""/>
              <p:cNvGrpSpPr/>
              <p:nvPr/>
            </p:nvGrpSpPr>
            <p:grpSpPr>
              <a:xfrm>
                <a:off x="5686560" y="2513160"/>
                <a:ext cx="139320" cy="380880"/>
                <a:chOff x="5686560" y="2513160"/>
                <a:chExt cx="139320" cy="380880"/>
              </a:xfrm>
            </p:grpSpPr>
            <p:sp>
              <p:nvSpPr>
                <p:cNvPr id="2241" name=""/>
                <p:cNvSpPr/>
                <p:nvPr/>
              </p:nvSpPr>
              <p:spPr>
                <a:xfrm>
                  <a:off x="5721480" y="25131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>
                  <a:off x="5686560" y="25909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3" name=""/>
              <p:cNvGrpSpPr/>
              <p:nvPr/>
            </p:nvGrpSpPr>
            <p:grpSpPr>
              <a:xfrm>
                <a:off x="5651640" y="2588760"/>
                <a:ext cx="139320" cy="381240"/>
                <a:chOff x="5651640" y="2588760"/>
                <a:chExt cx="139320" cy="381240"/>
              </a:xfrm>
            </p:grpSpPr>
            <p:sp>
              <p:nvSpPr>
                <p:cNvPr id="2244" name=""/>
                <p:cNvSpPr/>
                <p:nvPr/>
              </p:nvSpPr>
              <p:spPr>
                <a:xfrm>
                  <a:off x="5686560" y="258876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5651640" y="266652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6" name=""/>
              <p:cNvGrpSpPr/>
              <p:nvPr/>
            </p:nvGrpSpPr>
            <p:grpSpPr>
              <a:xfrm>
                <a:off x="5582160" y="2741040"/>
                <a:ext cx="139320" cy="380880"/>
                <a:chOff x="5582160" y="2741040"/>
                <a:chExt cx="139320" cy="380880"/>
              </a:xfrm>
            </p:grpSpPr>
            <p:sp>
              <p:nvSpPr>
                <p:cNvPr id="2247" name=""/>
                <p:cNvSpPr/>
                <p:nvPr/>
              </p:nvSpPr>
              <p:spPr>
                <a:xfrm>
                  <a:off x="5617080" y="27410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5582160" y="281880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9" name=""/>
              <p:cNvGrpSpPr/>
              <p:nvPr/>
            </p:nvGrpSpPr>
            <p:grpSpPr>
              <a:xfrm>
                <a:off x="5512320" y="2892960"/>
                <a:ext cx="139320" cy="381240"/>
                <a:chOff x="5512320" y="2892960"/>
                <a:chExt cx="139320" cy="381240"/>
              </a:xfrm>
            </p:grpSpPr>
            <p:sp>
              <p:nvSpPr>
                <p:cNvPr id="2250" name=""/>
                <p:cNvSpPr/>
                <p:nvPr/>
              </p:nvSpPr>
              <p:spPr>
                <a:xfrm>
                  <a:off x="5547240" y="289296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5512320" y="297072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2" name=""/>
              <p:cNvSpPr/>
              <p:nvPr/>
            </p:nvSpPr>
            <p:spPr>
              <a:xfrm>
                <a:off x="5477400" y="3044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5442480" y="31212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4" name=""/>
              <p:cNvGrpSpPr/>
              <p:nvPr/>
            </p:nvGrpSpPr>
            <p:grpSpPr>
              <a:xfrm>
                <a:off x="6000840" y="2057040"/>
                <a:ext cx="139320" cy="380880"/>
                <a:chOff x="6000840" y="2057040"/>
                <a:chExt cx="139320" cy="380880"/>
              </a:xfrm>
            </p:grpSpPr>
            <p:sp>
              <p:nvSpPr>
                <p:cNvPr id="2255" name=""/>
                <p:cNvSpPr/>
                <p:nvPr/>
              </p:nvSpPr>
              <p:spPr>
                <a:xfrm>
                  <a:off x="6035760" y="20570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6000840" y="213480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7" name=""/>
              <p:cNvGrpSpPr/>
              <p:nvPr/>
            </p:nvGrpSpPr>
            <p:grpSpPr>
              <a:xfrm>
                <a:off x="5931000" y="2208960"/>
                <a:ext cx="139320" cy="381240"/>
                <a:chOff x="5931000" y="2208960"/>
                <a:chExt cx="139320" cy="381240"/>
              </a:xfrm>
            </p:grpSpPr>
            <p:sp>
              <p:nvSpPr>
                <p:cNvPr id="2258" name=""/>
                <p:cNvSpPr/>
                <p:nvPr/>
              </p:nvSpPr>
              <p:spPr>
                <a:xfrm>
                  <a:off x="5965920" y="220896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5931000" y="228672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0" name=""/>
              <p:cNvGrpSpPr/>
              <p:nvPr/>
            </p:nvGrpSpPr>
            <p:grpSpPr>
              <a:xfrm>
                <a:off x="5861160" y="2360880"/>
                <a:ext cx="139320" cy="381240"/>
                <a:chOff x="5861160" y="2360880"/>
                <a:chExt cx="139320" cy="381240"/>
              </a:xfrm>
            </p:grpSpPr>
            <p:sp>
              <p:nvSpPr>
                <p:cNvPr id="2261" name=""/>
                <p:cNvSpPr/>
                <p:nvPr/>
              </p:nvSpPr>
              <p:spPr>
                <a:xfrm>
                  <a:off x="5896080" y="236088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5861160" y="24386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3" name=""/>
              <p:cNvGrpSpPr/>
              <p:nvPr/>
            </p:nvGrpSpPr>
            <p:grpSpPr>
              <a:xfrm>
                <a:off x="5791320" y="2513160"/>
                <a:ext cx="139320" cy="380880"/>
                <a:chOff x="5791320" y="2513160"/>
                <a:chExt cx="139320" cy="380880"/>
              </a:xfrm>
            </p:grpSpPr>
            <p:sp>
              <p:nvSpPr>
                <p:cNvPr id="2264" name=""/>
                <p:cNvSpPr/>
                <p:nvPr/>
              </p:nvSpPr>
              <p:spPr>
                <a:xfrm>
                  <a:off x="5826240" y="25131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5791320" y="25909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6" name=""/>
              <p:cNvSpPr/>
              <p:nvPr/>
            </p:nvSpPr>
            <p:spPr>
              <a:xfrm>
                <a:off x="5791320" y="25887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5756400" y="26650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68" name=""/>
              <p:cNvGrpSpPr/>
              <p:nvPr/>
            </p:nvGrpSpPr>
            <p:grpSpPr>
              <a:xfrm>
                <a:off x="5686560" y="2741040"/>
                <a:ext cx="139320" cy="380880"/>
                <a:chOff x="5686560" y="2741040"/>
                <a:chExt cx="139320" cy="380880"/>
              </a:xfrm>
            </p:grpSpPr>
            <p:sp>
              <p:nvSpPr>
                <p:cNvPr id="2269" name=""/>
                <p:cNvSpPr/>
                <p:nvPr/>
              </p:nvSpPr>
              <p:spPr>
                <a:xfrm>
                  <a:off x="5721480" y="27410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5686560" y="281880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1" name=""/>
              <p:cNvGrpSpPr/>
              <p:nvPr/>
            </p:nvGrpSpPr>
            <p:grpSpPr>
              <a:xfrm>
                <a:off x="5617080" y="2892960"/>
                <a:ext cx="139320" cy="381240"/>
                <a:chOff x="5617080" y="2892960"/>
                <a:chExt cx="139320" cy="381240"/>
              </a:xfrm>
            </p:grpSpPr>
            <p:sp>
              <p:nvSpPr>
                <p:cNvPr id="2272" name=""/>
                <p:cNvSpPr/>
                <p:nvPr/>
              </p:nvSpPr>
              <p:spPr>
                <a:xfrm>
                  <a:off x="5652000" y="289296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5617080" y="297072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4" name=""/>
              <p:cNvSpPr/>
              <p:nvPr/>
            </p:nvSpPr>
            <p:spPr>
              <a:xfrm>
                <a:off x="5582160" y="3044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5547240" y="31212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6140520" y="2057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6105600" y="213264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6070680" y="2208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6035760" y="228492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6000840" y="2360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5965920" y="243684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2" name=""/>
              <p:cNvGrpSpPr/>
              <p:nvPr/>
            </p:nvGrpSpPr>
            <p:grpSpPr>
              <a:xfrm>
                <a:off x="5896080" y="2513160"/>
                <a:ext cx="139320" cy="380880"/>
                <a:chOff x="5896080" y="2513160"/>
                <a:chExt cx="139320" cy="380880"/>
              </a:xfrm>
            </p:grpSpPr>
            <p:sp>
              <p:nvSpPr>
                <p:cNvPr id="2283" name=""/>
                <p:cNvSpPr/>
                <p:nvPr/>
              </p:nvSpPr>
              <p:spPr>
                <a:xfrm>
                  <a:off x="5931000" y="25131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5896080" y="25909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5" name=""/>
              <p:cNvSpPr/>
              <p:nvPr/>
            </p:nvSpPr>
            <p:spPr>
              <a:xfrm>
                <a:off x="5896080" y="25887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5861160" y="26650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5826240" y="2741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5791320" y="28170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9" name=""/>
              <p:cNvGrpSpPr/>
              <p:nvPr/>
            </p:nvGrpSpPr>
            <p:grpSpPr>
              <a:xfrm>
                <a:off x="5721840" y="2892960"/>
                <a:ext cx="139320" cy="381240"/>
                <a:chOff x="5721840" y="2892960"/>
                <a:chExt cx="139320" cy="381240"/>
              </a:xfrm>
            </p:grpSpPr>
            <p:sp>
              <p:nvSpPr>
                <p:cNvPr id="2290" name=""/>
                <p:cNvSpPr/>
                <p:nvPr/>
              </p:nvSpPr>
              <p:spPr>
                <a:xfrm>
                  <a:off x="5756760" y="289296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5721840" y="297072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2" name=""/>
              <p:cNvSpPr/>
              <p:nvPr/>
            </p:nvSpPr>
            <p:spPr>
              <a:xfrm>
                <a:off x="5686560" y="3044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5651640" y="31212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6245280" y="2057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6210360" y="213264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96" name=""/>
              <p:cNvGrpSpPr/>
              <p:nvPr/>
            </p:nvGrpSpPr>
            <p:grpSpPr>
              <a:xfrm>
                <a:off x="6140520" y="2208960"/>
                <a:ext cx="139320" cy="381240"/>
                <a:chOff x="6140520" y="2208960"/>
                <a:chExt cx="139320" cy="381240"/>
              </a:xfrm>
            </p:grpSpPr>
            <p:sp>
              <p:nvSpPr>
                <p:cNvPr id="2297" name=""/>
                <p:cNvSpPr/>
                <p:nvPr/>
              </p:nvSpPr>
              <p:spPr>
                <a:xfrm>
                  <a:off x="6175440" y="220896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6140520" y="228672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9" name=""/>
              <p:cNvGrpSpPr/>
              <p:nvPr/>
            </p:nvGrpSpPr>
            <p:grpSpPr>
              <a:xfrm>
                <a:off x="6070680" y="2360880"/>
                <a:ext cx="139320" cy="381240"/>
                <a:chOff x="6070680" y="2360880"/>
                <a:chExt cx="139320" cy="381240"/>
              </a:xfrm>
            </p:grpSpPr>
            <p:sp>
              <p:nvSpPr>
                <p:cNvPr id="2300" name=""/>
                <p:cNvSpPr/>
                <p:nvPr/>
              </p:nvSpPr>
              <p:spPr>
                <a:xfrm>
                  <a:off x="6105600" y="236088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6070680" y="24386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2" name=""/>
              <p:cNvGrpSpPr/>
              <p:nvPr/>
            </p:nvGrpSpPr>
            <p:grpSpPr>
              <a:xfrm>
                <a:off x="6000840" y="2513160"/>
                <a:ext cx="139320" cy="380880"/>
                <a:chOff x="6000840" y="2513160"/>
                <a:chExt cx="139320" cy="380880"/>
              </a:xfrm>
            </p:grpSpPr>
            <p:sp>
              <p:nvSpPr>
                <p:cNvPr id="2303" name=""/>
                <p:cNvSpPr/>
                <p:nvPr/>
              </p:nvSpPr>
              <p:spPr>
                <a:xfrm>
                  <a:off x="6035760" y="25131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6000840" y="25909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5" name=""/>
              <p:cNvSpPr/>
              <p:nvPr/>
            </p:nvSpPr>
            <p:spPr>
              <a:xfrm>
                <a:off x="6000840" y="25887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5965920" y="26650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5931000" y="2741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5896080" y="28170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5861160" y="2892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5826240" y="296928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5791320" y="3044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5756400" y="31212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6350040" y="2057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6315120" y="213264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6279840" y="2208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6245280" y="228492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6210360" y="2360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6175440" y="243684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6140520" y="25131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6105600" y="25887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6105600" y="25887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6070680" y="26650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6035760" y="27410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6000840" y="28170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5965920" y="28929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5931000" y="296928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5896080" y="30448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5861160" y="31212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5931000" y="1981080"/>
                <a:ext cx="697680" cy="1591560"/>
              </a:xfrm>
              <a:prstGeom prst="cube">
                <a:avLst>
                  <a:gd name="adj" fmla="val 90361"/>
                </a:avLst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4325760" y="3349080"/>
                <a:ext cx="1675080" cy="234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1" name=""/>
            <p:cNvGrpSpPr/>
            <p:nvPr/>
          </p:nvGrpSpPr>
          <p:grpSpPr>
            <a:xfrm>
              <a:off x="3697560" y="3349800"/>
              <a:ext cx="2302920" cy="1602360"/>
              <a:chOff x="3697560" y="3349800"/>
              <a:chExt cx="2302920" cy="1602360"/>
            </a:xfrm>
          </p:grpSpPr>
          <p:sp>
            <p:nvSpPr>
              <p:cNvPr id="2332" name=""/>
              <p:cNvSpPr/>
              <p:nvPr/>
            </p:nvSpPr>
            <p:spPr>
              <a:xfrm>
                <a:off x="3732480" y="3349800"/>
                <a:ext cx="697680" cy="1591560"/>
              </a:xfrm>
              <a:prstGeom prst="cube">
                <a:avLst>
                  <a:gd name="adj" fmla="val 90361"/>
                </a:avLst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395240" y="3349800"/>
                <a:ext cx="1535760" cy="234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4360680" y="3425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4325760" y="35013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4290480" y="3577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4255920" y="36536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8" name=""/>
              <p:cNvGrpSpPr/>
              <p:nvPr/>
            </p:nvGrpSpPr>
            <p:grpSpPr>
              <a:xfrm>
                <a:off x="4186080" y="3729600"/>
                <a:ext cx="139320" cy="381240"/>
                <a:chOff x="4186080" y="3729600"/>
                <a:chExt cx="139320" cy="381240"/>
              </a:xfrm>
            </p:grpSpPr>
            <p:sp>
              <p:nvSpPr>
                <p:cNvPr id="2339" name=""/>
                <p:cNvSpPr/>
                <p:nvPr/>
              </p:nvSpPr>
              <p:spPr>
                <a:xfrm>
                  <a:off x="4221000" y="372960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4186080" y="38073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1" name=""/>
              <p:cNvSpPr/>
              <p:nvPr/>
            </p:nvSpPr>
            <p:spPr>
              <a:xfrm>
                <a:off x="4151160" y="388188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4116240" y="39574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116240" y="39574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4081320" y="40338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4046400" y="4109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4011480" y="41857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3976560" y="4261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3941640" y="433800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3906720" y="4413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3871800" y="44899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51" name=""/>
              <p:cNvGrpSpPr/>
              <p:nvPr/>
            </p:nvGrpSpPr>
            <p:grpSpPr>
              <a:xfrm>
                <a:off x="4430160" y="3425760"/>
                <a:ext cx="139320" cy="380880"/>
                <a:chOff x="4430160" y="3425760"/>
                <a:chExt cx="139320" cy="380880"/>
              </a:xfrm>
            </p:grpSpPr>
            <p:sp>
              <p:nvSpPr>
                <p:cNvPr id="2352" name=""/>
                <p:cNvSpPr/>
                <p:nvPr/>
              </p:nvSpPr>
              <p:spPr>
                <a:xfrm>
                  <a:off x="4465080" y="34257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4430160" y="35035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4" name=""/>
              <p:cNvGrpSpPr/>
              <p:nvPr/>
            </p:nvGrpSpPr>
            <p:grpSpPr>
              <a:xfrm>
                <a:off x="4360680" y="3577680"/>
                <a:ext cx="139320" cy="381240"/>
                <a:chOff x="4360680" y="3577680"/>
                <a:chExt cx="139320" cy="381240"/>
              </a:xfrm>
            </p:grpSpPr>
            <p:sp>
              <p:nvSpPr>
                <p:cNvPr id="2355" name=""/>
                <p:cNvSpPr/>
                <p:nvPr/>
              </p:nvSpPr>
              <p:spPr>
                <a:xfrm>
                  <a:off x="4395600" y="357768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4360680" y="36554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7" name=""/>
              <p:cNvSpPr/>
              <p:nvPr/>
            </p:nvSpPr>
            <p:spPr>
              <a:xfrm>
                <a:off x="4325760" y="3729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4290480" y="38055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59" name=""/>
              <p:cNvGrpSpPr/>
              <p:nvPr/>
            </p:nvGrpSpPr>
            <p:grpSpPr>
              <a:xfrm>
                <a:off x="4221000" y="3881880"/>
                <a:ext cx="139320" cy="380880"/>
                <a:chOff x="4221000" y="3881880"/>
                <a:chExt cx="139320" cy="380880"/>
              </a:xfrm>
            </p:grpSpPr>
            <p:sp>
              <p:nvSpPr>
                <p:cNvPr id="2360" name=""/>
                <p:cNvSpPr/>
                <p:nvPr/>
              </p:nvSpPr>
              <p:spPr>
                <a:xfrm>
                  <a:off x="4255920" y="388188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4221000" y="395964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2" name=""/>
              <p:cNvSpPr/>
              <p:nvPr/>
            </p:nvSpPr>
            <p:spPr>
              <a:xfrm>
                <a:off x="4221000" y="39574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186080" y="40338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151160" y="4109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116240" y="41857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081320" y="4261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4046400" y="433800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011480" y="4413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3976560" y="44899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569840" y="3425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534920" y="35013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500000" y="3577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465440" y="36536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430160" y="3729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395240" y="38055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76" name=""/>
              <p:cNvGrpSpPr/>
              <p:nvPr/>
            </p:nvGrpSpPr>
            <p:grpSpPr>
              <a:xfrm>
                <a:off x="4325760" y="3881880"/>
                <a:ext cx="139320" cy="380880"/>
                <a:chOff x="4325760" y="3881880"/>
                <a:chExt cx="139320" cy="380880"/>
              </a:xfrm>
            </p:grpSpPr>
            <p:sp>
              <p:nvSpPr>
                <p:cNvPr id="2377" name=""/>
                <p:cNvSpPr/>
                <p:nvPr/>
              </p:nvSpPr>
              <p:spPr>
                <a:xfrm>
                  <a:off x="4360680" y="388188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4325760" y="395964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9" name=""/>
              <p:cNvSpPr/>
              <p:nvPr/>
            </p:nvSpPr>
            <p:spPr>
              <a:xfrm>
                <a:off x="4325760" y="39574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4290480" y="40338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4255920" y="4109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4221000" y="41857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4186080" y="4261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4151160" y="433800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4116240" y="4413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4081320" y="44899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4674600" y="3425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4639680" y="35013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4604760" y="3577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4569840" y="36536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91" name=""/>
              <p:cNvGrpSpPr/>
              <p:nvPr/>
            </p:nvGrpSpPr>
            <p:grpSpPr>
              <a:xfrm>
                <a:off x="4430160" y="3729600"/>
                <a:ext cx="208800" cy="537840"/>
                <a:chOff x="4430160" y="3729600"/>
                <a:chExt cx="208800" cy="537840"/>
              </a:xfrm>
            </p:grpSpPr>
            <p:grpSp>
              <p:nvGrpSpPr>
                <p:cNvPr id="2392" name=""/>
                <p:cNvGrpSpPr/>
                <p:nvPr/>
              </p:nvGrpSpPr>
              <p:grpSpPr>
                <a:xfrm>
                  <a:off x="4499640" y="3729600"/>
                  <a:ext cx="139320" cy="381600"/>
                  <a:chOff x="4499640" y="3729600"/>
                  <a:chExt cx="139320" cy="381600"/>
                </a:xfrm>
              </p:grpSpPr>
              <p:sp>
                <p:nvSpPr>
                  <p:cNvPr id="2393" name=""/>
                  <p:cNvSpPr/>
                  <p:nvPr/>
                </p:nvSpPr>
                <p:spPr>
                  <a:xfrm>
                    <a:off x="4534560" y="3729600"/>
                    <a:ext cx="104400" cy="30384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4" name=""/>
                  <p:cNvSpPr/>
                  <p:nvPr/>
                </p:nvSpPr>
                <p:spPr>
                  <a:xfrm>
                    <a:off x="4499640" y="3807720"/>
                    <a:ext cx="104400" cy="3034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5" name=""/>
                <p:cNvGrpSpPr/>
                <p:nvPr/>
              </p:nvGrpSpPr>
              <p:grpSpPr>
                <a:xfrm>
                  <a:off x="4430160" y="3885480"/>
                  <a:ext cx="139320" cy="381960"/>
                  <a:chOff x="4430160" y="3885480"/>
                  <a:chExt cx="139320" cy="381960"/>
                </a:xfrm>
              </p:grpSpPr>
              <p:sp>
                <p:nvSpPr>
                  <p:cNvPr id="2396" name=""/>
                  <p:cNvSpPr/>
                  <p:nvPr/>
                </p:nvSpPr>
                <p:spPr>
                  <a:xfrm>
                    <a:off x="4465080" y="3885480"/>
                    <a:ext cx="104400" cy="3042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7" name=""/>
                  <p:cNvSpPr/>
                  <p:nvPr/>
                </p:nvSpPr>
                <p:spPr>
                  <a:xfrm>
                    <a:off x="4430160" y="3963600"/>
                    <a:ext cx="104400" cy="30384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98" name=""/>
              <p:cNvSpPr/>
              <p:nvPr/>
            </p:nvSpPr>
            <p:spPr>
              <a:xfrm>
                <a:off x="4430160" y="39574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4395240" y="40338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4360680" y="4109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4325760" y="41857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4290480" y="4261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4255920" y="433800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4221000" y="4413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4186080" y="44899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06" name=""/>
              <p:cNvGrpSpPr/>
              <p:nvPr/>
            </p:nvGrpSpPr>
            <p:grpSpPr>
              <a:xfrm>
                <a:off x="4744440" y="3425760"/>
                <a:ext cx="139320" cy="380880"/>
                <a:chOff x="4744440" y="3425760"/>
                <a:chExt cx="139320" cy="380880"/>
              </a:xfrm>
            </p:grpSpPr>
            <p:sp>
              <p:nvSpPr>
                <p:cNvPr id="2407" name=""/>
                <p:cNvSpPr/>
                <p:nvPr/>
              </p:nvSpPr>
              <p:spPr>
                <a:xfrm>
                  <a:off x="4779360" y="34257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4744440" y="35035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9" name=""/>
              <p:cNvSpPr/>
              <p:nvPr/>
            </p:nvSpPr>
            <p:spPr>
              <a:xfrm>
                <a:off x="4709520" y="3577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4674600" y="36536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4639680" y="3729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4604760" y="38055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3" name=""/>
              <p:cNvGrpSpPr/>
              <p:nvPr/>
            </p:nvGrpSpPr>
            <p:grpSpPr>
              <a:xfrm>
                <a:off x="4534920" y="3881880"/>
                <a:ext cx="139320" cy="380880"/>
                <a:chOff x="4534920" y="3881880"/>
                <a:chExt cx="139320" cy="380880"/>
              </a:xfrm>
            </p:grpSpPr>
            <p:sp>
              <p:nvSpPr>
                <p:cNvPr id="2414" name=""/>
                <p:cNvSpPr/>
                <p:nvPr/>
              </p:nvSpPr>
              <p:spPr>
                <a:xfrm>
                  <a:off x="4569840" y="388188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4534920" y="395964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6" name=""/>
              <p:cNvGrpSpPr/>
              <p:nvPr/>
            </p:nvGrpSpPr>
            <p:grpSpPr>
              <a:xfrm>
                <a:off x="4500000" y="3957480"/>
                <a:ext cx="139320" cy="381240"/>
                <a:chOff x="4500000" y="3957480"/>
                <a:chExt cx="139320" cy="381240"/>
              </a:xfrm>
            </p:grpSpPr>
            <p:sp>
              <p:nvSpPr>
                <p:cNvPr id="2417" name=""/>
                <p:cNvSpPr/>
                <p:nvPr/>
              </p:nvSpPr>
              <p:spPr>
                <a:xfrm>
                  <a:off x="4534920" y="395748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4500000" y="40352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9" name=""/>
              <p:cNvGrpSpPr/>
              <p:nvPr/>
            </p:nvGrpSpPr>
            <p:grpSpPr>
              <a:xfrm>
                <a:off x="4430160" y="4109760"/>
                <a:ext cx="139320" cy="380880"/>
                <a:chOff x="4430160" y="4109760"/>
                <a:chExt cx="139320" cy="380880"/>
              </a:xfrm>
            </p:grpSpPr>
            <p:sp>
              <p:nvSpPr>
                <p:cNvPr id="2420" name=""/>
                <p:cNvSpPr/>
                <p:nvPr/>
              </p:nvSpPr>
              <p:spPr>
                <a:xfrm>
                  <a:off x="4465080" y="41097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4430160" y="41875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2" name=""/>
              <p:cNvSpPr/>
              <p:nvPr/>
            </p:nvSpPr>
            <p:spPr>
              <a:xfrm>
                <a:off x="4395240" y="4261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4360680" y="433800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4325760" y="4413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4290480" y="44899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6" name=""/>
              <p:cNvGrpSpPr/>
              <p:nvPr/>
            </p:nvGrpSpPr>
            <p:grpSpPr>
              <a:xfrm>
                <a:off x="4849200" y="3425760"/>
                <a:ext cx="139320" cy="380880"/>
                <a:chOff x="4849200" y="3425760"/>
                <a:chExt cx="139320" cy="380880"/>
              </a:xfrm>
            </p:grpSpPr>
            <p:sp>
              <p:nvSpPr>
                <p:cNvPr id="2427" name=""/>
                <p:cNvSpPr/>
                <p:nvPr/>
              </p:nvSpPr>
              <p:spPr>
                <a:xfrm>
                  <a:off x="4884120" y="34257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4849200" y="35035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9" name=""/>
              <p:cNvSpPr/>
              <p:nvPr/>
            </p:nvSpPr>
            <p:spPr>
              <a:xfrm>
                <a:off x="4814280" y="3577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4779360" y="36536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4744440" y="3729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4709520" y="38055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4674600" y="388188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4639680" y="39574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35" name=""/>
              <p:cNvGrpSpPr/>
              <p:nvPr/>
            </p:nvGrpSpPr>
            <p:grpSpPr>
              <a:xfrm>
                <a:off x="4534920" y="3957480"/>
                <a:ext cx="208800" cy="537840"/>
                <a:chOff x="4534920" y="3957480"/>
                <a:chExt cx="208800" cy="537840"/>
              </a:xfrm>
            </p:grpSpPr>
            <p:grpSp>
              <p:nvGrpSpPr>
                <p:cNvPr id="2436" name=""/>
                <p:cNvGrpSpPr/>
                <p:nvPr/>
              </p:nvGrpSpPr>
              <p:grpSpPr>
                <a:xfrm>
                  <a:off x="4604400" y="3957480"/>
                  <a:ext cx="139320" cy="381600"/>
                  <a:chOff x="4604400" y="3957480"/>
                  <a:chExt cx="139320" cy="381600"/>
                </a:xfrm>
              </p:grpSpPr>
              <p:sp>
                <p:nvSpPr>
                  <p:cNvPr id="2437" name=""/>
                  <p:cNvSpPr/>
                  <p:nvPr/>
                </p:nvSpPr>
                <p:spPr>
                  <a:xfrm>
                    <a:off x="4639320" y="3957480"/>
                    <a:ext cx="104400" cy="30384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8" name=""/>
                  <p:cNvSpPr/>
                  <p:nvPr/>
                </p:nvSpPr>
                <p:spPr>
                  <a:xfrm>
                    <a:off x="4604400" y="4035600"/>
                    <a:ext cx="104400" cy="3034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9" name=""/>
                <p:cNvGrpSpPr/>
                <p:nvPr/>
              </p:nvGrpSpPr>
              <p:grpSpPr>
                <a:xfrm>
                  <a:off x="4534920" y="4113360"/>
                  <a:ext cx="139320" cy="381960"/>
                  <a:chOff x="4534920" y="4113360"/>
                  <a:chExt cx="139320" cy="381960"/>
                </a:xfrm>
              </p:grpSpPr>
              <p:sp>
                <p:nvSpPr>
                  <p:cNvPr id="2440" name=""/>
                  <p:cNvSpPr/>
                  <p:nvPr/>
                </p:nvSpPr>
                <p:spPr>
                  <a:xfrm>
                    <a:off x="4569840" y="4113360"/>
                    <a:ext cx="104400" cy="3042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1" name=""/>
                  <p:cNvSpPr/>
                  <p:nvPr/>
                </p:nvSpPr>
                <p:spPr>
                  <a:xfrm>
                    <a:off x="4534920" y="4191480"/>
                    <a:ext cx="104400" cy="30384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42" name=""/>
              <p:cNvSpPr/>
              <p:nvPr/>
            </p:nvSpPr>
            <p:spPr>
              <a:xfrm>
                <a:off x="4500000" y="4261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4465440" y="433800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4430160" y="4413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4395240" y="44899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6" name=""/>
              <p:cNvGrpSpPr/>
              <p:nvPr/>
            </p:nvGrpSpPr>
            <p:grpSpPr>
              <a:xfrm>
                <a:off x="4953960" y="3425760"/>
                <a:ext cx="139320" cy="380880"/>
                <a:chOff x="4953960" y="3425760"/>
                <a:chExt cx="139320" cy="380880"/>
              </a:xfrm>
            </p:grpSpPr>
            <p:sp>
              <p:nvSpPr>
                <p:cNvPr id="2447" name=""/>
                <p:cNvSpPr/>
                <p:nvPr/>
              </p:nvSpPr>
              <p:spPr>
                <a:xfrm>
                  <a:off x="4988880" y="34257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4953960" y="35035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9" name=""/>
              <p:cNvSpPr/>
              <p:nvPr/>
            </p:nvSpPr>
            <p:spPr>
              <a:xfrm>
                <a:off x="4919040" y="3577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4884120" y="36536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51" name=""/>
              <p:cNvGrpSpPr/>
              <p:nvPr/>
            </p:nvGrpSpPr>
            <p:grpSpPr>
              <a:xfrm>
                <a:off x="4744440" y="3729600"/>
                <a:ext cx="208800" cy="537840"/>
                <a:chOff x="4744440" y="3729600"/>
                <a:chExt cx="208800" cy="537840"/>
              </a:xfrm>
            </p:grpSpPr>
            <p:grpSp>
              <p:nvGrpSpPr>
                <p:cNvPr id="2452" name=""/>
                <p:cNvGrpSpPr/>
                <p:nvPr/>
              </p:nvGrpSpPr>
              <p:grpSpPr>
                <a:xfrm>
                  <a:off x="4813920" y="3729600"/>
                  <a:ext cx="139320" cy="381600"/>
                  <a:chOff x="4813920" y="3729600"/>
                  <a:chExt cx="139320" cy="381600"/>
                </a:xfrm>
              </p:grpSpPr>
              <p:sp>
                <p:nvSpPr>
                  <p:cNvPr id="2453" name=""/>
                  <p:cNvSpPr/>
                  <p:nvPr/>
                </p:nvSpPr>
                <p:spPr>
                  <a:xfrm>
                    <a:off x="4848840" y="3729600"/>
                    <a:ext cx="104400" cy="30384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4" name=""/>
                  <p:cNvSpPr/>
                  <p:nvPr/>
                </p:nvSpPr>
                <p:spPr>
                  <a:xfrm>
                    <a:off x="4813920" y="3807720"/>
                    <a:ext cx="104400" cy="3034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5" name=""/>
                <p:cNvGrpSpPr/>
                <p:nvPr/>
              </p:nvGrpSpPr>
              <p:grpSpPr>
                <a:xfrm>
                  <a:off x="4744440" y="3885480"/>
                  <a:ext cx="139320" cy="381960"/>
                  <a:chOff x="4744440" y="3885480"/>
                  <a:chExt cx="139320" cy="381960"/>
                </a:xfrm>
              </p:grpSpPr>
              <p:sp>
                <p:nvSpPr>
                  <p:cNvPr id="2456" name=""/>
                  <p:cNvSpPr/>
                  <p:nvPr/>
                </p:nvSpPr>
                <p:spPr>
                  <a:xfrm>
                    <a:off x="4779360" y="3885480"/>
                    <a:ext cx="104400" cy="3042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7" name=""/>
                  <p:cNvSpPr/>
                  <p:nvPr/>
                </p:nvSpPr>
                <p:spPr>
                  <a:xfrm>
                    <a:off x="4744440" y="3963600"/>
                    <a:ext cx="104400" cy="30384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e68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58" name=""/>
              <p:cNvSpPr/>
              <p:nvPr/>
            </p:nvSpPr>
            <p:spPr>
              <a:xfrm>
                <a:off x="4744440" y="39574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4709520" y="40338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4674600" y="4109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4639680" y="41857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4604760" y="4261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4569840" y="433800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4534920" y="4413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4500000" y="44899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5093640" y="3425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5058360" y="35013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5023440" y="3577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4988880" y="36536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4953960" y="3729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4919040" y="38055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2" name=""/>
              <p:cNvGrpSpPr/>
              <p:nvPr/>
            </p:nvGrpSpPr>
            <p:grpSpPr>
              <a:xfrm>
                <a:off x="4849200" y="3881880"/>
                <a:ext cx="139320" cy="380880"/>
                <a:chOff x="4849200" y="3881880"/>
                <a:chExt cx="139320" cy="380880"/>
              </a:xfrm>
            </p:grpSpPr>
            <p:sp>
              <p:nvSpPr>
                <p:cNvPr id="2473" name=""/>
                <p:cNvSpPr/>
                <p:nvPr/>
              </p:nvSpPr>
              <p:spPr>
                <a:xfrm>
                  <a:off x="4884120" y="388188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4849200" y="395964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5" name=""/>
              <p:cNvSpPr/>
              <p:nvPr/>
            </p:nvSpPr>
            <p:spPr>
              <a:xfrm>
                <a:off x="4849200" y="39574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4814280" y="40338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4779360" y="4109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4744440" y="41857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4709520" y="4261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4674600" y="433800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4639680" y="4413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4604760" y="44899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198040" y="3425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163120" y="35013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128200" y="3577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093640" y="36536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87" name=""/>
              <p:cNvGrpSpPr/>
              <p:nvPr/>
            </p:nvGrpSpPr>
            <p:grpSpPr>
              <a:xfrm>
                <a:off x="5023440" y="3729600"/>
                <a:ext cx="139320" cy="381240"/>
                <a:chOff x="5023440" y="3729600"/>
                <a:chExt cx="139320" cy="381240"/>
              </a:xfrm>
            </p:grpSpPr>
            <p:sp>
              <p:nvSpPr>
                <p:cNvPr id="2488" name=""/>
                <p:cNvSpPr/>
                <p:nvPr/>
              </p:nvSpPr>
              <p:spPr>
                <a:xfrm>
                  <a:off x="5058360" y="372960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5023440" y="38073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0" name=""/>
              <p:cNvGrpSpPr/>
              <p:nvPr/>
            </p:nvGrpSpPr>
            <p:grpSpPr>
              <a:xfrm>
                <a:off x="4953960" y="3881880"/>
                <a:ext cx="139320" cy="380880"/>
                <a:chOff x="4953960" y="3881880"/>
                <a:chExt cx="139320" cy="380880"/>
              </a:xfrm>
            </p:grpSpPr>
            <p:sp>
              <p:nvSpPr>
                <p:cNvPr id="2491" name=""/>
                <p:cNvSpPr/>
                <p:nvPr/>
              </p:nvSpPr>
              <p:spPr>
                <a:xfrm>
                  <a:off x="4988880" y="388188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4953960" y="395964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3" name=""/>
              <p:cNvSpPr/>
              <p:nvPr/>
            </p:nvSpPr>
            <p:spPr>
              <a:xfrm>
                <a:off x="4953960" y="39574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4919040" y="40338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4884120" y="4109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4849200" y="41857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4814280" y="4261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4779360" y="433800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4744440" y="4413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4709520" y="44899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5302800" y="3425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5267880" y="35013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5232960" y="3577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5198040" y="36536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5" name=""/>
              <p:cNvGrpSpPr/>
              <p:nvPr/>
            </p:nvGrpSpPr>
            <p:grpSpPr>
              <a:xfrm>
                <a:off x="5128200" y="3729600"/>
                <a:ext cx="139320" cy="381240"/>
                <a:chOff x="5128200" y="3729600"/>
                <a:chExt cx="139320" cy="381240"/>
              </a:xfrm>
            </p:grpSpPr>
            <p:sp>
              <p:nvSpPr>
                <p:cNvPr id="2506" name=""/>
                <p:cNvSpPr/>
                <p:nvPr/>
              </p:nvSpPr>
              <p:spPr>
                <a:xfrm>
                  <a:off x="5163120" y="372960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5128200" y="38073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8" name=""/>
              <p:cNvGrpSpPr/>
              <p:nvPr/>
            </p:nvGrpSpPr>
            <p:grpSpPr>
              <a:xfrm>
                <a:off x="5058360" y="3881880"/>
                <a:ext cx="139320" cy="380880"/>
                <a:chOff x="5058360" y="3881880"/>
                <a:chExt cx="139320" cy="380880"/>
              </a:xfrm>
            </p:grpSpPr>
            <p:sp>
              <p:nvSpPr>
                <p:cNvPr id="2509" name=""/>
                <p:cNvSpPr/>
                <p:nvPr/>
              </p:nvSpPr>
              <p:spPr>
                <a:xfrm>
                  <a:off x="5093280" y="388188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5058360" y="395964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1" name=""/>
              <p:cNvGrpSpPr/>
              <p:nvPr/>
            </p:nvGrpSpPr>
            <p:grpSpPr>
              <a:xfrm>
                <a:off x="5023440" y="3957480"/>
                <a:ext cx="139320" cy="381240"/>
                <a:chOff x="5023440" y="3957480"/>
                <a:chExt cx="139320" cy="381240"/>
              </a:xfrm>
            </p:grpSpPr>
            <p:sp>
              <p:nvSpPr>
                <p:cNvPr id="2512" name=""/>
                <p:cNvSpPr/>
                <p:nvPr/>
              </p:nvSpPr>
              <p:spPr>
                <a:xfrm>
                  <a:off x="5058360" y="395748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5023440" y="40352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4" name=""/>
              <p:cNvGrpSpPr/>
              <p:nvPr/>
            </p:nvGrpSpPr>
            <p:grpSpPr>
              <a:xfrm>
                <a:off x="4953960" y="4109760"/>
                <a:ext cx="139320" cy="380880"/>
                <a:chOff x="4953960" y="4109760"/>
                <a:chExt cx="139320" cy="380880"/>
              </a:xfrm>
            </p:grpSpPr>
            <p:sp>
              <p:nvSpPr>
                <p:cNvPr id="2515" name=""/>
                <p:cNvSpPr/>
                <p:nvPr/>
              </p:nvSpPr>
              <p:spPr>
                <a:xfrm>
                  <a:off x="4988880" y="41097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4953960" y="41875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7" name=""/>
              <p:cNvGrpSpPr/>
              <p:nvPr/>
            </p:nvGrpSpPr>
            <p:grpSpPr>
              <a:xfrm>
                <a:off x="4884120" y="4261680"/>
                <a:ext cx="139320" cy="381240"/>
                <a:chOff x="4884120" y="4261680"/>
                <a:chExt cx="139320" cy="381240"/>
              </a:xfrm>
            </p:grpSpPr>
            <p:sp>
              <p:nvSpPr>
                <p:cNvPr id="2518" name=""/>
                <p:cNvSpPr/>
                <p:nvPr/>
              </p:nvSpPr>
              <p:spPr>
                <a:xfrm>
                  <a:off x="4919040" y="426168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4884120" y="43394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0" name=""/>
              <p:cNvSpPr/>
              <p:nvPr/>
            </p:nvSpPr>
            <p:spPr>
              <a:xfrm>
                <a:off x="4849200" y="4413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4814280" y="44899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2" name=""/>
              <p:cNvGrpSpPr/>
              <p:nvPr/>
            </p:nvGrpSpPr>
            <p:grpSpPr>
              <a:xfrm>
                <a:off x="5372640" y="3425760"/>
                <a:ext cx="139320" cy="380880"/>
                <a:chOff x="5372640" y="3425760"/>
                <a:chExt cx="139320" cy="380880"/>
              </a:xfrm>
            </p:grpSpPr>
            <p:sp>
              <p:nvSpPr>
                <p:cNvPr id="2523" name=""/>
                <p:cNvSpPr/>
                <p:nvPr/>
              </p:nvSpPr>
              <p:spPr>
                <a:xfrm>
                  <a:off x="5407560" y="34257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5372640" y="35035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5" name=""/>
              <p:cNvGrpSpPr/>
              <p:nvPr/>
            </p:nvGrpSpPr>
            <p:grpSpPr>
              <a:xfrm>
                <a:off x="5302800" y="3577680"/>
                <a:ext cx="139320" cy="381240"/>
                <a:chOff x="5302800" y="3577680"/>
                <a:chExt cx="139320" cy="381240"/>
              </a:xfrm>
            </p:grpSpPr>
            <p:sp>
              <p:nvSpPr>
                <p:cNvPr id="2526" name=""/>
                <p:cNvSpPr/>
                <p:nvPr/>
              </p:nvSpPr>
              <p:spPr>
                <a:xfrm>
                  <a:off x="5337720" y="357768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5302800" y="36554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8" name=""/>
              <p:cNvGrpSpPr/>
              <p:nvPr/>
            </p:nvGrpSpPr>
            <p:grpSpPr>
              <a:xfrm>
                <a:off x="5232960" y="3729600"/>
                <a:ext cx="139320" cy="381240"/>
                <a:chOff x="5232960" y="3729600"/>
                <a:chExt cx="139320" cy="381240"/>
              </a:xfrm>
            </p:grpSpPr>
            <p:sp>
              <p:nvSpPr>
                <p:cNvPr id="2529" name=""/>
                <p:cNvSpPr/>
                <p:nvPr/>
              </p:nvSpPr>
              <p:spPr>
                <a:xfrm>
                  <a:off x="5267880" y="372960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5232960" y="38073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1" name=""/>
              <p:cNvGrpSpPr/>
              <p:nvPr/>
            </p:nvGrpSpPr>
            <p:grpSpPr>
              <a:xfrm>
                <a:off x="5163120" y="3881880"/>
                <a:ext cx="139320" cy="380880"/>
                <a:chOff x="5163120" y="3881880"/>
                <a:chExt cx="139320" cy="380880"/>
              </a:xfrm>
            </p:grpSpPr>
            <p:sp>
              <p:nvSpPr>
                <p:cNvPr id="2532" name=""/>
                <p:cNvSpPr/>
                <p:nvPr/>
              </p:nvSpPr>
              <p:spPr>
                <a:xfrm>
                  <a:off x="5198040" y="388188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5163120" y="395964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34" name=""/>
              <p:cNvSpPr/>
              <p:nvPr/>
            </p:nvSpPr>
            <p:spPr>
              <a:xfrm>
                <a:off x="5163120" y="39574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28200" y="40338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36" name=""/>
              <p:cNvGrpSpPr/>
              <p:nvPr/>
            </p:nvGrpSpPr>
            <p:grpSpPr>
              <a:xfrm>
                <a:off x="5058360" y="4109760"/>
                <a:ext cx="139320" cy="380880"/>
                <a:chOff x="5058360" y="4109760"/>
                <a:chExt cx="139320" cy="380880"/>
              </a:xfrm>
            </p:grpSpPr>
            <p:sp>
              <p:nvSpPr>
                <p:cNvPr id="2537" name=""/>
                <p:cNvSpPr/>
                <p:nvPr/>
              </p:nvSpPr>
              <p:spPr>
                <a:xfrm>
                  <a:off x="5093280" y="41097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5058360" y="418752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9" name=""/>
              <p:cNvGrpSpPr/>
              <p:nvPr/>
            </p:nvGrpSpPr>
            <p:grpSpPr>
              <a:xfrm>
                <a:off x="4988880" y="4261680"/>
                <a:ext cx="139320" cy="381240"/>
                <a:chOff x="4988880" y="4261680"/>
                <a:chExt cx="139320" cy="381240"/>
              </a:xfrm>
            </p:grpSpPr>
            <p:sp>
              <p:nvSpPr>
                <p:cNvPr id="2540" name=""/>
                <p:cNvSpPr/>
                <p:nvPr/>
              </p:nvSpPr>
              <p:spPr>
                <a:xfrm>
                  <a:off x="5023800" y="426168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4988880" y="43394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2" name=""/>
              <p:cNvSpPr/>
              <p:nvPr/>
            </p:nvSpPr>
            <p:spPr>
              <a:xfrm>
                <a:off x="4953960" y="4413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4919040" y="44899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5512320" y="3425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477400" y="35013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5442480" y="3577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407560" y="36536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5372640" y="3729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5337720" y="38055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0" name=""/>
              <p:cNvGrpSpPr/>
              <p:nvPr/>
            </p:nvGrpSpPr>
            <p:grpSpPr>
              <a:xfrm>
                <a:off x="5267880" y="3881880"/>
                <a:ext cx="139320" cy="380880"/>
                <a:chOff x="5267880" y="3881880"/>
                <a:chExt cx="139320" cy="380880"/>
              </a:xfrm>
            </p:grpSpPr>
            <p:sp>
              <p:nvSpPr>
                <p:cNvPr id="2551" name=""/>
                <p:cNvSpPr/>
                <p:nvPr/>
              </p:nvSpPr>
              <p:spPr>
                <a:xfrm>
                  <a:off x="5302800" y="388188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5267880" y="395964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3" name=""/>
              <p:cNvSpPr/>
              <p:nvPr/>
            </p:nvSpPr>
            <p:spPr>
              <a:xfrm>
                <a:off x="5267880" y="39574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5232960" y="40338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198040" y="4109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5163120" y="41857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7" name=""/>
              <p:cNvGrpSpPr/>
              <p:nvPr/>
            </p:nvGrpSpPr>
            <p:grpSpPr>
              <a:xfrm>
                <a:off x="5093640" y="4261680"/>
                <a:ext cx="139320" cy="381240"/>
                <a:chOff x="5093640" y="4261680"/>
                <a:chExt cx="139320" cy="381240"/>
              </a:xfrm>
            </p:grpSpPr>
            <p:sp>
              <p:nvSpPr>
                <p:cNvPr id="2558" name=""/>
                <p:cNvSpPr/>
                <p:nvPr/>
              </p:nvSpPr>
              <p:spPr>
                <a:xfrm>
                  <a:off x="5128560" y="426168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5093640" y="43394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0" name=""/>
              <p:cNvSpPr/>
              <p:nvPr/>
            </p:nvSpPr>
            <p:spPr>
              <a:xfrm>
                <a:off x="5058360" y="4413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5023440" y="44899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617080" y="3425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5582160" y="35013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64" name=""/>
              <p:cNvGrpSpPr/>
              <p:nvPr/>
            </p:nvGrpSpPr>
            <p:grpSpPr>
              <a:xfrm>
                <a:off x="5512320" y="3577680"/>
                <a:ext cx="139320" cy="381240"/>
                <a:chOff x="5512320" y="3577680"/>
                <a:chExt cx="139320" cy="381240"/>
              </a:xfrm>
            </p:grpSpPr>
            <p:sp>
              <p:nvSpPr>
                <p:cNvPr id="2565" name=""/>
                <p:cNvSpPr/>
                <p:nvPr/>
              </p:nvSpPr>
              <p:spPr>
                <a:xfrm>
                  <a:off x="5547240" y="357768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5512320" y="365544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7" name=""/>
              <p:cNvGrpSpPr/>
              <p:nvPr/>
            </p:nvGrpSpPr>
            <p:grpSpPr>
              <a:xfrm>
                <a:off x="5442480" y="3729600"/>
                <a:ext cx="139320" cy="381240"/>
                <a:chOff x="5442480" y="3729600"/>
                <a:chExt cx="139320" cy="381240"/>
              </a:xfrm>
            </p:grpSpPr>
            <p:sp>
              <p:nvSpPr>
                <p:cNvPr id="2568" name=""/>
                <p:cNvSpPr/>
                <p:nvPr/>
              </p:nvSpPr>
              <p:spPr>
                <a:xfrm>
                  <a:off x="5477400" y="3729600"/>
                  <a:ext cx="104400" cy="30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>
                  <a:off x="5442480" y="380736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0" name=""/>
              <p:cNvGrpSpPr/>
              <p:nvPr/>
            </p:nvGrpSpPr>
            <p:grpSpPr>
              <a:xfrm>
                <a:off x="5372640" y="3881880"/>
                <a:ext cx="139320" cy="380880"/>
                <a:chOff x="5372640" y="3881880"/>
                <a:chExt cx="139320" cy="380880"/>
              </a:xfrm>
            </p:grpSpPr>
            <p:sp>
              <p:nvSpPr>
                <p:cNvPr id="2571" name=""/>
                <p:cNvSpPr/>
                <p:nvPr/>
              </p:nvSpPr>
              <p:spPr>
                <a:xfrm>
                  <a:off x="5407560" y="3881880"/>
                  <a:ext cx="104400" cy="303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5372640" y="3959640"/>
                  <a:ext cx="104400" cy="303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ae68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73" name=""/>
              <p:cNvSpPr/>
              <p:nvPr/>
            </p:nvSpPr>
            <p:spPr>
              <a:xfrm>
                <a:off x="5372640" y="39574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5337720" y="40338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302800" y="4109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5267880" y="41857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232960" y="4261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5198040" y="433800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5163120" y="4413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128200" y="44899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5721840" y="3425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686920" y="35013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5651640" y="3577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5617080" y="365364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582160" y="3729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5547240" y="380556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5512320" y="388188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5477400" y="39574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5477400" y="39574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5442480" y="40338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5407560" y="410976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5372640" y="41857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5337720" y="426168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5302800" y="4338000"/>
                <a:ext cx="104400" cy="30348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5267880" y="441360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5232960" y="4489920"/>
                <a:ext cx="104400" cy="3038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5302800" y="3349800"/>
                <a:ext cx="697680" cy="1591560"/>
              </a:xfrm>
              <a:prstGeom prst="cube">
                <a:avLst>
                  <a:gd name="adj" fmla="val 90361"/>
                </a:avLst>
              </a:pr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3697560" y="4717800"/>
                <a:ext cx="1675080" cy="234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99" name=""/>
          <p:cNvSpPr/>
          <p:nvPr/>
        </p:nvSpPr>
        <p:spPr>
          <a:xfrm>
            <a:off x="3522960" y="22096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5199480" y="2438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2822040" y="3657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4513680" y="36576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 txBox="1"/>
          <p:nvPr/>
        </p:nvSpPr>
        <p:spPr>
          <a:xfrm>
            <a:off x="1523880" y="2895480"/>
            <a:ext cx="762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方正新舒体简体"/>
              </a:rPr>
              <a:t>木</a:t>
            </a:r>
            <a:endParaRPr b="1" lang="en-US" sz="60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方正新舒体简体"/>
              <a:ea typeface="方正新舒体简体"/>
            </a:endParaRPr>
          </a:p>
        </p:txBody>
      </p:sp>
      <p:sp>
        <p:nvSpPr>
          <p:cNvPr id="2604" name=""/>
          <p:cNvSpPr txBox="1"/>
          <p:nvPr/>
        </p:nvSpPr>
        <p:spPr>
          <a:xfrm>
            <a:off x="3429000" y="3124080"/>
            <a:ext cx="762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方正新舒体简体"/>
              </a:rPr>
              <a:t>格</a:t>
            </a:r>
            <a:endParaRPr b="1" lang="en-US" sz="6000" spc="1" strike="noStrike">
              <a:ln w="0">
                <a:noFill/>
              </a:ln>
              <a:blipFill rotWithShape="0">
                <a:blip r:embed="rId2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方正新舒体简体"/>
              <a:ea typeface="方正新舒体简体"/>
            </a:endParaRPr>
          </a:p>
        </p:txBody>
      </p:sp>
      <p:sp>
        <p:nvSpPr>
          <p:cNvPr id="2605" name=""/>
          <p:cNvSpPr txBox="1"/>
          <p:nvPr/>
        </p:nvSpPr>
        <p:spPr>
          <a:xfrm>
            <a:off x="5029200" y="2971800"/>
            <a:ext cx="762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方正新舒体简体"/>
              </a:rPr>
              <a:t>贮</a:t>
            </a:r>
            <a:endParaRPr b="1" lang="en-US" sz="60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方正新舒体简体"/>
              <a:ea typeface="方正新舒体简体"/>
            </a:endParaRPr>
          </a:p>
        </p:txBody>
      </p:sp>
      <p:sp>
        <p:nvSpPr>
          <p:cNvPr id="2606" name=""/>
          <p:cNvSpPr txBox="1"/>
          <p:nvPr/>
        </p:nvSpPr>
        <p:spPr>
          <a:xfrm>
            <a:off x="6629400" y="2971800"/>
            <a:ext cx="762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2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方正新舒体简体"/>
              </a:rPr>
              <a:t>之</a:t>
            </a:r>
            <a:endParaRPr b="1" lang="en-US" sz="6000" spc="1" strike="noStrike">
              <a:ln w="0">
                <a:noFill/>
              </a:ln>
              <a:blipFill rotWithShape="0">
                <a:blip r:embed="rId2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方正新舒体简体"/>
              <a:ea typeface="方正新舒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nt"/>
          <p:cNvSpPr/>
          <p:nvPr/>
        </p:nvSpPr>
        <p:spPr>
          <a:xfrm rot="5689800">
            <a:off x="3703320" y="3611160"/>
            <a:ext cx="1365120" cy="1457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4114800" y="2362320"/>
            <a:ext cx="457200" cy="121896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5867280" y="50292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每字为一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7162920" y="5029200"/>
            <a:ext cx="1981080" cy="4572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1143000" y="5638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火烧令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2362320" y="12952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用胶泥刻字，薄如钱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 flipH="1" flipV="1">
            <a:off x="5105160" y="34290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 flipV="1">
            <a:off x="2590920" y="4572000"/>
            <a:ext cx="9144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228600" y="457200"/>
            <a:ext cx="37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隶书"/>
              </a:rPr>
              <a:t>活字印模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6" name=""/>
          <p:cNvGrpSpPr/>
          <p:nvPr/>
        </p:nvGrpSpPr>
        <p:grpSpPr>
          <a:xfrm>
            <a:off x="990720" y="3200400"/>
            <a:ext cx="5638320" cy="1447920"/>
            <a:chOff x="990720" y="3200400"/>
            <a:chExt cx="5638320" cy="1447920"/>
          </a:xfrm>
        </p:grpSpPr>
        <p:sp>
          <p:nvSpPr>
            <p:cNvPr id="2617" name="plant"/>
            <p:cNvSpPr/>
            <p:nvPr/>
          </p:nvSpPr>
          <p:spPr>
            <a:xfrm>
              <a:off x="2893680" y="3200400"/>
              <a:ext cx="3735360" cy="14479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8" name=""/>
            <p:cNvGrpSpPr/>
            <p:nvPr/>
          </p:nvGrpSpPr>
          <p:grpSpPr>
            <a:xfrm>
              <a:off x="990720" y="3200400"/>
              <a:ext cx="5638320" cy="1447920"/>
              <a:chOff x="990720" y="3200400"/>
              <a:chExt cx="5638320" cy="1447920"/>
            </a:xfrm>
          </p:grpSpPr>
          <p:sp>
            <p:nvSpPr>
              <p:cNvPr id="2619" name="plant"/>
              <p:cNvSpPr/>
              <p:nvPr/>
            </p:nvSpPr>
            <p:spPr>
              <a:xfrm>
                <a:off x="990720" y="3200400"/>
                <a:ext cx="3735360" cy="14479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plant"/>
              <p:cNvSpPr/>
              <p:nvPr/>
            </p:nvSpPr>
            <p:spPr>
              <a:xfrm>
                <a:off x="2893680" y="3200400"/>
                <a:ext cx="3735360" cy="14479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1" name=""/>
          <p:cNvSpPr/>
          <p:nvPr/>
        </p:nvSpPr>
        <p:spPr>
          <a:xfrm>
            <a:off x="762120" y="2438280"/>
            <a:ext cx="7086600" cy="1219320"/>
          </a:xfrm>
          <a:prstGeom prst="parallelogram">
            <a:avLst>
              <a:gd name="adj" fmla="val 134266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1219320" y="2362320"/>
            <a:ext cx="6553080" cy="987480"/>
          </a:xfrm>
          <a:prstGeom prst="parallelogram">
            <a:avLst>
              <a:gd name="adj" fmla="val 124428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3" name=""/>
          <p:cNvGrpSpPr/>
          <p:nvPr/>
        </p:nvGrpSpPr>
        <p:grpSpPr>
          <a:xfrm>
            <a:off x="1066680" y="2207880"/>
            <a:ext cx="6633000" cy="1338480"/>
            <a:chOff x="1066680" y="2207880"/>
            <a:chExt cx="6633000" cy="1338480"/>
          </a:xfrm>
        </p:grpSpPr>
        <p:grpSp>
          <p:nvGrpSpPr>
            <p:cNvPr id="2624" name=""/>
            <p:cNvGrpSpPr/>
            <p:nvPr/>
          </p:nvGrpSpPr>
          <p:grpSpPr>
            <a:xfrm>
              <a:off x="1066680" y="2209320"/>
              <a:ext cx="6467760" cy="1336680"/>
              <a:chOff x="1066680" y="2209320"/>
              <a:chExt cx="6467760" cy="1336680"/>
            </a:xfrm>
          </p:grpSpPr>
          <p:sp>
            <p:nvSpPr>
              <p:cNvPr id="2625" name=""/>
              <p:cNvSpPr/>
              <p:nvPr/>
            </p:nvSpPr>
            <p:spPr>
              <a:xfrm flipV="1">
                <a:off x="1066680" y="3231360"/>
                <a:ext cx="0" cy="31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V="1">
                <a:off x="5990760" y="3231360"/>
                <a:ext cx="0" cy="31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V="1">
                <a:off x="2610000" y="2209320"/>
                <a:ext cx="0" cy="31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flipV="1">
                <a:off x="7534440" y="2209320"/>
                <a:ext cx="0" cy="31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V="1">
                <a:off x="1066680" y="2209680"/>
                <a:ext cx="1543320" cy="10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30" name=""/>
              <p:cNvGrpSpPr/>
              <p:nvPr/>
            </p:nvGrpSpPr>
            <p:grpSpPr>
              <a:xfrm>
                <a:off x="1066680" y="2209680"/>
                <a:ext cx="6467400" cy="1335960"/>
                <a:chOff x="1066680" y="2209680"/>
                <a:chExt cx="6467400" cy="1335960"/>
              </a:xfrm>
            </p:grpSpPr>
            <p:sp>
              <p:nvSpPr>
                <p:cNvPr id="2631" name=""/>
                <p:cNvSpPr/>
                <p:nvPr/>
              </p:nvSpPr>
              <p:spPr>
                <a:xfrm>
                  <a:off x="1066680" y="3231360"/>
                  <a:ext cx="49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>
                  <a:off x="2610000" y="2209680"/>
                  <a:ext cx="49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 flipV="1">
                  <a:off x="5990760" y="2209680"/>
                  <a:ext cx="1543320" cy="102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 flipV="1">
                  <a:off x="1507320" y="2523240"/>
                  <a:ext cx="1102320" cy="70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>
                  <a:off x="2610000" y="2523600"/>
                  <a:ext cx="4409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 flipV="1">
                  <a:off x="5990760" y="2523240"/>
                  <a:ext cx="1543320" cy="102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>
                  <a:off x="1066680" y="3545640"/>
                  <a:ext cx="499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38" name=""/>
            <p:cNvSpPr/>
            <p:nvPr/>
          </p:nvSpPr>
          <p:spPr>
            <a:xfrm>
              <a:off x="1066680" y="3232080"/>
              <a:ext cx="4924440" cy="314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 rot="19746600">
              <a:off x="5713920" y="2715840"/>
              <a:ext cx="2058120" cy="285840"/>
            </a:xfrm>
            <a:prstGeom prst="parallelogram">
              <a:avLst>
                <a:gd name="adj" fmla="val 53835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0" name=""/>
          <p:cNvSpPr/>
          <p:nvPr/>
        </p:nvSpPr>
        <p:spPr>
          <a:xfrm>
            <a:off x="2590920" y="1905120"/>
            <a:ext cx="457200" cy="60948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1" name=""/>
          <p:cNvGrpSpPr/>
          <p:nvPr/>
        </p:nvGrpSpPr>
        <p:grpSpPr>
          <a:xfrm>
            <a:off x="6477120" y="1905120"/>
            <a:ext cx="914400" cy="608040"/>
            <a:chOff x="6477120" y="1905120"/>
            <a:chExt cx="914400" cy="608040"/>
          </a:xfrm>
        </p:grpSpPr>
        <p:sp>
          <p:nvSpPr>
            <p:cNvPr id="2642" name=""/>
            <p:cNvSpPr/>
            <p:nvPr/>
          </p:nvSpPr>
          <p:spPr>
            <a:xfrm>
              <a:off x="6477120" y="1905120"/>
              <a:ext cx="533520" cy="60804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6858000" y="1905120"/>
              <a:ext cx="533520" cy="60804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4" name=""/>
          <p:cNvSpPr/>
          <p:nvPr/>
        </p:nvSpPr>
        <p:spPr>
          <a:xfrm>
            <a:off x="2971800" y="1905120"/>
            <a:ext cx="457200" cy="608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3352680" y="1905120"/>
            <a:ext cx="457200" cy="608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3733920" y="1905120"/>
            <a:ext cx="457200" cy="608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4114800" y="1905120"/>
            <a:ext cx="457200" cy="608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4495680" y="1905120"/>
            <a:ext cx="457200" cy="608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4876920" y="1905120"/>
            <a:ext cx="457200" cy="608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5257800" y="1905120"/>
            <a:ext cx="457200" cy="608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5638680" y="1905120"/>
            <a:ext cx="457200" cy="608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6019920" y="1905120"/>
            <a:ext cx="457200" cy="608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7467480" y="4114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先设一铁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228600" y="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欲印，则以一铁范置铁板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3276720" y="59436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持就火炀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 flipH="1" flipV="1">
            <a:off x="7543800" y="320004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914400" y="1523880"/>
            <a:ext cx="45720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2743200" y="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药稍熔，则以一平板按其面，则字平如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9" name=""/>
          <p:cNvGrpSpPr/>
          <p:nvPr/>
        </p:nvGrpSpPr>
        <p:grpSpPr>
          <a:xfrm>
            <a:off x="2362320" y="2057400"/>
            <a:ext cx="4647600" cy="606240"/>
            <a:chOff x="2362320" y="2057400"/>
            <a:chExt cx="4647600" cy="606240"/>
          </a:xfrm>
        </p:grpSpPr>
        <p:sp>
          <p:nvSpPr>
            <p:cNvPr id="2660" name=""/>
            <p:cNvSpPr/>
            <p:nvPr/>
          </p:nvSpPr>
          <p:spPr>
            <a:xfrm>
              <a:off x="2362320" y="2057400"/>
              <a:ext cx="456840" cy="60624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2742840" y="2057400"/>
              <a:ext cx="456840" cy="60624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3124080" y="2057400"/>
              <a:ext cx="456840" cy="60624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3504960" y="2057400"/>
              <a:ext cx="456840" cy="60624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3885840" y="2057400"/>
              <a:ext cx="456840" cy="60624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267080" y="2057400"/>
              <a:ext cx="456840" cy="60624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647960" y="2057400"/>
              <a:ext cx="456840" cy="60624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028840" y="2057400"/>
              <a:ext cx="456840" cy="60624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410080" y="2057400"/>
              <a:ext cx="456840" cy="60624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5790960" y="2057400"/>
              <a:ext cx="456840" cy="60624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6171840" y="2057400"/>
              <a:ext cx="456840" cy="60624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6553080" y="2057400"/>
              <a:ext cx="456840" cy="60624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2" name=""/>
          <p:cNvSpPr/>
          <p:nvPr/>
        </p:nvSpPr>
        <p:spPr>
          <a:xfrm>
            <a:off x="0" y="4800600"/>
            <a:ext cx="198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  <a:ea typeface="黑体"/>
              </a:rPr>
              <a:t>乃密布字印，满铁范为一板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 flipV="1">
            <a:off x="4572000" y="480024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7086600" y="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以松脂、蜡和纸灰之类冒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 flipH="1">
            <a:off x="7314840" y="1600200"/>
            <a:ext cx="7621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6" name=""/>
          <p:cNvGrpSpPr/>
          <p:nvPr/>
        </p:nvGrpSpPr>
        <p:grpSpPr>
          <a:xfrm>
            <a:off x="2133720" y="2209680"/>
            <a:ext cx="4723920" cy="533520"/>
            <a:chOff x="2133720" y="2209680"/>
            <a:chExt cx="4723920" cy="533520"/>
          </a:xfrm>
        </p:grpSpPr>
        <p:sp>
          <p:nvSpPr>
            <p:cNvPr id="2677" name=""/>
            <p:cNvSpPr/>
            <p:nvPr/>
          </p:nvSpPr>
          <p:spPr>
            <a:xfrm>
              <a:off x="2133720" y="2209680"/>
              <a:ext cx="464400" cy="5335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520720" y="2209680"/>
              <a:ext cx="464400" cy="5335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2908080" y="2209680"/>
              <a:ext cx="464400" cy="5335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3295080" y="2209680"/>
              <a:ext cx="464400" cy="5335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682440" y="2209680"/>
              <a:ext cx="464400" cy="5335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069800" y="2209680"/>
              <a:ext cx="464400" cy="5335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456800" y="2209680"/>
              <a:ext cx="464400" cy="5335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844160" y="2209680"/>
              <a:ext cx="464400" cy="5335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5231520" y="2209680"/>
              <a:ext cx="464400" cy="5335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5618520" y="2209680"/>
              <a:ext cx="464400" cy="5335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6005520" y="2209680"/>
              <a:ext cx="464400" cy="5335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6393240" y="2209680"/>
              <a:ext cx="464400" cy="5335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9" name=""/>
          <p:cNvGrpSpPr/>
          <p:nvPr/>
        </p:nvGrpSpPr>
        <p:grpSpPr>
          <a:xfrm>
            <a:off x="1905120" y="2362320"/>
            <a:ext cx="4723920" cy="605880"/>
            <a:chOff x="1905120" y="2362320"/>
            <a:chExt cx="4723920" cy="605880"/>
          </a:xfrm>
        </p:grpSpPr>
        <p:sp>
          <p:nvSpPr>
            <p:cNvPr id="2690" name=""/>
            <p:cNvSpPr/>
            <p:nvPr/>
          </p:nvSpPr>
          <p:spPr>
            <a:xfrm>
              <a:off x="1905120" y="2362320"/>
              <a:ext cx="464400" cy="6058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292120" y="2362320"/>
              <a:ext cx="464400" cy="6058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2679480" y="2362320"/>
              <a:ext cx="464400" cy="6058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066480" y="2362320"/>
              <a:ext cx="464400" cy="6058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453840" y="2362320"/>
              <a:ext cx="464400" cy="6058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841200" y="2362320"/>
              <a:ext cx="464400" cy="6058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4228200" y="2362320"/>
              <a:ext cx="464400" cy="6058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4615560" y="2362320"/>
              <a:ext cx="464400" cy="6058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5002920" y="2362320"/>
              <a:ext cx="464400" cy="6058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5389920" y="2362320"/>
              <a:ext cx="464400" cy="6058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776920" y="2362320"/>
              <a:ext cx="464400" cy="6058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6164640" y="2362320"/>
              <a:ext cx="464400" cy="6058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2" name=""/>
          <p:cNvGrpSpPr/>
          <p:nvPr/>
        </p:nvGrpSpPr>
        <p:grpSpPr>
          <a:xfrm>
            <a:off x="1676520" y="2514600"/>
            <a:ext cx="4571640" cy="609120"/>
            <a:chOff x="1676520" y="2514600"/>
            <a:chExt cx="4571640" cy="609120"/>
          </a:xfrm>
        </p:grpSpPr>
        <p:sp>
          <p:nvSpPr>
            <p:cNvPr id="2703" name=""/>
            <p:cNvSpPr/>
            <p:nvPr/>
          </p:nvSpPr>
          <p:spPr>
            <a:xfrm>
              <a:off x="1676520" y="2514600"/>
              <a:ext cx="449640" cy="6091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2050920" y="2514600"/>
              <a:ext cx="449640" cy="6091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426040" y="2514600"/>
              <a:ext cx="449640" cy="6091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2800440" y="2514600"/>
              <a:ext cx="449640" cy="6091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3175200" y="2514600"/>
              <a:ext cx="449640" cy="6091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3550320" y="2514600"/>
              <a:ext cx="449640" cy="6091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3924720" y="2514600"/>
              <a:ext cx="449640" cy="6091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299480" y="2514600"/>
              <a:ext cx="449640" cy="6091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674240" y="2514600"/>
              <a:ext cx="449640" cy="6091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5049000" y="2514600"/>
              <a:ext cx="449640" cy="6091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5423760" y="2514600"/>
              <a:ext cx="449640" cy="6091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5798520" y="2514600"/>
              <a:ext cx="449640" cy="6091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5" name=""/>
          <p:cNvGrpSpPr/>
          <p:nvPr/>
        </p:nvGrpSpPr>
        <p:grpSpPr>
          <a:xfrm>
            <a:off x="1447920" y="2666880"/>
            <a:ext cx="4647600" cy="533520"/>
            <a:chOff x="1447920" y="2666880"/>
            <a:chExt cx="4647600" cy="533520"/>
          </a:xfrm>
        </p:grpSpPr>
        <p:sp>
          <p:nvSpPr>
            <p:cNvPr id="2716" name=""/>
            <p:cNvSpPr/>
            <p:nvPr/>
          </p:nvSpPr>
          <p:spPr>
            <a:xfrm>
              <a:off x="1447920" y="2666880"/>
              <a:ext cx="456840" cy="5335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1828440" y="2666880"/>
              <a:ext cx="456840" cy="5335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2209680" y="2666880"/>
              <a:ext cx="456840" cy="5335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2590560" y="2666880"/>
              <a:ext cx="456840" cy="5335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2971440" y="2666880"/>
              <a:ext cx="456840" cy="5335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3352680" y="2666880"/>
              <a:ext cx="456840" cy="5335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3733560" y="2666880"/>
              <a:ext cx="456840" cy="5335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4114440" y="2666880"/>
              <a:ext cx="456840" cy="5335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4495680" y="2666880"/>
              <a:ext cx="456840" cy="5335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4876560" y="2666880"/>
              <a:ext cx="456840" cy="5335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257440" y="2666880"/>
              <a:ext cx="456840" cy="5335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638680" y="2666880"/>
              <a:ext cx="456840" cy="5335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8" name=""/>
          <p:cNvSpPr/>
          <p:nvPr/>
        </p:nvSpPr>
        <p:spPr>
          <a:xfrm flipV="1">
            <a:off x="762120" y="3200040"/>
            <a:ext cx="13716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990720" y="1828800"/>
            <a:ext cx="6629400" cy="1285920"/>
          </a:xfrm>
          <a:prstGeom prst="parallelogram">
            <a:avLst>
              <a:gd name="adj" fmla="val 141629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3657600" y="990720"/>
            <a:ext cx="7621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6172200" y="57913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隶书"/>
              </a:rPr>
              <a:t>活板制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隶书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762120"/>
            <a:ext cx="4800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沈   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沈括，钱塘人，北宋时期科学家。晚年致力于总结学术领域中的知识经验，撰写《梦溪笔谈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卷。包括天文、地理、数学、物理、文艺、历史等各方面知识，内容非常丰富。其中自然科学部分，总结了我国古代特别是北宋时期科学技术的成就。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 活板 》就是介绍我国古代四大发明之一的印刷术的，从一个侧面反映了我国古代的文化生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4416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-200160" y="0"/>
            <a:ext cx="934416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0"/>
            <a:ext cx="525636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沈   括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钱塘人，北宋时期科学家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政治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晚年致力于总结学术领域中的知识经验，撰写《梦溪笔谈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卷。包括天文、地理、数学、物理、文艺、历史等各方面知识，内容非常丰富。其中自然科学部分，总结了我国古代特别是北宋时期科学技术的成就。这部书被英国著名学者李约瑟誉为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“中国科技史上的坐标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曾学过《陨石》、 《指南针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《 活板 》就是介绍我国古代四大发明之一的印刷术的，从一个侧面反映了我国古代的文化生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2" name=""/>
          <p:cNvGrpSpPr/>
          <p:nvPr/>
        </p:nvGrpSpPr>
        <p:grpSpPr>
          <a:xfrm>
            <a:off x="0" y="609480"/>
            <a:ext cx="7162920" cy="1820520"/>
            <a:chOff x="0" y="609480"/>
            <a:chExt cx="7162920" cy="1820520"/>
          </a:xfrm>
        </p:grpSpPr>
        <p:sp>
          <p:nvSpPr>
            <p:cNvPr id="2733" name=""/>
            <p:cNvSpPr/>
            <p:nvPr/>
          </p:nvSpPr>
          <p:spPr>
            <a:xfrm>
              <a:off x="0" y="1140120"/>
              <a:ext cx="7162920" cy="1289880"/>
            </a:xfrm>
            <a:prstGeom prst="parallelogram">
              <a:avLst>
                <a:gd name="adj" fmla="val 14721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4" name=""/>
            <p:cNvGrpSpPr/>
            <p:nvPr/>
          </p:nvGrpSpPr>
          <p:grpSpPr>
            <a:xfrm>
              <a:off x="421200" y="609480"/>
              <a:ext cx="6327720" cy="1544040"/>
              <a:chOff x="421200" y="609480"/>
              <a:chExt cx="6327720" cy="1544040"/>
            </a:xfrm>
          </p:grpSpPr>
          <p:grpSp>
            <p:nvGrpSpPr>
              <p:cNvPr id="2735" name=""/>
              <p:cNvGrpSpPr/>
              <p:nvPr/>
            </p:nvGrpSpPr>
            <p:grpSpPr>
              <a:xfrm>
                <a:off x="421200" y="837000"/>
                <a:ext cx="6327720" cy="1316520"/>
                <a:chOff x="421200" y="837000"/>
                <a:chExt cx="6327720" cy="1316520"/>
              </a:xfrm>
            </p:grpSpPr>
            <p:grpSp>
              <p:nvGrpSpPr>
                <p:cNvPr id="2736" name=""/>
                <p:cNvGrpSpPr/>
                <p:nvPr/>
              </p:nvGrpSpPr>
              <p:grpSpPr>
                <a:xfrm>
                  <a:off x="421200" y="837000"/>
                  <a:ext cx="6179400" cy="1289160"/>
                  <a:chOff x="421200" y="837000"/>
                  <a:chExt cx="6179400" cy="1289160"/>
                </a:xfrm>
              </p:grpSpPr>
              <p:sp>
                <p:nvSpPr>
                  <p:cNvPr id="2737" name=""/>
                  <p:cNvSpPr/>
                  <p:nvPr/>
                </p:nvSpPr>
                <p:spPr>
                  <a:xfrm flipV="1">
                    <a:off x="421200" y="1822680"/>
                    <a:ext cx="0" cy="303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8" name=""/>
                  <p:cNvSpPr/>
                  <p:nvPr/>
                </p:nvSpPr>
                <p:spPr>
                  <a:xfrm flipV="1">
                    <a:off x="5125680" y="1822680"/>
                    <a:ext cx="0" cy="303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9" name=""/>
                  <p:cNvSpPr/>
                  <p:nvPr/>
                </p:nvSpPr>
                <p:spPr>
                  <a:xfrm flipV="1">
                    <a:off x="1895760" y="837000"/>
                    <a:ext cx="0" cy="303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0" name=""/>
                  <p:cNvSpPr/>
                  <p:nvPr/>
                </p:nvSpPr>
                <p:spPr>
                  <a:xfrm flipV="1">
                    <a:off x="6600600" y="837000"/>
                    <a:ext cx="0" cy="303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1" name=""/>
                  <p:cNvSpPr/>
                  <p:nvPr/>
                </p:nvSpPr>
                <p:spPr>
                  <a:xfrm flipV="1">
                    <a:off x="421200" y="837000"/>
                    <a:ext cx="1474560" cy="985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42" name=""/>
                  <p:cNvGrpSpPr/>
                  <p:nvPr/>
                </p:nvGrpSpPr>
                <p:grpSpPr>
                  <a:xfrm>
                    <a:off x="421200" y="837000"/>
                    <a:ext cx="6179040" cy="1289160"/>
                    <a:chOff x="421200" y="837000"/>
                    <a:chExt cx="6179040" cy="1289160"/>
                  </a:xfrm>
                </p:grpSpPr>
                <p:sp>
                  <p:nvSpPr>
                    <p:cNvPr id="2743" name=""/>
                    <p:cNvSpPr/>
                    <p:nvPr/>
                  </p:nvSpPr>
                  <p:spPr>
                    <a:xfrm>
                      <a:off x="421200" y="1822680"/>
                      <a:ext cx="47044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4" name=""/>
                    <p:cNvSpPr/>
                    <p:nvPr/>
                  </p:nvSpPr>
                  <p:spPr>
                    <a:xfrm>
                      <a:off x="1895760" y="837000"/>
                      <a:ext cx="47044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5" name=""/>
                    <p:cNvSpPr/>
                    <p:nvPr/>
                  </p:nvSpPr>
                  <p:spPr>
                    <a:xfrm flipV="1">
                      <a:off x="5125680" y="837000"/>
                      <a:ext cx="1474560" cy="985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6" name=""/>
                    <p:cNvSpPr/>
                    <p:nvPr/>
                  </p:nvSpPr>
                  <p:spPr>
                    <a:xfrm flipV="1">
                      <a:off x="842400" y="1140120"/>
                      <a:ext cx="1053000" cy="682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7" name=""/>
                    <p:cNvSpPr/>
                    <p:nvPr/>
                  </p:nvSpPr>
                  <p:spPr>
                    <a:xfrm>
                      <a:off x="1895760" y="1140120"/>
                      <a:ext cx="42130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8" name=""/>
                    <p:cNvSpPr/>
                    <p:nvPr/>
                  </p:nvSpPr>
                  <p:spPr>
                    <a:xfrm flipV="1">
                      <a:off x="5125680" y="1139760"/>
                      <a:ext cx="1474560" cy="986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9" name=""/>
                    <p:cNvSpPr/>
                    <p:nvPr/>
                  </p:nvSpPr>
                  <p:spPr>
                    <a:xfrm>
                      <a:off x="421200" y="2126160"/>
                      <a:ext cx="4775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750" name=""/>
                <p:cNvSpPr/>
                <p:nvPr/>
              </p:nvSpPr>
              <p:spPr>
                <a:xfrm>
                  <a:off x="421200" y="1822680"/>
                  <a:ext cx="4704840" cy="30312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 rot="19746600">
                  <a:off x="4843440" y="1364040"/>
                  <a:ext cx="1966320" cy="306360"/>
                </a:xfrm>
                <a:prstGeom prst="parallelogram">
                  <a:avLst>
                    <a:gd name="adj" fmla="val 47989"/>
                  </a:avLst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2" name=""/>
              <p:cNvGrpSpPr/>
              <p:nvPr/>
            </p:nvGrpSpPr>
            <p:grpSpPr>
              <a:xfrm>
                <a:off x="912600" y="609480"/>
                <a:ext cx="5195160" cy="1208160"/>
                <a:chOff x="912600" y="609480"/>
                <a:chExt cx="5195160" cy="1208160"/>
              </a:xfrm>
            </p:grpSpPr>
            <p:grpSp>
              <p:nvGrpSpPr>
                <p:cNvPr id="2753" name=""/>
                <p:cNvGrpSpPr/>
                <p:nvPr/>
              </p:nvGrpSpPr>
              <p:grpSpPr>
                <a:xfrm>
                  <a:off x="1684800" y="609480"/>
                  <a:ext cx="4422960" cy="753120"/>
                  <a:chOff x="1684800" y="609480"/>
                  <a:chExt cx="4422960" cy="753120"/>
                </a:xfrm>
              </p:grpSpPr>
              <p:grpSp>
                <p:nvGrpSpPr>
                  <p:cNvPr id="2754" name=""/>
                  <p:cNvGrpSpPr/>
                  <p:nvPr/>
                </p:nvGrpSpPr>
                <p:grpSpPr>
                  <a:xfrm>
                    <a:off x="1895400" y="609480"/>
                    <a:ext cx="4212360" cy="601920"/>
                    <a:chOff x="1895400" y="609480"/>
                    <a:chExt cx="4212360" cy="601920"/>
                  </a:xfrm>
                </p:grpSpPr>
                <p:sp>
                  <p:nvSpPr>
                    <p:cNvPr id="2755" name=""/>
                    <p:cNvSpPr/>
                    <p:nvPr/>
                  </p:nvSpPr>
                  <p:spPr>
                    <a:xfrm>
                      <a:off x="1895400" y="609480"/>
                      <a:ext cx="3510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6" name=""/>
                    <p:cNvSpPr/>
                    <p:nvPr/>
                  </p:nvSpPr>
                  <p:spPr>
                    <a:xfrm>
                      <a:off x="2176200" y="609480"/>
                      <a:ext cx="421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7" name=""/>
                    <p:cNvSpPr/>
                    <p:nvPr/>
                  </p:nvSpPr>
                  <p:spPr>
                    <a:xfrm>
                      <a:off x="2527200" y="609480"/>
                      <a:ext cx="421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8" name=""/>
                    <p:cNvSpPr/>
                    <p:nvPr/>
                  </p:nvSpPr>
                  <p:spPr>
                    <a:xfrm>
                      <a:off x="2878560" y="609480"/>
                      <a:ext cx="421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9" name=""/>
                    <p:cNvSpPr/>
                    <p:nvPr/>
                  </p:nvSpPr>
                  <p:spPr>
                    <a:xfrm>
                      <a:off x="3229200" y="609480"/>
                      <a:ext cx="421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0" name=""/>
                    <p:cNvSpPr/>
                    <p:nvPr/>
                  </p:nvSpPr>
                  <p:spPr>
                    <a:xfrm>
                      <a:off x="3510360" y="609480"/>
                      <a:ext cx="421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1" name=""/>
                    <p:cNvSpPr/>
                    <p:nvPr/>
                  </p:nvSpPr>
                  <p:spPr>
                    <a:xfrm>
                      <a:off x="3861360" y="609480"/>
                      <a:ext cx="421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2" name=""/>
                    <p:cNvSpPr/>
                    <p:nvPr/>
                  </p:nvSpPr>
                  <p:spPr>
                    <a:xfrm>
                      <a:off x="4212360" y="609480"/>
                      <a:ext cx="421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3" name=""/>
                    <p:cNvSpPr/>
                    <p:nvPr/>
                  </p:nvSpPr>
                  <p:spPr>
                    <a:xfrm>
                      <a:off x="4563360" y="609480"/>
                      <a:ext cx="421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4" name=""/>
                    <p:cNvSpPr/>
                    <p:nvPr/>
                  </p:nvSpPr>
                  <p:spPr>
                    <a:xfrm>
                      <a:off x="4914360" y="609480"/>
                      <a:ext cx="421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5" name=""/>
                    <p:cNvSpPr/>
                    <p:nvPr/>
                  </p:nvSpPr>
                  <p:spPr>
                    <a:xfrm>
                      <a:off x="5265360" y="609480"/>
                      <a:ext cx="421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6" name=""/>
                    <p:cNvSpPr/>
                    <p:nvPr/>
                  </p:nvSpPr>
                  <p:spPr>
                    <a:xfrm>
                      <a:off x="5616720" y="609480"/>
                      <a:ext cx="49104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7" name=""/>
                  <p:cNvGrpSpPr/>
                  <p:nvPr/>
                </p:nvGrpSpPr>
                <p:grpSpPr>
                  <a:xfrm>
                    <a:off x="1684800" y="760680"/>
                    <a:ext cx="4142520" cy="601920"/>
                    <a:chOff x="1684800" y="760680"/>
                    <a:chExt cx="4142520" cy="601920"/>
                  </a:xfrm>
                </p:grpSpPr>
                <p:sp>
                  <p:nvSpPr>
                    <p:cNvPr id="2768" name=""/>
                    <p:cNvSpPr/>
                    <p:nvPr/>
                  </p:nvSpPr>
                  <p:spPr>
                    <a:xfrm>
                      <a:off x="1684800" y="760680"/>
                      <a:ext cx="421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9" name=""/>
                    <p:cNvSpPr/>
                    <p:nvPr/>
                  </p:nvSpPr>
                  <p:spPr>
                    <a:xfrm>
                      <a:off x="2035800" y="760680"/>
                      <a:ext cx="421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0" name=""/>
                    <p:cNvSpPr/>
                    <p:nvPr/>
                  </p:nvSpPr>
                  <p:spPr>
                    <a:xfrm>
                      <a:off x="2386800" y="760680"/>
                      <a:ext cx="421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1" name=""/>
                    <p:cNvSpPr/>
                    <p:nvPr/>
                  </p:nvSpPr>
                  <p:spPr>
                    <a:xfrm>
                      <a:off x="2737800" y="760680"/>
                      <a:ext cx="421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2" name=""/>
                    <p:cNvSpPr/>
                    <p:nvPr/>
                  </p:nvSpPr>
                  <p:spPr>
                    <a:xfrm>
                      <a:off x="3089160" y="760680"/>
                      <a:ext cx="421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3" name=""/>
                    <p:cNvSpPr/>
                    <p:nvPr/>
                  </p:nvSpPr>
                  <p:spPr>
                    <a:xfrm>
                      <a:off x="3440160" y="760680"/>
                      <a:ext cx="421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4" name=""/>
                    <p:cNvSpPr/>
                    <p:nvPr/>
                  </p:nvSpPr>
                  <p:spPr>
                    <a:xfrm>
                      <a:off x="3791160" y="760680"/>
                      <a:ext cx="421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5" name=""/>
                    <p:cNvSpPr/>
                    <p:nvPr/>
                  </p:nvSpPr>
                  <p:spPr>
                    <a:xfrm>
                      <a:off x="4142520" y="760680"/>
                      <a:ext cx="421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6" name=""/>
                    <p:cNvSpPr/>
                    <p:nvPr/>
                  </p:nvSpPr>
                  <p:spPr>
                    <a:xfrm>
                      <a:off x="4493160" y="760680"/>
                      <a:ext cx="421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7" name=""/>
                    <p:cNvSpPr/>
                    <p:nvPr/>
                  </p:nvSpPr>
                  <p:spPr>
                    <a:xfrm>
                      <a:off x="4844160" y="760680"/>
                      <a:ext cx="421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8" name=""/>
                    <p:cNvSpPr/>
                    <p:nvPr/>
                  </p:nvSpPr>
                  <p:spPr>
                    <a:xfrm>
                      <a:off x="5195520" y="760680"/>
                      <a:ext cx="421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9" name=""/>
                    <p:cNvSpPr/>
                    <p:nvPr/>
                  </p:nvSpPr>
                  <p:spPr>
                    <a:xfrm>
                      <a:off x="5546520" y="760680"/>
                      <a:ext cx="2808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780" name=""/>
                <p:cNvGrpSpPr/>
                <p:nvPr/>
              </p:nvGrpSpPr>
              <p:grpSpPr>
                <a:xfrm>
                  <a:off x="1404000" y="912240"/>
                  <a:ext cx="4212720" cy="601920"/>
                  <a:chOff x="1404000" y="912240"/>
                  <a:chExt cx="4212720" cy="601920"/>
                </a:xfrm>
              </p:grpSpPr>
              <p:sp>
                <p:nvSpPr>
                  <p:cNvPr id="2781" name=""/>
                  <p:cNvSpPr/>
                  <p:nvPr/>
                </p:nvSpPr>
                <p:spPr>
                  <a:xfrm>
                    <a:off x="1404000" y="91224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2" name=""/>
                  <p:cNvSpPr/>
                  <p:nvPr/>
                </p:nvSpPr>
                <p:spPr>
                  <a:xfrm>
                    <a:off x="1754640" y="91224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3" name=""/>
                  <p:cNvSpPr/>
                  <p:nvPr/>
                </p:nvSpPr>
                <p:spPr>
                  <a:xfrm>
                    <a:off x="2105640" y="91224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4" name=""/>
                  <p:cNvSpPr/>
                  <p:nvPr/>
                </p:nvSpPr>
                <p:spPr>
                  <a:xfrm>
                    <a:off x="2457000" y="91224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5" name=""/>
                  <p:cNvSpPr/>
                  <p:nvPr/>
                </p:nvSpPr>
                <p:spPr>
                  <a:xfrm>
                    <a:off x="2808000" y="91224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6" name=""/>
                  <p:cNvSpPr/>
                  <p:nvPr/>
                </p:nvSpPr>
                <p:spPr>
                  <a:xfrm>
                    <a:off x="3159000" y="91224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7" name=""/>
                  <p:cNvSpPr/>
                  <p:nvPr/>
                </p:nvSpPr>
                <p:spPr>
                  <a:xfrm>
                    <a:off x="3510360" y="91224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8" name=""/>
                  <p:cNvSpPr/>
                  <p:nvPr/>
                </p:nvSpPr>
                <p:spPr>
                  <a:xfrm>
                    <a:off x="3861360" y="91224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9" name=""/>
                  <p:cNvSpPr/>
                  <p:nvPr/>
                </p:nvSpPr>
                <p:spPr>
                  <a:xfrm>
                    <a:off x="4212360" y="91224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0" name=""/>
                  <p:cNvSpPr/>
                  <p:nvPr/>
                </p:nvSpPr>
                <p:spPr>
                  <a:xfrm>
                    <a:off x="4563720" y="91224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1" name=""/>
                  <p:cNvSpPr/>
                  <p:nvPr/>
                </p:nvSpPr>
                <p:spPr>
                  <a:xfrm>
                    <a:off x="4914720" y="91224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2" name=""/>
                  <p:cNvSpPr/>
                  <p:nvPr/>
                </p:nvSpPr>
                <p:spPr>
                  <a:xfrm>
                    <a:off x="5265720" y="912240"/>
                    <a:ext cx="3510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93" name=""/>
                <p:cNvGrpSpPr/>
                <p:nvPr/>
              </p:nvGrpSpPr>
              <p:grpSpPr>
                <a:xfrm>
                  <a:off x="1123200" y="1064160"/>
                  <a:ext cx="4282920" cy="601920"/>
                  <a:chOff x="1123200" y="1064160"/>
                  <a:chExt cx="4282920" cy="601920"/>
                </a:xfrm>
              </p:grpSpPr>
              <p:sp>
                <p:nvSpPr>
                  <p:cNvPr id="2794" name=""/>
                  <p:cNvSpPr/>
                  <p:nvPr/>
                </p:nvSpPr>
                <p:spPr>
                  <a:xfrm>
                    <a:off x="1123200" y="106416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5" name=""/>
                  <p:cNvSpPr/>
                  <p:nvPr/>
                </p:nvSpPr>
                <p:spPr>
                  <a:xfrm>
                    <a:off x="1473840" y="106416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6" name=""/>
                  <p:cNvSpPr/>
                  <p:nvPr/>
                </p:nvSpPr>
                <p:spPr>
                  <a:xfrm>
                    <a:off x="1825200" y="106416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7" name=""/>
                  <p:cNvSpPr/>
                  <p:nvPr/>
                </p:nvSpPr>
                <p:spPr>
                  <a:xfrm>
                    <a:off x="2176200" y="106416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8" name=""/>
                  <p:cNvSpPr/>
                  <p:nvPr/>
                </p:nvSpPr>
                <p:spPr>
                  <a:xfrm>
                    <a:off x="2527200" y="106416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9" name=""/>
                  <p:cNvSpPr/>
                  <p:nvPr/>
                </p:nvSpPr>
                <p:spPr>
                  <a:xfrm>
                    <a:off x="2878560" y="106416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0" name=""/>
                  <p:cNvSpPr/>
                  <p:nvPr/>
                </p:nvSpPr>
                <p:spPr>
                  <a:xfrm>
                    <a:off x="3229560" y="106416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1" name=""/>
                  <p:cNvSpPr/>
                  <p:nvPr/>
                </p:nvSpPr>
                <p:spPr>
                  <a:xfrm>
                    <a:off x="3580560" y="106416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2" name=""/>
                  <p:cNvSpPr/>
                  <p:nvPr/>
                </p:nvSpPr>
                <p:spPr>
                  <a:xfrm>
                    <a:off x="3931920" y="106416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3" name=""/>
                  <p:cNvSpPr/>
                  <p:nvPr/>
                </p:nvSpPr>
                <p:spPr>
                  <a:xfrm>
                    <a:off x="4282920" y="106416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4" name=""/>
                  <p:cNvSpPr/>
                  <p:nvPr/>
                </p:nvSpPr>
                <p:spPr>
                  <a:xfrm>
                    <a:off x="4633560" y="106416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5" name=""/>
                  <p:cNvSpPr/>
                  <p:nvPr/>
                </p:nvSpPr>
                <p:spPr>
                  <a:xfrm>
                    <a:off x="4984920" y="106416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06" name=""/>
                <p:cNvGrpSpPr/>
                <p:nvPr/>
              </p:nvGrpSpPr>
              <p:grpSpPr>
                <a:xfrm>
                  <a:off x="912600" y="1215720"/>
                  <a:ext cx="4282920" cy="601920"/>
                  <a:chOff x="912600" y="1215720"/>
                  <a:chExt cx="4282920" cy="601920"/>
                </a:xfrm>
              </p:grpSpPr>
              <p:sp>
                <p:nvSpPr>
                  <p:cNvPr id="2807" name=""/>
                  <p:cNvSpPr/>
                  <p:nvPr/>
                </p:nvSpPr>
                <p:spPr>
                  <a:xfrm>
                    <a:off x="912600" y="121572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8" name=""/>
                  <p:cNvSpPr/>
                  <p:nvPr/>
                </p:nvSpPr>
                <p:spPr>
                  <a:xfrm>
                    <a:off x="1263240" y="121572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9" name=""/>
                  <p:cNvSpPr/>
                  <p:nvPr/>
                </p:nvSpPr>
                <p:spPr>
                  <a:xfrm>
                    <a:off x="1614600" y="121572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0" name=""/>
                  <p:cNvSpPr/>
                  <p:nvPr/>
                </p:nvSpPr>
                <p:spPr>
                  <a:xfrm>
                    <a:off x="1965600" y="121572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1" name=""/>
                  <p:cNvSpPr/>
                  <p:nvPr/>
                </p:nvSpPr>
                <p:spPr>
                  <a:xfrm>
                    <a:off x="2316600" y="121572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2" name=""/>
                  <p:cNvSpPr/>
                  <p:nvPr/>
                </p:nvSpPr>
                <p:spPr>
                  <a:xfrm>
                    <a:off x="2667960" y="121572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3" name=""/>
                  <p:cNvSpPr/>
                  <p:nvPr/>
                </p:nvSpPr>
                <p:spPr>
                  <a:xfrm>
                    <a:off x="3018960" y="121572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4" name=""/>
                  <p:cNvSpPr/>
                  <p:nvPr/>
                </p:nvSpPr>
                <p:spPr>
                  <a:xfrm>
                    <a:off x="3369960" y="121572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5" name=""/>
                  <p:cNvSpPr/>
                  <p:nvPr/>
                </p:nvSpPr>
                <p:spPr>
                  <a:xfrm>
                    <a:off x="3721320" y="121572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6" name=""/>
                  <p:cNvSpPr/>
                  <p:nvPr/>
                </p:nvSpPr>
                <p:spPr>
                  <a:xfrm>
                    <a:off x="4072320" y="121572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7" name=""/>
                  <p:cNvSpPr/>
                  <p:nvPr/>
                </p:nvSpPr>
                <p:spPr>
                  <a:xfrm>
                    <a:off x="4422960" y="121572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8" name=""/>
                  <p:cNvSpPr/>
                  <p:nvPr/>
                </p:nvSpPr>
                <p:spPr>
                  <a:xfrm>
                    <a:off x="4774320" y="1215720"/>
                    <a:ext cx="421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819" name=""/>
          <p:cNvSpPr/>
          <p:nvPr/>
        </p:nvSpPr>
        <p:spPr>
          <a:xfrm>
            <a:off x="0" y="304920"/>
            <a:ext cx="7162920" cy="1369800"/>
          </a:xfrm>
          <a:prstGeom prst="parallelogram">
            <a:avLst>
              <a:gd name="adj" fmla="val 1590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23400" bIns="23400" anchor="ctr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7543800" y="1143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板印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1" name=""/>
          <p:cNvGrpSpPr/>
          <p:nvPr/>
        </p:nvGrpSpPr>
        <p:grpSpPr>
          <a:xfrm>
            <a:off x="0" y="2819520"/>
            <a:ext cx="7315200" cy="1820520"/>
            <a:chOff x="0" y="2819520"/>
            <a:chExt cx="7315200" cy="1820520"/>
          </a:xfrm>
        </p:grpSpPr>
        <p:sp>
          <p:nvSpPr>
            <p:cNvPr id="2822" name=""/>
            <p:cNvSpPr/>
            <p:nvPr/>
          </p:nvSpPr>
          <p:spPr>
            <a:xfrm>
              <a:off x="0" y="3350160"/>
              <a:ext cx="7315200" cy="1289880"/>
            </a:xfrm>
            <a:prstGeom prst="parallelogram">
              <a:avLst>
                <a:gd name="adj" fmla="val 15034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3" name=""/>
            <p:cNvGrpSpPr/>
            <p:nvPr/>
          </p:nvGrpSpPr>
          <p:grpSpPr>
            <a:xfrm>
              <a:off x="430200" y="2819520"/>
              <a:ext cx="6460920" cy="1554840"/>
              <a:chOff x="430200" y="2819520"/>
              <a:chExt cx="6460920" cy="1554840"/>
            </a:xfrm>
          </p:grpSpPr>
          <p:grpSp>
            <p:nvGrpSpPr>
              <p:cNvPr id="2824" name=""/>
              <p:cNvGrpSpPr/>
              <p:nvPr/>
            </p:nvGrpSpPr>
            <p:grpSpPr>
              <a:xfrm>
                <a:off x="430200" y="3047040"/>
                <a:ext cx="6460920" cy="1327320"/>
                <a:chOff x="430200" y="3047040"/>
                <a:chExt cx="6460920" cy="1327320"/>
              </a:xfrm>
            </p:grpSpPr>
            <p:grpSp>
              <p:nvGrpSpPr>
                <p:cNvPr id="2825" name=""/>
                <p:cNvGrpSpPr/>
                <p:nvPr/>
              </p:nvGrpSpPr>
              <p:grpSpPr>
                <a:xfrm>
                  <a:off x="430200" y="3047040"/>
                  <a:ext cx="6311160" cy="1289160"/>
                  <a:chOff x="430200" y="3047040"/>
                  <a:chExt cx="6311160" cy="1289160"/>
                </a:xfrm>
              </p:grpSpPr>
              <p:sp>
                <p:nvSpPr>
                  <p:cNvPr id="2826" name=""/>
                  <p:cNvSpPr/>
                  <p:nvPr/>
                </p:nvSpPr>
                <p:spPr>
                  <a:xfrm flipV="1">
                    <a:off x="430200" y="4032720"/>
                    <a:ext cx="0" cy="303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7" name=""/>
                  <p:cNvSpPr/>
                  <p:nvPr/>
                </p:nvSpPr>
                <p:spPr>
                  <a:xfrm flipV="1">
                    <a:off x="5235120" y="4032720"/>
                    <a:ext cx="0" cy="303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8" name=""/>
                  <p:cNvSpPr/>
                  <p:nvPr/>
                </p:nvSpPr>
                <p:spPr>
                  <a:xfrm flipV="1">
                    <a:off x="1936080" y="3047040"/>
                    <a:ext cx="0" cy="303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9" name=""/>
                  <p:cNvSpPr/>
                  <p:nvPr/>
                </p:nvSpPr>
                <p:spPr>
                  <a:xfrm flipV="1">
                    <a:off x="6741360" y="3047040"/>
                    <a:ext cx="0" cy="303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0" name=""/>
                  <p:cNvSpPr/>
                  <p:nvPr/>
                </p:nvSpPr>
                <p:spPr>
                  <a:xfrm flipV="1">
                    <a:off x="430200" y="3047040"/>
                    <a:ext cx="1505880" cy="985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31" name=""/>
                  <p:cNvGrpSpPr/>
                  <p:nvPr/>
                </p:nvGrpSpPr>
                <p:grpSpPr>
                  <a:xfrm>
                    <a:off x="430200" y="3047040"/>
                    <a:ext cx="6310800" cy="1289160"/>
                    <a:chOff x="430200" y="3047040"/>
                    <a:chExt cx="6310800" cy="1289160"/>
                  </a:xfrm>
                </p:grpSpPr>
                <p:sp>
                  <p:nvSpPr>
                    <p:cNvPr id="2832" name=""/>
                    <p:cNvSpPr/>
                    <p:nvPr/>
                  </p:nvSpPr>
                  <p:spPr>
                    <a:xfrm>
                      <a:off x="430200" y="4032720"/>
                      <a:ext cx="48049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3" name=""/>
                    <p:cNvSpPr/>
                    <p:nvPr/>
                  </p:nvSpPr>
                  <p:spPr>
                    <a:xfrm>
                      <a:off x="1936080" y="3047040"/>
                      <a:ext cx="48049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4" name=""/>
                    <p:cNvSpPr/>
                    <p:nvPr/>
                  </p:nvSpPr>
                  <p:spPr>
                    <a:xfrm flipV="1">
                      <a:off x="5235120" y="3047040"/>
                      <a:ext cx="1505880" cy="985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5" name=""/>
                    <p:cNvSpPr/>
                    <p:nvPr/>
                  </p:nvSpPr>
                  <p:spPr>
                    <a:xfrm flipV="1">
                      <a:off x="860400" y="3350160"/>
                      <a:ext cx="1075680" cy="682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6" name=""/>
                    <p:cNvSpPr/>
                    <p:nvPr/>
                  </p:nvSpPr>
                  <p:spPr>
                    <a:xfrm>
                      <a:off x="1936080" y="3350160"/>
                      <a:ext cx="43027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7" name=""/>
                    <p:cNvSpPr/>
                    <p:nvPr/>
                  </p:nvSpPr>
                  <p:spPr>
                    <a:xfrm flipV="1">
                      <a:off x="5235120" y="3349800"/>
                      <a:ext cx="1505880" cy="986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8" name=""/>
                    <p:cNvSpPr/>
                    <p:nvPr/>
                  </p:nvSpPr>
                  <p:spPr>
                    <a:xfrm>
                      <a:off x="430200" y="4336200"/>
                      <a:ext cx="48769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839" name=""/>
                <p:cNvSpPr/>
                <p:nvPr/>
              </p:nvSpPr>
              <p:spPr>
                <a:xfrm>
                  <a:off x="430200" y="4032720"/>
                  <a:ext cx="4804920" cy="30312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 rot="19746600">
                  <a:off x="4946400" y="3574080"/>
                  <a:ext cx="2008080" cy="306360"/>
                </a:xfrm>
                <a:prstGeom prst="parallelogram">
                  <a:avLst>
                    <a:gd name="adj" fmla="val 49008"/>
                  </a:avLst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1" name=""/>
              <p:cNvGrpSpPr/>
              <p:nvPr/>
            </p:nvGrpSpPr>
            <p:grpSpPr>
              <a:xfrm>
                <a:off x="932040" y="2819520"/>
                <a:ext cx="5305680" cy="1208160"/>
                <a:chOff x="932040" y="2819520"/>
                <a:chExt cx="5305680" cy="1208160"/>
              </a:xfrm>
            </p:grpSpPr>
            <p:grpSp>
              <p:nvGrpSpPr>
                <p:cNvPr id="2842" name=""/>
                <p:cNvGrpSpPr/>
                <p:nvPr/>
              </p:nvGrpSpPr>
              <p:grpSpPr>
                <a:xfrm>
                  <a:off x="1720440" y="2819520"/>
                  <a:ext cx="4517280" cy="753120"/>
                  <a:chOff x="1720440" y="2819520"/>
                  <a:chExt cx="4517280" cy="753120"/>
                </a:xfrm>
              </p:grpSpPr>
              <p:grpSp>
                <p:nvGrpSpPr>
                  <p:cNvPr id="2843" name=""/>
                  <p:cNvGrpSpPr/>
                  <p:nvPr/>
                </p:nvGrpSpPr>
                <p:grpSpPr>
                  <a:xfrm>
                    <a:off x="1935360" y="2819520"/>
                    <a:ext cx="4302360" cy="601920"/>
                    <a:chOff x="1935360" y="2819520"/>
                    <a:chExt cx="4302360" cy="601920"/>
                  </a:xfrm>
                </p:grpSpPr>
                <p:sp>
                  <p:nvSpPr>
                    <p:cNvPr id="2844" name=""/>
                    <p:cNvSpPr/>
                    <p:nvPr/>
                  </p:nvSpPr>
                  <p:spPr>
                    <a:xfrm>
                      <a:off x="1935360" y="2819520"/>
                      <a:ext cx="35856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5" name=""/>
                    <p:cNvSpPr/>
                    <p:nvPr/>
                  </p:nvSpPr>
                  <p:spPr>
                    <a:xfrm>
                      <a:off x="2222280" y="2819520"/>
                      <a:ext cx="430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6" name=""/>
                    <p:cNvSpPr/>
                    <p:nvPr/>
                  </p:nvSpPr>
                  <p:spPr>
                    <a:xfrm>
                      <a:off x="2580480" y="2819520"/>
                      <a:ext cx="430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7" name=""/>
                    <p:cNvSpPr/>
                    <p:nvPr/>
                  </p:nvSpPr>
                  <p:spPr>
                    <a:xfrm>
                      <a:off x="2939400" y="2819520"/>
                      <a:ext cx="430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8" name=""/>
                    <p:cNvSpPr/>
                    <p:nvPr/>
                  </p:nvSpPr>
                  <p:spPr>
                    <a:xfrm>
                      <a:off x="3297960" y="2819520"/>
                      <a:ext cx="430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9" name=""/>
                    <p:cNvSpPr/>
                    <p:nvPr/>
                  </p:nvSpPr>
                  <p:spPr>
                    <a:xfrm>
                      <a:off x="3584880" y="2819520"/>
                      <a:ext cx="430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0" name=""/>
                    <p:cNvSpPr/>
                    <p:nvPr/>
                  </p:nvSpPr>
                  <p:spPr>
                    <a:xfrm>
                      <a:off x="3943080" y="2819520"/>
                      <a:ext cx="430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1" name=""/>
                    <p:cNvSpPr/>
                    <p:nvPr/>
                  </p:nvSpPr>
                  <p:spPr>
                    <a:xfrm>
                      <a:off x="4301640" y="2819520"/>
                      <a:ext cx="430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2" name=""/>
                    <p:cNvSpPr/>
                    <p:nvPr/>
                  </p:nvSpPr>
                  <p:spPr>
                    <a:xfrm>
                      <a:off x="4660560" y="2819520"/>
                      <a:ext cx="430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3" name=""/>
                    <p:cNvSpPr/>
                    <p:nvPr/>
                  </p:nvSpPr>
                  <p:spPr>
                    <a:xfrm>
                      <a:off x="5018760" y="2819520"/>
                      <a:ext cx="430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4" name=""/>
                    <p:cNvSpPr/>
                    <p:nvPr/>
                  </p:nvSpPr>
                  <p:spPr>
                    <a:xfrm>
                      <a:off x="5377320" y="2819520"/>
                      <a:ext cx="430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5" name=""/>
                    <p:cNvSpPr/>
                    <p:nvPr/>
                  </p:nvSpPr>
                  <p:spPr>
                    <a:xfrm>
                      <a:off x="5736240" y="2819520"/>
                      <a:ext cx="50148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6" name=""/>
                  <p:cNvGrpSpPr/>
                  <p:nvPr/>
                </p:nvGrpSpPr>
                <p:grpSpPr>
                  <a:xfrm>
                    <a:off x="1720440" y="2970720"/>
                    <a:ext cx="4230720" cy="601920"/>
                    <a:chOff x="1720440" y="2970720"/>
                    <a:chExt cx="4230720" cy="601920"/>
                  </a:xfrm>
                </p:grpSpPr>
                <p:sp>
                  <p:nvSpPr>
                    <p:cNvPr id="2857" name=""/>
                    <p:cNvSpPr/>
                    <p:nvPr/>
                  </p:nvSpPr>
                  <p:spPr>
                    <a:xfrm>
                      <a:off x="1720440" y="2970720"/>
                      <a:ext cx="430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8" name=""/>
                    <p:cNvSpPr/>
                    <p:nvPr/>
                  </p:nvSpPr>
                  <p:spPr>
                    <a:xfrm>
                      <a:off x="2079000" y="2970720"/>
                      <a:ext cx="430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9" name=""/>
                    <p:cNvSpPr/>
                    <p:nvPr/>
                  </p:nvSpPr>
                  <p:spPr>
                    <a:xfrm>
                      <a:off x="2437560" y="2970720"/>
                      <a:ext cx="430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0" name=""/>
                    <p:cNvSpPr/>
                    <p:nvPr/>
                  </p:nvSpPr>
                  <p:spPr>
                    <a:xfrm>
                      <a:off x="2795760" y="2970720"/>
                      <a:ext cx="430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1" name=""/>
                    <p:cNvSpPr/>
                    <p:nvPr/>
                  </p:nvSpPr>
                  <p:spPr>
                    <a:xfrm>
                      <a:off x="3154680" y="2970720"/>
                      <a:ext cx="430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2" name=""/>
                    <p:cNvSpPr/>
                    <p:nvPr/>
                  </p:nvSpPr>
                  <p:spPr>
                    <a:xfrm>
                      <a:off x="3513240" y="2970720"/>
                      <a:ext cx="430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3" name=""/>
                    <p:cNvSpPr/>
                    <p:nvPr/>
                  </p:nvSpPr>
                  <p:spPr>
                    <a:xfrm>
                      <a:off x="3871440" y="2970720"/>
                      <a:ext cx="430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4" name=""/>
                    <p:cNvSpPr/>
                    <p:nvPr/>
                  </p:nvSpPr>
                  <p:spPr>
                    <a:xfrm>
                      <a:off x="4230360" y="2970720"/>
                      <a:ext cx="430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5" name=""/>
                    <p:cNvSpPr/>
                    <p:nvPr/>
                  </p:nvSpPr>
                  <p:spPr>
                    <a:xfrm>
                      <a:off x="4588920" y="2970720"/>
                      <a:ext cx="430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6" name=""/>
                    <p:cNvSpPr/>
                    <p:nvPr/>
                  </p:nvSpPr>
                  <p:spPr>
                    <a:xfrm>
                      <a:off x="4947120" y="2970720"/>
                      <a:ext cx="430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7" name=""/>
                    <p:cNvSpPr/>
                    <p:nvPr/>
                  </p:nvSpPr>
                  <p:spPr>
                    <a:xfrm>
                      <a:off x="5306040" y="2970720"/>
                      <a:ext cx="43020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8" name=""/>
                    <p:cNvSpPr/>
                    <p:nvPr/>
                  </p:nvSpPr>
                  <p:spPr>
                    <a:xfrm>
                      <a:off x="5664240" y="2970720"/>
                      <a:ext cx="286920" cy="60192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869" name=""/>
                <p:cNvGrpSpPr/>
                <p:nvPr/>
              </p:nvGrpSpPr>
              <p:grpSpPr>
                <a:xfrm>
                  <a:off x="1433880" y="3122280"/>
                  <a:ext cx="4302360" cy="601920"/>
                  <a:chOff x="1433880" y="3122280"/>
                  <a:chExt cx="4302360" cy="601920"/>
                </a:xfrm>
              </p:grpSpPr>
              <p:sp>
                <p:nvSpPr>
                  <p:cNvPr id="2870" name=""/>
                  <p:cNvSpPr/>
                  <p:nvPr/>
                </p:nvSpPr>
                <p:spPr>
                  <a:xfrm>
                    <a:off x="1433880" y="312228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1" name=""/>
                  <p:cNvSpPr/>
                  <p:nvPr/>
                </p:nvSpPr>
                <p:spPr>
                  <a:xfrm>
                    <a:off x="1792080" y="312228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2" name=""/>
                  <p:cNvSpPr/>
                  <p:nvPr/>
                </p:nvSpPr>
                <p:spPr>
                  <a:xfrm>
                    <a:off x="2150640" y="312228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3" name=""/>
                  <p:cNvSpPr/>
                  <p:nvPr/>
                </p:nvSpPr>
                <p:spPr>
                  <a:xfrm>
                    <a:off x="2509560" y="312228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4" name=""/>
                  <p:cNvSpPr/>
                  <p:nvPr/>
                </p:nvSpPr>
                <p:spPr>
                  <a:xfrm>
                    <a:off x="2867760" y="312228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5" name=""/>
                  <p:cNvSpPr/>
                  <p:nvPr/>
                </p:nvSpPr>
                <p:spPr>
                  <a:xfrm>
                    <a:off x="3226320" y="312228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6" name=""/>
                  <p:cNvSpPr/>
                  <p:nvPr/>
                </p:nvSpPr>
                <p:spPr>
                  <a:xfrm>
                    <a:off x="3585240" y="312228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7" name=""/>
                  <p:cNvSpPr/>
                  <p:nvPr/>
                </p:nvSpPr>
                <p:spPr>
                  <a:xfrm>
                    <a:off x="3943440" y="312228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8" name=""/>
                  <p:cNvSpPr/>
                  <p:nvPr/>
                </p:nvSpPr>
                <p:spPr>
                  <a:xfrm>
                    <a:off x="4302000" y="312228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9" name=""/>
                  <p:cNvSpPr/>
                  <p:nvPr/>
                </p:nvSpPr>
                <p:spPr>
                  <a:xfrm>
                    <a:off x="4660920" y="312228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0" name=""/>
                  <p:cNvSpPr/>
                  <p:nvPr/>
                </p:nvSpPr>
                <p:spPr>
                  <a:xfrm>
                    <a:off x="5019120" y="312228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1" name=""/>
                  <p:cNvSpPr/>
                  <p:nvPr/>
                </p:nvSpPr>
                <p:spPr>
                  <a:xfrm>
                    <a:off x="5377680" y="3122280"/>
                    <a:ext cx="35856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2" name=""/>
                <p:cNvGrpSpPr/>
                <p:nvPr/>
              </p:nvGrpSpPr>
              <p:grpSpPr>
                <a:xfrm>
                  <a:off x="1146960" y="3274200"/>
                  <a:ext cx="4374000" cy="601920"/>
                  <a:chOff x="1146960" y="3274200"/>
                  <a:chExt cx="4374000" cy="601920"/>
                </a:xfrm>
              </p:grpSpPr>
              <p:sp>
                <p:nvSpPr>
                  <p:cNvPr id="2883" name=""/>
                  <p:cNvSpPr/>
                  <p:nvPr/>
                </p:nvSpPr>
                <p:spPr>
                  <a:xfrm>
                    <a:off x="1146960" y="327420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4" name=""/>
                  <p:cNvSpPr/>
                  <p:nvPr/>
                </p:nvSpPr>
                <p:spPr>
                  <a:xfrm>
                    <a:off x="1505160" y="327420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5" name=""/>
                  <p:cNvSpPr/>
                  <p:nvPr/>
                </p:nvSpPr>
                <p:spPr>
                  <a:xfrm>
                    <a:off x="1864080" y="327420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6" name=""/>
                  <p:cNvSpPr/>
                  <p:nvPr/>
                </p:nvSpPr>
                <p:spPr>
                  <a:xfrm>
                    <a:off x="2222280" y="327420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7" name=""/>
                  <p:cNvSpPr/>
                  <p:nvPr/>
                </p:nvSpPr>
                <p:spPr>
                  <a:xfrm>
                    <a:off x="2580840" y="327420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8" name=""/>
                  <p:cNvSpPr/>
                  <p:nvPr/>
                </p:nvSpPr>
                <p:spPr>
                  <a:xfrm>
                    <a:off x="2939760" y="327420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9" name=""/>
                  <p:cNvSpPr/>
                  <p:nvPr/>
                </p:nvSpPr>
                <p:spPr>
                  <a:xfrm>
                    <a:off x="3297960" y="327420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0" name=""/>
                  <p:cNvSpPr/>
                  <p:nvPr/>
                </p:nvSpPr>
                <p:spPr>
                  <a:xfrm>
                    <a:off x="3656520" y="327420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1" name=""/>
                  <p:cNvSpPr/>
                  <p:nvPr/>
                </p:nvSpPr>
                <p:spPr>
                  <a:xfrm>
                    <a:off x="4015440" y="327420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2" name=""/>
                  <p:cNvSpPr/>
                  <p:nvPr/>
                </p:nvSpPr>
                <p:spPr>
                  <a:xfrm>
                    <a:off x="4373640" y="327420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3" name=""/>
                  <p:cNvSpPr/>
                  <p:nvPr/>
                </p:nvSpPr>
                <p:spPr>
                  <a:xfrm>
                    <a:off x="4732200" y="327420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4" name=""/>
                  <p:cNvSpPr/>
                  <p:nvPr/>
                </p:nvSpPr>
                <p:spPr>
                  <a:xfrm>
                    <a:off x="5090760" y="327420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5" name=""/>
                <p:cNvGrpSpPr/>
                <p:nvPr/>
              </p:nvGrpSpPr>
              <p:grpSpPr>
                <a:xfrm>
                  <a:off x="932040" y="3425760"/>
                  <a:ext cx="4374000" cy="601920"/>
                  <a:chOff x="932040" y="3425760"/>
                  <a:chExt cx="4374000" cy="601920"/>
                </a:xfrm>
              </p:grpSpPr>
              <p:sp>
                <p:nvSpPr>
                  <p:cNvPr id="2896" name=""/>
                  <p:cNvSpPr/>
                  <p:nvPr/>
                </p:nvSpPr>
                <p:spPr>
                  <a:xfrm>
                    <a:off x="932040" y="342576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7" name=""/>
                  <p:cNvSpPr/>
                  <p:nvPr/>
                </p:nvSpPr>
                <p:spPr>
                  <a:xfrm>
                    <a:off x="1290240" y="342576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8" name=""/>
                  <p:cNvSpPr/>
                  <p:nvPr/>
                </p:nvSpPr>
                <p:spPr>
                  <a:xfrm>
                    <a:off x="1649160" y="342576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9" name=""/>
                  <p:cNvSpPr/>
                  <p:nvPr/>
                </p:nvSpPr>
                <p:spPr>
                  <a:xfrm>
                    <a:off x="2007360" y="342576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0" name=""/>
                  <p:cNvSpPr/>
                  <p:nvPr/>
                </p:nvSpPr>
                <p:spPr>
                  <a:xfrm>
                    <a:off x="2365920" y="342576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1" name=""/>
                  <p:cNvSpPr/>
                  <p:nvPr/>
                </p:nvSpPr>
                <p:spPr>
                  <a:xfrm>
                    <a:off x="2724840" y="342576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2" name=""/>
                  <p:cNvSpPr/>
                  <p:nvPr/>
                </p:nvSpPr>
                <p:spPr>
                  <a:xfrm>
                    <a:off x="3083040" y="342576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3" name=""/>
                  <p:cNvSpPr/>
                  <p:nvPr/>
                </p:nvSpPr>
                <p:spPr>
                  <a:xfrm>
                    <a:off x="3441600" y="342576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4" name=""/>
                  <p:cNvSpPr/>
                  <p:nvPr/>
                </p:nvSpPr>
                <p:spPr>
                  <a:xfrm>
                    <a:off x="3800520" y="342576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5" name=""/>
                  <p:cNvSpPr/>
                  <p:nvPr/>
                </p:nvSpPr>
                <p:spPr>
                  <a:xfrm>
                    <a:off x="4158720" y="342576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6" name=""/>
                  <p:cNvSpPr/>
                  <p:nvPr/>
                </p:nvSpPr>
                <p:spPr>
                  <a:xfrm>
                    <a:off x="4517280" y="342576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7" name=""/>
                  <p:cNvSpPr/>
                  <p:nvPr/>
                </p:nvSpPr>
                <p:spPr>
                  <a:xfrm>
                    <a:off x="4875840" y="3425760"/>
                    <a:ext cx="430200" cy="601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908" name=""/>
          <p:cNvSpPr/>
          <p:nvPr/>
        </p:nvSpPr>
        <p:spPr>
          <a:xfrm>
            <a:off x="7162920" y="3733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板已自布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0" y="5410080"/>
            <a:ext cx="3276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228600" y="53341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更互用之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瞬息可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5181480" y="5638680"/>
            <a:ext cx="37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隶书"/>
              </a:rPr>
              <a:t>活板印刷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板印书籍，唐人尚未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盛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之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五代时始印五经，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已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后典籍皆为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板本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4041720" y="4771080"/>
            <a:ext cx="310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雕版印刷发展情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5562720" y="6858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规模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4114800" y="22860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同“以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5867280" y="1676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做、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6629400" y="22096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板印的本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8" name="" descr=""/>
          <p:cNvPicPr/>
          <p:nvPr/>
        </p:nvPicPr>
        <p:blipFill>
          <a:blip r:embed="rId2"/>
          <a:stretch/>
        </p:blipFill>
        <p:spPr>
          <a:xfrm>
            <a:off x="533520" y="4800600"/>
            <a:ext cx="1523880" cy="137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2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2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2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2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2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/>
          </p:nvPr>
        </p:nvSpPr>
        <p:spPr>
          <a:xfrm>
            <a:off x="609480" y="2057400"/>
            <a:ext cx="792648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 后 典 籍 皆 为 板 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 上 以 松 脂、蜡 和 纸 灰 之 类 冒 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 以 一 铁 范 置 铁 板 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 备 一 板 内 有 重 复 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 讫 再 火 令 药 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 印 为 予 群 从 所 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1893960" y="21049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2962440" y="20289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1895400" y="26384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6848640" y="26384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1362240" y="32479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3419640" y="32479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1879560" y="38736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3419640" y="38577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1895400" y="44672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2946600" y="44067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1895400" y="50007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 txBox="1"/>
          <p:nvPr/>
        </p:nvSpPr>
        <p:spPr>
          <a:xfrm rot="1270200">
            <a:off x="3970080" y="907560"/>
            <a:ext cx="51735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4128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读准句子节奏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4128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庆历中，有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布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毕升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活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3" name=""/>
          <p:cNvGraphicFramePr/>
          <p:nvPr/>
        </p:nvGraphicFramePr>
        <p:xfrm>
          <a:off x="3338640" y="3903840"/>
          <a:ext cx="3657600" cy="18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8640" y="3903840"/>
                    <a:ext cx="36576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5" name=""/>
          <p:cNvSpPr/>
          <p:nvPr/>
        </p:nvSpPr>
        <p:spPr>
          <a:xfrm>
            <a:off x="4495680" y="9907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呼应上下文，说明活板是在印刷术上继雕版之后的“又”一大发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1523880" y="316944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活板发明的时间，发明人的身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2666880" y="10666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平民百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09480" y="4648320"/>
            <a:ext cx="1524240" cy="137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6" dur="500"/>
                                        <p:tgtEl>
                                          <p:spTgt spid="2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2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其法：用胶泥刻字，薄如钱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每字为一印，火烧令坚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先设一铁板，其上以松脂、蜡和纸灰之类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之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欲印，则以一铁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置铁板上，乃密布字印，满铁范为一板，持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火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之；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药稍熔，则以一平板按其面，则字平如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6400800" y="9144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边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1600200" y="3124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蒙、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4038480" y="31240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框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7010280" y="48006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5715000" y="4724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靠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2590920" y="59436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磨刀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4114800" y="13716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介绍活字印模的制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4572000" y="6019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介绍活板的制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4" dur="500"/>
                                        <p:tgtEl>
                                          <p:spTgt spid="2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9" dur="500"/>
                                        <p:tgtEl>
                                          <p:spTgt spid="2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4" dur="500"/>
                                        <p:tgtEl>
                                          <p:spTgt spid="2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9" dur="5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4" dur="500"/>
                                        <p:tgtEl>
                                          <p:spTgt spid="2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9" dur="500"/>
                                        <p:tgtEl>
                                          <p:spTgt spid="2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4" dur="500"/>
                                        <p:tgtEl>
                                          <p:spTgt spid="2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"/>
          <p:cNvSpPr/>
          <p:nvPr/>
        </p:nvSpPr>
        <p:spPr>
          <a:xfrm>
            <a:off x="380880" y="1066680"/>
            <a:ext cx="845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印三二本，未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简易；若印数十百千本，则极为神速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常作二铁板，一板印刷，一板已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布字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此印者才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则第二板已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更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之，瞬息可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762120" y="5335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同“只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3962520" y="5335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6248520" y="21337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另外，别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1828800" y="33526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完、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5257800" y="33526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准备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3962520" y="44956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完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228600" y="4419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交替、轮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3124080" y="5715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介绍活板的使用方法、功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2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2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2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8" dur="500"/>
                                        <p:tgtEl>
                                          <p:spTgt spid="2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3" dur="500"/>
                                        <p:tgtEl>
                                          <p:spTgt spid="2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8" dur="500"/>
                                        <p:tgtEl>
                                          <p:spTgt spid="2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"/>
          <p:cNvSpPr/>
          <p:nvPr/>
        </p:nvSpPr>
        <p:spPr>
          <a:xfrm>
            <a:off x="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3276720" y="1523880"/>
            <a:ext cx="228600" cy="2476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4440 h 2476800"/>
              <a:gd name="textAreaBottom" fmla="*/ 2412360 h 247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5181480" y="2742120"/>
            <a:ext cx="2130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设铁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冒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排字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就火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平模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0" y="19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4800600" y="685800"/>
            <a:ext cx="228600" cy="1782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6440 h 1782720"/>
              <a:gd name="textAreaBottom" fmla="*/ 1736280 h 178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5261040" y="532440"/>
            <a:ext cx="235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活字原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活字刻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活字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活字成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4952880" y="3048120"/>
            <a:ext cx="152640" cy="1904760"/>
          </a:xfrm>
          <a:custGeom>
            <a:avLst/>
            <a:gdLst>
              <a:gd name="textAreaLeft" fmla="*/ 97560 w 152640"/>
              <a:gd name="textAreaRight" fmla="*/ 153000 w 15264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3276720" y="5486400"/>
            <a:ext cx="228600" cy="593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480 h 593640"/>
              <a:gd name="textAreaBottom" fmla="*/ 578160 h 59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3505320" y="5180760"/>
            <a:ext cx="350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一板单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二板更互替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1981080" y="54093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印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57240" y="163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1676520" y="2743200"/>
            <a:ext cx="342720" cy="2819520"/>
          </a:xfrm>
          <a:custGeom>
            <a:avLst/>
            <a:gdLst>
              <a:gd name="textAreaLeft" fmla="*/ 218880 w 342720"/>
              <a:gd name="textAreaRight" fmla="*/ 343080 w 3427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3733920" y="380916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排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1981080" y="2438280"/>
            <a:ext cx="117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制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3581280" y="1295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刻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609480" y="1676520"/>
            <a:ext cx="609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活板印刷的工作流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228600" y="3049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隶书"/>
              </a:rPr>
              <a:t>说明顺序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隶书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8001000" y="2438280"/>
            <a:ext cx="609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时间顺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2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2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2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2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2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2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2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2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2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2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2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7" name=""/>
          <p:cNvSpPr/>
          <p:nvPr/>
        </p:nvSpPr>
        <p:spPr>
          <a:xfrm>
            <a:off x="457200" y="992160"/>
            <a:ext cx="815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每一字皆有数印，如“之”“也”等字，每字有二十余印，以备一板内有重复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用，则以纸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，每韵为一帖，木格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字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备者，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刻之，以草火烧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瞬息可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2590920" y="21337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用纸条标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1676520" y="32004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存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3962520" y="3809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马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1905120" y="38862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平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457200" y="3886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jī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生僻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6276600" y="1828440"/>
            <a:ext cx="172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一字多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6109200" y="3320640"/>
            <a:ext cx="236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按韵贮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5956560" y="5333400"/>
            <a:ext cx="236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奇字旋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2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0" dur="500"/>
                                        <p:tgtEl>
                                          <p:spTgt spid="2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5" dur="500"/>
                                        <p:tgtEl>
                                          <p:spTgt spid="2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0" dur="500"/>
                                        <p:tgtEl>
                                          <p:spTgt spid="2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5" dur="500"/>
                                        <p:tgtEl>
                                          <p:spTgt spid="2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0" dur="500"/>
                                        <p:tgtEl>
                                          <p:spTgt spid="2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"/>
          <p:cNvSpPr/>
          <p:nvPr/>
        </p:nvSpPr>
        <p:spPr>
          <a:xfrm>
            <a:off x="304920" y="1295280"/>
            <a:ext cx="868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以木为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者，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文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疏密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沾水则高下不平，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兼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药相粘，不可取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若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土，用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再火令要熔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手拂之，其印自落，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沾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3352680" y="762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纹理、质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1752480" y="7621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代活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3962520" y="19191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并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1219320" y="3124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3124080" y="3124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4648320" y="41148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很、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5266440" y="5638320"/>
            <a:ext cx="24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舍木取泥</a:t>
            </a:r>
            <a:r>
              <a:rPr b="0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5" dur="500"/>
                                        <p:tgtEl>
                                          <p:spTgt spid="2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0" dur="500"/>
                                        <p:tgtEl>
                                          <p:spTgt spid="2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5" dur="500"/>
                                        <p:tgtEl>
                                          <p:spTgt spid="2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0" dur="500"/>
                                        <p:tgtEl>
                                          <p:spTgt spid="2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5" dur="500"/>
                                        <p:tgtEl>
                                          <p:spTgt spid="2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0" dur="500"/>
                                        <p:tgtEl>
                                          <p:spTgt spid="2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5" dur="500"/>
                                        <p:tgtEl>
                                          <p:spTgt spid="2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"/>
          <p:cNvSpPr/>
          <p:nvPr/>
        </p:nvSpPr>
        <p:spPr>
          <a:xfrm>
            <a:off x="380880" y="22093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升死，其印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予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群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得，至今保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2743200" y="1752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3124080" y="29718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我的子侄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3581280" y="420624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交代字模的下落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2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3" dur="500"/>
                                        <p:tgtEl>
                                          <p:spTgt spid="2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8" dur="500"/>
                                        <p:tgtEl>
                                          <p:spTgt spid="2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38480" cy="2911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2827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3560760"/>
            <a:ext cx="3886200" cy="3297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4876920" y="3538440"/>
            <a:ext cx="4267080" cy="3319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09680" y="2666880"/>
            <a:ext cx="541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隶书"/>
              </a:rPr>
              <a:t>中国四大发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"/>
          <p:cNvSpPr/>
          <p:nvPr/>
        </p:nvSpPr>
        <p:spPr>
          <a:xfrm>
            <a:off x="763560" y="1904040"/>
            <a:ext cx="637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  <a:ea typeface="华文隶书"/>
              </a:rPr>
              <a:t>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  <a:ea typeface="华文隶书"/>
              </a:rPr>
              <a:t>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3231720" y="9136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字为一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2956320" y="1675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密布字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2949480" y="2590200"/>
            <a:ext cx="15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板更互替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2798280" y="34282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字皆有数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2806560" y="41904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奇字旋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2810520" y="5105160"/>
            <a:ext cx="19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印完后“火令药熔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字印“殊不沾污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6842520" y="990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字是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6612480" y="1751760"/>
            <a:ext cx="13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排板是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6451200" y="2590200"/>
            <a:ext cx="17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印刷方法是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6602760" y="3322080"/>
            <a:ext cx="17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字印数目是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6248520" y="4114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做法是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6324480" y="5318280"/>
            <a:ext cx="24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可继续使用也体现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0" y="1522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隶书"/>
              </a:rPr>
              <a:t>说明对象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隶书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3657600" y="2286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隶书"/>
              </a:rPr>
              <a:t>特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隶书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7" dur="500"/>
                                        <p:tgtEl>
                                          <p:spTgt spid="2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2" dur="500"/>
                                        <p:tgtEl>
                                          <p:spTgt spid="3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7" dur="500"/>
                                        <p:tgtEl>
                                          <p:spTgt spid="3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2" dur="500"/>
                                        <p:tgtEl>
                                          <p:spTgt spid="3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3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2" dur="500"/>
                                        <p:tgtEl>
                                          <p:spTgt spid="3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7" dur="500"/>
                                        <p:tgtEl>
                                          <p:spTgt spid="3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2" dur="500"/>
                                        <p:tgtEl>
                                          <p:spTgt spid="3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7" dur="500"/>
                                        <p:tgtEl>
                                          <p:spTgt spid="3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2" dur="500"/>
                                        <p:tgtEl>
                                          <p:spTgt spid="3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3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2" dur="500"/>
                                        <p:tgtEl>
                                          <p:spTgt spid="3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"/>
          <p:cNvSpPr/>
          <p:nvPr/>
        </p:nvSpPr>
        <p:spPr>
          <a:xfrm>
            <a:off x="380880" y="457200"/>
            <a:ext cx="5562720" cy="57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唐尚未盛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已后典籍皆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板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又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活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每字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满铁范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止印三二本，未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简易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印数十百千本，则极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神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不以木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其印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予群从所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6485040" y="45648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做，这里可译为使用、采用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5760720" y="1142280"/>
            <a:ext cx="19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表判断，可译为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5549040" y="1751760"/>
            <a:ext cx="10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做，创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5549760" y="23616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做，制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5698080" y="3061440"/>
            <a:ext cx="13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作为，当作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6324480" y="396216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算是，认为是（加强语气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6675480" y="504288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6709680" y="5652360"/>
            <a:ext cx="4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9" dur="500"/>
                                        <p:tgtEl>
                                          <p:spTgt spid="3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4" dur="500"/>
                                        <p:tgtEl>
                                          <p:spTgt spid="3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9" dur="500"/>
                                        <p:tgtEl>
                                          <p:spTgt spid="3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3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9" dur="500"/>
                                        <p:tgtEl>
                                          <p:spTgt spid="3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4" dur="500"/>
                                        <p:tgtEl>
                                          <p:spTgt spid="3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500"/>
                                        <p:tgtEl>
                                          <p:spTgt spid="3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4" dur="500"/>
                                        <p:tgtEl>
                                          <p:spTgt spid="3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"/>
          <p:cNvSpPr/>
          <p:nvPr/>
        </p:nvSpPr>
        <p:spPr>
          <a:xfrm>
            <a:off x="1643040" y="133200"/>
            <a:ext cx="188748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板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书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代时始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布字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1558800" y="2618640"/>
            <a:ext cx="1504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烧令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令药熔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2229480" y="3975840"/>
            <a:ext cx="1643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木为之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备一板内有重复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1635120" y="5347440"/>
            <a:ext cx="1504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瞬息可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持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火炀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4782960" y="22788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动词，刻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4815000" y="837360"/>
            <a:ext cx="28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板印”略写，用雕版刻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4924800" y="1447200"/>
            <a:ext cx="13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主语，字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4935960" y="1980360"/>
            <a:ext cx="13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宾语，印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5177160" y="259020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用火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5325480" y="312336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用火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5549040" y="3975840"/>
            <a:ext cx="10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介词，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5545440" y="4647600"/>
            <a:ext cx="13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连词，用来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5399640" y="540936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完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5399640" y="594288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靠近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762120" y="30492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914400" y="2819520"/>
            <a:ext cx="76320" cy="76176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914400" y="5562720"/>
            <a:ext cx="76320" cy="76176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838080" y="4191120"/>
            <a:ext cx="76320" cy="76176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1" dur="500"/>
                                        <p:tgtEl>
                                          <p:spTgt spid="3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6" dur="500"/>
                                        <p:tgtEl>
                                          <p:spTgt spid="3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1" dur="500"/>
                                        <p:tgtEl>
                                          <p:spTgt spid="3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6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1" dur="500"/>
                                        <p:tgtEl>
                                          <p:spTgt spid="3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6" dur="500"/>
                                        <p:tgtEl>
                                          <p:spTgt spid="3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1" dur="500"/>
                                        <p:tgtEl>
                                          <p:spTgt spid="3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6" dur="500"/>
                                        <p:tgtEl>
                                          <p:spTgt spid="3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1" dur="500"/>
                                        <p:tgtEl>
                                          <p:spTgt spid="3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6" dur="500"/>
                                        <p:tgtEl>
                                          <p:spTgt spid="3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"/>
          <p:cNvSpPr/>
          <p:nvPr/>
        </p:nvSpPr>
        <p:spPr>
          <a:xfrm>
            <a:off x="838080" y="6778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0" y="144792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幼圆"/>
              </a:rPr>
              <a:t>字是活的：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幼圆"/>
              </a:rPr>
              <a:t>“又为活板”，“每字为一印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幼圆"/>
              </a:rPr>
              <a:t>排版是活的：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幼圆"/>
              </a:rPr>
              <a:t>“密布字印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幼圆"/>
              </a:rPr>
              <a:t>印刷是活的：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幼圆"/>
              </a:rPr>
              <a:t>“一版……一版……”，“更互用之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幼圆"/>
              </a:rPr>
              <a:t>字印数目是活的：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幼圆"/>
              </a:rPr>
              <a:t>“每一字皆有数印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幼圆"/>
              </a:rPr>
              <a:t>做法是活的：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幼圆"/>
              </a:rPr>
              <a:t>奇字无备，旋刻即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幼圆"/>
              </a:rPr>
              <a:t>除此之外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幼圆"/>
              </a:rPr>
              <a:t>，用讫拆板，便于下次重新排版印刷也进一步说明了字的活用，体现了活版的灵活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幼圆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228600" y="3808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幼圆"/>
              </a:rPr>
              <a:t>活”字体现在活板制作印刷的全过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2616480" cy="3960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771640" y="0"/>
            <a:ext cx="637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我国是最早发明印刷术的国家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早期的印刷方法是把图文刻在木板上用水墨印刷的，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刻板印刷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刻板印刷在我国唐代已开始盛行，影响到非洲和欧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宋代庆历年间，毕昇首创泥活字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使书籍印刷更为方便。之后，又陆续出现用木、锡、铜和铅等金属制成活字板印刷书籍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4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左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德国用铅合金制成活字板，用油墨印刷，为现代金属活字印刷术奠定了基础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毕昇的活字印刷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早于西方四百多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毕昇开创了现代印刷术的先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44956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毕升：（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05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北宋发明家。徽州（今安徽歙县）人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816360" cy="2563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568920" y="2563920"/>
            <a:ext cx="351000" cy="244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732720" y="3573360"/>
            <a:ext cx="1857240" cy="127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4643280" y="0"/>
            <a:ext cx="4500720" cy="3297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0" y="2771640"/>
            <a:ext cx="4788000" cy="408636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5219640" y="5084640"/>
            <a:ext cx="3673440" cy="1479960"/>
            <a:chOff x="5219640" y="5084640"/>
            <a:chExt cx="3673440" cy="1479960"/>
          </a:xfrm>
        </p:grpSpPr>
        <p:pic>
          <p:nvPicPr>
            <p:cNvPr id="144" name="" descr=""/>
            <p:cNvPicPr/>
            <p:nvPr/>
          </p:nvPicPr>
          <p:blipFill>
            <a:blip r:embed="rId8"/>
            <a:stretch/>
          </p:blipFill>
          <p:spPr>
            <a:xfrm>
              <a:off x="5219640" y="5084640"/>
              <a:ext cx="3673440" cy="11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464160" y="6165720"/>
              <a:ext cx="98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</a:rPr>
                <a:t>泥活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581280" y="5065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11430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895480"/>
            <a:ext cx="12877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习生字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               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193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shēng    yáng     dǐ    zhù     fán    q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0574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昇        炀        砥     贮       燔    讫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0440" y="2819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多音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038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又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活板       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钱唇      蜡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纸灰    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十百千本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35053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wéi               báo                   huò          sh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50292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gēng                         ti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56386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互用之       以纸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之    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-100080" y="0"/>
            <a:ext cx="93441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1676520" y="2590920"/>
            <a:ext cx="1906560" cy="2584440"/>
            <a:chOff x="1676520" y="2590920"/>
            <a:chExt cx="1906560" cy="2584440"/>
          </a:xfrm>
        </p:grpSpPr>
        <p:sp>
          <p:nvSpPr>
            <p:cNvPr id="158" name=""/>
            <p:cNvSpPr/>
            <p:nvPr/>
          </p:nvSpPr>
          <p:spPr>
            <a:xfrm>
              <a:off x="1676520" y="2590920"/>
              <a:ext cx="1760400" cy="1800000"/>
            </a:xfrm>
            <a:custGeom>
              <a:avLst/>
              <a:gdLst/>
              <a:ahLst/>
              <a:rect l="l" t="t" r="r" b="b"/>
              <a:pathLst>
                <a:path w="1043" h="1431">
                  <a:moveTo>
                    <a:pt x="211" y="231"/>
                  </a:moveTo>
                  <a:cubicBezTo>
                    <a:pt x="278" y="114"/>
                    <a:pt x="316" y="63"/>
                    <a:pt x="451" y="36"/>
                  </a:cubicBezTo>
                  <a:cubicBezTo>
                    <a:pt x="601" y="51"/>
                    <a:pt x="754" y="49"/>
                    <a:pt x="901" y="81"/>
                  </a:cubicBezTo>
                  <a:cubicBezTo>
                    <a:pt x="923" y="86"/>
                    <a:pt x="923" y="120"/>
                    <a:pt x="931" y="141"/>
                  </a:cubicBezTo>
                  <a:cubicBezTo>
                    <a:pt x="954" y="202"/>
                    <a:pt x="965" y="273"/>
                    <a:pt x="976" y="336"/>
                  </a:cubicBezTo>
                  <a:cubicBezTo>
                    <a:pt x="967" y="626"/>
                    <a:pt x="1043" y="791"/>
                    <a:pt x="826" y="936"/>
                  </a:cubicBezTo>
                  <a:cubicBezTo>
                    <a:pt x="793" y="1035"/>
                    <a:pt x="837" y="920"/>
                    <a:pt x="766" y="1041"/>
                  </a:cubicBezTo>
                  <a:cubicBezTo>
                    <a:pt x="724" y="1113"/>
                    <a:pt x="718" y="1176"/>
                    <a:pt x="646" y="1221"/>
                  </a:cubicBezTo>
                  <a:cubicBezTo>
                    <a:pt x="630" y="1231"/>
                    <a:pt x="498" y="1251"/>
                    <a:pt x="496" y="1251"/>
                  </a:cubicBezTo>
                  <a:cubicBezTo>
                    <a:pt x="466" y="1271"/>
                    <a:pt x="426" y="1281"/>
                    <a:pt x="406" y="1311"/>
                  </a:cubicBezTo>
                  <a:cubicBezTo>
                    <a:pt x="364" y="1374"/>
                    <a:pt x="376" y="1406"/>
                    <a:pt x="301" y="1431"/>
                  </a:cubicBezTo>
                  <a:cubicBezTo>
                    <a:pt x="271" y="1421"/>
                    <a:pt x="239" y="1416"/>
                    <a:pt x="211" y="1401"/>
                  </a:cubicBezTo>
                  <a:cubicBezTo>
                    <a:pt x="166" y="1376"/>
                    <a:pt x="100" y="1275"/>
                    <a:pt x="61" y="1236"/>
                  </a:cubicBezTo>
                  <a:cubicBezTo>
                    <a:pt x="9" y="1081"/>
                    <a:pt x="28" y="1147"/>
                    <a:pt x="1" y="1041"/>
                  </a:cubicBezTo>
                  <a:cubicBezTo>
                    <a:pt x="6" y="1006"/>
                    <a:pt x="0" y="968"/>
                    <a:pt x="16" y="936"/>
                  </a:cubicBezTo>
                  <a:cubicBezTo>
                    <a:pt x="23" y="922"/>
                    <a:pt x="46" y="925"/>
                    <a:pt x="61" y="921"/>
                  </a:cubicBezTo>
                  <a:cubicBezTo>
                    <a:pt x="81" y="915"/>
                    <a:pt x="101" y="911"/>
                    <a:pt x="121" y="906"/>
                  </a:cubicBezTo>
                  <a:cubicBezTo>
                    <a:pt x="179" y="828"/>
                    <a:pt x="199" y="781"/>
                    <a:pt x="241" y="696"/>
                  </a:cubicBezTo>
                  <a:cubicBezTo>
                    <a:pt x="236" y="636"/>
                    <a:pt x="240" y="575"/>
                    <a:pt x="226" y="516"/>
                  </a:cubicBezTo>
                  <a:cubicBezTo>
                    <a:pt x="216" y="472"/>
                    <a:pt x="180" y="438"/>
                    <a:pt x="166" y="396"/>
                  </a:cubicBezTo>
                  <a:cubicBezTo>
                    <a:pt x="183" y="274"/>
                    <a:pt x="164" y="282"/>
                    <a:pt x="271" y="246"/>
                  </a:cubicBezTo>
                  <a:cubicBezTo>
                    <a:pt x="276" y="231"/>
                    <a:pt x="282" y="216"/>
                    <a:pt x="286" y="201"/>
                  </a:cubicBezTo>
                  <a:cubicBezTo>
                    <a:pt x="292" y="176"/>
                    <a:pt x="301" y="126"/>
                    <a:pt x="301" y="126"/>
                  </a:cubicBezTo>
                  <a:lnTo>
                    <a:pt x="436" y="0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21280" y="29718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胶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3809880"/>
              <a:ext cx="1449360" cy="1365480"/>
            </a:xfrm>
            <a:custGeom>
              <a:avLst/>
              <a:gdLst/>
              <a:ahLst/>
              <a:rect l="l" t="t" r="r" b="b"/>
              <a:pathLst>
                <a:path w="2283" h="2151">
                  <a:moveTo>
                    <a:pt x="1260" y="208"/>
                  </a:moveTo>
                  <a:cubicBezTo>
                    <a:pt x="1489" y="166"/>
                    <a:pt x="1776" y="87"/>
                    <a:pt x="1980" y="223"/>
                  </a:cubicBezTo>
                  <a:cubicBezTo>
                    <a:pt x="2060" y="343"/>
                    <a:pt x="1955" y="198"/>
                    <a:pt x="2055" y="298"/>
                  </a:cubicBezTo>
                  <a:cubicBezTo>
                    <a:pt x="2068" y="311"/>
                    <a:pt x="2073" y="329"/>
                    <a:pt x="2085" y="343"/>
                  </a:cubicBezTo>
                  <a:cubicBezTo>
                    <a:pt x="2147" y="418"/>
                    <a:pt x="2206" y="495"/>
                    <a:pt x="2250" y="583"/>
                  </a:cubicBezTo>
                  <a:cubicBezTo>
                    <a:pt x="2253" y="702"/>
                    <a:pt x="2283" y="1504"/>
                    <a:pt x="2250" y="1693"/>
                  </a:cubicBezTo>
                  <a:cubicBezTo>
                    <a:pt x="2243" y="1735"/>
                    <a:pt x="2105" y="1756"/>
                    <a:pt x="2070" y="1768"/>
                  </a:cubicBezTo>
                  <a:cubicBezTo>
                    <a:pt x="2029" y="1809"/>
                    <a:pt x="1969" y="1840"/>
                    <a:pt x="1935" y="1888"/>
                  </a:cubicBezTo>
                  <a:cubicBezTo>
                    <a:pt x="1880" y="1965"/>
                    <a:pt x="1859" y="2047"/>
                    <a:pt x="1770" y="2098"/>
                  </a:cubicBezTo>
                  <a:cubicBezTo>
                    <a:pt x="1753" y="2108"/>
                    <a:pt x="1678" y="2125"/>
                    <a:pt x="1665" y="2128"/>
                  </a:cubicBezTo>
                  <a:cubicBezTo>
                    <a:pt x="1230" y="2118"/>
                    <a:pt x="792" y="2151"/>
                    <a:pt x="360" y="2098"/>
                  </a:cubicBezTo>
                  <a:cubicBezTo>
                    <a:pt x="290" y="2089"/>
                    <a:pt x="268" y="1989"/>
                    <a:pt x="210" y="1948"/>
                  </a:cubicBezTo>
                  <a:cubicBezTo>
                    <a:pt x="166" y="1917"/>
                    <a:pt x="110" y="1908"/>
                    <a:pt x="60" y="1888"/>
                  </a:cubicBezTo>
                  <a:cubicBezTo>
                    <a:pt x="50" y="1873"/>
                    <a:pt x="37" y="1859"/>
                    <a:pt x="30" y="1843"/>
                  </a:cubicBezTo>
                  <a:cubicBezTo>
                    <a:pt x="17" y="1814"/>
                    <a:pt x="0" y="1753"/>
                    <a:pt x="0" y="1753"/>
                  </a:cubicBezTo>
                  <a:cubicBezTo>
                    <a:pt x="44" y="1686"/>
                    <a:pt x="99" y="1615"/>
                    <a:pt x="135" y="1543"/>
                  </a:cubicBezTo>
                  <a:cubicBezTo>
                    <a:pt x="165" y="1483"/>
                    <a:pt x="166" y="1413"/>
                    <a:pt x="180" y="1348"/>
                  </a:cubicBezTo>
                  <a:cubicBezTo>
                    <a:pt x="199" y="1263"/>
                    <a:pt x="211" y="1217"/>
                    <a:pt x="240" y="1138"/>
                  </a:cubicBezTo>
                  <a:cubicBezTo>
                    <a:pt x="282" y="1022"/>
                    <a:pt x="345" y="912"/>
                    <a:pt x="375" y="793"/>
                  </a:cubicBezTo>
                  <a:cubicBezTo>
                    <a:pt x="390" y="618"/>
                    <a:pt x="385" y="643"/>
                    <a:pt x="405" y="493"/>
                  </a:cubicBezTo>
                  <a:cubicBezTo>
                    <a:pt x="406" y="487"/>
                    <a:pt x="421" y="352"/>
                    <a:pt x="435" y="328"/>
                  </a:cubicBezTo>
                  <a:cubicBezTo>
                    <a:pt x="475" y="256"/>
                    <a:pt x="494" y="263"/>
                    <a:pt x="540" y="208"/>
                  </a:cubicBezTo>
                  <a:cubicBezTo>
                    <a:pt x="568" y="174"/>
                    <a:pt x="628" y="79"/>
                    <a:pt x="660" y="58"/>
                  </a:cubicBezTo>
                  <a:cubicBezTo>
                    <a:pt x="720" y="18"/>
                    <a:pt x="862" y="18"/>
                    <a:pt x="915" y="13"/>
                  </a:cubicBezTo>
                  <a:cubicBezTo>
                    <a:pt x="1015" y="18"/>
                    <a:pt x="1119" y="0"/>
                    <a:pt x="1215" y="28"/>
                  </a:cubicBezTo>
                  <a:cubicBezTo>
                    <a:pt x="1307" y="55"/>
                    <a:pt x="1253" y="117"/>
                    <a:pt x="1290" y="163"/>
                  </a:cubicBezTo>
                  <a:cubicBezTo>
                    <a:pt x="1310" y="188"/>
                    <a:pt x="1342" y="200"/>
                    <a:pt x="1365" y="223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419720" y="3809880"/>
            <a:ext cx="3657600" cy="1287360"/>
            <a:chOff x="4419720" y="3809880"/>
            <a:chExt cx="3657600" cy="1287360"/>
          </a:xfrm>
        </p:grpSpPr>
        <p:grpSp>
          <p:nvGrpSpPr>
            <p:cNvPr id="162" name=""/>
            <p:cNvGrpSpPr/>
            <p:nvPr/>
          </p:nvGrpSpPr>
          <p:grpSpPr>
            <a:xfrm>
              <a:off x="4419720" y="3809880"/>
              <a:ext cx="3657600" cy="1287360"/>
              <a:chOff x="4419720" y="3809880"/>
              <a:chExt cx="3657600" cy="1287360"/>
            </a:xfrm>
          </p:grpSpPr>
          <p:sp>
            <p:nvSpPr>
              <p:cNvPr id="163" name=""/>
              <p:cNvSpPr/>
              <p:nvPr/>
            </p:nvSpPr>
            <p:spPr>
              <a:xfrm>
                <a:off x="4876920" y="3809880"/>
                <a:ext cx="22860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419720" y="4647960"/>
                <a:ext cx="22860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257800" y="3962160"/>
                <a:ext cx="22860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876920" y="4343400"/>
                <a:ext cx="22860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562720" y="3809880"/>
                <a:ext cx="22860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181480" y="4647960"/>
                <a:ext cx="22860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095880" y="4038480"/>
                <a:ext cx="22860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715000" y="4800600"/>
                <a:ext cx="22860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77120" y="3809880"/>
                <a:ext cx="22860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705720" y="3809880"/>
                <a:ext cx="22860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553080" y="4038480"/>
                <a:ext cx="22860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172200" y="4800600"/>
                <a:ext cx="22860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400800" y="4800600"/>
                <a:ext cx="22860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934320" y="4114800"/>
                <a:ext cx="22860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848720" y="3809880"/>
                <a:ext cx="22860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391520" y="3809880"/>
                <a:ext cx="228600" cy="29700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391520" y="4114800"/>
                <a:ext cx="22860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238880" y="4343400"/>
                <a:ext cx="228600" cy="296640"/>
              </a:xfrm>
              <a:prstGeom prst="cube">
                <a:avLst>
                  <a:gd name="adj" fmla="val 25000"/>
                </a:avLst>
              </a:prstGeom>
              <a:solidFill>
                <a:srgbClr val="ae6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5742360" y="41148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字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5364000" y="2565360"/>
            <a:ext cx="225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薄如钱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-100080" y="0"/>
            <a:ext cx="934416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048120" y="3809880"/>
            <a:ext cx="5067360" cy="1630440"/>
          </a:xfrm>
          <a:prstGeom prst="cube">
            <a:avLst>
              <a:gd name="adj" fmla="val 87245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53520" y="4191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先设铁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3809880"/>
            <a:ext cx="5029200" cy="1371600"/>
          </a:xfrm>
          <a:prstGeom prst="parallelogram">
            <a:avLst>
              <a:gd name="adj" fmla="val 101886"/>
            </a:avLst>
          </a:prstGeom>
          <a:blipFill rotWithShape="0">
            <a:blip r:embed="rId3"/>
            <a:srcRect/>
            <a:stretch/>
          </a:blip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23360" y="4191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其上冒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048120" y="3657600"/>
            <a:ext cx="5029200" cy="1600200"/>
            <a:chOff x="3048120" y="3657600"/>
            <a:chExt cx="5029200" cy="1600200"/>
          </a:xfrm>
        </p:grpSpPr>
        <p:sp>
          <p:nvSpPr>
            <p:cNvPr id="189" name=""/>
            <p:cNvSpPr/>
            <p:nvPr/>
          </p:nvSpPr>
          <p:spPr>
            <a:xfrm>
              <a:off x="3124080" y="3657600"/>
              <a:ext cx="1524240" cy="1554120"/>
            </a:xfrm>
            <a:prstGeom prst="cube">
              <a:avLst>
                <a:gd name="adj" fmla="val 90361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2000" y="3657600"/>
              <a:ext cx="3352680" cy="2286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3080" y="3657600"/>
              <a:ext cx="1524240" cy="1554120"/>
            </a:xfrm>
            <a:prstGeom prst="cube">
              <a:avLst>
                <a:gd name="adj" fmla="val 90361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8120" y="5029200"/>
              <a:ext cx="3657600" cy="2286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923360" y="422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铁范置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-100080" y="0"/>
            <a:ext cx="934416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048120" y="3276720"/>
            <a:ext cx="5067360" cy="1630080"/>
          </a:xfrm>
          <a:prstGeom prst="cube">
            <a:avLst>
              <a:gd name="adj" fmla="val 87245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8120" y="3276720"/>
            <a:ext cx="4952880" cy="1447560"/>
          </a:xfrm>
          <a:prstGeom prst="parallelogram">
            <a:avLst>
              <a:gd name="adj" fmla="val 95074"/>
            </a:avLst>
          </a:prstGeom>
          <a:blipFill rotWithShape="0">
            <a:blip r:embed="rId3"/>
            <a:srcRect/>
            <a:stretch/>
          </a:blip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048120" y="3124080"/>
            <a:ext cx="5029200" cy="1600200"/>
            <a:chOff x="3048120" y="3124080"/>
            <a:chExt cx="5029200" cy="1600200"/>
          </a:xfrm>
        </p:grpSpPr>
        <p:sp>
          <p:nvSpPr>
            <p:cNvPr id="198" name=""/>
            <p:cNvSpPr/>
            <p:nvPr/>
          </p:nvSpPr>
          <p:spPr>
            <a:xfrm>
              <a:off x="3124080" y="3124080"/>
              <a:ext cx="1524240" cy="1554120"/>
            </a:xfrm>
            <a:prstGeom prst="cube">
              <a:avLst>
                <a:gd name="adj" fmla="val 90361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0" y="3124080"/>
              <a:ext cx="3352680" cy="2286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53080" y="3124080"/>
              <a:ext cx="1524240" cy="1554120"/>
            </a:xfrm>
            <a:prstGeom prst="cube">
              <a:avLst>
                <a:gd name="adj" fmla="val 90361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48120" y="4495680"/>
              <a:ext cx="3657600" cy="2286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4495680" y="31240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19720" y="32004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43400" y="33526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67080" y="33526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91120" y="35053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35812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36576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37339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9880" y="38862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33920" y="40384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4038480"/>
            <a:ext cx="228600" cy="30492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31240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76920" y="31240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76920" y="32767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48320" y="32004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33526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19720" y="34290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05320" y="41911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19720" y="35812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67080" y="36576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14800" y="38098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38480" y="39625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40384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33920" y="41911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62520" y="41911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33526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48320" y="35053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36576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7339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38862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91120" y="40384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1120" y="41911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2004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32767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33526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76920" y="34290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76920" y="35812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37339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38098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625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40384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41911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2004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33526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35053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05520" y="35812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36576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52880" y="37339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38862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40384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8320" y="41911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62720" y="32004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86400" y="32767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10080" y="34290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35812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37339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38862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52880" y="40384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76920" y="41911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91320" y="32004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15000" y="32767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34290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35812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36576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10080" y="38098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57800" y="39625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05520" y="40384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05520" y="41911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41911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19920" y="32004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43600" y="32767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67280" y="34290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91320" y="35053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15000" y="36576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38680" y="38098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86400" y="39625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6400" y="40384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41911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48520" y="32004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172200" y="32767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5880" y="34290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19920" y="35812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43600" y="36576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67280" y="38098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15000" y="39625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15000" y="40384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15000" y="41911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77120" y="32004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00800" y="32767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4480" y="33526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35053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72200" y="36576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5880" y="37339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19920" y="38862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43600" y="39625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43600" y="40384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43600" y="41911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05720" y="32004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29400" y="32767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553080" y="33526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77120" y="35053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00800" y="35812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24480" y="36576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37339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48520" y="38862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72200" y="39625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40384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91520" y="32004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41911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934320" y="32004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62920" y="32004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0" y="32767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86600" y="32767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33526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315200" y="32767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10280" y="33526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705720" y="35053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34320" y="35053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629400" y="35812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553080" y="36576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77120" y="38098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00800" y="39625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0" y="358128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81680" y="3733920"/>
            <a:ext cx="228600" cy="29664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05720" y="3886200"/>
            <a:ext cx="228600" cy="297000"/>
          </a:xfrm>
          <a:prstGeom prst="cube">
            <a:avLst>
              <a:gd name="adj" fmla="val 25000"/>
            </a:avLst>
          </a:prstGeom>
          <a:solidFill>
            <a:srgbClr val="ae6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09160" y="2209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密布字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1T07:02:58Z</dcterms:created>
  <dc:creator>klz</dc:creator>
  <dc:description/>
  <dc:language>en-US</dc:language>
  <cp:lastModifiedBy>User</cp:lastModifiedBy>
  <dcterms:modified xsi:type="dcterms:W3CDTF">2008-04-06T02:54:02Z</dcterms:modified>
  <cp:revision>36</cp:revision>
  <dc:subject/>
  <dc:title>没有幻灯片标题</dc:title>
</cp:coreProperties>
</file>