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C42-360F-4AD0-AEB7-6F4D7764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1D7-5E68-4CE5-9A2E-B774A96D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ECD-62CF-41FE-9F41-E2641E01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8F8-9C50-4398-B5AD-41897285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77A-93B9-42B2-A060-2E1E9AE2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DA6-88A2-429B-89A4-8F766821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DF7-33F4-4B3E-A29F-A2112220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D7F-12FC-448E-8C9F-41C40AF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862-FA36-436C-9E8A-1F42F8FA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EB1-24CA-4EEB-BC61-0D0B1E46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FE7-8710-4CC6-B823-6BC9086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984-BDFC-49BC-B971-DF9F175A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6A71-249C-4F65-A571-0B83AC89C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994120"/>
            <a:ext cx="527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荷塘旧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3680" y="467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08240" y="451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98760" y="304920"/>
            <a:ext cx="4586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960" y="334800"/>
            <a:ext cx="100332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bb53fb"/>
                </a:solidFill>
                <a:latin typeface="Arial"/>
              </a:rPr>
              <a:t>打水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03480" y="0"/>
            <a:ext cx="7711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500" spc="-1" strike="noStrike">
                <a:solidFill>
                  <a:srgbClr val="99cc00"/>
                </a:solidFill>
                <a:latin typeface="Arial"/>
              </a:rPr>
              <a:t>有时，我们分成两队，相互击水。那情景更是闹得慌。</a:t>
            </a:r>
            <a:r>
              <a:rPr b="1" lang="zh-CN" sz="3500" spc="-1" strike="noStrike">
                <a:solidFill>
                  <a:srgbClr val="0e27e4"/>
                </a:solidFill>
                <a:latin typeface="Arial"/>
              </a:rPr>
              <a:t>急速</a:t>
            </a:r>
            <a:r>
              <a:rPr b="1" lang="zh-CN" sz="3500" spc="-1" strike="noStrike">
                <a:solidFill>
                  <a:srgbClr val="99cc00"/>
                </a:solidFill>
                <a:latin typeface="Arial"/>
              </a:rPr>
              <a:t>的水线向对方射去，又从对方射来，水线交射在一起，</a:t>
            </a:r>
            <a:r>
              <a:rPr b="1" lang="zh-CN" sz="3500" spc="-1" strike="noStrike">
                <a:solidFill>
                  <a:srgbClr val="0e27e4"/>
                </a:solidFill>
                <a:latin typeface="Arial"/>
              </a:rPr>
              <a:t>撞击</a:t>
            </a:r>
            <a:r>
              <a:rPr b="1" lang="zh-CN" sz="3500" spc="-1" strike="noStrike">
                <a:solidFill>
                  <a:srgbClr val="99cc00"/>
                </a:solidFill>
                <a:latin typeface="Arial"/>
              </a:rPr>
              <a:t>出点点白珠，腾起，落下。“哗哗”的撩水声，“呀呀”的叫喊声，</a:t>
            </a:r>
            <a:r>
              <a:rPr b="1" lang="zh-CN" sz="3500" spc="-1" strike="noStrike">
                <a:solidFill>
                  <a:srgbClr val="0e27e4"/>
                </a:solidFill>
                <a:latin typeface="Arial"/>
              </a:rPr>
              <a:t>乱糟糟</a:t>
            </a:r>
            <a:r>
              <a:rPr b="1" lang="zh-CN" sz="3500" spc="-1" strike="noStrike">
                <a:solidFill>
                  <a:srgbClr val="99cc00"/>
                </a:solidFill>
                <a:latin typeface="Arial"/>
              </a:rPr>
              <a:t>响成一片。</a:t>
            </a:r>
            <a:r>
              <a:rPr b="1" lang="zh-CN" sz="3500" spc="-1" strike="noStrike" u="sng">
                <a:solidFill>
                  <a:srgbClr val="d11c09"/>
                </a:solidFill>
                <a:uFillTx/>
                <a:latin typeface="Arial"/>
              </a:rPr>
              <a:t>塘边树上的鸟也被骇得停止了鸣叫。</a:t>
            </a:r>
            <a:r>
              <a:rPr b="1" lang="zh-CN" sz="3500" spc="-1" strike="noStrike">
                <a:solidFill>
                  <a:srgbClr val="99cc00"/>
                </a:solidFill>
                <a:latin typeface="Arial"/>
              </a:rPr>
              <a:t>两条战线越逼越近，最后混成一团。搞不清谁和谁是一队的啦，只是闭着眼，嘴里“</a:t>
            </a:r>
            <a:r>
              <a:rPr b="1" lang="zh-CN" sz="3500" spc="-1" strike="noStrike">
                <a:solidFill>
                  <a:srgbClr val="0e27e4"/>
                </a:solidFill>
                <a:latin typeface="Arial"/>
              </a:rPr>
              <a:t>扑扑</a:t>
            </a:r>
            <a:r>
              <a:rPr b="1" lang="zh-CN" sz="3500" spc="-1" strike="noStrike">
                <a:solidFill>
                  <a:srgbClr val="99cc00"/>
                </a:solidFill>
                <a:latin typeface="Arial"/>
              </a:rPr>
              <a:t>”地吐着，使劲往外击水。当我们互相扭在一起时，便停止了击水，哈哈大笑起来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遇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而，无论怎样闹，决不能超越那道荷叶形成的绿色边缘线。线那边水深，还有些杂草，小朋友都怕。可是，我却根本没把这些警告放在心上。我一个城里的孩子，见识比他们多多啦，我才不怕呢！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11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11c09"/>
                </a:solidFill>
                <a:latin typeface="Arial"/>
              </a:rPr>
              <a:t>（为下文我溺水埋下伏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刚学会几下“狗刨”时，我觉得有了水中自卫的本事，就</a:t>
            </a:r>
            <a:r>
              <a:rPr b="0" lang="zh-CN" sz="2800" spc="-1" strike="noStrike">
                <a:solidFill>
                  <a:srgbClr val="eb2998"/>
                </a:solidFill>
                <a:latin typeface="Arial"/>
              </a:rPr>
              <a:t>满不在乎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破了那道绿线，到了荷花丛中。 该城里的人向乡下人</a:t>
            </a:r>
            <a:r>
              <a:rPr b="0" lang="zh-CN" sz="2800" spc="-1" strike="noStrike">
                <a:solidFill>
                  <a:srgbClr val="eb2998"/>
                </a:solidFill>
                <a:latin typeface="Arial"/>
              </a:rPr>
              <a:t>炫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，我想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起来，再向小朋友</a:t>
            </a:r>
            <a:r>
              <a:rPr b="0" lang="zh-CN" sz="2800" spc="-1" strike="noStrike">
                <a:solidFill>
                  <a:srgbClr val="eb2998"/>
                </a:solidFill>
                <a:latin typeface="Arial"/>
              </a:rPr>
              <a:t>骄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一声：“你们看！”</a:t>
            </a:r>
            <a:r>
              <a:rPr b="0" lang="zh-CN" sz="2800" spc="-1" strike="noStrike">
                <a:solidFill>
                  <a:srgbClr val="d11c0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11c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11c09"/>
                </a:solidFill>
                <a:latin typeface="Arial"/>
              </a:rPr>
              <a:t>（我逞强的个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67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67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67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67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4320" y="-401760"/>
            <a:ext cx="11314080" cy="7662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11c09"/>
                </a:solidFill>
                <a:latin typeface="Arial"/>
              </a:rPr>
              <a:t>溺水恐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可是这壮举刚开头，水便一下子没了我的头顶。顿时，一种不可名状的恐惧感紧紧地抓住了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29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我挣扎出水面，凄厉地嚎起来：“救命啊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29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   “</a:t>
            </a: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咕噜”，一口水进了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b29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eb2998"/>
                </a:solidFill>
                <a:latin typeface="Arial"/>
              </a:rPr>
              <a:t>我晕头转向地一个劲往上挺，每次冒头只能喊“救……”，便“咕噜”喝一口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99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799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799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99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小伙伴的善良淳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我双脚够不着底，身子像铅块般地往下坠，只觉得眼前金花乱冒，耳朵里嗡嗡作响，脑袋胀得几乎要炸，水还一个劲往嘴里涌。突然，我觉得有人抓住了我的手腕，接着一股力把我拉出来。原来，小伙伴们在水中排成一队，手拉手铁链般将我拖到岸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（既写出了小伙伴的机智，又写出了他们的善良淳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我吓得哇哇大哭，一个劲呕水。他们却围着我哈哈大笑，这下，他们可逮着机会嘲笑我这傲气十足的城市小少爷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（小伙伴看我的狼狈相，忍不住哈哈大笑，并没恶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和谐的美与淳朴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e27e4"/>
                </a:solidFill>
                <a:latin typeface="Arial"/>
              </a:rPr>
              <a:t>然而，那笑声是多么憨直纯朴啊！我一直留恋那笑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27e4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e27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e27e4"/>
                </a:solidFill>
                <a:latin typeface="Arial"/>
              </a:rPr>
              <a:t>如今，我的孩子已经上学了，往事也忘了许多，可是，那荷塘却同天上的月牙一样，时时浮现在我的眼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</a:rPr>
              <a:t>（因为那里有大自然和谐的美与淳朴无华、憨直可爱的小伙伴 ，所以这段经历难忘，这段友情难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be0e3"/>
                </a:solidFill>
                <a:latin typeface="Arial"/>
              </a:rPr>
              <a:t>荷花美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接天莲叶无穷碧，映日荷花别样红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荷花明灭水烟空，惆怅来时径不同。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虽云桃叶歌还醉，却被荷花笑不言。 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数枝石榴发，一丈荷花开。 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7577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自学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泡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 ā 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月牙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恬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恬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恬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喧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 u ā 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喧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喧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凄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 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凄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凄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缀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 h 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点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缀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嵌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 i à 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镶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嵌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憨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 ā 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憨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憨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链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 i à 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铁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533520"/>
            <a:ext cx="9753840" cy="7391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"/>
              </a:rPr>
              <a:t>迷人风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bcb014"/>
                </a:solidFill>
                <a:latin typeface="Arial"/>
              </a:rPr>
              <a:t>月朗风清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夜晚</a:t>
            </a:r>
            <a:r>
              <a:rPr b="1" lang="zh-CN" sz="2800" spc="-1" strike="noStrike">
                <a:solidFill>
                  <a:srgbClr val="bcb014"/>
                </a:solidFill>
                <a:latin typeface="Arial"/>
              </a:rPr>
              <a:t>，舅舅领我去那塘边散步。来到塘边，只见满塘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浮光跃金</a:t>
            </a:r>
            <a:r>
              <a:rPr b="1" lang="zh-CN" sz="2800" spc="-1" strike="noStrike">
                <a:solidFill>
                  <a:srgbClr val="bcb014"/>
                </a:solidFill>
                <a:latin typeface="Arial"/>
              </a:rPr>
              <a:t>，如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繁星闪烁</a:t>
            </a:r>
            <a:r>
              <a:rPr b="1" lang="zh-CN" sz="2800" spc="-1" strike="noStrike">
                <a:solidFill>
                  <a:srgbClr val="bcb014"/>
                </a:solidFill>
                <a:latin typeface="Arial"/>
              </a:rPr>
              <a:t>。塘四周的树木在微光下形成一围黑绿。整个月牙恰似一弯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晶莹</a:t>
            </a:r>
            <a:r>
              <a:rPr b="1" lang="zh-CN" sz="2800" spc="-1" strike="noStrike">
                <a:solidFill>
                  <a:srgbClr val="bcb014"/>
                </a:solidFill>
                <a:latin typeface="Arial"/>
              </a:rPr>
              <a:t>的新月嵌在田野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白天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，塘面在阳光下泛着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绿光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，在微风中漾着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绿浪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绿色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的荷叶铺在水面上，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绿叶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中点缀着许多粉红的荷苞和荷花，娇嫩而洁净的荷花颤动着，像披着</a:t>
            </a:r>
            <a:r>
              <a:rPr b="1" lang="zh-CN" sz="2800" spc="-1" strike="noStrike">
                <a:solidFill>
                  <a:srgbClr val="bb53fb"/>
                </a:solidFill>
                <a:latin typeface="Arial"/>
              </a:rPr>
              <a:t>青纱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</a:rPr>
              <a:t>跳舞的少女。</a:t>
            </a:r>
            <a:r>
              <a:rPr b="0" lang="zh-CN" sz="2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299412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6699"/>
                </a:solidFill>
                <a:latin typeface="Arial"/>
              </a:rPr>
              <a:t>（光彩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81680" y="2971800"/>
            <a:ext cx="16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520056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666699"/>
                </a:solidFill>
                <a:latin typeface="Arial"/>
              </a:rPr>
              <a:t>（色彩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狗刨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时，我们排成整齐的横队，有人发一声喊，只听得“</a:t>
            </a:r>
            <a:r>
              <a:rPr b="0" lang="zh-CN" sz="3200" spc="-1" strike="noStrike">
                <a:solidFill>
                  <a:srgbClr val="0099cc"/>
                </a:solidFill>
                <a:latin typeface="Arial"/>
              </a:rPr>
              <a:t>扑通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、“</a:t>
            </a:r>
            <a:r>
              <a:rPr b="0" lang="zh-CN" sz="3200" spc="-1" strike="noStrike">
                <a:solidFill>
                  <a:srgbClr val="0099cc"/>
                </a:solidFill>
                <a:latin typeface="Arial"/>
              </a:rPr>
              <a:t>扑通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，像哪个</a:t>
            </a:r>
            <a:r>
              <a:rPr b="0" lang="zh-CN" sz="3200" spc="-1" strike="noStrike">
                <a:solidFill>
                  <a:srgbClr val="0099cc"/>
                </a:solidFill>
                <a:latin typeface="Arial"/>
              </a:rPr>
              <a:t>鼓队乱了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似的一阵乱响，身后翻着</a:t>
            </a:r>
            <a:r>
              <a:rPr b="0" lang="zh-CN" sz="3200" spc="-1" strike="noStrike">
                <a:solidFill>
                  <a:srgbClr val="0099cc"/>
                </a:solidFill>
                <a:latin typeface="Arial"/>
              </a:rPr>
              <a:t>大菊花似的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这就是我们常玩的“狗刨比赛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“刨”到岸边，人人都</a:t>
            </a:r>
            <a:r>
              <a:rPr b="0" lang="zh-CN" sz="3200" spc="-1" strike="noStrike">
                <a:solidFill>
                  <a:srgbClr val="0099cc"/>
                </a:solidFill>
                <a:latin typeface="Arial"/>
              </a:rPr>
              <a:t>气喘吁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仰面倒在柔软的沙滩上。太阳热烘烘的，晒得我们</a:t>
            </a:r>
            <a:r>
              <a:rPr b="0" lang="zh-CN" sz="3200" spc="-1" strike="noStrike">
                <a:solidFill>
                  <a:srgbClr val="0099cc"/>
                </a:solidFill>
                <a:latin typeface="Arial"/>
              </a:rPr>
              <a:t>昏昏欲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驾云似的。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狗刨比赛</a:t>
            </a:r>
            <a:r>
              <a:rPr b="1" lang="zh-CN" sz="3200" spc="-1" strike="noStrike" u="sng">
                <a:solidFill>
                  <a:srgbClr val="ff66ff"/>
                </a:solidFill>
                <a:uFillTx/>
                <a:latin typeface="Arial"/>
              </a:rPr>
              <a:t>紧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3200" spc="-1" strike="noStrike" u="sng">
                <a:solidFill>
                  <a:srgbClr val="ff66ff"/>
                </a:solidFill>
                <a:uFillTx/>
                <a:latin typeface="Arial"/>
              </a:rPr>
              <a:t>激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2-21T10:21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