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shreg.wav" ContentType="audio/x-wav"/>
  <Override PartName="/ppt/media/driveby.wav" ContentType="audio/x-wav"/>
  <Override PartName="/ppt/media/image8.jpeg" ContentType="image/jpeg"/>
  <Override PartName="/ppt/media/whoosh.wav" ContentType="audio/x-wav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glass.wav" ContentType="audio/x-wav"/>
  <Override PartName="/ppt/media/image6.jpeg" ContentType="image/jpeg"/>
  <Override PartName="/ppt/media/chimes.wav" ContentType="audio/x-wav"/>
  <Override PartName="/ppt/media/image5.jpeg" ContentType="image/jpeg"/>
  <Override PartName="/ppt/media/image7.jpeg" ContentType="image/jpeg"/>
  <Override PartName="/ppt/media/camera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552-20AC-4498-A6A8-120A8C9C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AB5-8D83-44E2-8781-5A61D3B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29F7-67B6-40D5-BCA2-8022E080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A4D-433F-404F-98E7-B66C359C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56E-21C0-46E7-8548-0B403CAF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883-A56C-4906-AC6F-2131A8F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2666-FE86-4B21-BD8A-61D69665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83E-4DD0-41B1-B959-1BD2D86F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7E3-0FA3-417D-BF46-B3A11AA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6661-41AD-4412-B9F8-C97B3E5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1E2-4BFD-4099-BE8D-AEABD42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4B8-2D7C-4DB5-9AE5-7DF8D7B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35F7-87A7-4F6C-93C4-9A22687E4D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08360" y="1413000"/>
            <a:ext cx="360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每个人都有童年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都有或多或少的往事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们正处在童年阶段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应该都有难忘的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“童年往事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吧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说出来和大家一起分享一下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79280" y="-746640"/>
            <a:ext cx="4030560" cy="41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朗读课文，这篇课文围绕哪一句话来写的？在文章中起到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5280" y="3429000"/>
            <a:ext cx="74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我怀念那荷塘，在那里我认识了大自然和谐的美和人类淳朴的爱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338040"/>
            <a:ext cx="860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34136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找出文中描写荷塘景色的句子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9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来到塘边，只见满塘浮光跃金，如繁星闪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整个月牙泡恰似一弯晶莹的新月嵌在田野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白天，塘面在阳光下泛着绿光，在微风中荡着绿浪；绿色的荷叶铺在水面上，绿叶中点缀着许多粉红的荷苞和荷花，娇嫩而洁净的荷花颤动着，像披着青纱跳舞的少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675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读赏析仔细阅读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--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回答下列问题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6640"/>
            <a:ext cx="9150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这些句子都用了什么修辞手法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有什么作用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4040" y="2781360"/>
            <a:ext cx="475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比喻的修辞手法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用是描写荷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景色的美好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下文作者赞美大自然和谐的美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现农村少年天真、善良、淳朴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的心灵作铺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朗读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—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自然段。说一说，去掉这一部分好不好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432160"/>
            <a:ext cx="8820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答：不好。这三个自然段是向我们交代了荷塘的地点和特点，如果没有交代，文章内容跳跃性太大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5076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塘如天上的月牙儿一样时时浮现在作者眼前，那么作者难忘的仅仅是荷塘美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4005000"/>
            <a:ext cx="529272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品读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5—17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自然段，边读边看文中的插图，说说作者写了他和小伙伴之间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-2690640"/>
            <a:ext cx="7345440" cy="103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荷塘的景色是迷人的，荷塘边的小朋友是可爱的。这些小朋友健康而活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89308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黑泥鳅”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指的是“我”和村里的小伙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写出了小伙伴们戏水时的快乐，表现出他们活泼的性格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484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一条条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‘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黑泥鳅’在水中钻来钻去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者在写旧事时重点写了哪件事？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我”溺水获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我”为什么“满不在乎地冲破那道绿线，到了荷花丛中”？结果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答：因为“我”想向伙伴炫耀，逞能，以为那儿没有什么危险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结果我遇险溺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对险情，小伙伴是怎样做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小伙伴们在水中排成一队，手拉手铁链般将我拖到岸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1520" y="32907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个句子写得好吗？好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68240" y="4005360"/>
            <a:ext cx="55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好。以“铁链为喻，生动细致地表现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当时在”我“心中，伙伴们的友情救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倾情相帮，是那么值得依赖和依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当时可以说是”我“生命的保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被救起的”我“心情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4652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从中可以看出乡下小朋友的淳朴、聪明、勇敢和对小伙伴发自内心的爱。由这个问题可以导出文章的中心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773360"/>
            <a:ext cx="7920000" cy="1584360"/>
          </a:xfrm>
          <a:prstGeom prst="wedgeEllipseCallout">
            <a:avLst>
              <a:gd name="adj1" fmla="val -33745"/>
              <a:gd name="adj2" fmla="val -79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既不好意思，又高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6200" y="342900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者为什么写了一件自己遇险的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能表现作者怎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2360" y="189000"/>
            <a:ext cx="656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接天莲叶无穷碧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映日荷花别样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那笑声是多么憨直纯朴啊”，伙伴们在笑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这是小伙伴的善意嘲笑，在救了“我”以后，小伙伴们松了一口气，看到“我”的狼狈相，忍不住“哈哈”大笑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什么多年后，那荷塘仍时时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浮现在“我”眼前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17480" y="1197000"/>
            <a:ext cx="492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为什么多年后，那荷塘仍时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浮现在“我”眼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3400" y="3284640"/>
            <a:ext cx="570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答：因为作者难忘的不仅仅是美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更是那些淳朴无华、憨直可爱的小朋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友情难忘，令人永远铭记在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88000" y="1773000"/>
            <a:ext cx="23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这一池的荷花美丽吗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4437000"/>
            <a:ext cx="54831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08720" y="189000"/>
            <a:ext cx="3635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荷塘美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荷塘中发生的故事更美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一节课让我们一起走进美丽的荷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与作者一起欣赏荷塘美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起回忆荷塘那让人难以忘怀的往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712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荷塘"/>
          <p:cNvPicPr/>
          <p:nvPr/>
        </p:nvPicPr>
        <p:blipFill>
          <a:blip r:embed="rId1"/>
          <a:stretch/>
        </p:blipFill>
        <p:spPr>
          <a:xfrm>
            <a:off x="2771640" y="260280"/>
            <a:ext cx="6018480" cy="633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56440" y="938880"/>
            <a:ext cx="139932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黑体"/>
                <a:ea typeface="黑体"/>
              </a:rPr>
              <a:t>荷塘旧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23400" y="744480"/>
            <a:ext cx="272520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朗读课文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说说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主要讲了什么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49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260280"/>
            <a:ext cx="8281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生字注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zhu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颤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hàn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清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hè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静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tián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惊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骇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haì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 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炫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耀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xuàn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攫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住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jué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呕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吐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ǒu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憨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直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hān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留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li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n)   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朴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ch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n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79640" y="44280"/>
            <a:ext cx="529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读读下列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1244520"/>
            <a:ext cx="91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暑       假      月朗风清      浮光跃金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闪       烁      晶      莹       水       泡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镶       嵌      荷       苞      点       缀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气喘吁吁     昏昏欲睡       满不在乎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不可名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29080" y="148608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227160"/>
            <a:ext cx="3157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333360"/>
            <a:ext cx="30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词解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3560" y="153684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浮光跃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270972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不可名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2720" y="4005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攫       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400" y="5473800"/>
            <a:ext cx="20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憨       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62864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月光照耀下的水面闪着金光。这里比喻月光照耀下的水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03520" y="2835360"/>
            <a:ext cx="542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能够用语言形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3933720"/>
            <a:ext cx="19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抓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544500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憨实直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1:14:30Z</dcterms:created>
  <dc:creator>微软中国</dc:creator>
  <dc:description/>
  <cp:keywords/>
  <dc:language>en-US</dc:language>
  <cp:lastModifiedBy>Sky123.Org</cp:lastModifiedBy>
  <dcterms:modified xsi:type="dcterms:W3CDTF">2014-10-16T03:01:13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