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DE3-5A0E-4C53-A1BC-70060103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870-BD1F-4EF9-85C6-07D53E2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1B7-295C-4637-9732-4DBD325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37B-6FC0-4A91-A29E-C594647C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4E1-E8BC-4DF8-A61A-873DF219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45E-6786-4436-823F-948C6B9A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E89-2043-4C18-876C-07EFCC9E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D6A-DD51-4EF8-BE7D-BA2DB60E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E6B-8C1D-4342-B5EE-1DA853FF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572-2F80-45D0-A78D-4B4D9B8B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DB0-82E3-43B6-9D91-2AAE43A2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EB6-C094-46D8-9B7D-95A61D6C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343-83FA-4928-81A3-E503D17A0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ic.dzwww.com/show.asp?n=23533&amp;c=06152227313290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c.dzwww.com/show.asp?n=23533&amp;c=06152227313290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ser.99114.com/271152/ProductDes_96874_592391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jenny311.blogbus.com/logs/6773425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jjia.net/shoujitupian/infoq/rhf/hehuachi5rhfnsc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jjia.net/shoujitupian/infoq/rhf/hehuachi5rhfnsc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ser.99114.com/271152/ProductDes_96874_592391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jenny311.blogbus.com/logs/6773425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jenny311.blogbus.com/logs/6773425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ews.zbedu.net/ywkt/user1/pnxx/archives/2007/36779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6858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荷 塘 旧 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0070409121819326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朗风清的夜晚，舅舅领我去那塘边散步。来到塘边，只见满塘浮光跃金，如繁星闪烁。塘四周的树木在微光下形成一围黑绿。整个月牙恰似一弯晶莹的新月嵌在田野上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白天，塘面在阳光下泛着绿光，在微风中漾着绿浪。绿叶中点缀着许多粉红的荷苞和荷花，娇嫩而洁净的荷花颤动着，像披着青纱跳舞的少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配乐好.MP3" descr=""/>
          <p:cNvPicPr/>
          <p:nvPr/>
        </p:nvPicPr>
        <p:blipFill>
          <a:blip r:embed="rId2"/>
          <a:stretch/>
        </p:blipFill>
        <p:spPr>
          <a:xfrm>
            <a:off x="8686800" y="4952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0" y="4724280"/>
            <a:ext cx="854064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荷塘给你的感觉是怎么样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探究：作者是怎样把童年时那荷塘再现我们面前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提示：从写法上考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4724280"/>
            <a:ext cx="868680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个荷塘真        呀！我从                   （词、句）中体会到，因为它运用                （手法），写出了 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"/>
          <p:cNvSpPr/>
          <p:nvPr/>
        </p:nvSpPr>
        <p:spPr>
          <a:xfrm>
            <a:off x="4038480" y="5029200"/>
            <a:ext cx="1905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1"/>
          <p:cNvSpPr/>
          <p:nvPr/>
        </p:nvSpPr>
        <p:spPr>
          <a:xfrm>
            <a:off x="2362320" y="5410080"/>
            <a:ext cx="121896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4"/>
          <p:cNvSpPr/>
          <p:nvPr/>
        </p:nvSpPr>
        <p:spPr>
          <a:xfrm>
            <a:off x="2286000" y="5029200"/>
            <a:ext cx="6094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8"/>
          <p:cNvSpPr/>
          <p:nvPr/>
        </p:nvSpPr>
        <p:spPr>
          <a:xfrm>
            <a:off x="6095880" y="5486400"/>
            <a:ext cx="19051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下箭头 19"/>
          <p:cNvSpPr/>
          <p:nvPr/>
        </p:nvSpPr>
        <p:spPr>
          <a:xfrm>
            <a:off x="8915400" y="63244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247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286000"/>
            <a:ext cx="8610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句子都用了什么修辞手法？有什么作用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276720"/>
            <a:ext cx="8381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的修辞手法。作用是描写荷塘景色的美好。“一切景语皆情语”也为下文作者赞美大自然和谐的美和表现农村少年天真、善良、淳朴美好的心灵作铺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课文，初步感受荷塘的美景。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 探究：作者是怎样把他眼中的美丽的荷塘告诉我们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20070409121819326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2920" y="152208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朗风清的夜晚，舅舅领我去那塘边散步。来到塘边，只见满塘浮光跃金，如繁星闪烁。塘四周的树木在微光下形成一围黑绿。整个月牙恰似一弯晶莹的新月嵌在田野上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白天，塘面在阳光下泛着绿光，在微风中漾着绿浪。绿叶中点缀着许多粉红的荷苞和荷花，娇嫩而洁净的荷花颤动着，像披着青纱跳舞的少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8600" y="1523880"/>
            <a:ext cx="85345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月朗风清的夜晚，舅舅领我去那塘边散步。来到塘边，只见满塘浮光跃金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如繁星闪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塘四周的树木在微光下形成一围黑绿。整个月牙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恰似一弯晶莹的新月嵌在田野上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白天，塘面在阳光下泛着绿光，在微风中漾着绿浪。绿叶中点缀着许多粉红的荷苞和荷花，娇嫩而洁净的荷花颤动着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像披着青纱跳舞的少女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3962520" y="2438280"/>
            <a:ext cx="1828800" cy="609840"/>
          </a:xfrm>
          <a:prstGeom prst="ellipse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5605560" y="3984480"/>
            <a:ext cx="533160" cy="457200"/>
          </a:xfrm>
          <a:prstGeom prst="ellipse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943600" y="2895480"/>
            <a:ext cx="1066680" cy="609840"/>
          </a:xfrm>
          <a:prstGeom prst="ellipse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5562720" y="4387680"/>
            <a:ext cx="990360" cy="609840"/>
          </a:xfrm>
          <a:prstGeom prst="ellipse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荷塘的美，一方面是间接交待“我”怀念的原因，另一方面也是为下文写人做渲染和烘托，更加突出了小伙伴们的心灵纯洁、善良、美好。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809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运用了很多新颖恰切的比喻，突出了景色的动态、静态、颜色的美，并且构成整体画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用词讲究，动静搭配，颜色辉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3809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作者是如何写出戏水时的激烈？哪些词语用得特别好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rcRect l="0" t="41423" r="-292" b="14907"/>
          <a:stretch/>
        </p:blipFill>
        <p:spPr>
          <a:xfrm>
            <a:off x="0" y="3052800"/>
            <a:ext cx="9144000" cy="380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838080"/>
            <a:ext cx="4586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29000" y="533520"/>
            <a:ext cx="3472200" cy="609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者是如何写出戏水时的激烈？哪些词语用得特别好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4114800"/>
            <a:ext cx="83818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扑通通”扑通通”、“像哪个鼓队敲乱了套似的一阵乱响”形象地写出了比赛时的忙乱和紧张。“大菊花似的浪”又一个比喻我，浪花的形状跃然眼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124080"/>
            <a:ext cx="838188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击水比赛是激烈的，作者精选了一些词语：“击”、“闹”、“急速”、“射”、“撞击”、“混”、竭尽描写之能事，再现了比赛的激烈。而“当我们互相扭在一起时，便停止了击水，哈哈大笑起来“，表现了小伙伴们的亲密无间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0312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9625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在这美丽的地方，作者过了一个怎样的暑假？你从哪些地方看出来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4572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荷 塘 旧 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60020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题破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荷塘：事件发生的地点。旧事：往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朗读想像：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我遇到危险的情景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81480" y="304920"/>
            <a:ext cx="3733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我在拼命挣扎时，小伙伴们的反应，表情，语言，动作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会比喻句“铁链般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1_1-1-23-338_2003060810210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697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143000" y="43434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手拉手铁链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2955960"/>
            <a:ext cx="88390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的高潮之处是“我”溺水时。作者写出了自己遇险时的狼狈与危险，隐藏了小伙伴们的着急。最后，小伙伴们“在水中排成一队。手拉手铁链般地将我拖到岸上。”既写出了小伙伴们的机智，又写出了他们的善良与淳朴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57800" y="380880"/>
            <a:ext cx="36576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绝处逢生的我吓得哇哇大哭。可是小伙伴们却哈哈大笑，你们理解吗？他们为什么笑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rcRect l="0" t="41423" r="-292" b="14907"/>
          <a:stretch/>
        </p:blipFill>
        <p:spPr>
          <a:xfrm>
            <a:off x="0" y="3052800"/>
            <a:ext cx="9144000" cy="3805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5486400"/>
            <a:ext cx="83818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绝处逢生的我吓得哇哇大哭。可是小伙伴们却哈哈大笑，你们理解吗？他们为什么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800600"/>
            <a:ext cx="838188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是小伙伴们善意的嘲笑，是我得救后小伙伴们的心情放松了，这是他们憨直淳朴的性格的一种表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4419360"/>
            <a:ext cx="8229600" cy="243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本文的题目来看，本文是记事的。但作者却用了三个自然段来写景。这是否矛盾？去掉这一部分好不好？为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229600" cy="22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荷塘的美，一方面是间接交待“我”怀念的原因，另一方面也是为下文写人做渲染和烘托，更加突出了小伙伴们的心灵纯洁、善良、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3505320"/>
            <a:ext cx="8229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荷塘旧事》是一篇回忆性的写景叙事散文。文章中多处运用比喻的修辞手法，渲染了荷塘的美丽景色。其中，还叙述了发生在荷塘里让作者深深铭记在心的一件往事。通过美景旧事，抒发了作者赞美自然，赞美人类纯朴的爱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41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月牙泡          月朗风清       浮光跃金  繁星闪烁      晶莹      嵌在      点缀  荷苞             几株      恬静      喧闹  狗刨式          气喘吁吁          热烘烘  昏昏欲睡      满不在乎        炫耀  不可名状          恐惧       凄厉      铁链  哇哇大哭      哈哈大笑        嘲笑      憨直             淳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286000"/>
            <a:ext cx="8610480" cy="34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汇报预习：生词解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浮光跃金：指月光照耀下的水面闪着金光。这里比喻月光照耀下的水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可名状：不能够用语言形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攫 住：抓住。 憨 直：憨实直爽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6520" y="6858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荷 塘 旧 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743200"/>
            <a:ext cx="70102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是怎样安排材料的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：文章先写什么？再写什么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114800" cy="655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67080" y="609480"/>
            <a:ext cx="4876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3276720"/>
            <a:ext cx="861084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读赏析 仔细阅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---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讨论回答下列问题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请你找出文中描写荷塘景色的句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4:30:45Z</dcterms:created>
  <dc:creator/>
  <dc:description/>
  <dc:language>en-US</dc:language>
  <cp:lastModifiedBy>微软中国</cp:lastModifiedBy>
  <dcterms:modified xsi:type="dcterms:W3CDTF">2013-10-21T04:33:2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02</vt:lpwstr>
  </property>
  <property fmtid="{D5CDD505-2E9C-101B-9397-08002B2CF9AE}" pid="3" name="Version">
    <vt:r8>1</vt:r8>
  </property>
</Properties>
</file>