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DF7-77EA-4874-A25A-6EC4BD70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216C-E4C0-46F3-BF50-0923015E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6EB-CA1A-442A-94B3-204AD62C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CBC-E4D3-40C2-B13C-C4F4E359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BFAB-0B9F-48E3-845D-28AA4284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444-DC95-4ABD-BD28-E543B07C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6DD-13AB-4AF1-9D07-E466E0EF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483-DA1A-4D48-A72C-9523A2F2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E6F-63BD-4AC7-8E3B-8E010206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102-7DF9-4CD8-8CA0-6A310201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5AF-EE6B-4951-93AF-FDCBA203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B5C-0070-4E92-A437-047889F0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693D-F2DF-4CDD-BA94-90722A8168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2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2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751714411681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403280" y="1413000"/>
            <a:ext cx="7128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00ff00"/>
                </a:solidFill>
                <a:latin typeface="Arial"/>
                <a:ea typeface="华文楷体"/>
              </a:rPr>
              <a:t>黄山奇松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>
            <a:hlinkClick r:id="rId2" action="ppaction://hlinksldjump"/>
          </p:cNvPr>
          <p:cNvSpPr/>
          <p:nvPr/>
        </p:nvSpPr>
        <p:spPr>
          <a:xfrm>
            <a:off x="1042920" y="5589720"/>
            <a:ext cx="792360" cy="2872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生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>
            <a:hlinkClick r:id="rId3" action="ppaction://hlinksldjump"/>
          </p:cNvPr>
          <p:cNvSpPr/>
          <p:nvPr/>
        </p:nvSpPr>
        <p:spPr>
          <a:xfrm>
            <a:off x="5003640" y="558972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身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>
            <a:hlinkClick r:id="rId4" action="ppaction://hlinksldjump"/>
          </p:cNvPr>
          <p:cNvSpPr/>
          <p:nvPr/>
        </p:nvSpPr>
        <p:spPr>
          <a:xfrm>
            <a:off x="5003640" y="6165720"/>
            <a:ext cx="792360" cy="289080"/>
          </a:xfrm>
          <a:prstGeom prst="rect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四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>
            <a:hlinkClick r:id="rId5" action="ppaction://hlinksldjump"/>
          </p:cNvPr>
          <p:cNvSpPr/>
          <p:nvPr/>
        </p:nvSpPr>
        <p:spPr>
          <a:xfrm>
            <a:off x="1116000" y="6165720"/>
            <a:ext cx="72072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迎客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482920" y="5518080"/>
            <a:ext cx="72072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陪客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482920" y="6237360"/>
            <a:ext cx="718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送客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780000" y="5589720"/>
            <a:ext cx="79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品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3780000" y="6165720"/>
            <a:ext cx="7920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千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6227640" y="5589720"/>
            <a:ext cx="720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3849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003640" y="404640"/>
            <a:ext cx="38592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迎客松姿态优美，枝干遒劲，虽然饱经风霜，却仍然郁郁苍苍，充满生机。它有一丛青翠的枝干斜伸出去，如同好客的主人伸出手臂，热情地欢迎宾客的到来。如今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棵迎客松已经成为黄山奇松的代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乃至整个黄山的象征了</a:t>
            </a: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yks"/>
          <p:cNvPicPr/>
          <p:nvPr/>
        </p:nvPicPr>
        <p:blipFill>
          <a:blip r:embed="rId1"/>
          <a:stretch/>
        </p:blipFill>
        <p:spPr>
          <a:xfrm>
            <a:off x="179280" y="404640"/>
            <a:ext cx="471168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476360" y="16016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4360" y="1628640"/>
            <a:ext cx="813564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迎客松（   ），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（   ）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虽然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（ 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）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却仍然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）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）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76360" y="16016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4360" y="1628640"/>
            <a:ext cx="79214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迎客松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姿态优美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枝干遒劲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虽然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饱经风霜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却仍然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郁郁苍苍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充满生机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7740720" y="6093000"/>
            <a:ext cx="576360" cy="21564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7672" h="21600">
                <a:moveTo>
                  <a:pt x="0" y="0"/>
                </a:moveTo>
                <a:lnTo>
                  <a:pt x="57672" y="0"/>
                </a:lnTo>
                <a:lnTo>
                  <a:pt x="57672" y="21600"/>
                </a:lnTo>
                <a:lnTo>
                  <a:pt x="0" y="21600"/>
                </a:lnTo>
                <a:close/>
              </a:path>
              <a:path fill="lightenLess" w="57672" h="21600">
                <a:moveTo>
                  <a:pt x="0" y="0"/>
                </a:moveTo>
                <a:lnTo>
                  <a:pt x="57672" y="0"/>
                </a:lnTo>
                <a:lnTo>
                  <a:pt x="56272" y="1400"/>
                </a:lnTo>
                <a:lnTo>
                  <a:pt x="1400" y="1400"/>
                </a:lnTo>
                <a:close/>
              </a:path>
              <a:path fill="darken" w="57672" h="21600">
                <a:moveTo>
                  <a:pt x="57672" y="0"/>
                </a:moveTo>
                <a:lnTo>
                  <a:pt x="57672" y="21600"/>
                </a:lnTo>
                <a:lnTo>
                  <a:pt x="56272" y="20200"/>
                </a:lnTo>
                <a:lnTo>
                  <a:pt x="56272" y="1400"/>
                </a:lnTo>
                <a:close/>
              </a:path>
              <a:path fill="darkenLess" w="57672" h="21600">
                <a:moveTo>
                  <a:pt x="57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72" y="20200"/>
                </a:lnTo>
                <a:close/>
              </a:path>
              <a:path fill="lighten" w="57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72" h="21600">
                <a:moveTo>
                  <a:pt x="21830" y="10800"/>
                </a:moveTo>
                <a:lnTo>
                  <a:pt x="35842" y="3794"/>
                </a:lnTo>
                <a:lnTo>
                  <a:pt x="3584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5851440" y="83808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陪客松正对玉屏楼，如同一个绿色的巨人站在那儿，正陪同游人观赏美丽的黄山风光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pks2"/>
          <p:cNvPicPr/>
          <p:nvPr/>
        </p:nvPicPr>
        <p:blipFill>
          <a:blip r:embed="rId1"/>
          <a:stretch/>
        </p:blipFill>
        <p:spPr>
          <a:xfrm>
            <a:off x="457200" y="762120"/>
            <a:ext cx="502920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724360" y="549360"/>
            <a:ext cx="298800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陪客松正对玉屏楼，如同一个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绿色的巨人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站在那儿，正陪同游人观赏美丽的黄山风光</a:t>
            </a:r>
            <a:r>
              <a:rPr b="0" lang="zh-CN" sz="3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pks2"/>
          <p:cNvPicPr/>
          <p:nvPr/>
        </p:nvPicPr>
        <p:blipFill>
          <a:blip r:embed="rId1"/>
          <a:stretch/>
        </p:blipFill>
        <p:spPr>
          <a:xfrm>
            <a:off x="457200" y="762120"/>
            <a:ext cx="5029200" cy="526392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4"/>
          <p:cNvSpPr/>
          <p:nvPr/>
        </p:nvSpPr>
        <p:spPr>
          <a:xfrm>
            <a:off x="8244000" y="6165720"/>
            <a:ext cx="504720" cy="21600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24" h="21600">
                <a:moveTo>
                  <a:pt x="0" y="0"/>
                </a:moveTo>
                <a:lnTo>
                  <a:pt x="50424" y="0"/>
                </a:lnTo>
                <a:lnTo>
                  <a:pt x="50424" y="21600"/>
                </a:lnTo>
                <a:lnTo>
                  <a:pt x="0" y="21600"/>
                </a:lnTo>
                <a:close/>
              </a:path>
              <a:path fill="lightenLess" w="50424" h="21600">
                <a:moveTo>
                  <a:pt x="0" y="0"/>
                </a:moveTo>
                <a:lnTo>
                  <a:pt x="50424" y="0"/>
                </a:lnTo>
                <a:lnTo>
                  <a:pt x="49024" y="1400"/>
                </a:lnTo>
                <a:lnTo>
                  <a:pt x="1400" y="1400"/>
                </a:lnTo>
                <a:close/>
              </a:path>
              <a:path fill="darken" w="50424" h="21600">
                <a:moveTo>
                  <a:pt x="50424" y="0"/>
                </a:moveTo>
                <a:lnTo>
                  <a:pt x="50424" y="21600"/>
                </a:lnTo>
                <a:lnTo>
                  <a:pt x="49024" y="20200"/>
                </a:lnTo>
                <a:lnTo>
                  <a:pt x="49024" y="1400"/>
                </a:lnTo>
                <a:close/>
              </a:path>
              <a:path fill="darkenLess" w="50424" h="21600">
                <a:moveTo>
                  <a:pt x="50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24" y="20200"/>
                </a:lnTo>
                <a:close/>
              </a:path>
              <a:path fill="lighten" w="50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24" h="21600">
                <a:moveTo>
                  <a:pt x="18205" y="10800"/>
                </a:moveTo>
                <a:lnTo>
                  <a:pt x="32218" y="3794"/>
                </a:lnTo>
                <a:lnTo>
                  <a:pt x="32218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971640" y="836640"/>
            <a:ext cx="741672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送客松姿态独特，枝干蟠曲，游人把它比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天然盆景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它向山下伸出长长的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手臂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好像在跟游客依依不舍地告别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4932360" y="620640"/>
            <a:ext cx="399564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送客松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姿态独特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枝干蟠曲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游人把它比作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天然盆景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。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它向山下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伸出长长的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手臂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好像在跟游客依依不舍地告别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sks3"/>
          <p:cNvPicPr/>
          <p:nvPr/>
        </p:nvPicPr>
        <p:blipFill>
          <a:blip r:embed="rId1"/>
          <a:stretch/>
        </p:blipFill>
        <p:spPr>
          <a:xfrm>
            <a:off x="250920" y="549360"/>
            <a:ext cx="4537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500720" y="620640"/>
            <a:ext cx="4427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送客松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（ ）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（   ）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游人把它比作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（    ）。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它向山下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  ），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好像在跟游客依依不舍地告别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sks3"/>
          <p:cNvPicPr/>
          <p:nvPr/>
        </p:nvPicPr>
        <p:blipFill>
          <a:blip r:embed="rId1"/>
          <a:stretch/>
        </p:blipFill>
        <p:spPr>
          <a:xfrm>
            <a:off x="250920" y="549360"/>
            <a:ext cx="3960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932360" y="620640"/>
            <a:ext cx="399564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送客松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姿态独特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枝干蟠曲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游人把它比作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天然盆景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。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它向山下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伸出长长的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手臂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好像在跟游客依依不舍地告别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sks3"/>
          <p:cNvPicPr/>
          <p:nvPr/>
        </p:nvPicPr>
        <p:blipFill>
          <a:blip r:embed="rId1"/>
          <a:stretch/>
        </p:blipFill>
        <p:spPr>
          <a:xfrm>
            <a:off x="250920" y="549360"/>
            <a:ext cx="4537080" cy="568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4"/>
          <p:cNvSpPr/>
          <p:nvPr/>
        </p:nvSpPr>
        <p:spPr>
          <a:xfrm>
            <a:off x="8172360" y="6165720"/>
            <a:ext cx="576360" cy="28764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14621" y="10800"/>
                </a:moveTo>
                <a:lnTo>
                  <a:pt x="28633" y="3794"/>
                </a:lnTo>
                <a:lnTo>
                  <a:pt x="28633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08000" y="549360"/>
            <a:ext cx="8785080" cy="36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赏析下面三句话的写法妙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它（迎客松）有一丛青翠的枝干斜伸出去，如同好客的主人伸出手臂，热情地欢迎宾客的到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陪客松正对玉屏楼，如同一个绿色的巨人站在那儿，正陪同游人观赏美丽的黄山风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它（送客松）向山下伸出长长的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手臂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，好像在跟游客依依不舍地告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39640" y="62064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我会读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24000" y="1197000"/>
            <a:ext cx="882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宋体"/>
              </a:rPr>
              <a:t>赞誉    陡崖   遒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宋体"/>
              </a:rPr>
              <a:t>宾客    屹立   卧龙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情有独钟      饱经风霜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郁郁苍苍      依依不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7596360" y="5734080"/>
            <a:ext cx="502920" cy="21600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44" h="21600">
                <a:moveTo>
                  <a:pt x="0" y="0"/>
                </a:moveTo>
                <a:lnTo>
                  <a:pt x="50244" y="0"/>
                </a:lnTo>
                <a:lnTo>
                  <a:pt x="50244" y="21600"/>
                </a:lnTo>
                <a:lnTo>
                  <a:pt x="0" y="21600"/>
                </a:lnTo>
                <a:close/>
              </a:path>
              <a:path fill="lightenLess" w="50244" h="21600">
                <a:moveTo>
                  <a:pt x="0" y="0"/>
                </a:moveTo>
                <a:lnTo>
                  <a:pt x="50244" y="0"/>
                </a:lnTo>
                <a:lnTo>
                  <a:pt x="48844" y="1400"/>
                </a:lnTo>
                <a:lnTo>
                  <a:pt x="1400" y="1400"/>
                </a:lnTo>
                <a:close/>
              </a:path>
              <a:path fill="darken" w="50244" h="21600">
                <a:moveTo>
                  <a:pt x="50244" y="0"/>
                </a:moveTo>
                <a:lnTo>
                  <a:pt x="50244" y="21600"/>
                </a:lnTo>
                <a:lnTo>
                  <a:pt x="48844" y="20200"/>
                </a:lnTo>
                <a:lnTo>
                  <a:pt x="48844" y="1400"/>
                </a:lnTo>
                <a:close/>
              </a:path>
              <a:path fill="darkenLess" w="50244" h="21600">
                <a:moveTo>
                  <a:pt x="5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44" y="20200"/>
                </a:lnTo>
                <a:close/>
              </a:path>
              <a:path fill="lighten" w="5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44" h="21600">
                <a:moveTo>
                  <a:pt x="18116" y="10800"/>
                </a:moveTo>
                <a:lnTo>
                  <a:pt x="32129" y="3794"/>
                </a:lnTo>
                <a:lnTo>
                  <a:pt x="32129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11280" y="54936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选词填空，品味用词的准确和精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游人     游客     宾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它（迎客松）有一丛青翠的枝干斜伸出去，如同好客的主人伸出手臂，热情地欢迎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</a:rPr>
              <a:t>     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到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陪客松正对玉屏楼，如同一个绿色的巨人站在那儿，正陪同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观赏美丽的黄山风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送客松姿态独特，枝干蟠曲，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把它比作“天然盆景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它（送客松）向山下伸出长长的“手臂”，好像在跟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依依不舍地告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95280" y="692280"/>
            <a:ext cx="835344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新魏"/>
                <a:ea typeface="华文新魏"/>
              </a:rPr>
              <a:t>游人    游客    宾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它（迎客松）有一丛青翠的枝干斜伸出去，如同好客的主人伸出手臂，热情地欢迎 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Arial"/>
                <a:ea typeface="华文新魏"/>
              </a:rPr>
              <a:t>宾客</a:t>
            </a:r>
            <a:r>
              <a:rPr b="0" lang="zh-CN" sz="28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到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陪客松正对玉屏楼，如同一个绿色的巨人站在那儿，正陪同</a:t>
            </a:r>
            <a:r>
              <a:rPr b="1" lang="zh-CN" sz="28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Arial"/>
                <a:ea typeface="华文新魏"/>
              </a:rPr>
              <a:t>游人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观赏美丽的黄山风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送客松姿态独特，枝干蟠曲，</a:t>
            </a:r>
            <a:r>
              <a:rPr b="1" lang="zh-CN" sz="28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Arial"/>
                <a:ea typeface="华文新魏"/>
              </a:rPr>
              <a:t>游人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把它比作“天然盆景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它（送客松）向山下伸出长长的“手臂”，好像在跟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Arial"/>
                <a:ea typeface="华文新魏"/>
              </a:rPr>
              <a:t>游客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依依不舍地告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8028000" y="6021360"/>
            <a:ext cx="504720" cy="21600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24" h="21600">
                <a:moveTo>
                  <a:pt x="0" y="0"/>
                </a:moveTo>
                <a:lnTo>
                  <a:pt x="50424" y="0"/>
                </a:lnTo>
                <a:lnTo>
                  <a:pt x="50424" y="21600"/>
                </a:lnTo>
                <a:lnTo>
                  <a:pt x="0" y="21600"/>
                </a:lnTo>
                <a:close/>
              </a:path>
              <a:path fill="lightenLess" w="50424" h="21600">
                <a:moveTo>
                  <a:pt x="0" y="0"/>
                </a:moveTo>
                <a:lnTo>
                  <a:pt x="50424" y="0"/>
                </a:lnTo>
                <a:lnTo>
                  <a:pt x="49024" y="1400"/>
                </a:lnTo>
                <a:lnTo>
                  <a:pt x="1400" y="1400"/>
                </a:lnTo>
                <a:close/>
              </a:path>
              <a:path fill="darken" w="50424" h="21600">
                <a:moveTo>
                  <a:pt x="50424" y="0"/>
                </a:moveTo>
                <a:lnTo>
                  <a:pt x="50424" y="21600"/>
                </a:lnTo>
                <a:lnTo>
                  <a:pt x="49024" y="20200"/>
                </a:lnTo>
                <a:lnTo>
                  <a:pt x="49024" y="1400"/>
                </a:lnTo>
                <a:close/>
              </a:path>
              <a:path fill="darkenLess" w="50424" h="21600">
                <a:moveTo>
                  <a:pt x="50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24" y="20200"/>
                </a:lnTo>
                <a:close/>
              </a:path>
              <a:path fill="lighten" w="50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24" h="21600">
                <a:moveTo>
                  <a:pt x="18205" y="10800"/>
                </a:moveTo>
                <a:lnTo>
                  <a:pt x="32218" y="3794"/>
                </a:lnTo>
                <a:lnTo>
                  <a:pt x="32218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042920" y="1125360"/>
            <a:ext cx="69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黄山松千姿百态。它们或屹立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斜出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弯曲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仰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俯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卧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状如黑虎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形似孔雀……它们装点着黄山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使得黄山更加神奇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更加秀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042920" y="1125360"/>
            <a:ext cx="69138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黄山松千姿百态。它们或屹立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斜出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弯曲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仰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俯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卧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状如黑虎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形似孔雀</a:t>
            </a:r>
            <a:r>
              <a:rPr b="1" lang="zh-CN" sz="4800" spc="-1" strike="noStrike">
                <a:solidFill>
                  <a:srgbClr val="ff00ff"/>
                </a:solidFill>
                <a:latin typeface="宋体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它们装点着黄山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使得黄山更加神奇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更加秀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千姿百态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0000"/>
          </a:xfrm>
          <a:prstGeom prst="rect">
            <a:avLst/>
          </a:prstGeom>
          <a:ln w="0">
            <a:noFill/>
          </a:ln>
        </p:spPr>
      </p:pic>
      <p:pic>
        <p:nvPicPr>
          <p:cNvPr id="105" name="初雪.MP3" descr=""/>
          <p:cNvPicPr/>
          <p:nvPr/>
        </p:nvPicPr>
        <p:blipFill>
          <a:blip r:embed="rId2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0152_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卧龙松2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蒲团松"/>
          <p:cNvPicPr/>
          <p:nvPr/>
        </p:nvPicPr>
        <p:blipFill>
          <a:blip r:embed="rId1"/>
          <a:stretch/>
        </p:blipFill>
        <p:spPr>
          <a:xfrm>
            <a:off x="0" y="345960"/>
            <a:ext cx="9144000" cy="616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扇子松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h0143_jpg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08"/>
          <p:cNvPicPr/>
          <p:nvPr/>
        </p:nvPicPr>
        <p:blipFill>
          <a:blip r:embed="rId3"/>
          <a:stretch/>
        </p:blipFill>
        <p:spPr>
          <a:xfrm>
            <a:off x="0" y="2349360"/>
            <a:ext cx="2627280" cy="266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h0174_jpg"/>
          <p:cNvPicPr/>
          <p:nvPr/>
        </p:nvPicPr>
        <p:blipFill>
          <a:blip r:embed="rId4"/>
          <a:stretch/>
        </p:blipFill>
        <p:spPr>
          <a:xfrm>
            <a:off x="6804000" y="2276640"/>
            <a:ext cx="23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4"/>
          <p:cNvPicPr/>
          <p:nvPr/>
        </p:nvPicPr>
        <p:blipFill>
          <a:blip r:embed="rId5"/>
          <a:stretch/>
        </p:blipFill>
        <p:spPr>
          <a:xfrm>
            <a:off x="0" y="5100480"/>
            <a:ext cx="2987640" cy="1757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h0152_jpg"/>
          <p:cNvPicPr/>
          <p:nvPr/>
        </p:nvPicPr>
        <p:blipFill>
          <a:blip r:embed="rId6"/>
          <a:stretch/>
        </p:blipFill>
        <p:spPr>
          <a:xfrm>
            <a:off x="6248520" y="5157720"/>
            <a:ext cx="2895480" cy="1700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8"/>
          <p:cNvSpPr/>
          <p:nvPr/>
        </p:nvSpPr>
        <p:spPr>
          <a:xfrm>
            <a:off x="1974960" y="244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song6.jpg (14113 字节)"/>
          <p:cNvPicPr/>
          <p:nvPr/>
        </p:nvPicPr>
        <p:blipFill>
          <a:blip r:embed="rId7"/>
          <a:stretch/>
        </p:blipFill>
        <p:spPr>
          <a:xfrm>
            <a:off x="3132000" y="5157720"/>
            <a:ext cx="3040200" cy="17002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3603600" y="6469200"/>
            <a:ext cx="10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276720" y="6400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梦笔生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2590920" y="2554200"/>
            <a:ext cx="9351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u=4029301793,1204787538&amp;gp=0"/>
          <p:cNvPicPr/>
          <p:nvPr/>
        </p:nvPicPr>
        <p:blipFill>
          <a:blip r:embed="rId8"/>
          <a:stretch/>
        </p:blipFill>
        <p:spPr>
          <a:xfrm>
            <a:off x="3132000" y="0"/>
            <a:ext cx="3040200" cy="2205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美图"/>
          <p:cNvPicPr/>
          <p:nvPr/>
        </p:nvPicPr>
        <p:blipFill>
          <a:blip r:embed="rId9"/>
          <a:stretch/>
        </p:blipFill>
        <p:spPr>
          <a:xfrm>
            <a:off x="2771640" y="2349360"/>
            <a:ext cx="388800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476360" y="16016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95280" y="1125360"/>
            <a:ext cx="806436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99"/>
                </a:solidFill>
                <a:latin typeface="宋体"/>
              </a:rPr>
              <a:t>山顶上，陡崖边，处处都有它们潇洒、 挺秀的身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h0143_jpg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08"/>
          <p:cNvPicPr/>
          <p:nvPr/>
        </p:nvPicPr>
        <p:blipFill>
          <a:blip r:embed="rId3"/>
          <a:stretch/>
        </p:blipFill>
        <p:spPr>
          <a:xfrm>
            <a:off x="0" y="2349360"/>
            <a:ext cx="2627280" cy="2664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0174_jpg"/>
          <p:cNvPicPr/>
          <p:nvPr/>
        </p:nvPicPr>
        <p:blipFill>
          <a:blip r:embed="rId4"/>
          <a:stretch/>
        </p:blipFill>
        <p:spPr>
          <a:xfrm>
            <a:off x="6804000" y="2276640"/>
            <a:ext cx="23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4"/>
          <p:cNvPicPr/>
          <p:nvPr/>
        </p:nvPicPr>
        <p:blipFill>
          <a:blip r:embed="rId5"/>
          <a:stretch/>
        </p:blipFill>
        <p:spPr>
          <a:xfrm>
            <a:off x="0" y="5100480"/>
            <a:ext cx="2987640" cy="1757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h0152_jpg"/>
          <p:cNvPicPr/>
          <p:nvPr/>
        </p:nvPicPr>
        <p:blipFill>
          <a:blip r:embed="rId6"/>
          <a:stretch/>
        </p:blipFill>
        <p:spPr>
          <a:xfrm>
            <a:off x="6248520" y="5157720"/>
            <a:ext cx="2895480" cy="1700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ong6.jpg (14113 字节)"/>
          <p:cNvPicPr/>
          <p:nvPr/>
        </p:nvPicPr>
        <p:blipFill>
          <a:blip r:embed="rId7"/>
          <a:stretch/>
        </p:blipFill>
        <p:spPr>
          <a:xfrm>
            <a:off x="3132000" y="5157720"/>
            <a:ext cx="3040200" cy="170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u=4029301793,1204787538&amp;gp=0"/>
          <p:cNvPicPr/>
          <p:nvPr/>
        </p:nvPicPr>
        <p:blipFill>
          <a:blip r:embed="rId8"/>
          <a:stretch/>
        </p:blipFill>
        <p:spPr>
          <a:xfrm>
            <a:off x="3132000" y="0"/>
            <a:ext cx="3040200" cy="220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美图"/>
          <p:cNvPicPr/>
          <p:nvPr/>
        </p:nvPicPr>
        <p:blipFill>
          <a:blip r:embed="rId9"/>
          <a:stretch/>
        </p:blipFill>
        <p:spPr>
          <a:xfrm>
            <a:off x="2771640" y="2349360"/>
            <a:ext cx="3888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900000" y="69228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黄山松（      ）。它们或（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（      ），有的（    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它们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着黄山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使得黄山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900000" y="69228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黄山松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千姿百态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它们或（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（      ），有的（    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它们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着黄山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使得黄山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900000" y="69228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黄山松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千姿百态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它们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屹立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（      ），有的（    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它们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着黄山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使得黄山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900000" y="69228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黄山松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千姿百态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它们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屹立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斜出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（      ），有的（    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它们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着黄山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使得黄山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900000" y="69228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黄山松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千姿百态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它们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屹立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斜出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弯曲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（      ），有的（    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它们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着黄山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使得黄山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900000" y="69228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黄山松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千姿百态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它们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屹立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斜出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弯曲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仰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（      ），有的（    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它们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着黄山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使得黄山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00000" y="69228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黄山松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千姿百态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它们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屹立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斜出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弯曲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仰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俯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（      ），有的（    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它们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着黄山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使得黄山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900000" y="69228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黄山松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千姿百态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它们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屹立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斜出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弯曲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仰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俯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卧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（      ），有的（    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它们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着黄山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使得黄山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00000" y="6922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黄山松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千姿百态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它们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屹立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斜出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弯曲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仰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俯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卧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状如黑虎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，有的（      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它们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着黄山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使得黄山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476360" y="16016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95280" y="1125360"/>
            <a:ext cx="806436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99"/>
                </a:solidFill>
                <a:latin typeface="宋体"/>
              </a:rPr>
              <a:t>山顶上，陡崖边，</a:t>
            </a:r>
            <a:r>
              <a:rPr b="1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处处</a:t>
            </a:r>
            <a:r>
              <a:rPr b="1" lang="zh-CN" sz="4800" spc="-1" strike="noStrike">
                <a:solidFill>
                  <a:srgbClr val="000099"/>
                </a:solidFill>
                <a:latin typeface="宋体"/>
              </a:rPr>
              <a:t>都有它们潇洒、 挺秀的身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900000" y="6922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黄山松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千姿百态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它们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屹立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斜出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弯曲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仰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俯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卧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状如黑虎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，有的（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形似孔雀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它们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着黄山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使得黄山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900000" y="6922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黄山松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千姿百态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它们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屹立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斜出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弯曲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仰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俯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卧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状如黑虎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，有的（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形似孔雀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它们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装点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着黄山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使得黄山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900000" y="6922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黄山松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千姿百态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它们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屹立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斜出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弯曲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仰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俯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卧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状如黑虎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，有的（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形似孔雀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它们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装点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着黄山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使得黄山更加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神奇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更加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900000" y="69228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黄山松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千姿百态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它们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屹立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斜出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弯曲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Arial"/>
              </a:rPr>
              <a:t>仰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俯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或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卧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;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有的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状如黑虎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，有的（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形似孔雀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……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它们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装点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着黄山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使得黄山更加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神奇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更加（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秀美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Arial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8028000" y="5877000"/>
            <a:ext cx="504720" cy="21600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24" h="21600">
                <a:moveTo>
                  <a:pt x="0" y="0"/>
                </a:moveTo>
                <a:lnTo>
                  <a:pt x="50424" y="0"/>
                </a:lnTo>
                <a:lnTo>
                  <a:pt x="50424" y="21600"/>
                </a:lnTo>
                <a:lnTo>
                  <a:pt x="0" y="21600"/>
                </a:lnTo>
                <a:close/>
              </a:path>
              <a:path fill="lightenLess" w="50424" h="21600">
                <a:moveTo>
                  <a:pt x="0" y="0"/>
                </a:moveTo>
                <a:lnTo>
                  <a:pt x="50424" y="0"/>
                </a:lnTo>
                <a:lnTo>
                  <a:pt x="49024" y="1400"/>
                </a:lnTo>
                <a:lnTo>
                  <a:pt x="1400" y="1400"/>
                </a:lnTo>
                <a:close/>
              </a:path>
              <a:path fill="darken" w="50424" h="21600">
                <a:moveTo>
                  <a:pt x="50424" y="0"/>
                </a:moveTo>
                <a:lnTo>
                  <a:pt x="50424" y="21600"/>
                </a:lnTo>
                <a:lnTo>
                  <a:pt x="49024" y="20200"/>
                </a:lnTo>
                <a:lnTo>
                  <a:pt x="49024" y="1400"/>
                </a:lnTo>
                <a:close/>
              </a:path>
              <a:path fill="darkenLess" w="50424" h="21600">
                <a:moveTo>
                  <a:pt x="50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24" y="20200"/>
                </a:lnTo>
                <a:close/>
              </a:path>
              <a:path fill="lighten" w="50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24" h="21600">
                <a:moveTo>
                  <a:pt x="18205" y="10800"/>
                </a:moveTo>
                <a:lnTo>
                  <a:pt x="32218" y="3794"/>
                </a:lnTo>
                <a:lnTo>
                  <a:pt x="32218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11280" y="863280"/>
            <a:ext cx="79930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拓展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当一次小导游，给爸爸妈妈介绍黄山奇松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认真阅读老师推荐的《黄山奇石》《黄山云海》《黄山温泉》，仔细体会景物的特点，品味语言的优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小练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仔细观察校园里的树木，运用本课学到的写作手法进行小练笔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网址推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想要了解黄山奇松更多的知识，可以上网，网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http://www.csglxx.com/wangluketang/yuwen/huangshan2/qsxx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8172360" y="6021360"/>
            <a:ext cx="503280" cy="21600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80" h="21600">
                <a:moveTo>
                  <a:pt x="0" y="0"/>
                </a:moveTo>
                <a:lnTo>
                  <a:pt x="50280" y="0"/>
                </a:lnTo>
                <a:lnTo>
                  <a:pt x="50280" y="21600"/>
                </a:lnTo>
                <a:lnTo>
                  <a:pt x="0" y="21600"/>
                </a:lnTo>
                <a:close/>
              </a:path>
              <a:path fill="lightenLess" w="50280" h="21600">
                <a:moveTo>
                  <a:pt x="0" y="0"/>
                </a:moveTo>
                <a:lnTo>
                  <a:pt x="50280" y="0"/>
                </a:lnTo>
                <a:lnTo>
                  <a:pt x="48880" y="1400"/>
                </a:lnTo>
                <a:lnTo>
                  <a:pt x="1400" y="1400"/>
                </a:lnTo>
                <a:close/>
              </a:path>
              <a:path fill="darken" w="50280" h="21600">
                <a:moveTo>
                  <a:pt x="50280" y="0"/>
                </a:moveTo>
                <a:lnTo>
                  <a:pt x="50280" y="21600"/>
                </a:lnTo>
                <a:lnTo>
                  <a:pt x="48880" y="20200"/>
                </a:lnTo>
                <a:lnTo>
                  <a:pt x="48880" y="1400"/>
                </a:lnTo>
                <a:close/>
              </a:path>
              <a:path fill="darkenLess" w="50280" h="21600">
                <a:moveTo>
                  <a:pt x="50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80" y="20200"/>
                </a:lnTo>
                <a:close/>
              </a:path>
              <a:path fill="lighten" w="50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80" h="21600">
                <a:moveTo>
                  <a:pt x="18134" y="10800"/>
                </a:moveTo>
                <a:lnTo>
                  <a:pt x="32147" y="3794"/>
                </a:lnTo>
                <a:lnTo>
                  <a:pt x="32147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476360" y="16016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95280" y="1125360"/>
            <a:ext cx="806436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山顶</a:t>
            </a:r>
            <a:r>
              <a:rPr b="1" lang="zh-CN" sz="4800" spc="-1" strike="noStrike">
                <a:solidFill>
                  <a:srgbClr val="000099"/>
                </a:solidFill>
                <a:latin typeface="宋体"/>
              </a:rPr>
              <a:t>上，</a:t>
            </a:r>
            <a:r>
              <a:rPr b="1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陡崖</a:t>
            </a:r>
            <a:r>
              <a:rPr b="1" lang="zh-CN" sz="4800" spc="-1" strike="noStrike">
                <a:solidFill>
                  <a:srgbClr val="000099"/>
                </a:solidFill>
                <a:latin typeface="宋体"/>
              </a:rPr>
              <a:t>边，</a:t>
            </a:r>
            <a:r>
              <a:rPr b="1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处处</a:t>
            </a:r>
            <a:r>
              <a:rPr b="1" lang="zh-CN" sz="4800" spc="-1" strike="noStrike">
                <a:solidFill>
                  <a:srgbClr val="000099"/>
                </a:solidFill>
                <a:latin typeface="宋体"/>
              </a:rPr>
              <a:t>都有它们</a:t>
            </a:r>
            <a:r>
              <a:rPr b="1" lang="zh-CN" sz="4800" spc="-1" strike="noStrike">
                <a:solidFill>
                  <a:srgbClr val="ff00ff"/>
                </a:solidFill>
                <a:latin typeface="黑体"/>
                <a:ea typeface="黑体"/>
              </a:rPr>
              <a:t>潇洒、 挺秀</a:t>
            </a:r>
            <a:r>
              <a:rPr b="1" lang="zh-CN" sz="4800" spc="-1" strike="noStrike">
                <a:solidFill>
                  <a:srgbClr val="000099"/>
                </a:solidFill>
                <a:latin typeface="宋体"/>
              </a:rPr>
              <a:t>的身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7524720" y="5661000"/>
            <a:ext cx="504720" cy="21600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24" h="21600">
                <a:moveTo>
                  <a:pt x="0" y="0"/>
                </a:moveTo>
                <a:lnTo>
                  <a:pt x="50424" y="0"/>
                </a:lnTo>
                <a:lnTo>
                  <a:pt x="50424" y="21600"/>
                </a:lnTo>
                <a:lnTo>
                  <a:pt x="0" y="21600"/>
                </a:lnTo>
                <a:close/>
              </a:path>
              <a:path fill="lightenLess" w="50424" h="21600">
                <a:moveTo>
                  <a:pt x="0" y="0"/>
                </a:moveTo>
                <a:lnTo>
                  <a:pt x="50424" y="0"/>
                </a:lnTo>
                <a:lnTo>
                  <a:pt x="49024" y="1400"/>
                </a:lnTo>
                <a:lnTo>
                  <a:pt x="1400" y="1400"/>
                </a:lnTo>
                <a:close/>
              </a:path>
              <a:path fill="darken" w="50424" h="21600">
                <a:moveTo>
                  <a:pt x="50424" y="0"/>
                </a:moveTo>
                <a:lnTo>
                  <a:pt x="50424" y="21600"/>
                </a:lnTo>
                <a:lnTo>
                  <a:pt x="49024" y="20200"/>
                </a:lnTo>
                <a:lnTo>
                  <a:pt x="49024" y="1400"/>
                </a:lnTo>
                <a:close/>
              </a:path>
              <a:path fill="darkenLess" w="50424" h="21600">
                <a:moveTo>
                  <a:pt x="50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24" y="20200"/>
                </a:lnTo>
                <a:close/>
              </a:path>
              <a:path fill="lighten" w="50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24" h="21600">
                <a:moveTo>
                  <a:pt x="18205" y="10800"/>
                </a:moveTo>
                <a:lnTo>
                  <a:pt x="32218" y="3794"/>
                </a:lnTo>
                <a:lnTo>
                  <a:pt x="32218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598200" y="2109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黄山四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11"/>
          <p:cNvPicPr/>
          <p:nvPr/>
        </p:nvPicPr>
        <p:blipFill>
          <a:blip r:embed="rId1"/>
          <a:stretch/>
        </p:blipFill>
        <p:spPr>
          <a:xfrm>
            <a:off x="630360" y="1058760"/>
            <a:ext cx="3654360" cy="2514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3600" y="144432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奇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883320" y="1700280"/>
            <a:ext cx="1277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怪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-5040" y="433512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云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883320" y="458136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温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怪石"/>
          <p:cNvPicPr/>
          <p:nvPr/>
        </p:nvPicPr>
        <p:blipFill>
          <a:blip r:embed="rId2"/>
          <a:stretch/>
        </p:blipFill>
        <p:spPr>
          <a:xfrm>
            <a:off x="5002200" y="1011240"/>
            <a:ext cx="4033800" cy="2562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云海2"/>
          <p:cNvPicPr/>
          <p:nvPr/>
        </p:nvPicPr>
        <p:blipFill>
          <a:blip r:embed="rId3"/>
          <a:stretch/>
        </p:blipFill>
        <p:spPr>
          <a:xfrm>
            <a:off x="611280" y="3789360"/>
            <a:ext cx="3671640" cy="266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C:\Users\apple\Desktop\新建文件夹 (3)\slide0084_image025.JPG"/>
          <p:cNvPicPr/>
          <p:nvPr/>
        </p:nvPicPr>
        <p:blipFill>
          <a:blip r:embed="rId4"/>
          <a:stretch/>
        </p:blipFill>
        <p:spPr>
          <a:xfrm>
            <a:off x="5003640" y="3789360"/>
            <a:ext cx="40212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6"/>
          <p:cNvSpPr/>
          <p:nvPr/>
        </p:nvSpPr>
        <p:spPr>
          <a:xfrm>
            <a:off x="826920" y="836640"/>
            <a:ext cx="72741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被誉为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天下第一奇山</a:t>
            </a:r>
            <a:r>
              <a:rPr b="1" lang="zh-CN" sz="3600" spc="-1" strike="noStrike">
                <a:solidFill>
                  <a:srgbClr val="ff00ff"/>
                </a:solidFill>
                <a:latin typeface="宋体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的黄山，以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奇松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怪石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云海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温泉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“四绝”闻名于世。而人们对黄山奇松，更是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情有独钟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8459640" y="6165720"/>
            <a:ext cx="505080" cy="216000"/>
          </a:xfrm>
          <a:custGeom>
            <a:avLst/>
            <a:gdLst>
              <a:gd name="textAreaLeft" fmla="*/ 13680 w 505080"/>
              <a:gd name="textAreaRight" fmla="*/ 491400 w 505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60" h="21600">
                <a:moveTo>
                  <a:pt x="0" y="0"/>
                </a:moveTo>
                <a:lnTo>
                  <a:pt x="50460" y="0"/>
                </a:lnTo>
                <a:lnTo>
                  <a:pt x="50460" y="21600"/>
                </a:lnTo>
                <a:lnTo>
                  <a:pt x="0" y="21600"/>
                </a:lnTo>
                <a:close/>
              </a:path>
              <a:path fill="lightenLess" w="50460" h="21600">
                <a:moveTo>
                  <a:pt x="0" y="0"/>
                </a:moveTo>
                <a:lnTo>
                  <a:pt x="50460" y="0"/>
                </a:lnTo>
                <a:lnTo>
                  <a:pt x="49060" y="1400"/>
                </a:lnTo>
                <a:lnTo>
                  <a:pt x="1400" y="1400"/>
                </a:lnTo>
                <a:close/>
              </a:path>
              <a:path fill="darken" w="50460" h="21600">
                <a:moveTo>
                  <a:pt x="50460" y="0"/>
                </a:moveTo>
                <a:lnTo>
                  <a:pt x="50460" y="21600"/>
                </a:lnTo>
                <a:lnTo>
                  <a:pt x="49060" y="20200"/>
                </a:lnTo>
                <a:lnTo>
                  <a:pt x="49060" y="1400"/>
                </a:lnTo>
                <a:close/>
              </a:path>
              <a:path fill="darkenLess" w="50460" h="21600">
                <a:moveTo>
                  <a:pt x="50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60" y="20200"/>
                </a:lnTo>
                <a:close/>
              </a:path>
              <a:path fill="lighten" w="50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60" h="21600">
                <a:moveTo>
                  <a:pt x="18223" y="10800"/>
                </a:moveTo>
                <a:lnTo>
                  <a:pt x="32236" y="3794"/>
                </a:lnTo>
                <a:lnTo>
                  <a:pt x="32236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476360" y="16016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11280" y="692280"/>
            <a:ext cx="7921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迎客松姿态优美，枝干遒劲，虽然饱经风霜，却仍然郁郁苍苍，充满生机。它有一丛青翠的枝干斜伸出去，如同好客的主人伸出手臂，热情地欢迎宾客的到来。如今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棵迎客松已经成为黄山奇松的代表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乃至整个黄山的象征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476360" y="16016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84360" y="1628640"/>
            <a:ext cx="792144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迎客松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姿态优美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枝干遒劲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虽然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饱经风霜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却仍然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郁郁苍苍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充满生机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2:31:04Z</dcterms:created>
  <dc:creator>only</dc:creator>
  <dc:description/>
  <cp:keywords/>
  <dc:language>en-US</dc:language>
  <cp:lastModifiedBy>lbx777</cp:lastModifiedBy>
  <cp:lastPrinted>1899-12-30T00:00:00Z</cp:lastPrinted>
  <dcterms:modified xsi:type="dcterms:W3CDTF">2016-06-06T13:50:43Z</dcterms:modified>
  <cp:revision>1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