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15.png" ContentType="image/png"/>
  <Override PartName="/ppt/media/image14.jpeg" ContentType="image/jpeg"/>
  <Override PartName="/ppt/media/image13.jpeg" ContentType="image/jpeg"/>
  <Override PartName="/ppt/media/image40.jpeg" ContentType="image/jpeg"/>
  <Override PartName="/ppt/media/chimes.wav" ContentType="audio/x-wav"/>
  <Override PartName="/ppt/media/image16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2.jpeg" ContentType="image/jpeg"/>
  <Override PartName="/ppt/media/image26.jpeg" ContentType="image/jpeg"/>
  <Override PartName="/ppt/media/image38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gif" ContentType="image/gif"/>
  <Override PartName="/ppt/media/image29.jpeg" ContentType="image/jpeg"/>
  <Override PartName="/ppt/media/image11.gif" ContentType="image/gif"/>
  <Override PartName="/ppt/media/image39.png" ContentType="image/png"/>
  <Override PartName="/ppt/media/image9.gif" ContentType="image/gif"/>
  <Override PartName="/ppt/media/image12.jpeg" ContentType="image/jpeg"/>
  <Override PartName="/ppt/media/image41.gif" ContentType="image/gif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559-45EF-41C9-8BF0-2CCC3E54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947-BCB6-4AEF-AAC4-1CE079C3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350-FC0F-43DD-A05E-A0D66A88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CA5D-0FFA-4253-9D1F-59B447F9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5A55-0FC5-41AE-9154-56278243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22F6-7CD3-430E-9A07-9FD80E31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93B3-687D-4101-864C-53F5D800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FF5B-65BC-446D-81F9-D1251525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8AD9-EC67-4222-B94A-50BDA852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B730-E47F-4DB7-9EAD-B81A95E3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2D2F-A8FB-4D82-911C-74CDE2B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2F0-479E-46EC-8DF8-FC9B2594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8477-D7D5-468B-982F-C15CDFF0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6797-7874-4422-BDE1-54AEBF45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9F21-E94C-4D4C-8084-9B6AA914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8494-A36E-4DDB-A78C-A41FDA59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2A61-5132-4DB7-B1DD-921EA43C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A84-5D19-48F9-AC0B-D4519119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84C-BFE8-401A-9CB1-08A94FCC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6AC-90C2-452D-A6E5-19580CA2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95E-5C93-4C87-BE41-4529719E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EAD-2E13-42CB-9655-EE2B9F80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A7B-36D2-4252-B379-D93B97F5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5B8-5916-4515-B12A-1284AC9B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3B50-E37A-4520-B7B7-D0F1C1C62842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7F68-F762-4EA1-9528-CCB0C88AD41B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1872360"/>
            <a:ext cx="27432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286000" y="1828800"/>
            <a:ext cx="4876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黄山奇松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914400" y="4800600"/>
            <a:ext cx="16462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553080" y="4800600"/>
            <a:ext cx="1646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105520" y="83808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客松姿态独特，枝干蟠曲，游人把它比作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然盆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它向山下伸出长长的“手臂”，好像在跟游客依依不舍地告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19040" y="685800"/>
            <a:ext cx="422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699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040" y="1039680"/>
            <a:ext cx="549936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迎客松姿态优美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枝干遒劲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虽然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饱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却仍然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郁郁苍苍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充满生机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它有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丛青翠的枝干斜伸出去，如同好客的主人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出手臂，热情地欢迎宾客的到来。如今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这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迎客松已经成为黄山奇松的代表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乃至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整个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山的象征了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陪客松正对玉屏楼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同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一个绿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色的巨人站在那儿，正陪同游人观赏美丽的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山风光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送客松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姿态独特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枝干蟠曲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游人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它比作“天然盆景”。它向山下伸出长长的“手臂”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好像在跟游客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依依不舍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地告别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858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 flipH="1" rot="10800000">
            <a:off x="457200" y="6324120"/>
            <a:ext cx="8686800" cy="290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 flipH="1" rot="10800000">
            <a:off x="228600" y="304200"/>
            <a:ext cx="8915400" cy="298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990720" y="17524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争当小导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4" name=""/>
          <p:cNvSpPr/>
          <p:nvPr/>
        </p:nvSpPr>
        <p:spPr>
          <a:xfrm>
            <a:off x="839520" y="266688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36880" y="2895480"/>
            <a:ext cx="456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5671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5671f"/>
                </a:solidFill>
                <a:latin typeface="楷体_GB2312"/>
                <a:ea typeface="楷体_GB2312"/>
              </a:rPr>
              <a:t>黄山绝胜处”的玉屏楼工作委员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671f"/>
                </a:solidFill>
                <a:latin typeface="楷体_GB2312"/>
                <a:ea typeface="楷体_GB2312"/>
              </a:rPr>
              <a:t>最近招聘导游，条件是：讲普通话，口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671f"/>
                </a:solidFill>
                <a:latin typeface="楷体_GB2312"/>
                <a:ea typeface="楷体_GB2312"/>
              </a:rPr>
              <a:t>才好，必须将三大名松的“奇美”介绍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671f"/>
                </a:solidFill>
                <a:latin typeface="楷体_GB2312"/>
                <a:ea typeface="楷体_GB2312"/>
              </a:rPr>
              <a:t>位，给游人留下深刻的印象</a:t>
            </a:r>
            <a:r>
              <a:rPr b="0" lang="zh-CN" sz="2400" spc="-1" strike="noStrike">
                <a:solidFill>
                  <a:srgbClr val="05671f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430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黄山松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楷体_GB2312"/>
                <a:ea typeface="楷体_GB2312"/>
              </a:rPr>
              <a:t>千姿百态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它们或屹立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或斜出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或弯曲；或仰，或俯；有的状如黑虎，有的形似孔雀……它们装点着黄山，使得黄山更加神奇，更加秀美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208080"/>
            <a:ext cx="914400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03640" y="22860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五岳归来不看山，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黄山归来不看岳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徐霞客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6400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总结全文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412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整体把握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8624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作业设计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868320" cy="1085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438280" y="5410080"/>
            <a:ext cx="868320" cy="1086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267080" y="5410080"/>
            <a:ext cx="868320" cy="108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924680" y="5334120"/>
            <a:ext cx="868320" cy="1085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791320" y="5410080"/>
            <a:ext cx="868320" cy="1086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3684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课外拓展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79240" y="640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品味三松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609480" y="14400"/>
            <a:ext cx="97534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380880" y="3240"/>
            <a:ext cx="9524880" cy="68547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想象说话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黄山松千姿百态，有的像（                             ），有的如同（                                ），有的仿佛（                                   ），有的状如（  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，它们（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                           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62120" y="6095880"/>
            <a:ext cx="49608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42560" y="960480"/>
            <a:ext cx="49600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9c2f"/>
                </a:solidFill>
                <a:latin typeface="Times New Roman"/>
                <a:ea typeface="隶书"/>
              </a:rPr>
              <a:t>作业设计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一次小导游，给爸爸妈妈绍黄山奇松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天我们感受了黄山奇松的奇特，大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不能选你印象最深或最喜欢的松树，把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来 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1905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誉为“天下第一奇山”的黄山，以奇松、怪石、云海、温泉“四绝”闻名于世，而人们对黄山奇松更是情有独钟。山顶上，陡崖边，处处都有它们潇洒、挺秀的身影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1752480"/>
            <a:ext cx="1830096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誉为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天下第一奇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的黄山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奇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怪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云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温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</a:rPr>
              <a:t>四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闻名于世，而人们对黄山奇松更是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情有独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山顶上，陡崖边，处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有它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潇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挺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身影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372600" cy="6843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981080" y="2590920"/>
            <a:ext cx="5715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指导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562720" y="4419720"/>
            <a:ext cx="3921120" cy="26859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3962520" cy="266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8320" y="76212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52680" y="228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73680" y="64008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</a:rPr>
              <a:t>返回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98200" y="-777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黄山四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" y="145080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奇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8400" y="152712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怪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00" y="442260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云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42440" y="4572000"/>
            <a:ext cx="66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温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33520" y="762120"/>
            <a:ext cx="3733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6918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01320" y="1600200"/>
            <a:ext cx="164268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美丽的黄山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600200" y="1523880"/>
            <a:ext cx="2971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小组学习讨论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站在玉屏楼前可以看到哪些奇松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第二自然段，分别找出描写这三大奇松的句子，用 （  ）表示出来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三大奇松有什么特点？“奇”在哪里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849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762120"/>
            <a:ext cx="359712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迎客松姿态优美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枝干遒劲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虽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饱经风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却仍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郁郁苍苍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充满生机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它有一丛青翠的枝干斜伸出去，如同好客的主人伸出手臂，热情地欢迎宾客的到来。如今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这棵迎客松已经成为黄山奇松的代表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乃至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整个黄山的象征了</a:t>
            </a:r>
            <a:r>
              <a:rPr b="0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5638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88800" y="6278400"/>
            <a:ext cx="49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因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          ）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们称这棵松为“迎客松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41480" y="1828800"/>
            <a:ext cx="4204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5671f"/>
                </a:solidFill>
                <a:latin typeface="Times New Roman"/>
                <a:ea typeface="楷体_GB2312"/>
              </a:rPr>
              <a:t>奇松傲立玉屏前，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5671f"/>
                </a:solidFill>
                <a:latin typeface="Times New Roman"/>
                <a:ea typeface="楷体_GB2312"/>
              </a:rPr>
              <a:t>阅尽沧桑色更鲜。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5671f"/>
                </a:solidFill>
                <a:latin typeface="Times New Roman"/>
                <a:ea typeface="楷体_GB2312"/>
              </a:rPr>
              <a:t>双臂垂迎天下客，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5671f"/>
                </a:solidFill>
                <a:latin typeface="Times New Roman"/>
                <a:ea typeface="楷体_GB2312"/>
              </a:rPr>
              <a:t>包容四海寿千年。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895480" y="5943600"/>
            <a:ext cx="5562720" cy="371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28600" y="1143000"/>
            <a:ext cx="861048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851440" y="838080"/>
            <a:ext cx="298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陪客松正对玉屏楼，如同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绿色的巨人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站在那儿，正陪同游人观赏美丽的黄山风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502920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3:03:19Z</dcterms:created>
  <dc:creator>wjf</dc:creator>
  <dc:description/>
  <dc:language>en-US</dc:language>
  <cp:lastModifiedBy>微软用户</cp:lastModifiedBy>
  <dcterms:modified xsi:type="dcterms:W3CDTF">2011-08-25T12:15:35Z</dcterms:modified>
  <cp:revision>37</cp:revision>
  <dc:subject/>
  <dc:title>PowerPoint 演示文稿</dc:title>
</cp:coreProperties>
</file>