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D61-FA52-4832-83B8-2A88F149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C8A-561A-4417-9755-B6A48B6B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1A99-E0E9-48AE-AFAA-A514F9C0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7E0-F3F5-4D1C-8B81-275088BB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151-5608-43CA-BC24-9F28F8F6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D57-61BD-460B-AD39-70B2DC41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3DD-7CF6-4F05-8718-323EAFEB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2CB-B39C-4656-8B7F-A9CB2A03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9D3-FE95-48E7-8CD2-D3E2AD4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094-090D-46DA-BBEB-CFDFD1E0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E043-1FC7-49FD-8225-B30500C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676-3780-47E1-AFD0-A98A0585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981-0B4B-4D39-86F4-4512E1BC0A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0200" y="62064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被誉为“天下第一奇山”的黄山，以奇松、怪石、云海、温泉“四绝”闻名于世，而人们对黄山奇松，更是情有独钟。山顶上，陡崖边，处处都有它们潇洒、挺秀的身影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2349360"/>
            <a:ext cx="12952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88296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情有独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68200" y="47466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处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0200" y="62064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被誉为“天下第一奇山”的黄山，以奇松、怪石、云海、温泉“四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绝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”闻名于世，而人们对黄山奇松，更是情有独钟。山顶上，陡崖边，处处都有它们潇洒、挺秀的身影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333360"/>
            <a:ext cx="871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被誉为“天下第一奇山”的黄山，以奇松、怪石、云海、温泉“四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绝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”闻名于世，而人们对黄山奇松，更是情有独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86064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黄山最妙的观松处，当然是曾被徐霞客成为“黄山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绝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胜处”的玉屏楼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328464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极，极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5373720"/>
            <a:ext cx="63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独一无二的，没有能赶上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0492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41300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楷体"/>
              </a:rPr>
              <a:t>请同学们速读第二小节，用横线、波浪线，虚线分别划出描写迎客松、陪客松、送客松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63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9000"/>
            <a:ext cx="8893080" cy="645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137120" cy="5654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720" y="1125360"/>
            <a:ext cx="4932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迎客松姿态优美，枝干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遒劲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虽然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饱经风霜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却仍然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郁郁苍苍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充满生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489480" y="0"/>
            <a:ext cx="5654520" cy="6453360"/>
          </a:xfrm>
          <a:custGeom>
            <a:avLst/>
            <a:gdLst>
              <a:gd name="textAreaLeft" fmla="*/ 275760 w 5654520"/>
              <a:gd name="textAreaRight" fmla="*/ 5378760 w 5654520"/>
              <a:gd name="textAreaTop" fmla="*/ 275760 h 6453360"/>
              <a:gd name="textAreaBottom" fmla="*/ 6177600 h 6453360"/>
            </a:gdLst>
            <a:ahLst/>
            <a:rect l="textAreaLeft" t="textAreaTop" r="textAreaRight" b="textAreaBottom"/>
            <a:pathLst>
              <a:path w="21600" h="24651">
                <a:moveTo>
                  <a:pt x="3600" y="0"/>
                </a:moveTo>
                <a:arcTo wR="3600" hR="3600" stAng="16200000" swAng="-5400000"/>
                <a:lnTo>
                  <a:pt x="0" y="21051"/>
                </a:lnTo>
                <a:arcTo wR="3600" hR="3600" stAng="10800000" swAng="-5400000"/>
                <a:lnTo>
                  <a:pt x="18000" y="24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76280"/>
            <a:ext cx="3635280" cy="532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097080" cy="4430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24360" y="33336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迎客松姿态优美，枝干遒劲，虽然饱经风霜，却仍然郁郁苍苍，充满生机。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它有一丛青翠的枝干斜伸出去，如同好客的主人伸出手臂，热情地欢迎宾客的到来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今，这棵迎客松已经成为黄山奇松的代表，乃至整个黄山的象征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09080" cy="681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90792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它有一丛青翠的枝干斜伸出去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如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好客的主人伸出手臂，热情地欢迎宾客的到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它向山下伸出长长的“手臂”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好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在跟游客依依不舍地告别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53040" y="21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比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2133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2997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把 “迎客松” 比作 “好客的主人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489480" y="0"/>
            <a:ext cx="5654520" cy="6453360"/>
          </a:xfrm>
          <a:custGeom>
            <a:avLst/>
            <a:gdLst>
              <a:gd name="textAreaLeft" fmla="*/ 275760 w 5654520"/>
              <a:gd name="textAreaRight" fmla="*/ 5378760 w 5654520"/>
              <a:gd name="textAreaTop" fmla="*/ 275760 h 6453360"/>
              <a:gd name="textAreaBottom" fmla="*/ 6177600 h 6453360"/>
            </a:gdLst>
            <a:ahLst/>
            <a:rect l="textAreaLeft" t="textAreaTop" r="textAreaRight" b="textAreaBottom"/>
            <a:pathLst>
              <a:path w="21600" h="24651">
                <a:moveTo>
                  <a:pt x="3600" y="0"/>
                </a:moveTo>
                <a:arcTo wR="3600" hR="3600" stAng="16200000" swAng="-5400000"/>
                <a:lnTo>
                  <a:pt x="0" y="21051"/>
                </a:lnTo>
                <a:arcTo wR="3600" hR="3600" stAng="10800000" swAng="-5400000"/>
                <a:lnTo>
                  <a:pt x="18000" y="24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76280"/>
            <a:ext cx="3635280" cy="532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097080" cy="4430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780000" y="1989000"/>
            <a:ext cx="521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如今，这棵迎客松已经成为黄山奇松的代表，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乃至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整个黄山的象征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09080" cy="681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34136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迎客松姿态优美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枝干遒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虽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饱经风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却仍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郁郁苍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充满生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它有一丛青翠的枝干斜伸出去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如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好客的主人伸出手臂，热情地欢迎宾客的到来。如今，这棵迎客松已经成为黄山奇松的代表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乃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整个黄山的象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9640" y="4365720"/>
            <a:ext cx="5724360" cy="223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0"/>
            <a:ext cx="6985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五岳归来不看山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黄山归来不看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4581360"/>
            <a:ext cx="496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徐霞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《漫游黄山仙境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9228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陪客松正对玉屏楼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如同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一个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绿色的巨人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站在那儿，在陪同游人观赏美丽的黄山风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58920" y="2924280"/>
            <a:ext cx="6397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404640"/>
            <a:ext cx="410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送客松姿态独特，枝干蟠曲，游人把它比作“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天然盆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”。它向山下伸出长长的“手臂”，好像在跟游客依依不舍地告别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382104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09080" cy="681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3336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迎客松姿态优美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枝干遒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虽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饱经风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却仍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郁郁苍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充满生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它有一丛青翠的枝干斜伸出去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如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好客的主人伸出手臂，热情地欢迎宾客的到来。如今，这棵迎客松已经成为黄山奇松的代表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乃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整个黄山的象征了。陪客松正对玉屏楼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如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个绿色的巨人站在那儿，在陪同游人观赏美丽的黄山风光。送客松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姿态独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枝干蟠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游人把它比作“天然盆景”。它向山下伸出长长的“手臂”，好像在跟游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依依不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地告别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0920" y="333360"/>
            <a:ext cx="8605800" cy="626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060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楷体"/>
              </a:rPr>
              <a:t>选择一种自己最喜欢的名松，将描述它的句子背出来，把它留在脑海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58920" y="30492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692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黄山松千姿百态。它们或屹立，或斜出，或弯曲；或仰，或俯，或卧；有的状如黑虎，有的形似孔雀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它们装点着黄山，使得黄山更加神奇，更加秀美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530064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有的形同泰山，有的貌似仙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692280"/>
            <a:ext cx="37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千姿百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50864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从近到远，从部分到整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09080" cy="681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3336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迎客松姿态优美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枝干遒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虽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饱经风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却仍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郁郁苍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充满生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。它有一丛青翠的枝干斜伸出去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如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好客的主人伸出手臂，热情地欢迎宾客的到来。如今，这棵迎客松已经成为黄山奇松的代表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乃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整个黄山的象征了。陪客松正对玉屏楼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如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个绿色的巨人站在那儿，在陪同游人观赏美丽的黄山风光。送客松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姿态独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枝干蟠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，游人把它比作“天然盆景”。它向山下伸出长长的“手臂”，好像在跟游客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依依不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地告别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333360"/>
            <a:ext cx="8605800" cy="626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060640"/>
            <a:ext cx="954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楷体"/>
              </a:rPr>
              <a:t>黄山奇松的“       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新魏"/>
                <a:ea typeface="楷体"/>
              </a:rPr>
              <a:t>究竟表现在哪里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177336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中宋"/>
              </a:rPr>
              <a:t>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260280"/>
            <a:ext cx="7848360" cy="22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549360"/>
            <a:ext cx="7559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620640"/>
            <a:ext cx="345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华文隶书"/>
              </a:rPr>
              <a:t>再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60280"/>
            <a:ext cx="7848360" cy="22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2712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隶书"/>
              </a:rPr>
              <a:t>黄山奇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692280"/>
            <a:ext cx="7773840" cy="53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11253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自读课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2492280"/>
            <a:ext cx="72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读准字音，读顺句子，读懂课文。把你认为值得注意的地方圈一圈，画一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找出自己最喜欢的句子，反复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692280"/>
            <a:ext cx="7773840" cy="53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bbe0e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1125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誉  陡  屹  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299736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屏  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4581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pí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02200" y="458136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bī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692280"/>
            <a:ext cx="8893080" cy="56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1268280"/>
            <a:ext cx="8893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陡崖 宾客 情有独钟  姿态优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盆景 遒劲 郁郁苍苍  充满生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潇洒 挺秀 闻名于世  千姿百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屹立 饱经风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0200" y="26028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屹立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重点在稳固，原指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山稳固而高高地独立着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后来指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人或物像山峰一样高耸而稳固地立着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常用来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喻坚定不可动摇。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带有明显的褒扬、赞许的感情色彩，它可以用于事物，包括具体事物和抽象事物，也可以用于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08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人民英雄纪念碑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屹立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天安门广场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189000"/>
            <a:ext cx="8785080" cy="655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0200" y="4762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饱经风霜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形容经历过很多艰难困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203720"/>
            <a:ext cx="8064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如：爷爷那</a:t>
            </a: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饱经风霜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脸上露出了幸福的微笑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205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饱：充足的；经：经历；风霜：指艰苦的生活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2:28:51Z</dcterms:created>
  <dc:creator>PC</dc:creator>
  <dc:description/>
  <dc:language>en-US</dc:language>
  <cp:lastModifiedBy>admin</cp:lastModifiedBy>
  <dcterms:modified xsi:type="dcterms:W3CDTF">2015-04-08T13:07:47Z</dcterms:modified>
  <cp:revision>11</cp:revision>
  <dc:subject/>
  <dc:title>幻灯片 1</dc:title>
</cp:coreProperties>
</file>