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F131-CA2D-43AE-95CF-5321E4F1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E0E-5251-461D-AF51-7D93C47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6B8-EE60-4681-A184-0DCF4EB6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DD0-8090-457D-B19A-2765E914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638-4454-453C-9AC8-0B2DDE51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489B-597B-4A76-9005-65395ADC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BDD4-751B-4202-975B-06409047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0E8F-FB80-48B5-987B-98BCFD9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52B0-8E1B-408C-9416-E984BE89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4BED-CCCA-4FC1-8FC9-0BFB523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1C5F-3242-4C92-B2CF-D6C315A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C616-2564-496D-B37A-626F875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C453-864A-4520-A6AA-7F139DA4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BD86-DC82-40DE-8191-F8FD312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4F85-6683-41DE-87E5-7357D10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5B6B-A0C8-4783-9E30-325BAC1E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95D7-CE88-424F-9CF4-FF2AE630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B16-E436-48CA-93BC-AAE55CDD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4C6-4602-4D7F-B4B4-849ABAF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2AE-3CA6-4115-A819-C4F645A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BA4-3FF6-4DAF-ABA8-495B318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D44-238C-429F-9218-E0785ADC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0A6-6FEB-4FB7-AB1B-C12AC543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391-3196-4ED5-BFAB-F92B766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DC93-5F60-4E0E-8EE4-8BF26670A6F2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CAC9-AF92-4C81-9ABD-CD8F1005B79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3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blog.stnn.cc/UpLoadField/2006/04/1000358023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8.xml"/><Relationship Id="rId3" Type="http://schemas.openxmlformats.org/officeDocument/2006/relationships/image" Target="../media/image26.gif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962520" cy="2666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932360" y="765000"/>
            <a:ext cx="3886200" cy="243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352680" y="2286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73680" y="640080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98200" y="-77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四绝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00" y="14508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88320" y="14792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怪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0" y="44226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云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8320" y="4365720"/>
            <a:ext cx="66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温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3520" y="7621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03280" y="1328760"/>
            <a:ext cx="2448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89000"/>
            <a:ext cx="2737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任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68280"/>
            <a:ext cx="878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说说黄山奇松“奇”在哪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任选段落展示朗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背诵课文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然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8000" y="90792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黄山最绝妙的观松处，当然是曾被徐霞客称为“黄山绝胜处”的玉屏楼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1001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191001"/>
                </a:solidFill>
                <a:latin typeface="Times New Roman"/>
              </a:rPr>
              <a:t>自由读描写三大名松的句子，喜欢哪棵松，就多读几遍，品味品味，把自己喜欢的理由说一说，也可以写在书的空白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1001"/>
                </a:solidFill>
                <a:latin typeface="Times New Roman"/>
              </a:rPr>
              <a:t>　        可以自学，也可以找同伴合作，如果需要老师帮助，可以举手，老师会随时帮助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3849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861840"/>
            <a:ext cx="35971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姿态优美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遒劲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虽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经风霜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却仍然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郁郁苍苍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满生机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743040"/>
            <a:ext cx="471168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64000" y="4724280"/>
            <a:ext cx="3456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如今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这棵迎客松已经成为黄山奇松的代表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乃至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整个黄山的象征了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2565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它有一丛青翠的枝干斜伸出去，如同好客的主人伸出手臂，热情地欢迎宾客的到来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500720" cy="6308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3192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64000" y="1628640"/>
            <a:ext cx="34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陪客松正对玉屏楼，如同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绿色的巨人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站在那儿，正陪同游人观赏美丽的黄山风光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029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148360" y="1268280"/>
            <a:ext cx="374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客松姿态独特，枝干盘曲，游人把它比作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然盆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它向山下伸出长长的“手臂”，好像在跟游客依依不舍地告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496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4390920" cy="5977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428472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409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姿态优美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遒劲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虽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却仍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郁郁苍苍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满生机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它有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丛青翠的枝干斜伸出去，如同好客的主人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出手臂，热情地欢迎宾客的到来。如今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这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已经成为黄山奇松的代表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至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整个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的象征了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陪客松正对玉屏楼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同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一个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色的巨人站在那儿，正陪同游人观赏美丽的黄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山风光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送客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姿态独特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枝干盘曲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游人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它比作“天然盆景”。它向山下伸出长长的“手臂”，好像在跟游客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依依不舍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地告别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692280"/>
            <a:ext cx="835344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迎客松姿态优美，（　　　），虽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饱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霜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却仍然（　　），（　　　）。它有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丛青翠的枝干斜伸出去，如同（　　　　）。如今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这棵迎客松已经成为黄山奇松的代表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乃至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整个黄山的象征了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陪客松正对玉屏楼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同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（　　　　），（          ）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送客松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　　　）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，（　　　　），游人把它比作“（　　　）”。它向山下伸出长长的“手臂”，好像（　　　　　）</a:t>
            </a:r>
            <a:r>
              <a:rPr b="0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850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35280" y="1828800"/>
            <a:ext cx="5616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16 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黄山奇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262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00000" y="62784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82d0c"/>
                </a:solidFill>
                <a:latin typeface="Times New Roman"/>
              </a:rPr>
              <a:t>倒挂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619280" y="6264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01a04"/>
                </a:solidFill>
                <a:latin typeface="Times New Roman"/>
              </a:rPr>
              <a:t>竖琴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6165720"/>
            <a:ext cx="20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31c01"/>
                </a:solidFill>
                <a:latin typeface="Times New Roman"/>
              </a:rPr>
              <a:t>探海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8760" y="616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6164280"/>
            <a:ext cx="25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31c01"/>
                </a:solidFill>
                <a:latin typeface="Times New Roman"/>
              </a:rPr>
              <a:t>孔雀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55840" y="6093000"/>
            <a:ext cx="182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31c01"/>
                </a:solidFill>
                <a:latin typeface="Times New Roman"/>
              </a:rPr>
              <a:t>卧龙松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05920" y="617220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755640" y="400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黄山松</a:t>
            </a:r>
            <a:r>
              <a:rPr b="0" lang="zh-CN" sz="4400" spc="-1" strike="noStrike" u="sng">
                <a:solidFill>
                  <a:srgbClr val="b0ae6a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千姿百态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它们或屹立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斜出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或弯曲；或仰，或俯，或卧；有的状如黑虎，有的形似孔雀……它们装点着黄山，使得黄山更加神奇，更加秀美</a:t>
            </a: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。</a:t>
            </a:r>
            <a:br>
              <a:rPr sz="4000"/>
            </a:b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032200" y="960480"/>
            <a:ext cx="51732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9c2f"/>
                </a:solidFill>
                <a:latin typeface="Times New Roman"/>
                <a:ea typeface="隶书"/>
              </a:rPr>
              <a:t>作业设计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一次小导游，给爸爸妈妈介绍黄山奇松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今天我们感受了黄山奇松的奇特，大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不能选出你印象最深或最喜欢的松树，把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来 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47640" y="1484280"/>
            <a:ext cx="7296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正确、流利地朗读课文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认识生字，理解由生字组成的词语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了解课文的主要内容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1328760"/>
            <a:ext cx="2448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133720"/>
            <a:ext cx="8675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91001"/>
                </a:solidFill>
                <a:latin typeface="Times New Roman"/>
              </a:rPr>
              <a:t>陡崖    屹立    情有独钟    姿态优美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91001"/>
                </a:solidFill>
                <a:latin typeface="Times New Roman"/>
              </a:rPr>
              <a:t>盆景    宾客    饱经风霜    充满生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03280" y="1328760"/>
            <a:ext cx="2448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89000"/>
            <a:ext cx="2737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学提示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4842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思考：说说黄山奇松“奇”在哪里。结合具体词句，在自己感受深的地方写一写体会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03280" y="1328760"/>
            <a:ext cx="2448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9280" y="189000"/>
            <a:ext cx="273708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任务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785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说说黄山奇松“奇”在哪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任选段落展示朗读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背诵课文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然段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4868640"/>
            <a:ext cx="7850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5280" y="1828800"/>
            <a:ext cx="56163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16 </a:t>
            </a: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黄山奇松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228600"/>
            <a:ext cx="347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五岳归来不看山，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黄山归来不看岳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徐霞客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47640" y="2276640"/>
            <a:ext cx="729648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有感情朗读课文，背诵课文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理解课文内容，体会黄山松的美和奇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3:03:19Z</dcterms:created>
  <dc:creator>wjf</dc:creator>
  <dc:description/>
  <dc:language>en-US</dc:language>
  <cp:lastModifiedBy>微软用户</cp:lastModifiedBy>
  <dcterms:modified xsi:type="dcterms:W3CDTF">2014-10-31T08:54:54Z</dcterms:modified>
  <cp:revision>69</cp:revision>
  <dc:subject/>
  <dc:title>PowerPoint 演示文稿</dc:title>
</cp:coreProperties>
</file>