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27.jpeg" ContentType="image/jpeg"/>
  <Override PartName="/ppt/media/image6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30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BEB-0E68-459E-B997-49A67DE8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40E-94D0-4ECB-91A6-9CEA0AF5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AFF-94AE-47A6-93CA-163D8115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380-518A-4255-810C-02D69B2A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939F-F0AA-4324-829C-EEF86F88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BBDB-94D7-475F-AA55-F2C3A19A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36C0-EF2A-4A57-ACD1-E39E7866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916C-8A20-4D24-A987-CD066741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581-6FC6-40CA-8B60-AB850764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EEE6-517D-4243-ABFE-99A1D95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8D31-92EA-402F-8AA1-8BF4963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E5C-9991-4EED-9DAF-44C91178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A0E3-FECD-40CE-B158-DC94A2C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D9B3-B011-46E5-AE2A-BCF31CB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018-5A47-408D-83A6-9A9F182E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2918-D9AE-445C-8B1A-B320566D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F8DD-5CA1-4D50-AC71-59015687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F86-B2CE-4510-87F8-0641942E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FAD-2BFE-4C4E-B6B9-FFF919B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568-87AB-4B2B-9028-665F239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241-D1B1-40FD-9CB8-C9819841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F62-FF22-4450-B198-25CD6893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4EB-3964-4D87-9A84-1AA0C8D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DFA-08B9-4F96-BF63-5EA0C44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86D1-44A1-49AC-BFD6-641F527C0B6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27D1-C2C5-4163-A0C5-2437C2FAA760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baike.baidu.com/view/7597.htm" TargetMode="External"/><Relationship Id="rId4" Type="http://schemas.openxmlformats.org/officeDocument/2006/relationships/hyperlink" Target="http://baike.baidu.com/view/69156.htm" TargetMode="External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27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404640"/>
            <a:ext cx="4572000" cy="21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黄山位于安徽省南部</a:t>
            </a:r>
            <a:r>
              <a:rPr b="0" lang="zh-CN" sz="2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黄山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境内（景区由市直辖）。为</a:t>
            </a:r>
            <a:r>
              <a:rPr b="0" lang="zh-CN" sz="2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三山五岳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中三山的之一，有“天下第一奇山”之美称。徐霞客曾两次游黄山，留下了“五岳归来不看山，黄山归来不看岳”的感叹。中国最美的、令人震撼的十大名山之一。黄山是著名的避暑胜地，是国家级风景名胜区和疗养避暑胜地。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985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年入选全国十大风景名胜，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990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年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月被联合国教科文组织列入《世界文化与自然遗产名录》，是中国第一个同时作为文化、自然双重遗产列入名录的。生态保护完好，动植物众多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03080" y="9810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奇松傲立玉屏前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阅尽沧桑色更鲜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双臂垂迎天下客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包容四海寿千年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908000" y="5950080"/>
            <a:ext cx="556272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黄山上的松树生长在岩石缝中，忍受风吹日晒，没有泥土，仅靠一丁点空气或腐花败草的营养养活。下无寸土，只得扎根于岩缝中，置身于海拔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1700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多千米的悬崖，饱受风吹雨晒，从坚硬的岩缝中，从雨后的空气中，从腐花败草中汲取一切可以汲取的力量……尺把高的小树就已经生长了几十年。这棵迎客松更是经历了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800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多个寒来暑往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79480" y="15552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课外链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27640" y="836640"/>
            <a:ext cx="381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陪客松正对玉屏楼，如同一个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绿色的巨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站在那儿，正陪同游人观赏美丽的黄山风光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80000" y="4329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）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人们称这棵松为“陪客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欣   赏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---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陪 客 松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96000" cy="511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63640" y="60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[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如同巨人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陪同观赏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]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76520" y="1676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5452920" cy="6597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6278400"/>
            <a:ext cx="838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）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人们称这棵松为“送客松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59280" cy="3141360"/>
          </a:xfrm>
          <a:prstGeom prst="rect">
            <a:avLst/>
          </a:prstGeom>
          <a:solidFill>
            <a:srgbClr val="ffff99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送客松姿态独特，枝干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盘曲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，游人把它比作“天然盆景”。它向山下伸出长长的“手臂”，好像在跟游客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依依不舍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地告别。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欣   赏 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--- </a:t>
            </a: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送 客 松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4753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24000" y="60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[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伸出长臂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0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好像告别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]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理解品读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请结合刚才老师讲解及自己的理解，认真将第二段再读一遍，同时回顾：三大名松的名字是怎么来的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917640"/>
            <a:ext cx="838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客松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姿态优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枝干遒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虽然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饱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风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却仍然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郁郁苍苍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充满生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它有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青翠的枝干斜伸出去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客的主人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手臂，热情地欢迎宾客的到来。如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迎客松已经成为黄山奇松的代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乃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个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的象征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陪客松正对玉屏楼，如同一个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巨人站在那儿，正陪同游人观赏美丽的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风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客松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姿态独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枝干蟠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游人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比作“天然盆景”。它向山下伸出长长的“手臂”，好像在跟游客依依不舍地告别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2421000"/>
            <a:ext cx="503280" cy="316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53680" y="27910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黄山奇松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36880" y="224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迎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客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09960" y="339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陪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客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9960" y="4836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送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客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51120" y="2244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伸手相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57400" y="3429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陪客观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4200" y="4836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挥手送别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2565360"/>
            <a:ext cx="655560" cy="2879640"/>
          </a:xfrm>
          <a:custGeom>
            <a:avLst/>
            <a:gdLst>
              <a:gd name="textAreaLeft" fmla="*/ 0 w 655560"/>
              <a:gd name="textAreaRight" fmla="*/ 236520 w 6555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 rot="5400000">
            <a:off x="6372000" y="3429000"/>
            <a:ext cx="1944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山松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千姿百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它们或屹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斜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弯曲；或仰，或俯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卧；有的状如黑虎，有的形似孔雀……它们装点着黄山，使得黄山更加神奇，更加秀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872360"/>
            <a:ext cx="2743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68360" y="1844640"/>
            <a:ext cx="4876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黄山奇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千姿百态：形容人或事物的形态多种多样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屹立：像山峰一样高耸而稳固的立着，比喻坚定不可动摇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4280" y="6476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记一记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99080" y="765000"/>
            <a:ext cx="34725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五岳归来不看山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归来不看岳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徐霞客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723960"/>
            <a:ext cx="90360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蒲团松"/>
          <p:cNvPicPr/>
          <p:nvPr/>
        </p:nvPicPr>
        <p:blipFill>
          <a:blip r:embed="rId2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75" name="椭圆 2"/>
          <p:cNvSpPr/>
          <p:nvPr/>
        </p:nvSpPr>
        <p:spPr>
          <a:xfrm>
            <a:off x="5292720" y="5877000"/>
            <a:ext cx="1655640" cy="792000"/>
          </a:xfrm>
          <a:prstGeom prst="ellipse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558000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孔雀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78" name="图片 1" descr="73191_200911221720511er95.jpg"/>
          <p:cNvPicPr/>
          <p:nvPr/>
        </p:nvPicPr>
        <p:blipFill>
          <a:blip r:embed="rId2"/>
          <a:stretch/>
        </p:blipFill>
        <p:spPr>
          <a:xfrm>
            <a:off x="-324000" y="0"/>
            <a:ext cx="9712440" cy="6886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1197000"/>
            <a:ext cx="1760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  <a:ea typeface="华文隶书"/>
              </a:rPr>
              <a:t>探海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认一认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誉              陡                  屏          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宾              屹                   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912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5080" y="206064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dǒu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03280" y="1989000"/>
            <a:ext cx="102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ù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1916280"/>
            <a:ext cx="108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píng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28400" y="414972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bī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97440" y="4221000"/>
            <a:ext cx="65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yì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5080" y="422100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wò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1" name="Picture 13" descr="07"/>
          <p:cNvPicPr/>
          <p:nvPr/>
        </p:nvPicPr>
        <p:blipFill>
          <a:blip r:embed="rId2"/>
          <a:stretch/>
        </p:blipFill>
        <p:spPr>
          <a:xfrm>
            <a:off x="1440" y="0"/>
            <a:ext cx="93250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180036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扇子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9840" y="880920"/>
            <a:ext cx="90741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8395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贴壁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160" y="836640"/>
            <a:ext cx="9064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867280" y="0"/>
            <a:ext cx="32767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连理松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32893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想象说话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8fd31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山松千姿百态，有的像（                ），有的如同（             ），有的仿佛（           ），有的状如（                 ），它们（              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6095880"/>
            <a:ext cx="49608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32893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想象说话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24000" y="177336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8fd31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黄山松千姿百态，有的像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猛虎下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，有的如同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仙鹤飞天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，有的仿佛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仙人共舞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，有的状如（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大鹏展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），它们（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装点着黄山，使黄山更加神奇，更加秀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62120" y="6095880"/>
            <a:ext cx="49608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陡崖    屹立   盆景   宾客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声誉    屏障    仰卧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情有独钟    饱经风霜   姿态优美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充满生机    枝干遒劲  郁郁苍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千姿百态    依依不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907920"/>
            <a:ext cx="84247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誉为“天下第一奇山”的黄山，以奇松、怪石、云海、温泉“</a:t>
            </a: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四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闻名于世，而人们对黄山奇松更是情有独钟。山顶上，陡崖边，处处都有它们潇洒、挺秀的身影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057400" y="114300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2879640" cy="1992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88000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4120" y="3886200"/>
            <a:ext cx="2879640" cy="191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-57240" y="1828800"/>
            <a:ext cx="152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黄 山 四 绝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048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奇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0481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怪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57913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云海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5867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温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66ff"/>
                </a:solidFill>
                <a:latin typeface="Times New Roman"/>
              </a:rPr>
              <a:t>精读感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、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看了这四绝，黄山肯定给大家留下了深刻的印象，在这四绝中，人们对黄山奇松却格外有感情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　请大家认真阅读第二自然段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，想想为什么说观松最好的地方是玉屏楼呢？能不能从课文中找出依据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　课文是怎样具体描写这三种奇松的呢？边读边想，边做批注，把对有关词句的理解、感悟写在书中空白处。（自读小提示：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、划出具体描写迎客松、陪客松、送客松的句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、     哪些词、句最能表现迎客松的“奇”？标出来，在旁边做批注。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遒劲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郁郁苍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饱经风霜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盘曲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依依不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907920"/>
            <a:ext cx="47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95640" y="836640"/>
            <a:ext cx="4824360" cy="58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苍劲有力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形容草木翠绿茂盛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形容经历过很多困苦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曲折环绕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非常留恋，不忍分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384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0"/>
            <a:ext cx="428472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迎客松姿态优美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枝干遒劲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虽然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饱经风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却仍然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郁郁苍苍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充满生机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它有一丛青翠的枝干斜伸出去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同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客的主人伸出手臂，热情地欢迎宾客的到来。如今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乃至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整个黄山的象征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11680" cy="5638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7913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）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们称这棵松为“迎客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3:03:19Z</dcterms:created>
  <dc:creator/>
  <dc:description/>
  <dc:language>en-US</dc:language>
  <cp:lastModifiedBy>AutoBVT</cp:lastModifiedBy>
  <dcterms:modified xsi:type="dcterms:W3CDTF">2016-11-21T02:10:35Z</dcterms:modified>
  <cp:revision>84</cp:revision>
  <dc:subject/>
  <dc:title>幻灯片 1</dc:title>
</cp:coreProperties>
</file>