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ECD-73E5-4E84-81C1-EEAF1DE7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1B0-EECF-4676-BC84-DFBD9155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C46-76E4-43C5-B274-F965BE82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640-FE1E-4870-8516-EE6E67B1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206-FF23-4AB5-9FF6-C4C9C39E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604-5C37-48EF-9878-38633927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AA3-F6E8-41E6-8674-C06D3121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35E-83BF-4E61-BF94-FE31541A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3DC-7CB8-4460-A048-93AA81F9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C0A-4812-415F-A29D-F6C72D35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369-332B-4DE3-93E3-FBA90610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B7A-85D5-40F6-BC4C-90322A83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BEFA-A7DA-454A-B6AD-CB087C3972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1080" y="14842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华文行楷"/>
              </a:rPr>
              <a:t>黑人谈河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89240" y="3500280"/>
            <a:ext cx="27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兰斯顿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·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休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晨曦中我在幼发拉底河沐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1844640"/>
            <a:ext cx="678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幼发拉底河是古代文明的发源地之一，这里曾诞生过灿烂的古代文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640720" cy="5214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50920" y="1233360"/>
            <a:ext cx="8893080" cy="5624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刚果河畔我盖了一间茅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河水潺潺催我入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989000"/>
            <a:ext cx="65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刚果河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是非洲流域面积最大的河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4753080" cy="3284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851280" y="3502080"/>
            <a:ext cx="52927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我瞰望尼罗河，在河畔建造了金　　　　字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198900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尼罗河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是世界上最长的河流。尼罗河流域也诞生过灿烂的古代文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1440" y="260280"/>
            <a:ext cx="3998880" cy="6346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4484880" cy="6126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1341360"/>
            <a:ext cx="889308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27640" y="3139920"/>
            <a:ext cx="4716360" cy="371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3116160"/>
            <a:ext cx="4788000" cy="3741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141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643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当林肯去新奥尔良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听到密西西比河的歌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瞧见它那浑浊的胸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夕阳下闪耀金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10640" y="5229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密西西比河是北美洲最大的河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3141720"/>
            <a:ext cx="70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林肯在担任美国总统时，废除了奴隶制，使美国的黑奴获得解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105440" cy="5187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211640" y="549360"/>
            <a:ext cx="478800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8353440" cy="4260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26028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诗人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夸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的手法回顾历史。“我”的身影掠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亚、非、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大洲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从古代到现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，在每一个地方都有令“我”难忘的河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47160" y="4941000"/>
            <a:ext cx="12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黑体"/>
                <a:ea typeface="黑体"/>
              </a:rPr>
              <a:t>尼羅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4520" y="5373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刚果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98080" y="3429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密西西比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788000" y="4868640"/>
            <a:ext cx="504720" cy="21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95640" y="5229000"/>
            <a:ext cx="57636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484000" y="4076640"/>
            <a:ext cx="35892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54080" y="357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幼发拉底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3860640"/>
            <a:ext cx="1008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中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91880" y="3219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07880" y="4371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20240" y="3722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了解河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古老的黝黑的河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3213000"/>
            <a:ext cx="66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在句式上与第一节相仿，但句子更短，表意更简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2349360"/>
            <a:ext cx="273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69480" y="2421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喻指黑人的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的灵魂变得像河流一般深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9890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是第二节的重复，前后呼应，意在强化突出主题。黑人种族见证了人类的发展历史，黑人的　“灵魂”里容纳着人类的文明，历史的积淀，因而显得　“深邃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796000" y="333360"/>
            <a:ext cx="237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小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这首诗显示了黑人对自己种族的自豪感。在诗人生活的时代，种族歧视的恶习在美国还没有根除，诗人代表自己的种族写下了这样的诗篇，无疑具有很强的号召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亮点研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１、把抽象的哲理，完全融于形象的诗句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遍布世界的大大小小的河流，是人类生存发展的摇篮，是人类精神与物质文明的发祥地。诗人用一幅幅的历史图画，把我们的思想带到了人类的洪荒时代，让我们感受到了在人类历史发展的长河中，黑人民族的伟大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兰斯顿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休斯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190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967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著名的黑人诗人、小说家、剧作家和政论家。他是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世纪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年代黑人文艺复兴的杰出代表，被誉为“哈莱姆（纽约黑人聚居区）的桂冠诗人”。 他写作的题材大多是黑人的生活和种族问题，为黑人文学开辟了现实主义道路。出版的诗集有《困倦的布鲁斯》《给犹太人的漂亮衣裳》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76464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２、这首诗的艺术构思是跳跃的，但又有着严密的思想逻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我认识河流——它比人类久远——我在河流的哺育下发展、繁殖，河流是我生存的见证——因此我认识河流——生河折磨了我，教育了我，我的思想、灵魂和河流一样深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３、语言结构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长短句互相交错，参差跌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第二节诗中四个排比句，上半句结构相似，下半句发生变化，均不相同，结构既整齐均衡又活泼自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835280" y="1413000"/>
            <a:ext cx="5329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再读诗歌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体会情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99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《黑人谈河流》是休斯发表的第一首诗，写这首诗时，他还是一个中学生，不到二十 岁，这是他著名的诗篇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在《黑人谈河流》中，作者没有接触到黑人的受难和斗争。它只是通过黑人种族与几条河流的联系，象征性地然而又是形象地表达了它的历史行程。但是，这首诗却是有助于激发黑人的斗志的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87280" y="1268280"/>
            <a:ext cx="70567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朗读诗歌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187280" y="1268280"/>
            <a:ext cx="70567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赏析诗歌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27640" y="692280"/>
            <a:ext cx="115236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黑人谈河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6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06760" y="206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象征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314172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黑人对河流的追溯，就是对自身历史的追溯，就是对祖先和故土的寻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476280"/>
            <a:ext cx="649440" cy="649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了解／河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了解／像世界一样古老的河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比／人类血管中流动的血液更古老的河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256536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不是某个具体的黑人，而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代表整个黑人的种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5320" y="1125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1125360"/>
            <a:ext cx="69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9320" y="1844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184464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1125360"/>
            <a:ext cx="11509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20000" y="1916280"/>
            <a:ext cx="11509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3213000"/>
            <a:ext cx="11509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67120" y="40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反复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71628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强调黑人对“河流”（历史）的见证。黑人是具有悠久历史的种族，是最早在地球上留下自己的足迹的。他们见证了人类历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的灵魂变得像河流一般深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844640"/>
            <a:ext cx="7724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黑人不仅仅了解河流，并且已经深入地用“灵魂”去感受“河流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也就是说，黑人的“灵魂”因见证历史而深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62280" y="4365720"/>
            <a:ext cx="79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承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启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7360" y="4365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由了解——进而灵魂感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515772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见证了哪些历史？——进而转入对历史的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1:55:05Z</dcterms:created>
  <dc:creator>吴道政</dc:creator>
  <dc:description/>
  <dc:language>en-US</dc:language>
  <cp:lastModifiedBy>chenxiao</cp:lastModifiedBy>
  <dcterms:modified xsi:type="dcterms:W3CDTF">2007-01-04T01:08:06Z</dcterms:modified>
  <cp:revision>16</cp:revision>
  <dc:subject/>
  <dc:title>幻灯片 1</dc:title>
</cp:coreProperties>
</file>