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76D-6627-415B-BF2A-DA72C677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0F5E-AF82-479E-B889-095038FA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DFC-0E0E-4B01-8B75-8E6D5437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7210-5F3C-41AF-B668-86E6B49B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4495-9427-48C3-A626-2F8AA430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2691-11CB-4F10-B37B-6B77D98A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972D-6D83-4B0A-93A2-18CE914A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CF4-8DDF-4570-B3C5-A597E853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E58-8A31-4096-8CBD-184A202F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F02E-F659-4D0A-8A3B-8FAEACE8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6676-4E41-4736-AAA5-A21038CA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149E-63F3-420A-BE16-3D2304C8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25B1-7E76-4B8C-B47F-7F7D4C4C0D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099" descr="3516451_134954036094_2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矩形 4100" descr=""/>
          <p:cNvPicPr/>
          <p:nvPr/>
        </p:nvPicPr>
        <p:blipFill>
          <a:blip r:embed="rId2"/>
          <a:stretch/>
        </p:blipFill>
        <p:spPr>
          <a:xfrm>
            <a:off x="527040" y="450720"/>
            <a:ext cx="4546440" cy="210816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4101"/>
          <p:cNvSpPr/>
          <p:nvPr/>
        </p:nvSpPr>
        <p:spPr>
          <a:xfrm>
            <a:off x="1828800" y="32767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4102"/>
          <p:cNvSpPr/>
          <p:nvPr/>
        </p:nvSpPr>
        <p:spPr>
          <a:xfrm>
            <a:off x="1181160" y="3108240"/>
            <a:ext cx="457200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隶书"/>
              </a:rPr>
              <a:t>——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学”的基本内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"/>
          <p:cNvSpPr/>
          <p:nvPr/>
        </p:nvSpPr>
        <p:spPr>
          <a:xfrm>
            <a:off x="2058480" y="4676760"/>
            <a:ext cx="2782080" cy="5814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朔城区一中       李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36440" y="168120"/>
            <a:ext cx="8801280" cy="59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孔子说：“仲由啊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!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你听说过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六种品德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六种蔽病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吗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?”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子路回答说：“没有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.”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孔子说：“坐下来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!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我告诉你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爱好仁德却不学礼度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它的弊病是会变得愚蠢；爱好聪明才智却不学礼度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它的弊病是放荡不羁；爱好讲诚信却不学礼度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它的弊病是容易被人利用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害己害人；爱好直率却不学礼度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它的弊病是说话尖刻刺人；爱好勇敢却不学礼度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它的弊病是捣乱闯祸；爱好刚强却不学礼度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它的弊病是胆大妄为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.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69640" y="158400"/>
            <a:ext cx="7405560" cy="6248520"/>
          </a:xfrm>
          <a:prstGeom prst="rect">
            <a:avLst/>
          </a:prstGeom>
          <a:solidFill>
            <a:srgbClr val="ccffcc">
              <a:alpha val="58000"/>
            </a:srgbClr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于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学习的重要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孔子是这样表达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实孔子强调的是：一个人的品质是要通过努力学习去完善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不加强学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善于运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即使你有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信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刚这样的美德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照样会出现大的弊病。学习应该放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首位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学习能弥补人的不足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起到了一个方向性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0243" descr="4eeec142e410ec2d9213c692"/>
          <p:cNvPicPr/>
          <p:nvPr/>
        </p:nvPicPr>
        <p:blipFill>
          <a:blip r:embed="rId1"/>
          <a:stretch/>
        </p:blipFill>
        <p:spPr>
          <a:xfrm rot="691200">
            <a:off x="7364520" y="4328640"/>
            <a:ext cx="1611360" cy="2400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0680" y="156960"/>
            <a:ext cx="8466120" cy="36702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原文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子曰</a:t>
            </a:r>
            <a:r>
              <a:rPr b="1" lang="en-US" sz="3200" spc="-1" strike="noStrike">
                <a:solidFill>
                  <a:srgbClr val="002060"/>
                </a:solidFill>
                <a:latin typeface="黑体"/>
                <a:ea typeface="黑体"/>
              </a:rPr>
              <a:t>:“</a:t>
            </a: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恭而无礼则劳</a:t>
            </a:r>
            <a:r>
              <a:rPr b="1" lang="en-US" sz="32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慎而无礼则葸</a:t>
            </a:r>
            <a:r>
              <a:rPr b="1" lang="en-US" sz="32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勇而无礼则乱</a:t>
            </a:r>
            <a:r>
              <a:rPr b="1" lang="en-US" sz="32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直而无礼则绞</a:t>
            </a:r>
            <a:r>
              <a:rPr b="1" lang="en-US" sz="3200" spc="-1" strike="noStrike">
                <a:solidFill>
                  <a:srgbClr val="002060"/>
                </a:solidFill>
                <a:latin typeface="黑体"/>
                <a:ea typeface="黑体"/>
              </a:rPr>
              <a:t>.</a:t>
            </a:r>
            <a:r>
              <a:rPr b="1" lang="en-US" sz="3200" spc="-1" strike="noStrike">
                <a:solidFill>
                  <a:srgbClr val="002060"/>
                </a:solidFill>
                <a:latin typeface="黑体"/>
                <a:ea typeface="黑体"/>
              </a:rPr>
              <a:t>君子笃于亲，则民兴于仁，故旧不遗，则民不偷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【注释】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①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劳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辛劳，劳苦。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葸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音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xǐ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，拘谨，畏惧的样子。③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绞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说话尖刻，出口伤人。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(4)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笃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：厚待、真诚。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(5)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故旧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：故交，老朋友。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(6)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偷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：淡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3555"/>
          <p:cNvSpPr/>
          <p:nvPr/>
        </p:nvSpPr>
        <p:spPr>
          <a:xfrm>
            <a:off x="173160" y="4051440"/>
            <a:ext cx="87422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一味的谦恭而不拿礼来约束，就会很辛苦，一味的慎重而不拿礼来节制就会畏首畏尾，一味的勇侠而不拿礼来节制就会犯犯上作乱，一味的直率而不拿礼来节制就会急切而伤害人，在上位的人厚待父母亲族，那么老百姓就会兴起仁厚之风，在上位的人不遗弃旧交，那么老百姓就不会不厚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29699"/>
          <p:cNvSpPr/>
          <p:nvPr/>
        </p:nvSpPr>
        <p:spPr>
          <a:xfrm>
            <a:off x="304920" y="2057400"/>
            <a:ext cx="857880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讲礼的重要性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任何人情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为政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做人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都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不以礼节之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亦不可行也。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礼是各种执政行事的准则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同时也是个体为人做事的尺度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否则就会疲劳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伤人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懦弱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动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700"/>
          <p:cNvSpPr/>
          <p:nvPr/>
        </p:nvSpPr>
        <p:spPr>
          <a:xfrm>
            <a:off x="579960" y="457200"/>
            <a:ext cx="100368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评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4760" y="123840"/>
            <a:ext cx="8934480" cy="6608880"/>
          </a:xfrm>
          <a:prstGeom prst="rect">
            <a:avLst/>
          </a:prstGeom>
          <a:solidFill>
            <a:srgbClr val="ffffff">
              <a:alpha val="55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原文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子夏曰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:'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贤贤易色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事父母能竭其力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事君能致其身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与朋友交言而有信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虽曰未学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吾必谓之学矣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尊重有才能的人而看轻女色；侍奉父母，能竭尽全力；侍奉君主，能贡献自己的身家性命；和朋友交往，说话诚实守信；虽然说没有学，我也一定说他学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这几句话，是接着证明学问的目的，不是文学、不是知识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作人做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52280" y="186840"/>
            <a:ext cx="8763120" cy="208116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原文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子曰：“君子食无求饱，居无求安，敏于事而慎于言，就有道而正焉，可谓好学也已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0483"/>
          <p:cNvSpPr/>
          <p:nvPr/>
        </p:nvSpPr>
        <p:spPr>
          <a:xfrm>
            <a:off x="257040" y="2409840"/>
            <a:ext cx="18590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【译文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0484"/>
          <p:cNvSpPr/>
          <p:nvPr/>
        </p:nvSpPr>
        <p:spPr>
          <a:xfrm>
            <a:off x="152280" y="4191120"/>
            <a:ext cx="10515600" cy="31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0485"/>
          <p:cNvSpPr/>
          <p:nvPr/>
        </p:nvSpPr>
        <p:spPr>
          <a:xfrm>
            <a:off x="152280" y="3441600"/>
            <a:ext cx="8763120" cy="119052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孔子说：“君子吃不追求饱足，住不追求安逸，勤勉做事而谨慎言谈，接近有道德的人来匡正自己的错误，这样就可以说好学了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64880" y="192240"/>
            <a:ext cx="7289640" cy="6362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评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孔子认为颜回好学，判断的依据是什么？课文中有一句话：子曰：“君子食无求饱，居无求安，敏于事而慎于言，就有道而正焉，可谓好学也已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孔子认为好学的标准就是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淡化物质追求，主动丰富精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前面我们说过“子曰：“贤哉，回也！一箪食，一瓢饮，在陋巷，人不堪其忧，回也不改其乐。贤哉，回也！”可见，颜回是满足这个标准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9220" descr="孔子头像 副本"/>
          <p:cNvPicPr/>
          <p:nvPr/>
        </p:nvPicPr>
        <p:blipFill>
          <a:blip r:embed="rId1"/>
          <a:stretch/>
        </p:blipFill>
        <p:spPr>
          <a:xfrm>
            <a:off x="7254720" y="3733920"/>
            <a:ext cx="178920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28240" y="134640"/>
            <a:ext cx="8729640" cy="638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原文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哀公问：“弟子孰为好学？”孔子对曰：“有颜回者好学，不迁怒，不二过。不幸短命死矣，今也则无，未闻好学者也。”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论语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·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雍也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鲁哀公问孔子：“你的弟子哪一个好学？”孔子回答说：“有个叫颜回的好学，不把自己的怒气发泄到另一个人身上，不重犯早先犯过的错误，不幸短命早死了。现在就没有好学的了，再也没有听说过好学的人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28240" y="304920"/>
            <a:ext cx="5791320" cy="6400800"/>
          </a:xfrm>
          <a:prstGeom prst="rect">
            <a:avLst/>
          </a:prstGeom>
          <a:solidFill>
            <a:srgbClr val="ccffcc">
              <a:alpha val="44000"/>
            </a:srgbClr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评析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   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孔子曾两次对人说，自从颜回去世，就再没有听说有好学的人了。这两次，一次是对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鲁哀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一次是对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季康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两次都说“有颜回者好学”，都说“今也则亡”，可见孔子对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好学的重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从另一个侧面看，就是孔子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有学习的兴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他也认为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兴趣是学习中最重要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8196" descr="2feaf6dfba4e9973cdbf1ab8"/>
          <p:cNvPicPr/>
          <p:nvPr/>
        </p:nvPicPr>
        <p:blipFill>
          <a:blip r:embed="rId1"/>
          <a:stretch/>
        </p:blipFill>
        <p:spPr>
          <a:xfrm rot="601200">
            <a:off x="6479640" y="3065040"/>
            <a:ext cx="2368800" cy="3479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8720" y="107640"/>
            <a:ext cx="8961480" cy="949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原文】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子曰：“古之学者为己，今之学者为人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33795"/>
          <p:cNvSpPr/>
          <p:nvPr/>
        </p:nvSpPr>
        <p:spPr>
          <a:xfrm>
            <a:off x="120600" y="1209600"/>
            <a:ext cx="8859960" cy="1068840"/>
          </a:xfrm>
          <a:prstGeom prst="rect">
            <a:avLst/>
          </a:prstGeom>
          <a:solidFill>
            <a:srgbClr val="f2f2f2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古代的人学习是为了自己（增加学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修养道德），现在的人学习是为了向别人卖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33796"/>
          <p:cNvSpPr/>
          <p:nvPr/>
        </p:nvSpPr>
        <p:spPr>
          <a:xfrm>
            <a:off x="457200" y="2286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3797"/>
          <p:cNvSpPr/>
          <p:nvPr/>
        </p:nvSpPr>
        <p:spPr>
          <a:xfrm>
            <a:off x="120600" y="2535120"/>
            <a:ext cx="885816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古人质朴厚笃，少名利之心。当今之世，皆为名利而奔波。古人之学，在于养德，今人之学，在于装潢。目的不同，动机相异，结果甚殊。不论其学习的初衷如何，学习是首要的，尤其重要的是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在提高自己学问的同时，还要注意提高自己的道德修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横卷形 5124"/>
          <p:cNvSpPr/>
          <p:nvPr/>
        </p:nvSpPr>
        <p:spPr>
          <a:xfrm>
            <a:off x="800280" y="227160"/>
            <a:ext cx="7543800" cy="28969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隶书"/>
              </a:rPr>
              <a:t>先秦儒家之教与学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隶书"/>
              </a:rPr>
              <a:t>都侧重于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华文隶书"/>
              </a:rPr>
              <a:t>道德完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隶书"/>
              </a:rPr>
              <a:t>方面的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5125" descr="dff6c4dc48cf029bcc1166b1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27080" y="193680"/>
            <a:ext cx="8750160" cy="1628640"/>
          </a:xfrm>
          <a:prstGeom prst="rect">
            <a:avLst/>
          </a:prstGeom>
          <a:solidFill>
            <a:srgbClr val="ffffff">
              <a:alpha val="58000"/>
            </a:srgbClr>
          </a:solidFill>
          <a:ln w="5724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【选文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子曰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:‘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弟子入则孝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出则弟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谨而信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泛爱众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而亲仁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行有余力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则以学文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’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2294"/>
          <p:cNvSpPr/>
          <p:nvPr/>
        </p:nvSpPr>
        <p:spPr>
          <a:xfrm>
            <a:off x="127080" y="1998720"/>
            <a:ext cx="8750160" cy="764280"/>
          </a:xfrm>
          <a:prstGeom prst="rect">
            <a:avLst/>
          </a:prstGeom>
          <a:solidFill>
            <a:srgbClr val="f2f2f2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年轻人在家孝顺父母，出门尊重长辈，谨慎而诚实，广泛的关心大众而亲近有仁德的人，做到这几点以后还有力量，就用来学习礼乐制度和文化知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41200" y="333360"/>
            <a:ext cx="8661600" cy="6238800"/>
          </a:xfrm>
          <a:prstGeom prst="rect">
            <a:avLst/>
          </a:prstGeom>
          <a:solidFill>
            <a:srgbClr val="f2f2f2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一个人即使没有读过书，可是他作人做事完全对了，就是有学问。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弟子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一般两种意义</a:t>
            </a:r>
            <a:r>
              <a:rPr b="1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一是指年纪幼小之人</a:t>
            </a:r>
            <a:r>
              <a:rPr b="1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一是指学生</a:t>
            </a:r>
            <a:r>
              <a:rPr b="1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这里取第一种意义</a:t>
            </a:r>
            <a:r>
              <a:rPr b="1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这一章是教人为学的</a:t>
            </a:r>
            <a:r>
              <a:rPr b="1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为学要以躬行为本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躬行要以孝悌为先</a:t>
            </a:r>
            <a:r>
              <a:rPr b="1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说行有余力</a:t>
            </a:r>
            <a:r>
              <a:rPr b="1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不是说做这几件事有余力而后学文</a:t>
            </a:r>
            <a:r>
              <a:rPr b="1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而是说要以这几项德行为本</a:t>
            </a:r>
            <a:r>
              <a:rPr b="1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在此基础上来学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28600" y="149040"/>
            <a:ext cx="8686800" cy="65214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【原文】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陈亢问于伯鱼曰：“子亦有异闻乎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对曰：“未也。尝独立，鲤趋而过庭。曰：‘学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诗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乎？’对曰：‘未也。’‘不学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诗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，无以言。’鲤退而学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诗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。他日，又独立，鲤趋而过庭。曰：‘学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礼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乎？’对曰：‘未也。’‘不学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礼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，无以立。’鲤退而学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礼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。闻斯二者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陈亢退而喜曰：“问一得三：闻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诗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，闻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礼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，又闻君子之远其子也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362320" cy="59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【译文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38240" y="595440"/>
            <a:ext cx="8867520" cy="60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陈亢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伯鱼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说：“你从夫子那里得到过与众不同的教导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伯鱼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答道：“没有啊，曾经有一次，（夫子）一个人在庭院站着，我快步走过，夫子说：‘你学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诗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了吗？我回答：“没有啊。”夫子说：‘不学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诗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就不会说话。’我退回便学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诗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。后来有一天，夫子又一个人站着，我快步走过庭院。夫子说：‘你学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礼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了吗？’我回答：‘没有啊。’夫子说：‘不学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礼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就不能立身处世，立足社会。’我退回便学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礼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。就听说过这两件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陈亢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回去，高兴地说：“问一件事情，知道了三件事情；听说了学习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诗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意义，听说了学习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礼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意义，又听说了君子不偏爱自己的儿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2133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评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古人云：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父母之爱子，则为之计深远。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”孔子也不例外，教育孔鲤，用思深远。教导其子，无异于门人。故曰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天地至公，圣人无私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”。君子不私其子，必至公正于天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历来官僚腐败者，总是借权仗势，其家属子弟，尽皆通达。其所传家者，非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诗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非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礼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，而是借势敛财。如此家教，岂能为之深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67840"/>
            <a:ext cx="861048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原文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孔子曰：“生而知之者，上也；学而知之者，次也；困而学之，又其次也；困而不学，民斯为下矣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3315"/>
          <p:cNvSpPr/>
          <p:nvPr/>
        </p:nvSpPr>
        <p:spPr>
          <a:xfrm>
            <a:off x="289080" y="23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3316"/>
          <p:cNvSpPr/>
          <p:nvPr/>
        </p:nvSpPr>
        <p:spPr>
          <a:xfrm>
            <a:off x="228600" y="2637000"/>
            <a:ext cx="8610480" cy="21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孔子说：“生来就知道的，是上等人；学习后才知道的，是二等人；遇到困难才学习的，是三等人；遇到困难也不学习的，这就是下等人了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80" y="82440"/>
            <a:ext cx="1524240" cy="868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评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218960"/>
            <a:ext cx="8534160" cy="48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天才是存在的，不容怀疑，但是天才如果没有勤奋努力的支持，其成就是有限的。凡事在于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学而知之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，功业、德行的成就在于日积月累的学习，在于不断进取。贫穷是一种资源，是一种境界，是起点，贫困可以励志，成就人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2880" y="222120"/>
            <a:ext cx="852192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【原文】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子曰：“我非生而知之者，好古、敏以求之者也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6391"/>
          <p:cNvSpPr/>
          <p:nvPr/>
        </p:nvSpPr>
        <p:spPr>
          <a:xfrm>
            <a:off x="272880" y="1941480"/>
            <a:ext cx="852192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zh-CN" sz="5400" spc="-1" strike="noStrike">
                <a:solidFill>
                  <a:srgbClr val="0000cc"/>
                </a:solidFill>
                <a:latin typeface="黑体"/>
                <a:ea typeface="黑体"/>
              </a:rPr>
              <a:t>孔子说：“我不是天生就有学问的，只不过是个喜欢读书、勤奋敏捷地追求知识的人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04560" y="212400"/>
            <a:ext cx="8513640" cy="6302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评析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】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成为大师的孔子，对于人的天资进行了客观的划分，接着孔子很清晰的认识了自己，虽然孔子在当时就已经名声卓著，但是他认为他不是天才，而是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好学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这是孔子的学习态度。孔子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承认自己不是天才，但是肯定自己好学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这是孔子作为学人的特点之一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04560" y="112680"/>
            <a:ext cx="8574120" cy="14940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【原文】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子曰：“十室之邑，必有忠信如丘者焉，不如丘之好学也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7411"/>
          <p:cNvSpPr/>
          <p:nvPr/>
        </p:nvSpPr>
        <p:spPr>
          <a:xfrm>
            <a:off x="463680" y="21718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【译文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7412"/>
          <p:cNvSpPr/>
          <p:nvPr/>
        </p:nvSpPr>
        <p:spPr>
          <a:xfrm>
            <a:off x="304920" y="3052800"/>
            <a:ext cx="857556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孔子说：“只有一个十户人家的地方，也必须会有像我孔丘这样忠厚诚信的人，只是比不上我孔丘一样喜欢学习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77920" y="228240"/>
            <a:ext cx="5548320" cy="6095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评析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孔子对于自己的好学相当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自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还说，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像他这样忠厚诚信的人，一个十户人家的地方就会有，却都“不如丘之好学也”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论语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公冶长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）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见孔子对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好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的看重。这两个字的评价，除了他用来表扬自己之外，他只给过一个学生，那就是颜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7171" descr="2feaf6dfba4e9973cdbf1ab8"/>
          <p:cNvPicPr/>
          <p:nvPr/>
        </p:nvPicPr>
        <p:blipFill>
          <a:blip r:embed="rId1"/>
          <a:stretch/>
        </p:blipFill>
        <p:spPr>
          <a:xfrm>
            <a:off x="5943600" y="498600"/>
            <a:ext cx="3102120" cy="5333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6360" y="88560"/>
            <a:ext cx="9071280" cy="67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原文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子曰：“由也，汝闻六言六蔽矣乎？”对曰：“未也。“居，吾语汝。好仁不好学，其蔽也愚；好知不好学，其蔽也荡；好信不好学，其蔽也贼；好直不好学，其蔽也绞；好勇不好学，其蔽也乱；好刚不好学，其蔽也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注释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六言：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六个字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这是下文说的仁、智、信、直、勇、刚六种品德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蔽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通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"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弊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"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。弊病，害处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②居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：坐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知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同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"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智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"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荡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放荡不羁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(ji)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③贼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：害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危害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这里指容易给自己和亲人带来伤害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④绞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：指说话尖刻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不通情理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⑤乱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：小指捣乱闯祸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大指犯上作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1T23:48:59Z</dcterms:created>
  <dc:creator/>
  <dc:description/>
  <dc:language>en-US</dc:language>
  <cp:lastModifiedBy>芬</cp:lastModifiedBy>
  <dcterms:modified xsi:type="dcterms:W3CDTF">2019-03-12T09:23:5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  <property fmtid="{D5CDD505-2E9C-101B-9397-08002B2CF9AE}" pid="3" name="Version">
    <vt:r8>1</vt:r8>
  </property>
</Properties>
</file>