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D68-53C9-432A-B60B-4E1E371E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F7D-E440-4187-A2A5-5A903111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DCC-D602-413C-BA5C-B8C062A5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D41-CE86-4993-851D-082CE46C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7ED-DE6E-4E5F-A8B0-27C9FE19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6C8-5DA6-4541-B7EF-E92A3620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318-9DFE-468D-8FC7-BF9D7709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5EA-511A-4755-9C47-B1613333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906-271C-4B1D-9586-E8E7CE0D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234-9018-426D-9387-FCDAC1C4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9B5-6AEA-4D0F-9194-8791E91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186-868B-4D40-9364-333F5A8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EC84-8DBB-4453-B2FF-DFF4B64A3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457200"/>
            <a:ext cx="4495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好仁不好学，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其蔽也愚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2767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895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学”的基本内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7086600" cy="6248520"/>
          </a:xfrm>
          <a:prstGeom prst="rect">
            <a:avLst/>
          </a:prstGeom>
          <a:solidFill>
            <a:srgbClr val="ccffcc">
              <a:alpha val="58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学习的重要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孔子是这样表达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实孔子强调的是一个人的品质是要通过努力学习去完善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不加强学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善于运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使你有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这样的美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照样回出现大的弊病。学习应该放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首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能弥补人的不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学习起到了一个方向性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691200">
            <a:off x="7238880" y="4190760"/>
            <a:ext cx="161136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子曰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“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恭而无礼则劳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慎而无礼则葸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勇而无礼则乱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直而无礼则绞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40200" y="2590920"/>
            <a:ext cx="456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味的谦恭而不拿礼来约束，就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辛苦，一味的慎重而不拿礼来节制就会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首畏尾，一味的勇侠而不拿礼来节制就会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犯上作乱，一味的直率而不拿礼来节制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会急切而伤害人，在上位的人厚待父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族，那么老百姓就会兴起仁厚之风，在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位的人不遗弃旧交，那么老百姓就不会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厚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2057400"/>
            <a:ext cx="816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讲礼的重要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何人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‘不以礼节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亦不可行也，礼是各种执政行事的准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时也是个体为人做事的尺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否则就会疲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伤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懦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920" y="457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评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624852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子夏曰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'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贤贤易色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事父母能竭其力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事君能致其身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与朋友交言而有信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虽曰未学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吾必谓之学矣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.'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末句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'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虽曰未学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吾必谓之学矣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.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译文】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尊重有才能的人而看轻女色；侍奉父母，能竭尽全力；侍奉君主，能贡献自己的身家性命；和朋友交往，说话诚实守信；虽然说没有学，我也一定说他学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这几句话，是接着证明了学问的目的，不是文学、不是知识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人做事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89720" y="2286000"/>
            <a:ext cx="2502000" cy="4294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选文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子曰：“君子食无求饱，居无求安，敏于事而慎于言，就有道而正焉，可谓好学也已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743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4191120"/>
            <a:ext cx="1051560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5812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孔子说：“君子吃不追求饱足，住不追求安逸，勤勉做事而谨慎言谈，接近有道德的人来匡正自己的错误，这样就可以说好学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6400800" cy="5639040"/>
          </a:xfrm>
          <a:prstGeom prst="rect">
            <a:avLst/>
          </a:prstGeom>
          <a:solidFill>
            <a:srgbClr val="ffffff">
              <a:alpha val="57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评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孔子认为颜回好学，判断的依据是什么？课文中有一句话：子曰：“君子食无求饱，居无求安，敏于事而慎于言，就有道而正焉，可谓好学也已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认为好学的标准就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淡化物质追求，主动丰富精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前面我们说过“子曰：“贤哉，回也！一箪食，一瓢饮，在陋巷，人不堪其忧，回也不改其乐。贤哉，回也！”可见，颜回是满足这个标准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2892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选文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哀公问：“弟子孰为好学？”孔子对曰：“有颜回者好学，不迁怒，不二过。不幸短命死矣，今也则无，未闻好学者也。” 《论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雍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哀公问孔子：“你的弟子哪一个好学？”孔子回答说：“有个叫颜回的好学，不把自己的怒气发泄到另一个人身上，不重犯早先犯过的错误，不幸短命早死了。现在就没有好学的了，再也没有听说过好学的人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5791320" cy="6400800"/>
          </a:xfrm>
          <a:prstGeom prst="rect">
            <a:avLst/>
          </a:prstGeom>
          <a:solidFill>
            <a:srgbClr val="ccffcc">
              <a:alpha val="44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评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曾两次对人说，自从颜回去世，就再没有听说有好学的人了。这两次，一次是对鲁哀公，一次是对季康子，两次都说“有颜回者好学”，都说“今也则亡”，可见孔子对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好学的重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从另一个侧面看，就是孔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学习的兴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他也认为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兴趣是学习中最重要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601200">
            <a:off x="6479640" y="3065040"/>
            <a:ext cx="2368800" cy="3479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752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选文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906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子曰：“古之学者为己，今之学者为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3560" y="1295280"/>
            <a:ext cx="480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古代的人学习是为了自己（增加学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修养道德），现在的人学习是为了向别人卖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286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8320" y="274320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古人质朴厚笃，少名利之心。当今之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皆为名利而奔波。古人之学，在于养德，今人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学，在于装潢。目的不同，动机相异，结果甚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不论其学习的初衷如何，学习是首要的，尤其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要的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提高自己学问的同时，还要注意提高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己的道德修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solidFill>
            <a:srgbClr val="ffffff">
              <a:alpha val="58000"/>
            </a:srgbClr>
          </a:solidFill>
          <a:ln w="5724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选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子曰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‘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弟子入则孝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出则弟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谨而信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泛爱众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而亲仁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行有余力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则以学文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.’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200400"/>
            <a:ext cx="8610480" cy="39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个人即使没有读过书，可是他作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做事完全对了，就是有学问。弟子一般两种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是指年纪幼小之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是指学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这里取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种意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这一章是教人为学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为学要以躬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为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躬行要以孝悌为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说行有余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是说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这几件事有余力而后学文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而是说要以这几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为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以其余力来学文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2120" y="1219320"/>
            <a:ext cx="55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轻人在家孝顺父母，出门尊重长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谨慎而诚实，广泛的关心大众而亲近有仁德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做到这几点以后还有力量，就用来学习礼乐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和文化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380880"/>
            <a:ext cx="7543800" cy="2438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50000">
                <a:srgbClr val="bbe0e3"/>
              </a:gs>
              <a:gs pos="100000">
                <a:srgbClr val="ccffcc"/>
              </a:gs>
            </a:gsLst>
            <a:lin ang="135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先秦儒家之教与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都侧重于道德完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方面的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选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原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亢问于伯鱼曰：“子亦有异闻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曰：“未也。尝独立，鲤趋而过庭。曰：‘学《诗》乎？’对曰：‘未也。’‘不学《诗》，无以言。’鲤退而学《诗》。他日，又独立，鲤趋而过庭。曰：‘学《礼》乎？’对曰：‘未也。’‘不学《礼》，无以立。’鲤退而学《礼》。闻斯二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亢退而喜曰：“问一得三：闻《诗》，闻《礼》，又闻君子之远其子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62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陈亢问伯鱼说：“你从夫子那里得到过与众不同的教导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伯鱼答道：“没有啊，曾经有一次，（夫子）一个人在庭院站着，我快步走过，夫子说：‘你学《诗》了吗？我回答：“没有啊。”夫子说：‘不学《诗》就不会说话。’我退回便学《诗》。后来有一天，夫子又一个人站着，我快步走过庭院。夫子说：‘你学《礼》了吗？’我回答：‘没有啊。’夫子说：‘不学《礼》，就不能立身处世，立足社会。’我退回便学《礼》。就听说过这两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陈亢回去，高兴地说：“问一件事情，知道了三件事情；听说了学习《诗》的意义，听说了学习《礼》的意义，又听说了君子不偏爱自己的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2133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评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古人云：“父母之爱子，则为之计深远。”孔子也不例外，教育孔鲤，用思深远。教导其子，无异于门人。故曰“天地至公，圣人无私”。君子不私其子，必至公正于天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历来官僚腐败者，总是借权仗势，其家属子弟，尽皆通达。其所传家者，非《诗》非《礼》，而是借势敛财。如此家教，岂能为之深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600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选文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孔子曰：“生而知之者，上也；学而知之者，次也；困而学之，又其次也；困而不学，民斯为下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080" y="23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1240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孔子说：“生来就知道的，是上等人；学习后才知道的，是二等人；遇到困难才学习的，是三等人；遇到困难也不学习的，这就是下等人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523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评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才是存在的，不容怀疑，但是天才如果没有勤奋努力的支持，其成就是有限的。凡事在于学而知之，功业、德行的成就在于日积月累的学习，在于不断进取。贫穷是一种资源，是一种境界，是起点，贫困可以励志成就人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选文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曰：“我非生而知之者，好古、敏以求之者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27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孔子说：“我不是天生就有学问的，只是个喜欢读书、勤奋敏捷地追求知识的人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305560" cy="5105520"/>
          </a:xfrm>
          <a:prstGeom prst="rect">
            <a:avLst/>
          </a:prstGeom>
          <a:solidFill>
            <a:srgbClr val="ffffff">
              <a:alpha val="38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评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】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成为大师的孔子，对于人的天资进行了客观的划分，也就是我们课文中做说的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接着孔子很清晰的认识了自己，虽然孔子在当时就已经名声卓著，但是他认为他不是天才，而是好学。这是孔子的第二个学习态度。所以他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孔子承认自己不是天才，但是肯定自己好学，这是孔子作为学人的特点之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选文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子曰：“十室之邑，必有忠信如丘者焉，不如丘之好学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895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581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孔子说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：“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只有一个十户人家的地方，也必须会有像我孔丘这样忠厚诚信的人，只是比不上我孔丘一样喜欢学习啊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5257800" cy="6095880"/>
          </a:xfrm>
          <a:prstGeom prst="rect">
            <a:avLst/>
          </a:prstGeom>
          <a:solidFill>
            <a:srgbClr val="ccffcc">
              <a:alpha val="39000"/>
            </a:srgbClr>
          </a:solidFill>
          <a:ln w="5724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对于自己的好学相当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还说，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像他这样忠厚诚信的人，一个十户人家的地方就会有，却都“不如丘之好学也”（《论语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公冶长》）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见孔子对“好学”的看重。这两个字的评价，除了他用来表扬自己之外，他只给过一个学生，那就是颜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310212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160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选文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原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子曰：“由也，汝闻六言六蔽矣乎？”对曰：“未也。“居，吾语汝。好仁不好学，其蔽也愚；好智不好学，其蔽也荡；好信不好学，其蔽也贼；好直不好学，其蔽也绞；好勇不好学，其蔽也乱；好刚不好学，其蔽也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77400" y="365760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孔子说：“仲由啊，你听说过六种品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六种弊病吗？“没有。“坐下，我对你说。好仁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好学，弊病是愚蠢；好智不好学，弊病是放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好信不好学，弊病是害人；好直不好学，弊病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刻薄；好勇不好学，弊病是破坏；好刚不好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弊病是狂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23T16:34:0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