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8.jpeg" ContentType="image/jpeg"/>
  <Override PartName="/ppt/media/image6.png" ContentType="image/png"/>
  <Override PartName="/ppt/media/image1.png" ContentType="image/png"/>
  <Override PartName="/ppt/media/image31.png" ContentType="image/png"/>
  <Override PartName="/ppt/media/image7.jpeg" ContentType="image/jpeg"/>
  <Override PartName="/ppt/media/image38.jpeg" ContentType="image/jpeg"/>
  <Override PartName="/ppt/media/image39.jpeg" ContentType="image/jpeg"/>
  <Override PartName="/ppt/media/image41.wmf" ContentType="image/x-wmf"/>
  <Override PartName="/ppt/media/image8.png" ContentType="image/png"/>
  <Override PartName="/ppt/media/image33.png" ContentType="image/png"/>
  <Override PartName="/ppt/media/image11.jpeg" ContentType="image/jpeg"/>
  <Override PartName="/ppt/media/image9.jpeg" ContentType="image/jpeg"/>
  <Override PartName="/ppt/media/image40.png" ContentType="image/png"/>
  <Override PartName="/ppt/media/image20.jpeg" ContentType="image/jpeg"/>
  <Override PartName="/ppt/media/image30.jpeg" ContentType="image/jpeg"/>
  <Override PartName="/ppt/media/image24.jpeg" ContentType="image/jpe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7CD-A430-41A5-9A9F-6566CE51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380-A16D-4B13-B38C-F9006339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C3B6-1637-4658-99F6-2A3A899D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B5B-6D15-4361-A894-4BC4EF0F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446-2EE0-45A1-B22E-A9E8E141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6672-351A-42A1-B05C-84D1B938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52D-6B50-4723-A31F-58492D1B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FC1-5439-4F4F-B743-66A54DDE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E65-042A-47F3-95EB-E2BD55EF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6123-48C8-4A0E-8E15-17A499EB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0F9-E394-4D38-8A47-00424E81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DE9B-E97E-4489-AB92-FC958F86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C5F5-F00B-4DE9-AF34-E69723A050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2.jpeg"/><Relationship Id="rId12" Type="http://schemas.openxmlformats.org/officeDocument/2006/relationships/image" Target="../media/image21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14.png"/><Relationship Id="rId6" Type="http://schemas.openxmlformats.org/officeDocument/2006/relationships/image" Target="../media/image39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3600" y="106200"/>
            <a:ext cx="9050400" cy="6751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14800" y="380880"/>
            <a:ext cx="5638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993300"/>
                </a:solidFill>
                <a:latin typeface="Arial"/>
                <a:ea typeface="黑体"/>
              </a:rPr>
              <a:t>灰椋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华文新魏"/>
              </a:rPr>
              <a:t>探究一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2803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灰椋鸟是怎样归林的呢？请同学们默读课文的第四自然段，边读边想象画面，圈出关键的词，并说说体会到了什么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4876920" y="5791320"/>
            <a:ext cx="137160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7772400" y="5791320"/>
            <a:ext cx="121932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28216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开始还是一小群一小群地飞过来，盘旋着，陆续投入刺槐林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>
            <a:alphaModFix amt="19000"/>
          </a:blip>
          <a:stretch/>
        </p:blipFill>
        <p:spPr>
          <a:xfrm>
            <a:off x="6084720" y="1628640"/>
            <a:ext cx="2014560" cy="149868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4648320" y="1752480"/>
            <a:ext cx="677880" cy="144720"/>
            <a:chOff x="4648320" y="1752480"/>
            <a:chExt cx="677880" cy="144720"/>
          </a:xfrm>
        </p:grpSpPr>
        <p:sp>
          <p:nvSpPr>
            <p:cNvPr id="105" name=""/>
            <p:cNvSpPr/>
            <p:nvPr/>
          </p:nvSpPr>
          <p:spPr>
            <a:xfrm>
              <a:off x="4648320" y="1752480"/>
              <a:ext cx="144360" cy="1447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1480" y="1752480"/>
              <a:ext cx="144720" cy="1447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715000" y="1752480"/>
            <a:ext cx="677880" cy="144720"/>
            <a:chOff x="5715000" y="1752480"/>
            <a:chExt cx="677880" cy="144720"/>
          </a:xfrm>
        </p:grpSpPr>
        <p:sp>
          <p:nvSpPr>
            <p:cNvPr id="108" name=""/>
            <p:cNvSpPr/>
            <p:nvPr/>
          </p:nvSpPr>
          <p:spPr>
            <a:xfrm>
              <a:off x="5715000" y="175248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48160" y="1752480"/>
              <a:ext cx="1447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114800" y="914400"/>
            <a:ext cx="144792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914400"/>
            <a:ext cx="121932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743200" y="1752480"/>
            <a:ext cx="601200" cy="144720"/>
            <a:chOff x="2743200" y="1752480"/>
            <a:chExt cx="601200" cy="144720"/>
          </a:xfrm>
        </p:grpSpPr>
        <p:sp>
          <p:nvSpPr>
            <p:cNvPr id="113" name=""/>
            <p:cNvSpPr/>
            <p:nvPr/>
          </p:nvSpPr>
          <p:spPr>
            <a:xfrm>
              <a:off x="2743200" y="1752480"/>
              <a:ext cx="12780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16240" y="1752480"/>
              <a:ext cx="1281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362320" y="10666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没有几分钟，“大部队”便排空而至，老远就听到它们的叫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305920" y="6248520"/>
            <a:ext cx="838080" cy="60948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5638680" y="5791320"/>
            <a:ext cx="1211400" cy="151920"/>
            <a:chOff x="5638680" y="5791320"/>
            <a:chExt cx="1211400" cy="151920"/>
          </a:xfrm>
        </p:grpSpPr>
        <p:sp>
          <p:nvSpPr>
            <p:cNvPr id="121" name=""/>
            <p:cNvSpPr/>
            <p:nvPr/>
          </p:nvSpPr>
          <p:spPr>
            <a:xfrm>
              <a:off x="5638680" y="5791320"/>
              <a:ext cx="144720" cy="15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72200" y="5791320"/>
              <a:ext cx="144360" cy="15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05720" y="5791320"/>
              <a:ext cx="144360" cy="15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09480" y="5791320"/>
            <a:ext cx="8221680" cy="914400"/>
            <a:chOff x="609480" y="5791320"/>
            <a:chExt cx="8221680" cy="914400"/>
          </a:xfrm>
        </p:grpSpPr>
        <p:sp>
          <p:nvSpPr>
            <p:cNvPr id="125" name=""/>
            <p:cNvSpPr/>
            <p:nvPr/>
          </p:nvSpPr>
          <p:spPr>
            <a:xfrm>
              <a:off x="8153280" y="5791320"/>
              <a:ext cx="144720" cy="14436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686800" y="57913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480" y="656136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19320" y="656136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391520" y="3886200"/>
            <a:ext cx="1371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7339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96080" y="51814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2666880"/>
            <a:ext cx="2057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视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9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5040360" cy="4292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3640" cy="4292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-228600" y="4338720"/>
            <a:ext cx="93726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它们大都是整群整群地列队飞行。有的排成数百米长的长队，有的围成一个巨大的椭圆形，一批一批，浩浩荡荡地从我们头顶飞过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4952880"/>
            <a:ext cx="2438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5638680"/>
            <a:ext cx="35053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6172200"/>
            <a:ext cx="2971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6248520"/>
            <a:ext cx="1828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6248520"/>
            <a:ext cx="1905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426708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495288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5638680"/>
            <a:ext cx="3048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57150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10280" y="548640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419720" y="228600"/>
            <a:ext cx="4572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几分钟，“ 大部队”便排空而至，老远就听到它们的叫声。它们大都是整群整群地列队飞行。有的排成数百米长的长队，有的围成一个巨大的椭圆形，一批一批，浩浩荡荡地从我们头顶飞过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114800" cy="640080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5410080" y="1371600"/>
            <a:ext cx="1211400" cy="144360"/>
            <a:chOff x="5410080" y="1371600"/>
            <a:chExt cx="1211400" cy="144360"/>
          </a:xfrm>
        </p:grpSpPr>
        <p:sp>
          <p:nvSpPr>
            <p:cNvPr id="151" name=""/>
            <p:cNvSpPr/>
            <p:nvPr/>
          </p:nvSpPr>
          <p:spPr>
            <a:xfrm>
              <a:off x="5410080" y="1371600"/>
              <a:ext cx="144720" cy="1443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43600" y="1371600"/>
              <a:ext cx="144360" cy="1443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77120" y="1371600"/>
              <a:ext cx="144360" cy="1443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7848720" y="13716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05920" y="13716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198108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198108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3124080"/>
            <a:ext cx="1600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67480" y="3733920"/>
            <a:ext cx="129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4343400"/>
            <a:ext cx="1828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4952880"/>
            <a:ext cx="26672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5486400"/>
            <a:ext cx="1828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5486400"/>
            <a:ext cx="1676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4691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280" y="152280"/>
            <a:ext cx="8991720" cy="642600"/>
          </a:xfrm>
          <a:prstGeom prst="rect">
            <a:avLst/>
          </a:prstGeom>
          <a:solidFill>
            <a:srgbClr val="cc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先回来的鸟在林内不停地鸣叫，好像互相倾诉着一天的见闻和收获，又像在呼唤未归的同伴和儿女；后到的鸟与林中的鸟互相应和，边飞边鸣，很快找到自己栖息的处所，与熟悉的伙伴会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848720" y="1219320"/>
            <a:ext cx="532800" cy="75960"/>
            <a:chOff x="7848720" y="1219320"/>
            <a:chExt cx="532800" cy="75960"/>
          </a:xfrm>
        </p:grpSpPr>
        <p:sp>
          <p:nvSpPr>
            <p:cNvPr id="167" name=""/>
            <p:cNvSpPr/>
            <p:nvPr/>
          </p:nvSpPr>
          <p:spPr>
            <a:xfrm>
              <a:off x="7848720" y="1219320"/>
              <a:ext cx="113400" cy="759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67760" y="1219320"/>
              <a:ext cx="113760" cy="759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990720" y="1219320"/>
            <a:ext cx="532800" cy="75960"/>
            <a:chOff x="990720" y="1219320"/>
            <a:chExt cx="532800" cy="75960"/>
          </a:xfrm>
        </p:grpSpPr>
        <p:sp>
          <p:nvSpPr>
            <p:cNvPr id="170" name=""/>
            <p:cNvSpPr/>
            <p:nvPr/>
          </p:nvSpPr>
          <p:spPr>
            <a:xfrm>
              <a:off x="990720" y="1219320"/>
              <a:ext cx="113400" cy="759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09760" y="1219320"/>
              <a:ext cx="113760" cy="759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33520" y="2362320"/>
            <a:ext cx="532800" cy="75960"/>
            <a:chOff x="533520" y="2362320"/>
            <a:chExt cx="532800" cy="75960"/>
          </a:xfrm>
        </p:grpSpPr>
        <p:sp>
          <p:nvSpPr>
            <p:cNvPr id="173" name=""/>
            <p:cNvSpPr/>
            <p:nvPr/>
          </p:nvSpPr>
          <p:spPr>
            <a:xfrm>
              <a:off x="533520" y="2362320"/>
              <a:ext cx="113400" cy="759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52560" y="2362320"/>
              <a:ext cx="113760" cy="759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352680" y="12193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228600"/>
            <a:ext cx="2667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609480"/>
            <a:ext cx="746748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开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没有几分钟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____, ____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它们大都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列队飞行。有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先回来的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_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好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又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后到的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熟悉的伙伴会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93080" y="954000"/>
            <a:ext cx="179280" cy="2656080"/>
          </a:xfrm>
          <a:custGeom>
            <a:avLst/>
            <a:gdLst>
              <a:gd name="textAreaLeft" fmla="*/ 0 w 179280"/>
              <a:gd name="textAreaRight" fmla="*/ 64800 w 179280"/>
              <a:gd name="textAreaTop" fmla="*/ 69120 h 2656080"/>
              <a:gd name="textAreaBottom" fmla="*/ 2586960 h 265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792920" y="1719360"/>
            <a:ext cx="10335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看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4038480"/>
            <a:ext cx="74520" cy="1710000"/>
          </a:xfrm>
          <a:custGeom>
            <a:avLst/>
            <a:gdLst>
              <a:gd name="textAreaLeft" fmla="*/ 0 w 74520"/>
              <a:gd name="textAreaRight" fmla="*/ 27000 w 74520"/>
              <a:gd name="textAreaTop" fmla="*/ 44280 h 1710000"/>
              <a:gd name="textAreaBottom" fmla="*/ 1665720 h 171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837560" y="4194000"/>
            <a:ext cx="103356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488440" y="2933640"/>
            <a:ext cx="1440" cy="112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762120"/>
            <a:ext cx="365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3300"/>
                </a:solidFill>
                <a:latin typeface="Arial"/>
                <a:ea typeface="楷体_GB2312"/>
              </a:rPr>
              <a:t>还是一小群一小群地飞过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05720" y="76212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3300"/>
                </a:solidFill>
                <a:latin typeface="Arial"/>
                <a:ea typeface="楷体_GB2312"/>
              </a:rPr>
              <a:t>盘旋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1447920"/>
            <a:ext cx="281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3300"/>
                </a:solidFill>
                <a:latin typeface="Arial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993300"/>
                </a:solidFill>
                <a:latin typeface="Arial"/>
                <a:ea typeface="楷体_GB2312"/>
              </a:rPr>
              <a:t>大部队”便排空而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190512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3300"/>
                </a:solidFill>
                <a:latin typeface="Arial"/>
                <a:ea typeface="楷体_GB2312"/>
              </a:rPr>
              <a:t>整群整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514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438280"/>
            <a:ext cx="297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3300"/>
                </a:solidFill>
                <a:latin typeface="Arial"/>
                <a:ea typeface="楷体_GB2312"/>
              </a:rPr>
              <a:t>排成数百米长的长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2895480"/>
            <a:ext cx="335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3300"/>
                </a:solidFill>
                <a:latin typeface="Arial"/>
                <a:ea typeface="楷体_GB2312"/>
              </a:rPr>
              <a:t>围成一个巨大的椭圆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28954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3300"/>
                </a:solidFill>
                <a:latin typeface="Arial"/>
                <a:ea typeface="楷体_GB2312"/>
              </a:rPr>
              <a:t>一批一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3300"/>
                </a:solidFill>
                <a:latin typeface="Arial"/>
                <a:ea typeface="楷体_GB2312"/>
              </a:rPr>
              <a:t>浩浩荡荡地从我们头顶飞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9080" y="2308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396252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3300"/>
                </a:solidFill>
                <a:latin typeface="Arial"/>
                <a:ea typeface="楷体_GB2312"/>
              </a:rPr>
              <a:t>在林内不停地鸣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3962520"/>
            <a:ext cx="4114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3300"/>
                </a:solidFill>
                <a:latin typeface="Arial"/>
                <a:ea typeface="楷体_GB2312"/>
              </a:rPr>
              <a:t>互相倾诉着一天的见闻和收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4495680"/>
            <a:ext cx="350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3300"/>
                </a:solidFill>
                <a:latin typeface="Arial"/>
                <a:ea typeface="楷体_GB2312"/>
              </a:rPr>
              <a:t>在呼唤未归的同伴和儿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495288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3300"/>
                </a:solidFill>
                <a:latin typeface="Arial"/>
                <a:ea typeface="楷体_GB2312"/>
              </a:rPr>
              <a:t>与林中的鸟互相应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502920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3300"/>
                </a:solidFill>
                <a:latin typeface="Arial"/>
                <a:ea typeface="楷体_GB2312"/>
              </a:rPr>
              <a:t>边飞边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5410080"/>
            <a:ext cx="365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3300"/>
                </a:solidFill>
                <a:latin typeface="Arial"/>
                <a:ea typeface="楷体_GB2312"/>
              </a:rPr>
              <a:t>很快找到自己栖息的处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60280" y="1371600"/>
            <a:ext cx="135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3300"/>
                </a:solidFill>
                <a:latin typeface="Arial"/>
                <a:ea typeface="楷体_GB2312"/>
              </a:rPr>
              <a:t>陆续投入刺槐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77920" y="1828800"/>
            <a:ext cx="185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3300"/>
                </a:solidFill>
                <a:latin typeface="Arial"/>
                <a:ea typeface="楷体_GB2312"/>
              </a:rPr>
              <a:t>老远就听到它们的叫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4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4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5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293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3500"/>
                            </p:stCondLst>
                            <p:childTnLst>
                              <p:par>
                                <p:cTn id="303" nodeType="afterEffect" fill="hold" presetClass="entr" presetID="3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7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3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9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65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0"/>
                            </p:stCondLst>
                            <p:childTnLst>
                              <p:par>
                                <p:cTn id="333" nodeType="after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华文新魏"/>
              </a:rPr>
              <a:t>探究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75920" y="185436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读：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由读第五自然段，边读边      想象画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画：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画出自己喜欢的写鸟的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悟：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再读读，和同桌说说自己喜      欢的理由，并加上简单批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6095880"/>
            <a:ext cx="137160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6095880"/>
            <a:ext cx="129528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6095880"/>
            <a:ext cx="114300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ff6600"/>
                </a:solidFill>
                <a:latin typeface="宋体"/>
              </a:rPr>
              <a:t>看，这几只刚刚落在枝头上，那几只又马上扑棱棱地飞起来。它们的羽毛全变成金红色的了，多么像穿上盛装的少女在翩翩起舞哇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4419720"/>
            <a:ext cx="8381880" cy="1143000"/>
            <a:chOff x="533520" y="4419720"/>
            <a:chExt cx="8381880" cy="1143000"/>
          </a:xfrm>
        </p:grpSpPr>
        <p:sp>
          <p:nvSpPr>
            <p:cNvPr id="211" name=""/>
            <p:cNvSpPr/>
            <p:nvPr/>
          </p:nvSpPr>
          <p:spPr>
            <a:xfrm>
              <a:off x="533520" y="556272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925040" y="4419720"/>
              <a:ext cx="99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7848720" y="640080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14728" y="3837"/>
                </a:moveTo>
                <a:lnTo>
                  <a:pt x="17304" y="6448"/>
                </a:lnTo>
                <a:lnTo>
                  <a:pt x="17304" y="4707"/>
                </a:lnTo>
                <a:lnTo>
                  <a:pt x="19080" y="4707"/>
                </a:lnTo>
                <a:lnTo>
                  <a:pt x="19080" y="8224"/>
                </a:lnTo>
                <a:lnTo>
                  <a:pt x="21691" y="10800"/>
                </a:lnTo>
                <a:lnTo>
                  <a:pt x="20037" y="10800"/>
                </a:lnTo>
                <a:lnTo>
                  <a:pt x="20037" y="17989"/>
                </a:lnTo>
                <a:lnTo>
                  <a:pt x="9418" y="17989"/>
                </a:lnTo>
                <a:lnTo>
                  <a:pt x="9418" y="10800"/>
                </a:lnTo>
                <a:lnTo>
                  <a:pt x="7765" y="10800"/>
                </a:lnTo>
                <a:close/>
              </a:path>
              <a:path fill="darkenLess" w="29455" h="21600">
                <a:moveTo>
                  <a:pt x="17304" y="6448"/>
                </a:moveTo>
                <a:lnTo>
                  <a:pt x="17304" y="4707"/>
                </a:lnTo>
                <a:lnTo>
                  <a:pt x="19080" y="4707"/>
                </a:lnTo>
                <a:lnTo>
                  <a:pt x="19080" y="8224"/>
                </a:lnTo>
                <a:close/>
              </a:path>
              <a:path fill="darkenLess" w="29455" h="21600">
                <a:moveTo>
                  <a:pt x="13805" y="14299"/>
                </a:moveTo>
                <a:lnTo>
                  <a:pt x="15650" y="14299"/>
                </a:lnTo>
                <a:lnTo>
                  <a:pt x="15650" y="17989"/>
                </a:lnTo>
                <a:lnTo>
                  <a:pt x="20037" y="17989"/>
                </a:lnTo>
                <a:lnTo>
                  <a:pt x="20037" y="10800"/>
                </a:lnTo>
                <a:lnTo>
                  <a:pt x="9418" y="10800"/>
                </a:lnTo>
                <a:lnTo>
                  <a:pt x="9418" y="17989"/>
                </a:lnTo>
                <a:lnTo>
                  <a:pt x="1380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cc3300"/>
                </a:solidFill>
                <a:latin typeface="宋体"/>
              </a:rPr>
              <a:t>树林内外，百鸟争鸣，呼朋引伴，叽叽啾啾，似飞瀑落入深涧，如惊涛拍打岸滩，整个刺槐林和竹林成了一个天然的俱乐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7200" y="3352680"/>
            <a:ext cx="7848720" cy="1067040"/>
            <a:chOff x="457200" y="3352680"/>
            <a:chExt cx="7848720" cy="1067040"/>
          </a:xfrm>
        </p:grpSpPr>
        <p:sp>
          <p:nvSpPr>
            <p:cNvPr id="217" name=""/>
            <p:cNvSpPr/>
            <p:nvPr/>
          </p:nvSpPr>
          <p:spPr>
            <a:xfrm>
              <a:off x="4419720" y="3352680"/>
              <a:ext cx="388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441972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772400" y="6400800"/>
            <a:ext cx="1066680" cy="876240"/>
          </a:xfrm>
          <a:custGeom>
            <a:avLst/>
            <a:gdLst>
              <a:gd name="textAreaLeft" fmla="*/ 56520 w 1066680"/>
              <a:gd name="textAreaRight" fmla="*/ 1010160 w 1066680"/>
              <a:gd name="textAreaTop" fmla="*/ 56520 h 876240"/>
              <a:gd name="textAreaBottom" fmla="*/ 819720 h 876240"/>
            </a:gdLst>
            <a:ahLst/>
            <a:rect l="textAreaLeft" t="textAreaTop" r="textAreaRight" b="textAreaBottom"/>
            <a:pathLst>
              <a:path w="26293" h="21600">
                <a:moveTo>
                  <a:pt x="0" y="0"/>
                </a:moveTo>
                <a:lnTo>
                  <a:pt x="26293" y="0"/>
                </a:lnTo>
                <a:lnTo>
                  <a:pt x="26293" y="21600"/>
                </a:lnTo>
                <a:lnTo>
                  <a:pt x="0" y="21600"/>
                </a:lnTo>
                <a:close/>
              </a:path>
              <a:path fill="lightenLess" w="26293" h="21600">
                <a:moveTo>
                  <a:pt x="0" y="0"/>
                </a:moveTo>
                <a:lnTo>
                  <a:pt x="26293" y="0"/>
                </a:lnTo>
                <a:lnTo>
                  <a:pt x="24893" y="1400"/>
                </a:lnTo>
                <a:lnTo>
                  <a:pt x="1400" y="1400"/>
                </a:lnTo>
                <a:close/>
              </a:path>
              <a:path fill="darken" w="26293" h="21600">
                <a:moveTo>
                  <a:pt x="26293" y="0"/>
                </a:moveTo>
                <a:lnTo>
                  <a:pt x="26293" y="21600"/>
                </a:lnTo>
                <a:lnTo>
                  <a:pt x="24893" y="20200"/>
                </a:lnTo>
                <a:lnTo>
                  <a:pt x="24893" y="1400"/>
                </a:lnTo>
                <a:close/>
              </a:path>
              <a:path fill="darkenLess" w="26293" h="21600">
                <a:moveTo>
                  <a:pt x="26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3" y="20200"/>
                </a:lnTo>
                <a:close/>
              </a:path>
              <a:path fill="lighten" w="26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3" h="21600">
                <a:moveTo>
                  <a:pt x="13146" y="3837"/>
                </a:moveTo>
                <a:lnTo>
                  <a:pt x="15723" y="6448"/>
                </a:lnTo>
                <a:lnTo>
                  <a:pt x="15723" y="4707"/>
                </a:lnTo>
                <a:lnTo>
                  <a:pt x="17498" y="4707"/>
                </a:lnTo>
                <a:lnTo>
                  <a:pt x="17498" y="8224"/>
                </a:lnTo>
                <a:lnTo>
                  <a:pt x="20109" y="10800"/>
                </a:lnTo>
                <a:lnTo>
                  <a:pt x="18456" y="10800"/>
                </a:lnTo>
                <a:lnTo>
                  <a:pt x="18456" y="17989"/>
                </a:lnTo>
                <a:lnTo>
                  <a:pt x="7837" y="17989"/>
                </a:lnTo>
                <a:lnTo>
                  <a:pt x="7837" y="10800"/>
                </a:lnTo>
                <a:lnTo>
                  <a:pt x="6183" y="10800"/>
                </a:lnTo>
                <a:close/>
              </a:path>
              <a:path fill="darkenLess" w="26293" h="21600">
                <a:moveTo>
                  <a:pt x="15723" y="6448"/>
                </a:moveTo>
                <a:lnTo>
                  <a:pt x="15723" y="4707"/>
                </a:lnTo>
                <a:lnTo>
                  <a:pt x="17498" y="4707"/>
                </a:lnTo>
                <a:lnTo>
                  <a:pt x="17498" y="8224"/>
                </a:lnTo>
                <a:close/>
              </a:path>
              <a:path fill="darkenLess" w="26293" h="21600">
                <a:moveTo>
                  <a:pt x="12224" y="14299"/>
                </a:moveTo>
                <a:lnTo>
                  <a:pt x="14069" y="14299"/>
                </a:lnTo>
                <a:lnTo>
                  <a:pt x="14069" y="17989"/>
                </a:lnTo>
                <a:lnTo>
                  <a:pt x="18456" y="17989"/>
                </a:lnTo>
                <a:lnTo>
                  <a:pt x="18456" y="10800"/>
                </a:lnTo>
                <a:lnTo>
                  <a:pt x="7837" y="10800"/>
                </a:lnTo>
                <a:lnTo>
                  <a:pt x="7837" y="17989"/>
                </a:lnTo>
                <a:lnTo>
                  <a:pt x="1222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52280" y="228600"/>
            <a:ext cx="8686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上万只灰椋鸟是在举行盛大的联欢会，还是在庆祝自己的节日？要不怎么会这样热闹？我被这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喧闹而又热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场面感染了，竟情不自禁地欢呼起来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743200" y="5257800"/>
            <a:ext cx="677880" cy="144360"/>
            <a:chOff x="2743200" y="5257800"/>
            <a:chExt cx="677880" cy="144360"/>
          </a:xfrm>
        </p:grpSpPr>
        <p:sp>
          <p:nvSpPr>
            <p:cNvPr id="223" name=""/>
            <p:cNvSpPr/>
            <p:nvPr/>
          </p:nvSpPr>
          <p:spPr>
            <a:xfrm>
              <a:off x="2743200" y="52578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76360" y="525780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7848720" y="59436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15297" y="3837"/>
                </a:moveTo>
                <a:lnTo>
                  <a:pt x="17873" y="6448"/>
                </a:lnTo>
                <a:lnTo>
                  <a:pt x="17873" y="4707"/>
                </a:lnTo>
                <a:lnTo>
                  <a:pt x="19649" y="4707"/>
                </a:lnTo>
                <a:lnTo>
                  <a:pt x="19649" y="8224"/>
                </a:lnTo>
                <a:lnTo>
                  <a:pt x="22260" y="10800"/>
                </a:lnTo>
                <a:lnTo>
                  <a:pt x="20606" y="10800"/>
                </a:lnTo>
                <a:lnTo>
                  <a:pt x="20606" y="17989"/>
                </a:lnTo>
                <a:lnTo>
                  <a:pt x="9988" y="17989"/>
                </a:lnTo>
                <a:lnTo>
                  <a:pt x="9988" y="10800"/>
                </a:lnTo>
                <a:lnTo>
                  <a:pt x="8334" y="10800"/>
                </a:lnTo>
                <a:close/>
              </a:path>
              <a:path fill="darkenLess" w="30594" h="21600">
                <a:moveTo>
                  <a:pt x="17873" y="6448"/>
                </a:moveTo>
                <a:lnTo>
                  <a:pt x="17873" y="4707"/>
                </a:lnTo>
                <a:lnTo>
                  <a:pt x="19649" y="4707"/>
                </a:lnTo>
                <a:lnTo>
                  <a:pt x="19649" y="8224"/>
                </a:lnTo>
                <a:close/>
              </a:path>
              <a:path fill="darkenLess" w="30594" h="21600">
                <a:moveTo>
                  <a:pt x="14374" y="14299"/>
                </a:moveTo>
                <a:lnTo>
                  <a:pt x="16219" y="14299"/>
                </a:lnTo>
                <a:lnTo>
                  <a:pt x="16219" y="17989"/>
                </a:lnTo>
                <a:lnTo>
                  <a:pt x="20606" y="17989"/>
                </a:lnTo>
                <a:lnTo>
                  <a:pt x="20606" y="10800"/>
                </a:lnTo>
                <a:lnTo>
                  <a:pt x="9988" y="10800"/>
                </a:lnTo>
                <a:lnTo>
                  <a:pt x="9988" y="17989"/>
                </a:lnTo>
                <a:lnTo>
                  <a:pt x="1437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52480" y="228600"/>
            <a:ext cx="3581640" cy="61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华文新魏"/>
              </a:rPr>
              <a:t>晚霞簇拥着夕阳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华文新魏"/>
              </a:rPr>
              <a:t>彩灯映红了林场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华文新魏"/>
              </a:rPr>
              <a:t>翩翩少女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华文新魏"/>
              </a:rPr>
              <a:t>披上节日的盛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华文新魏"/>
              </a:rPr>
              <a:t>似飞瀑落入深涧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华文新魏"/>
              </a:rPr>
              <a:t>如惊涛拍打岸滩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华文新魏"/>
              </a:rPr>
              <a:t>百鸟争鸣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华文新魏"/>
              </a:rPr>
              <a:t>奏响激情的乐章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华文新魏"/>
              </a:rPr>
              <a:t>是谁装点了舞厅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华文新魏"/>
              </a:rPr>
              <a:t>是谁华丽了会场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华文新魏"/>
              </a:rPr>
              <a:t>是爱的力量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华文新魏"/>
              </a:rPr>
              <a:t>汇聚成欢乐的海洋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8229600" y="6095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223694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3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3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3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3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3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3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3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3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30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3000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3000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3000"/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182880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  <a:ea typeface="华文新魏"/>
              </a:rPr>
              <a:t>看，这几只刚刚落在枝头上，那几只又马上扑棱棱地飞起来。它们的羽毛全变成金红色的了，多么像穿上盛装的少女在翩翩起舞哇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352680"/>
            <a:ext cx="8763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华文新魏"/>
              </a:rPr>
              <a:t>树林内外，百鸟争鸣，呼朋引伴，叽叽啾啾，似飞瀑落入深涧，如惊涛拍打岸滩，整个刺槐林和竹林成了一个天然的俱乐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47242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这上万只灰椋鸟是在举行盛大的联欢会，还是在庆祝自己的节日？要不怎么会这样热闹？我被这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华文新魏"/>
              </a:rPr>
              <a:t>喧闹而又热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的场面感染了，竟情不自禁地欢呼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夕阳渐渐西沉，晚霞映红了天空，也映红了刺槐林和竹林。天上的鸟越来越少了，可是整个林子里的灰椋鸟还是不愿过早地安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4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4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237" name="Rectangle 3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4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Picture 5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6"/>
          <p:cNvSpPr/>
          <p:nvPr/>
        </p:nvSpPr>
        <p:spPr>
          <a:xfrm>
            <a:off x="838080" y="19051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请同学们齐读最后一段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838080" y="3124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黑体"/>
                <a:ea typeface="黑体"/>
              </a:rPr>
              <a:t>（</a:t>
            </a:r>
            <a:r>
              <a:rPr b="0" lang="zh-CN" sz="3200" spc="-1" strike="noStrike">
                <a:solidFill>
                  <a:srgbClr val="990033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990033"/>
                </a:solidFill>
                <a:latin typeface="黑体"/>
                <a:ea typeface="黑体"/>
              </a:rPr>
              <a:t>）在回来的路上，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990033"/>
                </a:solidFill>
                <a:latin typeface="黑体"/>
                <a:ea typeface="黑体"/>
              </a:rPr>
              <a:t>我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990033"/>
                </a:solidFill>
                <a:latin typeface="黑体"/>
                <a:ea typeface="黑体"/>
              </a:rPr>
              <a:t>有哪些感想？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91440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黑体"/>
                <a:ea typeface="黑体"/>
              </a:rPr>
              <a:t>（</a:t>
            </a:r>
            <a:r>
              <a:rPr b="0" lang="zh-CN" sz="3200" spc="-1" strike="noStrike">
                <a:solidFill>
                  <a:srgbClr val="990033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990033"/>
                </a:solidFill>
                <a:latin typeface="黑体"/>
                <a:ea typeface="黑体"/>
              </a:rPr>
              <a:t>）为什么说鸟是人类的朋友？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990720" y="2039040"/>
            <a:ext cx="755964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没有林场工人的辛勤劳动，没有这几年大规模的植树造林，我到哪儿去观赏这鸟儿归林的壮观场面呢？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362320" y="533520"/>
            <a:ext cx="45432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有什么好看的呢？</a:t>
            </a:r>
            <a:endParaRPr b="1" lang="en-US" sz="80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858000" y="4267080"/>
            <a:ext cx="677880" cy="144720"/>
            <a:chOff x="6858000" y="4267080"/>
            <a:chExt cx="677880" cy="144720"/>
          </a:xfrm>
        </p:grpSpPr>
        <p:sp>
          <p:nvSpPr>
            <p:cNvPr id="249" name=""/>
            <p:cNvSpPr/>
            <p:nvPr/>
          </p:nvSpPr>
          <p:spPr>
            <a:xfrm>
              <a:off x="6858000" y="426708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91160" y="4267080"/>
              <a:ext cx="1447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252" name="Rectangle 3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Picture 5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609480" y="143352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鸟是人类的朋友，树林是鸟的乐园。没有林场工人的辛勤劳动，没有这几年大规模的植树造林，我到哪儿去观赏鸟儿归林的壮观场面呢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609480" y="38862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感想包含几层意思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609480" y="46483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把第二句改为陈述句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仙鹤姑娘</a:t>
            </a: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:</a:t>
            </a: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徐秀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6012000" cy="48848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5940360" cy="4896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0" y="1295280"/>
            <a:ext cx="6012000" cy="51832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0" y="1219320"/>
            <a:ext cx="5940360" cy="54385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0" y="1219320"/>
            <a:ext cx="5940360" cy="5184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0" y="1219320"/>
            <a:ext cx="6019920" cy="5184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0" y="1295280"/>
            <a:ext cx="5940360" cy="5184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0" y="1295280"/>
            <a:ext cx="5940360" cy="5562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0" y="1295280"/>
            <a:ext cx="6019920" cy="5562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0"/>
          <a:stretch/>
        </p:blipFill>
        <p:spPr>
          <a:xfrm>
            <a:off x="0" y="1143000"/>
            <a:ext cx="5943600" cy="5562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1"/>
          <a:stretch/>
        </p:blipFill>
        <p:spPr>
          <a:xfrm>
            <a:off x="0" y="1143000"/>
            <a:ext cx="6019920" cy="5715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2"/>
          <a:stretch/>
        </p:blipFill>
        <p:spPr>
          <a:xfrm>
            <a:off x="0" y="1143000"/>
            <a:ext cx="5943600" cy="5715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3"/>
          <a:stretch/>
        </p:blipFill>
        <p:spPr>
          <a:xfrm>
            <a:off x="0" y="1143000"/>
            <a:ext cx="5943600" cy="5715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4"/>
          <a:stretch/>
        </p:blipFill>
        <p:spPr>
          <a:xfrm>
            <a:off x="0" y="1143000"/>
            <a:ext cx="6019920" cy="5715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5940360" y="3286080"/>
            <a:ext cx="35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徐秀娟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64-198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出身于养鹤世家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大学毕业后应聘来到我们盐城丹顶鹤自然保护区工作，创建了江苏省第一个鹤类饲养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是有着一颗爱鸟、护鸟的心，就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她为了寻找一只飞失的丹顶鹤，不慎陷入沼泽地，献出了年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的美好生命。人们为了歌颂、怀念烈士徐秀娟，创作了一首歌《一个真实的故事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5"/>
          <a:stretch/>
        </p:blipFill>
        <p:spPr>
          <a:xfrm>
            <a:off x="4952880" y="5943600"/>
            <a:ext cx="11430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7000"/>
                            </p:stCondLst>
                            <p:childTnLst>
                              <p:par>
                                <p:cTn id="540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7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5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9000"/>
                            </p:stCondLst>
                            <p:childTnLst>
                              <p:par>
                                <p:cTn id="566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573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5000"/>
                            </p:stCondLst>
                            <p:childTnLst>
                              <p:par>
                                <p:cTn id="580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8000"/>
                            </p:stCondLst>
                            <p:childTnLst>
                              <p:par>
                                <p:cTn id="586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1000"/>
                            </p:stCondLst>
                            <p:childTnLst>
                              <p:par>
                                <p:cTn id="59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4000"/>
                            </p:stCondLst>
                            <p:childTnLst>
                              <p:par>
                                <p:cTn id="59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70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605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8" dur="1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84360" y="1469160"/>
            <a:ext cx="755964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没有林场工人的辛勤劳动，没有这几年大规模的植树造林，我到哪儿去观赏这鸟儿归林的壮观场面呢？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2971800"/>
            <a:ext cx="1828800" cy="838080"/>
          </a:xfrm>
          <a:prstGeom prst="rect">
            <a:avLst/>
          </a:prstGeom>
          <a:solidFill>
            <a:srgbClr val="a4f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鸟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2057400"/>
            <a:ext cx="5486400" cy="838080"/>
          </a:xfrm>
          <a:prstGeom prst="rect">
            <a:avLst/>
          </a:prstGeom>
          <a:solidFill>
            <a:srgbClr val="a4f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像徐秀娟这样爱鸟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04812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553080" y="3733920"/>
            <a:ext cx="677880" cy="144360"/>
            <a:chOff x="6553080" y="3733920"/>
            <a:chExt cx="677880" cy="144360"/>
          </a:xfrm>
        </p:grpSpPr>
        <p:sp>
          <p:nvSpPr>
            <p:cNvPr id="284" name=""/>
            <p:cNvSpPr/>
            <p:nvPr/>
          </p:nvSpPr>
          <p:spPr>
            <a:xfrm>
              <a:off x="6553080" y="37339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86240" y="373392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38080" y="1649520"/>
            <a:ext cx="7772400" cy="21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我爱鹤，我爱大自然，我愿在莽莽原野上寻找，寻找理想、友谊和生活的答案……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                             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徐秀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80880"/>
            <a:ext cx="883908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灰椋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水杉   盘旋    刺槐林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  栖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扑棱棱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俱乐部  盛装   倾诉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深涧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惊涛    岸滩  喧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浩浩荡荡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互相应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翩翩起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呼朋引伴    叽叽啾啾    郁郁葱葱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翘首遥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情不自禁     排空而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676520" y="1143000"/>
            <a:ext cx="67053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  <a:ea typeface="隶书"/>
              </a:rPr>
              <a:t>鸟是人类的朋友，树林是鸟的乐园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华文新魏"/>
              </a:rPr>
              <a:t>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62120" y="609480"/>
            <a:ext cx="75438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课后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华文新魏"/>
                <a:ea typeface="华文新魏"/>
              </a:rPr>
              <a:t>必做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背诵课文四、五自然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华文新魏"/>
                <a:ea typeface="华文新魏"/>
              </a:rPr>
              <a:t>选做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阅读巴金的《鸟的天堂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029200" y="304920"/>
            <a:ext cx="373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黑体"/>
              </a:rPr>
              <a:t>排</a:t>
            </a: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黑体"/>
              </a:rPr>
              <a:t>山倒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304920"/>
            <a:ext cx="3810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黑体"/>
              </a:rPr>
              <a:t>浊浪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黑体"/>
              </a:rPr>
              <a:t>排</a:t>
            </a: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黑体"/>
              </a:rPr>
              <a:t>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62920" y="220968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0" dur="8080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631" dur="1" fill="hold">
                                    <p:stCondLst>
                                      <p:cond evt="end">
                                        <p:tn val="629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808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645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4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8305920" y="624852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排空而至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8" dur="7940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3032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308628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715000" y="32004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Arial"/>
                <a:ea typeface="黑体"/>
              </a:rPr>
              <a:t>浊浪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排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  <a:ea typeface="黑体"/>
              </a:rPr>
              <a:t>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1320" y="441972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排山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倒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609480"/>
            <a:ext cx="4419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行楷"/>
              </a:rPr>
              <a:t>一水护田将绿绕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行楷"/>
              </a:rPr>
              <a:t>两山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行楷"/>
              </a:rPr>
              <a:t>排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行楷"/>
              </a:rPr>
              <a:t>闼送青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7391520" y="5562720"/>
            <a:ext cx="1447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排空而至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4800600"/>
            <a:ext cx="2666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4815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4643280" y="3419640"/>
            <a:ext cx="4500720" cy="3438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79280" y="4221000"/>
            <a:ext cx="1143000" cy="758880"/>
          </a:xfrm>
          <a:prstGeom prst="wedgeEllipseCallout">
            <a:avLst>
              <a:gd name="adj1" fmla="val 42083"/>
              <a:gd name="adj2" fmla="val 916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5148000" y="5300640"/>
            <a:ext cx="936720" cy="1368360"/>
          </a:xfrm>
          <a:prstGeom prst="wedgeEllipseCallout">
            <a:avLst>
              <a:gd name="adj1" fmla="val 67796"/>
              <a:gd name="adj2" fmla="val 697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924680" y="60958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8229600" y="266688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4495680" cy="34416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3505320" y="6095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52280" y="380880"/>
            <a:ext cx="1079640" cy="863640"/>
          </a:xfrm>
          <a:prstGeom prst="wedgeEllipseCallout">
            <a:avLst>
              <a:gd name="adj1" fmla="val 40000"/>
              <a:gd name="adj2" fmla="val 83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57800" y="0"/>
            <a:ext cx="1432080" cy="1008000"/>
          </a:xfrm>
          <a:prstGeom prst="wedgeEllipseCallout">
            <a:avLst>
              <a:gd name="adj1" fmla="val 50555"/>
              <a:gd name="adj2" fmla="val 82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6200000">
            <a:off x="3120120" y="79920"/>
            <a:ext cx="1008360" cy="1152360"/>
          </a:xfrm>
          <a:prstGeom prst="wedgeEllipseCallout">
            <a:avLst>
              <a:gd name="adj1" fmla="val -77962"/>
              <a:gd name="adj2" fmla="val -66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4" dur="1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65" dur="1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66" dur="1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mph" presetID="6">
                                  <p:stCondLst>
                                    <p:cond delay="40000"/>
                                  </p:stCondLst>
                                  <p:childTnLst>
                                    <p:animScale>
                                      <p:cBhvr>
                                        <p:cTn id="674" dur="2000" fill="hold"/>
                                        <p:tgtEl>
                                          <p:spTgt spid="3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9" dur="1720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4" dur="1352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323" name="Rectangle 3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4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5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6"/>
          <p:cNvSpPr/>
          <p:nvPr/>
        </p:nvSpPr>
        <p:spPr>
          <a:xfrm>
            <a:off x="609480" y="1752480"/>
            <a:ext cx="8077320" cy="34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   通过今天的学习，我们的收获还真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少，我们知道鸟是人类的朋友，树林是鸟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乐园。没有林场工人的辛勤劳动，没有这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年大规模的植树造林，我们就无法观赏到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鸟儿归林的壮观景象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2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328" name="Rectangle 3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Picture 5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6"/>
          <p:cNvSpPr/>
          <p:nvPr/>
        </p:nvSpPr>
        <p:spPr>
          <a:xfrm>
            <a:off x="457200" y="23749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《灰椋鸟》这篇散文描绘灰椋鸟归林时的壮观场面，表达了作者对鸟儿的喜爱和对林场工人辛勤劳动的敬仰之情。这节课，我们欣赏了灰椋鸟归林以及它们落下起飞、起舞争鸣的景象，体会作者观鸟时的兴奋，欢呼时的情感，增强了同学们的爱鸟意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WordArt 7"/>
          <p:cNvSpPr txBox="1"/>
          <p:nvPr/>
        </p:nvSpPr>
        <p:spPr>
          <a:xfrm>
            <a:off x="2286000" y="1295280"/>
            <a:ext cx="2438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课文小结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333" name="Picture 8" descr="书１"/>
          <p:cNvPicPr/>
          <p:nvPr/>
        </p:nvPicPr>
        <p:blipFill>
          <a:blip r:embed="rId3"/>
          <a:stretch/>
        </p:blipFill>
        <p:spPr>
          <a:xfrm>
            <a:off x="914400" y="1295280"/>
            <a:ext cx="110484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362320" cy="15573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684360" y="765000"/>
            <a:ext cx="7850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括号里填上相对应的词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热闹对城市正如安静对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节约对光荣正如浪费对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清澈对泉水正如浑浊对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喧闹对大街正如僻静对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加上适当的关联词，把两句话并成一句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小燕子搭的窝漂亮。小燕子搭的窝结实、暖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老师对我们很严格。老师是为我们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明天下雨。我们就不出去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帮家里做农活。他跟父亲读点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蛇吃田鼠。蛇能保护庄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47" name="Rectangle 3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5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1752480" y="16304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小组合作学习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把课文分段并概括大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33520" y="2514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第一段（</a:t>
            </a: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）：写“我”和同伴来到林场，准备观看灰椋鸟归来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57200" y="3733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第二段（</a:t>
            </a: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3-5</a:t>
            </a: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）：写灰椋鸟归林时的壮观景象。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533520" y="441972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第三段（</a:t>
            </a: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）：写“我”归来时的感想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讨论"/>
          <p:cNvPicPr/>
          <p:nvPr/>
        </p:nvPicPr>
        <p:blipFill>
          <a:blip r:embed="rId3"/>
          <a:stretch/>
        </p:blipFill>
        <p:spPr>
          <a:xfrm>
            <a:off x="533520" y="1600200"/>
            <a:ext cx="12189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56" name="Rectangle 3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4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5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685800" y="1295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同学们默读第一段，思考：一开始，“我”对灰椋鸟是什么态度？画出文中相关的句子，读一读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533520" y="3352680"/>
            <a:ext cx="8305560" cy="1068840"/>
            <a:chOff x="533520" y="3352680"/>
            <a:chExt cx="8305560" cy="1068840"/>
          </a:xfrm>
        </p:grpSpPr>
        <p:sp>
          <p:nvSpPr>
            <p:cNvPr id="61" name="Text Box 8"/>
            <p:cNvSpPr/>
            <p:nvPr/>
          </p:nvSpPr>
          <p:spPr>
            <a:xfrm>
              <a:off x="609480" y="3352680"/>
              <a:ext cx="8229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“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我想，灰椋鸟尖尖的嘴，灰灰的背，远远望去黑乎乎的，有什么好看的呢？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1447920" y="3886200"/>
              <a:ext cx="6933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533520" y="4419720"/>
              <a:ext cx="784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9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grpSp>
          <p:nvGrpSpPr>
            <p:cNvPr id="65" name="Group 2"/>
            <p:cNvGrpSpPr/>
            <p:nvPr/>
          </p:nvGrpSpPr>
          <p:grpSpPr>
            <a:xfrm>
              <a:off x="152280" y="609480"/>
              <a:ext cx="8839440" cy="5943600"/>
              <a:chOff x="152280" y="609480"/>
              <a:chExt cx="8839440" cy="5943600"/>
            </a:xfrm>
          </p:grpSpPr>
          <p:sp>
            <p:nvSpPr>
              <p:cNvPr id="66" name="Rectangle 3"/>
              <p:cNvSpPr/>
              <p:nvPr/>
            </p:nvSpPr>
            <p:spPr>
              <a:xfrm>
                <a:off x="152280" y="609480"/>
                <a:ext cx="8839440" cy="5943600"/>
              </a:xfrm>
              <a:prstGeom prst="rect">
                <a:avLst/>
              </a:prstGeom>
              <a:gradFill rotWithShape="0">
                <a:gsLst>
                  <a:gs pos="0">
                    <a:srgbClr val="666633"/>
                  </a:gs>
                  <a:gs pos="50000">
                    <a:srgbClr val="ffffff"/>
                  </a:gs>
                  <a:gs pos="100000">
                    <a:srgbClr val="6666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4"/>
              <p:cNvSpPr/>
              <p:nvPr/>
            </p:nvSpPr>
            <p:spPr>
              <a:xfrm>
                <a:off x="304920" y="838080"/>
                <a:ext cx="8534160" cy="54864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" name="Picture 5" descr="ANI-D107s"/>
            <p:cNvPicPr/>
            <p:nvPr/>
          </p:nvPicPr>
          <p:blipFill>
            <a:blip r:embed="rId2"/>
            <a:stretch/>
          </p:blipFill>
          <p:spPr>
            <a:xfrm>
              <a:off x="6858000" y="4800600"/>
              <a:ext cx="1971720" cy="15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Text Box 6"/>
          <p:cNvSpPr/>
          <p:nvPr/>
        </p:nvSpPr>
        <p:spPr>
          <a:xfrm>
            <a:off x="685800" y="129528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继续读第一至二自然段，解决以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两个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838080" y="2819520"/>
            <a:ext cx="693432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⑴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是什么原因使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我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”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改变了对灰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鸟的看法？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838080" y="419112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⑵“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我”和同伴准备在什么地方观看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椋鸟归来的情景？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2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73" name="Rectangle 3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4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5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sp>
        <p:nvSpPr>
          <p:cNvPr id="76" name="WordArt 6"/>
          <p:cNvSpPr txBox="1"/>
          <p:nvPr/>
        </p:nvSpPr>
        <p:spPr>
          <a:xfrm>
            <a:off x="838080" y="1143000"/>
            <a:ext cx="15242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讨论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85800" y="20574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同学们读读第三至五自然段，同桌之间讨论，每段主要写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762120" y="3352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第三自然段：写灰椋鸟开始归林了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762120" y="39625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第四自然段：写灰椋鸟归林时的情景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762120" y="457200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第五自然段：写灰椋鸟归林后的情景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女孩"/>
          <p:cNvPicPr/>
          <p:nvPr/>
        </p:nvPicPr>
        <p:blipFill>
          <a:blip r:embed="rId3"/>
          <a:stretch/>
        </p:blipFill>
        <p:spPr>
          <a:xfrm>
            <a:off x="2590920" y="1066680"/>
            <a:ext cx="82224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6934320" cy="5235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8600" y="53341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灰椋鸟尖尖的嘴，灰灰的背，远远望去黑乎乎的，有什么好看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85" name="Rectangle 3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4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5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533520" y="12952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默读第四段思考：作者是按什么顺序来写灰椋鸟归林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819520" y="26668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时间顺序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600200" y="3581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这样的顺序体现在哪些词语上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85800" y="457200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一开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写到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没有几分钟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85800" y="53341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“先回来的鸟”写到“后到的鸟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观察 拷贝"/>
          <p:cNvPicPr/>
          <p:nvPr/>
        </p:nvPicPr>
        <p:blipFill>
          <a:blip r:embed="rId3"/>
          <a:stretch/>
        </p:blipFill>
        <p:spPr>
          <a:xfrm>
            <a:off x="685800" y="3505320"/>
            <a:ext cx="812880" cy="658800"/>
          </a:xfrm>
          <a:prstGeom prst="rect">
            <a:avLst/>
          </a:prstGeom>
          <a:ln w="0">
            <a:noFill/>
          </a:ln>
        </p:spPr>
      </p:pic>
      <p:sp>
        <p:nvSpPr>
          <p:cNvPr id="94" name="Oval 14"/>
          <p:cNvSpPr/>
          <p:nvPr/>
        </p:nvSpPr>
        <p:spPr>
          <a:xfrm>
            <a:off x="533520" y="4800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533520" y="5562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6-03T08:05:53Z</dcterms:modified>
  <cp:revision>1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