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EBC-EF86-442A-92E3-83AB949C5E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7DB-5F35-49DA-8D69-C6740A79EF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3D6-FA3A-4450-9648-DACB2E4D45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0C8-FABA-49E7-862D-B42C55CE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5C9-9A2B-4D76-B5CC-72C2C013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455-BF1F-4FB1-9330-72B88486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A1C-EC44-4717-BEC4-0E26C80A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59F-8510-4153-A862-954D51C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5FE-7904-44F1-BACA-F368CD32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CCB-0878-46DD-8A29-FF30B38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F48-76AD-41B4-ABF0-AAEE77E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00A-0C95-4C21-90E4-41A6D459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F6C-C400-4566-B6A8-8DB262E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9AD-EF1F-44D8-BC8B-5AB9479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550-9501-47AF-AB6B-BB106EC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988-4EF2-463E-A79C-56C35AC0F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3733920" cy="281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00600" y="914400"/>
            <a:ext cx="3505320" cy="2637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23880" y="2209680"/>
            <a:ext cx="6553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灰椋鸟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2343600" y="641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苏教版五年级语文下册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0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13" name="Rectangle 9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Picture 7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609480" y="214776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偶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理上不一定发生而发生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09480" y="283356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郁郁葱葱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指竹林苍翠茂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35193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排空而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指许许多多的灰椋鸟一个挨一个排满了天空飞来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09480" y="4662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呼朋引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喊，引导同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09480" y="5348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栖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停留，休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16"/>
          <p:cNvSpPr txBox="1"/>
          <p:nvPr/>
        </p:nvSpPr>
        <p:spPr>
          <a:xfrm>
            <a:off x="4865760" y="1371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词语解释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22" name="Picture 17" descr="北北"/>
          <p:cNvPicPr/>
          <p:nvPr/>
        </p:nvPicPr>
        <p:blipFill>
          <a:blip r:embed="rId3"/>
          <a:stretch/>
        </p:blipFill>
        <p:spPr>
          <a:xfrm>
            <a:off x="7037280" y="1066680"/>
            <a:ext cx="811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24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752480" y="1630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小组合作学习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把课文分段并概括大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514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一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“我”和同伴来到林场，准备观看灰椋鸟归来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二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3-5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灰椋鸟归林时的壮观景象。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三段（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：写“我”归来时的感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讨论"/>
          <p:cNvPicPr/>
          <p:nvPr/>
        </p:nvPicPr>
        <p:blipFill>
          <a:blip r:embed="rId3"/>
          <a:stretch/>
        </p:blipFill>
        <p:spPr>
          <a:xfrm>
            <a:off x="533520" y="1600200"/>
            <a:ext cx="12189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33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685800" y="1295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同学们默读第一段，思考：一开始，“我”对灰椋鸟是什么态度？画出文中相关的句子，读一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533520" y="3352680"/>
            <a:ext cx="8305560" cy="1068840"/>
            <a:chOff x="533520" y="3352680"/>
            <a:chExt cx="8305560" cy="1068840"/>
          </a:xfrm>
        </p:grpSpPr>
        <p:sp>
          <p:nvSpPr>
            <p:cNvPr id="138" name="Text Box 8"/>
            <p:cNvSpPr/>
            <p:nvPr/>
          </p:nvSpPr>
          <p:spPr>
            <a:xfrm>
              <a:off x="609480" y="3352680"/>
              <a:ext cx="822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我想，灰椋鸟尖尖的嘴，灰灰的背，远远望去黑乎乎的，有什么好看的呢？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1447920" y="3886200"/>
              <a:ext cx="6933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533520" y="4419720"/>
              <a:ext cx="784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9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grpSp>
          <p:nvGrpSpPr>
            <p:cNvPr id="142" name="Group 2"/>
            <p:cNvGrpSpPr/>
            <p:nvPr/>
          </p:nvGrpSpPr>
          <p:grpSpPr>
            <a:xfrm>
              <a:off x="152280" y="609480"/>
              <a:ext cx="8839440" cy="5943600"/>
              <a:chOff x="152280" y="609480"/>
              <a:chExt cx="8839440" cy="5943600"/>
            </a:xfrm>
          </p:grpSpPr>
          <p:sp>
            <p:nvSpPr>
              <p:cNvPr id="143" name="Rectangle 3"/>
              <p:cNvSpPr/>
              <p:nvPr/>
            </p:nvSpPr>
            <p:spPr>
              <a:xfrm>
                <a:off x="152280" y="609480"/>
                <a:ext cx="8839440" cy="5943600"/>
              </a:xfrm>
              <a:prstGeom prst="rect">
                <a:avLst/>
              </a:prstGeom>
              <a:gradFill rotWithShape="0">
                <a:gsLst>
                  <a:gs pos="0">
                    <a:srgbClr val="666633"/>
                  </a:gs>
                  <a:gs pos="50000">
                    <a:srgbClr val="ffffff"/>
                  </a:gs>
                  <a:gs pos="100000">
                    <a:srgbClr val="66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304920" y="838080"/>
                <a:ext cx="8534160" cy="5486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5" name="Picture 5" descr="ANI-D107s"/>
            <p:cNvPicPr/>
            <p:nvPr/>
          </p:nvPicPr>
          <p:blipFill>
            <a:blip r:embed="rId2"/>
            <a:stretch/>
          </p:blipFill>
          <p:spPr>
            <a:xfrm>
              <a:off x="6858000" y="4800600"/>
              <a:ext cx="1971720" cy="15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6"/>
          <p:cNvSpPr/>
          <p:nvPr/>
        </p:nvSpPr>
        <p:spPr>
          <a:xfrm>
            <a:off x="685800" y="12952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继续读第一至二自然段，解决以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两个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38080" y="2819520"/>
            <a:ext cx="69343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⑴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是什么原因使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改变了对灰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鸟的看法？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41911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⑵“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我”和同伴准备在什么地方观看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椋鸟归来的情景？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50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838080" y="1143000"/>
            <a:ext cx="15242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讨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580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同学们读读第三至五自然段，同桌之间讨论，每段主要写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62120" y="3352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三自然段：写灰椋鸟开始归林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762120" y="3962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四自然段：写灰椋鸟归林时的情景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62120" y="4572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五自然段：写灰椋鸟归林后的情景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女孩"/>
          <p:cNvPicPr/>
          <p:nvPr/>
        </p:nvPicPr>
        <p:blipFill>
          <a:blip r:embed="rId3"/>
          <a:stretch/>
        </p:blipFill>
        <p:spPr>
          <a:xfrm>
            <a:off x="2590920" y="1066680"/>
            <a:ext cx="82224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60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33520" y="1295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默读第四段思考：作者是按什么顺序来写灰椋鸟归林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2666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时间顺序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600200" y="3581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这样的顺序体现在哪些词语上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" y="45720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开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没有几分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85800" y="5334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“先回来的鸟”写到“后到的鸟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3" descr="观察 拷贝"/>
          <p:cNvPicPr/>
          <p:nvPr/>
        </p:nvPicPr>
        <p:blipFill>
          <a:blip r:embed="rId3"/>
          <a:stretch/>
        </p:blipFill>
        <p:spPr>
          <a:xfrm>
            <a:off x="685800" y="3505320"/>
            <a:ext cx="812880" cy="658800"/>
          </a:xfrm>
          <a:prstGeom prst="rect">
            <a:avLst/>
          </a:prstGeom>
          <a:ln w="0">
            <a:noFill/>
          </a:ln>
        </p:spPr>
      </p:pic>
      <p:sp>
        <p:nvSpPr>
          <p:cNvPr id="169" name="Oval 14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53352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72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09480" y="1447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写“大部队”时，作者用一个词，准确地描绘了灰椋鸟“大部队”归林时的气势，哪个词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819520" y="3048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排空而至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9480" y="41911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说说你对“排空而至”的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09480" y="49528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——”画出具体描写“大部队”排空而至的句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80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62120" y="167652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夕阳渐渐西沉，晚霞映红了刺槐林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竹林，天上的鸟越来越少，而灰椋鸟却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过早地安眠，请同学们用“——”画出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灰椋鸟不愿过早地安眠的语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85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4"/>
          <p:cNvGrpSpPr/>
          <p:nvPr/>
        </p:nvGrpSpPr>
        <p:grpSpPr>
          <a:xfrm>
            <a:off x="533520" y="1295280"/>
            <a:ext cx="8076960" cy="2666880"/>
            <a:chOff x="533520" y="1295280"/>
            <a:chExt cx="8076960" cy="2666880"/>
          </a:xfrm>
        </p:grpSpPr>
        <p:sp>
          <p:nvSpPr>
            <p:cNvPr id="189" name="Text Box 7"/>
            <p:cNvSpPr/>
            <p:nvPr/>
          </p:nvSpPr>
          <p:spPr>
            <a:xfrm>
              <a:off x="533520" y="1295280"/>
              <a:ext cx="80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看，这几只刚刚落在枝头上，那几只又马上扑棱棱地飞起。它们的羽毛全变成金红色的了，多么像穿上盛装的少女在翩翩起舞哇！树林内外，百鸟争鸣，呼朋引伴，叽叽啾啾，似飞瀑落入深涧，如惊涛拍打岸滩，整个刺槐林和竹林成了一个天然的俱乐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1219320" y="1752480"/>
              <a:ext cx="7238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685800" y="220968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>
              <a:off x="685800" y="266688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85800" y="304776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>
              <a:off x="685800" y="350496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685800" y="396216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5"/>
          <p:cNvSpPr/>
          <p:nvPr/>
        </p:nvSpPr>
        <p:spPr>
          <a:xfrm>
            <a:off x="685800" y="4343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这句话描写了一个什么样的场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685800" y="4952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⒉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飞瀑落入深涧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其实写的是什么？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惊涛拍打岸滩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中宋"/>
              </a:rPr>
              <a:t>呢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99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838080" y="1905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请同学们齐读最后一段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38080" y="3124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）在回来的路上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我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有哪些感想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91440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）为什么说鸟是人类的朋友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06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609480" y="14335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鸟是人类的朋友，树林是鸟的乐园。没有林场工人的辛勤劳动，没有这几年大规模的植树造林，我到哪儿去观赏鸟儿归林的壮观场面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09480" y="3886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感想包含几层意思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0948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把第二句改为陈述句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13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09480" y="1752480"/>
            <a:ext cx="807732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   通过今天的学习，我们的收获还真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少，我们知道鸟是人类的朋友，树林是鸟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乐园。没有林场工人的辛勤劳动，没有这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年大规模的植树造林，我们就无法观赏到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鸟儿归林的壮观景象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18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457200" y="2374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灰椋鸟》这篇散文描绘灰椋鸟归林时的壮观场面，表达了作者对鸟儿的喜爱和对林场工人辛勤劳动的敬仰之情。这节课，我们欣赏了灰椋鸟归林以及它们落下起飞、起舞争鸣的景象，体会作者观鸟时的兴奋，欢呼时的情感，增强了同学们的爱鸟意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2286000" y="1295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23" name="Picture 8" descr="书１"/>
          <p:cNvPicPr/>
          <p:nvPr/>
        </p:nvPicPr>
        <p:blipFill>
          <a:blip r:embed="rId3"/>
          <a:stretch/>
        </p:blipFill>
        <p:spPr>
          <a:xfrm>
            <a:off x="914400" y="1295280"/>
            <a:ext cx="11048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848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鸟是人类的朋友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林是鸟的乐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26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914400" y="2925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⒈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摘抄文中优美语句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914400" y="3992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⒉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课外收集有关灰椋鸟的资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2666880" y="182880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2" name="Picture 9" descr="笔筒"/>
          <p:cNvPicPr/>
          <p:nvPr/>
        </p:nvPicPr>
        <p:blipFill>
          <a:blip r:embed="rId3"/>
          <a:stretch/>
        </p:blipFill>
        <p:spPr>
          <a:xfrm>
            <a:off x="1447920" y="1447920"/>
            <a:ext cx="9684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2859480"/>
            <a:ext cx="7920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第一段（第一自然段），写“我”决定去林场看看一看灰椋鸟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第二段（第二至五自然段），写“我”观赏到的灰椋鸟归林的壮观场面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第三段（第六自然段），写“我”在回来路上的感想，点明文章中心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554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393000"/>
            <a:ext cx="792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cc99"/>
                </a:solidFill>
                <a:latin typeface="Times New Roman"/>
              </a:rPr>
              <a:t>将上面这个句子改成陈述句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，灰椋鸟尖尖的嘴，灰灰的背，远远望去黑乎乎的，有什么好看的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45910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我想，灰椋鸟尖尖的嘴，灰灰的背，远远望去黑乎乎的，没有什么好看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3808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开始还是一小群一小群地飞过来，盘旋着，陆续投入刺槐林。没有几分钟，“大部队”便排空而至，老远就听到它们的叫声。它们大都是整群整群地列队飞行。有的排成数百米长的长队，有的围成一个巨大的椭圆形，一批一批，浩浩荡荡地从我们头顶飞过。先回来的鸟在林内不停地鸣叫，好像互相倾诉着一天的见闻和收获，又像在呼唤未归的同伴和儿女。后到的鸟与林中的鸟互相应和，边飞边鸣，很快找到自己栖息的处所，与熟悉的伙伴汇合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42920" y="119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开始……没几分钟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3141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到的……后到的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21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开始还是一小群一小群地飞过来，盘旋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陆续投入刺槐林。没有几分钟，“大部队”便于工作排空而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老远就听到它们的叫声。它们大都是整群整群地列队飞行。有的排成数百米长的长队，有的围成一个巨大的椭圆形。一批一批，浩浩荡荡地从我们头顶飞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1989000"/>
            <a:ext cx="22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排空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4724280"/>
            <a:ext cx="23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浩浩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76520" y="838080"/>
            <a:ext cx="3832200" cy="764280"/>
          </a:xfrm>
          <a:prstGeom prst="rect">
            <a:avLst/>
          </a:prstGeom>
          <a:noFill/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。。。。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3573360"/>
            <a:ext cx="3251520" cy="764280"/>
          </a:xfrm>
          <a:prstGeom prst="rect">
            <a:avLst/>
          </a:prstGeom>
          <a:noFill/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。。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4869000"/>
            <a:ext cx="2735280" cy="764280"/>
          </a:xfrm>
          <a:prstGeom prst="rect">
            <a:avLst/>
          </a:prstGeom>
          <a:noFill/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。。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2708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537372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502"/>
          <p:cNvPicPr/>
          <p:nvPr/>
        </p:nvPicPr>
        <p:blipFill>
          <a:blip r:embed="rId1"/>
          <a:srcRect l="0" t="10702" r="0" b="7897"/>
          <a:stretch/>
        </p:blipFill>
        <p:spPr>
          <a:xfrm>
            <a:off x="990720" y="533520"/>
            <a:ext cx="7315200" cy="5445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1676520" y="1066680"/>
            <a:ext cx="3733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灰椋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76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先回来的鸟在林内不停地鸣叫，好像互相倾诉着一天的见闻和收获，又像在呼唤未归的同伴和儿女。后到的鸟与林中的鸟互相应和，边飞边鸣，很快找到自己栖息的处所，与熟悉的伙伴汇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523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鸣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523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倾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22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呼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6576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应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看，这几只刚刚落在枝头上，那几只又马上扑棱棱地飞起来。它们的羽毛全变成金红色的了，多么像穿上盛装的少女在翩翩起舞哇！树林内外，百鸟争鸣，呼朋引伴，叽叽啾啾，似飞瀑落入深涧，如惊涛拍打岸滩，整个刺槐林和竹林成了一个天然的俱乐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2203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：这几只……那几只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2708280"/>
            <a:ext cx="813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听：树林内外，百鸟争鸣，呼朋引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62320" cy="1557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765000"/>
            <a:ext cx="7850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括号里填上相对应的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热闹对城市正如安静对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节约对光荣正如浪费对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清澈对泉水正如浑浊对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喧闹对大街正如僻静对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上适当的关联词，把两句话并成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燕子搭的窝漂亮。小燕子搭的窝结实、暖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老师对我们很严格。老师是为我们着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天下雨。我们就不出去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帮家里做农活。他跟父亲读点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蛇吃田鼠。蛇能保护庄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阅读其它描写鸟的文章。</a:t>
            </a:r>
            <a:br>
              <a:rPr sz="5000"/>
            </a:br>
            <a:r>
              <a:rPr b="1" lang="zh-CN" sz="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阅读徐秀娟的事迹报道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41200" y="3816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0000"/>
                </a:solidFill>
                <a:latin typeface="Times New Roman"/>
              </a:rPr>
              <a:t>作业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79280" y="620640"/>
            <a:ext cx="8839440" cy="5943600"/>
            <a:chOff x="179280" y="620640"/>
            <a:chExt cx="8839440" cy="5943600"/>
          </a:xfrm>
        </p:grpSpPr>
        <p:sp>
          <p:nvSpPr>
            <p:cNvPr id="58" name="Rectangle 3"/>
            <p:cNvSpPr/>
            <p:nvPr/>
          </p:nvSpPr>
          <p:spPr>
            <a:xfrm>
              <a:off x="179280" y="62064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331920" y="84924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Picture 5" descr="hln01"/>
          <p:cNvPicPr/>
          <p:nvPr/>
        </p:nvPicPr>
        <p:blipFill>
          <a:blip r:embed="rId2"/>
          <a:stretch/>
        </p:blipFill>
        <p:spPr>
          <a:xfrm>
            <a:off x="914400" y="1905120"/>
            <a:ext cx="2324160" cy="1587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61" name="Group 10"/>
          <p:cNvGrpSpPr/>
          <p:nvPr/>
        </p:nvGrpSpPr>
        <p:grpSpPr>
          <a:xfrm>
            <a:off x="990720" y="1887480"/>
            <a:ext cx="7848360" cy="2717280"/>
            <a:chOff x="990720" y="1887480"/>
            <a:chExt cx="7848360" cy="2717280"/>
          </a:xfrm>
        </p:grpSpPr>
        <p:sp>
          <p:nvSpPr>
            <p:cNvPr id="62" name="Text Box 6"/>
            <p:cNvSpPr/>
            <p:nvPr/>
          </p:nvSpPr>
          <p:spPr>
            <a:xfrm>
              <a:off x="3733920" y="1887480"/>
              <a:ext cx="510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灰椋鸟体长约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2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厘米。通体主要为灰褐色，头部上黑而两侧白，尾部亦白色。嘴和脚橙红色。幼鸟上体褐色沾棕，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990720" y="3657600"/>
              <a:ext cx="78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头和颈的两侧白而缀以褐色细点。常结群栖息于树上，或旋翔于空中。整群飞动，有如波状。叫声低微而单调，吱吱叫声。食物为忍冬果实、桑葚、枣和黄连木等的种子、甲虫及其它昆虫和幼虫等。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WordArt 8"/>
          <p:cNvSpPr txBox="1"/>
          <p:nvPr/>
        </p:nvSpPr>
        <p:spPr>
          <a:xfrm>
            <a:off x="2895480" y="1143000"/>
            <a:ext cx="3124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介绍新朋友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5" name="Picture 9" descr="复件 书"/>
          <p:cNvPicPr/>
          <p:nvPr/>
        </p:nvPicPr>
        <p:blipFill>
          <a:blip r:embed="rId3"/>
          <a:stretch/>
        </p:blipFill>
        <p:spPr>
          <a:xfrm>
            <a:off x="1981080" y="1066680"/>
            <a:ext cx="517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05264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秀娟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4—1987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身于养鹤世家。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大学毕业后应聘来到盐城自然保护区工作，创建了江苏省第一个鹤类饲养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3720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4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69" name="Rectangle 25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Picture 27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219320" y="33526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666880" y="33526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191120" y="33526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715000" y="33526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栖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1932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杉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59092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毛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2670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槐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79132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栖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143000" y="2438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s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666880" y="2438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4191120" y="24382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uá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5867280" y="2438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1143000" y="32767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143000" y="23623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1066680" y="44956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600200" y="1447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3" descr="复件 思考"/>
          <p:cNvPicPr/>
          <p:nvPr/>
        </p:nvPicPr>
        <p:blipFill>
          <a:blip r:embed="rId3"/>
          <a:stretch/>
        </p:blipFill>
        <p:spPr>
          <a:xfrm>
            <a:off x="609480" y="14479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90" name="Rectangle 3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50000">
                  <a:srgbClr val="ffffff"/>
                </a:gs>
                <a:gs pos="100000">
                  <a:srgbClr val="66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304920" y="838080"/>
              <a:ext cx="8534160" cy="548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5" descr="ANI-D107s"/>
          <p:cNvPicPr/>
          <p:nvPr/>
        </p:nvPicPr>
        <p:blipFill>
          <a:blip r:embed="rId2"/>
          <a:stretch/>
        </p:blipFill>
        <p:spPr>
          <a:xfrm>
            <a:off x="6858000" y="4800600"/>
            <a:ext cx="1971720" cy="1509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219320" y="33526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352680" y="33526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638680" y="33526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熟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27672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扑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6386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山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295280" y="243828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sh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352680" y="2438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562720" y="24382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143000" y="32767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143000" y="23623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1066680" y="44956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600200" y="1447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2" descr="复件 思考"/>
          <p:cNvPicPr/>
          <p:nvPr/>
        </p:nvPicPr>
        <p:blipFill>
          <a:blip r:embed="rId3"/>
          <a:stretch/>
        </p:blipFill>
        <p:spPr>
          <a:xfrm>
            <a:off x="609480" y="14479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04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灰椋鸟 倾诉  壮观  呼朋引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椭圆形 喧闹  栖息  排空而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洋槐树 规模  偶然  郁郁葱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91628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iá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141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uǒ        xuān      q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郁郁葱葱：形容树木长得很好、非常茂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翘首遥望：抬头看远方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排空而至：排本是推开的意思。本课指许多鸟儿从空中迅速飞落下来，很有气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浩浩荡荡：原指水势大，泛指广阔或壮大的气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栖息：休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安眠：睡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翩翩起舞：轻轻地跳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呼朋引伴：呼唤自己的朋友或伙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喧闹：形容非常吵闹嘈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情不自禁：控制不住自己的感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0:27:34Z</dcterms:created>
  <dc:creator>xsxx</dc:creator>
  <dc:description/>
  <dc:language>en-US</dc:language>
  <cp:lastModifiedBy>微软用户</cp:lastModifiedBy>
  <dcterms:modified xsi:type="dcterms:W3CDTF">2017-03-04T13:55:43Z</dcterms:modified>
  <cp:revision>33</cp:revision>
  <dc:subject/>
  <dc:title>PowerPoint 演示文稿</dc:title>
</cp:coreProperties>
</file>