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9FF-22DC-4A30-9DCB-ABF979A4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27E-43BB-483B-9C8A-3461D8A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A92-98F6-47AD-9E0A-4F97465D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3D5-1679-4ED3-BEED-EAFCC333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358-2602-4D2B-8F83-F1C7F5A8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762-D789-4B8B-AAA4-69C753F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FDA-6C1E-41C3-A632-F0892788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FAE-5860-4F4A-9B25-D227940B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C67-142C-450B-81EA-E401F0E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9A8-AA09-4F30-BDFF-C7183D1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D4B-92F5-4699-B78E-6FB13A2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E09-A3B0-4752-9573-AB7FF6F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F2A4-C975-4763-AA3A-43E1A66CD5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9144000" cy="767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-574560" y="2384280"/>
            <a:ext cx="5759640" cy="165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灰椋鸟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126828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杉  栖息  刺槐林   扑棱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空而至  叽叽啾啾  落入深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首遥望  互相应和  情不自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想，灰椋鸟尖尖的嘴，灰灰的背，远远望去黑乎乎的，有什么好看的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林场工人的辛勤劳动，没有这几年大规模的植树造林，我到哪儿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观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鸟儿归林的壮观场面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539280" y="4770720"/>
            <a:ext cx="749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选好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，便在那儿等候灰椋鸟归来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7200" y="5248080"/>
            <a:ext cx="121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仔细地看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03520" y="3735000"/>
            <a:ext cx="8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欣赏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34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翘首遥望西南方向，果然有许多黑点向这边移动           灰椋鸟开始归林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7631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回来的鸟在林内不停地鸣叫，好像互相倾诉着一天的见闻和收获，又像在呼唤未归的同伴和儿女    后到的鸟与林中的鸟互相应和，边飞边鸣，很快找到自己栖息的处所，与熟悉的伙伴汇合。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1052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450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357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灰椋鸟归林的壮观场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听边思：课文主要介绍了灰椋鸟的什么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896040"/>
            <a:ext cx="65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—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我”和同伴来到林场，准备观看灰椋鸟归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——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灰椋鸟归林的壮观景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我”归来时的感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就听说林场的灰椋鸟多。我想，灰椋鸟尖尖的嘴，灰灰的背，远远望去黑乎乎的，有什么好看的呢？可是一个偶然的机会，我看了关于灰椋鸟的电视录像、就再也忍不住了，决定亲自去看一看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下午，我和同伴来到了林场。下了车，轻轻走进林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选好观察位置，便在那儿等候灰椋鸟归来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77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棕红色的水杉落叶，给大地铺上了一层华贵的绒地毯，走在上面软绵绵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0:27:34Z</dcterms:created>
  <dc:creator>xsxx</dc:creator>
  <dc:description/>
  <dc:language>en-US</dc:language>
  <cp:lastModifiedBy>walkinnet</cp:lastModifiedBy>
  <dcterms:modified xsi:type="dcterms:W3CDTF">2012-05-29T05:59:38Z</dcterms:modified>
  <cp:revision>21</cp:revision>
  <dc:subject/>
  <dc:title>PowerPoint 演示文稿</dc:title>
</cp:coreProperties>
</file>