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8DB-F5B7-4E65-ABB7-EFEEFC94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FC0-68F9-4751-9FEE-8C54AEF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D91-FED7-4558-A87C-96CC4FA5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AD6-F731-441E-822C-9BFAE2C5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89F-14FB-4CF6-A81D-1C2B2F0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68E-6E55-4C7C-B4FC-C711086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424-12AE-4C54-B5F4-6D78515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F43-8545-4214-9913-599BCAE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5CE-B466-4042-A139-4080C8E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B9F-F118-4557-9025-3417BB3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AD2-7CD6-481C-B5A7-6AEFCBF1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963-B5C3-408E-8C21-0F382104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756-3723-4DC4-876E-9B2C8B625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9483;&#20799;&#31389;&#31389;/album/item/8ca7563f2c50c72471cf6c47.htm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05280" y="2900520"/>
            <a:ext cx="1333440" cy="1056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50920" y="127080"/>
            <a:ext cx="7093080" cy="673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1000" y="333360"/>
            <a:ext cx="458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520" y="620640"/>
            <a:ext cx="21913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黑孩子罗伯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960" y="3933720"/>
            <a:ext cx="45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美国】玛丽 ﹒雷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227664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—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丽莎爸爸抱着罗伯特时，心里怎么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8280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梦想有一天，……黑人男孩和女孩能跟白人男孩和女孩手拉手，，像兄弟姐妹似的走在一起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92360" y="765000"/>
            <a:ext cx="6192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Arial"/>
                <a:ea typeface="黑体"/>
              </a:rPr>
              <a:t>没有歧视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Arial"/>
                <a:ea typeface="黑体"/>
              </a:rPr>
              <a:t>平等相处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1699920"/>
            <a:ext cx="795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罗伯特的心愿实现不了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由朗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-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找出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836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心愿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买一架玩具战斗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跟白人女孩丽莎拉手做朋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1640" y="3789360"/>
            <a:ext cx="27367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971640" y="1341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听到丽莎生病后，罗伯特心里怎么想的？怎么做？又是怎么说的？请你用不同的符号勾画出来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611280" y="119700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要是丽莎死了，岂不是永远见不到她了吗？呃，天 哪！丽莎，你不能死，不能死，绝不能死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338280" y="2133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急切、伤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8ca7563f2c50c72471cf6c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4797360"/>
            <a:ext cx="28573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4"/>
          <a:stretch/>
        </p:blipFill>
        <p:spPr>
          <a:xfrm>
            <a:off x="0" y="6224760"/>
            <a:ext cx="1994040" cy="63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49360"/>
            <a:ext cx="734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比一比，谁写得好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要是丽莎死了，就永远见不到她了。    呃，天 哪！丽莎，你不能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133720"/>
            <a:ext cx="806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140360" y="292428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140360" y="292428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140360" y="2708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1280" y="2852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39640" y="1484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26920" y="386064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79280" y="1628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罗伯特摸了摸裤子口袋，深深地吸了一口气。三步两步冲到讲台前，把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部掏了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042920" y="3456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摸：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舍不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187280" y="4292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冲：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下决心、不后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24000" y="5084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罗伯特掏出的还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900000" y="5877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善良、宽容的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2032590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700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264888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768924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3851280" y="220500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09240" y="27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755640" y="1989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给丽莎治病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丽莎可能会死？罗伯特听了禁不住打了一个寒战。要是丽莎死了，岂不是永远见不到她了吗？呃，天哪！丽莎，你不能死，不能死，绝不能死！罗伯特摸了摸裤子的口袋，深深地吸了一口气，三步两步冲到讲台前，把钱全部掏了出来。他把钱交给尤金太太，说：“给丽莎治病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-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。说说在葬礼上，最让你感动的画面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456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6408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人小组交流课前搜集的关于美国种族歧视的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08:50Z</dcterms:created>
  <dc:creator>dell</dc:creator>
  <dc:description/>
  <dc:language>en-US</dc:language>
  <cp:lastModifiedBy>微软用户</cp:lastModifiedBy>
  <dcterms:modified xsi:type="dcterms:W3CDTF">2005-03-19T13:23:58Z</dcterms:modified>
  <cp:revision>31</cp:revision>
  <dc:subject/>
  <dc:title>幻灯片 1</dc:title>
</cp:coreProperties>
</file>