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5.gif" ContentType="image/gif"/>
  <Override PartName="/ppt/media/image6.jpeg" ContentType="image/jpeg"/>
  <Override PartName="/ppt/media/image26.jpeg" ContentType="image/jpeg"/>
  <Override PartName="/ppt/media/image24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7AAA-8E70-4BBA-BE81-29F06733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84D9-A8A9-4F84-8CC0-8D781E3A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6A07-2458-43F8-AE19-DEAB462C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309B-59C7-47C3-840C-AA6352D1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56CF-E6E6-4707-A1BE-731EA6CF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3C88-9A7F-43CC-B318-10250FC5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789F-3F92-4FCD-AF6C-EE8748E6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D9E3-E305-461B-BBF9-C9AA827E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E983-9977-4A38-9CBA-F97A7C7D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001F-B3BA-4A7F-8703-8258EA74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749E-7A8A-4568-B1B6-6B37F8CE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6811-C334-4BB1-A2DE-44EBCB05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ECDA-6C84-4C45-B81E-34EBB1B8C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内容占位符 3" descr="psb (9).jpg"/>
          <p:cNvPicPr/>
          <p:nvPr/>
        </p:nvPicPr>
        <p:blipFill>
          <a:blip r:embed="rId1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20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古诗两首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0" y="2895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华文楷体"/>
                <a:ea typeface="华文楷体"/>
              </a:rPr>
              <a:t>黄鹤楼送孟浩然之广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0" y="4800600"/>
            <a:ext cx="853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课件制作： 果敢中心校   汪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3" descr="457487716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矩形 4"/>
          <p:cNvSpPr/>
          <p:nvPr/>
        </p:nvSpPr>
        <p:spPr>
          <a:xfrm>
            <a:off x="0" y="0"/>
            <a:ext cx="914400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黄</a:t>
            </a:r>
            <a:r>
              <a:rPr b="1" lang="zh-CN" sz="4400" spc="-1" strike="noStrike">
                <a:solidFill>
                  <a:srgbClr val="ffc000"/>
                </a:solidFill>
                <a:latin typeface="Arial"/>
              </a:rPr>
              <a:t>鹤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楼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孟浩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然之广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李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故人西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辞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黄鹤楼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烟花三月下扬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孤帆远影碧空</a:t>
            </a:r>
            <a:r>
              <a:rPr b="1" lang="zh-CN" sz="4400" spc="-1" strike="noStrike">
                <a:solidFill>
                  <a:srgbClr val="00ff00"/>
                </a:solidFill>
                <a:latin typeface="Arial"/>
              </a:rPr>
              <a:t>尽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见长江天际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读诗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663057884.jpe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矩形 2"/>
          <p:cNvSpPr/>
          <p:nvPr/>
        </p:nvSpPr>
        <p:spPr>
          <a:xfrm>
            <a:off x="0" y="304920"/>
            <a:ext cx="91440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l-GR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ὰ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      h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è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m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è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唯    鹤    陵    辞    孟    </a:t>
            </a:r>
            <a:r>
              <a:rPr b="1" lang="zh-CN" sz="4800" spc="-1" strike="noStrike">
                <a:solidFill>
                  <a:srgbClr val="ff9900"/>
                </a:solidFill>
                <a:latin typeface="Arial"/>
              </a:rPr>
              <a:t>浩   </a:t>
            </a:r>
            <a:r>
              <a:rPr b="1" lang="zh-CN" sz="4800" spc="-1" strike="noStrike">
                <a:solidFill>
                  <a:srgbClr val="00ff00"/>
                </a:solidFill>
                <a:latin typeface="Arial"/>
              </a:rPr>
              <a:t>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é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  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jì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       l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í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g       c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í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矩形 3" descr=""/>
          <p:cNvPicPr/>
          <p:nvPr/>
        </p:nvPicPr>
        <p:blipFill>
          <a:blip r:embed="rId2"/>
          <a:stretch/>
        </p:blipFill>
        <p:spPr>
          <a:xfrm>
            <a:off x="2901960" y="-36360"/>
            <a:ext cx="339552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663057884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矩形 2"/>
          <p:cNvSpPr/>
          <p:nvPr/>
        </p:nvSpPr>
        <p:spPr>
          <a:xfrm>
            <a:off x="0" y="3049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矩形 3" descr=""/>
          <p:cNvPicPr/>
          <p:nvPr/>
        </p:nvPicPr>
        <p:blipFill>
          <a:blip r:embed="rId2"/>
          <a:stretch/>
        </p:blipFill>
        <p:spPr>
          <a:xfrm>
            <a:off x="2901960" y="-36360"/>
            <a:ext cx="348624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3" descr="457487716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矩形 4"/>
          <p:cNvSpPr/>
          <p:nvPr/>
        </p:nvSpPr>
        <p:spPr>
          <a:xfrm>
            <a:off x="0" y="0"/>
            <a:ext cx="9144000" cy="52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黄鹤楼送孟浩然之广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故人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西辞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黄鹤楼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烟花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三月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下扬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孤帆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远影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碧空尽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唯见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长江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天际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读诗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图片1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WordArt 4" descr=""/>
          <p:cNvPicPr/>
          <p:nvPr/>
        </p:nvPicPr>
        <p:blipFill>
          <a:blip r:embed="rId2"/>
          <a:stretch/>
        </p:blipFill>
        <p:spPr>
          <a:xfrm>
            <a:off x="603360" y="901800"/>
            <a:ext cx="7686720" cy="349416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0" y="0"/>
            <a:ext cx="42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晓诗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YeofTBHcJAAAYkeVShFoJAAA&amp;rf=2-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故人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：老朋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西辞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：黄鹤楼在广陵的西边，在黄鹤楼辞别去广陵，所以说在西边辞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烟花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：形容花开的繁茂，像浮动的烟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三月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：又称为季春或者暮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下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：沿长江顺流而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孤帆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：一只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远影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：远去的影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碧空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：天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尽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：消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唯见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：只能看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黑体"/>
                <a:ea typeface="黑体"/>
              </a:rPr>
              <a:t>天际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：天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图片1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3"/>
          <p:cNvSpPr txBox="1"/>
          <p:nvPr/>
        </p:nvSpPr>
        <p:spPr>
          <a:xfrm>
            <a:off x="3048120" y="762120"/>
            <a:ext cx="335268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晓诗意</a:t>
            </a:r>
            <a:endParaRPr b="0" lang="en-US" sz="40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609480" y="3429000"/>
            <a:ext cx="8153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故人</a:t>
            </a:r>
            <a:r>
              <a:rPr b="1" lang="zh-CN" sz="4800" spc="-1" strike="noStrike">
                <a:solidFill>
                  <a:srgbClr val="00ff00"/>
                </a:solidFill>
                <a:latin typeface="Arial"/>
              </a:rPr>
              <a:t>西辞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黄鹤楼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烟花三月</a:t>
            </a:r>
            <a:r>
              <a:rPr b="1" lang="zh-CN" sz="4800" spc="-1" strike="noStrike">
                <a:solidFill>
                  <a:srgbClr val="ff9900"/>
                </a:solidFill>
                <a:latin typeface="Arial"/>
              </a:rPr>
              <a:t>下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扬州。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叙事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u=410299408,2959601928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950904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WordArt 6" descr=""/>
          <p:cNvPicPr/>
          <p:nvPr/>
        </p:nvPicPr>
        <p:blipFill>
          <a:blip r:embed="rId2"/>
          <a:stretch/>
        </p:blipFill>
        <p:spPr>
          <a:xfrm>
            <a:off x="835200" y="-23760"/>
            <a:ext cx="6608520" cy="29750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4958671_4958671_1282622047156_mthum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图片1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685800" y="2819520"/>
            <a:ext cx="792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孤帆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远影碧空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尽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见长江天际流。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写景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936360" y="395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1219320" y="914400"/>
            <a:ext cx="1676160" cy="1828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 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pic>
        <p:nvPicPr>
          <p:cNvPr id="98" name="矩形 6" descr=""/>
          <p:cNvPicPr/>
          <p:nvPr/>
        </p:nvPicPr>
        <p:blipFill>
          <a:blip r:embed="rId2"/>
          <a:stretch/>
        </p:blipFill>
        <p:spPr>
          <a:xfrm>
            <a:off x="2517840" y="291960"/>
            <a:ext cx="3870360" cy="1365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u=920796838,588317542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1600200" y="355608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6281640" y="457200"/>
            <a:ext cx="1185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李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" descr="YWy5UBHDJAAAYidgWxHtJAAA&amp;rf=2-9.jp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685800" y="1166040"/>
            <a:ext cx="8458200" cy="48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老朋友在西边的黄鹤楼与我辞别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在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Arial"/>
              </a:rPr>
              <a:t>繁花似锦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的三月要去往扬州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孤船的帆影渐渐远去消失在碧空的尽头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只看见浩浩荡荡的长江水向天边流去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矩形 3" descr=""/>
          <p:cNvPicPr/>
          <p:nvPr/>
        </p:nvPicPr>
        <p:blipFill>
          <a:blip r:embed="rId2"/>
          <a:stretch/>
        </p:blipFill>
        <p:spPr>
          <a:xfrm>
            <a:off x="2693880" y="-19080"/>
            <a:ext cx="413388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10230657_124734463186_2.jp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"/>
          <p:cNvSpPr/>
          <p:nvPr/>
        </p:nvSpPr>
        <p:spPr>
          <a:xfrm>
            <a:off x="0" y="128520"/>
            <a:ext cx="914400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精读全诗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黄鹤楼送孟浩然之广陵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【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李白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0" y="160020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Arial"/>
              </a:rPr>
              <a:t>体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1905120" y="152388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【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是一首送别诗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0" y="259092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Arial"/>
              </a:rPr>
              <a:t>时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1905120" y="25909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66"/>
                </a:solidFill>
                <a:latin typeface="Arial"/>
              </a:rPr>
              <a:t>【烟花三月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0" y="365760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Arial"/>
              </a:rPr>
              <a:t>地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1905120" y="365760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66"/>
                </a:solidFill>
                <a:latin typeface="Arial"/>
              </a:rPr>
              <a:t>【黄鹤楼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0" y="464832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Arial"/>
              </a:rPr>
              <a:t>人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1905120" y="46483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66"/>
                </a:solidFill>
                <a:latin typeface="Arial"/>
              </a:rPr>
              <a:t>【李白、孟浩然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0" y="556272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Arial"/>
              </a:rPr>
              <a:t>事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5"/>
          <p:cNvSpPr/>
          <p:nvPr/>
        </p:nvSpPr>
        <p:spPr>
          <a:xfrm>
            <a:off x="1905120" y="5562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Arial"/>
              </a:rPr>
              <a:t>【</a:t>
            </a:r>
            <a:r>
              <a:rPr b="1" lang="zh-CN" sz="6000" spc="-1" strike="noStrike">
                <a:solidFill>
                  <a:srgbClr val="660066"/>
                </a:solidFill>
                <a:latin typeface="Arial"/>
              </a:rPr>
              <a:t>送别</a:t>
            </a:r>
            <a:r>
              <a:rPr b="1" lang="en-US" sz="6000" spc="-1" strike="noStrike">
                <a:solidFill>
                  <a:srgbClr val="660066"/>
                </a:solidFill>
                <a:latin typeface="Arial"/>
              </a:rPr>
              <a:t>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u=2186180201,3121232422&amp;fm=23&amp;gp=0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-378000" y="0"/>
            <a:ext cx="42642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黄鹤楼送孟浩然之广陵   李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故人西辞黄鹤楼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烟花三月下扬州。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叙事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孤帆远影碧空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唯见长江天际流。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写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古诗配乐.mp3" descr=""/>
          <p:cNvPicPr/>
          <p:nvPr/>
        </p:nvPicPr>
        <p:blipFill>
          <a:blip r:embed="rId2"/>
          <a:stretch/>
        </p:blipFill>
        <p:spPr>
          <a:xfrm>
            <a:off x="7620120" y="51055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95018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505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图片155"/>
          <p:cNvPicPr/>
          <p:nvPr/>
        </p:nvPicPr>
        <p:blipFill>
          <a:blip r:embed="rId2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120" name="WordArt 4"/>
          <p:cNvSpPr txBox="1"/>
          <p:nvPr/>
        </p:nvSpPr>
        <p:spPr>
          <a:xfrm>
            <a:off x="2819520" y="1371600"/>
            <a:ext cx="304776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表情感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20968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0" y="41911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030a0"/>
                </a:solidFill>
                <a:latin typeface="Arial"/>
              </a:rPr>
              <a:t>依依不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黄鹤楼送孟浩然之广陵.mp3" descr=""/>
          <p:cNvPicPr/>
          <p:nvPr/>
        </p:nvPicPr>
        <p:blipFill>
          <a:blip r:embed="rId3"/>
          <a:stretch/>
        </p:blipFill>
        <p:spPr>
          <a:xfrm>
            <a:off x="7543800" y="4952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u=2186180201,3121232422&amp;fm=23&amp;gp=0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-438840" y="0"/>
            <a:ext cx="4325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黄鹤楼送孟浩然之广陵   李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故人西辞黄鹤楼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烟花三月下扬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孤帆远影碧空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唯见长江天际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古诗配乐.mp3" descr=""/>
          <p:cNvPicPr/>
          <p:nvPr/>
        </p:nvPicPr>
        <p:blipFill>
          <a:blip r:embed="rId2"/>
          <a:stretch/>
        </p:blipFill>
        <p:spPr>
          <a:xfrm>
            <a:off x="7620120" y="51055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95018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1" descr="10230657_124734463186_2.jp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"/>
          <p:cNvSpPr/>
          <p:nvPr/>
        </p:nvSpPr>
        <p:spPr>
          <a:xfrm>
            <a:off x="0" y="128520"/>
            <a:ext cx="914400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板书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黄鹤楼送孟浩然之广陵</a:t>
            </a: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 【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李白</a:t>
            </a: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0" y="160020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Arial"/>
              </a:rPr>
              <a:t>体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1905120" y="152388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【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是一首送别诗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0" y="259092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Arial"/>
              </a:rPr>
              <a:t>时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1905120" y="25909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66"/>
                </a:solidFill>
                <a:latin typeface="Arial"/>
              </a:rPr>
              <a:t>【烟花三月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0" y="365760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Arial"/>
              </a:rPr>
              <a:t>地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1905120" y="365760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66"/>
                </a:solidFill>
                <a:latin typeface="Arial"/>
              </a:rPr>
              <a:t>【黄鹤楼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0" y="464832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Arial"/>
              </a:rPr>
              <a:t>人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1905120" y="46483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66"/>
                </a:solidFill>
                <a:latin typeface="Arial"/>
              </a:rPr>
              <a:t>【李白、孟浩然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0" y="556272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Arial"/>
              </a:rPr>
              <a:t>事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5"/>
          <p:cNvSpPr/>
          <p:nvPr/>
        </p:nvSpPr>
        <p:spPr>
          <a:xfrm>
            <a:off x="1905120" y="5562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Arial"/>
              </a:rPr>
              <a:t>【</a:t>
            </a:r>
            <a:r>
              <a:rPr b="1" lang="zh-CN" sz="6000" spc="-1" strike="noStrike">
                <a:solidFill>
                  <a:srgbClr val="660066"/>
                </a:solidFill>
                <a:latin typeface="Arial"/>
              </a:rPr>
              <a:t>送别</a:t>
            </a:r>
            <a:r>
              <a:rPr b="1" lang="en-US" sz="6000" spc="-1" strike="noStrike">
                <a:solidFill>
                  <a:srgbClr val="660066"/>
                </a:solidFill>
                <a:latin typeface="Arial"/>
              </a:rPr>
              <a:t>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u=2186180201,3121232422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WordArt 5"/>
          <p:cNvSpPr txBox="1"/>
          <p:nvPr/>
        </p:nvSpPr>
        <p:spPr>
          <a:xfrm>
            <a:off x="3200400" y="304920"/>
            <a:ext cx="28954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再见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295280" y="4952880"/>
            <a:ext cx="586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cc"/>
                </a:solidFill>
                <a:latin typeface="Arial"/>
              </a:rPr>
              <a:t>谢谢大家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u=920796838,588317542&amp;fm=23&amp;gp=0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39160" y="0"/>
            <a:ext cx="78984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赠 汪 伦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》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李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8600" y="0"/>
            <a:ext cx="2618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李白乘舟将欲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忽闻岸上踏歌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桃花潭水深千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及汪伦送我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图片1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2209680" y="14479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赠汪伦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是唐代诗人李白和好友汪伦分别时写下的一首送别诗，送别诗是诗人们表达深情厚谊的一种常用的表达方式。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黄鹤楼送孟浩然之广陵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送元二使安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也是送别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图片66"/>
          <p:cNvPicPr/>
          <p:nvPr/>
        </p:nvPicPr>
        <p:blipFill>
          <a:blip r:embed="rId2"/>
          <a:stretch/>
        </p:blipFill>
        <p:spPr>
          <a:xfrm>
            <a:off x="-525600" y="-220680"/>
            <a:ext cx="3592800" cy="4802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355098497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0" y="0"/>
            <a:ext cx="9144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学习古诗的三步骤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、知诗人，解诗题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二、读诗句，晓诗意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三、入诗境，悟诗情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u=2186180201,3121232422&amp;fm=23&amp;gp=0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WordArt 6" descr=""/>
          <p:cNvPicPr/>
          <p:nvPr/>
        </p:nvPicPr>
        <p:blipFill>
          <a:blip r:embed="rId2"/>
          <a:stretch/>
        </p:blipFill>
        <p:spPr>
          <a:xfrm>
            <a:off x="0" y="533520"/>
            <a:ext cx="4419720" cy="1079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 flipH="1" rot="16200000">
            <a:off x="6780960" y="4872600"/>
            <a:ext cx="16426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077320" y="5638680"/>
            <a:ext cx="4572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0" y="2590920"/>
            <a:ext cx="44179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知诗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李白：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代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浪漫主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人，字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太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号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青莲居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人称“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诗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psb (7)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2133720" y="0"/>
            <a:ext cx="7010280" cy="46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解诗题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黄鹤楼</a:t>
            </a: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7030a0"/>
                </a:solidFill>
                <a:latin typeface="Arial"/>
              </a:rPr>
              <a:t>今湖北武汉市，传说有仙人在此乘黄鹤而去，所以称为黄鹤楼。</a:t>
            </a: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之</a:t>
            </a: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7030a0"/>
                </a:solidFill>
                <a:latin typeface="Arial"/>
              </a:rPr>
              <a:t>去、往</a:t>
            </a: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广陵</a:t>
            </a: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7030a0"/>
                </a:solidFill>
                <a:latin typeface="Arial"/>
              </a:rPr>
              <a:t>今江苏浙江</a:t>
            </a: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意思：李白在黄鹤楼送别好朋友孟浩然去广陵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图片1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WordArt 3"/>
          <p:cNvSpPr txBox="1"/>
          <p:nvPr/>
        </p:nvSpPr>
        <p:spPr>
          <a:xfrm>
            <a:off x="2895480" y="762120"/>
            <a:ext cx="26672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读正确</a:t>
            </a:r>
            <a:endParaRPr b="0" lang="en-US" sz="4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676520" y="335268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楷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自己读读这首诗。注意读准字音，读通诗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3" descr="457487716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矩形 4"/>
          <p:cNvSpPr/>
          <p:nvPr/>
        </p:nvSpPr>
        <p:spPr>
          <a:xfrm>
            <a:off x="0" y="0"/>
            <a:ext cx="9144000" cy="52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黄鹤楼送孟浩然之广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故人西辞黄鹤楼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烟花三月下扬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孤帆远影碧空尽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唯见长江天际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读诗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黄鹤楼送孟浩然之广陵.mp3" descr=""/>
          <p:cNvPicPr/>
          <p:nvPr/>
        </p:nvPicPr>
        <p:blipFill>
          <a:blip r:embed="rId2"/>
          <a:stretch/>
        </p:blipFill>
        <p:spPr>
          <a:xfrm>
            <a:off x="7315200" y="43434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09:26:46Z</dcterms:created>
  <dc:creator>Administrator</dc:creator>
  <dc:description/>
  <cp:keywords/>
  <dc:language>en-US</dc:language>
  <cp:lastModifiedBy>xm</cp:lastModifiedBy>
  <dcterms:modified xsi:type="dcterms:W3CDTF">2013-12-16T22:27:40Z</dcterms:modified>
  <cp:revision>2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80</vt:lpwstr>
  </property>
  <property fmtid="{D5CDD505-2E9C-101B-9397-08002B2CF9AE}" pid="3" name="Version">
    <vt:r8>1</vt:r8>
  </property>
</Properties>
</file>