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gif" ContentType="image/gif"/>
  <Override PartName="/ppt/media/image18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DC0-CB65-46E9-A1D8-B3507873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F72-BF55-4586-A2E3-CC9A0F5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BA5-6B89-4109-A342-289B5141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ED2-1337-4B5F-BA09-89C5652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BEA9-F3F5-4FEF-B84F-CE935EB6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AB8A-D5E9-4465-87C7-BBA314A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ADDF-BC33-4698-961D-EC198BB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6DFE-C3EA-4506-ADF5-DD9FA2F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8BEF-B6A7-4C3D-8879-5CD84977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E26-6448-4487-AA7B-9658ED2F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8D81-C3B1-48E7-ABA8-CD28F85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79A-CB10-4D78-AF67-2909ED4A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A3BC-23B9-42B2-8534-C2558E8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0406-60D5-448E-974D-9BF1BF2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7A8-DE9D-433D-9C2C-D47F2F78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674F-80A9-4A14-A81B-3DB3C912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48BA-9D65-4F55-B2AF-38C44677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669B-77EB-442B-9848-C06F8275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C0EE-A15C-47B3-AB23-FC769B2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EAC0-36C5-44E6-A84C-2501A38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37DF-07E3-4031-9E62-21A59FD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422E-7812-4942-B266-6FEC171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94B-3E23-4127-9452-B0FB00C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F4AF-9088-495F-B09D-80D9BD1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128B-BBC8-4361-AC6B-3057853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1457-C030-42CC-9E00-017C1CB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B2DF-7CFF-400A-84B2-EA3F2E8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B049-D661-4424-93A1-618EF0CB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91D4-1EF6-4A98-9D79-B15BF5F6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A175-16F6-47AB-8148-F4958D91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6C971-54F5-45D5-8A3F-930AEDFF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917A0-CEBD-40C1-8D2C-D889CA52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FB9F2-180C-48B3-BD0F-74C7F01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562-CDBD-4477-966B-C8E5ACEB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CE3CC-2B67-4BD5-BFDC-F549A26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7A208-1879-4BC8-A851-AAB9D5E2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17019-83D4-45D4-AEB2-3DD6014A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E8FCC-F98C-4778-B12B-64F9CAD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1D743-BD76-4849-B2F1-82FD6CDD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C8DB7-F7D0-465E-B7C7-7707CC2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0B117-0DAE-4E93-A2E1-17373768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300DA-1F0C-4439-B2F5-10BBCFAF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18924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76800" y="17496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0168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18924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76800" y="398052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20FAC-C972-40AA-A903-6A7160FF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48C-A711-4B7A-A60B-6B55FAB5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D9F-3D1B-4E71-AC85-DA4B83D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F69-30EF-476E-B513-B3B0C12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820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ACF-829D-4E4B-B443-32AD3F1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8052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B60-757E-4F61-838A-4CD6CA8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3313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任意多边形 13314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任意多边形 13315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13316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任意多边形 13317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13318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13319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任意多边形 13320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任意多边形 13321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3322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13323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3324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13325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任意多边形 13326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13327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矩形 13328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矩形 13329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矩形 13330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矩形 13331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矩形 13332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矩形 13333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任意多边形 13334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任意多边形 13335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任意多边形 13336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任意多边形 13337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B9C-C856-4288-B804-FE6A142FC7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174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任意多边形 17410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7411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任意多边形 17412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7413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1" name="任意多边形 17414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17415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3" name="任意多边形 17416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任意多边形 17417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任意多边形 17418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17419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17420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任意多边形 17421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7422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0" name="任意多边形 17423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17424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7425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7426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7427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17428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DD9-A2A3-4255-BACD-84B57240F98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1433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8" name="任意多边形 14338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4339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4340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14341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4342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4343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4344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4345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4346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4347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4348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4349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4350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4351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4352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353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4354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4355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4356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4357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4358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14359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4360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14361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14362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14363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4364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14365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4366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4367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14368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14369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14370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14371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4372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4373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4374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4375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4376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377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4378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379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380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381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4382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14383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4384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14385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4386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4387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14388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4389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4390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4391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4392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4393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4394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4395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4396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4397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14398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14399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4400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4401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4402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4403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4404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4405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14406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4407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4408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4409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14410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4411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14412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4413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4414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4415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14416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4417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4418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4419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14420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4421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4422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4423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4424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4425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4426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4427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4428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4429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4430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4431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14432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223" name="任意多边形 14433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14434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14435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14436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4437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14438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4439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4440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14441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14442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14443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14444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14445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4446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4447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448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4449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14450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4451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14452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14453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14454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14455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DC7A-2E47-46FE-869F-7D31B2D61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8433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88" name="任意多边形 18434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18435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任意多边形 18436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1843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2" name="任意多边形 1843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组合 1843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4" name="任意多边形 1844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844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任意多边形 1844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任意多边形 1844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任意多边形 1844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任意多边形 1844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844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1" name="任意多边形 1844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1844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844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845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845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845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D264-9CA5-4D10-B54F-C17B8EAD7F5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ctrip.com/images/resources/0019/39183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images.ctrip.com/images/resources/0016/33836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2051" descr="照片标题：黄鹤楼夕照&#13;&#10;上传网友：fz600701            &#13;&#10;携程推荐：★★&#13;&#10;投票人数：44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49" name="WordArt 4"/>
          <p:cNvSpPr txBox="1"/>
          <p:nvPr/>
        </p:nvSpPr>
        <p:spPr>
          <a:xfrm>
            <a:off x="2627280" y="333360"/>
            <a:ext cx="493704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黄 鹤 楼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50" name="矩形 2055"/>
          <p:cNvSpPr txBox="1"/>
          <p:nvPr/>
        </p:nvSpPr>
        <p:spPr>
          <a:xfrm>
            <a:off x="5508720" y="1989000"/>
            <a:ext cx="1582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崔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51" name="文本框 2056"/>
          <p:cNvSpPr/>
          <p:nvPr/>
        </p:nvSpPr>
        <p:spPr>
          <a:xfrm>
            <a:off x="5435640" y="649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533520" y="16002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仙人乘鹤一去不复返，只余下白云朵朵漂浮不定。作者多想像仙人一样能骑上黄鹤，腾云驾雾，即刻回故乡。承上联进一步写岁月不再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以白云悠悠反衬人生短促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世事茫茫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4"/>
          <p:cNvSpPr/>
          <p:nvPr/>
        </p:nvSpPr>
        <p:spPr>
          <a:xfrm>
            <a:off x="3995640" y="8366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颔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黄鹤一去不复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白云千载空悠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fuchunjia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395280" y="907920"/>
            <a:ext cx="835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描绘了站在黄鹤楼上极目远眺看到的一派生机勃勃的景象。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在黄鹤楼上放眼望去，灿烂的阳光照耀着汉水平原，对岸汉阳镇四周的树木显得格外分明。再看江中的鹦鹉洲绿油油的草儿长得极其茂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眼前的风景如此迷人，但作者觉得“人是家乡好，月是故乡明。”自己家乡此时比这更美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下文的抒情做了铺垫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"/>
          <p:cNvSpPr/>
          <p:nvPr/>
        </p:nvSpPr>
        <p:spPr>
          <a:xfrm>
            <a:off x="179280" y="620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颈联：晴川历历汉阳树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芳草萋萋鹦鹉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533520" y="19051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太阳快下山了，在黄鹤楼上哪里能望到故乡？只觉得眼前的汉水滚滚，烟波浩渺，使人更生思乡之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本句借景抒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用烟波浩渺的长江烘托愁思，抒发漂泊思乡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"/>
          <p:cNvSpPr/>
          <p:nvPr/>
        </p:nvSpPr>
        <p:spPr>
          <a:xfrm>
            <a:off x="1676880" y="189000"/>
            <a:ext cx="48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尾联：日暮乡关何处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烟波江上使人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204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20484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152280" y="380880"/>
            <a:ext cx="8713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全诗借景抒情，抒写了诗人漂泊异地的伤感与思念故乡的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这首诗意境开阔，虚实相映，情景交融，情味悠长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images7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609480" y="2895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、六句写看到的繁荣景象，而七、八两句却写清冷的思乡之情，运用了什么手法？传达了诗人怎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533520" y="4419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前的风景如此迷人，但作者觉得“人是家乡好，月是故乡明。”自己家乡此时比这更美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运用反衬手法，传达出诗人深重的漂泊感以及对家乡的思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762120" y="228600"/>
            <a:ext cx="7848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晴川历历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汉阳树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芳草萋萋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鹦鹉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日暮乡关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何处是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烟波江上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使人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35841" descr="4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35842"/>
          <p:cNvSpPr/>
          <p:nvPr/>
        </p:nvSpPr>
        <p:spPr>
          <a:xfrm>
            <a:off x="179280" y="476280"/>
            <a:ext cx="871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前四句写仙人及仙鹤的传说</a:t>
            </a:r>
            <a:r>
              <a:rPr b="0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抒发世事茫茫的感慨 。后四句抒发日暮思归的情思。</a:t>
            </a:r>
            <a:r>
              <a:rPr b="0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35843"/>
          <p:cNvSpPr/>
          <p:nvPr/>
        </p:nvSpPr>
        <p:spPr>
          <a:xfrm>
            <a:off x="250920" y="1989000"/>
            <a:ext cx="856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诗由传说入笔，写由黄鹤楼而生发的联想，叙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昔人黄鹤，杳然已去，给人以无限渺然的感觉，表现人们登黄鹤楼常有的感受，气势苍莽。后四句转而实写楼上所见所感，并由此引起乡愁。尾联以烟波江上日暮思归之情作结，使诗意重归于开头那种渺茫的境界。这首诗意境开阔，虚实相映，情景交融，情味悠长。</a:t>
            </a: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全诗借景抒情，抒写了诗人漂泊异地的伤感与思念故乡的情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gu29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2362320" y="6858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思乡诗文知多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1619280" y="455400"/>
            <a:ext cx="649116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142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今夜月明人尽望，不知秋思落谁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王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十五夜望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乡书何处达，归雁洛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北固山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此夜曲中闻折柳，何人不起故国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夜洛城闻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露从今夜白，月是故乡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杜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夜忆舍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仍怜故乡水，万里送行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渡荆门送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夕阳西下，断肠人在天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致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净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乡今夜思千里，霜鬓明朝又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45059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根据图示背本诗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44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402" name="矩形 46086"/>
          <p:cNvSpPr/>
          <p:nvPr/>
        </p:nvSpPr>
        <p:spPr>
          <a:xfrm>
            <a:off x="324000" y="189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根据图示背本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图片 46087" descr="20051010193324487"/>
          <p:cNvPicPr/>
          <p:nvPr/>
        </p:nvPicPr>
        <p:blipFill>
          <a:blip r:embed="rId2"/>
          <a:stretch/>
        </p:blipFill>
        <p:spPr>
          <a:xfrm>
            <a:off x="395280" y="549360"/>
            <a:ext cx="201600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文本占位符 3073" descr="U398P1T1D3170994F21DT200404271552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3074"/>
          <p:cNvSpPr/>
          <p:nvPr/>
        </p:nvSpPr>
        <p:spPr>
          <a:xfrm>
            <a:off x="5704560" y="0"/>
            <a:ext cx="286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鹤一去不复返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白云千载空悠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       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崔颢</a:t>
            </a:r>
            <a:r>
              <a:rPr b="0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《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鹤楼</a:t>
            </a:r>
            <a:r>
              <a:rPr b="0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fuchunjiang1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405" name="矩形 47108"/>
          <p:cNvSpPr/>
          <p:nvPr/>
        </p:nvSpPr>
        <p:spPr>
          <a:xfrm>
            <a:off x="324000" y="54936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根据图示背本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70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407" name="矩形 48132"/>
          <p:cNvSpPr/>
          <p:nvPr/>
        </p:nvSpPr>
        <p:spPr>
          <a:xfrm>
            <a:off x="324000" y="1916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根据图示背本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68040" y="694800"/>
            <a:ext cx="903420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柳州下列对《黄鹤楼》的赏析不正确的一项是（　　　）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头四句以传说落笔，巧借今昔变化，抒发了寂寞惆怅之感，气概雄浑，感情真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四句想象在天晴时登楼远眺，由渺不可知的感觉转到晴川草树的景象，文势波澜起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尾联紧承前三联，用烟波浩渺的长江烘托作者的归思，与开头意境相应，情融景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诗起、承、转、合出神入化，文思如行云，富于变化，历来被推崇为题黄鹤楼的绝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2411280" y="1127160"/>
            <a:ext cx="811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图片 37889" descr="照片标题：黄鹤楼夕照&#13;&#10;上传网友：fz600701            &#13;&#10;携程推荐：★★&#13;&#10;投票人数：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73280"/>
            <a:ext cx="4268880" cy="338472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37890"/>
          <p:cNvSpPr/>
          <p:nvPr/>
        </p:nvSpPr>
        <p:spPr>
          <a:xfrm>
            <a:off x="4643280" y="620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隶书"/>
                <a:ea typeface="隶书"/>
              </a:rPr>
              <a:t>上倚河汉   下临江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789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37892" descr="黄鹤楼3"/>
          <p:cNvPicPr/>
          <p:nvPr/>
        </p:nvPicPr>
        <p:blipFill>
          <a:blip r:embed="rId3"/>
          <a:stretch/>
        </p:blipFill>
        <p:spPr>
          <a:xfrm>
            <a:off x="4340160" y="1197000"/>
            <a:ext cx="4803840" cy="56610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37893" descr="46321439"/>
          <p:cNvPicPr/>
          <p:nvPr/>
        </p:nvPicPr>
        <p:blipFill>
          <a:blip r:embed="rId4"/>
          <a:stretch/>
        </p:blipFill>
        <p:spPr>
          <a:xfrm>
            <a:off x="0" y="260280"/>
            <a:ext cx="4067280" cy="325908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37894"/>
          <p:cNvSpPr/>
          <p:nvPr/>
        </p:nvSpPr>
        <p:spPr>
          <a:xfrm>
            <a:off x="2340000" y="0"/>
            <a:ext cx="367200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黄鹤楼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图片 38913" descr="46341517"/>
          <p:cNvPicPr/>
          <p:nvPr/>
        </p:nvPicPr>
        <p:blipFill>
          <a:blip r:embed="rId1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38914" descr="46959841"/>
          <p:cNvPicPr/>
          <p:nvPr/>
        </p:nvPicPr>
        <p:blipFill>
          <a:blip r:embed="rId2"/>
          <a:stretch/>
        </p:blipFill>
        <p:spPr>
          <a:xfrm>
            <a:off x="0" y="0"/>
            <a:ext cx="5257800" cy="371628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38915" descr="照片标题：黄鹤楼中秋夜！&#13;&#10;上传网友：wygr                &#13;&#10;携程推荐：★★&#13;&#10;投票人数：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213000"/>
            <a:ext cx="4643280" cy="3645000"/>
          </a:xfrm>
          <a:prstGeom prst="rect">
            <a:avLst/>
          </a:prstGeom>
          <a:ln w="0">
            <a:noFill/>
          </a:ln>
        </p:spPr>
      </p:pic>
      <p:sp>
        <p:nvSpPr>
          <p:cNvPr id="419" name="文本框 38916"/>
          <p:cNvSpPr/>
          <p:nvPr/>
        </p:nvSpPr>
        <p:spPr>
          <a:xfrm>
            <a:off x="4788000" y="549360"/>
            <a:ext cx="367164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黄鹤楼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993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文本框 39938"/>
          <p:cNvSpPr/>
          <p:nvPr/>
        </p:nvSpPr>
        <p:spPr>
          <a:xfrm>
            <a:off x="3132000" y="333360"/>
            <a:ext cx="367200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黄鹤楼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40961" descr="46752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流程图: 可选过程 40962"/>
          <p:cNvSpPr/>
          <p:nvPr/>
        </p:nvSpPr>
        <p:spPr>
          <a:xfrm>
            <a:off x="3348000" y="5950080"/>
            <a:ext cx="2664000" cy="50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40963"/>
          <p:cNvSpPr/>
          <p:nvPr/>
        </p:nvSpPr>
        <p:spPr>
          <a:xfrm>
            <a:off x="2916360" y="5950080"/>
            <a:ext cx="367164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黄鹤楼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41985"/>
          <p:cNvSpPr/>
          <p:nvPr/>
        </p:nvSpPr>
        <p:spPr>
          <a:xfrm>
            <a:off x="539640" y="404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黄鹤楼只是中华建筑璀璨明珠中的一颗，和它齐名的还有位于湖南省北部具有悠久历史的文化古城岳阳的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岳阳楼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位于江西南昌赣江之滨的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腾王阁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以及位于山东烟台的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蓬莱阁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请大家在课后利用各种媒介去了解和这些建筑相关的文化知识，领略其独特的艺术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41986" descr="hn03"/>
          <p:cNvPicPr/>
          <p:nvPr/>
        </p:nvPicPr>
        <p:blipFill>
          <a:blip r:embed="rId1"/>
          <a:stretch/>
        </p:blipFill>
        <p:spPr>
          <a:xfrm>
            <a:off x="0" y="3068640"/>
            <a:ext cx="2592360" cy="378936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41987" descr="tengwangge"/>
          <p:cNvPicPr/>
          <p:nvPr/>
        </p:nvPicPr>
        <p:blipFill>
          <a:blip r:embed="rId2"/>
          <a:stretch/>
        </p:blipFill>
        <p:spPr>
          <a:xfrm>
            <a:off x="2700360" y="3068640"/>
            <a:ext cx="3025800" cy="378936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41988" descr="蓬莱阁2"/>
          <p:cNvPicPr/>
          <p:nvPr/>
        </p:nvPicPr>
        <p:blipFill>
          <a:blip r:embed="rId3"/>
          <a:stretch/>
        </p:blipFill>
        <p:spPr>
          <a:xfrm>
            <a:off x="5867280" y="2924280"/>
            <a:ext cx="3276720" cy="3933720"/>
          </a:xfrm>
          <a:prstGeom prst="rect">
            <a:avLst/>
          </a:prstGeom>
          <a:ln w="0">
            <a:noFill/>
          </a:ln>
        </p:spPr>
      </p:pic>
      <p:sp>
        <p:nvSpPr>
          <p:cNvPr id="429" name="文本框 41989"/>
          <p:cNvSpPr/>
          <p:nvPr/>
        </p:nvSpPr>
        <p:spPr>
          <a:xfrm>
            <a:off x="140328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岳阳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1990"/>
          <p:cNvSpPr/>
          <p:nvPr/>
        </p:nvSpPr>
        <p:spPr>
          <a:xfrm>
            <a:off x="291636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腾王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1991"/>
          <p:cNvSpPr/>
          <p:nvPr/>
        </p:nvSpPr>
        <p:spPr>
          <a:xfrm>
            <a:off x="615636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蓬莱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图片 43009" descr="岳阳楼（湖南岳阳）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43010" descr="岳阳楼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434" name="文本框 43011"/>
          <p:cNvSpPr/>
          <p:nvPr/>
        </p:nvSpPr>
        <p:spPr>
          <a:xfrm>
            <a:off x="320436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隶书"/>
              </a:rPr>
              <a:t>岳阳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3012"/>
          <p:cNvSpPr/>
          <p:nvPr/>
        </p:nvSpPr>
        <p:spPr>
          <a:xfrm>
            <a:off x="762120" y="51055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3399"/>
                </a:solidFill>
                <a:latin typeface="Times New Roman"/>
              </a:rPr>
              <a:t>位于湖南岳阳，以范仲淹的名篇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0" lang="zh-CN" sz="4000" spc="-1" strike="noStrike">
                <a:solidFill>
                  <a:srgbClr val="ff3399"/>
                </a:solidFill>
                <a:latin typeface="Times New Roman"/>
              </a:rPr>
              <a:t>岳阳楼记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4000" spc="-1" strike="noStrike">
                <a:solidFill>
                  <a:srgbClr val="ff3399"/>
                </a:solidFill>
                <a:latin typeface="Times New Roman"/>
              </a:rPr>
              <a:t>而名闻天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44033"/>
          <p:cNvSpPr/>
          <p:nvPr/>
        </p:nvSpPr>
        <p:spPr>
          <a:xfrm>
            <a:off x="3204360" y="914400"/>
            <a:ext cx="2009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腾王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44034"/>
          <p:cNvSpPr/>
          <p:nvPr/>
        </p:nvSpPr>
        <p:spPr>
          <a:xfrm>
            <a:off x="1600200" y="5181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44035"/>
          <p:cNvSpPr/>
          <p:nvPr/>
        </p:nvSpPr>
        <p:spPr>
          <a:xfrm>
            <a:off x="533520" y="5181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位于江西南昌，因王勃的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《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腾王阁序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》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而著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44036" descr="02"/>
          <p:cNvPicPr/>
          <p:nvPr/>
        </p:nvPicPr>
        <p:blipFill>
          <a:blip r:embed="rId1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44037" descr="t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文本框 6145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563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45061" descr="图片2"/>
          <p:cNvPicPr/>
          <p:nvPr/>
        </p:nvPicPr>
        <p:blipFill>
          <a:blip r:embed="rId1"/>
          <a:stretch/>
        </p:blipFill>
        <p:spPr>
          <a:xfrm>
            <a:off x="3560760" y="0"/>
            <a:ext cx="5583240" cy="487692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45057" descr="蓬莱阁远眺"/>
          <p:cNvPicPr/>
          <p:nvPr/>
        </p:nvPicPr>
        <p:blipFill>
          <a:blip r:embed="rId2"/>
          <a:stretch/>
        </p:blipFill>
        <p:spPr>
          <a:xfrm>
            <a:off x="0" y="0"/>
            <a:ext cx="3419640" cy="486900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45059"/>
          <p:cNvSpPr/>
          <p:nvPr/>
        </p:nvSpPr>
        <p:spPr>
          <a:xfrm>
            <a:off x="2953080" y="333360"/>
            <a:ext cx="8506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蓬莱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5060"/>
          <p:cNvSpPr/>
          <p:nvPr/>
        </p:nvSpPr>
        <p:spPr>
          <a:xfrm>
            <a:off x="395280" y="494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蓬莱阁景区位于胶东半岛最北端，是国家级重点风景名胜区。这里素有“人间仙境”之称，传说蓬莱、方丈、瀛州是海中的三座仙山为神仙居住之所，亦是秦始皇东寻求药、汉武帝御驾访仙之地。广为流传的“八仙过海”神话传说，便源于此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28673" descr="蝶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28674"/>
          <p:cNvSpPr/>
          <p:nvPr/>
        </p:nvSpPr>
        <p:spPr>
          <a:xfrm>
            <a:off x="61128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ff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28675"/>
          <p:cNvSpPr/>
          <p:nvPr/>
        </p:nvSpPr>
        <p:spPr>
          <a:xfrm>
            <a:off x="539640" y="1125360"/>
            <a:ext cx="777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f2b"/>
                </a:solidFill>
                <a:latin typeface="Arial"/>
                <a:ea typeface="楷体_GB2312"/>
              </a:rPr>
              <a:t>唐朝大诗人李白经过武昌，也登上黄鹤楼，放眼楚天，胸襟开阔，诗兴大发，正要提笔写诗时，却见到崔颢的诗，自愧不如，只好说：“眼前有景道不得，崔颢题诗在上头”。崔颢题诗，使李白搁笔，崔颢从此名气大盛。大约黄鹤楼边的“搁笔亭”就是因此而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f2b"/>
                </a:solidFill>
                <a:latin typeface="Arial"/>
                <a:ea typeface="楷体_GB2312"/>
              </a:rPr>
              <a:t>李白十几首诗里都涉及到黄鹤楼。</a:t>
            </a:r>
            <a:r>
              <a:rPr b="1" lang="en-US" sz="2800" spc="-1" strike="noStrike">
                <a:solidFill>
                  <a:srgbClr val="000f2b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f2b"/>
                </a:solidFill>
                <a:latin typeface="Arial"/>
                <a:ea typeface="楷体_GB2312"/>
              </a:rPr>
              <a:t>黄鹤楼送孟浩然之广陵</a:t>
            </a:r>
            <a:r>
              <a:rPr b="0" lang="zh-CN" sz="2800" spc="-1" strike="noStrike">
                <a:solidFill>
                  <a:srgbClr val="000f2b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f2b"/>
                </a:solidFill>
                <a:latin typeface="Arial"/>
              </a:rPr>
              <a:t>》 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故人西辞黄鹤楼，烟花三月下扬州。孤帆远影碧空尽，惟见长江天际流。”</a:t>
            </a:r>
            <a:r>
              <a:rPr b="1" lang="zh-CN" sz="2800" spc="-1" strike="noStrike">
                <a:solidFill>
                  <a:srgbClr val="000f2b"/>
                </a:solidFill>
                <a:latin typeface="仿宋_GB2312"/>
                <a:ea typeface="仿宋_GB2312"/>
              </a:rPr>
              <a:t>　李白的千古绝唱，感情真挚，自然流畅，景色绚丽，神姿昂然，风流天下，传之久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10241" descr="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文本框 10242"/>
          <p:cNvSpPr/>
          <p:nvPr/>
        </p:nvSpPr>
        <p:spPr>
          <a:xfrm>
            <a:off x="2666880" y="5335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cc"/>
                </a:solidFill>
                <a:uFillTx/>
                <a:latin typeface="Times New Roman"/>
                <a:ea typeface="华文新魏"/>
              </a:rPr>
              <a:t>黄鹤楼的地理位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10243"/>
          <p:cNvSpPr/>
          <p:nvPr/>
        </p:nvSpPr>
        <p:spPr>
          <a:xfrm>
            <a:off x="3059280" y="4797360"/>
            <a:ext cx="863280" cy="514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50920" y="33336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611280" y="1916280"/>
            <a:ext cx="8137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在熟读的基础上理解诗歌的主要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体会诗歌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准确流畅地背诵诗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6391"/>
          <p:cNvSpPr/>
          <p:nvPr/>
        </p:nvSpPr>
        <p:spPr>
          <a:xfrm>
            <a:off x="0" y="0"/>
            <a:ext cx="2195640" cy="692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gu9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4500720" y="0"/>
            <a:ext cx="3528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黄鹤楼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崔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824360" y="1341360"/>
            <a:ext cx="431964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昔人已乘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鹤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地空余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鹤一去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复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云千载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晴川历历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汉阳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芳草萋萋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鹦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暮乡关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烟波江上</a:t>
            </a:r>
            <a:r>
              <a:rPr b="1" lang="zh-CN" sz="3200" spc="-1" strike="noStrike">
                <a:solidFill>
                  <a:srgbClr val="e3e3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ound"/>
          <p:cNvSpPr/>
          <p:nvPr/>
        </p:nvSpPr>
        <p:spPr>
          <a:xfrm>
            <a:off x="3203640" y="333360"/>
            <a:ext cx="399960" cy="399960"/>
          </a:xfrm>
          <a:custGeom>
            <a:avLst/>
            <a:gdLst/>
            <a:ahLst/>
            <a:rect l="l" t="t" r="r" b="b"/>
            <a:pathLst>
              <a:path w="21650" h="21655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50" h="21655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50" h="21655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50" h="21655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6390"/>
          <p:cNvSpPr/>
          <p:nvPr/>
        </p:nvSpPr>
        <p:spPr>
          <a:xfrm>
            <a:off x="0" y="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听读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23553"/>
          <p:cNvSpPr/>
          <p:nvPr/>
        </p:nvSpPr>
        <p:spPr>
          <a:xfrm>
            <a:off x="3708360" y="333360"/>
            <a:ext cx="493236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据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报恩录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记载，黄鹤楼原为辛氏开设的酒店，一道士为了感谢她千杯之恩，临行前在壁上画了一只鹤，告之它能下来起舞助兴。从此宾客盈门，生意兴隆。过了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，道士复来，取笛吹奏，并跨上黄鹤直上云天。辛氏为了纪念这位帮她致富的仙翁，便在其地起楼，取名“黄鹤楼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另一说是有一位名叫费祎的人，在黄鹤山中修炼成仙，然后乘黄鹤升天。后来人们为怀念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祎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便在这黄鹤山上建造了一座黄鹤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23554" descr="hhlcj-20050609-4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文本框 23555"/>
          <p:cNvSpPr/>
          <p:nvPr/>
        </p:nvSpPr>
        <p:spPr>
          <a:xfrm>
            <a:off x="-210240" y="189000"/>
            <a:ext cx="1399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美丽的传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4"/>
          <p:cNvSpPr/>
          <p:nvPr/>
        </p:nvSpPr>
        <p:spPr>
          <a:xfrm>
            <a:off x="250920" y="465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黄鹤楼蒙上了一层神秘的色彩，传达出诗人内心的孤寂与苦闷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gu9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374" name="矩形 8"/>
          <p:cNvSpPr/>
          <p:nvPr/>
        </p:nvSpPr>
        <p:spPr>
          <a:xfrm>
            <a:off x="716040" y="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首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9"/>
          <p:cNvSpPr/>
          <p:nvPr/>
        </p:nvSpPr>
        <p:spPr>
          <a:xfrm>
            <a:off x="395280" y="3213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眼前的黄鹤楼阐发联想、想像。昔日仙人乘黄鹤过此，如今人去楼空，令人惆怅。借传说落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叹物是人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2:14:11Z</dcterms:created>
  <dc:creator>微软用户</dc:creator>
  <dc:description/>
  <dc:language>en-US</dc:language>
  <cp:lastModifiedBy>Administrator</cp:lastModifiedBy>
  <dcterms:modified xsi:type="dcterms:W3CDTF">2017-09-01T12:33:3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