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3.png" ContentType="image/png"/>
  <Override PartName="/ppt/media/image45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55.jpeg" ContentType="image/jpeg"/>
  <Override PartName="/ppt/media/image44.png" ContentType="image/pn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BB7-C76A-48EA-AB86-E66D8344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CD2-7FC4-4D3F-BF2D-4EBD357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CDF-ABB8-43AB-B557-3CD87377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058-6EEE-4C5D-ABE0-E0228C06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6B9-92ED-48B5-B753-0A1CF4F4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114-9145-4B57-8C86-F71B78E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151-3F17-448F-A27A-58F7CC2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CB8-53EF-47BC-B4EF-B4929107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EB2-FBB2-4BC2-B56D-C98027F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17-9A06-4C9B-AE63-FD8A96F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549-3711-413B-A3B9-EB6E236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720-D566-4BE6-B81A-3C0C903F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007B-486B-4C03-ADC9-3E0B341AA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ctrip.com/images/resources/0029/588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chutianlaser.com/products/ctlzhujian/huanghelougualianda.htm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ctrip.com/images/resources/0017/34946.jpg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1.xm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ctrip.com/images/resources/0019/39183.jpg" TargetMode="External"/><Relationship Id="rId2" Type="http://schemas.openxmlformats.org/officeDocument/2006/relationships/image" Target="../media/image16.jpeg"/><Relationship Id="rId3" Type="http://schemas.openxmlformats.org/officeDocument/2006/relationships/slide" Target="slide11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images.ctrip.com/images/resources/0016/33836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照片标题：风雨黄鹤楼&#13;&#10;上传网友：magroad             &#13;&#10;携程推荐：★★&#13;&#10;投票人数：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2708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仿宋_GB2312"/>
              </a:rPr>
              <a:t>崔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620640"/>
            <a:ext cx="61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黄 鹤 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981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  “</a:t>
            </a:r>
            <a:r>
              <a:rPr b="1" lang="zh-CN" sz="32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遥望中原，荒烟外，许多城郭。想当年、花遮柳护，凤楼龙阁。万岁山前珠翠绕，蓬壶殿里笙歌作。而今铁骑满郊 ，风尘恶！兵安在？膏锋锷，民安在？填沟壑。叹江山如故，千村寥落。何日请缨提锐旅？一鞭直渡清河洛！却归来再续汉阳游，骑黄鹤。”</a:t>
            </a:r>
            <a:r>
              <a:rPr b="1" lang="zh-CN" sz="36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南宋爱国将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岳飞</a:t>
            </a:r>
            <a:r>
              <a:rPr b="1" lang="zh-CN" sz="36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登楼抒怀，抚剑请缨，抗击强盗，重整山河，壮怀激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60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1125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茫茫九派流中国，沉沉一线穿南北。烟雨莽苍苍，龟蛇锁大江。　黄鹤知何去，剩有游人处。把酒酎滔滔，心潮逐浪高。”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7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春，风云紧急，中国革命处在危急关头。毛泽东亲临此地，倚危把酒，怀古思今，心潮难平，写下此诗。面对乱石崩云、惊涛扑岸的局面，他以无比坚定的信念，高瞻远瞩的目光，宽广恢宏的气度，纵览时局，预见革命高潮的必将重新来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60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ff33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5335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cc"/>
                </a:solidFill>
                <a:uFillTx/>
                <a:latin typeface="Times New Roman"/>
                <a:ea typeface="华文新魏"/>
              </a:rPr>
              <a:t>黄鹤楼的地理位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797360"/>
            <a:ext cx="863280" cy="514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98360" y="0"/>
            <a:ext cx="3545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黄鹤楼的命名由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白云黄鹤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268280"/>
            <a:ext cx="79311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cc"/>
                </a:solidFill>
                <a:latin typeface="仿宋_GB2312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东吴黄武二年（公元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23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），东吴主孙权下令“城江夏山”，也就是下令在武昌江边倚着蛇山建一座城池。当时，孙权的主要对手曹操与东吴隔江而制。因此，长江天险的防守对东吴来说非常重要。为了随时掌握江上的情况，在修建武昌城的时候，还在沿江一处叫做黄鹄矶的地方修建了一座望楼。这座望楼，就是黄鹤楼的雏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随着历史的演变，黄鹤楼逐渐失去了它的军事价值，而成为人们饮酒消遣，欣赏风景的好去处。在一千七百多年的漫长历史中，黄鹤楼可以说是饱经沧桑，受尽磨难。它先后十余次毁于战乱，或意外失火。先后十余次被毁，又十余次被重建。黄鹤楼最后一次被毁是在公元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84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最后一次重建是在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1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动工，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4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建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3336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黄鹤楼的历史沿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529080" cy="284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照片标题：黄鹤楼：江城五月落梅花&#13;&#10;上传网友：fanlu123456         &#13;&#10;携程推荐：★★&#13;&#10;投票人数：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0280"/>
            <a:ext cx="3657600" cy="309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333360"/>
            <a:ext cx="4716360" cy="6120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33360"/>
            <a:ext cx="367200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《黄鹤楼》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照片标题：黄鹤楼夕照&#13;&#10;上传网友：fz600701            &#13;&#10;携程推荐：★★&#13;&#10;投票人数：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3280"/>
            <a:ext cx="426888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4328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隶书"/>
                <a:ea typeface="隶书"/>
              </a:rPr>
              <a:t>上倚河汉   下临江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0160" y="1197000"/>
            <a:ext cx="4803840" cy="566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4067280" cy="325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43280" y="260280"/>
            <a:ext cx="367200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《黄鹤楼》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71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照片标题：黄鹤楼中秋夜！&#13;&#10;上传网友：wygr                &#13;&#10;携程推荐：★★&#13;&#10;投票人数：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88000" y="549360"/>
            <a:ext cx="367164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《黄鹤楼》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32000" y="333360"/>
            <a:ext cx="367200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《黄鹤楼》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8000" y="5950080"/>
            <a:ext cx="266400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950080"/>
            <a:ext cx="3671640" cy="5205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《黄鹤楼》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04640"/>
            <a:ext cx="77216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黄鹤楼，屹立在武汉市长江大桥武昌桥头的黄鹤矶上。始建于三国吴黄武二年（公元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。它背靠蛇山，俯瞰长江，奇姿雕甍，重檐翼舒，气势轩昂宏伟，耸天峭地。远远望去，峥嵘的楼影隐现于缥缈的烟霭之中，壮丽辉煌，宛如仙宫琼殿，自古就有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天下绝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之誉，曾与湖南的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岳阳楼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江西的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滕王阁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称为我国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江南三大名楼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历代文人墨客登楼吟诗作赋，畅抒情怀，留传至今的诗词逾千首，文赋过百篇，且有多如珠玑的神话传说散落民间。现今的“黄鹤楼”景区，时逢盛世，规制超前，是由主楼、白云阁、岳飞广场、千禧吉祥钟、古乐宫、诗碑廊、南楼等大小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处景点组成的融人文与自然景观为一体的风景名胜区，为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全国旅游胜地四十佳”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126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鹤楼内部，层层风格不相同。底层为一高大宽敞的大厅，其正中藻井高达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米，正面壁上为一幅巨大的“白云黄鹤”陶瓷壁画，两旁立柱上悬挂着长达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楹联： 爽气西来，云雾扫开天地撼；大江东去，波涛洗净古今愁。二楼大厅正面墙上，有用大理石镌刻的唐代阎伯瑾撰写的《黄鹤楼记》，它记述了黄鹤楼兴废沿革和名人轶事；楼记两侧为两幅壁画，一幅是“孙权筑城”，形象地说明黄鹤楼和武昌城相继诞生的历史；另一幅是“周瑜设宴”，反映三国名人去黄鹤楼的活动。三楼大厅的壁画为唐宋名人的“绣像画”，如崔颢、李白、白居易等，也摘录了他们吟咏黄鹤楼的名句。四楼大厅用屏风分割几个小厅，内置当代名人字画，供游客欣赏、选购。顶层大厅有《长江万里图》等长卷、壁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6600"/>
                </a:solidFill>
                <a:uFillTx/>
                <a:latin typeface="Times New Roman"/>
                <a:ea typeface="华文新魏"/>
              </a:rPr>
              <a:t>黄鹤楼的内部装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56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097080" cy="264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63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3059280" cy="242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843280" y="2565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16360" y="5157720"/>
            <a:ext cx="3024000" cy="1081080"/>
          </a:xfrm>
          <a:prstGeom prst="cloudCallout">
            <a:avLst>
              <a:gd name="adj1" fmla="val -61023"/>
              <a:gd name="adj2" fmla="val -160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历代黄鹤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404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黄鹤楼只是中华建筑璀璨明珠中的一颗，和它齐名的还有位于湖南省北部具有悠久历史的文化古城岳阳的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岳阳楼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位于江西南昌赣江之滨的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腾王阁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以及位于山东烟台的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蓬莱阁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请大家在课后利用各种媒介去了解和这些建筑相关的文化知识，领略其独特的艺术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592360" cy="378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700360" y="3068640"/>
            <a:ext cx="3025800" cy="378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2924280"/>
            <a:ext cx="3276720" cy="3933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岳阳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腾王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蓬莱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《岳阳楼记》而名闻天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181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《腾王阁序》而著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486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53080" y="333360"/>
            <a:ext cx="8506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蓬莱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蓬莱阁景区位于胶东半岛最北端，是国家级重点风景名胜区。这里素有“人间仙境”之称，传说蓬莱、方丈、瀛州是海中的三座仙山为神仙居住之所，亦是秦始皇东寻求药、汉武帝御驾访仙之地。广为流传的“八仙过海”神话传说，便源于此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846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19640" y="836640"/>
            <a:ext cx="352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鹤楼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唐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崔颢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3860640"/>
            <a:ext cx="698508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黄鹤一去不复返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, 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白云千载空悠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晴川历历汉阳树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, 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芳草萋萋鹦鹉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日暮乡关何处是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, </a:t>
            </a: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烟波江上使人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2924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（七言律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40464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崔颢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汴州（开封）人氏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公元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？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5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）唐玄宗开元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（公元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2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）进士。他才思敏捷，长于写诗，系盛唐诗人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旧唐书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苑传》把他和王昌龄、高适、孟浩然并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他宦海浮沉，终不得志。历史上对他的记述不多，故里汴州也很少有关他的传说和故事流传下来，旧《唐书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崔颢传》里非常简略，连他文学上的成就也未提及 。以《黄鹤楼》诗，颇令李白折服。从诗意看，崔颢还是思念故乡，并有回乡归隐、急流勇退之意的。然终因他功名心切，仍然回到长安，死于唐天宝十三年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5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），未得返回故里。这可能正是崔颢的故事在开封流传不多的主要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549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写作背景</a:t>
            </a: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1970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唐代诗人崔颢游宦到了湖北武昌的黄鹤楼有感而作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492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写景</a:t>
            </a: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068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描写了在黄鹤楼头俯视长江两岸所见景色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64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抒情</a:t>
            </a:r>
            <a:r>
              <a:rPr b="0" lang="zh-CN" sz="3200" spc="-1" strike="noStrike">
                <a:solidFill>
                  <a:srgbClr val="99ff33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414972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作者感叹仙人骑鹤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人去楼空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悠悠千载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於是抚今追昔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有世事沧桑 的感慨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并因日暮而生思乡之情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477720"/>
            <a:ext cx="7343640" cy="547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8039"/>
                </a:srgbClr>
              </a:gs>
              <a:gs pos="100000">
                <a:srgbClr val="808080">
                  <a:alpha val="84313"/>
                </a:srgbClr>
              </a:gs>
            </a:gsLst>
            <a:lin ang="13500000"/>
          </a:gradFill>
          <a:ln w="9360">
            <a:solidFill>
              <a:srgbClr val="0066ff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5904000" cy="453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948360" y="1339920"/>
            <a:ext cx="1368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你</a:t>
            </a:r>
            <a:endParaRPr b="1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会</a:t>
            </a:r>
            <a:endParaRPr b="1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吗</a:t>
            </a:r>
            <a:endParaRPr b="1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916280"/>
            <a:ext cx="45720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根据书下注释翻译整首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勾画重点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明白诗人所要表达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28040" y="990720"/>
            <a:ext cx="2009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黄鹤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472428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66"/>
                </a:solidFill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993366"/>
                </a:solidFill>
                <a:latin typeface="华文新魏"/>
                <a:ea typeface="华文新魏"/>
              </a:rPr>
              <a:t>位于湖北武汉，历代名士崔颢、李白、白居易、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新魏"/>
              </a:rPr>
              <a:t>孟浩然、王维、杜牧、</a:t>
            </a:r>
            <a:r>
              <a:rPr b="1" lang="zh-CN" sz="3200" spc="-1" strike="noStrike">
                <a:solidFill>
                  <a:srgbClr val="993366"/>
                </a:solidFill>
                <a:latin typeface="华文新魏"/>
                <a:ea typeface="华文新魏"/>
              </a:rPr>
              <a:t>贾岛、陆游、杨慎、张居正等都先后到这里游乐，吟诗作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320" y="2272320"/>
            <a:ext cx="4952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注解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黄鹤楼：故址在湖北武昌县，民国初年被火焚毁，传说古代有一位名叫费文的仙人，在此乘鹤登仙。也有人作昔人已乘白云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悠悠：久远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历历：清晰、分明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鹦鹉洲：在湖北省武昌县西南，根据后汉书记载，汉黄祖担任江夏太守时，在此大宴宾客，有人献上鹦鹉，故称鹦鹉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465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85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仙人已经乘着黄鹤离去，只徒然留下一栋黄鹤楼在此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6760" y="1515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754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黄鹤一去不复返，白云千载空悠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305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晴川历历汉阳树，芳草萋萋鹦鹉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844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日暮乡关何处是？烟波江上使人愁。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376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黄鹤离去之后再也没有回来过，而白云千年以来依然飘浮在空中，不因黄鹤离去而有所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76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晴天里，汉阳一带川旁的树木清晰可见，鹦鹉洲上也长满茂盛的芳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65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傍晚时分在暮色中望向远处，看不清故乡在何，远方江上苍茫的江波真使人发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联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昔人已乘黄鹤去，此地空余黄鹤楼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眼前的黄鹤楼阐发联想、想像。昔日仙人乘黄鹤过此，如今人去楼空，令人惆怅。借传说落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叹物是人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24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颔联：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黄鹤一去不复返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白云千载空悠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人乘鹤一去不复返，只余下白云朵朵漂浮不定。作者多想像仙人一样能骑上黄鹤，腾云驾雾，即刻回故乡。承上联进一步写岁月不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白云悠悠反衬人生短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事茫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47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颈联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晴川历历汉阳树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芳草萋萋鹦鹉洲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黄鹤楼前实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描绘了站在黄鹤楼上极目远眺看到的一派生机勃勃的景象。在黄鹤楼上放眼望去，灿烂的阳光照耀着汉水平原，对岸汉阳镇四周的树木显得格外分明。再看江中的鹦鹉洲绿油油的草儿长得极其茂盛。眼前的风景如此迷人，但作者似觉得“人是家乡好，月是故乡明。”自己家乡此时比这更美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另外这句又是对仗工整的对偶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191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尾联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日暮乡关何处是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烟波江上使人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快下山了，在黄鹤楼上哪里能望到故乡。只觉得眼前的汉水滚滚，烟波浩渺，使人更生思乡之愁。本句点题。借景抒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日暮途远抒发漂泊怀乡之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23137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黄鹤楼是著名古迹，且有费祎在此登仙的传说，因此登上黄鹤楼就不能不令人首先想起这一美丽而凄伤的神话。昔人即指费祎。昔人已乘黄鹤登仙而去，而且是一去不复返了，这里只留下了一座空荡荡的黄鹤楼，以及那楼的上空终日飘浮无所依归的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何等凄冷！昔人登仙，固是幸事，然今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之凄凉，则不能不令人感伤不已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前四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两用“去”字，意在借那已逝的往昔，以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托自身之孤独凄凉，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四句一气呵成，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古调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既写出甫一登楼自然而生的感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又借传说为诗境涂上神奇的色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诗人在前四句用了什么手法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达了怎样的感情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05440" y="3505320"/>
            <a:ext cx="2338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9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五、六句描写登楼所见实景，意思是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晴天里，汉阳一带川旁的树木清晰可见，鹦鹉洲上也长满茂盛的芳草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汉阳与黄鹤楼隔江相望，所以景物历历在目，鹦鹉洲在汉阳西南长江之中，因此这两句不是单纯的写景，而是为下文抒发思乡之情作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本诗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句在写作手法上有什么变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这两句诗句在全诗中有何作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91120" y="4876920"/>
            <a:ext cx="4952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3576600"/>
            <a:ext cx="3384720" cy="335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幼圆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幼圆"/>
              </a:rPr>
              <a:t>诗人在诗的末尾两句抒发了怎样的情感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781280"/>
            <a:ext cx="8839080" cy="3492000"/>
            <a:chOff x="228600" y="1781280"/>
            <a:chExt cx="8839080" cy="3492000"/>
          </a:xfrm>
        </p:grpSpPr>
        <p:sp>
          <p:nvSpPr>
            <p:cNvPr id="167" name=""/>
            <p:cNvSpPr/>
            <p:nvPr/>
          </p:nvSpPr>
          <p:spPr>
            <a:xfrm>
              <a:off x="228600" y="1781280"/>
              <a:ext cx="8610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       </a:t>
              </a: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诗人在最后两句写到日暮时分，江上烟波浩渺，暮霭苍茫，视线阻隔，家乡不见，更增旅人思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3838680"/>
              <a:ext cx="5562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情怀</a:t>
              </a: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,</a:t>
              </a: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诗境亦被推至极度苍莽空阔</a:t>
              </a: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,</a:t>
              </a:r>
              <a:r>
                <a:rPr b="1" lang="zh-CN" sz="4400" spc="-1" strike="noStrike">
                  <a:solidFill>
                    <a:srgbClr val="a50021"/>
                  </a:solidFill>
                  <a:latin typeface="Arial"/>
                  <a:ea typeface="隶书"/>
                </a:rPr>
                <a:t>抒发了诗人强烈的思乡情怀。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**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前四句写仙人及仙鹤的传说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抒发世事茫茫的感慨 。</a:t>
            </a:r>
            <a:br>
              <a:rPr sz="3600"/>
            </a:b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**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后四句抒发日暮思归的情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285264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诗由传说入笔，写由黄鹤楼而生发的联想，叙昔人黄鹤，杳然已去，给人以无限渺然的感觉，表现人们登黄鹤楼常有的感受，气势苍莽。后四句转而实写楼上所见所感，并由此引起乡愁。尾联以烟波江上日暮思归之情作结，使诗意重归于开头那种渺茫的境界。这首诗意境开阔，虚实相映，情景交融，情味悠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2205000"/>
            <a:ext cx="1224000" cy="70344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3218760"/>
            <a:ext cx="7391520" cy="131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190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诗人描写了登黄鹤楼的所见所感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作者从仙人乘黄鹤来此游憩的美丽神话，点出黄鹤楼，接着由仙人已离去，永远不再回来，只留下黄鹤楼及晴川、芳草、汉阳树、鹦鹉洲，与白云共悠悠千载，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抒发了怀念家乡的愁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8088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隶书"/>
              </a:rPr>
              <a:t>主  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4400" y="27244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【评析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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这首诗是吊古怀乡之佳作。诗人登临古迹黄鹤楼，泛览眼前景物，即景而生情，诗兴大作，脱口而出，一泻千里。既自然宏丽，又饶有风骨。诗虽不协律，但音节浏亮而不拗口。真是信手而就，一气呵成，成为历代所推崇的珍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传说李白登此楼，目睹此诗，大为折服。说：“眼前有景道不得，崔颢题诗在上头。”严沧浪也说唐人七言律诗，当以此为第一。足见诗贵自然，纵使格律诗也无不如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1323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诗由神话传说起笔，对神话的吟诵传达了诗人什么样的心情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85440" y="2590200"/>
            <a:ext cx="6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传达了诗人思乡怀土的思想感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627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暮”（时间）和“烟波江上”（景致）与诗人表达的情感有没有内在的联系？不妨谈谈的理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393520"/>
            <a:ext cx="79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有，更加突出了诗人的怀乡思土之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8120" y="3808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4085280"/>
            <a:ext cx="85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诗人满怀对黄鹤楼的美好憧憬慕名前来，可仙人驾鹤杳无踪迹，鹤去楼空，眼前就是一座寻常可见的江楼。“昔人已乘黄鹤去，此地空余黄鹤楼。”美好憧憬与寻常江楼的落差，在诗人心中布上了一层怅然若失的底色，为乡愁情结的抒发作了潜在的铺垫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4770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诗人登上黄鹤楼，极目远望，看到的是一幅什么样的画面？诗人描绘这样的画面表达了怎样的情怀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8120" y="38088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2590920" y="2057400"/>
            <a:ext cx="245736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333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060640"/>
            <a:ext cx="7490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唐代诗人崔颢的题咏，使黄鹤楼赢得“天下江山第一楼”的美誉。《黄鹤楼》这首诗运用了优美的神话传说，写出黄鹤楼的来历、登楼所见以及触景生情引起的乡愁。宋代人把这首诗推为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唐人七律第一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ff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2536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唐朝大诗人李白经过武昌，也登上黄鹤楼，放眼楚天，胸襟开阔，诗兴大发，正要提笔写诗时，却见到崔颢的诗，自愧不如，只好说：“眼前有景道不得，崔颢题诗在上头”。崔颢题诗，使李白搁笔，崔颢从此名气大盛。大约黄鹤楼边的“搁笔亭”就是因此而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白十几首诗里都涉及到黄鹤楼。《黄鹤楼送孟浩然之广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》 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“故人西辞黄鹤楼，烟花三月下扬州。孤帆远影碧空尽，惟见长江天际流。”　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白的千古绝唱，感情真挚，自然流畅，景色绚丽，神姿昂然，风流天下，传之久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043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仿宋_GB2312"/>
                <a:ea typeface="仿宋_GB2312"/>
              </a:rPr>
              <a:t>此外，李白还有“黄鹤西楼月，长江万里情”，“一忝青云客，三登黄鹤楼”，“黄鹤楼中吹玉笛，江城五月落梅花”，“仙人有待乘黄鹤，海客无心随白鸥”等诗句，都反映了诗人对黄鹤楼的眷恋之情。不过，他专写黄鹤楼的诗确实没有。这大约正是由于崔颢的诗写的太好的缘故吧。据说李白受崔颢这首诗的影响，写了一首《登金陵凤凰台》，以同《黄鹤楼》一较胜负。        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“凤凰台上凤凰游，风去台空江自流。             吴宫花草埋幽径，晋代衣冠成古丘。 　　 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三山半落晴天外，二水中分白鸳洲。 　　 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总为浮云能蔽日，长安不见使人愁。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　 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365720"/>
            <a:ext cx="2089080" cy="459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</a:rPr>
              <a:t>这两首诗在唐朝描写景物的诗里，的确可以互相媲美，也都堪称佳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981000"/>
            <a:ext cx="792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仿宋_GB2312"/>
              </a:rPr>
              <a:t>孟浩然的《鹦鹅洲送王九之江左》，就是一首写站在黄鹤楼上遥望鹦鹅洲景色的诗。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仿宋_GB2312"/>
              </a:rPr>
              <a:t>杜牧写黄鹤楼一诗的最后两句是：“黄鹤楼前春水阔，一杯还忆故人无？”这是诗人为送友人去夏口（今武昌）而作的。他提醒友人到了夏口登临黄鹤楼，面对满江春水畅饮时，别忘了他这位旧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　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唐开元九年（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721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年），状元王维在他的《送康太守》一诗中最早直接出现了黄鹤楼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字。“城下沧江水，江边黄鹤楼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60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1125360"/>
            <a:ext cx="720108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808000"/>
                </a:solidFill>
                <a:latin typeface="仿宋_GB2312"/>
                <a:ea typeface="仿宋_GB2312"/>
              </a:rPr>
              <a:t>贾岛《黄鹤楼》“青山万古长如旧，黄鹤何年去不归？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808000"/>
                </a:solidFill>
                <a:latin typeface="仿宋_GB2312"/>
                <a:ea typeface="仿宋_GB2312"/>
              </a:rPr>
              <a:t>陆游 “苍龙阙角归何晚，黄鹤楼中醉不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808000"/>
                </a:solidFill>
                <a:latin typeface="仿宋_GB2312"/>
                <a:ea typeface="仿宋_GB2312"/>
              </a:rPr>
              <a:t>刘禹锡 “梦觉疑连榻，舟行忽千里。不见黄鹤楼，寒沙雪相似。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60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诗词中的黄鹤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3:17:25Z</dcterms:created>
  <dc:creator>钓者心语</dc:creator>
  <dc:description/>
  <dc:language>en-US</dc:language>
  <cp:lastModifiedBy>微软用户</cp:lastModifiedBy>
  <dcterms:modified xsi:type="dcterms:W3CDTF">2017-07-17T00:14:11Z</dcterms:modified>
  <cp:revision>32</cp:revision>
  <dc:subject/>
  <dc:title>黄鹤楼</dc:title>
</cp:coreProperties>
</file>