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6F053-875F-425F-981B-46BE8DC13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2F070-18AC-4A2E-9F37-32069D16C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3CE5B-5E08-4C90-B540-DD4375037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02669-D795-48F4-A272-9DFC87A98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2BD3B-1DA7-4D64-820D-C48D000F5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238ED-D6CB-4DF8-876C-D33E53C37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C5A6B-34A8-4776-8722-6D3061327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52640-C828-4067-8DF2-00C4FBC56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33E16-F26B-4A65-B722-46B51D811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11873-0460-4E1A-8DC8-7B8F4EDBC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AB5C7-A1A1-434C-AA33-49ADC8D10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99686-52E2-428D-BD5C-97A177006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C7346-DEEF-46CF-8B04-EF64D431841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4.png"/><Relationship Id="rId3" Type="http://schemas.openxmlformats.org/officeDocument/2006/relationships/image" Target="../media/image8.png"/><Relationship Id="rId4" Type="http://schemas.openxmlformats.org/officeDocument/2006/relationships/slide" Target="slide9.xml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4.png"/><Relationship Id="rId3" Type="http://schemas.openxmlformats.org/officeDocument/2006/relationships/image" Target="../media/image9.jpeg"/><Relationship Id="rId4" Type="http://schemas.openxmlformats.org/officeDocument/2006/relationships/slide" Target="slide8.xml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31.xml"/><Relationship Id="rId3" Type="http://schemas.openxmlformats.org/officeDocument/2006/relationships/slide" Target="slide32.xml"/><Relationship Id="rId4" Type="http://schemas.openxmlformats.org/officeDocument/2006/relationships/slide" Target="slide33.xml"/><Relationship Id="rId5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270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356000" y="1989000"/>
            <a:ext cx="3097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送 别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0" y="0"/>
            <a:ext cx="9144000" cy="678600"/>
          </a:xfrm>
          <a:prstGeom prst="rect">
            <a:avLst/>
          </a:prstGeom>
          <a:solidFill>
            <a:srgbClr val="ffffff">
              <a:alpha val="5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、李白和孟浩然一会儿仰望蓝天白云，一会儿远眺江上景色，都有意不去触动藏在心底的依依惜别之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0" y="1916280"/>
            <a:ext cx="9144000" cy="581400"/>
          </a:xfrm>
          <a:prstGeom prst="rect">
            <a:avLst/>
          </a:prstGeom>
          <a:solidFill>
            <a:srgbClr val="ffffff">
              <a:alpha val="5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、白帆随着江风渐渐远去，消失在天的尽头。李白依然伫立在江边，凝视着远方，只见一江春水浩浩荡荡地流向天边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0" y="0"/>
            <a:ext cx="9144000" cy="1810440"/>
          </a:xfrm>
          <a:prstGeom prst="rect">
            <a:avLst/>
          </a:prstGeom>
          <a:solidFill>
            <a:srgbClr val="ffffff">
              <a:alpha val="5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   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、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终于，李白举起了酒杯说：“孟夫子，您的人品令人敬仰，您的诗篇誉满天下。自从我结识了您，就一直把您当作我的兄长和老师。今天您就要顺江东下，前往扬州，不知我们何时才能再见面，就请您满饮此杯吧！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   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、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孟浩然接过酒杯，一饮而尽，然后说道：“王勃说得好，‘海内存知己，天涯若比邻。’虽然我们暂时分别了，我们的友谊却像这长江的波涛永世不绝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15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4500720" y="0"/>
            <a:ext cx="4643280" cy="68580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2771640" y="1268280"/>
            <a:ext cx="54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796000" y="5950080"/>
            <a:ext cx="2050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0" y="40464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  <a:ea typeface="楷体_GB2312"/>
              </a:rPr>
              <a:t>暮春三月，长江边烟雾迷蒙，繁花似锦，年轻的李白正在黄鹤楼上为大诗人孟浩然饯行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0" y="40464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771640" y="1268280"/>
            <a:ext cx="54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796000" y="5950080"/>
            <a:ext cx="2050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47628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      </a:t>
            </a:r>
            <a:r>
              <a:rPr b="1" lang="zh-CN" sz="40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暮春三月，长江边烟雾迷蒙，繁花似锦</a:t>
            </a:r>
            <a:r>
              <a:rPr b="1" lang="zh-CN" sz="40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,</a:t>
            </a:r>
            <a:r>
              <a:rPr b="1" lang="zh-CN" sz="4000" spc="-1" strike="noStrike" u="sng">
                <a:solidFill>
                  <a:srgbClr val="333399"/>
                </a:solidFill>
                <a:uFillTx/>
                <a:latin typeface="楷体_GB2312"/>
                <a:ea typeface="楷体_GB2312"/>
              </a:rPr>
              <a:t>　　　 </a:t>
            </a:r>
            <a:r>
              <a:rPr b="1" lang="zh-CN" sz="40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，</a:t>
            </a:r>
            <a:r>
              <a:rPr b="1" lang="zh-CN" sz="4000" spc="-1" strike="noStrike" u="sng">
                <a:solidFill>
                  <a:srgbClr val="333399"/>
                </a:solidFill>
                <a:uFillTx/>
                <a:latin typeface="楷体_GB2312"/>
                <a:ea typeface="楷体_GB2312"/>
              </a:rPr>
              <a:t>　　　  </a:t>
            </a:r>
            <a:r>
              <a:rPr b="1" lang="zh-CN" sz="40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，年轻的李白正在</a:t>
            </a:r>
            <a:r>
              <a:rPr b="1" lang="zh-CN" sz="4000" spc="-1" strike="noStrike" u="sng">
                <a:solidFill>
                  <a:srgbClr val="333399"/>
                </a:solidFill>
                <a:uFillTx/>
                <a:latin typeface="楷体_GB2312"/>
                <a:ea typeface="楷体_GB2312"/>
              </a:rPr>
              <a:t>　　　　　</a:t>
            </a:r>
            <a:r>
              <a:rPr b="1" lang="zh-CN" sz="40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的黄鹤楼上为大诗人孟浩然饯行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2700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1" name=""/>
          <p:cNvGraphicFramePr/>
          <p:nvPr/>
        </p:nvGraphicFramePr>
        <p:xfrm>
          <a:off x="4114440" y="2895480"/>
          <a:ext cx="762120" cy="1676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440" y="2895480"/>
                    <a:ext cx="762120" cy="167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2700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4" name=""/>
          <p:cNvGraphicFramePr/>
          <p:nvPr/>
        </p:nvGraphicFramePr>
        <p:xfrm>
          <a:off x="4211280" y="2781360"/>
          <a:ext cx="762120" cy="1676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211280" y="2781360"/>
                    <a:ext cx="762120" cy="167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2700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7" name=""/>
          <p:cNvGraphicFramePr/>
          <p:nvPr/>
        </p:nvGraphicFramePr>
        <p:xfrm>
          <a:off x="4427280" y="2637000"/>
          <a:ext cx="547560" cy="1584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427280" y="2637000"/>
                    <a:ext cx="547560" cy="158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2700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0" name=""/>
          <p:cNvGraphicFramePr/>
          <p:nvPr/>
        </p:nvGraphicFramePr>
        <p:xfrm>
          <a:off x="4788000" y="2349360"/>
          <a:ext cx="403200" cy="1584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788000" y="2349360"/>
                    <a:ext cx="403200" cy="158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2700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3" name=""/>
          <p:cNvGraphicFramePr/>
          <p:nvPr/>
        </p:nvGraphicFramePr>
        <p:xfrm>
          <a:off x="5076360" y="2205000"/>
          <a:ext cx="358920" cy="1368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076360" y="2205000"/>
                    <a:ext cx="358920" cy="13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270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611280" y="333360"/>
            <a:ext cx="82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、折柳送别：“柳、留”同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700280"/>
            <a:ext cx="9144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   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无名氏《送别》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        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柳枝折尽花飞尽，借问行人归不归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1844640"/>
            <a:ext cx="860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、饮酒送别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00000" y="2492280"/>
            <a:ext cx="792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楷体_GB2312"/>
              </a:rPr>
              <a:t>王维《渭城曲》：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______,______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3213000"/>
            <a:ext cx="748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、赠诗送别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971640" y="4149720"/>
            <a:ext cx="73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李白《赠汪伦》：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______,______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5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9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xit" presetID="3" presetSubtype="10">
                                  <p:stCondLst>
                                    <p:cond delay="300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2700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6" name=""/>
          <p:cNvGraphicFramePr/>
          <p:nvPr/>
        </p:nvGraphicFramePr>
        <p:xfrm>
          <a:off x="5435640" y="1916280"/>
          <a:ext cx="288720" cy="1152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435640" y="1916280"/>
                    <a:ext cx="288720" cy="115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2700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9" name=""/>
          <p:cNvGraphicFramePr/>
          <p:nvPr/>
        </p:nvGraphicFramePr>
        <p:xfrm>
          <a:off x="5867280" y="1700280"/>
          <a:ext cx="144720" cy="100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867280" y="1700280"/>
                    <a:ext cx="144720" cy="10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2700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2" name=""/>
          <p:cNvGraphicFramePr/>
          <p:nvPr/>
        </p:nvGraphicFramePr>
        <p:xfrm>
          <a:off x="6011640" y="1557360"/>
          <a:ext cx="215640" cy="863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11640" y="1557360"/>
                    <a:ext cx="215640" cy="8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2700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5" name=""/>
          <p:cNvGraphicFramePr/>
          <p:nvPr/>
        </p:nvGraphicFramePr>
        <p:xfrm>
          <a:off x="6372000" y="1413000"/>
          <a:ext cx="215640" cy="720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372000" y="1413000"/>
                    <a:ext cx="215640" cy="72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2700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8" name=""/>
          <p:cNvGraphicFramePr/>
          <p:nvPr/>
        </p:nvGraphicFramePr>
        <p:xfrm>
          <a:off x="6875280" y="1197000"/>
          <a:ext cx="144360" cy="503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75280" y="1197000"/>
                    <a:ext cx="144360" cy="5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2700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1" name=""/>
          <p:cNvGraphicFramePr/>
          <p:nvPr/>
        </p:nvGraphicFramePr>
        <p:xfrm>
          <a:off x="7164000" y="981000"/>
          <a:ext cx="144360" cy="360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164000" y="981000"/>
                    <a:ext cx="14436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3" name=""/>
          <p:cNvGraphicFramePr/>
          <p:nvPr/>
        </p:nvGraphicFramePr>
        <p:xfrm>
          <a:off x="7597440" y="836640"/>
          <a:ext cx="142920" cy="14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97440" y="836640"/>
                    <a:ext cx="142920" cy="14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2700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270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2050920" y="333360"/>
            <a:ext cx="6337440" cy="43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Arial"/>
                <a:ea typeface="楷体_GB2312"/>
              </a:rPr>
              <a:t>黄鹤楼送孟浩然之广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Arial"/>
                <a:ea typeface="楷体_GB2312"/>
              </a:rPr>
              <a:t>故人西辞黄鹤楼，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Arial"/>
                <a:ea typeface="楷体_GB2312"/>
              </a:rPr>
              <a:t>烟花三月下扬州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Arial"/>
                <a:ea typeface="楷体_GB2312"/>
              </a:rPr>
              <a:t>孤帆远影碧空尽，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Arial"/>
                <a:ea typeface="楷体_GB2312"/>
              </a:rPr>
              <a:t>唯见长江天际流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3" dur="353266" fill="hold"/>
                                        <p:tgtEl>
                                          <p:spTgt spid="1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270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2050920" y="333360"/>
            <a:ext cx="6337440" cy="43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Arial"/>
                <a:ea typeface="楷体_GB2312"/>
              </a:rPr>
              <a:t>黄鹤楼</a:t>
            </a:r>
            <a:r>
              <a:rPr b="1" lang="zh-CN" sz="4400" spc="-1" strike="noStrike">
                <a:solidFill>
                  <a:srgbClr val="333399"/>
                </a:solidFill>
                <a:latin typeface="Arial"/>
                <a:ea typeface="楷体_GB2312"/>
              </a:rPr>
              <a:t>\</a:t>
            </a:r>
            <a:r>
              <a:rPr b="1" lang="zh-CN" sz="4400" spc="-1" strike="noStrike">
                <a:solidFill>
                  <a:srgbClr val="333399"/>
                </a:solidFill>
                <a:latin typeface="Arial"/>
                <a:ea typeface="楷体_GB2312"/>
              </a:rPr>
              <a:t>送</a:t>
            </a:r>
            <a:r>
              <a:rPr b="1" lang="zh-CN" sz="4400" spc="-1" strike="noStrike">
                <a:solidFill>
                  <a:srgbClr val="333399"/>
                </a:solidFill>
                <a:latin typeface="Arial"/>
                <a:ea typeface="楷体_GB2312"/>
              </a:rPr>
              <a:t>\</a:t>
            </a:r>
            <a:r>
              <a:rPr b="1" lang="zh-CN" sz="4400" spc="-1" strike="noStrike">
                <a:solidFill>
                  <a:srgbClr val="333399"/>
                </a:solidFill>
                <a:latin typeface="Arial"/>
                <a:ea typeface="楷体_GB2312"/>
              </a:rPr>
              <a:t>孟浩然</a:t>
            </a:r>
            <a:r>
              <a:rPr b="1" lang="zh-CN" sz="4400" spc="-1" strike="noStrike">
                <a:solidFill>
                  <a:srgbClr val="333399"/>
                </a:solidFill>
                <a:latin typeface="Arial"/>
                <a:ea typeface="楷体_GB2312"/>
              </a:rPr>
              <a:t>\</a:t>
            </a:r>
            <a:r>
              <a:rPr b="1" lang="zh-CN" sz="4400" spc="-1" strike="noStrike">
                <a:solidFill>
                  <a:srgbClr val="333399"/>
                </a:solidFill>
                <a:latin typeface="Arial"/>
                <a:ea typeface="楷体_GB2312"/>
              </a:rPr>
              <a:t>之广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Arial"/>
                <a:ea typeface="楷体_GB2312"/>
              </a:rPr>
              <a:t>故人</a:t>
            </a:r>
            <a:r>
              <a:rPr b="1" lang="zh-CN" sz="4400" spc="-1" strike="noStrike">
                <a:solidFill>
                  <a:srgbClr val="333399"/>
                </a:solidFill>
                <a:latin typeface="Arial"/>
                <a:ea typeface="楷体_GB2312"/>
              </a:rPr>
              <a:t>\</a:t>
            </a:r>
            <a:r>
              <a:rPr b="1" lang="zh-CN" sz="4400" spc="-1" strike="noStrike">
                <a:solidFill>
                  <a:srgbClr val="333399"/>
                </a:solidFill>
                <a:latin typeface="Arial"/>
                <a:ea typeface="楷体_GB2312"/>
              </a:rPr>
              <a:t>西辞</a:t>
            </a:r>
            <a:r>
              <a:rPr b="1" lang="zh-CN" sz="4400" spc="-1" strike="noStrike">
                <a:solidFill>
                  <a:srgbClr val="333399"/>
                </a:solidFill>
                <a:latin typeface="Arial"/>
                <a:ea typeface="楷体_GB2312"/>
              </a:rPr>
              <a:t>\</a:t>
            </a:r>
            <a:r>
              <a:rPr b="1" lang="zh-CN" sz="4400" spc="-1" strike="noStrike">
                <a:solidFill>
                  <a:srgbClr val="333399"/>
                </a:solidFill>
                <a:latin typeface="Arial"/>
                <a:ea typeface="楷体_GB2312"/>
              </a:rPr>
              <a:t>黄鹤楼，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Arial"/>
                <a:ea typeface="楷体_GB2312"/>
              </a:rPr>
              <a:t>烟花</a:t>
            </a:r>
            <a:r>
              <a:rPr b="1" lang="zh-CN" sz="4400" spc="-1" strike="noStrike">
                <a:solidFill>
                  <a:srgbClr val="333399"/>
                </a:solidFill>
                <a:latin typeface="Arial"/>
                <a:ea typeface="楷体_GB2312"/>
              </a:rPr>
              <a:t>\</a:t>
            </a:r>
            <a:r>
              <a:rPr b="1" lang="zh-CN" sz="4400" spc="-1" strike="noStrike">
                <a:solidFill>
                  <a:srgbClr val="333399"/>
                </a:solidFill>
                <a:latin typeface="Arial"/>
                <a:ea typeface="楷体_GB2312"/>
              </a:rPr>
              <a:t>三月</a:t>
            </a:r>
            <a:r>
              <a:rPr b="1" lang="zh-CN" sz="4400" spc="-1" strike="noStrike">
                <a:solidFill>
                  <a:srgbClr val="333399"/>
                </a:solidFill>
                <a:latin typeface="Arial"/>
                <a:ea typeface="楷体_GB2312"/>
              </a:rPr>
              <a:t>\</a:t>
            </a:r>
            <a:r>
              <a:rPr b="1" lang="zh-CN" sz="4400" spc="-1" strike="noStrike">
                <a:solidFill>
                  <a:srgbClr val="333399"/>
                </a:solidFill>
                <a:latin typeface="Arial"/>
                <a:ea typeface="楷体_GB2312"/>
              </a:rPr>
              <a:t>下扬州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Arial"/>
                <a:ea typeface="楷体_GB2312"/>
              </a:rPr>
              <a:t>孤帆</a:t>
            </a:r>
            <a:r>
              <a:rPr b="1" lang="zh-CN" sz="4400" spc="-1" strike="noStrike">
                <a:solidFill>
                  <a:srgbClr val="333399"/>
                </a:solidFill>
                <a:latin typeface="Arial"/>
                <a:ea typeface="楷体_GB2312"/>
              </a:rPr>
              <a:t>\</a:t>
            </a:r>
            <a:r>
              <a:rPr b="1" lang="zh-CN" sz="4400" spc="-1" strike="noStrike">
                <a:solidFill>
                  <a:srgbClr val="333399"/>
                </a:solidFill>
                <a:latin typeface="Arial"/>
                <a:ea typeface="楷体_GB2312"/>
              </a:rPr>
              <a:t>远影</a:t>
            </a:r>
            <a:r>
              <a:rPr b="1" lang="zh-CN" sz="4400" spc="-1" strike="noStrike">
                <a:solidFill>
                  <a:srgbClr val="333399"/>
                </a:solidFill>
                <a:latin typeface="Arial"/>
                <a:ea typeface="楷体_GB2312"/>
              </a:rPr>
              <a:t>\</a:t>
            </a:r>
            <a:r>
              <a:rPr b="1" lang="zh-CN" sz="4400" spc="-1" strike="noStrike">
                <a:solidFill>
                  <a:srgbClr val="333399"/>
                </a:solidFill>
                <a:latin typeface="Arial"/>
                <a:ea typeface="楷体_GB2312"/>
              </a:rPr>
              <a:t>碧空尽，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Arial"/>
                <a:ea typeface="楷体_GB2312"/>
              </a:rPr>
              <a:t>唯见</a:t>
            </a:r>
            <a:r>
              <a:rPr b="1" lang="zh-CN" sz="4400" spc="-1" strike="noStrike">
                <a:solidFill>
                  <a:srgbClr val="333399"/>
                </a:solidFill>
                <a:latin typeface="Arial"/>
                <a:ea typeface="楷体_GB2312"/>
              </a:rPr>
              <a:t>\</a:t>
            </a:r>
            <a:r>
              <a:rPr b="1" lang="zh-CN" sz="4400" spc="-1" strike="noStrike">
                <a:solidFill>
                  <a:srgbClr val="333399"/>
                </a:solidFill>
                <a:latin typeface="Arial"/>
                <a:ea typeface="楷体_GB2312"/>
              </a:rPr>
              <a:t>长江</a:t>
            </a:r>
            <a:r>
              <a:rPr b="1" lang="zh-CN" sz="4400" spc="-1" strike="noStrike">
                <a:solidFill>
                  <a:srgbClr val="333399"/>
                </a:solidFill>
                <a:latin typeface="Arial"/>
                <a:ea typeface="楷体_GB2312"/>
              </a:rPr>
              <a:t>\</a:t>
            </a:r>
            <a:r>
              <a:rPr b="1" lang="zh-CN" sz="4400" spc="-1" strike="noStrike">
                <a:solidFill>
                  <a:srgbClr val="333399"/>
                </a:solidFill>
                <a:latin typeface="Arial"/>
                <a:ea typeface="楷体_GB2312"/>
              </a:rPr>
              <a:t>天际流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9" dur="353266" fill="hold"/>
                                        <p:tgtEl>
                                          <p:spTgt spid="1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270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2050920" y="333360"/>
            <a:ext cx="6337440" cy="43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Arial"/>
                <a:ea typeface="楷体_GB2312"/>
              </a:rPr>
              <a:t>黄鹤楼送孟浩然之广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Arial"/>
                <a:ea typeface="楷体_GB2312"/>
              </a:rPr>
              <a:t>故人西辞黄鹤楼，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Arial"/>
                <a:ea typeface="楷体_GB2312"/>
              </a:rPr>
              <a:t>烟花三月下扬州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Arial"/>
                <a:ea typeface="楷体_GB2312"/>
              </a:rPr>
              <a:t>孤帆远影碧空尽，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Arial"/>
                <a:ea typeface="楷体_GB2312"/>
              </a:rPr>
              <a:t>唯见长江天际流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9" dur="81027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270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0" y="174600"/>
            <a:ext cx="9144000" cy="6746760"/>
          </a:xfrm>
          <a:prstGeom prst="rect">
            <a:avLst/>
          </a:prstGeom>
          <a:solidFill>
            <a:srgbClr val="ffffff">
              <a:alpha val="6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历史的楼，文化的楼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、范仲淹在岳阳楼用“</a:t>
            </a:r>
            <a:r>
              <a:rPr b="1" lang="zh-CN" sz="3600" spc="-1" strike="noStrike" u="sng">
                <a:solidFill>
                  <a:srgbClr val="333399"/>
                </a:solidFill>
                <a:uFillTx/>
                <a:latin typeface="楷体_GB2312"/>
                <a:ea typeface="楷体_GB2312"/>
              </a:rPr>
              <a:t>                </a:t>
            </a:r>
            <a:r>
              <a:rPr b="1" lang="zh-CN" sz="3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，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 u="sng">
                <a:solidFill>
                  <a:srgbClr val="333399"/>
                </a:solidFill>
                <a:uFillTx/>
                <a:latin typeface="楷体_GB2312"/>
                <a:ea typeface="楷体_GB2312"/>
              </a:rPr>
              <a:t>             ”</a:t>
            </a:r>
            <a:r>
              <a:rPr b="1" lang="zh-CN" sz="3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倾吐自己的政治抱负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、王勃在滕王阁用“</a:t>
            </a:r>
            <a:r>
              <a:rPr b="1" lang="zh-CN" sz="3600" spc="-1" strike="noStrike" u="sng">
                <a:solidFill>
                  <a:srgbClr val="333399"/>
                </a:solidFill>
                <a:uFillTx/>
                <a:latin typeface="楷体_GB2312"/>
                <a:ea typeface="楷体_GB2312"/>
              </a:rPr>
              <a:t>                  </a:t>
            </a:r>
            <a:r>
              <a:rPr b="1" lang="zh-CN" sz="3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，</a:t>
            </a:r>
            <a:r>
              <a:rPr b="1" lang="zh-CN" sz="3600" spc="-1" strike="noStrike" u="sng">
                <a:solidFill>
                  <a:srgbClr val="333399"/>
                </a:solidFill>
                <a:uFillTx/>
                <a:latin typeface="楷体_GB2312"/>
                <a:ea typeface="楷体_GB2312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 u="sng">
                <a:solidFill>
                  <a:srgbClr val="333399"/>
                </a:solidFill>
                <a:uFillTx/>
                <a:latin typeface="楷体_GB2312"/>
                <a:ea typeface="楷体_GB2312"/>
              </a:rPr>
              <a:t>             ”</a:t>
            </a:r>
            <a:r>
              <a:rPr b="1" lang="zh-CN" sz="3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描绘壮美的秋日江景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3</a:t>
            </a:r>
            <a:r>
              <a:rPr b="1" lang="zh-CN" sz="3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、李白在黄鹤楼用“</a:t>
            </a:r>
            <a:r>
              <a:rPr b="1" lang="zh-CN" sz="3600" spc="-1" strike="noStrike" u="sng">
                <a:solidFill>
                  <a:srgbClr val="333399"/>
                </a:solidFill>
                <a:uFillTx/>
                <a:latin typeface="楷体_GB2312"/>
                <a:ea typeface="楷体_GB2312"/>
              </a:rPr>
              <a:t>                  </a:t>
            </a:r>
            <a:r>
              <a:rPr b="1" lang="zh-CN" sz="3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 u="sng">
                <a:solidFill>
                  <a:srgbClr val="333399"/>
                </a:solidFill>
                <a:uFillTx/>
                <a:latin typeface="楷体_GB2312"/>
                <a:ea typeface="楷体_GB2312"/>
              </a:rPr>
              <a:t>             ”</a:t>
            </a:r>
            <a:r>
              <a:rPr b="1" lang="zh-CN" sz="3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表达难舍的离别之情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6480"/>
            <a:ext cx="9144000" cy="68515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900000" y="549360"/>
            <a:ext cx="3494160" cy="568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1258920" y="907920"/>
            <a:ext cx="2735280" cy="9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9999"/>
                </a:solidFill>
                <a:uFillTx/>
                <a:latin typeface="Times New Roman"/>
                <a:ea typeface="黑体"/>
                <a:hlinkClick r:id="rId4" action="ppaction://hlinksldjump"/>
              </a:rPr>
              <a:t>孟浩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（</a:t>
            </a:r>
            <a:r>
              <a:rPr b="0" lang="zh-CN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689—740</a:t>
            </a:r>
            <a:r>
              <a:rPr b="0" lang="zh-CN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500720" y="333360"/>
            <a:ext cx="464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孟浩然早年有济世之志，但政治上困顿失意，以隐士终。是个洁身自好的人，不乐于趋承逢迎。他耿介不随的性格和清白高尚的情操，为同时和后世所倾慕。他是唐代第一个大力写作山水诗的诗人，其诗今存二百余首，有《孟浩然集》。与王维齐名，并称“王孟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6480"/>
            <a:ext cx="9144000" cy="68515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5435640" y="1341360"/>
            <a:ext cx="3166920" cy="482436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5435640" y="907920"/>
            <a:ext cx="2808360" cy="9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9999"/>
                </a:solidFill>
                <a:uFillTx/>
                <a:latin typeface="Times New Roman"/>
                <a:ea typeface="黑体"/>
                <a:hlinkClick r:id="rId4" action="ppaction://hlinksldjump"/>
              </a:rPr>
              <a:t>李  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（</a:t>
            </a:r>
            <a:r>
              <a:rPr b="0" lang="zh-CN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701</a:t>
            </a:r>
            <a:r>
              <a:rPr b="0" lang="zh-CN" sz="3200" spc="-1" strike="noStrike">
                <a:solidFill>
                  <a:srgbClr val="333399"/>
                </a:solidFill>
                <a:latin typeface="Times New Roman"/>
              </a:rPr>
              <a:t>—</a:t>
            </a:r>
            <a:r>
              <a:rPr b="0" lang="zh-CN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762</a:t>
            </a:r>
            <a:r>
              <a:rPr b="0" lang="zh-CN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900000" y="1268280"/>
            <a:ext cx="4321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楷体_GB2312"/>
              </a:rPr>
              <a:t>李白字太白，号青莲居士，唐代伟大的浪漫主义诗人，被称为“诗仙”。其诗豪放飘逸，想象丰富，语言流转自然，音律和谐多变，是浪漫主义诗歌的最高峰，与杜甫并称“李杜”，是华夏史上最伟大的诗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648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1258920" y="420840"/>
            <a:ext cx="6769080" cy="416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       </a:t>
            </a:r>
            <a:r>
              <a:rPr b="1" lang="zh-CN" sz="40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赠孟浩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吾爱孟夫子，风流天下闻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红颜弃轩冕，白首卧松云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——</a:t>
            </a:r>
            <a:r>
              <a:rPr b="1" lang="zh-CN" sz="40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李白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楷体_GB2312"/>
              </a:rPr>
              <a:t>　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　　　　　　　　　　　　　　　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　　　　　　　　　　　　　　　　　　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0920" y="3573360"/>
            <a:ext cx="8893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风流：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胸怀磊落，飘逸洒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弃轩冕：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抛弃荣华富贵，远离官场，不羡权贵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卧松云：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卧于松下之间，远离世俗，淡泊名利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270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5580000" y="430200"/>
            <a:ext cx="3564000" cy="58140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黄鹤楼与岳阳楼、滕王阁并称“三大名楼”。它俯临万里长江，雄踞蛇山之巅，飞檐凌空，仿佛展翅欲飞的鹤翼。因传说神仙驾鹤到此，故而得名。唐朝的崔颢登楼感慨道：黄鹤一去不复返，此地空留黄鹤楼。从此，黄鹤楼闻名天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4375 3.48128E-006 L -0.39375 3.48128E-006 E">
                                      <p:cBhvr>
                                        <p:cTn id="55" dur="1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270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1979640" y="1052640"/>
            <a:ext cx="5977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25.</a:t>
            </a:r>
            <a:r>
              <a:rPr b="1" lang="zh-CN" sz="6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黄鹤楼送别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187280" y="765000"/>
            <a:ext cx="720108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    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孟</a:t>
            </a:r>
            <a:r>
              <a:rPr b="1" lang="zh-CN" sz="40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浩然   李白    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饯</a:t>
            </a:r>
            <a:r>
              <a:rPr b="1" lang="zh-CN" sz="40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行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暂</a:t>
            </a:r>
            <a:r>
              <a:rPr b="1" lang="zh-CN" sz="40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时    友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谊</a:t>
            </a:r>
            <a:r>
              <a:rPr b="1" lang="zh-CN" sz="40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唯</a:t>
            </a:r>
            <a:r>
              <a:rPr b="1" lang="zh-CN" sz="40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         </a:t>
            </a:r>
            <a:r>
              <a:rPr b="1" lang="zh-CN" sz="40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一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饮</a:t>
            </a:r>
            <a:r>
              <a:rPr b="1" lang="zh-CN" sz="40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而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796000" y="5950080"/>
            <a:ext cx="2050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732720" y="6093000"/>
            <a:ext cx="64764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524720" y="6093000"/>
            <a:ext cx="43344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8532720" y="6093000"/>
            <a:ext cx="61128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771640" y="1268280"/>
            <a:ext cx="540072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      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暮</a:t>
            </a:r>
            <a:r>
              <a:rPr b="1" lang="zh-CN" sz="40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春三月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烟雾迷蒙  繁花似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杨柳依依  沙鸥点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796000" y="5950080"/>
            <a:ext cx="2050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2987640" y="1916280"/>
            <a:ext cx="504036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依依惜别  永世不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按捺不住  脍炙人口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796000" y="5950080"/>
            <a:ext cx="2050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2268360" y="404640"/>
            <a:ext cx="61563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孟浩然   李白    饯行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暂时     友谊    唯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一饮而尽     暮春三月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烟雾迷蒙     繁花似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杨柳依依     沙鸥点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依依惜别     永世不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按捺不住     脍炙人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796000" y="5950080"/>
            <a:ext cx="2050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7T06:41:39Z</dcterms:created>
  <dc:creator>微软用户</dc:creator>
  <dc:description/>
  <dc:language>en-US</dc:language>
  <cp:lastModifiedBy>石斑鱼</cp:lastModifiedBy>
  <dcterms:modified xsi:type="dcterms:W3CDTF">2010-12-27T08:07:26Z</dcterms:modified>
  <cp:revision>42</cp:revision>
  <dc:subject/>
  <dc:title>幻灯片 1</dc:title>
</cp:coreProperties>
</file>