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FB1-987F-48AB-8A76-C2B98D47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7A4-1C18-465B-B4A9-D509EF58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7C0-FD2C-469D-8477-33E3F329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608-ED3F-4250-B83A-FFF96E0C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3612-D286-4F6D-94FE-E20BE3A1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C37D-9FB1-48D2-8807-72344F65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2465-3ACB-477E-BA0D-3ABDC48D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F721-FAA8-4522-893E-BB416B8A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53F0-DFB0-44E6-A780-97E18AC2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62E1-7CD1-4BA2-8B95-853723D0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9BAD-6BEF-4B88-94CE-94099DE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8F6-0A46-4883-AC45-5062A897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CB80-C24E-41F9-AE2F-0C33773E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EC11-7F03-4FA7-8B85-5E176F19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FE3D-3F2D-4C2F-9E7D-61663B15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B98A-D957-49D5-91F9-96365AFE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811B-2D5D-4917-A969-60E61BD6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E29-F94B-4824-8E2B-8C6E7F5D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93A-00F6-4898-B8C9-DFA6353E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4C8-D7A5-4EF2-8E97-B350C117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4E1-C925-43D8-93F4-EE7E5B21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EC7-8907-4A47-82F0-85C689F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4EF-2E50-493F-87AD-A90163CA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23E-CB84-4F59-9C8D-4F510F8B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C014-16B8-4FFA-9C2A-79954042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EAD7-B42A-47CF-B0FE-91D3848A5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aike.baidu.com/view/2717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132000" y="515736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Arial"/>
              </a:rPr>
              <a:t>（宋）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03280" y="260280"/>
            <a:ext cx="6193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惠崇春江晚景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58920" y="4508280"/>
            <a:ext cx="76341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蒌蒿：一种生长在洼地的多年生草本植物，花淡黄色，茎高四、五尺，刚生时柔嫩香脆，可以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48360" y="1197000"/>
            <a:ext cx="3995640" cy="2982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55640" y="620640"/>
              <a:ext cx="2232000" cy="7923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4360" y="5734080"/>
              <a:ext cx="2951280" cy="836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55640" y="692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是河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92920" y="5810400"/>
            <a:ext cx="232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62373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5805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欲上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92036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26054" t="40035" r="10168" b="22633"/>
          <a:stretch/>
        </p:blipFill>
        <p:spPr>
          <a:xfrm>
            <a:off x="0" y="1268280"/>
            <a:ext cx="914400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747200" cy="4400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5383080"/>
            <a:ext cx="7559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河豚：鱼的一种，学名“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ún )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肉味鲜美，但是卵巢和肝脏有剧毒。产于我国沿海和一些内河。每年春天逆江而上，在淡水中产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理解诗句意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竹外桃花三两枝，春江水暖鸭先知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楷体"/>
              </a:rPr>
              <a:t>。竹林外几枝桃花初放，鸭子最先察觉到春天江水的回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蒌蒿满地芦芽短，正是河豚欲上时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楷体"/>
              </a:rPr>
              <a:t>河滩上蒌蒿满地，芦笋开始抽芽，这正是河豚将要逆流而上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21040" y="1557360"/>
            <a:ext cx="295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、这首诗描写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(       )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季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31320" y="155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48600" y="2997360"/>
            <a:ext cx="813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、这首诗描写的景物有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(          )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(         )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(         )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4221000"/>
            <a:ext cx="23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(         )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34960" y="299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48840" y="364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6120" y="364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江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3645000"/>
            <a:ext cx="6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68480" y="364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蒌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48840" y="429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芦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64840" y="429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河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333600" cy="3552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00720" y="260280"/>
            <a:ext cx="28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简     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4869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1557360"/>
            <a:ext cx="55087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苏轼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），字子瞻，又字和仲，号“东坡居士”，世人称其为“苏东坡”。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汉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眉州（今四川眉山，北宋时为眉山城）人，祖籍栾城。北宋著名文学家、书画家、词人、诗人，美食家，唐宋八大家之一，豪放派词人代表。其诗，词，赋，散文，均成就极高，且善书法和绘画，是中国文学艺术史上罕见的全才，也是中国数千年历史上被公认文学艺术造诣最杰出的大家之一。其散文与欧阳修并称欧苏；诗与黄庭坚并称苏黄；词与辛弃疾并称苏辛；书法名列“苏、黄、米、蔡”北宋四大书法家之一；其画则开创了湖州画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惠崇春江晚景》是苏轼为惠崇和尚的画所作的题画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2771640" cy="266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4360" y="4149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惠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0720" y="476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简   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6360" y="1341360"/>
            <a:ext cx="62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惠崇 北宋画家、诗人。僧人。淮南（治今江苏扬州）人；一作建阳（今属福建）人。与希尽、惟凤、简长、保暹、文兆、行肇、宇昭、怀古全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九诗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颇有声誉。工画鹅雁鹭鸶，寒汀远渚，得意于荒率虚旷，世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惠崇小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《春江晚景》是他的画作，共两幅，一幅 是鸭戏图，一幅是飞雁图。 死后，于神宗熙宁、元丰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68-108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间轰动一时。沈括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景惠崇烟漠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歌。王安石诗赞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史纷纷何足数，惠崇晚出吾最许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苏轼亦题其画，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竹外桃花三两枝，春江水暖鸭先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诗句。传世作品有《秋浦双鸳图》，图录于《故宫名画三百种》；《沙汀烟树图》，现藏辽宁省博物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1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1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1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33000" y="1341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</a:rPr>
              <a:t>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693720"/>
            <a:ext cx="11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hu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62080" y="1413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</a:rPr>
              <a:t>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2160" y="62064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chó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6720" y="4437000"/>
            <a:ext cx="168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</a:rPr>
              <a:t>蒌   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14120" y="3645000"/>
            <a:ext cx="232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lóu   hā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443700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</a:rPr>
              <a:t>河   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7800" y="364500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tú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101" name=""/>
          <p:cNvSpPr/>
          <p:nvPr/>
        </p:nvSpPr>
        <p:spPr>
          <a:xfrm>
            <a:off x="-426240" y="1197000"/>
            <a:ext cx="13993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是河豚欲上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4480" y="1197000"/>
            <a:ext cx="13993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蒌蒿满地芦芽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9680" y="1197000"/>
            <a:ext cx="13993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竹外桃花三两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7680" y="1197000"/>
            <a:ext cx="1399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江水暖鸭先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31200" y="1341360"/>
            <a:ext cx="6678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惠崇《春江晓景》  【宋】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2050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读读古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067280" y="2204640"/>
            <a:ext cx="433440" cy="71640"/>
          </a:xfrm>
          <a:prstGeom prst="line">
            <a:avLst/>
          </a:prstGeom>
          <a:ln w="73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140360" y="2276640"/>
            <a:ext cx="431640" cy="72720"/>
          </a:xfrm>
          <a:prstGeom prst="line">
            <a:avLst/>
          </a:prstGeom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2276640"/>
            <a:ext cx="647640" cy="0"/>
          </a:xfrm>
          <a:prstGeom prst="line">
            <a:avLst/>
          </a:prstGeom>
          <a:ln w="82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284640"/>
            <a:ext cx="504720" cy="0"/>
          </a:xfrm>
          <a:prstGeom prst="line">
            <a:avLst/>
          </a:prstGeom>
          <a:ln w="604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7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7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7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7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402840" y="620640"/>
            <a:ext cx="16426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竹外桃花三两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17080" y="1052640"/>
            <a:ext cx="647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春江水暖鸭先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133920" y="404640"/>
            <a:ext cx="1826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蒌蒿满地芦芽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66600"/>
            <a:ext cx="9753480" cy="692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6:19:05Z</dcterms:created>
  <dc:creator>邓秋华</dc:creator>
  <dc:description/>
  <cp:keywords/>
  <dc:language>en-US</dc:language>
  <cp:lastModifiedBy>Lxtx999.CoM</cp:lastModifiedBy>
  <cp:lastPrinted>1899-12-30T00:00:00Z</cp:lastPrinted>
  <dcterms:modified xsi:type="dcterms:W3CDTF">2014-02-24T11:01:01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