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EE2-8D3A-4FB2-A3FB-6FCF4FE1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65A-F104-414F-BE2D-6A151A7D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375-0767-428E-A80E-D40906CD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E9A-9EFD-4FF4-8F76-32A5A2BF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5B2-79F3-4F9D-AD0E-560D9A8D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6FD-D5CE-4B71-A6DC-D2B90E4B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B57-FDD0-40DC-9CFD-BF7F96B6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D2E-CC33-40D4-94BC-7DAF9050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D21-2BF2-436E-A295-C1A7EA33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A22-7A4A-4248-ACD6-6AA6F97E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230-8B04-478C-B8E6-8CB0928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88C-A05C-413A-ACF6-52BC3CFA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1670-F7DD-4E78-ACA7-648D3A1B0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_200712051838541"/>
          <p:cNvPicPr/>
          <p:nvPr/>
        </p:nvPicPr>
        <p:blipFill>
          <a:blip r:embed="rId2"/>
          <a:stretch/>
        </p:blipFill>
        <p:spPr>
          <a:xfrm>
            <a:off x="104292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6948360" y="1341360"/>
            <a:ext cx="1440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景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本诗抒发了诗人怎样的情感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8101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"/>
                <a:ea typeface="楷体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楷体"/>
                <a:ea typeface="楷体"/>
              </a:rPr>
              <a:t>本诗表达了诗人对春天的喜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_200712051838541"/>
          <p:cNvPicPr/>
          <p:nvPr/>
        </p:nvPicPr>
        <p:blipFill>
          <a:blip r:embed="rId2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76500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惠崇春江晚景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宋  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43280" y="2637000"/>
            <a:ext cx="5400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竹外桃花三两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春江水暖鸭先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蒌蒿满地芦芽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是河豚欲上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547640" y="62064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惠崇春江晚景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宋  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47280" y="2349000"/>
            <a:ext cx="61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竹外  桃花    三两  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春江  水暖    鸭  先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蒌蒿  满地    芦芽  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是  河豚    欲上  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2771640" y="2492280"/>
            <a:ext cx="216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4284720" y="2421000"/>
            <a:ext cx="216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4500360" y="2421000"/>
            <a:ext cx="21564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 flipH="1">
            <a:off x="5940360" y="2421000"/>
            <a:ext cx="216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 flipH="1">
            <a:off x="2916000" y="3213000"/>
            <a:ext cx="21564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4284720" y="3213000"/>
            <a:ext cx="216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4500360" y="3284640"/>
            <a:ext cx="21564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H="1">
            <a:off x="5435640" y="3213000"/>
            <a:ext cx="216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H="1">
            <a:off x="2843280" y="4076640"/>
            <a:ext cx="216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 flipH="1">
            <a:off x="4284720" y="4005360"/>
            <a:ext cx="21600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 flipH="1">
            <a:off x="4500360" y="4076640"/>
            <a:ext cx="21564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H="1">
            <a:off x="6011640" y="4005360"/>
            <a:ext cx="21564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2843280" y="4797360"/>
            <a:ext cx="216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 flipH="1">
            <a:off x="5940360" y="4869000"/>
            <a:ext cx="21600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 flipH="1">
            <a:off x="4572000" y="4797360"/>
            <a:ext cx="216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H="1">
            <a:off x="4284720" y="4797360"/>
            <a:ext cx="216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211640" y="1197000"/>
            <a:ext cx="44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轼：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字子瞻，号东坡居士，眉山人。他在诗、词、散文的创作上都有很高造诣。惠崇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江晚景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首诗就是他为好友惠崇的这幅画题写的。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20090206_4495038783814079d5baiPbHqpAbagmL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_200712051838541"/>
          <p:cNvPicPr/>
          <p:nvPr/>
        </p:nvPicPr>
        <p:blipFill>
          <a:blip r:embed="rId1"/>
          <a:stretch/>
        </p:blipFill>
        <p:spPr>
          <a:xfrm>
            <a:off x="250920" y="1700280"/>
            <a:ext cx="361296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3"/>
          <p:cNvSpPr/>
          <p:nvPr/>
        </p:nvSpPr>
        <p:spPr>
          <a:xfrm>
            <a:off x="900000" y="260280"/>
            <a:ext cx="6172200" cy="838440"/>
          </a:xfrm>
          <a:prstGeom prst="wedgeRoundRectCallout">
            <a:avLst>
              <a:gd name="adj1" fmla="val -27055"/>
              <a:gd name="adj2" fmla="val 53976"/>
              <a:gd name="adj3" fmla="val 16667"/>
            </a:avLst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竹外桃花三两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924360" y="2997360"/>
            <a:ext cx="45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竹林外有盛开的桃花三两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_200712051838541"/>
          <p:cNvPicPr/>
          <p:nvPr/>
        </p:nvPicPr>
        <p:blipFill>
          <a:blip r:embed="rId1"/>
          <a:stretch/>
        </p:blipFill>
        <p:spPr>
          <a:xfrm>
            <a:off x="468360" y="1700280"/>
            <a:ext cx="3672000" cy="4465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356000" y="2997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江水暖戏水的鸭子最先得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826920" y="260280"/>
            <a:ext cx="6705720" cy="865080"/>
          </a:xfrm>
          <a:prstGeom prst="wedgeRoundRectCallout">
            <a:avLst>
              <a:gd name="adj1" fmla="val -20453"/>
              <a:gd name="adj2" fmla="val 21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春江水暖鸭先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_200712051838541"/>
          <p:cNvPicPr/>
          <p:nvPr/>
        </p:nvPicPr>
        <p:blipFill>
          <a:blip r:embed="rId1"/>
          <a:stretch/>
        </p:blipFill>
        <p:spPr>
          <a:xfrm>
            <a:off x="468360" y="1700280"/>
            <a:ext cx="3672000" cy="4465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4140360" y="299736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蒌蒿已经遍地，芦苇才刚刚吐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826920" y="260280"/>
            <a:ext cx="6705720" cy="865080"/>
          </a:xfrm>
          <a:prstGeom prst="wedgeRoundRectCallout">
            <a:avLst>
              <a:gd name="adj1" fmla="val -20453"/>
              <a:gd name="adj2" fmla="val 21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蒌蒿满地芦芽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_200712051838541"/>
          <p:cNvPicPr/>
          <p:nvPr/>
        </p:nvPicPr>
        <p:blipFill>
          <a:blip r:embed="rId1"/>
          <a:stretch/>
        </p:blipFill>
        <p:spPr>
          <a:xfrm>
            <a:off x="468360" y="2060640"/>
            <a:ext cx="3672000" cy="4465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140360" y="357336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是河豚将要沿江而上的时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755640" y="765000"/>
            <a:ext cx="6705720" cy="865440"/>
          </a:xfrm>
          <a:prstGeom prst="wedgeRoundRectCallout">
            <a:avLst>
              <a:gd name="adj1" fmla="val -19388"/>
              <a:gd name="adj2" fmla="val -36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 是 河 豚 欲 上 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635280" y="189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635280" y="18900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572000" y="18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641600" y="914400"/>
            <a:ext cx="85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640" y="1773000"/>
            <a:ext cx="624816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想象诗中优美的画面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用自己的语言描绘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4:50:56Z</dcterms:created>
  <dc:creator>微软用户</dc:creator>
  <dc:description/>
  <dc:language>en-US</dc:language>
  <cp:lastModifiedBy>admin</cp:lastModifiedBy>
  <dcterms:modified xsi:type="dcterms:W3CDTF">2017-02-23T08:40:15Z</dcterms:modified>
  <cp:revision>31</cp:revision>
  <dc:subject/>
  <dc:title>第三课</dc:title>
</cp:coreProperties>
</file>