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457-7D32-4978-9BC1-146E2925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323-9D29-4657-9069-1ADF74C0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302-1F88-4759-AA6F-C0D02725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9E0-6B75-4AA8-9F1D-2A08972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52D2-4194-4F5B-A576-6001EECE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5106-93EB-4ACB-ABC7-BAA9D5E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130-09AD-4167-91C3-FADAB3B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BC7A-8BAB-4480-8A78-C2F3C91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0D5-B45E-4BF7-B342-23A6963A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2DBF-6C31-4CE9-A204-5FBFEAD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4F7D-4970-4218-B6D4-76CDDAD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E10-46A9-410E-A78A-AEF31D3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8DC-E606-4E4C-B593-7B3FEE5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D45-F823-452D-B037-3631AE4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3583-ACAF-4EA0-A1FB-B47F4271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F93-8EB2-438F-9F38-83B0C526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B32-6FDC-4EF9-9FFF-13E17C58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5AB6-E02B-4868-9DCE-A765C232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D167-83D9-4EA6-9E22-D79592A4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8AC0-7B03-400D-93EF-19185B7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13D7-1BE4-40B4-836C-36DE3F0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5C71-4782-4C1F-AD7C-87AC5BBE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776-F588-4CAB-88B8-A060E62F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5BF0-E34F-49D1-A848-E05770B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65ED-77B2-4F89-B885-E24F568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4569-805F-4685-86EA-42CA6B1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DB3E-078E-4CE2-9DDC-EB48AC1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71AC-E487-4EE1-A98C-264184C7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5791-BFC7-413D-9FFF-8635953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E184-6933-45FC-909F-1E05CC09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B95A-A72E-44BC-8A0E-C908554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7DBE-E5D6-48CA-9022-825C12B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C058-A72A-4AD4-BE93-862B2B0C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AAB-6B35-4EEB-B632-AB5AD07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91D1-21B8-411E-A5D2-D537CDA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72CE-5833-4B1E-94E2-F3ADF56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F845-5D3D-468B-BFA5-72DE376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E111-1CA5-4B8D-94CF-964653C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89B6-ED34-4A8C-BA46-791D43D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7CC5-3C72-4B16-8668-9DD6C32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FC4A-00BE-4418-8694-6A7BE93D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FB7A-8D1A-4753-B5CE-B0A73517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56A6-1E69-4977-A56A-32145ECB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C9F1-15AC-4DF0-B4C0-2324D8DB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15B-46EB-42DF-ACB2-293CC7D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A8A2-D552-48D6-B59A-92B17FD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5A8C-AB21-4321-8479-B173DF2A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DDF1-0D68-4E52-BAC0-226E442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3CE1-EFE4-439E-B502-6582AA32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70A9-C5E2-43BE-A79A-6398B6F2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7DDA-6C06-4B2E-BC2F-AFA357A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9077-6795-4478-AFD4-2E7DCBA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F13C-35D0-430E-8CBF-7AB05D9C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B4F6-C826-426C-99F9-13A376D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558F-C47F-40EC-AF32-2114FFE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A52-82E1-4D78-A169-664CC67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466F-6483-4C8A-BB76-8C37830A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D841-D81C-4D1A-8B89-8C12F028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CE97-4165-49BB-BCC0-747CDB8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8CB1-E244-45E9-A937-052D9EA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7D1E-BFE6-4E12-AC60-E9EDEC4F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8ED8-CD0D-42EC-A571-3A6BEBA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C2EB-B5A0-4779-A310-EB36616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E398-1F60-40BD-85C5-C3308D0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D0DF-6EA2-4C2D-AC7B-9EC19C6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B3ED-F7EE-4A72-AAC6-047B1B5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7BC-7310-4751-B32F-4CCD96A6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10718-E650-4B21-B5F2-BF8C5B91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467E-D29B-48B4-A2E5-670AAB31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95F1-F4C7-409C-98EE-E94440B5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F93-9C6C-43D2-9B0A-5C917A6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38E-8811-4508-B866-C47661A9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C41-B75E-4CB6-9938-DA0A05BCD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2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64F-405B-4A14-8F14-9A73B3675CC3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93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0B5-BF48-4680-BD8C-303AA24696B1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AE8-8CDC-45F4-AA77-76005A2D6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86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581-4BDD-4617-8A7D-5FE73F7DEF7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233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688-88C6-4E98-AACE-8BBF9B9287B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243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936840" y="0"/>
            <a:ext cx="18262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桂枝香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金陵怀古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王安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8120" y="4741560"/>
            <a:ext cx="4237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深州中学    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924680" cy="3429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11280" y="476280"/>
            <a:ext cx="7924680" cy="2558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至今商女，时时犹唱，《后庭》遗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335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宋体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ccff33"/>
                </a:solidFill>
                <a:latin typeface="宋体"/>
                <a:ea typeface="Times New Roman"/>
              </a:rPr>
              <a:t>词至结语，更为奇妙，词人写道：时至今日，六朝已远，但其遗曲，往往犹似可闻。此处用典。“商女不知亡国恨，隔江犹唱《后庭花》！”此唐小杜所吟之名句，词人复加运用，感叹之意，千古弥永。商女何知？高位者醉生梦死耳！</a:t>
            </a:r>
            <a:r>
              <a:rPr b="1" lang="zh-CN" sz="3200" spc="-1" strike="noStrike">
                <a:solidFill>
                  <a:srgbClr val="ccff33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14400" y="1219320"/>
            <a:ext cx="7956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总结下片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借六朝皆以荒淫而相继亡覆的史实，希望当权者引以为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58880" y="692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全词总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06064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词中流露出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王安石失意无聊之时颐情自然风光的情怀，同时也寄寓讽喻之意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90720" y="1828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借景抒情，借眼前壮美景色抒发失意无聊之时颐情自然风光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借古讽今，借六朝皆以荒淫而相继亡覆的史实，希望当权者引以为戒。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幼圆"/>
              </a:rPr>
              <a:t> </a:t>
            </a:r>
            <a:r>
              <a:rPr b="0" lang="zh-CN" sz="1200" spc="-1" strike="noStrike">
                <a:solidFill>
                  <a:srgbClr val="990033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838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宋体"/>
              </a:rPr>
              <a:t>艺术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92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2286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华文彩云"/>
                <a:ea typeface="华文彩云"/>
              </a:rPr>
              <a:t>怀   古</a:t>
            </a:r>
            <a:r>
              <a:rPr b="1" lang="zh-CN" sz="6000" spc="-1" strike="noStrike">
                <a:solidFill>
                  <a:srgbClr val="ffcc66"/>
                </a:solidFill>
                <a:latin typeface="华文彩云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663300"/>
                </a:solidFill>
                <a:latin typeface="华文彩云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代文人的怀古之作，往往是借托对古人古事     的追忆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通过今昔对比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表达自己的思想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2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27672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赤壁怀古》（苏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5334120"/>
            <a:ext cx="41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北固亭怀古》（辛弃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赞美周瑜</a:t>
            </a:r>
            <a:r>
              <a:rPr b="0" lang="zh-CN" sz="2400" spc="-1" strike="noStrike">
                <a:solidFill>
                  <a:srgbClr val="f8fdfe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褒贬古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抒发建功立业的情怀和壮志未酬的感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95640" y="616572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表达抗金主张、对国事的忧虑和壮志难酬的愤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92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4495680"/>
            <a:ext cx="533160" cy="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6381720"/>
            <a:ext cx="533520" cy="0"/>
          </a:xfrm>
          <a:prstGeom prst="line">
            <a:avLst/>
          </a:prstGeom>
          <a:ln w="76320">
            <a:solidFill>
              <a:srgbClr val="b844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00600" y="3276720"/>
            <a:ext cx="2514600" cy="914400"/>
            <a:chOff x="4800600" y="3276720"/>
            <a:chExt cx="2514600" cy="914400"/>
          </a:xfrm>
        </p:grpSpPr>
        <p:sp>
          <p:nvSpPr>
            <p:cNvPr id="341" name=""/>
            <p:cNvSpPr/>
            <p:nvPr/>
          </p:nvSpPr>
          <p:spPr>
            <a:xfrm>
              <a:off x="4800600" y="3276720"/>
              <a:ext cx="2438280" cy="914400"/>
            </a:xfrm>
            <a:prstGeom prst="ellipse">
              <a:avLst/>
            </a:prstGeom>
            <a:solidFill>
              <a:srgbClr val="f8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429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Times New Roman"/>
                  <a:ea typeface="华文行楷"/>
                </a:rPr>
                <a:t>借古伤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24280" y="5105520"/>
            <a:ext cx="2743200" cy="914400"/>
            <a:chOff x="4724280" y="5105520"/>
            <a:chExt cx="2743200" cy="914400"/>
          </a:xfrm>
        </p:grpSpPr>
        <p:sp>
          <p:nvSpPr>
            <p:cNvPr id="344" name=""/>
            <p:cNvSpPr/>
            <p:nvPr/>
          </p:nvSpPr>
          <p:spPr>
            <a:xfrm>
              <a:off x="4724280" y="5105520"/>
              <a:ext cx="2743200" cy="914400"/>
            </a:xfrm>
            <a:prstGeom prst="ellipse">
              <a:avLst/>
            </a:prstGeom>
            <a:solidFill>
              <a:srgbClr val="f8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52880" y="5257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华文行楷"/>
                </a:rPr>
                <a:t>借古讽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2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2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33520" y="22096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新魏"/>
              </a:rPr>
              <a:t>到此结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43434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时彦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33520" y="1295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王安石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21-1086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字介甫，抚州临川（今江西抚州西）人。曾书仁宗，提倡变法。神宗即位，主持变法，积极推行新法。次年，拜同中书门下平章事。七年，出知江宁府。八年，再相，次年复罢。谥文。工诗擅文，有《临川先生集》一百卷，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唐宋八大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之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835280" y="333360"/>
            <a:ext cx="5457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背 景 与 提 要</a:t>
            </a:r>
            <a:endParaRPr b="1" i="1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1916280"/>
            <a:ext cx="7315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此词抒发金陵怀古人之情，约写于作者再次罢相、出知江宁府之时。词中流露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王安石失意无聊之时颐情自然风光的情怀，同时也寄寓讽喻之意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924680" cy="4267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19320" y="380880"/>
            <a:ext cx="7924680" cy="22100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登临送目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正故国晚秋，天气初肃。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6520" y="31237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全词开门见山，写一个深秋的傍晚，临江揽胜，于南朝古都金陵胜地，凭高吊古。“正”、“初”、“肃”三个字逐步将其主旨点醒。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762120"/>
            <a:ext cx="7924680" cy="2209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千里澄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似练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翠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如簇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　征帆去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残阳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背西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酒旗斜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1280" y="2852640"/>
          <a:ext cx="79246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852640"/>
                    <a:ext cx="7924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solidFill>
            <a:srgbClr val="eaeaea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前两句，一个“似练”，一个“如簇”，形胜已赫然而出。然后专写江色，纵目一望，只见斜阳映照之下，数不清的帆风樯影，交错于闪闪江波之上。细看处，却又见西风紧处，那酒肆青旗高高挑起，因风飘拂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帆樯为广景，酒旗为细景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个“背”字，一个“矗”字，用得极妙，把个江边景致写得栩栩如生，似有生命其中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38080" y="9144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前两句，一个“似练”，一个“如簇”，形胜已赫然而出。然后专写江色，纵目一望，只见斜阳映照之下，数不清的帆风樯影，交错于闪闪江波之上。细看处，却又见西风紧处，那酒肆青旗高高挑起，因风飘拂。帆樯为广景，酒旗为细景，一个“背”字，一个“矗”字，用得极妙，把个江边景致写得栩栩如生，似有生命其中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31640" y="609480"/>
            <a:ext cx="8712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彩舟云淡，星河鹭起，画图难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写景至此，全是白描，下面有所变化。“彩舟”、“星河”两句一联，顿增明丽之色。以“画图难足”一句，抒赞美嗟赏之怀，颇有大家风范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彩舟云淡”，写日落之江天：“星河鹭起”，状夕夜之洲渚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677960" y="7621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上片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16000" y="21337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抒发诗人失意无聊之时颐情自然风光的情怀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200" y="28954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下片另换一幅笔墨，感叹六朝皆以荒淫而相继亡覆的史实。写的是悲恨荣辱，空贻后人凭吊之资；往事无痕，唯见秋草凄碧，触目惊心而已。“门外楼头”，用杜牧《台城曲》句加以点染，亦简净有力。诗人借古讽今希望当权者引以为戒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念往昔，繁华竞逐，叹门外楼头，悲恨相续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古凭高对此，谩嗟荣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朝旧事随流水，但寒烟衰草凝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16:56Z</dcterms:created>
  <dc:creator>Admin</dc:creator>
  <dc:description/>
  <dc:language>en-US</dc:language>
  <cp:lastModifiedBy>zzz</cp:lastModifiedBy>
  <dcterms:modified xsi:type="dcterms:W3CDTF">2007-11-21T13:44:43Z</dcterms:modified>
  <cp:revision>98</cp:revision>
  <dc:subject/>
  <dc:title>幻灯片 1</dc:title>
</cp:coreProperties>
</file>