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9.png" ContentType="image/png"/>
  <Override PartName="/ppt/media/image5.gif" ContentType="image/gif"/>
  <Override PartName="/ppt/media/image13.jpeg" ContentType="image/jpeg"/>
  <Override PartName="/ppt/media/image8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50D-7A0C-414A-A9E0-76B9589E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CAC4-A747-4B9A-BC7F-5D905777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90407-C2BD-4EA4-9B21-EBC009C0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D5EF1-E863-4C5F-B924-07B54D48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233A4-AE7A-464E-8452-96FC5BC2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7F671-7327-4FBC-8D18-6DD6C9E5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30AF4-124E-491F-8090-8C9A90EF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994F6-7CD4-4CDC-8AA5-E9F885FC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E4A28-A29B-4E87-AD46-084200BA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4057C-CEDB-4324-B2FF-0C3B73ED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8604A-6FF4-4AD5-AEFC-950E36C9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4EAEB-704B-4BC4-A497-B71DF2AC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296-EDAE-43F9-A384-5A1037A0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4BB1D-C0A2-416D-8758-ECF74592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BB62D-D65C-4A3F-BB75-41BC795D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533CC-B51B-444F-9919-3FDB4452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A43E4-BCAB-4359-932E-0E75176A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5E0CD-28F9-4C45-9844-15B6B992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1059F-D21E-4125-A7E2-7124BD91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CDEC9-86AB-41D7-9A04-A2C530DC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C8D47-CA33-4F89-A497-759D9717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559ED-07AA-4745-A0CB-312B2BD7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E6380-B32F-4AA0-B9D6-933EAF93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E6B-F8B2-4371-8463-1EA59A95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6A98E-B3CF-4BC7-8919-56DF0AC8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22323-7BEE-491B-86BD-1DC8F2CE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AC7D8-1DA4-404B-8362-446901D3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AF510-FDBD-46AE-A3A2-B5ECC802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BF5E4-A665-4E49-BE8F-1111F523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6D29E-2ACB-4D9B-AAF9-C33F5F11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07DF0-2FDF-4E7B-9C9B-7AFC34F3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A7E4C-9A0A-4FC2-BCBC-4FFB568A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C3656-5CBF-4E89-ACDF-753ED93E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3D5C7-001B-4768-8E00-10858AE6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756E-DD36-4C1F-9D19-8834ADAA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50B74-1D49-4D56-835B-5E6EC612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EE4DB-035E-49EC-AA22-DDBE29DF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77935-1909-4015-82B8-47D358BA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7BBD-17C3-4B99-AA80-9D2117D9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0518-959A-4EEB-96B8-26D2E997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F1D2-A64E-478B-8434-360A2E1B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5993-D3B1-491F-ABFF-441A14D5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B29C-6E19-4A37-A71F-2BA26CFB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392B-B928-49F2-9D85-7EC1F41D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37D-0D7F-4E90-8AE5-9A864C33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B457-59A7-4491-BFDA-3F2B5E7E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0BC7-B68B-4EE8-A9AD-CD9277D8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455B-D3E8-4D59-8F6F-9D0B3E28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5987-0845-42F1-A9CD-4F653F8C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C427-C46E-48F5-AD33-76226B99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4E118-850B-44A8-9922-C1B5A39C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D56E2-6490-4EB7-987D-4C8B5EE9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42290-EA92-4ED0-A63F-46AC8ACB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4DA45-A736-42A5-A91C-F94B1573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00B78-BCFC-4631-B3C3-951119E4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1ED9-58DE-403B-8B75-B390CB33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B0DB6-987A-4933-AD09-BA10B38D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E28AD-A8B7-40F4-9F8B-F4C2AEB1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0FA86-90D4-4FDE-ABC1-F3DB3262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7ACA0-A605-4A7F-A42E-99FCCD6B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AD7A9-B4D7-411D-9FED-17E0B96A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67CA5-6909-44CE-8912-2C42E008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BA15A-34A5-4BDE-84E2-2B0C128E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3FBC8-A8AC-4666-B98E-3958E53A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F7F92-127B-4913-ABEB-139F998E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82EE6-CB76-4518-94C3-ABE86BD6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53A-C4E3-40B6-A62F-1DDDE55A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BADC5-FFE1-4DA6-950D-9FA7D2C1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95F08-20C0-45A8-B03D-F8A927BC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984C9-1563-4582-B2BD-6F25F6DA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484C1-9F60-4D97-B1F1-D2E721BC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137B1-E2CC-4285-B44F-22E2B3D2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D3628-DD1E-4C33-BC19-85F33A31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FBDF8-7A06-45A5-8D37-DC3098FB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C66B2-94F0-492A-8770-09BFE548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B2F0E-E338-450C-8F7A-B54387DA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2FA1A-149B-41A5-A46A-1659772A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9E6-0044-441D-9C61-EEC8FBFB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EF2A4-1F68-4ED9-A2A1-3914985D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7208E-83B5-4F0C-98EF-5EDCE1F9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73020-6C4F-4C01-A166-8B28B7A5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4DB2A-9850-4454-ADC5-FAB538C1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496FA-3162-49E3-8A81-F01426F3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455C0-2178-4A8C-895B-95E713E2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052C5-5C71-4CDB-B0E6-8B5A63ED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F8DC1-E75B-4DD3-A0F3-2A8DC63A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DC970-B3B6-4E8D-A9C5-A0D6D449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AE767-00C0-4B34-89DF-0B658A62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2E1-B495-41D3-B7F3-75239C0D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F6226-06C0-4A74-B390-18B3735D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3DA7F-8269-4D49-B216-560BF17A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AE331-1E14-4873-90B7-BC397426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8E96C-9CA8-4EEB-97A9-ED843030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789E0-D98B-44BB-A407-9441F8DD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DFBD1-1F10-417F-85E1-DC938E5C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A58B4-6210-4B02-B034-D88BD598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D3D96-F3E7-445C-8C93-24C2CA22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6DCCB-B32B-48CD-9FE1-9FCA4BE4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85FFA-D5BE-4BC4-829A-DAC43C68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3E72-C7C4-4399-95CB-444E672A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0BFB0-12B6-4F0C-9211-4DC7D1A9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33D80-EB61-4A9D-83B1-E4F60946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17378-5D2B-42A2-9853-6E037E22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3D355-17D9-414A-BB4D-2A79E153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CE02D-6835-4876-8164-AA63AEA6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453EE-0565-40FF-AC23-580D3047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1CECE-1BB8-49E7-86F0-77E766DE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61646-90C4-4D45-A009-AD5C827F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5526D-8AB2-4A18-A778-52E2D160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E6B24-A706-450A-8F28-9B6138AB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6EE-09FF-4939-BF9D-1C8C6261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0EAAB-7B4B-4B18-B811-EB2EECAF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9F680-9FD4-4FE4-AAC2-903995B6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6C04C-37E3-4631-AEB3-3F5450C7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86B05-65BB-48CB-9F6F-6DAAD90B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4D039-F3B7-4D05-AF9D-D38BF89B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FCF45-239E-4350-AFB7-81AE066E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F90F4-A4EE-4021-B5E2-646D4F71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F09AD-6D3D-4D02-B3A7-BA124157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015E8-F27B-4A7E-9D6A-E49DDA82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AAF2F-C0D4-41A9-A069-A9CA530B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14A-CB24-48D2-9C7E-1F9174EC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2C002-2FB3-439D-BF1F-45393E69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522B4-8197-435A-B41A-8BDD7CEB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5EC39-6988-40B5-B401-7D41563E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020E5-4737-4B42-8C8F-E67A4709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EC386-8B98-47DE-A97C-DED7DB66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6BDC3-C048-4485-B502-56386917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7CCEE-86C3-41DC-B649-5D044210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94A14-8F85-4B4F-9BF3-612B9FB5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F9460-7188-4BCD-9947-67A0EBA0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F2DBD-5215-4D3A-874A-65CE4C49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CFC3-6AD1-4F23-A963-1FD3376AF0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4811-36E1-430E-AFE3-9A90E24899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5C3F-0224-4FA8-905B-B58961D743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634A-ADF5-4B32-9FA7-73A2E62FA2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79E1-A086-469B-9977-209A64E3B3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A917-31CF-45C2-A0C4-47CB505FC4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90CF-523C-426C-AC8F-AF0105AF95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FDB0-7388-4DB6-830D-53C42375BA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AF1B-E3C0-45CA-BCBF-9985CBA1BA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C723-7404-42ED-9295-28B8B127F6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21AE-7EF3-4F73-BCBF-A9A586FE04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38913" descr="D066"/>
          <p:cNvPicPr/>
          <p:nvPr/>
        </p:nvPicPr>
        <p:blipFill>
          <a:blip r:embed="rId1"/>
          <a:srcRect l="0" t="0" r="735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矩形 38914"/>
          <p:cNvSpPr/>
          <p:nvPr/>
        </p:nvSpPr>
        <p:spPr>
          <a:xfrm rot="20962800">
            <a:off x="4957560" y="4669920"/>
            <a:ext cx="2303280" cy="627120"/>
          </a:xfrm>
          <a:prstGeom prst="rect">
            <a:avLst/>
          </a:prstGeom>
          <a:solidFill>
            <a:srgbClr val="0000cc"/>
          </a:solidFill>
          <a:ln w="57240">
            <a:solidFill>
              <a:srgbClr val="7e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18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楷体"/>
              </a:rPr>
              <a:t>古今词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38915"/>
          <p:cNvSpPr/>
          <p:nvPr/>
        </p:nvSpPr>
        <p:spPr>
          <a:xfrm rot="21025800">
            <a:off x="1449360" y="1080720"/>
            <a:ext cx="6392880" cy="13737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</a:t>
            </a:r>
            <a:r>
              <a:rPr b="1" lang="zh-CN" sz="4800" spc="-1" strike="noStrike">
                <a:solidFill>
                  <a:srgbClr val="ffffff"/>
                </a:solidFill>
                <a:latin typeface="华文楷体"/>
                <a:ea typeface="华文楷体"/>
              </a:rPr>
              <a:t>金陵怀古，诸公寄调</a:t>
            </a:r>
            <a:r>
              <a:rPr b="1" lang="en-US" sz="4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《</a:t>
            </a:r>
            <a:r>
              <a:rPr b="1" lang="zh-CN" sz="4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桂枝香</a:t>
            </a:r>
            <a:r>
              <a:rPr b="1" lang="en-US" sz="4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》</a:t>
            </a:r>
            <a:r>
              <a:rPr b="1" lang="zh-CN" sz="4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者三十余家，唯王介甫为绝唱。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图片 41992" descr="夜宿山寺  李白"/>
          <p:cNvPicPr/>
          <p:nvPr/>
        </p:nvPicPr>
        <p:blipFill>
          <a:blip r:embed="rId1"/>
          <a:srcRect l="31099" t="14948" r="32292" b="13853"/>
          <a:stretch/>
        </p:blipFill>
        <p:spPr>
          <a:xfrm>
            <a:off x="0" y="836640"/>
            <a:ext cx="3635280" cy="6021360"/>
          </a:xfrm>
          <a:prstGeom prst="rect">
            <a:avLst/>
          </a:prstGeom>
          <a:ln w="0">
            <a:noFill/>
          </a:ln>
        </p:spPr>
      </p:pic>
      <p:sp>
        <p:nvSpPr>
          <p:cNvPr id="486" name="文本框 41987"/>
          <p:cNvSpPr/>
          <p:nvPr/>
        </p:nvSpPr>
        <p:spPr>
          <a:xfrm>
            <a:off x="0" y="0"/>
            <a:ext cx="4788000" cy="10083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Verdana"/>
                <a:ea typeface="华文楷体"/>
              </a:rPr>
              <a:t>上片：写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41988"/>
          <p:cNvSpPr/>
          <p:nvPr/>
        </p:nvSpPr>
        <p:spPr>
          <a:xfrm>
            <a:off x="3130560" y="1124640"/>
            <a:ext cx="601344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华文楷体"/>
              </a:rPr>
              <a:t>登临送目，正故国晚秋，天气初肃。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41989"/>
          <p:cNvSpPr/>
          <p:nvPr/>
        </p:nvSpPr>
        <p:spPr>
          <a:xfrm>
            <a:off x="3564000" y="2742480"/>
            <a:ext cx="5040360" cy="31413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地点</a:t>
            </a:r>
            <a:r>
              <a:rPr b="1" lang="en-US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:</a:t>
            </a: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故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时令</a:t>
            </a:r>
            <a:r>
              <a:rPr b="1" lang="en-US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晚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天气</a:t>
            </a:r>
            <a:r>
              <a:rPr b="1" lang="en-US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:</a:t>
            </a: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初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把全词置于一个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华文楷体"/>
                <a:ea typeface="华文楷体"/>
              </a:rPr>
              <a:t>凭栏远眺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的角度，一片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华文楷体"/>
                <a:ea typeface="华文楷体"/>
              </a:rPr>
              <a:t>秋色肃杀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的气氛之中，气势已是不凡</a:t>
            </a: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图片 45060" descr="001a"/>
          <p:cNvPicPr/>
          <p:nvPr/>
        </p:nvPicPr>
        <p:blipFill>
          <a:blip r:embed="rId2">
            <a:lum bright="14000"/>
          </a:blip>
          <a:srcRect l="5192" t="4624" r="23882" b="7516"/>
          <a:stretch/>
        </p:blipFill>
        <p:spPr>
          <a:xfrm>
            <a:off x="5724360" y="692280"/>
            <a:ext cx="2951280" cy="5400720"/>
          </a:xfrm>
          <a:prstGeom prst="rect">
            <a:avLst/>
          </a:prstGeom>
          <a:ln w="0">
            <a:noFill/>
          </a:ln>
        </p:spPr>
      </p:pic>
      <p:sp>
        <p:nvSpPr>
          <p:cNvPr id="490" name="矩形 45061"/>
          <p:cNvSpPr/>
          <p:nvPr/>
        </p:nvSpPr>
        <p:spPr>
          <a:xfrm>
            <a:off x="0" y="3137400"/>
            <a:ext cx="550872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千里长江明净得如同一匹素白的绸缎， 两岸苍翠的群峰好似箭头一样突出 、峭拔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45064"/>
          <p:cNvSpPr/>
          <p:nvPr/>
        </p:nvSpPr>
        <p:spPr>
          <a:xfrm>
            <a:off x="5724360" y="620640"/>
            <a:ext cx="2951280" cy="5472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45065"/>
          <p:cNvSpPr/>
          <p:nvPr/>
        </p:nvSpPr>
        <p:spPr>
          <a:xfrm>
            <a:off x="5580000" y="0"/>
            <a:ext cx="3564000" cy="685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45066"/>
          <p:cNvSpPr/>
          <p:nvPr/>
        </p:nvSpPr>
        <p:spPr>
          <a:xfrm>
            <a:off x="1403280" y="981000"/>
            <a:ext cx="3600360" cy="104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楷体_GB2312"/>
              </a:rPr>
              <a:t>澄江静如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—</a:t>
            </a:r>
            <a:r>
              <a:rPr b="1" lang="zh-CN" sz="2000" spc="-1" strike="noStrike">
                <a:solidFill>
                  <a:srgbClr val="ffff00"/>
                </a:solidFill>
                <a:latin typeface="Verdana"/>
                <a:ea typeface="楷体_GB2312"/>
              </a:rPr>
              <a:t>谢朓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ffff00"/>
                </a:solidFill>
                <a:latin typeface="Verdana"/>
                <a:ea typeface="楷体_GB2312"/>
              </a:rPr>
              <a:t>晚登三山还望京邑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楷体_GB2312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45067"/>
          <p:cNvSpPr/>
          <p:nvPr/>
        </p:nvSpPr>
        <p:spPr>
          <a:xfrm>
            <a:off x="0" y="187920"/>
            <a:ext cx="547056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楷体"/>
              </a:rPr>
              <a:t>千里澄江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华文楷体"/>
              </a:rPr>
              <a:t>似练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楷体"/>
              </a:rPr>
              <a:t>，翠峰如簇。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45069"/>
          <p:cNvSpPr/>
          <p:nvPr/>
        </p:nvSpPr>
        <p:spPr>
          <a:xfrm>
            <a:off x="0" y="5157720"/>
            <a:ext cx="550872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Verdana"/>
                <a:ea typeface="楷体_GB2312"/>
              </a:rPr>
              <a:t>	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对山水的</a:t>
            </a:r>
            <a:r>
              <a:rPr b="1" lang="zh-CN" sz="4800" spc="-1" strike="noStrike">
                <a:solidFill>
                  <a:srgbClr val="ffff00"/>
                </a:solidFill>
                <a:latin typeface="Verdana"/>
                <a:ea typeface="楷体_GB2312"/>
              </a:rPr>
              <a:t>静态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描绘：</a:t>
            </a:r>
            <a:r>
              <a:rPr b="1" lang="zh-CN" sz="4800" spc="-1" strike="noStrike">
                <a:solidFill>
                  <a:srgbClr val="ffff00"/>
                </a:solidFill>
                <a:latin typeface="Verdana"/>
                <a:ea typeface="楷体_GB2312"/>
              </a:rPr>
              <a:t>澄澈、峭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600"/>
                            </p:stCondLst>
                            <p:childTnLst>
                              <p:par>
                                <p:cTn id="148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100"/>
                            </p:stCondLst>
                            <p:childTnLst>
                              <p:par>
                                <p:cTn id="15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图片 46087" descr="隋宫"/>
          <p:cNvPicPr/>
          <p:nvPr/>
        </p:nvPicPr>
        <p:blipFill>
          <a:blip r:embed="rId1"/>
          <a:stretch/>
        </p:blipFill>
        <p:spPr>
          <a:xfrm>
            <a:off x="5832360" y="0"/>
            <a:ext cx="3348000" cy="685800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46088" descr="隋宫"/>
          <p:cNvPicPr/>
          <p:nvPr/>
        </p:nvPicPr>
        <p:blipFill>
          <a:blip r:embed="rId2"/>
          <a:srcRect l="78009" t="17132" r="779" b="56049"/>
          <a:stretch/>
        </p:blipFill>
        <p:spPr>
          <a:xfrm>
            <a:off x="6084720" y="2492280"/>
            <a:ext cx="648000" cy="1081080"/>
          </a:xfrm>
          <a:prstGeom prst="rect">
            <a:avLst/>
          </a:prstGeom>
          <a:ln w="0">
            <a:noFill/>
          </a:ln>
        </p:spPr>
      </p:pic>
      <p:sp>
        <p:nvSpPr>
          <p:cNvPr id="498" name="矩形 46091"/>
          <p:cNvSpPr/>
          <p:nvPr/>
        </p:nvSpPr>
        <p:spPr>
          <a:xfrm>
            <a:off x="0" y="1250640"/>
            <a:ext cx="5724360" cy="10688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江中的船帆在夕阳里往来如梭</a:t>
            </a:r>
            <a:r>
              <a:rPr b="1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西风乍起处</a:t>
            </a:r>
            <a:r>
              <a:rPr b="1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近旁江岸酒楼处斜插的旗</a:t>
            </a:r>
            <a:r>
              <a:rPr b="1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迎风飘扬。（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动态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图片 46092" descr="隋宫"/>
          <p:cNvPicPr/>
          <p:nvPr/>
        </p:nvPicPr>
        <p:blipFill>
          <a:blip r:embed="rId3"/>
          <a:srcRect l="77973" t="18584" r="779" b="57138"/>
          <a:stretch/>
        </p:blipFill>
        <p:spPr>
          <a:xfrm>
            <a:off x="6732720" y="1413000"/>
            <a:ext cx="495000" cy="936360"/>
          </a:xfrm>
          <a:prstGeom prst="rect">
            <a:avLst/>
          </a:prstGeom>
          <a:ln w="0">
            <a:noFill/>
          </a:ln>
        </p:spPr>
      </p:pic>
      <p:sp>
        <p:nvSpPr>
          <p:cNvPr id="500" name="矩形 46093"/>
          <p:cNvSpPr/>
          <p:nvPr/>
        </p:nvSpPr>
        <p:spPr>
          <a:xfrm>
            <a:off x="0" y="-720"/>
            <a:ext cx="723600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征帆去棹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残阳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里，背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西风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酒旗斜矗。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46094"/>
          <p:cNvSpPr/>
          <p:nvPr/>
        </p:nvSpPr>
        <p:spPr>
          <a:xfrm>
            <a:off x="0" y="2924280"/>
            <a:ext cx="133200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残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46095"/>
          <p:cNvSpPr/>
          <p:nvPr/>
        </p:nvSpPr>
        <p:spPr>
          <a:xfrm>
            <a:off x="0" y="3789360"/>
            <a:ext cx="194472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楷体_GB2312"/>
              </a:rPr>
              <a:t>西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46096"/>
          <p:cNvSpPr/>
          <p:nvPr/>
        </p:nvSpPr>
        <p:spPr>
          <a:xfrm>
            <a:off x="1116000" y="2924280"/>
            <a:ext cx="460836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华文楷体"/>
              </a:rPr>
              <a:t>补叙登临的时间，是在傍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46097"/>
          <p:cNvSpPr/>
          <p:nvPr/>
        </p:nvSpPr>
        <p:spPr>
          <a:xfrm>
            <a:off x="1258920" y="3789360"/>
            <a:ext cx="345600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华文楷体"/>
              </a:rPr>
              <a:t>照应上文的“晚秋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46098"/>
          <p:cNvSpPr/>
          <p:nvPr/>
        </p:nvSpPr>
        <p:spPr>
          <a:xfrm>
            <a:off x="0" y="4724280"/>
            <a:ext cx="5724360" cy="10083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erdana"/>
                <a:ea typeface="华文楷体"/>
              </a:rPr>
              <a:t>  </a:t>
            </a:r>
            <a:r>
              <a:rPr b="1" lang="zh-CN" sz="6000" spc="-1" strike="noStrike">
                <a:solidFill>
                  <a:srgbClr val="ffff00"/>
                </a:solidFill>
                <a:latin typeface="Verdana"/>
                <a:ea typeface="华文楷体"/>
              </a:rPr>
              <a:t>萧索</a:t>
            </a: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华文楷体"/>
              </a:rPr>
              <a:t>，以</a:t>
            </a:r>
            <a:r>
              <a:rPr b="1" lang="zh-CN" sz="6000" spc="-1" strike="noStrike">
                <a:solidFill>
                  <a:srgbClr val="ffff00"/>
                </a:solidFill>
                <a:latin typeface="Verdana"/>
                <a:ea typeface="华文楷体"/>
              </a:rPr>
              <a:t>“悲情”</a:t>
            </a: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华文楷体"/>
              </a:rPr>
              <a:t>为基调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800"/>
                            </p:stCondLst>
                            <p:childTnLst>
                              <p:par>
                                <p:cTn id="18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300"/>
                            </p:stCondLst>
                            <p:childTnLst>
                              <p:par>
                                <p:cTn id="18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800"/>
                            </p:stCondLst>
                            <p:childTnLst>
                              <p:par>
                                <p:cTn id="19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48132" descr="20051116215925119"/>
          <p:cNvPicPr/>
          <p:nvPr/>
        </p:nvPicPr>
        <p:blipFill>
          <a:blip r:embed="rId1"/>
          <a:stretch/>
        </p:blipFill>
        <p:spPr>
          <a:xfrm>
            <a:off x="0" y="2708280"/>
            <a:ext cx="9144000" cy="4176720"/>
          </a:xfrm>
          <a:prstGeom prst="rect">
            <a:avLst/>
          </a:prstGeom>
          <a:ln w="0">
            <a:noFill/>
          </a:ln>
        </p:spPr>
      </p:pic>
      <p:pic>
        <p:nvPicPr>
          <p:cNvPr id="507" name="图片 48133" descr="U68P2T1D452448F2755DT20041102151036"/>
          <p:cNvPicPr/>
          <p:nvPr/>
        </p:nvPicPr>
        <p:blipFill>
          <a:blip r:embed="rId2">
            <a:lum bright="14000"/>
          </a:blip>
          <a:srcRect l="23811" t="45977" r="59135" b="43843"/>
          <a:stretch/>
        </p:blipFill>
        <p:spPr>
          <a:xfrm rot="812400">
            <a:off x="5076720" y="4510080"/>
            <a:ext cx="432000" cy="268200"/>
          </a:xfrm>
          <a:prstGeom prst="rect">
            <a:avLst/>
          </a:prstGeom>
          <a:ln w="0">
            <a:noFill/>
          </a:ln>
        </p:spPr>
      </p:pic>
      <p:pic>
        <p:nvPicPr>
          <p:cNvPr id="508" name="图片 48135" descr="U68P2T1D452448F2755DT20041102151036"/>
          <p:cNvPicPr/>
          <p:nvPr/>
        </p:nvPicPr>
        <p:blipFill>
          <a:blip r:embed="rId3">
            <a:lum bright="10000"/>
          </a:blip>
          <a:srcRect l="70308" t="45977" r="5843" b="28521"/>
          <a:stretch/>
        </p:blipFill>
        <p:spPr>
          <a:xfrm>
            <a:off x="6373800" y="5084640"/>
            <a:ext cx="938160" cy="66852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48139" descr="U68P2T1D452448F2755DT20041102151036"/>
          <p:cNvPicPr/>
          <p:nvPr/>
        </p:nvPicPr>
        <p:blipFill>
          <a:blip r:embed="rId4">
            <a:lum bright="14000"/>
          </a:blip>
          <a:srcRect l="23811" t="45977" r="59135" b="43843"/>
          <a:stretch/>
        </p:blipFill>
        <p:spPr>
          <a:xfrm>
            <a:off x="5797440" y="4869000"/>
            <a:ext cx="647640" cy="40320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48140" descr="U68P2T1D452448F2755DT20041102151036"/>
          <p:cNvPicPr/>
          <p:nvPr/>
        </p:nvPicPr>
        <p:blipFill>
          <a:blip r:embed="rId5">
            <a:lum bright="14000"/>
          </a:blip>
          <a:srcRect l="23811" t="45977" r="59135" b="43843"/>
          <a:stretch/>
        </p:blipFill>
        <p:spPr>
          <a:xfrm rot="1503000">
            <a:off x="5436720" y="4726080"/>
            <a:ext cx="432000" cy="268200"/>
          </a:xfrm>
          <a:prstGeom prst="rect">
            <a:avLst/>
          </a:prstGeom>
          <a:ln w="0">
            <a:noFill/>
          </a:ln>
        </p:spPr>
      </p:pic>
      <p:sp>
        <p:nvSpPr>
          <p:cNvPr id="511" name="矩形 48141"/>
          <p:cNvSpPr/>
          <p:nvPr/>
        </p:nvSpPr>
        <p:spPr>
          <a:xfrm>
            <a:off x="0" y="-103680"/>
            <a:ext cx="9144000" cy="7948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00"/>
                </a:solidFill>
                <a:latin typeface="Verdana"/>
              </a:rPr>
              <a:t>彩舟云淡，星河鹭起，画图难足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48142"/>
          <p:cNvSpPr/>
          <p:nvPr/>
        </p:nvSpPr>
        <p:spPr>
          <a:xfrm flipV="1" rot="10800000">
            <a:off x="-360" y="1299960"/>
            <a:ext cx="9147240" cy="7034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日落西山 ，天高云淡，彩舟徐行。江水溶溶，波光粼粼，一行白鹭迎着绚丽的彩霞飞向远方，隐入空蒙的天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48143"/>
          <p:cNvSpPr/>
          <p:nvPr/>
        </p:nvSpPr>
        <p:spPr>
          <a:xfrm>
            <a:off x="0" y="263628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滕王阁序</a:t>
            </a:r>
            <a:r>
              <a:rPr b="1" lang="en-US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“落霞与孤鹜齐飞，秋水共长天一色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120"/>
                            </p:stCondLst>
                            <p:childTnLst>
                              <p:par>
                                <p:cTn id="23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120"/>
                            </p:stCondLst>
                            <p:childTnLst>
                              <p:par>
                                <p:cTn id="24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620"/>
                            </p:stCondLst>
                            <p:childTnLst>
                              <p:par>
                                <p:cTn id="24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120"/>
                            </p:stCondLst>
                            <p:childTnLst>
                              <p:par>
                                <p:cTn id="25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620"/>
                            </p:stCondLst>
                            <p:childTnLst>
                              <p:par>
                                <p:cTn id="25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0" y="0"/>
          <a:ext cx="9144000" cy="6816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澄江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翠峰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征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  <a:ea typeface="华文楷体"/>
                        </a:rPr>
                        <a:t>登临送目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近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酒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彩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远</a:t>
                      </a: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白鹭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</a:tr>
            </a:tbl>
          </a:graphicData>
        </a:graphic>
      </p:graphicFrame>
      <p:sp>
        <p:nvSpPr>
          <p:cNvPr id="515" name="左大括号 82951"/>
          <p:cNvSpPr/>
          <p:nvPr/>
        </p:nvSpPr>
        <p:spPr>
          <a:xfrm>
            <a:off x="1979640" y="1052640"/>
            <a:ext cx="358920" cy="2808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73080 h 2808000"/>
              <a:gd name="textAreaBottom" fmla="*/ 2734920 h 28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左大括号 82952"/>
          <p:cNvSpPr/>
          <p:nvPr/>
        </p:nvSpPr>
        <p:spPr>
          <a:xfrm>
            <a:off x="2987640" y="404640"/>
            <a:ext cx="504720" cy="1008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0 h 1008360"/>
              <a:gd name="textAreaBottom" fmla="*/ 10083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左大括号 82953"/>
          <p:cNvSpPr/>
          <p:nvPr/>
        </p:nvSpPr>
        <p:spPr>
          <a:xfrm>
            <a:off x="3132000" y="1916280"/>
            <a:ext cx="360360" cy="1079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720 h 1079280"/>
              <a:gd name="textAreaBottom" fmla="*/ 107856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"/>
                  <a:pt x="10800" y="63"/>
                </a:cubicBezTo>
                <a:lnTo>
                  <a:pt x="10800" y="10737"/>
                </a:lnTo>
                <a:cubicBezTo>
                  <a:pt x="10800" y="10769"/>
                  <a:pt x="5400" y="10800"/>
                  <a:pt x="0" y="10800"/>
                </a:cubicBezTo>
                <a:cubicBezTo>
                  <a:pt x="5400" y="10800"/>
                  <a:pt x="10800" y="10832"/>
                  <a:pt x="10800" y="10863"/>
                </a:cubicBezTo>
                <a:lnTo>
                  <a:pt x="10800" y="21537"/>
                </a:lnTo>
                <a:cubicBezTo>
                  <a:pt x="10800" y="2156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左大括号 82954"/>
          <p:cNvSpPr/>
          <p:nvPr/>
        </p:nvSpPr>
        <p:spPr>
          <a:xfrm>
            <a:off x="3203640" y="3573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右大括号 82955"/>
          <p:cNvSpPr/>
          <p:nvPr/>
        </p:nvSpPr>
        <p:spPr>
          <a:xfrm>
            <a:off x="5003640" y="404640"/>
            <a:ext cx="792360" cy="4104000"/>
          </a:xfrm>
          <a:custGeom>
            <a:avLst/>
            <a:gdLst>
              <a:gd name="textAreaLeft" fmla="*/ 0 w 792360"/>
              <a:gd name="textAreaRight" fmla="*/ 286200 w 792360"/>
              <a:gd name="textAreaTop" fmla="*/ 106920 h 4104000"/>
              <a:gd name="textAreaBottom" fmla="*/ 3997080 h 410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82956"/>
          <p:cNvSpPr/>
          <p:nvPr/>
        </p:nvSpPr>
        <p:spPr>
          <a:xfrm>
            <a:off x="5867280" y="1557360"/>
            <a:ext cx="18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82957"/>
          <p:cNvSpPr/>
          <p:nvPr/>
        </p:nvSpPr>
        <p:spPr>
          <a:xfrm>
            <a:off x="5940360" y="112536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楷体"/>
              </a:rPr>
              <a:t>作者通过对这些意象的描绘，为我们展示了一幅秀丽的山河图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横卷形 69642"/>
          <p:cNvSpPr/>
          <p:nvPr/>
        </p:nvSpPr>
        <p:spPr>
          <a:xfrm>
            <a:off x="395280" y="476280"/>
            <a:ext cx="8136000" cy="604836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69636"/>
          <p:cNvSpPr txBox="1"/>
          <p:nvPr/>
        </p:nvSpPr>
        <p:spPr>
          <a:xfrm>
            <a:off x="5867280" y="3068640"/>
            <a:ext cx="25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画图难足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24" name="文本框 69637"/>
          <p:cNvSpPr/>
          <p:nvPr/>
        </p:nvSpPr>
        <p:spPr>
          <a:xfrm>
            <a:off x="2843280" y="1413000"/>
            <a:ext cx="2808360" cy="41612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楷体"/>
              </a:rPr>
              <a:t>有点有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楷体"/>
              </a:rPr>
              <a:t>有实有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楷体"/>
              </a:rPr>
              <a:t>远近交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楷体"/>
              </a:rPr>
              <a:t>动静结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文本框 49153"/>
          <p:cNvSpPr/>
          <p:nvPr/>
        </p:nvSpPr>
        <p:spPr>
          <a:xfrm>
            <a:off x="0" y="0"/>
            <a:ext cx="622764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Verdana"/>
                <a:ea typeface="华文楷体"/>
              </a:rPr>
              <a:t>下片：怀古，抒发感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49154" descr="14"/>
          <p:cNvPicPr/>
          <p:nvPr/>
        </p:nvPicPr>
        <p:blipFill>
          <a:blip r:embed="rId1"/>
          <a:srcRect l="32750" t="35282" r="0" b="6753"/>
          <a:stretch/>
        </p:blipFill>
        <p:spPr>
          <a:xfrm>
            <a:off x="6227640" y="0"/>
            <a:ext cx="291636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矩形 49155"/>
          <p:cNvSpPr/>
          <p:nvPr/>
        </p:nvSpPr>
        <p:spPr>
          <a:xfrm>
            <a:off x="0" y="1140480"/>
            <a:ext cx="6227640" cy="7034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念往昔、繁华竞逐，叹门外楼头，悲恨相续。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49156"/>
          <p:cNvSpPr/>
          <p:nvPr/>
        </p:nvSpPr>
        <p:spPr>
          <a:xfrm>
            <a:off x="0" y="2203920"/>
            <a:ext cx="62276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　用典：杜牧的</a:t>
            </a:r>
            <a:r>
              <a:rPr b="1" lang="en-US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台城曲</a:t>
            </a:r>
            <a:r>
              <a:rPr b="1" lang="en-US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“门外韩擒虎，楼头张丽华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49157"/>
          <p:cNvSpPr/>
          <p:nvPr/>
        </p:nvSpPr>
        <p:spPr>
          <a:xfrm>
            <a:off x="0" y="3284280"/>
            <a:ext cx="6227640" cy="11912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楷体"/>
              </a:rPr>
              <a:t>这种“悲恨相续”的亡国悲剧连续发生的原因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49158"/>
          <p:cNvSpPr/>
          <p:nvPr/>
        </p:nvSpPr>
        <p:spPr>
          <a:xfrm>
            <a:off x="0" y="4581360"/>
            <a:ext cx="6227640" cy="14346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Verdana"/>
                <a:ea typeface="华文楷体"/>
              </a:rPr>
              <a:t>繁华竞逐：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华文楷体"/>
              </a:rPr>
              <a:t>把六朝统治者</a:t>
            </a:r>
            <a:r>
              <a:rPr b="1" lang="zh-CN" sz="4400" spc="-1" strike="noStrike">
                <a:solidFill>
                  <a:srgbClr val="ffff00"/>
                </a:solidFill>
                <a:latin typeface="Verdana"/>
                <a:ea typeface="华文楷体"/>
              </a:rPr>
              <a:t>因穷奢极欲而亡国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华文楷体"/>
              </a:rPr>
              <a:t>这一根本原因揭示了出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50181" descr="登岳阳楼诗画欣赏"/>
          <p:cNvPicPr/>
          <p:nvPr/>
        </p:nvPicPr>
        <p:blipFill>
          <a:blip r:embed="rId1"/>
          <a:srcRect l="6224" t="0" r="0" b="13930"/>
          <a:stretch/>
        </p:blipFill>
        <p:spPr>
          <a:xfrm>
            <a:off x="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矩形 50179"/>
          <p:cNvSpPr/>
          <p:nvPr/>
        </p:nvSpPr>
        <p:spPr>
          <a:xfrm>
            <a:off x="0" y="-181800"/>
            <a:ext cx="9144000" cy="10083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楷体"/>
                <a:ea typeface="华文楷体"/>
              </a:rPr>
              <a:t>千古凭高对此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，</a:t>
            </a:r>
            <a:r>
              <a:rPr b="1" lang="zh-CN" sz="6000" spc="-1" strike="noStrike">
                <a:solidFill>
                  <a:srgbClr val="ffff00"/>
                </a:solidFill>
                <a:latin typeface="华文楷体"/>
                <a:ea typeface="华文楷体"/>
              </a:rPr>
              <a:t>漫嗟荣辱。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50182"/>
          <p:cNvSpPr/>
          <p:nvPr/>
        </p:nvSpPr>
        <p:spPr>
          <a:xfrm>
            <a:off x="0" y="1385640"/>
            <a:ext cx="9144000" cy="11912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批判千古以来文人骚客面对金陵山川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只知慨叹朝代的兴亡，未能跳出荣辱的小圈子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，站不到应有的高度，也就很难从六朝的相继覆灭中引出历史的教训。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50183"/>
          <p:cNvSpPr/>
          <p:nvPr/>
        </p:nvSpPr>
        <p:spPr>
          <a:xfrm>
            <a:off x="3348000" y="3789360"/>
            <a:ext cx="5796000" cy="178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后人哀之而不鉴之，亦使后人而复哀后人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—</a:t>
            </a: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杜牧 </a:t>
            </a:r>
            <a:r>
              <a:rPr b="1" lang="en-US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《</a:t>
            </a: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阿房宫赋</a:t>
            </a:r>
            <a:r>
              <a:rPr b="1" lang="en-US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图片 52228" descr="sqhy012"/>
          <p:cNvPicPr/>
          <p:nvPr/>
        </p:nvPicPr>
        <p:blipFill>
          <a:blip r:embed="rId1"/>
          <a:stretch/>
        </p:blipFill>
        <p:spPr>
          <a:xfrm>
            <a:off x="250920" y="260280"/>
            <a:ext cx="3047760" cy="3097440"/>
          </a:xfrm>
          <a:prstGeom prst="rect">
            <a:avLst/>
          </a:prstGeom>
          <a:ln w="0">
            <a:noFill/>
          </a:ln>
        </p:spPr>
      </p:pic>
      <p:sp>
        <p:nvSpPr>
          <p:cNvPr id="536" name="矩形 52229"/>
          <p:cNvSpPr/>
          <p:nvPr/>
        </p:nvSpPr>
        <p:spPr>
          <a:xfrm>
            <a:off x="3348000" y="608760"/>
            <a:ext cx="5796000" cy="7034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华文楷体"/>
              </a:rPr>
              <a:t>六朝旧事随流水，但寒烟芳草凝绿。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华文楷体"/>
              </a:rPr>
              <a:t>至今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华文楷体"/>
              </a:rPr>
              <a:t>商女，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华文楷体"/>
              </a:rPr>
              <a:t>时时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华文楷体"/>
              </a:rPr>
              <a:t>犹唱，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华文楷体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华文楷体"/>
              </a:rPr>
              <a:t>后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华文楷体"/>
              </a:rPr>
              <a:t>》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华文楷体"/>
              </a:rPr>
              <a:t>遗曲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52230"/>
          <p:cNvSpPr/>
          <p:nvPr/>
        </p:nvSpPr>
        <p:spPr>
          <a:xfrm>
            <a:off x="3348000" y="1989000"/>
            <a:ext cx="5796000" cy="6426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华文楷体"/>
              </a:rPr>
              <a:t>如何理解“寒烟衰草凝绿”这一景色描写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52231"/>
          <p:cNvSpPr/>
          <p:nvPr/>
        </p:nvSpPr>
        <p:spPr>
          <a:xfrm>
            <a:off x="3348000" y="3284640"/>
            <a:ext cx="5796000" cy="6426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楷体_GB2312"/>
              </a:rPr>
              <a:t>借景抒情，抒发悲叹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52233"/>
          <p:cNvSpPr/>
          <p:nvPr/>
        </p:nvSpPr>
        <p:spPr>
          <a:xfrm>
            <a:off x="0" y="400536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华文楷体"/>
              </a:rPr>
              <a:t>用典：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  <a:ea typeface="华文楷体"/>
              </a:rPr>
              <a:t>杜牧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  <a:ea typeface="华文楷体"/>
              </a:rPr>
              <a:t>泊秦淮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华文楷体"/>
              </a:rPr>
              <a:t>》 “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  <a:ea typeface="华文楷体"/>
              </a:rPr>
              <a:t>商女不知亡国恨，隔江犹唱后庭花。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52234"/>
          <p:cNvSpPr/>
          <p:nvPr/>
        </p:nvSpPr>
        <p:spPr>
          <a:xfrm>
            <a:off x="0" y="4580280"/>
            <a:ext cx="9252000" cy="5054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Verdana"/>
                <a:ea typeface="华文楷体"/>
              </a:rPr>
              <a:t>作者为什么要强调“</a:t>
            </a:r>
            <a:r>
              <a:rPr b="1" lang="zh-CN" sz="2700" spc="-1" strike="noStrike">
                <a:solidFill>
                  <a:srgbClr val="ffff00"/>
                </a:solidFill>
                <a:latin typeface="Verdana"/>
                <a:ea typeface="华文楷体"/>
              </a:rPr>
              <a:t>至今</a:t>
            </a:r>
            <a:r>
              <a:rPr b="1" lang="zh-CN" sz="2700" spc="-1" strike="noStrike">
                <a:solidFill>
                  <a:srgbClr val="ffffff"/>
                </a:solidFill>
                <a:latin typeface="Verdana"/>
                <a:ea typeface="华文楷体"/>
              </a:rPr>
              <a:t>”和“</a:t>
            </a:r>
            <a:r>
              <a:rPr b="1" lang="zh-CN" sz="2700" spc="-1" strike="noStrike">
                <a:solidFill>
                  <a:srgbClr val="ffff00"/>
                </a:solidFill>
                <a:latin typeface="Verdana"/>
                <a:ea typeface="华文楷体"/>
              </a:rPr>
              <a:t>时时</a:t>
            </a:r>
            <a:r>
              <a:rPr b="1" lang="zh-CN" sz="2700" spc="-1" strike="noStrike">
                <a:solidFill>
                  <a:srgbClr val="ffffff"/>
                </a:solidFill>
                <a:latin typeface="Verdana"/>
                <a:ea typeface="华文楷体"/>
              </a:rPr>
              <a:t>”这两个时间副词？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52236"/>
          <p:cNvSpPr/>
          <p:nvPr/>
        </p:nvSpPr>
        <p:spPr>
          <a:xfrm>
            <a:off x="0" y="5157720"/>
            <a:ext cx="914400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不是闲笔，而是最具表现力的直指朝廷积弊的投枪匕首，是为了让统治者对这种导致六朝覆亡的那种奢靡、荒淫的生活有所改变，让悲剧不再重演 ！</a:t>
            </a:r>
            <a:r>
              <a:rPr b="1" lang="zh-CN" sz="3200" spc="-1" strike="noStrike">
                <a:solidFill>
                  <a:srgbClr val="0066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文本框 74755"/>
          <p:cNvSpPr/>
          <p:nvPr/>
        </p:nvSpPr>
        <p:spPr>
          <a:xfrm>
            <a:off x="0" y="0"/>
            <a:ext cx="9144000" cy="32583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100" spc="-1" strike="noStrike">
                <a:solidFill>
                  <a:srgbClr val="ffffff"/>
                </a:solidFill>
                <a:latin typeface="华文楷体"/>
                <a:ea typeface="华文楷体"/>
              </a:rPr>
              <a:t>此首词为金陵怀古词，以笔力峭劲，为东坡所叹赏。</a:t>
            </a:r>
            <a:r>
              <a:rPr b="1" lang="zh-CN" sz="4500" spc="-1" strike="noStrike" u="sng">
                <a:solidFill>
                  <a:srgbClr val="ffff00"/>
                </a:solidFill>
                <a:uFillTx/>
                <a:latin typeface="华文楷体"/>
                <a:ea typeface="华文楷体"/>
              </a:rPr>
              <a:t>上片</a:t>
            </a:r>
            <a:r>
              <a:rPr b="1" lang="zh-CN" sz="4100" spc="-1" strike="noStrike">
                <a:solidFill>
                  <a:srgbClr val="ffff00"/>
                </a:solidFill>
                <a:latin typeface="华文楷体"/>
                <a:ea typeface="华文楷体"/>
              </a:rPr>
              <a:t>写金陵之景，下片抒怀古之情。</a:t>
            </a:r>
            <a:r>
              <a:rPr b="1" lang="zh-CN" sz="4100" spc="-1" strike="noStrike">
                <a:solidFill>
                  <a:srgbClr val="ffffff"/>
                </a:solidFill>
                <a:latin typeface="华文楷体"/>
                <a:ea typeface="华文楷体"/>
              </a:rPr>
              <a:t>“</a:t>
            </a:r>
            <a:r>
              <a:rPr b="1" lang="zh-CN" sz="4100" spc="-1" strike="noStrike">
                <a:solidFill>
                  <a:srgbClr val="ffff00"/>
                </a:solidFill>
                <a:latin typeface="华文楷体"/>
                <a:ea typeface="华文楷体"/>
              </a:rPr>
              <a:t>登临送目</a:t>
            </a:r>
            <a:r>
              <a:rPr b="1" lang="zh-CN" sz="4100" spc="-1" strike="noStrike">
                <a:solidFill>
                  <a:srgbClr val="ffffff"/>
                </a:solidFill>
                <a:latin typeface="华文楷体"/>
                <a:ea typeface="华文楷体"/>
              </a:rPr>
              <a:t>”四字，</a:t>
            </a:r>
            <a:r>
              <a:rPr b="1" lang="zh-CN" sz="4100" spc="-1" strike="noStrike">
                <a:solidFill>
                  <a:srgbClr val="ffff00"/>
                </a:solidFill>
                <a:latin typeface="华文楷体"/>
                <a:ea typeface="华文楷体"/>
              </a:rPr>
              <a:t>笼罩全篇</a:t>
            </a:r>
            <a:r>
              <a:rPr b="1" lang="zh-CN" sz="41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“正故国”两句，言时令天气。“千里”两句，言山水之美。“征帆”以下，皆为江天景色。</a:t>
            </a:r>
            <a:r>
              <a:rPr b="1" lang="zh-CN" sz="4500" spc="-1" strike="noStrike" u="sng">
                <a:solidFill>
                  <a:srgbClr val="ffff00"/>
                </a:solidFill>
                <a:uFillTx/>
                <a:latin typeface="华文楷体"/>
                <a:ea typeface="华文楷体"/>
              </a:rPr>
              <a:t>下片</a:t>
            </a:r>
            <a:r>
              <a:rPr b="1" lang="zh-CN" sz="4100" spc="-1" strike="noStrike">
                <a:solidFill>
                  <a:srgbClr val="ffffff"/>
                </a:solidFill>
                <a:latin typeface="华文楷体"/>
                <a:ea typeface="华文楷体"/>
              </a:rPr>
              <a:t>，历述古今盛衰之感，清空一气。“门外楼头”句，用杜牧之“门外韩擒虎，楼头张丽华”诗意。</a:t>
            </a:r>
            <a:r>
              <a:rPr b="1" lang="en-US" sz="4100" spc="-1" strike="noStrike">
                <a:solidFill>
                  <a:srgbClr val="ffffff"/>
                </a:solidFill>
                <a:latin typeface="华文楷体"/>
                <a:ea typeface="华文楷体"/>
              </a:rPr>
              <a:t>…… “</a:t>
            </a:r>
            <a:r>
              <a:rPr b="1" lang="zh-CN" sz="4100" spc="-1" strike="noStrike">
                <a:solidFill>
                  <a:srgbClr val="ffffff"/>
                </a:solidFill>
                <a:latin typeface="华文楷体"/>
                <a:ea typeface="华文楷体"/>
              </a:rPr>
              <a:t>商女”句，用杜牧</a:t>
            </a:r>
            <a:r>
              <a:rPr b="1" lang="en-US" sz="41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《</a:t>
            </a:r>
            <a:r>
              <a:rPr b="1" lang="zh-CN" sz="4100" spc="-1" strike="noStrike">
                <a:solidFill>
                  <a:srgbClr val="ffffff"/>
                </a:solidFill>
                <a:latin typeface="华文楷体"/>
                <a:ea typeface="华文楷体"/>
              </a:rPr>
              <a:t>泊秦淮</a:t>
            </a:r>
            <a:r>
              <a:rPr b="1" lang="en-US" sz="41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》</a:t>
            </a:r>
            <a:r>
              <a:rPr b="1" lang="zh-CN" sz="4100" spc="-1" strike="noStrike">
                <a:solidFill>
                  <a:srgbClr val="ffffff"/>
                </a:solidFill>
                <a:latin typeface="华文楷体"/>
                <a:ea typeface="华文楷体"/>
              </a:rPr>
              <a:t>诗意。</a:t>
            </a:r>
            <a:r>
              <a:rPr b="1" lang="en-US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—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唐圭璋</a:t>
            </a:r>
            <a:r>
              <a:rPr b="1" lang="en-US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唐宋词简释</a:t>
            </a:r>
            <a:r>
              <a:rPr b="1" lang="en-US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文本框 37892"/>
          <p:cNvSpPr/>
          <p:nvPr/>
        </p:nvSpPr>
        <p:spPr>
          <a:xfrm>
            <a:off x="0" y="0"/>
            <a:ext cx="9144000" cy="62294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ffff"/>
                </a:solidFill>
                <a:latin typeface="Verdana"/>
                <a:ea typeface="华文楷体"/>
              </a:rPr>
              <a:t>子瞻叹曰：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ffff"/>
                </a:solidFill>
                <a:latin typeface="Verdana"/>
                <a:ea typeface="华文楷体"/>
              </a:rPr>
              <a:t>“</a:t>
            </a:r>
            <a:r>
              <a:rPr b="1" lang="zh-CN" sz="10600" spc="-1" strike="noStrike">
                <a:solidFill>
                  <a:srgbClr val="ffff00"/>
                </a:solidFill>
                <a:latin typeface="Verdana"/>
                <a:ea typeface="华文楷体"/>
              </a:rPr>
              <a:t>此老乃野狐精也。</a:t>
            </a:r>
            <a:r>
              <a:rPr b="1" lang="zh-CN" sz="8800" spc="-1" strike="noStrike">
                <a:solidFill>
                  <a:srgbClr val="ffffff"/>
                </a:solidFill>
                <a:latin typeface="Verdana"/>
                <a:ea typeface="华文楷体"/>
              </a:rPr>
              <a:t>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67587" descr="送别"/>
          <p:cNvPicPr/>
          <p:nvPr/>
        </p:nvPicPr>
        <p:blipFill>
          <a:blip r:embed="rId1"/>
          <a:srcRect l="20420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矩形 67586"/>
          <p:cNvSpPr/>
          <p:nvPr/>
        </p:nvSpPr>
        <p:spPr>
          <a:xfrm>
            <a:off x="0" y="0"/>
            <a:ext cx="971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椭圆 67585"/>
          <p:cNvSpPr/>
          <p:nvPr/>
        </p:nvSpPr>
        <p:spPr>
          <a:xfrm>
            <a:off x="36360" y="0"/>
            <a:ext cx="1656000" cy="685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67588"/>
          <p:cNvSpPr txBox="1"/>
          <p:nvPr/>
        </p:nvSpPr>
        <p:spPr>
          <a:xfrm rot="5400000">
            <a:off x="-648000" y="2816280"/>
            <a:ext cx="302580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小  结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547" name="文本框 67594"/>
          <p:cNvSpPr/>
          <p:nvPr/>
        </p:nvSpPr>
        <p:spPr>
          <a:xfrm>
            <a:off x="0" y="0"/>
            <a:ext cx="9144000" cy="61981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华文楷体"/>
                <a:ea typeface="华文楷体"/>
              </a:rPr>
              <a:t>1</a:t>
            </a:r>
            <a:r>
              <a:rPr b="1" lang="zh-CN" sz="7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怀古伤今，寄情遥远，立意高远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华文楷体"/>
                <a:ea typeface="华文楷体"/>
              </a:rPr>
              <a:t>2</a:t>
            </a:r>
            <a:r>
              <a:rPr b="1" lang="zh-CN" sz="72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风格豪放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华文楷体"/>
                <a:ea typeface="华文楷体"/>
              </a:rPr>
              <a:t>3</a:t>
            </a:r>
            <a:r>
              <a:rPr b="1" lang="zh-CN" sz="7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用典自然贴切，笔力刚劲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文本框 61443"/>
          <p:cNvSpPr/>
          <p:nvPr/>
        </p:nvSpPr>
        <p:spPr>
          <a:xfrm>
            <a:off x="0" y="1197000"/>
            <a:ext cx="9144000" cy="14346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请同学们综合分析本首词和</a:t>
            </a:r>
            <a:r>
              <a:rPr b="1" lang="en-US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念奴娇 赤壁怀古</a:t>
            </a:r>
            <a:r>
              <a:rPr b="1" lang="en-US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</a:t>
            </a:r>
            <a:r>
              <a:rPr b="1" lang="en-US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永遇乐  京口北固亭怀古</a:t>
            </a:r>
            <a:r>
              <a:rPr b="1" lang="en-US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三首怀古词，简要概括怀古题材词的特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61444"/>
          <p:cNvSpPr/>
          <p:nvPr/>
        </p:nvSpPr>
        <p:spPr>
          <a:xfrm>
            <a:off x="0" y="4221000"/>
            <a:ext cx="9144000" cy="8251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楷体"/>
              </a:rPr>
              <a:t>从创作目的、内容、章法结构、表现手法、风格等方面考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61451"/>
          <p:cNvSpPr txBox="1"/>
          <p:nvPr/>
        </p:nvSpPr>
        <p:spPr>
          <a:xfrm>
            <a:off x="250920" y="189000"/>
            <a:ext cx="316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拓 展：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cover dir="lu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64515"/>
          <p:cNvSpPr/>
          <p:nvPr/>
        </p:nvSpPr>
        <p:spPr>
          <a:xfrm>
            <a:off x="324000" y="333360"/>
            <a:ext cx="4248000" cy="18003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念奴娇   赤壁怀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  大江东去，浪淘尽，千古风流人物。故垒西边，人道是，三国周郎赤壁。乱石穿空，惊涛拍岸，卷起千堆雪。江山如画，一时多少豪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　遥想公瑾当年，小乔初嫁了，雄姿英发。羽扇纶巾，谈笑间，强虏灰飞烟灭。故国神游，多情 应笑我，早生华发。人生如梦，一尊还酹江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64516"/>
          <p:cNvSpPr/>
          <p:nvPr/>
        </p:nvSpPr>
        <p:spPr>
          <a:xfrm>
            <a:off x="4822920" y="3184560"/>
            <a:ext cx="4321080" cy="9471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千古江山，英雄无觅，孙仲谋处。舞榭歌台，风流总被，雨打风吹去。斜阳草树，寻常巷陌，人道寄奴曾住。想当年，金戈铁马，气吞万里如虎。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 元嘉草草，封狼居胥，赢得仓惶北顾。四十三年，望中犹记，烽火扬州路。可堪回首，佛狸祠下，一片神鸦社鼓。凭谁问，廉颇老矣，尚能饭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64517"/>
          <p:cNvSpPr/>
          <p:nvPr/>
        </p:nvSpPr>
        <p:spPr>
          <a:xfrm>
            <a:off x="5508720" y="188280"/>
            <a:ext cx="278280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京口北固亭怀古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文本框 66563"/>
          <p:cNvSpPr/>
          <p:nvPr/>
        </p:nvSpPr>
        <p:spPr>
          <a:xfrm>
            <a:off x="1189080" y="1557360"/>
            <a:ext cx="345420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怀古实为伤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66564"/>
          <p:cNvSpPr/>
          <p:nvPr/>
        </p:nvSpPr>
        <p:spPr>
          <a:xfrm>
            <a:off x="1187280" y="2349360"/>
            <a:ext cx="532944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多将当时的国事身世写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66565"/>
          <p:cNvSpPr/>
          <p:nvPr/>
        </p:nvSpPr>
        <p:spPr>
          <a:xfrm>
            <a:off x="1116000" y="3281400"/>
            <a:ext cx="705636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上片多为写景，下片多为抒情议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66566"/>
          <p:cNvSpPr/>
          <p:nvPr/>
        </p:nvSpPr>
        <p:spPr>
          <a:xfrm>
            <a:off x="1116000" y="4145040"/>
            <a:ext cx="756144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多用典，借历史人物事件讽喻现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66567"/>
          <p:cNvSpPr/>
          <p:nvPr/>
        </p:nvSpPr>
        <p:spPr>
          <a:xfrm>
            <a:off x="1187280" y="5084640"/>
            <a:ext cx="504036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风格多为雄浑豪放悲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6569"/>
          <p:cNvSpPr txBox="1"/>
          <p:nvPr/>
        </p:nvSpPr>
        <p:spPr>
          <a:xfrm>
            <a:off x="1042920" y="333360"/>
            <a:ext cx="32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怀古词特点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图片 35843" descr="无标题"/>
          <p:cNvPicPr/>
          <p:nvPr/>
        </p:nvPicPr>
        <p:blipFill>
          <a:blip r:embed="rId1">
            <a:lum bright="16000"/>
          </a:blip>
          <a:srcRect l="0" t="0" r="5611" b="0"/>
          <a:stretch/>
        </p:blipFill>
        <p:spPr>
          <a:xfrm>
            <a:off x="0" y="0"/>
            <a:ext cx="2301840" cy="3247920"/>
          </a:xfrm>
          <a:prstGeom prst="rect">
            <a:avLst/>
          </a:prstGeom>
          <a:ln w="0">
            <a:noFill/>
          </a:ln>
        </p:spPr>
      </p:pic>
      <p:sp>
        <p:nvSpPr>
          <p:cNvPr id="456" name="矩形 35844"/>
          <p:cNvSpPr/>
          <p:nvPr/>
        </p:nvSpPr>
        <p:spPr>
          <a:xfrm>
            <a:off x="250920" y="3213000"/>
            <a:ext cx="1871640" cy="432000"/>
          </a:xfrm>
          <a:prstGeom prst="rect">
            <a:avLst/>
          </a:prstGeom>
          <a:solidFill>
            <a:srgbClr val="993300">
              <a:alpha val="88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35845"/>
          <p:cNvSpPr/>
          <p:nvPr/>
        </p:nvSpPr>
        <p:spPr>
          <a:xfrm>
            <a:off x="250920" y="3068640"/>
            <a:ext cx="187308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王安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35846"/>
          <p:cNvSpPr/>
          <p:nvPr/>
        </p:nvSpPr>
        <p:spPr>
          <a:xfrm>
            <a:off x="2771640" y="965160"/>
            <a:ext cx="554364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字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，号        ，临川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35847"/>
          <p:cNvSpPr/>
          <p:nvPr/>
        </p:nvSpPr>
        <p:spPr>
          <a:xfrm>
            <a:off x="2268360" y="2624040"/>
            <a:ext cx="687564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仁宗庆历进士。他目睹时弊，慨然有矫然匡世之志，曾给皇帝上万言书，主张改革。神宗即位，前后两度为相。在他执政期间，积极推行变法，抑制官僚地主的兼并，推行富国强兵的政策。因保守派反对，新法遭到阻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35849"/>
          <p:cNvSpPr/>
          <p:nvPr/>
        </p:nvSpPr>
        <p:spPr>
          <a:xfrm>
            <a:off x="3276720" y="949320"/>
            <a:ext cx="100800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楷体_GB2312"/>
              </a:rPr>
              <a:t>介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35850"/>
          <p:cNvSpPr/>
          <p:nvPr/>
        </p:nvSpPr>
        <p:spPr>
          <a:xfrm>
            <a:off x="4716360" y="949320"/>
            <a:ext cx="107964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楷体_GB2312"/>
              </a:rPr>
              <a:t>半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35851"/>
          <p:cNvSpPr/>
          <p:nvPr/>
        </p:nvSpPr>
        <p:spPr>
          <a:xfrm>
            <a:off x="0" y="4149720"/>
            <a:ext cx="9144000" cy="10688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晚年退居金陵</a:t>
            </a:r>
            <a:r>
              <a:rPr b="1" lang="en-US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今江苏南京</a:t>
            </a:r>
            <a:r>
              <a:rPr b="1" lang="en-US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，封舒国公，改封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荆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，世称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荆公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。卒谥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文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。王安石是具有多方面成就的杰出文学家，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散文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，他是“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唐宋八大家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”之一，其文逻辑严密，辨理深透，笔力雄健，语言简练，奇崛峭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35852"/>
          <p:cNvSpPr txBox="1"/>
          <p:nvPr/>
        </p:nvSpPr>
        <p:spPr>
          <a:xfrm>
            <a:off x="3059280" y="189000"/>
            <a:ext cx="345744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作 者 简 介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</p:spTree>
  </p:cSld>
  <p:transition>
    <p:comb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矩形 53269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诗，他是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北宋四大诗人</a:t>
            </a:r>
            <a:r>
              <a:rPr b="1" lang="zh-CN" sz="4800" spc="-1" strike="noStrike">
                <a:solidFill>
                  <a:srgbClr val="ffffff"/>
                </a:solidFill>
                <a:latin typeface="华文楷体"/>
                <a:ea typeface="华文楷体"/>
              </a:rPr>
              <a:t>之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　　　      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欧阳修</a:t>
            </a:r>
            <a:r>
              <a:rPr b="1" lang="en-US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,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苏轼</a:t>
            </a:r>
            <a:r>
              <a:rPr b="1" lang="en-US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,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黄庭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图片 53270" descr="148"/>
          <p:cNvPicPr/>
          <p:nvPr/>
        </p:nvPicPr>
        <p:blipFill>
          <a:blip r:embed="rId1"/>
          <a:stretch/>
        </p:blipFill>
        <p:spPr>
          <a:xfrm>
            <a:off x="5003640" y="1700280"/>
            <a:ext cx="4140360" cy="5157720"/>
          </a:xfrm>
          <a:prstGeom prst="rect">
            <a:avLst/>
          </a:prstGeom>
          <a:ln w="0">
            <a:noFill/>
          </a:ln>
        </p:spPr>
      </p:pic>
      <p:sp>
        <p:nvSpPr>
          <p:cNvPr id="466" name="矩形 53271"/>
          <p:cNvSpPr/>
          <p:nvPr/>
        </p:nvSpPr>
        <p:spPr>
          <a:xfrm>
            <a:off x="0" y="1725480"/>
            <a:ext cx="4859280" cy="50720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泊船瓜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       </a:t>
            </a:r>
            <a:r>
              <a:rPr b="1" lang="en-US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王安石</a:t>
            </a:r>
            <a:r>
              <a:rPr b="1" lang="en-US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京口瓜洲一水间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钟山只隔数重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春风又绿江南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明月何时照我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图片 57347" descr="200531920481930"/>
          <p:cNvPicPr/>
          <p:nvPr/>
        </p:nvPicPr>
        <p:blipFill>
          <a:blip r:embed="rId1"/>
          <a:stretch/>
        </p:blipFill>
        <p:spPr>
          <a:xfrm rot="16200000">
            <a:off x="-1106280" y="1106640"/>
            <a:ext cx="6858000" cy="464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4643280" y="0"/>
          <a:ext cx="4500720" cy="68673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740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ffffff"/>
                          </a:solidFill>
                          <a:latin typeface="华文楷体"/>
                          <a:ea typeface="华文楷体"/>
                        </a:rPr>
                        <a:t>梅    花</a:t>
                      </a:r>
                      <a:r>
                        <a:rPr b="1" lang="zh-CN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楷体"/>
                          <a:ea typeface="华文楷体"/>
                        </a:rPr>
                        <a:t>——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楷体"/>
                          <a:ea typeface="华文楷体"/>
                        </a:rPr>
                        <a:t>王安石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ffffff"/>
                          </a:solidFill>
                          <a:latin typeface="Times New Roman"/>
                          <a:ea typeface="华文楷体"/>
                        </a:rPr>
                        <a:t>墙角数枝梅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楷体"/>
                        </a:rPr>
                        <a:t>凌寒独自开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ffffff"/>
                          </a:solidFill>
                          <a:latin typeface="Times New Roman"/>
                          <a:ea typeface="华文楷体"/>
                        </a:rPr>
                        <a:t>遥知不是雪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楷体"/>
                        </a:rPr>
                        <a:t>为有暗香来。</a:t>
                      </a:r>
                      <a:r>
                        <a:rPr b="1" lang="zh-CN" sz="3200" spc="-1" strike="noStrike">
                          <a:solidFill>
                            <a:srgbClr val="0066ff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</a:tr>
              <a:tr h="1741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</a:tr>
            </a:tbl>
          </a:graphicData>
        </a:graphic>
      </p:graphicFrame>
    </p:spTree>
  </p:cSld>
  <p:transition>
    <p:checker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55317" descr="050719123838750"/>
          <p:cNvPicPr/>
          <p:nvPr/>
        </p:nvPicPr>
        <p:blipFill>
          <a:blip r:embed="rId1"/>
          <a:srcRect l="0" t="0" r="985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矩形 55318"/>
          <p:cNvSpPr/>
          <p:nvPr/>
        </p:nvSpPr>
        <p:spPr>
          <a:xfrm>
            <a:off x="0" y="836640"/>
            <a:ext cx="4716360" cy="41158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书湖阴先生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    </a:t>
            </a:r>
            <a:r>
              <a:rPr b="1" lang="en-US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王安石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茅檐常扫净无苔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花木成畦手自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一水护田将绿绕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两山排闼送青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矩形 73731"/>
          <p:cNvSpPr/>
          <p:nvPr/>
        </p:nvSpPr>
        <p:spPr>
          <a:xfrm>
            <a:off x="4211640" y="620640"/>
            <a:ext cx="4535640" cy="3537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      </a:t>
            </a:r>
            <a:r>
              <a:rPr b="1" lang="zh-CN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乌江亭</a:t>
            </a:r>
            <a:r>
              <a:rPr b="1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ffff00"/>
                </a:solidFill>
                <a:latin typeface="华文行楷"/>
                <a:ea typeface="华文行楷"/>
              </a:rPr>
              <a:t>王安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百战疲劳壮士衰，  中原一败势难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江东子弟今虽在，  肯与君王卷土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图片 73732" descr="200512094546494"/>
          <p:cNvPicPr/>
          <p:nvPr/>
        </p:nvPicPr>
        <p:blipFill>
          <a:blip r:embed="rId1"/>
          <a:stretch/>
        </p:blipFill>
        <p:spPr>
          <a:xfrm>
            <a:off x="250920" y="620640"/>
            <a:ext cx="3529080" cy="4896000"/>
          </a:xfrm>
          <a:prstGeom prst="rect">
            <a:avLst/>
          </a:prstGeom>
          <a:ln w="0">
            <a:noFill/>
          </a:ln>
        </p:spPr>
      </p:pic>
      <p:sp>
        <p:nvSpPr>
          <p:cNvPr id="473" name="矩形 73733"/>
          <p:cNvSpPr/>
          <p:nvPr/>
        </p:nvSpPr>
        <p:spPr>
          <a:xfrm>
            <a:off x="0" y="5805360"/>
            <a:ext cx="9144000" cy="7034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宋体"/>
              </a:rPr>
              <a:t>长于说理，精于修辞，风格遒劲有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图片 60420" descr="showimg7"/>
          <p:cNvPicPr/>
          <p:nvPr/>
        </p:nvPicPr>
        <p:blipFill>
          <a:blip r:embed="rId1"/>
          <a:stretch/>
        </p:blipFill>
        <p:spPr>
          <a:xfrm>
            <a:off x="0" y="0"/>
            <a:ext cx="4211640" cy="5013360"/>
          </a:xfrm>
          <a:prstGeom prst="rect">
            <a:avLst/>
          </a:prstGeom>
          <a:ln w="0">
            <a:noFill/>
          </a:ln>
        </p:spPr>
      </p:pic>
      <p:sp>
        <p:nvSpPr>
          <p:cNvPr id="475" name="矩形 60419"/>
          <p:cNvSpPr/>
          <p:nvPr/>
        </p:nvSpPr>
        <p:spPr>
          <a:xfrm>
            <a:off x="4716360" y="404640"/>
            <a:ext cx="4427640" cy="21049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6600" spc="-1" strike="noStrike">
                <a:solidFill>
                  <a:srgbClr val="ffff00"/>
                </a:solidFill>
                <a:latin typeface="华文楷体"/>
                <a:ea typeface="华文楷体"/>
              </a:rPr>
              <a:t>词</a:t>
            </a:r>
            <a:r>
              <a:rPr b="1" lang="zh-CN" sz="6000" spc="-1" strike="noStrike">
                <a:solidFill>
                  <a:srgbClr val="ffffff"/>
                </a:solidFill>
                <a:latin typeface="华文楷体"/>
                <a:ea typeface="华文楷体"/>
              </a:rPr>
              <a:t>，所作不多，但能“</a:t>
            </a:r>
            <a:r>
              <a:rPr b="1" lang="zh-CN" sz="66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一洗五代旧习</a:t>
            </a:r>
            <a:r>
              <a:rPr b="1" lang="zh-CN" sz="6000" spc="-1" strike="noStrike">
                <a:solidFill>
                  <a:srgbClr val="ffffff"/>
                </a:solidFill>
                <a:latin typeface="华文楷体"/>
                <a:ea typeface="华文楷体"/>
              </a:rPr>
              <a:t>”，不受前人绮靡风气影响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40963" descr="0340"/>
          <p:cNvPicPr/>
          <p:nvPr/>
        </p:nvPicPr>
        <p:blipFill>
          <a:blip r:embed="rId1"/>
          <a:srcRect l="0" t="0" r="94885" b="0"/>
          <a:stretch/>
        </p:blipFill>
        <p:spPr>
          <a:xfrm>
            <a:off x="34920" y="-27000"/>
            <a:ext cx="468360" cy="685800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40965" descr="0340"/>
          <p:cNvPicPr/>
          <p:nvPr/>
        </p:nvPicPr>
        <p:blipFill>
          <a:blip r:embed="rId2"/>
          <a:srcRect l="0" t="0" r="94885" b="0"/>
          <a:stretch/>
        </p:blipFill>
        <p:spPr>
          <a:xfrm>
            <a:off x="8783640" y="0"/>
            <a:ext cx="46836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矩形 40966"/>
          <p:cNvSpPr/>
          <p:nvPr/>
        </p:nvSpPr>
        <p:spPr>
          <a:xfrm>
            <a:off x="468360" y="549360"/>
            <a:ext cx="8351640" cy="5616360"/>
          </a:xfrm>
          <a:prstGeom prst="rect">
            <a:avLst/>
          </a:prstGeom>
          <a:solidFill>
            <a:srgbClr val="cc99ff">
              <a:alpha val="14000"/>
            </a:srgbClr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图片 40967" descr="0340"/>
          <p:cNvPicPr/>
          <p:nvPr/>
        </p:nvPicPr>
        <p:blipFill>
          <a:blip r:embed="rId3"/>
          <a:srcRect l="4724" t="16804" r="4724" b="81123"/>
          <a:stretch/>
        </p:blipFill>
        <p:spPr>
          <a:xfrm>
            <a:off x="395280" y="804960"/>
            <a:ext cx="8353440" cy="17604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40968" descr="0340"/>
          <p:cNvPicPr/>
          <p:nvPr/>
        </p:nvPicPr>
        <p:blipFill>
          <a:blip r:embed="rId4"/>
          <a:srcRect l="4724" t="16804" r="4724" b="81123"/>
          <a:stretch/>
        </p:blipFill>
        <p:spPr>
          <a:xfrm>
            <a:off x="468360" y="5773680"/>
            <a:ext cx="8353440" cy="176400"/>
          </a:xfrm>
          <a:prstGeom prst="rect">
            <a:avLst/>
          </a:prstGeom>
          <a:ln w="0">
            <a:noFill/>
          </a:ln>
        </p:spPr>
      </p:pic>
      <p:sp>
        <p:nvSpPr>
          <p:cNvPr id="481" name="文本框 40969"/>
          <p:cNvSpPr/>
          <p:nvPr/>
        </p:nvSpPr>
        <p:spPr>
          <a:xfrm>
            <a:off x="6487560" y="1268280"/>
            <a:ext cx="1399320" cy="2160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桂枝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40970"/>
          <p:cNvSpPr/>
          <p:nvPr/>
        </p:nvSpPr>
        <p:spPr>
          <a:xfrm>
            <a:off x="5572440" y="1125360"/>
            <a:ext cx="1155240" cy="4824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登临送目，正故国晚秋，天气初肃。千里澄江似练，翠峰如簇。征帆去棹残阳里，背西风、酒旗斜矗。彩舟云淡，星河鹭起，画图难足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念往昔、繁华竞逐。叹门外楼头，悲恨相续。千古凭高对此，漫嗟荣辱。六朝旧事随流水，但寒烟衰草凝绿。至今商女，时时犹唱，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后庭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遗曲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40972"/>
          <p:cNvSpPr/>
          <p:nvPr/>
        </p:nvSpPr>
        <p:spPr>
          <a:xfrm>
            <a:off x="6707160" y="3573360"/>
            <a:ext cx="1033560" cy="11509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王安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图片 40974" descr="74e5768841519d528840e3e55191f87f"/>
          <p:cNvPicPr/>
          <p:nvPr/>
        </p:nvPicPr>
        <p:blipFill>
          <a:blip r:embed="rId5"/>
          <a:srcRect l="0" t="15186" r="25047" b="13043"/>
          <a:stretch/>
        </p:blipFill>
        <p:spPr>
          <a:xfrm>
            <a:off x="7740720" y="981000"/>
            <a:ext cx="1079280" cy="2376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1:32:25Z</dcterms:created>
  <dc:creator>华附</dc:creator>
  <dc:description/>
  <dc:language>en-US</dc:language>
  <cp:lastModifiedBy>admin</cp:lastModifiedBy>
  <dcterms:modified xsi:type="dcterms:W3CDTF">2019-05-31T06:55:28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  <property fmtid="{D5CDD505-2E9C-101B-9397-08002B2CF9AE}" pid="3" name="Version">
    <vt:r8>5</vt:r8>
  </property>
</Properties>
</file>