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8.png" ContentType="image/png"/>
  <Override PartName="/ppt/media/image4.png" ContentType="image/png"/>
  <Override PartName="/ppt/media/camera.wav" ContentType="audio/x-wav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D78-ABAD-41C2-8560-D6ED7859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E2B-9254-4CA9-A3D1-9D38C8EE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6D5-12BE-43FA-AFDD-FEC5FC41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FA8-094D-4D19-86C9-5B3E4195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099-3664-4ECB-BE42-A52C63D0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ACF-090F-46F7-AADA-ED24557F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32F-98A4-4714-8298-2FA3D48A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84A-A99C-49AB-BBAF-C2E1F131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7C9-F838-4D2F-88C6-3F2578F1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9C7-34B3-42BA-825E-DED7F7D6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1C6-B1EC-4D25-BBE4-02D1A9C7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5B9-45CA-437A-B884-8664C2B3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6BD3-0F1F-47BA-8953-EABB9182BE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75640" y="9079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楷体_GB2312"/>
              </a:rPr>
              <a:t>苏教版小语教材第十二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2565360"/>
            <a:ext cx="76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9600" spc="-1" strike="noStrike">
                <a:solidFill>
                  <a:srgbClr val="336600"/>
                </a:solidFill>
                <a:latin typeface="Times New Roman"/>
              </a:rPr>
              <a:t>广 玉 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128000" cy="446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39840" y="566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61640" y="5157720"/>
            <a:ext cx="51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的刚刚绽放，几只小蜜蜂就迫不及待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钻了进去，那里面椭圆形的花蕊约有一寸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237360"/>
            <a:ext cx="433440" cy="404640"/>
          </a:xfrm>
          <a:custGeom>
            <a:avLst/>
            <a:gdLst>
              <a:gd name="textAreaLeft" fmla="*/ 72720 w 433440"/>
              <a:gd name="textAreaRight" fmla="*/ 360720 w 433440"/>
              <a:gd name="textAreaTop" fmla="*/ 72720 h 404640"/>
              <a:gd name="textAreaBottom" fmla="*/ 331920 h 404640"/>
            </a:gdLst>
            <a:ahLst/>
            <a:rect l="textAreaLeft" t="textAreaTop" r="textAreaRight" b="textAreaBottom"/>
            <a:pathLst>
              <a:path w="23136" h="21600">
                <a:moveTo>
                  <a:pt x="0" y="0"/>
                </a:moveTo>
                <a:lnTo>
                  <a:pt x="23136" y="0"/>
                </a:lnTo>
                <a:lnTo>
                  <a:pt x="23136" y="21600"/>
                </a:lnTo>
                <a:lnTo>
                  <a:pt x="0" y="21600"/>
                </a:lnTo>
                <a:close/>
              </a:path>
              <a:path fill="lightenLess" w="23136" h="21600">
                <a:moveTo>
                  <a:pt x="0" y="0"/>
                </a:moveTo>
                <a:lnTo>
                  <a:pt x="23136" y="0"/>
                </a:lnTo>
                <a:lnTo>
                  <a:pt x="19248" y="3888"/>
                </a:lnTo>
                <a:lnTo>
                  <a:pt x="3888" y="3888"/>
                </a:lnTo>
                <a:close/>
              </a:path>
              <a:path fill="darken" w="23136" h="21600">
                <a:moveTo>
                  <a:pt x="23136" y="0"/>
                </a:moveTo>
                <a:lnTo>
                  <a:pt x="23136" y="21600"/>
                </a:lnTo>
                <a:lnTo>
                  <a:pt x="19248" y="17712"/>
                </a:lnTo>
                <a:lnTo>
                  <a:pt x="19248" y="3888"/>
                </a:lnTo>
                <a:close/>
              </a:path>
              <a:path fill="darkenLess" w="23136" h="21600">
                <a:moveTo>
                  <a:pt x="23136" y="21600"/>
                </a:moveTo>
                <a:lnTo>
                  <a:pt x="0" y="21600"/>
                </a:lnTo>
                <a:lnTo>
                  <a:pt x="3888" y="17712"/>
                </a:lnTo>
                <a:lnTo>
                  <a:pt x="19248" y="17712"/>
                </a:lnTo>
                <a:close/>
              </a:path>
              <a:path fill="lighten" w="23136" h="21600">
                <a:moveTo>
                  <a:pt x="0" y="21600"/>
                </a:moveTo>
                <a:lnTo>
                  <a:pt x="0" y="0"/>
                </a:lnTo>
                <a:lnTo>
                  <a:pt x="3888" y="3888"/>
                </a:lnTo>
                <a:lnTo>
                  <a:pt x="3888" y="17712"/>
                </a:lnTo>
                <a:close/>
              </a:path>
              <a:path fill="darken" w="23136" h="21600">
                <a:moveTo>
                  <a:pt x="6416" y="10800"/>
                </a:moveTo>
                <a:lnTo>
                  <a:pt x="16720" y="5648"/>
                </a:lnTo>
                <a:lnTo>
                  <a:pt x="16720" y="1595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34400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91200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66760" y="5032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91840" y="5013360"/>
            <a:ext cx="587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盛开着的玉兰花，洁白柔嫩得像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儿的笑脸，甜美、纯洁，惹人喜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17080" y="6165720"/>
            <a:ext cx="431640" cy="432000"/>
          </a:xfrm>
          <a:custGeom>
            <a:avLst/>
            <a:gdLst>
              <a:gd name="textAreaLeft" fmla="*/ 74520 w 431640"/>
              <a:gd name="textAreaRight" fmla="*/ 357120 w 431640"/>
              <a:gd name="textAreaTop" fmla="*/ 74520 h 432000"/>
              <a:gd name="textAreaBottom" fmla="*/ 3574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17864" y="3736"/>
                </a:lnTo>
                <a:lnTo>
                  <a:pt x="3736" y="3736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17864" y="17882"/>
                </a:lnTo>
                <a:lnTo>
                  <a:pt x="17864" y="3736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3736" y="17882"/>
                </a:lnTo>
                <a:lnTo>
                  <a:pt x="17864" y="17882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3736" y="3736"/>
                </a:lnTo>
                <a:lnTo>
                  <a:pt x="3736" y="17882"/>
                </a:lnTo>
                <a:close/>
              </a:path>
              <a:path fill="darken" w="21600" h="21618">
                <a:moveTo>
                  <a:pt x="5535" y="10809"/>
                </a:moveTo>
                <a:lnTo>
                  <a:pt x="16065" y="5544"/>
                </a:lnTo>
                <a:lnTo>
                  <a:pt x="16065" y="1607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256360" cy="4104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2384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765000"/>
            <a:ext cx="813456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先前热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闹闹开过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广玉兰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花瓣虽然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谢了，花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却依然挺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枝头，它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长成近两寸长的圆茎。圆茎上面缀满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像细珠似的紫红色的小颗粒，这就是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育着新生命的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17080" y="6093000"/>
            <a:ext cx="433080" cy="431640"/>
          </a:xfrm>
          <a:custGeom>
            <a:avLst/>
            <a:gdLst>
              <a:gd name="textAreaLeft" fmla="*/ 81000 w 433080"/>
              <a:gd name="textAreaRight" fmla="*/ 352440 w 433080"/>
              <a:gd name="textAreaTop" fmla="*/ 81000 h 431640"/>
              <a:gd name="textAreaBottom" fmla="*/ 35100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17622" y="4050"/>
                </a:lnTo>
                <a:lnTo>
                  <a:pt x="4050" y="405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17622" y="17550"/>
                </a:lnTo>
                <a:lnTo>
                  <a:pt x="17622" y="405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17622" y="1755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21672" h="21600">
                <a:moveTo>
                  <a:pt x="5805" y="10800"/>
                </a:moveTo>
                <a:lnTo>
                  <a:pt x="15867" y="5769"/>
                </a:lnTo>
                <a:lnTo>
                  <a:pt x="15867" y="1583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64880" y="1268280"/>
            <a:ext cx="3649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远远看上去，一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广玉兰就像是一个数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同堂、生生不息的大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族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78440" y="1625760"/>
            <a:ext cx="9653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我爱广玉兰的幽香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与纯洁，更爱广玉兰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比旺盛的生命力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78440" y="1625760"/>
            <a:ext cx="9653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6000" spc="-1" strike="noStrike">
                <a:solidFill>
                  <a:srgbClr val="ff5050"/>
                </a:solidFill>
                <a:latin typeface="Arial"/>
                <a:ea typeface="楷体_GB2312"/>
              </a:rPr>
              <a:t>爱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广玉兰的幽香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与纯洁，</a:t>
            </a:r>
            <a:r>
              <a:rPr b="1" lang="zh-CN" sz="6000" spc="-1" strike="noStrike">
                <a:solidFill>
                  <a:srgbClr val="ff5050"/>
                </a:solidFill>
                <a:latin typeface="Arial"/>
                <a:ea typeface="楷体_GB2312"/>
              </a:rPr>
              <a:t>更爱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广玉兰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比旺盛的生命力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88360" cy="5759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252360" y="765000"/>
            <a:ext cx="76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9600" spc="-1" strike="noStrike">
                <a:solidFill>
                  <a:srgbClr val="336600"/>
                </a:solidFill>
                <a:latin typeface="Times New Roman"/>
              </a:rPr>
              <a:t>广玉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6824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88360" cy="496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57640" y="56610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能用什么美好的词语形容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5120" y="442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53320" y="1125360"/>
            <a:ext cx="6191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无法用文字准确形容那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色彩，说它纯白吧，又似乎有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种淡淡的青绿色渗透出来；我也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法用文字准确形容那花瓣的质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说它玉琢冰雕吧，它又显得那样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韧而有弹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35120" y="442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53320" y="1125360"/>
            <a:ext cx="6191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9966"/>
                </a:solidFill>
                <a:latin typeface="Arial"/>
                <a:ea typeface="楷体_GB2312"/>
              </a:rPr>
              <a:t>我无法用文字准确形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那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色彩，说它纯白吧，又似乎有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种淡淡的青绿色渗透出来；</a:t>
            </a:r>
            <a:r>
              <a:rPr b="1" lang="zh-CN" sz="4000" spc="-1" strike="noStrike">
                <a:solidFill>
                  <a:srgbClr val="ff9966"/>
                </a:solidFill>
                <a:latin typeface="Arial"/>
                <a:ea typeface="楷体_GB2312"/>
              </a:rPr>
              <a:t>我也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Arial"/>
                <a:ea typeface="楷体_GB2312"/>
              </a:rPr>
              <a:t>法用文字准确形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那花瓣的质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说它玉琢冰雕吧，它又显得那样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韧而有弹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8836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5120" y="442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1125360"/>
            <a:ext cx="619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9966"/>
                </a:solidFill>
                <a:latin typeface="Arial"/>
                <a:ea typeface="楷体_GB2312"/>
              </a:rPr>
              <a:t>我无法用文字准确形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那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色彩，说它纯白吧，又似乎有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种淡淡的青绿色渗透出来；</a:t>
            </a:r>
            <a:r>
              <a:rPr b="1" lang="zh-CN" sz="4000" spc="-1" strike="noStrike">
                <a:solidFill>
                  <a:srgbClr val="ff9966"/>
                </a:solidFill>
                <a:latin typeface="Arial"/>
                <a:ea typeface="楷体_GB2312"/>
              </a:rPr>
              <a:t>我也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Arial"/>
                <a:ea typeface="楷体_GB2312"/>
              </a:rPr>
              <a:t>法用文字准确形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那花瓣的质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说它玉琢冰雕吧，它又显得那样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韧而有弹性。</a:t>
            </a:r>
            <a:r>
              <a:rPr b="1" lang="zh-CN" sz="4000" spc="-1" strike="noStrike">
                <a:solidFill>
                  <a:srgbClr val="ff9966"/>
                </a:solidFill>
                <a:latin typeface="Arial"/>
                <a:ea typeface="楷体_GB2312"/>
              </a:rPr>
              <a:t>总之，只凭几个优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Arial"/>
                <a:ea typeface="楷体_GB2312"/>
              </a:rPr>
              <a:t>的词句是不能概括它的全部内涵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108000" y="83664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12240" y="59878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边欣赏，一边说说你看到的广玉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82720" y="719280"/>
            <a:ext cx="7861680" cy="72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</a:rPr>
              <a:t>含 苞 待 放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</a:rPr>
              <a:t>刚 刚 绽 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</a:rPr>
              <a:t>完 全 盛 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</a:rPr>
              <a:t>已 经 凋 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01080" y="6093000"/>
            <a:ext cx="431640" cy="468000"/>
          </a:xfrm>
          <a:custGeom>
            <a:avLst/>
            <a:gdLst>
              <a:gd name="textAreaLeft" fmla="*/ 99720 w 431640"/>
              <a:gd name="textAreaRight" fmla="*/ 331920 w 431640"/>
              <a:gd name="textAreaTop" fmla="*/ 99720 h 468000"/>
              <a:gd name="textAreaBottom" fmla="*/ 368280 h 468000"/>
            </a:gdLst>
            <a:ahLst/>
            <a:rect l="textAreaLeft" t="textAreaTop" r="textAreaRight" b="textAreaBottom"/>
            <a:pathLst>
              <a:path w="21600" h="23418">
                <a:moveTo>
                  <a:pt x="0" y="0"/>
                </a:moveTo>
                <a:lnTo>
                  <a:pt x="21600" y="0"/>
                </a:lnTo>
                <a:lnTo>
                  <a:pt x="21600" y="23418"/>
                </a:lnTo>
                <a:lnTo>
                  <a:pt x="0" y="23418"/>
                </a:lnTo>
                <a:close/>
              </a:path>
              <a:path fill="lightenLess" w="21600" h="23418">
                <a:moveTo>
                  <a:pt x="0" y="0"/>
                </a:moveTo>
                <a:lnTo>
                  <a:pt x="21600" y="0"/>
                </a:lnTo>
                <a:lnTo>
                  <a:pt x="16597" y="5003"/>
                </a:lnTo>
                <a:lnTo>
                  <a:pt x="5003" y="5003"/>
                </a:lnTo>
                <a:close/>
              </a:path>
              <a:path fill="darken" w="21600" h="23418">
                <a:moveTo>
                  <a:pt x="21600" y="0"/>
                </a:moveTo>
                <a:lnTo>
                  <a:pt x="21600" y="23418"/>
                </a:lnTo>
                <a:lnTo>
                  <a:pt x="16597" y="18415"/>
                </a:lnTo>
                <a:lnTo>
                  <a:pt x="16597" y="5003"/>
                </a:lnTo>
                <a:close/>
              </a:path>
              <a:path fill="darkenLess" w="21600" h="23418">
                <a:moveTo>
                  <a:pt x="21600" y="23418"/>
                </a:moveTo>
                <a:lnTo>
                  <a:pt x="0" y="23418"/>
                </a:lnTo>
                <a:lnTo>
                  <a:pt x="5003" y="18415"/>
                </a:lnTo>
                <a:lnTo>
                  <a:pt x="16597" y="18415"/>
                </a:lnTo>
                <a:close/>
              </a:path>
              <a:path fill="lighten" w="21600" h="23418">
                <a:moveTo>
                  <a:pt x="0" y="23418"/>
                </a:moveTo>
                <a:lnTo>
                  <a:pt x="0" y="0"/>
                </a:lnTo>
                <a:lnTo>
                  <a:pt x="5003" y="5003"/>
                </a:lnTo>
                <a:lnTo>
                  <a:pt x="5003" y="18415"/>
                </a:lnTo>
                <a:close/>
              </a:path>
              <a:path fill="darken" w="21600" h="23418">
                <a:moveTo>
                  <a:pt x="6479" y="7388"/>
                </a:moveTo>
                <a:lnTo>
                  <a:pt x="15121" y="11709"/>
                </a:lnTo>
                <a:lnTo>
                  <a:pt x="6479" y="160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058160" cy="4537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14680" y="5300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的含羞待放，碧绿的花苞鲜嫩可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468360" cy="495000"/>
          </a:xfrm>
          <a:custGeom>
            <a:avLst/>
            <a:gdLst>
              <a:gd name="textAreaLeft" fmla="*/ 81000 w 468360"/>
              <a:gd name="textAreaRight" fmla="*/ 387360 w 468360"/>
              <a:gd name="textAreaTop" fmla="*/ 81000 h 495000"/>
              <a:gd name="textAreaBottom" fmla="*/ 414000 h 495000"/>
            </a:gdLst>
            <a:ahLst/>
            <a:rect l="textAreaLeft" t="textAreaTop" r="textAreaRight" b="textAreaBottom"/>
            <a:pathLst>
              <a:path w="21600" h="22828">
                <a:moveTo>
                  <a:pt x="0" y="0"/>
                </a:moveTo>
                <a:lnTo>
                  <a:pt x="21600" y="0"/>
                </a:lnTo>
                <a:lnTo>
                  <a:pt x="21600" y="22828"/>
                </a:lnTo>
                <a:lnTo>
                  <a:pt x="0" y="22828"/>
                </a:lnTo>
                <a:close/>
              </a:path>
              <a:path fill="lightenLess" w="21600" h="22828">
                <a:moveTo>
                  <a:pt x="0" y="0"/>
                </a:moveTo>
                <a:lnTo>
                  <a:pt x="21600" y="0"/>
                </a:lnTo>
                <a:lnTo>
                  <a:pt x="17866" y="3734"/>
                </a:lnTo>
                <a:lnTo>
                  <a:pt x="3734" y="3734"/>
                </a:lnTo>
                <a:close/>
              </a:path>
              <a:path fill="darken" w="21600" h="22828">
                <a:moveTo>
                  <a:pt x="21600" y="0"/>
                </a:moveTo>
                <a:lnTo>
                  <a:pt x="21600" y="22828"/>
                </a:lnTo>
                <a:lnTo>
                  <a:pt x="17866" y="19094"/>
                </a:lnTo>
                <a:lnTo>
                  <a:pt x="17866" y="3734"/>
                </a:lnTo>
                <a:close/>
              </a:path>
              <a:path fill="darkenLess" w="21600" h="22828">
                <a:moveTo>
                  <a:pt x="21600" y="22828"/>
                </a:moveTo>
                <a:lnTo>
                  <a:pt x="0" y="22828"/>
                </a:lnTo>
                <a:lnTo>
                  <a:pt x="3734" y="19094"/>
                </a:lnTo>
                <a:lnTo>
                  <a:pt x="17866" y="19094"/>
                </a:lnTo>
                <a:close/>
              </a:path>
              <a:path fill="lighten" w="21600" h="22828">
                <a:moveTo>
                  <a:pt x="0" y="22828"/>
                </a:moveTo>
                <a:lnTo>
                  <a:pt x="0" y="0"/>
                </a:lnTo>
                <a:lnTo>
                  <a:pt x="3734" y="3734"/>
                </a:lnTo>
                <a:lnTo>
                  <a:pt x="3734" y="19094"/>
                </a:lnTo>
                <a:close/>
              </a:path>
              <a:path fill="darken" w="21600" h="22828">
                <a:moveTo>
                  <a:pt x="5533" y="11414"/>
                </a:moveTo>
                <a:lnTo>
                  <a:pt x="16067" y="6147"/>
                </a:lnTo>
                <a:lnTo>
                  <a:pt x="16067" y="166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05:04:28Z</dcterms:created>
  <dc:creator>ysg</dc:creator>
  <dc:description/>
  <dc:language>en-US</dc:language>
  <cp:lastModifiedBy>微软用户</cp:lastModifiedBy>
  <dcterms:modified xsi:type="dcterms:W3CDTF">2011-12-20T02:34:05Z</dcterms:modified>
  <cp:revision>21</cp:revision>
  <dc:subject/>
  <dc:title>幻灯片 1</dc:title>
</cp:coreProperties>
</file>