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arrow.wav" ContentType="audio/x-wav"/>
  <Override PartName="/ppt/media/image13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breeze.wav" ContentType="audio/x-wav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EB8-4750-4F2A-A2F8-128A8DF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C0E-919D-4DCC-9334-0BB439E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235-0384-4D22-9216-728D466D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5FF-3E18-4500-B811-F16D4C4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46D-AEBE-41A2-AB6C-A7C72CA4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8A1-96A7-49A9-A7D0-131CC30D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84E-45C3-4F99-82AA-F21F5C7C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CAF-1419-4FE9-8D36-DAF80936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010-02EA-4DAE-B0B6-1B4326A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6C5-1EA9-4979-B5AD-EFFDE89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97B-C677-474C-8921-BD8F221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92C-37FA-43D6-B1E6-2A8B800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CF9-FF9B-47CB-9C5C-072158CBEA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dqy.wms.edu/onews.asp?/336.htm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sp>
          <p:nvSpPr>
            <p:cNvPr id="42" name="Rectangle 3"/>
            <p:cNvSpPr/>
            <p:nvPr/>
          </p:nvSpPr>
          <p:spPr>
            <a:xfrm>
              <a:off x="152280" y="609480"/>
              <a:ext cx="883908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18广玉兰02"/>
            <p:cNvPicPr/>
            <p:nvPr/>
          </p:nvPicPr>
          <p:blipFill>
            <a:blip r:embed="rId1"/>
            <a:srcRect l="0" t="42983" r="0" b="0"/>
            <a:stretch/>
          </p:blipFill>
          <p:spPr>
            <a:xfrm>
              <a:off x="152280" y="3976560"/>
              <a:ext cx="3124080" cy="25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5"/>
          <p:cNvSpPr/>
          <p:nvPr/>
        </p:nvSpPr>
        <p:spPr>
          <a:xfrm>
            <a:off x="2209680" y="3200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春暖花开，各种花都竞相开放。今天，我们再认识一种花。</a:t>
            </a: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同学们都认识哪些花呢？选择一种你最喜欢的花向大家介绍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006520143716516"/>
          <p:cNvPicPr/>
          <p:nvPr/>
        </p:nvPicPr>
        <p:blipFill>
          <a:blip r:embed="rId1"/>
          <a:srcRect l="0" t="6003" r="0" b="3332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304920" y="9144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广玉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762710432761658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52280" y="4876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看了广玉兰之后，你能用哪些词来形容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21337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洁净       高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8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广玉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666880" y="18558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广玉兰，亦称“荷花玉兰”“洋玉兰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木兰科。常绿乔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叶卵状长椭圆形，厚革质，上面光亮，下面有暗黄色毛。夏季开花，花大，白色，芳香。原产美洲，我国长江流域以南各地栽培。供观赏。花含芳香油，可制成鲜花浸膏。据研究，广玉兰叶的制剂有降低血压的作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74920" y="1146240"/>
            <a:ext cx="2334960" cy="456840"/>
            <a:chOff x="1474920" y="1146240"/>
            <a:chExt cx="2334960" cy="456840"/>
          </a:xfrm>
        </p:grpSpPr>
        <p:pic>
          <p:nvPicPr>
            <p:cNvPr id="71" name="WordArt 5" descr=""/>
            <p:cNvPicPr/>
            <p:nvPr/>
          </p:nvPicPr>
          <p:blipFill>
            <a:blip r:embed="rId2"/>
            <a:stretch/>
          </p:blipFill>
          <p:spPr>
            <a:xfrm>
              <a:off x="1474920" y="1149120"/>
              <a:ext cx="23349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476000" y="1146240"/>
              <a:ext cx="2333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广玉兰简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书与笔"/>
          <p:cNvPicPr/>
          <p:nvPr/>
        </p:nvPicPr>
        <p:blipFill>
          <a:blip r:embed="rId3"/>
          <a:stretch/>
        </p:blipFill>
        <p:spPr>
          <a:xfrm>
            <a:off x="533520" y="946080"/>
            <a:ext cx="7617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143000" y="20574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作者陈荒煤，笔名“荒煤” “沪生”“梅白”。原籍湖北襄阳，生于上海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湖北省第二中学商科毕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秋发表了小说《苦难中的人群》，之后就开始了文学创作活动，出版短篇小说集《忧郁的歌》《长江上》，剧本《黎明》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1447920" y="1295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课外小知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8" name="Picture 6" descr="书５"/>
          <p:cNvPicPr/>
          <p:nvPr/>
        </p:nvPicPr>
        <p:blipFill>
          <a:blip r:embed="rId2"/>
          <a:stretch/>
        </p:blipFill>
        <p:spPr>
          <a:xfrm>
            <a:off x="380880" y="1143000"/>
            <a:ext cx="8128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yàng     zhuó                 hán        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荡漾     琢磨     内涵      绽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ruǐ       yīng                jīng              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花蕊     婴儿     根茎      铁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āo            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凋谢     皎洁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981080" y="25909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渗透　概括　花蕊　孕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81080" y="3733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呈现　旺盛　内涵　凋落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905120" y="25146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1905120" y="35812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4648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1905120" y="25909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905120" y="3505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1981080" y="4572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752480" y="14479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隶书"/>
              </a:rPr>
              <a:t>开火车读词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隶书"/>
              <a:ea typeface="隶书"/>
            </a:endParaRPr>
          </a:p>
        </p:txBody>
      </p:sp>
      <p:pic>
        <p:nvPicPr>
          <p:cNvPr id="92" name="Picture 13" descr="丁丁"/>
          <p:cNvPicPr/>
          <p:nvPr/>
        </p:nvPicPr>
        <p:blipFill>
          <a:blip r:embed="rId2"/>
          <a:stretch/>
        </p:blipFill>
        <p:spPr>
          <a:xfrm>
            <a:off x="457200" y="1219320"/>
            <a:ext cx="1009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655640" cy="52056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776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雕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u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u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īn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à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189000"/>
            <a:ext cx="30243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 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孕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ùn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旺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 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渗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èn t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油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o y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缘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羞待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迫不及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260280"/>
            <a:ext cx="2936880" cy="89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柔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óu 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ài 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蜜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 f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ǒyuánx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生生）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瓣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惹人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世同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86600" y="898560"/>
            <a:ext cx="46612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怀胎、生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课指花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物的本质给人外观上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淡的香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高尚而不俗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花瓣像玉石一样细腻有光泽，像冰一样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裹着花蕾正待开放的样子，美丽娇嫩有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朵开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迫的不能再等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人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几代人都生活在一起。文中指广玉兰的各种形态在同一株树中共同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代一代的繁衍，不停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亮而洁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838440"/>
            <a:ext cx="180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孕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内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质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幽香</a:t>
            </a:r>
            <a:r>
              <a:rPr b="1" lang="en-US" sz="2800" spc="-1" strike="noStrike">
                <a:solidFill>
                  <a:srgbClr val="b7379c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高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玉琢冰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含羞待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绽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迫不及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惹人喜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数世同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生生不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皎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89000"/>
            <a:ext cx="32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词语理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6880320"/>
          </a:xfrm>
          <a:prstGeom prst="rect">
            <a:avLst/>
          </a:prstGeom>
          <a:ln w="0">
            <a:noFill/>
          </a:ln>
        </p:spPr>
      </p:pic>
      <p:pic>
        <p:nvPicPr>
          <p:cNvPr id="49" name="zr295.wav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2323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60948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默读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作者是从哪几方面来写广玉兰的？课文可以分为几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9144000" cy="314136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第一段（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  <a:ea typeface="黑体"/>
              </a:rPr>
              <a:t>1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）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天晚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者在散步时，被广玉兰的幽香所吸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第二段（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  <a:ea typeface="黑体"/>
              </a:rPr>
              <a:t>2-5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玉兰花瓣的色彩和质感、花开时的各种形态及叶片的独特情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第三段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  <a:ea typeface="黑体"/>
              </a:rPr>
              <a:t>(6)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全文，点明作者喜爱广玉兰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" y="0"/>
            <a:ext cx="1922400" cy="58140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理清脉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990720" y="1460520"/>
            <a:ext cx="72388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听课文朗读，说说课文主要写了什么内容？找出本文的中心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3048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句话在文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33520" y="2438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本文的中心句是：我爱广玉兰的幽香与纯洁，更爱广玉兰无比旺盛的生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3240" y="620640"/>
            <a:ext cx="79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写了广玉兰是一种高大的常绿乔木，花很大，散发着阵阵幽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960" y="523080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全文，点明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自探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</a:rPr>
              <a:t>作者为什么喜欢广玉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85800" y="13716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Arial"/>
              </a:rPr>
              <a:t>自探二</a:t>
            </a:r>
            <a:r>
              <a:rPr b="0" lang="zh-CN" sz="4800" spc="-1" strike="noStrike">
                <a:solidFill>
                  <a:srgbClr val="9900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是按怎样的顺序描绘广玉兰的，着重写了哪一方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743200" y="38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按花的色彩和质感、花的形态、叶子的特点的顺序写的，着重写了广玉兰花开时的形态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91440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第二自然段，说说这一段从哪两个方面来写广玉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09680" y="30481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从花瓣色彩和质感两个方面写出了花的洁净、高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71800" y="4800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画出文中与这两方面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62120" y="1676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色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2743200"/>
            <a:ext cx="6781680" cy="1600200"/>
            <a:chOff x="1828800" y="2743200"/>
            <a:chExt cx="6781680" cy="1600200"/>
          </a:xfrm>
        </p:grpSpPr>
        <p:sp>
          <p:nvSpPr>
            <p:cNvPr id="127" name="Text Box 6"/>
            <p:cNvSpPr/>
            <p:nvPr/>
          </p:nvSpPr>
          <p:spPr>
            <a:xfrm>
              <a:off x="1828800" y="2743200"/>
              <a:ext cx="67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无法用文字准确形容那花瓣的色彩，说它纯白吧，又似乎有一种淡淡的青绿色渗透出来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2743200" y="3276720"/>
              <a:ext cx="571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1981080" y="3809880"/>
              <a:ext cx="6553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1981080" y="4343400"/>
              <a:ext cx="3962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85800" y="1752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质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52480" y="2743200"/>
            <a:ext cx="6705720" cy="1600200"/>
            <a:chOff x="1752480" y="2743200"/>
            <a:chExt cx="6705720" cy="1600200"/>
          </a:xfrm>
        </p:grpSpPr>
        <p:sp>
          <p:nvSpPr>
            <p:cNvPr id="135" name="Text Box 6"/>
            <p:cNvSpPr/>
            <p:nvPr/>
          </p:nvSpPr>
          <p:spPr>
            <a:xfrm>
              <a:off x="1752480" y="2743200"/>
              <a:ext cx="67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也无法用文字准确形容那花瓣的质感，说它玉琢冰雕吧，它又显得那样柔韧而有弹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2590560" y="3276720"/>
              <a:ext cx="548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1752480" y="3809880"/>
              <a:ext cx="6400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1752480" y="4343400"/>
              <a:ext cx="441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404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67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纯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8320" y="2492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淡淡的青绿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49782"/>
          <p:cNvPicPr/>
          <p:nvPr/>
        </p:nvPicPr>
        <p:blipFill>
          <a:blip r:embed="rId1"/>
          <a:srcRect l="0" t="0" r="0" b="866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6400" y="39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质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36080" y="3933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玉琢冰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20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柔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68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弹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2760" y="98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640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3007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6212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作者无法用语言文字准确形容广玉兰的花瓣色彩和质感，这样写突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133720" y="3200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突出了广玉兰实在是到了美不胜收、美不能言的境地。表达出作者对盛开花朵的喜爱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4952880"/>
            <a:ext cx="1905120" cy="1571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60948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默读第三自然段，思考作者怎样描写广玉兰花瓣的形态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14300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含羞待放，碧绿的花苞鲜嫩可爱。有的刚刚绽放，几只小蜜蜂就迫不及待地钻了进去，那里面椭圆形的花蕊约有一寸长。盛开着的广玉兰花，洁白柔嫩得像婴儿的笑脸，甜美、纯洁，惹人喜爱。先前热热闹闹开过的广玉兰花呢，花瓣虽然凋谢了，花蕊却依然挺立枝头，已长成近两寸长的圆茎。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广玉兰开花有早有迟，在同一棵树上，能看到花开的各种形态。有的含羞待放，碧绿的花苞鲜嫩可爱。有的刚刚绽放，几只小蜜蜂就迫不及待地钻了进去，那里面椭圆形的花蕊约有一寸长。盛开着的玉兰花，洁白柔嫩得像婴儿的笑脸，甜美、纯洁，惹人喜爱。先前热热闹闹开过的广玉兰呢，花瓣虽然凋谢了，花蕊却依然挺立枝头，它已长成近两寸长的圆茎。圆茎上面缀满了像细珠似的紫红色的小颗粒，这就是孕育着新生命的种子。远远看上去，一株广玉兰就像是一个数世同堂、生生不息的大家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907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含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待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134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刚刚绽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23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盛开着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9324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760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凋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有的含羞待放，碧绿的花苞鲜嫩可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4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含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666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碧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8589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鲜嫩可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12146" b="9602"/>
          <a:stretch/>
        </p:blipFill>
        <p:spPr>
          <a:xfrm>
            <a:off x="1619280" y="2205000"/>
            <a:ext cx="609264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有的刚刚绽放，几只小蜜蜂就迫不及待地钻了进去，那里面椭圆形的花蕊约有一寸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4032360" cy="424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9079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迫不及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3"/>
          <p:cNvPicPr/>
          <p:nvPr/>
        </p:nvPicPr>
        <p:blipFill>
          <a:blip r:embed="rId2"/>
          <a:srcRect l="8340" t="6740" r="0" b="8159"/>
          <a:stretch/>
        </p:blipFill>
        <p:spPr>
          <a:xfrm>
            <a:off x="250920" y="2276640"/>
            <a:ext cx="4608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盛开着的玉兰花，洁白柔嫩得像婴儿的笑脸，甜美、纯洁，惹人喜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2706840"/>
            <a:ext cx="814716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70200" cy="3598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9911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洁白柔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7080" y="134136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甜美、纯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广玉兰 摄影 随风飘浮"/>
          <p:cNvPicPr/>
          <p:nvPr/>
        </p:nvPicPr>
        <p:blipFill>
          <a:blip r:embed="rId2"/>
          <a:stretch/>
        </p:blipFill>
        <p:spPr>
          <a:xfrm>
            <a:off x="4716360" y="2637000"/>
            <a:ext cx="39927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64000" y="1773000"/>
            <a:ext cx="468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　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先前热热闹闹开过的广玉兰呢，花瓣虽然凋谢了，花蕊却依然挺立枝头，它已长成近两寸长的圆茎。圆茎上面缀满了像细珠似的紫红色的小颗粒，这就是孕育着新生命的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2847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12446" t="12107" r="0" b="13288"/>
          <a:stretch/>
        </p:blipFill>
        <p:spPr>
          <a:xfrm>
            <a:off x="179280" y="3141720"/>
            <a:ext cx="4284720" cy="3500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3"/>
          <p:cNvPicPr/>
          <p:nvPr/>
        </p:nvPicPr>
        <p:blipFill>
          <a:blip r:embed="rId1"/>
          <a:srcRect l="8340" t="6740" r="0" b="8159"/>
          <a:stretch/>
        </p:blipFill>
        <p:spPr>
          <a:xfrm>
            <a:off x="4789440" y="-87480"/>
            <a:ext cx="4354560" cy="3660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1680" y="3502080"/>
            <a:ext cx="4892760" cy="331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861080" y="3502080"/>
            <a:ext cx="4321080" cy="33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2-1"/>
          <p:cNvPicPr/>
          <p:nvPr/>
        </p:nvPicPr>
        <p:blipFill>
          <a:blip r:embed="rId4"/>
          <a:stretch/>
        </p:blipFill>
        <p:spPr>
          <a:xfrm>
            <a:off x="-31680" y="-166680"/>
            <a:ext cx="488628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远远看上去，一株广玉兰就像是一个数世同堂、生生不息的大家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87080" y="836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数世同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2760" y="836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生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48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276640"/>
            <a:ext cx="5904000" cy="61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远看上去，一株广玉兰就像是一个数世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堂、生生不息的、大家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66960" y="6858000"/>
            <a:ext cx="54766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800" y="1679400"/>
            <a:ext cx="878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9720" y="1641600"/>
            <a:ext cx="80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叫数世同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880" y="2306520"/>
            <a:ext cx="8623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说（含苞待放）的花是（一个刚出生的婴儿），那么（刚刚绽放）的花又是什么？请大家看大屏幕进行说话练习。（   ）的花是（    ），（   ）的花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该段的结构特点是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写了花的四种形态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数世同堂”的意思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广玉兰花的各种形态在同一株树种共同存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生不息”的意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代一代地繁衍，不停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既有比喻写法，如“远远看上去，一株广玉兰就像是一个数世同堂、生生不息的大家族。”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“盛开着的广玉兰花，洁白柔嫩得像婴儿的笑脸，甜美纯洁，惹人喜爱。”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也有拟人的写法，如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小节是按照（总分总、时间顺序）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838080" y="1219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默读第四、五自然段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文中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作者不仅写了广玉兰花瓣的形态美，还写了它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676520" y="2787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作者还写了广玉兰的叶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广玉兰的叶片有哪些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352680" y="4724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富有光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352680" y="53341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终年不败，生命力旺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1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广玉兰的叶片富有光泽，好像涂了层蜡，再配上有着铁锈色短柔毛的叶背和那微呈波状的边缘，使人觉得另有一番情趣。密集油亮的绿叶终年不败，始终透着生气，透着活泼。有了它的衬托，玉兰花便显得格外皎洁格外清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3029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3527280" cy="293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990120" y="40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活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976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情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832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终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5196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不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99072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作者在文章的最后也情不自禁地抒发了自己的情怀，请同学们齐读最后一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743200" y="3276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　我爱广玉兰的幽香与纯洁，更爱广玉兰无比旺盛的生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6320" y="2133720"/>
            <a:ext cx="93708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228600" y="4191120"/>
            <a:ext cx="3124080" cy="2576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-68400" y="77760"/>
            <a:ext cx="936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课文，分别找出文中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玉兰的幽香、纯洁、无比旺盛的生命力的段落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8600" y="1371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幽香的句子：一天晚上，我在丛林中散步，感到一股淡淡的幽香在空气中荡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1148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有的刚刚绽放，几只小蜜蜂就迫不及待地钻了进去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48320"/>
            <a:ext cx="54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写法叫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510552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纯洁的句子在第二、第三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5791320"/>
            <a:ext cx="75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旺盛的生命力的句子在第三、四、五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43828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词写出了花的香味弥漫了整个丛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4800" y="3427560"/>
            <a:ext cx="62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荡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花纯洁的句子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68400" y="1904760"/>
            <a:ext cx="822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盛开着的广玉兰花，洁白柔嫩得像婴儿的笑脸，甜美、纯洁，惹人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080" y="533520"/>
            <a:ext cx="86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我无法用文字准确形容那花瓣的色彩，说它纯白，又似乎有一种淡淡的青绿色渗透出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66688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广玉兰旺盛生命力的句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320040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4191120"/>
            <a:ext cx="83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远远看上去，一株广玉兰就像是一个数世同</a:t>
            </a:r>
            <a:br>
              <a:rPr sz="2800"/>
            </a:b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堂、生生不息的、大家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52578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密集油亮的绿叶终年不败，始终透着生气，透着活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1752480" y="3962520"/>
            <a:ext cx="6782040" cy="1890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2057400" y="17524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本文字里行间都洋溢着作者对广玉兰的爱，让我们再次朗读课文来体会作者的这种感情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1638360" y="762120"/>
            <a:ext cx="2171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ccff99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隶书"/>
              </a:rPr>
              <a:t>课文总结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ccff99"/>
                  </a:gs>
                  <a:gs pos="100000">
                    <a:srgbClr val="ffcc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247" name="Picture 6" descr="书８"/>
          <p:cNvPicPr/>
          <p:nvPr/>
        </p:nvPicPr>
        <p:blipFill>
          <a:blip r:embed="rId2"/>
          <a:stretch/>
        </p:blipFill>
        <p:spPr>
          <a:xfrm>
            <a:off x="685800" y="1752480"/>
            <a:ext cx="743040" cy="668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905120" y="52578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429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中心思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411480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本文通过描写了广玉兰花的色美、形秀、香幽以及叶片的独特情趣，表达了作者对广玉兰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763162131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广玉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1752480"/>
            <a:ext cx="8229600" cy="4648320"/>
            <a:chOff x="0" y="1752480"/>
            <a:chExt cx="8229600" cy="4648320"/>
          </a:xfrm>
        </p:grpSpPr>
        <p:sp>
          <p:nvSpPr>
            <p:cNvPr id="254" name=""/>
            <p:cNvSpPr txBox="1"/>
            <p:nvPr/>
          </p:nvSpPr>
          <p:spPr>
            <a:xfrm>
              <a:off x="0" y="1752480"/>
              <a:ext cx="82296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0280" y="1902600"/>
              <a:ext cx="357480" cy="4047840"/>
            </a:xfrm>
            <a:custGeom>
              <a:avLst/>
              <a:gdLst>
                <a:gd name="textAreaLeft" fmla="*/ 228600 w 357480"/>
                <a:gd name="textAreaRight" fmla="*/ 357840 w 357480"/>
                <a:gd name="textAreaTop" fmla="*/ 105480 h 4047840"/>
                <a:gd name="textAreaBottom" fmla="*/ 3942360 h 40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09680" y="19051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总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———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引人观赏（幽香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2666880"/>
            <a:ext cx="457200" cy="2743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9640" y="260676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花瓣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洁净、高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196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3124080"/>
            <a:ext cx="380880" cy="1905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5200" y="3048120"/>
            <a:ext cx="115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含羞待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刚刚绽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完全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已经凋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3352680"/>
            <a:ext cx="685800" cy="167652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4974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形态各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生生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41760" y="51274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07040" y="496872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叶片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富有光泽 终年不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548640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总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幽香  纯洁 生命力旺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9960" y="0"/>
            <a:ext cx="33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Arial"/>
                <a:ea typeface="楷体_GB2312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ff">
                  <a:alpha val="77254"/>
                </a:srgbClr>
              </a:gs>
              <a:gs pos="100000">
                <a:srgbClr val="000075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1484280"/>
            <a:ext cx="8748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773440" y="573408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苍翠挺拔  郁郁葱葱  枯木逢春  青翠欲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292428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涵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19162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绽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沉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198900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绣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191628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径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285264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婴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樱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436572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紫千红  春暖花开  鸟语花香  姹紫嫣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24120" y="486900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草如茵  一碧千里  杂草丛生  生机勃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530064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崇山峻岭  山明水秀  山重水复  大好河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520" y="1447920"/>
            <a:ext cx="8961480" cy="4657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ff">
                  <a:alpha val="77254"/>
                </a:srgbClr>
              </a:gs>
              <a:gs pos="100000">
                <a:srgbClr val="000075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584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油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洁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9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3516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79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170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种淡淡的青绿色渗透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7560" y="5079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瓣的质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41240" y="507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玉琢冰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1880" y="5656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柔韧而有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1979640" y="1989000"/>
            <a:ext cx="6121440" cy="4003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contrast="70000"/>
          </a:blip>
          <a:stretch/>
        </p:blipFill>
        <p:spPr>
          <a:xfrm>
            <a:off x="2050920" y="2565360"/>
            <a:ext cx="5961240" cy="399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883908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18广玉兰02"/>
          <p:cNvPicPr/>
          <p:nvPr/>
        </p:nvPicPr>
        <p:blipFill>
          <a:blip r:embed="rId1"/>
          <a:srcRect l="0" t="42983" r="0" b="0"/>
          <a:stretch/>
        </p:blipFill>
        <p:spPr>
          <a:xfrm>
            <a:off x="609480" y="373392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2362320" y="31240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黑体"/>
              </a:rPr>
              <a:t>观察一种自己喜欢的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黑体"/>
              </a:rPr>
              <a:t>一种花</a:t>
            </a: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黑体"/>
              </a:rPr>
              <a:t>用</a:t>
            </a: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黑体"/>
              </a:rPr>
              <a:t>一段话写法写出它的特点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1676520" y="838080"/>
            <a:ext cx="2590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隶书"/>
              </a:rPr>
              <a:t>运用拓展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8" name="Picture 6" descr="书１"/>
          <p:cNvPicPr/>
          <p:nvPr/>
        </p:nvPicPr>
        <p:blipFill>
          <a:blip r:embed="rId2"/>
          <a:stretch/>
        </p:blipFill>
        <p:spPr>
          <a:xfrm>
            <a:off x="685800" y="2057400"/>
            <a:ext cx="8128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0" y="692280"/>
            <a:ext cx="55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70703112508215"/>
          <p:cNvPicPr/>
          <p:nvPr/>
        </p:nvPicPr>
        <p:blipFill>
          <a:blip r:embed="rId1"/>
          <a:srcRect l="0" t="41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9_747_570b5cd03a19c6f"/>
          <p:cNvPicPr/>
          <p:nvPr/>
        </p:nvPicPr>
        <p:blipFill>
          <a:blip r:embed="rId1"/>
          <a:srcRect l="0" t="5335" r="0" b="2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TA43780_7Xx7svbvxJB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5092221392275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620640"/>
            <a:ext cx="32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7-04-30T03:30:26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