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breeze.wav" ContentType="audio/x-wav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arrow.wav" ContentType="audio/x-wav"/>
  <Override PartName="/ppt/media/image27.jpeg" ContentType="image/jpe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00A-5D0E-477B-A52F-D976648B5D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BE6-3D93-4DBC-BC9D-FBA0AB7F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987-F702-4C27-9ABF-F2B4DFBF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326-7799-4F00-B32C-C1C48994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019-3246-49DA-B49D-DED5C16F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C252-EEF1-4F7B-A32E-5640FD3A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EFCC-97D0-4669-9CD8-4055EDB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7C9-C59E-433D-9B0D-453CE9E3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EEDA-A26A-447B-A5A6-90817197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EA1E-2EA5-42BB-A1A6-B882AD72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AEE-11A3-49C6-AE37-926D9B33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A09-F87D-41BB-873D-998C35A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0F1-7299-4F43-9016-31820875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391-9C2E-4B5D-B509-0254360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512D-5734-4E0D-A143-118841B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063-7465-4045-AE2B-D756ED8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A36-1D52-456E-8354-A0538C88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77E4-474E-4DDB-8CD8-6352E94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DC7F-2C92-4979-A983-7FB9A7F5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15F1-3BDD-4970-98BC-B782917E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30B0-C88C-4546-B86D-5792246D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8579-BF8A-4089-964E-BD4AD43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CAE1-20D6-496C-80A1-68AFC73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056-488D-47BE-B614-C60BCF6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D7EB-B9C4-4D1C-9C83-4342302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8D2C-8BF2-488C-802E-8C1FAE8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4454-E115-455D-AA31-572808D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DF33-AC27-4BDA-AD51-90C919DF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4F6A-34E1-46CA-B0CB-03239C2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8BA0-99C9-42E3-89FC-033A3775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C134-AD7F-4AFC-8B4C-ACC21270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47AC-784E-4CFF-81A5-A19D8A01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5573-140D-46C0-914E-6C7720F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9DE5-D749-4F10-B1AA-7220F8B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D1B-2545-4826-8E2A-66B96D9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2B1A-EEB2-4D28-A67A-EA4A7DE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985A-8185-4DD2-A224-F2E6548B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E9EA-0633-4964-88CE-2670308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9FF3-9E09-4914-9428-3013E5C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1FC5-CC47-4ACA-8F59-8764F19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6973-2C1B-4158-81D3-87D5D82C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E466-5959-417A-AB76-526C1E2A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D88F-BB29-4C69-98CA-55EA4D8B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0018-CF26-4BE1-BBC7-853D100E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4D1-7827-4B4F-892F-0700A287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2EB-91F2-4C15-8D07-B449DCB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DC3-3D86-4FD1-9CE8-9DE4D5C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1B4-AEC6-47FD-BE26-391BB1A2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EDD-EC14-4267-BCC0-4AAE96B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30D-D259-4BDF-91E9-2D2F75928E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57A2-18AB-492D-94AD-6938E7ABA7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F6D-AF96-46E8-83D8-330D76964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619-0135-4CA5-8AD2-CE51CFAF2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qy.wms.edu/onews.asp?/336.html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76271043276165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76320" y="0"/>
            <a:ext cx="1066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60" y="1371600"/>
            <a:ext cx="1094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ff"/>
                </a:solidFill>
                <a:latin typeface="Arial"/>
              </a:rPr>
              <a:t>广玉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2666880" y="1855800"/>
            <a:ext cx="609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广玉兰，亦称“荷花玉兰”“洋玉兰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木兰科。常绿乔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叶卵状长椭圆形，厚革质，上面光亮，下面有暗黄色毛。夏季开花，花大，白色，芳香。原产美洲，我国长江流域以南各地栽培。供观赏。花含芳香油，可制成鲜花浸膏。据研究，广玉兰叶的制剂有降低血压的作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474920" y="1146240"/>
            <a:ext cx="2334960" cy="456840"/>
            <a:chOff x="1474920" y="1146240"/>
            <a:chExt cx="2334960" cy="456840"/>
          </a:xfrm>
        </p:grpSpPr>
        <p:pic>
          <p:nvPicPr>
            <p:cNvPr id="265" name="WordArt 5" descr=""/>
            <p:cNvPicPr/>
            <p:nvPr/>
          </p:nvPicPr>
          <p:blipFill>
            <a:blip r:embed="rId3"/>
            <a:stretch/>
          </p:blipFill>
          <p:spPr>
            <a:xfrm>
              <a:off x="1474920" y="1149120"/>
              <a:ext cx="23349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76000" y="1146240"/>
              <a:ext cx="2333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广玉兰简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6" descr="书与笔"/>
          <p:cNvPicPr/>
          <p:nvPr/>
        </p:nvPicPr>
        <p:blipFill>
          <a:blip r:embed="rId4"/>
          <a:stretch/>
        </p:blipFill>
        <p:spPr>
          <a:xfrm>
            <a:off x="533520" y="946080"/>
            <a:ext cx="7617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1143000" y="20574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作者陈荒煤，笔名“荒煤” “沪生”“梅白”。原籍湖北襄阳，生于上海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湖北省第二中学商科毕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秋发表了小说《苦难中的人群》，之后就开始了文学创作活动，出版短篇小说集《忧郁的歌》《长江上》，剧本《黎明》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447920" y="1295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课外小知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72" name="Picture 6" descr="书５"/>
          <p:cNvPicPr/>
          <p:nvPr/>
        </p:nvPicPr>
        <p:blipFill>
          <a:blip r:embed="rId3"/>
          <a:stretch/>
        </p:blipFill>
        <p:spPr>
          <a:xfrm>
            <a:off x="380880" y="1143000"/>
            <a:ext cx="8128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2006520143716516"/>
          <p:cNvPicPr/>
          <p:nvPr/>
        </p:nvPicPr>
        <p:blipFill>
          <a:blip r:embed="rId2"/>
          <a:srcRect l="0" t="6003" r="0" b="3332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WordArt 3"/>
          <p:cNvSpPr txBox="1"/>
          <p:nvPr/>
        </p:nvSpPr>
        <p:spPr>
          <a:xfrm>
            <a:off x="304920" y="9144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广玉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549782"/>
          <p:cNvPicPr/>
          <p:nvPr/>
        </p:nvPicPr>
        <p:blipFill>
          <a:blip r:embed="rId2"/>
          <a:srcRect l="0" t="0" r="0" b="866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2007631621314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111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20070703112508215"/>
          <p:cNvPicPr/>
          <p:nvPr/>
        </p:nvPicPr>
        <p:blipFill>
          <a:blip r:embed="rId2"/>
          <a:srcRect l="0" t="41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9_747_570b5cd03a19c6f"/>
          <p:cNvPicPr/>
          <p:nvPr/>
        </p:nvPicPr>
        <p:blipFill>
          <a:blip r:embed="rId2"/>
          <a:srcRect l="0" t="5335" r="0" b="2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STA43780_7Xx7svbvxJB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0050922213922758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89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0" y="620640"/>
            <a:ext cx="32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欣赏广玉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6668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1911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6386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1629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590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荡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11480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琢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63868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涵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162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绽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666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1911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7913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1629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2362320" y="324468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2362320" y="228600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362320" y="4464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复件 思考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96" name="Line 21"/>
          <p:cNvSpPr/>
          <p:nvPr/>
        </p:nvSpPr>
        <p:spPr>
          <a:xfrm>
            <a:off x="2362320" y="2394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236232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2362320" y="4343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200762710432761658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152280" y="4876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看了广玉兰之后，你能用哪些词来形容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332000" y="21337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洁净       高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990720" y="1460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听课文朗读，说说课文主要写了什么内容？找出本文的中心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600200" y="3048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句话在文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3520" y="2438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本文的中心句是：我爱广玉兰的幽香与纯洁，更爱广玉兰无比旺盛的生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3240" y="620640"/>
            <a:ext cx="79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写了广玉兰是一种高大的常绿乔木，花很大，散发着阵阵幽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960" y="523080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全文，点明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68580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同学们小组合作继续读课文并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是按怎样的顺序描绘广玉兰的，着重写了哪一方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743200" y="38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按花的色彩和质感、花的形态、叶子的特点的顺序写的，着重写了广玉兰花开时的形态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5280" y="170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默读，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作者是从哪几方面来写广玉兰的？课文可以分为几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一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者为广玉兰的花香所吸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二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广玉兰色彩和质感、花开的各种形态及叶片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者喜爱广玉兰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3720" y="836640"/>
            <a:ext cx="1261080" cy="58140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理清脉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91440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第二自然段，说说这一段从哪两个方面来写广玉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209680" y="30481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从花瓣色彩和质感两个方面写出了花的洁净、高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2971800" y="4800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画出文中与这两方面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762120" y="1676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色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28800" y="2743200"/>
            <a:ext cx="6781680" cy="1600200"/>
            <a:chOff x="1828800" y="2743200"/>
            <a:chExt cx="6781680" cy="1600200"/>
          </a:xfrm>
        </p:grpSpPr>
        <p:sp>
          <p:nvSpPr>
            <p:cNvPr id="313" name="Text Box 6"/>
            <p:cNvSpPr/>
            <p:nvPr/>
          </p:nvSpPr>
          <p:spPr>
            <a:xfrm>
              <a:off x="1828800" y="2743200"/>
              <a:ext cx="67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无法用文字准确形容那花瓣的色彩，说它纯白吧，又似乎有一种淡淡的青绿色渗透出来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2743200" y="3276720"/>
              <a:ext cx="571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8"/>
            <p:cNvSpPr/>
            <p:nvPr/>
          </p:nvSpPr>
          <p:spPr>
            <a:xfrm>
              <a:off x="1981080" y="3809880"/>
              <a:ext cx="6553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981080" y="4343400"/>
              <a:ext cx="3962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685800" y="1752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花瓣的质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52480" y="2743200"/>
            <a:ext cx="6705720" cy="1600200"/>
            <a:chOff x="1752480" y="2743200"/>
            <a:chExt cx="6705720" cy="1600200"/>
          </a:xfrm>
        </p:grpSpPr>
        <p:sp>
          <p:nvSpPr>
            <p:cNvPr id="321" name="Text Box 6"/>
            <p:cNvSpPr/>
            <p:nvPr/>
          </p:nvSpPr>
          <p:spPr>
            <a:xfrm>
              <a:off x="1752480" y="2743200"/>
              <a:ext cx="67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　我也无法用文字准确形容那花瓣的质感，说它玉琢冰雕吧，它又显得那样柔韧而有弹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2590560" y="3276720"/>
              <a:ext cx="548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8"/>
            <p:cNvSpPr/>
            <p:nvPr/>
          </p:nvSpPr>
          <p:spPr>
            <a:xfrm>
              <a:off x="1752480" y="3809880"/>
              <a:ext cx="6400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1752480" y="4343400"/>
              <a:ext cx="441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26668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1480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638680" y="33210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1629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590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花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11480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婴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63868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根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1629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铁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666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ru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11480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6386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2388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i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2362320" y="324468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2362320" y="228600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>
            <a:off x="2362320" y="4464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0" descr="复件 思考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18" name="Line 21"/>
          <p:cNvSpPr/>
          <p:nvPr/>
        </p:nvSpPr>
        <p:spPr>
          <a:xfrm>
            <a:off x="2362320" y="2394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236232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>
            <a:off x="2362320" y="4343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4404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367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纯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38320" y="2492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淡淡的青绿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6400" y="39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质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36080" y="3933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玉琢冰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20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柔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68400" y="47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弹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1052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无法用文字准确形容那花瓣的色彩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纯白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又似乎有一种淡淡的青绿色渗透出来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我也无法用文字准确形容那花瓣的质感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它玉琢冰雕吧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它又显得那样柔韧而有弹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72760" y="98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640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30077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76212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作者无法用语言文字准确形容广玉兰的花瓣色彩和质感，这样写突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133720" y="3200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突出了广玉兰实在是到了美不胜收、美不能言的境地。表达出作者对盛开花朵的喜爱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4952880"/>
            <a:ext cx="1905120" cy="15717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609480" y="1066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默读第三自然段，思考作者怎样描写广玉兰花瓣的形态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143000" y="1905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的含羞待放，碧绿的花苞鲜嫩可爱。有的刚刚绽放，几只小蜜蜂就迫不及待地钻了进去，那里面椭圆形的花蕊约有一寸长。盛开着的广玉兰花，洁白柔嫩得像婴儿的笑脸，甜美、纯洁，惹人喜爱。先前热热闹闹开过的广玉兰花呢，花瓣虽然凋谢了，花蕊却依然挺立枝头，已长成近两寸长的圆茎。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广玉兰开花有早有迟，在同一棵树上，能看到花开的各种形态。有的含羞待放，碧绿的花苞鲜嫩可爱。有的刚刚绽放，几只小蜜蜂就迫不及待地钻了进去，那里面椭圆形的花蕊约有一寸长。盛开着的玉兰花，洁白柔嫩得像婴儿的笑脸，甜美、纯洁，惹人喜爱。先前热热闹闹开过的广玉兰呢，花瓣虽然凋谢了，花蕊却依然挺立枝头，它已长成近两寸长的圆茎。圆茎上面缀满了像细珠似的紫红色的小颗粒，这就是孕育着新生命的种子。远远看上去，一株广玉兰就像是一个数世同堂、生生不息的大家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3640" y="907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含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待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134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刚刚绽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23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盛开着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9324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760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凋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有的含羞待放，碧绿的花苞鲜嫩可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32000" y="4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含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2000" y="666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碧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8589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鲜嫩可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rcRect l="0" t="0" r="12146" b="9602"/>
          <a:stretch/>
        </p:blipFill>
        <p:spPr>
          <a:xfrm>
            <a:off x="1619280" y="2205000"/>
            <a:ext cx="609264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有的刚刚绽放，几只小蜜蜂就迫不及待地钻了进去，那里面椭圆形的花蕊约有一寸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4032360" cy="424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50920" y="9079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迫不及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3"/>
          <p:cNvPicPr/>
          <p:nvPr/>
        </p:nvPicPr>
        <p:blipFill>
          <a:blip r:embed="rId3"/>
          <a:srcRect l="8340" t="6740" r="0" b="8159"/>
          <a:stretch/>
        </p:blipFill>
        <p:spPr>
          <a:xfrm>
            <a:off x="250920" y="2276640"/>
            <a:ext cx="4608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盛开着的玉兰花，洁白柔嫩得像婴儿的笑脸，甜美、纯洁，惹人喜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280" y="2706840"/>
            <a:ext cx="814716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670200" cy="3598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9911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洁白柔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37080" y="134136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甜美、纯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广玉兰 摄影 随风飘浮"/>
          <p:cNvPicPr/>
          <p:nvPr/>
        </p:nvPicPr>
        <p:blipFill>
          <a:blip r:embed="rId3"/>
          <a:stretch/>
        </p:blipFill>
        <p:spPr>
          <a:xfrm>
            <a:off x="4716360" y="2637000"/>
            <a:ext cx="39927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64000" y="1773000"/>
            <a:ext cx="468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　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先前热热闹闹开过的广玉兰呢，花瓣虽然凋谢了，花蕊却依然挺立枝头，它已长成近两寸长的圆茎。圆茎上面缀满了像细珠似的紫红色的小颗粒，这就是孕育着新生命的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21440" cy="28479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rcRect l="12446" t="12107" r="0" b="13288"/>
          <a:stretch/>
        </p:blipFill>
        <p:spPr>
          <a:xfrm>
            <a:off x="179280" y="3141720"/>
            <a:ext cx="4284720" cy="3500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81080" y="25909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渗透　概括　花蕊　孕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81080" y="3733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呈现　旺盛　内涵　凋落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1905120" y="25146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1905120" y="35812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1981080" y="4648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1905120" y="25909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1905120" y="35053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1981080" y="4572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1752480" y="14479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隶书"/>
              </a:rPr>
              <a:t>开火车读词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隶书"/>
              <a:ea typeface="隶书"/>
            </a:endParaRPr>
          </a:p>
        </p:txBody>
      </p:sp>
      <p:pic>
        <p:nvPicPr>
          <p:cNvPr id="232" name="Picture 13" descr="丁丁"/>
          <p:cNvPicPr/>
          <p:nvPr/>
        </p:nvPicPr>
        <p:blipFill>
          <a:blip r:embed="rId3"/>
          <a:stretch/>
        </p:blipFill>
        <p:spPr>
          <a:xfrm>
            <a:off x="457200" y="1219320"/>
            <a:ext cx="1009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3"/>
          <p:cNvPicPr/>
          <p:nvPr/>
        </p:nvPicPr>
        <p:blipFill>
          <a:blip r:embed="rId2"/>
          <a:srcRect l="8340" t="6740" r="0" b="8159"/>
          <a:stretch/>
        </p:blipFill>
        <p:spPr>
          <a:xfrm>
            <a:off x="4789440" y="-87480"/>
            <a:ext cx="4354560" cy="3660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-31680" y="3502080"/>
            <a:ext cx="4892760" cy="331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861080" y="3502080"/>
            <a:ext cx="4321080" cy="33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2-1"/>
          <p:cNvPicPr/>
          <p:nvPr/>
        </p:nvPicPr>
        <p:blipFill>
          <a:blip r:embed="rId5"/>
          <a:stretch/>
        </p:blipFill>
        <p:spPr>
          <a:xfrm>
            <a:off x="-31680" y="-166680"/>
            <a:ext cx="488628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远远看上去，一株广玉兰就像是一个数世同堂、生生不息的大家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87080" y="836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数世同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2760" y="836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生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148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276640"/>
            <a:ext cx="5904000" cy="61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远看上去，一株广玉兰就像是一个数世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堂、生生不息的、大家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66960" y="6858000"/>
            <a:ext cx="54766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1800" y="1679400"/>
            <a:ext cx="878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09720" y="1641600"/>
            <a:ext cx="80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叫数世同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6880" y="2306520"/>
            <a:ext cx="8623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说（含苞待放）的花是（一个刚出生的婴儿），那么（刚刚绽放）的花又是什么？请大家看大屏幕进行说话练习。（   ）的花是（    ），（   ）的花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该段的结构特点是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写了花的四种形态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数世同堂”的意思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广玉兰花的各种形态在同一株树种共同存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生不息”的意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代一代地繁衍，不停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文中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既有比喻写法，如“远远看上去，一株广玉兰就像是一个数世同堂、生生不息的大家族。”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“盛开着的广玉兰花，洁白柔嫩得像婴儿的笑脸，甜美纯洁，惹人喜爱。”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也有拟人的写法，如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小节是按照（总分总、时间顺序）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838080" y="1219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默读第四、五自然段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文中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作者不仅写了广玉兰花瓣的形态美，还写了它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676520" y="2787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作者还写了广玉兰的叶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3962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广玉兰的叶片有哪些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352680" y="4724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富有光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352680" y="53341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片终年不败，生命力旺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1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广玉兰的叶片富有光泽，好像涂了层蜡，再配上有着铁锈色短柔毛的叶背和那微呈波状的边缘，使人觉得另有一番情趣。密集油亮的绿叶终年不败，始终透着生气，透着活泼。有了它的衬托，玉兰花便显得格外皎洁格外清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527280" cy="3029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3527280" cy="2930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990120" y="40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活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976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情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8832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终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5196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不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4"/>
          <p:cNvSpPr/>
          <p:nvPr/>
        </p:nvSpPr>
        <p:spPr>
          <a:xfrm>
            <a:off x="99072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　作者在文章的最后也情不自禁地抒发了自己的情怀，请同学们齐读最后一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2743200" y="3276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　我爱广玉兰的幽香与纯洁，更爱广玉兰无比旺盛的生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76320" y="2133720"/>
            <a:ext cx="93708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228600" y="4191120"/>
            <a:ext cx="3124080" cy="25765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-68400" y="77760"/>
            <a:ext cx="936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默读课文，分别找出文中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玉兰的幽香、纯洁、无比旺盛的生命力的段落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28600" y="1371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幽香的句子：一天晚上，我在丛林中散步，感到一股淡淡的幽香在空气中荡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41148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有的刚刚绽放，几只小蜜蜂就迫不及待地钻了进去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4648320"/>
            <a:ext cx="54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写法叫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510552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纯洁的句子在第二、第三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5791320"/>
            <a:ext cx="75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旺盛的生命力的句子在第三、四、五自然段中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243828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词写出了花的香味弥漫了整个丛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74800" y="3427560"/>
            <a:ext cx="62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荡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花纯洁的句子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68400" y="1904760"/>
            <a:ext cx="822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盛开着的广玉兰花，洁白柔嫩得像婴儿的笑脸，甜美、纯洁，惹人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080" y="533520"/>
            <a:ext cx="86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我无法用文字准确形容那花瓣的色彩，说它纯白，又似乎有一种淡淡的青绿色渗透出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266688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广玉兰旺盛生命力的句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320040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茎上面缀满了像细珠似的紫红色的小颗粒，这就是孕育着新生命的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4191120"/>
            <a:ext cx="83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远远看上去，一株广玉兰就像是一个数世同</a:t>
            </a:r>
            <a:br>
              <a:rPr sz="2800"/>
            </a:b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堂、生生不息的、大家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2578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密集油亮的绿叶终年不败，始终透着生气，透着活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秋冬时节，许多树的叶子凋落了，广玉兰却披着一身绿叶，与松柏为伍，装点着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2280" y="91440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80880" y="2286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玉琢冰雕　含羞待放　鲜嫩可爱　迫不及待    惹人喜爱   生生不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981080" y="373392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数世同堂　终年不败  荡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绽放  婴儿  园茎  皎洁  铁锈　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1905120" y="22860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90512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2133720" y="5791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1828800" y="2133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905120" y="36576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1981080" y="56386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1752480" y="14479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隶书"/>
              </a:rPr>
              <a:t>开火车读词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隶书"/>
              <a:ea typeface="隶书"/>
            </a:endParaRPr>
          </a:p>
        </p:txBody>
      </p:sp>
      <p:pic>
        <p:nvPicPr>
          <p:cNvPr id="244" name="Picture 13" descr="丁丁"/>
          <p:cNvPicPr/>
          <p:nvPr/>
        </p:nvPicPr>
        <p:blipFill>
          <a:blip r:embed="rId3"/>
          <a:stretch/>
        </p:blipFill>
        <p:spPr>
          <a:xfrm>
            <a:off x="457200" y="1219320"/>
            <a:ext cx="1009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4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本文字里行间都洋溢着作者对广玉兰的爱，让我们再次朗读课文来体会作者的这种感情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1638360" y="1981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ccff99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隶书"/>
              </a:rPr>
              <a:t>课文总结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ccff99"/>
                  </a:gs>
                  <a:gs pos="100000">
                    <a:srgbClr val="ffcc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33" name="Picture 6" descr="书８"/>
          <p:cNvPicPr/>
          <p:nvPr/>
        </p:nvPicPr>
        <p:blipFill>
          <a:blip r:embed="rId3"/>
          <a:stretch/>
        </p:blipFill>
        <p:spPr>
          <a:xfrm>
            <a:off x="685800" y="1752480"/>
            <a:ext cx="74304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ff">
                  <a:alpha val="77254"/>
                </a:srgbClr>
              </a:gs>
              <a:gs pos="100000">
                <a:srgbClr val="000075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0" y="1484280"/>
            <a:ext cx="8748720" cy="4824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773440" y="573408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苍翠挺拔  郁郁葱葱  枯木逢春  青翠欲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08360" y="292428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涵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71640" y="19162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绽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沉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198900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绣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00720" y="191628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径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285264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婴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樱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71640" y="436572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紫千红  春暖花开  鸟语花香  姹紫嫣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24120" y="486900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草如茵  一碧千里  杂草丛生  生机勃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00360" y="530064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崇山峻岭  山明水秀  山重水复  大好河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8961480" cy="46576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ff">
                  <a:alpha val="77254"/>
                </a:srgbClr>
              </a:gs>
              <a:gs pos="100000">
                <a:srgbClr val="000075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584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油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5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洁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958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3516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7988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170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种淡淡的青绿色渗透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67560" y="5079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瓣的质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41240" y="507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玉琢冰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81880" y="5656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柔韧而有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>
            <a:lum contrast="72000"/>
          </a:blip>
          <a:stretch/>
        </p:blipFill>
        <p:spPr>
          <a:xfrm>
            <a:off x="1979640" y="1989000"/>
            <a:ext cx="6121440" cy="40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>
            <a:lum contrast="70000"/>
          </a:blip>
          <a:stretch/>
        </p:blipFill>
        <p:spPr>
          <a:xfrm>
            <a:off x="2050920" y="2565360"/>
            <a:ext cx="5961240" cy="399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1"/>
          <p:cNvSpPr/>
          <p:nvPr/>
        </p:nvSpPr>
        <p:spPr>
          <a:xfrm>
            <a:off x="76320" y="5335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在面对自己的心爱之物或亲爱之人时，我们也常常和本文的作者一样无法运用确言表达内心的感受，用你的笔来写写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真是无法说清妈妈的特点，说她和蔼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她严厉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家大花猫性格实在有些古怪，说它老实吧，它有时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它贪玩吧，它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它胆小吧，它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真是无法说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说他（她、它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说他（她、它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吧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18广玉兰02"/>
          <p:cNvPicPr/>
          <p:nvPr/>
        </p:nvPicPr>
        <p:blipFill>
          <a:blip r:embed="rId2"/>
          <a:srcRect l="0" t="42983" r="0" b="0"/>
          <a:stretch/>
        </p:blipFill>
        <p:spPr>
          <a:xfrm>
            <a:off x="152280" y="3976560"/>
            <a:ext cx="3124440" cy="25765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"/>
          <p:cNvSpPr/>
          <p:nvPr/>
        </p:nvSpPr>
        <p:spPr>
          <a:xfrm>
            <a:off x="2362320" y="31240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观察一种自己喜欢的植物，仿照课文第三自然段的写法写一篇观察日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"/>
          <p:cNvSpPr txBox="1"/>
          <p:nvPr/>
        </p:nvSpPr>
        <p:spPr>
          <a:xfrm>
            <a:off x="1676520" y="21337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64" name="Picture 6" descr="书１"/>
          <p:cNvPicPr/>
          <p:nvPr/>
        </p:nvPicPr>
        <p:blipFill>
          <a:blip r:embed="rId3"/>
          <a:stretch/>
        </p:blipFill>
        <p:spPr>
          <a:xfrm>
            <a:off x="685800" y="2057400"/>
            <a:ext cx="8128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0" y="692280"/>
            <a:ext cx="55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1655640" cy="52056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06776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333360"/>
            <a:ext cx="30243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 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ùn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 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èn t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o y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（）（）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不（）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1640" y="333360"/>
            <a:ext cx="2936880" cy="84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óu 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ài 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 f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ǒyuánx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（）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）世同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1655640" cy="52056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067760"/>
            <a:ext cx="29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雕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u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蕊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u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īn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à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89000"/>
            <a:ext cx="30243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ì g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孕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ùn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旺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g 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渗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èn t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油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o y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缘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羞待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迫不及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260280"/>
            <a:ext cx="2936880" cy="89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柔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óu 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ài 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蜜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 f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ǒyuánx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生生）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瓣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惹人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世同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486600" y="898560"/>
            <a:ext cx="46612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怀胎、生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课指花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物的本质给人外观上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淡的香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高尚而不俗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花瓣像玉石一样细腻有光泽，像冰一样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裹着花蕾正待开放的样子，美丽娇嫩有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朵开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迫的不能再等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人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几代人都生活在一起。文中指广玉兰的各种形态在同一株树中共同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代一代的繁衍，不停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亮而洁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838440"/>
            <a:ext cx="180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孕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内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质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幽香</a:t>
            </a:r>
            <a:r>
              <a:rPr b="1" lang="en-US" sz="2800" spc="-1" strike="noStrike">
                <a:solidFill>
                  <a:srgbClr val="b7379c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高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玉琢冰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含羞待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绽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迫不及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惹人喜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数世同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生生不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379c"/>
                </a:solidFill>
                <a:latin typeface="Arial"/>
                <a:ea typeface="黑体"/>
              </a:rPr>
              <a:t>皎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4000" y="189000"/>
            <a:ext cx="32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词语理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sp>
          <p:nvSpPr>
            <p:cNvPr id="257" name="Rectangle 3"/>
            <p:cNvSpPr/>
            <p:nvPr/>
          </p:nvSpPr>
          <p:spPr>
            <a:xfrm>
              <a:off x="152280" y="609480"/>
              <a:ext cx="883908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4" descr="18广玉兰02"/>
            <p:cNvPicPr/>
            <p:nvPr/>
          </p:nvPicPr>
          <p:blipFill>
            <a:blip r:embed="rId2"/>
            <a:srcRect l="0" t="42983" r="0" b="0"/>
            <a:stretch/>
          </p:blipFill>
          <p:spPr>
            <a:xfrm>
              <a:off x="152280" y="3976560"/>
              <a:ext cx="3124080" cy="25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ext Box 5"/>
          <p:cNvSpPr/>
          <p:nvPr/>
        </p:nvSpPr>
        <p:spPr>
          <a:xfrm>
            <a:off x="2209680" y="3200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春暖花开，各种花都竞相开放。今天，我们再认识一种花——广玉兰。</a:t>
            </a: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5720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同学们都认识哪些花呢？选择一种你最喜欢的花向大家介绍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4-04-22T03:06:36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