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arrow.wav" ContentType="audio/x-wav"/>
  <Override PartName="/ppt/media/image1.jpeg" ContentType="image/jpeg"/>
  <Override PartName="/ppt/media/image7.png" ContentType="image/png"/>
  <Override PartName="/ppt/media/image3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28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36.png" ContentType="image/png"/>
  <Override PartName="/ppt/media/image6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BC3F-2388-47AE-BB4D-A307A82404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5FC-9964-4891-B31D-41AA449F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DDA-6899-4C32-A6A4-745CDEAD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722-7EC3-4FC8-82D3-FAB2FA1E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7AF-9949-447D-A116-41D0DB10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B24-E3DC-4010-AB7B-1918D9A7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C77-9A2E-4F64-BF40-3AC509AA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612-9854-4E27-B521-D1DD2E3E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DCF-1181-4374-ADAA-B05B934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52B-6615-4BCB-B3B9-5F9ECAD3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160-357A-4A26-828B-AC68A004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ABE-AAB3-4691-8E67-9DD7BD13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8B0-C476-403D-8B31-AA0C8A76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D630-4B81-455D-84C4-025F87754B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jpeg"/><Relationship Id="rId3" Type="http://schemas.openxmlformats.org/officeDocument/2006/relationships/image" Target="../media/image26.jpeg"/><Relationship Id="rId4" Type="http://schemas.openxmlformats.org/officeDocument/2006/relationships/image" Target="../media/image2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dqy.wms.edu/onews.asp?/336.html" TargetMode="External"/><Relationship Id="rId2" Type="http://schemas.openxmlformats.org/officeDocument/2006/relationships/image" Target="../media/image2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sp>
          <p:nvSpPr>
            <p:cNvPr id="49" name="Rectangle 3"/>
            <p:cNvSpPr/>
            <p:nvPr/>
          </p:nvSpPr>
          <p:spPr>
            <a:xfrm>
              <a:off x="152280" y="609480"/>
              <a:ext cx="883908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18广玉兰02"/>
            <p:cNvPicPr/>
            <p:nvPr/>
          </p:nvPicPr>
          <p:blipFill>
            <a:blip r:embed="rId1"/>
            <a:srcRect l="0" t="42983" r="0" b="0"/>
            <a:stretch/>
          </p:blipFill>
          <p:spPr>
            <a:xfrm>
              <a:off x="152280" y="3976560"/>
              <a:ext cx="3124080" cy="25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 Box 5"/>
          <p:cNvSpPr/>
          <p:nvPr/>
        </p:nvSpPr>
        <p:spPr>
          <a:xfrm>
            <a:off x="2209680" y="32004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春暖花开，各种花都竞相开放。今天，我们再认识一种花——广玉兰。</a:t>
            </a:r>
            <a:r>
              <a:rPr b="0" lang="zh-CN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57200" y="1752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同学们都认识哪些花呢？选择一种你最喜欢的花向大家介绍一下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1655640" cy="520560"/>
          </a:xfrm>
          <a:prstGeom prst="rect">
            <a:avLst/>
          </a:prstGeom>
          <a:gradFill rotWithShape="0">
            <a:gsLst>
              <a:gs pos="0">
                <a:srgbClr val="ff0066">
                  <a:alpha val="63137"/>
                </a:srgbClr>
              </a:gs>
              <a:gs pos="100000">
                <a:srgbClr val="0000ff">
                  <a:alpha val="6117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生字新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1067760"/>
            <a:ext cx="295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荡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漾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雕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hu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蕊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u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īng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j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hà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411280" y="189000"/>
            <a:ext cx="30243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ì g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孕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ùn 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旺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àng s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渗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èn t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幽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ō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（油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āo y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缘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羞待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迫不及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580000" y="260280"/>
            <a:ext cx="2936880" cy="89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柔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óu r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ài k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蜜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ì f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椭圆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ǒyuánx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生生）不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瓣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惹人喜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世同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486600" y="898560"/>
            <a:ext cx="46612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怀胎、生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课指花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事物的本质给人外观上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清淡的香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高尚而不俗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形容花瓣像玉石一样细腻有光泽，像冰一样透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形容裹着花蕾正待开放的样子，美丽娇嫩有生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花朵开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迫的不能再等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讨人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几代人都生活在一起。文中指广玉兰的各种形态在同一株树中共同存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代一代的繁衍，不停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明亮而洁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79280" y="838440"/>
            <a:ext cx="180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孕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内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质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幽香</a:t>
            </a:r>
            <a:r>
              <a:rPr b="1" lang="en-US" sz="2800" spc="-1" strike="noStrike">
                <a:solidFill>
                  <a:srgbClr val="b7379c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高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玉琢冰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含羞待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绽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迫不及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惹人喜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数世同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生生不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皎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324000" y="189000"/>
            <a:ext cx="320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词语理解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990720" y="14605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听课文朗读，说说课文主要写了什么内容？找出本文的中心句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600200" y="3048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880" y="4419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句话在文中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3520" y="243828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本文的中心句是：我爱广玉兰的幽香与纯洁，更爱广玉兰无比旺盛的生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33240" y="620640"/>
            <a:ext cx="79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写了广玉兰是一种高大的常绿乔木，花很大，散发着阵阵幽香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23960" y="523080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结全文，点明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95280" y="170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黑体"/>
              </a:rPr>
              <a:t>默读，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黑体"/>
              </a:rPr>
              <a:t>作者是从哪几方面来写广玉兰的？课文可以分为几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68360" y="3068640"/>
            <a:ext cx="8280360" cy="2288520"/>
          </a:xfrm>
          <a:prstGeom prst="rect">
            <a:avLst/>
          </a:prstGeom>
          <a:solidFill>
            <a:srgbClr val="bbe0e3">
              <a:alpha val="5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黑体"/>
              </a:rPr>
              <a:t>第一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者为广玉兰的花香所吸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黑体"/>
              </a:rPr>
              <a:t>第二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广玉兰色彩和质感、花开的各种形态及叶片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黑体"/>
              </a:rPr>
              <a:t>第三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者喜爱广玉兰的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64240" y="836640"/>
            <a:ext cx="1400040" cy="581400"/>
          </a:xfrm>
          <a:prstGeom prst="rect">
            <a:avLst/>
          </a:prstGeom>
          <a:gradFill rotWithShape="0">
            <a:gsLst>
              <a:gs pos="0">
                <a:srgbClr val="ff0066">
                  <a:alpha val="63137"/>
                </a:srgbClr>
              </a:gs>
              <a:gs pos="100000">
                <a:srgbClr val="0000ff">
                  <a:alpha val="6117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理清脉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2006520143716516"/>
          <p:cNvPicPr/>
          <p:nvPr/>
        </p:nvPicPr>
        <p:blipFill>
          <a:blip r:embed="rId1"/>
          <a:srcRect l="0" t="6003" r="0" b="3332"/>
          <a:stretch/>
        </p:blipFill>
        <p:spPr>
          <a:xfrm>
            <a:off x="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3"/>
          <p:cNvSpPr txBox="1"/>
          <p:nvPr/>
        </p:nvSpPr>
        <p:spPr>
          <a:xfrm>
            <a:off x="228600" y="9144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广玉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549782"/>
          <p:cNvPicPr/>
          <p:nvPr/>
        </p:nvPicPr>
        <p:blipFill>
          <a:blip r:embed="rId1"/>
          <a:srcRect l="0" t="0" r="0" b="8669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200763162131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70703112508215"/>
          <p:cNvPicPr/>
          <p:nvPr/>
        </p:nvPicPr>
        <p:blipFill>
          <a:blip r:embed="rId1"/>
          <a:srcRect l="0" t="413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复件 XC008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0"/>
            <a:ext cx="56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楷体_GB2312"/>
              </a:rPr>
              <a:t>苏教版小语教材第十二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68360" y="3068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99"/>
                </a:solidFill>
                <a:latin typeface="Times New Roman"/>
              </a:rPr>
              <a:t>18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9600" spc="-1" strike="noStrike">
                <a:solidFill>
                  <a:srgbClr val="3399ff"/>
                </a:solidFill>
                <a:latin typeface="Times New Roman"/>
              </a:rPr>
              <a:t>广 玉 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_747_570b5cd03a19c6f"/>
          <p:cNvPicPr/>
          <p:nvPr/>
        </p:nvPicPr>
        <p:blipFill>
          <a:blip r:embed="rId1"/>
          <a:srcRect l="0" t="5335" r="0" b="26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STA43780_7Xx7svbvxJB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20050922213922758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98968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0" y="620640"/>
            <a:ext cx="320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欣赏广玉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200762710432761658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152280" y="48769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看了广玉兰之后，你能用哪些词来形容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2008413195025188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675280" y="-526536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63280" y="-360"/>
            <a:ext cx="576108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含 苞 待 放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刚 刚 绽 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完 全 盛 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已 经 凋 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6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200510031634128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1332000" y="213372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cc"/>
                </a:solidFill>
                <a:latin typeface="Arial"/>
              </a:rPr>
              <a:t>洁净       高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685800" y="1371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同学们小组合作继续读课文并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371600" y="2438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作者是按怎样的顺序描绘广玉兰的，着重写了哪一方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743200" y="38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按花、叶、旺盛生命力，着重写了广玉兰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685800" y="1371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同学们小组合作继续读课文并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371600" y="2438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作者是按怎样的顺序描绘广玉兰的，着重写了哪一方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743200" y="38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按花的色彩和质感、花的形态、叶子的特点的顺序写的，着重写了广玉兰花开时的形态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914400" y="16002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默读第二自然段，说说这一段从哪两个方面来写广玉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209680" y="30481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　　从花瓣色彩和质感两个方面写出了花的洁净、高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971800" y="4800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画出文中与这两方面相关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762120" y="1676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花瓣的色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5"/>
          <p:cNvGrpSpPr/>
          <p:nvPr/>
        </p:nvGrpSpPr>
        <p:grpSpPr>
          <a:xfrm>
            <a:off x="1828800" y="2743200"/>
            <a:ext cx="6781680" cy="1600200"/>
            <a:chOff x="1828800" y="2743200"/>
            <a:chExt cx="6781680" cy="1600200"/>
          </a:xfrm>
        </p:grpSpPr>
        <p:sp>
          <p:nvSpPr>
            <p:cNvPr id="188" name="Text Box 6"/>
            <p:cNvSpPr/>
            <p:nvPr/>
          </p:nvSpPr>
          <p:spPr>
            <a:xfrm>
              <a:off x="1828800" y="2743200"/>
              <a:ext cx="67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　我无法用文字准确形容那花瓣的色彩，说它纯白吧，又似乎有一种淡淡的青绿色渗透出来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"/>
            <p:cNvSpPr/>
            <p:nvPr/>
          </p:nvSpPr>
          <p:spPr>
            <a:xfrm>
              <a:off x="2743200" y="3276720"/>
              <a:ext cx="5715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1981080" y="3809880"/>
              <a:ext cx="6553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"/>
            <p:cNvSpPr/>
            <p:nvPr/>
          </p:nvSpPr>
          <p:spPr>
            <a:xfrm>
              <a:off x="1981080" y="4343400"/>
              <a:ext cx="3962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304920"/>
            <a:ext cx="883908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0" y="3595680"/>
            <a:ext cx="3200400" cy="3262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2666880" y="1855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书与笔"/>
          <p:cNvPicPr/>
          <p:nvPr/>
        </p:nvPicPr>
        <p:blipFill>
          <a:blip r:embed="rId2"/>
          <a:stretch/>
        </p:blipFill>
        <p:spPr>
          <a:xfrm>
            <a:off x="533520" y="914400"/>
            <a:ext cx="761760" cy="654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14600" y="13716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读了这个题目，我们可知道这是一篇什么文章？如何是你写你准备写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685800" y="17524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花瓣的质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1752480" y="2743200"/>
            <a:ext cx="6705720" cy="1600200"/>
            <a:chOff x="1752480" y="2743200"/>
            <a:chExt cx="6705720" cy="1600200"/>
          </a:xfrm>
        </p:grpSpPr>
        <p:sp>
          <p:nvSpPr>
            <p:cNvPr id="196" name="Text Box 6"/>
            <p:cNvSpPr/>
            <p:nvPr/>
          </p:nvSpPr>
          <p:spPr>
            <a:xfrm>
              <a:off x="1752480" y="2743200"/>
              <a:ext cx="67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　我也无法用文字准确形容那花瓣的质感，说它玉琢冰雕吧，它又显得那样柔韧而有弹性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2590560" y="3276720"/>
              <a:ext cx="548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>
              <a:off x="1752480" y="3809880"/>
              <a:ext cx="6400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9"/>
            <p:cNvSpPr/>
            <p:nvPr/>
          </p:nvSpPr>
          <p:spPr>
            <a:xfrm>
              <a:off x="1752480" y="4343400"/>
              <a:ext cx="4419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44404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50367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纯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2938320" y="24922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淡淡的青绿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796400" y="3933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质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636080" y="3933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玉琢冰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020400" y="472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柔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5468400" y="472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弹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372760" y="981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无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796400" y="32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无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r_20640_040616232842.mp3" descr=""/>
          <p:cNvPicPr/>
          <p:nvPr/>
        </p:nvPicPr>
        <p:blipFill>
          <a:blip r:embed="rId1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230077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76212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作者无法用语言文字准确形容广玉兰的花瓣色彩和质感，这样写突出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133720" y="32004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突出了广玉兰实在是到了美不胜收、美不能言的境地。表达出作者对盛开花朵的喜爱之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4952880"/>
            <a:ext cx="1905120" cy="15717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609480" y="1066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默读第三自然段，思考作者怎样描写广玉兰花瓣的形态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43000" y="1905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的含羞待放，碧绿的花苞鲜嫩可爱。有的刚刚绽放，几只小蜜蜂就迫不及待地钻了进去，那里面椭圆形的花蕊约有一寸长。盛开着的广玉兰花，洁白柔嫩得像婴儿的笑脸，甜美、纯洁，惹人喜爱。先前热热闹闹开过的广玉兰花呢，花瓣虽然凋谢了，花蕊却依然挺立枝头，已长成近两寸长的圆茎。圆茎上面缀满了像细珠似的紫红色的小颗粒，这就是孕育着新生命的种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广玉兰开花有早有迟，在同一棵树上，能看到花开的各种形态。有的含羞待放，碧绿的花苞鲜嫩可爱。有的刚刚绽放，几只小蜜蜂就迫不及待地钻了进去，那里面椭圆形的花蕊约有一寸长。盛开着的玉兰花，洁白柔嫩得像婴儿的笑脸，甜美、纯洁，惹人喜爱。先前热热闹闹开过的广玉兰呢，花瓣虽然凋谢了，花蕊却依然挺立枝头，它已长成近两寸长的圆茎。圆茎上面缀满了像细珠似的紫红色的小颗粒，这就是孕育着新生命的种子。远远看上去，一株广玉兰就像是一个数世同堂、生生不息的大家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5003640" y="907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含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待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995640" y="134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刚刚绽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2124000" y="2349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盛开着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593240" y="32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177600" y="32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凋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　　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</a:rPr>
              <a:t>有的含羞待放，碧绿的花苞鲜嫩可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132000" y="44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含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012000" y="6660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碧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484360" y="8589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鲜嫩可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huabao"/>
          <p:cNvPicPr/>
          <p:nvPr/>
        </p:nvPicPr>
        <p:blipFill>
          <a:blip r:embed="rId1"/>
          <a:srcRect l="0" t="0" r="12146" b="9602"/>
          <a:stretch/>
        </p:blipFill>
        <p:spPr>
          <a:xfrm>
            <a:off x="1619280" y="2205000"/>
            <a:ext cx="6092640" cy="40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有的刚刚绽放，几只小蜜蜂就迫不及待地钻了进去，那里面椭圆形的花蕊约有一寸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20051123081956370"/>
          <p:cNvPicPr/>
          <p:nvPr/>
        </p:nvPicPr>
        <p:blipFill>
          <a:blip r:embed="rId1"/>
          <a:stretch/>
        </p:blipFill>
        <p:spPr>
          <a:xfrm>
            <a:off x="4932360" y="2276640"/>
            <a:ext cx="4032360" cy="424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250920" y="9079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迫不及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3"/>
          <p:cNvPicPr/>
          <p:nvPr/>
        </p:nvPicPr>
        <p:blipFill>
          <a:blip r:embed="rId2"/>
          <a:srcRect l="8340" t="6740" r="0" b="8159"/>
          <a:stretch/>
        </p:blipFill>
        <p:spPr>
          <a:xfrm>
            <a:off x="250920" y="2276640"/>
            <a:ext cx="460836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2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2666880" y="1855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广玉兰，亦称“荷花玉兰”“洋玉兰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木兰科。常绿乔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叶卵状长椭圆形，厚革质，上面光亮，下面有暗黄色毛。夏季开花，花大，白色，芳香。原产美洲，我国长江流域以南各地栽培。供观赏。花含芳香油，可制成鲜花浸膏。据研究，广玉兰叶的制剂有降低血压的作用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474920" y="1146240"/>
            <a:ext cx="2334960" cy="456840"/>
            <a:chOff x="1474920" y="1146240"/>
            <a:chExt cx="2334960" cy="456840"/>
          </a:xfrm>
        </p:grpSpPr>
        <p:pic>
          <p:nvPicPr>
            <p:cNvPr id="65" name="WordArt 5" descr=""/>
            <p:cNvPicPr/>
            <p:nvPr/>
          </p:nvPicPr>
          <p:blipFill>
            <a:blip r:embed="rId2"/>
            <a:stretch/>
          </p:blipFill>
          <p:spPr>
            <a:xfrm>
              <a:off x="1474920" y="1149120"/>
              <a:ext cx="233496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/>
            <p:cNvSpPr/>
            <p:nvPr/>
          </p:nvSpPr>
          <p:spPr>
            <a:xfrm>
              <a:off x="1476000" y="1146240"/>
              <a:ext cx="2333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广玉兰简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" descr="书与笔"/>
          <p:cNvPicPr/>
          <p:nvPr/>
        </p:nvPicPr>
        <p:blipFill>
          <a:blip r:embed="rId3"/>
          <a:stretch/>
        </p:blipFill>
        <p:spPr>
          <a:xfrm>
            <a:off x="533520" y="946080"/>
            <a:ext cx="761760" cy="6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2184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盛开着的玉兰花，洁白柔嫩得像婴儿的笑脸，甜美、纯洁，惹人喜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280" y="2706840"/>
            <a:ext cx="814716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200551119233273"/>
          <p:cNvPicPr/>
          <p:nvPr/>
        </p:nvPicPr>
        <p:blipFill>
          <a:blip r:embed="rId1"/>
          <a:stretch/>
        </p:blipFill>
        <p:spPr>
          <a:xfrm>
            <a:off x="755640" y="2637000"/>
            <a:ext cx="3670200" cy="35985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59911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洁白柔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637080" y="134136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甜美、纯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广玉兰 摄影 随风飘浮"/>
          <p:cNvPicPr/>
          <p:nvPr/>
        </p:nvPicPr>
        <p:blipFill>
          <a:blip r:embed="rId2"/>
          <a:stretch/>
        </p:blipFill>
        <p:spPr>
          <a:xfrm>
            <a:off x="4716360" y="2637000"/>
            <a:ext cx="39927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64000" y="1773000"/>
            <a:ext cx="46800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　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先前热热闹闹开过的广玉兰呢，花瓣虽然凋谢了，花蕊却依然挺立枝头，它已长成近两寸长的圆茎。圆茎上面缀满了像细珠似的紫红色的小颗粒，这就是孕育着新生命的种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2-7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284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yuanjing"/>
          <p:cNvPicPr/>
          <p:nvPr/>
        </p:nvPicPr>
        <p:blipFill>
          <a:blip r:embed="rId2"/>
          <a:srcRect l="12446" t="12107" r="0" b="13288"/>
          <a:stretch/>
        </p:blipFill>
        <p:spPr>
          <a:xfrm>
            <a:off x="179280" y="3141720"/>
            <a:ext cx="4284720" cy="3500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3"/>
          <p:cNvPicPr/>
          <p:nvPr/>
        </p:nvPicPr>
        <p:blipFill>
          <a:blip r:embed="rId1"/>
          <a:srcRect l="8340" t="6740" r="0" b="8159"/>
          <a:stretch/>
        </p:blipFill>
        <p:spPr>
          <a:xfrm>
            <a:off x="4789440" y="-87480"/>
            <a:ext cx="4354560" cy="3660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shengkai"/>
          <p:cNvPicPr/>
          <p:nvPr/>
        </p:nvPicPr>
        <p:blipFill>
          <a:blip r:embed="rId2"/>
          <a:stretch/>
        </p:blipFill>
        <p:spPr>
          <a:xfrm>
            <a:off x="-31680" y="3502080"/>
            <a:ext cx="4892760" cy="3311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yuanjing"/>
          <p:cNvPicPr/>
          <p:nvPr/>
        </p:nvPicPr>
        <p:blipFill>
          <a:blip r:embed="rId3"/>
          <a:stretch/>
        </p:blipFill>
        <p:spPr>
          <a:xfrm>
            <a:off x="4861080" y="3502080"/>
            <a:ext cx="4321080" cy="3384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2-1"/>
          <p:cNvPicPr/>
          <p:nvPr/>
        </p:nvPicPr>
        <p:blipFill>
          <a:blip r:embed="rId4"/>
          <a:stretch/>
        </p:blipFill>
        <p:spPr>
          <a:xfrm>
            <a:off x="-31680" y="-166680"/>
            <a:ext cx="4886280" cy="369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远远看上去，一株广玉兰就像是一个数世同堂、生生不息的大家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087080" y="836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数世同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6782760" y="836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生生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826920" y="148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200869145692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276640"/>
            <a:ext cx="5904000" cy="615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远看上去，一株广玉兰就像是一个数世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堂、生生不息的、大家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-66960" y="6858000"/>
            <a:ext cx="54766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361800" y="1679400"/>
            <a:ext cx="878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909720" y="1641600"/>
            <a:ext cx="80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什么叫数世同堂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596880" y="2306520"/>
            <a:ext cx="86234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说（含苞待放）的花是（一个刚出生的婴儿），那么（刚刚绽放）的花又是什么？请大家看大屏幕进行说话练习。（   ）的花是（    ），（   ）的花是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该段的结构特点是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段话写了花的四种形态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世同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是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———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文中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广玉兰花的各种形态在同一株树种共同存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生不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代一代地繁衍，不停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文中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段话既有比喻写法，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远看上去，一株广玉兰就像是一个数世同堂、生生不息的大家族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开着的广玉兰花，洁白柔嫩得像婴儿的笑脸，甜美纯洁，惹人喜爱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也有拟人的写法，如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小节是按照（总分总、时间顺序）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838080" y="1219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默读第四、五自然段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文中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作者不仅写了广玉兰花瓣的形态美，还写了它的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676520" y="27874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作者还写了广玉兰的叶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2286000" y="3962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广玉兰的叶片有哪些特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352680" y="47242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片富有光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352680" y="53341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片终年不败，生命力旺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708000" y="333360"/>
            <a:ext cx="5219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1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广玉兰的叶片富有光泽，好像涂了层蜡，再配上有着铁锈色短柔毛的叶背和那微呈波状的边缘，使人觉得另有一番情趣。密集油亮的绿叶终年不败，始终透着生气，透着活泼。有了它的衬托，玉兰花便显得格外皎洁格外清丽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100_0874"/>
          <p:cNvPicPr/>
          <p:nvPr/>
        </p:nvPicPr>
        <p:blipFill>
          <a:blip r:embed="rId1"/>
          <a:stretch/>
        </p:blipFill>
        <p:spPr>
          <a:xfrm>
            <a:off x="324000" y="333360"/>
            <a:ext cx="3527280" cy="3029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100_0875"/>
          <p:cNvPicPr/>
          <p:nvPr/>
        </p:nvPicPr>
        <p:blipFill>
          <a:blip r:embed="rId2"/>
          <a:stretch/>
        </p:blipFill>
        <p:spPr>
          <a:xfrm>
            <a:off x="324000" y="3357720"/>
            <a:ext cx="3527280" cy="29304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6990120" y="407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活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5189760" y="29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情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5188320" y="35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终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6051960" y="35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不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02100003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秋冬时节，许多树的叶子凋落了，广玉兰却披着一身绿叶，与松柏为伍，装点着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99072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　　作者在文章的最后也情不自禁地抒发了自己的情怀，请同学们齐读最后一段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743200" y="32767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　我爱广玉兰的幽香与纯洁，更爱广玉兰无比旺盛的生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143000" y="20574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作者陈荒煤，笔名“荒煤” “沪生”“梅白”。原籍湖北襄阳，生于上海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湖北省第二中学商科毕业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3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秋发表了小说《苦难中的人群》，之后就开始了文学创作活动，出版短篇小说集《忧郁的歌》《长江上》，剧本《黎明》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1447920" y="129528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课外小知识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2" name="Picture 6" descr="书５"/>
          <p:cNvPicPr/>
          <p:nvPr/>
        </p:nvPicPr>
        <p:blipFill>
          <a:blip r:embed="rId2"/>
          <a:stretch/>
        </p:blipFill>
        <p:spPr>
          <a:xfrm>
            <a:off x="380880" y="1143000"/>
            <a:ext cx="8128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76320" y="2133720"/>
            <a:ext cx="9370800" cy="67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228600" y="4191120"/>
            <a:ext cx="3124080" cy="25765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-68400" y="77760"/>
            <a:ext cx="936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默读课文，分别找出文中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广玉兰的幽香、纯洁、无比旺盛的生命力的段落或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228600" y="1371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幽香的句子：一天晚上，我在丛林中散步，感到一股淡淡的幽香在空气中荡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0" y="411480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有的刚刚绽放，几只小蜜蜂就迫不及待地钻了进去…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276720" y="4648320"/>
            <a:ext cx="54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种写法叫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990720" y="5105520"/>
            <a:ext cx="79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描写纯洁的句子在第二、第三自然段中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990720" y="5791320"/>
            <a:ext cx="75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旺盛的生命力的句子在第三、四、五自然段中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57200" y="2438280"/>
            <a:ext cx="78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词写出了花的香味弥漫了整个丛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874800" y="3427560"/>
            <a:ext cx="62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荡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花纯洁的句子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-68400" y="1904760"/>
            <a:ext cx="8221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盛开着的广玉兰花，洁白柔嫩得像婴儿的笑脸，甜美、纯洁，惹人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54080" y="533520"/>
            <a:ext cx="868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我无法用文字准确形容那花瓣的色彩，说它纯白，又似乎有一种淡淡的青绿色渗透出来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04920" y="2666880"/>
            <a:ext cx="83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广玉兰旺盛生命力的句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04920" y="3200400"/>
            <a:ext cx="77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茎上面缀满了像细珠似的紫红色的小颗粒，这就是孕育着新生命的种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228600" y="4191120"/>
            <a:ext cx="83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远远看上去，一株广玉兰就像是一个数世同</a:t>
            </a:r>
            <a:br>
              <a:rPr sz="2800"/>
            </a:b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堂、生生不息的、大家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228600" y="52578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密集油亮的绿叶终年不败，始终透着生气，透着活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秋冬时节，许多树的叶子凋落了，广玉兰却披着一身绿叶，与松柏为伍，装点着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2133720" y="27432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本文字里行间都洋溢着作者对广玉兰的爱，让我们再次朗读课文来体会作者的这种感情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5"/>
          <p:cNvSpPr txBox="1"/>
          <p:nvPr/>
        </p:nvSpPr>
        <p:spPr>
          <a:xfrm>
            <a:off x="1638360" y="1981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ccff99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隶书"/>
              </a:rPr>
              <a:t>课文总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ccff99"/>
                  </a:gs>
                  <a:gs pos="100000">
                    <a:srgbClr val="ffcc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308" name="Picture 6" descr="书８"/>
          <p:cNvPicPr/>
          <p:nvPr/>
        </p:nvPicPr>
        <p:blipFill>
          <a:blip r:embed="rId2"/>
          <a:stretch/>
        </p:blipFill>
        <p:spPr>
          <a:xfrm>
            <a:off x="685800" y="1752480"/>
            <a:ext cx="743040" cy="6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692280"/>
            <a:ext cx="2987640" cy="76428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100000">
                <a:srgbClr val="0000ff">
                  <a:alpha val="77254"/>
                </a:srgbClr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作业超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0" y="1484280"/>
            <a:ext cx="8748720" cy="48243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4"/>
          <p:cNvSpPr/>
          <p:nvPr/>
        </p:nvSpPr>
        <p:spPr>
          <a:xfrm>
            <a:off x="2773440" y="5734080"/>
            <a:ext cx="63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苍翠挺拔  郁郁葱葱  枯木逢春  青翠欲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3708360" y="2924280"/>
            <a:ext cx="12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涵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971640" y="191628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绽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沉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708360" y="198900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绣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300720" y="191628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径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1042920" y="285264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婴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樱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2771640" y="436572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万紫千红  春暖花开  鸟语花香  姹紫嫣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724120" y="4869000"/>
            <a:ext cx="64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绿草如茵  一碧千里  杂草丛生  生机勃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700360" y="530064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崇山峻岭  山明水秀  山重水复  大好河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8961480" cy="46576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3"/>
          <p:cNvSpPr/>
          <p:nvPr/>
        </p:nvSpPr>
        <p:spPr>
          <a:xfrm>
            <a:off x="0" y="692280"/>
            <a:ext cx="2987640" cy="76428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100000">
                <a:srgbClr val="0000ff">
                  <a:alpha val="77254"/>
                </a:srgbClr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作业超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158480" y="328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绿油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5555880" y="320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洁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6995880" y="320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1523880" y="385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835160" y="385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色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6779880" y="385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17040" y="44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一种淡淡的青绿色渗透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2167560" y="5079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花瓣的质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5241240" y="507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玉琢冰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181880" y="5656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柔韧而有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4" descr="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1979640" y="1989000"/>
            <a:ext cx="6121440" cy="400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"/>
          <p:cNvPicPr/>
          <p:nvPr/>
        </p:nvPicPr>
        <p:blipFill>
          <a:blip r:embed="rId3">
            <a:lum contrast="70000"/>
          </a:blip>
          <a:stretch/>
        </p:blipFill>
        <p:spPr>
          <a:xfrm>
            <a:off x="2050920" y="2565360"/>
            <a:ext cx="5961240" cy="3999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"/>
          <p:cNvSpPr/>
          <p:nvPr/>
        </p:nvSpPr>
        <p:spPr>
          <a:xfrm>
            <a:off x="76320" y="5335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练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在面对自己的心爱之物或亲爱之人时，我们也常常和本文的作者一样无法运用确言表达内心的感受，用你的笔来写写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真是无法说清妈妈的特点，说她和蔼吧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说她严厉吧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家大花猫性格实在有些古怪，说它老实吧，它有时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说它贪玩吧，它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说它胆小吧，它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真是无法说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说他（她、它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吧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说他（她、它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吧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2362320" y="31240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观察一种自己喜欢的植物，仿照课文第三自然段的写法写一篇观察日记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5"/>
          <p:cNvSpPr txBox="1"/>
          <p:nvPr/>
        </p:nvSpPr>
        <p:spPr>
          <a:xfrm>
            <a:off x="1676520" y="2133720"/>
            <a:ext cx="20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隶书"/>
              </a:rPr>
              <a:t>课外作业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42" name="Picture 6" descr="书１"/>
          <p:cNvPicPr/>
          <p:nvPr/>
        </p:nvPicPr>
        <p:blipFill>
          <a:blip r:embed="rId2"/>
          <a:stretch/>
        </p:blipFill>
        <p:spPr>
          <a:xfrm>
            <a:off x="685800" y="2057400"/>
            <a:ext cx="81288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334e6f0e87e920db7bcbe1fd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344" name="WordArt 3"/>
          <p:cNvSpPr txBox="1"/>
          <p:nvPr/>
        </p:nvSpPr>
        <p:spPr>
          <a:xfrm>
            <a:off x="0" y="692280"/>
            <a:ext cx="55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2666880" y="33210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191120" y="3321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638680" y="33210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162920" y="3321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9092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荡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11480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琢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63868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内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16292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绽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66688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yà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191120" y="23623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zhu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791320" y="23623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h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7162920" y="23623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zh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2362320" y="3244680"/>
            <a:ext cx="601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2362320" y="2286000"/>
            <a:ext cx="601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2362320" y="446400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复件 思考"/>
          <p:cNvPicPr/>
          <p:nvPr/>
        </p:nvPicPr>
        <p:blipFill>
          <a:blip r:embed="rId2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92" name="Line 21"/>
          <p:cNvSpPr/>
          <p:nvPr/>
        </p:nvSpPr>
        <p:spPr>
          <a:xfrm>
            <a:off x="2362320" y="2394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2362320" y="31240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2362320" y="43434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2666880" y="33210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114800" y="3321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638680" y="33210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162920" y="3321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9092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花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11480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婴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63868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根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716292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铁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66688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ru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11480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563868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j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723888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xi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2362320" y="3244680"/>
            <a:ext cx="601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2362320" y="2286000"/>
            <a:ext cx="601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>
            <a:off x="2362320" y="446400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0" descr="复件 思考"/>
          <p:cNvPicPr/>
          <p:nvPr/>
        </p:nvPicPr>
        <p:blipFill>
          <a:blip r:embed="rId2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114" name="Line 21"/>
          <p:cNvSpPr/>
          <p:nvPr/>
        </p:nvSpPr>
        <p:spPr>
          <a:xfrm>
            <a:off x="2362320" y="2394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2362320" y="31240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362320" y="43434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1981080" y="25909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渗透　概括　花蕊　孕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981080" y="37339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呈现　旺盛　内涵　凋落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905120" y="25146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1905120" y="35812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1981080" y="464832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905120" y="25909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1905120" y="3505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1981080" y="45720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2"/>
          <p:cNvSpPr txBox="1"/>
          <p:nvPr/>
        </p:nvSpPr>
        <p:spPr>
          <a:xfrm>
            <a:off x="1752480" y="14479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隶书"/>
              </a:rPr>
              <a:t>开火车读词语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隶书"/>
              <a:ea typeface="隶书"/>
            </a:endParaRPr>
          </a:p>
        </p:txBody>
      </p:sp>
      <p:pic>
        <p:nvPicPr>
          <p:cNvPr id="128" name="Picture 13" descr="丁丁"/>
          <p:cNvPicPr/>
          <p:nvPr/>
        </p:nvPicPr>
        <p:blipFill>
          <a:blip r:embed="rId2"/>
          <a:stretch/>
        </p:blipFill>
        <p:spPr>
          <a:xfrm>
            <a:off x="457200" y="1219320"/>
            <a:ext cx="100980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1655640" cy="520560"/>
          </a:xfrm>
          <a:prstGeom prst="rect">
            <a:avLst/>
          </a:prstGeom>
          <a:gradFill rotWithShape="0">
            <a:gsLst>
              <a:gs pos="0">
                <a:srgbClr val="ff0066">
                  <a:alpha val="63137"/>
                </a:srgbClr>
              </a:gs>
              <a:gs pos="100000">
                <a:srgbClr val="0000ff">
                  <a:alpha val="6117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生字新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067760"/>
            <a:ext cx="295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荡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411280" y="333360"/>
            <a:ext cx="30243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ì g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ùn 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àng s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èn t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ō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āo y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（）（）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）不（）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651640" y="333360"/>
            <a:ext cx="2936880" cy="84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óu r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ài k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ì f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ǒyuánx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）不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）（）喜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）世同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7-04-30T03:30:56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Version">
    <vt:r8>1</vt:r8>
  </property>
</Properties>
</file>