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9C8-D4B3-4A45-8CC8-F692BDE0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8E5-DB03-44A4-ADF5-2EABDDFE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F15-54A5-4C7B-BE75-4E603D4C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76F-01C4-45BA-9030-F608D8C3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FB2-FF94-4470-A004-B2F969F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74C-2C67-41D2-9362-1270FC4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811-FA55-4109-BEA0-C54924F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BEF-F12F-42BD-B201-7E059A6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9BB-E57F-4CEA-AC7A-60CAF50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408-1EB8-4A86-A1C6-5114641A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4CF-8432-4560-8520-00FD1CD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6D0-58F8-42AD-A372-770CCE0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EA8-FD03-4C4D-B886-289F96163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hiyanhospital.com/2nd/qms/bbdh1/023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book.peopledaily.com.cn/gb/paper17/26/class001700003/hwz168063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news.sina.com.cn/o/2004-10-28/10254063877s.s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hiyanhospital.com/2nd/bbdh2/027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89280"/>
            <a:ext cx="5143680" cy="406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4936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给我的孩子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84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丰子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30064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义丰初中    王志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549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丙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成长就是一个不断抛弃的过程，我们不能永远留在童年，未来的生活会让我们把她作为尘封的记忆，我们只能带着无奈回望逝去的生活，用羡慕的眼睛看着快乐的孩子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162864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长亭外，古道边， 芳草碧连天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晚风拂柳笛声残， 夕阳山外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天之涯，地之角， 知交半零落；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一觚浊酒尽余欢， 今宵别梦寒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长亭外，古道边， 芳草碧连天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问君此去几时来， 来时莫徘徊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333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送别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54936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李叔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是“文章惊海内”的大师，开中华灿烂文化艺术之先河。鲁迅、郭沫若等现代文化名人以得到大师一幅字为无上荣耀。他所创作的《送别歌》经久不衰。先后培养出了名画家丰子恺等文化名人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苦心向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被佛门弟子奉为世祖。赵朴初评价：“ “无尽奇珍供世眼，一轮圆月耀天心。” 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700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童心，不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拥有童心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484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2349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周敦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3284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549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研读第八——十一段　讨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2193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说孩子们抱怨，“我”倒喜欢，孩子们感谢，我倒悲哀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36232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何理解作者在第九段中提及的“真生活”的含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本文是作者为自己的画集所做的序，在这画集里他描绘了孩子们的童真，但在第十一段他却说“痴心要为你们永远挽留这黄金时代在这册子里”，为何说是“痴心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这样充溢着童真童趣的文章，作者却以“何等悲哀”结束全文，说说“悲哀”的含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1125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为什么说孩子们抱怨，“我”倒喜欢，孩子们感谢，我倒悲哀呢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52640"/>
            <a:ext cx="82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孩子们抱怨，说明孩子们还真率，所以“我”喜欢；孩子们感谢时，说明孩子们已经被世俗改变，失去了真率，所以“我”悲哀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何理解作者在第九段中提及的“真生活”的含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133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在作者的眼里，孩子们表现出的是“出肝肺相示”，而在人世间，在成人的世界中，有的只是俗务，人与人之间没有了彻底地真实而纯洁。所以作者把自己的谋生或者外出上课，看做是为了生存而不得不做的“无聊的事”，而认为孩子们的生活才是真的生活。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33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是作者为自己的画集所做的序，在这画集里他描绘了孩子们的童真，但在第十一段他却说“痴心要为你们永远挽留这黄金时代在这册子里”，为何说是“痴心“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99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作者憧憬孩子的生活，感动于他们的率真自然，但随着孩子们的成长，他们的天真也将被世俗生活磨灭。即使以画册的方式将孩子们的黄金时代挽留下来，他们的这种幸福也即将失去，只能留下这一点强胜于无的痕迹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836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这样充溢着童真童趣的文章，作者却以“何等悲哀”结束全文，说说“悲哀”的含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781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作者真正的悲哀是想到孩子们的未来，在他们将来看到这本画册时，他们有可能已经在生活的压力之下“退缩、顺从、妥协、屈服起来，到像绵羊的地步”，不可避免地要被世俗改变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886040" cy="265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609480"/>
            <a:ext cx="57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丰子恺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898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75)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浙江桐乡人，是中国现代受人景仰的漫画家，散文家。他的绘画，文章在几十年沧桑风雨中保持一贯的风格：雍容恬静，其漫画更是脍炙人口。往往是寥寥几笔，就勾画出一个意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0948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可以分为两部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部分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——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写孩子们率真、自然的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部分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——1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抒发失去了童真的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5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想到孩子们不可能理解自己的话而悲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——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对照成人世界的各种毛病，写孩子们的率真、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907920"/>
            <a:ext cx="63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结全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84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文以亲切自然，毫无矫饰的语言，描述了童真的世界，赞美了孩子至真至美的天性，并对照以成人世界的种种弊病，表现出对世俗磨灭儿童天性的极大哀痛，同时也含蓄地表达出对社会风气和教育弊端的否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295280"/>
            <a:ext cx="80647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堂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结合社会生活的实际，谈谈对所谓“沉默”“含蓄”“深刻”的美德的理解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907920"/>
            <a:ext cx="8381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完成学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文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童年趣事》，要求不少于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，叙事完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33920" y="0"/>
            <a:ext cx="1826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丰子恺漫画作品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92360" y="2463840"/>
            <a:ext cx="5761080" cy="1890720"/>
            <a:chOff x="1692360" y="2463840"/>
            <a:chExt cx="5761080" cy="1890720"/>
          </a:xfrm>
        </p:grpSpPr>
        <p:sp>
          <p:nvSpPr>
            <p:cNvPr id="110" name=""/>
            <p:cNvSpPr/>
            <p:nvPr/>
          </p:nvSpPr>
          <p:spPr>
            <a:xfrm>
              <a:off x="1692360" y="246384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92360" y="2463840"/>
              <a:ext cx="576108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18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952720" cy="355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48000" y="549360"/>
            <a:ext cx="53960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44f73"/>
                </a:solidFill>
                <a:latin typeface="Times New Roman"/>
                <a:ea typeface="_x000b__x000c_"/>
              </a:rPr>
              <a:t>瞻瞻</a:t>
            </a:r>
            <a:r>
              <a:rPr b="1" lang="zh-CN" sz="4000" spc="-1" strike="noStrike">
                <a:solidFill>
                  <a:srgbClr val="a44f73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a44f73"/>
                </a:solidFill>
                <a:latin typeface="Times New Roman"/>
                <a:ea typeface="_x000b__x000c_"/>
              </a:rPr>
              <a:t>车</a:t>
            </a:r>
            <a:r>
              <a:rPr b="1" lang="zh-CN" sz="4000" spc="-1" strike="noStrike">
                <a:solidFill>
                  <a:srgbClr val="a44f73"/>
                </a:solidFill>
                <a:latin typeface="Times New Roman"/>
                <a:ea typeface="_x000b__x000c_"/>
              </a:rPr>
              <a:t>----</a:t>
            </a:r>
            <a:r>
              <a:rPr b="1" lang="zh-CN" sz="4000" spc="-1" strike="noStrike">
                <a:solidFill>
                  <a:srgbClr val="a44f73"/>
                </a:solidFill>
                <a:latin typeface="Times New Roman"/>
                <a:ea typeface="_x000b__x000c_"/>
              </a:rPr>
              <a:t>脚踏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是丰子恺最广为流传的一张画，主人公是他的长子丰华瞻。幼年的瞻瞻就表现出这样的想象力，无怪长大成为著名的教授。当成名后的丰华瞻到国外的大学演讲时，礼堂上就悬挂着这张图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692360" y="2232000"/>
            <a:ext cx="5761080" cy="2394000"/>
            <a:chOff x="1692360" y="2232000"/>
            <a:chExt cx="5761080" cy="2394000"/>
          </a:xfrm>
        </p:grpSpPr>
        <p:sp>
          <p:nvSpPr>
            <p:cNvPr id="115" name=""/>
            <p:cNvSpPr/>
            <p:nvPr/>
          </p:nvSpPr>
          <p:spPr>
            <a:xfrm>
              <a:off x="1692360" y="223200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92360" y="2232000"/>
              <a:ext cx="576108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41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492280" cy="35132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76200" y="243360"/>
            <a:ext cx="5727240" cy="6413040"/>
            <a:chOff x="376200" y="243360"/>
            <a:chExt cx="5727240" cy="6413040"/>
          </a:xfrm>
        </p:grpSpPr>
        <p:sp>
          <p:nvSpPr>
            <p:cNvPr id="119" name=""/>
            <p:cNvSpPr/>
            <p:nvPr/>
          </p:nvSpPr>
          <p:spPr>
            <a:xfrm flipV="1" rot="10820400">
              <a:off x="414000" y="259560"/>
              <a:ext cx="5689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10820400">
              <a:off x="394920" y="259920"/>
              <a:ext cx="5689440" cy="63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44f73"/>
                  </a:solidFill>
                  <a:latin typeface="Times New Roman"/>
                  <a:ea typeface="黑体"/>
                </a:rPr>
                <a:t>花生米不满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　　花生米的分配低于自己的期望值，便皱着眉眼表示抗议。儿童就有这样赤裸裸的真率，哭与笑，满足与不满足就是这样的简单，毫不矫作，难怪丰子恺一生都对儿童的世界羡慕不已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692360" y="2987640"/>
            <a:ext cx="5761080" cy="882720"/>
            <a:chOff x="1692360" y="2987640"/>
            <a:chExt cx="5761080" cy="882720"/>
          </a:xfrm>
        </p:grpSpPr>
        <p:sp>
          <p:nvSpPr>
            <p:cNvPr id="122" name=""/>
            <p:cNvSpPr/>
            <p:nvPr/>
          </p:nvSpPr>
          <p:spPr>
            <a:xfrm>
              <a:off x="1692360" y="298764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2987640"/>
              <a:ext cx="57610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92360" y="2987640"/>
            <a:ext cx="5761080" cy="882720"/>
            <a:chOff x="1692360" y="2987640"/>
            <a:chExt cx="5761080" cy="882720"/>
          </a:xfrm>
        </p:grpSpPr>
        <p:sp>
          <p:nvSpPr>
            <p:cNvPr id="125" name=""/>
            <p:cNvSpPr/>
            <p:nvPr/>
          </p:nvSpPr>
          <p:spPr>
            <a:xfrm>
              <a:off x="1692360" y="298764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2987640"/>
              <a:ext cx="57610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92360" y="2232000"/>
            <a:ext cx="5761080" cy="2394000"/>
            <a:chOff x="1692360" y="2232000"/>
            <a:chExt cx="5761080" cy="2394000"/>
          </a:xfrm>
        </p:grpSpPr>
        <p:sp>
          <p:nvSpPr>
            <p:cNvPr id="128" name=""/>
            <p:cNvSpPr/>
            <p:nvPr/>
          </p:nvSpPr>
          <p:spPr>
            <a:xfrm>
              <a:off x="1692360" y="223200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2360" y="2232000"/>
              <a:ext cx="576108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41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105000" cy="4529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9000" y="333360"/>
            <a:ext cx="531972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44f73"/>
                </a:solidFill>
                <a:latin typeface="Times New Roman"/>
                <a:ea typeface="_x000b__x000c_"/>
              </a:rPr>
              <a:t>要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丝毫没有商量的余地，对于天上的月亮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字后面还要跟上一个坚定的惊叹号。那样明亮有趣的月亮，没有理由不拿在手中把玩把玩，至于上天捉月是坐火箭还是架梯子，这却不在他们思考的范围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692360" y="1903320"/>
            <a:ext cx="5761080" cy="2971800"/>
            <a:chOff x="1692360" y="1903320"/>
            <a:chExt cx="5761080" cy="2971800"/>
          </a:xfrm>
        </p:grpSpPr>
        <p:sp>
          <p:nvSpPr>
            <p:cNvPr id="133" name=""/>
            <p:cNvSpPr/>
            <p:nvPr/>
          </p:nvSpPr>
          <p:spPr>
            <a:xfrm>
              <a:off x="1692360" y="190332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1903320"/>
              <a:ext cx="57610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8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73440" cy="4956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635280" y="836640"/>
            <a:ext cx="52358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4f73"/>
                </a:solidFill>
                <a:latin typeface="Times New Roman"/>
                <a:ea typeface="黑体"/>
              </a:rPr>
              <a:t>星期日是母亲的烦恼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母亲是矛盾的。星期日里，孩子们肆无忌惮地打、闹、叫、嚷，她便觉得心烦，便要阻止；但是，若她的孩子们不这样健康活泼地打、闹、叫、嚷，她仍要觉得心烦，并且担心。于是，她半真半假地喝骂，心甘情愿地替他们收拾残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92360" y="2919240"/>
            <a:ext cx="5761080" cy="1019160"/>
            <a:chOff x="1692360" y="2919240"/>
            <a:chExt cx="5761080" cy="1019160"/>
          </a:xfrm>
        </p:grpSpPr>
        <p:sp>
          <p:nvSpPr>
            <p:cNvPr id="138" name=""/>
            <p:cNvSpPr/>
            <p:nvPr/>
          </p:nvSpPr>
          <p:spPr>
            <a:xfrm>
              <a:off x="1692360" y="291924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2360" y="2919240"/>
              <a:ext cx="57610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692360" y="2209680"/>
            <a:ext cx="5761080" cy="2438280"/>
            <a:chOff x="1692360" y="2209680"/>
            <a:chExt cx="5761080" cy="2438280"/>
          </a:xfrm>
        </p:grpSpPr>
        <p:sp>
          <p:nvSpPr>
            <p:cNvPr id="141" name=""/>
            <p:cNvSpPr/>
            <p:nvPr/>
          </p:nvSpPr>
          <p:spPr>
            <a:xfrm>
              <a:off x="1692360" y="2209680"/>
              <a:ext cx="5761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209680"/>
              <a:ext cx="5761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44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a44f73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497400" cy="4541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64000" y="476280"/>
            <a:ext cx="5400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4f73"/>
                </a:solidFill>
                <a:latin typeface="Times New Roman"/>
                <a:ea typeface="黑体"/>
              </a:rPr>
              <a:t>你给我削瓜，我给你打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投我以桃李，报之以琼瑶，小姐弟之间的绝不是交易。不给她打扇，姐姐削好瓜也会分给弟弟，还很可能是大的一半；没有瓜吃，弟弟也会这样认真地用两只手给姐姐打扇，不会有半分勉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憧憬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96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龌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7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黑体"/>
              </a:rPr>
              <a:t>考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33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刬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81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鞠躬尽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识记下列生字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chō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295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(jǐ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295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向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209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wò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22050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(chuò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2276640"/>
            <a:ext cx="38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不干净，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9718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kǎ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bǐ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971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死去的）父亲和母亲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716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chǎn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3716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wà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50864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只穿着袜子着地，刬，只，光着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5181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小心谨慎，贡献出全部精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549360"/>
            <a:ext cx="5867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5029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34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68360" y="620640"/>
            <a:ext cx="4105440" cy="439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195640" y="620640"/>
            <a:ext cx="3744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333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一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81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中的孩子们具有哪些特点，结合具体事例谈一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492280"/>
            <a:ext cx="34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率真无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50028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热情自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58136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想象丰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549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每次剃了头，你真心地疑我变了和尚，好几时不要我抱。最是今年夏天，你坐在我膝上发见了我腋下的长毛，当作黄鼠狼的时候，你何等伤心，你立刻从我身上爬下去，起初眼瞪瞪地对我端相，继而大失所望地号哭，看看，哭哭，如同对被判定了死罪的亲友一样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将儿童与成人这样一一对比的用意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421000"/>
            <a:ext cx="81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对比的手法，指出成人世界的各种毛病，赞扬孩子的率真自然，同时也对儿童纯真人性在成长中被世俗生活磨灭，感到极大的哀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4762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413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文中找出体现作者感情的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70828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哪一个词可以概括作者主要情感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508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“给我的孩子们”什么呢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549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甲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生活在一个复杂的世界里，必须让孩子了解真实的生活，否则就是对孩子的不负责任，会使他们失去适应生活得能力，使他们成为被欺骗被伤害的对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549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乙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必须永葆一颗童心，她会使我们永远感受到生活的幸福和美好。人有一颗什么样的心，就会有一双什么样的眼睛；有一双什么样的眼睛，就会有什么样的生活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9:27:08Z</dcterms:created>
  <dc:creator>Lenovo User</dc:creator>
  <dc:description/>
  <dc:language>en-US</dc:language>
  <cp:lastModifiedBy>微软用户</cp:lastModifiedBy>
  <dcterms:modified xsi:type="dcterms:W3CDTF">2012-12-09T05:38:55Z</dcterms:modified>
  <cp:revision>15</cp:revision>
  <dc:subject/>
  <dc:title>PowerPoint 演示文稿</dc:title>
</cp:coreProperties>
</file>