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9D65-B266-4894-8025-9DEF66F80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58F7-3284-417C-BACE-BEB782367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D52F-6D0B-4F69-8E1E-8326BB64E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D43E-37CF-4134-BFE3-FECFD411E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32DE-1F3D-40F6-BC39-40DB49E9F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A43-4564-4909-841C-929C93A3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A16-1829-4EB4-8E6C-C3176CD9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CF7-1FC4-4479-AF35-2FD353F8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299-6251-454D-B80C-29EE6C78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95F-C1ED-4FE9-B585-A2CB44E1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087-1F83-44C0-80AD-A5D53FCA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F7A-73E8-41D8-9CF1-B8269058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576-ECE6-4956-A4B5-166B4E4F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BB5-553B-47C4-A0E2-6E7653E7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020-D4B4-4238-81A6-04D6809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56F-F785-4FFC-AE20-8FE18ACA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AD5-6FB7-4980-BEB1-068419B7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46EC-2D7D-4831-BABC-6412FE73C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eeds.bokee.com/newinc/449/592/jplius/42752/normal.x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hiyanhospital.com/2nd/qms/bbdh1/023.htm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[罗大佑]童年-罗大佑.mp3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27" descr="瞻瞻的黄包车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9640" y="1125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为什么说孩子们抱怨，“我”倒喜欢，孩子们感谢，我倒悲哀呢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3141720"/>
            <a:ext cx="855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（孩子们抱怨，说明孩子们还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真率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，所以“我”喜欢；孩子们感谢时，说明孩子们已经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被世俗改变，失去了真率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，所以“我”悲哀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39640" y="620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如何理解作者在第九段中提及的“真生活”的含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（在作者的眼里，孩子们表现出的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出肝肺相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，而在人世间，在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成人的世界中，有的只是俗务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，人与人之间没有了彻底地真实而纯洁。所以作者把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自己的谋生或者外出上课，看做是为了生存而不得不做的“无聊的事”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，而认为孩子们的生活才是真的生活。）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026"/>
          <p:cNvSpPr/>
          <p:nvPr/>
        </p:nvSpPr>
        <p:spPr>
          <a:xfrm>
            <a:off x="0" y="333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本文是作者为自己的画集所做的序，在这画集里他描绘了孩子们的童真，但在第十一段他却说“痴心要为你们永远挽留这黄金时代在这册子里”，为何说是“痴心“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27"/>
          <p:cNvSpPr/>
          <p:nvPr/>
        </p:nvSpPr>
        <p:spPr>
          <a:xfrm>
            <a:off x="228600" y="27432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作者憧憬孩子的生活，感动于他们的率真自然，但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随着孩子们的成长，他们的天真也将被世俗生活磨灭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。即使以画册的方式将孩子们的黄金时代挽留下来，他们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这种幸福也即将失去，只能留下这一点强胜于无的痕迹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F2004121316452500000"/>
          <p:cNvPicPr/>
          <p:nvPr/>
        </p:nvPicPr>
        <p:blipFill>
          <a:blip r:embed="rId1"/>
          <a:stretch/>
        </p:blipFill>
        <p:spPr>
          <a:xfrm>
            <a:off x="6019920" y="3048120"/>
            <a:ext cx="2819160" cy="2895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27"/>
          <p:cNvSpPr/>
          <p:nvPr/>
        </p:nvSpPr>
        <p:spPr>
          <a:xfrm>
            <a:off x="762120" y="1066680"/>
            <a:ext cx="3238560" cy="825120"/>
          </a:xfrm>
          <a:prstGeom prst="rect">
            <a:avLst/>
          </a:prstGeom>
          <a:noFill/>
          <a:ln w="85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追求“真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050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51"/>
          <p:cNvSpPr/>
          <p:nvPr/>
        </p:nvSpPr>
        <p:spPr>
          <a:xfrm>
            <a:off x="539640" y="121932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凡一个人，即使到了中年以至暮年，倘一和孩子接近，便会踏进久经忘却了的孩子世界的边疆去，想到月亮怎么会跟人走，星星究竟是怎么会嵌在天空中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——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鲁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黄竖花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黄竖花"/>
          <p:cNvPicPr/>
          <p:nvPr/>
        </p:nvPicPr>
        <p:blipFill>
          <a:blip r:embed="rId2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219320" y="631800"/>
            <a:ext cx="80769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“儿时”的可爱是无知。那时候，件件都是“知”，你每天可以做大科学家和大哲学家，每天都在发见什么新的现象，新的真理。现在呢？“什么”都已经知道了，熟悉了，每一个人的脸都已经看厌了。宇宙和社会是那么陈旧，无味，虽则它们其实比“儿时”新鲜得多了。我于是想念“儿时”，祷告“儿时”。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　　不能够前进的时候，就愿意退后几步，替自己恢复已经走过的前途。请求“无知”回来，给我求知的快乐。可怕呵，这生命的“停止”。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　　过去的始终过去了，未来的还是未来。究竟感慨些什么──我问自己。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            　　　　　　一九三三，九，二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319560" y="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儿时（瞿秋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493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685800"/>
            <a:ext cx="5639040" cy="40384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11" name="WordArt 3"/>
          <p:cNvSpPr txBox="1"/>
          <p:nvPr/>
        </p:nvSpPr>
        <p:spPr>
          <a:xfrm>
            <a:off x="533520" y="5257800"/>
            <a:ext cx="6095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YESTERDAY ONCE MOR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WordArt 4"/>
          <p:cNvSpPr txBox="1"/>
          <p:nvPr/>
        </p:nvSpPr>
        <p:spPr>
          <a:xfrm rot="5400000">
            <a:off x="5562360" y="3047760"/>
            <a:ext cx="533412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挽留金子般的童年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3" name="Yesterday_Once_More.mp3" descr=""/>
          <p:cNvPicPr/>
          <p:nvPr/>
        </p:nvPicPr>
        <p:blipFill>
          <a:blip r:embed="rId5"/>
          <a:stretch/>
        </p:blipFill>
        <p:spPr>
          <a:xfrm>
            <a:off x="8381880" y="6172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838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给我的孩子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629400" y="5562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丰子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0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3352680" cy="548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菊花会不会结馒头"/>
          <p:cNvPicPr/>
          <p:nvPr/>
        </p:nvPicPr>
        <p:blipFill>
          <a:blip r:embed="rId3"/>
          <a:stretch/>
        </p:blipFill>
        <p:spPr>
          <a:xfrm>
            <a:off x="0" y="2276640"/>
            <a:ext cx="50292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334120" y="2362320"/>
          <a:ext cx="38098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362320"/>
                    <a:ext cx="38098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0" y="129528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憧憬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22096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黑体"/>
              </a:rPr>
              <a:t>龌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0" y="297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黑体"/>
              </a:rPr>
              <a:t>考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0" y="3733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刬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0" y="5181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鞠躬尽瘁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0666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hōng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200400" y="12952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jǐng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105520" y="129528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向往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295280" y="2209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wò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1337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huò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886200" y="228600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不干净，脏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1143000" y="29718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kǎo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2438280" y="2971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bǐ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29000" y="2971800"/>
            <a:ext cx="571500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死去的）父亲和母亲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762120" y="37339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hǎn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971800" y="3809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刬，只，光着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438280" y="5181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小心谨慎，贡献出全部精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1"/>
          <p:cNvSpPr/>
          <p:nvPr/>
        </p:nvSpPr>
        <p:spPr>
          <a:xfrm>
            <a:off x="457200" y="304920"/>
            <a:ext cx="3124080" cy="9144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76212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由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热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亲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我深深地体会了孩子们的心理，发见了一个和成人世界完全 不同的儿童世界。儿童富有感情，却缺乏理智；儿童富有欲望，而不能抑制。因此儿童世界 非常广大自由，在这里可以随心所欲地提出一切愿望和要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--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丰子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w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209680" y="3048120"/>
            <a:ext cx="5410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中写了哪些孩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了孩子们哪些可爱的趣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971800" y="19051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85840" y="214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体 会“真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姐弟三人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662000" y="1371600"/>
            <a:ext cx="4043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瞻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阿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软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685800"/>
            <a:ext cx="86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事都表现孩子们什么样的性格特征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498040" y="2144880"/>
            <a:ext cx="326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直率、自然、热情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富有想像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52280" y="533520"/>
          <a:ext cx="8839440" cy="5716440"/>
        </p:xfrm>
        <a:graphic>
          <a:graphicData uri="http://schemas.openxmlformats.org/drawingml/2006/table">
            <a:tbl>
              <a:tblPr/>
              <a:tblGrid>
                <a:gridCol w="838440"/>
                <a:gridCol w="3276360"/>
                <a:gridCol w="2590920"/>
                <a:gridCol w="213372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生   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游   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裁   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大人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孩子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77"/>
          <p:cNvSpPr/>
          <p:nvPr/>
        </p:nvSpPr>
        <p:spPr>
          <a:xfrm>
            <a:off x="2651040" y="-1317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8"/>
          <p:cNvSpPr/>
          <p:nvPr/>
        </p:nvSpPr>
        <p:spPr>
          <a:xfrm>
            <a:off x="990720" y="1905120"/>
            <a:ext cx="33526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沉默含蓄深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自然的、病的、伪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9"/>
          <p:cNvSpPr/>
          <p:nvPr/>
        </p:nvSpPr>
        <p:spPr>
          <a:xfrm>
            <a:off x="4678200" y="20574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重视标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呼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1"/>
          <p:cNvSpPr/>
          <p:nvPr/>
        </p:nvSpPr>
        <p:spPr>
          <a:xfrm>
            <a:off x="7293240" y="1981080"/>
            <a:ext cx="790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打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呵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2"/>
          <p:cNvSpPr/>
          <p:nvPr/>
        </p:nvSpPr>
        <p:spPr>
          <a:xfrm>
            <a:off x="914400" y="396252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任性、自然真实情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4191120" y="3886200"/>
            <a:ext cx="373356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动地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出自真性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8"/>
          <p:cNvSpPr/>
          <p:nvPr/>
        </p:nvSpPr>
        <p:spPr>
          <a:xfrm>
            <a:off x="6781680" y="3962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富于想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U200P52T4D59083F160DT20041210142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826920" y="4149720"/>
            <a:ext cx="8077320" cy="21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讨论交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47920" y="380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36232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欣 赏 “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3:01:39Z</dcterms:created>
  <dc:creator>df</dc:creator>
  <dc:description/>
  <dc:language>en-US</dc:language>
  <cp:lastModifiedBy>windows7</cp:lastModifiedBy>
  <dcterms:modified xsi:type="dcterms:W3CDTF">2015-06-20T07:48:35Z</dcterms:modified>
  <cp:revision>27</cp:revision>
  <dc:subject/>
  <dc:title>PowerPoint 演示文稿</dc:title>
</cp:coreProperties>
</file>