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6.gif" ContentType="image/gif"/>
  <Override PartName="/ppt/media/image14.jpeg" ContentType="image/jpeg"/>
  <Override PartName="/ppt/media/image15.png" ContentType="image/png"/>
  <Override PartName="/ppt/media/image10.jpeg" ContentType="image/jpeg"/>
  <Override PartName="/ppt/media/image11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5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9A4-EFA9-429A-A231-2083FF76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1CD-6252-4C17-9EE4-5BF89E0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07E-22F4-4085-8B62-97BC81D8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53C-709E-41D7-84D3-49A9B630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0D60-5C28-4FE3-8363-C050F4B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F9BE-40B8-447D-860F-454E4B17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CAE-F579-4BA1-9668-DCFEC579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DCA-D061-46C0-A139-2A48E8F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C95-9D18-4E3E-B99A-A5CE1CD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FD7E-7A58-4AFC-88A2-56D4C6CA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CF9D-920A-403B-BA88-3FEC8A6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D38-B57A-4D3F-8B4E-E543A98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704-4831-47C6-8D4C-4892B86A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FED5-A22D-417C-813D-333F889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0005-27B1-4295-A438-D57B009E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8D2-8A71-451F-B766-CE4880E5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E58C-1F9E-4C3E-8542-AC69682C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D4C-5ADC-4B1B-B5E9-30BF556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E6F-4E0A-4574-9918-8A14341F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CBA-7D82-422F-BC88-409DEC2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CC0-8A90-4492-AE7E-7C27619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7B0-E9B2-451F-9F9E-BF591B5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30-D318-476C-B186-584E3E7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7F5-3A68-43F8-840D-E93D3F5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F69-7E50-4BD2-BB45-DDD429B6EA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753-4C31-4E3F-876C-E139E92D2E3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-45864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凡一个人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即使到了中年以至暮年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倘一和孩子们接近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便会踏进久经忘却了的孩子世界的边疆去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想到月亮怎么会跟人走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星星究竟是怎么会嵌在天空中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941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鲁迅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781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1673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探究提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Arial"/>
              </a:rPr>
              <a:t>１、无奈、悲哀。结尾的语气更肯定——“早已不是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Arial"/>
              </a:rPr>
              <a:t>２、结构上照应，情感上深化，表达了对容不得“真率”的世俗的强烈愤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51640" y="4724280"/>
            <a:ext cx="349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中心思想与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本文寄托了对儿童的爱，对儿童率真的天性给予高度肯定，表现出对成人世界“不由自主”的悲哀。表现了作者关怀孩子们心灵健康，赞扬孩子们的率真自然的感情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文章真情直白，语言亲切自然，毫不矫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悟一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联系生活，体会成人失去童真的悲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人欲横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诚信缺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谎言连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5651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49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1125360"/>
            <a:ext cx="658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a679"/>
                </a:solidFill>
                <a:latin typeface="Arial"/>
              </a:rPr>
              <a:t>再见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6250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430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892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</a:rPr>
              <a:t>给我的孩子们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40000" y="4221000"/>
            <a:ext cx="468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丰子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2124000" cy="270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</a:rPr>
              <a:t>设身处地想童年</a:t>
            </a:r>
            <a:endParaRPr b="0" lang="en-US" sz="8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23640" y="148392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大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争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2043000" cy="217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513072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716360" y="4005360"/>
            <a:ext cx="313848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04560" y="4076640"/>
            <a:ext cx="11552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相讲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700360" y="36450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57960" y="1628640"/>
            <a:ext cx="18860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生字生词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考妣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(bì)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　　　憧（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chōng)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憬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(jǐng)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：向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龌 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(Wò)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龊（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chuò</a:t>
            </a: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）　：不干净，脏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端相：正视，细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放怀：纵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</a:rPr>
              <a:t>鞠躬尽瘁：小心谨慎，贡献出全部精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读一读  想一想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１、听范读，给课文划分层次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２、作者的感情基调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３、各节分别讲了什么内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４、作者如何看待成人的生活与孩子们的生活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５、作者真正的悲哀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5120" y="260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１、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（１－７）写孩子们率真，自然的性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１、写孩子们不可能理解自己的话而悲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２、（２－７）对照成人世界的各种毛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孩子的率真、真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（８－１１）抒发失去了童真的悲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感情基调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伤感、悲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３、瞻瞻的“尤其可佩服”（２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３、写孩子们在游戏活动中有自主的创造，而成人却喜欢给同类的行为赋以“意义”和符号。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３、揣摩孩子的心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３、对孩子说的话。（瞻瞻、软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作者的观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４、作者眼里，孩子们的表现是公开的。成人有的都是俗务，人与人之间没有了“彻底的真实和纯洁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５、悲哀是因为想到了孩子们的未来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１、体会最后两段的情感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２、思考这样写的作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３、本文的主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４、写作特点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0:20:04Z</dcterms:created>
  <dc:creator>wph</dc:creator>
  <dc:description/>
  <dc:language>en-US</dc:language>
  <cp:lastModifiedBy>zzz</cp:lastModifiedBy>
  <dcterms:modified xsi:type="dcterms:W3CDTF">2007-12-16T11:48:10Z</dcterms:modified>
  <cp:revision>6</cp:revision>
  <dc:subject/>
  <dc:title>凡一个人,即使到了中年以至暮年,倘一和孩子们接近,便会踏进久经忘却了的孩子世界的边疆去,想到月亮怎么会跟人走,星星究竟是怎么会嵌在天空中</dc:title>
</cp:coreProperties>
</file>