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gif" ContentType="image/gif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C939-47EE-4110-B069-E7352640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C2A-8013-47C1-8874-49630A40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719-5B6A-4C14-B0FD-21157F8E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CDCC-90C1-4959-8421-98055873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768E-8783-4ADC-B6EC-36EBF5C9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AEB3-FC25-488B-9B1B-A04DA2A5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DBD-00F5-44F2-AD89-B0F2950E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D43-A666-4654-8AFC-655AED36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CDBE-DC7E-488A-81C9-990B022D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FDB0-912A-4FFD-A00D-A9129B96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D883-E4B1-49D7-9CDA-EA6602F0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60C-35CB-42C5-B73A-67CCE1C8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2F03-777D-4139-8BEE-694B54E1F3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hiyanhospital.com/2nd/qms/bbdh1/021.htm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book.peopledaily.com.cn/gb/paper17/26/class001700003/hwz168063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ook.peopledaily.com.cn/gb/paper17/26/class001700003/hwz168063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1835280" y="61740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给我的孩子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190512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丰 子 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543640" y="5445000"/>
            <a:ext cx="3600360" cy="1204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324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积累生字生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考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妣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(     )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舌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)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鞠躬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尽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号（     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哭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  姊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憧（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憬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(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向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龌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(       )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龊（       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不干净，脏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端相：正视，细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怀：纵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鞠躬尽瘁：小心谨慎，贡献出全部精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1143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60948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ji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106668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jūgō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h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1600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ch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1600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z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03480" y="266688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chō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26668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jǐ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3276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W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43560" y="320040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ch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28958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感知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散文分别写了哪几个孩子的哪些趣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2819520"/>
            <a:ext cx="792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瞻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阿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软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、在父亲的眼里，孩子的世界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身份全部公开的真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真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自动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09960" y="615240"/>
            <a:ext cx="87519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面对孩子的世界，“我”和他们的母亲是怎样对待的？当时，孩子们会怎么想？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4560" y="2361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43880" y="596520"/>
            <a:ext cx="863712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、在孩子的眼中，成人世界有何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012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一个字概括孩子世界的特点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世界的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6019920"/>
            <a:ext cx="3200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48520" y="1523880"/>
            <a:ext cx="2666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3886200"/>
            <a:ext cx="2743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伪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523880"/>
            <a:ext cx="2362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种创造性的、真的、纯的、美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3809880"/>
            <a:ext cx="2743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种病态的、妥协的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丑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奇怪的动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00400" y="271800"/>
            <a:ext cx="32655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体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75294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比之下，丰子恺对孩子世界的情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1828800"/>
            <a:ext cx="2590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38098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819520"/>
            <a:ext cx="3657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憧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憧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2895480"/>
            <a:ext cx="41907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悲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悲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713800" cy="6172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朗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找出文章直接抒写“憧憬”与“悲哀”之情的语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找出文章间接抒写“憧憬”与“悲哀”之情的语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516456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.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”为什么只能“憧憬”，只能无可奈何地“悲哀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要给孩子们的真正的东西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26360" y="531000"/>
            <a:ext cx="777528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289548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憧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4572000"/>
            <a:ext cx="19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悲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37339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童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3640" y="3716280"/>
            <a:ext cx="228276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276720" y="4419360"/>
            <a:ext cx="236196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358128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拥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48006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失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3049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关怀孩子们的心灵健康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赞扬孩子的率真自然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纯真人性在成长中被世俗生活磨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表现出极大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哀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作者讴歌人的童年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现出对真善美的向往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主旨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81840" y="2514600"/>
            <a:ext cx="20091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课堂小结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67480" y="220968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1720" y="2590920"/>
            <a:ext cx="140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以小见大，提炼主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语言直白，亲切自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鉴赏提高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丰子恺先生曾说，他常常“设身处地”的体验孩子们的生活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孩子们的热爱是他创作漫画的动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请仔细赏析下列漫画，仿造示例完成对漫画的赏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凡一个人，即使到了中年以致暮年，倘一和孩子接近，便会踏进久经忘却了的孩子世界的边疆去，想到月亮怎么会跟人走，星星究竟是怎么会嵌在天空中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鲁迅《且介亭杂文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5473440" cy="5616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H="1">
            <a:off x="7923240" y="333360"/>
            <a:ext cx="6678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赏析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花生米的分配低于自己的期望值，便邹着眉眼表示抗议。儿童就有这样的赤裸裸的真率，哭与笑，满足与不满足就是这样的简单，毫不矫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8764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309400" y="333360"/>
            <a:ext cx="60696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赏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丝毫没有商量的余地，对于天上的月亮，要字后面还要跟上一个坚定的感叹号。那样明亮有趣的月亮，没有理由不拿在手里把玩把玩，至于上天捉月是坐火箭还是架梯子，这却不在他们思考的范围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1905" t="3336" r="9525" b="0"/>
          <a:stretch/>
        </p:blipFill>
        <p:spPr>
          <a:xfrm>
            <a:off x="0" y="0"/>
            <a:ext cx="7772400" cy="6842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812000" y="836640"/>
            <a:ext cx="1008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78508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828800" y="555840"/>
            <a:ext cx="45720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根据下列创设的情景，说说自己或他人“真”实的故事。（任选一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人生匆匆几十载，如今的我已不像从前那样纯真，而变得“成熟”，记得有一次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尽管岁月流逝，但我心底依然还保留一份真。记得有一次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无法否认，在我们身边存在很多与“真”相悖的事，例如————就让我感到气愤悲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应该承认，现实社会上让人感动与钦佩的真人真事很多；见义勇为，爱心善举，无私奉献。例如————让我十分感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13000" y="38880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丰子恺画作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3243600" cy="482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33753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丰子恺画作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319640" cy="4753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76720" y="1557360"/>
            <a:ext cx="3456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丰子恺画作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2735280" cy="4824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76720" y="1484280"/>
            <a:ext cx="2604960" cy="482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084720" y="1484280"/>
            <a:ext cx="2838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27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丰子恺画作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3643200" cy="539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067280" y="4292640"/>
            <a:ext cx="4824360" cy="2346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716360" y="404640"/>
            <a:ext cx="3097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067280" y="304920"/>
            <a:ext cx="4695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丰子恺，现代漫画家、文学家、艺术教育家，被国际友人誉为“现代中国最像艺术家的艺术家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的绘画，文章在几十年沧桑风雨中保持一贯的风格：雍容恬静，其漫画更是脍炙人口。往往是寥寥几笔，就勾画出一个意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篇文章是丰子恺为《子恺画集》写的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3132000" cy="554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370836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读课文，理思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了解孩子们的率真、自然的天性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理解作者在文中流露的思想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533160"/>
            <a:ext cx="8748720" cy="18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朗读课文，扫除障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8200" y="2438280"/>
            <a:ext cx="78264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自学指导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快速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朗读课文，划出文中生字词，借助课下注释、工具书或同桌帮忙扫除字词障碍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(中国)有限公司</cp:lastModifiedBy>
  <dcterms:modified xsi:type="dcterms:W3CDTF">2015-02-25T09:55:59Z</dcterms:modified>
  <cp:revision>1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