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183-929E-47B5-8BC9-986CCADF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4C3-3C5D-4C32-AF51-4D3835BA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A29-8A04-428A-BEB5-42EC5512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ECD-0EBD-4D99-A039-A40B0B05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117-455F-4DFE-8032-664BB803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BBA-FE12-4999-AE1A-DE8B199A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45C-5F92-48BF-9FFB-B77A1602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6DB-1787-4FD2-9B02-97624967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87E-403D-49C2-BED2-E707EDDD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5A0-35EA-46C2-9CE5-9DA343A7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6D1-E1EF-49A3-A417-D72EF529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B35-377E-4852-ACBA-5E6302E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78A0-D1AB-4173-881C-E3B862F140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404640"/>
            <a:ext cx="5832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语文</a:t>
            </a: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</a:t>
            </a: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版一年级下册第七单元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76400" y="576360"/>
            <a:ext cx="6991200" cy="5705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90680" y="838080"/>
            <a:ext cx="6362640" cy="5181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85680" y="442800"/>
            <a:ext cx="7172640" cy="59724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305840" cy="6067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咕咚指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咕咚是木瓜掉进湖里发出的声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木瓜掉进湖里的声音怎样？从哪可以看出来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这声音很大很重。因为木瓜熟了，从高高的树上掉进湖里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兔子为什么跑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兔子听见这又大又响的咕咚声很害怕，吓跑了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咕    咚    突    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喊    耍    慌    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阴    吵    追    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认一认，读一读，写一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1655640" cy="1249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340000" y="1828800"/>
            <a:ext cx="1655640" cy="124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995640" y="1844640"/>
            <a:ext cx="1656000" cy="124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651640" y="1844640"/>
            <a:ext cx="1655640" cy="1249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84360" y="3068640"/>
            <a:ext cx="1655640" cy="1249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340000" y="2997360"/>
            <a:ext cx="1655640" cy="124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995640" y="3068640"/>
            <a:ext cx="1656000" cy="124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5651640" y="3068640"/>
            <a:ext cx="1655640" cy="1249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684360" y="4292640"/>
            <a:ext cx="1655640" cy="1249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2340000" y="4221000"/>
            <a:ext cx="1655640" cy="1249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3995640" y="4292640"/>
            <a:ext cx="1656000" cy="124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5651640" y="4292640"/>
            <a:ext cx="1655640" cy="12492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结提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5640" y="256536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懂得做什么事，不应该盲目的跟别人跑，听信谣传，而要问个为什么，弄清事实真相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3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复述故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4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6920" y="2565360"/>
            <a:ext cx="712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凭借汉语拼音和插图读懂课文内容，懂得做什么事，不应该盲目地跟别人跑，而要问个为什么，弄清事实真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朗读课文，并用自己的话讲述这个故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627280" y="2060640"/>
            <a:ext cx="439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53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设置情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咕咚是什么东西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篇课文讲了一件什么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76280" y="709560"/>
            <a:ext cx="6391440" cy="54388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71720" y="476280"/>
            <a:ext cx="7000560" cy="5905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90680" y="809640"/>
            <a:ext cx="6362640" cy="5238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239240" cy="5915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85680" y="476280"/>
            <a:ext cx="7172640" cy="5905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14480" y="466560"/>
            <a:ext cx="7115040" cy="59248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4:36:20Z</dcterms:created>
  <dc:creator>番茄花园</dc:creator>
  <dc:description/>
  <dc:language>en-US</dc:language>
  <cp:lastModifiedBy>微软用户</cp:lastModifiedBy>
  <dcterms:modified xsi:type="dcterms:W3CDTF">2012-02-04T15:14:03Z</dcterms:modified>
  <cp:revision>24</cp:revision>
  <dc:subject/>
  <dc:title>PowerPoint 演示文稿</dc:title>
</cp:coreProperties>
</file>