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CCE-D5F2-4232-B64E-F885CC5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1D5-E63A-4A88-8DFE-C6EB7E6D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D1C-97ED-4B71-8B0C-475F82E7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7F4-464D-4567-A361-010BEF7A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7498-811F-4111-962B-A5AD721B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FAB7-3D8C-4306-A379-93077B9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C920-2D33-450A-86D3-0472A07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96D-D677-4818-96BE-A5D7AF3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0E3-73F2-4224-AE2B-195D949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94E8-F02E-43E5-B3F7-9BD405E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A491-2D89-4D34-B9F4-545BBCC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4A1-96F0-4FDC-BA52-9683F82C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EF2-1EA3-415E-9DA5-3D8AF08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F63F-D62D-47D3-9303-78FE4E2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34B-05CB-4B5B-8BF7-F18971A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3C9F-4961-4D6F-A644-CEB06286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378B-EB91-4964-B2B0-CA5DB5B7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FA9-436B-4EF8-9792-4092B0B4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4A9-8691-46DF-A158-2C701E8D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8D0-DB03-4DB5-8DD7-E7409B9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45C-2655-4067-942A-7F8CF345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F92-159B-4294-B79C-14E103A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49A-2905-4F99-998F-DC560A4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BB7-D100-4435-B1CA-F356624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94F8-3DDD-4CE6-9220-BA5E3429CD1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0720-4A9E-480D-A3AD-7C897B203F9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2778120" y="4548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1523880"/>
            <a:ext cx="67820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a3d7a"/>
                </a:solidFill>
                <a:latin typeface="Times New Roman"/>
                <a:ea typeface="方正舒体"/>
              </a:rPr>
              <a:t>古代诗歌五首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3" name="Picture 4" descr="BS00554_"/>
          <p:cNvPicPr/>
          <p:nvPr/>
        </p:nvPicPr>
        <p:blipFill>
          <a:blip r:embed="rId9"/>
          <a:stretch/>
        </p:blipFill>
        <p:spPr>
          <a:xfrm>
            <a:off x="1434960" y="3828960"/>
            <a:ext cx="3975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371600" y="1143000"/>
            <a:ext cx="701028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西江月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辛弃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明月别枝惊鹊，清风半夜鸣蝉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稻花香里说丰年，听取蛙声一片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七八个星天外，两三点雨山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旧时茅店社林边，路转溪头忽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这首词上下片，个写了什么内容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词人为什么夜行？夜行时间长不长？从哪些词句可以看出来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“忽见”一词有什么表达作用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“稻话香里说丰年，听取蛙声一片”表达了作者这样的心情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1028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828800" y="1066680"/>
            <a:ext cx="63244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天净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秋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马致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枯藤老树昏鸦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小桥流水人家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古道西风瘦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夕阳西下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肠人在天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4" descr="NA01441_"/>
          <p:cNvPicPr/>
          <p:nvPr/>
        </p:nvPicPr>
        <p:blipFill>
          <a:blip r:embed="rId1"/>
          <a:stretch/>
        </p:blipFill>
        <p:spPr>
          <a:xfrm>
            <a:off x="762120" y="2286000"/>
            <a:ext cx="2565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你能用一个字来概括你读的这五首古诗的感情特点吗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icture 4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1676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碣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Text Box 1028"/>
          <p:cNvSpPr/>
          <p:nvPr/>
        </p:nvSpPr>
        <p:spPr>
          <a:xfrm>
            <a:off x="1905120" y="3124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Rectangle 1030"/>
          <p:cNvSpPr/>
          <p:nvPr/>
        </p:nvSpPr>
        <p:spPr>
          <a:xfrm>
            <a:off x="623880" y="74628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Ji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Text Box 1031"/>
          <p:cNvSpPr/>
          <p:nvPr/>
        </p:nvSpPr>
        <p:spPr>
          <a:xfrm>
            <a:off x="2133720" y="13716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澹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1032"/>
          <p:cNvSpPr/>
          <p:nvPr/>
        </p:nvSpPr>
        <p:spPr>
          <a:xfrm>
            <a:off x="2286000" y="685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ān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1033"/>
          <p:cNvSpPr/>
          <p:nvPr/>
        </p:nvSpPr>
        <p:spPr>
          <a:xfrm>
            <a:off x="4191120" y="1371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竦    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034"/>
          <p:cNvSpPr/>
          <p:nvPr/>
        </p:nvSpPr>
        <p:spPr>
          <a:xfrm>
            <a:off x="4038480" y="6699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ǒng’shì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035"/>
          <p:cNvSpPr/>
          <p:nvPr/>
        </p:nvSpPr>
        <p:spPr>
          <a:xfrm>
            <a:off x="6705720" y="1371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萧 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7162920" y="5335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è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1037"/>
          <p:cNvSpPr/>
          <p:nvPr/>
        </p:nvSpPr>
        <p:spPr>
          <a:xfrm>
            <a:off x="685800" y="4038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1039"/>
          <p:cNvSpPr/>
          <p:nvPr/>
        </p:nvSpPr>
        <p:spPr>
          <a:xfrm>
            <a:off x="457200" y="3260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āi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1041"/>
          <p:cNvSpPr/>
          <p:nvPr/>
        </p:nvSpPr>
        <p:spPr>
          <a:xfrm>
            <a:off x="2057400" y="40989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1042"/>
          <p:cNvSpPr/>
          <p:nvPr/>
        </p:nvSpPr>
        <p:spPr>
          <a:xfrm>
            <a:off x="1828800" y="326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yīng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1043"/>
          <p:cNvSpPr/>
          <p:nvPr/>
        </p:nvSpPr>
        <p:spPr>
          <a:xfrm>
            <a:off x="3657600" y="40989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涯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1044"/>
          <p:cNvSpPr/>
          <p:nvPr/>
        </p:nvSpPr>
        <p:spPr>
          <a:xfrm>
            <a:off x="6019920" y="4952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Rectangle 1045"/>
          <p:cNvSpPr/>
          <p:nvPr/>
        </p:nvSpPr>
        <p:spPr>
          <a:xfrm>
            <a:off x="3659400" y="333684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Y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1046"/>
          <p:cNvSpPr/>
          <p:nvPr/>
        </p:nvSpPr>
        <p:spPr>
          <a:xfrm>
            <a:off x="5029200" y="40989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堤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1047"/>
          <p:cNvSpPr/>
          <p:nvPr/>
        </p:nvSpPr>
        <p:spPr>
          <a:xfrm>
            <a:off x="5029200" y="3276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ī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Rectangle 1048"/>
          <p:cNvSpPr/>
          <p:nvPr/>
        </p:nvSpPr>
        <p:spPr>
          <a:xfrm>
            <a:off x="6177240" y="4098960"/>
            <a:ext cx="8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蹄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Rectangle 1049"/>
          <p:cNvSpPr/>
          <p:nvPr/>
        </p:nvSpPr>
        <p:spPr>
          <a:xfrm>
            <a:off x="6325920" y="326088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Rectangle 1050"/>
          <p:cNvSpPr/>
          <p:nvPr/>
        </p:nvSpPr>
        <p:spPr>
          <a:xfrm>
            <a:off x="7570800" y="402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Rectangle 1051"/>
          <p:cNvSpPr/>
          <p:nvPr/>
        </p:nvSpPr>
        <p:spPr>
          <a:xfrm>
            <a:off x="7392240" y="326088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hu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曹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曹操，字孟德，东汉末政治家、军事家、诗人。当时正处于事业的最高峰。他已削平了北芳群雄，现在又打跨了乌恒和袁绍残部，消除了后患，统一了北方。如果，如果再以优势的兵力去消除南方割据势力，他就可以荡平宇内，一统天下。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观沧海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正是北征乌恒归途中经过碣石山时时写的。大战之前，身为主帅的曹操，登上了当年秦皇汉武也曾登过的碣石山，又当秋风萧瑟之际，他的心情像沧海一样难以平静。他将以自己宏伟的抱负、扩大的胸襟融会到诗歌里，借着大海的形象表现出来，使这首诗具有一种雄浑苍劲的风格，成为一篇流传至今的优秀作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1143000" y="1981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04812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东临碣石，以观沧海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2514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水何澹澹，山岛竦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20040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树木丛生，百草丰茂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20040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秋风萧瑟，洪波涌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200400" y="4343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日月之行，若出其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200400" y="49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星汉灿烂，若出其里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3200400" y="5562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幸甚至哉，歌以咏志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3581280" y="10666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观沧海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曹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21" descr="NA01062_"/>
          <p:cNvPicPr/>
          <p:nvPr/>
        </p:nvPicPr>
        <p:blipFill>
          <a:blip r:embed="rId1"/>
          <a:stretch/>
        </p:blipFill>
        <p:spPr>
          <a:xfrm>
            <a:off x="685800" y="16765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482560"/>
            <a:ext cx="769644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全诗以哪个字展开的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这首诗写了哪几个诗句是写现实的？哪些诗句诗想象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诗中哪些诗句最能体现作者博大的胸   怀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905120" y="838080"/>
            <a:ext cx="59436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次北固山下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王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客路青山外，行舟绿水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潮平两岸阔，风正一帆悬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海日生残夜，江春入旧年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乡书何处达     归雁洛阳边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诗的四联个写了什么内容？四联之间有这样的联系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哪些诗句直接表达了思乡之情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自主探究想象“湖平两岸阔，风正一帆悬”诗怎样的情景？如果你身临其境，将会有什么样的感受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4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71600" y="1371600"/>
            <a:ext cx="68580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钱塘湖春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白居易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孤山寺北贾亭西，水面初平云脚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几处早莺争暖树，谁家新燕啄春泥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乱花渐欲迷人眼，浅草才能没马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最爱湖东行不足，绿杨阴里白沙堤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诗的四联个写了什么内容？从哪些词语可以看出是初春的景色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哪些诗说明诗人已陶醉在美好的湖光山色之中了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“几处”为什么不诗“处处”，“谁家”为什么不是“家家”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4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44:56Z</dcterms:created>
  <dc:creator>第一PPT模板网-WWW.1PPT.COM</dc:creator>
  <dc:description>第一PPT模板网-WWW.1PPT.COM
</dc:description>
  <cp:keywords>第一PPT模板网-WWW.1PPT.COM</cp:keywords>
  <dc:language>en-US</dc:language>
  <cp:lastModifiedBy>11</cp:lastModifiedBy>
  <dcterms:modified xsi:type="dcterms:W3CDTF">2017-11-10T06:40:56Z</dcterms:modified>
  <cp:revision>25</cp:revision>
  <dc:subject>第一PPT模板网-WWW.1PPT.COM</dc:subject>
  <dc:title>第一PPT模板网-WWW.1PPT.COM</dc:title>
</cp:coreProperties>
</file>