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07D-7D22-49A9-9F41-F46EFEC3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78E-D2A7-4ED6-A7A4-C2144C3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818-4736-43D3-9DCD-E2C0D5B0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67E-EA06-4712-97E6-D4B32C38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263-53B8-48D0-A53F-406814E3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3D4-1F3D-4430-A349-2E28A1D5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FEB-001D-44DD-A53B-CB7AAF8A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947-9B52-4EA8-9379-ADADA48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14E-14DF-460F-B187-EF4D671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FDC-E350-4CD8-B2EC-DF48F14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F8A-29C9-4D8B-A488-6E16EFD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5EC-49DF-45E0-A29F-E5866A0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A05-E87D-4CF7-AF53-590D91EF0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4436640"/>
            <a:ext cx="49989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234936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过松源晨炊漆公店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512784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杨万里：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27-120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字廷秀，号诚斋，吉州吉水（今江西）人。高宗绍兴二十四年中进士。曾任太常博士、广东提点刑狱、尚书左司郎中兼太子侍读、秘书监等。主张抗金，正直敢言。宁宗时因奸相专权辞官居家，终忧愤而死。诗与尤袤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yóu mào)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范成大、陆游齐名，称南宋四大家。其诗构思新巧，语言通俗明畅，自成一家，被时人称为“诚斋体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640" y="62064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诗人简介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词风格清新、活泼自然，与诗相近。其中两首《昭君怨》是他最著名的词作，尤其是第二首短短四十个字却描摹了“舟、花、香、水、雨、声、梦、荷、珠、烟、水银、清波”等等或真切清新或飘渺空灵的虚实景物，可谓万丽纷呈，意象万千，共同造筑了引人入胜的人间佳境，令人不禁倾倒、欣然神往。著有《诚斋集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355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过松源晨炊漆公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宋】杨万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言下岭便无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赚得行人空喜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入万山圈子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山放过一山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396360" cy="7316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16720" y="-477468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要说从山岭上下来就没有困难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句话骗得游山的人白白的欢喜一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你进入到万重山的圈子里以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座山让你经过另一座山马上将你阻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7280" y="76500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译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59280" y="274320"/>
            <a:ext cx="2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的前半部为议论，后半部为描摹，二者构成先果后因的内在联系，均渗透着诗人浓郁的思想感情，创造了一种深邃的意境，正是通过这种深邃的意境，寄寓着深刻的哲理：人生在世岂无难，人生就是不断的与“难”作斗争，没有“难”的生活，在现实社会中是不存在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08360" y="54936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赏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56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诗朴实平易，生动形象，表现力强，一个“空”字突出表现了“行人”被“赚”后的失落神态。“放”、“拦”等词语的运动，赋予“万山”人的思想、人的性格，使万山活了起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关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通过环境的描写表现了人的心情与自然景色和谐相融的句子是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莫言下岭便无难，赚得行人空喜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字突出表现了“行人”被“赚”后的失落神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6:25:29Z</dcterms:created>
  <dc:creator>*</dc:creator>
  <dc:description/>
  <dc:language>en-US</dc:language>
  <cp:lastModifiedBy>微软用户</cp:lastModifiedBy>
  <dcterms:modified xsi:type="dcterms:W3CDTF">2011-09-07T23:07:12Z</dcterms:modified>
  <cp:revision>10</cp:revision>
  <dc:subject/>
  <dc:title>幻灯片 1</dc:title>
</cp:coreProperties>
</file>