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5F9-3A67-476D-A4D8-B21D66BA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91D-73E0-4BCA-AB9F-DA165C82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8EA-34EA-4191-B3FD-2EA671AE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037-2C72-4279-A950-26EB6241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C6D-E9AA-4166-9B7C-FACCECD6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0F2-D03E-419C-8C33-AE69C50D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B50-74BF-48D8-9D52-9C4B435A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A8F-DCBE-4254-81E5-86096AEA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EE0-7975-48B5-BEF3-235718AE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3E9-8DD6-45D5-9859-85039637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988-D044-421D-ACD8-FDBC5A17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964-3CE3-4113-A81A-629D6E12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FDE2-23A4-4BDF-8980-DE9E5A8743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7400" y="-3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过松源晨炊漆公店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14720" y="60876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杨万里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48840" y="-4608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诗人简介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064880"/>
            <a:ext cx="9524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杨万里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127-120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，字廷秀，自号诚斋野客，吉水南溪（今吉水县黄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乡湴塘村）人。历任太常丞兼礼部右侍郎、广东提点刑狱，吏部左司郎兼太子侍读，官至宝谟阁学士。他是南宋杰出的诗人，与陆游、范成大、尤袤齐名，被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推为“南宋四大家”。绍兴二十四年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15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春，杨万里进士及第，授赣州司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军。二十九年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15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，调任永州零陵县丞。乾道三年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16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春，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至临安，上政论《千虑策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篇，深刻总结了靖康之难以来的历史教训，直率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评了朝廷的腐败无有，提出了一整套振兴国家的方针策略，充分显示了杨万里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政治才能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杨万里是一位热忱的爱国者、清醒的政治家。他一生力主抗战，始终反对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膝议和。在进奏皇帝的许多“书”、“策”、“札子”中，他一再痛陈国家利病，力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投降之误。他立朝刚正，遇事敢言，指谪时弊，无所顾忌，因而始终不得大用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杨万里是我国古代闻名诗人。他的诗歌创作，走过的是一条由广学博取、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益多师而至面向现实、师法自然的道路。自成一家，形成了独具特色的诗风。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造了他新、奇、活、快、风趣、幽默的“诚斋体”，在中国诗歌史上独树一帜，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立了自己的诗派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杨万里晚年忤宰相韩侂胄，家居吉水十五年，忧愤而死，享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，赐谥文节，追赠光禄大夫。平生著作甚丰，相传有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余首，现存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余首。今存《诚斋集》有诗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3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卷，有《杨文节诗集》、《杨文节易传》、《杨文节文集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著作传世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19440" y="720"/>
            <a:ext cx="2809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过松源晨炊漆公店》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杨万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莫言下岭便无难，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赚得行人空喜欢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正入万山圈子里，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一山放过一山拦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28760" y="0"/>
            <a:ext cx="338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译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不要说从山岭上下来就没有困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这句话骗得游山的人白白的欢喜一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当你进入到万重山的圈子里以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一座山让你经过另一座山马上将你阻拦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956880"/>
            <a:ext cx="9372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赏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诗的前半部为议论，后半部为描摹，二者构成先果后因的内在联系，均渗透着诗人浓郁的思想感情，创造了一种深邃的意境，正是通过这种深邃的意境，寄寓着深刻的哲理：人生在世岂无难，人生就是不断的与“难”作斗争，没有“难”的生活，在现实社会中是不存在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诗朴实平易，生动形象，表现力强，一个“空”字突出表现了“行人”被“赚”后的失落神态。“放”、“拦”等词语的运动，赋予“万山”人的思想、人的性格，使万山活了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1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893520"/>
            <a:ext cx="94489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说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莫说从岭上下来就不难，在下山之前经常让那些行人空欢喜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场。走入到崇山峻岭之中，你才从一重山里出来，可是又被另一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山拦住了。 诗人借助景物描写和生动形象的比喻，通过写山区行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感受，说明一个具有普遍意义的深刻道理：人们无论做什么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要对前进道路上的困难作好充分的估计，不要被一时一事的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沉醉。 把握这首诗的主题时，首先应将文体定位——哲理诗，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就能较快地知道，此诗明写登山的感受，实为谈人生哲理：在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一定成绩时，万万不可自得自满，而应不断进取。 </a:t>
            </a: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道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莫说下山轻易无艰险，这只不过是你的错觉，未免兴奋的太早了，小心诡诈的群山骗了你！下句一个“赚”字，一个“空”字，把行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山间跋涉的刹那感受写得惟妙惟肖。不是吗？你兴致勃勃地爬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道山峦，以为目的地就要到了，可是一山刚过，一山又横越面前，拦住了你前进的道路，原来你又陷入群山的重重包围之中。这不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扫兴得很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10-11-29T03:39:5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