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1CD2-CA17-4837-9F7A-43388A6DE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EE08-D86A-4179-A200-41778B0A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9392-4E7D-4484-8103-5FEA88A90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AD7B-813C-443C-8B0A-B29A888B0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2975-963C-49C1-83CB-DA73935D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94B1-2DED-4581-917C-0CBFF684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C0DA-17CB-4E5E-AEA6-48963530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E856-09DD-498A-9BCA-DE085C4F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8177-26F3-4A33-A24B-EA8826E2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9343-B80A-467A-8D8B-258B37D7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A9D7-3473-473B-8E64-E52DF53E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DC42-EB12-4A9A-934D-C24E3320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ff"/>
                </a:solidFill>
                <a:latin typeface="Arial"/>
                <a:ea typeface="华文行楷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华文行楷"/>
              </a:rPr>
              <a:t>富安中学刘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D760-4145-4120-A1DC-6564ABFA02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4800600" cy="360072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90920" y="99036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过松源晨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           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漆公店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473160" y="3961440"/>
            <a:ext cx="15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杨万里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·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宋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429000" y="227880"/>
            <a:ext cx="2286000" cy="642600"/>
          </a:xfrm>
          <a:prstGeom prst="rect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诗人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064320"/>
            <a:ext cx="8382240" cy="1373760"/>
          </a:xfrm>
          <a:prstGeom prst="rect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杨万里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27-120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字廷秀，自号诚斋野客。历任太常丞兼礼部右侍郎、广东提点刑狱，吏部左司郎兼太子侍读，官至宝谟阁学士。他是南宋杰出的诗人，与陆游、范成大、尤袤齐名，被后人推为“南宋四大家”。  杨万里是一位热忱的爱国者、清醒的政治家。他一生力主抗战，始终反对屈膝议和。杨万里是我国古代闻名诗人。他的诗歌创作，、自成一家，形成了独具特色的诗风。创造了他新、奇、活、快、风趣、幽默的“诚斋体”，在中国诗歌史上独树一帜，建立了自己的诗派。今存《诚斋集》有诗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3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卷，有《杨文节诗集》、《杨文节易传》、《杨文节文集》等著作传世。 </a:t>
            </a:r>
            <a:r>
              <a:rPr b="0" lang="zh-CN" sz="28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410080" y="3962520"/>
            <a:ext cx="3505320" cy="262872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609480" y="961200"/>
            <a:ext cx="5257800" cy="3385800"/>
          </a:xfrm>
          <a:prstGeom prst="rect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《过松源晨炊漆公店》 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杨万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宋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莫言下岭便无难， 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赚得行人空喜欢。 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正入万山圈子里， 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一山放过一山拦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3352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194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2971800"/>
            <a:ext cx="4191120" cy="314316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749960"/>
            <a:ext cx="4057920" cy="2531160"/>
          </a:xfrm>
          <a:prstGeom prst="rect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译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不要说从山岭上下来就没有困难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这句话骗得游山的人白白的欢喜一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当你进入到万重山的圈子里以后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一座山让你经过另一座山马上将你阻拦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95280" y="4495680"/>
            <a:ext cx="6858000" cy="198144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685800" y="1748880"/>
            <a:ext cx="8229600" cy="1557000"/>
          </a:xfrm>
          <a:prstGeom prst="rect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诗歌赏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诗的前半部为议论，后半部为描摹，二者构成先果后因的内在联系，均渗透着诗人浓郁的思想感情，创造了一种深邃的意境，正是通过这种深邃的意境，寄寓着深刻的哲理：人生在世岂无难，人生就是不断的与“难”作斗争，没有“难”的生活，在现实社会中是不存在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诗朴实平易，生动形象，表现力强，一个“空”字突出表现了“行人”被“赚”后的失落神态。“放”、“拦”等词语的运动，赋予“万山”人的思想、人的性格，使万山活了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mj</cp:lastModifiedBy>
  <dcterms:modified xsi:type="dcterms:W3CDTF">2011-08-17T06:36:20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