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0.gif" ContentType="image/gif"/>
  <Override PartName="/ppt/media/image5.gif" ContentType="image/gif"/>
  <Override PartName="/ppt/media/image8.png" ContentType="image/png"/>
  <Override PartName="/ppt/media/image22.gif" ContentType="image/gif"/>
  <Override PartName="/ppt/media/image4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37E-AB26-4FB0-9F98-966A3682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01A-6AEA-403D-854D-3AC0C07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039-F4D2-4497-A443-A4721FC7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730-C8DF-42DB-989A-65201E5F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4D7-90E2-485D-96A4-6453D6CF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DCF-0705-4CA9-9E39-18B1BB8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8FA-6430-420F-8FDE-B043E86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C6D-4131-4A72-A124-5A570B62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E6C-3B3D-47C2-BE54-939D6380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D06-1CB0-450D-BC87-8909FF8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AF7-A21B-47B4-843F-17DD63A0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868-B0FD-430D-B03A-F481DD0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832-9C32-4B2D-A8CE-58C9DD341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作于诗人在建康江东转运副使任上外出纪行的时候。诗人一生力主抗战，反对屈膝投降，故一直不得重用，宋孝宗登基后，便被外放做官。作者途经松源时，见群山环绕感慨不已，于是写下了这首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莫言下岭便无难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是一个富于包孕的诗句，它包含了下岭前艰难攀登的整个上山过程，以及对所经历困难的种种感受。正因为上山艰难，人们便往往把下山看得容易和轻松。开头一句，正像是对这种普遍心理所发的棒喝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莫言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字，像是自诫，又像是提醒别人，耐人寻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91480" y="557856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252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赚得行人空喜欢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“赚”字富于幽默风趣。行人心目中下岭的容易，与它实际上的艰难形成鲜明对比，因此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赚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行人是被自己对下岭的主观想象骗了。诗人在这里点出而不说破，给读者留下悬念，使下两句的出现更引人注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正入万山围子里，一山放出一山拦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两句承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错喜欢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对第二句留下的悬念进行解释。运用拟人手法，表达了一个缺乏思想准备的行人，下了一个山头后，又遇到一个山头时的沮丧；但也也形象反映了行人由意外、惊诧，直至恍然大悟的心理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放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拦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字把山变成了有生命有灵性的东西，它仿佛给行人布置了一个迷魂阵，设置了层层叠叠的圈套，行人从意外、惊诧，到恍然大悟的心理，也都在这一“放”、一“拦”中透露出来，诗人如实的反映了自己在面对错觉时的可贵思考，绝没有因此而沮丧不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诗朴实平易，生动形象，表现力强，一个“错”字突出表现了“行人”被“赚”后的失落神态。“放”、“拦”等词语的运用，赋予“万山”人的思想、人的性格，使万山活了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借助景物描写和生动形象的比喻，通过写山区行路的感受，说明一个具有普遍意义的深刻道理：人们无论做什么事，都要对前进道路上的困难作好充分的估计，不要被一时的成功所陶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赚得行人错喜欢”中的“赚”字运用最精巧，请作简要分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赚”字明显带有一种白嘲和调侃的喜剧色彩，富有幽黙的风趣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人心目中下岭的容易，与它实际上的艰难正成鲜明对比，因此说“赚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人是被自己对下岭的主观想象骗了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人在此只点出而不说破，给读者留下深刻的悬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24360" y="6021360"/>
            <a:ext cx="52196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末句的“放过”和“拦”用得精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？请简要分析。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两个词用拟人的修辞方法形象地写出了山山相连的特点，写得生动，富有情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本诗表达了怎样的人生哲理？是怎样来表现这个深刻哲理的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生哲理——人生就是这样：一个问题解决了，又一个问题出现在眼前，周而复始，永无止境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“行山路”这个意象来隐喻“人生充满矛盾”的这一哲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过松源晨炊漆公店》是南宋诗人杨万里的作品。诗的前半部议论，后半部描摹，创造了一种深邃的意境，寄寓着深刻的哲理：人生在世岂无难，人生就是不断的与“难”作斗争，没有“难”的生活，在现实社会中是不存在的。人们无论做什么事，都要对前进道路上的困难做好充分的估计，不要被一时的成功所迷醉。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119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10520" y="5662440"/>
            <a:ext cx="933480" cy="1195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借助景物描写和生动形象的比喻，通过写山区行路的感受，说明一个具有普遍意义的深刻道理：人们无论做什么事，都要对前进道路上的困难做好充分的估计，不要被一时的成功所陶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116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04920" y="-910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宋体"/>
              </a:rPr>
              <a:t>过松源晨炊漆公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-9108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杨万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73360"/>
            <a:ext cx="1079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-17172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题目解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来到一个叫松源的地方，正是早上，来到一个叫漆公店的地方喝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握这首诗的主题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先应将文体定位——哲理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后就能较快地知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诗明写登山的感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为谈人生哲理：在取得一定成绩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万不可自得自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应不断进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24360" y="5013360"/>
            <a:ext cx="341964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词汇，学习有关杨万里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领悟诗句含义，提高欣赏诗歌的能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歌所表达的思想，形成正确的价值观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6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0"/>
            <a:ext cx="586728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杨万里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27-12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廷秀，号诚斋，男，汉族。吉州吉水（今江西省吉水县）人。南宋杰出诗人，与尤袤、范成大、陆游合称南宋“中兴四大诗人”、“南宋四大家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64000" cy="595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5345280"/>
            <a:ext cx="550872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晨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漆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莫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赚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喜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放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拦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042920" cy="272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9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松源、漆公店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名，在今皖南山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莫言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赚得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骗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错喜欢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白的喜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拦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阻拦，阻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064360" y="2133720"/>
            <a:ext cx="107964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说从山岭上下来就没有困难，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句话骗得前来爬山的人白白地欢喜一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你进入到崇山峻岭的圈子里以后，你刚攀过一座山，另一座山立刻将你阻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议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下岭”有难，莫“错喜欢”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描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可松懈 ，不断进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8T05:09:12Z</dcterms:created>
  <dc:creator>未知用户</dc:creator>
  <dc:description/>
  <dc:language>en-US</dc:language>
  <cp:lastModifiedBy>未知用户</cp:lastModifiedBy>
  <dcterms:modified xsi:type="dcterms:W3CDTF">2017-03-31T08:15:06Z</dcterms:modified>
  <cp:revision>8</cp:revision>
  <dc:subject/>
  <dc:title>幻灯片 1</dc:title>
</cp:coreProperties>
</file>