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9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96D5-4E8C-489B-BA2F-77A1C425A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D356-77A8-4A85-B632-E92338E5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8478-CA44-4472-92D1-B486DBBAA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CADB-61FD-4B53-BA91-7CF75671B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7130-F662-4D9D-985E-2DF9E0DFD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F3514-AA6A-45B3-85A8-F9413ED6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6ECFF-F120-4054-B468-41323086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06BF0-665F-47BF-8660-B7AD0F04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2D81-F7A1-4134-9F30-FA566204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8DA99-95A9-4946-B25F-C0287515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9050-BE0E-436C-AA03-68A5BBCE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41B0-4B9B-4F03-B8F7-0912C64B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EEAC-BF72-4B3D-BDA6-186CCBAF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1DC9-22A4-4979-959C-B42A7921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27A8E-6AD2-4E03-9322-72F76C46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0190-16F7-4B57-B027-DB4DCD0E8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E00E-553B-4E6D-8329-36075CE9E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EF446-B908-45D8-9F21-390BFE4DD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10D48-C4D3-49DA-84D4-6F922D51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0AF52-B177-4FD1-AD20-885B182A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A7D29-7421-4C0C-A11A-A9C08571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28965-7C46-4E9B-8F02-7EE3864C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39F0-0F46-49A8-A8A7-3C5F6D46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13DE1-B801-49B8-A651-02B67CC7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FFFBA-28F2-4069-B625-1C849EB1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83CC4-9615-4240-BDC0-B09F2918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9EE36-7130-41D0-83C0-F6133D5F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35172-79F1-4444-97FC-8DFF58F2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C812C-813E-4D01-B33B-C1A8EB000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862F4-E9F4-4A0B-96EB-25E1AFC4C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BA7B1-BFF6-4D10-8007-880919C7D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CA400-649F-4446-8DBD-B3193D0E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3BF05-66CF-42CA-BDCF-44E8C92D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7F0B-0124-4B6D-B575-921CC77D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4702C-2188-4B33-A6E9-DBE714CF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75C44-FEB0-48CF-AD3B-AE3E95FF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C2EB3-913D-4CE3-86D0-DBDAC4AD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3E6BA-7B6C-4199-90D7-5397990D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06B15-FBD7-4644-B768-64D2FF51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D998E-A4CB-433E-9D98-B5FC125A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A82CE-0275-42B6-BCA2-121E1919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54483-C64B-4C70-B8F3-1A9BF5F7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8499F-01F9-490C-BAC3-563A0A3AC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729B6-8F71-440F-B722-E0A805DDB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9529-5009-4877-8DEA-43B498E3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8A4A2-7F59-45F5-8270-58CA28A4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F74E2-BC44-41B6-9C31-A6269A3F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093E4-B7C4-4F45-8CE5-05843FA4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D76DF-7885-4425-A862-DB255242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75A31-4D15-48BA-A24A-43584CF2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7592F-817D-4240-90B4-CCBF7DFA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2C17C-4807-4ADA-9F6C-3ACBFAE1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2464D-06B4-4965-997D-9731C138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80775-552A-4C50-8B04-D477EC9B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9683D-0BAA-4212-AB0C-C2CD48131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95DB-F9C6-44C9-A108-CEAD6E02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C5987-20F4-44EA-B501-FA542B80D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9E62-0B98-4245-BC24-00588C15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84D0-B887-4B5D-AD4C-BFCA28A7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0F6B-5BFB-4C04-9EA2-5B20CAD4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8895-EEC0-4FBB-94DE-131A2AF8A8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894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F501-C163-415D-9999-D624590FE6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E321-7D45-4CB5-BC30-829DD7CE9A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F659-DB41-41C8-AC7E-7E498AB8BA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2894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694E-095E-4918-866C-A9C6EEB99C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行楷"/>
              </a:rPr>
              <a:t>归去来兮辞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并序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陶潜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54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888640" y="5791320"/>
            <a:ext cx="193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普定一中    陈世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四、探讨行文线索及文章结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-533520" y="1600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（一）叙事线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12200" y="350532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（二）感情线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29920" y="25146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归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68200" y="25146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抵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254200" y="25146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室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616520" y="25146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园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52480" y="2819520"/>
            <a:ext cx="1008360" cy="304560"/>
          </a:xfrm>
          <a:prstGeom prst="rightArrow">
            <a:avLst>
              <a:gd name="adj1" fmla="val 50000"/>
              <a:gd name="adj2" fmla="val 8277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24480" y="2819520"/>
            <a:ext cx="1008360" cy="228600"/>
          </a:xfrm>
          <a:prstGeom prst="rightArrow">
            <a:avLst>
              <a:gd name="adj1" fmla="val 50000"/>
              <a:gd name="adj2" fmla="val 11027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038480" y="2819520"/>
            <a:ext cx="1008360" cy="304560"/>
          </a:xfrm>
          <a:prstGeom prst="rightArrow">
            <a:avLst>
              <a:gd name="adj1" fmla="val 50000"/>
              <a:gd name="adj2" fmla="val 8277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828800" y="5410080"/>
            <a:ext cx="1066680" cy="304920"/>
          </a:xfrm>
          <a:prstGeom prst="rightArrow">
            <a:avLst>
              <a:gd name="adj1" fmla="val 50000"/>
              <a:gd name="adj2" fmla="val 874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248520" y="5334120"/>
            <a:ext cx="1066680" cy="304560"/>
          </a:xfrm>
          <a:prstGeom prst="rightArrow">
            <a:avLst>
              <a:gd name="adj1" fmla="val 50000"/>
              <a:gd name="adj2" fmla="val 8755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038480" y="5410080"/>
            <a:ext cx="1067040" cy="304920"/>
          </a:xfrm>
          <a:prstGeom prst="rightArrow">
            <a:avLst>
              <a:gd name="adj1" fmla="val 50000"/>
              <a:gd name="adj2" fmla="val 87485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59040" y="4042080"/>
            <a:ext cx="85068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自责自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304720" y="4419720"/>
            <a:ext cx="1521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怡然自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667040" y="4343400"/>
            <a:ext cx="1521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闲适怡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800760" y="4267080"/>
            <a:ext cx="15210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24454"/>
                </a:solidFill>
                <a:latin typeface="Arial"/>
                <a:ea typeface="隶书"/>
              </a:rPr>
              <a:t>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潇洒旷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657600" y="4572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05320" y="2666880"/>
            <a:ext cx="152280" cy="2590920"/>
          </a:xfrm>
          <a:custGeom>
            <a:avLst/>
            <a:gdLst>
              <a:gd name="textAreaLeft" fmla="*/ 97200 w 152280"/>
              <a:gd name="textAreaRight" fmla="*/ 152640 w 15228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724280" y="182880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800600" y="4114800"/>
            <a:ext cx="152280" cy="2133720"/>
          </a:xfrm>
          <a:custGeom>
            <a:avLst/>
            <a:gdLst>
              <a:gd name="textAreaLeft" fmla="*/ 97200 w 152280"/>
              <a:gd name="textAreaRight" fmla="*/ 152640 w 15228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95280" y="762120"/>
            <a:ext cx="381240" cy="5410080"/>
          </a:xfrm>
          <a:custGeom>
            <a:avLst/>
            <a:gdLst>
              <a:gd name="textAreaLeft" fmla="*/ 243720 w 381240"/>
              <a:gd name="textAreaRight" fmla="*/ 381600 w 381240"/>
              <a:gd name="textAreaTop" fmla="*/ 140760 h 5410080"/>
              <a:gd name="textAreaBottom" fmla="*/ 5269320 h 541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657600" y="3049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自责之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657600" y="9144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安慰之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335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辞官归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523880" y="36576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田园生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970640" y="57913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乐天安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57600" y="240660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居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657600" y="48448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出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616360" y="14479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归途</a:t>
            </a: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（归心似箭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692320" y="20574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抵家</a:t>
            </a: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（欣喜若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616360" y="26668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室内</a:t>
            </a: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（舒适安逸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692320" y="32767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园中</a:t>
            </a: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（流连忘返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139000" y="38098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心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952880" y="42670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交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48006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出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952880" y="5410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所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-316080" y="1676520"/>
            <a:ext cx="1642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归去来兮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5943600"/>
            <a:ext cx="11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所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990440" y="117468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（第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08120" y="424800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（第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838160" y="6400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（第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78280" y="152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三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-300600" y="1981080"/>
            <a:ext cx="13993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归去来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143000" y="1219320"/>
            <a:ext cx="228600" cy="4267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1240 h 4267080"/>
              <a:gd name="textAreaBottom" fmla="*/ 4155840 h 426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962520" y="9907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自责自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819520" y="12952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676520" y="99072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归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300720" y="32130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自安自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733920" y="2209680"/>
            <a:ext cx="104760" cy="2367000"/>
          </a:xfrm>
          <a:custGeom>
            <a:avLst/>
            <a:gdLst>
              <a:gd name="textAreaLeft" fmla="*/ 30600 w 104760"/>
              <a:gd name="textAreaRight" fmla="*/ 105120 w 104760"/>
              <a:gd name="textAreaTop" fmla="*/ 98640 h 2367000"/>
              <a:gd name="textAreaBottom" fmla="*/ 2268720 h 236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886200" y="19810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归途之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862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室中之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86200" y="34290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园中之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86200" y="42670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出游之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91120" y="57150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乐天安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95480" y="54100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191120" y="510552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厌恶官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791320" y="1066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缘由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300720" y="5373720"/>
            <a:ext cx="17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主旨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600200" y="2895480"/>
            <a:ext cx="102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归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51055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归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012000" y="2276640"/>
            <a:ext cx="288720" cy="2592360"/>
          </a:xfrm>
          <a:custGeom>
            <a:avLst/>
            <a:gdLst>
              <a:gd name="textAreaLeft" fmla="*/ 184680 w 288720"/>
              <a:gd name="textAreaRight" fmla="*/ 289080 w 28872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总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309880" y="1752480"/>
            <a:ext cx="6069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直接抒情 、间接抒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7956720" y="1341360"/>
            <a:ext cx="226800" cy="4319640"/>
          </a:xfrm>
          <a:custGeom>
            <a:avLst/>
            <a:gdLst>
              <a:gd name="textAreaLeft" fmla="*/ 145080 w 226800"/>
              <a:gd name="textAreaRight" fmla="*/ 227160 w 226800"/>
              <a:gd name="textAreaTop" fmla="*/ 112320 h 4319640"/>
              <a:gd name="textAreaBottom" fmla="*/ 4207320 h 43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666880" y="32767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8381880" y="0"/>
            <a:ext cx="76212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431640" y="1341360"/>
            <a:ext cx="8317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方正舒体"/>
                <a:ea typeface="方正舒体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、陶渊明为什么要选择一条归隐田园的道路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84360" y="2708280"/>
            <a:ext cx="7993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en-US" sz="3200" spc="-1" strike="noStrike">
                <a:solidFill>
                  <a:srgbClr val="008080"/>
                </a:solidFill>
                <a:latin typeface="隶书"/>
                <a:ea typeface="隶书"/>
              </a:rPr>
              <a:t>1.</a:t>
            </a:r>
            <a:r>
              <a:rPr b="1" lang="zh-CN" sz="3200" spc="-1" strike="noStrike">
                <a:solidFill>
                  <a:srgbClr val="008080"/>
                </a:solidFill>
                <a:latin typeface="隶书"/>
                <a:ea typeface="隶书"/>
              </a:rPr>
              <a:t>作者不愿与世俗同流合污，向往恬静的田园生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隶书"/>
                <a:ea typeface="隶书"/>
              </a:rPr>
              <a:t>  </a:t>
            </a:r>
            <a:r>
              <a:rPr b="1" lang="en-US" sz="3200" spc="-1" strike="noStrike">
                <a:solidFill>
                  <a:srgbClr val="008080"/>
                </a:solidFill>
                <a:latin typeface="隶书"/>
                <a:ea typeface="隶书"/>
              </a:rPr>
              <a:t>2.</a:t>
            </a:r>
            <a:r>
              <a:rPr b="1" lang="zh-CN" sz="3200" spc="-1" strike="noStrike">
                <a:solidFill>
                  <a:srgbClr val="008080"/>
                </a:solidFill>
                <a:latin typeface="隶书"/>
                <a:ea typeface="隶书"/>
              </a:rPr>
              <a:t>在当时的现实条件下，作者既不愿卖身求荣，又不愿服食求仙，顺乎自然、乘化而归就是一种必然的选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隶书"/>
                <a:ea typeface="隶书"/>
              </a:rPr>
              <a:t>  </a:t>
            </a:r>
            <a:r>
              <a:rPr b="1" lang="en-US" sz="3200" spc="-1" strike="noStrike">
                <a:solidFill>
                  <a:srgbClr val="008080"/>
                </a:solidFill>
                <a:latin typeface="隶书"/>
                <a:ea typeface="隶书"/>
              </a:rPr>
              <a:t>3.</a:t>
            </a:r>
            <a:r>
              <a:rPr b="1" lang="zh-CN" sz="3200" spc="-1" strike="noStrike">
                <a:solidFill>
                  <a:srgbClr val="008080"/>
                </a:solidFill>
                <a:latin typeface="隶书"/>
                <a:ea typeface="隶书"/>
              </a:rPr>
              <a:t>作者显然是经过大彻大悟之后才作此决定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783440" y="30492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五、探究拓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9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52280" y="228600"/>
            <a:ext cx="769644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有人认为本文结尾一句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“聊乘化以归尽，乐夫天命复奚疑？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包含着悲观消极的思想，试结合全文内容，谈谈你的看法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151920" y="-360"/>
            <a:ext cx="678204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对这样的思想不能简单肤浅地打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消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二字。陶渊明的思想确实消极了一些，我们不宜提倡。但我们应该深入一层地理解。官场的庸俗，平民生活的质朴自由，使作者看到在大自然中才是生命正途。这种率真愤激的抒发至少比有些士大夫的矫揉造作的高义更有意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1" dur="5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68360" y="199440"/>
            <a:ext cx="82296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陶渊明印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99172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4000" spc="-1" strike="noStrike">
                <a:solidFill>
                  <a:srgbClr val="009999"/>
                </a:solidFill>
                <a:latin typeface="Arial"/>
              </a:rPr>
              <a:t>鄙弃官场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是他的节操，</a:t>
            </a:r>
            <a:r>
              <a:rPr b="0" lang="zh-CN" sz="4000" spc="-1" strike="noStrike">
                <a:solidFill>
                  <a:srgbClr val="009999"/>
                </a:solidFill>
                <a:latin typeface="Arial"/>
              </a:rPr>
              <a:t>淡泊明志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是他的追求，</a:t>
            </a:r>
            <a:r>
              <a:rPr b="0" lang="zh-CN" sz="4000" spc="-1" strike="noStrike">
                <a:solidFill>
                  <a:srgbClr val="009999"/>
                </a:solidFill>
                <a:latin typeface="Arial"/>
              </a:rPr>
              <a:t>躬耕田野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是他生活的保障，</a:t>
            </a:r>
            <a:r>
              <a:rPr b="0" lang="zh-CN" sz="4000" spc="-1" strike="noStrike">
                <a:solidFill>
                  <a:srgbClr val="009999"/>
                </a:solidFill>
                <a:latin typeface="Arial"/>
              </a:rPr>
              <a:t>诗酒琴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是他的生活情趣，</a:t>
            </a:r>
            <a:r>
              <a:rPr b="0" lang="zh-CN" sz="4000" spc="-1" strike="noStrike">
                <a:solidFill>
                  <a:srgbClr val="009999"/>
                </a:solidFill>
                <a:latin typeface="Arial"/>
              </a:rPr>
              <a:t>固穷守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是他归隐意念的巩固，</a:t>
            </a:r>
            <a:r>
              <a:rPr b="0" lang="zh-CN" sz="4000" spc="-1" strike="noStrike">
                <a:solidFill>
                  <a:srgbClr val="009999"/>
                </a:solidFill>
                <a:latin typeface="Arial"/>
              </a:rPr>
              <a:t>乐天知命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是他人生的真谛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不与当时黑暗的上层社会同流合污，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</a:rPr>
              <a:t>崇尚田园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</a:rPr>
              <a:t>安贫乐道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超然物外，有着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华文彩云"/>
              </a:rPr>
              <a:t>高洁志趣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形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1219320" cy="62485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六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文</a:t>
            </a:r>
            <a:br>
              <a:rPr sz="4400"/>
            </a:b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言</a:t>
            </a:r>
            <a:br>
              <a:rPr sz="4400"/>
            </a:b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知</a:t>
            </a:r>
            <a:br>
              <a:rPr sz="4400"/>
            </a:b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识</a:t>
            </a:r>
            <a:br>
              <a:rPr sz="4400"/>
            </a:b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归</a:t>
            </a:r>
            <a:br>
              <a:rPr sz="4400"/>
            </a:b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1828800" y="0"/>
            <a:ext cx="4876920" cy="6629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0" y="117000"/>
            <a:ext cx="9144000" cy="669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实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悟已往之不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谏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谏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劝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挽回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知来者之可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追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追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挽救，补救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就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荒（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就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近于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④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容膝之易安（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明白，知道）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⑤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策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扶老以流憩（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策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拄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时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矫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首而遐观（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矫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举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帝乡不可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期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期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：至，及）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⑧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乘化以归尽（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姑且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胡为乎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遑遑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欲何之？（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遑遑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不安的样子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⑩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曷不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心任去留（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随，顺从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94920" y="606600"/>
            <a:ext cx="852012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特殊句式 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宾语前置 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复驾言兮焉求？</a:t>
            </a:r>
            <a:r>
              <a:rPr b="1" lang="zh-CN" sz="2400" spc="-1" strike="noStrike">
                <a:solidFill>
                  <a:srgbClr val="009999"/>
                </a:solidFill>
                <a:latin typeface="黑体"/>
              </a:rPr>
              <a:t>（</a:t>
            </a:r>
            <a:r>
              <a:rPr b="1" lang="zh-CN" sz="2400" spc="-1" strike="noStrike">
                <a:solidFill>
                  <a:srgbClr val="00b050"/>
                </a:solidFill>
                <a:latin typeface="黑体"/>
              </a:rPr>
              <a:t>应为</a:t>
            </a: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b050"/>
                </a:solidFill>
                <a:latin typeface="黑体"/>
              </a:rPr>
              <a:t>复驾言兮求焉？</a:t>
            </a: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b050"/>
                </a:solidFill>
                <a:latin typeface="黑体"/>
              </a:rPr>
              <a:t>）                         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     胡为乎遑遑欲何之？</a:t>
            </a:r>
            <a:r>
              <a:rPr b="1" lang="zh-CN" sz="2400" spc="-1" strike="noStrike">
                <a:solidFill>
                  <a:srgbClr val="009999"/>
                </a:solidFill>
                <a:latin typeface="黑体"/>
              </a:rPr>
              <a:t>（</a:t>
            </a:r>
            <a:r>
              <a:rPr b="1" lang="zh-CN" sz="2400" spc="-1" strike="noStrike">
                <a:solidFill>
                  <a:srgbClr val="00b050"/>
                </a:solidFill>
                <a:latin typeface="黑体"/>
              </a:rPr>
              <a:t>应为</a:t>
            </a: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b050"/>
                </a:solidFill>
                <a:latin typeface="黑体"/>
              </a:rPr>
              <a:t>为胡乎遑遑欲之何？）</a:t>
            </a:r>
            <a:br>
              <a:rPr sz="2400"/>
            </a:br>
            <a:r>
              <a:rPr b="1" lang="zh-CN" sz="2400" spc="-1" strike="noStrike">
                <a:solidFill>
                  <a:srgbClr val="00b050"/>
                </a:solidFill>
                <a:latin typeface="黑体"/>
              </a:rPr>
              <a:t>          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介宾后置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农人告余以春及。</a:t>
            </a:r>
            <a:r>
              <a:rPr b="1" lang="zh-CN" sz="2400" spc="-1" strike="noStrike">
                <a:solidFill>
                  <a:srgbClr val="009999"/>
                </a:solidFill>
                <a:latin typeface="黑体"/>
              </a:rPr>
              <a:t>（</a:t>
            </a:r>
            <a:r>
              <a:rPr b="1" lang="zh-CN" sz="2400" spc="-1" strike="noStrike">
                <a:solidFill>
                  <a:srgbClr val="00b050"/>
                </a:solidFill>
                <a:latin typeface="黑体"/>
              </a:rPr>
              <a:t>应为</a:t>
            </a: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b050"/>
                </a:solidFill>
                <a:latin typeface="黑体"/>
              </a:rPr>
              <a:t>农人以春及告余</a:t>
            </a: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b050"/>
                </a:solidFill>
                <a:latin typeface="黑体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384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b05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04560" y="2827440"/>
            <a:ext cx="837396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词类活用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眄庭柯以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颜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怡，使动用法，使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愉快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亲戚之情话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琴书以消忧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悦，乐，意动用法，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为悦，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为乐）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或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棹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孤舟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棹，名词作动词，划）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万物之得时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善，形容词作动词，喜欢，羡慕）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夫天命复奚疑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乐，意动用法，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为乐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443480" y="0"/>
            <a:ext cx="4700520" cy="66294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24000" y="1341360"/>
            <a:ext cx="5113080" cy="22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隶书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饮 酒（其五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结庐在人境，而无车马喧。问君何能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？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心远地自偏。采菊东篱下，悠然见南山。山气日夕佳，飞鸟相与还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此中有真意，欲辨已忘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8686800" y="6095880"/>
            <a:ext cx="457200" cy="4273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99040" y="228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作品回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2209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作业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背诵课文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仿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陶渊明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是一棵孤傲的松，挺立于尘世之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0" y="990720"/>
            <a:ext cx="4594320" cy="58672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2362320" y="0"/>
            <a:ext cx="608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3" action="ppaction://hlinksldjump"/>
              </a:rPr>
              <a:t>归园田居</a:t>
            </a:r>
            <a:r>
              <a:rPr b="1" lang="zh-CN" sz="5400" spc="-1" strike="noStrike" u="sng">
                <a:solidFill>
                  <a:srgbClr val="009999"/>
                </a:solidFill>
                <a:uFillTx/>
                <a:latin typeface="Arial"/>
                <a:ea typeface="隶书"/>
              </a:rPr>
              <a:t>（其一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少无适俗韵，性本爱丘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误落尘网中，一去三十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羁鸟恋旧林，池鱼思故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开荒南野际，守拙归园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方宅十余亩，草屋八九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榆柳阴后檐，桃李罗堂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暧暧远人村，依依墟里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狗吠深巷中，鸡鸣桑树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户庭无尘杂，虚室有余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久在樊笼里，复得返自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4920" y="4218120"/>
            <a:ext cx="2309760" cy="26668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485720" y="981000"/>
            <a:ext cx="750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r>
              <a:rPr b="1" lang="zh-CN" sz="4800" spc="-1" strike="noStrike">
                <a:solidFill>
                  <a:srgbClr val="009999"/>
                </a:solidFill>
                <a:latin typeface="Arial"/>
                <a:ea typeface="华文行楷"/>
              </a:rPr>
              <a:t>归园田居</a:t>
            </a:r>
            <a:r>
              <a:rPr b="1" lang="zh-CN" sz="48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1" lang="zh-CN" sz="48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种豆南山下</a:t>
            </a:r>
            <a:r>
              <a:rPr b="1" lang="zh-CN" sz="4800" spc="-1" strike="noStrike">
                <a:solidFill>
                  <a:srgbClr val="009999"/>
                </a:solidFill>
                <a:latin typeface="Arial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种豆南山下，草盛豆苗稀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晨兴理荒秽，带月荷锄归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道狭草木长，夕露沾我衣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衣沾不足惜，但使愿无违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019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彩云"/>
              </a:rPr>
              <a:t>一、作者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987640" y="981000"/>
            <a:ext cx="60199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陶潜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365-42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）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渊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，字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元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，别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五柳先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，东晋浔阳（现江西省九江市）人，我国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晋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著名诗人。他出生于没落的地主家庭，少年时曾怀有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大志济于苍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”的志向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29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岁开始入仕，从此的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3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个年头，时官时隐，历任江州祭酒、建威参军、建威将军、彭泽县令之类的小官。在彭泽县令任上仅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80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天，就辞官回家，躬耕陇亩，从此不再出仕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0" y="1143000"/>
            <a:ext cx="3276720" cy="4952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6019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彩云"/>
              </a:rPr>
              <a:t>作者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0" y="1143000"/>
            <a:ext cx="3276720" cy="49528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2895480" y="1066680"/>
            <a:ext cx="62485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123720" y="1218960"/>
            <a:ext cx="5715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他长于诗文辞赋。他的作品有两类题材：一类是</a:t>
            </a:r>
            <a:r>
              <a:rPr b="0" lang="zh-CN" sz="4000" spc="-1" strike="noStrike" u="sng">
                <a:solidFill>
                  <a:srgbClr val="ff3300"/>
                </a:solidFill>
                <a:uFillTx/>
                <a:latin typeface="Arial"/>
                <a:ea typeface="隶书"/>
              </a:rPr>
              <a:t>描绘田园美景，寄托他洁身自好的高洁志趣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；另一类</a:t>
            </a:r>
            <a:r>
              <a:rPr b="0" lang="zh-CN" sz="4000" spc="-1" strike="noStrike" u="sng">
                <a:solidFill>
                  <a:srgbClr val="ff3300"/>
                </a:solidFill>
                <a:uFillTx/>
                <a:latin typeface="Arial"/>
                <a:ea typeface="隶书"/>
              </a:rPr>
              <a:t>寄寓抱负，多悲愤慷慨之音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散文以《桃花源记》最有名，辞赋《归去来兮辞》著称文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00040" y="-3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二、写作背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2971800" cy="6629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30" name=""/>
          <p:cNvSpPr/>
          <p:nvPr/>
        </p:nvSpPr>
        <p:spPr>
          <a:xfrm>
            <a:off x="3505320" y="1143000"/>
            <a:ext cx="472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陶渊明四十一岁那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公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0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最后一次出仕，做了约八十天的彭泽令。陶潜归隐是出于对腐朽现实的不满。当时郡里一位督府来彭泽巡视，要他束带迎接，以示敬意，他气愤地说：“我怎么能为五斗米而向这乡里小人低三下四！”即日解绶去职，赋《归去来兮辞》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3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三、关于“序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7315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黑体"/>
              </a:rPr>
              <a:t>本文分“序”和“辞”两节，“辞”是一种与“赋”相近的文体名称。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黑体"/>
              </a:rPr>
              <a:t>“序”说明了自己所以出仕和自免去职的原因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黑体"/>
              </a:rPr>
              <a:t>。“辞”则抒写了归田的决心、归田时的愉快心情和归田后的乐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7760" y="-360"/>
            <a:ext cx="6095880" cy="114300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通读序文，了解陶潜辞官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归隐的原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6040" cy="6858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35" name=""/>
          <p:cNvSpPr/>
          <p:nvPr/>
        </p:nvSpPr>
        <p:spPr>
          <a:xfrm>
            <a:off x="3505320" y="1600200"/>
            <a:ext cx="50292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质性自然，非矫厉所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饥冻虽切，违已交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程氏妹丧于武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352680" y="4343400"/>
            <a:ext cx="487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少无适俗韵，性本爱丘山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，做官“深愧平生之志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3808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207131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09-09T14:10:07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