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2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1.gif" ContentType="image/gif"/>
  <Override PartName="/ppt/media/image14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6.gif" ContentType="image/gif"/>
  <Override PartName="/ppt/media/image38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  <p:sldId id="339" r:id="rId96"/>
    <p:sldId id="340" r:id="rId97"/>
    <p:sldId id="341" r:id="rId98"/>
    <p:sldId id="342" r:id="rId99"/>
    <p:sldId id="343" r:id="rId100"/>
    <p:sldId id="344" r:id="rId101"/>
    <p:sldId id="345" r:id="rId102"/>
    <p:sldId id="346" r:id="rId103"/>
    <p:sldId id="347" r:id="rId104"/>
    <p:sldId id="348" r:id="rId105"/>
    <p:sldId id="349" r:id="rId106"/>
    <p:sldId id="350" r:id="rId107"/>
    <p:sldId id="351" r:id="rId108"/>
    <p:sldId id="352" r:id="rId109"/>
    <p:sldId id="353" r:id="rId110"/>
    <p:sldId id="354" r:id="rId111"/>
    <p:sldId id="35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slide" Target="slides/slide84.xml"/><Relationship Id="rId97" Type="http://schemas.openxmlformats.org/officeDocument/2006/relationships/slide" Target="slides/slide85.xml"/><Relationship Id="rId98" Type="http://schemas.openxmlformats.org/officeDocument/2006/relationships/slide" Target="slides/slide86.xml"/><Relationship Id="rId99" Type="http://schemas.openxmlformats.org/officeDocument/2006/relationships/slide" Target="slides/slide87.xml"/><Relationship Id="rId100" Type="http://schemas.openxmlformats.org/officeDocument/2006/relationships/slide" Target="slides/slide88.xml"/><Relationship Id="rId101" Type="http://schemas.openxmlformats.org/officeDocument/2006/relationships/slide" Target="slides/slide89.xml"/><Relationship Id="rId102" Type="http://schemas.openxmlformats.org/officeDocument/2006/relationships/slide" Target="slides/slide90.xml"/><Relationship Id="rId103" Type="http://schemas.openxmlformats.org/officeDocument/2006/relationships/slide" Target="slides/slide91.xml"/><Relationship Id="rId104" Type="http://schemas.openxmlformats.org/officeDocument/2006/relationships/slide" Target="slides/slide92.xml"/><Relationship Id="rId105" Type="http://schemas.openxmlformats.org/officeDocument/2006/relationships/slide" Target="slides/slide93.xml"/><Relationship Id="rId106" Type="http://schemas.openxmlformats.org/officeDocument/2006/relationships/slide" Target="slides/slide94.xml"/><Relationship Id="rId107" Type="http://schemas.openxmlformats.org/officeDocument/2006/relationships/slide" Target="slides/slide95.xml"/><Relationship Id="rId108" Type="http://schemas.openxmlformats.org/officeDocument/2006/relationships/slide" Target="slides/slide96.xml"/><Relationship Id="rId109" Type="http://schemas.openxmlformats.org/officeDocument/2006/relationships/slide" Target="slides/slide97.xml"/><Relationship Id="rId110" Type="http://schemas.openxmlformats.org/officeDocument/2006/relationships/slide" Target="slides/slide98.xml"/><Relationship Id="rId111" Type="http://schemas.openxmlformats.org/officeDocument/2006/relationships/slide" Target="slides/slide99.xml"/><Relationship Id="rId112" Type="http://schemas.openxmlformats.org/officeDocument/2006/relationships/slide" Target="slides/slide10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226-6527-47CE-B138-C03FC61D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C1B-2B6E-4DFE-BDEE-E824FC9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F058C-AA2A-4A36-9505-5C8A050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1F7D8-4B28-4EBE-B285-90F4DD9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4F7DB-1D2B-47AB-9C60-9E884E7B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E3E8E-FB21-41BC-9E50-BA65D3B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7315D-0F3B-49A3-BA32-1086B63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7DCCB-3A0D-4226-9477-D48B539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C958-D3D8-454A-8A90-28217A8B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B328-4669-49AE-899F-8B3C04B1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DE085-049E-406A-82A5-6DAF1A8A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806A-9F18-40BA-BCC8-28019BFC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7A5-1197-479C-8FAB-ED3F81CD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8BF77-501D-4A89-B1D8-381267E3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8F6B9-02E0-4361-9714-14D93DE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D410B-64CD-442B-838E-1DC7EF23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DD38-0E65-42B6-A1A1-10D103B9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1D670-A6AE-4304-8D49-AEC40DE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6FFB-C182-4488-9498-12EF966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19F8D-BFED-4E6E-A83D-E84F391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E1DB-23C7-462E-AF03-A16A9EE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0A832-57E1-434E-AB3C-FAFDAD1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1CEAC-F88B-4D2E-9125-25B11E52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86-9630-4D3E-AF3F-0E4B0C5D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1E731-F78F-4C4A-969E-1128BE91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8BCF8-3642-4498-9BA5-571D3D60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09912-BA71-459B-AB51-9016320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E04DD-A6E8-4AD0-99EA-2E935CDA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B3B47-24CE-4F7A-9C6D-D1CEAFF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4A38-5EC0-4B7D-87A6-53F0070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8219E-BC9B-4EA3-A560-727E25E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03C7-09B5-410A-81AC-979F13C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8584D-C36E-4AFB-BDE9-8E2B1AC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8887-9041-4BAC-AADF-6DE3689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43A0-7392-427B-9739-C8A9AF72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7560-392D-4934-AB52-EDDA822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5666-BB63-40BD-AA52-2763FACA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A7346-34A6-40FA-B4B3-83841018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28B6-35D1-4B3F-85CC-B12D11C7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E09F-FDDA-43A3-9C35-E9539B81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C003-A7BF-482B-BA52-1921991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6F8-B5A8-46A8-91F3-91B6FD2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A9F-BC19-4915-B4B8-9D8941D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AC87-EFB4-465B-A9A6-8CF7FA5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4D2-7966-415D-BE86-5CE0407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8115-2197-4FF5-A01D-9F257E4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846-B8C3-4309-8345-5A88428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3CD-AA06-4E23-B3CC-C4149DF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5415-38F8-4BE4-9630-48FCE86E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4667-8873-47EE-AFC1-B3E85B2A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AB20-D0D0-4F19-919A-D93D90F9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0925-B61D-4337-9AAA-48FEA982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7C77-73FE-4B4E-B127-D9922AB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626F-56EC-4A8C-B79B-FBBADEF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6CF1-EE54-4868-A6AC-5022227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A24-686A-4B60-9B37-4F49374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E521-76B9-4C60-BA0E-8A60BF62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B80F-4CDA-4F88-AD1C-E967B2A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414F-1423-4CF8-8DAF-2B6E01F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A69D-5994-4C31-8D8F-B61BB48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7D47-915F-4A65-835F-A8B23BA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4176-1B0F-4FF1-8AB3-29FDF8DB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BC39-BE6A-4A44-917E-9B8D7451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2ACAE-FDD7-4F63-884A-C5238056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DBFC-58FA-4785-9486-192CB75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4734-3DE7-42C3-AFA8-115B7E1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871-E935-4222-BEE1-EBB9CD78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36E6-2244-432A-920E-3030EC7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FABC-BB2D-4D86-969D-21A0A07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3993-AF82-407F-922E-025F2C8E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1448-031A-44DF-A240-93CB3B8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D6CD-CE86-4464-B69F-24269BB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0699-4815-4C91-AC60-02DFBB6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28C2-5F03-4DF4-B3E5-49CF9F3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C1A1-A9F3-4466-9799-29BEAC47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EE3F-684D-4CAE-A799-53C48ADD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027C6-BC6B-4FC5-9D1B-42E0C9E0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3DF-C3E3-49C8-9EE1-DFB7E16E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13A5-8062-44D8-9D76-392908B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246B-839D-424D-817E-95295D7F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FB4B-5EDA-4495-9122-5516E8F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B723-91B3-4D40-AD2A-766FCACA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EDEF-8055-4030-B908-2987BA4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85D59-216F-4D92-B45F-E10DA39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62D4-DAFA-4E2C-80FD-26B214D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EE87-CF67-47E4-87F8-D3AB971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856E-ECF5-43CE-8B73-53D537F3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1AAD-7CD4-4475-8D7D-E6C3BD39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7D8-715B-4CE6-A9BA-696D4C9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0588-F503-443F-B676-B7E2FC6F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D2C6-0222-4AAF-8715-CE676187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47B5-A999-4ED6-A6D1-A7C2BB2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643B-8740-4424-8EBB-89C8E60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D636-5090-4263-A052-A2A0108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B38C6-DBB9-48AD-B172-7B951C78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A8BB-0DF7-4767-8833-2836E06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FD78-994E-43BA-A44F-B37807A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0FAA-87AD-405A-A51A-CA5EC3C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DB7B-135A-440A-84C2-E7498A1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626-99C6-4FD2-940C-8D68585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E688-F3C1-47E6-8634-291C113F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B5F9-BC31-40E3-8F31-C0D737B8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5E36-350C-46BC-A327-27038D18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44DE-D4D9-484F-9528-55618275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96D1-5139-43A0-81BA-C122183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4F25-D9F0-4CBF-9ADE-5198DB5F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9108-7273-46F8-87AE-EFD67B5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3D8B-2F41-424E-8AB4-78DBB4E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834D-B858-4F7D-840F-FAF665C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90E6-5BF2-4D0F-92D4-0DE64D7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E3A-BBF0-4613-89A3-FA52709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8C15-871D-4877-8D0A-B38FDD1E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3948-5BEF-41EF-811C-EDFA32F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FEFA-5FD2-4DD1-8C4B-7F901A6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4A60-1E11-43EC-8FB9-BD9F0F67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227D-E150-4BDA-A6BF-785550F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2A0BF-FA3D-4777-A44D-1816E15D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DFB7-8273-4057-BDD6-35F4E5D3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B240-60C6-4FF8-B143-61BAA6A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8678C-FB09-4B63-8BA5-A8E14A8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F21E-835C-4C47-9400-8A9AF2FD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3C9-2809-4821-A882-94CA28C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0F4F-4E17-49ED-9F1F-86BDDBE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7D2D-96CE-4B7F-81EE-D52E135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A5701-F903-4C66-8742-1E8C33F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F6D7-64F2-44EA-8224-1F0FAA5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91E4-569A-4333-991F-351E77E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D609-9D58-4AA0-A48F-F18F9F8C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8FE30-9849-4DE8-9081-A3DA293F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67727-B839-49F1-8547-8579E22D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0A24D-E880-439E-9414-A63AA04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41E2-4036-4740-A6D2-2FA3CF9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CC2-D3CF-4211-8329-2E34E3D84A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FCE-13DB-4989-928A-4E022FB0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-1440" y="1636560"/>
            <a:ext cx="9141840" cy="4618080"/>
            <a:chOff x="-1440" y="1636560"/>
            <a:chExt cx="9141840" cy="4618080"/>
          </a:xfrm>
        </p:grpSpPr>
        <p:pic>
          <p:nvPicPr>
            <p:cNvPr id="499" name="ARTHSEPA" descr=""/>
            <p:cNvPicPr/>
            <p:nvPr/>
          </p:nvPicPr>
          <p:blipFill>
            <a:blip r:embed="rId3"/>
            <a:stretch/>
          </p:blipFill>
          <p:spPr>
            <a:xfrm>
              <a:off x="5999760" y="6180120"/>
              <a:ext cx="314064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Arthsepa" descr=""/>
            <p:cNvPicPr/>
            <p:nvPr/>
          </p:nvPicPr>
          <p:blipFill>
            <a:blip r:embed="rId4"/>
            <a:stretch/>
          </p:blipFill>
          <p:spPr>
            <a:xfrm>
              <a:off x="-1440" y="1636560"/>
              <a:ext cx="44924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F4FF-C4C1-4F64-90C2-0CBC80CEDBC9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BEB-FD76-4CC3-B25B-2557318137C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543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5F9B-5D86-495C-B0A4-6D8A412BC003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3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3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68C-E79A-426B-B11B-23C226B81CD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1795-A0E8-43C3-9090-EFD9583275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D5F-D59A-428B-99D1-2DC8CEBF3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405-5BD3-42CE-B567-53E8547B0B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8A4A-00A8-4C15-AA48-7189E7D0C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106-56D0-42DA-860C-0325C0874D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4CB4-A519-4B94-BBB4-571EE9AF7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7CDC-0722-418B-A73F-448E9642D2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0E6E-97B6-423C-9829-2EFF72C6B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C83-5BE2-443A-94BA-52C9AD0F173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8632-A92F-4218-B7CA-AEE191A77A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08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63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16200000">
                <a:off x="666360" y="135900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368" name="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400000">
                <a:off x="8083080" y="5304600"/>
                <a:ext cx="24696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AB4-D0A8-4753-9535-DC97CF58364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DAA-82AE-4E03-874E-4A89EA3FD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1636560"/>
            <a:ext cx="9140400" cy="4618080"/>
            <a:chOff x="0" y="1636560"/>
            <a:chExt cx="9140400" cy="4618080"/>
          </a:xfrm>
        </p:grpSpPr>
        <p:pic>
          <p:nvPicPr>
            <p:cNvPr id="412" name="ARTHSEPA" descr=""/>
            <p:cNvPicPr/>
            <p:nvPr/>
          </p:nvPicPr>
          <p:blipFill>
            <a:blip r:embed="rId3"/>
            <a:stretch/>
          </p:blipFill>
          <p:spPr>
            <a:xfrm>
              <a:off x="6000120" y="6180120"/>
              <a:ext cx="314028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Arthsepa" descr=""/>
            <p:cNvPicPr/>
            <p:nvPr/>
          </p:nvPicPr>
          <p:blipFill>
            <a:blip r:embed="rId4"/>
            <a:stretch/>
          </p:blipFill>
          <p:spPr>
            <a:xfrm>
              <a:off x="0" y="1636560"/>
              <a:ext cx="449172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B7F-7DA4-4D50-A2EE-4603D765E33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A090-C00D-43FB-A6AB-11415B048D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6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dt" idx="25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F5C3-A78E-4708-9D5B-2B10D231D8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ftr" idx="26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27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938-A61D-42AD-8E5F-420EEFEB8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18960" y="-239760"/>
            <a:ext cx="9501120" cy="71262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24000" y="304560"/>
            <a:ext cx="82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微软简隶书"/>
              </a:rPr>
              <a:t>朗朗乾坤，谁能挣脱名缰利索的羁绊？滚滚红尘，谁又能拒绝高官厚禄的诱惑？但在中国文学史就有这样一个人，他有官不做，乐居田园，用自己的心灵书写了一曲曲动人的绝唱，他就是中国著名的隐逸诗人之宗，谁？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5981760" y="421956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3172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隶书"/>
                <a:ea typeface="隶书"/>
              </a:rPr>
              <a:t>题 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78200" y="3164040"/>
            <a:ext cx="495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归 去 来 兮 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6840" y="3973680"/>
            <a:ext cx="1393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38560" y="3956040"/>
            <a:ext cx="1311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3360" y="4430880"/>
            <a:ext cx="2819160" cy="761760"/>
          </a:xfrm>
          <a:prstGeom prst="wedgeEllipseCallout">
            <a:avLst>
              <a:gd name="adj1" fmla="val -46060"/>
              <a:gd name="adj2" fmla="val -134375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0560" y="44308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语气助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92360" y="198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去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912960" y="4202280"/>
            <a:ext cx="2057400" cy="914400"/>
          </a:xfrm>
          <a:prstGeom prst="wedgeEllipseCallout">
            <a:avLst>
              <a:gd name="adj1" fmla="val 48689"/>
              <a:gd name="adj2" fmla="val -9618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67240" y="421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78200" y="3164040"/>
            <a:ext cx="3851280" cy="838080"/>
          </a:xfrm>
          <a:prstGeom prst="ellipse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5651640" y="3368520"/>
            <a:ext cx="1079280" cy="481320"/>
          </a:xfrm>
          <a:prstGeom prst="ellipse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6920" y="1916280"/>
            <a:ext cx="3600720" cy="815760"/>
          </a:xfrm>
          <a:prstGeom prst="wedgeEllipseCallout">
            <a:avLst>
              <a:gd name="adj1" fmla="val -1541"/>
              <a:gd name="adj2" fmla="val 6634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5905440" y="117360"/>
            <a:ext cx="329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00"/>
                </a:solidFill>
                <a:latin typeface="Arial"/>
                <a:ea typeface="隶书"/>
              </a:rPr>
              <a:t>再 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1547640" y="1701720"/>
            <a:ext cx="5715000" cy="4122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1332000" y="6095880"/>
            <a:ext cx="662472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肥城一中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-1122480" y="-450720"/>
            <a:ext cx="10723680" cy="730872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关于“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分“序”和“辞”两节，“辞”是一种与“赋”相近的文体名称。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“序”说明了自己所以出仕和自免去职的原因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“辞”则抒写了归田的决心、归田时的愉快心情和归田后的乐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-243000" y="-181080"/>
            <a:ext cx="9353520" cy="70135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0" y="260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隶书简体"/>
              </a:rPr>
              <a:t>余家贫，耕植不足以自给。幼稚盈室，瓶无储粟。生生所资，未见其术。亲故多劝余为长吏，脱然有怀，求之靡途。会有四方之事，诸侯以惠爱为德。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隶书简体"/>
              </a:rPr>
              <a:t>家叔以余贫苦，遂见用于小邑。于时风波未静，心惮远役。彭泽去家百里，公田之利，足以为酒，故便求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-316080" y="119160"/>
            <a:ext cx="935208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微软简隶书"/>
                <a:ea typeface="微软简隶书"/>
              </a:rPr>
              <a:t>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幼稚：指孩童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瓶：指盛米用的陶制容器、如甏，瓮之类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生生：犹言维持生计。前一“生”字为动词，后一“生”字为名词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术：方法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长吏：较高职位的县吏。指小官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脱然：犹言豁然。有怀：有做官的念头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靡途：没有门路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四方之事：指出使外地的事情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诸侯：指州郡长官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家叔：指陶夔，曾任太常卿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风波：指军阀混战。［</a:t>
            </a:r>
            <a:r>
              <a:rPr b="1" lang="en-US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］彭泽：县名。在今江西省湖口县东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-171360" y="1440"/>
            <a:ext cx="9315360" cy="6991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36360" y="404640"/>
            <a:ext cx="880920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隶书简体"/>
              </a:rPr>
              <a:t>及少日，眷然有归欤之情。何则？质性自然，非矫厉所得。饥冻虽切，违己交病。尝从人事，皆口腹自役。于是怅然慷慨，深愧平生之志。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方正隶书简体"/>
              </a:rPr>
              <a:t>犹望一稔，当敛裳宵逝。寻程氏妹丧于武昌，情在骏奔，自免去职。仲秋至冬，在官八十余日。因事顺心，命篇曰：《归去来兮》。乙巳岁十一月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-316440" y="120600"/>
            <a:ext cx="942516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眷然：依恋的样子。归欤之情：回去的心情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质性：本性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违己：违反自己本心。交病：指思想上遭受痛苦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6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从人事：从事于仕途中的人事交往。指做官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7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口腹自役：为了满足口腹的需要而驱使自己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8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一稔（ｒ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ě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ｎ忍）：公田收获一次。稔，谷物成熟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9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敛裳：收拾行装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0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寻：不久。程氏妹：嫁给程家的妹妹。武昌：今湖北省鄂城县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1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骏奔：急着前去奔丧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2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仲秋：农历八月。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3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乙巳岁：晋安帝义熙元年［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405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）。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3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］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-171720" y="119160"/>
            <a:ext cx="90169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方正隶变简体"/>
              </a:rPr>
              <a:t>译文：我家贫穷，种田不能够自给。孩子很多，米缸里没有存粮。维持生活所需的一切，没有办法解决。亲友大都劝我去做官，我心里也有这个念头，可是求官缺乏门路。正赶上有奉使外出的差事，蒙江州刺史对我的厚爱，叔父也因为我家境贫苦，（替我设法）被委派到小县作官。那时社会上动荡不安，心里惧怕到远地当差。彭泽县离家一百里，公田收获的粮食，足够造酒饮用，所以就请求去那里。等到过了一些日子，便产生留恋故园的怀乡感情。那是为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-317520" y="117360"/>
            <a:ext cx="9353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3333ff"/>
                </a:solidFill>
                <a:latin typeface="方正隶变简体"/>
                <a:ea typeface="方正隶变简体"/>
              </a:rPr>
              <a:t>本性任其自然，这是勉强不得的；饥寒虽然来得急迫，但是违背本意去做官，身心都感痛苦。曾经为官做事，都是为了吃饭而役使自己。于是惆怅感慨，深深有愧于平生的志愿。仍然希望任职一年，便收拾行装连夜离去。不久，嫁到程家的妹妹在武昌去世，一心在于赶快去奔丧，自己请求免去官职。自立秋第二个月到冬天，在职共八十多天。就着这件事陈述自己的心意，写了一篇文章，题目叫《归去来兮》。这时候正是乙巳年（晋安帝义熙元年）十一月。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09080" y="190080"/>
            <a:ext cx="87361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行楷"/>
              </a:rPr>
              <a:t>思考：序讲了哪些内容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交代了文本写作的时间、背景，叙述了作者做官的经过和辞官的原因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09080" y="188640"/>
            <a:ext cx="87361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作者辞官的原因有哪些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　　</a:t>
            </a: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）质性自然，非矫厉所得。 （</a:t>
            </a:r>
            <a:r>
              <a:rPr b="0" lang="en-US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）饥冻虽切，违已交病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　　（</a:t>
            </a:r>
            <a:r>
              <a:rPr b="0" lang="en-US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）怅然慷慨，深愧平生之志。 （</a:t>
            </a:r>
            <a:r>
              <a:rPr b="0" lang="en-US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4</a:t>
            </a:r>
            <a:r>
              <a:rPr b="0" lang="zh-CN" sz="48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）程氏妹丧于武昌，情在骏奔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976560" y="2833560"/>
            <a:ext cx="1190880" cy="1190880"/>
          </a:xfrm>
          <a:prstGeom prst="rect">
            <a:avLst/>
          </a:prstGeom>
          <a:ln w="0">
            <a:noFill/>
          </a:ln>
        </p:spPr>
      </p:pic>
      <p:pic>
        <p:nvPicPr>
          <p:cNvPr id="590" name="dd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5943600" y="685800"/>
            <a:ext cx="29718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不能为五斗米，折腰向乡里小人</a:t>
            </a:r>
            <a:r>
              <a:rPr b="0" lang="en-US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《宋史 陶潜传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1371600" y="2349360"/>
            <a:ext cx="32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6360" y="117360"/>
            <a:ext cx="8809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微软简隶书"/>
              </a:rPr>
              <a:t>　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微软简隶书"/>
              </a:rPr>
              <a:t>作者在序中叙述了自己辞官的四个原因，这四个原因中哪个是根本原因，作者究竟想过什么样的生活，他有什么样的人生追求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一、学习第一自然段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生有节奏、有感情地集体朗读第一自然段，画出不理解的字词，讨论交流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773360"/>
            <a:ext cx="93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归去来兮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隶书"/>
              </a:rPr>
              <a:t>                   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隶书"/>
              </a:rPr>
              <a:t>陶渊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195640" y="4005360"/>
            <a:ext cx="72720" cy="968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191628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归去来兮，田园将芜胡不归！既自以心为形役，</a:t>
            </a: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惆怅而独悲？悟已往之不谏，知来者之可追。实迷途其未远，觉今是而昨非。舟遥遥以轻飏，风飘飘而吹衣。问征夫以前路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恨晨光之熹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054880" y="4762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归去来兮！田园将芜胡不归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339080" y="170028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来：助词，无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芜：荒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胡：疑问代词，为什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002680" y="4437000"/>
            <a:ext cx="493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回家去吧！田园快要荒芜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为什么不回去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830600" y="33336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既自以心为形役，奚惆怅而独悲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71080" y="836640"/>
            <a:ext cx="478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既：既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：认为，知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为：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奚：为什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而：连词，表并列关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54360" y="4724280"/>
            <a:ext cx="566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既然自己知道心志是被形体所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使，为什么如此失意而独自伤悲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545720" y="4046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悟已往之不谏，知来者之可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067640" y="126828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之：主谓之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谏：谏正，劝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追：挽救，弥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5076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54360" y="3645000"/>
            <a:ext cx="566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觉悟到过去做错了的事（指做官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已经不能改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知道未来的事（指归隐）还可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挽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545720" y="476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实迷途其未远，觉今是而昨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45640" y="134136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：对，正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而：连词，表并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非：错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75400" y="371628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实际上误入迷途还不算很远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觉悟到今天做的是对的昨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是错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918520" y="404640"/>
            <a:ext cx="35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舟遥遥以轻飏 ，风飘飘而吹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339080" y="134136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：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飏：舟慢行的样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而：连词，表修饰关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910160" y="393372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船在水面上轻轻地飘荡着前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和风徐徐吹拂着我的衣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54572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问征夫以前路，恨晨光之熹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07480" y="131436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征夫：行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：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之：主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47880" y="39337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行向人打听前面的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只恨晨光朦胧天不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08000" y="117360"/>
            <a:ext cx="8928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44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译文： 回去吧，田园快要荒芜了，为什么还不回！既然自认为心志被形体所役使，又为什么惆怅而独自伤悲？认识到过去的错误已经不可挽回，知道未来的事还来得及补救。实在是误入迷途还不算太远，已经觉悟到今天“是”而昨“非”。船在水面轻轻地飘荡着前进，微风徐徐地吹动着上衣。向行人打听前面的道路，遗憾的是天刚刚放亮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443480" y="0"/>
            <a:ext cx="4700520" cy="66294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250920" y="476280"/>
            <a:ext cx="51130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饮   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庐在人境，而无车马喧。问君何能尔？心远地自偏。采菊东篱下，悠悠见南山。山气日夕佳，飞鸟相与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此中有真意，欲辨已忘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5084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心远”是一种怎样的心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8686800" y="6095880"/>
            <a:ext cx="45720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108000" y="119160"/>
            <a:ext cx="89280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思考：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）本段讲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作者辞官的原因，回家途中的欣喜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）陶渊明辞官的原因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田园将芜”“心为形役”“已往不谏，来者可追”“迷途未远，今是昨非”。 这里的“心为形役”中的“心”和“役”，显然不能单纯理解为“心意”和“形体”，应该深入理解为“心”是“志趣人格”，“形”是作者“出仕为官”的这种行为。陶渊明和中国传统的读书人一样热爱自己的国家，立志报国，但是官场的争斗、现实的黑暗又是他深恶痛绝的。徘徊犹豫了很久之后，他最终还是决定归隐田园，回归自己的本性，过自由的生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他的心境如何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自责——田园将芜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自悔——已往不谏，来者可追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自觉、自醒——迷途未远，今是昨非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08000" y="118800"/>
            <a:ext cx="892800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合此诗和本段内容，可看出陶潜有什么样的情怀？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归园田居（其一）     陶渊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少无适俗韵，性本爱丘山。  误落尘网中，一去三十年。羁鸟恋旧林，池鱼思故渊。  开荒南野际，守拙归园田。  方宅十余亩，草屋八九间。  榆柳荫后檐，桃李罗堂前。  暧暧远人村，依依墟里烟。  狗吠深巷中，鸡鸣桑树颠。  户庭无尘杂，虚室有余闲。  久在樊笼里，复得返自然。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蔑视权贵，鄙弃官场，向往田园的隐士情怀。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-316080" y="117360"/>
            <a:ext cx="9460080" cy="67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结、体悟作者的感情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“辞”的开端以“归去来兮，田园将芜胡不归”的喟叹唤起全篇，平地拔起，直抒胸臆，以突兀峻峭的笔势表达了自己归田之志的坚决。回顾当初为了谋生而出仕，感到痛苦悲哀，所幸虽已“迷途”，但“迷途其未远”，回头还不迟。寥寥数句，既有沉痛的自白，又有愤怒的抗议；既是觉醒的宣言，又是对官场污浊的揭露，矛头直指封建官僚制度。在沉痛和愤怒之余，又不乏因决意归隐而欣然自得的意味。在这种感情的抒发中，“归去来兮”的原因也就蕴涵其中了。“舟遥遥”四句，将作者摆脱“樊笼”、复返自然的舒畅心情和归心似箭的感觉含蓄地表达出来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学习第二自然段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诵第二、自然段，注意节奏、语气和韵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生前后交流，解决字词问题，找出重点文言知识，并翻译。请学生回答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57200" y="-2376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朗读第二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08000" y="620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乃瞻衡宇，载欣载奔。僮仆欢迎，稚子候门。三径就荒，松菊犹存。携幼入室，有酒盈樽。引壶觞以自酌，眄庭柯以怡颜。倚南窗以寄傲，审容膝之易安。园日涉以成趣，门虽设而常关。策扶老以流憩，时矫首而遐观。云无心以出岫，鸟倦飞而知还。景翳翳以将入，抚孤松而盘桓。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44052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乃瞻衡宇，载欣载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32120" y="1268280"/>
            <a:ext cx="272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乃：语气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瞻：远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衡宇：简陋的房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载…载：一边…一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20960" y="43657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看见自己家的房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心中欣喜，奔跑过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497480" y="549360"/>
            <a:ext cx="72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童仆欢迎，稚子候门。三径就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松菊犹存。携幼入室，有酒盈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29242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仆人们欢欢喜喜出来迎接，小儿早就等候在屋门口。院子里的小路快要荒芜了，松菊还长在那里。带着幼儿们走进屋内，美酒已经满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29760" y="170028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：近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盈：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4545720" y="476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引壶觞以自酌，眄庭柯以怡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188960" y="1773360"/>
            <a:ext cx="77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引：拿过来，引申为端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以：来。眄：斜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柯：树枝。怡：使动用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830600" y="4724280"/>
            <a:ext cx="566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端起酒壶酒杯自斟自饮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观赏着庭树使我现出快乐的容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134080" y="40464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倚南窗以寄傲，审容膝之易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园日涉以成趣，门虽设而常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3760" y="1773360"/>
            <a:ext cx="47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审：觉察，自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涉：涉足，走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而：转折连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4840" y="3716280"/>
            <a:ext cx="588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倚着南窗寄托我的傲世之情，（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觉得这狭小之地容易使我心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小园的门经常地关闭着，每天（独自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在园中散步兴味不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594320" cy="5867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762120" cy="7113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124000" y="54936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心远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09800" y="1463760"/>
            <a:ext cx="55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一种远离尘世、自得自乐于自然的隐士心境，也是追求自由的隐士情怀的表露，更是一种遗世独立的人格魅力的体现，是中国古代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士大夫精神上的—个归宿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545720" y="476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策扶老以流憩，时矫首而遐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66720" y="1268280"/>
            <a:ext cx="77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策：拄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扶老：手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矫：举。遐：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57960" y="3645000"/>
            <a:ext cx="493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拄着拐杖走走歇歇，时时抬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望着远方（的天空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134080" y="40464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云无心以出岫，鸟倦飞而知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景翳翳以将入，抚孤松而盘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97120" y="184464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岫：山穴。景：太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翳翳：昏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02520" y="3500280"/>
            <a:ext cx="554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云自然而然地从山穴里飘浮出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倦飞的小鸟也知道飞回巢中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日光暗淡，即将落山，我流连不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离去，手抚着孤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-316440" y="120600"/>
            <a:ext cx="964116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译文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方正铁筋隶书简体"/>
              </a:rPr>
              <a:t>刚刚看见了自家的房子，一边高兴，一边奔跑。童仆欢喜地前来迎接，幼儿迎候在家门。庭院小路虽将荒芜，却喜园中松菊还存。我拉着幼儿走进内室，屋里摆着盛满酒的酒樽。拿过酒壶酒杯来自斟自饮，看看院子里的树木，觉得很愉快。靠着南窗寄托着我的傲世情怀，深知住在小屋里反而容易安适。天天在园子里散步自成乐趣，尽管设有园门却常常闭关。拄着手杖或漫步或悠闲地随处休息，不时地抬起头来向远处看看。云烟自然而然地从山洞飘出，鸟儿飞倦了也知道回还。日光渐暗太阳将快要下山，我抚摸着孤松而流连忘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09080" y="118800"/>
            <a:ext cx="873612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探究讨论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第一自然段最后表现出了作者回家途中欣喜和急迫的感情，第二自然段中，到家后，作者感情又有什么新的表现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载欣载奔”“童仆欢迎，稚子候门”，可感悟出主仆俱迎，妻子皆乐的情景，尤其具有情味的是妻子，不好意思出来迎接，但由“有酒盈樽”可知妻子比谁都盛情，所有的感情都融合在她默默地劳动之中了。多好的一幅天伦之乐图啊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107640" y="45720"/>
            <a:ext cx="900108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）到家后衣食住行又是怎样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引壶觞以自酌……抚孤松而盘桓”，既有室中之乐，也有园中之乐，这是真正的隐士之乐，和刘禹锡《陋室铭》中的“斯是陋室，唯吾德馨”异曲同工。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  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由此，第二自然段可以划分为两个层次，抵家时的狂喜，家人团聚其乐融融和居家生活的闲适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7572"/>
                </a:solidFill>
                <a:latin typeface="方正隶书简体"/>
                <a:ea typeface="方正隶书简体"/>
              </a:rPr>
              <a:t>“三径就荒，松菊犹存”蕴涵着作者什么样的感情？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-173520" y="1257120"/>
            <a:ext cx="920916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（家园的小径都快荒芜了，但是松菊还在那里傲然挺立。这里有对久违的田园生活的向往，有恨自己不早归来以致家园荒芜的感叹，更重要的是“松菊犹存”比喻的是自己高洁的品格。松四季常青，也是作者的品质长存，菊傲然怒放于寒秋，也是作者的傲岸独立、不与世俗同流合污的品质的体现。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36360" y="45720"/>
            <a:ext cx="907272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4</a:t>
            </a:r>
            <a:r>
              <a:rPr b="0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）从此段中又可以看出陶渊明有什么样的隐士情怀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从“室中之乐”到“园中之乐”，创造了一个安乐闲适、自由自在的意境，这就是作者想要的生活方式，也符合作者“质性自然”的本性，同时抒发了作者洁身自好、孤芳自赏的情怀。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09080" y="119160"/>
            <a:ext cx="873612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方正隶书简体"/>
              </a:rPr>
              <a:t>三、学习第三自然段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方正隶书简体"/>
              </a:rPr>
              <a:t>1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方正隶书简体"/>
              </a:rPr>
              <a:t>、相互交流疏通字词，并翻译课文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1206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朗读第三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946080"/>
            <a:ext cx="844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cc6600"/>
                </a:solidFill>
                <a:latin typeface="方正隶书简体"/>
                <a:ea typeface="方正隶书简体"/>
              </a:rPr>
              <a:t>归去来兮，请息交以绝游。世与我而相违，复驾言兮焉求？悦亲戚之情话，乐琴书以消忧。农人告余以春及，将有事于西畴。或命巾车，或棹孤舟。既窈窕以寻壑，亦崎岖而经丘。木欣欣以向荣，泉涓涓而始流。善万物之得时，感吾生之行休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76920" y="40464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归去来兮，请息交以绝游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世与我而相违，复驾言兮焉求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39680" y="1700280"/>
            <a:ext cx="45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违：不相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言：语气助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焉求：何所求，求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59480" y="3933720"/>
            <a:ext cx="530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回来呀！我要跟世俗之人断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交游。他们的一切都跟我的志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不合，再驾车出去又有何求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209480" y="404640"/>
            <a:ext cx="49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Arial"/>
                <a:ea typeface="华文新魏"/>
              </a:rPr>
              <a:t>归去来兮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华文新魏"/>
              </a:rPr>
              <a:t>陶渊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134080" y="4762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悦亲戚之情话，乐琴书以消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335680" y="1413000"/>
            <a:ext cx="509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悦：意动用法，以…为喜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情话：知心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乐：意动用法，以…为快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67920" y="414972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跟乡里故人谈心何等可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弹琴读书来将愁颜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4425120" y="404640"/>
            <a:ext cx="47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农人告余以春及，将有事于西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或命巾车，或棹孤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91280" y="1773360"/>
            <a:ext cx="72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以：介词，把。于：介词，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或：有时。命：命令，引申为驾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棹：船浆，这里用做动词，划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0760" y="407664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农人把春天来到的消息告诉了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将要去西边的田地耕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时驾着巾车，有时划着孤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34080" y="4762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既窈窕以寻壑，亦崎岖而经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54720" y="1844640"/>
            <a:ext cx="348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窈窕：幽深曲折的样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壑：山谷。经：登上，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既…亦：既要…又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71640" y="465300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既要探寻那幽深的沟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又要走过那高低不平的山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545720" y="476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木欣欣以向荣，泉涓涓而始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263480" y="1413000"/>
            <a:ext cx="45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：表修饰关系的连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涓涓：泉水细流不断的样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：表修饰关系的连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256280" y="4797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树木欣欣向荣，泉水缓缓流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4545720" y="476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善万物之得时，感吾生之行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047480" y="1628640"/>
            <a:ext cx="45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善：喜欢，羡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：助词，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休：将要结束，指要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12360" y="4365720"/>
            <a:ext cx="128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羡慕自然界的一切生物及时生长繁荣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感叹我的一生将要过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107640" y="118800"/>
            <a:ext cx="878508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回去吧，我要断绝与外人的交游。既然世俗与我的志趣相背离，我还驾车出游有什么可求？跟乡里故人谈心叫人心情欢悦，以抚琴读书为快乐来解闷消愁。农夫告诉我春天到了，将要到西边的田地耕作。有时驾着巾车，有时划着孤舟。既要沿着幽深曲折的溪流探寻山谷，又要沿着崎岖不平的小路登上山丘。树木长得欣欣向荣，泉水涓涓长流。我羡慕万物各得其时，感叹自己的一生行将结束。 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06360" y="333000"/>
            <a:ext cx="8539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诵读第四段，注意思考，第三段接第二段继续表现作者的隐士情怀，他是通过什么来表现的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作者通过乡村的生活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6360" y="118800"/>
            <a:ext cx="9072720" cy="67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、本段开头两句表达了作者什么样的心意？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方正隶书简体"/>
                <a:ea typeface="方正隶书简体"/>
              </a:rPr>
              <a:t>（以“归去来兮”引出描写和感叹。作者重回久违的田园，更坚定了躬耕的决心，并流露出要与世俗相忘之意，以“息交以绝游”进一步表示对当权者和官场生活的鄙弃。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109080" y="119160"/>
            <a:ext cx="873612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3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、学生探究思考，本段中陶潜隐居乡村的生活乐趣，从哪些方面可以看出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  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（</a:t>
            </a: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）促膝而谈的家庭之乐——悦亲戚之情话；    （</a:t>
            </a: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2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）弹琴消忧的本色生活——乐琴书以消忧；    （</a:t>
            </a: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3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）与乡邻交往之乐——告余春及，有事西畴；    （</a:t>
            </a: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4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）巾车孤舟出游之乐——窈窕寻壑，崎岖经丘。  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6000" y="118800"/>
            <a:ext cx="899964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中国士大夫写劳动，都是倡导别人去劳动，自己是旁观者，王维、孟浩然虽擅长山水田园之作，然而却没有陶渊明这样真正的躬耕农亩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 “种豆南山下，草盛豆苗稀。晨兴理荒秽，带月荷锄归。”   “开春理常业，岁功聊可观。晨出肆微勤，日人负来还。”   “温原长如此，躬耕非所叹。”  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时复墟曲中，披草共来往。相见无杂言，但道桑麻长。” 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2556000" y="1267920"/>
            <a:ext cx="612144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陶潜，又名</a:t>
            </a:r>
            <a:r>
              <a:rPr b="1" lang="en-US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</a:t>
            </a: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字元亮，</a:t>
            </a:r>
            <a:r>
              <a:rPr b="1" lang="en-US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(</a:t>
            </a: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朝代），田园诗人，浔阳柴桑人。后人称之为“</a:t>
            </a:r>
            <a:r>
              <a:rPr b="1" lang="en-US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___”</a:t>
            </a: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又自称“</a:t>
            </a:r>
            <a:r>
              <a:rPr b="1" lang="en-US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___”</a:t>
            </a: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012000" y="126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95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靖节先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16360" y="4941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柳先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53200" y="19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东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2916360" cy="60483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2286000" y="5877000"/>
            <a:ext cx="6858000" cy="7318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08000" y="118800"/>
            <a:ext cx="892800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隶书简体"/>
              </a:rPr>
              <a:t>　陶潜是中国士大夫中第一个劳动实践者，此乃其躬耕田园，诗酒琴书的隐士情怀。在早出晚归的辛勤耕作中，诗人与劳动人民的关系更为密切，对劳动人民的感情也更为真挚。从这些诗中，读者可以看出，在这种闲适的田园生活中，诗人心情自然而宁静，达到了心灵发展的真正和谐的境地，这才是真正的归隐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6000" y="117360"/>
            <a:ext cx="89996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方正隶书简体"/>
              </a:rPr>
              <a:t>小结：此段在描写和叙述中饱含感情。虽然有低沉的感叹，也有及时行乐之意，但基调仍是乐观、旷达的。此段寓情于景、于物、于事之中，最后两句触景生情，自然引出末段的抒情议论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方正隶书简体"/>
              </a:rPr>
              <a:t>四、学习第四自然段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隶书简体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已矣乎！寓形宇内复几时！曷不委心任去留？胡为乎遑遑欲何之？富贵非吾愿，帝乡不可期。怀良辰以孤往，或植杖而耘耔。登东皋以舒啸，临清流而赋诗。聊乘化以归尽，乐天天命复奚疑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022480" y="40464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已以乎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寓形宇内复几时，曷不委心任去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99080" y="1700280"/>
            <a:ext cx="45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以乎：算了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宇内：天地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曷：为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委：随，顺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08160" y="443700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算了吧！寄身于天地之间还能有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候？何不随心所欲地生活而不用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生死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601360" y="40464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胡为乎遑遑欲何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富贵非吾愿，帝乡不可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46400" y="187164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：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期：至，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045520" y="4149720"/>
            <a:ext cx="48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为什么心神不定啊，想要到哪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去呢？富贵不是我所求，神仙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住的地方没法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4172040" y="476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怀良辰以孤往，或植杖而耘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12040" y="1674720"/>
            <a:ext cx="47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耘：锄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耔：培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02680" y="4365720"/>
            <a:ext cx="493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爱惜美好的时光，独自出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时在田里锄草培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245120" y="476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登东皋以舒啸，临清流而赋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06280" y="148428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皋：高敞之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舒啸：高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26400" y="378936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登上东边山坡我放声长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傍着清清的溪流把诗歌吟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43880" y="40464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聊乘化以归尽，乐夫天命复奚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59640" y="1268280"/>
            <a:ext cx="47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聊：姑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奚：为什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30880" y="3716280"/>
            <a:ext cx="530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姑且顺着自然的变化，度到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的尽头，乐安天命，还犹疑什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180720" y="189000"/>
            <a:ext cx="8583480" cy="61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算了吧！寄身于天地间还有多少时日！为什么不按照自己心意或去或留？为什么心神不定还想去什么地方？企求富贵不是我的心愿，寻觅升入仙境也没有希望。爱惜那良辰美景我独自去欣赏，或者就扶杖除草培苗。登上东边的高岗放声长啸，面对清清的流水吟诵诗篇。姑且顺应造化了结一生，乐天安命（以天命为乐）还有什么可怀疑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052800" y="691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900" spc="-1" strike="noStrike">
                <a:solidFill>
                  <a:srgbClr val="007572"/>
                </a:solidFill>
                <a:latin typeface="Arial"/>
                <a:ea typeface="华文新魏"/>
              </a:rPr>
              <a:t>辞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辞是战国后期楚国诗人</a:t>
            </a: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_______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在楚地民歌的基础上创造出来的一种新诗体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特点： </a:t>
            </a: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_________________ , 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四句为一小节，两句为一组；以</a:t>
            </a: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_____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字句为主，多用语气词“兮”，每句三拍。重在抒情，一般要押韵，有的还可歌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0360" y="148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05280" y="3429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式自由，句式散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20000" y="41497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78920" y="43920"/>
            <a:ext cx="873468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（１）开头两句的感慨有何深意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ff"/>
              </a:buClr>
              <a:buFont typeface="方正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方正隶书简体"/>
                <a:ea typeface="方正隶书简体"/>
              </a:rPr>
              <a:t>（“已矣乎！寓形宇内复几时？曷不委心任去留！”这是作者抒发感慨，也是他再一次表明自己的决心，也是以另一种形式对丑恶现实的谴责和抗议。）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108000" y="118800"/>
            <a:ext cx="885672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ff"/>
              </a:buClr>
              <a:buFont typeface="方正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方正隶书简体"/>
                <a:ea typeface="方正隶书简体"/>
              </a:rPr>
              <a:t>（２）“富贵”六句写出了什么样的内容？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方正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（“富贵非吾愿，帝乡不可期”是作者的人生态度；“怀良辰以孤往，或植杖而耘耔。登东皋以舒啸，临清流而赋诗”则是作者所追求的生活境界。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8000" y="118800"/>
            <a:ext cx="885672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方正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（３）讨论：如何正确理解结尾处两句话“聊乘化以归尽，乐夫天命复奚疑”？  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方正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方正隶书简体"/>
                <a:ea typeface="方正隶书简体"/>
              </a:rPr>
              <a:t>（陶渊明顺应自然，乐夫天命超生死，“乐天安命”的思想，即弃绝世情，回归自然，顺应自然地生活下去，直至生命终结。它有别于“立德”“立功”留名于世的儒学家，也有别于炼丹学道求长生的道学家，这里边有他遗世独立、超脱生死的旷达乐观精神。作者以此二句作为结语，点出全篇主旨。他的处世态度和人生哲学在此段得以充分的体现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01280" y="1600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承上而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94520" y="1295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委心任去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9452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遑遑欲何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7600" y="3048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</a:rPr>
              <a:t>自我解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88040" y="2727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富贵浮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364000" y="342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恬然自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572840" y="4495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中宋"/>
              </a:rPr>
              <a:t>卒章显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48160" y="4648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乐天安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1371600"/>
            <a:ext cx="304920" cy="1295280"/>
          </a:xfrm>
          <a:custGeom>
            <a:avLst/>
            <a:gdLst>
              <a:gd name="textAreaLeft" fmla="*/ 89640 w 304920"/>
              <a:gd name="textAreaRight" fmla="*/ 305280 w 3049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0" y="2895480"/>
            <a:ext cx="304920" cy="1219320"/>
          </a:xfrm>
          <a:custGeom>
            <a:avLst/>
            <a:gdLst>
              <a:gd name="textAreaLeft" fmla="*/ 89640 w 304920"/>
              <a:gd name="textAreaRight" fmla="*/ 305280 w 3049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57600" y="4800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657600" y="3276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657600" y="1905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137440" y="588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2362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38098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60520" y="262908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37560" y="342900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179840" y="2787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Times New Roman"/>
              </a:rPr>
              <a:t>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17984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Times New Roman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374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7623000" y="5189400"/>
            <a:ext cx="15210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总结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762120" y="33336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6920" y="475920"/>
            <a:ext cx="770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叙事线索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辞官—归途—抵家—室内生活—涉园—外出—纵情山水—如何度过余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抒情线索则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自责自恕—自安自乐—乐天安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76880" cy="685800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700360" y="47628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ff00"/>
                </a:solidFill>
                <a:latin typeface="Arial"/>
              </a:rPr>
              <a:t>现在像诗人一样闭上眼睛，让美好的文字牵引我们的心情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59280" y="333360"/>
            <a:ext cx="287280" cy="1295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7280" y="1916280"/>
            <a:ext cx="865080" cy="3313080"/>
          </a:xfrm>
          <a:custGeom>
            <a:avLst/>
            <a:gdLst>
              <a:gd name="textAreaLeft" fmla="*/ 552600 w 865080"/>
              <a:gd name="textAreaRight" fmla="*/ 865440 w 86508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11640" y="1628640"/>
            <a:ext cx="503280" cy="2305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788000" y="4508640"/>
            <a:ext cx="360360" cy="2060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3640 h 2060280"/>
              <a:gd name="textAreaBottom" fmla="*/ 2006640 h 206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1280" y="836640"/>
            <a:ext cx="610920" cy="6021360"/>
          </a:xfrm>
          <a:custGeom>
            <a:avLst/>
            <a:gdLst>
              <a:gd name="textAreaLeft" fmla="*/ 390240 w 610920"/>
              <a:gd name="textAreaRight" fmla="*/ 611280 w 610920"/>
              <a:gd name="textAreaTop" fmla="*/ 156960 h 6021360"/>
              <a:gd name="textAreaBottom" fmla="*/ 5864400 h 602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 rot="5400000">
            <a:off x="-1746360" y="3230280"/>
            <a:ext cx="4176720" cy="6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归去来兮辞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8000" y="1773360"/>
            <a:ext cx="3686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归途（归心似箭）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788000" y="306864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室内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788000" y="2349360"/>
            <a:ext cx="3771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抵家（欣喜之情）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59280" y="3716280"/>
            <a:ext cx="1228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园中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187280" y="836640"/>
            <a:ext cx="17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辞官归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971640" y="3284640"/>
            <a:ext cx="1828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田园生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187280" y="5877000"/>
            <a:ext cx="201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乐天安命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564000" y="0"/>
            <a:ext cx="2303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自责之词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492360" y="981000"/>
            <a:ext cx="24480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安慰之词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03640" y="2276640"/>
            <a:ext cx="9144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居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564000" y="4724280"/>
            <a:ext cx="107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出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5364000" y="47242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心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5364000" y="5229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交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5435640" y="5805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出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5292720" y="6400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所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75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5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75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7440" y="1141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课堂知识要点小结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304920" y="911160"/>
            <a:ext cx="8731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3816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携幼入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眄庭柯以怡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园日涉以成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策扶老以流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矫首而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悦亲戚之情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乐琴书以消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乐琴书以消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棹孤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善万物之得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19320" y="260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作名，幼儿，儿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39240" y="83664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使动，使……愉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400640" y="155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作状，每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73720" y="2133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作动，拄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00640" y="2781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作状，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486320" y="342900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意动，以……为愉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94880" y="407664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意动，以……为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32040" y="479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作动，弹琴，读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00640" y="5445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作动，划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97560" y="602136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容词意动，以……为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230040" y="-169920"/>
            <a:ext cx="9340560" cy="699768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重  点  句  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农人告余以春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将有事于西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复驾言兮焉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胡为乎遑遑欲何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既自以心为形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-388800" y="1262160"/>
            <a:ext cx="964224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陶渊明四十一岁那年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公元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405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年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最后一次出仕，做了八十五天的彭泽令。据《宋书</a:t>
            </a:r>
            <a:r>
              <a:rPr b="1" lang="en-US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陶潜传》和萧统《陶渊明传》云，陶潜归隐是出于对腐朽现实的不满。当时郡里一位督邮来彭泽巡视，要他束带迎接，以示敬意，他气愤地说：“我不能爲五 斗米折腰向乡里小人。”即日解绶去职，归家途中写下与官场决裂的宣言书，即《归去来兮辞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方正隶书简体"/>
                <a:ea typeface="方正隶书简体"/>
              </a:rPr>
              <a:t>（这篇文章前面有序，叙述他家贫出仕      和弃官归田的经过。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11280" y="117000"/>
            <a:ext cx="8231040" cy="1143000"/>
          </a:xfrm>
          <a:prstGeom prst="rect">
            <a:avLst/>
          </a:prstGeom>
          <a:blipFill rotWithShape="0">
            <a:blip r:embed="rId2"/>
            <a:stretch/>
          </a:blip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写作背景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本文出现了五个疑问代词，请找出来，分析它们的词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田园将芜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归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为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惆怅而独悲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为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复驾言兮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求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委心任去留（何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乎遑遑欲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何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为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哪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-236520" y="-169920"/>
            <a:ext cx="9380520" cy="7027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文言虚词：以、而、之、兮、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5280" y="1844280"/>
            <a:ext cx="87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悟已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不谏，知来者之可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恨晨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熹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悦亲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情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善万物之得时，感吾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行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胡为乎遑遑欲何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0" dur="20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3" dur="20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20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704160" y="106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295280" y="68580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175120" y="45720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觉今是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昨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门虽设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常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矫首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遐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倦飞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41520" y="0"/>
            <a:ext cx="91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8380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419720" y="8380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419720" y="13716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28200" y="4114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743200"/>
            <a:ext cx="533520" cy="3429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181960" y="2438280"/>
            <a:ext cx="188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既自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为形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遥遥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农人告余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壶觞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聊乘化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归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日涉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木欣欣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向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征夫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前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乐琴书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消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2514600"/>
            <a:ext cx="264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介词，使，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介词，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介词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，表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，表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，表结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连词，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343400" y="327672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572000" y="335232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91120" y="41911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91120" y="4724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267080" y="525780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191120" y="4876920"/>
            <a:ext cx="16761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267080" y="3809880"/>
            <a:ext cx="16765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267080" y="43434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微软简隶书"/>
              </a:rPr>
              <a:t>名句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52360" y="1180800"/>
            <a:ext cx="86407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1</a:t>
            </a:r>
            <a:r>
              <a:rPr b="0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、“悟已往之不谏，知来者之可追。”在文中作者以此宽慰自己。作者觉悟到过去出仕之事做错了，已经不能改正，但知道未来之事（指归隐）还可以挽救。此句在文中有明确所指，然独立看，也可用于不要沉溺于往事的感伤，凡事应当往前看，抛却过去，把握未来之语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107640" y="117360"/>
            <a:ext cx="8929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2</a:t>
            </a:r>
            <a:r>
              <a:rPr b="0" lang="zh-CN" sz="48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、“云无心以出岫，鸟倦飞而知还。”用“无心”、“知”两词，将云、鸟人格化，使作者之情投射于物，物与人融合一体。充分表现了作者对自然率直、朴真的情感。从中可以感知自然是人情感之对象，自然着上人之色彩，便有了精神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180720" y="188640"/>
            <a:ext cx="878364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3</a:t>
            </a:r>
            <a:r>
              <a:rPr b="0" lang="zh-CN" sz="48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、“木欣欣以向荣，泉涓涓而始流。”此句为作者出游时所见的初春生机勃勃之景象，是实景，也是心景。早春光景，见归来之可乐，万物蓬勃，使作者亦心生生命短暂之感慨。披迹寻求，了悟生命之意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108000" y="119160"/>
            <a:ext cx="885672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ff"/>
              </a:buClr>
              <a:buFont typeface="方正铁筋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方正铁筋隶书简体"/>
                <a:ea typeface="方正铁筋隶书简体"/>
              </a:rPr>
              <a:t>4</a:t>
            </a:r>
            <a:r>
              <a:rPr b="1" lang="zh-CN" sz="4800" spc="-1" strike="noStrike">
                <a:solidFill>
                  <a:srgbClr val="3333ff"/>
                </a:solidFill>
                <a:latin typeface="方正铁筋隶书简体"/>
                <a:ea typeface="方正铁筋隶书简体"/>
              </a:rPr>
              <a:t>、“登东皋以舒啸，临清流而赋诗。”登上东边的高冈而放声长啸，面对清澈的流水而把诗歌吟唱。作者以此句表达自己隐居田园，快然自足，读之“素怀洒落，逸气流行”。用之面对自然，豪情满怀，心生壮阔之志，亦未不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181080" y="117360"/>
            <a:ext cx="8928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微软简隶书"/>
              </a:rPr>
              <a:t>练习对对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微软简隶书"/>
              </a:rPr>
              <a:t>教师出上联，上联要求在文中提取词句组合而成；学生对下联，对句亦应在文中提取词句组合而成。只要大致能对则成，不求工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上联例：小径松菊，一杯清酒名可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此联用了“三径就荒，松菊犹存”、“有酒盈樽”、“引壶觞以自酌”三句；“名可越”点明作者胸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对句例：流云丘壑，数点倦鸟亦舒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80720" y="1980720"/>
            <a:ext cx="878364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此对句用“云无心以出岫，鸟倦飞而知还”、“既窈窕以寻壑，亦崎岖而经丘”两句，“亦舒心”点明作者归田园之心情。</a:t>
            </a:r>
            <a:r>
              <a:rPr b="0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又例：稚子亲邻，几言情话忧能消。</a:t>
            </a:r>
            <a:r>
              <a:rPr b="0" lang="zh-CN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此对句用“稚子候门”、“悦亲戚之情话，乐琴书以消忧”两句，虽对稚子恐难曰情话，但亦差可对矣。</a:t>
            </a:r>
            <a:r>
              <a:rPr b="0" lang="zh-CN" sz="3600" spc="-1" strike="noStrike">
                <a:solidFill>
                  <a:srgbClr val="ff0000"/>
                </a:solidFill>
                <a:latin typeface="微软简隶书"/>
                <a:ea typeface="微软简隶书"/>
              </a:rPr>
              <a:t>又例：清流皋畴，几首小诗气能清。</a:t>
            </a:r>
            <a:r>
              <a:rPr b="0" lang="zh-CN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此对句用“登东皋以舒啸，临清流而赋诗”、“将有事于西畴”两句，庶见能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590920" y="914400"/>
            <a:ext cx="464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行楷"/>
              </a:rPr>
              <a:t>归去来兮辞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学习要点：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99ff33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）理解感知，把握大意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99ff33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）品味揣摩，体会感情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99ff33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99ff33"/>
                </a:solidFill>
                <a:latin typeface="宋体"/>
              </a:rPr>
              <a:t>）了解特点，熟读成诵。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组对联。由学生联缀文中词句而成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引壶觞，眄庭柯，涉园成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携稚子，倚南窗，观日融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登东皋，临清流，赋诗以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悦亲戚，乐琴书，情话消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僮仆稚子，亲戚农人，此中有人伦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松菊倦鸟，巾车孤舟，其间寄田园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07640" y="46080"/>
            <a:ext cx="89298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悬求对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1</a:t>
            </a:r>
            <a:r>
              <a:rPr b="1" lang="zh-CN" sz="54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、不求富贵，不期帝乡，只求乘化以归尽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   </a:t>
            </a:r>
            <a:r>
              <a:rPr b="1" lang="en-US" sz="54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2</a:t>
            </a:r>
            <a:r>
              <a:rPr b="1" lang="zh-CN" sz="54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、  向荣之木，始流之泉，万物皆得时令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3600" cy="685800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14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8360" y="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简隶书"/>
              </a:rPr>
              <a:t>延伸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微软简隶书"/>
              </a:rPr>
              <a:t>尝试写一首古诗，律诗绝句均可，最好与原文情绪一致，可写出田园风物之盛，亦可写人格人性之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611280" y="57340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7380360" y="364500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5580000" y="12682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>
            <a:off x="4356000" y="605808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324000" y="1989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山莺知倦啼又止，掩翅斜飞入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生只羡归林日，却无闲田似旧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318400" y="357336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经宵无睡天愈爽，雨后和风倍添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何不释卷拾春色，宁可抛书嗅草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6"/>
          <a:stretch/>
        </p:blipFill>
        <p:spPr>
          <a:xfrm>
            <a:off x="8344080" y="5084640"/>
            <a:ext cx="799920" cy="800280"/>
          </a:xfrm>
          <a:prstGeom prst="rect">
            <a:avLst/>
          </a:prstGeom>
          <a:ln w="0">
            <a:noFill/>
          </a:ln>
        </p:spPr>
      </p:pic>
      <p:grpSp>
        <p:nvGrpSpPr>
          <p:cNvPr id="874" name=""/>
          <p:cNvGrpSpPr/>
          <p:nvPr/>
        </p:nvGrpSpPr>
        <p:grpSpPr>
          <a:xfrm>
            <a:off x="826920" y="260280"/>
            <a:ext cx="720720" cy="720720"/>
            <a:chOff x="826920" y="260280"/>
            <a:chExt cx="720720" cy="720720"/>
          </a:xfrm>
        </p:grpSpPr>
        <p:pic>
          <p:nvPicPr>
            <p:cNvPr id="875" name="" descr=""/>
            <p:cNvPicPr/>
            <p:nvPr/>
          </p:nvPicPr>
          <p:blipFill>
            <a:blip r:embed="rId7"/>
            <a:stretch/>
          </p:blipFill>
          <p:spPr>
            <a:xfrm>
              <a:off x="826920" y="260280"/>
              <a:ext cx="720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 txBox="1"/>
            <p:nvPr/>
          </p:nvSpPr>
          <p:spPr>
            <a:xfrm>
              <a:off x="826920" y="260280"/>
              <a:ext cx="72072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6095880"/>
            <a:ext cx="77724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1480" y="343044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简隶书"/>
              </a:rPr>
              <a:t>晚香正放萤正飞，漏滴欲尽天欲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简隶书"/>
              </a:rPr>
              <a:t>乱云瞠目无心睡，孤峰斜指小翠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6720" y="124956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简隶书"/>
              </a:rPr>
              <a:t>深巷无人闻犬吠，推门唤子子不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简隶书"/>
              </a:rPr>
              <a:t>始信乡中无日月，乐得垂首浣茶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舞一曲淡泊  遗万世芬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22200" y="1485720"/>
            <a:ext cx="93600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外面雷打大地轰轰隆隆，似乎是你那个朝代的反响，也提醒我此时笔下的你多么的惊天动地。而我也觉得此时这种心情写下你的那种淡泊刚刚好，因为你那时的田园必定有无限的好风光，而雨打后的面貌必定焕然一新。    该如何在喧嚣的尘世中让自己内心的积郁坦然？又该如何在繁华的都市里让自己浮躁的心灵宁静？穿越时间界限，不妨回到那时的南野中游荡，与寂寞的诗魂倾心交谈，或许能让甘泉通过荒漠汇成绿洲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107640" y="119160"/>
            <a:ext cx="90010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方正铁筋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方正铁筋隶书简体"/>
                <a:ea typeface="方正铁筋隶书简体"/>
              </a:rPr>
              <a:t>你的世界内外皆天堂！    已经家徒四壁了，无奈的望着操劳的妻，望着渴求的儿。迫于生计，怀抱满腹经纶，依依惜别了故乡的青山绿水，奔走仕途。可时局动荡仕途险恶，你又怎肯降志辱身同一些官场人物周旋。这是别人羡慕你的人生，是啊！你归隐田园，品乡间淡酒，观风中寒菊，活的多么潇洒自在；然而，却没人知你内心的无奈，你也有济世的抱负，但无从施展。在那个昏暗的时代，容不下你这铮铮的巍然风骨，于是你在无尽的无奈中选择逃离世俗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6360" y="46080"/>
            <a:ext cx="900144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方正铁筋隶书简体"/>
              </a:rPr>
              <a:t>当你吟着《归去来兮》一路踏歌而来，历史的画面在那一刻又那样的清晰，五斗米又怎样？男儿铮铮怎可让心灵沉淀上俗世的繁华？看吧！即使世俗的围墙挡住你万丈豪情，却也挡不住你铿锵的步伐。是啊！你的五斗诗魂风雨带着憧憬，来到清幽山涧，万丈红光透过云雾照射在晋代的山乡小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-395280" y="119160"/>
            <a:ext cx="95011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滚滚红尘，道不尽的爱恨情愁；芸芸众生，谁能乘云归去？与其在世间打磨，不如畅饮山巅共红日沉浮，南山下的松菊映着一张沧桑而似花笑容的脸，世与我而相违，复驾言兮焉求。污浊的尘世，无尽的诱惑，这些海市蜃楼般的期盼谁又能看清呢？    是你，在满朝文武勾心斗角的风口浪尖上，舞着一曲对名利地位的淡泊，以坚定的步伐踏出清高的旋律。    是你，在世俗纷乱歌舞升平的纸醉金迷里，舞着一曲对荣华享乐的淡泊，以轻蔑的步伐踏出桀骜的旋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36000" y="1440"/>
            <a:ext cx="921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是你，在硕果累累田间丰收的满目金色中，舞着一曲对谷物满仓的淡泊，以轻盈的步伐踏出悠然的旋律。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陶令日日醉，不会五柳春。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素琴本无弦，漉酒用葛巾。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清风北窗下，自谓羲皇人。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微软简隶书"/>
                <a:ea typeface="微软简隶书"/>
              </a:rPr>
              <a:t>何时到栗里，一见平生亲。仿佛灵魂回到了内心，我猛地惊醒，窗外还是黯然的，四周已恢复静谧，我的心中已多了几分坦然，几分宁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3-09-27T12:38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