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A7A2-B7C1-48B5-A888-C04F4F5A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4FBF-7DC9-4E89-9019-89B70B0A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A01B-8E92-4E9A-9BE0-F85C6144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E5F5-1E00-4296-98EA-B727856A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9DF4F-6B0C-4C0D-A529-3AA097BF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7B805-3051-4D0D-A117-90D8819E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19445-CE9F-4391-B422-8E119D18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0EDF7-2795-4F09-ACB5-45C467F1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66FB1-1271-4382-9006-51DC0732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5C5C3-C3AD-4C8E-97BB-4DB7C29B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E732E-910A-4A9E-8F18-3AB8A4B0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C6B3-A7CD-48D1-A93A-FF21781A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D9C89-62CB-4AFD-8FFC-E57C214F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37325-82B6-4707-8D94-DDDB0D3B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66CF3-666B-454D-BA76-D20F54B8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8A488-F066-4E43-8585-7D44E2F0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24ECA-3100-42F6-9833-2C3C8AE8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2244B-407C-4528-B9B7-D29DB89B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A4C87-5077-4C2C-A5EA-50924752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D5E61-6535-49B5-8215-8FF843C5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7E6CA-A48A-44D8-84FE-A2C80E78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514EA-1F24-4712-BEAC-2EC199EF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37F1-897A-4D19-AE32-037F12AF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ADF2D-40AF-4213-9C61-159CF343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D568E-01A3-47F0-89E5-A7F3A9FA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9A534-7002-4539-AF6F-D9FEEE63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CEE77-FADB-412E-AFF6-C809059F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46435-9743-4E6D-B6B1-B53B4208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5EDEF-C1D4-472B-8382-3A32EDFE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63FEF-7DA0-40D5-A935-E59D42A3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9589-7364-4FE5-ABFD-2F0D86DC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E7CC-8AEE-4CBA-AF72-F708CC14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0C18-8AB4-46FC-B9A5-A31E115F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D2A8-09F3-4837-8742-BDF9609F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352C-8330-445E-8A7C-DFB6FE5D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078F-5DAF-4173-B1A3-C4A493B2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F834-8CD2-4852-9E28-8D5FCAA03D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8AA5-DB1B-4A43-85E0-2E44B7F0487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14339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组合 14340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任意多边形 14341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任意多边形 14342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任意多边形 14343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任意多边形 14344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任意多边形 14345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任意多边形 14346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任意多边形 14347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4572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-4572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828800" indent="-91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15361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组合 15362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任意多边形 15363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任意多边形 15364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任意多边形 15365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任意多边形 15366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任意多边形 15367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任意多边形 15368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15369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4572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-4572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828800" indent="-91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F1E4-7FEE-46C0-AD82-229E1DF05534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lz13.cn/jingdianyulu/4647.html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uwenzhang.com/" TargetMode="External"/><Relationship Id="rId2" Type="http://schemas.openxmlformats.org/officeDocument/2006/relationships/hyperlink" Target="http://www.duwenzhang.com/huati/chenggong/index1.html" TargetMode="External"/><Relationship Id="rId3" Type="http://schemas.openxmlformats.org/officeDocument/2006/relationships/hyperlink" Target="http://www.duwenzhang.com/huati/xiongdi/index1.html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uwenzhang.com/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文本框 2051"/>
          <p:cNvSpPr/>
          <p:nvPr/>
        </p:nvSpPr>
        <p:spPr>
          <a:xfrm>
            <a:off x="844560" y="208080"/>
            <a:ext cx="727236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高考冲刺                                                  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---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题班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特别强调：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  <a:ea typeface="黑体"/>
              </a:rPr>
              <a:t>“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  <a:ea typeface="黑体"/>
              </a:rPr>
              <a:t>明白”的内容很丰富。当前，我想特别提出三个明白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黑体"/>
              </a:rPr>
              <a:t>第一，要明白复习的时间特别紧。咱们从现在开始，到高考仅有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黑体"/>
              </a:rPr>
              <a:t>87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黑体"/>
              </a:rPr>
              <a:t>天，扣除节假日、自由复习的时间，实际上同学们能够上课或是上自习的时间，只有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Garamond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黑体"/>
              </a:rPr>
              <a:t>天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Garamond"/>
                <a:ea typeface="黑体"/>
              </a:rPr>
              <a:t>我们要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  <a:ea typeface="黑体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Garamond"/>
                <a:ea typeface="黑体"/>
              </a:rPr>
              <a:t>惜时如金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  <a:ea typeface="黑体"/>
              </a:rPr>
              <a:t>”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657000"/>
            <a:ext cx="8229600" cy="54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  <a:ea typeface="黑体"/>
              </a:rPr>
              <a:t>    </a:t>
            </a:r>
            <a:r>
              <a:rPr b="1" lang="zh-CN" sz="4800" spc="-1" strike="noStrike">
                <a:solidFill>
                  <a:srgbClr val="ffffff"/>
                </a:solidFill>
                <a:latin typeface="Garamond"/>
                <a:ea typeface="黑体"/>
              </a:rPr>
              <a:t>第二，要明白，你的最大的利益、最高的利益、最根本的利益、最迫切的利益到底是什么。就是明年考入理想大学。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50560" y="206280"/>
            <a:ext cx="8435880" cy="59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    </a:t>
            </a:r>
            <a:r>
              <a:rPr b="1" lang="zh-CN" sz="4800" spc="-1" strike="noStrike">
                <a:solidFill>
                  <a:srgbClr val="e5e5ff"/>
                </a:solidFill>
                <a:latin typeface="Garamond"/>
              </a:rPr>
              <a:t>同学们一定要能分辨出哪些是妨碍、干扰、损害我们的头等大事的，对于这些不管什么诱惑，什么障碍，我们都要拒绝、排除，有的是要放弃，哪怕是暂时放弃，也要为了大局，为了终身的幸福而放弃一时的乐趣。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85400" y="205920"/>
            <a:ext cx="8513640" cy="63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第三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消除三种情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畏难情绪。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小成即满。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等待情绪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第四：改变三种心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浮    变浮为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躁    变躁为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惰    变惰为勤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第五：旗帜鲜明的反对一种论调“兴趣是最好的老师”。我要说：“理性意识是最好的老师，理性意识是兴趣的老师。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25668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在这最后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80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多天，在这危及成败关键时刻，做到头悬梁锥刺骨又有何不可？课堂上一定要用渴求知识的双眼替换你打瞌睡的身影；自习课一定要用投进每道习题的思考替换你左顾右盼说废话的行为；每一次考试一定要用“平时如战时，战时如平时”的心态来对待。失去的时间无法换回，但失去的知识却可凭坚强的意志、实际行动来换回！越王勾践卧薪尝胆，成就了事业，龟兔赛跑乌龟最后胜利，应验了锲而不舍的精神。鲁迅说：“不耻最后，即使慢，但驰而不息，定能达到目标。”作为十五中高三的学子，我们有什么理由不奋然前行呢？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07640" y="75960"/>
            <a:ext cx="8953560" cy="67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没有经历大学的人生是有缺憾的，是不完美的，因此我们要抢占人生的制高点，创造无悔无怨的人生！高三是人生征途中的重要一站，千万不要把精力和时间消耗在一时的享乐当中。当金色的光亮即将消失，当辉煌的落日即将沉沦，此时，如果你的梦想没有实现，这才是你最刻骨铭心的痛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拿破仑说过这样</a:t>
            </a:r>
            <a:r>
              <a:rPr b="0" lang="zh-CN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一句话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：“在我的字典里没有‘不可能’三个字”，古语说得好：自古英雄出少年。年轻没有什么不可以，人生不需要彩排，每天都很精彩，每天都是现场直播！不要因为过去一时落伍而看不到成功的曙光，也不要因为过去五光十色的成绩而看不清高考最美的风景，只有不满足于现状，义无反顾选择前方，才能达到胜利的顶峰，才能使自己高三无悔，青春无悔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5e5ff"/>
                </a:solidFill>
                <a:latin typeface="Garamond"/>
              </a:rPr>
              <a:t>尽力而为还是竭尽全力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在美国西雅图的一所著名教堂里，有一位德高望重的牧师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――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戴尔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泰勒。有一天，他向教会学校一个班的学生们先讲了下面这个</a:t>
            </a:r>
            <a:r>
              <a:rPr b="0" lang="zh-CN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故事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那年冬天，猎人带着猎狗去打猎。猎人一枪击中了一只兔子的后腿，受伤的兔子拼命地逃生，猎狗在其后穷追不舍。可是追了一阵子，兔子跑得越来越远了。猎狗知道实在是追不上了，只好悻悻地回到猎人身边。猎人气急败坏地说：“你真没用，连一只受伤的兔子都追不到！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猎狗听了很不服气地辩解道：“我已经尽力而为了呀！”再说兔子带着枪伤</a:t>
            </a:r>
            <a:r>
              <a:rPr b="0" lang="zh-CN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成功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地逃生回家了，</a:t>
            </a:r>
            <a:r>
              <a:rPr b="0" lang="zh-CN" sz="2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兄弟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们都围过来惊讶地问它：“那只猎狗很凶呀，你又带了伤，是怎么甩掉它的呢？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兔子说：“它是尽力而为，我是竭尽全力呀！它没追上我，最多挨一顿骂，而我若不竭尽全力地跑，可就没命了呀！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文本框 5123"/>
          <p:cNvSpPr/>
          <p:nvPr/>
        </p:nvSpPr>
        <p:spPr>
          <a:xfrm>
            <a:off x="0" y="0"/>
            <a:ext cx="914400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泰勒牧师讲完</a:t>
            </a:r>
            <a:r>
              <a:rPr b="0" lang="zh-CN" sz="2400" spc="-1" strike="noStrike" u="sng">
                <a:solidFill>
                  <a:srgbClr val="ffcc00"/>
                </a:solidFill>
                <a:uFillTx/>
                <a:latin typeface="Arial"/>
                <a:ea typeface="宋体"/>
                <a:hlinkClick r:id="rId1"/>
              </a:rPr>
              <a:t>故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之后，又向全班郑重其事地承诺：谁要是能背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圣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马太福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第五章到第七章的全部内容，他就邀请谁去西雅图的“太空针”高塔餐厅参加免费聚餐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圣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马太福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第五章到第七章的全部内容有几万字，而且不押韵，要背诵其全文无疑有相当大的难度。尽管参加免费聚餐会是许多学生梦寐以求的事情，但是几乎所有的人都浅尝则止，望而却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几天后，班中一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的男孩，胸有成竹地站在泰勒牧师的面前，从头到尾地按要求背诵下来，竟然一字不漏，没出一点差错，而且到了最后，简直成了声情并茂的朗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泰勒牧师比别人更清楚，就是在成年的信徒中，能背诵这些篇幅的人也是罕见的，何况是一个孩子。泰勒牧师在赞叹男孩那惊人记忆力的同时，不禁好奇地问：“你为什么能背下这么长的文字呢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个男孩不假思索地回答道：“我竭尽全力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后，这个男孩成了世界著名软件公司的老板。他就是比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盖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多年前，中国有一首流行曲叫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祝你平安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，里面有这样几句歌词：“你的所得还那样少吗？你的付出还那样多吗？生活的路总有一些不平事，请你多一些开心少一些烦恼。”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祝你平安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这首歌是为我们每个人的油箱加油的好曲。它告诉我们：生活、学习和工作中，不要过多地计较个人的得失，而要以一种积极的心态去对待我们的生活、学习和工作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    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你也许有过这样的经历：尽力而为地努力学习，取得成绩后希望得到肯定和赏识，然而，由于种种原因，你并没有如愿以偿。这时，你应该如何克服内心里那重重的失落感呢？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    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这时，我们不会叫你想开些，而是想建议你，首先扪心自问一下：“我的学习真的已经做得很到位很完美了吗？我真的已经竭尽全力了吗？也许我还可以在已经完成的学习上再加上‘一盎司’。”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7172"/>
          <p:cNvSpPr/>
          <p:nvPr/>
        </p:nvSpPr>
        <p:spPr>
          <a:xfrm>
            <a:off x="0" y="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我们也许应该明白，尽力而为地完成自己学习的人，最多只能算是一个称职的人。如果在学习中再多加上“一盎司”，你就可能成为优秀者，如果继续加上“一盎司”，你就可能从优秀者成为卓越者。如此，就需要你把自己从一个“尽力而为”的人成长为“全力以赴”的人。当你拥有全力以赴的油箱时，你到哪里都是一位受欢迎的人，因为全力以赴的人会带动周围的人一起积极向上，把他们的油箱也加满了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你的油箱有多满？让我们全力以赴吧！用一种积极乐观的态度和行动去对待学习。也许全身心的投入有时候会辛苦，但最终我们品尝到成功的喜悦时，会让我们觉得，我们付出的一切都是非常值得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   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宋体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宋体"/>
              </a:rPr>
              <a:t>你的油箱有多满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?”  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图片 12291" descr="25011055563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矩形 12292"/>
          <p:cNvSpPr txBox="1"/>
          <p:nvPr/>
        </p:nvSpPr>
        <p:spPr>
          <a:xfrm rot="1025400">
            <a:off x="2411280" y="0"/>
            <a:ext cx="4216680" cy="421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心净</a:t>
            </a:r>
            <a:endParaRPr b="1" lang="en-US" sz="9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5e5ff"/>
                </a:solidFill>
                <a:latin typeface="Garamond"/>
              </a:rPr>
              <a:t>最聪明的人在学习上越是用最笨的方法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Garamond"/>
              </a:rPr>
              <a:t>饭要一口一口吃，路要一步一步走，学习要一个知识点一个知识点理解掌握，学习要一道题一道题做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矩形 17411"/>
          <p:cNvSpPr txBox="1"/>
          <p:nvPr/>
        </p:nvSpPr>
        <p:spPr>
          <a:xfrm>
            <a:off x="1908000" y="3645000"/>
            <a:ext cx="49150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步步为营</a:t>
            </a:r>
            <a:endParaRPr b="1" lang="en-US" sz="9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5e5ff"/>
                </a:solidFill>
                <a:latin typeface="Garamond"/>
              </a:rPr>
              <a:t>学习在计划之中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Garamond"/>
              </a:rPr>
              <a:t>每天一次日清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Garamond"/>
              </a:rPr>
              <a:t>每周一个目标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Garamond"/>
              </a:rPr>
              <a:t>每周一次总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Garamond"/>
              </a:rPr>
              <a:t>每周一次错题本回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做一个明白的高三学生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5e5ff"/>
                </a:solidFill>
                <a:latin typeface="Garamond"/>
              </a:rPr>
              <a:t>大明白大成功，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5e5ff"/>
                </a:solidFill>
                <a:latin typeface="Garamond"/>
              </a:rPr>
              <a:t>小明白小成功，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5e5ff"/>
                </a:solidFill>
                <a:latin typeface="Garamond"/>
              </a:rPr>
              <a:t>不明白不成功。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09:57:03Z</dcterms:created>
  <dc:creator>USER</dc:creator>
  <dc:description/>
  <dc:language>en-US</dc:language>
  <cp:lastModifiedBy>admin</cp:lastModifiedBy>
  <dcterms:modified xsi:type="dcterms:W3CDTF">2019-05-31T07:11:44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14</vt:lpwstr>
  </property>
</Properties>
</file>