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84E-A8A4-461D-A464-2D88580D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259-77A2-4678-A896-32C9AAD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65E-94BB-49E7-A35F-4FB29A4F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13C-7188-4B10-B7CF-7120B34B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552B-1BD5-494C-BB08-43F4ECBA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19D-D640-4796-A8A1-EEFD1AD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741-D53E-4733-9FF9-A4660CE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74CD-31EB-46CD-8471-14E861F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632C-B8BC-40A1-895C-7C4CE19D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0C1-2F50-4B85-9635-A8460AE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2AED-6370-4090-A159-B370D00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829-AC5E-4597-8471-7293A2A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B04-387E-4F59-BBE2-600B36E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BE6-71FE-4B41-B252-F2675B5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D0B-FDFE-4304-9623-3B8EA62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5473-B144-4B2E-AA7B-EC0C9CC8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A6B-A054-4F41-82F3-D2C80D6A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CC72-9554-4A19-B01A-91FED57B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9CB7-DFDA-4834-AE6E-E0B8163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0C27-4471-4239-9616-B8E56A1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7667-6A50-4565-8E27-6DEB3B84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612B-F8DD-4BB7-ACDE-8426468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B0B-8143-4CC4-8E9B-04A840D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094A-5B62-4C28-BDB6-D4E00EC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B8D1-D115-4991-9241-7C554FF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6503-49B3-4E63-A055-8C5BFE1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D031-2290-44D0-86C7-6AC0FB6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35F4-3337-45D0-B20B-C34D0ADD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3BA0-92B6-46BE-AAE4-B6DECE0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B296-B411-4E7A-A98E-878C3E5E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EED-1FA2-41FB-AC62-5080A1E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190-1A37-427F-94EE-9A1F9198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484-5A76-4FA1-9918-9BC94AB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DCB-090C-43FB-92DD-BF00A24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7AE-C8C9-451A-BA39-193425F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FAF-BEE1-4809-9D13-1075E60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3931-8D94-4BC0-9A38-42964F9464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A80-E558-429A-B52C-383578E246DE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D97-8F72-4590-A64D-B497A2AE2AAB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157320" y="0"/>
            <a:ext cx="18600840" cy="7029360"/>
            <a:chOff x="-157320" y="0"/>
            <a:chExt cx="18600840" cy="70293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54916" t="0" r="0" b="0"/>
            <a:stretch/>
          </p:blipFill>
          <p:spPr>
            <a:xfrm>
              <a:off x="12118680" y="0"/>
              <a:ext cx="6324840" cy="70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rcRect l="10214" t="0" r="0" b="0"/>
            <a:stretch/>
          </p:blipFill>
          <p:spPr>
            <a:xfrm>
              <a:off x="-157320" y="0"/>
              <a:ext cx="12333240" cy="702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826920" y="1989000"/>
            <a:ext cx="7775640" cy="2665440"/>
            <a:chOff x="826920" y="1989000"/>
            <a:chExt cx="7775640" cy="2665440"/>
          </a:xfrm>
        </p:grpSpPr>
        <p:sp>
          <p:nvSpPr>
            <p:cNvPr id="128" name=""/>
            <p:cNvSpPr txBox="1"/>
            <p:nvPr/>
          </p:nvSpPr>
          <p:spPr>
            <a:xfrm>
              <a:off x="826920" y="1989000"/>
              <a:ext cx="7775640" cy="26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楷体_GB2312"/>
                </a:rPr>
                <a:t>过华清宫绝句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楷体_GB2312"/>
                </a:rPr>
                <a:t>    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635280" y="4005360"/>
              <a:ext cx="1600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（其一）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06728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7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bright="6000"/>
          </a:blip>
          <a:srcRect l="30904" t="5890" r="6898" b="5916"/>
          <a:stretch/>
        </p:blipFill>
        <p:spPr>
          <a:xfrm>
            <a:off x="5435640" y="333360"/>
            <a:ext cx="3311640" cy="612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1125360"/>
            <a:ext cx="49687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华清宫绝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其一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068640"/>
            <a:ext cx="4896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安回望绣成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500280"/>
            <a:ext cx="43196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顶千门次第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149720"/>
            <a:ext cx="475308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骑红尘妃子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941720"/>
            <a:ext cx="5581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人知是荔枝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270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4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4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4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2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4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图片：人文风情 水墨风景 国画_0044"/>
          <p:cNvPicPr/>
          <p:nvPr/>
        </p:nvPicPr>
        <p:blipFill>
          <a:blip r:embed="rId1"/>
          <a:srcRect l="0" t="0" r="0" b="5259"/>
          <a:stretch/>
        </p:blipFill>
        <p:spPr>
          <a:xfrm>
            <a:off x="-828720" y="0"/>
            <a:ext cx="9972720" cy="6873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175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安回望绣成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长安回望骊山，只见林木、花卉、建筑、宛如一堆锦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顶千门次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顶上一道道宫门逐层地开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骑红尘妃子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驿马奔驰神速，看不清所载何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人知是荔枝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惟有杨贵妃在山上远望，知道是最心爱的荔枝被运来，欣然而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0920" y="189000"/>
            <a:ext cx="17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舒体"/>
              </a:rPr>
              <a:t>译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方正舒体"/>
              <a:ea typeface="方正舒体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50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首句叙写诗人在长安回首南望华清宫时所见的华清全景，“回望”二字承上启下，“绣成堆”一语双关。第二句将镜头推进集中于“绣堆”的顶端，露出了那深宫重苑，从中可见唐玄宗、杨贵妃当年生活的奢华，并给读者设下疑窦。第三句前四字“一骑红尘” ，又将读者的视点移向了山路：黄土飞扬，一骑如飞。人们不禁因这两幅跳跃的景象再生悬念。最后一句中“无人知”三字画龙点睛，蕴含深广，把全诗的思想境界提升到惊人的高度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3571920" cy="3889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5292720" y="414972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黑体"/>
              </a:rPr>
              <a:t>写作手法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4324" t="0" r="0" b="6274"/>
          <a:stretch/>
        </p:blipFill>
        <p:spPr>
          <a:xfrm>
            <a:off x="-181080" y="-20520"/>
            <a:ext cx="9325080" cy="6878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56000" y="620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诗通过送荔枝这一典型事件，深刻讽刺了唐玄宗与杨贵妃奢侈靡烂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，也从另一个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表达了诗人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民疾苦的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-1189440" y="2276640"/>
            <a:ext cx="453708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宋体"/>
              </a:rPr>
              <a:t>思想感情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21:42Z</dcterms:created>
  <dc:creator>Administrators</dc:creator>
  <dc:description/>
  <dc:language>en-US</dc:language>
  <cp:lastModifiedBy>lenovo</cp:lastModifiedBy>
  <dcterms:modified xsi:type="dcterms:W3CDTF">2011-08-12T02:57:51Z</dcterms:modified>
  <cp:revision>13</cp:revision>
  <dc:subject/>
  <dc:title>幻灯片 1</dc:title>
</cp:coreProperties>
</file>