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laser.wav" ContentType="audio/x-wav"/>
  <Override PartName="/ppt/media/image5.jpeg" ContentType="image/jpeg"/>
  <Override PartName="/ppt/media/image6.jpeg" ContentType="image/jpeg"/>
  <Override PartName="/ppt/media/chimes.wav" ContentType="audio/x-wav"/>
  <Override PartName="/ppt/media/image7.gif" ContentType="image/gif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D50B-FEA7-4DB1-A471-FC9239787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054-01C8-4AAB-85B5-119738C0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3220-FB87-4D59-BE2A-8CAA2D3C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AE0A-2767-435D-A68F-6B49B4E0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81E-3A1A-4C60-9A8C-6C3A48EE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68C1-4E70-4C9B-9E98-F9E84954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F97-6EF6-4142-90A0-9A4D28BE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BF68-192F-4EEA-94AD-2F262D05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0A6B-A3D2-49ED-96F6-3B0C9851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DF1-C481-4DB9-A388-093401FA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8E7-8425-465F-89A3-261DF78C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289F-18E1-41BD-9F98-F46D3298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33cc"/>
                </a:solidFill>
                <a:latin typeface="Arial"/>
                <a:ea typeface="华文行楷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华文行楷"/>
              </a:rPr>
              <a:t>富安中学刘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2F58-57E9-424A-B548-AA3B3486B3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557360"/>
            <a:ext cx="56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  <a:ea typeface="华文楷体"/>
              </a:rPr>
              <a:t>过故人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8360" y="342900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诗描绘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自然风光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农家生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达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24000" y="189000"/>
            <a:ext cx="611496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总结中心思想：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农村秀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256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恬淡闲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35280" y="3429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诗人与故人的真挚友情和对田园生活的向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856560" y="189000"/>
            <a:ext cx="2287440" cy="170820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2"/>
          </p:cNvPr>
          <p:cNvSpPr/>
          <p:nvPr/>
        </p:nvSpPr>
        <p:spPr>
          <a:xfrm>
            <a:off x="7885080" y="5877000"/>
            <a:ext cx="609480" cy="468360"/>
          </a:xfrm>
          <a:custGeom>
            <a:avLst/>
            <a:gdLst>
              <a:gd name="textAreaLeft" fmla="*/ 30240 w 609480"/>
              <a:gd name="textAreaRight" fmla="*/ 579240 w 609480"/>
              <a:gd name="textAreaTop" fmla="*/ 30240 h 468360"/>
              <a:gd name="textAreaBottom" fmla="*/ 438120 h 468360"/>
            </a:gdLst>
            <a:ahLst/>
            <a:rect l="textAreaLeft" t="textAreaTop" r="textAreaRight" b="textAreaBottom"/>
            <a:pathLst>
              <a:path w="28103" h="21600">
                <a:moveTo>
                  <a:pt x="0" y="0"/>
                </a:moveTo>
                <a:lnTo>
                  <a:pt x="28103" y="0"/>
                </a:lnTo>
                <a:lnTo>
                  <a:pt x="28103" y="21600"/>
                </a:lnTo>
                <a:lnTo>
                  <a:pt x="0" y="21600"/>
                </a:lnTo>
                <a:close/>
              </a:path>
              <a:path fill="lightenLess" w="28103" h="21600">
                <a:moveTo>
                  <a:pt x="0" y="0"/>
                </a:moveTo>
                <a:lnTo>
                  <a:pt x="28103" y="0"/>
                </a:lnTo>
                <a:lnTo>
                  <a:pt x="26703" y="1400"/>
                </a:lnTo>
                <a:lnTo>
                  <a:pt x="1400" y="1400"/>
                </a:lnTo>
                <a:close/>
              </a:path>
              <a:path fill="darken" w="28103" h="21600">
                <a:moveTo>
                  <a:pt x="28103" y="0"/>
                </a:moveTo>
                <a:lnTo>
                  <a:pt x="28103" y="21600"/>
                </a:lnTo>
                <a:lnTo>
                  <a:pt x="26703" y="20200"/>
                </a:lnTo>
                <a:lnTo>
                  <a:pt x="26703" y="1400"/>
                </a:lnTo>
                <a:close/>
              </a:path>
              <a:path fill="darkenLess" w="28103" h="21600">
                <a:moveTo>
                  <a:pt x="28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03" y="20200"/>
                </a:lnTo>
                <a:close/>
              </a:path>
              <a:path fill="lighten" w="28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03" h="21600">
                <a:moveTo>
                  <a:pt x="7045" y="8406"/>
                </a:moveTo>
                <a:lnTo>
                  <a:pt x="11475" y="8406"/>
                </a:lnTo>
                <a:lnTo>
                  <a:pt x="15897" y="3794"/>
                </a:lnTo>
                <a:lnTo>
                  <a:pt x="15897" y="17806"/>
                </a:lnTo>
                <a:lnTo>
                  <a:pt x="11475" y="13194"/>
                </a:lnTo>
                <a:lnTo>
                  <a:pt x="7045" y="13194"/>
                </a:lnTo>
                <a:close/>
              </a:path>
              <a:path fill="darken" w="28103" h="21600">
                <a:moveTo>
                  <a:pt x="17551" y="10800"/>
                </a:moveTo>
                <a:lnTo>
                  <a:pt x="21058" y="10800"/>
                </a:lnTo>
              </a:path>
              <a:path fill="darken" w="28103" h="21600">
                <a:moveTo>
                  <a:pt x="17551" y="8406"/>
                </a:moveTo>
                <a:lnTo>
                  <a:pt x="21058" y="5639"/>
                </a:lnTo>
              </a:path>
              <a:path fill="darken" w="28103" h="21600">
                <a:moveTo>
                  <a:pt x="17551" y="13194"/>
                </a:moveTo>
                <a:lnTo>
                  <a:pt x="21058" y="15961"/>
                </a:lnTo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结束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85320" y="981000"/>
            <a:ext cx="127800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过故人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80440" y="2060640"/>
            <a:ext cx="4635360" cy="39934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sh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故人具鸡黍，邀我至田家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xi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绿树村边合，青山郭外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p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开轩面场圃，把酒话桑麻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hu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待到重阳日，还来就菊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95600" y="333360"/>
            <a:ext cx="103428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朗诵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192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367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：拜访，探访，看望。故人庄：老朋友的田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具：准备。具鸡黍：杀鸡做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：环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轩：指窗户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菊花：指欣赏菊花与饮酒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00360" y="582480"/>
            <a:ext cx="25192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点词品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4005360"/>
            <a:ext cx="7848360" cy="180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老友备好了丰盛的饭菜，邀我到他的田舍做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村外绿树环绕，村子的四周青山斜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打开窗子面对打谷场和菜园，把酒对饮畅谈农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等到九月重阳节的那一天，我还要来饮酒赏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67160" y="1844640"/>
            <a:ext cx="447480" cy="180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故人具鸡黍，邀我至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绿树村边合，青山郭外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开轩面场圃，把酒话桑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待到重阳日，还来就菊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2040" y="907920"/>
            <a:ext cx="223524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过故人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9280" y="333360"/>
            <a:ext cx="302436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朗诵欣赏与明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2"/>
          </p:cNvPr>
          <p:cNvSpPr/>
          <p:nvPr/>
        </p:nvSpPr>
        <p:spPr>
          <a:xfrm>
            <a:off x="7956720" y="6165720"/>
            <a:ext cx="610920" cy="422280"/>
          </a:xfrm>
          <a:custGeom>
            <a:avLst/>
            <a:gdLst>
              <a:gd name="textAreaLeft" fmla="*/ 27360 w 610920"/>
              <a:gd name="textAreaRight" fmla="*/ 583560 w 61092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1241" h="21600">
                <a:moveTo>
                  <a:pt x="0" y="0"/>
                </a:moveTo>
                <a:lnTo>
                  <a:pt x="31241" y="0"/>
                </a:lnTo>
                <a:lnTo>
                  <a:pt x="31241" y="21600"/>
                </a:lnTo>
                <a:lnTo>
                  <a:pt x="0" y="21600"/>
                </a:lnTo>
                <a:close/>
              </a:path>
              <a:path fill="lightenLess" w="31241" h="21600">
                <a:moveTo>
                  <a:pt x="0" y="0"/>
                </a:moveTo>
                <a:lnTo>
                  <a:pt x="31241" y="0"/>
                </a:lnTo>
                <a:lnTo>
                  <a:pt x="29841" y="1400"/>
                </a:lnTo>
                <a:lnTo>
                  <a:pt x="1400" y="1400"/>
                </a:lnTo>
                <a:close/>
              </a:path>
              <a:path fill="darken" w="31241" h="21600">
                <a:moveTo>
                  <a:pt x="31241" y="0"/>
                </a:moveTo>
                <a:lnTo>
                  <a:pt x="31241" y="21600"/>
                </a:lnTo>
                <a:lnTo>
                  <a:pt x="29841" y="20200"/>
                </a:lnTo>
                <a:lnTo>
                  <a:pt x="29841" y="1400"/>
                </a:lnTo>
                <a:close/>
              </a:path>
              <a:path fill="darkenLess" w="31241" h="21600">
                <a:moveTo>
                  <a:pt x="31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41" y="20200"/>
                </a:lnTo>
                <a:close/>
              </a:path>
              <a:path fill="lighten" w="31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41" h="21600">
                <a:moveTo>
                  <a:pt x="8614" y="8406"/>
                </a:moveTo>
                <a:lnTo>
                  <a:pt x="13044" y="8406"/>
                </a:lnTo>
                <a:lnTo>
                  <a:pt x="17466" y="3794"/>
                </a:lnTo>
                <a:lnTo>
                  <a:pt x="17466" y="17806"/>
                </a:lnTo>
                <a:lnTo>
                  <a:pt x="13044" y="13194"/>
                </a:lnTo>
                <a:lnTo>
                  <a:pt x="8614" y="13194"/>
                </a:lnTo>
                <a:close/>
              </a:path>
              <a:path fill="darken" w="31241" h="21600">
                <a:moveTo>
                  <a:pt x="19119" y="10800"/>
                </a:moveTo>
                <a:lnTo>
                  <a:pt x="22627" y="10800"/>
                </a:lnTo>
              </a:path>
              <a:path fill="darken" w="31241" h="21600">
                <a:moveTo>
                  <a:pt x="19119" y="8406"/>
                </a:moveTo>
                <a:lnTo>
                  <a:pt x="22627" y="5639"/>
                </a:lnTo>
              </a:path>
              <a:path fill="darken" w="31241" h="21600">
                <a:moveTo>
                  <a:pt x="19119" y="13194"/>
                </a:moveTo>
                <a:lnTo>
                  <a:pt x="22627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84360" y="4076640"/>
            <a:ext cx="2093760" cy="216072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2195280" cy="1839960"/>
          </a:xfrm>
          <a:prstGeom prst="rect">
            <a:avLst/>
          </a:prstGeom>
          <a:ln w="76320">
            <a:solidFill>
              <a:srgbClr val="ff3300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3276720" y="620640"/>
            <a:ext cx="5464080" cy="2654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孟浩然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689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74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唐代诗人，本名浩，字浩然。襄州襄阳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今湖北襄樊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人，世称孟襄阳。以写田园山水诗为主。是唐代一位不甘隐居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却以隐居终老的诗人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早年在家隐居读书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30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岁曾到过长安应试求仕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失意而返回故里。曾在太学赋诗，名动公卿，一座倾服，为之搁笔。他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王维交谊甚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孟诗绝大部分为五言短篇，多写山水田园和隐居的逸兴以及羁旅行役的心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首诗是作者早年隐居鹿门山时，应故人邀请到农做客时所写，描述了田园生活的乐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68400" y="907920"/>
            <a:ext cx="1874880" cy="520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4360" y="2133720"/>
            <a:ext cx="7416720" cy="19227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以反映田园生活、描绘山水景物为主要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代表人物有盛唐的王维、孟浩然、储光羲、常建等，中唐韦应物、柳宗元等。其中以王维成就为高，他是诗人，又是画家，能以画理通之于诗，诗中有画，画中有诗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文人的隐逸情怀也与山水田园诗的形成有紧密的关系，但此际并非为隐而隐，而是酿成了一种向往自然、追求超然独立的文化心态和崇尚自然的审美趣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孟浩然除了《过故人庄》以外还有《宿建德江》、《临洞庭湖赠张丞相》表现其高雅情怀和闲情逸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1320" y="907920"/>
            <a:ext cx="2884680" cy="5814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山水田园诗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2960" y="260280"/>
            <a:ext cx="259704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学常识点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078440" y="2924280"/>
            <a:ext cx="447480" cy="18003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故人具鸡黍，邀我至田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绿树村边合，青山郭外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开轩面场圃，把酒话桑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待到重阳日，还来就菊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59280" y="1557360"/>
            <a:ext cx="230472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过故人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404640"/>
            <a:ext cx="230328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朗诵与品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"/>
          </p:cNvPr>
          <p:cNvSpPr/>
          <p:nvPr/>
        </p:nvSpPr>
        <p:spPr>
          <a:xfrm>
            <a:off x="7956720" y="6165720"/>
            <a:ext cx="610920" cy="422280"/>
          </a:xfrm>
          <a:custGeom>
            <a:avLst/>
            <a:gdLst>
              <a:gd name="textAreaLeft" fmla="*/ 27360 w 610920"/>
              <a:gd name="textAreaRight" fmla="*/ 583560 w 61092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31241" h="21600">
                <a:moveTo>
                  <a:pt x="0" y="0"/>
                </a:moveTo>
                <a:lnTo>
                  <a:pt x="31241" y="0"/>
                </a:lnTo>
                <a:lnTo>
                  <a:pt x="31241" y="21600"/>
                </a:lnTo>
                <a:lnTo>
                  <a:pt x="0" y="21600"/>
                </a:lnTo>
                <a:close/>
              </a:path>
              <a:path fill="lightenLess" w="31241" h="21600">
                <a:moveTo>
                  <a:pt x="0" y="0"/>
                </a:moveTo>
                <a:lnTo>
                  <a:pt x="31241" y="0"/>
                </a:lnTo>
                <a:lnTo>
                  <a:pt x="29841" y="1400"/>
                </a:lnTo>
                <a:lnTo>
                  <a:pt x="1400" y="1400"/>
                </a:lnTo>
                <a:close/>
              </a:path>
              <a:path fill="darken" w="31241" h="21600">
                <a:moveTo>
                  <a:pt x="31241" y="0"/>
                </a:moveTo>
                <a:lnTo>
                  <a:pt x="31241" y="21600"/>
                </a:lnTo>
                <a:lnTo>
                  <a:pt x="29841" y="20200"/>
                </a:lnTo>
                <a:lnTo>
                  <a:pt x="29841" y="1400"/>
                </a:lnTo>
                <a:close/>
              </a:path>
              <a:path fill="darkenLess" w="31241" h="21600">
                <a:moveTo>
                  <a:pt x="312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841" y="20200"/>
                </a:lnTo>
                <a:close/>
              </a:path>
              <a:path fill="lighten" w="312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241" h="21600">
                <a:moveTo>
                  <a:pt x="8614" y="8406"/>
                </a:moveTo>
                <a:lnTo>
                  <a:pt x="13044" y="8406"/>
                </a:lnTo>
                <a:lnTo>
                  <a:pt x="17466" y="3794"/>
                </a:lnTo>
                <a:lnTo>
                  <a:pt x="17466" y="17806"/>
                </a:lnTo>
                <a:lnTo>
                  <a:pt x="13044" y="13194"/>
                </a:lnTo>
                <a:lnTo>
                  <a:pt x="8614" y="13194"/>
                </a:lnTo>
                <a:close/>
              </a:path>
              <a:path fill="darken" w="31241" h="21600">
                <a:moveTo>
                  <a:pt x="19119" y="10800"/>
                </a:moveTo>
                <a:lnTo>
                  <a:pt x="22627" y="10800"/>
                </a:lnTo>
              </a:path>
              <a:path fill="darken" w="31241" h="21600">
                <a:moveTo>
                  <a:pt x="19119" y="8406"/>
                </a:moveTo>
                <a:lnTo>
                  <a:pt x="22627" y="5639"/>
                </a:lnTo>
              </a:path>
              <a:path fill="darken" w="31241" h="21600">
                <a:moveTo>
                  <a:pt x="19119" y="13194"/>
                </a:moveTo>
                <a:lnTo>
                  <a:pt x="22627" y="15961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听评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8640" y="5373720"/>
            <a:ext cx="4569840" cy="459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请同学们自读几遍，想想诗中表达了怎样的思想感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读了此诗，你觉得它讲述了一件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这首诗中你体会到诗人怎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诗中描写田园风光的是哪句？用了什么修辞手法？再找一句运用相同修辞的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285264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（孟浩然接受一位老朋友的邀请，来到乡村做客的事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414972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（诗人与故人的真挚友情和对田园生活的向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4360" y="580536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566100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绿树村边合，青山郭外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对仗（对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6165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616572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开轩面场圃，把酒话桑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885080" y="579600"/>
            <a:ext cx="100656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971240" y="260280"/>
            <a:ext cx="1247400" cy="5205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诗歌品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“把酒话桑麻”中的“桑麻”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假设你就处在当时的环境当中，你会与故人说些什么话？（用现代话语表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8360" y="476280"/>
            <a:ext cx="205740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延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3429000"/>
            <a:ext cx="792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真是太感谢你为我准备了这么丰富的菜肴，下次欢迎你到我家去做客。</a:t>
            </a: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你们这儿真美，真想一直住在这儿啊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今年的收成怎么样？还好，有可能是个大丰收）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深情厚意只在淡淡的几句询问农事中，就在这悠然举杯饮酒，闲谈农事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771640" y="1844640"/>
            <a:ext cx="1584360" cy="3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农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396200" y="189000"/>
            <a:ext cx="1747800" cy="143964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/>
          </p:cNvPr>
          <p:cNvSpPr/>
          <p:nvPr/>
        </p:nvSpPr>
        <p:spPr>
          <a:xfrm>
            <a:off x="8388360" y="6093000"/>
            <a:ext cx="539640" cy="549000"/>
          </a:xfrm>
          <a:custGeom>
            <a:avLst/>
            <a:gdLst>
              <a:gd name="textAreaLeft" fmla="*/ 34920 w 539640"/>
              <a:gd name="textAreaRight" fmla="*/ 504720 w 539640"/>
              <a:gd name="textAreaTop" fmla="*/ 34920 h 549000"/>
              <a:gd name="textAreaBottom" fmla="*/ 514080 h 54900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3794" y="8594"/>
                </a:moveTo>
                <a:lnTo>
                  <a:pt x="8224" y="8594"/>
                </a:lnTo>
                <a:lnTo>
                  <a:pt x="12645" y="3981"/>
                </a:lnTo>
                <a:lnTo>
                  <a:pt x="12645" y="17994"/>
                </a:lnTo>
                <a:lnTo>
                  <a:pt x="8224" y="13381"/>
                </a:lnTo>
                <a:lnTo>
                  <a:pt x="3794" y="13381"/>
                </a:lnTo>
                <a:close/>
              </a:path>
              <a:path fill="darken" w="21600" h="21974">
                <a:moveTo>
                  <a:pt x="14299" y="10987"/>
                </a:moveTo>
                <a:lnTo>
                  <a:pt x="17806" y="10987"/>
                </a:lnTo>
              </a:path>
              <a:path fill="darken" w="21600" h="21974">
                <a:moveTo>
                  <a:pt x="14299" y="8594"/>
                </a:moveTo>
                <a:lnTo>
                  <a:pt x="17806" y="5826"/>
                </a:lnTo>
              </a:path>
              <a:path fill="darken" w="21600" h="21974">
                <a:moveTo>
                  <a:pt x="14299" y="13381"/>
                </a:moveTo>
                <a:lnTo>
                  <a:pt x="17806" y="16148"/>
                </a:lnTo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新魏"/>
              </a:rPr>
              <a:t>歌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3:16:27Z</dcterms:created>
  <dc:creator>HP</dc:creator>
  <dc:description/>
  <dc:language>en-US</dc:language>
  <cp:lastModifiedBy>微软用户</cp:lastModifiedBy>
  <dcterms:modified xsi:type="dcterms:W3CDTF">2011-08-04T09:19:46Z</dcterms:modified>
  <cp:revision>27</cp:revision>
  <dc:subject/>
  <dc:title>幻灯片 1</dc:title>
</cp:coreProperties>
</file>