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9B0-3DB4-4CDD-9B68-37A40937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3B29-F957-4AFA-8ED5-E3290C9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91A6-20CF-4E99-B278-2ECA66DD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4F8-3818-4512-AAFC-76416C5A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33FD4-EF88-4D30-BEF4-DE9064A9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6C05A-6153-45FF-9968-B0F7AA2E6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BDA1-7922-4E98-BC65-BD000A7D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3E2E-0E11-4423-ACBC-BE994DDC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08E7-2D74-4254-B362-0800DFB2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FA92-CEF4-4ED0-9D47-7BDC8BA06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6CD1-6149-4F7F-93C9-B2A78AB9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A866-CF50-4E05-B7E6-8B087924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A142-E548-45E0-9E8C-012E36B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BF37-CDF7-4471-8831-8AB7755E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A63C3-4E54-4A7C-87EA-AA83FF8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B971-B0BA-4FF6-B56E-2F43B48DF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CEE7-A2CF-45FB-93EF-80309AEB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5F63-F438-4E11-B3BF-F67C9E2E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608-3F54-4217-8A02-2AB90B90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948-3EE9-4CF7-BB24-9CC4748C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B05-5223-4E7C-8D00-FC4672FF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08E5-7673-4027-B31D-2219CDE5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59E-BC99-4934-95FB-DC689E2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2D15-76EE-449B-820C-593C1E5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97CC-93FB-4A52-B1F4-7E2543379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6718-631F-4938-818B-DCF1F6EB8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14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1.xml"/><Relationship Id="rId10" Type="http://schemas.openxmlformats.org/officeDocument/2006/relationships/slide" Target="slide17.xml"/><Relationship Id="rId11" Type="http://schemas.openxmlformats.org/officeDocument/2006/relationships/slide" Target="slide15.xml"/><Relationship Id="rId12" Type="http://schemas.openxmlformats.org/officeDocument/2006/relationships/slide" Target="slide16.xml"/><Relationship Id="rId1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98000" cy="6897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438280" y="2057400"/>
            <a:ext cx="4572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隶书"/>
              </a:rPr>
              <a:t>过故人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隶书"/>
              <a:ea typeface="隶书"/>
            </a:endParaRPr>
          </a:p>
        </p:txBody>
      </p:sp>
      <p:sp>
        <p:nvSpPr>
          <p:cNvPr id="85" name=""/>
          <p:cNvSpPr/>
          <p:nvPr/>
        </p:nvSpPr>
        <p:spPr>
          <a:xfrm>
            <a:off x="3938760" y="345924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华文行楷"/>
              </a:rPr>
              <a:t>孟浩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待到重阳日，还来就菊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24880" y="6448320"/>
            <a:ext cx="449280" cy="4003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19320" y="3809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诗人告诉朋友：重阳节我还到你家，喝菊花酒。朋友间那种融洽的感情、诗人对田园的喜爱溢于言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43480" y="22384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38600" y="24764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靠近。这里指欣赏的意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312080" y="175248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寒食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春城无处不飞花，寒食东风御柳斜。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日暮汉宫传蜡烛，轻烟散入五侯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0300" descr="清明诗画欣赏"/>
          <p:cNvPicPr/>
          <p:nvPr/>
        </p:nvPicPr>
        <p:blipFill>
          <a:blip r:embed="rId2"/>
          <a:stretch/>
        </p:blipFill>
        <p:spPr>
          <a:xfrm>
            <a:off x="-14400" y="638280"/>
            <a:ext cx="9144000" cy="56131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138560" y="833400"/>
            <a:ext cx="3962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隶书"/>
                <a:ea typeface="隶书"/>
              </a:rPr>
              <a:t>清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清明时节雨纷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路上行人欲断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借问酒家何处有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牧童遥指杏花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-531828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1752480"/>
            <a:ext cx="3429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元　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王安石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爆竹声中一岁除，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春风送暖入屠苏，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千门万户曈曈日，</a:t>
            </a:r>
            <a:br>
              <a:rPr sz="3600"/>
            </a:b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总把新桃换旧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653320" y="6451560"/>
            <a:ext cx="439920" cy="3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5318280"/>
            <a:ext cx="152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727200"/>
            <a:ext cx="425772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游山西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南宋 陆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莫笑农家腊酒浑，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丰年留客足鸡豚。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山重水复疑无路，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柳暗花明又一村。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箫鼓追随春社近，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衣冠简朴古风存。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从今若许闲乘月，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拄杖无时夜叩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0037" descr="春中田园作诗画欣赏"/>
          <p:cNvPicPr/>
          <p:nvPr/>
        </p:nvPicPr>
        <p:blipFill>
          <a:blip r:embed="rId2"/>
          <a:stretch/>
        </p:blipFill>
        <p:spPr>
          <a:xfrm>
            <a:off x="728640" y="942840"/>
            <a:ext cx="3733920" cy="5053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8629560" y="6458040"/>
            <a:ext cx="4003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380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1676520"/>
            <a:ext cx="3824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书湖阴先生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茅檐长扫静无苔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花木成畦手自栽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一水护田将绿绕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两山排闼送青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74200" y="6459480"/>
            <a:ext cx="4032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0097" descr="田园乐诗画欣赏"/>
          <p:cNvPicPr/>
          <p:nvPr/>
        </p:nvPicPr>
        <p:blipFill>
          <a:blip r:embed="rId2"/>
          <a:stretch/>
        </p:blipFill>
        <p:spPr>
          <a:xfrm>
            <a:off x="585720" y="1828800"/>
            <a:ext cx="4191120" cy="3352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419800" y="1800360"/>
            <a:ext cx="2971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田园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王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桃红复含宿雨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柳绿更带朝烟。</a:t>
            </a:r>
            <a:br>
              <a:rPr sz="3200"/>
            </a:b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花落家童未扫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50021"/>
                </a:solidFill>
                <a:latin typeface="隶书"/>
                <a:ea typeface="隶书"/>
              </a:rPr>
              <a:t>莺啼山客犹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05800" y="6410160"/>
            <a:ext cx="44604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0264" descr="九月九日忆山东兄弟诗画欣赏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33240" y="719280"/>
            <a:ext cx="42436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九月九日忆山东兄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王维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独在异乡为异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每逢佳节倍思亲。</a:t>
            </a: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遥知兄弟登高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遍插茱萸少一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48640" y="6434280"/>
            <a:ext cx="426960" cy="43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1219320" y="1828800"/>
            <a:ext cx="180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作者简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219320" y="266688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诗歌朗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4" action="ppaction://hlinksldjump"/>
          </p:cNvPr>
          <p:cNvSpPr/>
          <p:nvPr/>
        </p:nvSpPr>
        <p:spPr>
          <a:xfrm>
            <a:off x="1143000" y="3429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理解诗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1143000" y="4267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内容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6" action="ppaction://hlinksldjump"/>
          </p:cNvPr>
          <p:cNvSpPr/>
          <p:nvPr/>
        </p:nvSpPr>
        <p:spPr>
          <a:xfrm>
            <a:off x="5181480" y="3736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游山西村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7" action="ppaction://hlinksldjump"/>
          </p:cNvPr>
          <p:cNvSpPr/>
          <p:nvPr/>
        </p:nvSpPr>
        <p:spPr>
          <a:xfrm>
            <a:off x="5486400" y="19382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清明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8" action="ppaction://hlinksldjump"/>
          </p:cNvPr>
          <p:cNvSpPr/>
          <p:nvPr/>
        </p:nvSpPr>
        <p:spPr>
          <a:xfrm>
            <a:off x="5500800" y="248760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元日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9" action="ppaction://hlinksldjump"/>
          </p:cNvPr>
          <p:cNvSpPr/>
          <p:nvPr/>
        </p:nvSpPr>
        <p:spPr>
          <a:xfrm>
            <a:off x="5486400" y="1371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寒食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10" action="ppaction://hlinksldjump"/>
          </p:cNvPr>
          <p:cNvSpPr/>
          <p:nvPr/>
        </p:nvSpPr>
        <p:spPr>
          <a:xfrm>
            <a:off x="6464160" y="493560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九月九日忆山东兄弟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11" action="ppaction://hlinksldjump"/>
          </p:cNvPr>
          <p:cNvSpPr/>
          <p:nvPr/>
        </p:nvSpPr>
        <p:spPr>
          <a:xfrm>
            <a:off x="6354720" y="432576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书湖阴先生壁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2" action="ppaction://hlinksldjump"/>
          </p:cNvPr>
          <p:cNvSpPr/>
          <p:nvPr/>
        </p:nvSpPr>
        <p:spPr>
          <a:xfrm>
            <a:off x="5334120" y="311004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《田园乐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654800" y="914400"/>
            <a:ext cx="31050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浩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    ---      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唐代诗人，襄阳人 ，诗与王维齐名，并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王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作品有《孟浩然集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56680" y="1981080"/>
            <a:ext cx="12776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hr" descr=""/>
          <p:cNvPicPr/>
          <p:nvPr/>
        </p:nvPicPr>
        <p:blipFill>
          <a:blip r:embed="rId2"/>
          <a:stretch/>
        </p:blipFill>
        <p:spPr>
          <a:xfrm>
            <a:off x="952560" y="1219320"/>
            <a:ext cx="3124080" cy="4762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796080" y="2457360"/>
            <a:ext cx="8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48560" y="34052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658360" y="64627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9144000" cy="5658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8605800" y="6410160"/>
            <a:ext cx="44604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24880" y="6448320"/>
            <a:ext cx="44928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419040" y="1514520"/>
            <a:ext cx="49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故人具鸡黍，邀我至田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809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过故人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3" action="ppaction://hlinksldjump"/>
          </p:cNvPr>
          <p:cNvSpPr/>
          <p:nvPr/>
        </p:nvSpPr>
        <p:spPr>
          <a:xfrm>
            <a:off x="423720" y="2081160"/>
            <a:ext cx="49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绿树村边合，青山郭外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4" action="ppaction://hlinksldjump"/>
          </p:cNvPr>
          <p:cNvSpPr/>
          <p:nvPr/>
        </p:nvSpPr>
        <p:spPr>
          <a:xfrm>
            <a:off x="395280" y="2638440"/>
            <a:ext cx="48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开轩面场圃，把酒话桑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5" action="ppaction://hlinksldjump"/>
          </p:cNvPr>
          <p:cNvSpPr/>
          <p:nvPr/>
        </p:nvSpPr>
        <p:spPr>
          <a:xfrm>
            <a:off x="395280" y="313848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待到重阳日，还来就菊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0327menghaoran" descr=""/>
          <p:cNvPicPr/>
          <p:nvPr/>
        </p:nvPicPr>
        <p:blipFill>
          <a:blip r:embed="rId6"/>
          <a:stretch/>
        </p:blipFill>
        <p:spPr>
          <a:xfrm>
            <a:off x="5886360" y="838080"/>
            <a:ext cx="3048120" cy="518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7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81080" y="3981600"/>
            <a:ext cx="556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cc"/>
                </a:solidFill>
                <a:latin typeface="Times New Roman"/>
              </a:rPr>
              <a:t>这是一首田园诗，描写农家恬静闲适的生活情景，也写老朋友的情谊。诗由“邀”到“至”到“望”又到“约”一径写去，自然流畅。语言朴实无华，意境清新隽永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1371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人具鸡   黍，邀我至田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86200" y="19051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48640" y="6462720"/>
            <a:ext cx="417600" cy="396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60496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准备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0120" y="19051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10160" y="2119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0120" y="3319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朋友邀我作客。“具鸡黍”、“至田家”，朴朴实实的叙述，表现了老朋友之间的真挚的感情，洋溢着愉悦的田家情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19810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绿树村边合，青山郭外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15520" y="646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41148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山村风光。绿树环抱村庄，这是近景；郭外青山逶迤，那是远景。由近及远，景色越来越开阔，一派清幽恬静的气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25909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环绕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00560" y="255744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27194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外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133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 轩   面    场圃，把酒话桑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5800" y="6432480"/>
            <a:ext cx="409680" cy="4064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95280" y="3581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把酒闲话。轩窗一开，扑面而来的是谷场和菜圃，远处是绿树、青山，知心朋友们喝着酒，谈谈农事，风儿送来阵阵泥土和庄稼的气息。这田园风味简直令人陶醉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19400" y="2666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0920" y="2666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7560" y="282888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农家的小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09880" y="28195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窗户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443320" y="266220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age</cp:lastModifiedBy>
  <dcterms:modified xsi:type="dcterms:W3CDTF">2006-01-12T10:26:43Z</dcterms:modified>
  <cp:revision>27</cp:revision>
  <dc:subject/>
  <dc:title>PowerPoint Presentation</dc:title>
</cp:coreProperties>
</file>