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laser.wav" ContentType="audio/x-wav"/>
  <Override PartName="/ppt/media/image4.jpeg" ContentType="image/jpeg"/>
  <Override PartName="/ppt/media/image19.png" ContentType="image/png"/>
  <Override PartName="/ppt/media/image17.png" ContentType="image/png"/>
  <Override PartName="/ppt/media/type.wav" ContentType="audio/x-wav"/>
  <Override PartName="/ppt/media/image6.jpeg" ContentType="image/jpeg"/>
  <Override PartName="/ppt/media/chimes.wav" ContentType="audio/x-wav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gif" ContentType="image/gi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8C2B-21DE-4C4A-AC76-4FCC547F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D29B-C43E-4B76-9464-56A5C50A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F323-421A-4AB7-8549-A26944BAD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FEA6-FC06-419F-A21F-0DE752C1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F27-5151-48C4-8AD8-73630921A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CF95-61A9-4060-98D6-54D44541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723D-DDA9-4752-B457-B7A6FC81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9A76-B907-4014-83EE-7D95F5FAF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BFAD-8457-4577-9687-0A635A99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A006-13EB-42CC-97FE-8CD2174C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3C2E-4940-43E1-AD60-511FEC8A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1CA7-6734-4072-BCB7-D064BE90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E6B0-26A8-49C7-A43E-82985CCE8F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1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" Target="slide3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image" Target="../media/image13.png"/><Relationship Id="rId8" Type="http://schemas.openxmlformats.org/officeDocument/2006/relationships/image" Target="../media/image12.gif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image" Target="../media/image13.png"/><Relationship Id="rId5" Type="http://schemas.openxmlformats.org/officeDocument/2006/relationships/image" Target="../media/image12.gif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56000" y="2565360"/>
            <a:ext cx="4114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欢迎莅临指导</a:t>
            </a:r>
            <a:endParaRPr b="0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213372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开 轩   面    场圃，把酒话桑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605800" y="6432480"/>
            <a:ext cx="409680" cy="406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358128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写把酒闲话。轩窗一开，扑面而来的是谷场和菜圃，远处是绿树、青山，知心朋友们喝着酒，谈谈农事，风儿送来阵阵泥土和庄稼的气息。这田园风味简直令人陶醉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019400" y="266688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90920" y="266688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57560" y="2828880"/>
            <a:ext cx="22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农家的小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09880" y="281952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</a:rPr>
              <a:t>窗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43320" y="2662200"/>
            <a:ext cx="7128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16765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待到重阳日，还来就菊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624880" y="6448320"/>
            <a:ext cx="449280" cy="400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219320" y="380988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写诗人告诉朋友：重阳节我还到你家，喝菊花酒。朋友间那种融洽的感情、诗人对田园的喜爱溢于言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43480" y="2238480"/>
            <a:ext cx="7164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38600" y="247644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靠近。这里指欣赏的意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本诗描绘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自然风光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农家生活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达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89000"/>
            <a:ext cx="6114960" cy="13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总结中心思想：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1" name=""/>
          <p:cNvSpPr/>
          <p:nvPr/>
        </p:nvSpPr>
        <p:spPr>
          <a:xfrm>
            <a:off x="3492360" y="1916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农村秀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256536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恬淡闲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35280" y="342900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诗人与故人的真挚友情和对田园生活的向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856560" y="189000"/>
            <a:ext cx="22874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309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诗歌探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读了此诗，你觉得它讲述了一件什么事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从这首诗中你体会到诗人怎样的感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诗中描写田园风光的是哪句？用了什么修辞手法？再找一句运用相同修辞的句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32000" y="2781360"/>
            <a:ext cx="84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黑体"/>
              </a:rPr>
              <a:t>（孟浩然接受一位老朋友的邀请，来到乡村做客的事情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0" y="386064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黑体"/>
              </a:rPr>
              <a:t>（诗人与故人的真挚友情和对田园生活的向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5805360"/>
            <a:ext cx="655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80536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黑体"/>
              </a:rPr>
              <a:t>绿树村边合，青山郭外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08360" y="5805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黑体"/>
              </a:rPr>
              <a:t>对仗（对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80000" y="616572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80000" y="5950080"/>
            <a:ext cx="41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  <a:ea typeface="黑体"/>
              </a:rPr>
              <a:t>开轩面场圃，把酒话桑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948360" y="333360"/>
            <a:ext cx="18558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620640"/>
            <a:ext cx="91440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译文：</a:t>
            </a:r>
            <a:br>
              <a:rPr sz="1800"/>
            </a:br>
            <a:br>
              <a:rPr sz="18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朋友准备了饭菜，邀请我到他的乡村家里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村外绿树环绕，城外有青山斜立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打开窗子，面对着打谷场和菜园，一边举杯畅饮，一边谈论农事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到重阳节那天，我还要来观赏菊花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酒话桑麻”中的“桑麻”指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假设你就处在当时的环境当中，你会与故人说些什么话？（用现代话语表达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360" y="476280"/>
            <a:ext cx="2057400" cy="50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拓展延伸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8" name=""/>
          <p:cNvSpPr/>
          <p:nvPr/>
        </p:nvSpPr>
        <p:spPr>
          <a:xfrm>
            <a:off x="684360" y="3429000"/>
            <a:ext cx="7920000" cy="29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真是太感谢你为我准备了这么丰富的菜肴，下次欢迎你到我家去做客。</a:t>
            </a: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（你们这儿真美，真想一直住在这儿啊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（今年的收成怎么样？还好，有可能是个大丰收。）</a:t>
            </a:r>
            <a:br>
              <a:rPr sz="2400"/>
            </a:br>
            <a:r>
              <a:rPr b="1" lang="zh-CN" sz="2400" spc="-1" strike="noStrike">
                <a:solidFill>
                  <a:srgbClr val="ff00ff"/>
                </a:solidFill>
                <a:latin typeface="黑体"/>
                <a:ea typeface="黑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深情厚意只在淡淡的几句询问农事中，就在这悠然举杯饮酒，闲谈农事中。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708360" y="1773360"/>
            <a:ext cx="1584360" cy="67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农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396200" y="189000"/>
            <a:ext cx="17478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本诗描绘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自然风光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的农家生活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达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4000" y="189000"/>
            <a:ext cx="6114960" cy="13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总结中心思想：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3" name=""/>
          <p:cNvSpPr/>
          <p:nvPr/>
        </p:nvSpPr>
        <p:spPr>
          <a:xfrm>
            <a:off x="3492360" y="19162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黑体"/>
              </a:rPr>
              <a:t>农村秀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6360" y="256536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恬淡闲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5280" y="342900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诗人与故人的真挚友情和对田园生活的向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856560" y="189000"/>
            <a:ext cx="22874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340000" y="0"/>
            <a:ext cx="426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  <a:ea typeface="黑体"/>
              </a:rPr>
              <a:t>游 山 西 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Times New Roman"/>
              </a:rPr>
              <a:t>陆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1125360"/>
            <a:ext cx="6265800" cy="45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莫笑农家腊酒浑，丰年留客足鸡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山重水复疑无路，柳暗花明又一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箫鼓追随春社近，衣冠简朴古风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从今若许闲乘月，拄杖无时夜扣门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170028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写农家淳朴、热情好客，用丰盛酒菜款待客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28526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重重叠叠的山岭，弯弯曲曲的流水，远远望去好象前面已经无路可通了，可是，走到近前，在垂柳掩映、山花烂漫的地方，突然又出现了一带村庄。表现作者的惊喜和高兴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41497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春社日将临，农民要祭祀土地神以祈丰年，击鼓弄箫、载歌载舞，热闹异常；农家的穿载简洁朴素，还保留着古代的风俗习尚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554688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从今以后，假如你们允许我在空闲的时候趁着晚上的月色前来访问的话，那么，我会随时在夜间拄着杖叩启你们的家门的。这里，不仅说明了陆游与当地农民相处得多么融洽，也充分表露了诗人对山西村和山西农民无限喜爱的真挚情感。 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324560" y="0"/>
            <a:ext cx="1819440" cy="1787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395280" y="26028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4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47016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4000" y="189000"/>
            <a:ext cx="6114960" cy="135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总结中心思想：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2349360"/>
            <a:ext cx="72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诗人运用凝练的笔触，围绕一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字铺开，层次分明的勾勒出一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图，表现了诗人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喜爱和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向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42920" y="2852640"/>
            <a:ext cx="12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游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68360" y="335772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色彩明丽的江南农村风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427640" y="378936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农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484360" y="4292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农村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000920" y="189000"/>
            <a:ext cx="21430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语典故：柳暗花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陆游是南宋著名的爱国诗人。他的诗抒发了抗金爱国的情怀，一度得到孝宗的赏识，所以入朝当了军器少监。但朝中的投降派百般排挤他，不断上书皇帝，诬陷他终日赏花吟诗，不务正业，皇帝偏听偏信，结果陆游被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   陆游怀着满腔的愤怒，回到老家绍兴闲居。一天，陆游前往山西村拜访友人，友人及左邻右舍听说陆游来访，都热情地接待他，家家户户摆酒设宴相迎。那淳朴的民风使陆游十分感动，他诗兴大发，写下诗篇《游山西村》。诗中有这样两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山重水复疑无路，柳暗花明又一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   诗句既描绘了大自然的景象，又表达了诗人对未来寄予希望的心境。“柳暗花明”后用来比喻环境的突然转变；也比喻在困难中遇到转机，在错综复杂的情况下找到了解决问题的方法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260280"/>
            <a:ext cx="309564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知识链接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1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9640" y="69228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765000"/>
            <a:ext cx="655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诗词五首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3213000"/>
            <a:ext cx="50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过故人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孟浩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4292640"/>
            <a:ext cx="4716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461280" y="189000"/>
            <a:ext cx="268272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260280"/>
            <a:ext cx="3095640" cy="8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知识链接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2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5" name=""/>
          <p:cNvSpPr/>
          <p:nvPr/>
        </p:nvSpPr>
        <p:spPr>
          <a:xfrm>
            <a:off x="539640" y="1628640"/>
            <a:ext cx="7993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古人作诗有所谓“脱化”之法，即在前人诗句的基础上加以改造，使有新意。陆诗“山重水复疑无路，柳暗花明又一村”一联也是脱化前人诗句的结果，例如： 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遥看云木秀，初疑路不同。安知流转处，忽与前山通。” 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——王维《蓝田山石门精舍》 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青山缭绕疑无路，忽见千帆隐映来。” 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安石《江上》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152960" y="2600280"/>
            <a:ext cx="4991040" cy="4257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684360" y="1628640"/>
            <a:ext cx="731520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作业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抄写两首诗歌两遍，并背诵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78" name=""/>
          <p:cNvSpPr/>
          <p:nvPr/>
        </p:nvSpPr>
        <p:spPr>
          <a:xfrm>
            <a:off x="2627280" y="3068640"/>
            <a:ext cx="20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7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990720" y="4267080"/>
            <a:ext cx="4419360" cy="16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油菜烂漫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 rot="5400000">
            <a:off x="5211360" y="3246480"/>
            <a:ext cx="3521160" cy="1904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cc"/>
                    </a:gs>
                    <a:gs pos="100000">
                      <a:srgbClr val="66ffff"/>
                    </a:gs>
                  </a:gsLst>
                  <a:lin ang="0"/>
                </a:gradFill>
                <a:latin typeface="华文新魏"/>
              </a:rPr>
              <a:t>牛羊散漫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cc"/>
                  </a:gs>
                  <a:gs pos="100000">
                    <a:srgbClr val="66ffff"/>
                  </a:gs>
                </a:gsLst>
                <a:lin ang="0"/>
              </a:gradFill>
              <a:latin typeface="华文新魏"/>
              <a:ea typeface="华文新魏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 rot="21090000">
            <a:off x="4266720" y="3962520"/>
            <a:ext cx="373392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cc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新魏"/>
              </a:rPr>
              <a:t>宁静恬美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cc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1285200">
            <a:off x="5028840" y="228600"/>
            <a:ext cx="35812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宽广开阔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4648320" y="4867200"/>
            <a:ext cx="3524040" cy="199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cc00"/>
                </a:solidFill>
                <a:latin typeface="华文彩云"/>
              </a:rPr>
              <a:t>朴实自然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cc00"/>
              </a:solidFill>
              <a:latin typeface="华文彩云"/>
              <a:ea typeface="华文彩云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124080" y="533520"/>
            <a:ext cx="37339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清新宜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0" y="-36360"/>
            <a:ext cx="9144000" cy="6930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371600" y="4038480"/>
            <a:ext cx="6319800" cy="148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54"/>
                <a:gd name="adj2" fmla="val -1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6666ff"/>
                    </a:gs>
                    <a:gs pos="100000">
                      <a:srgbClr val="ffcccc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方正姚体"/>
              </a:rPr>
              <a:t>田园风光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6666ff"/>
                  </a:gs>
                  <a:gs pos="100000">
                    <a:srgbClr val="ffcccc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方正姚体"/>
              <a:ea typeface="方正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14400" y="15238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孟浩然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89---74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襄阳人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唐代山水田园派诗人代表之一，与王维齐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代表作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《过故人庄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生活在盛唐开元年间，当时社会安定，经济繁荣政治清明。诗人一生没有作过官，基本上过着隐居生活，早年主要在家闭门苦读，四十岁时，来到长安，渴望出仕，但长安之行，求官失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除赢得诗坛盛名之外，失意而归。其诗风平易清淡，有超妙之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19520" y="304920"/>
            <a:ext cx="3581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华文新魏"/>
              </a:rPr>
              <a:t>走近诗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287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2" action="ppaction://hlinksldjump"/>
          </p:cNvPr>
          <p:cNvSpPr/>
          <p:nvPr/>
        </p:nvSpPr>
        <p:spPr>
          <a:xfrm>
            <a:off x="539640" y="1844640"/>
            <a:ext cx="73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故人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具鸡黍，邀我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至田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35280" y="-243000"/>
            <a:ext cx="4176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过故人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3" action="ppaction://hlinksldjump"/>
          </p:cNvPr>
          <p:cNvSpPr/>
          <p:nvPr/>
        </p:nvSpPr>
        <p:spPr>
          <a:xfrm>
            <a:off x="611280" y="25653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绿树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村边合，青山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郭外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4" action="ppaction://hlinksldjump"/>
          </p:cNvPr>
          <p:cNvSpPr/>
          <p:nvPr/>
        </p:nvSpPr>
        <p:spPr>
          <a:xfrm>
            <a:off x="539640" y="357336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开轩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面场圃，把酒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话桑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5" action="ppaction://hlinksldjump"/>
          </p:cNvPr>
          <p:cNvSpPr/>
          <p:nvPr/>
        </p:nvSpPr>
        <p:spPr>
          <a:xfrm>
            <a:off x="250920" y="4581360"/>
            <a:ext cx="806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待到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重阳日，还来</a:t>
            </a: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／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就菊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615520" y="644364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443640" y="1268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孟浩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84360" y="1341360"/>
            <a:ext cx="1368360" cy="574920"/>
          </a:xfrm>
          <a:prstGeom prst="wedgeEllipseCallout">
            <a:avLst>
              <a:gd name="adj1" fmla="val -45708"/>
              <a:gd name="adj2" fmla="val 698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h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067280" y="3141720"/>
            <a:ext cx="1296720" cy="574560"/>
          </a:xfrm>
          <a:prstGeom prst="wedgeEllipseCallout">
            <a:avLst>
              <a:gd name="adj1" fmla="val -45101"/>
              <a:gd name="adj2" fmla="val 698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179280" y="0"/>
            <a:ext cx="1728720" cy="1646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195640" y="3284640"/>
            <a:ext cx="792000" cy="431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xuǎ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40360" y="6825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探望老朋友的田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5003640" y="5661000"/>
            <a:ext cx="10810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8192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9040" y="1514520"/>
            <a:ext cx="491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故人具鸡黍，邀我至田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8096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过故人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2081160"/>
            <a:ext cx="49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绿树村边合，青山郭外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2638440"/>
            <a:ext cx="483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开轩面场圃，把酒话桑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3138480"/>
            <a:ext cx="49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待到重阳日，还来就菊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886360" y="838080"/>
            <a:ext cx="3048120" cy="5181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8615520" y="644364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81080" y="3981600"/>
            <a:ext cx="5562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333399"/>
                </a:solidFill>
                <a:latin typeface="Times New Roman"/>
              </a:rPr>
              <a:t>这是一首田园诗，描写农家恬静闲适的生活情景，也写老朋友的情谊。诗由“邀”到“至”到“望”又到“约”一径写去，自然流畅。语言朴实无华，意境清新隽永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2" action="ppaction://hlinksldjump"/>
          </p:cNvPr>
          <p:cNvSpPr/>
          <p:nvPr/>
        </p:nvSpPr>
        <p:spPr>
          <a:xfrm>
            <a:off x="1619280" y="184464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故人具鸡黍，邀我至田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03640" y="404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过故人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1619280" y="256536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绿树村边合，青山郭外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3573360"/>
            <a:ext cx="64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开轩面场圃，把酒话桑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4581360"/>
            <a:ext cx="662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待到重阳日，还来就菊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8615520" y="644364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443640" y="126828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孟浩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728720" cy="1646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8101080" y="4292640"/>
            <a:ext cx="71892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8192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137160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故人具鸡   黍，邀我至田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6200" y="1905120"/>
            <a:ext cx="712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8648640" y="6462720"/>
            <a:ext cx="417600" cy="396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604960" y="2133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准备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0120" y="1905120"/>
            <a:ext cx="7128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710160" y="2119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小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0120" y="331956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写朋友邀我作客。“具鸡黍”、“至田家”，朴朴实实的叙述，表现了老朋友之间的真挚的感情，洋溢着愉悦的田家情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198108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绿树村边合，青山郭外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615520" y="646272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09480" y="411480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写山村风光。绿树环抱村庄，这是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近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；郭外青山逶迤，那是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远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。由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近及远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，景色越来越开阔，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Times New Roman"/>
              </a:rPr>
              <a:t>一派清幽恬静的气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81280" y="2590920"/>
            <a:ext cx="71640" cy="7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040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环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00560" y="255744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271944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外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3:42:52Z</dcterms:created>
  <dc:creator>User</dc:creator>
  <dc:description/>
  <dc:language>en-US</dc:language>
  <cp:lastModifiedBy>User</cp:lastModifiedBy>
  <dcterms:modified xsi:type="dcterms:W3CDTF">2013-09-02T13:47:04Z</dcterms:modified>
  <cp:revision>13</cp:revision>
  <dc:subject/>
  <dc:title>幻灯片 1</dc:title>
</cp:coreProperties>
</file>