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chimes.wav" ContentType="audio/x-wav"/>
  <Override PartName="/ppt/media/image12.jpeg" ContentType="image/jpeg"/>
  <Override PartName="/ppt/media/image11.png" ContentType="image/png"/>
  <Override PartName="/ppt/media/image14.png" ContentType="image/png"/>
  <Override PartName="/ppt/media/image9.png" ContentType="image/png"/>
  <Override PartName="/ppt/media/type.wav" ContentType="audio/x-wav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laser.wav" ContentType="audio/x-wav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2F2D-5669-4912-9143-12DAE056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B893-1380-4CDC-9B1D-7EBD6F49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C850-8BEE-492F-BA0F-73C8F066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91DD-DC68-4472-A0A6-920A2EDE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ABB5-F8E7-4E6A-B8D9-35AF9FB3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C7D9-68C5-48BA-AC8F-5F47F183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7B3C-B05F-4836-862C-578EB0A9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6A12-B60B-40E1-9936-CC76D4D5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FC01-7F3B-4E8B-8285-BD65506B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B66B-C096-4570-AB38-41F26CE3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D85B-4AD2-4B17-9A11-4A035783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4AB3-1D48-4751-9A1A-6F1A5F22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C242-35E6-4500-8246-763D812D35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2708280"/>
            <a:ext cx="802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知识目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掌握文学常识和相关字词                                                  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能力目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合作感知农家生活的朴实与故人的热情                                    </a:t>
            </a: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情感目标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体会诗人对田园生活的热爱之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87280" y="692280"/>
            <a:ext cx="33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Arial"/>
              </a:rPr>
              <a:t>故人具鸡黍，邀我至田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Arial"/>
              </a:rPr>
              <a:t>绿树村边合，青山郭外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Arial"/>
              </a:rPr>
              <a:t>开轩面场圃，把酒话桑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Arial"/>
              </a:rPr>
              <a:t>待到重阳日，还来就菊花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1253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老友备好了丰盛的饭菜，邀我到他的田舍做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19280" y="256536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村外绿树环绕，村子的四周青山斜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4221000"/>
            <a:ext cx="37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5589720"/>
            <a:ext cx="40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407664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打开窗子面对打谷场和菜园，把酒对饮畅谈农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5516640"/>
            <a:ext cx="799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等到九月重阳节的那一天，我还要来饮酒赏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04920" y="0"/>
            <a:ext cx="30477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疏通大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533520"/>
            <a:ext cx="3581640" cy="3886200"/>
          </a:xfrm>
          <a:prstGeom prst="wedgeRoundRectCallout">
            <a:avLst>
              <a:gd name="adj1" fmla="val -66754"/>
              <a:gd name="adj2" fmla="val 6609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7621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诗人应邀赴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1320" y="160020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欣赏田园风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24382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享受农家情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32767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再约重阳欢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2666880"/>
            <a:ext cx="3809880" cy="342900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3581280"/>
            <a:ext cx="289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为什么诗人临走时要主动相约重阳再聚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309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诗歌探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读了此诗，你觉得它讲述了一件什么事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从这首诗中你体会到诗人怎样的感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诗中描写田园风光的是哪句？用了什么修辞手法？再找一句运用相同修辞的句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278136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黑体"/>
              </a:rPr>
              <a:t>（孟浩然接受一位老朋友的邀请，来到乡村做客的事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332000" y="386064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黑体"/>
              </a:rPr>
              <a:t>（诗人与故人的真挚友情和对田园生活的向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5805360"/>
            <a:ext cx="65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580536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黑体"/>
              </a:rPr>
              <a:t>绿树村边合，青山郭外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08360" y="5805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黑体"/>
              </a:rPr>
              <a:t>对仗（对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80000" y="616572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80000" y="5950080"/>
            <a:ext cx="41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黑体"/>
              </a:rPr>
              <a:t>开轩面场圃，把酒话桑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948360" y="333360"/>
            <a:ext cx="18558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酒话桑麻”中的“桑麻”指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假设你就处在当时的环境当中，你会与故人说些什么话？（用现代话语表达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476280"/>
            <a:ext cx="2057400" cy="50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拓展延伸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3429000"/>
            <a:ext cx="7920000" cy="29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真是太感谢你为我准备了这么丰富的菜肴，下次欢迎你到我家去做客。</a:t>
            </a: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（你们这儿真美，真想一直住在这儿啊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（今年的收成怎么样？还好，有可能是个大丰收。）</a:t>
            </a:r>
            <a:br>
              <a:rPr sz="2400"/>
            </a:b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深情厚意只在淡淡的几句询问农事中，就在这悠然举杯饮酒，闲谈农事中。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708360" y="1773360"/>
            <a:ext cx="1584360" cy="67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农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396200" y="189000"/>
            <a:ext cx="17478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本诗描绘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自然风光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农家生活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达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4000" y="189000"/>
            <a:ext cx="6114960" cy="135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总结中心思想：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7" name=""/>
          <p:cNvSpPr/>
          <p:nvPr/>
        </p:nvSpPr>
        <p:spPr>
          <a:xfrm>
            <a:off x="3492360" y="1916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农村秀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76360" y="256536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恬淡闲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835280" y="342900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诗人与故人的真挚友情和对田园生活的向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856560" y="189000"/>
            <a:ext cx="22874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152960" y="2600280"/>
            <a:ext cx="4991040" cy="4257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684360" y="1628640"/>
            <a:ext cx="731520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作业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抄写诗歌，并背诵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3" name=""/>
          <p:cNvSpPr/>
          <p:nvPr/>
        </p:nvSpPr>
        <p:spPr>
          <a:xfrm>
            <a:off x="2627280" y="3068640"/>
            <a:ext cx="20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49920" y="3343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翻译诗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828800" y="1295280"/>
            <a:ext cx="5257800" cy="239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ff7c8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彩云"/>
              </a:rPr>
              <a:t>过故人庄</a:t>
            </a:r>
            <a:endParaRPr b="1" lang="en-US" sz="40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ff7c8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486400" y="3886200"/>
            <a:ext cx="21337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孟浩然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1844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故人具鸡黍，邀我至田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03640" y="404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过故人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256536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绿树村边合，青山郭外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3573360"/>
            <a:ext cx="64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开轩面场圃，把酒话桑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92360" y="4581360"/>
            <a:ext cx="662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待到重阳日，还来就菊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8615520" y="644364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443640" y="1268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孟浩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11640" y="1125360"/>
            <a:ext cx="1368360" cy="574920"/>
          </a:xfrm>
          <a:prstGeom prst="wedgeEllipseCallout">
            <a:avLst>
              <a:gd name="adj1" fmla="val -45708"/>
              <a:gd name="adj2" fmla="val 698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3141720"/>
            <a:ext cx="1296720" cy="574560"/>
          </a:xfrm>
          <a:prstGeom prst="wedgeEllipseCallout">
            <a:avLst>
              <a:gd name="adj1" fmla="val -45101"/>
              <a:gd name="adj2" fmla="val 698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72360" y="4869000"/>
            <a:ext cx="647640" cy="720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27760" y="185868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朗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8192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78920" y="1341360"/>
            <a:ext cx="8713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以反映田园生活、描绘山水景物为主要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代表人物有盛唐的王维、孟浩然、储光羲、常建等，中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韦应物、柳宗元等。其中以王维成就为高，他是诗人，又是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家，能以画理通之于诗，诗中有画，画中有诗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文人的隐逸情怀也与山水田园诗的形成有紧密的关系，但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际并非为隐而隐，而是酿成了一种向往自然、追求超然独立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文化心态和崇尚自然的审美趣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孟浩然除了《过故人庄》以外还有《宿建德江》、《临洞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湖赠张丞相》表现其高雅情怀和闲情逸致。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山水田园诗派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14400" y="1523880"/>
            <a:ext cx="7238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孟浩然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89---74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襄阳人，唐代山水田园派诗人代表之一，与王维齐名，代表作《过故人庄》，生活在盛唐开元年间，当时社会安定，经济繁荣政治清明。诗人一生没有作过官，基本上过着隐居生活，早年主要在家闭门苦读，四十岁时，来到长安，渴望出仕，但长安之行，求官失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除赢得诗坛盛名之外，失意而归。其诗风平易清淡，有超妙之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819520" y="304920"/>
            <a:ext cx="3581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新魏"/>
              </a:rPr>
              <a:t>走近诗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287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05120" y="13716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故人具鸡   黍，邀我至田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6200" y="1905120"/>
            <a:ext cx="7128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648640" y="6462720"/>
            <a:ext cx="417600" cy="396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604960" y="2133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准备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10120" y="1905120"/>
            <a:ext cx="7128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10160" y="2119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小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0120" y="331956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写朋友邀我作客。“具鸡黍”、“至田家”，朴朴实实的叙述，表现了老朋友之间的真挚的感情，洋溢着愉悦的田家情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19810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绿树村边合，青山郭外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8615520" y="64627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09480" y="41148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写山村风光。绿树环抱村庄，这是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近景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；郭外青山逶迤，那是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远景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。由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近及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景色越来越开阔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一派清幽恬静的气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1280" y="2590920"/>
            <a:ext cx="7164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环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00560" y="255744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271944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外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21337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 轩   面    场圃，把酒话桑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8605800" y="6432480"/>
            <a:ext cx="409680" cy="4064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295280" y="3581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写把酒闲话。轩窗一开，扑面而来的是谷场和菜圃，远处是绿树、青山，知心朋友们喝着酒，谈谈农事，风儿送来阵阵泥土和庄稼的气息。这田园风味简直令人陶醉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19400" y="266688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90920" y="266688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57560" y="2828880"/>
            <a:ext cx="22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农家的小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09880" y="2819520"/>
            <a:ext cx="10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窗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43320" y="2662200"/>
            <a:ext cx="7128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16765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待到重阳日，还来就菊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624880" y="6448320"/>
            <a:ext cx="449280" cy="400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19320" y="38098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写诗人告诉朋友：重阳节我还到你家，喝菊花酒。朋友间那种融洽的感情、诗人对田园的喜爱溢于言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43480" y="2238480"/>
            <a:ext cx="7164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38600" y="24764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靠近。这里指欣赏的意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3:42:52Z</dcterms:created>
  <dc:creator>User</dc:creator>
  <dc:description/>
  <dc:language>en-US</dc:language>
  <cp:lastModifiedBy>User</cp:lastModifiedBy>
  <dcterms:modified xsi:type="dcterms:W3CDTF">2013-09-15T06:11:59Z</dcterms:modified>
  <cp:revision>15</cp:revision>
  <dc:subject/>
  <dc:title>幻灯片 1</dc:title>
</cp:coreProperties>
</file>