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218-E697-42A8-8D56-9C3D6DBE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09-7D58-4717-82A1-2BD533F8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A27-0A4E-40E8-9DB8-D3A73D84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692-2FD2-4935-A6DB-7559E42C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CBBAF-4F53-4026-931B-8C9D8C3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673F-AC5B-41DE-937A-FCE925C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80FF1-5F43-482E-BD32-E1B9AD0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65D9-5560-4418-86BC-1E3DABB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7FAC-E96F-44D3-96CE-662220A9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18B3-E25E-4349-9BDD-8BC10F1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17ACF-5733-424B-A2D6-77CA371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1C1-DF64-4F3C-8A78-F1215A5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C7040-35B5-4404-8460-EF9B885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656F-1CDD-430C-B08F-3473BBD4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A7960-2638-493B-B00B-6C292CB8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06F7-FBA4-4AE9-B085-9D7F30F8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72442-3950-4312-95E0-D36B5E1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F01-009D-456C-9332-9BD0063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792-DA5F-4732-A2CC-20B87809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DC6-A0E0-4109-AA46-61E6B8A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615-8B09-4260-A5BB-D2690A6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67A-D74A-43F0-8EE8-0F193B39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C10-2DA8-432F-A7B6-0F0FDF8B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6A7-0C24-432C-9777-4A8A668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0B8F-86BA-4A19-82AB-A9909C37A92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1A57-72FA-49FE-A8B4-F00A07EE1E5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844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《观潮》说课教案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81040" y="4373640"/>
            <a:ext cx="18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说课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熊安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439560" y="249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76280"/>
            <a:ext cx="7921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说教材目标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教学目标分析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学习课文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——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然段了解大潮汹涌而来的壮观气势，领略这“天下奇观”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学习作者有顺序，抓住特点的观察方法培养留心周围事物的习惯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有感情地朗读课文、背诵课文三、四自然段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体会作者对祖国大好河山的赞美之情，激发学生的爱国主义情感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62000" y="2706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125360"/>
            <a:ext cx="770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说教材重点、难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潮来之时是全文的重点，作者描写的特别细致。“浪潮越来越近——颤动起来”是重点句体现大潮的非凡气势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根据作者的描述来想象大潮到来之时的样子，从而培养学生的想象能力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为什么在盐官镇这个地方会有这样的潮汐变化这是学生学习的难点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900000" y="2281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12536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二、说教学方法与手段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教学方法的设计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多媒体直观法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质疑问难法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自主、合作、探究法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以读代讲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711360" y="1855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0464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三、说教学过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新课导入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问题导入：想知道什么是潮汐吗？潮汐的变化有什么特点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上网查询有关“潮汐”的资料，了解潮汐变化的特点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情境导入：想看看盐官镇地带的涨潮时潮水涌来的样子吗？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 播放影音资料，用自己的语言概括大潮的特点，学生谈观潮的感受汇报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066680"/>
            <a:ext cx="7696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画出钱塘江大潮变化的样子，体会作者的观察顺序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小组合作学习：把你认为最惊心动魄的句子找出来读一读、并说一说为什么有这种感受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朗读背诵：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激发情境、巩固练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教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总结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   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、知识扩展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0" y="256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36232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04640"/>
            <a:ext cx="91440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说板书设计</a:t>
            </a:r>
            <a:br>
              <a:rPr sz="32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潮来前       江面平静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观潮      潮来时    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条白线    横贯江面    白色城墙    白色战马</a:t>
            </a:r>
            <a:br>
              <a:rPr sz="24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                       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（隆隆的响声 响声越来越大 如同山崩地裂）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 潮头过后      余波涌来      恢复平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1:35:49Z</dcterms:created>
  <dc:creator>HP User</dc:creator>
  <dc:description/>
  <dc:language>en-US</dc:language>
  <cp:lastModifiedBy>COMMON</cp:lastModifiedBy>
  <dcterms:modified xsi:type="dcterms:W3CDTF">2006-12-22T06:42:28Z</dcterms:modified>
  <cp:revision>4</cp:revision>
  <dc:subject/>
  <dc:title>PowerPoint 演示文稿</dc:title>
</cp:coreProperties>
</file>