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19.jpeg" ContentType="image/jpeg"/>
  <Override PartName="/ppt/media/image24.png" ContentType="image/png"/>
  <Override PartName="/ppt/media/image11.jpeg" ContentType="image/jpeg"/>
  <Override PartName="/ppt/media/image6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1.jpeg" ContentType="image/jpeg"/>
  <Override PartName="/ppt/media/AQUEDUCT.WAV" ContentType="audio/x-wav"/>
  <Override PartName="/ppt/media/image5.png" ContentType="image/png"/>
  <Override PartName="/ppt/media/image8.png" ContentType="image/png"/>
  <Override PartName="/ppt/media/image28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jpeg" ContentType="image/jpeg"/>
  <Override PartName="/ppt/media/image23.jpeg" ContentType="image/jpeg"/>
  <Override PartName="/ppt/media/image10.jpeg" ContentType="image/jpeg"/>
  <Override PartName="/ppt/media/image14.png" ContentType="image/png"/>
  <Override PartName="/ppt/media/image16.jpeg" ContentType="image/jpeg"/>
  <Override PartName="/ppt/media/image15.png" ContentType="image/png"/>
  <Override PartName="/ppt/media/image18.jpeg" ContentType="image/jpeg"/>
  <Override PartName="/ppt/media/image20.jpeg" ContentType="image/jpeg"/>
  <Override PartName="/ppt/media/image29.png" ContentType="image/png"/>
  <Override PartName="/ppt/media/image21.jpeg" ContentType="image/jpeg"/>
  <Override PartName="/ppt/media/EUSOUB.wav" ContentType="audio/x-wav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CE90-0470-4CE9-A6FE-B1144D2C1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A872-BB64-4BED-9B31-29FF1CDBB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96DF-0980-4DB8-BD27-B98E4B89D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EBB4-F254-4B7E-BF93-AE3E31240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BC21-873E-4014-AD78-A98BCF7F9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9332-D95B-4395-8FBA-FF1909E47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CC50-4E75-4854-94FA-A2ADB431F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E136-0C45-42D7-9A23-661DAD69A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B543-93B1-4EFA-967A-C6EFDBB25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7A66-A5AE-44EC-B827-EFC138CF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E5FE-8334-4D06-BDA9-83A8F0506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C5E1-0FFA-4D4B-B595-FECC0337B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D2D42-E693-4D8E-A581-4D1AF1D35A0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QUEDUCT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file:///tmp/home/.config/libreoffice/4/user/gallery/j0075026.wav" TargetMode="External"/><Relationship Id="rId3" Type="http://schemas.microsoft.com/office/2007/relationships/media" Target="file:///tmp/home/.config/libreoffice/4/user/gallery/j0075026.wav" TargetMode="External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EUSOUB.wav"/><Relationship Id="rId2" Type="http://schemas.openxmlformats.org/officeDocument/2006/relationships/audio" Target="../media/EUSOUB.wav"/><Relationship Id="rId3" Type="http://schemas.openxmlformats.org/officeDocument/2006/relationships/audio" Target="../media/EUSOUB.wav"/><Relationship Id="rId4" Type="http://schemas.openxmlformats.org/officeDocument/2006/relationships/audio" Target="../media/EUSOUB.wav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tmp/home/.config/libreoffice/4/user/gallery/&#33756;&#21333;&#21629;&#20196;.wav" TargetMode="External"/><Relationship Id="rId3" Type="http://schemas.openxmlformats.org/officeDocument/2006/relationships/image" Target="../media/image3.png"/><Relationship Id="rId4" Type="http://schemas.openxmlformats.org/officeDocument/2006/relationships/hyperlink" Target="file:///tmp/home/.config/libreoffice/4/user/gallery/&#33756;&#21333;&#21629;&#20196;.wav" TargetMode="External"/><Relationship Id="rId5" Type="http://schemas.openxmlformats.org/officeDocument/2006/relationships/image" Target="../media/image4.png"/><Relationship Id="rId6" Type="http://schemas.openxmlformats.org/officeDocument/2006/relationships/slide" Target=""/><Relationship Id="rId7" Type="http://schemas.openxmlformats.org/officeDocument/2006/relationships/image" Target="../media/image5.png"/><Relationship Id="rId8" Type="http://schemas.openxmlformats.org/officeDocument/2006/relationships/hyperlink" Target="file:///tmp/home/.config/libreoffice/4/user/gallery/&#33756;&#21333;&#21629;&#20196;.wav" TargetMode="External"/><Relationship Id="rId9" Type="http://schemas.openxmlformats.org/officeDocument/2006/relationships/image" Target="../media/image6.png"/><Relationship Id="rId10" Type="http://schemas.openxmlformats.org/officeDocument/2006/relationships/slide" Target=""/><Relationship Id="rId11" Type="http://schemas.openxmlformats.org/officeDocument/2006/relationships/image" Target="../media/image7.png"/><Relationship Id="rId12" Type="http://schemas.openxmlformats.org/officeDocument/2006/relationships/hyperlink" Target="file:///tmp/home/.config/libreoffice/4/user/gallery/&#33756;&#21333;&#21629;&#20196;.wav" TargetMode="External"/><Relationship Id="rId13" Type="http://schemas.openxmlformats.org/officeDocument/2006/relationships/image" Target="../media/image8.png"/><Relationship Id="rId14" Type="http://schemas.openxmlformats.org/officeDocument/2006/relationships/hyperlink" Target="file:///tmp/home/.config/libreoffice/4/user/gallery/&#33756;&#21333;&#21629;&#20196;.wav" TargetMode="External"/><Relationship Id="rId15" Type="http://schemas.openxmlformats.org/officeDocument/2006/relationships/image" Target="../media/image3.png"/><Relationship Id="rId16" Type="http://schemas.openxmlformats.org/officeDocument/2006/relationships/image" Target="../media/image9.png"/><Relationship Id="rId1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image" Target="../media/image27.png"/><Relationship Id="rId3" Type="http://schemas.openxmlformats.org/officeDocument/2006/relationships/slide" Target="slide40.xml"/><Relationship Id="rId4" Type="http://schemas.openxmlformats.org/officeDocument/2006/relationships/image" Target="../media/image27.png"/><Relationship Id="rId5" Type="http://schemas.openxmlformats.org/officeDocument/2006/relationships/slide" Target="slide39.xml"/><Relationship Id="rId6" Type="http://schemas.openxmlformats.org/officeDocument/2006/relationships/image" Target="../media/image27.png"/><Relationship Id="rId7" Type="http://schemas.openxmlformats.org/officeDocument/2006/relationships/slide" Target="slide38.xml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15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" Target="slide5.xml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QUEDUCT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166680"/>
            <a:ext cx="9144000" cy="7024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057400" y="1371600"/>
            <a:ext cx="50292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2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99ff"/>
                    </a:gs>
                    <a:gs pos="100000">
                      <a:srgbClr val="3399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新魏"/>
              </a:rPr>
              <a:t>观潮</a:t>
            </a:r>
            <a:endParaRPr b="1" lang="en-US" sz="24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99ff"/>
                  </a:gs>
                  <a:gs pos="100000">
                    <a:srgbClr val="3399ff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</p:spTree>
  </p:cSld>
  <p:transition spd="med">
    <p:checker dir="horz"/>
    <p:sndAc>
      <p:stSnd>
        <p:snd r:embed="rId2" name="AQUEDUCT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-92160" y="-4680"/>
            <a:ext cx="923616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  <a:ea typeface="楷体_GB2312"/>
              </a:rPr>
              <a:t>       </a:t>
            </a:r>
            <a:r>
              <a:rPr b="1" lang="zh-CN" sz="4400" spc="-1" strike="noStrike">
                <a:solidFill>
                  <a:srgbClr val="3333cc"/>
                </a:solidFill>
                <a:latin typeface="Tahoma"/>
                <a:ea typeface="楷体_GB2312"/>
              </a:rPr>
              <a:t>宽阔的钱塘江横卧在眼前。江面很平静，越往东越宽，在雨后的阳光下，笼罩着一层蒙蒙的薄雾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2265480"/>
            <a:ext cx="9144000" cy="45925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0" y="0"/>
            <a:ext cx="88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镇海古塔、中山亭和观潮台屹立在江边远处，几座小山在云雾中若隐若现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d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75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75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38160">
            <a:solidFill>
              <a:srgbClr val="ffff99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1619280" y="14760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ahoma"/>
                <a:ea typeface="楷体_GB2312"/>
              </a:rPr>
              <a:t>       </a:t>
            </a:r>
            <a:r>
              <a:rPr b="1" lang="zh-CN" sz="4400" spc="-1" strike="noStrike">
                <a:solidFill>
                  <a:srgbClr val="3333cc"/>
                </a:solidFill>
                <a:latin typeface="Tahoma"/>
                <a:ea typeface="楷体_GB2312"/>
              </a:rPr>
              <a:t>江潮还没有来，海塘大堤上早已人山人海。大家昂首东望，等着，盼着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7924680" y="6019920"/>
            <a:ext cx="838440" cy="53316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60" h="21600">
                <a:moveTo>
                  <a:pt x="0" y="0"/>
                </a:moveTo>
                <a:lnTo>
                  <a:pt x="33960" y="0"/>
                </a:lnTo>
                <a:lnTo>
                  <a:pt x="33960" y="21600"/>
                </a:lnTo>
                <a:lnTo>
                  <a:pt x="0" y="21600"/>
                </a:lnTo>
                <a:close/>
              </a:path>
              <a:path fill="lightenLess" w="33960" h="21600">
                <a:moveTo>
                  <a:pt x="0" y="0"/>
                </a:moveTo>
                <a:lnTo>
                  <a:pt x="33960" y="0"/>
                </a:lnTo>
                <a:lnTo>
                  <a:pt x="32560" y="1400"/>
                </a:lnTo>
                <a:lnTo>
                  <a:pt x="1400" y="1400"/>
                </a:lnTo>
                <a:close/>
              </a:path>
              <a:path fill="darken" w="33960" h="21600">
                <a:moveTo>
                  <a:pt x="33960" y="0"/>
                </a:moveTo>
                <a:lnTo>
                  <a:pt x="33960" y="21600"/>
                </a:lnTo>
                <a:lnTo>
                  <a:pt x="32560" y="20200"/>
                </a:lnTo>
                <a:lnTo>
                  <a:pt x="32560" y="1400"/>
                </a:lnTo>
                <a:close/>
              </a:path>
              <a:path fill="darkenLess" w="33960" h="21600">
                <a:moveTo>
                  <a:pt x="339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60" y="20200"/>
                </a:lnTo>
                <a:close/>
              </a:path>
              <a:path fill="lighten" w="339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60" h="21600">
                <a:moveTo>
                  <a:pt x="9973" y="7493"/>
                </a:moveTo>
                <a:lnTo>
                  <a:pt x="13481" y="7493"/>
                </a:lnTo>
                <a:lnTo>
                  <a:pt x="13481" y="12828"/>
                </a:lnTo>
                <a:cubicBezTo>
                  <a:pt x="13481" y="13751"/>
                  <a:pt x="14282" y="14482"/>
                  <a:pt x="15317" y="14482"/>
                </a:cubicBezTo>
                <a:lnTo>
                  <a:pt x="16980" y="14482"/>
                </a:lnTo>
                <a:cubicBezTo>
                  <a:pt x="18015" y="14482"/>
                  <a:pt x="18816" y="13751"/>
                  <a:pt x="18816" y="12828"/>
                </a:cubicBezTo>
                <a:lnTo>
                  <a:pt x="18816" y="7493"/>
                </a:lnTo>
                <a:lnTo>
                  <a:pt x="16980" y="7493"/>
                </a:lnTo>
                <a:lnTo>
                  <a:pt x="20487" y="3985"/>
                </a:lnTo>
                <a:lnTo>
                  <a:pt x="24160" y="7493"/>
                </a:lnTo>
                <a:lnTo>
                  <a:pt x="22324" y="7493"/>
                </a:lnTo>
                <a:lnTo>
                  <a:pt x="22324" y="12828"/>
                </a:lnTo>
                <a:cubicBezTo>
                  <a:pt x="22324" y="15596"/>
                  <a:pt x="19748" y="18155"/>
                  <a:pt x="16980" y="18155"/>
                </a:cubicBezTo>
                <a:lnTo>
                  <a:pt x="15317" y="18155"/>
                </a:lnTo>
                <a:cubicBezTo>
                  <a:pt x="12550" y="18155"/>
                  <a:pt x="9973" y="15596"/>
                  <a:pt x="9973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92360" y="1557360"/>
            <a:ext cx="2016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916360" y="2276640"/>
            <a:ext cx="2663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380360" y="632448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666880" y="1295280"/>
            <a:ext cx="8077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ahoma"/>
                <a:ea typeface="黑体"/>
              </a:rPr>
              <a:t>午后一点左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8028000" y="632448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6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0" dur="3065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95"/>
                </p:tgtEl>
              </p:cMediaNode>
            </p:audio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85800" y="533520"/>
            <a:ext cx="6934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ahoma"/>
                <a:ea typeface="黑体"/>
              </a:rPr>
              <a:t>过了一会儿…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8077320" y="1522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8610480" y="15228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d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3065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85800" y="533520"/>
            <a:ext cx="45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ahoma"/>
                <a:ea typeface="黑体"/>
              </a:rPr>
              <a:t>一条白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8153280" y="304920"/>
            <a:ext cx="533520" cy="5331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1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85800" y="533520"/>
            <a:ext cx="6478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ahoma"/>
                <a:ea typeface="黑体"/>
              </a:rPr>
              <a:t>那条白线…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8229600" y="30492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85800" y="533520"/>
            <a:ext cx="335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ahoma"/>
                <a:ea typeface="黑体"/>
              </a:rPr>
              <a:t>横贯江面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8305920" y="228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85800" y="533520"/>
            <a:ext cx="45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ahoma"/>
                <a:ea typeface="黑体"/>
              </a:rPr>
              <a:t>再近些…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8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8305920" y="228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85800" y="533520"/>
            <a:ext cx="373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ahoma"/>
                <a:ea typeface="黑体"/>
              </a:rPr>
              <a:t>白色城墙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785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8153280" y="228600"/>
            <a:ext cx="838440" cy="8380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" dur="1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f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260280"/>
            <a:ext cx="7417080" cy="74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宽阔  笼罩  薄雾  若隐若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昂首东望  鼎沸   风平浪静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水天相接  沸腾  横贯江面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齐头并进  浩浩荡荡  奔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山崩地裂  漫天卷地  依旧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风号浪吼  恢复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785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8305920" y="2286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6" dur="1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85800" y="533520"/>
            <a:ext cx="6324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ahoma"/>
                <a:ea typeface="黑体"/>
              </a:rPr>
              <a:t>浪潮越来越近…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8381880" y="1522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2" dur="1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685800" y="533520"/>
            <a:ext cx="3505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ahoma"/>
                <a:ea typeface="黑体"/>
              </a:rPr>
              <a:t>白色战马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877080" y="580536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8172360" y="59500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200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3" dur="2135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7238880" y="2286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8229600" y="22860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9" dur="1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211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4" dur="2135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f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609480"/>
            <a:ext cx="7554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ahoma"/>
                <a:ea typeface="楷体_GB2312"/>
              </a:rPr>
              <a:t>午后一点左右，…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1949400"/>
            <a:ext cx="6781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ahoma"/>
                <a:ea typeface="楷体_GB2312"/>
              </a:rPr>
              <a:t>过了一会儿，…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3290760"/>
            <a:ext cx="6019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ahoma"/>
                <a:ea typeface="楷体_GB2312"/>
              </a:rPr>
              <a:t>再近些，…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4632480"/>
            <a:ext cx="7770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ahoma"/>
                <a:ea typeface="楷体_GB2312"/>
              </a:rPr>
              <a:t>浪潮越来越近，…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USOU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USOU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USOU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35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USOU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353960" y="187200"/>
            <a:ext cx="573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楷体_GB2312"/>
              </a:rPr>
              <a:t>午后一点左右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73160" y="1828800"/>
            <a:ext cx="587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楷体_GB2312"/>
              </a:rPr>
              <a:t>过了一会儿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8900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Tahoma"/>
                <a:ea typeface="楷体_GB2312"/>
              </a:rPr>
              <a:t>    </a:t>
            </a:r>
            <a:r>
              <a:rPr b="1" lang="zh-CN" sz="5400" spc="-1" strike="noStrike">
                <a:solidFill>
                  <a:srgbClr val="3333cc"/>
                </a:solidFill>
                <a:latin typeface="Tahoma"/>
                <a:ea typeface="楷体_GB2312"/>
              </a:rPr>
              <a:t>（                    ）从远处传来隆隆的响声，好像闷雷滚动。（                  ）响声越来越大，只见东边水天相接的地方出现了一条白线，人群又沸腾起来。那条白线很快地向我们移来，逐渐拉长、变粗，横贯江面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404640"/>
            <a:ext cx="91440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Tahoma"/>
                <a:ea typeface="楷体_GB2312"/>
              </a:rPr>
              <a:t>     </a:t>
            </a:r>
            <a:r>
              <a:rPr b="1" lang="zh-CN" sz="4800" spc="-1" strike="noStrike">
                <a:solidFill>
                  <a:srgbClr val="3333cc"/>
                </a:solidFill>
                <a:latin typeface="Tahoma"/>
                <a:ea typeface="楷体_GB2312"/>
              </a:rPr>
              <a:t>（          ）只见白浪翻滚，形成一道两丈多高的白色城墙。    （                     ）犹如千万匹白色战马齐头并进，浩浩荡荡地飞奔而来；那声音如同山崩地裂，好像大地都被震得颤动起来。</a:t>
            </a:r>
            <a:r>
              <a:rPr b="1" lang="zh-CN" sz="48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1989000"/>
            <a:ext cx="5170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ahoma"/>
                <a:ea typeface="楷体_GB2312"/>
              </a:rPr>
              <a:t>浪潮越来越近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0200" y="40464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ahoma"/>
                <a:ea typeface="楷体_GB2312"/>
              </a:rPr>
              <a:t>再近些，</a:t>
            </a: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楷体_GB2312"/>
              </a:rPr>
              <a:t>       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9280" y="2060640"/>
            <a:ext cx="79218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003640" y="2708280"/>
            <a:ext cx="36007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0920" y="3500280"/>
            <a:ext cx="44654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54200" y="4221000"/>
            <a:ext cx="55468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39640" y="130320"/>
            <a:ext cx="7993080" cy="65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293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96" dur="1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556000" y="549360"/>
            <a:ext cx="39607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闷雷滚动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700360" y="2133720"/>
            <a:ext cx="4176720" cy="16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隶书"/>
              </a:rPr>
              <a:t>越来越大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411280" y="4653000"/>
            <a:ext cx="4897440" cy="146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隶书"/>
              </a:rPr>
              <a:t>山崩地裂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3333cc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6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556000" y="549360"/>
            <a:ext cx="41036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ffcc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一条白线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50000">
                    <a:srgbClr val="00ffcc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411280" y="3284640"/>
            <a:ext cx="4176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83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66cc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隶书"/>
              </a:rPr>
              <a:t>白色城墙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50000">
                    <a:srgbClr val="66ccff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195640" y="1700280"/>
            <a:ext cx="48974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隶书"/>
              </a:rPr>
              <a:t>拉长变粗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3333cc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484360" y="5013360"/>
            <a:ext cx="4103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66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隶书"/>
              </a:rPr>
              <a:t>白色战马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66ffff"/>
                  </a:gs>
                  <a:gs pos="100000">
                    <a:srgbClr val="ffffff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1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659640" y="4941720"/>
            <a:ext cx="895320" cy="8956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580000" y="5013360"/>
            <a:ext cx="793800" cy="793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4500720" y="4941720"/>
            <a:ext cx="830160" cy="830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419640" y="4941720"/>
            <a:ext cx="830160" cy="8305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2340000" y="4869000"/>
            <a:ext cx="923760" cy="9237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76320" y="4967280"/>
            <a:ext cx="830160" cy="8301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52280" y="5943600"/>
            <a:ext cx="914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ahoma"/>
              </a:rPr>
              <a:t>简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68360" y="5950080"/>
            <a:ext cx="122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ahoma"/>
              </a:rPr>
              <a:t>潮来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48000" y="5950080"/>
            <a:ext cx="12952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ahoma"/>
              </a:rPr>
              <a:t>潮来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7885080" y="494172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427640" y="5950080"/>
            <a:ext cx="13716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ahoma"/>
              </a:rPr>
              <a:t>潮过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580000" y="5950080"/>
            <a:ext cx="11048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ahoma"/>
              </a:rPr>
              <a:t>背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732720" y="5950080"/>
            <a:ext cx="9903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ahoma"/>
              </a:rPr>
              <a:t>小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962840" y="5950080"/>
            <a:ext cx="11811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ahoma"/>
              </a:rPr>
              <a:t>练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828800" y="1371600"/>
            <a:ext cx="50292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2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3366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华文彩云"/>
              </a:rPr>
              <a:t>观潮</a:t>
            </a:r>
            <a:endParaRPr b="1" lang="en-US" sz="2400" spc="1" strike="noStrike">
              <a:ln w="12600">
                <a:solidFill>
                  <a:srgbClr val="ff00ff"/>
                </a:solidFill>
                <a:miter/>
              </a:ln>
              <a:solidFill>
                <a:srgbClr val="3366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62" name=""/>
          <p:cNvSpPr/>
          <p:nvPr/>
        </p:nvSpPr>
        <p:spPr>
          <a:xfrm>
            <a:off x="1187280" y="5084640"/>
            <a:ext cx="5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26920" y="59500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课文范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6"/>
          <a:stretch/>
        </p:blipFill>
        <p:spPr>
          <a:xfrm>
            <a:off x="1187280" y="4941720"/>
            <a:ext cx="865440" cy="8654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5" dur="indefinite" restart="never" nodeType="tmRoot">
          <p:childTnLst>
            <p:seq>
              <p:cTn id="16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178805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457200" y="152280"/>
            <a:ext cx="3124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ahoma"/>
              </a:rPr>
              <a:t>声音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1219320"/>
            <a:ext cx="1013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闷雷滚动——越来越大——山崩地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219320" y="2133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7543800" y="2133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4343400" y="2133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57200" y="2590920"/>
            <a:ext cx="3200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ahoma"/>
              </a:rPr>
              <a:t>景象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3687840"/>
            <a:ext cx="9144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风平浪静—— 一条白线——横贯江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——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白色城墙——白色战马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d"/>
  </p:transition>
  <p:timing>
    <p:tnLst>
      <p:par>
        <p:cTn id="364" dur="indefinite" restart="never" nodeType="tmRoot">
          <p:childTnLst>
            <p:seq>
              <p:cTn id="365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366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9" dur="9072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0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371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4" dur="6458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5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376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9" dur="11178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99ff">
                  <a:alpha val="68235"/>
                </a:srgbClr>
              </a:gs>
              <a:gs pos="100000">
                <a:srgbClr val="cc0099">
                  <a:alpha val="7333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124000" y="836640"/>
            <a:ext cx="151128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远处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643280" y="692280"/>
            <a:ext cx="3313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水天相接的地方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476360" y="2276640"/>
            <a:ext cx="259092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水天相接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076720" y="2276640"/>
            <a:ext cx="2664000" cy="74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向前移动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124000" y="3860640"/>
            <a:ext cx="208764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4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再近些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219640" y="3789360"/>
            <a:ext cx="259236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8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越来越近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835280" y="5084640"/>
            <a:ext cx="59767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从远至近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66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95280" y="669960"/>
            <a:ext cx="8280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午后一点左右，从（        ）传来闷雷滚动的声音。（              ）响声越来越大，在东边（              ）的地方，出现了一条白线，白线（              ）变粗拉长，（            ）形成了白色城墙。那浪（           ），犹如白色战马齐头并进，发出山崩地裂的响声。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24000" y="0"/>
            <a:ext cx="842472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ahoma"/>
                <a:ea typeface="楷体_GB2312"/>
              </a:rPr>
              <a:t>      </a:t>
            </a:r>
            <a:r>
              <a:rPr b="1" lang="zh-CN" sz="4800" spc="-1" strike="noStrike">
                <a:solidFill>
                  <a:srgbClr val="ff3300"/>
                </a:solidFill>
                <a:latin typeface="Tahoma"/>
                <a:ea typeface="楷体_GB2312"/>
              </a:rPr>
              <a:t>午后一点左右，（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ahoma"/>
                <a:ea typeface="楷体_GB2312"/>
              </a:rPr>
              <a:t>                                            </a:t>
            </a:r>
            <a:r>
              <a:rPr b="1" lang="zh-CN" sz="4800" spc="-1" strike="noStrike">
                <a:solidFill>
                  <a:srgbClr val="ff3300"/>
                </a:solidFill>
                <a:latin typeface="Tahoma"/>
                <a:ea typeface="楷体_GB2312"/>
              </a:rPr>
              <a:t>）       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68360" y="1639800"/>
            <a:ext cx="8209080" cy="48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ahoma"/>
                <a:ea typeface="楷体_GB2312"/>
              </a:rPr>
              <a:t>      </a:t>
            </a:r>
            <a:r>
              <a:rPr b="1" lang="zh-CN" sz="4800" spc="-1" strike="noStrike">
                <a:solidFill>
                  <a:srgbClr val="ff3300"/>
                </a:solidFill>
                <a:latin typeface="Tahoma"/>
                <a:ea typeface="楷体_GB2312"/>
              </a:rPr>
              <a:t>过了一会儿，（  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ahoma"/>
                <a:ea typeface="楷体_GB2312"/>
              </a:rPr>
              <a:t>         </a:t>
            </a:r>
            <a:r>
              <a:rPr b="1" lang="zh-CN" sz="4800" spc="-1" strike="noStrike">
                <a:solidFill>
                  <a:srgbClr val="ff3300"/>
                </a:solidFill>
                <a:latin typeface="Tahoma"/>
                <a:ea typeface="楷体_GB2312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60360" y="0"/>
            <a:ext cx="878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Tahoma"/>
                <a:ea typeface="楷体_GB2312"/>
              </a:rPr>
              <a:t>                             </a:t>
            </a:r>
            <a:r>
              <a:rPr b="1" lang="zh-CN" sz="4800" spc="-1" strike="noStrike">
                <a:solidFill>
                  <a:srgbClr val="3333cc"/>
                </a:solidFill>
                <a:latin typeface="Tahoma"/>
                <a:ea typeface="楷体_GB2312"/>
              </a:rPr>
              <a:t>从远处传来隆隆的响声，好像闷雷滚动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95280" y="1844640"/>
            <a:ext cx="849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                                  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响声越来越大，只见东边水天相接的地方出现了一条白线，人群又沸腾起来。那条白线很快地向我们移来，逐渐拉长、变粗，横贯江面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95280" y="2492280"/>
            <a:ext cx="82803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ahoma"/>
                <a:ea typeface="楷体_GB2312"/>
              </a:rPr>
              <a:t>犹如千万匹白色战马齐头并进，浩浩荡荡地飞奔而来；那声音如同山崩地裂，好像大地都被震得颤动起来。</a:t>
            </a:r>
            <a:r>
              <a:rPr b="1" lang="zh-CN" sz="48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9640" y="333360"/>
            <a:ext cx="7704360" cy="82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ahoma"/>
                <a:ea typeface="楷体_GB2312"/>
              </a:rPr>
              <a:t>      </a:t>
            </a:r>
            <a:r>
              <a:rPr b="1" lang="zh-CN" sz="4800" spc="-1" strike="noStrike">
                <a:solidFill>
                  <a:srgbClr val="ff3300"/>
                </a:solidFill>
                <a:latin typeface="Tahoma"/>
                <a:ea typeface="楷体_GB2312"/>
              </a:rPr>
              <a:t>再近些，（               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ahoma"/>
                <a:ea typeface="楷体_GB2312"/>
              </a:rPr>
              <a:t>           </a:t>
            </a:r>
            <a:r>
              <a:rPr b="1" lang="zh-CN" sz="4800" spc="-1" strike="noStrike">
                <a:solidFill>
                  <a:srgbClr val="ff3300"/>
                </a:solidFill>
                <a:latin typeface="Tahoma"/>
                <a:ea typeface="楷体_GB2312"/>
              </a:rPr>
              <a:t>）浪潮越来越近，（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ahoma"/>
                <a:ea typeface="楷体_GB2312"/>
              </a:rPr>
              <a:t>                             </a:t>
            </a:r>
            <a:r>
              <a:rPr b="1" lang="zh-CN" sz="4800" spc="-1" strike="noStrike">
                <a:solidFill>
                  <a:srgbClr val="ff3300"/>
                </a:solidFill>
                <a:latin typeface="Tahoma"/>
                <a:ea typeface="楷体_GB2312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楷体_GB2312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812000" y="602136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37" h="21600">
                <a:moveTo>
                  <a:pt x="9962" y="7493"/>
                </a:moveTo>
                <a:lnTo>
                  <a:pt x="13469" y="7493"/>
                </a:lnTo>
                <a:lnTo>
                  <a:pt x="13469" y="12828"/>
                </a:lnTo>
                <a:cubicBezTo>
                  <a:pt x="13469" y="13751"/>
                  <a:pt x="14270" y="14482"/>
                  <a:pt x="15306" y="14482"/>
                </a:cubicBezTo>
                <a:lnTo>
                  <a:pt x="16968" y="14482"/>
                </a:lnTo>
                <a:cubicBezTo>
                  <a:pt x="18004" y="14482"/>
                  <a:pt x="18805" y="13751"/>
                  <a:pt x="18805" y="12828"/>
                </a:cubicBezTo>
                <a:lnTo>
                  <a:pt x="18805" y="7493"/>
                </a:lnTo>
                <a:lnTo>
                  <a:pt x="16968" y="7493"/>
                </a:lnTo>
                <a:lnTo>
                  <a:pt x="20476" y="3985"/>
                </a:lnTo>
                <a:lnTo>
                  <a:pt x="24149" y="7493"/>
                </a:lnTo>
                <a:lnTo>
                  <a:pt x="22312" y="7493"/>
                </a:lnTo>
                <a:lnTo>
                  <a:pt x="22312" y="12828"/>
                </a:lnTo>
                <a:cubicBezTo>
                  <a:pt x="22312" y="15596"/>
                  <a:pt x="19736" y="18155"/>
                  <a:pt x="16968" y="18155"/>
                </a:cubicBezTo>
                <a:lnTo>
                  <a:pt x="15306" y="18155"/>
                </a:lnTo>
                <a:cubicBezTo>
                  <a:pt x="12538" y="18155"/>
                  <a:pt x="9962" y="15596"/>
                  <a:pt x="9962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68360" y="33336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ahoma"/>
                <a:ea typeface="楷体_GB2312"/>
              </a:rPr>
              <a:t>                       </a:t>
            </a:r>
            <a:r>
              <a:rPr b="1" lang="zh-CN" sz="4800" spc="-1" strike="noStrike">
                <a:solidFill>
                  <a:srgbClr val="3333cc"/>
                </a:solidFill>
                <a:latin typeface="Tahoma"/>
                <a:ea typeface="楷体_GB2312"/>
              </a:rPr>
              <a:t>只见白浪翻滚，形成一道两丈多高的白色城墙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93432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8237880" y="76320"/>
            <a:ext cx="850680" cy="678168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  <a:ea typeface="楷体_GB2312"/>
              </a:rPr>
              <a:t>        </a:t>
            </a:r>
            <a:r>
              <a:rPr b="1" lang="zh-CN" sz="4400" spc="-1" strike="noStrike">
                <a:solidFill>
                  <a:srgbClr val="3333cc"/>
                </a:solidFill>
                <a:latin typeface="Tahoma"/>
                <a:ea typeface="楷体_GB2312"/>
              </a:rPr>
              <a:t>霎时，潮头奔腾去，可是余波还在漫天卷地地涌来，江面上依旧风号浪吼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7" dur="1" fill="hold"/>
                                        <p:tgtEl>
                                          <p:spTgt spid="1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1028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8369640" y="81000"/>
            <a:ext cx="850680" cy="677700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ahoma"/>
                <a:ea typeface="楷体_GB2312"/>
              </a:rPr>
              <a:t>       </a:t>
            </a:r>
            <a:r>
              <a:rPr b="1" lang="zh-CN" sz="4400" spc="-1" strike="noStrike">
                <a:solidFill>
                  <a:srgbClr val="3333cc"/>
                </a:solidFill>
                <a:latin typeface="Tahoma"/>
                <a:ea typeface="楷体_GB2312"/>
              </a:rPr>
              <a:t>过了好久，钱塘江才恢复了平静。看看堤下，江水已经涨了两丈来高了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rId2" action="ppaction://hlinksldjump"/>
          </p:cNvPr>
          <p:cNvSpPr/>
          <p:nvPr/>
        </p:nvSpPr>
        <p:spPr>
          <a:xfrm>
            <a:off x="228600" y="617220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9955" y="7493"/>
                </a:moveTo>
                <a:lnTo>
                  <a:pt x="13462" y="7493"/>
                </a:lnTo>
                <a:lnTo>
                  <a:pt x="13462" y="12828"/>
                </a:lnTo>
                <a:cubicBezTo>
                  <a:pt x="13462" y="13751"/>
                  <a:pt x="14263" y="14482"/>
                  <a:pt x="15299" y="14482"/>
                </a:cubicBezTo>
                <a:lnTo>
                  <a:pt x="16961" y="14482"/>
                </a:lnTo>
                <a:cubicBezTo>
                  <a:pt x="17997" y="14482"/>
                  <a:pt x="18798" y="13751"/>
                  <a:pt x="18798" y="12828"/>
                </a:cubicBezTo>
                <a:lnTo>
                  <a:pt x="18798" y="7493"/>
                </a:lnTo>
                <a:lnTo>
                  <a:pt x="16961" y="7493"/>
                </a:lnTo>
                <a:lnTo>
                  <a:pt x="20469" y="3985"/>
                </a:lnTo>
                <a:lnTo>
                  <a:pt x="24142" y="7493"/>
                </a:lnTo>
                <a:lnTo>
                  <a:pt x="22305" y="7493"/>
                </a:lnTo>
                <a:lnTo>
                  <a:pt x="22305" y="12828"/>
                </a:lnTo>
                <a:cubicBezTo>
                  <a:pt x="22305" y="15596"/>
                  <a:pt x="19729" y="18155"/>
                  <a:pt x="16961" y="18155"/>
                </a:cubicBezTo>
                <a:lnTo>
                  <a:pt x="15299" y="18155"/>
                </a:lnTo>
                <a:cubicBezTo>
                  <a:pt x="12531" y="18155"/>
                  <a:pt x="9955" y="15596"/>
                  <a:pt x="9955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533520"/>
            <a:ext cx="533520" cy="5257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136800 h 5257800"/>
              <a:gd name="textAreaBottom" fmla="*/ 5121000 h 5257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3520" y="30492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描写顺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4920" y="26668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描写角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" y="54100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描写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362320" y="30492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从远到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835280" y="1773360"/>
            <a:ext cx="304560" cy="2590560"/>
          </a:xfrm>
          <a:custGeom>
            <a:avLst/>
            <a:gdLst>
              <a:gd name="textAreaLeft" fmla="*/ 194760 w 304560"/>
              <a:gd name="textAreaRight" fmla="*/ 304920 w 30456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133720" y="14479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形：仅如银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133720" y="21337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色：玉城雪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209680" y="28954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声：声如雷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86000" y="373392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势：吞天沃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81080" y="4876920"/>
            <a:ext cx="228600" cy="1676160"/>
          </a:xfrm>
          <a:custGeom>
            <a:avLst/>
            <a:gdLst>
              <a:gd name="textAreaLeft" fmla="*/ 146160 w 228600"/>
              <a:gd name="textAreaRight" fmla="*/ 228960 w 22860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09680" y="47242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比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09680" y="533412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夸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00400" y="6095880"/>
            <a:ext cx="914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60199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引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643280" y="1628640"/>
            <a:ext cx="304920" cy="2438640"/>
          </a:xfrm>
          <a:custGeom>
            <a:avLst/>
            <a:gdLst>
              <a:gd name="textAreaLeft" fmla="*/ 0 w 304920"/>
              <a:gd name="textAreaRight" fmla="*/ 110160 w 304920"/>
              <a:gd name="textAreaTop" fmla="*/ 63360 h 2438640"/>
              <a:gd name="textAreaBottom" fmla="*/ 2375280 h 243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029200" y="13716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把海潮从远方奔涌到眼前时的形状、颜色、声势都生动地表现了出来，绘声绘色表现了涌潮这一 壮美雄奇的景观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059280" y="4869000"/>
            <a:ext cx="228600" cy="838080"/>
          </a:xfrm>
          <a:custGeom>
            <a:avLst/>
            <a:gdLst>
              <a:gd name="textAreaLeft" fmla="*/ 0 w 228600"/>
              <a:gd name="textAreaRight" fmla="*/ 82440 w 22860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29000" y="48769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渲染潮涌之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348000" y="602136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简单概述，引起下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495680" y="3886200"/>
            <a:ext cx="171720" cy="1713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495680" y="3048120"/>
            <a:ext cx="171720" cy="1713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419720" y="2362320"/>
            <a:ext cx="171360" cy="1713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419720" y="1676520"/>
            <a:ext cx="171360" cy="1713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8532720" y="6453360"/>
            <a:ext cx="611280" cy="404640"/>
          </a:xfrm>
          <a:custGeom>
            <a:avLst/>
            <a:gdLst>
              <a:gd name="textAreaLeft" fmla="*/ 25920 w 611280"/>
              <a:gd name="textAreaRight" fmla="*/ 585360 w 6112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2621" h="21600">
                <a:moveTo>
                  <a:pt x="0" y="0"/>
                </a:moveTo>
                <a:lnTo>
                  <a:pt x="32621" y="0"/>
                </a:lnTo>
                <a:lnTo>
                  <a:pt x="32621" y="21600"/>
                </a:lnTo>
                <a:lnTo>
                  <a:pt x="0" y="21600"/>
                </a:lnTo>
                <a:close/>
              </a:path>
              <a:path fill="lightenLess" w="32621" h="21600">
                <a:moveTo>
                  <a:pt x="0" y="0"/>
                </a:moveTo>
                <a:lnTo>
                  <a:pt x="32621" y="0"/>
                </a:lnTo>
                <a:lnTo>
                  <a:pt x="31221" y="1400"/>
                </a:lnTo>
                <a:lnTo>
                  <a:pt x="1400" y="1400"/>
                </a:lnTo>
                <a:close/>
              </a:path>
              <a:path fill="darken" w="32621" h="21600">
                <a:moveTo>
                  <a:pt x="32621" y="0"/>
                </a:moveTo>
                <a:lnTo>
                  <a:pt x="32621" y="21600"/>
                </a:lnTo>
                <a:lnTo>
                  <a:pt x="31221" y="20200"/>
                </a:lnTo>
                <a:lnTo>
                  <a:pt x="31221" y="1400"/>
                </a:lnTo>
                <a:close/>
              </a:path>
              <a:path fill="darkenLess" w="32621" h="21600">
                <a:moveTo>
                  <a:pt x="326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21" y="20200"/>
                </a:lnTo>
                <a:close/>
              </a:path>
              <a:path fill="lighten" w="326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621" h="21600">
                <a:moveTo>
                  <a:pt x="9304" y="7493"/>
                </a:moveTo>
                <a:lnTo>
                  <a:pt x="12812" y="7493"/>
                </a:lnTo>
                <a:lnTo>
                  <a:pt x="12812" y="12828"/>
                </a:lnTo>
                <a:cubicBezTo>
                  <a:pt x="12812" y="13751"/>
                  <a:pt x="13612" y="14482"/>
                  <a:pt x="14648" y="14482"/>
                </a:cubicBezTo>
                <a:lnTo>
                  <a:pt x="16310" y="14482"/>
                </a:lnTo>
                <a:cubicBezTo>
                  <a:pt x="17346" y="14482"/>
                  <a:pt x="18147" y="13751"/>
                  <a:pt x="18147" y="12828"/>
                </a:cubicBezTo>
                <a:lnTo>
                  <a:pt x="18147" y="7493"/>
                </a:lnTo>
                <a:lnTo>
                  <a:pt x="16310" y="7493"/>
                </a:lnTo>
                <a:lnTo>
                  <a:pt x="19818" y="3985"/>
                </a:lnTo>
                <a:lnTo>
                  <a:pt x="23491" y="7493"/>
                </a:lnTo>
                <a:lnTo>
                  <a:pt x="21654" y="7493"/>
                </a:lnTo>
                <a:lnTo>
                  <a:pt x="21654" y="12828"/>
                </a:lnTo>
                <a:cubicBezTo>
                  <a:pt x="21654" y="15596"/>
                  <a:pt x="19078" y="18155"/>
                  <a:pt x="16310" y="18155"/>
                </a:cubicBezTo>
                <a:lnTo>
                  <a:pt x="14648" y="18155"/>
                </a:lnTo>
                <a:cubicBezTo>
                  <a:pt x="11880" y="18155"/>
                  <a:pt x="9304" y="15596"/>
                  <a:pt x="9304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609480" y="457200"/>
            <a:ext cx="5029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仅如银线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305920" y="6095880"/>
            <a:ext cx="552240" cy="5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533520" y="228600"/>
            <a:ext cx="6476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玉城雪岭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8610480" y="632448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396360" cy="3048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00ffff">
                  <a:alpha val="50196"/>
                </a:srgbClr>
              </a:gs>
              <a:gs pos="100000">
                <a:srgbClr val="00cc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钱塘江大潮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　　钱塘江大潮是出现在浙江省杭州湾钱塘江口的涌潮，每年都吸引众多中外游客来观看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0" y="3068640"/>
            <a:ext cx="9258480" cy="37893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75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75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7696080" y="6248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762120" y="533520"/>
            <a:ext cx="6248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声如雷霆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8381880" y="6248520"/>
            <a:ext cx="53352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0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1" dur="1" fill="hold"/>
                                        <p:tgtEl>
                                          <p:spTgt spid="2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380880" y="60948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86200" y="457200"/>
            <a:ext cx="525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吞天沃日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52280" y="6324480"/>
            <a:ext cx="171720" cy="1717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4"/>
          <a:stretch/>
        </p:blipFill>
        <p:spPr>
          <a:xfrm>
            <a:off x="8381880" y="6248520"/>
            <a:ext cx="53352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66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11280" y="1844640"/>
            <a:ext cx="828036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今天，我去宁海观潮。潮来之前，江面上（              ）。潮来时（          ），潮水声犹如（         ）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海堤上尽管（          ），但是听不清人们在说什么。渐渐的，潮过去了，消失在（          ）的地方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24000" y="404640"/>
            <a:ext cx="1511280" cy="9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639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练习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30" name=""/>
          <p:cNvSpPr/>
          <p:nvPr/>
        </p:nvSpPr>
        <p:spPr>
          <a:xfrm>
            <a:off x="8028000" y="602136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9955" y="7493"/>
                </a:moveTo>
                <a:lnTo>
                  <a:pt x="13462" y="7493"/>
                </a:lnTo>
                <a:lnTo>
                  <a:pt x="13462" y="12828"/>
                </a:lnTo>
                <a:cubicBezTo>
                  <a:pt x="13462" y="13751"/>
                  <a:pt x="14263" y="14482"/>
                  <a:pt x="15299" y="14482"/>
                </a:cubicBezTo>
                <a:lnTo>
                  <a:pt x="16961" y="14482"/>
                </a:lnTo>
                <a:cubicBezTo>
                  <a:pt x="17997" y="14482"/>
                  <a:pt x="18798" y="13751"/>
                  <a:pt x="18798" y="12828"/>
                </a:cubicBezTo>
                <a:lnTo>
                  <a:pt x="18798" y="7493"/>
                </a:lnTo>
                <a:lnTo>
                  <a:pt x="16961" y="7493"/>
                </a:lnTo>
                <a:lnTo>
                  <a:pt x="20469" y="3985"/>
                </a:lnTo>
                <a:lnTo>
                  <a:pt x="24142" y="7493"/>
                </a:lnTo>
                <a:lnTo>
                  <a:pt x="22305" y="7493"/>
                </a:lnTo>
                <a:lnTo>
                  <a:pt x="22305" y="12828"/>
                </a:lnTo>
                <a:cubicBezTo>
                  <a:pt x="22305" y="15596"/>
                  <a:pt x="19729" y="18155"/>
                  <a:pt x="16961" y="18155"/>
                </a:cubicBezTo>
                <a:lnTo>
                  <a:pt x="15299" y="18155"/>
                </a:lnTo>
                <a:cubicBezTo>
                  <a:pt x="12531" y="18155"/>
                  <a:pt x="9955" y="15596"/>
                  <a:pt x="9955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3094200"/>
            <a:ext cx="9258480" cy="37638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0" y="0"/>
            <a:ext cx="9468000" cy="210492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   </a:t>
            </a:r>
            <a:r>
              <a:rPr b="1" lang="zh-CN" sz="4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每逢农历</a:t>
            </a:r>
            <a:r>
              <a:rPr b="1" lang="zh-CN" sz="4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8</a:t>
            </a:r>
            <a:r>
              <a:rPr b="1" lang="zh-CN" sz="4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月</a:t>
            </a:r>
            <a:r>
              <a:rPr b="1" lang="zh-CN" sz="4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18</a:t>
            </a:r>
            <a:r>
              <a:rPr b="1" lang="zh-CN" sz="4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日，来浙江海宁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带观潮的人，成群结队，络绎不绝。我国的钱塘江大潮，世界著名。历来被誉为“天下奇观”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3760" y="131760"/>
            <a:ext cx="912024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  <a:ea typeface="楷体_GB2312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  <a:ea typeface="楷体_GB2312"/>
              </a:rPr>
              <a:t>农历八月十八是一年一度的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  <a:ea typeface="楷体_GB2312"/>
              </a:rPr>
              <a:t>潮日。这一天早上，我们来到了海宁县的盐官镇，据说这里是观潮最好的地方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956720" y="602136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9955" y="7493"/>
                </a:moveTo>
                <a:lnTo>
                  <a:pt x="13462" y="7493"/>
                </a:lnTo>
                <a:lnTo>
                  <a:pt x="13462" y="12828"/>
                </a:lnTo>
                <a:cubicBezTo>
                  <a:pt x="13462" y="13751"/>
                  <a:pt x="14263" y="14482"/>
                  <a:pt x="15299" y="14482"/>
                </a:cubicBezTo>
                <a:lnTo>
                  <a:pt x="16961" y="14482"/>
                </a:lnTo>
                <a:cubicBezTo>
                  <a:pt x="17997" y="14482"/>
                  <a:pt x="18798" y="13751"/>
                  <a:pt x="18798" y="12828"/>
                </a:cubicBezTo>
                <a:lnTo>
                  <a:pt x="18798" y="7493"/>
                </a:lnTo>
                <a:lnTo>
                  <a:pt x="16961" y="7493"/>
                </a:lnTo>
                <a:lnTo>
                  <a:pt x="20469" y="3985"/>
                </a:lnTo>
                <a:lnTo>
                  <a:pt x="24142" y="7493"/>
                </a:lnTo>
                <a:lnTo>
                  <a:pt x="22305" y="7493"/>
                </a:lnTo>
                <a:lnTo>
                  <a:pt x="22305" y="12828"/>
                </a:lnTo>
                <a:cubicBezTo>
                  <a:pt x="22305" y="15596"/>
                  <a:pt x="19729" y="18155"/>
                  <a:pt x="16961" y="18155"/>
                </a:cubicBezTo>
                <a:lnTo>
                  <a:pt x="15299" y="18155"/>
                </a:lnTo>
                <a:cubicBezTo>
                  <a:pt x="12531" y="18155"/>
                  <a:pt x="9955" y="15596"/>
                  <a:pt x="9955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75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75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f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828800" y="1219320"/>
            <a:ext cx="3352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潮来前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2438280"/>
            <a:ext cx="251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潮来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971800" y="3809880"/>
            <a:ext cx="23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潮退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-166680"/>
            <a:ext cx="9144000" cy="70246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835280" y="836640"/>
            <a:ext cx="669744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八月十八潮，壮观天下无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——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北宋 苏东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619280" y="333360"/>
            <a:ext cx="70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Times New Roman"/>
                <a:ea typeface="华文新魏"/>
              </a:rPr>
              <a:t>钱塘江大潮，自古以来被称为“天下奇观”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  <p:sndAc>
      <p:stSnd>
        <p:snd r:embed="rId2" name="AQUEDUCT.WAV"/>
      </p:stSnd>
    </p:sndAc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895480" y="1143000"/>
            <a:ext cx="3657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观潮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828800" y="3429000"/>
            <a:ext cx="60199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天下奇观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83" name=""/>
          <p:cNvSpPr/>
          <p:nvPr/>
        </p:nvSpPr>
        <p:spPr>
          <a:xfrm>
            <a:off x="3733920" y="2438280"/>
            <a:ext cx="457200" cy="381240"/>
          </a:xfrm>
          <a:prstGeom prst="flowChartConnector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0" y="4876920"/>
            <a:ext cx="457200" cy="380880"/>
          </a:xfrm>
          <a:prstGeom prst="flowChartConnector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956720" y="602136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9955" y="7493"/>
                </a:moveTo>
                <a:lnTo>
                  <a:pt x="13462" y="7493"/>
                </a:lnTo>
                <a:lnTo>
                  <a:pt x="13462" y="12828"/>
                </a:lnTo>
                <a:cubicBezTo>
                  <a:pt x="13462" y="13751"/>
                  <a:pt x="14263" y="14482"/>
                  <a:pt x="15299" y="14482"/>
                </a:cubicBezTo>
                <a:lnTo>
                  <a:pt x="16961" y="14482"/>
                </a:lnTo>
                <a:cubicBezTo>
                  <a:pt x="17997" y="14482"/>
                  <a:pt x="18798" y="13751"/>
                  <a:pt x="18798" y="12828"/>
                </a:cubicBezTo>
                <a:lnTo>
                  <a:pt x="18798" y="7493"/>
                </a:lnTo>
                <a:lnTo>
                  <a:pt x="16961" y="7493"/>
                </a:lnTo>
                <a:lnTo>
                  <a:pt x="20469" y="3985"/>
                </a:lnTo>
                <a:lnTo>
                  <a:pt x="24142" y="7493"/>
                </a:lnTo>
                <a:lnTo>
                  <a:pt x="22305" y="7493"/>
                </a:lnTo>
                <a:lnTo>
                  <a:pt x="22305" y="12828"/>
                </a:lnTo>
                <a:cubicBezTo>
                  <a:pt x="22305" y="15596"/>
                  <a:pt x="19729" y="18155"/>
                  <a:pt x="16961" y="18155"/>
                </a:cubicBezTo>
                <a:lnTo>
                  <a:pt x="15299" y="18155"/>
                </a:lnTo>
                <a:cubicBezTo>
                  <a:pt x="12531" y="18155"/>
                  <a:pt x="9955" y="15596"/>
                  <a:pt x="9955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2T04:48:06Z</dcterms:created>
  <dc:creator>fz</dc:creator>
  <dc:description/>
  <dc:language>en-US</dc:language>
  <cp:lastModifiedBy>User</cp:lastModifiedBy>
  <dcterms:modified xsi:type="dcterms:W3CDTF">2012-09-06T07:43:08Z</dcterms:modified>
  <cp:revision>97</cp:revision>
  <dc:subject/>
  <dc:title>PowerPoint 演示文稿</dc:title>
</cp:coreProperties>
</file>