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12.jpeg" ContentType="image/jpeg"/>
  <Override PartName="/ppt/media/image6.png" ContentType="image/png"/>
  <Override PartName="/ppt/media/image5.gif" ContentType="image/gif"/>
  <Override PartName="/ppt/media/image14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010-C437-4406-B407-5A4CDA31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94B-BB89-48F5-AADF-FDC03D61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3BE2-832E-459E-BA69-DA2319CA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6D4-FFA2-46E8-A72A-15FC70D8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C3B-0D60-4080-B0DA-8A3A0F69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3C5-3F49-404C-A2A7-95791BE6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DE8-C3AE-4F61-A03C-9D7C1DAE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B19-765B-4586-A02C-2D96C787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110-BE71-4140-AF4B-E09DB9F4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56F4-1CED-45F5-825F-3BC2744C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585-A18D-476A-B874-9356FD0C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3AE-1CE6-4397-944A-3DFB1A07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2007-5C0B-47CF-9492-D786C0B878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12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360" y="1197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请听，再说说你听到了什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572000" cy="324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638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908000" y="1916280"/>
            <a:ext cx="5185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文鼎淹水体"/>
              </a:rPr>
              <a:t>观潮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文鼎淹水体"/>
              <a:ea typeface="文鼎淹水体"/>
            </a:endParaRPr>
          </a:p>
        </p:txBody>
      </p:sp>
      <p:sp>
        <p:nvSpPr>
          <p:cNvPr id="46" name=""/>
          <p:cNvSpPr/>
          <p:nvPr/>
        </p:nvSpPr>
        <p:spPr>
          <a:xfrm>
            <a:off x="2527560" y="733320"/>
            <a:ext cx="410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人教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S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版四年级上册语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451640" y="4508640"/>
            <a:ext cx="649440" cy="792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236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635280" y="1557360"/>
            <a:ext cx="792360" cy="6476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rcRect l="18233" t="55143" r="16736" b="16104"/>
          <a:stretch/>
        </p:blipFill>
        <p:spPr>
          <a:xfrm>
            <a:off x="0" y="2333520"/>
            <a:ext cx="7236000" cy="4524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76360" y="3716280"/>
            <a:ext cx="2590920" cy="15112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6036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潮来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3284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潮来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49417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潮过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2205000"/>
            <a:ext cx="289080" cy="1079640"/>
          </a:xfrm>
          <a:prstGeom prst="downArrow">
            <a:avLst>
              <a:gd name="adj1" fmla="val 50000"/>
              <a:gd name="adj2" fmla="val 93369"/>
            </a:avLst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933720"/>
            <a:ext cx="288720" cy="1079640"/>
          </a:xfrm>
          <a:prstGeom prst="downArrow">
            <a:avLst>
              <a:gd name="adj1" fmla="val 50000"/>
              <a:gd name="adj2" fmla="val 93485"/>
            </a:avLst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8100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课文的写作顺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1268280"/>
            <a:ext cx="53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默读写“潮来前”的段落，思考：这一段介绍了什么？主要描写了什么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90792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观潮的时间——农历八月十八日早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62864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观潮地点——海宁县盐官镇的海塘大堤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2349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观潮人的心情——急切地等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06864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观潮的场面——人山人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386064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潮来前江面的景象——平静、雾蒙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5440" y="2852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作者主要抓住什么来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486900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人动江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812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1422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宽阔的钱塘江横卧在眼前。江面很平静，越往东越宽，在雨后的阳光下，笼罩着一层蒙蒙的薄雾。镇海古塔、中山亭和观潮台屹立在江边。远处，几座小山在云雾中若隐若现。江潮还没有来，海塘大堤上早已人山人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83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朗读感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rcRect l="18233" t="55143" r="16736" b="161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00720" y="2322360"/>
            <a:ext cx="4390920" cy="1252080"/>
          </a:xfrm>
          <a:prstGeom prst="rect">
            <a:avLst/>
          </a:prstGeom>
          <a:solidFill>
            <a:srgbClr val="e2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钱塘江口是喇叭形，外宽内窄，外深内浅，水底还有一道人们看不见的“沙坎”，迫使潮水上升，因此潮波传来，受到很大的约束，这是地理因素。另外是引力的因素，八月十八，太阳、地球、月亮三球的引力对涨潮影响最大。再有是八月中旬这段时间海面上常常刮东南风，所以潮波来势特别猛烈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4360" y="1125360"/>
            <a:ext cx="49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小组合作学习探究“潮来时”的段落：作者是按什么顺序写大潮来时的景象？又是从哪几方面来描述的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1052640"/>
            <a:ext cx="52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声音   样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71628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远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371628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稍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再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4360" y="37162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更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4005360"/>
            <a:ext cx="1152720" cy="287280"/>
          </a:xfrm>
          <a:prstGeom prst="rightArrow">
            <a:avLst>
              <a:gd name="adj1" fmla="val 50000"/>
              <a:gd name="adj2" fmla="val 100313"/>
            </a:avLst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3933720"/>
            <a:ext cx="1152720" cy="287280"/>
          </a:xfrm>
          <a:prstGeom prst="rightArrow">
            <a:avLst>
              <a:gd name="adj1" fmla="val 50000"/>
              <a:gd name="adj2" fmla="val 100313"/>
            </a:avLst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3933720"/>
            <a:ext cx="1152720" cy="287280"/>
          </a:xfrm>
          <a:prstGeom prst="rightArrow">
            <a:avLst>
              <a:gd name="adj1" fmla="val 50000"/>
              <a:gd name="adj2" fmla="val 100313"/>
            </a:avLst>
          </a:pr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8360" y="1484280"/>
            <a:ext cx="165564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声音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样子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981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隆隆的响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11280" y="16858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越来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24051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山崩地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1557360"/>
            <a:ext cx="21600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2205000"/>
            <a:ext cx="21600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1268280"/>
            <a:ext cx="360360" cy="144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5640" y="314172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一条白线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68360" y="4724280"/>
            <a:ext cx="16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横贯江面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97080" y="551664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千万匹白色战马齐头并进  浩浩荡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95640" y="39337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两丈多高的水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7640" y="364500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87640" y="450864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5300640"/>
            <a:ext cx="21600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3429000"/>
            <a:ext cx="360360" cy="2305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3640" y="1052640"/>
            <a:ext cx="37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默读，画出描写潮水样子和声音的词语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8360" y="981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朗读感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70028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从远处传来隆隆的响声，好像闷雷滚动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500868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浪潮越来越近，犹如千万匹白色战马齐头并进，浩浩荡荡地飞奔而来；那声音如同山崩地裂，好像大地都被震得颤动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3068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这两个都是什么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31417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把什么比作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3141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你感受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068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气势雄伟  声势浩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26920" y="1268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用自己的话说说潮来时的声音和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141300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指导有感情地朗读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1484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播放录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700360" y="47242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再说说你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268280"/>
            <a:ext cx="71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奇特  雄伟  壮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rcRect l="0" t="0" r="0" b="1309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9640" y="1125360"/>
            <a:ext cx="38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潮来之时，声势浩大，潮过之后呢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981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霎时，潮头奔腾西去，可是余波还在漫天卷地般涌来，江面上依旧风号浪吼。过了好久，钱塘江才恢复了平静。看看堤下，江水已经涨了两丈来高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4720" y="2276640"/>
            <a:ext cx="648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64500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这里的“静”和潮来前的“静”一样吗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3789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停息后是什么景象？说明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537372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潮水大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观潮    宽阔   笼罩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薄雾    依旧   恢复   灿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昂首东望       风平浪静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水天相接       横贯江面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22640" y="19382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沸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666720" cy="752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1052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积累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0920" y="836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总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98100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这篇课文主要写了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1844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记叙了一次观潮的盛况，写的是作者耳闻目睹的潮来前、潮来时、潮头过后的景象，描写了大潮由远而近、奔腾西去的全过程，描绘出江潮由风平浪静到奔腾咆哮再到又恢复平静的动态变化，写出了大潮的奇特、雄伟、壮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8000" y="90792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作者又是怎样表达的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177336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钱塘江大潮是天下奇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1773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总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565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潮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59280" y="3573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朝来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472428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潮过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2565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笼罩薄雾  风平浪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00360" y="2924280"/>
            <a:ext cx="216000" cy="2303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3789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分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5516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其中运用了恰当的比喻重点描写了“潮来之时”大潮的瞬息变化和雄伟气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88000" y="3141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远：声如闷雷  一条白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3860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近：白浪翻滚  山崩地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3357720"/>
            <a:ext cx="144360" cy="10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32360" y="4797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漫天卷地  风号浪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95280" y="1197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全文贯穿着一个什么字来写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844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ff"/>
                </a:solidFill>
                <a:latin typeface="Arial"/>
                <a:ea typeface="黑体"/>
              </a:rPr>
              <a:t>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2276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奇在什么地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1989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特殊的地理位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rcRect l="18233" t="55143" r="16736" b="16104"/>
          <a:stretch/>
        </p:blipFill>
        <p:spPr>
          <a:xfrm>
            <a:off x="4770360" y="765000"/>
            <a:ext cx="4373640" cy="4392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4513320"/>
            <a:ext cx="4356000" cy="886320"/>
          </a:xfrm>
          <a:prstGeom prst="rect">
            <a:avLst/>
          </a:prstGeom>
          <a:solidFill>
            <a:srgbClr val="e2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钱塘江口是喇叭形，外宽内窄，外深内浅，水底还有一道人们看不见的“沙坎”，迫使潮水上升，因此潮波传来，受到很大的约束，这是地理因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08360" y="3789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373720"/>
            <a:ext cx="4390920" cy="459720"/>
          </a:xfrm>
          <a:prstGeom prst="rect">
            <a:avLst/>
          </a:prstGeom>
          <a:solidFill>
            <a:srgbClr val="e2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八月十八，太阳、地球、月亮三球的引力对涨潮影响最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59280" y="2781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引力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59280" y="357336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时间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941720"/>
            <a:ext cx="4390920" cy="825480"/>
          </a:xfrm>
          <a:prstGeom prst="rect">
            <a:avLst/>
          </a:prstGeom>
          <a:solidFill>
            <a:srgbClr val="e2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八月中旬这段时间海面上常常刮东南风，所以潮波来势特别猛烈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rcRect l="0" t="0" r="18915" b="21902"/>
          <a:stretch/>
        </p:blipFill>
        <p:spPr>
          <a:xfrm>
            <a:off x="4716360" y="765000"/>
            <a:ext cx="442764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0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6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5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84360" y="1628640"/>
            <a:ext cx="57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钱塘江大潮，自古以来被称为天下奇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2637000"/>
            <a:ext cx="1728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321300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什么叫“奇观”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08000" y="3860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雄伟壮观而又罕见的景象或出奇少见的事情。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9079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感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24000" y="98100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一线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55640" y="1268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交叉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50920" y="105264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回头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总结全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6756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篇课文作者按潮来前、潮来时、潮来后的顺序，通过写作者在观察时所听到的声音、看到的样子，以及人们的情绪变化，把钱塘江大潮壮观的场面展现在我们眼前，使人发自内心地感叹：钱塘江大潮不愧为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下奇观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9304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一、在带点字的正确读音后面划</a:t>
            </a:r>
            <a:r>
              <a:rPr b="1" lang="en" sz="4800" spc="-1" strike="noStrike">
                <a:solidFill>
                  <a:srgbClr val="0000ff"/>
                </a:solidFill>
                <a:latin typeface="Arial"/>
              </a:rPr>
              <a:t>"√"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笼罩（</a:t>
            </a:r>
            <a:r>
              <a:rPr b="1" lang="en" sz="4800" spc="-1" strike="noStrike">
                <a:solidFill>
                  <a:srgbClr val="0000ff"/>
                </a:solidFill>
                <a:latin typeface="宋体"/>
              </a:rPr>
              <a:t>lóng lǒng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）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薄雾（</a:t>
            </a:r>
            <a:r>
              <a:rPr b="1" lang="en" sz="4800" spc="-1" strike="noStrike">
                <a:solidFill>
                  <a:srgbClr val="0000ff"/>
                </a:solidFill>
                <a:latin typeface="宋体"/>
              </a:rPr>
              <a:t>bó báo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余波（</a:t>
            </a:r>
            <a:r>
              <a:rPr b="1" lang="en" sz="4800" spc="-1" strike="noStrike">
                <a:solidFill>
                  <a:srgbClr val="0000ff"/>
                </a:solidFill>
                <a:latin typeface="宋体"/>
              </a:rPr>
              <a:t>bō pō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　风号浪吼（</a:t>
            </a:r>
            <a:r>
              <a:rPr b="1" lang="en" sz="4800" spc="-1" strike="noStrike">
                <a:solidFill>
                  <a:srgbClr val="0000ff"/>
                </a:solidFill>
                <a:latin typeface="宋体"/>
              </a:rPr>
              <a:t>háo hào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00360" y="4805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31496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55976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06920" y="3797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162920" y="5742000"/>
            <a:ext cx="2298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187280" y="3726000"/>
            <a:ext cx="21600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87280" y="4589640"/>
            <a:ext cx="21600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8000" y="5526000"/>
            <a:ext cx="1447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35280" y="6318360"/>
            <a:ext cx="21564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788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二、根据意思写词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" sz="5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）形容聚集的人极多。（　   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" sz="5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）形容隐隐约约。　　（   　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" sz="5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）没有风浪，比喻平静（　    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00000" y="246060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人山人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407664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若隐若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16000" y="580536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风平浪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442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三、比较词语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59336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奔腾　沸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只见水天相接的地方出现了一条白线，人群又（　　　）起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霎时，潮头（　　　）西去，可是余波还在漫天卷地地涌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恢复　重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个动作，他掌握不好，（　　　）几十次以后，终于成功地完成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掌声雷动，过了好久，剧场才（　　）平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观赏　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妈妈站在花坛边，（　　　）着盛开的牡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们到音乐厅（        ）音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29080" y="5754600"/>
            <a:ext cx="1295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观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4076640"/>
            <a:ext cx="1386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重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32000" y="2852640"/>
            <a:ext cx="1440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奔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35160" y="2441520"/>
            <a:ext cx="1752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沸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00720" y="4941720"/>
            <a:ext cx="1020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恢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58320" y="6165720"/>
            <a:ext cx="6685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58920" y="1917720"/>
            <a:ext cx="7921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大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屹        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浩              浩荡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山崩               地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1917720"/>
            <a:ext cx="23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(dī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5280" y="29257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yì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414972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hàO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98920" y="5229360"/>
            <a:ext cx="302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bēng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914400" cy="752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7720" y="981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读准字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黑体"/>
              </a:rPr>
              <a:t>四、写近意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霎时（　　）　　    昂首（　    ）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笼罩（　　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24000" y="720720"/>
            <a:ext cx="81374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五、根据课文内容填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潮来了，作者先听见远处传来  </a:t>
            </a:r>
            <a:r>
              <a:rPr b="1" lang="en" sz="4400" spc="-1" strike="noStrike">
                <a:solidFill>
                  <a:srgbClr val="0000ff"/>
                </a:solidFill>
                <a:latin typeface="Arial"/>
              </a:rPr>
              <a:t>_________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好像</a:t>
            </a:r>
            <a:r>
              <a:rPr b="1" lang="en" sz="4400" spc="-1" strike="noStrike">
                <a:solidFill>
                  <a:srgbClr val="0000ff"/>
                </a:solidFill>
                <a:latin typeface="Arial"/>
              </a:rPr>
              <a:t>_________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。过了一会儿，浪潮越来越近了，那声音如同</a:t>
            </a:r>
            <a:r>
              <a:rPr b="1" lang="en" sz="4400" spc="-1" strike="noStrike">
                <a:solidFill>
                  <a:srgbClr val="0000ff"/>
                </a:solidFill>
                <a:latin typeface="Arial"/>
              </a:rPr>
              <a:t>__________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好像</a:t>
            </a:r>
            <a:r>
              <a:rPr b="1" lang="en" sz="4400" spc="-1" strike="noStrike">
                <a:solidFill>
                  <a:srgbClr val="0000ff"/>
                </a:solidFill>
                <a:latin typeface="Arial"/>
              </a:rPr>
              <a:t>______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。当潮头奔腾西去后，江面依旧</a:t>
            </a:r>
            <a:r>
              <a:rPr b="1" lang="en" sz="4400" spc="-1" strike="noStrike">
                <a:solidFill>
                  <a:srgbClr val="0000ff"/>
                </a:solidFill>
                <a:latin typeface="Arial"/>
              </a:rPr>
              <a:t>__________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近义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9560" y="2058480"/>
            <a:ext cx="5965920" cy="19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屹立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笼罩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昂首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顿时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17748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耸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1640" y="278280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掩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2920" y="39355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翘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494352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立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08760" y="4192560"/>
            <a:ext cx="3100320" cy="1954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333360"/>
            <a:ext cx="666720" cy="75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227640" y="4724280"/>
            <a:ext cx="3100680" cy="1954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111640" y="49402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鸦雀无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317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反义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360" y="1655640"/>
            <a:ext cx="91440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宽阔 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风平浪静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人山人海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人声鼎沸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67280" y="162864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狭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270828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波涛汹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40360" y="37162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寥寥无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特殊结构的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5084640"/>
            <a:ext cx="820908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若隐若现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浩浩荡荡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217600"/>
            <a:ext cx="331128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人山人海    多才多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碍手碍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2276640"/>
            <a:ext cx="38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漂漂亮亮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破破烂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Times New Roman"/>
              </a:rPr>
              <a:t>平平安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867280" y="4495680"/>
            <a:ext cx="3100680" cy="19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640" y="2565360"/>
            <a:ext cx="10432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四字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48000" y="907920"/>
            <a:ext cx="37432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昂首东望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风平浪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水天相接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横贯江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齐头并进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漫天卷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43680" y="4903920"/>
            <a:ext cx="3100320" cy="1954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2025720" cy="18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10948" t="0" r="0" b="23155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8360" y="26028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读了课题，你想知道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1916280"/>
            <a:ext cx="6697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在哪里观潮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潮是怎么样的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4360" y="620640"/>
            <a:ext cx="698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自由朗读课文，找出在哪里观潮？并思考：课文按什么顺序来写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494172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钱塘江大潮，自古以来被称为天下奇观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/>
  <dcterms:modified xsi:type="dcterms:W3CDTF">2012-10-01T03:01:21Z</dcterms:modified>
  <cp:revision>60</cp:revision>
  <dc:subject/>
  <dc:title>幻灯片 1</dc:title>
</cp:coreProperties>
</file>