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camera.wav" ContentType="audio/x-wav"/>
  <Override PartName="/ppt/media/image5.jpeg" ContentType="image/jpeg"/>
  <Override PartName="/ppt/media/explode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自定义放映 1" id="0">
      <p:sldLst>
        <p:sld r:id="rId15"/>
        <p:sld r:id="rId16"/>
        <p:sld r:id="rId17"/>
        <p:sld r:id="rId18"/>
        <p:sld r:id="rId19"/>
      </p:sldLst>
    </p:custShow>
  </p:custShowLst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5-12-09T14:20:16.84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765-2E6C-4A3A-A8BE-19FF7EFB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E6A-83C8-4BFC-951C-B96225DD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4C9-3877-4857-9514-6F3BB066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DCD-C99E-4645-8878-50C95685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5EA-16AE-4412-88C9-DCE9392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4BB-A337-47D4-A152-46ED75BB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9E1-9662-4029-9B38-28BAEE9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10C-6347-4C57-970C-3BB17394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99A-A878-4EF2-840D-75CA4DA4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C67-F938-4979-9AE9-0484EFF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68B-A2CF-41D7-A8F1-E5DB05D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27B-7EF8-4140-B34C-92707A7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957-94B0-4C87-A0EA-5F9A0810D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3581280"/>
            <a:ext cx="1981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雨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844640"/>
            <a:ext cx="545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给巴特勒的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562200"/>
            <a:ext cx="84978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是埃及现存的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多座金字塔中最高大的一座，公元前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55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年左右建造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高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46.5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，底边长约有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。用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万块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至</a:t>
            </a: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吨重的巨石修筑而成，在巴黎艾菲尔铁塔建成前一直是世界上最高的建筑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549360"/>
            <a:ext cx="41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埃及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胡夫金字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311560"/>
            <a:ext cx="8458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意大利罗马，是著名的罗马建筑文化古迹。建于公元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0—8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。古罗马帝国统治者在此以驱使奴隶相互搏斗或同猛兽搏斗为娱乐。平面呈椭圆形，长径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8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米，短径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5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米，四周为看台，外墙高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8.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米，分为四层，下三层均为券廊（用拱券支撑的廊），可容观众约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万人。今仅存残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33360"/>
            <a:ext cx="309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罗马斗兽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aris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117360"/>
            <a:ext cx="50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巴黎圣母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6080"/>
            <a:ext cx="84978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巴黎著名的天主教堂。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16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兴建，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5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完成。教堂平面宽约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深约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可容近万人。圣坛上部当中的尖塔高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正面一对塔楼高约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是欧洲早期哥特建筑与雕刻的主要代表。堂内藏有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的许多艺术珍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3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-12528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昔日盛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878480" y="685440"/>
            <a:ext cx="77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昔日风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0701080959479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2007010809594763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2007010809594725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20070108095948390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20070108095948510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20070108095948986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20070108095948909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20070108095948897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603396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圆明园复原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026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20070402135851821" descr=""/>
          <p:cNvPicPr/>
          <p:nvPr/>
        </p:nvPicPr>
        <p:blipFill>
          <a:blip r:embed="rId11"/>
          <a:stretch/>
        </p:blipFill>
        <p:spPr>
          <a:xfrm>
            <a:off x="-936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昔日奢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166500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4562640"/>
            <a:ext cx="3200400" cy="2295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181152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71800" y="228600"/>
            <a:ext cx="2971800" cy="147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324480" y="228600"/>
            <a:ext cx="2425680" cy="169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6781680" y="4305240"/>
            <a:ext cx="174636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038480" y="4419720"/>
            <a:ext cx="197496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657600" y="1905120"/>
            <a:ext cx="16257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2000" y="549360"/>
            <a:ext cx="851364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186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月英法联军占领北京，他们野蛮地洗劫了北京城的同时，闯入圆明园，大肆抢劫，并放火烧毁了这座宏伟华美的皇家园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  <p:sndAc>
      <p:stSnd>
        <p:snd r:embed="rId2" name="explode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5280" y="1125000"/>
            <a:ext cx="8424720" cy="5040720"/>
            <a:chOff x="395280" y="1125000"/>
            <a:chExt cx="8424720" cy="504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5579640" y="2420640"/>
              <a:ext cx="3135240" cy="37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395280" y="1125000"/>
              <a:ext cx="8424720" cy="1722600"/>
              <a:chOff x="395280" y="1125000"/>
              <a:chExt cx="8424720" cy="1722600"/>
            </a:xfrm>
          </p:grpSpPr>
          <p:sp>
            <p:nvSpPr>
              <p:cNvPr id="46" name=""/>
              <p:cNvSpPr/>
              <p:nvPr/>
            </p:nvSpPr>
            <p:spPr>
              <a:xfrm>
                <a:off x="395280" y="1125000"/>
                <a:ext cx="8424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维克多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·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雨果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0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85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，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法国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作家。法国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浪漫主义文学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的重要代表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8360" y="2205000"/>
                <a:ext cx="489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27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年发表剧本《克伦威尔》，剧本序言反对古典主义，成为浪漫主义的宣言。其代表作品有长篇小说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巴黎圣母院》、《悲惨世界》、《九三年》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"/>
          <p:cNvSpPr/>
          <p:nvPr/>
        </p:nvSpPr>
        <p:spPr>
          <a:xfrm>
            <a:off x="3492360" y="33336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29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295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今日圆明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47920"/>
            <a:ext cx="87631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能抢的都抢了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能烧的都烧了，</a:t>
            </a:r>
            <a:br>
              <a:rPr sz="8000"/>
            </a:br>
            <a:r>
              <a:rPr b="1" i="1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就剩下这些石头了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-446040"/>
            <a:ext cx="9753480" cy="7745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516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现在能看到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1120" y="914040"/>
            <a:ext cx="1371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华文新魏"/>
              </a:rPr>
              <a:t>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5812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华文新魏"/>
              </a:rPr>
              <a:t>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35812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00"/>
                </a:solidFill>
                <a:latin typeface="Arial"/>
                <a:ea typeface="华文新魏"/>
              </a:rPr>
              <a:t>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9718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断壁残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676160" cy="3504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661080" y="4941720"/>
            <a:ext cx="304812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、默读课文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划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文中谴责英法联军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并谈谈其中蕴含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558440"/>
            <a:ext cx="2517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强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劫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偷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窃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148608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）更彻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更漂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丰功伟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获巨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笑嘻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手挽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8200" y="49435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使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反语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，表达的情感更强烈，发人深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三、研读合作 体会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组合作研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作者为什么在信中先极力描绘圆明园的神奇壮丽，然后才写侵略者对其焚烧掠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者为什么在信中先极力描绘圆明园的神奇壮丽，然后才写侵略者对其焚烧掠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227664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衬托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写法。以“美”衬“丑”，越是写圆明园的美，就越是突现侵略者的丑恶行径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充分反映出作者对圆明园这一世界奇迹的无比热爱，对人类文明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6195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四、</a:t>
            </a:r>
            <a:r>
              <a:rPr b="1" lang="zh-CN" sz="4400" spc="-1" strike="noStrike">
                <a:solidFill>
                  <a:srgbClr val="333399"/>
                </a:solidFill>
                <a:latin typeface="楷体"/>
                <a:ea typeface="楷体"/>
              </a:rPr>
              <a:t>悟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作 畅谈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394800"/>
            <a:ext cx="8675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国是被掠夺者，我们中国人谴责强盗，控诉掠夺是很自然的，而雨果作为一位法国作家，却公开指责本国政府，为中国人鸣不平，这实在非常了不起。请以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雨果，我想对你说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”为题，说一段话，谈谈你的感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果，我想对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敬爱的雨果先生，读了您给巴特勒上尉的信，我深深的被您义愤填膺的话所感动。作为一个中国人，我很自豪，因为我们中国现在正一步一步的走向一个现代化国家。我要向你学习你高尚的精神和公正的态度。同时我也要努力学习，使自己的国家强盛起来，只有中华民族强盛了，中国才能不被强敌侵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1240"/>
            <a:ext cx="8642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教学目标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848720" cy="2531880"/>
          </a:xfrm>
          <a:prstGeom prst="rect">
            <a:avLst/>
          </a:prstGeom>
          <a:noFill/>
          <a:ln cap="rnd" w="3240">
            <a:solidFill>
              <a:srgbClr val="ff66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朗读课文，品味语言特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研读课文，体会作者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、</a:t>
            </a:r>
            <a:r>
              <a:rPr b="1" lang="zh-CN" sz="4400" spc="-1" strike="noStrike">
                <a:solidFill>
                  <a:srgbClr val="333399"/>
                </a:solidFill>
                <a:latin typeface="楷体"/>
                <a:ea typeface="楷体"/>
              </a:rPr>
              <a:t>素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感知  理清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课下注释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，理清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特勒给雨果写信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对英法远征中国的态度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封回信主要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特勒给雨果写信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利用雨果的声望，为这次远征中国所谓的胜利捧场。从文中第一段可以看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对英法远征中国的态度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名为赞誉，实为贬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封回信主要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赞美圆明园和谴责侵略者的罪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二、</a:t>
            </a:r>
            <a:r>
              <a:rPr b="1" lang="zh-CN" sz="4400" spc="-1" strike="noStrike">
                <a:solidFill>
                  <a:srgbClr val="333399"/>
                </a:solidFill>
                <a:latin typeface="楷体"/>
                <a:ea typeface="楷体"/>
              </a:rPr>
              <a:t>细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交流  品味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、有感情的朗读课文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划出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本段中你最喜欢的那句话并说说喜欢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6288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1684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它代表了东方幻想艺术的最高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集中了一个超人的民族的想象力所能产生的一切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是幻想艺术的某种规模巨大的典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语言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浪漫主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笔调，丰富奇妙的想象、华丽优美的语言，以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排比、夸张、对比、引用、衬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修辞手法盛赞人世间这座空前绝后、令人神往的艺术建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4200" y="1916280"/>
            <a:ext cx="33498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腊最负盛名的古建筑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于雅典的卫城之上，公元前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4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前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3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建成，原为供奉雅典娜女神的神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14320" y="3492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巴特农神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5:11:54Z</dcterms:created>
  <dc:creator>孟平凡</dc:creator>
  <dc:description/>
  <dc:language>en-US</dc:language>
  <cp:lastModifiedBy>Microsoft</cp:lastModifiedBy>
  <dcterms:modified xsi:type="dcterms:W3CDTF">2015-12-11T06:24:55Z</dcterms:modified>
  <cp:revision>48</cp:revision>
  <dc:subject/>
  <dc:title>就英法联军远征中国给巴特勒上尉的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7</vt:lpwstr>
  </property>
</Properties>
</file>