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1C0-88F1-40E5-B903-77097F40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B8C-25FD-404E-9D45-66B8471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C68-DCA9-4206-9FD5-57414394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90F-AB75-42BE-8B94-D8E495AB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252-F5D8-4303-8184-817E8431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163-F51E-4D9B-AF4D-68957E6F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4A9-BAC7-472B-9894-19C24B5A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A91-F682-4CAD-B20F-43C20F5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E0D-6B75-4466-9FC4-2DD54A2C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E30-3A55-4E90-B16A-B02B183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9D4-53E0-4FA1-BD7C-85B7E88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87A-FD50-4301-A011-8B827CA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E499-319E-445A-953B-36161300C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18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304920"/>
            <a:ext cx="8229600" cy="213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3581280"/>
            <a:ext cx="1981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雨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800600"/>
            <a:ext cx="7467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胜利油田十一中王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01240"/>
            <a:ext cx="8642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学目标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09680"/>
            <a:ext cx="8915400" cy="3750840"/>
          </a:xfrm>
          <a:prstGeom prst="rect">
            <a:avLst/>
          </a:prstGeom>
          <a:noFill/>
          <a:ln cap="rnd" w="3240">
            <a:solidFill>
              <a:srgbClr val="ff66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辨别赞美的语言与讽刺反语的区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体味学习作者的博大胸怀和高尚品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ˎ̥"/>
              </a:rPr>
              <a:t>分析明确圆明园被破坏的根本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1773360"/>
            <a:ext cx="777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惊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骇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瞥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见 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箱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箧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制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裁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赃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物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晨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曦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0800" y="2025720"/>
            <a:ext cx="16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à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182880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i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352680"/>
            <a:ext cx="198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05680" y="3429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á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50292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zā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4952880"/>
            <a:ext cx="12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x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52280"/>
            <a:ext cx="40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检查预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1773360"/>
            <a:ext cx="777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给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予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洗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野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琉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璃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珐琅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朱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175248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35120" y="350532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m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úl</a:t>
            </a:r>
            <a:r>
              <a:rPr b="1" i="1" lang="zh-CN" sz="5400" spc="-1" strike="noStrike">
                <a:solidFill>
                  <a:srgbClr val="ff0000"/>
                </a:solidFill>
                <a:latin typeface="华文细黑"/>
                <a:ea typeface="Tahoma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2280" y="5029200"/>
            <a:ext cx="25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fàl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4876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27360" y="1727280"/>
            <a:ext cx="18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华文细黑"/>
                <a:ea typeface="Tahoma"/>
              </a:rPr>
              <a:t>jĭy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24440"/>
            <a:ext cx="89154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课文，整体感知。划出赞美圆明园的语句、讽刺侵略者的语句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64832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72960"/>
            <a:ext cx="830556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理解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是怎样评价圆明园的？从中可以看出作者什么样的思想感情？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46288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717200"/>
            <a:ext cx="9144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它代表了东方幻想艺术的最高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集中了一个超人的民族的想象力所能产生的一切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是幻想艺术的某种规模巨大的典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对东方艺术、亚洲文明的尊重和赞美，表现了他博大胸怀和对人类文化成果的热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567440"/>
            <a:ext cx="85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作者是如何讽刺谴责侵略者的行为的？找出有关语句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并体会其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用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04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从前对巴特农神庙怎么干，现在对圆明园也怎么干，只是更彻底，更漂亮，以至于荡然无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666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丰功伟绩！收获巨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33920"/>
            <a:ext cx="8686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手挽手，笑嘻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地回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欧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34996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先生，以上就是我对远征中国的全部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赞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2880" y="2894400"/>
            <a:ext cx="864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用反语活画出了强盗的丑态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讽刺了侵略者的卑劣行径，彻底揭穿了他们强盗的面目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59256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揣摩语句，理解文章的丰富内蕴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1993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月创造的一切都是属于人类的。这一句话有什么特殊含义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94200" y="1916280"/>
            <a:ext cx="33498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腊最负盛名的古建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于雅典的卫城之上，公元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4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3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建成，原为供奉雅典娜女神的神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14320" y="349200"/>
            <a:ext cx="155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巴特农神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2932920"/>
            <a:ext cx="81136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明园是人类文明和智慧的结晶，它不仅属于中国，也属于全世界、全人类。作者的这种见解是非常深刻的，它表现了自己对人类文明成果的珍视，对人类文明创造者的尊重，更表现了自己博大的胸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2785680"/>
            <a:ext cx="816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人者的罪行不是治于人者的过错；政府有时会是强盗，而人民永远也不会是强盗。如何理解这句话的含义？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3146400"/>
            <a:ext cx="831708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果从人类的立场区分政府与人民，强盗政府不能代表人民，法兰西人民对中国人民是友好的，焚掠圆明园是英法政府的罪行，他站在人民的立场上抗议政府犯下的罪行。他公开指斥强盗政府，这需要极大的勇气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513520"/>
            <a:ext cx="857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希望有朝一日，解放了的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干干净净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法兰西会把这份战利品归还给被掠夺的中国。“干干净净”是什么意思？作者的夙愿能够实现吗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254628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干净净”是友好、热爱和平、崇尚正义的意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夙愿迟早会实现的，但前提是中国国力的增强，中华民族跻身于世界强盛民族之林。只有强盛的国家才能维护自己的尊严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-7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969640"/>
            <a:ext cx="8675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是被掠夺者，我们中国人谴责强盗，控诉掠夺是很自然的，而雨果作为一位法国作家，却公开指责本国政府，为中国人鸣不平，这实在非常了不起。请以“谢谢你，雨果”或“雨果，好样的”为题，说一段话，谈谈你的感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1484280"/>
            <a:ext cx="8209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法国作家，其代表作品有《悲惨世界》《巴黎圣母院》《九三年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400" y="4941720"/>
            <a:ext cx="835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理想，产生欧洲艺术；一是幻想，产生东方艺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04920"/>
            <a:ext cx="799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果是哪国作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作品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500280"/>
            <a:ext cx="828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果提及艺术有哪两种来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产生哪两种艺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604000" cy="76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国艺术都有其代表建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腊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埃及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大利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国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东方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6002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巴特农神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7432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字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9625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罗马斗兽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巴黎圣母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601992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圆明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685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16722" t="0" r="0" b="6865"/>
          <a:stretch/>
        </p:blipFill>
        <p:spPr>
          <a:xfrm>
            <a:off x="9325080" y="7101000"/>
            <a:ext cx="9610560" cy="68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-9613800" y="-1440"/>
            <a:ext cx="9359640" cy="702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9325080" y="0"/>
            <a:ext cx="9144000" cy="6991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0" y="-7262640"/>
            <a:ext cx="914400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83 -0.04231 L -2.77778E-007 2.65896E-006 E">
                                      <p:cBhvr>
                                        <p:cTn id="188" dur="8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4757 -0.00994 L 0.01962 -0.02011 E">
                                      <p:cBhvr>
                                        <p:cTn id="200" dur="8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0798 L 5.55556E-007 -5.72254E-006 E">
                                      <p:cBhvr>
                                        <p:cTn id="212" dur="8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4427 -2.21271 L 4.44444E-006 5.60694E-006 E">
                                      <p:cBhvr>
                                        <p:cTn id="224" dur="8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5202 L 2.5E-006 -0.06659 E">
                                      <p:cBhvr>
                                        <p:cTn id="236" dur="1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32000" y="548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862720"/>
            <a:ext cx="86421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阅读文章第三段，展开想象，写一段话，描绘那一座“言语无法形容的建筑，某种恍若月宫的建筑”——圆明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“富丽堂皇”“荡然无存”各写一句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3562200"/>
            <a:ext cx="84978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是埃及现存的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8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多座金字塔中最高大的一座，公元前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55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年左右建造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高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46.5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，底边长约有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3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。用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23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万块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至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吨重的巨石修筑而成，在巴黎艾菲尔铁塔建成前一直是世界上最高的建筑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49360"/>
            <a:ext cx="41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埃及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胡夫金字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311560"/>
            <a:ext cx="8458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意大利罗马，是著名的罗马建筑文化古迹。建于公元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70—82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年。古罗马帝国统治者在此以驱使奴隶相互搏斗或同猛兽搏斗为娱乐。平面呈椭圆形，长径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88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，短径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56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，四周为看台，外墙高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48.5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米，分为四层，下三层均为券廊（用拱券支撑的廊），可容观众约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万人。今仅存残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333360"/>
            <a:ext cx="309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罗马斗兽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3213000"/>
            <a:ext cx="84978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巴黎著名的天主教堂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16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兴建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5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完成。教堂平面宽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深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可容近万人。圣坛上部当中的尖塔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正面一对塔楼高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是欧洲早期哥特建筑与雕刻的主要代表。堂内藏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的许多艺术珍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04640"/>
            <a:ext cx="2881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巴黎圣母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77080" y="6499080"/>
            <a:ext cx="226692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-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360" y="2754360"/>
            <a:ext cx="882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明园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代名园。在北京西北郊，始建于康熙四十八年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为环绕福海的圆明、万春、长春三园的总称。周长约十余公里，有建筑物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。园内凿湖堆山，种植奇花异木，并利用长廊、墙垣、桥梁与自然景物相联系，艺术价值甚高，被誉为“万园之园”。清咸丰十年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6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英法联军劫掠园中珍物，并纵火焚毁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95280" y="1254960"/>
            <a:ext cx="8424720" cy="4766400"/>
            <a:chOff x="395280" y="1254960"/>
            <a:chExt cx="8424720" cy="476640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 flipH="1">
              <a:off x="5579640" y="2276280"/>
              <a:ext cx="3135240" cy="37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395280" y="1254960"/>
              <a:ext cx="8424720" cy="1996920"/>
              <a:chOff x="395280" y="1254960"/>
              <a:chExt cx="8424720" cy="1996920"/>
            </a:xfrm>
          </p:grpSpPr>
          <p:sp>
            <p:nvSpPr>
              <p:cNvPr id="64" name=""/>
              <p:cNvSpPr/>
              <p:nvPr/>
            </p:nvSpPr>
            <p:spPr>
              <a:xfrm>
                <a:off x="395280" y="1254960"/>
                <a:ext cx="842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克多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·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雨果（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0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85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，法国作家。法国浪漫主义文学的重要代表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8360" y="2060640"/>
                <a:ext cx="4895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27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年发表剧本《克伦威尔》，剧本序言反对古典主义，成为浪漫主义的宣言。其代表作品有长篇小说《巴黎圣母院》《悲惨世界》《九三年》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5:11:54Z</dcterms:created>
  <dc:creator>孟平凡</dc:creator>
  <dc:description/>
  <dc:language>en-US</dc:language>
  <cp:lastModifiedBy>番茄花园</cp:lastModifiedBy>
  <dcterms:modified xsi:type="dcterms:W3CDTF">2008-05-23T06:05:08Z</dcterms:modified>
  <cp:revision>47</cp:revision>
  <dc:subject/>
  <dc:title>就英法联军远征中国给巴特勒上尉的信</dc:title>
</cp:coreProperties>
</file>