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breeze.wav" ContentType="audio/x-wav"/>
  <Override PartName="/ppt/media/image10.png" ContentType="image/png"/>
  <Override PartName="/ppt/media/image11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1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D34-22A0-40BB-A3AF-575DC12C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42056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8560" y="36936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225-5B57-4FF4-B7F7-C82EDF89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28560" y="14205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4205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8560" y="36936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280" y="36936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EC7-F46C-448E-B05A-F5C2030C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4205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5440" y="14205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2320" y="142056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8560" y="36936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5440" y="36936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2320" y="36936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E1D-93A1-438D-B80B-E8E7829A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28560" y="14205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8B1-A82E-42FA-8AEA-C6C38BC2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560" y="14205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2E6-B4B5-4445-B28E-64BD890B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42056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280" y="142056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1D0-CFCE-4EF7-A936-B9E7A554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AA4-EABA-4570-A599-097BABE2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422-B557-42C9-9BB3-9CE6756D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4205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42056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8560" y="36936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4AC-C554-4337-B5B2-95581A48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42056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4205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280" y="36936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D26-00B9-47AE-B68F-F2AEE865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4205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42056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36936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13C-E6BE-4445-8C45-E0B93E3C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8560" y="14205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C4E7-8995-4175-BFF4-05A665546C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audio" Target="../media/breeze.wav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audio" Target="../media/breeze.wav"/><Relationship Id="rId15" Type="http://schemas.openxmlformats.org/officeDocument/2006/relationships/audio" Target="../media/breeze.wav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audio" Target="../media/breeze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7720" y="447480"/>
            <a:ext cx="7650000" cy="1136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肥皂泡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36520" y="1984320"/>
            <a:ext cx="6858000" cy="379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冰 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1" descr="1"/>
          <p:cNvPicPr/>
          <p:nvPr/>
        </p:nvPicPr>
        <p:blipFill>
          <a:blip r:embed="rId2"/>
          <a:stretch/>
        </p:blipFill>
        <p:spPr>
          <a:xfrm>
            <a:off x="144360" y="2671920"/>
            <a:ext cx="8842320" cy="40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38"/>
          <p:cNvGrpSpPr/>
          <p:nvPr/>
        </p:nvGrpSpPr>
        <p:grpSpPr>
          <a:xfrm>
            <a:off x="3316320" y="1359000"/>
            <a:ext cx="2541600" cy="2538360"/>
            <a:chOff x="3316320" y="1359000"/>
            <a:chExt cx="2541600" cy="2538360"/>
          </a:xfrm>
        </p:grpSpPr>
        <p:sp>
          <p:nvSpPr>
            <p:cNvPr id="155" name="直接连接符 3"/>
            <p:cNvSpPr/>
            <p:nvPr/>
          </p:nvSpPr>
          <p:spPr>
            <a:xfrm>
              <a:off x="3338280" y="2625840"/>
              <a:ext cx="2519640" cy="1440"/>
            </a:xfrm>
            <a:prstGeom prst="line">
              <a:avLst/>
            </a:prstGeom>
            <a:ln w="15840">
              <a:solidFill>
                <a:srgbClr val="72bfc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4"/>
            <p:cNvSpPr/>
            <p:nvPr/>
          </p:nvSpPr>
          <p:spPr>
            <a:xfrm flipH="1">
              <a:off x="4564080" y="1359000"/>
              <a:ext cx="1440" cy="2519640"/>
            </a:xfrm>
            <a:prstGeom prst="line">
              <a:avLst/>
            </a:prstGeom>
            <a:ln w="15840">
              <a:solidFill>
                <a:srgbClr val="72bfc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矩形 3"/>
            <p:cNvSpPr/>
            <p:nvPr/>
          </p:nvSpPr>
          <p:spPr>
            <a:xfrm>
              <a:off x="3316320" y="1377720"/>
              <a:ext cx="2519640" cy="2519640"/>
            </a:xfrm>
            <a:prstGeom prst="rect">
              <a:avLst/>
            </a:prstGeom>
            <a:noFill/>
            <a:ln w="25560">
              <a:solidFill>
                <a:srgbClr val="72bfc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Freeform 6"/>
          <p:cNvSpPr/>
          <p:nvPr/>
        </p:nvSpPr>
        <p:spPr>
          <a:xfrm>
            <a:off x="4459320" y="2298600"/>
            <a:ext cx="223920" cy="889200"/>
          </a:xfrm>
          <a:custGeom>
            <a:avLst/>
            <a:gdLst/>
            <a:ahLst/>
            <a:rect l="l" t="t" r="r" b="b"/>
            <a:pathLst>
              <a:path w="354" h="1400">
                <a:moveTo>
                  <a:pt x="28" y="124"/>
                </a:moveTo>
                <a:lnTo>
                  <a:pt x="28" y="106"/>
                </a:lnTo>
                <a:lnTo>
                  <a:pt x="14" y="106"/>
                </a:lnTo>
                <a:lnTo>
                  <a:pt x="0" y="89"/>
                </a:lnTo>
                <a:lnTo>
                  <a:pt x="0" y="71"/>
                </a:lnTo>
                <a:lnTo>
                  <a:pt x="0" y="53"/>
                </a:lnTo>
                <a:lnTo>
                  <a:pt x="0" y="36"/>
                </a:lnTo>
                <a:lnTo>
                  <a:pt x="14" y="18"/>
                </a:lnTo>
                <a:lnTo>
                  <a:pt x="42" y="0"/>
                </a:lnTo>
                <a:lnTo>
                  <a:pt x="71" y="0"/>
                </a:lnTo>
                <a:lnTo>
                  <a:pt x="99" y="0"/>
                </a:lnTo>
                <a:lnTo>
                  <a:pt x="141" y="18"/>
                </a:lnTo>
                <a:lnTo>
                  <a:pt x="184" y="18"/>
                </a:lnTo>
                <a:lnTo>
                  <a:pt x="227" y="36"/>
                </a:lnTo>
                <a:lnTo>
                  <a:pt x="269" y="71"/>
                </a:lnTo>
                <a:lnTo>
                  <a:pt x="283" y="71"/>
                </a:lnTo>
                <a:lnTo>
                  <a:pt x="312" y="89"/>
                </a:lnTo>
                <a:lnTo>
                  <a:pt x="326" y="106"/>
                </a:lnTo>
                <a:lnTo>
                  <a:pt x="340" y="124"/>
                </a:lnTo>
                <a:lnTo>
                  <a:pt x="340" y="142"/>
                </a:lnTo>
                <a:lnTo>
                  <a:pt x="354" y="160"/>
                </a:lnTo>
                <a:lnTo>
                  <a:pt x="354" y="177"/>
                </a:lnTo>
                <a:lnTo>
                  <a:pt x="354" y="195"/>
                </a:lnTo>
                <a:lnTo>
                  <a:pt x="354" y="248"/>
                </a:lnTo>
                <a:lnTo>
                  <a:pt x="354" y="301"/>
                </a:lnTo>
                <a:lnTo>
                  <a:pt x="340" y="355"/>
                </a:lnTo>
                <a:lnTo>
                  <a:pt x="340" y="425"/>
                </a:lnTo>
                <a:lnTo>
                  <a:pt x="340" y="443"/>
                </a:lnTo>
                <a:lnTo>
                  <a:pt x="340" y="479"/>
                </a:lnTo>
                <a:lnTo>
                  <a:pt x="340" y="496"/>
                </a:lnTo>
                <a:lnTo>
                  <a:pt x="326" y="532"/>
                </a:lnTo>
                <a:lnTo>
                  <a:pt x="326" y="585"/>
                </a:lnTo>
                <a:lnTo>
                  <a:pt x="326" y="620"/>
                </a:lnTo>
                <a:lnTo>
                  <a:pt x="326" y="674"/>
                </a:lnTo>
                <a:lnTo>
                  <a:pt x="326" y="744"/>
                </a:lnTo>
                <a:lnTo>
                  <a:pt x="326" y="798"/>
                </a:lnTo>
                <a:lnTo>
                  <a:pt x="326" y="869"/>
                </a:lnTo>
                <a:lnTo>
                  <a:pt x="326" y="939"/>
                </a:lnTo>
                <a:lnTo>
                  <a:pt x="326" y="1028"/>
                </a:lnTo>
                <a:lnTo>
                  <a:pt x="326" y="1099"/>
                </a:lnTo>
                <a:lnTo>
                  <a:pt x="326" y="1188"/>
                </a:lnTo>
                <a:lnTo>
                  <a:pt x="326" y="1294"/>
                </a:lnTo>
                <a:lnTo>
                  <a:pt x="326" y="1400"/>
                </a:lnTo>
                <a:lnTo>
                  <a:pt x="156" y="1400"/>
                </a:lnTo>
                <a:lnTo>
                  <a:pt x="156" y="1276"/>
                </a:lnTo>
                <a:lnTo>
                  <a:pt x="156" y="1170"/>
                </a:lnTo>
                <a:lnTo>
                  <a:pt x="156" y="1081"/>
                </a:lnTo>
                <a:lnTo>
                  <a:pt x="141" y="993"/>
                </a:lnTo>
                <a:lnTo>
                  <a:pt x="141" y="904"/>
                </a:lnTo>
                <a:lnTo>
                  <a:pt x="141" y="815"/>
                </a:lnTo>
                <a:lnTo>
                  <a:pt x="141" y="744"/>
                </a:lnTo>
                <a:lnTo>
                  <a:pt x="127" y="674"/>
                </a:lnTo>
                <a:lnTo>
                  <a:pt x="127" y="603"/>
                </a:lnTo>
                <a:lnTo>
                  <a:pt x="127" y="532"/>
                </a:lnTo>
                <a:lnTo>
                  <a:pt x="127" y="479"/>
                </a:lnTo>
                <a:lnTo>
                  <a:pt x="113" y="425"/>
                </a:lnTo>
                <a:lnTo>
                  <a:pt x="113" y="390"/>
                </a:lnTo>
                <a:lnTo>
                  <a:pt x="113" y="337"/>
                </a:lnTo>
                <a:lnTo>
                  <a:pt x="113" y="301"/>
                </a:lnTo>
                <a:lnTo>
                  <a:pt x="99" y="284"/>
                </a:lnTo>
                <a:lnTo>
                  <a:pt x="99" y="248"/>
                </a:lnTo>
                <a:lnTo>
                  <a:pt x="99" y="231"/>
                </a:lnTo>
                <a:lnTo>
                  <a:pt x="85" y="195"/>
                </a:lnTo>
                <a:lnTo>
                  <a:pt x="85" y="177"/>
                </a:lnTo>
                <a:lnTo>
                  <a:pt x="71" y="160"/>
                </a:lnTo>
                <a:lnTo>
                  <a:pt x="56" y="142"/>
                </a:lnTo>
                <a:lnTo>
                  <a:pt x="42" y="124"/>
                </a:lnTo>
                <a:lnTo>
                  <a:pt x="28" y="124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4179960" y="3017880"/>
            <a:ext cx="1611360" cy="293760"/>
          </a:xfrm>
          <a:custGeom>
            <a:avLst/>
            <a:gdLst/>
            <a:ahLst/>
            <a:rect l="l" t="t" r="r" b="b"/>
            <a:pathLst>
              <a:path w="2538" h="461">
                <a:moveTo>
                  <a:pt x="1035" y="319"/>
                </a:moveTo>
                <a:lnTo>
                  <a:pt x="922" y="337"/>
                </a:lnTo>
                <a:lnTo>
                  <a:pt x="822" y="337"/>
                </a:lnTo>
                <a:lnTo>
                  <a:pt x="737" y="355"/>
                </a:lnTo>
                <a:lnTo>
                  <a:pt x="652" y="373"/>
                </a:lnTo>
                <a:lnTo>
                  <a:pt x="581" y="390"/>
                </a:lnTo>
                <a:lnTo>
                  <a:pt x="511" y="408"/>
                </a:lnTo>
                <a:lnTo>
                  <a:pt x="468" y="408"/>
                </a:lnTo>
                <a:lnTo>
                  <a:pt x="411" y="426"/>
                </a:lnTo>
                <a:lnTo>
                  <a:pt x="383" y="426"/>
                </a:lnTo>
                <a:lnTo>
                  <a:pt x="341" y="443"/>
                </a:lnTo>
                <a:lnTo>
                  <a:pt x="312" y="443"/>
                </a:lnTo>
                <a:lnTo>
                  <a:pt x="284" y="443"/>
                </a:lnTo>
                <a:lnTo>
                  <a:pt x="255" y="461"/>
                </a:lnTo>
                <a:lnTo>
                  <a:pt x="241" y="461"/>
                </a:lnTo>
                <a:lnTo>
                  <a:pt x="227" y="461"/>
                </a:lnTo>
                <a:lnTo>
                  <a:pt x="213" y="461"/>
                </a:lnTo>
                <a:lnTo>
                  <a:pt x="185" y="443"/>
                </a:lnTo>
                <a:lnTo>
                  <a:pt x="142" y="426"/>
                </a:lnTo>
                <a:lnTo>
                  <a:pt x="114" y="408"/>
                </a:lnTo>
                <a:lnTo>
                  <a:pt x="71" y="390"/>
                </a:lnTo>
                <a:lnTo>
                  <a:pt x="57" y="373"/>
                </a:lnTo>
                <a:lnTo>
                  <a:pt x="43" y="355"/>
                </a:lnTo>
                <a:lnTo>
                  <a:pt x="29" y="337"/>
                </a:lnTo>
                <a:lnTo>
                  <a:pt x="15" y="319"/>
                </a:lnTo>
                <a:lnTo>
                  <a:pt x="0" y="302"/>
                </a:lnTo>
                <a:lnTo>
                  <a:pt x="0" y="284"/>
                </a:lnTo>
                <a:lnTo>
                  <a:pt x="15" y="284"/>
                </a:lnTo>
                <a:lnTo>
                  <a:pt x="15" y="266"/>
                </a:lnTo>
                <a:lnTo>
                  <a:pt x="43" y="266"/>
                </a:lnTo>
                <a:lnTo>
                  <a:pt x="57" y="266"/>
                </a:lnTo>
                <a:lnTo>
                  <a:pt x="85" y="248"/>
                </a:lnTo>
                <a:lnTo>
                  <a:pt x="114" y="248"/>
                </a:lnTo>
                <a:lnTo>
                  <a:pt x="156" y="248"/>
                </a:lnTo>
                <a:lnTo>
                  <a:pt x="241" y="248"/>
                </a:lnTo>
                <a:lnTo>
                  <a:pt x="326" y="231"/>
                </a:lnTo>
                <a:lnTo>
                  <a:pt x="426" y="231"/>
                </a:lnTo>
                <a:lnTo>
                  <a:pt x="525" y="213"/>
                </a:lnTo>
                <a:lnTo>
                  <a:pt x="581" y="195"/>
                </a:lnTo>
                <a:lnTo>
                  <a:pt x="638" y="195"/>
                </a:lnTo>
                <a:lnTo>
                  <a:pt x="709" y="195"/>
                </a:lnTo>
                <a:lnTo>
                  <a:pt x="766" y="178"/>
                </a:lnTo>
                <a:lnTo>
                  <a:pt x="837" y="178"/>
                </a:lnTo>
                <a:lnTo>
                  <a:pt x="908" y="160"/>
                </a:lnTo>
                <a:lnTo>
                  <a:pt x="978" y="142"/>
                </a:lnTo>
                <a:lnTo>
                  <a:pt x="1063" y="142"/>
                </a:lnTo>
                <a:lnTo>
                  <a:pt x="1219" y="124"/>
                </a:lnTo>
                <a:lnTo>
                  <a:pt x="1389" y="89"/>
                </a:lnTo>
                <a:lnTo>
                  <a:pt x="1545" y="71"/>
                </a:lnTo>
                <a:lnTo>
                  <a:pt x="1730" y="36"/>
                </a:lnTo>
                <a:lnTo>
                  <a:pt x="1815" y="18"/>
                </a:lnTo>
                <a:lnTo>
                  <a:pt x="1886" y="18"/>
                </a:lnTo>
                <a:lnTo>
                  <a:pt x="1956" y="0"/>
                </a:lnTo>
                <a:lnTo>
                  <a:pt x="2013" y="0"/>
                </a:lnTo>
                <a:lnTo>
                  <a:pt x="2070" y="0"/>
                </a:lnTo>
                <a:lnTo>
                  <a:pt x="2126" y="0"/>
                </a:lnTo>
                <a:lnTo>
                  <a:pt x="2169" y="0"/>
                </a:lnTo>
                <a:lnTo>
                  <a:pt x="2197" y="0"/>
                </a:lnTo>
                <a:lnTo>
                  <a:pt x="2240" y="0"/>
                </a:lnTo>
                <a:lnTo>
                  <a:pt x="2268" y="18"/>
                </a:lnTo>
                <a:lnTo>
                  <a:pt x="2297" y="36"/>
                </a:lnTo>
                <a:lnTo>
                  <a:pt x="2325" y="36"/>
                </a:lnTo>
                <a:lnTo>
                  <a:pt x="2353" y="54"/>
                </a:lnTo>
                <a:lnTo>
                  <a:pt x="2382" y="71"/>
                </a:lnTo>
                <a:lnTo>
                  <a:pt x="2410" y="107"/>
                </a:lnTo>
                <a:lnTo>
                  <a:pt x="2438" y="124"/>
                </a:lnTo>
                <a:lnTo>
                  <a:pt x="2467" y="142"/>
                </a:lnTo>
                <a:lnTo>
                  <a:pt x="2481" y="178"/>
                </a:lnTo>
                <a:lnTo>
                  <a:pt x="2495" y="195"/>
                </a:lnTo>
                <a:lnTo>
                  <a:pt x="2523" y="213"/>
                </a:lnTo>
                <a:lnTo>
                  <a:pt x="2523" y="231"/>
                </a:lnTo>
                <a:lnTo>
                  <a:pt x="2538" y="231"/>
                </a:lnTo>
                <a:lnTo>
                  <a:pt x="2538" y="248"/>
                </a:lnTo>
                <a:lnTo>
                  <a:pt x="2538" y="266"/>
                </a:lnTo>
                <a:lnTo>
                  <a:pt x="2523" y="284"/>
                </a:lnTo>
                <a:lnTo>
                  <a:pt x="2509" y="284"/>
                </a:lnTo>
                <a:lnTo>
                  <a:pt x="2495" y="284"/>
                </a:lnTo>
                <a:lnTo>
                  <a:pt x="2481" y="284"/>
                </a:lnTo>
                <a:lnTo>
                  <a:pt x="2452" y="284"/>
                </a:lnTo>
                <a:lnTo>
                  <a:pt x="2438" y="284"/>
                </a:lnTo>
                <a:lnTo>
                  <a:pt x="2396" y="284"/>
                </a:lnTo>
                <a:lnTo>
                  <a:pt x="2353" y="284"/>
                </a:lnTo>
                <a:lnTo>
                  <a:pt x="2311" y="284"/>
                </a:lnTo>
                <a:lnTo>
                  <a:pt x="2254" y="266"/>
                </a:lnTo>
                <a:lnTo>
                  <a:pt x="2197" y="266"/>
                </a:lnTo>
                <a:lnTo>
                  <a:pt x="2084" y="248"/>
                </a:lnTo>
                <a:lnTo>
                  <a:pt x="1956" y="248"/>
                </a:lnTo>
                <a:lnTo>
                  <a:pt x="1843" y="248"/>
                </a:lnTo>
                <a:lnTo>
                  <a:pt x="1730" y="248"/>
                </a:lnTo>
                <a:lnTo>
                  <a:pt x="1659" y="248"/>
                </a:lnTo>
                <a:lnTo>
                  <a:pt x="1602" y="248"/>
                </a:lnTo>
                <a:lnTo>
                  <a:pt x="1517" y="248"/>
                </a:lnTo>
                <a:lnTo>
                  <a:pt x="1432" y="266"/>
                </a:lnTo>
                <a:lnTo>
                  <a:pt x="1347" y="266"/>
                </a:lnTo>
                <a:lnTo>
                  <a:pt x="1248" y="284"/>
                </a:lnTo>
                <a:lnTo>
                  <a:pt x="1148" y="302"/>
                </a:lnTo>
                <a:lnTo>
                  <a:pt x="1035" y="319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4881600" y="1724040"/>
            <a:ext cx="252360" cy="1417680"/>
          </a:xfrm>
          <a:custGeom>
            <a:avLst/>
            <a:gdLst/>
            <a:ahLst/>
            <a:rect l="l" t="t" r="r" b="b"/>
            <a:pathLst>
              <a:path w="397" h="2233">
                <a:moveTo>
                  <a:pt x="42" y="142"/>
                </a:moveTo>
                <a:lnTo>
                  <a:pt x="28" y="124"/>
                </a:lnTo>
                <a:lnTo>
                  <a:pt x="14" y="124"/>
                </a:lnTo>
                <a:lnTo>
                  <a:pt x="14" y="107"/>
                </a:lnTo>
                <a:lnTo>
                  <a:pt x="0" y="89"/>
                </a:lnTo>
                <a:lnTo>
                  <a:pt x="0" y="71"/>
                </a:lnTo>
                <a:lnTo>
                  <a:pt x="0" y="53"/>
                </a:lnTo>
                <a:lnTo>
                  <a:pt x="0" y="36"/>
                </a:lnTo>
                <a:lnTo>
                  <a:pt x="14" y="18"/>
                </a:lnTo>
                <a:lnTo>
                  <a:pt x="28" y="18"/>
                </a:lnTo>
                <a:lnTo>
                  <a:pt x="42" y="0"/>
                </a:lnTo>
                <a:lnTo>
                  <a:pt x="57" y="0"/>
                </a:lnTo>
                <a:lnTo>
                  <a:pt x="71" y="0"/>
                </a:lnTo>
                <a:lnTo>
                  <a:pt x="99" y="0"/>
                </a:lnTo>
                <a:lnTo>
                  <a:pt x="113" y="18"/>
                </a:lnTo>
                <a:lnTo>
                  <a:pt x="170" y="18"/>
                </a:lnTo>
                <a:lnTo>
                  <a:pt x="213" y="36"/>
                </a:lnTo>
                <a:lnTo>
                  <a:pt x="269" y="71"/>
                </a:lnTo>
                <a:lnTo>
                  <a:pt x="312" y="89"/>
                </a:lnTo>
                <a:lnTo>
                  <a:pt x="326" y="107"/>
                </a:lnTo>
                <a:lnTo>
                  <a:pt x="340" y="107"/>
                </a:lnTo>
                <a:lnTo>
                  <a:pt x="354" y="124"/>
                </a:lnTo>
                <a:lnTo>
                  <a:pt x="368" y="142"/>
                </a:lnTo>
                <a:lnTo>
                  <a:pt x="383" y="142"/>
                </a:lnTo>
                <a:lnTo>
                  <a:pt x="397" y="160"/>
                </a:lnTo>
                <a:lnTo>
                  <a:pt x="397" y="178"/>
                </a:lnTo>
                <a:lnTo>
                  <a:pt x="397" y="195"/>
                </a:lnTo>
                <a:lnTo>
                  <a:pt x="397" y="213"/>
                </a:lnTo>
                <a:lnTo>
                  <a:pt x="397" y="231"/>
                </a:lnTo>
                <a:lnTo>
                  <a:pt x="397" y="248"/>
                </a:lnTo>
                <a:lnTo>
                  <a:pt x="397" y="266"/>
                </a:lnTo>
                <a:lnTo>
                  <a:pt x="397" y="302"/>
                </a:lnTo>
                <a:lnTo>
                  <a:pt x="397" y="319"/>
                </a:lnTo>
                <a:lnTo>
                  <a:pt x="383" y="355"/>
                </a:lnTo>
                <a:lnTo>
                  <a:pt x="383" y="408"/>
                </a:lnTo>
                <a:lnTo>
                  <a:pt x="368" y="443"/>
                </a:lnTo>
                <a:lnTo>
                  <a:pt x="368" y="514"/>
                </a:lnTo>
                <a:lnTo>
                  <a:pt x="354" y="567"/>
                </a:lnTo>
                <a:lnTo>
                  <a:pt x="354" y="656"/>
                </a:lnTo>
                <a:lnTo>
                  <a:pt x="354" y="727"/>
                </a:lnTo>
                <a:lnTo>
                  <a:pt x="340" y="833"/>
                </a:lnTo>
                <a:lnTo>
                  <a:pt x="340" y="922"/>
                </a:lnTo>
                <a:lnTo>
                  <a:pt x="340" y="993"/>
                </a:lnTo>
                <a:lnTo>
                  <a:pt x="326" y="1046"/>
                </a:lnTo>
                <a:lnTo>
                  <a:pt x="326" y="1099"/>
                </a:lnTo>
                <a:lnTo>
                  <a:pt x="326" y="1170"/>
                </a:lnTo>
                <a:lnTo>
                  <a:pt x="326" y="1241"/>
                </a:lnTo>
                <a:lnTo>
                  <a:pt x="326" y="1312"/>
                </a:lnTo>
                <a:lnTo>
                  <a:pt x="326" y="1383"/>
                </a:lnTo>
                <a:lnTo>
                  <a:pt x="326" y="1471"/>
                </a:lnTo>
                <a:lnTo>
                  <a:pt x="312" y="1560"/>
                </a:lnTo>
                <a:lnTo>
                  <a:pt x="312" y="1648"/>
                </a:lnTo>
                <a:lnTo>
                  <a:pt x="312" y="1737"/>
                </a:lnTo>
                <a:lnTo>
                  <a:pt x="312" y="1826"/>
                </a:lnTo>
                <a:lnTo>
                  <a:pt x="312" y="1914"/>
                </a:lnTo>
                <a:lnTo>
                  <a:pt x="312" y="2021"/>
                </a:lnTo>
                <a:lnTo>
                  <a:pt x="312" y="2127"/>
                </a:lnTo>
                <a:lnTo>
                  <a:pt x="312" y="2233"/>
                </a:lnTo>
                <a:lnTo>
                  <a:pt x="142" y="2233"/>
                </a:lnTo>
                <a:lnTo>
                  <a:pt x="142" y="2127"/>
                </a:lnTo>
                <a:lnTo>
                  <a:pt x="142" y="2021"/>
                </a:lnTo>
                <a:lnTo>
                  <a:pt x="142" y="1914"/>
                </a:lnTo>
                <a:lnTo>
                  <a:pt x="142" y="1826"/>
                </a:lnTo>
                <a:lnTo>
                  <a:pt x="142" y="1719"/>
                </a:lnTo>
                <a:lnTo>
                  <a:pt x="142" y="1631"/>
                </a:lnTo>
                <a:lnTo>
                  <a:pt x="142" y="1542"/>
                </a:lnTo>
                <a:lnTo>
                  <a:pt x="142" y="1454"/>
                </a:lnTo>
                <a:lnTo>
                  <a:pt x="142" y="1383"/>
                </a:lnTo>
                <a:lnTo>
                  <a:pt x="142" y="1294"/>
                </a:lnTo>
                <a:lnTo>
                  <a:pt x="142" y="1223"/>
                </a:lnTo>
                <a:lnTo>
                  <a:pt x="142" y="1152"/>
                </a:lnTo>
                <a:lnTo>
                  <a:pt x="142" y="1081"/>
                </a:lnTo>
                <a:lnTo>
                  <a:pt x="142" y="1010"/>
                </a:lnTo>
                <a:lnTo>
                  <a:pt x="142" y="940"/>
                </a:lnTo>
                <a:lnTo>
                  <a:pt x="142" y="886"/>
                </a:lnTo>
                <a:lnTo>
                  <a:pt x="142" y="833"/>
                </a:lnTo>
                <a:lnTo>
                  <a:pt x="142" y="780"/>
                </a:lnTo>
                <a:lnTo>
                  <a:pt x="142" y="727"/>
                </a:lnTo>
                <a:lnTo>
                  <a:pt x="142" y="674"/>
                </a:lnTo>
                <a:lnTo>
                  <a:pt x="142" y="621"/>
                </a:lnTo>
                <a:lnTo>
                  <a:pt x="128" y="585"/>
                </a:lnTo>
                <a:lnTo>
                  <a:pt x="128" y="550"/>
                </a:lnTo>
                <a:lnTo>
                  <a:pt x="128" y="514"/>
                </a:lnTo>
                <a:lnTo>
                  <a:pt x="128" y="479"/>
                </a:lnTo>
                <a:lnTo>
                  <a:pt x="128" y="443"/>
                </a:lnTo>
                <a:lnTo>
                  <a:pt x="128" y="426"/>
                </a:lnTo>
                <a:lnTo>
                  <a:pt x="128" y="390"/>
                </a:lnTo>
                <a:lnTo>
                  <a:pt x="128" y="372"/>
                </a:lnTo>
                <a:lnTo>
                  <a:pt x="128" y="355"/>
                </a:lnTo>
                <a:lnTo>
                  <a:pt x="128" y="337"/>
                </a:lnTo>
                <a:lnTo>
                  <a:pt x="128" y="302"/>
                </a:lnTo>
                <a:lnTo>
                  <a:pt x="113" y="266"/>
                </a:lnTo>
                <a:lnTo>
                  <a:pt x="113" y="248"/>
                </a:lnTo>
                <a:lnTo>
                  <a:pt x="99" y="213"/>
                </a:lnTo>
                <a:lnTo>
                  <a:pt x="85" y="195"/>
                </a:lnTo>
                <a:lnTo>
                  <a:pt x="71" y="178"/>
                </a:lnTo>
                <a:lnTo>
                  <a:pt x="57" y="160"/>
                </a:lnTo>
                <a:lnTo>
                  <a:pt x="42" y="142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9"/>
          <p:cNvSpPr/>
          <p:nvPr/>
        </p:nvSpPr>
        <p:spPr>
          <a:xfrm>
            <a:off x="3540240" y="2208240"/>
            <a:ext cx="792000" cy="280800"/>
          </a:xfrm>
          <a:custGeom>
            <a:avLst/>
            <a:gdLst/>
            <a:ahLst/>
            <a:rect l="l" t="t" r="r" b="b"/>
            <a:pathLst>
              <a:path w="1247" h="443">
                <a:moveTo>
                  <a:pt x="1191" y="18"/>
                </a:moveTo>
                <a:lnTo>
                  <a:pt x="1219" y="36"/>
                </a:lnTo>
                <a:lnTo>
                  <a:pt x="1233" y="54"/>
                </a:lnTo>
                <a:lnTo>
                  <a:pt x="1247" y="71"/>
                </a:lnTo>
                <a:lnTo>
                  <a:pt x="1247" y="89"/>
                </a:lnTo>
                <a:lnTo>
                  <a:pt x="1233" y="89"/>
                </a:lnTo>
                <a:lnTo>
                  <a:pt x="1219" y="89"/>
                </a:lnTo>
                <a:lnTo>
                  <a:pt x="1205" y="107"/>
                </a:lnTo>
                <a:lnTo>
                  <a:pt x="1191" y="107"/>
                </a:lnTo>
                <a:lnTo>
                  <a:pt x="1162" y="124"/>
                </a:lnTo>
                <a:lnTo>
                  <a:pt x="1134" y="142"/>
                </a:lnTo>
                <a:lnTo>
                  <a:pt x="1106" y="142"/>
                </a:lnTo>
                <a:lnTo>
                  <a:pt x="1063" y="160"/>
                </a:lnTo>
                <a:lnTo>
                  <a:pt x="1035" y="178"/>
                </a:lnTo>
                <a:lnTo>
                  <a:pt x="978" y="195"/>
                </a:lnTo>
                <a:lnTo>
                  <a:pt x="935" y="213"/>
                </a:lnTo>
                <a:lnTo>
                  <a:pt x="893" y="231"/>
                </a:lnTo>
                <a:lnTo>
                  <a:pt x="836" y="248"/>
                </a:lnTo>
                <a:lnTo>
                  <a:pt x="780" y="266"/>
                </a:lnTo>
                <a:lnTo>
                  <a:pt x="723" y="284"/>
                </a:lnTo>
                <a:lnTo>
                  <a:pt x="666" y="302"/>
                </a:lnTo>
                <a:lnTo>
                  <a:pt x="609" y="337"/>
                </a:lnTo>
                <a:lnTo>
                  <a:pt x="567" y="337"/>
                </a:lnTo>
                <a:lnTo>
                  <a:pt x="524" y="355"/>
                </a:lnTo>
                <a:lnTo>
                  <a:pt x="482" y="373"/>
                </a:lnTo>
                <a:lnTo>
                  <a:pt x="439" y="390"/>
                </a:lnTo>
                <a:lnTo>
                  <a:pt x="397" y="390"/>
                </a:lnTo>
                <a:lnTo>
                  <a:pt x="369" y="408"/>
                </a:lnTo>
                <a:lnTo>
                  <a:pt x="340" y="426"/>
                </a:lnTo>
                <a:lnTo>
                  <a:pt x="312" y="426"/>
                </a:lnTo>
                <a:lnTo>
                  <a:pt x="298" y="426"/>
                </a:lnTo>
                <a:lnTo>
                  <a:pt x="269" y="426"/>
                </a:lnTo>
                <a:lnTo>
                  <a:pt x="255" y="443"/>
                </a:lnTo>
                <a:lnTo>
                  <a:pt x="241" y="443"/>
                </a:lnTo>
                <a:lnTo>
                  <a:pt x="198" y="443"/>
                </a:lnTo>
                <a:lnTo>
                  <a:pt x="170" y="426"/>
                </a:lnTo>
                <a:lnTo>
                  <a:pt x="128" y="408"/>
                </a:lnTo>
                <a:lnTo>
                  <a:pt x="85" y="390"/>
                </a:lnTo>
                <a:lnTo>
                  <a:pt x="71" y="390"/>
                </a:lnTo>
                <a:lnTo>
                  <a:pt x="57" y="373"/>
                </a:lnTo>
                <a:lnTo>
                  <a:pt x="43" y="355"/>
                </a:lnTo>
                <a:lnTo>
                  <a:pt x="28" y="355"/>
                </a:lnTo>
                <a:lnTo>
                  <a:pt x="14" y="337"/>
                </a:lnTo>
                <a:lnTo>
                  <a:pt x="0" y="337"/>
                </a:lnTo>
                <a:lnTo>
                  <a:pt x="0" y="319"/>
                </a:lnTo>
                <a:lnTo>
                  <a:pt x="14" y="319"/>
                </a:lnTo>
                <a:lnTo>
                  <a:pt x="28" y="302"/>
                </a:lnTo>
                <a:lnTo>
                  <a:pt x="43" y="302"/>
                </a:lnTo>
                <a:lnTo>
                  <a:pt x="57" y="302"/>
                </a:lnTo>
                <a:lnTo>
                  <a:pt x="85" y="284"/>
                </a:lnTo>
                <a:lnTo>
                  <a:pt x="99" y="284"/>
                </a:lnTo>
                <a:lnTo>
                  <a:pt x="128" y="266"/>
                </a:lnTo>
                <a:lnTo>
                  <a:pt x="156" y="266"/>
                </a:lnTo>
                <a:lnTo>
                  <a:pt x="184" y="248"/>
                </a:lnTo>
                <a:lnTo>
                  <a:pt x="227" y="248"/>
                </a:lnTo>
                <a:lnTo>
                  <a:pt x="269" y="231"/>
                </a:lnTo>
                <a:lnTo>
                  <a:pt x="312" y="213"/>
                </a:lnTo>
                <a:lnTo>
                  <a:pt x="354" y="213"/>
                </a:lnTo>
                <a:lnTo>
                  <a:pt x="397" y="195"/>
                </a:lnTo>
                <a:lnTo>
                  <a:pt x="496" y="160"/>
                </a:lnTo>
                <a:lnTo>
                  <a:pt x="581" y="142"/>
                </a:lnTo>
                <a:lnTo>
                  <a:pt x="666" y="124"/>
                </a:lnTo>
                <a:lnTo>
                  <a:pt x="737" y="107"/>
                </a:lnTo>
                <a:lnTo>
                  <a:pt x="794" y="89"/>
                </a:lnTo>
                <a:lnTo>
                  <a:pt x="850" y="71"/>
                </a:lnTo>
                <a:lnTo>
                  <a:pt x="907" y="54"/>
                </a:lnTo>
                <a:lnTo>
                  <a:pt x="935" y="36"/>
                </a:lnTo>
                <a:lnTo>
                  <a:pt x="978" y="36"/>
                </a:lnTo>
                <a:lnTo>
                  <a:pt x="1006" y="36"/>
                </a:lnTo>
                <a:lnTo>
                  <a:pt x="1035" y="18"/>
                </a:lnTo>
                <a:lnTo>
                  <a:pt x="1049" y="18"/>
                </a:lnTo>
                <a:lnTo>
                  <a:pt x="1077" y="0"/>
                </a:lnTo>
                <a:lnTo>
                  <a:pt x="1091" y="0"/>
                </a:lnTo>
                <a:lnTo>
                  <a:pt x="1106" y="0"/>
                </a:lnTo>
                <a:lnTo>
                  <a:pt x="1120" y="0"/>
                </a:lnTo>
                <a:lnTo>
                  <a:pt x="1134" y="0"/>
                </a:lnTo>
                <a:lnTo>
                  <a:pt x="1162" y="0"/>
                </a:lnTo>
                <a:lnTo>
                  <a:pt x="1191" y="1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3370320" y="2579760"/>
            <a:ext cx="981000" cy="663480"/>
          </a:xfrm>
          <a:custGeom>
            <a:avLst/>
            <a:gdLst/>
            <a:ahLst/>
            <a:rect l="l" t="t" r="r" b="b"/>
            <a:pathLst>
              <a:path w="1545" h="1046">
                <a:moveTo>
                  <a:pt x="666" y="780"/>
                </a:moveTo>
                <a:lnTo>
                  <a:pt x="581" y="833"/>
                </a:lnTo>
                <a:lnTo>
                  <a:pt x="510" y="886"/>
                </a:lnTo>
                <a:lnTo>
                  <a:pt x="453" y="939"/>
                </a:lnTo>
                <a:lnTo>
                  <a:pt x="397" y="975"/>
                </a:lnTo>
                <a:lnTo>
                  <a:pt x="340" y="1010"/>
                </a:lnTo>
                <a:lnTo>
                  <a:pt x="312" y="1028"/>
                </a:lnTo>
                <a:lnTo>
                  <a:pt x="283" y="1046"/>
                </a:lnTo>
                <a:lnTo>
                  <a:pt x="269" y="1046"/>
                </a:lnTo>
                <a:lnTo>
                  <a:pt x="255" y="1046"/>
                </a:lnTo>
                <a:lnTo>
                  <a:pt x="226" y="1046"/>
                </a:lnTo>
                <a:lnTo>
                  <a:pt x="212" y="1046"/>
                </a:lnTo>
                <a:lnTo>
                  <a:pt x="198" y="1028"/>
                </a:lnTo>
                <a:lnTo>
                  <a:pt x="170" y="1010"/>
                </a:lnTo>
                <a:lnTo>
                  <a:pt x="156" y="993"/>
                </a:lnTo>
                <a:lnTo>
                  <a:pt x="127" y="975"/>
                </a:lnTo>
                <a:lnTo>
                  <a:pt x="99" y="957"/>
                </a:lnTo>
                <a:lnTo>
                  <a:pt x="71" y="922"/>
                </a:lnTo>
                <a:lnTo>
                  <a:pt x="56" y="904"/>
                </a:lnTo>
                <a:lnTo>
                  <a:pt x="28" y="869"/>
                </a:lnTo>
                <a:lnTo>
                  <a:pt x="28" y="851"/>
                </a:lnTo>
                <a:lnTo>
                  <a:pt x="14" y="833"/>
                </a:lnTo>
                <a:lnTo>
                  <a:pt x="0" y="815"/>
                </a:lnTo>
                <a:lnTo>
                  <a:pt x="0" y="798"/>
                </a:lnTo>
                <a:lnTo>
                  <a:pt x="14" y="780"/>
                </a:lnTo>
                <a:lnTo>
                  <a:pt x="28" y="762"/>
                </a:lnTo>
                <a:lnTo>
                  <a:pt x="42" y="762"/>
                </a:lnTo>
                <a:lnTo>
                  <a:pt x="56" y="745"/>
                </a:lnTo>
                <a:lnTo>
                  <a:pt x="71" y="745"/>
                </a:lnTo>
                <a:lnTo>
                  <a:pt x="99" y="745"/>
                </a:lnTo>
                <a:lnTo>
                  <a:pt x="127" y="745"/>
                </a:lnTo>
                <a:lnTo>
                  <a:pt x="170" y="727"/>
                </a:lnTo>
                <a:lnTo>
                  <a:pt x="212" y="727"/>
                </a:lnTo>
                <a:lnTo>
                  <a:pt x="269" y="709"/>
                </a:lnTo>
                <a:lnTo>
                  <a:pt x="297" y="709"/>
                </a:lnTo>
                <a:lnTo>
                  <a:pt x="326" y="709"/>
                </a:lnTo>
                <a:lnTo>
                  <a:pt x="354" y="691"/>
                </a:lnTo>
                <a:lnTo>
                  <a:pt x="382" y="674"/>
                </a:lnTo>
                <a:lnTo>
                  <a:pt x="425" y="656"/>
                </a:lnTo>
                <a:lnTo>
                  <a:pt x="467" y="638"/>
                </a:lnTo>
                <a:lnTo>
                  <a:pt x="510" y="620"/>
                </a:lnTo>
                <a:lnTo>
                  <a:pt x="567" y="585"/>
                </a:lnTo>
                <a:lnTo>
                  <a:pt x="609" y="550"/>
                </a:lnTo>
                <a:lnTo>
                  <a:pt x="680" y="514"/>
                </a:lnTo>
                <a:lnTo>
                  <a:pt x="737" y="479"/>
                </a:lnTo>
                <a:lnTo>
                  <a:pt x="808" y="443"/>
                </a:lnTo>
                <a:lnTo>
                  <a:pt x="878" y="390"/>
                </a:lnTo>
                <a:lnTo>
                  <a:pt x="949" y="355"/>
                </a:lnTo>
                <a:lnTo>
                  <a:pt x="1034" y="301"/>
                </a:lnTo>
                <a:lnTo>
                  <a:pt x="1105" y="248"/>
                </a:lnTo>
                <a:lnTo>
                  <a:pt x="1190" y="195"/>
                </a:lnTo>
                <a:lnTo>
                  <a:pt x="1233" y="160"/>
                </a:lnTo>
                <a:lnTo>
                  <a:pt x="1275" y="142"/>
                </a:lnTo>
                <a:lnTo>
                  <a:pt x="1318" y="124"/>
                </a:lnTo>
                <a:lnTo>
                  <a:pt x="1346" y="89"/>
                </a:lnTo>
                <a:lnTo>
                  <a:pt x="1375" y="71"/>
                </a:lnTo>
                <a:lnTo>
                  <a:pt x="1403" y="53"/>
                </a:lnTo>
                <a:lnTo>
                  <a:pt x="1431" y="53"/>
                </a:lnTo>
                <a:lnTo>
                  <a:pt x="1460" y="36"/>
                </a:lnTo>
                <a:lnTo>
                  <a:pt x="1474" y="18"/>
                </a:lnTo>
                <a:lnTo>
                  <a:pt x="1488" y="18"/>
                </a:lnTo>
                <a:lnTo>
                  <a:pt x="1502" y="18"/>
                </a:lnTo>
                <a:lnTo>
                  <a:pt x="1516" y="0"/>
                </a:lnTo>
                <a:lnTo>
                  <a:pt x="1530" y="0"/>
                </a:lnTo>
                <a:lnTo>
                  <a:pt x="1545" y="0"/>
                </a:lnTo>
                <a:lnTo>
                  <a:pt x="1545" y="18"/>
                </a:lnTo>
                <a:lnTo>
                  <a:pt x="1545" y="36"/>
                </a:lnTo>
                <a:lnTo>
                  <a:pt x="1530" y="53"/>
                </a:lnTo>
                <a:lnTo>
                  <a:pt x="1516" y="71"/>
                </a:lnTo>
                <a:lnTo>
                  <a:pt x="1488" y="107"/>
                </a:lnTo>
                <a:lnTo>
                  <a:pt x="1445" y="142"/>
                </a:lnTo>
                <a:lnTo>
                  <a:pt x="1403" y="177"/>
                </a:lnTo>
                <a:lnTo>
                  <a:pt x="1346" y="231"/>
                </a:lnTo>
                <a:lnTo>
                  <a:pt x="1290" y="284"/>
                </a:lnTo>
                <a:lnTo>
                  <a:pt x="1219" y="337"/>
                </a:lnTo>
                <a:lnTo>
                  <a:pt x="1148" y="408"/>
                </a:lnTo>
                <a:lnTo>
                  <a:pt x="1077" y="461"/>
                </a:lnTo>
                <a:lnTo>
                  <a:pt x="1006" y="514"/>
                </a:lnTo>
                <a:lnTo>
                  <a:pt x="921" y="585"/>
                </a:lnTo>
                <a:lnTo>
                  <a:pt x="836" y="656"/>
                </a:lnTo>
                <a:lnTo>
                  <a:pt x="751" y="709"/>
                </a:lnTo>
                <a:lnTo>
                  <a:pt x="666" y="78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11"/>
          <p:cNvSpPr/>
          <p:nvPr/>
        </p:nvSpPr>
        <p:spPr>
          <a:xfrm>
            <a:off x="3720960" y="1511280"/>
            <a:ext cx="459000" cy="2158920"/>
          </a:xfrm>
          <a:custGeom>
            <a:avLst/>
            <a:gdLst/>
            <a:ahLst/>
            <a:rect l="l" t="t" r="r" b="b"/>
            <a:pathLst>
              <a:path w="723" h="3402">
                <a:moveTo>
                  <a:pt x="128" y="3048"/>
                </a:moveTo>
                <a:lnTo>
                  <a:pt x="100" y="3012"/>
                </a:lnTo>
                <a:lnTo>
                  <a:pt x="71" y="2995"/>
                </a:lnTo>
                <a:lnTo>
                  <a:pt x="43" y="2977"/>
                </a:lnTo>
                <a:lnTo>
                  <a:pt x="29" y="2959"/>
                </a:lnTo>
                <a:lnTo>
                  <a:pt x="15" y="2941"/>
                </a:lnTo>
                <a:lnTo>
                  <a:pt x="0" y="2924"/>
                </a:lnTo>
                <a:lnTo>
                  <a:pt x="0" y="2906"/>
                </a:lnTo>
                <a:lnTo>
                  <a:pt x="15" y="2906"/>
                </a:lnTo>
                <a:lnTo>
                  <a:pt x="29" y="2906"/>
                </a:lnTo>
                <a:lnTo>
                  <a:pt x="43" y="2888"/>
                </a:lnTo>
                <a:lnTo>
                  <a:pt x="71" y="2906"/>
                </a:lnTo>
                <a:lnTo>
                  <a:pt x="100" y="2906"/>
                </a:lnTo>
                <a:lnTo>
                  <a:pt x="128" y="2906"/>
                </a:lnTo>
                <a:lnTo>
                  <a:pt x="156" y="2906"/>
                </a:lnTo>
                <a:lnTo>
                  <a:pt x="227" y="2924"/>
                </a:lnTo>
                <a:lnTo>
                  <a:pt x="284" y="2924"/>
                </a:lnTo>
                <a:lnTo>
                  <a:pt x="326" y="2924"/>
                </a:lnTo>
                <a:lnTo>
                  <a:pt x="369" y="2924"/>
                </a:lnTo>
                <a:lnTo>
                  <a:pt x="383" y="2924"/>
                </a:lnTo>
                <a:lnTo>
                  <a:pt x="383" y="2906"/>
                </a:lnTo>
                <a:lnTo>
                  <a:pt x="397" y="2888"/>
                </a:lnTo>
                <a:lnTo>
                  <a:pt x="397" y="2871"/>
                </a:lnTo>
                <a:lnTo>
                  <a:pt x="412" y="2853"/>
                </a:lnTo>
                <a:lnTo>
                  <a:pt x="412" y="2835"/>
                </a:lnTo>
                <a:lnTo>
                  <a:pt x="426" y="2800"/>
                </a:lnTo>
                <a:lnTo>
                  <a:pt x="426" y="2764"/>
                </a:lnTo>
                <a:lnTo>
                  <a:pt x="440" y="2729"/>
                </a:lnTo>
                <a:lnTo>
                  <a:pt x="440" y="2693"/>
                </a:lnTo>
                <a:lnTo>
                  <a:pt x="440" y="2640"/>
                </a:lnTo>
                <a:lnTo>
                  <a:pt x="454" y="2587"/>
                </a:lnTo>
                <a:lnTo>
                  <a:pt x="454" y="2534"/>
                </a:lnTo>
                <a:lnTo>
                  <a:pt x="454" y="2481"/>
                </a:lnTo>
                <a:lnTo>
                  <a:pt x="454" y="2410"/>
                </a:lnTo>
                <a:lnTo>
                  <a:pt x="468" y="2357"/>
                </a:lnTo>
                <a:lnTo>
                  <a:pt x="468" y="2215"/>
                </a:lnTo>
                <a:lnTo>
                  <a:pt x="468" y="2073"/>
                </a:lnTo>
                <a:lnTo>
                  <a:pt x="468" y="1914"/>
                </a:lnTo>
                <a:lnTo>
                  <a:pt x="468" y="1754"/>
                </a:lnTo>
                <a:lnTo>
                  <a:pt x="468" y="1595"/>
                </a:lnTo>
                <a:lnTo>
                  <a:pt x="468" y="1435"/>
                </a:lnTo>
                <a:lnTo>
                  <a:pt x="468" y="1258"/>
                </a:lnTo>
                <a:lnTo>
                  <a:pt x="468" y="1081"/>
                </a:lnTo>
                <a:lnTo>
                  <a:pt x="454" y="974"/>
                </a:lnTo>
                <a:lnTo>
                  <a:pt x="454" y="903"/>
                </a:lnTo>
                <a:lnTo>
                  <a:pt x="454" y="815"/>
                </a:lnTo>
                <a:lnTo>
                  <a:pt x="454" y="744"/>
                </a:lnTo>
                <a:lnTo>
                  <a:pt x="454" y="673"/>
                </a:lnTo>
                <a:lnTo>
                  <a:pt x="440" y="602"/>
                </a:lnTo>
                <a:lnTo>
                  <a:pt x="440" y="549"/>
                </a:lnTo>
                <a:lnTo>
                  <a:pt x="440" y="496"/>
                </a:lnTo>
                <a:lnTo>
                  <a:pt x="440" y="443"/>
                </a:lnTo>
                <a:lnTo>
                  <a:pt x="440" y="407"/>
                </a:lnTo>
                <a:lnTo>
                  <a:pt x="440" y="354"/>
                </a:lnTo>
                <a:lnTo>
                  <a:pt x="426" y="319"/>
                </a:lnTo>
                <a:lnTo>
                  <a:pt x="426" y="301"/>
                </a:lnTo>
                <a:lnTo>
                  <a:pt x="426" y="265"/>
                </a:lnTo>
                <a:lnTo>
                  <a:pt x="426" y="248"/>
                </a:lnTo>
                <a:lnTo>
                  <a:pt x="426" y="230"/>
                </a:lnTo>
                <a:lnTo>
                  <a:pt x="412" y="195"/>
                </a:lnTo>
                <a:lnTo>
                  <a:pt x="397" y="141"/>
                </a:lnTo>
                <a:lnTo>
                  <a:pt x="383" y="124"/>
                </a:lnTo>
                <a:lnTo>
                  <a:pt x="355" y="88"/>
                </a:lnTo>
                <a:lnTo>
                  <a:pt x="341" y="70"/>
                </a:lnTo>
                <a:lnTo>
                  <a:pt x="341" y="53"/>
                </a:lnTo>
                <a:lnTo>
                  <a:pt x="341" y="35"/>
                </a:lnTo>
                <a:lnTo>
                  <a:pt x="355" y="17"/>
                </a:lnTo>
                <a:lnTo>
                  <a:pt x="369" y="0"/>
                </a:lnTo>
                <a:lnTo>
                  <a:pt x="383" y="0"/>
                </a:lnTo>
                <a:lnTo>
                  <a:pt x="397" y="0"/>
                </a:lnTo>
                <a:lnTo>
                  <a:pt x="412" y="0"/>
                </a:lnTo>
                <a:lnTo>
                  <a:pt x="440" y="0"/>
                </a:lnTo>
                <a:lnTo>
                  <a:pt x="468" y="0"/>
                </a:lnTo>
                <a:lnTo>
                  <a:pt x="497" y="0"/>
                </a:lnTo>
                <a:lnTo>
                  <a:pt x="525" y="17"/>
                </a:lnTo>
                <a:lnTo>
                  <a:pt x="567" y="35"/>
                </a:lnTo>
                <a:lnTo>
                  <a:pt x="596" y="35"/>
                </a:lnTo>
                <a:lnTo>
                  <a:pt x="624" y="53"/>
                </a:lnTo>
                <a:lnTo>
                  <a:pt x="652" y="53"/>
                </a:lnTo>
                <a:lnTo>
                  <a:pt x="667" y="70"/>
                </a:lnTo>
                <a:lnTo>
                  <a:pt x="681" y="88"/>
                </a:lnTo>
                <a:lnTo>
                  <a:pt x="695" y="88"/>
                </a:lnTo>
                <a:lnTo>
                  <a:pt x="709" y="106"/>
                </a:lnTo>
                <a:lnTo>
                  <a:pt x="709" y="124"/>
                </a:lnTo>
                <a:lnTo>
                  <a:pt x="723" y="159"/>
                </a:lnTo>
                <a:lnTo>
                  <a:pt x="723" y="195"/>
                </a:lnTo>
                <a:lnTo>
                  <a:pt x="709" y="230"/>
                </a:lnTo>
                <a:lnTo>
                  <a:pt x="709" y="248"/>
                </a:lnTo>
                <a:lnTo>
                  <a:pt x="695" y="265"/>
                </a:lnTo>
                <a:lnTo>
                  <a:pt x="695" y="301"/>
                </a:lnTo>
                <a:lnTo>
                  <a:pt x="695" y="336"/>
                </a:lnTo>
                <a:lnTo>
                  <a:pt x="681" y="372"/>
                </a:lnTo>
                <a:lnTo>
                  <a:pt x="681" y="407"/>
                </a:lnTo>
                <a:lnTo>
                  <a:pt x="667" y="443"/>
                </a:lnTo>
                <a:lnTo>
                  <a:pt x="667" y="496"/>
                </a:lnTo>
                <a:lnTo>
                  <a:pt x="667" y="514"/>
                </a:lnTo>
                <a:lnTo>
                  <a:pt x="652" y="549"/>
                </a:lnTo>
                <a:lnTo>
                  <a:pt x="652" y="602"/>
                </a:lnTo>
                <a:lnTo>
                  <a:pt x="652" y="655"/>
                </a:lnTo>
                <a:lnTo>
                  <a:pt x="652" y="708"/>
                </a:lnTo>
                <a:lnTo>
                  <a:pt x="652" y="762"/>
                </a:lnTo>
                <a:lnTo>
                  <a:pt x="652" y="850"/>
                </a:lnTo>
                <a:lnTo>
                  <a:pt x="652" y="921"/>
                </a:lnTo>
                <a:lnTo>
                  <a:pt x="652" y="1010"/>
                </a:lnTo>
                <a:lnTo>
                  <a:pt x="652" y="1116"/>
                </a:lnTo>
                <a:lnTo>
                  <a:pt x="652" y="1205"/>
                </a:lnTo>
                <a:lnTo>
                  <a:pt x="652" y="1329"/>
                </a:lnTo>
                <a:lnTo>
                  <a:pt x="652" y="1435"/>
                </a:lnTo>
                <a:lnTo>
                  <a:pt x="652" y="1577"/>
                </a:lnTo>
                <a:lnTo>
                  <a:pt x="652" y="1701"/>
                </a:lnTo>
                <a:lnTo>
                  <a:pt x="652" y="1843"/>
                </a:lnTo>
                <a:lnTo>
                  <a:pt x="652" y="1984"/>
                </a:lnTo>
                <a:lnTo>
                  <a:pt x="652" y="2126"/>
                </a:lnTo>
                <a:lnTo>
                  <a:pt x="652" y="2250"/>
                </a:lnTo>
                <a:lnTo>
                  <a:pt x="652" y="2357"/>
                </a:lnTo>
                <a:lnTo>
                  <a:pt x="638" y="2481"/>
                </a:lnTo>
                <a:lnTo>
                  <a:pt x="638" y="2587"/>
                </a:lnTo>
                <a:lnTo>
                  <a:pt x="638" y="2676"/>
                </a:lnTo>
                <a:lnTo>
                  <a:pt x="624" y="2764"/>
                </a:lnTo>
                <a:lnTo>
                  <a:pt x="624" y="2853"/>
                </a:lnTo>
                <a:lnTo>
                  <a:pt x="624" y="2924"/>
                </a:lnTo>
                <a:lnTo>
                  <a:pt x="610" y="2977"/>
                </a:lnTo>
                <a:lnTo>
                  <a:pt x="596" y="3048"/>
                </a:lnTo>
                <a:lnTo>
                  <a:pt x="596" y="3101"/>
                </a:lnTo>
                <a:lnTo>
                  <a:pt x="582" y="3136"/>
                </a:lnTo>
                <a:lnTo>
                  <a:pt x="567" y="3172"/>
                </a:lnTo>
                <a:lnTo>
                  <a:pt x="553" y="3207"/>
                </a:lnTo>
                <a:lnTo>
                  <a:pt x="525" y="3243"/>
                </a:lnTo>
                <a:lnTo>
                  <a:pt x="511" y="3296"/>
                </a:lnTo>
                <a:lnTo>
                  <a:pt x="482" y="3314"/>
                </a:lnTo>
                <a:lnTo>
                  <a:pt x="468" y="3349"/>
                </a:lnTo>
                <a:lnTo>
                  <a:pt x="454" y="3367"/>
                </a:lnTo>
                <a:lnTo>
                  <a:pt x="426" y="3385"/>
                </a:lnTo>
                <a:lnTo>
                  <a:pt x="412" y="3385"/>
                </a:lnTo>
                <a:lnTo>
                  <a:pt x="397" y="3402"/>
                </a:lnTo>
                <a:lnTo>
                  <a:pt x="383" y="3402"/>
                </a:lnTo>
                <a:lnTo>
                  <a:pt x="369" y="3385"/>
                </a:lnTo>
                <a:lnTo>
                  <a:pt x="355" y="3385"/>
                </a:lnTo>
                <a:lnTo>
                  <a:pt x="355" y="3367"/>
                </a:lnTo>
                <a:lnTo>
                  <a:pt x="341" y="3349"/>
                </a:lnTo>
                <a:lnTo>
                  <a:pt x="326" y="3331"/>
                </a:lnTo>
                <a:lnTo>
                  <a:pt x="326" y="3296"/>
                </a:lnTo>
                <a:lnTo>
                  <a:pt x="312" y="3278"/>
                </a:lnTo>
                <a:lnTo>
                  <a:pt x="298" y="3243"/>
                </a:lnTo>
                <a:lnTo>
                  <a:pt x="298" y="3207"/>
                </a:lnTo>
                <a:lnTo>
                  <a:pt x="270" y="3190"/>
                </a:lnTo>
                <a:lnTo>
                  <a:pt x="256" y="3154"/>
                </a:lnTo>
                <a:lnTo>
                  <a:pt x="227" y="3119"/>
                </a:lnTo>
                <a:lnTo>
                  <a:pt x="199" y="3101"/>
                </a:lnTo>
                <a:lnTo>
                  <a:pt x="171" y="3066"/>
                </a:lnTo>
                <a:lnTo>
                  <a:pt x="128" y="304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2"/>
          <p:cNvSpPr/>
          <p:nvPr/>
        </p:nvSpPr>
        <p:spPr>
          <a:xfrm>
            <a:off x="5052960" y="2332080"/>
            <a:ext cx="476280" cy="179280"/>
          </a:xfrm>
          <a:custGeom>
            <a:avLst/>
            <a:gdLst/>
            <a:ahLst/>
            <a:rect l="l" t="t" r="r" b="b"/>
            <a:pathLst>
              <a:path w="751" h="284">
                <a:moveTo>
                  <a:pt x="440" y="231"/>
                </a:moveTo>
                <a:lnTo>
                  <a:pt x="397" y="248"/>
                </a:lnTo>
                <a:lnTo>
                  <a:pt x="355" y="248"/>
                </a:lnTo>
                <a:lnTo>
                  <a:pt x="312" y="266"/>
                </a:lnTo>
                <a:lnTo>
                  <a:pt x="270" y="266"/>
                </a:lnTo>
                <a:lnTo>
                  <a:pt x="241" y="266"/>
                </a:lnTo>
                <a:lnTo>
                  <a:pt x="213" y="284"/>
                </a:lnTo>
                <a:lnTo>
                  <a:pt x="185" y="284"/>
                </a:lnTo>
                <a:lnTo>
                  <a:pt x="156" y="284"/>
                </a:lnTo>
                <a:lnTo>
                  <a:pt x="114" y="284"/>
                </a:lnTo>
                <a:lnTo>
                  <a:pt x="71" y="266"/>
                </a:lnTo>
                <a:lnTo>
                  <a:pt x="43" y="248"/>
                </a:lnTo>
                <a:lnTo>
                  <a:pt x="0" y="231"/>
                </a:lnTo>
                <a:lnTo>
                  <a:pt x="0" y="142"/>
                </a:lnTo>
                <a:lnTo>
                  <a:pt x="71" y="124"/>
                </a:lnTo>
                <a:lnTo>
                  <a:pt x="142" y="107"/>
                </a:lnTo>
                <a:lnTo>
                  <a:pt x="199" y="89"/>
                </a:lnTo>
                <a:lnTo>
                  <a:pt x="255" y="71"/>
                </a:lnTo>
                <a:lnTo>
                  <a:pt x="312" y="53"/>
                </a:lnTo>
                <a:lnTo>
                  <a:pt x="355" y="36"/>
                </a:lnTo>
                <a:lnTo>
                  <a:pt x="411" y="36"/>
                </a:lnTo>
                <a:lnTo>
                  <a:pt x="454" y="18"/>
                </a:lnTo>
                <a:lnTo>
                  <a:pt x="496" y="18"/>
                </a:lnTo>
                <a:lnTo>
                  <a:pt x="525" y="0"/>
                </a:lnTo>
                <a:lnTo>
                  <a:pt x="553" y="0"/>
                </a:lnTo>
                <a:lnTo>
                  <a:pt x="581" y="0"/>
                </a:lnTo>
                <a:lnTo>
                  <a:pt x="610" y="0"/>
                </a:lnTo>
                <a:lnTo>
                  <a:pt x="624" y="0"/>
                </a:lnTo>
                <a:lnTo>
                  <a:pt x="638" y="0"/>
                </a:lnTo>
                <a:lnTo>
                  <a:pt x="652" y="18"/>
                </a:lnTo>
                <a:lnTo>
                  <a:pt x="695" y="36"/>
                </a:lnTo>
                <a:lnTo>
                  <a:pt x="723" y="53"/>
                </a:lnTo>
                <a:lnTo>
                  <a:pt x="737" y="89"/>
                </a:lnTo>
                <a:lnTo>
                  <a:pt x="751" y="107"/>
                </a:lnTo>
                <a:lnTo>
                  <a:pt x="751" y="124"/>
                </a:lnTo>
                <a:lnTo>
                  <a:pt x="751" y="142"/>
                </a:lnTo>
                <a:lnTo>
                  <a:pt x="737" y="160"/>
                </a:lnTo>
                <a:lnTo>
                  <a:pt x="723" y="160"/>
                </a:lnTo>
                <a:lnTo>
                  <a:pt x="709" y="160"/>
                </a:lnTo>
                <a:lnTo>
                  <a:pt x="681" y="178"/>
                </a:lnTo>
                <a:lnTo>
                  <a:pt x="666" y="178"/>
                </a:lnTo>
                <a:lnTo>
                  <a:pt x="638" y="178"/>
                </a:lnTo>
                <a:lnTo>
                  <a:pt x="610" y="195"/>
                </a:lnTo>
                <a:lnTo>
                  <a:pt x="567" y="195"/>
                </a:lnTo>
                <a:lnTo>
                  <a:pt x="525" y="213"/>
                </a:lnTo>
                <a:lnTo>
                  <a:pt x="496" y="213"/>
                </a:lnTo>
                <a:lnTo>
                  <a:pt x="440" y="23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图片 1" descr=""/>
          <p:cNvPicPr/>
          <p:nvPr/>
        </p:nvPicPr>
        <p:blipFill>
          <a:blip r:embed="rId2"/>
          <a:stretch/>
        </p:blipFill>
        <p:spPr>
          <a:xfrm>
            <a:off x="336600" y="4603680"/>
            <a:ext cx="85248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38"/>
          <p:cNvGrpSpPr/>
          <p:nvPr/>
        </p:nvGrpSpPr>
        <p:grpSpPr>
          <a:xfrm>
            <a:off x="3317760" y="1413000"/>
            <a:ext cx="2541600" cy="2538360"/>
            <a:chOff x="3317760" y="1413000"/>
            <a:chExt cx="2541600" cy="2538360"/>
          </a:xfrm>
        </p:grpSpPr>
        <p:sp>
          <p:nvSpPr>
            <p:cNvPr id="167" name="直接连接符 3"/>
            <p:cNvSpPr/>
            <p:nvPr/>
          </p:nvSpPr>
          <p:spPr>
            <a:xfrm>
              <a:off x="3339720" y="2679840"/>
              <a:ext cx="2519640" cy="14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直接连接符 4"/>
            <p:cNvSpPr/>
            <p:nvPr/>
          </p:nvSpPr>
          <p:spPr>
            <a:xfrm flipH="1">
              <a:off x="4565520" y="1413000"/>
              <a:ext cx="1440" cy="25196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"/>
            <p:cNvSpPr/>
            <p:nvPr/>
          </p:nvSpPr>
          <p:spPr>
            <a:xfrm>
              <a:off x="3317760" y="1431720"/>
              <a:ext cx="2519640" cy="2519640"/>
            </a:xfrm>
            <a:prstGeom prst="rect">
              <a:avLst/>
            </a:prstGeom>
            <a:noFill/>
            <a:ln w="25560">
              <a:solidFill>
                <a:srgbClr val="2e75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Freeform 6"/>
          <p:cNvSpPr/>
          <p:nvPr/>
        </p:nvSpPr>
        <p:spPr>
          <a:xfrm>
            <a:off x="3406680" y="1549440"/>
            <a:ext cx="887400" cy="1200240"/>
          </a:xfrm>
          <a:custGeom>
            <a:avLst/>
            <a:gdLst/>
            <a:ahLst/>
            <a:rect l="l" t="t" r="r" b="b"/>
            <a:pathLst>
              <a:path w="1396" h="1889">
                <a:moveTo>
                  <a:pt x="851" y="1176"/>
                </a:moveTo>
                <a:lnTo>
                  <a:pt x="785" y="1255"/>
                </a:lnTo>
                <a:lnTo>
                  <a:pt x="731" y="1321"/>
                </a:lnTo>
                <a:lnTo>
                  <a:pt x="665" y="1401"/>
                </a:lnTo>
                <a:lnTo>
                  <a:pt x="612" y="1467"/>
                </a:lnTo>
                <a:lnTo>
                  <a:pt x="545" y="1533"/>
                </a:lnTo>
                <a:lnTo>
                  <a:pt x="479" y="1599"/>
                </a:lnTo>
                <a:lnTo>
                  <a:pt x="412" y="1652"/>
                </a:lnTo>
                <a:lnTo>
                  <a:pt x="346" y="1718"/>
                </a:lnTo>
                <a:lnTo>
                  <a:pt x="266" y="1757"/>
                </a:lnTo>
                <a:lnTo>
                  <a:pt x="213" y="1810"/>
                </a:lnTo>
                <a:lnTo>
                  <a:pt x="160" y="1837"/>
                </a:lnTo>
                <a:lnTo>
                  <a:pt x="120" y="1863"/>
                </a:lnTo>
                <a:lnTo>
                  <a:pt x="80" y="1876"/>
                </a:lnTo>
                <a:lnTo>
                  <a:pt x="54" y="1889"/>
                </a:lnTo>
                <a:lnTo>
                  <a:pt x="27" y="1889"/>
                </a:lnTo>
                <a:lnTo>
                  <a:pt x="14" y="1876"/>
                </a:lnTo>
                <a:lnTo>
                  <a:pt x="0" y="1850"/>
                </a:lnTo>
                <a:lnTo>
                  <a:pt x="0" y="1837"/>
                </a:lnTo>
                <a:lnTo>
                  <a:pt x="14" y="1810"/>
                </a:lnTo>
                <a:lnTo>
                  <a:pt x="27" y="1771"/>
                </a:lnTo>
                <a:lnTo>
                  <a:pt x="54" y="1731"/>
                </a:lnTo>
                <a:lnTo>
                  <a:pt x="93" y="1691"/>
                </a:lnTo>
                <a:lnTo>
                  <a:pt x="133" y="1638"/>
                </a:lnTo>
                <a:lnTo>
                  <a:pt x="173" y="1586"/>
                </a:lnTo>
                <a:lnTo>
                  <a:pt x="226" y="1533"/>
                </a:lnTo>
                <a:lnTo>
                  <a:pt x="280" y="1467"/>
                </a:lnTo>
                <a:lnTo>
                  <a:pt x="333" y="1401"/>
                </a:lnTo>
                <a:lnTo>
                  <a:pt x="386" y="1334"/>
                </a:lnTo>
                <a:lnTo>
                  <a:pt x="439" y="1268"/>
                </a:lnTo>
                <a:lnTo>
                  <a:pt x="492" y="1202"/>
                </a:lnTo>
                <a:lnTo>
                  <a:pt x="545" y="1123"/>
                </a:lnTo>
                <a:lnTo>
                  <a:pt x="598" y="1044"/>
                </a:lnTo>
                <a:lnTo>
                  <a:pt x="692" y="885"/>
                </a:lnTo>
                <a:lnTo>
                  <a:pt x="771" y="740"/>
                </a:lnTo>
                <a:lnTo>
                  <a:pt x="851" y="594"/>
                </a:lnTo>
                <a:lnTo>
                  <a:pt x="931" y="462"/>
                </a:lnTo>
                <a:lnTo>
                  <a:pt x="957" y="396"/>
                </a:lnTo>
                <a:lnTo>
                  <a:pt x="984" y="343"/>
                </a:lnTo>
                <a:lnTo>
                  <a:pt x="997" y="291"/>
                </a:lnTo>
                <a:lnTo>
                  <a:pt x="1010" y="251"/>
                </a:lnTo>
                <a:lnTo>
                  <a:pt x="1024" y="211"/>
                </a:lnTo>
                <a:lnTo>
                  <a:pt x="1024" y="185"/>
                </a:lnTo>
                <a:lnTo>
                  <a:pt x="1024" y="158"/>
                </a:lnTo>
                <a:lnTo>
                  <a:pt x="1010" y="145"/>
                </a:lnTo>
                <a:lnTo>
                  <a:pt x="1010" y="132"/>
                </a:lnTo>
                <a:lnTo>
                  <a:pt x="997" y="119"/>
                </a:lnTo>
                <a:lnTo>
                  <a:pt x="997" y="106"/>
                </a:lnTo>
                <a:lnTo>
                  <a:pt x="997" y="92"/>
                </a:lnTo>
                <a:lnTo>
                  <a:pt x="997" y="79"/>
                </a:lnTo>
                <a:lnTo>
                  <a:pt x="1010" y="53"/>
                </a:lnTo>
                <a:lnTo>
                  <a:pt x="1010" y="39"/>
                </a:lnTo>
                <a:lnTo>
                  <a:pt x="1024" y="26"/>
                </a:lnTo>
                <a:lnTo>
                  <a:pt x="1037" y="13"/>
                </a:lnTo>
                <a:lnTo>
                  <a:pt x="1050" y="0"/>
                </a:lnTo>
                <a:lnTo>
                  <a:pt x="1064" y="0"/>
                </a:lnTo>
                <a:lnTo>
                  <a:pt x="1090" y="0"/>
                </a:lnTo>
                <a:lnTo>
                  <a:pt x="1103" y="0"/>
                </a:lnTo>
                <a:lnTo>
                  <a:pt x="1130" y="13"/>
                </a:lnTo>
                <a:lnTo>
                  <a:pt x="1157" y="13"/>
                </a:lnTo>
                <a:lnTo>
                  <a:pt x="1183" y="26"/>
                </a:lnTo>
                <a:lnTo>
                  <a:pt x="1250" y="66"/>
                </a:lnTo>
                <a:lnTo>
                  <a:pt x="1290" y="92"/>
                </a:lnTo>
                <a:lnTo>
                  <a:pt x="1329" y="132"/>
                </a:lnTo>
                <a:lnTo>
                  <a:pt x="1356" y="158"/>
                </a:lnTo>
                <a:lnTo>
                  <a:pt x="1383" y="198"/>
                </a:lnTo>
                <a:lnTo>
                  <a:pt x="1396" y="224"/>
                </a:lnTo>
                <a:lnTo>
                  <a:pt x="1396" y="264"/>
                </a:lnTo>
                <a:lnTo>
                  <a:pt x="1396" y="291"/>
                </a:lnTo>
                <a:lnTo>
                  <a:pt x="1396" y="317"/>
                </a:lnTo>
                <a:lnTo>
                  <a:pt x="1396" y="343"/>
                </a:lnTo>
                <a:lnTo>
                  <a:pt x="1369" y="370"/>
                </a:lnTo>
                <a:lnTo>
                  <a:pt x="1356" y="409"/>
                </a:lnTo>
                <a:lnTo>
                  <a:pt x="1329" y="449"/>
                </a:lnTo>
                <a:lnTo>
                  <a:pt x="1303" y="489"/>
                </a:lnTo>
                <a:lnTo>
                  <a:pt x="1276" y="555"/>
                </a:lnTo>
                <a:lnTo>
                  <a:pt x="1236" y="608"/>
                </a:lnTo>
                <a:lnTo>
                  <a:pt x="1143" y="740"/>
                </a:lnTo>
                <a:lnTo>
                  <a:pt x="1064" y="872"/>
                </a:lnTo>
                <a:lnTo>
                  <a:pt x="957" y="1017"/>
                </a:lnTo>
                <a:lnTo>
                  <a:pt x="851" y="117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7"/>
          <p:cNvSpPr/>
          <p:nvPr/>
        </p:nvSpPr>
        <p:spPr>
          <a:xfrm>
            <a:off x="3889440" y="2103480"/>
            <a:ext cx="193680" cy="1552680"/>
          </a:xfrm>
          <a:custGeom>
            <a:avLst/>
            <a:gdLst/>
            <a:ahLst/>
            <a:rect l="l" t="t" r="r" b="b"/>
            <a:pathLst>
              <a:path w="306" h="2445">
                <a:moveTo>
                  <a:pt x="13" y="2246"/>
                </a:moveTo>
                <a:lnTo>
                  <a:pt x="0" y="2207"/>
                </a:lnTo>
                <a:lnTo>
                  <a:pt x="0" y="2167"/>
                </a:lnTo>
                <a:lnTo>
                  <a:pt x="0" y="2114"/>
                </a:lnTo>
                <a:lnTo>
                  <a:pt x="0" y="2075"/>
                </a:lnTo>
                <a:lnTo>
                  <a:pt x="0" y="2022"/>
                </a:lnTo>
                <a:lnTo>
                  <a:pt x="0" y="1956"/>
                </a:lnTo>
                <a:lnTo>
                  <a:pt x="13" y="1903"/>
                </a:lnTo>
                <a:lnTo>
                  <a:pt x="13" y="1837"/>
                </a:lnTo>
                <a:lnTo>
                  <a:pt x="27" y="1824"/>
                </a:lnTo>
                <a:lnTo>
                  <a:pt x="27" y="1797"/>
                </a:lnTo>
                <a:lnTo>
                  <a:pt x="27" y="1784"/>
                </a:lnTo>
                <a:lnTo>
                  <a:pt x="27" y="1757"/>
                </a:lnTo>
                <a:lnTo>
                  <a:pt x="40" y="1731"/>
                </a:lnTo>
                <a:lnTo>
                  <a:pt x="40" y="1691"/>
                </a:lnTo>
                <a:lnTo>
                  <a:pt x="40" y="1665"/>
                </a:lnTo>
                <a:lnTo>
                  <a:pt x="40" y="1625"/>
                </a:lnTo>
                <a:lnTo>
                  <a:pt x="40" y="1586"/>
                </a:lnTo>
                <a:lnTo>
                  <a:pt x="40" y="1546"/>
                </a:lnTo>
                <a:lnTo>
                  <a:pt x="40" y="1506"/>
                </a:lnTo>
                <a:lnTo>
                  <a:pt x="53" y="1467"/>
                </a:lnTo>
                <a:lnTo>
                  <a:pt x="53" y="1414"/>
                </a:lnTo>
                <a:lnTo>
                  <a:pt x="53" y="1361"/>
                </a:lnTo>
                <a:lnTo>
                  <a:pt x="53" y="1308"/>
                </a:lnTo>
                <a:lnTo>
                  <a:pt x="53" y="1255"/>
                </a:lnTo>
                <a:lnTo>
                  <a:pt x="53" y="1189"/>
                </a:lnTo>
                <a:lnTo>
                  <a:pt x="53" y="1136"/>
                </a:lnTo>
                <a:lnTo>
                  <a:pt x="53" y="1070"/>
                </a:lnTo>
                <a:lnTo>
                  <a:pt x="66" y="1004"/>
                </a:lnTo>
                <a:lnTo>
                  <a:pt x="66" y="925"/>
                </a:lnTo>
                <a:lnTo>
                  <a:pt x="66" y="859"/>
                </a:lnTo>
                <a:lnTo>
                  <a:pt x="66" y="780"/>
                </a:lnTo>
                <a:lnTo>
                  <a:pt x="66" y="714"/>
                </a:lnTo>
                <a:lnTo>
                  <a:pt x="66" y="634"/>
                </a:lnTo>
                <a:lnTo>
                  <a:pt x="66" y="542"/>
                </a:lnTo>
                <a:lnTo>
                  <a:pt x="66" y="462"/>
                </a:lnTo>
                <a:lnTo>
                  <a:pt x="66" y="370"/>
                </a:lnTo>
                <a:lnTo>
                  <a:pt x="66" y="277"/>
                </a:lnTo>
                <a:lnTo>
                  <a:pt x="66" y="198"/>
                </a:lnTo>
                <a:lnTo>
                  <a:pt x="66" y="92"/>
                </a:lnTo>
                <a:lnTo>
                  <a:pt x="66" y="0"/>
                </a:lnTo>
                <a:lnTo>
                  <a:pt x="106" y="40"/>
                </a:lnTo>
                <a:lnTo>
                  <a:pt x="159" y="79"/>
                </a:lnTo>
                <a:lnTo>
                  <a:pt x="186" y="119"/>
                </a:lnTo>
                <a:lnTo>
                  <a:pt x="226" y="145"/>
                </a:lnTo>
                <a:lnTo>
                  <a:pt x="239" y="172"/>
                </a:lnTo>
                <a:lnTo>
                  <a:pt x="266" y="198"/>
                </a:lnTo>
                <a:lnTo>
                  <a:pt x="279" y="225"/>
                </a:lnTo>
                <a:lnTo>
                  <a:pt x="279" y="238"/>
                </a:lnTo>
                <a:lnTo>
                  <a:pt x="292" y="251"/>
                </a:lnTo>
                <a:lnTo>
                  <a:pt x="292" y="264"/>
                </a:lnTo>
                <a:lnTo>
                  <a:pt x="292" y="291"/>
                </a:lnTo>
                <a:lnTo>
                  <a:pt x="292" y="317"/>
                </a:lnTo>
                <a:lnTo>
                  <a:pt x="292" y="357"/>
                </a:lnTo>
                <a:lnTo>
                  <a:pt x="292" y="410"/>
                </a:lnTo>
                <a:lnTo>
                  <a:pt x="292" y="449"/>
                </a:lnTo>
                <a:lnTo>
                  <a:pt x="292" y="515"/>
                </a:lnTo>
                <a:lnTo>
                  <a:pt x="292" y="581"/>
                </a:lnTo>
                <a:lnTo>
                  <a:pt x="292" y="647"/>
                </a:lnTo>
                <a:lnTo>
                  <a:pt x="292" y="727"/>
                </a:lnTo>
                <a:lnTo>
                  <a:pt x="306" y="806"/>
                </a:lnTo>
                <a:lnTo>
                  <a:pt x="306" y="899"/>
                </a:lnTo>
                <a:lnTo>
                  <a:pt x="306" y="991"/>
                </a:lnTo>
                <a:lnTo>
                  <a:pt x="306" y="1097"/>
                </a:lnTo>
                <a:lnTo>
                  <a:pt x="306" y="1216"/>
                </a:lnTo>
                <a:lnTo>
                  <a:pt x="306" y="1321"/>
                </a:lnTo>
                <a:lnTo>
                  <a:pt x="306" y="1427"/>
                </a:lnTo>
                <a:lnTo>
                  <a:pt x="292" y="1533"/>
                </a:lnTo>
                <a:lnTo>
                  <a:pt x="292" y="1625"/>
                </a:lnTo>
                <a:lnTo>
                  <a:pt x="292" y="1705"/>
                </a:lnTo>
                <a:lnTo>
                  <a:pt x="292" y="1797"/>
                </a:lnTo>
                <a:lnTo>
                  <a:pt x="292" y="1876"/>
                </a:lnTo>
                <a:lnTo>
                  <a:pt x="292" y="1942"/>
                </a:lnTo>
                <a:lnTo>
                  <a:pt x="292" y="2009"/>
                </a:lnTo>
                <a:lnTo>
                  <a:pt x="279" y="2061"/>
                </a:lnTo>
                <a:lnTo>
                  <a:pt x="279" y="2114"/>
                </a:lnTo>
                <a:lnTo>
                  <a:pt x="279" y="2167"/>
                </a:lnTo>
                <a:lnTo>
                  <a:pt x="266" y="2207"/>
                </a:lnTo>
                <a:lnTo>
                  <a:pt x="266" y="2246"/>
                </a:lnTo>
                <a:lnTo>
                  <a:pt x="266" y="2286"/>
                </a:lnTo>
                <a:lnTo>
                  <a:pt x="252" y="2299"/>
                </a:lnTo>
                <a:lnTo>
                  <a:pt x="239" y="2339"/>
                </a:lnTo>
                <a:lnTo>
                  <a:pt x="226" y="2379"/>
                </a:lnTo>
                <a:lnTo>
                  <a:pt x="213" y="2405"/>
                </a:lnTo>
                <a:lnTo>
                  <a:pt x="199" y="2431"/>
                </a:lnTo>
                <a:lnTo>
                  <a:pt x="186" y="2445"/>
                </a:lnTo>
                <a:lnTo>
                  <a:pt x="173" y="2445"/>
                </a:lnTo>
                <a:lnTo>
                  <a:pt x="146" y="2445"/>
                </a:lnTo>
                <a:lnTo>
                  <a:pt x="133" y="2445"/>
                </a:lnTo>
                <a:lnTo>
                  <a:pt x="106" y="2431"/>
                </a:lnTo>
                <a:lnTo>
                  <a:pt x="93" y="2418"/>
                </a:lnTo>
                <a:lnTo>
                  <a:pt x="80" y="2405"/>
                </a:lnTo>
                <a:lnTo>
                  <a:pt x="66" y="2379"/>
                </a:lnTo>
                <a:lnTo>
                  <a:pt x="53" y="2352"/>
                </a:lnTo>
                <a:lnTo>
                  <a:pt x="40" y="2326"/>
                </a:lnTo>
                <a:lnTo>
                  <a:pt x="27" y="2286"/>
                </a:lnTo>
                <a:lnTo>
                  <a:pt x="13" y="224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8"/>
          <p:cNvSpPr/>
          <p:nvPr/>
        </p:nvSpPr>
        <p:spPr>
          <a:xfrm>
            <a:off x="4437000" y="1701720"/>
            <a:ext cx="565200" cy="434880"/>
          </a:xfrm>
          <a:custGeom>
            <a:avLst/>
            <a:gdLst/>
            <a:ahLst/>
            <a:rect l="l" t="t" r="r" b="b"/>
            <a:pathLst>
              <a:path w="890" h="687">
                <a:moveTo>
                  <a:pt x="678" y="409"/>
                </a:moveTo>
                <a:lnTo>
                  <a:pt x="624" y="449"/>
                </a:lnTo>
                <a:lnTo>
                  <a:pt x="571" y="475"/>
                </a:lnTo>
                <a:lnTo>
                  <a:pt x="491" y="502"/>
                </a:lnTo>
                <a:lnTo>
                  <a:pt x="425" y="541"/>
                </a:lnTo>
                <a:lnTo>
                  <a:pt x="332" y="568"/>
                </a:lnTo>
                <a:lnTo>
                  <a:pt x="239" y="608"/>
                </a:lnTo>
                <a:lnTo>
                  <a:pt x="146" y="647"/>
                </a:lnTo>
                <a:lnTo>
                  <a:pt x="26" y="687"/>
                </a:lnTo>
                <a:lnTo>
                  <a:pt x="53" y="674"/>
                </a:lnTo>
                <a:lnTo>
                  <a:pt x="66" y="660"/>
                </a:lnTo>
                <a:lnTo>
                  <a:pt x="66" y="647"/>
                </a:lnTo>
                <a:lnTo>
                  <a:pt x="66" y="634"/>
                </a:lnTo>
                <a:lnTo>
                  <a:pt x="53" y="634"/>
                </a:lnTo>
                <a:lnTo>
                  <a:pt x="26" y="621"/>
                </a:lnTo>
                <a:lnTo>
                  <a:pt x="0" y="621"/>
                </a:lnTo>
                <a:lnTo>
                  <a:pt x="53" y="581"/>
                </a:lnTo>
                <a:lnTo>
                  <a:pt x="93" y="541"/>
                </a:lnTo>
                <a:lnTo>
                  <a:pt x="133" y="515"/>
                </a:lnTo>
                <a:lnTo>
                  <a:pt x="173" y="475"/>
                </a:lnTo>
                <a:lnTo>
                  <a:pt x="212" y="449"/>
                </a:lnTo>
                <a:lnTo>
                  <a:pt x="252" y="409"/>
                </a:lnTo>
                <a:lnTo>
                  <a:pt x="279" y="383"/>
                </a:lnTo>
                <a:lnTo>
                  <a:pt x="305" y="356"/>
                </a:lnTo>
                <a:lnTo>
                  <a:pt x="332" y="330"/>
                </a:lnTo>
                <a:lnTo>
                  <a:pt x="359" y="317"/>
                </a:lnTo>
                <a:lnTo>
                  <a:pt x="385" y="290"/>
                </a:lnTo>
                <a:lnTo>
                  <a:pt x="398" y="277"/>
                </a:lnTo>
                <a:lnTo>
                  <a:pt x="412" y="251"/>
                </a:lnTo>
                <a:lnTo>
                  <a:pt x="425" y="238"/>
                </a:lnTo>
                <a:lnTo>
                  <a:pt x="438" y="224"/>
                </a:lnTo>
                <a:lnTo>
                  <a:pt x="452" y="224"/>
                </a:lnTo>
                <a:lnTo>
                  <a:pt x="465" y="198"/>
                </a:lnTo>
                <a:lnTo>
                  <a:pt x="465" y="171"/>
                </a:lnTo>
                <a:lnTo>
                  <a:pt x="478" y="158"/>
                </a:lnTo>
                <a:lnTo>
                  <a:pt x="478" y="132"/>
                </a:lnTo>
                <a:lnTo>
                  <a:pt x="478" y="119"/>
                </a:lnTo>
                <a:lnTo>
                  <a:pt x="478" y="92"/>
                </a:lnTo>
                <a:lnTo>
                  <a:pt x="478" y="79"/>
                </a:lnTo>
                <a:lnTo>
                  <a:pt x="478" y="53"/>
                </a:lnTo>
                <a:lnTo>
                  <a:pt x="465" y="39"/>
                </a:lnTo>
                <a:lnTo>
                  <a:pt x="465" y="26"/>
                </a:lnTo>
                <a:lnTo>
                  <a:pt x="478" y="13"/>
                </a:lnTo>
                <a:lnTo>
                  <a:pt x="491" y="13"/>
                </a:lnTo>
                <a:lnTo>
                  <a:pt x="505" y="0"/>
                </a:lnTo>
                <a:lnTo>
                  <a:pt x="531" y="0"/>
                </a:lnTo>
                <a:lnTo>
                  <a:pt x="558" y="13"/>
                </a:lnTo>
                <a:lnTo>
                  <a:pt x="598" y="13"/>
                </a:lnTo>
                <a:lnTo>
                  <a:pt x="638" y="26"/>
                </a:lnTo>
                <a:lnTo>
                  <a:pt x="664" y="39"/>
                </a:lnTo>
                <a:lnTo>
                  <a:pt x="704" y="53"/>
                </a:lnTo>
                <a:lnTo>
                  <a:pt x="731" y="66"/>
                </a:lnTo>
                <a:lnTo>
                  <a:pt x="757" y="79"/>
                </a:lnTo>
                <a:lnTo>
                  <a:pt x="784" y="92"/>
                </a:lnTo>
                <a:lnTo>
                  <a:pt x="797" y="119"/>
                </a:lnTo>
                <a:lnTo>
                  <a:pt x="824" y="132"/>
                </a:lnTo>
                <a:lnTo>
                  <a:pt x="837" y="145"/>
                </a:lnTo>
                <a:lnTo>
                  <a:pt x="850" y="171"/>
                </a:lnTo>
                <a:lnTo>
                  <a:pt x="864" y="185"/>
                </a:lnTo>
                <a:lnTo>
                  <a:pt x="877" y="198"/>
                </a:lnTo>
                <a:lnTo>
                  <a:pt x="877" y="211"/>
                </a:lnTo>
                <a:lnTo>
                  <a:pt x="877" y="224"/>
                </a:lnTo>
                <a:lnTo>
                  <a:pt x="890" y="238"/>
                </a:lnTo>
                <a:lnTo>
                  <a:pt x="877" y="251"/>
                </a:lnTo>
                <a:lnTo>
                  <a:pt x="877" y="264"/>
                </a:lnTo>
                <a:lnTo>
                  <a:pt x="864" y="277"/>
                </a:lnTo>
                <a:lnTo>
                  <a:pt x="850" y="304"/>
                </a:lnTo>
                <a:lnTo>
                  <a:pt x="824" y="317"/>
                </a:lnTo>
                <a:lnTo>
                  <a:pt x="797" y="343"/>
                </a:lnTo>
                <a:lnTo>
                  <a:pt x="771" y="370"/>
                </a:lnTo>
                <a:lnTo>
                  <a:pt x="731" y="383"/>
                </a:lnTo>
                <a:lnTo>
                  <a:pt x="678" y="409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4251240" y="2003400"/>
            <a:ext cx="641520" cy="1090800"/>
          </a:xfrm>
          <a:custGeom>
            <a:avLst/>
            <a:gdLst/>
            <a:ahLst/>
            <a:rect l="l" t="t" r="r" b="b"/>
            <a:pathLst>
              <a:path w="1010" h="1718">
                <a:moveTo>
                  <a:pt x="0" y="1494"/>
                </a:moveTo>
                <a:lnTo>
                  <a:pt x="0" y="1467"/>
                </a:lnTo>
                <a:lnTo>
                  <a:pt x="14" y="1441"/>
                </a:lnTo>
                <a:lnTo>
                  <a:pt x="27" y="1401"/>
                </a:lnTo>
                <a:lnTo>
                  <a:pt x="54" y="1375"/>
                </a:lnTo>
                <a:lnTo>
                  <a:pt x="67" y="1348"/>
                </a:lnTo>
                <a:lnTo>
                  <a:pt x="80" y="1322"/>
                </a:lnTo>
                <a:lnTo>
                  <a:pt x="93" y="1282"/>
                </a:lnTo>
                <a:lnTo>
                  <a:pt x="107" y="1243"/>
                </a:lnTo>
                <a:lnTo>
                  <a:pt x="120" y="1190"/>
                </a:lnTo>
                <a:lnTo>
                  <a:pt x="120" y="1124"/>
                </a:lnTo>
                <a:lnTo>
                  <a:pt x="133" y="1058"/>
                </a:lnTo>
                <a:lnTo>
                  <a:pt x="147" y="978"/>
                </a:lnTo>
                <a:lnTo>
                  <a:pt x="160" y="886"/>
                </a:lnTo>
                <a:lnTo>
                  <a:pt x="160" y="820"/>
                </a:lnTo>
                <a:lnTo>
                  <a:pt x="160" y="740"/>
                </a:lnTo>
                <a:lnTo>
                  <a:pt x="173" y="674"/>
                </a:lnTo>
                <a:lnTo>
                  <a:pt x="173" y="595"/>
                </a:lnTo>
                <a:lnTo>
                  <a:pt x="173" y="542"/>
                </a:lnTo>
                <a:lnTo>
                  <a:pt x="160" y="476"/>
                </a:lnTo>
                <a:lnTo>
                  <a:pt x="160" y="423"/>
                </a:lnTo>
                <a:lnTo>
                  <a:pt x="160" y="370"/>
                </a:lnTo>
                <a:lnTo>
                  <a:pt x="147" y="318"/>
                </a:lnTo>
                <a:lnTo>
                  <a:pt x="147" y="265"/>
                </a:lnTo>
                <a:lnTo>
                  <a:pt x="133" y="225"/>
                </a:lnTo>
                <a:lnTo>
                  <a:pt x="133" y="199"/>
                </a:lnTo>
                <a:lnTo>
                  <a:pt x="120" y="159"/>
                </a:lnTo>
                <a:lnTo>
                  <a:pt x="120" y="133"/>
                </a:lnTo>
                <a:lnTo>
                  <a:pt x="107" y="106"/>
                </a:lnTo>
                <a:lnTo>
                  <a:pt x="107" y="93"/>
                </a:lnTo>
                <a:lnTo>
                  <a:pt x="93" y="80"/>
                </a:lnTo>
                <a:lnTo>
                  <a:pt x="93" y="53"/>
                </a:lnTo>
                <a:lnTo>
                  <a:pt x="93" y="40"/>
                </a:lnTo>
                <a:lnTo>
                  <a:pt x="107" y="27"/>
                </a:lnTo>
                <a:lnTo>
                  <a:pt x="120" y="14"/>
                </a:lnTo>
                <a:lnTo>
                  <a:pt x="133" y="0"/>
                </a:lnTo>
                <a:lnTo>
                  <a:pt x="160" y="0"/>
                </a:lnTo>
                <a:lnTo>
                  <a:pt x="173" y="0"/>
                </a:lnTo>
                <a:lnTo>
                  <a:pt x="200" y="0"/>
                </a:lnTo>
                <a:lnTo>
                  <a:pt x="240" y="14"/>
                </a:lnTo>
                <a:lnTo>
                  <a:pt x="279" y="27"/>
                </a:lnTo>
                <a:lnTo>
                  <a:pt x="319" y="40"/>
                </a:lnTo>
                <a:lnTo>
                  <a:pt x="359" y="53"/>
                </a:lnTo>
                <a:lnTo>
                  <a:pt x="412" y="80"/>
                </a:lnTo>
                <a:lnTo>
                  <a:pt x="412" y="225"/>
                </a:lnTo>
                <a:lnTo>
                  <a:pt x="412" y="344"/>
                </a:lnTo>
                <a:lnTo>
                  <a:pt x="412" y="463"/>
                </a:lnTo>
                <a:lnTo>
                  <a:pt x="412" y="569"/>
                </a:lnTo>
                <a:lnTo>
                  <a:pt x="412" y="674"/>
                </a:lnTo>
                <a:lnTo>
                  <a:pt x="412" y="767"/>
                </a:lnTo>
                <a:lnTo>
                  <a:pt x="399" y="846"/>
                </a:lnTo>
                <a:lnTo>
                  <a:pt x="399" y="912"/>
                </a:lnTo>
                <a:lnTo>
                  <a:pt x="386" y="978"/>
                </a:lnTo>
                <a:lnTo>
                  <a:pt x="386" y="1044"/>
                </a:lnTo>
                <a:lnTo>
                  <a:pt x="386" y="1084"/>
                </a:lnTo>
                <a:lnTo>
                  <a:pt x="386" y="1124"/>
                </a:lnTo>
                <a:lnTo>
                  <a:pt x="373" y="1163"/>
                </a:lnTo>
                <a:lnTo>
                  <a:pt x="373" y="1190"/>
                </a:lnTo>
                <a:lnTo>
                  <a:pt x="373" y="1203"/>
                </a:lnTo>
                <a:lnTo>
                  <a:pt x="386" y="1203"/>
                </a:lnTo>
                <a:lnTo>
                  <a:pt x="399" y="1190"/>
                </a:lnTo>
                <a:lnTo>
                  <a:pt x="426" y="1176"/>
                </a:lnTo>
                <a:lnTo>
                  <a:pt x="452" y="1163"/>
                </a:lnTo>
                <a:lnTo>
                  <a:pt x="492" y="1137"/>
                </a:lnTo>
                <a:lnTo>
                  <a:pt x="545" y="1097"/>
                </a:lnTo>
                <a:lnTo>
                  <a:pt x="612" y="1058"/>
                </a:lnTo>
                <a:lnTo>
                  <a:pt x="678" y="1005"/>
                </a:lnTo>
                <a:lnTo>
                  <a:pt x="745" y="952"/>
                </a:lnTo>
                <a:lnTo>
                  <a:pt x="811" y="912"/>
                </a:lnTo>
                <a:lnTo>
                  <a:pt x="864" y="886"/>
                </a:lnTo>
                <a:lnTo>
                  <a:pt x="917" y="859"/>
                </a:lnTo>
                <a:lnTo>
                  <a:pt x="944" y="846"/>
                </a:lnTo>
                <a:lnTo>
                  <a:pt x="984" y="846"/>
                </a:lnTo>
                <a:lnTo>
                  <a:pt x="997" y="846"/>
                </a:lnTo>
                <a:lnTo>
                  <a:pt x="1010" y="859"/>
                </a:lnTo>
                <a:lnTo>
                  <a:pt x="1010" y="873"/>
                </a:lnTo>
                <a:lnTo>
                  <a:pt x="1010" y="886"/>
                </a:lnTo>
                <a:lnTo>
                  <a:pt x="1010" y="899"/>
                </a:lnTo>
                <a:lnTo>
                  <a:pt x="1010" y="912"/>
                </a:lnTo>
                <a:lnTo>
                  <a:pt x="997" y="925"/>
                </a:lnTo>
                <a:lnTo>
                  <a:pt x="984" y="939"/>
                </a:lnTo>
                <a:lnTo>
                  <a:pt x="971" y="965"/>
                </a:lnTo>
                <a:lnTo>
                  <a:pt x="957" y="991"/>
                </a:lnTo>
                <a:lnTo>
                  <a:pt x="931" y="1005"/>
                </a:lnTo>
                <a:lnTo>
                  <a:pt x="917" y="1031"/>
                </a:lnTo>
                <a:lnTo>
                  <a:pt x="891" y="1071"/>
                </a:lnTo>
                <a:lnTo>
                  <a:pt x="864" y="1097"/>
                </a:lnTo>
                <a:lnTo>
                  <a:pt x="824" y="1124"/>
                </a:lnTo>
                <a:lnTo>
                  <a:pt x="784" y="1163"/>
                </a:lnTo>
                <a:lnTo>
                  <a:pt x="758" y="1203"/>
                </a:lnTo>
                <a:lnTo>
                  <a:pt x="718" y="1229"/>
                </a:lnTo>
                <a:lnTo>
                  <a:pt x="638" y="1309"/>
                </a:lnTo>
                <a:lnTo>
                  <a:pt x="559" y="1375"/>
                </a:lnTo>
                <a:lnTo>
                  <a:pt x="505" y="1428"/>
                </a:lnTo>
                <a:lnTo>
                  <a:pt x="452" y="1480"/>
                </a:lnTo>
                <a:lnTo>
                  <a:pt x="412" y="1533"/>
                </a:lnTo>
                <a:lnTo>
                  <a:pt x="386" y="1573"/>
                </a:lnTo>
                <a:lnTo>
                  <a:pt x="359" y="1599"/>
                </a:lnTo>
                <a:lnTo>
                  <a:pt x="346" y="1626"/>
                </a:lnTo>
                <a:lnTo>
                  <a:pt x="319" y="1652"/>
                </a:lnTo>
                <a:lnTo>
                  <a:pt x="293" y="1692"/>
                </a:lnTo>
                <a:lnTo>
                  <a:pt x="266" y="1705"/>
                </a:lnTo>
                <a:lnTo>
                  <a:pt x="240" y="1718"/>
                </a:lnTo>
                <a:lnTo>
                  <a:pt x="213" y="1718"/>
                </a:lnTo>
                <a:lnTo>
                  <a:pt x="200" y="1718"/>
                </a:lnTo>
                <a:lnTo>
                  <a:pt x="186" y="1718"/>
                </a:lnTo>
                <a:lnTo>
                  <a:pt x="160" y="1705"/>
                </a:lnTo>
                <a:lnTo>
                  <a:pt x="147" y="1705"/>
                </a:lnTo>
                <a:lnTo>
                  <a:pt x="120" y="1679"/>
                </a:lnTo>
                <a:lnTo>
                  <a:pt x="107" y="1665"/>
                </a:lnTo>
                <a:lnTo>
                  <a:pt x="80" y="1639"/>
                </a:lnTo>
                <a:lnTo>
                  <a:pt x="67" y="1626"/>
                </a:lnTo>
                <a:lnTo>
                  <a:pt x="40" y="1599"/>
                </a:lnTo>
                <a:lnTo>
                  <a:pt x="27" y="1573"/>
                </a:lnTo>
                <a:lnTo>
                  <a:pt x="14" y="1560"/>
                </a:lnTo>
                <a:lnTo>
                  <a:pt x="14" y="1533"/>
                </a:lnTo>
                <a:lnTo>
                  <a:pt x="0" y="1520"/>
                </a:lnTo>
                <a:lnTo>
                  <a:pt x="0" y="1507"/>
                </a:lnTo>
                <a:lnTo>
                  <a:pt x="0" y="1494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10"/>
          <p:cNvSpPr/>
          <p:nvPr/>
        </p:nvSpPr>
        <p:spPr>
          <a:xfrm>
            <a:off x="4867200" y="2070000"/>
            <a:ext cx="228600" cy="1762200"/>
          </a:xfrm>
          <a:custGeom>
            <a:avLst/>
            <a:gdLst/>
            <a:ahLst/>
            <a:rect l="l" t="t" r="r" b="b"/>
            <a:pathLst>
              <a:path w="358" h="2775">
                <a:moveTo>
                  <a:pt x="358" y="66"/>
                </a:moveTo>
                <a:lnTo>
                  <a:pt x="358" y="185"/>
                </a:lnTo>
                <a:lnTo>
                  <a:pt x="358" y="304"/>
                </a:lnTo>
                <a:lnTo>
                  <a:pt x="358" y="410"/>
                </a:lnTo>
                <a:lnTo>
                  <a:pt x="358" y="515"/>
                </a:lnTo>
                <a:lnTo>
                  <a:pt x="358" y="621"/>
                </a:lnTo>
                <a:lnTo>
                  <a:pt x="358" y="714"/>
                </a:lnTo>
                <a:lnTo>
                  <a:pt x="345" y="819"/>
                </a:lnTo>
                <a:lnTo>
                  <a:pt x="345" y="912"/>
                </a:lnTo>
                <a:lnTo>
                  <a:pt x="345" y="1004"/>
                </a:lnTo>
                <a:lnTo>
                  <a:pt x="345" y="1084"/>
                </a:lnTo>
                <a:lnTo>
                  <a:pt x="345" y="1176"/>
                </a:lnTo>
                <a:lnTo>
                  <a:pt x="345" y="1255"/>
                </a:lnTo>
                <a:lnTo>
                  <a:pt x="345" y="1322"/>
                </a:lnTo>
                <a:lnTo>
                  <a:pt x="345" y="1401"/>
                </a:lnTo>
                <a:lnTo>
                  <a:pt x="345" y="1467"/>
                </a:lnTo>
                <a:lnTo>
                  <a:pt x="345" y="1546"/>
                </a:lnTo>
                <a:lnTo>
                  <a:pt x="345" y="1599"/>
                </a:lnTo>
                <a:lnTo>
                  <a:pt x="345" y="1665"/>
                </a:lnTo>
                <a:lnTo>
                  <a:pt x="345" y="1718"/>
                </a:lnTo>
                <a:lnTo>
                  <a:pt x="345" y="1771"/>
                </a:lnTo>
                <a:lnTo>
                  <a:pt x="345" y="1824"/>
                </a:lnTo>
                <a:lnTo>
                  <a:pt x="345" y="1877"/>
                </a:lnTo>
                <a:lnTo>
                  <a:pt x="345" y="1916"/>
                </a:lnTo>
                <a:lnTo>
                  <a:pt x="345" y="1956"/>
                </a:lnTo>
                <a:lnTo>
                  <a:pt x="345" y="1995"/>
                </a:lnTo>
                <a:lnTo>
                  <a:pt x="332" y="2035"/>
                </a:lnTo>
                <a:lnTo>
                  <a:pt x="332" y="2062"/>
                </a:lnTo>
                <a:lnTo>
                  <a:pt x="332" y="2088"/>
                </a:lnTo>
                <a:lnTo>
                  <a:pt x="332" y="2114"/>
                </a:lnTo>
                <a:lnTo>
                  <a:pt x="332" y="2141"/>
                </a:lnTo>
                <a:lnTo>
                  <a:pt x="332" y="2154"/>
                </a:lnTo>
                <a:lnTo>
                  <a:pt x="332" y="2167"/>
                </a:lnTo>
                <a:lnTo>
                  <a:pt x="305" y="2379"/>
                </a:lnTo>
                <a:lnTo>
                  <a:pt x="265" y="2577"/>
                </a:lnTo>
                <a:lnTo>
                  <a:pt x="252" y="2630"/>
                </a:lnTo>
                <a:lnTo>
                  <a:pt x="239" y="2669"/>
                </a:lnTo>
                <a:lnTo>
                  <a:pt x="225" y="2696"/>
                </a:lnTo>
                <a:lnTo>
                  <a:pt x="212" y="2735"/>
                </a:lnTo>
                <a:lnTo>
                  <a:pt x="199" y="2749"/>
                </a:lnTo>
                <a:lnTo>
                  <a:pt x="172" y="2775"/>
                </a:lnTo>
                <a:lnTo>
                  <a:pt x="159" y="2775"/>
                </a:lnTo>
                <a:lnTo>
                  <a:pt x="146" y="2775"/>
                </a:lnTo>
                <a:lnTo>
                  <a:pt x="132" y="2775"/>
                </a:lnTo>
                <a:lnTo>
                  <a:pt x="119" y="2775"/>
                </a:lnTo>
                <a:lnTo>
                  <a:pt x="119" y="2762"/>
                </a:lnTo>
                <a:lnTo>
                  <a:pt x="119" y="2749"/>
                </a:lnTo>
                <a:lnTo>
                  <a:pt x="106" y="2735"/>
                </a:lnTo>
                <a:lnTo>
                  <a:pt x="106" y="2722"/>
                </a:lnTo>
                <a:lnTo>
                  <a:pt x="106" y="2696"/>
                </a:lnTo>
                <a:lnTo>
                  <a:pt x="106" y="2683"/>
                </a:lnTo>
                <a:lnTo>
                  <a:pt x="93" y="2656"/>
                </a:lnTo>
                <a:lnTo>
                  <a:pt x="93" y="2630"/>
                </a:lnTo>
                <a:lnTo>
                  <a:pt x="93" y="2603"/>
                </a:lnTo>
                <a:lnTo>
                  <a:pt x="93" y="2577"/>
                </a:lnTo>
                <a:lnTo>
                  <a:pt x="79" y="2537"/>
                </a:lnTo>
                <a:lnTo>
                  <a:pt x="79" y="2511"/>
                </a:lnTo>
                <a:lnTo>
                  <a:pt x="79" y="2471"/>
                </a:lnTo>
                <a:lnTo>
                  <a:pt x="79" y="2432"/>
                </a:lnTo>
                <a:lnTo>
                  <a:pt x="79" y="2392"/>
                </a:lnTo>
                <a:lnTo>
                  <a:pt x="66" y="2339"/>
                </a:lnTo>
                <a:lnTo>
                  <a:pt x="66" y="2299"/>
                </a:lnTo>
                <a:lnTo>
                  <a:pt x="66" y="2247"/>
                </a:lnTo>
                <a:lnTo>
                  <a:pt x="66" y="2194"/>
                </a:lnTo>
                <a:lnTo>
                  <a:pt x="66" y="2141"/>
                </a:lnTo>
                <a:lnTo>
                  <a:pt x="66" y="2075"/>
                </a:lnTo>
                <a:lnTo>
                  <a:pt x="66" y="2022"/>
                </a:lnTo>
                <a:lnTo>
                  <a:pt x="66" y="1956"/>
                </a:lnTo>
                <a:lnTo>
                  <a:pt x="66" y="1890"/>
                </a:lnTo>
                <a:lnTo>
                  <a:pt x="66" y="1824"/>
                </a:lnTo>
                <a:lnTo>
                  <a:pt x="66" y="1758"/>
                </a:lnTo>
                <a:lnTo>
                  <a:pt x="66" y="1692"/>
                </a:lnTo>
                <a:lnTo>
                  <a:pt x="66" y="1612"/>
                </a:lnTo>
                <a:lnTo>
                  <a:pt x="66" y="1533"/>
                </a:lnTo>
                <a:lnTo>
                  <a:pt x="66" y="1388"/>
                </a:lnTo>
                <a:lnTo>
                  <a:pt x="66" y="1242"/>
                </a:lnTo>
                <a:lnTo>
                  <a:pt x="66" y="1110"/>
                </a:lnTo>
                <a:lnTo>
                  <a:pt x="66" y="978"/>
                </a:lnTo>
                <a:lnTo>
                  <a:pt x="66" y="872"/>
                </a:lnTo>
                <a:lnTo>
                  <a:pt x="66" y="753"/>
                </a:lnTo>
                <a:lnTo>
                  <a:pt x="66" y="661"/>
                </a:lnTo>
                <a:lnTo>
                  <a:pt x="53" y="568"/>
                </a:lnTo>
                <a:lnTo>
                  <a:pt x="53" y="489"/>
                </a:lnTo>
                <a:lnTo>
                  <a:pt x="53" y="423"/>
                </a:lnTo>
                <a:lnTo>
                  <a:pt x="53" y="357"/>
                </a:lnTo>
                <a:lnTo>
                  <a:pt x="39" y="304"/>
                </a:lnTo>
                <a:lnTo>
                  <a:pt x="39" y="264"/>
                </a:lnTo>
                <a:lnTo>
                  <a:pt x="39" y="225"/>
                </a:lnTo>
                <a:lnTo>
                  <a:pt x="26" y="198"/>
                </a:lnTo>
                <a:lnTo>
                  <a:pt x="26" y="185"/>
                </a:lnTo>
                <a:lnTo>
                  <a:pt x="13" y="159"/>
                </a:lnTo>
                <a:lnTo>
                  <a:pt x="13" y="132"/>
                </a:lnTo>
                <a:lnTo>
                  <a:pt x="0" y="106"/>
                </a:lnTo>
                <a:lnTo>
                  <a:pt x="0" y="93"/>
                </a:lnTo>
                <a:lnTo>
                  <a:pt x="0" y="66"/>
                </a:lnTo>
                <a:lnTo>
                  <a:pt x="13" y="53"/>
                </a:lnTo>
                <a:lnTo>
                  <a:pt x="13" y="27"/>
                </a:lnTo>
                <a:lnTo>
                  <a:pt x="26" y="13"/>
                </a:lnTo>
                <a:lnTo>
                  <a:pt x="39" y="0"/>
                </a:lnTo>
                <a:lnTo>
                  <a:pt x="66" y="0"/>
                </a:lnTo>
                <a:lnTo>
                  <a:pt x="93" y="0"/>
                </a:lnTo>
                <a:lnTo>
                  <a:pt x="132" y="0"/>
                </a:lnTo>
                <a:lnTo>
                  <a:pt x="172" y="13"/>
                </a:lnTo>
                <a:lnTo>
                  <a:pt x="225" y="27"/>
                </a:lnTo>
                <a:lnTo>
                  <a:pt x="292" y="40"/>
                </a:lnTo>
                <a:lnTo>
                  <a:pt x="358" y="6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11"/>
          <p:cNvSpPr/>
          <p:nvPr/>
        </p:nvSpPr>
        <p:spPr>
          <a:xfrm>
            <a:off x="4960800" y="1978200"/>
            <a:ext cx="750960" cy="1049040"/>
          </a:xfrm>
          <a:custGeom>
            <a:avLst/>
            <a:gdLst/>
            <a:ahLst/>
            <a:rect l="l" t="t" r="r" b="b"/>
            <a:pathLst>
              <a:path w="1183" h="1652">
                <a:moveTo>
                  <a:pt x="638" y="1123"/>
                </a:moveTo>
                <a:lnTo>
                  <a:pt x="638" y="1110"/>
                </a:lnTo>
                <a:lnTo>
                  <a:pt x="651" y="1097"/>
                </a:lnTo>
                <a:lnTo>
                  <a:pt x="651" y="1070"/>
                </a:lnTo>
                <a:lnTo>
                  <a:pt x="664" y="1044"/>
                </a:lnTo>
                <a:lnTo>
                  <a:pt x="678" y="1004"/>
                </a:lnTo>
                <a:lnTo>
                  <a:pt x="678" y="978"/>
                </a:lnTo>
                <a:lnTo>
                  <a:pt x="691" y="938"/>
                </a:lnTo>
                <a:lnTo>
                  <a:pt x="704" y="898"/>
                </a:lnTo>
                <a:lnTo>
                  <a:pt x="717" y="806"/>
                </a:lnTo>
                <a:lnTo>
                  <a:pt x="731" y="713"/>
                </a:lnTo>
                <a:lnTo>
                  <a:pt x="744" y="621"/>
                </a:lnTo>
                <a:lnTo>
                  <a:pt x="757" y="528"/>
                </a:lnTo>
                <a:lnTo>
                  <a:pt x="757" y="475"/>
                </a:lnTo>
                <a:lnTo>
                  <a:pt x="757" y="436"/>
                </a:lnTo>
                <a:lnTo>
                  <a:pt x="757" y="396"/>
                </a:lnTo>
                <a:lnTo>
                  <a:pt x="757" y="370"/>
                </a:lnTo>
                <a:lnTo>
                  <a:pt x="757" y="343"/>
                </a:lnTo>
                <a:lnTo>
                  <a:pt x="757" y="330"/>
                </a:lnTo>
                <a:lnTo>
                  <a:pt x="744" y="304"/>
                </a:lnTo>
                <a:lnTo>
                  <a:pt x="731" y="290"/>
                </a:lnTo>
                <a:lnTo>
                  <a:pt x="717" y="290"/>
                </a:lnTo>
                <a:lnTo>
                  <a:pt x="691" y="290"/>
                </a:lnTo>
                <a:lnTo>
                  <a:pt x="664" y="290"/>
                </a:lnTo>
                <a:lnTo>
                  <a:pt x="624" y="290"/>
                </a:lnTo>
                <a:lnTo>
                  <a:pt x="584" y="304"/>
                </a:lnTo>
                <a:lnTo>
                  <a:pt x="545" y="317"/>
                </a:lnTo>
                <a:lnTo>
                  <a:pt x="478" y="330"/>
                </a:lnTo>
                <a:lnTo>
                  <a:pt x="372" y="357"/>
                </a:lnTo>
                <a:lnTo>
                  <a:pt x="252" y="370"/>
                </a:lnTo>
                <a:lnTo>
                  <a:pt x="119" y="383"/>
                </a:lnTo>
                <a:lnTo>
                  <a:pt x="0" y="383"/>
                </a:lnTo>
                <a:lnTo>
                  <a:pt x="0" y="185"/>
                </a:lnTo>
                <a:lnTo>
                  <a:pt x="40" y="185"/>
                </a:lnTo>
                <a:lnTo>
                  <a:pt x="93" y="185"/>
                </a:lnTo>
                <a:lnTo>
                  <a:pt x="133" y="172"/>
                </a:lnTo>
                <a:lnTo>
                  <a:pt x="186" y="172"/>
                </a:lnTo>
                <a:lnTo>
                  <a:pt x="252" y="172"/>
                </a:lnTo>
                <a:lnTo>
                  <a:pt x="305" y="158"/>
                </a:lnTo>
                <a:lnTo>
                  <a:pt x="372" y="145"/>
                </a:lnTo>
                <a:lnTo>
                  <a:pt x="425" y="132"/>
                </a:lnTo>
                <a:lnTo>
                  <a:pt x="491" y="119"/>
                </a:lnTo>
                <a:lnTo>
                  <a:pt x="545" y="105"/>
                </a:lnTo>
                <a:lnTo>
                  <a:pt x="598" y="92"/>
                </a:lnTo>
                <a:lnTo>
                  <a:pt x="638" y="79"/>
                </a:lnTo>
                <a:lnTo>
                  <a:pt x="678" y="79"/>
                </a:lnTo>
                <a:lnTo>
                  <a:pt x="691" y="66"/>
                </a:lnTo>
                <a:lnTo>
                  <a:pt x="717" y="53"/>
                </a:lnTo>
                <a:lnTo>
                  <a:pt x="731" y="39"/>
                </a:lnTo>
                <a:lnTo>
                  <a:pt x="744" y="26"/>
                </a:lnTo>
                <a:lnTo>
                  <a:pt x="757" y="13"/>
                </a:lnTo>
                <a:lnTo>
                  <a:pt x="784" y="0"/>
                </a:lnTo>
                <a:lnTo>
                  <a:pt x="810" y="0"/>
                </a:lnTo>
                <a:lnTo>
                  <a:pt x="837" y="0"/>
                </a:lnTo>
                <a:lnTo>
                  <a:pt x="864" y="13"/>
                </a:lnTo>
                <a:lnTo>
                  <a:pt x="903" y="39"/>
                </a:lnTo>
                <a:lnTo>
                  <a:pt x="957" y="66"/>
                </a:lnTo>
                <a:lnTo>
                  <a:pt x="996" y="92"/>
                </a:lnTo>
                <a:lnTo>
                  <a:pt x="1050" y="119"/>
                </a:lnTo>
                <a:lnTo>
                  <a:pt x="1089" y="158"/>
                </a:lnTo>
                <a:lnTo>
                  <a:pt x="1116" y="185"/>
                </a:lnTo>
                <a:lnTo>
                  <a:pt x="1143" y="224"/>
                </a:lnTo>
                <a:lnTo>
                  <a:pt x="1169" y="251"/>
                </a:lnTo>
                <a:lnTo>
                  <a:pt x="1183" y="277"/>
                </a:lnTo>
                <a:lnTo>
                  <a:pt x="1183" y="304"/>
                </a:lnTo>
                <a:lnTo>
                  <a:pt x="1183" y="330"/>
                </a:lnTo>
                <a:lnTo>
                  <a:pt x="1169" y="357"/>
                </a:lnTo>
                <a:lnTo>
                  <a:pt x="1156" y="370"/>
                </a:lnTo>
                <a:lnTo>
                  <a:pt x="1143" y="383"/>
                </a:lnTo>
                <a:lnTo>
                  <a:pt x="1129" y="383"/>
                </a:lnTo>
                <a:lnTo>
                  <a:pt x="1116" y="409"/>
                </a:lnTo>
                <a:lnTo>
                  <a:pt x="1116" y="423"/>
                </a:lnTo>
                <a:lnTo>
                  <a:pt x="1103" y="449"/>
                </a:lnTo>
                <a:lnTo>
                  <a:pt x="1089" y="475"/>
                </a:lnTo>
                <a:lnTo>
                  <a:pt x="1089" y="515"/>
                </a:lnTo>
                <a:lnTo>
                  <a:pt x="1089" y="555"/>
                </a:lnTo>
                <a:lnTo>
                  <a:pt x="1076" y="594"/>
                </a:lnTo>
                <a:lnTo>
                  <a:pt x="1076" y="647"/>
                </a:lnTo>
                <a:lnTo>
                  <a:pt x="1063" y="700"/>
                </a:lnTo>
                <a:lnTo>
                  <a:pt x="1063" y="766"/>
                </a:lnTo>
                <a:lnTo>
                  <a:pt x="1050" y="819"/>
                </a:lnTo>
                <a:lnTo>
                  <a:pt x="1036" y="885"/>
                </a:lnTo>
                <a:lnTo>
                  <a:pt x="1023" y="951"/>
                </a:lnTo>
                <a:lnTo>
                  <a:pt x="1010" y="1030"/>
                </a:lnTo>
                <a:lnTo>
                  <a:pt x="983" y="1097"/>
                </a:lnTo>
                <a:lnTo>
                  <a:pt x="970" y="1176"/>
                </a:lnTo>
                <a:lnTo>
                  <a:pt x="943" y="1242"/>
                </a:lnTo>
                <a:lnTo>
                  <a:pt x="917" y="1308"/>
                </a:lnTo>
                <a:lnTo>
                  <a:pt x="903" y="1361"/>
                </a:lnTo>
                <a:lnTo>
                  <a:pt x="877" y="1414"/>
                </a:lnTo>
                <a:lnTo>
                  <a:pt x="850" y="1453"/>
                </a:lnTo>
                <a:lnTo>
                  <a:pt x="824" y="1493"/>
                </a:lnTo>
                <a:lnTo>
                  <a:pt x="797" y="1533"/>
                </a:lnTo>
                <a:lnTo>
                  <a:pt x="771" y="1559"/>
                </a:lnTo>
                <a:lnTo>
                  <a:pt x="744" y="1585"/>
                </a:lnTo>
                <a:lnTo>
                  <a:pt x="717" y="1612"/>
                </a:lnTo>
                <a:lnTo>
                  <a:pt x="691" y="1625"/>
                </a:lnTo>
                <a:lnTo>
                  <a:pt x="678" y="1638"/>
                </a:lnTo>
                <a:lnTo>
                  <a:pt x="651" y="1652"/>
                </a:lnTo>
                <a:lnTo>
                  <a:pt x="624" y="1652"/>
                </a:lnTo>
                <a:lnTo>
                  <a:pt x="598" y="1652"/>
                </a:lnTo>
                <a:lnTo>
                  <a:pt x="571" y="1652"/>
                </a:lnTo>
                <a:lnTo>
                  <a:pt x="558" y="1652"/>
                </a:lnTo>
                <a:lnTo>
                  <a:pt x="545" y="1638"/>
                </a:lnTo>
                <a:lnTo>
                  <a:pt x="531" y="1625"/>
                </a:lnTo>
                <a:lnTo>
                  <a:pt x="518" y="1612"/>
                </a:lnTo>
                <a:lnTo>
                  <a:pt x="518" y="1599"/>
                </a:lnTo>
                <a:lnTo>
                  <a:pt x="518" y="1572"/>
                </a:lnTo>
                <a:lnTo>
                  <a:pt x="518" y="1559"/>
                </a:lnTo>
                <a:lnTo>
                  <a:pt x="518" y="1533"/>
                </a:lnTo>
                <a:lnTo>
                  <a:pt x="518" y="1493"/>
                </a:lnTo>
                <a:lnTo>
                  <a:pt x="505" y="1467"/>
                </a:lnTo>
                <a:lnTo>
                  <a:pt x="491" y="1440"/>
                </a:lnTo>
                <a:lnTo>
                  <a:pt x="465" y="1414"/>
                </a:lnTo>
                <a:lnTo>
                  <a:pt x="452" y="1387"/>
                </a:lnTo>
                <a:lnTo>
                  <a:pt x="425" y="1348"/>
                </a:lnTo>
                <a:lnTo>
                  <a:pt x="398" y="1321"/>
                </a:lnTo>
                <a:lnTo>
                  <a:pt x="359" y="1282"/>
                </a:lnTo>
                <a:lnTo>
                  <a:pt x="345" y="1255"/>
                </a:lnTo>
                <a:lnTo>
                  <a:pt x="319" y="1229"/>
                </a:lnTo>
                <a:lnTo>
                  <a:pt x="305" y="1215"/>
                </a:lnTo>
                <a:lnTo>
                  <a:pt x="292" y="1189"/>
                </a:lnTo>
                <a:lnTo>
                  <a:pt x="292" y="1176"/>
                </a:lnTo>
                <a:lnTo>
                  <a:pt x="292" y="1163"/>
                </a:lnTo>
                <a:lnTo>
                  <a:pt x="305" y="1149"/>
                </a:lnTo>
                <a:lnTo>
                  <a:pt x="305" y="1136"/>
                </a:lnTo>
                <a:lnTo>
                  <a:pt x="319" y="1123"/>
                </a:lnTo>
                <a:lnTo>
                  <a:pt x="345" y="1123"/>
                </a:lnTo>
                <a:lnTo>
                  <a:pt x="359" y="1123"/>
                </a:lnTo>
                <a:lnTo>
                  <a:pt x="385" y="1123"/>
                </a:lnTo>
                <a:lnTo>
                  <a:pt x="412" y="1123"/>
                </a:lnTo>
                <a:lnTo>
                  <a:pt x="438" y="1136"/>
                </a:lnTo>
                <a:lnTo>
                  <a:pt x="465" y="1149"/>
                </a:lnTo>
                <a:lnTo>
                  <a:pt x="505" y="1149"/>
                </a:lnTo>
                <a:lnTo>
                  <a:pt x="531" y="1163"/>
                </a:lnTo>
                <a:lnTo>
                  <a:pt x="558" y="1163"/>
                </a:lnTo>
                <a:lnTo>
                  <a:pt x="584" y="1163"/>
                </a:lnTo>
                <a:lnTo>
                  <a:pt x="598" y="1163"/>
                </a:lnTo>
                <a:lnTo>
                  <a:pt x="611" y="1149"/>
                </a:lnTo>
                <a:lnTo>
                  <a:pt x="624" y="1149"/>
                </a:lnTo>
                <a:lnTo>
                  <a:pt x="638" y="112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图片 1" descr=""/>
          <p:cNvPicPr/>
          <p:nvPr/>
        </p:nvPicPr>
        <p:blipFill>
          <a:blip r:embed="rId2"/>
          <a:stretch/>
        </p:blipFill>
        <p:spPr>
          <a:xfrm>
            <a:off x="322200" y="4452840"/>
            <a:ext cx="84852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38"/>
          <p:cNvGrpSpPr/>
          <p:nvPr/>
        </p:nvGrpSpPr>
        <p:grpSpPr>
          <a:xfrm>
            <a:off x="3322800" y="1170000"/>
            <a:ext cx="2541600" cy="2538360"/>
            <a:chOff x="3322800" y="1170000"/>
            <a:chExt cx="2541600" cy="2538360"/>
          </a:xfrm>
        </p:grpSpPr>
        <p:sp>
          <p:nvSpPr>
            <p:cNvPr id="178" name="直接连接符 3"/>
            <p:cNvSpPr/>
            <p:nvPr/>
          </p:nvSpPr>
          <p:spPr>
            <a:xfrm>
              <a:off x="3344760" y="2436840"/>
              <a:ext cx="2519640" cy="14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直接连接符 4"/>
            <p:cNvSpPr/>
            <p:nvPr/>
          </p:nvSpPr>
          <p:spPr>
            <a:xfrm flipH="1">
              <a:off x="4570560" y="1170000"/>
              <a:ext cx="1440" cy="25196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"/>
            <p:cNvSpPr/>
            <p:nvPr/>
          </p:nvSpPr>
          <p:spPr>
            <a:xfrm>
              <a:off x="3322800" y="1188720"/>
              <a:ext cx="2519640" cy="2519640"/>
            </a:xfrm>
            <a:prstGeom prst="rect">
              <a:avLst/>
            </a:prstGeom>
            <a:noFill/>
            <a:ln w="25560">
              <a:solidFill>
                <a:srgbClr val="2e75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Freeform 12"/>
          <p:cNvSpPr/>
          <p:nvPr/>
        </p:nvSpPr>
        <p:spPr>
          <a:xfrm>
            <a:off x="3873600" y="1709640"/>
            <a:ext cx="272880" cy="542880"/>
          </a:xfrm>
          <a:custGeom>
            <a:avLst/>
            <a:gdLst/>
            <a:ahLst/>
            <a:rect l="l" t="t" r="r" b="b"/>
            <a:pathLst>
              <a:path w="429" h="856">
                <a:moveTo>
                  <a:pt x="0" y="26"/>
                </a:moveTo>
                <a:lnTo>
                  <a:pt x="13" y="13"/>
                </a:lnTo>
                <a:lnTo>
                  <a:pt x="26" y="0"/>
                </a:lnTo>
                <a:lnTo>
                  <a:pt x="38" y="0"/>
                </a:lnTo>
                <a:lnTo>
                  <a:pt x="51" y="0"/>
                </a:lnTo>
                <a:lnTo>
                  <a:pt x="63" y="0"/>
                </a:lnTo>
                <a:lnTo>
                  <a:pt x="76" y="0"/>
                </a:lnTo>
                <a:lnTo>
                  <a:pt x="101" y="13"/>
                </a:lnTo>
                <a:lnTo>
                  <a:pt x="139" y="13"/>
                </a:lnTo>
                <a:lnTo>
                  <a:pt x="177" y="26"/>
                </a:lnTo>
                <a:lnTo>
                  <a:pt x="227" y="38"/>
                </a:lnTo>
                <a:lnTo>
                  <a:pt x="278" y="38"/>
                </a:lnTo>
                <a:lnTo>
                  <a:pt x="290" y="126"/>
                </a:lnTo>
                <a:lnTo>
                  <a:pt x="315" y="189"/>
                </a:lnTo>
                <a:lnTo>
                  <a:pt x="328" y="265"/>
                </a:lnTo>
                <a:lnTo>
                  <a:pt x="341" y="328"/>
                </a:lnTo>
                <a:lnTo>
                  <a:pt x="353" y="378"/>
                </a:lnTo>
                <a:lnTo>
                  <a:pt x="366" y="428"/>
                </a:lnTo>
                <a:lnTo>
                  <a:pt x="378" y="479"/>
                </a:lnTo>
                <a:lnTo>
                  <a:pt x="391" y="529"/>
                </a:lnTo>
                <a:lnTo>
                  <a:pt x="404" y="579"/>
                </a:lnTo>
                <a:lnTo>
                  <a:pt x="404" y="617"/>
                </a:lnTo>
                <a:lnTo>
                  <a:pt x="416" y="642"/>
                </a:lnTo>
                <a:lnTo>
                  <a:pt x="416" y="680"/>
                </a:lnTo>
                <a:lnTo>
                  <a:pt x="429" y="693"/>
                </a:lnTo>
                <a:lnTo>
                  <a:pt x="429" y="718"/>
                </a:lnTo>
                <a:lnTo>
                  <a:pt x="429" y="730"/>
                </a:lnTo>
                <a:lnTo>
                  <a:pt x="429" y="743"/>
                </a:lnTo>
                <a:lnTo>
                  <a:pt x="429" y="781"/>
                </a:lnTo>
                <a:lnTo>
                  <a:pt x="429" y="806"/>
                </a:lnTo>
                <a:lnTo>
                  <a:pt x="416" y="831"/>
                </a:lnTo>
                <a:lnTo>
                  <a:pt x="416" y="844"/>
                </a:lnTo>
                <a:lnTo>
                  <a:pt x="404" y="856"/>
                </a:lnTo>
                <a:lnTo>
                  <a:pt x="391" y="856"/>
                </a:lnTo>
                <a:lnTo>
                  <a:pt x="378" y="844"/>
                </a:lnTo>
                <a:lnTo>
                  <a:pt x="353" y="831"/>
                </a:lnTo>
                <a:lnTo>
                  <a:pt x="341" y="819"/>
                </a:lnTo>
                <a:lnTo>
                  <a:pt x="328" y="793"/>
                </a:lnTo>
                <a:lnTo>
                  <a:pt x="315" y="768"/>
                </a:lnTo>
                <a:lnTo>
                  <a:pt x="290" y="730"/>
                </a:lnTo>
                <a:lnTo>
                  <a:pt x="278" y="680"/>
                </a:lnTo>
                <a:lnTo>
                  <a:pt x="252" y="630"/>
                </a:lnTo>
                <a:lnTo>
                  <a:pt x="227" y="579"/>
                </a:lnTo>
                <a:lnTo>
                  <a:pt x="202" y="504"/>
                </a:lnTo>
                <a:lnTo>
                  <a:pt x="177" y="428"/>
                </a:lnTo>
                <a:lnTo>
                  <a:pt x="152" y="378"/>
                </a:lnTo>
                <a:lnTo>
                  <a:pt x="139" y="315"/>
                </a:lnTo>
                <a:lnTo>
                  <a:pt x="114" y="265"/>
                </a:lnTo>
                <a:lnTo>
                  <a:pt x="89" y="227"/>
                </a:lnTo>
                <a:lnTo>
                  <a:pt x="76" y="189"/>
                </a:lnTo>
                <a:lnTo>
                  <a:pt x="51" y="152"/>
                </a:lnTo>
                <a:lnTo>
                  <a:pt x="38" y="126"/>
                </a:lnTo>
                <a:lnTo>
                  <a:pt x="26" y="114"/>
                </a:lnTo>
                <a:lnTo>
                  <a:pt x="13" y="89"/>
                </a:lnTo>
                <a:lnTo>
                  <a:pt x="0" y="76"/>
                </a:lnTo>
                <a:lnTo>
                  <a:pt x="0" y="63"/>
                </a:lnTo>
                <a:lnTo>
                  <a:pt x="0" y="51"/>
                </a:lnTo>
                <a:lnTo>
                  <a:pt x="0" y="38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3986280" y="1557360"/>
            <a:ext cx="1303200" cy="447480"/>
          </a:xfrm>
          <a:custGeom>
            <a:avLst/>
            <a:gdLst/>
            <a:ahLst/>
            <a:rect l="l" t="t" r="r" b="b"/>
            <a:pathLst>
              <a:path w="2054" h="705">
                <a:moveTo>
                  <a:pt x="1626" y="705"/>
                </a:moveTo>
                <a:lnTo>
                  <a:pt x="1424" y="705"/>
                </a:lnTo>
                <a:lnTo>
                  <a:pt x="1449" y="655"/>
                </a:lnTo>
                <a:lnTo>
                  <a:pt x="1474" y="604"/>
                </a:lnTo>
                <a:lnTo>
                  <a:pt x="1500" y="567"/>
                </a:lnTo>
                <a:lnTo>
                  <a:pt x="1512" y="516"/>
                </a:lnTo>
                <a:lnTo>
                  <a:pt x="1537" y="479"/>
                </a:lnTo>
                <a:lnTo>
                  <a:pt x="1550" y="441"/>
                </a:lnTo>
                <a:lnTo>
                  <a:pt x="1563" y="416"/>
                </a:lnTo>
                <a:lnTo>
                  <a:pt x="1575" y="378"/>
                </a:lnTo>
                <a:lnTo>
                  <a:pt x="1588" y="353"/>
                </a:lnTo>
                <a:lnTo>
                  <a:pt x="1588" y="328"/>
                </a:lnTo>
                <a:lnTo>
                  <a:pt x="1600" y="302"/>
                </a:lnTo>
                <a:lnTo>
                  <a:pt x="1600" y="290"/>
                </a:lnTo>
                <a:lnTo>
                  <a:pt x="1613" y="277"/>
                </a:lnTo>
                <a:lnTo>
                  <a:pt x="1613" y="265"/>
                </a:lnTo>
                <a:lnTo>
                  <a:pt x="1613" y="252"/>
                </a:lnTo>
                <a:lnTo>
                  <a:pt x="1600" y="239"/>
                </a:lnTo>
                <a:lnTo>
                  <a:pt x="1588" y="227"/>
                </a:lnTo>
                <a:lnTo>
                  <a:pt x="1575" y="227"/>
                </a:lnTo>
                <a:lnTo>
                  <a:pt x="1563" y="214"/>
                </a:lnTo>
                <a:lnTo>
                  <a:pt x="1550" y="214"/>
                </a:lnTo>
                <a:lnTo>
                  <a:pt x="1525" y="214"/>
                </a:lnTo>
                <a:lnTo>
                  <a:pt x="1500" y="202"/>
                </a:lnTo>
                <a:lnTo>
                  <a:pt x="1487" y="202"/>
                </a:lnTo>
                <a:lnTo>
                  <a:pt x="1462" y="202"/>
                </a:lnTo>
                <a:lnTo>
                  <a:pt x="1437" y="214"/>
                </a:lnTo>
                <a:lnTo>
                  <a:pt x="1399" y="214"/>
                </a:lnTo>
                <a:lnTo>
                  <a:pt x="1348" y="227"/>
                </a:lnTo>
                <a:lnTo>
                  <a:pt x="1298" y="227"/>
                </a:lnTo>
                <a:lnTo>
                  <a:pt x="1235" y="239"/>
                </a:lnTo>
                <a:lnTo>
                  <a:pt x="1159" y="252"/>
                </a:lnTo>
                <a:lnTo>
                  <a:pt x="1071" y="265"/>
                </a:lnTo>
                <a:lnTo>
                  <a:pt x="983" y="277"/>
                </a:lnTo>
                <a:lnTo>
                  <a:pt x="882" y="302"/>
                </a:lnTo>
                <a:lnTo>
                  <a:pt x="756" y="315"/>
                </a:lnTo>
                <a:lnTo>
                  <a:pt x="643" y="340"/>
                </a:lnTo>
                <a:lnTo>
                  <a:pt x="504" y="365"/>
                </a:lnTo>
                <a:lnTo>
                  <a:pt x="365" y="378"/>
                </a:lnTo>
                <a:lnTo>
                  <a:pt x="214" y="416"/>
                </a:lnTo>
                <a:lnTo>
                  <a:pt x="50" y="441"/>
                </a:lnTo>
                <a:lnTo>
                  <a:pt x="0" y="277"/>
                </a:lnTo>
                <a:lnTo>
                  <a:pt x="63" y="277"/>
                </a:lnTo>
                <a:lnTo>
                  <a:pt x="113" y="277"/>
                </a:lnTo>
                <a:lnTo>
                  <a:pt x="189" y="277"/>
                </a:lnTo>
                <a:lnTo>
                  <a:pt x="252" y="265"/>
                </a:lnTo>
                <a:lnTo>
                  <a:pt x="340" y="265"/>
                </a:lnTo>
                <a:lnTo>
                  <a:pt x="416" y="252"/>
                </a:lnTo>
                <a:lnTo>
                  <a:pt x="504" y="239"/>
                </a:lnTo>
                <a:lnTo>
                  <a:pt x="605" y="227"/>
                </a:lnTo>
                <a:lnTo>
                  <a:pt x="706" y="202"/>
                </a:lnTo>
                <a:lnTo>
                  <a:pt x="794" y="189"/>
                </a:lnTo>
                <a:lnTo>
                  <a:pt x="882" y="177"/>
                </a:lnTo>
                <a:lnTo>
                  <a:pt x="970" y="164"/>
                </a:lnTo>
                <a:lnTo>
                  <a:pt x="1058" y="151"/>
                </a:lnTo>
                <a:lnTo>
                  <a:pt x="1134" y="139"/>
                </a:lnTo>
                <a:lnTo>
                  <a:pt x="1197" y="126"/>
                </a:lnTo>
                <a:lnTo>
                  <a:pt x="1273" y="114"/>
                </a:lnTo>
                <a:lnTo>
                  <a:pt x="1336" y="101"/>
                </a:lnTo>
                <a:lnTo>
                  <a:pt x="1399" y="88"/>
                </a:lnTo>
                <a:lnTo>
                  <a:pt x="1449" y="76"/>
                </a:lnTo>
                <a:lnTo>
                  <a:pt x="1487" y="76"/>
                </a:lnTo>
                <a:lnTo>
                  <a:pt x="1525" y="63"/>
                </a:lnTo>
                <a:lnTo>
                  <a:pt x="1563" y="51"/>
                </a:lnTo>
                <a:lnTo>
                  <a:pt x="1588" y="38"/>
                </a:lnTo>
                <a:lnTo>
                  <a:pt x="1613" y="38"/>
                </a:lnTo>
                <a:lnTo>
                  <a:pt x="1651" y="25"/>
                </a:lnTo>
                <a:lnTo>
                  <a:pt x="1676" y="13"/>
                </a:lnTo>
                <a:lnTo>
                  <a:pt x="1701" y="0"/>
                </a:lnTo>
                <a:lnTo>
                  <a:pt x="1726" y="0"/>
                </a:lnTo>
                <a:lnTo>
                  <a:pt x="1739" y="0"/>
                </a:lnTo>
                <a:lnTo>
                  <a:pt x="1752" y="13"/>
                </a:lnTo>
                <a:lnTo>
                  <a:pt x="1764" y="13"/>
                </a:lnTo>
                <a:lnTo>
                  <a:pt x="1790" y="25"/>
                </a:lnTo>
                <a:lnTo>
                  <a:pt x="1815" y="38"/>
                </a:lnTo>
                <a:lnTo>
                  <a:pt x="1840" y="51"/>
                </a:lnTo>
                <a:lnTo>
                  <a:pt x="1865" y="76"/>
                </a:lnTo>
                <a:lnTo>
                  <a:pt x="1903" y="101"/>
                </a:lnTo>
                <a:lnTo>
                  <a:pt x="1941" y="114"/>
                </a:lnTo>
                <a:lnTo>
                  <a:pt x="1966" y="139"/>
                </a:lnTo>
                <a:lnTo>
                  <a:pt x="1991" y="164"/>
                </a:lnTo>
                <a:lnTo>
                  <a:pt x="2016" y="177"/>
                </a:lnTo>
                <a:lnTo>
                  <a:pt x="2029" y="189"/>
                </a:lnTo>
                <a:lnTo>
                  <a:pt x="2042" y="214"/>
                </a:lnTo>
                <a:lnTo>
                  <a:pt x="2054" y="227"/>
                </a:lnTo>
                <a:lnTo>
                  <a:pt x="2054" y="239"/>
                </a:lnTo>
                <a:lnTo>
                  <a:pt x="2054" y="252"/>
                </a:lnTo>
                <a:lnTo>
                  <a:pt x="2042" y="265"/>
                </a:lnTo>
                <a:lnTo>
                  <a:pt x="2029" y="277"/>
                </a:lnTo>
                <a:lnTo>
                  <a:pt x="2016" y="290"/>
                </a:lnTo>
                <a:lnTo>
                  <a:pt x="2004" y="290"/>
                </a:lnTo>
                <a:lnTo>
                  <a:pt x="1979" y="302"/>
                </a:lnTo>
                <a:lnTo>
                  <a:pt x="1953" y="302"/>
                </a:lnTo>
                <a:lnTo>
                  <a:pt x="1953" y="315"/>
                </a:lnTo>
                <a:lnTo>
                  <a:pt x="1928" y="315"/>
                </a:lnTo>
                <a:lnTo>
                  <a:pt x="1916" y="328"/>
                </a:lnTo>
                <a:lnTo>
                  <a:pt x="1903" y="340"/>
                </a:lnTo>
                <a:lnTo>
                  <a:pt x="1890" y="353"/>
                </a:lnTo>
                <a:lnTo>
                  <a:pt x="1865" y="378"/>
                </a:lnTo>
                <a:lnTo>
                  <a:pt x="1853" y="391"/>
                </a:lnTo>
                <a:lnTo>
                  <a:pt x="1827" y="416"/>
                </a:lnTo>
                <a:lnTo>
                  <a:pt x="1802" y="441"/>
                </a:lnTo>
                <a:lnTo>
                  <a:pt x="1790" y="479"/>
                </a:lnTo>
                <a:lnTo>
                  <a:pt x="1764" y="504"/>
                </a:lnTo>
                <a:lnTo>
                  <a:pt x="1739" y="542"/>
                </a:lnTo>
                <a:lnTo>
                  <a:pt x="1714" y="579"/>
                </a:lnTo>
                <a:lnTo>
                  <a:pt x="1689" y="617"/>
                </a:lnTo>
                <a:lnTo>
                  <a:pt x="1663" y="655"/>
                </a:lnTo>
                <a:lnTo>
                  <a:pt x="1626" y="70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14"/>
          <p:cNvSpPr/>
          <p:nvPr/>
        </p:nvSpPr>
        <p:spPr>
          <a:xfrm>
            <a:off x="4097160" y="1957320"/>
            <a:ext cx="1001880" cy="223920"/>
          </a:xfrm>
          <a:custGeom>
            <a:avLst/>
            <a:gdLst/>
            <a:ahLst/>
            <a:rect l="l" t="t" r="r" b="b"/>
            <a:pathLst>
              <a:path w="1576" h="352">
                <a:moveTo>
                  <a:pt x="1576" y="100"/>
                </a:moveTo>
                <a:lnTo>
                  <a:pt x="1576" y="113"/>
                </a:lnTo>
                <a:lnTo>
                  <a:pt x="1563" y="113"/>
                </a:lnTo>
                <a:lnTo>
                  <a:pt x="1550" y="126"/>
                </a:lnTo>
                <a:lnTo>
                  <a:pt x="1538" y="126"/>
                </a:lnTo>
                <a:lnTo>
                  <a:pt x="1525" y="138"/>
                </a:lnTo>
                <a:lnTo>
                  <a:pt x="1500" y="138"/>
                </a:lnTo>
                <a:lnTo>
                  <a:pt x="1475" y="138"/>
                </a:lnTo>
                <a:lnTo>
                  <a:pt x="1450" y="151"/>
                </a:lnTo>
                <a:lnTo>
                  <a:pt x="1424" y="151"/>
                </a:lnTo>
                <a:lnTo>
                  <a:pt x="1387" y="163"/>
                </a:lnTo>
                <a:lnTo>
                  <a:pt x="1361" y="176"/>
                </a:lnTo>
                <a:lnTo>
                  <a:pt x="1324" y="176"/>
                </a:lnTo>
                <a:lnTo>
                  <a:pt x="1273" y="188"/>
                </a:lnTo>
                <a:lnTo>
                  <a:pt x="1235" y="188"/>
                </a:lnTo>
                <a:lnTo>
                  <a:pt x="1185" y="201"/>
                </a:lnTo>
                <a:lnTo>
                  <a:pt x="1135" y="201"/>
                </a:lnTo>
                <a:lnTo>
                  <a:pt x="1084" y="214"/>
                </a:lnTo>
                <a:lnTo>
                  <a:pt x="1021" y="226"/>
                </a:lnTo>
                <a:lnTo>
                  <a:pt x="958" y="239"/>
                </a:lnTo>
                <a:lnTo>
                  <a:pt x="895" y="239"/>
                </a:lnTo>
                <a:lnTo>
                  <a:pt x="832" y="251"/>
                </a:lnTo>
                <a:lnTo>
                  <a:pt x="756" y="264"/>
                </a:lnTo>
                <a:lnTo>
                  <a:pt x="693" y="264"/>
                </a:lnTo>
                <a:lnTo>
                  <a:pt x="618" y="277"/>
                </a:lnTo>
                <a:lnTo>
                  <a:pt x="542" y="289"/>
                </a:lnTo>
                <a:lnTo>
                  <a:pt x="454" y="302"/>
                </a:lnTo>
                <a:lnTo>
                  <a:pt x="366" y="314"/>
                </a:lnTo>
                <a:lnTo>
                  <a:pt x="277" y="327"/>
                </a:lnTo>
                <a:lnTo>
                  <a:pt x="189" y="339"/>
                </a:lnTo>
                <a:lnTo>
                  <a:pt x="101" y="339"/>
                </a:lnTo>
                <a:lnTo>
                  <a:pt x="0" y="352"/>
                </a:lnTo>
                <a:lnTo>
                  <a:pt x="0" y="226"/>
                </a:lnTo>
                <a:lnTo>
                  <a:pt x="88" y="214"/>
                </a:lnTo>
                <a:lnTo>
                  <a:pt x="177" y="201"/>
                </a:lnTo>
                <a:lnTo>
                  <a:pt x="277" y="188"/>
                </a:lnTo>
                <a:lnTo>
                  <a:pt x="391" y="176"/>
                </a:lnTo>
                <a:lnTo>
                  <a:pt x="504" y="151"/>
                </a:lnTo>
                <a:lnTo>
                  <a:pt x="630" y="126"/>
                </a:lnTo>
                <a:lnTo>
                  <a:pt x="769" y="100"/>
                </a:lnTo>
                <a:lnTo>
                  <a:pt x="908" y="88"/>
                </a:lnTo>
                <a:lnTo>
                  <a:pt x="971" y="75"/>
                </a:lnTo>
                <a:lnTo>
                  <a:pt x="1046" y="63"/>
                </a:lnTo>
                <a:lnTo>
                  <a:pt x="1109" y="50"/>
                </a:lnTo>
                <a:lnTo>
                  <a:pt x="1160" y="37"/>
                </a:lnTo>
                <a:lnTo>
                  <a:pt x="1223" y="37"/>
                </a:lnTo>
                <a:lnTo>
                  <a:pt x="1273" y="25"/>
                </a:lnTo>
                <a:lnTo>
                  <a:pt x="1311" y="25"/>
                </a:lnTo>
                <a:lnTo>
                  <a:pt x="1349" y="12"/>
                </a:lnTo>
                <a:lnTo>
                  <a:pt x="1387" y="12"/>
                </a:lnTo>
                <a:lnTo>
                  <a:pt x="1424" y="12"/>
                </a:lnTo>
                <a:lnTo>
                  <a:pt x="1450" y="0"/>
                </a:lnTo>
                <a:lnTo>
                  <a:pt x="1475" y="0"/>
                </a:lnTo>
                <a:lnTo>
                  <a:pt x="1500" y="0"/>
                </a:lnTo>
                <a:lnTo>
                  <a:pt x="1513" y="12"/>
                </a:lnTo>
                <a:lnTo>
                  <a:pt x="1525" y="12"/>
                </a:lnTo>
                <a:lnTo>
                  <a:pt x="1538" y="12"/>
                </a:lnTo>
                <a:lnTo>
                  <a:pt x="1550" y="25"/>
                </a:lnTo>
                <a:lnTo>
                  <a:pt x="1563" y="50"/>
                </a:lnTo>
                <a:lnTo>
                  <a:pt x="1576" y="75"/>
                </a:lnTo>
                <a:lnTo>
                  <a:pt x="1576" y="10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15"/>
          <p:cNvSpPr/>
          <p:nvPr/>
        </p:nvSpPr>
        <p:spPr>
          <a:xfrm>
            <a:off x="3778200" y="2413080"/>
            <a:ext cx="327240" cy="614160"/>
          </a:xfrm>
          <a:custGeom>
            <a:avLst/>
            <a:gdLst/>
            <a:ahLst/>
            <a:rect l="l" t="t" r="r" b="b"/>
            <a:pathLst>
              <a:path w="517" h="969">
                <a:moveTo>
                  <a:pt x="63" y="151"/>
                </a:moveTo>
                <a:lnTo>
                  <a:pt x="38" y="126"/>
                </a:lnTo>
                <a:lnTo>
                  <a:pt x="25" y="113"/>
                </a:lnTo>
                <a:lnTo>
                  <a:pt x="13" y="101"/>
                </a:lnTo>
                <a:lnTo>
                  <a:pt x="13" y="88"/>
                </a:lnTo>
                <a:lnTo>
                  <a:pt x="0" y="76"/>
                </a:lnTo>
                <a:lnTo>
                  <a:pt x="0" y="63"/>
                </a:lnTo>
                <a:lnTo>
                  <a:pt x="0" y="38"/>
                </a:lnTo>
                <a:lnTo>
                  <a:pt x="0" y="25"/>
                </a:lnTo>
                <a:lnTo>
                  <a:pt x="13" y="13"/>
                </a:lnTo>
                <a:lnTo>
                  <a:pt x="25" y="13"/>
                </a:lnTo>
                <a:lnTo>
                  <a:pt x="50" y="0"/>
                </a:lnTo>
                <a:lnTo>
                  <a:pt x="101" y="0"/>
                </a:lnTo>
                <a:lnTo>
                  <a:pt x="139" y="0"/>
                </a:lnTo>
                <a:lnTo>
                  <a:pt x="189" y="13"/>
                </a:lnTo>
                <a:lnTo>
                  <a:pt x="252" y="25"/>
                </a:lnTo>
                <a:lnTo>
                  <a:pt x="328" y="38"/>
                </a:lnTo>
                <a:lnTo>
                  <a:pt x="340" y="151"/>
                </a:lnTo>
                <a:lnTo>
                  <a:pt x="366" y="264"/>
                </a:lnTo>
                <a:lnTo>
                  <a:pt x="391" y="378"/>
                </a:lnTo>
                <a:lnTo>
                  <a:pt x="429" y="491"/>
                </a:lnTo>
                <a:lnTo>
                  <a:pt x="441" y="541"/>
                </a:lnTo>
                <a:lnTo>
                  <a:pt x="454" y="592"/>
                </a:lnTo>
                <a:lnTo>
                  <a:pt x="479" y="642"/>
                </a:lnTo>
                <a:lnTo>
                  <a:pt x="492" y="692"/>
                </a:lnTo>
                <a:lnTo>
                  <a:pt x="492" y="730"/>
                </a:lnTo>
                <a:lnTo>
                  <a:pt x="504" y="768"/>
                </a:lnTo>
                <a:lnTo>
                  <a:pt x="504" y="806"/>
                </a:lnTo>
                <a:lnTo>
                  <a:pt x="517" y="843"/>
                </a:lnTo>
                <a:lnTo>
                  <a:pt x="517" y="869"/>
                </a:lnTo>
                <a:lnTo>
                  <a:pt x="517" y="894"/>
                </a:lnTo>
                <a:lnTo>
                  <a:pt x="504" y="919"/>
                </a:lnTo>
                <a:lnTo>
                  <a:pt x="504" y="932"/>
                </a:lnTo>
                <a:lnTo>
                  <a:pt x="504" y="944"/>
                </a:lnTo>
                <a:lnTo>
                  <a:pt x="492" y="957"/>
                </a:lnTo>
                <a:lnTo>
                  <a:pt x="479" y="957"/>
                </a:lnTo>
                <a:lnTo>
                  <a:pt x="466" y="969"/>
                </a:lnTo>
                <a:lnTo>
                  <a:pt x="454" y="957"/>
                </a:lnTo>
                <a:lnTo>
                  <a:pt x="441" y="944"/>
                </a:lnTo>
                <a:lnTo>
                  <a:pt x="429" y="944"/>
                </a:lnTo>
                <a:lnTo>
                  <a:pt x="416" y="932"/>
                </a:lnTo>
                <a:lnTo>
                  <a:pt x="416" y="906"/>
                </a:lnTo>
                <a:lnTo>
                  <a:pt x="403" y="894"/>
                </a:lnTo>
                <a:lnTo>
                  <a:pt x="391" y="869"/>
                </a:lnTo>
                <a:lnTo>
                  <a:pt x="378" y="843"/>
                </a:lnTo>
                <a:lnTo>
                  <a:pt x="366" y="818"/>
                </a:lnTo>
                <a:lnTo>
                  <a:pt x="353" y="780"/>
                </a:lnTo>
                <a:lnTo>
                  <a:pt x="340" y="743"/>
                </a:lnTo>
                <a:lnTo>
                  <a:pt x="315" y="705"/>
                </a:lnTo>
                <a:lnTo>
                  <a:pt x="303" y="667"/>
                </a:lnTo>
                <a:lnTo>
                  <a:pt x="290" y="629"/>
                </a:lnTo>
                <a:lnTo>
                  <a:pt x="265" y="579"/>
                </a:lnTo>
                <a:lnTo>
                  <a:pt x="252" y="541"/>
                </a:lnTo>
                <a:lnTo>
                  <a:pt x="240" y="491"/>
                </a:lnTo>
                <a:lnTo>
                  <a:pt x="214" y="453"/>
                </a:lnTo>
                <a:lnTo>
                  <a:pt x="202" y="415"/>
                </a:lnTo>
                <a:lnTo>
                  <a:pt x="189" y="378"/>
                </a:lnTo>
                <a:lnTo>
                  <a:pt x="177" y="340"/>
                </a:lnTo>
                <a:lnTo>
                  <a:pt x="164" y="315"/>
                </a:lnTo>
                <a:lnTo>
                  <a:pt x="151" y="277"/>
                </a:lnTo>
                <a:lnTo>
                  <a:pt x="139" y="252"/>
                </a:lnTo>
                <a:lnTo>
                  <a:pt x="126" y="227"/>
                </a:lnTo>
                <a:lnTo>
                  <a:pt x="113" y="214"/>
                </a:lnTo>
                <a:lnTo>
                  <a:pt x="101" y="189"/>
                </a:lnTo>
                <a:lnTo>
                  <a:pt x="88" y="176"/>
                </a:lnTo>
                <a:lnTo>
                  <a:pt x="76" y="164"/>
                </a:lnTo>
                <a:lnTo>
                  <a:pt x="63" y="15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16"/>
          <p:cNvSpPr/>
          <p:nvPr/>
        </p:nvSpPr>
        <p:spPr>
          <a:xfrm>
            <a:off x="3938760" y="2236680"/>
            <a:ext cx="1471320" cy="503280"/>
          </a:xfrm>
          <a:custGeom>
            <a:avLst/>
            <a:gdLst/>
            <a:ahLst/>
            <a:rect l="l" t="t" r="r" b="b"/>
            <a:pathLst>
              <a:path w="2319" h="793">
                <a:moveTo>
                  <a:pt x="1992" y="13"/>
                </a:moveTo>
                <a:lnTo>
                  <a:pt x="2004" y="25"/>
                </a:lnTo>
                <a:lnTo>
                  <a:pt x="2029" y="38"/>
                </a:lnTo>
                <a:lnTo>
                  <a:pt x="2042" y="38"/>
                </a:lnTo>
                <a:lnTo>
                  <a:pt x="2067" y="63"/>
                </a:lnTo>
                <a:lnTo>
                  <a:pt x="2092" y="76"/>
                </a:lnTo>
                <a:lnTo>
                  <a:pt x="2130" y="88"/>
                </a:lnTo>
                <a:lnTo>
                  <a:pt x="2155" y="113"/>
                </a:lnTo>
                <a:lnTo>
                  <a:pt x="2193" y="139"/>
                </a:lnTo>
                <a:lnTo>
                  <a:pt x="2231" y="164"/>
                </a:lnTo>
                <a:lnTo>
                  <a:pt x="2256" y="189"/>
                </a:lnTo>
                <a:lnTo>
                  <a:pt x="2281" y="214"/>
                </a:lnTo>
                <a:lnTo>
                  <a:pt x="2294" y="227"/>
                </a:lnTo>
                <a:lnTo>
                  <a:pt x="2307" y="252"/>
                </a:lnTo>
                <a:lnTo>
                  <a:pt x="2319" y="265"/>
                </a:lnTo>
                <a:lnTo>
                  <a:pt x="2319" y="290"/>
                </a:lnTo>
                <a:lnTo>
                  <a:pt x="2319" y="302"/>
                </a:lnTo>
                <a:lnTo>
                  <a:pt x="2307" y="327"/>
                </a:lnTo>
                <a:lnTo>
                  <a:pt x="2281" y="340"/>
                </a:lnTo>
                <a:lnTo>
                  <a:pt x="2256" y="365"/>
                </a:lnTo>
                <a:lnTo>
                  <a:pt x="2218" y="378"/>
                </a:lnTo>
                <a:lnTo>
                  <a:pt x="2206" y="390"/>
                </a:lnTo>
                <a:lnTo>
                  <a:pt x="2193" y="390"/>
                </a:lnTo>
                <a:lnTo>
                  <a:pt x="2181" y="403"/>
                </a:lnTo>
                <a:lnTo>
                  <a:pt x="2168" y="416"/>
                </a:lnTo>
                <a:lnTo>
                  <a:pt x="2143" y="441"/>
                </a:lnTo>
                <a:lnTo>
                  <a:pt x="2130" y="453"/>
                </a:lnTo>
                <a:lnTo>
                  <a:pt x="2105" y="478"/>
                </a:lnTo>
                <a:lnTo>
                  <a:pt x="2092" y="504"/>
                </a:lnTo>
                <a:lnTo>
                  <a:pt x="2067" y="529"/>
                </a:lnTo>
                <a:lnTo>
                  <a:pt x="2042" y="554"/>
                </a:lnTo>
                <a:lnTo>
                  <a:pt x="2017" y="592"/>
                </a:lnTo>
                <a:lnTo>
                  <a:pt x="1992" y="630"/>
                </a:lnTo>
                <a:lnTo>
                  <a:pt x="1966" y="655"/>
                </a:lnTo>
                <a:lnTo>
                  <a:pt x="1941" y="705"/>
                </a:lnTo>
                <a:lnTo>
                  <a:pt x="1903" y="743"/>
                </a:lnTo>
                <a:lnTo>
                  <a:pt x="1878" y="793"/>
                </a:lnTo>
                <a:lnTo>
                  <a:pt x="1702" y="793"/>
                </a:lnTo>
                <a:lnTo>
                  <a:pt x="1727" y="730"/>
                </a:lnTo>
                <a:lnTo>
                  <a:pt x="1752" y="667"/>
                </a:lnTo>
                <a:lnTo>
                  <a:pt x="1777" y="617"/>
                </a:lnTo>
                <a:lnTo>
                  <a:pt x="1802" y="567"/>
                </a:lnTo>
                <a:lnTo>
                  <a:pt x="1815" y="516"/>
                </a:lnTo>
                <a:lnTo>
                  <a:pt x="1828" y="478"/>
                </a:lnTo>
                <a:lnTo>
                  <a:pt x="1840" y="441"/>
                </a:lnTo>
                <a:lnTo>
                  <a:pt x="1853" y="403"/>
                </a:lnTo>
                <a:lnTo>
                  <a:pt x="1866" y="365"/>
                </a:lnTo>
                <a:lnTo>
                  <a:pt x="1866" y="340"/>
                </a:lnTo>
                <a:lnTo>
                  <a:pt x="1866" y="315"/>
                </a:lnTo>
                <a:lnTo>
                  <a:pt x="1878" y="290"/>
                </a:lnTo>
                <a:lnTo>
                  <a:pt x="1878" y="277"/>
                </a:lnTo>
                <a:lnTo>
                  <a:pt x="1866" y="265"/>
                </a:lnTo>
                <a:lnTo>
                  <a:pt x="1866" y="252"/>
                </a:lnTo>
                <a:lnTo>
                  <a:pt x="1853" y="239"/>
                </a:lnTo>
                <a:lnTo>
                  <a:pt x="1840" y="227"/>
                </a:lnTo>
                <a:lnTo>
                  <a:pt x="1815" y="227"/>
                </a:lnTo>
                <a:lnTo>
                  <a:pt x="1790" y="214"/>
                </a:lnTo>
                <a:lnTo>
                  <a:pt x="1765" y="214"/>
                </a:lnTo>
                <a:lnTo>
                  <a:pt x="1727" y="214"/>
                </a:lnTo>
                <a:lnTo>
                  <a:pt x="1702" y="214"/>
                </a:lnTo>
                <a:lnTo>
                  <a:pt x="1664" y="214"/>
                </a:lnTo>
                <a:lnTo>
                  <a:pt x="1626" y="214"/>
                </a:lnTo>
                <a:lnTo>
                  <a:pt x="1613" y="227"/>
                </a:lnTo>
                <a:lnTo>
                  <a:pt x="1601" y="227"/>
                </a:lnTo>
                <a:lnTo>
                  <a:pt x="1576" y="227"/>
                </a:lnTo>
                <a:lnTo>
                  <a:pt x="1563" y="227"/>
                </a:lnTo>
                <a:lnTo>
                  <a:pt x="1538" y="227"/>
                </a:lnTo>
                <a:lnTo>
                  <a:pt x="1513" y="239"/>
                </a:lnTo>
                <a:lnTo>
                  <a:pt x="1487" y="239"/>
                </a:lnTo>
                <a:lnTo>
                  <a:pt x="1462" y="239"/>
                </a:lnTo>
                <a:lnTo>
                  <a:pt x="1424" y="252"/>
                </a:lnTo>
                <a:lnTo>
                  <a:pt x="1387" y="252"/>
                </a:lnTo>
                <a:lnTo>
                  <a:pt x="1361" y="265"/>
                </a:lnTo>
                <a:lnTo>
                  <a:pt x="1311" y="265"/>
                </a:lnTo>
                <a:lnTo>
                  <a:pt x="1273" y="277"/>
                </a:lnTo>
                <a:lnTo>
                  <a:pt x="1235" y="277"/>
                </a:lnTo>
                <a:lnTo>
                  <a:pt x="1185" y="290"/>
                </a:lnTo>
                <a:lnTo>
                  <a:pt x="1134" y="290"/>
                </a:lnTo>
                <a:lnTo>
                  <a:pt x="1084" y="302"/>
                </a:lnTo>
                <a:lnTo>
                  <a:pt x="1021" y="302"/>
                </a:lnTo>
                <a:lnTo>
                  <a:pt x="971" y="315"/>
                </a:lnTo>
                <a:lnTo>
                  <a:pt x="908" y="327"/>
                </a:lnTo>
                <a:lnTo>
                  <a:pt x="845" y="340"/>
                </a:lnTo>
                <a:lnTo>
                  <a:pt x="782" y="340"/>
                </a:lnTo>
                <a:lnTo>
                  <a:pt x="719" y="353"/>
                </a:lnTo>
                <a:lnTo>
                  <a:pt x="656" y="365"/>
                </a:lnTo>
                <a:lnTo>
                  <a:pt x="580" y="378"/>
                </a:lnTo>
                <a:lnTo>
                  <a:pt x="504" y="390"/>
                </a:lnTo>
                <a:lnTo>
                  <a:pt x="429" y="403"/>
                </a:lnTo>
                <a:lnTo>
                  <a:pt x="340" y="416"/>
                </a:lnTo>
                <a:lnTo>
                  <a:pt x="265" y="428"/>
                </a:lnTo>
                <a:lnTo>
                  <a:pt x="177" y="428"/>
                </a:lnTo>
                <a:lnTo>
                  <a:pt x="88" y="441"/>
                </a:lnTo>
                <a:lnTo>
                  <a:pt x="0" y="466"/>
                </a:lnTo>
                <a:lnTo>
                  <a:pt x="0" y="315"/>
                </a:lnTo>
                <a:lnTo>
                  <a:pt x="88" y="302"/>
                </a:lnTo>
                <a:lnTo>
                  <a:pt x="177" y="290"/>
                </a:lnTo>
                <a:lnTo>
                  <a:pt x="252" y="277"/>
                </a:lnTo>
                <a:lnTo>
                  <a:pt x="340" y="265"/>
                </a:lnTo>
                <a:lnTo>
                  <a:pt x="416" y="252"/>
                </a:lnTo>
                <a:lnTo>
                  <a:pt x="492" y="239"/>
                </a:lnTo>
                <a:lnTo>
                  <a:pt x="567" y="239"/>
                </a:lnTo>
                <a:lnTo>
                  <a:pt x="630" y="227"/>
                </a:lnTo>
                <a:lnTo>
                  <a:pt x="706" y="214"/>
                </a:lnTo>
                <a:lnTo>
                  <a:pt x="769" y="202"/>
                </a:lnTo>
                <a:lnTo>
                  <a:pt x="832" y="189"/>
                </a:lnTo>
                <a:lnTo>
                  <a:pt x="895" y="189"/>
                </a:lnTo>
                <a:lnTo>
                  <a:pt x="945" y="176"/>
                </a:lnTo>
                <a:lnTo>
                  <a:pt x="1008" y="164"/>
                </a:lnTo>
                <a:lnTo>
                  <a:pt x="1059" y="164"/>
                </a:lnTo>
                <a:lnTo>
                  <a:pt x="1109" y="151"/>
                </a:lnTo>
                <a:lnTo>
                  <a:pt x="1160" y="139"/>
                </a:lnTo>
                <a:lnTo>
                  <a:pt x="1198" y="139"/>
                </a:lnTo>
                <a:lnTo>
                  <a:pt x="1248" y="126"/>
                </a:lnTo>
                <a:lnTo>
                  <a:pt x="1286" y="126"/>
                </a:lnTo>
                <a:lnTo>
                  <a:pt x="1324" y="113"/>
                </a:lnTo>
                <a:lnTo>
                  <a:pt x="1361" y="113"/>
                </a:lnTo>
                <a:lnTo>
                  <a:pt x="1399" y="101"/>
                </a:lnTo>
                <a:lnTo>
                  <a:pt x="1424" y="101"/>
                </a:lnTo>
                <a:lnTo>
                  <a:pt x="1450" y="101"/>
                </a:lnTo>
                <a:lnTo>
                  <a:pt x="1475" y="88"/>
                </a:lnTo>
                <a:lnTo>
                  <a:pt x="1500" y="88"/>
                </a:lnTo>
                <a:lnTo>
                  <a:pt x="1525" y="88"/>
                </a:lnTo>
                <a:lnTo>
                  <a:pt x="1538" y="88"/>
                </a:lnTo>
                <a:lnTo>
                  <a:pt x="1563" y="88"/>
                </a:lnTo>
                <a:lnTo>
                  <a:pt x="1576" y="76"/>
                </a:lnTo>
                <a:lnTo>
                  <a:pt x="1651" y="63"/>
                </a:lnTo>
                <a:lnTo>
                  <a:pt x="1727" y="51"/>
                </a:lnTo>
                <a:lnTo>
                  <a:pt x="1777" y="38"/>
                </a:lnTo>
                <a:lnTo>
                  <a:pt x="1828" y="25"/>
                </a:lnTo>
                <a:lnTo>
                  <a:pt x="1878" y="13"/>
                </a:lnTo>
                <a:lnTo>
                  <a:pt x="1916" y="0"/>
                </a:lnTo>
                <a:lnTo>
                  <a:pt x="1954" y="13"/>
                </a:lnTo>
                <a:lnTo>
                  <a:pt x="1992" y="1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17"/>
          <p:cNvSpPr/>
          <p:nvPr/>
        </p:nvSpPr>
        <p:spPr>
          <a:xfrm>
            <a:off x="4033800" y="2676600"/>
            <a:ext cx="1192320" cy="255600"/>
          </a:xfrm>
          <a:custGeom>
            <a:avLst/>
            <a:gdLst/>
            <a:ahLst/>
            <a:rect l="l" t="t" r="r" b="b"/>
            <a:pathLst>
              <a:path w="1878" h="403">
                <a:moveTo>
                  <a:pt x="0" y="240"/>
                </a:moveTo>
                <a:lnTo>
                  <a:pt x="265" y="202"/>
                </a:lnTo>
                <a:lnTo>
                  <a:pt x="517" y="164"/>
                </a:lnTo>
                <a:lnTo>
                  <a:pt x="782" y="126"/>
                </a:lnTo>
                <a:lnTo>
                  <a:pt x="1047" y="76"/>
                </a:lnTo>
                <a:lnTo>
                  <a:pt x="1110" y="76"/>
                </a:lnTo>
                <a:lnTo>
                  <a:pt x="1173" y="63"/>
                </a:lnTo>
                <a:lnTo>
                  <a:pt x="1236" y="51"/>
                </a:lnTo>
                <a:lnTo>
                  <a:pt x="1286" y="51"/>
                </a:lnTo>
                <a:lnTo>
                  <a:pt x="1336" y="38"/>
                </a:lnTo>
                <a:lnTo>
                  <a:pt x="1387" y="38"/>
                </a:lnTo>
                <a:lnTo>
                  <a:pt x="1437" y="26"/>
                </a:lnTo>
                <a:lnTo>
                  <a:pt x="1475" y="26"/>
                </a:lnTo>
                <a:lnTo>
                  <a:pt x="1525" y="13"/>
                </a:lnTo>
                <a:lnTo>
                  <a:pt x="1551" y="13"/>
                </a:lnTo>
                <a:lnTo>
                  <a:pt x="1588" y="13"/>
                </a:lnTo>
                <a:lnTo>
                  <a:pt x="1614" y="13"/>
                </a:lnTo>
                <a:lnTo>
                  <a:pt x="1639" y="0"/>
                </a:lnTo>
                <a:lnTo>
                  <a:pt x="1664" y="0"/>
                </a:lnTo>
                <a:lnTo>
                  <a:pt x="1677" y="0"/>
                </a:lnTo>
                <a:lnTo>
                  <a:pt x="1702" y="0"/>
                </a:lnTo>
                <a:lnTo>
                  <a:pt x="1752" y="0"/>
                </a:lnTo>
                <a:lnTo>
                  <a:pt x="1790" y="13"/>
                </a:lnTo>
                <a:lnTo>
                  <a:pt x="1828" y="26"/>
                </a:lnTo>
                <a:lnTo>
                  <a:pt x="1841" y="51"/>
                </a:lnTo>
                <a:lnTo>
                  <a:pt x="1866" y="76"/>
                </a:lnTo>
                <a:lnTo>
                  <a:pt x="1878" y="101"/>
                </a:lnTo>
                <a:lnTo>
                  <a:pt x="1878" y="126"/>
                </a:lnTo>
                <a:lnTo>
                  <a:pt x="1878" y="139"/>
                </a:lnTo>
                <a:lnTo>
                  <a:pt x="1878" y="152"/>
                </a:lnTo>
                <a:lnTo>
                  <a:pt x="1878" y="164"/>
                </a:lnTo>
                <a:lnTo>
                  <a:pt x="1866" y="177"/>
                </a:lnTo>
                <a:lnTo>
                  <a:pt x="1841" y="177"/>
                </a:lnTo>
                <a:lnTo>
                  <a:pt x="1815" y="177"/>
                </a:lnTo>
                <a:lnTo>
                  <a:pt x="1790" y="189"/>
                </a:lnTo>
                <a:lnTo>
                  <a:pt x="1765" y="189"/>
                </a:lnTo>
                <a:lnTo>
                  <a:pt x="1715" y="189"/>
                </a:lnTo>
                <a:lnTo>
                  <a:pt x="1639" y="189"/>
                </a:lnTo>
                <a:lnTo>
                  <a:pt x="1551" y="189"/>
                </a:lnTo>
                <a:lnTo>
                  <a:pt x="1462" y="202"/>
                </a:lnTo>
                <a:lnTo>
                  <a:pt x="1374" y="202"/>
                </a:lnTo>
                <a:lnTo>
                  <a:pt x="1336" y="214"/>
                </a:lnTo>
                <a:lnTo>
                  <a:pt x="1311" y="214"/>
                </a:lnTo>
                <a:lnTo>
                  <a:pt x="1261" y="214"/>
                </a:lnTo>
                <a:lnTo>
                  <a:pt x="1210" y="227"/>
                </a:lnTo>
                <a:lnTo>
                  <a:pt x="1160" y="227"/>
                </a:lnTo>
                <a:lnTo>
                  <a:pt x="1097" y="240"/>
                </a:lnTo>
                <a:lnTo>
                  <a:pt x="1021" y="252"/>
                </a:lnTo>
                <a:lnTo>
                  <a:pt x="946" y="265"/>
                </a:lnTo>
                <a:lnTo>
                  <a:pt x="857" y="277"/>
                </a:lnTo>
                <a:lnTo>
                  <a:pt x="757" y="290"/>
                </a:lnTo>
                <a:lnTo>
                  <a:pt x="656" y="303"/>
                </a:lnTo>
                <a:lnTo>
                  <a:pt x="555" y="328"/>
                </a:lnTo>
                <a:lnTo>
                  <a:pt x="429" y="340"/>
                </a:lnTo>
                <a:lnTo>
                  <a:pt x="303" y="365"/>
                </a:lnTo>
                <a:lnTo>
                  <a:pt x="177" y="391"/>
                </a:lnTo>
                <a:lnTo>
                  <a:pt x="38" y="403"/>
                </a:lnTo>
                <a:lnTo>
                  <a:pt x="0" y="24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18"/>
          <p:cNvSpPr/>
          <p:nvPr/>
        </p:nvSpPr>
        <p:spPr>
          <a:xfrm>
            <a:off x="4386240" y="1246320"/>
            <a:ext cx="255600" cy="2428920"/>
          </a:xfrm>
          <a:custGeom>
            <a:avLst/>
            <a:gdLst/>
            <a:ahLst/>
            <a:rect l="l" t="t" r="r" b="b"/>
            <a:pathLst>
              <a:path w="403" h="3827">
                <a:moveTo>
                  <a:pt x="38" y="126"/>
                </a:moveTo>
                <a:lnTo>
                  <a:pt x="13" y="101"/>
                </a:lnTo>
                <a:lnTo>
                  <a:pt x="0" y="89"/>
                </a:lnTo>
                <a:lnTo>
                  <a:pt x="0" y="63"/>
                </a:lnTo>
                <a:lnTo>
                  <a:pt x="0" y="38"/>
                </a:lnTo>
                <a:lnTo>
                  <a:pt x="0" y="26"/>
                </a:lnTo>
                <a:lnTo>
                  <a:pt x="13" y="13"/>
                </a:lnTo>
                <a:lnTo>
                  <a:pt x="25" y="0"/>
                </a:lnTo>
                <a:lnTo>
                  <a:pt x="50" y="0"/>
                </a:lnTo>
                <a:lnTo>
                  <a:pt x="76" y="0"/>
                </a:lnTo>
                <a:lnTo>
                  <a:pt x="101" y="0"/>
                </a:lnTo>
                <a:lnTo>
                  <a:pt x="126" y="13"/>
                </a:lnTo>
                <a:lnTo>
                  <a:pt x="164" y="13"/>
                </a:lnTo>
                <a:lnTo>
                  <a:pt x="202" y="26"/>
                </a:lnTo>
                <a:lnTo>
                  <a:pt x="227" y="38"/>
                </a:lnTo>
                <a:lnTo>
                  <a:pt x="265" y="51"/>
                </a:lnTo>
                <a:lnTo>
                  <a:pt x="290" y="63"/>
                </a:lnTo>
                <a:lnTo>
                  <a:pt x="315" y="76"/>
                </a:lnTo>
                <a:lnTo>
                  <a:pt x="340" y="89"/>
                </a:lnTo>
                <a:lnTo>
                  <a:pt x="353" y="101"/>
                </a:lnTo>
                <a:lnTo>
                  <a:pt x="378" y="126"/>
                </a:lnTo>
                <a:lnTo>
                  <a:pt x="391" y="139"/>
                </a:lnTo>
                <a:lnTo>
                  <a:pt x="403" y="151"/>
                </a:lnTo>
                <a:lnTo>
                  <a:pt x="403" y="177"/>
                </a:lnTo>
                <a:lnTo>
                  <a:pt x="403" y="202"/>
                </a:lnTo>
                <a:lnTo>
                  <a:pt x="403" y="240"/>
                </a:lnTo>
                <a:lnTo>
                  <a:pt x="403" y="277"/>
                </a:lnTo>
                <a:lnTo>
                  <a:pt x="403" y="303"/>
                </a:lnTo>
                <a:lnTo>
                  <a:pt x="391" y="340"/>
                </a:lnTo>
                <a:lnTo>
                  <a:pt x="391" y="378"/>
                </a:lnTo>
                <a:lnTo>
                  <a:pt x="378" y="403"/>
                </a:lnTo>
                <a:lnTo>
                  <a:pt x="378" y="454"/>
                </a:lnTo>
                <a:lnTo>
                  <a:pt x="365" y="504"/>
                </a:lnTo>
                <a:lnTo>
                  <a:pt x="365" y="567"/>
                </a:lnTo>
                <a:lnTo>
                  <a:pt x="365" y="630"/>
                </a:lnTo>
                <a:lnTo>
                  <a:pt x="353" y="718"/>
                </a:lnTo>
                <a:lnTo>
                  <a:pt x="353" y="806"/>
                </a:lnTo>
                <a:lnTo>
                  <a:pt x="353" y="907"/>
                </a:lnTo>
                <a:lnTo>
                  <a:pt x="353" y="1020"/>
                </a:lnTo>
                <a:lnTo>
                  <a:pt x="353" y="1133"/>
                </a:lnTo>
                <a:lnTo>
                  <a:pt x="353" y="1259"/>
                </a:lnTo>
                <a:lnTo>
                  <a:pt x="340" y="1398"/>
                </a:lnTo>
                <a:lnTo>
                  <a:pt x="340" y="1549"/>
                </a:lnTo>
                <a:lnTo>
                  <a:pt x="340" y="1700"/>
                </a:lnTo>
                <a:lnTo>
                  <a:pt x="340" y="1863"/>
                </a:lnTo>
                <a:lnTo>
                  <a:pt x="340" y="2027"/>
                </a:lnTo>
                <a:lnTo>
                  <a:pt x="340" y="2191"/>
                </a:lnTo>
                <a:lnTo>
                  <a:pt x="340" y="2342"/>
                </a:lnTo>
                <a:lnTo>
                  <a:pt x="340" y="2480"/>
                </a:lnTo>
                <a:lnTo>
                  <a:pt x="340" y="2606"/>
                </a:lnTo>
                <a:lnTo>
                  <a:pt x="340" y="2732"/>
                </a:lnTo>
                <a:lnTo>
                  <a:pt x="340" y="2858"/>
                </a:lnTo>
                <a:lnTo>
                  <a:pt x="340" y="2958"/>
                </a:lnTo>
                <a:lnTo>
                  <a:pt x="328" y="3059"/>
                </a:lnTo>
                <a:lnTo>
                  <a:pt x="328" y="3147"/>
                </a:lnTo>
                <a:lnTo>
                  <a:pt x="328" y="3235"/>
                </a:lnTo>
                <a:lnTo>
                  <a:pt x="328" y="3311"/>
                </a:lnTo>
                <a:lnTo>
                  <a:pt x="328" y="3374"/>
                </a:lnTo>
                <a:lnTo>
                  <a:pt x="315" y="3437"/>
                </a:lnTo>
                <a:lnTo>
                  <a:pt x="315" y="3487"/>
                </a:lnTo>
                <a:lnTo>
                  <a:pt x="315" y="3525"/>
                </a:lnTo>
                <a:lnTo>
                  <a:pt x="302" y="3600"/>
                </a:lnTo>
                <a:lnTo>
                  <a:pt x="302" y="3663"/>
                </a:lnTo>
                <a:lnTo>
                  <a:pt x="290" y="3714"/>
                </a:lnTo>
                <a:lnTo>
                  <a:pt x="277" y="3751"/>
                </a:lnTo>
                <a:lnTo>
                  <a:pt x="265" y="3789"/>
                </a:lnTo>
                <a:lnTo>
                  <a:pt x="265" y="3814"/>
                </a:lnTo>
                <a:lnTo>
                  <a:pt x="252" y="3827"/>
                </a:lnTo>
                <a:lnTo>
                  <a:pt x="239" y="3827"/>
                </a:lnTo>
                <a:lnTo>
                  <a:pt x="227" y="3827"/>
                </a:lnTo>
                <a:lnTo>
                  <a:pt x="227" y="3814"/>
                </a:lnTo>
                <a:lnTo>
                  <a:pt x="227" y="3802"/>
                </a:lnTo>
                <a:lnTo>
                  <a:pt x="214" y="3789"/>
                </a:lnTo>
                <a:lnTo>
                  <a:pt x="214" y="3764"/>
                </a:lnTo>
                <a:lnTo>
                  <a:pt x="202" y="3751"/>
                </a:lnTo>
                <a:lnTo>
                  <a:pt x="202" y="3714"/>
                </a:lnTo>
                <a:lnTo>
                  <a:pt x="202" y="3688"/>
                </a:lnTo>
                <a:lnTo>
                  <a:pt x="189" y="3651"/>
                </a:lnTo>
                <a:lnTo>
                  <a:pt x="189" y="3625"/>
                </a:lnTo>
                <a:lnTo>
                  <a:pt x="189" y="3575"/>
                </a:lnTo>
                <a:lnTo>
                  <a:pt x="176" y="3537"/>
                </a:lnTo>
                <a:lnTo>
                  <a:pt x="176" y="3487"/>
                </a:lnTo>
                <a:lnTo>
                  <a:pt x="164" y="3437"/>
                </a:lnTo>
                <a:lnTo>
                  <a:pt x="164" y="3386"/>
                </a:lnTo>
                <a:lnTo>
                  <a:pt x="164" y="3323"/>
                </a:lnTo>
                <a:lnTo>
                  <a:pt x="151" y="3273"/>
                </a:lnTo>
                <a:lnTo>
                  <a:pt x="151" y="3210"/>
                </a:lnTo>
                <a:lnTo>
                  <a:pt x="151" y="3135"/>
                </a:lnTo>
                <a:lnTo>
                  <a:pt x="139" y="3059"/>
                </a:lnTo>
                <a:lnTo>
                  <a:pt x="139" y="2983"/>
                </a:lnTo>
                <a:lnTo>
                  <a:pt x="139" y="2908"/>
                </a:lnTo>
                <a:lnTo>
                  <a:pt x="139" y="2832"/>
                </a:lnTo>
                <a:lnTo>
                  <a:pt x="139" y="2744"/>
                </a:lnTo>
                <a:lnTo>
                  <a:pt x="139" y="2656"/>
                </a:lnTo>
                <a:lnTo>
                  <a:pt x="139" y="2556"/>
                </a:lnTo>
                <a:lnTo>
                  <a:pt x="126" y="2467"/>
                </a:lnTo>
                <a:lnTo>
                  <a:pt x="126" y="2367"/>
                </a:lnTo>
                <a:lnTo>
                  <a:pt x="126" y="2266"/>
                </a:lnTo>
                <a:lnTo>
                  <a:pt x="126" y="2153"/>
                </a:lnTo>
                <a:lnTo>
                  <a:pt x="139" y="2039"/>
                </a:lnTo>
                <a:lnTo>
                  <a:pt x="139" y="1939"/>
                </a:lnTo>
                <a:lnTo>
                  <a:pt x="139" y="1826"/>
                </a:lnTo>
                <a:lnTo>
                  <a:pt x="139" y="1725"/>
                </a:lnTo>
                <a:lnTo>
                  <a:pt x="139" y="1637"/>
                </a:lnTo>
                <a:lnTo>
                  <a:pt x="139" y="1549"/>
                </a:lnTo>
                <a:lnTo>
                  <a:pt x="139" y="1460"/>
                </a:lnTo>
                <a:lnTo>
                  <a:pt x="139" y="1372"/>
                </a:lnTo>
                <a:lnTo>
                  <a:pt x="139" y="1297"/>
                </a:lnTo>
                <a:lnTo>
                  <a:pt x="139" y="1221"/>
                </a:lnTo>
                <a:lnTo>
                  <a:pt x="139" y="1158"/>
                </a:lnTo>
                <a:lnTo>
                  <a:pt x="139" y="1083"/>
                </a:lnTo>
                <a:lnTo>
                  <a:pt x="139" y="1033"/>
                </a:lnTo>
                <a:lnTo>
                  <a:pt x="139" y="970"/>
                </a:lnTo>
                <a:lnTo>
                  <a:pt x="139" y="919"/>
                </a:lnTo>
                <a:lnTo>
                  <a:pt x="139" y="882"/>
                </a:lnTo>
                <a:lnTo>
                  <a:pt x="139" y="831"/>
                </a:lnTo>
                <a:lnTo>
                  <a:pt x="126" y="768"/>
                </a:lnTo>
                <a:lnTo>
                  <a:pt x="126" y="693"/>
                </a:lnTo>
                <a:lnTo>
                  <a:pt x="126" y="617"/>
                </a:lnTo>
                <a:lnTo>
                  <a:pt x="126" y="554"/>
                </a:lnTo>
                <a:lnTo>
                  <a:pt x="113" y="504"/>
                </a:lnTo>
                <a:lnTo>
                  <a:pt x="113" y="441"/>
                </a:lnTo>
                <a:lnTo>
                  <a:pt x="113" y="391"/>
                </a:lnTo>
                <a:lnTo>
                  <a:pt x="113" y="340"/>
                </a:lnTo>
                <a:lnTo>
                  <a:pt x="101" y="303"/>
                </a:lnTo>
                <a:lnTo>
                  <a:pt x="101" y="265"/>
                </a:lnTo>
                <a:lnTo>
                  <a:pt x="88" y="227"/>
                </a:lnTo>
                <a:lnTo>
                  <a:pt x="88" y="202"/>
                </a:lnTo>
                <a:lnTo>
                  <a:pt x="76" y="177"/>
                </a:lnTo>
                <a:lnTo>
                  <a:pt x="63" y="151"/>
                </a:lnTo>
                <a:lnTo>
                  <a:pt x="50" y="139"/>
                </a:lnTo>
                <a:lnTo>
                  <a:pt x="38" y="12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图片 1" descr=""/>
          <p:cNvPicPr/>
          <p:nvPr/>
        </p:nvPicPr>
        <p:blipFill>
          <a:blip r:embed="rId2"/>
          <a:stretch/>
        </p:blipFill>
        <p:spPr>
          <a:xfrm>
            <a:off x="339840" y="4435560"/>
            <a:ext cx="848520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38"/>
          <p:cNvGrpSpPr/>
          <p:nvPr/>
        </p:nvGrpSpPr>
        <p:grpSpPr>
          <a:xfrm>
            <a:off x="3322800" y="1182600"/>
            <a:ext cx="2541600" cy="2538360"/>
            <a:chOff x="3322800" y="1182600"/>
            <a:chExt cx="2541600" cy="2538360"/>
          </a:xfrm>
        </p:grpSpPr>
        <p:sp>
          <p:nvSpPr>
            <p:cNvPr id="190" name="直接连接符 3"/>
            <p:cNvSpPr/>
            <p:nvPr/>
          </p:nvSpPr>
          <p:spPr>
            <a:xfrm>
              <a:off x="3344760" y="2449440"/>
              <a:ext cx="2519640" cy="14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直接连接符 4"/>
            <p:cNvSpPr/>
            <p:nvPr/>
          </p:nvSpPr>
          <p:spPr>
            <a:xfrm flipH="1">
              <a:off x="4570560" y="1182600"/>
              <a:ext cx="1440" cy="25196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1"/>
            <p:cNvSpPr/>
            <p:nvPr/>
          </p:nvSpPr>
          <p:spPr>
            <a:xfrm>
              <a:off x="3322800" y="1201320"/>
              <a:ext cx="2519640" cy="2519640"/>
            </a:xfrm>
            <a:prstGeom prst="rect">
              <a:avLst/>
            </a:prstGeom>
            <a:noFill/>
            <a:ln w="25560">
              <a:solidFill>
                <a:srgbClr val="2e75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Freeform 8"/>
          <p:cNvSpPr/>
          <p:nvPr/>
        </p:nvSpPr>
        <p:spPr>
          <a:xfrm>
            <a:off x="3998880" y="1468440"/>
            <a:ext cx="239760" cy="901800"/>
          </a:xfrm>
          <a:custGeom>
            <a:avLst/>
            <a:gdLst/>
            <a:ahLst/>
            <a:rect l="l" t="t" r="r" b="b"/>
            <a:pathLst>
              <a:path w="378" h="1422">
                <a:moveTo>
                  <a:pt x="13" y="25"/>
                </a:moveTo>
                <a:lnTo>
                  <a:pt x="25" y="12"/>
                </a:lnTo>
                <a:lnTo>
                  <a:pt x="51" y="12"/>
                </a:lnTo>
                <a:lnTo>
                  <a:pt x="63" y="0"/>
                </a:lnTo>
                <a:lnTo>
                  <a:pt x="88" y="0"/>
                </a:lnTo>
                <a:lnTo>
                  <a:pt x="114" y="0"/>
                </a:lnTo>
                <a:lnTo>
                  <a:pt x="139" y="12"/>
                </a:lnTo>
                <a:lnTo>
                  <a:pt x="164" y="12"/>
                </a:lnTo>
                <a:lnTo>
                  <a:pt x="202" y="25"/>
                </a:lnTo>
                <a:lnTo>
                  <a:pt x="227" y="25"/>
                </a:lnTo>
                <a:lnTo>
                  <a:pt x="252" y="37"/>
                </a:lnTo>
                <a:lnTo>
                  <a:pt x="277" y="50"/>
                </a:lnTo>
                <a:lnTo>
                  <a:pt x="303" y="62"/>
                </a:lnTo>
                <a:lnTo>
                  <a:pt x="328" y="62"/>
                </a:lnTo>
                <a:lnTo>
                  <a:pt x="340" y="75"/>
                </a:lnTo>
                <a:lnTo>
                  <a:pt x="353" y="88"/>
                </a:lnTo>
                <a:lnTo>
                  <a:pt x="366" y="100"/>
                </a:lnTo>
                <a:lnTo>
                  <a:pt x="378" y="138"/>
                </a:lnTo>
                <a:lnTo>
                  <a:pt x="378" y="163"/>
                </a:lnTo>
                <a:lnTo>
                  <a:pt x="378" y="201"/>
                </a:lnTo>
                <a:lnTo>
                  <a:pt x="366" y="239"/>
                </a:lnTo>
                <a:lnTo>
                  <a:pt x="366" y="251"/>
                </a:lnTo>
                <a:lnTo>
                  <a:pt x="366" y="276"/>
                </a:lnTo>
                <a:lnTo>
                  <a:pt x="366" y="302"/>
                </a:lnTo>
                <a:lnTo>
                  <a:pt x="353" y="339"/>
                </a:lnTo>
                <a:lnTo>
                  <a:pt x="353" y="390"/>
                </a:lnTo>
                <a:lnTo>
                  <a:pt x="353" y="440"/>
                </a:lnTo>
                <a:lnTo>
                  <a:pt x="353" y="503"/>
                </a:lnTo>
                <a:lnTo>
                  <a:pt x="353" y="566"/>
                </a:lnTo>
                <a:lnTo>
                  <a:pt x="353" y="654"/>
                </a:lnTo>
                <a:lnTo>
                  <a:pt x="353" y="742"/>
                </a:lnTo>
                <a:lnTo>
                  <a:pt x="353" y="830"/>
                </a:lnTo>
                <a:lnTo>
                  <a:pt x="340" y="931"/>
                </a:lnTo>
                <a:lnTo>
                  <a:pt x="340" y="1044"/>
                </a:lnTo>
                <a:lnTo>
                  <a:pt x="340" y="1157"/>
                </a:lnTo>
                <a:lnTo>
                  <a:pt x="340" y="1283"/>
                </a:lnTo>
                <a:lnTo>
                  <a:pt x="340" y="1422"/>
                </a:lnTo>
                <a:lnTo>
                  <a:pt x="151" y="1422"/>
                </a:lnTo>
                <a:lnTo>
                  <a:pt x="151" y="1296"/>
                </a:lnTo>
                <a:lnTo>
                  <a:pt x="151" y="1183"/>
                </a:lnTo>
                <a:lnTo>
                  <a:pt x="151" y="1069"/>
                </a:lnTo>
                <a:lnTo>
                  <a:pt x="151" y="956"/>
                </a:lnTo>
                <a:lnTo>
                  <a:pt x="151" y="843"/>
                </a:lnTo>
                <a:lnTo>
                  <a:pt x="139" y="742"/>
                </a:lnTo>
                <a:lnTo>
                  <a:pt x="139" y="641"/>
                </a:lnTo>
                <a:lnTo>
                  <a:pt x="139" y="541"/>
                </a:lnTo>
                <a:lnTo>
                  <a:pt x="126" y="490"/>
                </a:lnTo>
                <a:lnTo>
                  <a:pt x="126" y="453"/>
                </a:lnTo>
                <a:lnTo>
                  <a:pt x="126" y="415"/>
                </a:lnTo>
                <a:lnTo>
                  <a:pt x="126" y="377"/>
                </a:lnTo>
                <a:lnTo>
                  <a:pt x="114" y="339"/>
                </a:lnTo>
                <a:lnTo>
                  <a:pt x="114" y="302"/>
                </a:lnTo>
                <a:lnTo>
                  <a:pt x="101" y="276"/>
                </a:lnTo>
                <a:lnTo>
                  <a:pt x="101" y="239"/>
                </a:lnTo>
                <a:lnTo>
                  <a:pt x="88" y="213"/>
                </a:lnTo>
                <a:lnTo>
                  <a:pt x="88" y="188"/>
                </a:lnTo>
                <a:lnTo>
                  <a:pt x="76" y="176"/>
                </a:lnTo>
                <a:lnTo>
                  <a:pt x="76" y="151"/>
                </a:lnTo>
                <a:lnTo>
                  <a:pt x="63" y="138"/>
                </a:lnTo>
                <a:lnTo>
                  <a:pt x="63" y="125"/>
                </a:lnTo>
                <a:lnTo>
                  <a:pt x="51" y="113"/>
                </a:lnTo>
                <a:lnTo>
                  <a:pt x="38" y="100"/>
                </a:lnTo>
                <a:lnTo>
                  <a:pt x="25" y="88"/>
                </a:lnTo>
                <a:lnTo>
                  <a:pt x="13" y="75"/>
                </a:lnTo>
                <a:lnTo>
                  <a:pt x="0" y="62"/>
                </a:lnTo>
                <a:lnTo>
                  <a:pt x="0" y="50"/>
                </a:lnTo>
                <a:lnTo>
                  <a:pt x="0" y="37"/>
                </a:lnTo>
                <a:lnTo>
                  <a:pt x="13" y="2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9"/>
          <p:cNvSpPr/>
          <p:nvPr/>
        </p:nvSpPr>
        <p:spPr>
          <a:xfrm>
            <a:off x="3743280" y="1898640"/>
            <a:ext cx="743040" cy="223920"/>
          </a:xfrm>
          <a:custGeom>
            <a:avLst/>
            <a:gdLst/>
            <a:ahLst/>
            <a:rect l="l" t="t" r="r" b="b"/>
            <a:pathLst>
              <a:path w="1172" h="353">
                <a:moveTo>
                  <a:pt x="743" y="239"/>
                </a:moveTo>
                <a:lnTo>
                  <a:pt x="693" y="252"/>
                </a:lnTo>
                <a:lnTo>
                  <a:pt x="630" y="277"/>
                </a:lnTo>
                <a:lnTo>
                  <a:pt x="592" y="277"/>
                </a:lnTo>
                <a:lnTo>
                  <a:pt x="542" y="290"/>
                </a:lnTo>
                <a:lnTo>
                  <a:pt x="491" y="302"/>
                </a:lnTo>
                <a:lnTo>
                  <a:pt x="454" y="315"/>
                </a:lnTo>
                <a:lnTo>
                  <a:pt x="416" y="315"/>
                </a:lnTo>
                <a:lnTo>
                  <a:pt x="391" y="327"/>
                </a:lnTo>
                <a:lnTo>
                  <a:pt x="353" y="327"/>
                </a:lnTo>
                <a:lnTo>
                  <a:pt x="328" y="340"/>
                </a:lnTo>
                <a:lnTo>
                  <a:pt x="302" y="340"/>
                </a:lnTo>
                <a:lnTo>
                  <a:pt x="277" y="353"/>
                </a:lnTo>
                <a:lnTo>
                  <a:pt x="252" y="353"/>
                </a:lnTo>
                <a:lnTo>
                  <a:pt x="239" y="353"/>
                </a:lnTo>
                <a:lnTo>
                  <a:pt x="227" y="353"/>
                </a:lnTo>
                <a:lnTo>
                  <a:pt x="214" y="353"/>
                </a:lnTo>
                <a:lnTo>
                  <a:pt x="164" y="353"/>
                </a:lnTo>
                <a:lnTo>
                  <a:pt x="126" y="340"/>
                </a:lnTo>
                <a:lnTo>
                  <a:pt x="88" y="340"/>
                </a:lnTo>
                <a:lnTo>
                  <a:pt x="63" y="327"/>
                </a:lnTo>
                <a:lnTo>
                  <a:pt x="38" y="302"/>
                </a:lnTo>
                <a:lnTo>
                  <a:pt x="12" y="290"/>
                </a:lnTo>
                <a:lnTo>
                  <a:pt x="0" y="277"/>
                </a:lnTo>
                <a:lnTo>
                  <a:pt x="0" y="265"/>
                </a:lnTo>
                <a:lnTo>
                  <a:pt x="12" y="252"/>
                </a:lnTo>
                <a:lnTo>
                  <a:pt x="25" y="252"/>
                </a:lnTo>
                <a:lnTo>
                  <a:pt x="38" y="239"/>
                </a:lnTo>
                <a:lnTo>
                  <a:pt x="63" y="239"/>
                </a:lnTo>
                <a:lnTo>
                  <a:pt x="88" y="227"/>
                </a:lnTo>
                <a:lnTo>
                  <a:pt x="113" y="214"/>
                </a:lnTo>
                <a:lnTo>
                  <a:pt x="138" y="214"/>
                </a:lnTo>
                <a:lnTo>
                  <a:pt x="176" y="202"/>
                </a:lnTo>
                <a:lnTo>
                  <a:pt x="214" y="189"/>
                </a:lnTo>
                <a:lnTo>
                  <a:pt x="252" y="176"/>
                </a:lnTo>
                <a:lnTo>
                  <a:pt x="302" y="164"/>
                </a:lnTo>
                <a:lnTo>
                  <a:pt x="353" y="151"/>
                </a:lnTo>
                <a:lnTo>
                  <a:pt x="403" y="139"/>
                </a:lnTo>
                <a:lnTo>
                  <a:pt x="454" y="126"/>
                </a:lnTo>
                <a:lnTo>
                  <a:pt x="517" y="101"/>
                </a:lnTo>
                <a:lnTo>
                  <a:pt x="567" y="88"/>
                </a:lnTo>
                <a:lnTo>
                  <a:pt x="617" y="76"/>
                </a:lnTo>
                <a:lnTo>
                  <a:pt x="668" y="63"/>
                </a:lnTo>
                <a:lnTo>
                  <a:pt x="718" y="51"/>
                </a:lnTo>
                <a:lnTo>
                  <a:pt x="756" y="51"/>
                </a:lnTo>
                <a:lnTo>
                  <a:pt x="794" y="38"/>
                </a:lnTo>
                <a:lnTo>
                  <a:pt x="832" y="25"/>
                </a:lnTo>
                <a:lnTo>
                  <a:pt x="869" y="25"/>
                </a:lnTo>
                <a:lnTo>
                  <a:pt x="895" y="13"/>
                </a:lnTo>
                <a:lnTo>
                  <a:pt x="933" y="13"/>
                </a:lnTo>
                <a:lnTo>
                  <a:pt x="958" y="13"/>
                </a:lnTo>
                <a:lnTo>
                  <a:pt x="983" y="0"/>
                </a:lnTo>
                <a:lnTo>
                  <a:pt x="1008" y="0"/>
                </a:lnTo>
                <a:lnTo>
                  <a:pt x="1021" y="0"/>
                </a:lnTo>
                <a:lnTo>
                  <a:pt x="1033" y="0"/>
                </a:lnTo>
                <a:lnTo>
                  <a:pt x="1071" y="0"/>
                </a:lnTo>
                <a:lnTo>
                  <a:pt x="1096" y="13"/>
                </a:lnTo>
                <a:lnTo>
                  <a:pt x="1109" y="13"/>
                </a:lnTo>
                <a:lnTo>
                  <a:pt x="1134" y="25"/>
                </a:lnTo>
                <a:lnTo>
                  <a:pt x="1147" y="38"/>
                </a:lnTo>
                <a:lnTo>
                  <a:pt x="1159" y="51"/>
                </a:lnTo>
                <a:lnTo>
                  <a:pt x="1159" y="63"/>
                </a:lnTo>
                <a:lnTo>
                  <a:pt x="1172" y="76"/>
                </a:lnTo>
                <a:lnTo>
                  <a:pt x="1172" y="88"/>
                </a:lnTo>
                <a:lnTo>
                  <a:pt x="1159" y="101"/>
                </a:lnTo>
                <a:lnTo>
                  <a:pt x="1147" y="113"/>
                </a:lnTo>
                <a:lnTo>
                  <a:pt x="1134" y="113"/>
                </a:lnTo>
                <a:lnTo>
                  <a:pt x="1122" y="126"/>
                </a:lnTo>
                <a:lnTo>
                  <a:pt x="1096" y="139"/>
                </a:lnTo>
                <a:lnTo>
                  <a:pt x="1071" y="151"/>
                </a:lnTo>
                <a:lnTo>
                  <a:pt x="1046" y="164"/>
                </a:lnTo>
                <a:lnTo>
                  <a:pt x="1008" y="176"/>
                </a:lnTo>
                <a:lnTo>
                  <a:pt x="970" y="176"/>
                </a:lnTo>
                <a:lnTo>
                  <a:pt x="933" y="189"/>
                </a:lnTo>
                <a:lnTo>
                  <a:pt x="895" y="202"/>
                </a:lnTo>
                <a:lnTo>
                  <a:pt x="844" y="214"/>
                </a:lnTo>
                <a:lnTo>
                  <a:pt x="794" y="227"/>
                </a:lnTo>
                <a:lnTo>
                  <a:pt x="743" y="239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10"/>
          <p:cNvSpPr/>
          <p:nvPr/>
        </p:nvSpPr>
        <p:spPr>
          <a:xfrm>
            <a:off x="4735440" y="1411200"/>
            <a:ext cx="903240" cy="1765440"/>
          </a:xfrm>
          <a:custGeom>
            <a:avLst/>
            <a:gdLst/>
            <a:ahLst/>
            <a:rect l="l" t="t" r="r" b="b"/>
            <a:pathLst>
              <a:path w="1424" h="2782">
                <a:moveTo>
                  <a:pt x="327" y="441"/>
                </a:moveTo>
                <a:lnTo>
                  <a:pt x="327" y="479"/>
                </a:lnTo>
                <a:lnTo>
                  <a:pt x="340" y="504"/>
                </a:lnTo>
                <a:lnTo>
                  <a:pt x="340" y="542"/>
                </a:lnTo>
                <a:lnTo>
                  <a:pt x="353" y="579"/>
                </a:lnTo>
                <a:lnTo>
                  <a:pt x="353" y="617"/>
                </a:lnTo>
                <a:lnTo>
                  <a:pt x="365" y="655"/>
                </a:lnTo>
                <a:lnTo>
                  <a:pt x="378" y="705"/>
                </a:lnTo>
                <a:lnTo>
                  <a:pt x="390" y="756"/>
                </a:lnTo>
                <a:lnTo>
                  <a:pt x="403" y="806"/>
                </a:lnTo>
                <a:lnTo>
                  <a:pt x="416" y="856"/>
                </a:lnTo>
                <a:lnTo>
                  <a:pt x="428" y="907"/>
                </a:lnTo>
                <a:lnTo>
                  <a:pt x="441" y="970"/>
                </a:lnTo>
                <a:lnTo>
                  <a:pt x="453" y="1033"/>
                </a:lnTo>
                <a:lnTo>
                  <a:pt x="466" y="1095"/>
                </a:lnTo>
                <a:lnTo>
                  <a:pt x="491" y="1158"/>
                </a:lnTo>
                <a:lnTo>
                  <a:pt x="504" y="1234"/>
                </a:lnTo>
                <a:lnTo>
                  <a:pt x="529" y="1297"/>
                </a:lnTo>
                <a:lnTo>
                  <a:pt x="542" y="1372"/>
                </a:lnTo>
                <a:lnTo>
                  <a:pt x="567" y="1435"/>
                </a:lnTo>
                <a:lnTo>
                  <a:pt x="579" y="1486"/>
                </a:lnTo>
                <a:lnTo>
                  <a:pt x="605" y="1549"/>
                </a:lnTo>
                <a:lnTo>
                  <a:pt x="617" y="1599"/>
                </a:lnTo>
                <a:lnTo>
                  <a:pt x="643" y="1662"/>
                </a:lnTo>
                <a:lnTo>
                  <a:pt x="655" y="1712"/>
                </a:lnTo>
                <a:lnTo>
                  <a:pt x="668" y="1750"/>
                </a:lnTo>
                <a:lnTo>
                  <a:pt x="693" y="1800"/>
                </a:lnTo>
                <a:lnTo>
                  <a:pt x="706" y="1838"/>
                </a:lnTo>
                <a:lnTo>
                  <a:pt x="731" y="1876"/>
                </a:lnTo>
                <a:lnTo>
                  <a:pt x="743" y="1914"/>
                </a:lnTo>
                <a:lnTo>
                  <a:pt x="769" y="1951"/>
                </a:lnTo>
                <a:lnTo>
                  <a:pt x="781" y="1977"/>
                </a:lnTo>
                <a:lnTo>
                  <a:pt x="806" y="2014"/>
                </a:lnTo>
                <a:lnTo>
                  <a:pt x="844" y="2065"/>
                </a:lnTo>
                <a:lnTo>
                  <a:pt x="869" y="2115"/>
                </a:lnTo>
                <a:lnTo>
                  <a:pt x="907" y="2165"/>
                </a:lnTo>
                <a:lnTo>
                  <a:pt x="945" y="2203"/>
                </a:lnTo>
                <a:lnTo>
                  <a:pt x="970" y="2241"/>
                </a:lnTo>
                <a:lnTo>
                  <a:pt x="995" y="2279"/>
                </a:lnTo>
                <a:lnTo>
                  <a:pt x="1021" y="2304"/>
                </a:lnTo>
                <a:lnTo>
                  <a:pt x="1046" y="2342"/>
                </a:lnTo>
                <a:lnTo>
                  <a:pt x="1071" y="2367"/>
                </a:lnTo>
                <a:lnTo>
                  <a:pt x="1084" y="2379"/>
                </a:lnTo>
                <a:lnTo>
                  <a:pt x="1109" y="2404"/>
                </a:lnTo>
                <a:lnTo>
                  <a:pt x="1121" y="2417"/>
                </a:lnTo>
                <a:lnTo>
                  <a:pt x="1134" y="2430"/>
                </a:lnTo>
                <a:lnTo>
                  <a:pt x="1147" y="2430"/>
                </a:lnTo>
                <a:lnTo>
                  <a:pt x="1159" y="2442"/>
                </a:lnTo>
                <a:lnTo>
                  <a:pt x="1172" y="2442"/>
                </a:lnTo>
                <a:lnTo>
                  <a:pt x="1184" y="2430"/>
                </a:lnTo>
                <a:lnTo>
                  <a:pt x="1197" y="2404"/>
                </a:lnTo>
                <a:lnTo>
                  <a:pt x="1210" y="2392"/>
                </a:lnTo>
                <a:lnTo>
                  <a:pt x="1222" y="2367"/>
                </a:lnTo>
                <a:lnTo>
                  <a:pt x="1235" y="2329"/>
                </a:lnTo>
                <a:lnTo>
                  <a:pt x="1248" y="2291"/>
                </a:lnTo>
                <a:lnTo>
                  <a:pt x="1260" y="2241"/>
                </a:lnTo>
                <a:lnTo>
                  <a:pt x="1285" y="2203"/>
                </a:lnTo>
                <a:lnTo>
                  <a:pt x="1298" y="2165"/>
                </a:lnTo>
                <a:lnTo>
                  <a:pt x="1311" y="2128"/>
                </a:lnTo>
                <a:lnTo>
                  <a:pt x="1323" y="2102"/>
                </a:lnTo>
                <a:lnTo>
                  <a:pt x="1336" y="2090"/>
                </a:lnTo>
                <a:lnTo>
                  <a:pt x="1336" y="2077"/>
                </a:lnTo>
                <a:lnTo>
                  <a:pt x="1348" y="2077"/>
                </a:lnTo>
                <a:lnTo>
                  <a:pt x="1361" y="2077"/>
                </a:lnTo>
                <a:lnTo>
                  <a:pt x="1374" y="2090"/>
                </a:lnTo>
                <a:lnTo>
                  <a:pt x="1374" y="2115"/>
                </a:lnTo>
                <a:lnTo>
                  <a:pt x="1386" y="2140"/>
                </a:lnTo>
                <a:lnTo>
                  <a:pt x="1386" y="2165"/>
                </a:lnTo>
                <a:lnTo>
                  <a:pt x="1386" y="2203"/>
                </a:lnTo>
                <a:lnTo>
                  <a:pt x="1386" y="2241"/>
                </a:lnTo>
                <a:lnTo>
                  <a:pt x="1386" y="2291"/>
                </a:lnTo>
                <a:lnTo>
                  <a:pt x="1386" y="2342"/>
                </a:lnTo>
                <a:lnTo>
                  <a:pt x="1386" y="2392"/>
                </a:lnTo>
                <a:lnTo>
                  <a:pt x="1386" y="2430"/>
                </a:lnTo>
                <a:lnTo>
                  <a:pt x="1386" y="2467"/>
                </a:lnTo>
                <a:lnTo>
                  <a:pt x="1386" y="2505"/>
                </a:lnTo>
                <a:lnTo>
                  <a:pt x="1399" y="2543"/>
                </a:lnTo>
                <a:lnTo>
                  <a:pt x="1399" y="2568"/>
                </a:lnTo>
                <a:lnTo>
                  <a:pt x="1411" y="2593"/>
                </a:lnTo>
                <a:lnTo>
                  <a:pt x="1424" y="2644"/>
                </a:lnTo>
                <a:lnTo>
                  <a:pt x="1424" y="2681"/>
                </a:lnTo>
                <a:lnTo>
                  <a:pt x="1424" y="2719"/>
                </a:lnTo>
                <a:lnTo>
                  <a:pt x="1424" y="2757"/>
                </a:lnTo>
                <a:lnTo>
                  <a:pt x="1411" y="2757"/>
                </a:lnTo>
                <a:lnTo>
                  <a:pt x="1411" y="2769"/>
                </a:lnTo>
                <a:lnTo>
                  <a:pt x="1399" y="2782"/>
                </a:lnTo>
                <a:lnTo>
                  <a:pt x="1374" y="2782"/>
                </a:lnTo>
                <a:lnTo>
                  <a:pt x="1361" y="2782"/>
                </a:lnTo>
                <a:lnTo>
                  <a:pt x="1336" y="2782"/>
                </a:lnTo>
                <a:lnTo>
                  <a:pt x="1311" y="2769"/>
                </a:lnTo>
                <a:lnTo>
                  <a:pt x="1285" y="2769"/>
                </a:lnTo>
                <a:lnTo>
                  <a:pt x="1248" y="2757"/>
                </a:lnTo>
                <a:lnTo>
                  <a:pt x="1210" y="2744"/>
                </a:lnTo>
                <a:lnTo>
                  <a:pt x="1184" y="2719"/>
                </a:lnTo>
                <a:lnTo>
                  <a:pt x="1147" y="2694"/>
                </a:lnTo>
                <a:lnTo>
                  <a:pt x="1109" y="2669"/>
                </a:lnTo>
                <a:lnTo>
                  <a:pt x="1071" y="2644"/>
                </a:lnTo>
                <a:lnTo>
                  <a:pt x="1021" y="2606"/>
                </a:lnTo>
                <a:lnTo>
                  <a:pt x="983" y="2568"/>
                </a:lnTo>
                <a:lnTo>
                  <a:pt x="945" y="2530"/>
                </a:lnTo>
                <a:lnTo>
                  <a:pt x="895" y="2493"/>
                </a:lnTo>
                <a:lnTo>
                  <a:pt x="857" y="2442"/>
                </a:lnTo>
                <a:lnTo>
                  <a:pt x="819" y="2392"/>
                </a:lnTo>
                <a:lnTo>
                  <a:pt x="781" y="2329"/>
                </a:lnTo>
                <a:lnTo>
                  <a:pt x="743" y="2266"/>
                </a:lnTo>
                <a:lnTo>
                  <a:pt x="706" y="2216"/>
                </a:lnTo>
                <a:lnTo>
                  <a:pt x="668" y="2140"/>
                </a:lnTo>
                <a:lnTo>
                  <a:pt x="630" y="2077"/>
                </a:lnTo>
                <a:lnTo>
                  <a:pt x="592" y="2002"/>
                </a:lnTo>
                <a:lnTo>
                  <a:pt x="554" y="1926"/>
                </a:lnTo>
                <a:lnTo>
                  <a:pt x="516" y="1838"/>
                </a:lnTo>
                <a:lnTo>
                  <a:pt x="491" y="1763"/>
                </a:lnTo>
                <a:lnTo>
                  <a:pt x="453" y="1674"/>
                </a:lnTo>
                <a:lnTo>
                  <a:pt x="428" y="1574"/>
                </a:lnTo>
                <a:lnTo>
                  <a:pt x="403" y="1486"/>
                </a:lnTo>
                <a:lnTo>
                  <a:pt x="378" y="1435"/>
                </a:lnTo>
                <a:lnTo>
                  <a:pt x="365" y="1385"/>
                </a:lnTo>
                <a:lnTo>
                  <a:pt x="353" y="1347"/>
                </a:lnTo>
                <a:lnTo>
                  <a:pt x="340" y="1309"/>
                </a:lnTo>
                <a:lnTo>
                  <a:pt x="340" y="1272"/>
                </a:lnTo>
                <a:lnTo>
                  <a:pt x="327" y="1234"/>
                </a:lnTo>
                <a:lnTo>
                  <a:pt x="315" y="1196"/>
                </a:lnTo>
                <a:lnTo>
                  <a:pt x="302" y="1171"/>
                </a:lnTo>
                <a:lnTo>
                  <a:pt x="302" y="1146"/>
                </a:lnTo>
                <a:lnTo>
                  <a:pt x="290" y="1121"/>
                </a:lnTo>
                <a:lnTo>
                  <a:pt x="277" y="1095"/>
                </a:lnTo>
                <a:lnTo>
                  <a:pt x="277" y="1070"/>
                </a:lnTo>
                <a:lnTo>
                  <a:pt x="264" y="1058"/>
                </a:lnTo>
                <a:lnTo>
                  <a:pt x="264" y="1033"/>
                </a:lnTo>
                <a:lnTo>
                  <a:pt x="264" y="1020"/>
                </a:lnTo>
                <a:lnTo>
                  <a:pt x="252" y="1007"/>
                </a:lnTo>
                <a:lnTo>
                  <a:pt x="252" y="995"/>
                </a:lnTo>
                <a:lnTo>
                  <a:pt x="252" y="970"/>
                </a:lnTo>
                <a:lnTo>
                  <a:pt x="239" y="957"/>
                </a:lnTo>
                <a:lnTo>
                  <a:pt x="239" y="932"/>
                </a:lnTo>
                <a:lnTo>
                  <a:pt x="227" y="907"/>
                </a:lnTo>
                <a:lnTo>
                  <a:pt x="227" y="881"/>
                </a:lnTo>
                <a:lnTo>
                  <a:pt x="214" y="856"/>
                </a:lnTo>
                <a:lnTo>
                  <a:pt x="214" y="819"/>
                </a:lnTo>
                <a:lnTo>
                  <a:pt x="201" y="793"/>
                </a:lnTo>
                <a:lnTo>
                  <a:pt x="201" y="756"/>
                </a:lnTo>
                <a:lnTo>
                  <a:pt x="189" y="705"/>
                </a:lnTo>
                <a:lnTo>
                  <a:pt x="189" y="668"/>
                </a:lnTo>
                <a:lnTo>
                  <a:pt x="176" y="630"/>
                </a:lnTo>
                <a:lnTo>
                  <a:pt x="164" y="579"/>
                </a:lnTo>
                <a:lnTo>
                  <a:pt x="151" y="529"/>
                </a:lnTo>
                <a:lnTo>
                  <a:pt x="151" y="479"/>
                </a:lnTo>
                <a:lnTo>
                  <a:pt x="138" y="428"/>
                </a:lnTo>
                <a:lnTo>
                  <a:pt x="126" y="391"/>
                </a:lnTo>
                <a:lnTo>
                  <a:pt x="113" y="353"/>
                </a:lnTo>
                <a:lnTo>
                  <a:pt x="113" y="315"/>
                </a:lnTo>
                <a:lnTo>
                  <a:pt x="101" y="277"/>
                </a:lnTo>
                <a:lnTo>
                  <a:pt x="88" y="252"/>
                </a:lnTo>
                <a:lnTo>
                  <a:pt x="88" y="214"/>
                </a:lnTo>
                <a:lnTo>
                  <a:pt x="75" y="189"/>
                </a:lnTo>
                <a:lnTo>
                  <a:pt x="75" y="164"/>
                </a:lnTo>
                <a:lnTo>
                  <a:pt x="63" y="151"/>
                </a:lnTo>
                <a:lnTo>
                  <a:pt x="50" y="126"/>
                </a:lnTo>
                <a:lnTo>
                  <a:pt x="50" y="114"/>
                </a:lnTo>
                <a:lnTo>
                  <a:pt x="38" y="101"/>
                </a:lnTo>
                <a:lnTo>
                  <a:pt x="25" y="89"/>
                </a:lnTo>
                <a:lnTo>
                  <a:pt x="12" y="76"/>
                </a:lnTo>
                <a:lnTo>
                  <a:pt x="0" y="63"/>
                </a:lnTo>
                <a:lnTo>
                  <a:pt x="0" y="38"/>
                </a:lnTo>
                <a:lnTo>
                  <a:pt x="0" y="26"/>
                </a:lnTo>
                <a:lnTo>
                  <a:pt x="0" y="13"/>
                </a:lnTo>
                <a:lnTo>
                  <a:pt x="12" y="13"/>
                </a:lnTo>
                <a:lnTo>
                  <a:pt x="25" y="0"/>
                </a:lnTo>
                <a:lnTo>
                  <a:pt x="50" y="0"/>
                </a:lnTo>
                <a:lnTo>
                  <a:pt x="75" y="0"/>
                </a:lnTo>
                <a:lnTo>
                  <a:pt x="101" y="13"/>
                </a:lnTo>
                <a:lnTo>
                  <a:pt x="126" y="13"/>
                </a:lnTo>
                <a:lnTo>
                  <a:pt x="164" y="26"/>
                </a:lnTo>
                <a:lnTo>
                  <a:pt x="201" y="38"/>
                </a:lnTo>
                <a:lnTo>
                  <a:pt x="227" y="38"/>
                </a:lnTo>
                <a:lnTo>
                  <a:pt x="252" y="51"/>
                </a:lnTo>
                <a:lnTo>
                  <a:pt x="277" y="63"/>
                </a:lnTo>
                <a:lnTo>
                  <a:pt x="302" y="76"/>
                </a:lnTo>
                <a:lnTo>
                  <a:pt x="315" y="76"/>
                </a:lnTo>
                <a:lnTo>
                  <a:pt x="315" y="89"/>
                </a:lnTo>
                <a:lnTo>
                  <a:pt x="327" y="101"/>
                </a:lnTo>
                <a:lnTo>
                  <a:pt x="327" y="114"/>
                </a:lnTo>
                <a:lnTo>
                  <a:pt x="327" y="139"/>
                </a:lnTo>
                <a:lnTo>
                  <a:pt x="327" y="164"/>
                </a:lnTo>
                <a:lnTo>
                  <a:pt x="315" y="177"/>
                </a:lnTo>
                <a:lnTo>
                  <a:pt x="315" y="189"/>
                </a:lnTo>
                <a:lnTo>
                  <a:pt x="315" y="214"/>
                </a:lnTo>
                <a:lnTo>
                  <a:pt x="315" y="240"/>
                </a:lnTo>
                <a:lnTo>
                  <a:pt x="315" y="265"/>
                </a:lnTo>
                <a:lnTo>
                  <a:pt x="315" y="302"/>
                </a:lnTo>
                <a:lnTo>
                  <a:pt x="315" y="340"/>
                </a:lnTo>
                <a:lnTo>
                  <a:pt x="315" y="391"/>
                </a:lnTo>
                <a:lnTo>
                  <a:pt x="327" y="44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11"/>
          <p:cNvSpPr/>
          <p:nvPr/>
        </p:nvSpPr>
        <p:spPr>
          <a:xfrm>
            <a:off x="5135400" y="1674720"/>
            <a:ext cx="271800" cy="223920"/>
          </a:xfrm>
          <a:custGeom>
            <a:avLst/>
            <a:gdLst/>
            <a:ahLst/>
            <a:rect l="l" t="t" r="r" b="b"/>
            <a:pathLst>
              <a:path w="428" h="352">
                <a:moveTo>
                  <a:pt x="189" y="264"/>
                </a:moveTo>
                <a:lnTo>
                  <a:pt x="139" y="214"/>
                </a:lnTo>
                <a:lnTo>
                  <a:pt x="88" y="176"/>
                </a:lnTo>
                <a:lnTo>
                  <a:pt x="50" y="138"/>
                </a:lnTo>
                <a:lnTo>
                  <a:pt x="25" y="88"/>
                </a:lnTo>
                <a:lnTo>
                  <a:pt x="13" y="75"/>
                </a:lnTo>
                <a:lnTo>
                  <a:pt x="13" y="50"/>
                </a:lnTo>
                <a:lnTo>
                  <a:pt x="0" y="38"/>
                </a:lnTo>
                <a:lnTo>
                  <a:pt x="13" y="25"/>
                </a:lnTo>
                <a:lnTo>
                  <a:pt x="13" y="12"/>
                </a:lnTo>
                <a:lnTo>
                  <a:pt x="25" y="0"/>
                </a:lnTo>
                <a:lnTo>
                  <a:pt x="38" y="0"/>
                </a:lnTo>
                <a:lnTo>
                  <a:pt x="76" y="0"/>
                </a:lnTo>
                <a:lnTo>
                  <a:pt x="113" y="12"/>
                </a:lnTo>
                <a:lnTo>
                  <a:pt x="151" y="12"/>
                </a:lnTo>
                <a:lnTo>
                  <a:pt x="202" y="25"/>
                </a:lnTo>
                <a:lnTo>
                  <a:pt x="252" y="38"/>
                </a:lnTo>
                <a:lnTo>
                  <a:pt x="302" y="63"/>
                </a:lnTo>
                <a:lnTo>
                  <a:pt x="340" y="88"/>
                </a:lnTo>
                <a:lnTo>
                  <a:pt x="365" y="113"/>
                </a:lnTo>
                <a:lnTo>
                  <a:pt x="391" y="151"/>
                </a:lnTo>
                <a:lnTo>
                  <a:pt x="416" y="189"/>
                </a:lnTo>
                <a:lnTo>
                  <a:pt x="428" y="226"/>
                </a:lnTo>
                <a:lnTo>
                  <a:pt x="428" y="264"/>
                </a:lnTo>
                <a:lnTo>
                  <a:pt x="428" y="277"/>
                </a:lnTo>
                <a:lnTo>
                  <a:pt x="428" y="302"/>
                </a:lnTo>
                <a:lnTo>
                  <a:pt x="428" y="314"/>
                </a:lnTo>
                <a:lnTo>
                  <a:pt x="416" y="327"/>
                </a:lnTo>
                <a:lnTo>
                  <a:pt x="403" y="340"/>
                </a:lnTo>
                <a:lnTo>
                  <a:pt x="391" y="340"/>
                </a:lnTo>
                <a:lnTo>
                  <a:pt x="378" y="340"/>
                </a:lnTo>
                <a:lnTo>
                  <a:pt x="365" y="352"/>
                </a:lnTo>
                <a:lnTo>
                  <a:pt x="353" y="340"/>
                </a:lnTo>
                <a:lnTo>
                  <a:pt x="340" y="340"/>
                </a:lnTo>
                <a:lnTo>
                  <a:pt x="315" y="340"/>
                </a:lnTo>
                <a:lnTo>
                  <a:pt x="290" y="327"/>
                </a:lnTo>
                <a:lnTo>
                  <a:pt x="277" y="314"/>
                </a:lnTo>
                <a:lnTo>
                  <a:pt x="239" y="302"/>
                </a:lnTo>
                <a:lnTo>
                  <a:pt x="214" y="277"/>
                </a:lnTo>
                <a:lnTo>
                  <a:pt x="189" y="264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12"/>
          <p:cNvSpPr/>
          <p:nvPr/>
        </p:nvSpPr>
        <p:spPr>
          <a:xfrm>
            <a:off x="4567320" y="2122560"/>
            <a:ext cx="431640" cy="911160"/>
          </a:xfrm>
          <a:custGeom>
            <a:avLst/>
            <a:gdLst/>
            <a:ahLst/>
            <a:rect l="l" t="t" r="r" b="b"/>
            <a:pathLst>
              <a:path w="681" h="1435">
                <a:moveTo>
                  <a:pt x="113" y="163"/>
                </a:moveTo>
                <a:lnTo>
                  <a:pt x="101" y="125"/>
                </a:lnTo>
                <a:lnTo>
                  <a:pt x="101" y="100"/>
                </a:lnTo>
                <a:lnTo>
                  <a:pt x="101" y="75"/>
                </a:lnTo>
                <a:lnTo>
                  <a:pt x="101" y="50"/>
                </a:lnTo>
                <a:lnTo>
                  <a:pt x="101" y="25"/>
                </a:lnTo>
                <a:lnTo>
                  <a:pt x="101" y="12"/>
                </a:lnTo>
                <a:lnTo>
                  <a:pt x="113" y="0"/>
                </a:lnTo>
                <a:lnTo>
                  <a:pt x="126" y="0"/>
                </a:lnTo>
                <a:lnTo>
                  <a:pt x="139" y="0"/>
                </a:lnTo>
                <a:lnTo>
                  <a:pt x="164" y="0"/>
                </a:lnTo>
                <a:lnTo>
                  <a:pt x="176" y="12"/>
                </a:lnTo>
                <a:lnTo>
                  <a:pt x="202" y="25"/>
                </a:lnTo>
                <a:lnTo>
                  <a:pt x="227" y="25"/>
                </a:lnTo>
                <a:lnTo>
                  <a:pt x="265" y="50"/>
                </a:lnTo>
                <a:lnTo>
                  <a:pt x="290" y="63"/>
                </a:lnTo>
                <a:lnTo>
                  <a:pt x="290" y="163"/>
                </a:lnTo>
                <a:lnTo>
                  <a:pt x="290" y="264"/>
                </a:lnTo>
                <a:lnTo>
                  <a:pt x="290" y="352"/>
                </a:lnTo>
                <a:lnTo>
                  <a:pt x="303" y="428"/>
                </a:lnTo>
                <a:lnTo>
                  <a:pt x="303" y="516"/>
                </a:lnTo>
                <a:lnTo>
                  <a:pt x="303" y="579"/>
                </a:lnTo>
                <a:lnTo>
                  <a:pt x="303" y="642"/>
                </a:lnTo>
                <a:lnTo>
                  <a:pt x="303" y="704"/>
                </a:lnTo>
                <a:lnTo>
                  <a:pt x="303" y="755"/>
                </a:lnTo>
                <a:lnTo>
                  <a:pt x="303" y="805"/>
                </a:lnTo>
                <a:lnTo>
                  <a:pt x="303" y="843"/>
                </a:lnTo>
                <a:lnTo>
                  <a:pt x="303" y="868"/>
                </a:lnTo>
                <a:lnTo>
                  <a:pt x="303" y="893"/>
                </a:lnTo>
                <a:lnTo>
                  <a:pt x="303" y="918"/>
                </a:lnTo>
                <a:lnTo>
                  <a:pt x="303" y="931"/>
                </a:lnTo>
                <a:lnTo>
                  <a:pt x="315" y="931"/>
                </a:lnTo>
                <a:lnTo>
                  <a:pt x="315" y="944"/>
                </a:lnTo>
                <a:lnTo>
                  <a:pt x="328" y="944"/>
                </a:lnTo>
                <a:lnTo>
                  <a:pt x="340" y="944"/>
                </a:lnTo>
                <a:lnTo>
                  <a:pt x="366" y="931"/>
                </a:lnTo>
                <a:lnTo>
                  <a:pt x="391" y="918"/>
                </a:lnTo>
                <a:lnTo>
                  <a:pt x="416" y="893"/>
                </a:lnTo>
                <a:lnTo>
                  <a:pt x="454" y="868"/>
                </a:lnTo>
                <a:lnTo>
                  <a:pt x="504" y="843"/>
                </a:lnTo>
                <a:lnTo>
                  <a:pt x="542" y="818"/>
                </a:lnTo>
                <a:lnTo>
                  <a:pt x="580" y="793"/>
                </a:lnTo>
                <a:lnTo>
                  <a:pt x="605" y="767"/>
                </a:lnTo>
                <a:lnTo>
                  <a:pt x="630" y="755"/>
                </a:lnTo>
                <a:lnTo>
                  <a:pt x="655" y="755"/>
                </a:lnTo>
                <a:lnTo>
                  <a:pt x="668" y="755"/>
                </a:lnTo>
                <a:lnTo>
                  <a:pt x="681" y="755"/>
                </a:lnTo>
                <a:lnTo>
                  <a:pt x="681" y="767"/>
                </a:lnTo>
                <a:lnTo>
                  <a:pt x="681" y="793"/>
                </a:lnTo>
                <a:lnTo>
                  <a:pt x="668" y="805"/>
                </a:lnTo>
                <a:lnTo>
                  <a:pt x="643" y="843"/>
                </a:lnTo>
                <a:lnTo>
                  <a:pt x="618" y="881"/>
                </a:lnTo>
                <a:lnTo>
                  <a:pt x="580" y="918"/>
                </a:lnTo>
                <a:lnTo>
                  <a:pt x="542" y="956"/>
                </a:lnTo>
                <a:lnTo>
                  <a:pt x="492" y="1019"/>
                </a:lnTo>
                <a:lnTo>
                  <a:pt x="441" y="1070"/>
                </a:lnTo>
                <a:lnTo>
                  <a:pt x="391" y="1120"/>
                </a:lnTo>
                <a:lnTo>
                  <a:pt x="353" y="1158"/>
                </a:lnTo>
                <a:lnTo>
                  <a:pt x="328" y="1208"/>
                </a:lnTo>
                <a:lnTo>
                  <a:pt x="290" y="1246"/>
                </a:lnTo>
                <a:lnTo>
                  <a:pt x="265" y="1271"/>
                </a:lnTo>
                <a:lnTo>
                  <a:pt x="252" y="1309"/>
                </a:lnTo>
                <a:lnTo>
                  <a:pt x="240" y="1334"/>
                </a:lnTo>
                <a:lnTo>
                  <a:pt x="227" y="1359"/>
                </a:lnTo>
                <a:lnTo>
                  <a:pt x="214" y="1384"/>
                </a:lnTo>
                <a:lnTo>
                  <a:pt x="214" y="1397"/>
                </a:lnTo>
                <a:lnTo>
                  <a:pt x="202" y="1409"/>
                </a:lnTo>
                <a:lnTo>
                  <a:pt x="189" y="1422"/>
                </a:lnTo>
                <a:lnTo>
                  <a:pt x="176" y="1435"/>
                </a:lnTo>
                <a:lnTo>
                  <a:pt x="164" y="1435"/>
                </a:lnTo>
                <a:lnTo>
                  <a:pt x="139" y="1435"/>
                </a:lnTo>
                <a:lnTo>
                  <a:pt x="113" y="1422"/>
                </a:lnTo>
                <a:lnTo>
                  <a:pt x="88" y="1397"/>
                </a:lnTo>
                <a:lnTo>
                  <a:pt x="63" y="1359"/>
                </a:lnTo>
                <a:lnTo>
                  <a:pt x="38" y="1334"/>
                </a:lnTo>
                <a:lnTo>
                  <a:pt x="13" y="1296"/>
                </a:lnTo>
                <a:lnTo>
                  <a:pt x="0" y="1283"/>
                </a:lnTo>
                <a:lnTo>
                  <a:pt x="0" y="1258"/>
                </a:lnTo>
                <a:lnTo>
                  <a:pt x="0" y="1233"/>
                </a:lnTo>
                <a:lnTo>
                  <a:pt x="13" y="1195"/>
                </a:lnTo>
                <a:lnTo>
                  <a:pt x="38" y="1158"/>
                </a:lnTo>
                <a:lnTo>
                  <a:pt x="63" y="1107"/>
                </a:lnTo>
                <a:lnTo>
                  <a:pt x="76" y="1082"/>
                </a:lnTo>
                <a:lnTo>
                  <a:pt x="88" y="1044"/>
                </a:lnTo>
                <a:lnTo>
                  <a:pt x="101" y="994"/>
                </a:lnTo>
                <a:lnTo>
                  <a:pt x="113" y="944"/>
                </a:lnTo>
                <a:lnTo>
                  <a:pt x="126" y="881"/>
                </a:lnTo>
                <a:lnTo>
                  <a:pt x="126" y="805"/>
                </a:lnTo>
                <a:lnTo>
                  <a:pt x="139" y="730"/>
                </a:lnTo>
                <a:lnTo>
                  <a:pt x="139" y="654"/>
                </a:lnTo>
                <a:lnTo>
                  <a:pt x="139" y="566"/>
                </a:lnTo>
                <a:lnTo>
                  <a:pt x="139" y="491"/>
                </a:lnTo>
                <a:lnTo>
                  <a:pt x="139" y="415"/>
                </a:lnTo>
                <a:lnTo>
                  <a:pt x="139" y="352"/>
                </a:lnTo>
                <a:lnTo>
                  <a:pt x="139" y="289"/>
                </a:lnTo>
                <a:lnTo>
                  <a:pt x="126" y="239"/>
                </a:lnTo>
                <a:lnTo>
                  <a:pt x="126" y="201"/>
                </a:lnTo>
                <a:lnTo>
                  <a:pt x="113" y="16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4695840" y="2003400"/>
            <a:ext cx="679320" cy="247680"/>
          </a:xfrm>
          <a:custGeom>
            <a:avLst/>
            <a:gdLst/>
            <a:ahLst/>
            <a:rect l="l" t="t" r="r" b="b"/>
            <a:pathLst>
              <a:path w="1071" h="390">
                <a:moveTo>
                  <a:pt x="857" y="0"/>
                </a:moveTo>
                <a:lnTo>
                  <a:pt x="907" y="0"/>
                </a:lnTo>
                <a:lnTo>
                  <a:pt x="945" y="0"/>
                </a:lnTo>
                <a:lnTo>
                  <a:pt x="983" y="0"/>
                </a:lnTo>
                <a:lnTo>
                  <a:pt x="1021" y="12"/>
                </a:lnTo>
                <a:lnTo>
                  <a:pt x="1046" y="38"/>
                </a:lnTo>
                <a:lnTo>
                  <a:pt x="1058" y="50"/>
                </a:lnTo>
                <a:lnTo>
                  <a:pt x="1071" y="63"/>
                </a:lnTo>
                <a:lnTo>
                  <a:pt x="1071" y="88"/>
                </a:lnTo>
                <a:lnTo>
                  <a:pt x="1071" y="101"/>
                </a:lnTo>
                <a:lnTo>
                  <a:pt x="1058" y="101"/>
                </a:lnTo>
                <a:lnTo>
                  <a:pt x="1046" y="113"/>
                </a:lnTo>
                <a:lnTo>
                  <a:pt x="1008" y="126"/>
                </a:lnTo>
                <a:lnTo>
                  <a:pt x="970" y="138"/>
                </a:lnTo>
                <a:lnTo>
                  <a:pt x="920" y="151"/>
                </a:lnTo>
                <a:lnTo>
                  <a:pt x="869" y="163"/>
                </a:lnTo>
                <a:lnTo>
                  <a:pt x="806" y="189"/>
                </a:lnTo>
                <a:lnTo>
                  <a:pt x="731" y="201"/>
                </a:lnTo>
                <a:lnTo>
                  <a:pt x="655" y="226"/>
                </a:lnTo>
                <a:lnTo>
                  <a:pt x="567" y="252"/>
                </a:lnTo>
                <a:lnTo>
                  <a:pt x="466" y="277"/>
                </a:lnTo>
                <a:lnTo>
                  <a:pt x="365" y="302"/>
                </a:lnTo>
                <a:lnTo>
                  <a:pt x="252" y="327"/>
                </a:lnTo>
                <a:lnTo>
                  <a:pt x="126" y="365"/>
                </a:lnTo>
                <a:lnTo>
                  <a:pt x="0" y="390"/>
                </a:lnTo>
                <a:lnTo>
                  <a:pt x="0" y="239"/>
                </a:lnTo>
                <a:lnTo>
                  <a:pt x="38" y="239"/>
                </a:lnTo>
                <a:lnTo>
                  <a:pt x="75" y="226"/>
                </a:lnTo>
                <a:lnTo>
                  <a:pt x="126" y="214"/>
                </a:lnTo>
                <a:lnTo>
                  <a:pt x="176" y="214"/>
                </a:lnTo>
                <a:lnTo>
                  <a:pt x="227" y="189"/>
                </a:lnTo>
                <a:lnTo>
                  <a:pt x="302" y="176"/>
                </a:lnTo>
                <a:lnTo>
                  <a:pt x="365" y="151"/>
                </a:lnTo>
                <a:lnTo>
                  <a:pt x="441" y="113"/>
                </a:lnTo>
                <a:lnTo>
                  <a:pt x="516" y="88"/>
                </a:lnTo>
                <a:lnTo>
                  <a:pt x="592" y="63"/>
                </a:lnTo>
                <a:lnTo>
                  <a:pt x="655" y="50"/>
                </a:lnTo>
                <a:lnTo>
                  <a:pt x="706" y="25"/>
                </a:lnTo>
                <a:lnTo>
                  <a:pt x="756" y="12"/>
                </a:lnTo>
                <a:lnTo>
                  <a:pt x="794" y="12"/>
                </a:lnTo>
                <a:lnTo>
                  <a:pt x="832" y="0"/>
                </a:lnTo>
                <a:lnTo>
                  <a:pt x="857" y="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14"/>
          <p:cNvSpPr/>
          <p:nvPr/>
        </p:nvSpPr>
        <p:spPr>
          <a:xfrm>
            <a:off x="4862520" y="2225520"/>
            <a:ext cx="560520" cy="847800"/>
          </a:xfrm>
          <a:custGeom>
            <a:avLst/>
            <a:gdLst/>
            <a:ahLst/>
            <a:rect l="l" t="t" r="r" b="b"/>
            <a:pathLst>
              <a:path w="883" h="1334">
                <a:moveTo>
                  <a:pt x="870" y="114"/>
                </a:moveTo>
                <a:lnTo>
                  <a:pt x="870" y="139"/>
                </a:lnTo>
                <a:lnTo>
                  <a:pt x="883" y="164"/>
                </a:lnTo>
                <a:lnTo>
                  <a:pt x="870" y="189"/>
                </a:lnTo>
                <a:lnTo>
                  <a:pt x="870" y="227"/>
                </a:lnTo>
                <a:lnTo>
                  <a:pt x="857" y="265"/>
                </a:lnTo>
                <a:lnTo>
                  <a:pt x="832" y="315"/>
                </a:lnTo>
                <a:lnTo>
                  <a:pt x="807" y="365"/>
                </a:lnTo>
                <a:lnTo>
                  <a:pt x="782" y="428"/>
                </a:lnTo>
                <a:lnTo>
                  <a:pt x="719" y="554"/>
                </a:lnTo>
                <a:lnTo>
                  <a:pt x="643" y="680"/>
                </a:lnTo>
                <a:lnTo>
                  <a:pt x="555" y="793"/>
                </a:lnTo>
                <a:lnTo>
                  <a:pt x="467" y="919"/>
                </a:lnTo>
                <a:lnTo>
                  <a:pt x="429" y="969"/>
                </a:lnTo>
                <a:lnTo>
                  <a:pt x="378" y="1020"/>
                </a:lnTo>
                <a:lnTo>
                  <a:pt x="341" y="1070"/>
                </a:lnTo>
                <a:lnTo>
                  <a:pt x="303" y="1120"/>
                </a:lnTo>
                <a:lnTo>
                  <a:pt x="265" y="1158"/>
                </a:lnTo>
                <a:lnTo>
                  <a:pt x="227" y="1183"/>
                </a:lnTo>
                <a:lnTo>
                  <a:pt x="189" y="1221"/>
                </a:lnTo>
                <a:lnTo>
                  <a:pt x="152" y="1246"/>
                </a:lnTo>
                <a:lnTo>
                  <a:pt x="126" y="1272"/>
                </a:lnTo>
                <a:lnTo>
                  <a:pt x="101" y="1297"/>
                </a:lnTo>
                <a:lnTo>
                  <a:pt x="76" y="1309"/>
                </a:lnTo>
                <a:lnTo>
                  <a:pt x="63" y="1322"/>
                </a:lnTo>
                <a:lnTo>
                  <a:pt x="38" y="1322"/>
                </a:lnTo>
                <a:lnTo>
                  <a:pt x="26" y="1334"/>
                </a:lnTo>
                <a:lnTo>
                  <a:pt x="13" y="1334"/>
                </a:lnTo>
                <a:lnTo>
                  <a:pt x="13" y="1322"/>
                </a:lnTo>
                <a:lnTo>
                  <a:pt x="0" y="1322"/>
                </a:lnTo>
                <a:lnTo>
                  <a:pt x="13" y="1309"/>
                </a:lnTo>
                <a:lnTo>
                  <a:pt x="13" y="1284"/>
                </a:lnTo>
                <a:lnTo>
                  <a:pt x="26" y="1272"/>
                </a:lnTo>
                <a:lnTo>
                  <a:pt x="51" y="1246"/>
                </a:lnTo>
                <a:lnTo>
                  <a:pt x="76" y="1209"/>
                </a:lnTo>
                <a:lnTo>
                  <a:pt x="101" y="1183"/>
                </a:lnTo>
                <a:lnTo>
                  <a:pt x="139" y="1133"/>
                </a:lnTo>
                <a:lnTo>
                  <a:pt x="177" y="1095"/>
                </a:lnTo>
                <a:lnTo>
                  <a:pt x="202" y="1058"/>
                </a:lnTo>
                <a:lnTo>
                  <a:pt x="240" y="1007"/>
                </a:lnTo>
                <a:lnTo>
                  <a:pt x="278" y="957"/>
                </a:lnTo>
                <a:lnTo>
                  <a:pt x="315" y="894"/>
                </a:lnTo>
                <a:lnTo>
                  <a:pt x="353" y="844"/>
                </a:lnTo>
                <a:lnTo>
                  <a:pt x="391" y="781"/>
                </a:lnTo>
                <a:lnTo>
                  <a:pt x="429" y="718"/>
                </a:lnTo>
                <a:lnTo>
                  <a:pt x="454" y="655"/>
                </a:lnTo>
                <a:lnTo>
                  <a:pt x="492" y="592"/>
                </a:lnTo>
                <a:lnTo>
                  <a:pt x="517" y="541"/>
                </a:lnTo>
                <a:lnTo>
                  <a:pt x="542" y="491"/>
                </a:lnTo>
                <a:lnTo>
                  <a:pt x="568" y="428"/>
                </a:lnTo>
                <a:lnTo>
                  <a:pt x="580" y="390"/>
                </a:lnTo>
                <a:lnTo>
                  <a:pt x="605" y="340"/>
                </a:lnTo>
                <a:lnTo>
                  <a:pt x="618" y="302"/>
                </a:lnTo>
                <a:lnTo>
                  <a:pt x="631" y="252"/>
                </a:lnTo>
                <a:lnTo>
                  <a:pt x="643" y="227"/>
                </a:lnTo>
                <a:lnTo>
                  <a:pt x="643" y="189"/>
                </a:lnTo>
                <a:lnTo>
                  <a:pt x="656" y="164"/>
                </a:lnTo>
                <a:lnTo>
                  <a:pt x="656" y="139"/>
                </a:lnTo>
                <a:lnTo>
                  <a:pt x="656" y="114"/>
                </a:lnTo>
                <a:lnTo>
                  <a:pt x="656" y="101"/>
                </a:lnTo>
                <a:lnTo>
                  <a:pt x="643" y="76"/>
                </a:lnTo>
                <a:lnTo>
                  <a:pt x="631" y="51"/>
                </a:lnTo>
                <a:lnTo>
                  <a:pt x="631" y="38"/>
                </a:lnTo>
                <a:lnTo>
                  <a:pt x="631" y="13"/>
                </a:lnTo>
                <a:lnTo>
                  <a:pt x="631" y="0"/>
                </a:lnTo>
                <a:lnTo>
                  <a:pt x="656" y="0"/>
                </a:lnTo>
                <a:lnTo>
                  <a:pt x="668" y="0"/>
                </a:lnTo>
                <a:lnTo>
                  <a:pt x="706" y="0"/>
                </a:lnTo>
                <a:lnTo>
                  <a:pt x="744" y="13"/>
                </a:lnTo>
                <a:lnTo>
                  <a:pt x="782" y="38"/>
                </a:lnTo>
                <a:lnTo>
                  <a:pt x="820" y="63"/>
                </a:lnTo>
                <a:lnTo>
                  <a:pt x="845" y="88"/>
                </a:lnTo>
                <a:lnTo>
                  <a:pt x="870" y="114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15"/>
          <p:cNvSpPr/>
          <p:nvPr/>
        </p:nvSpPr>
        <p:spPr>
          <a:xfrm>
            <a:off x="3351240" y="2235240"/>
            <a:ext cx="1247760" cy="366840"/>
          </a:xfrm>
          <a:custGeom>
            <a:avLst/>
            <a:gdLst/>
            <a:ahLst/>
            <a:rect l="l" t="t" r="r" b="b"/>
            <a:pathLst>
              <a:path w="1966" h="579">
                <a:moveTo>
                  <a:pt x="0" y="440"/>
                </a:moveTo>
                <a:lnTo>
                  <a:pt x="0" y="428"/>
                </a:lnTo>
                <a:lnTo>
                  <a:pt x="13" y="428"/>
                </a:lnTo>
                <a:lnTo>
                  <a:pt x="25" y="415"/>
                </a:lnTo>
                <a:lnTo>
                  <a:pt x="38" y="415"/>
                </a:lnTo>
                <a:lnTo>
                  <a:pt x="76" y="403"/>
                </a:lnTo>
                <a:lnTo>
                  <a:pt x="114" y="390"/>
                </a:lnTo>
                <a:lnTo>
                  <a:pt x="151" y="377"/>
                </a:lnTo>
                <a:lnTo>
                  <a:pt x="202" y="365"/>
                </a:lnTo>
                <a:lnTo>
                  <a:pt x="227" y="365"/>
                </a:lnTo>
                <a:lnTo>
                  <a:pt x="265" y="352"/>
                </a:lnTo>
                <a:lnTo>
                  <a:pt x="290" y="352"/>
                </a:lnTo>
                <a:lnTo>
                  <a:pt x="341" y="340"/>
                </a:lnTo>
                <a:lnTo>
                  <a:pt x="378" y="327"/>
                </a:lnTo>
                <a:lnTo>
                  <a:pt x="416" y="315"/>
                </a:lnTo>
                <a:lnTo>
                  <a:pt x="467" y="302"/>
                </a:lnTo>
                <a:lnTo>
                  <a:pt x="517" y="289"/>
                </a:lnTo>
                <a:lnTo>
                  <a:pt x="580" y="277"/>
                </a:lnTo>
                <a:lnTo>
                  <a:pt x="630" y="264"/>
                </a:lnTo>
                <a:lnTo>
                  <a:pt x="693" y="252"/>
                </a:lnTo>
                <a:lnTo>
                  <a:pt x="756" y="239"/>
                </a:lnTo>
                <a:lnTo>
                  <a:pt x="832" y="214"/>
                </a:lnTo>
                <a:lnTo>
                  <a:pt x="895" y="201"/>
                </a:lnTo>
                <a:lnTo>
                  <a:pt x="971" y="176"/>
                </a:lnTo>
                <a:lnTo>
                  <a:pt x="1059" y="163"/>
                </a:lnTo>
                <a:lnTo>
                  <a:pt x="1135" y="138"/>
                </a:lnTo>
                <a:lnTo>
                  <a:pt x="1210" y="126"/>
                </a:lnTo>
                <a:lnTo>
                  <a:pt x="1273" y="101"/>
                </a:lnTo>
                <a:lnTo>
                  <a:pt x="1336" y="88"/>
                </a:lnTo>
                <a:lnTo>
                  <a:pt x="1399" y="75"/>
                </a:lnTo>
                <a:lnTo>
                  <a:pt x="1462" y="63"/>
                </a:lnTo>
                <a:lnTo>
                  <a:pt x="1513" y="50"/>
                </a:lnTo>
                <a:lnTo>
                  <a:pt x="1551" y="38"/>
                </a:lnTo>
                <a:lnTo>
                  <a:pt x="1601" y="25"/>
                </a:lnTo>
                <a:lnTo>
                  <a:pt x="1639" y="25"/>
                </a:lnTo>
                <a:lnTo>
                  <a:pt x="1664" y="12"/>
                </a:lnTo>
                <a:lnTo>
                  <a:pt x="1702" y="0"/>
                </a:lnTo>
                <a:lnTo>
                  <a:pt x="1727" y="0"/>
                </a:lnTo>
                <a:lnTo>
                  <a:pt x="1740" y="0"/>
                </a:lnTo>
                <a:lnTo>
                  <a:pt x="1765" y="0"/>
                </a:lnTo>
                <a:lnTo>
                  <a:pt x="1777" y="0"/>
                </a:lnTo>
                <a:lnTo>
                  <a:pt x="1815" y="0"/>
                </a:lnTo>
                <a:lnTo>
                  <a:pt x="1840" y="0"/>
                </a:lnTo>
                <a:lnTo>
                  <a:pt x="1878" y="12"/>
                </a:lnTo>
                <a:lnTo>
                  <a:pt x="1903" y="25"/>
                </a:lnTo>
                <a:lnTo>
                  <a:pt x="1929" y="38"/>
                </a:lnTo>
                <a:lnTo>
                  <a:pt x="1941" y="50"/>
                </a:lnTo>
                <a:lnTo>
                  <a:pt x="1954" y="75"/>
                </a:lnTo>
                <a:lnTo>
                  <a:pt x="1966" y="88"/>
                </a:lnTo>
                <a:lnTo>
                  <a:pt x="1954" y="88"/>
                </a:lnTo>
                <a:lnTo>
                  <a:pt x="1941" y="101"/>
                </a:lnTo>
                <a:lnTo>
                  <a:pt x="1916" y="113"/>
                </a:lnTo>
                <a:lnTo>
                  <a:pt x="1891" y="126"/>
                </a:lnTo>
                <a:lnTo>
                  <a:pt x="1878" y="138"/>
                </a:lnTo>
                <a:lnTo>
                  <a:pt x="1866" y="138"/>
                </a:lnTo>
                <a:lnTo>
                  <a:pt x="1840" y="138"/>
                </a:lnTo>
                <a:lnTo>
                  <a:pt x="1815" y="151"/>
                </a:lnTo>
                <a:lnTo>
                  <a:pt x="1777" y="163"/>
                </a:lnTo>
                <a:lnTo>
                  <a:pt x="1740" y="176"/>
                </a:lnTo>
                <a:lnTo>
                  <a:pt x="1689" y="189"/>
                </a:lnTo>
                <a:lnTo>
                  <a:pt x="1639" y="201"/>
                </a:lnTo>
                <a:lnTo>
                  <a:pt x="1588" y="214"/>
                </a:lnTo>
                <a:lnTo>
                  <a:pt x="1525" y="226"/>
                </a:lnTo>
                <a:lnTo>
                  <a:pt x="1450" y="252"/>
                </a:lnTo>
                <a:lnTo>
                  <a:pt x="1374" y="264"/>
                </a:lnTo>
                <a:lnTo>
                  <a:pt x="1298" y="289"/>
                </a:lnTo>
                <a:lnTo>
                  <a:pt x="1210" y="315"/>
                </a:lnTo>
                <a:lnTo>
                  <a:pt x="1122" y="340"/>
                </a:lnTo>
                <a:lnTo>
                  <a:pt x="1034" y="365"/>
                </a:lnTo>
                <a:lnTo>
                  <a:pt x="933" y="390"/>
                </a:lnTo>
                <a:lnTo>
                  <a:pt x="845" y="415"/>
                </a:lnTo>
                <a:lnTo>
                  <a:pt x="756" y="428"/>
                </a:lnTo>
                <a:lnTo>
                  <a:pt x="681" y="453"/>
                </a:lnTo>
                <a:lnTo>
                  <a:pt x="605" y="478"/>
                </a:lnTo>
                <a:lnTo>
                  <a:pt x="542" y="491"/>
                </a:lnTo>
                <a:lnTo>
                  <a:pt x="479" y="503"/>
                </a:lnTo>
                <a:lnTo>
                  <a:pt x="429" y="516"/>
                </a:lnTo>
                <a:lnTo>
                  <a:pt x="378" y="528"/>
                </a:lnTo>
                <a:lnTo>
                  <a:pt x="341" y="541"/>
                </a:lnTo>
                <a:lnTo>
                  <a:pt x="303" y="554"/>
                </a:lnTo>
                <a:lnTo>
                  <a:pt x="265" y="566"/>
                </a:lnTo>
                <a:lnTo>
                  <a:pt x="240" y="566"/>
                </a:lnTo>
                <a:lnTo>
                  <a:pt x="227" y="566"/>
                </a:lnTo>
                <a:lnTo>
                  <a:pt x="214" y="579"/>
                </a:lnTo>
                <a:lnTo>
                  <a:pt x="202" y="579"/>
                </a:lnTo>
                <a:lnTo>
                  <a:pt x="177" y="566"/>
                </a:lnTo>
                <a:lnTo>
                  <a:pt x="151" y="554"/>
                </a:lnTo>
                <a:lnTo>
                  <a:pt x="126" y="541"/>
                </a:lnTo>
                <a:lnTo>
                  <a:pt x="88" y="516"/>
                </a:lnTo>
                <a:lnTo>
                  <a:pt x="51" y="491"/>
                </a:lnTo>
                <a:lnTo>
                  <a:pt x="25" y="478"/>
                </a:lnTo>
                <a:lnTo>
                  <a:pt x="0" y="453"/>
                </a:lnTo>
                <a:lnTo>
                  <a:pt x="0" y="44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16"/>
          <p:cNvSpPr/>
          <p:nvPr/>
        </p:nvSpPr>
        <p:spPr>
          <a:xfrm>
            <a:off x="3359160" y="2617920"/>
            <a:ext cx="544680" cy="766800"/>
          </a:xfrm>
          <a:custGeom>
            <a:avLst/>
            <a:gdLst/>
            <a:ahLst/>
            <a:rect l="l" t="t" r="r" b="b"/>
            <a:pathLst>
              <a:path w="857" h="1208">
                <a:moveTo>
                  <a:pt x="592" y="667"/>
                </a:moveTo>
                <a:lnTo>
                  <a:pt x="554" y="730"/>
                </a:lnTo>
                <a:lnTo>
                  <a:pt x="504" y="793"/>
                </a:lnTo>
                <a:lnTo>
                  <a:pt x="454" y="856"/>
                </a:lnTo>
                <a:lnTo>
                  <a:pt x="416" y="906"/>
                </a:lnTo>
                <a:lnTo>
                  <a:pt x="365" y="957"/>
                </a:lnTo>
                <a:lnTo>
                  <a:pt x="328" y="1007"/>
                </a:lnTo>
                <a:lnTo>
                  <a:pt x="277" y="1045"/>
                </a:lnTo>
                <a:lnTo>
                  <a:pt x="227" y="1082"/>
                </a:lnTo>
                <a:lnTo>
                  <a:pt x="176" y="1120"/>
                </a:lnTo>
                <a:lnTo>
                  <a:pt x="138" y="1145"/>
                </a:lnTo>
                <a:lnTo>
                  <a:pt x="113" y="1171"/>
                </a:lnTo>
                <a:lnTo>
                  <a:pt x="75" y="1196"/>
                </a:lnTo>
                <a:lnTo>
                  <a:pt x="50" y="1196"/>
                </a:lnTo>
                <a:lnTo>
                  <a:pt x="38" y="1208"/>
                </a:lnTo>
                <a:lnTo>
                  <a:pt x="25" y="1208"/>
                </a:lnTo>
                <a:lnTo>
                  <a:pt x="12" y="1208"/>
                </a:lnTo>
                <a:lnTo>
                  <a:pt x="0" y="1196"/>
                </a:lnTo>
                <a:lnTo>
                  <a:pt x="0" y="1183"/>
                </a:lnTo>
                <a:lnTo>
                  <a:pt x="12" y="1158"/>
                </a:lnTo>
                <a:lnTo>
                  <a:pt x="25" y="1145"/>
                </a:lnTo>
                <a:lnTo>
                  <a:pt x="38" y="1120"/>
                </a:lnTo>
                <a:lnTo>
                  <a:pt x="63" y="1095"/>
                </a:lnTo>
                <a:lnTo>
                  <a:pt x="88" y="1057"/>
                </a:lnTo>
                <a:lnTo>
                  <a:pt x="113" y="1032"/>
                </a:lnTo>
                <a:lnTo>
                  <a:pt x="138" y="994"/>
                </a:lnTo>
                <a:lnTo>
                  <a:pt x="176" y="957"/>
                </a:lnTo>
                <a:lnTo>
                  <a:pt x="201" y="906"/>
                </a:lnTo>
                <a:lnTo>
                  <a:pt x="239" y="856"/>
                </a:lnTo>
                <a:lnTo>
                  <a:pt x="277" y="806"/>
                </a:lnTo>
                <a:lnTo>
                  <a:pt x="302" y="755"/>
                </a:lnTo>
                <a:lnTo>
                  <a:pt x="340" y="705"/>
                </a:lnTo>
                <a:lnTo>
                  <a:pt x="378" y="642"/>
                </a:lnTo>
                <a:lnTo>
                  <a:pt x="416" y="592"/>
                </a:lnTo>
                <a:lnTo>
                  <a:pt x="441" y="529"/>
                </a:lnTo>
                <a:lnTo>
                  <a:pt x="466" y="478"/>
                </a:lnTo>
                <a:lnTo>
                  <a:pt x="491" y="428"/>
                </a:lnTo>
                <a:lnTo>
                  <a:pt x="517" y="378"/>
                </a:lnTo>
                <a:lnTo>
                  <a:pt x="529" y="340"/>
                </a:lnTo>
                <a:lnTo>
                  <a:pt x="542" y="290"/>
                </a:lnTo>
                <a:lnTo>
                  <a:pt x="554" y="252"/>
                </a:lnTo>
                <a:lnTo>
                  <a:pt x="567" y="214"/>
                </a:lnTo>
                <a:lnTo>
                  <a:pt x="580" y="176"/>
                </a:lnTo>
                <a:lnTo>
                  <a:pt x="580" y="138"/>
                </a:lnTo>
                <a:lnTo>
                  <a:pt x="580" y="126"/>
                </a:lnTo>
                <a:lnTo>
                  <a:pt x="580" y="101"/>
                </a:lnTo>
                <a:lnTo>
                  <a:pt x="580" y="76"/>
                </a:lnTo>
                <a:lnTo>
                  <a:pt x="567" y="76"/>
                </a:lnTo>
                <a:lnTo>
                  <a:pt x="554" y="50"/>
                </a:lnTo>
                <a:lnTo>
                  <a:pt x="554" y="38"/>
                </a:lnTo>
                <a:lnTo>
                  <a:pt x="554" y="25"/>
                </a:lnTo>
                <a:lnTo>
                  <a:pt x="567" y="13"/>
                </a:lnTo>
                <a:lnTo>
                  <a:pt x="592" y="0"/>
                </a:lnTo>
                <a:lnTo>
                  <a:pt x="605" y="0"/>
                </a:lnTo>
                <a:lnTo>
                  <a:pt x="630" y="0"/>
                </a:lnTo>
                <a:lnTo>
                  <a:pt x="668" y="0"/>
                </a:lnTo>
                <a:lnTo>
                  <a:pt x="693" y="13"/>
                </a:lnTo>
                <a:lnTo>
                  <a:pt x="731" y="25"/>
                </a:lnTo>
                <a:lnTo>
                  <a:pt x="756" y="38"/>
                </a:lnTo>
                <a:lnTo>
                  <a:pt x="794" y="63"/>
                </a:lnTo>
                <a:lnTo>
                  <a:pt x="819" y="88"/>
                </a:lnTo>
                <a:lnTo>
                  <a:pt x="844" y="113"/>
                </a:lnTo>
                <a:lnTo>
                  <a:pt x="844" y="126"/>
                </a:lnTo>
                <a:lnTo>
                  <a:pt x="857" y="151"/>
                </a:lnTo>
                <a:lnTo>
                  <a:pt x="844" y="176"/>
                </a:lnTo>
                <a:lnTo>
                  <a:pt x="844" y="201"/>
                </a:lnTo>
                <a:lnTo>
                  <a:pt x="832" y="239"/>
                </a:lnTo>
                <a:lnTo>
                  <a:pt x="819" y="290"/>
                </a:lnTo>
                <a:lnTo>
                  <a:pt x="806" y="315"/>
                </a:lnTo>
                <a:lnTo>
                  <a:pt x="781" y="352"/>
                </a:lnTo>
                <a:lnTo>
                  <a:pt x="769" y="390"/>
                </a:lnTo>
                <a:lnTo>
                  <a:pt x="743" y="428"/>
                </a:lnTo>
                <a:lnTo>
                  <a:pt x="706" y="478"/>
                </a:lnTo>
                <a:lnTo>
                  <a:pt x="680" y="541"/>
                </a:lnTo>
                <a:lnTo>
                  <a:pt x="643" y="604"/>
                </a:lnTo>
                <a:lnTo>
                  <a:pt x="592" y="667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17"/>
          <p:cNvSpPr/>
          <p:nvPr/>
        </p:nvSpPr>
        <p:spPr>
          <a:xfrm>
            <a:off x="3774960" y="2778120"/>
            <a:ext cx="2016360" cy="790560"/>
          </a:xfrm>
          <a:custGeom>
            <a:avLst/>
            <a:gdLst/>
            <a:ahLst/>
            <a:rect l="l" t="t" r="r" b="b"/>
            <a:pathLst>
              <a:path w="3176" h="1246">
                <a:moveTo>
                  <a:pt x="1740" y="742"/>
                </a:moveTo>
                <a:lnTo>
                  <a:pt x="1853" y="780"/>
                </a:lnTo>
                <a:lnTo>
                  <a:pt x="1966" y="805"/>
                </a:lnTo>
                <a:lnTo>
                  <a:pt x="2092" y="830"/>
                </a:lnTo>
                <a:lnTo>
                  <a:pt x="2206" y="856"/>
                </a:lnTo>
                <a:lnTo>
                  <a:pt x="2332" y="881"/>
                </a:lnTo>
                <a:lnTo>
                  <a:pt x="2458" y="893"/>
                </a:lnTo>
                <a:lnTo>
                  <a:pt x="2571" y="906"/>
                </a:lnTo>
                <a:lnTo>
                  <a:pt x="2697" y="906"/>
                </a:lnTo>
                <a:lnTo>
                  <a:pt x="2761" y="919"/>
                </a:lnTo>
                <a:lnTo>
                  <a:pt x="2824" y="919"/>
                </a:lnTo>
                <a:lnTo>
                  <a:pt x="2874" y="919"/>
                </a:lnTo>
                <a:lnTo>
                  <a:pt x="2912" y="919"/>
                </a:lnTo>
                <a:lnTo>
                  <a:pt x="2962" y="931"/>
                </a:lnTo>
                <a:lnTo>
                  <a:pt x="3000" y="931"/>
                </a:lnTo>
                <a:lnTo>
                  <a:pt x="3038" y="931"/>
                </a:lnTo>
                <a:lnTo>
                  <a:pt x="3063" y="944"/>
                </a:lnTo>
                <a:lnTo>
                  <a:pt x="3088" y="944"/>
                </a:lnTo>
                <a:lnTo>
                  <a:pt x="3113" y="944"/>
                </a:lnTo>
                <a:lnTo>
                  <a:pt x="3139" y="944"/>
                </a:lnTo>
                <a:lnTo>
                  <a:pt x="3151" y="956"/>
                </a:lnTo>
                <a:lnTo>
                  <a:pt x="3164" y="956"/>
                </a:lnTo>
                <a:lnTo>
                  <a:pt x="3176" y="969"/>
                </a:lnTo>
                <a:lnTo>
                  <a:pt x="3164" y="969"/>
                </a:lnTo>
                <a:lnTo>
                  <a:pt x="3151" y="982"/>
                </a:lnTo>
                <a:lnTo>
                  <a:pt x="3139" y="994"/>
                </a:lnTo>
                <a:lnTo>
                  <a:pt x="3101" y="1007"/>
                </a:lnTo>
                <a:lnTo>
                  <a:pt x="3063" y="1032"/>
                </a:lnTo>
                <a:lnTo>
                  <a:pt x="3025" y="1044"/>
                </a:lnTo>
                <a:lnTo>
                  <a:pt x="2962" y="1070"/>
                </a:lnTo>
                <a:lnTo>
                  <a:pt x="2899" y="1095"/>
                </a:lnTo>
                <a:lnTo>
                  <a:pt x="2824" y="1107"/>
                </a:lnTo>
                <a:lnTo>
                  <a:pt x="2748" y="1133"/>
                </a:lnTo>
                <a:lnTo>
                  <a:pt x="2672" y="1158"/>
                </a:lnTo>
                <a:lnTo>
                  <a:pt x="2609" y="1183"/>
                </a:lnTo>
                <a:lnTo>
                  <a:pt x="2546" y="1195"/>
                </a:lnTo>
                <a:lnTo>
                  <a:pt x="2483" y="1208"/>
                </a:lnTo>
                <a:lnTo>
                  <a:pt x="2433" y="1221"/>
                </a:lnTo>
                <a:lnTo>
                  <a:pt x="2382" y="1233"/>
                </a:lnTo>
                <a:lnTo>
                  <a:pt x="2345" y="1233"/>
                </a:lnTo>
                <a:lnTo>
                  <a:pt x="2256" y="1246"/>
                </a:lnTo>
                <a:lnTo>
                  <a:pt x="2181" y="1246"/>
                </a:lnTo>
                <a:lnTo>
                  <a:pt x="2105" y="1233"/>
                </a:lnTo>
                <a:lnTo>
                  <a:pt x="2042" y="1221"/>
                </a:lnTo>
                <a:lnTo>
                  <a:pt x="2029" y="1221"/>
                </a:lnTo>
                <a:lnTo>
                  <a:pt x="2017" y="1208"/>
                </a:lnTo>
                <a:lnTo>
                  <a:pt x="2004" y="1208"/>
                </a:lnTo>
                <a:lnTo>
                  <a:pt x="1979" y="1195"/>
                </a:lnTo>
                <a:lnTo>
                  <a:pt x="1966" y="1183"/>
                </a:lnTo>
                <a:lnTo>
                  <a:pt x="1929" y="1170"/>
                </a:lnTo>
                <a:lnTo>
                  <a:pt x="1903" y="1158"/>
                </a:lnTo>
                <a:lnTo>
                  <a:pt x="1866" y="1133"/>
                </a:lnTo>
                <a:lnTo>
                  <a:pt x="1828" y="1120"/>
                </a:lnTo>
                <a:lnTo>
                  <a:pt x="1790" y="1095"/>
                </a:lnTo>
                <a:lnTo>
                  <a:pt x="1740" y="1070"/>
                </a:lnTo>
                <a:lnTo>
                  <a:pt x="1702" y="1044"/>
                </a:lnTo>
                <a:lnTo>
                  <a:pt x="1651" y="1019"/>
                </a:lnTo>
                <a:lnTo>
                  <a:pt x="1588" y="982"/>
                </a:lnTo>
                <a:lnTo>
                  <a:pt x="1525" y="956"/>
                </a:lnTo>
                <a:lnTo>
                  <a:pt x="1462" y="919"/>
                </a:lnTo>
                <a:lnTo>
                  <a:pt x="1399" y="881"/>
                </a:lnTo>
                <a:lnTo>
                  <a:pt x="1336" y="843"/>
                </a:lnTo>
                <a:lnTo>
                  <a:pt x="1261" y="805"/>
                </a:lnTo>
                <a:lnTo>
                  <a:pt x="1185" y="755"/>
                </a:lnTo>
                <a:lnTo>
                  <a:pt x="1109" y="717"/>
                </a:lnTo>
                <a:lnTo>
                  <a:pt x="1021" y="667"/>
                </a:lnTo>
                <a:lnTo>
                  <a:pt x="933" y="616"/>
                </a:lnTo>
                <a:lnTo>
                  <a:pt x="845" y="566"/>
                </a:lnTo>
                <a:lnTo>
                  <a:pt x="744" y="516"/>
                </a:lnTo>
                <a:lnTo>
                  <a:pt x="656" y="465"/>
                </a:lnTo>
                <a:lnTo>
                  <a:pt x="555" y="403"/>
                </a:lnTo>
                <a:lnTo>
                  <a:pt x="441" y="352"/>
                </a:lnTo>
                <a:lnTo>
                  <a:pt x="341" y="289"/>
                </a:lnTo>
                <a:lnTo>
                  <a:pt x="227" y="226"/>
                </a:lnTo>
                <a:lnTo>
                  <a:pt x="114" y="163"/>
                </a:lnTo>
                <a:lnTo>
                  <a:pt x="0" y="88"/>
                </a:lnTo>
                <a:lnTo>
                  <a:pt x="38" y="0"/>
                </a:lnTo>
                <a:lnTo>
                  <a:pt x="101" y="25"/>
                </a:lnTo>
                <a:lnTo>
                  <a:pt x="164" y="63"/>
                </a:lnTo>
                <a:lnTo>
                  <a:pt x="240" y="100"/>
                </a:lnTo>
                <a:lnTo>
                  <a:pt x="328" y="138"/>
                </a:lnTo>
                <a:lnTo>
                  <a:pt x="429" y="189"/>
                </a:lnTo>
                <a:lnTo>
                  <a:pt x="530" y="239"/>
                </a:lnTo>
                <a:lnTo>
                  <a:pt x="643" y="302"/>
                </a:lnTo>
                <a:lnTo>
                  <a:pt x="769" y="352"/>
                </a:lnTo>
                <a:lnTo>
                  <a:pt x="895" y="415"/>
                </a:lnTo>
                <a:lnTo>
                  <a:pt x="1021" y="478"/>
                </a:lnTo>
                <a:lnTo>
                  <a:pt x="1147" y="528"/>
                </a:lnTo>
                <a:lnTo>
                  <a:pt x="1261" y="579"/>
                </a:lnTo>
                <a:lnTo>
                  <a:pt x="1387" y="629"/>
                </a:lnTo>
                <a:lnTo>
                  <a:pt x="1500" y="667"/>
                </a:lnTo>
                <a:lnTo>
                  <a:pt x="1626" y="705"/>
                </a:lnTo>
                <a:lnTo>
                  <a:pt x="1740" y="742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18"/>
          <p:cNvSpPr/>
          <p:nvPr/>
        </p:nvSpPr>
        <p:spPr>
          <a:xfrm>
            <a:off x="4087800" y="2386080"/>
            <a:ext cx="174600" cy="639720"/>
          </a:xfrm>
          <a:custGeom>
            <a:avLst/>
            <a:gdLst/>
            <a:ahLst/>
            <a:rect l="l" t="t" r="r" b="b"/>
            <a:pathLst>
              <a:path w="277" h="1007">
                <a:moveTo>
                  <a:pt x="264" y="151"/>
                </a:moveTo>
                <a:lnTo>
                  <a:pt x="264" y="176"/>
                </a:lnTo>
                <a:lnTo>
                  <a:pt x="277" y="201"/>
                </a:lnTo>
                <a:lnTo>
                  <a:pt x="264" y="227"/>
                </a:lnTo>
                <a:lnTo>
                  <a:pt x="264" y="252"/>
                </a:lnTo>
                <a:lnTo>
                  <a:pt x="252" y="252"/>
                </a:lnTo>
                <a:lnTo>
                  <a:pt x="252" y="264"/>
                </a:lnTo>
                <a:lnTo>
                  <a:pt x="252" y="289"/>
                </a:lnTo>
                <a:lnTo>
                  <a:pt x="252" y="315"/>
                </a:lnTo>
                <a:lnTo>
                  <a:pt x="252" y="340"/>
                </a:lnTo>
                <a:lnTo>
                  <a:pt x="239" y="378"/>
                </a:lnTo>
                <a:lnTo>
                  <a:pt x="239" y="415"/>
                </a:lnTo>
                <a:lnTo>
                  <a:pt x="239" y="453"/>
                </a:lnTo>
                <a:lnTo>
                  <a:pt x="227" y="503"/>
                </a:lnTo>
                <a:lnTo>
                  <a:pt x="227" y="566"/>
                </a:lnTo>
                <a:lnTo>
                  <a:pt x="227" y="629"/>
                </a:lnTo>
                <a:lnTo>
                  <a:pt x="227" y="692"/>
                </a:lnTo>
                <a:lnTo>
                  <a:pt x="214" y="755"/>
                </a:lnTo>
                <a:lnTo>
                  <a:pt x="214" y="831"/>
                </a:lnTo>
                <a:lnTo>
                  <a:pt x="214" y="919"/>
                </a:lnTo>
                <a:lnTo>
                  <a:pt x="201" y="1007"/>
                </a:lnTo>
                <a:lnTo>
                  <a:pt x="50" y="957"/>
                </a:lnTo>
                <a:lnTo>
                  <a:pt x="50" y="881"/>
                </a:lnTo>
                <a:lnTo>
                  <a:pt x="50" y="806"/>
                </a:lnTo>
                <a:lnTo>
                  <a:pt x="50" y="730"/>
                </a:lnTo>
                <a:lnTo>
                  <a:pt x="50" y="655"/>
                </a:lnTo>
                <a:lnTo>
                  <a:pt x="50" y="579"/>
                </a:lnTo>
                <a:lnTo>
                  <a:pt x="50" y="516"/>
                </a:lnTo>
                <a:lnTo>
                  <a:pt x="38" y="453"/>
                </a:lnTo>
                <a:lnTo>
                  <a:pt x="38" y="390"/>
                </a:lnTo>
                <a:lnTo>
                  <a:pt x="38" y="340"/>
                </a:lnTo>
                <a:lnTo>
                  <a:pt x="38" y="277"/>
                </a:lnTo>
                <a:lnTo>
                  <a:pt x="25" y="227"/>
                </a:lnTo>
                <a:lnTo>
                  <a:pt x="25" y="176"/>
                </a:lnTo>
                <a:lnTo>
                  <a:pt x="25" y="126"/>
                </a:lnTo>
                <a:lnTo>
                  <a:pt x="12" y="88"/>
                </a:lnTo>
                <a:lnTo>
                  <a:pt x="12" y="50"/>
                </a:lnTo>
                <a:lnTo>
                  <a:pt x="0" y="0"/>
                </a:lnTo>
                <a:lnTo>
                  <a:pt x="63" y="25"/>
                </a:lnTo>
                <a:lnTo>
                  <a:pt x="101" y="50"/>
                </a:lnTo>
                <a:lnTo>
                  <a:pt x="151" y="76"/>
                </a:lnTo>
                <a:lnTo>
                  <a:pt x="189" y="88"/>
                </a:lnTo>
                <a:lnTo>
                  <a:pt x="214" y="113"/>
                </a:lnTo>
                <a:lnTo>
                  <a:pt x="239" y="126"/>
                </a:lnTo>
                <a:lnTo>
                  <a:pt x="252" y="138"/>
                </a:lnTo>
                <a:lnTo>
                  <a:pt x="264" y="15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19"/>
          <p:cNvSpPr/>
          <p:nvPr/>
        </p:nvSpPr>
        <p:spPr>
          <a:xfrm>
            <a:off x="4167360" y="2585880"/>
            <a:ext cx="350640" cy="119160"/>
          </a:xfrm>
          <a:custGeom>
            <a:avLst/>
            <a:gdLst/>
            <a:ahLst/>
            <a:rect l="l" t="t" r="r" b="b"/>
            <a:pathLst>
              <a:path w="554" h="188">
                <a:moveTo>
                  <a:pt x="252" y="25"/>
                </a:moveTo>
                <a:lnTo>
                  <a:pt x="315" y="12"/>
                </a:lnTo>
                <a:lnTo>
                  <a:pt x="365" y="0"/>
                </a:lnTo>
                <a:lnTo>
                  <a:pt x="416" y="0"/>
                </a:lnTo>
                <a:lnTo>
                  <a:pt x="466" y="12"/>
                </a:lnTo>
                <a:lnTo>
                  <a:pt x="479" y="12"/>
                </a:lnTo>
                <a:lnTo>
                  <a:pt x="504" y="25"/>
                </a:lnTo>
                <a:lnTo>
                  <a:pt x="517" y="25"/>
                </a:lnTo>
                <a:lnTo>
                  <a:pt x="529" y="37"/>
                </a:lnTo>
                <a:lnTo>
                  <a:pt x="542" y="50"/>
                </a:lnTo>
                <a:lnTo>
                  <a:pt x="542" y="63"/>
                </a:lnTo>
                <a:lnTo>
                  <a:pt x="554" y="75"/>
                </a:lnTo>
                <a:lnTo>
                  <a:pt x="542" y="88"/>
                </a:lnTo>
                <a:lnTo>
                  <a:pt x="529" y="100"/>
                </a:lnTo>
                <a:lnTo>
                  <a:pt x="529" y="113"/>
                </a:lnTo>
                <a:lnTo>
                  <a:pt x="504" y="126"/>
                </a:lnTo>
                <a:lnTo>
                  <a:pt x="491" y="126"/>
                </a:lnTo>
                <a:lnTo>
                  <a:pt x="466" y="138"/>
                </a:lnTo>
                <a:lnTo>
                  <a:pt x="441" y="151"/>
                </a:lnTo>
                <a:lnTo>
                  <a:pt x="416" y="163"/>
                </a:lnTo>
                <a:lnTo>
                  <a:pt x="378" y="176"/>
                </a:lnTo>
                <a:lnTo>
                  <a:pt x="328" y="176"/>
                </a:lnTo>
                <a:lnTo>
                  <a:pt x="277" y="176"/>
                </a:lnTo>
                <a:lnTo>
                  <a:pt x="214" y="188"/>
                </a:lnTo>
                <a:lnTo>
                  <a:pt x="151" y="188"/>
                </a:lnTo>
                <a:lnTo>
                  <a:pt x="75" y="188"/>
                </a:lnTo>
                <a:lnTo>
                  <a:pt x="0" y="188"/>
                </a:lnTo>
                <a:lnTo>
                  <a:pt x="0" y="63"/>
                </a:lnTo>
                <a:lnTo>
                  <a:pt x="63" y="63"/>
                </a:lnTo>
                <a:lnTo>
                  <a:pt x="126" y="63"/>
                </a:lnTo>
                <a:lnTo>
                  <a:pt x="189" y="50"/>
                </a:lnTo>
                <a:lnTo>
                  <a:pt x="252" y="2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图片 2" descr=""/>
          <p:cNvPicPr/>
          <p:nvPr/>
        </p:nvPicPr>
        <p:blipFill>
          <a:blip r:embed="rId2"/>
          <a:stretch/>
        </p:blipFill>
        <p:spPr>
          <a:xfrm>
            <a:off x="357120" y="4545000"/>
            <a:ext cx="84949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38"/>
          <p:cNvGrpSpPr/>
          <p:nvPr/>
        </p:nvGrpSpPr>
        <p:grpSpPr>
          <a:xfrm>
            <a:off x="3281400" y="1222200"/>
            <a:ext cx="2541600" cy="2538720"/>
            <a:chOff x="3281400" y="1222200"/>
            <a:chExt cx="2541600" cy="2538720"/>
          </a:xfrm>
        </p:grpSpPr>
        <p:sp>
          <p:nvSpPr>
            <p:cNvPr id="207" name="直接连接符 3"/>
            <p:cNvSpPr/>
            <p:nvPr/>
          </p:nvSpPr>
          <p:spPr>
            <a:xfrm>
              <a:off x="3303360" y="2489040"/>
              <a:ext cx="2519640" cy="14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接连接符 4"/>
            <p:cNvSpPr/>
            <p:nvPr/>
          </p:nvSpPr>
          <p:spPr>
            <a:xfrm flipH="1">
              <a:off x="4529160" y="1222200"/>
              <a:ext cx="1440" cy="252000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2"/>
            <p:cNvSpPr/>
            <p:nvPr/>
          </p:nvSpPr>
          <p:spPr>
            <a:xfrm>
              <a:off x="3281400" y="1240920"/>
              <a:ext cx="2519640" cy="2520000"/>
            </a:xfrm>
            <a:prstGeom prst="rect">
              <a:avLst/>
            </a:prstGeom>
            <a:noFill/>
            <a:ln w="25560">
              <a:solidFill>
                <a:srgbClr val="2e75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Freeform 6"/>
          <p:cNvSpPr/>
          <p:nvPr/>
        </p:nvSpPr>
        <p:spPr>
          <a:xfrm>
            <a:off x="3801960" y="1481040"/>
            <a:ext cx="142920" cy="766800"/>
          </a:xfrm>
          <a:custGeom>
            <a:avLst/>
            <a:gdLst/>
            <a:ahLst/>
            <a:rect l="l" t="t" r="r" b="b"/>
            <a:pathLst>
              <a:path w="227" h="1208">
                <a:moveTo>
                  <a:pt x="25" y="113"/>
                </a:moveTo>
                <a:lnTo>
                  <a:pt x="0" y="88"/>
                </a:lnTo>
                <a:lnTo>
                  <a:pt x="0" y="50"/>
                </a:lnTo>
                <a:lnTo>
                  <a:pt x="0" y="25"/>
                </a:lnTo>
                <a:lnTo>
                  <a:pt x="0" y="12"/>
                </a:lnTo>
                <a:lnTo>
                  <a:pt x="12" y="0"/>
                </a:lnTo>
                <a:lnTo>
                  <a:pt x="25" y="0"/>
                </a:lnTo>
                <a:lnTo>
                  <a:pt x="50" y="0"/>
                </a:lnTo>
                <a:lnTo>
                  <a:pt x="75" y="0"/>
                </a:lnTo>
                <a:lnTo>
                  <a:pt x="101" y="12"/>
                </a:lnTo>
                <a:lnTo>
                  <a:pt x="138" y="12"/>
                </a:lnTo>
                <a:lnTo>
                  <a:pt x="189" y="25"/>
                </a:lnTo>
                <a:lnTo>
                  <a:pt x="227" y="37"/>
                </a:lnTo>
                <a:lnTo>
                  <a:pt x="227" y="138"/>
                </a:lnTo>
                <a:lnTo>
                  <a:pt x="227" y="226"/>
                </a:lnTo>
                <a:lnTo>
                  <a:pt x="227" y="314"/>
                </a:lnTo>
                <a:lnTo>
                  <a:pt x="227" y="402"/>
                </a:lnTo>
                <a:lnTo>
                  <a:pt x="227" y="478"/>
                </a:lnTo>
                <a:lnTo>
                  <a:pt x="227" y="553"/>
                </a:lnTo>
                <a:lnTo>
                  <a:pt x="227" y="629"/>
                </a:lnTo>
                <a:lnTo>
                  <a:pt x="227" y="692"/>
                </a:lnTo>
                <a:lnTo>
                  <a:pt x="227" y="742"/>
                </a:lnTo>
                <a:lnTo>
                  <a:pt x="214" y="805"/>
                </a:lnTo>
                <a:lnTo>
                  <a:pt x="214" y="856"/>
                </a:lnTo>
                <a:lnTo>
                  <a:pt x="214" y="906"/>
                </a:lnTo>
                <a:lnTo>
                  <a:pt x="202" y="944"/>
                </a:lnTo>
                <a:lnTo>
                  <a:pt x="202" y="981"/>
                </a:lnTo>
                <a:lnTo>
                  <a:pt x="202" y="1007"/>
                </a:lnTo>
                <a:lnTo>
                  <a:pt x="189" y="1044"/>
                </a:lnTo>
                <a:lnTo>
                  <a:pt x="176" y="1082"/>
                </a:lnTo>
                <a:lnTo>
                  <a:pt x="176" y="1120"/>
                </a:lnTo>
                <a:lnTo>
                  <a:pt x="164" y="1158"/>
                </a:lnTo>
                <a:lnTo>
                  <a:pt x="151" y="1183"/>
                </a:lnTo>
                <a:lnTo>
                  <a:pt x="138" y="1195"/>
                </a:lnTo>
                <a:lnTo>
                  <a:pt x="126" y="1208"/>
                </a:lnTo>
                <a:lnTo>
                  <a:pt x="113" y="1208"/>
                </a:lnTo>
                <a:lnTo>
                  <a:pt x="88" y="1183"/>
                </a:lnTo>
                <a:lnTo>
                  <a:pt x="63" y="1158"/>
                </a:lnTo>
                <a:lnTo>
                  <a:pt x="50" y="1120"/>
                </a:lnTo>
                <a:lnTo>
                  <a:pt x="50" y="1082"/>
                </a:lnTo>
                <a:lnTo>
                  <a:pt x="38" y="1032"/>
                </a:lnTo>
                <a:lnTo>
                  <a:pt x="38" y="994"/>
                </a:lnTo>
                <a:lnTo>
                  <a:pt x="38" y="956"/>
                </a:lnTo>
                <a:lnTo>
                  <a:pt x="50" y="918"/>
                </a:lnTo>
                <a:lnTo>
                  <a:pt x="50" y="893"/>
                </a:lnTo>
                <a:lnTo>
                  <a:pt x="50" y="856"/>
                </a:lnTo>
                <a:lnTo>
                  <a:pt x="50" y="818"/>
                </a:lnTo>
                <a:lnTo>
                  <a:pt x="63" y="780"/>
                </a:lnTo>
                <a:lnTo>
                  <a:pt x="63" y="717"/>
                </a:lnTo>
                <a:lnTo>
                  <a:pt x="63" y="667"/>
                </a:lnTo>
                <a:lnTo>
                  <a:pt x="63" y="591"/>
                </a:lnTo>
                <a:lnTo>
                  <a:pt x="63" y="516"/>
                </a:lnTo>
                <a:lnTo>
                  <a:pt x="63" y="440"/>
                </a:lnTo>
                <a:lnTo>
                  <a:pt x="63" y="377"/>
                </a:lnTo>
                <a:lnTo>
                  <a:pt x="50" y="314"/>
                </a:lnTo>
                <a:lnTo>
                  <a:pt x="50" y="251"/>
                </a:lnTo>
                <a:lnTo>
                  <a:pt x="50" y="214"/>
                </a:lnTo>
                <a:lnTo>
                  <a:pt x="38" y="176"/>
                </a:lnTo>
                <a:lnTo>
                  <a:pt x="25" y="138"/>
                </a:lnTo>
                <a:lnTo>
                  <a:pt x="25" y="11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3841920" y="1407960"/>
            <a:ext cx="631800" cy="800280"/>
          </a:xfrm>
          <a:custGeom>
            <a:avLst/>
            <a:gdLst/>
            <a:ahLst/>
            <a:rect l="l" t="t" r="r" b="b"/>
            <a:pathLst>
              <a:path w="996" h="1259">
                <a:moveTo>
                  <a:pt x="882" y="76"/>
                </a:moveTo>
                <a:lnTo>
                  <a:pt x="920" y="101"/>
                </a:lnTo>
                <a:lnTo>
                  <a:pt x="933" y="114"/>
                </a:lnTo>
                <a:lnTo>
                  <a:pt x="958" y="126"/>
                </a:lnTo>
                <a:lnTo>
                  <a:pt x="970" y="139"/>
                </a:lnTo>
                <a:lnTo>
                  <a:pt x="983" y="151"/>
                </a:lnTo>
                <a:lnTo>
                  <a:pt x="996" y="164"/>
                </a:lnTo>
                <a:lnTo>
                  <a:pt x="996" y="177"/>
                </a:lnTo>
                <a:lnTo>
                  <a:pt x="996" y="189"/>
                </a:lnTo>
                <a:lnTo>
                  <a:pt x="996" y="202"/>
                </a:lnTo>
                <a:lnTo>
                  <a:pt x="983" y="227"/>
                </a:lnTo>
                <a:lnTo>
                  <a:pt x="970" y="239"/>
                </a:lnTo>
                <a:lnTo>
                  <a:pt x="958" y="265"/>
                </a:lnTo>
                <a:lnTo>
                  <a:pt x="958" y="277"/>
                </a:lnTo>
                <a:lnTo>
                  <a:pt x="945" y="277"/>
                </a:lnTo>
                <a:lnTo>
                  <a:pt x="945" y="302"/>
                </a:lnTo>
                <a:lnTo>
                  <a:pt x="945" y="315"/>
                </a:lnTo>
                <a:lnTo>
                  <a:pt x="933" y="340"/>
                </a:lnTo>
                <a:lnTo>
                  <a:pt x="933" y="365"/>
                </a:lnTo>
                <a:lnTo>
                  <a:pt x="933" y="391"/>
                </a:lnTo>
                <a:lnTo>
                  <a:pt x="920" y="416"/>
                </a:lnTo>
                <a:lnTo>
                  <a:pt x="920" y="453"/>
                </a:lnTo>
                <a:lnTo>
                  <a:pt x="920" y="491"/>
                </a:lnTo>
                <a:lnTo>
                  <a:pt x="920" y="542"/>
                </a:lnTo>
                <a:lnTo>
                  <a:pt x="920" y="579"/>
                </a:lnTo>
                <a:lnTo>
                  <a:pt x="907" y="630"/>
                </a:lnTo>
                <a:lnTo>
                  <a:pt x="907" y="680"/>
                </a:lnTo>
                <a:lnTo>
                  <a:pt x="907" y="730"/>
                </a:lnTo>
                <a:lnTo>
                  <a:pt x="907" y="793"/>
                </a:lnTo>
                <a:lnTo>
                  <a:pt x="907" y="856"/>
                </a:lnTo>
                <a:lnTo>
                  <a:pt x="895" y="907"/>
                </a:lnTo>
                <a:lnTo>
                  <a:pt x="895" y="957"/>
                </a:lnTo>
                <a:lnTo>
                  <a:pt x="895" y="1007"/>
                </a:lnTo>
                <a:lnTo>
                  <a:pt x="882" y="1045"/>
                </a:lnTo>
                <a:lnTo>
                  <a:pt x="882" y="1083"/>
                </a:lnTo>
                <a:lnTo>
                  <a:pt x="870" y="1121"/>
                </a:lnTo>
                <a:lnTo>
                  <a:pt x="870" y="1146"/>
                </a:lnTo>
                <a:lnTo>
                  <a:pt x="857" y="1183"/>
                </a:lnTo>
                <a:lnTo>
                  <a:pt x="857" y="1196"/>
                </a:lnTo>
                <a:lnTo>
                  <a:pt x="844" y="1221"/>
                </a:lnTo>
                <a:lnTo>
                  <a:pt x="832" y="1234"/>
                </a:lnTo>
                <a:lnTo>
                  <a:pt x="832" y="1246"/>
                </a:lnTo>
                <a:lnTo>
                  <a:pt x="819" y="1246"/>
                </a:lnTo>
                <a:lnTo>
                  <a:pt x="807" y="1259"/>
                </a:lnTo>
                <a:lnTo>
                  <a:pt x="794" y="1259"/>
                </a:lnTo>
                <a:lnTo>
                  <a:pt x="781" y="1246"/>
                </a:lnTo>
                <a:lnTo>
                  <a:pt x="769" y="1246"/>
                </a:lnTo>
                <a:lnTo>
                  <a:pt x="769" y="1234"/>
                </a:lnTo>
                <a:lnTo>
                  <a:pt x="756" y="1221"/>
                </a:lnTo>
                <a:lnTo>
                  <a:pt x="743" y="1209"/>
                </a:lnTo>
                <a:lnTo>
                  <a:pt x="743" y="1183"/>
                </a:lnTo>
                <a:lnTo>
                  <a:pt x="731" y="1171"/>
                </a:lnTo>
                <a:lnTo>
                  <a:pt x="731" y="1146"/>
                </a:lnTo>
                <a:lnTo>
                  <a:pt x="731" y="1121"/>
                </a:lnTo>
                <a:lnTo>
                  <a:pt x="718" y="1095"/>
                </a:lnTo>
                <a:lnTo>
                  <a:pt x="718" y="1070"/>
                </a:lnTo>
                <a:lnTo>
                  <a:pt x="718" y="1032"/>
                </a:lnTo>
                <a:lnTo>
                  <a:pt x="718" y="995"/>
                </a:lnTo>
                <a:lnTo>
                  <a:pt x="718" y="957"/>
                </a:lnTo>
                <a:lnTo>
                  <a:pt x="718" y="919"/>
                </a:lnTo>
                <a:lnTo>
                  <a:pt x="718" y="881"/>
                </a:lnTo>
                <a:lnTo>
                  <a:pt x="731" y="793"/>
                </a:lnTo>
                <a:lnTo>
                  <a:pt x="731" y="718"/>
                </a:lnTo>
                <a:lnTo>
                  <a:pt x="743" y="642"/>
                </a:lnTo>
                <a:lnTo>
                  <a:pt x="743" y="579"/>
                </a:lnTo>
                <a:lnTo>
                  <a:pt x="743" y="516"/>
                </a:lnTo>
                <a:lnTo>
                  <a:pt x="743" y="466"/>
                </a:lnTo>
                <a:lnTo>
                  <a:pt x="743" y="416"/>
                </a:lnTo>
                <a:lnTo>
                  <a:pt x="743" y="378"/>
                </a:lnTo>
                <a:lnTo>
                  <a:pt x="743" y="353"/>
                </a:lnTo>
                <a:lnTo>
                  <a:pt x="743" y="315"/>
                </a:lnTo>
                <a:lnTo>
                  <a:pt x="743" y="290"/>
                </a:lnTo>
                <a:lnTo>
                  <a:pt x="743" y="265"/>
                </a:lnTo>
                <a:lnTo>
                  <a:pt x="743" y="239"/>
                </a:lnTo>
                <a:lnTo>
                  <a:pt x="731" y="227"/>
                </a:lnTo>
                <a:lnTo>
                  <a:pt x="731" y="214"/>
                </a:lnTo>
                <a:lnTo>
                  <a:pt x="718" y="214"/>
                </a:lnTo>
                <a:lnTo>
                  <a:pt x="718" y="202"/>
                </a:lnTo>
                <a:lnTo>
                  <a:pt x="706" y="202"/>
                </a:lnTo>
                <a:lnTo>
                  <a:pt x="693" y="202"/>
                </a:lnTo>
                <a:lnTo>
                  <a:pt x="668" y="202"/>
                </a:lnTo>
                <a:lnTo>
                  <a:pt x="643" y="202"/>
                </a:lnTo>
                <a:lnTo>
                  <a:pt x="617" y="202"/>
                </a:lnTo>
                <a:lnTo>
                  <a:pt x="580" y="202"/>
                </a:lnTo>
                <a:lnTo>
                  <a:pt x="542" y="214"/>
                </a:lnTo>
                <a:lnTo>
                  <a:pt x="491" y="214"/>
                </a:lnTo>
                <a:lnTo>
                  <a:pt x="441" y="214"/>
                </a:lnTo>
                <a:lnTo>
                  <a:pt x="391" y="227"/>
                </a:lnTo>
                <a:lnTo>
                  <a:pt x="328" y="227"/>
                </a:lnTo>
                <a:lnTo>
                  <a:pt x="265" y="239"/>
                </a:lnTo>
                <a:lnTo>
                  <a:pt x="189" y="252"/>
                </a:lnTo>
                <a:lnTo>
                  <a:pt x="113" y="252"/>
                </a:lnTo>
                <a:lnTo>
                  <a:pt x="25" y="265"/>
                </a:lnTo>
                <a:lnTo>
                  <a:pt x="0" y="151"/>
                </a:lnTo>
                <a:lnTo>
                  <a:pt x="75" y="151"/>
                </a:lnTo>
                <a:lnTo>
                  <a:pt x="151" y="139"/>
                </a:lnTo>
                <a:lnTo>
                  <a:pt x="214" y="126"/>
                </a:lnTo>
                <a:lnTo>
                  <a:pt x="277" y="114"/>
                </a:lnTo>
                <a:lnTo>
                  <a:pt x="340" y="114"/>
                </a:lnTo>
                <a:lnTo>
                  <a:pt x="391" y="101"/>
                </a:lnTo>
                <a:lnTo>
                  <a:pt x="441" y="101"/>
                </a:lnTo>
                <a:lnTo>
                  <a:pt x="479" y="88"/>
                </a:lnTo>
                <a:lnTo>
                  <a:pt x="517" y="76"/>
                </a:lnTo>
                <a:lnTo>
                  <a:pt x="554" y="76"/>
                </a:lnTo>
                <a:lnTo>
                  <a:pt x="592" y="63"/>
                </a:lnTo>
                <a:lnTo>
                  <a:pt x="617" y="63"/>
                </a:lnTo>
                <a:lnTo>
                  <a:pt x="630" y="51"/>
                </a:lnTo>
                <a:lnTo>
                  <a:pt x="643" y="51"/>
                </a:lnTo>
                <a:lnTo>
                  <a:pt x="655" y="38"/>
                </a:lnTo>
                <a:lnTo>
                  <a:pt x="668" y="38"/>
                </a:lnTo>
                <a:lnTo>
                  <a:pt x="668" y="26"/>
                </a:lnTo>
                <a:lnTo>
                  <a:pt x="693" y="13"/>
                </a:lnTo>
                <a:lnTo>
                  <a:pt x="706" y="0"/>
                </a:lnTo>
                <a:lnTo>
                  <a:pt x="731" y="0"/>
                </a:lnTo>
                <a:lnTo>
                  <a:pt x="743" y="0"/>
                </a:lnTo>
                <a:lnTo>
                  <a:pt x="756" y="0"/>
                </a:lnTo>
                <a:lnTo>
                  <a:pt x="781" y="13"/>
                </a:lnTo>
                <a:lnTo>
                  <a:pt x="794" y="13"/>
                </a:lnTo>
                <a:lnTo>
                  <a:pt x="819" y="26"/>
                </a:lnTo>
                <a:lnTo>
                  <a:pt x="832" y="38"/>
                </a:lnTo>
                <a:lnTo>
                  <a:pt x="857" y="63"/>
                </a:lnTo>
                <a:lnTo>
                  <a:pt x="882" y="7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8"/>
          <p:cNvSpPr/>
          <p:nvPr/>
        </p:nvSpPr>
        <p:spPr>
          <a:xfrm>
            <a:off x="3681360" y="1679400"/>
            <a:ext cx="511200" cy="992520"/>
          </a:xfrm>
          <a:custGeom>
            <a:avLst/>
            <a:gdLst/>
            <a:ahLst/>
            <a:rect l="l" t="t" r="r" b="b"/>
            <a:pathLst>
              <a:path w="806" h="1561">
                <a:moveTo>
                  <a:pt x="0" y="1548"/>
                </a:moveTo>
                <a:lnTo>
                  <a:pt x="0" y="1536"/>
                </a:lnTo>
                <a:lnTo>
                  <a:pt x="12" y="1523"/>
                </a:lnTo>
                <a:lnTo>
                  <a:pt x="25" y="1498"/>
                </a:lnTo>
                <a:lnTo>
                  <a:pt x="38" y="1473"/>
                </a:lnTo>
                <a:lnTo>
                  <a:pt x="63" y="1435"/>
                </a:lnTo>
                <a:lnTo>
                  <a:pt x="101" y="1397"/>
                </a:lnTo>
                <a:lnTo>
                  <a:pt x="138" y="1360"/>
                </a:lnTo>
                <a:lnTo>
                  <a:pt x="189" y="1309"/>
                </a:lnTo>
                <a:lnTo>
                  <a:pt x="239" y="1259"/>
                </a:lnTo>
                <a:lnTo>
                  <a:pt x="277" y="1196"/>
                </a:lnTo>
                <a:lnTo>
                  <a:pt x="327" y="1146"/>
                </a:lnTo>
                <a:lnTo>
                  <a:pt x="365" y="1095"/>
                </a:lnTo>
                <a:lnTo>
                  <a:pt x="403" y="1032"/>
                </a:lnTo>
                <a:lnTo>
                  <a:pt x="428" y="982"/>
                </a:lnTo>
                <a:lnTo>
                  <a:pt x="466" y="919"/>
                </a:lnTo>
                <a:lnTo>
                  <a:pt x="491" y="869"/>
                </a:lnTo>
                <a:lnTo>
                  <a:pt x="517" y="806"/>
                </a:lnTo>
                <a:lnTo>
                  <a:pt x="542" y="743"/>
                </a:lnTo>
                <a:lnTo>
                  <a:pt x="554" y="693"/>
                </a:lnTo>
                <a:lnTo>
                  <a:pt x="567" y="630"/>
                </a:lnTo>
                <a:lnTo>
                  <a:pt x="580" y="567"/>
                </a:lnTo>
                <a:lnTo>
                  <a:pt x="592" y="504"/>
                </a:lnTo>
                <a:lnTo>
                  <a:pt x="605" y="453"/>
                </a:lnTo>
                <a:lnTo>
                  <a:pt x="605" y="390"/>
                </a:lnTo>
                <a:lnTo>
                  <a:pt x="617" y="328"/>
                </a:lnTo>
                <a:lnTo>
                  <a:pt x="617" y="277"/>
                </a:lnTo>
                <a:lnTo>
                  <a:pt x="617" y="239"/>
                </a:lnTo>
                <a:lnTo>
                  <a:pt x="617" y="202"/>
                </a:lnTo>
                <a:lnTo>
                  <a:pt x="605" y="164"/>
                </a:lnTo>
                <a:lnTo>
                  <a:pt x="605" y="139"/>
                </a:lnTo>
                <a:lnTo>
                  <a:pt x="592" y="126"/>
                </a:lnTo>
                <a:lnTo>
                  <a:pt x="580" y="114"/>
                </a:lnTo>
                <a:lnTo>
                  <a:pt x="567" y="88"/>
                </a:lnTo>
                <a:lnTo>
                  <a:pt x="554" y="63"/>
                </a:lnTo>
                <a:lnTo>
                  <a:pt x="554" y="51"/>
                </a:lnTo>
                <a:lnTo>
                  <a:pt x="554" y="25"/>
                </a:lnTo>
                <a:lnTo>
                  <a:pt x="567" y="13"/>
                </a:lnTo>
                <a:lnTo>
                  <a:pt x="580" y="0"/>
                </a:lnTo>
                <a:lnTo>
                  <a:pt x="592" y="0"/>
                </a:lnTo>
                <a:lnTo>
                  <a:pt x="617" y="0"/>
                </a:lnTo>
                <a:lnTo>
                  <a:pt x="630" y="0"/>
                </a:lnTo>
                <a:lnTo>
                  <a:pt x="655" y="13"/>
                </a:lnTo>
                <a:lnTo>
                  <a:pt x="693" y="13"/>
                </a:lnTo>
                <a:lnTo>
                  <a:pt x="731" y="25"/>
                </a:lnTo>
                <a:lnTo>
                  <a:pt x="756" y="38"/>
                </a:lnTo>
                <a:lnTo>
                  <a:pt x="781" y="51"/>
                </a:lnTo>
                <a:lnTo>
                  <a:pt x="794" y="63"/>
                </a:lnTo>
                <a:lnTo>
                  <a:pt x="794" y="76"/>
                </a:lnTo>
                <a:lnTo>
                  <a:pt x="794" y="101"/>
                </a:lnTo>
                <a:lnTo>
                  <a:pt x="806" y="126"/>
                </a:lnTo>
                <a:lnTo>
                  <a:pt x="806" y="164"/>
                </a:lnTo>
                <a:lnTo>
                  <a:pt x="806" y="189"/>
                </a:lnTo>
                <a:lnTo>
                  <a:pt x="806" y="239"/>
                </a:lnTo>
                <a:lnTo>
                  <a:pt x="806" y="277"/>
                </a:lnTo>
                <a:lnTo>
                  <a:pt x="794" y="378"/>
                </a:lnTo>
                <a:lnTo>
                  <a:pt x="781" y="479"/>
                </a:lnTo>
                <a:lnTo>
                  <a:pt x="769" y="579"/>
                </a:lnTo>
                <a:lnTo>
                  <a:pt x="731" y="680"/>
                </a:lnTo>
                <a:lnTo>
                  <a:pt x="706" y="793"/>
                </a:lnTo>
                <a:lnTo>
                  <a:pt x="655" y="894"/>
                </a:lnTo>
                <a:lnTo>
                  <a:pt x="605" y="995"/>
                </a:lnTo>
                <a:lnTo>
                  <a:pt x="554" y="1083"/>
                </a:lnTo>
                <a:lnTo>
                  <a:pt x="517" y="1133"/>
                </a:lnTo>
                <a:lnTo>
                  <a:pt x="491" y="1171"/>
                </a:lnTo>
                <a:lnTo>
                  <a:pt x="454" y="1221"/>
                </a:lnTo>
                <a:lnTo>
                  <a:pt x="416" y="1259"/>
                </a:lnTo>
                <a:lnTo>
                  <a:pt x="378" y="1309"/>
                </a:lnTo>
                <a:lnTo>
                  <a:pt x="327" y="1347"/>
                </a:lnTo>
                <a:lnTo>
                  <a:pt x="277" y="1385"/>
                </a:lnTo>
                <a:lnTo>
                  <a:pt x="239" y="1423"/>
                </a:lnTo>
                <a:lnTo>
                  <a:pt x="189" y="1460"/>
                </a:lnTo>
                <a:lnTo>
                  <a:pt x="138" y="1486"/>
                </a:lnTo>
                <a:lnTo>
                  <a:pt x="101" y="1523"/>
                </a:lnTo>
                <a:lnTo>
                  <a:pt x="75" y="1536"/>
                </a:lnTo>
                <a:lnTo>
                  <a:pt x="50" y="1548"/>
                </a:lnTo>
                <a:lnTo>
                  <a:pt x="25" y="1548"/>
                </a:lnTo>
                <a:lnTo>
                  <a:pt x="12" y="1561"/>
                </a:lnTo>
                <a:lnTo>
                  <a:pt x="0" y="154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9"/>
          <p:cNvSpPr/>
          <p:nvPr/>
        </p:nvSpPr>
        <p:spPr>
          <a:xfrm>
            <a:off x="3360600" y="2639880"/>
            <a:ext cx="2378160" cy="319320"/>
          </a:xfrm>
          <a:custGeom>
            <a:avLst/>
            <a:gdLst/>
            <a:ahLst/>
            <a:rect l="l" t="t" r="r" b="b"/>
            <a:pathLst>
              <a:path w="3743" h="503">
                <a:moveTo>
                  <a:pt x="3541" y="50"/>
                </a:moveTo>
                <a:lnTo>
                  <a:pt x="3579" y="63"/>
                </a:lnTo>
                <a:lnTo>
                  <a:pt x="3604" y="75"/>
                </a:lnTo>
                <a:lnTo>
                  <a:pt x="3630" y="88"/>
                </a:lnTo>
                <a:lnTo>
                  <a:pt x="3655" y="113"/>
                </a:lnTo>
                <a:lnTo>
                  <a:pt x="3667" y="126"/>
                </a:lnTo>
                <a:lnTo>
                  <a:pt x="3693" y="138"/>
                </a:lnTo>
                <a:lnTo>
                  <a:pt x="3705" y="163"/>
                </a:lnTo>
                <a:lnTo>
                  <a:pt x="3718" y="176"/>
                </a:lnTo>
                <a:lnTo>
                  <a:pt x="3730" y="201"/>
                </a:lnTo>
                <a:lnTo>
                  <a:pt x="3730" y="214"/>
                </a:lnTo>
                <a:lnTo>
                  <a:pt x="3743" y="226"/>
                </a:lnTo>
                <a:lnTo>
                  <a:pt x="3743" y="239"/>
                </a:lnTo>
                <a:lnTo>
                  <a:pt x="3743" y="251"/>
                </a:lnTo>
                <a:lnTo>
                  <a:pt x="3730" y="264"/>
                </a:lnTo>
                <a:lnTo>
                  <a:pt x="3718" y="264"/>
                </a:lnTo>
                <a:lnTo>
                  <a:pt x="3705" y="251"/>
                </a:lnTo>
                <a:lnTo>
                  <a:pt x="3680" y="251"/>
                </a:lnTo>
                <a:lnTo>
                  <a:pt x="3642" y="251"/>
                </a:lnTo>
                <a:lnTo>
                  <a:pt x="3604" y="251"/>
                </a:lnTo>
                <a:lnTo>
                  <a:pt x="3554" y="239"/>
                </a:lnTo>
                <a:lnTo>
                  <a:pt x="3491" y="239"/>
                </a:lnTo>
                <a:lnTo>
                  <a:pt x="3415" y="239"/>
                </a:lnTo>
                <a:lnTo>
                  <a:pt x="3277" y="226"/>
                </a:lnTo>
                <a:lnTo>
                  <a:pt x="3125" y="214"/>
                </a:lnTo>
                <a:lnTo>
                  <a:pt x="2987" y="214"/>
                </a:lnTo>
                <a:lnTo>
                  <a:pt x="2836" y="214"/>
                </a:lnTo>
                <a:lnTo>
                  <a:pt x="2760" y="214"/>
                </a:lnTo>
                <a:lnTo>
                  <a:pt x="2684" y="214"/>
                </a:lnTo>
                <a:lnTo>
                  <a:pt x="2583" y="214"/>
                </a:lnTo>
                <a:lnTo>
                  <a:pt x="2483" y="226"/>
                </a:lnTo>
                <a:lnTo>
                  <a:pt x="2369" y="239"/>
                </a:lnTo>
                <a:lnTo>
                  <a:pt x="2256" y="251"/>
                </a:lnTo>
                <a:lnTo>
                  <a:pt x="2130" y="264"/>
                </a:lnTo>
                <a:lnTo>
                  <a:pt x="1991" y="277"/>
                </a:lnTo>
                <a:lnTo>
                  <a:pt x="1852" y="289"/>
                </a:lnTo>
                <a:lnTo>
                  <a:pt x="1726" y="302"/>
                </a:lnTo>
                <a:lnTo>
                  <a:pt x="1600" y="314"/>
                </a:lnTo>
                <a:lnTo>
                  <a:pt x="1487" y="327"/>
                </a:lnTo>
                <a:lnTo>
                  <a:pt x="1386" y="340"/>
                </a:lnTo>
                <a:lnTo>
                  <a:pt x="1298" y="352"/>
                </a:lnTo>
                <a:lnTo>
                  <a:pt x="1210" y="365"/>
                </a:lnTo>
                <a:lnTo>
                  <a:pt x="1121" y="377"/>
                </a:lnTo>
                <a:lnTo>
                  <a:pt x="983" y="390"/>
                </a:lnTo>
                <a:lnTo>
                  <a:pt x="844" y="415"/>
                </a:lnTo>
                <a:lnTo>
                  <a:pt x="705" y="440"/>
                </a:lnTo>
                <a:lnTo>
                  <a:pt x="567" y="465"/>
                </a:lnTo>
                <a:lnTo>
                  <a:pt x="504" y="465"/>
                </a:lnTo>
                <a:lnTo>
                  <a:pt x="441" y="478"/>
                </a:lnTo>
                <a:lnTo>
                  <a:pt x="403" y="491"/>
                </a:lnTo>
                <a:lnTo>
                  <a:pt x="353" y="491"/>
                </a:lnTo>
                <a:lnTo>
                  <a:pt x="315" y="503"/>
                </a:lnTo>
                <a:lnTo>
                  <a:pt x="290" y="503"/>
                </a:lnTo>
                <a:lnTo>
                  <a:pt x="264" y="503"/>
                </a:lnTo>
                <a:lnTo>
                  <a:pt x="252" y="503"/>
                </a:lnTo>
                <a:lnTo>
                  <a:pt x="239" y="503"/>
                </a:lnTo>
                <a:lnTo>
                  <a:pt x="214" y="503"/>
                </a:lnTo>
                <a:lnTo>
                  <a:pt x="201" y="478"/>
                </a:lnTo>
                <a:lnTo>
                  <a:pt x="163" y="465"/>
                </a:lnTo>
                <a:lnTo>
                  <a:pt x="138" y="440"/>
                </a:lnTo>
                <a:lnTo>
                  <a:pt x="100" y="415"/>
                </a:lnTo>
                <a:lnTo>
                  <a:pt x="50" y="377"/>
                </a:lnTo>
                <a:lnTo>
                  <a:pt x="0" y="340"/>
                </a:lnTo>
                <a:lnTo>
                  <a:pt x="50" y="327"/>
                </a:lnTo>
                <a:lnTo>
                  <a:pt x="100" y="314"/>
                </a:lnTo>
                <a:lnTo>
                  <a:pt x="138" y="314"/>
                </a:lnTo>
                <a:lnTo>
                  <a:pt x="176" y="302"/>
                </a:lnTo>
                <a:lnTo>
                  <a:pt x="201" y="302"/>
                </a:lnTo>
                <a:lnTo>
                  <a:pt x="226" y="289"/>
                </a:lnTo>
                <a:lnTo>
                  <a:pt x="252" y="289"/>
                </a:lnTo>
                <a:lnTo>
                  <a:pt x="264" y="289"/>
                </a:lnTo>
                <a:lnTo>
                  <a:pt x="290" y="289"/>
                </a:lnTo>
                <a:lnTo>
                  <a:pt x="315" y="289"/>
                </a:lnTo>
                <a:lnTo>
                  <a:pt x="340" y="289"/>
                </a:lnTo>
                <a:lnTo>
                  <a:pt x="378" y="289"/>
                </a:lnTo>
                <a:lnTo>
                  <a:pt x="428" y="277"/>
                </a:lnTo>
                <a:lnTo>
                  <a:pt x="479" y="277"/>
                </a:lnTo>
                <a:lnTo>
                  <a:pt x="542" y="277"/>
                </a:lnTo>
                <a:lnTo>
                  <a:pt x="605" y="277"/>
                </a:lnTo>
                <a:lnTo>
                  <a:pt x="642" y="264"/>
                </a:lnTo>
                <a:lnTo>
                  <a:pt x="680" y="264"/>
                </a:lnTo>
                <a:lnTo>
                  <a:pt x="731" y="264"/>
                </a:lnTo>
                <a:lnTo>
                  <a:pt x="794" y="264"/>
                </a:lnTo>
                <a:lnTo>
                  <a:pt x="857" y="251"/>
                </a:lnTo>
                <a:lnTo>
                  <a:pt x="920" y="251"/>
                </a:lnTo>
                <a:lnTo>
                  <a:pt x="1008" y="239"/>
                </a:lnTo>
                <a:lnTo>
                  <a:pt x="1084" y="226"/>
                </a:lnTo>
                <a:lnTo>
                  <a:pt x="1172" y="226"/>
                </a:lnTo>
                <a:lnTo>
                  <a:pt x="1273" y="214"/>
                </a:lnTo>
                <a:lnTo>
                  <a:pt x="1373" y="201"/>
                </a:lnTo>
                <a:lnTo>
                  <a:pt x="1474" y="189"/>
                </a:lnTo>
                <a:lnTo>
                  <a:pt x="1600" y="176"/>
                </a:lnTo>
                <a:lnTo>
                  <a:pt x="1714" y="163"/>
                </a:lnTo>
                <a:lnTo>
                  <a:pt x="1840" y="151"/>
                </a:lnTo>
                <a:lnTo>
                  <a:pt x="1978" y="138"/>
                </a:lnTo>
                <a:lnTo>
                  <a:pt x="2117" y="126"/>
                </a:lnTo>
                <a:lnTo>
                  <a:pt x="2243" y="100"/>
                </a:lnTo>
                <a:lnTo>
                  <a:pt x="2357" y="88"/>
                </a:lnTo>
                <a:lnTo>
                  <a:pt x="2470" y="75"/>
                </a:lnTo>
                <a:lnTo>
                  <a:pt x="2583" y="63"/>
                </a:lnTo>
                <a:lnTo>
                  <a:pt x="2672" y="63"/>
                </a:lnTo>
                <a:lnTo>
                  <a:pt x="2760" y="50"/>
                </a:lnTo>
                <a:lnTo>
                  <a:pt x="2848" y="37"/>
                </a:lnTo>
                <a:lnTo>
                  <a:pt x="2924" y="25"/>
                </a:lnTo>
                <a:lnTo>
                  <a:pt x="2999" y="25"/>
                </a:lnTo>
                <a:lnTo>
                  <a:pt x="3050" y="12"/>
                </a:lnTo>
                <a:lnTo>
                  <a:pt x="3100" y="12"/>
                </a:lnTo>
                <a:lnTo>
                  <a:pt x="3151" y="12"/>
                </a:lnTo>
                <a:lnTo>
                  <a:pt x="3188" y="0"/>
                </a:lnTo>
                <a:lnTo>
                  <a:pt x="3226" y="0"/>
                </a:lnTo>
                <a:lnTo>
                  <a:pt x="3251" y="0"/>
                </a:lnTo>
                <a:lnTo>
                  <a:pt x="3327" y="0"/>
                </a:lnTo>
                <a:lnTo>
                  <a:pt x="3403" y="12"/>
                </a:lnTo>
                <a:lnTo>
                  <a:pt x="3478" y="25"/>
                </a:lnTo>
                <a:lnTo>
                  <a:pt x="3541" y="5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10"/>
          <p:cNvSpPr/>
          <p:nvPr/>
        </p:nvSpPr>
        <p:spPr>
          <a:xfrm>
            <a:off x="4186080" y="2271600"/>
            <a:ext cx="239760" cy="208080"/>
          </a:xfrm>
          <a:custGeom>
            <a:avLst/>
            <a:gdLst/>
            <a:ahLst/>
            <a:rect l="l" t="t" r="r" b="b"/>
            <a:pathLst>
              <a:path w="378" h="327">
                <a:moveTo>
                  <a:pt x="0" y="0"/>
                </a:moveTo>
                <a:lnTo>
                  <a:pt x="63" y="12"/>
                </a:lnTo>
                <a:lnTo>
                  <a:pt x="113" y="12"/>
                </a:lnTo>
                <a:lnTo>
                  <a:pt x="164" y="37"/>
                </a:lnTo>
                <a:lnTo>
                  <a:pt x="201" y="50"/>
                </a:lnTo>
                <a:lnTo>
                  <a:pt x="239" y="63"/>
                </a:lnTo>
                <a:lnTo>
                  <a:pt x="277" y="75"/>
                </a:lnTo>
                <a:lnTo>
                  <a:pt x="302" y="88"/>
                </a:lnTo>
                <a:lnTo>
                  <a:pt x="315" y="100"/>
                </a:lnTo>
                <a:lnTo>
                  <a:pt x="340" y="138"/>
                </a:lnTo>
                <a:lnTo>
                  <a:pt x="365" y="176"/>
                </a:lnTo>
                <a:lnTo>
                  <a:pt x="378" y="214"/>
                </a:lnTo>
                <a:lnTo>
                  <a:pt x="378" y="239"/>
                </a:lnTo>
                <a:lnTo>
                  <a:pt x="378" y="264"/>
                </a:lnTo>
                <a:lnTo>
                  <a:pt x="378" y="277"/>
                </a:lnTo>
                <a:lnTo>
                  <a:pt x="365" y="289"/>
                </a:lnTo>
                <a:lnTo>
                  <a:pt x="365" y="302"/>
                </a:lnTo>
                <a:lnTo>
                  <a:pt x="353" y="314"/>
                </a:lnTo>
                <a:lnTo>
                  <a:pt x="340" y="314"/>
                </a:lnTo>
                <a:lnTo>
                  <a:pt x="328" y="327"/>
                </a:lnTo>
                <a:lnTo>
                  <a:pt x="315" y="327"/>
                </a:lnTo>
                <a:lnTo>
                  <a:pt x="302" y="314"/>
                </a:lnTo>
                <a:lnTo>
                  <a:pt x="277" y="314"/>
                </a:lnTo>
                <a:lnTo>
                  <a:pt x="265" y="302"/>
                </a:lnTo>
                <a:lnTo>
                  <a:pt x="239" y="289"/>
                </a:lnTo>
                <a:lnTo>
                  <a:pt x="214" y="277"/>
                </a:lnTo>
                <a:lnTo>
                  <a:pt x="189" y="251"/>
                </a:lnTo>
                <a:lnTo>
                  <a:pt x="164" y="226"/>
                </a:lnTo>
                <a:lnTo>
                  <a:pt x="126" y="201"/>
                </a:lnTo>
                <a:lnTo>
                  <a:pt x="101" y="163"/>
                </a:lnTo>
                <a:lnTo>
                  <a:pt x="75" y="138"/>
                </a:lnTo>
                <a:lnTo>
                  <a:pt x="50" y="113"/>
                </a:lnTo>
                <a:lnTo>
                  <a:pt x="38" y="88"/>
                </a:lnTo>
                <a:lnTo>
                  <a:pt x="25" y="63"/>
                </a:lnTo>
                <a:lnTo>
                  <a:pt x="12" y="37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Freeform 11"/>
          <p:cNvSpPr/>
          <p:nvPr/>
        </p:nvSpPr>
        <p:spPr>
          <a:xfrm>
            <a:off x="4594320" y="1415880"/>
            <a:ext cx="150840" cy="727200"/>
          </a:xfrm>
          <a:custGeom>
            <a:avLst/>
            <a:gdLst/>
            <a:ahLst/>
            <a:rect l="l" t="t" r="r" b="b"/>
            <a:pathLst>
              <a:path w="239" h="1145">
                <a:moveTo>
                  <a:pt x="25" y="101"/>
                </a:moveTo>
                <a:lnTo>
                  <a:pt x="12" y="63"/>
                </a:lnTo>
                <a:lnTo>
                  <a:pt x="0" y="38"/>
                </a:lnTo>
                <a:lnTo>
                  <a:pt x="0" y="13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7" y="0"/>
                </a:lnTo>
                <a:lnTo>
                  <a:pt x="63" y="0"/>
                </a:lnTo>
                <a:lnTo>
                  <a:pt x="100" y="0"/>
                </a:lnTo>
                <a:lnTo>
                  <a:pt x="138" y="0"/>
                </a:lnTo>
                <a:lnTo>
                  <a:pt x="189" y="13"/>
                </a:lnTo>
                <a:lnTo>
                  <a:pt x="239" y="13"/>
                </a:lnTo>
                <a:lnTo>
                  <a:pt x="239" y="138"/>
                </a:lnTo>
                <a:lnTo>
                  <a:pt x="239" y="252"/>
                </a:lnTo>
                <a:lnTo>
                  <a:pt x="239" y="352"/>
                </a:lnTo>
                <a:lnTo>
                  <a:pt x="239" y="453"/>
                </a:lnTo>
                <a:lnTo>
                  <a:pt x="239" y="554"/>
                </a:lnTo>
                <a:lnTo>
                  <a:pt x="227" y="629"/>
                </a:lnTo>
                <a:lnTo>
                  <a:pt x="227" y="717"/>
                </a:lnTo>
                <a:lnTo>
                  <a:pt x="227" y="780"/>
                </a:lnTo>
                <a:lnTo>
                  <a:pt x="227" y="843"/>
                </a:lnTo>
                <a:lnTo>
                  <a:pt x="227" y="894"/>
                </a:lnTo>
                <a:lnTo>
                  <a:pt x="227" y="944"/>
                </a:lnTo>
                <a:lnTo>
                  <a:pt x="227" y="982"/>
                </a:lnTo>
                <a:lnTo>
                  <a:pt x="214" y="1019"/>
                </a:lnTo>
                <a:lnTo>
                  <a:pt x="214" y="1045"/>
                </a:lnTo>
                <a:lnTo>
                  <a:pt x="214" y="1070"/>
                </a:lnTo>
                <a:lnTo>
                  <a:pt x="214" y="1082"/>
                </a:lnTo>
                <a:lnTo>
                  <a:pt x="201" y="1108"/>
                </a:lnTo>
                <a:lnTo>
                  <a:pt x="189" y="1120"/>
                </a:lnTo>
                <a:lnTo>
                  <a:pt x="163" y="1133"/>
                </a:lnTo>
                <a:lnTo>
                  <a:pt x="151" y="1145"/>
                </a:lnTo>
                <a:lnTo>
                  <a:pt x="126" y="1133"/>
                </a:lnTo>
                <a:lnTo>
                  <a:pt x="113" y="1133"/>
                </a:lnTo>
                <a:lnTo>
                  <a:pt x="100" y="1120"/>
                </a:lnTo>
                <a:lnTo>
                  <a:pt x="88" y="1095"/>
                </a:lnTo>
                <a:lnTo>
                  <a:pt x="88" y="1082"/>
                </a:lnTo>
                <a:lnTo>
                  <a:pt x="75" y="1070"/>
                </a:lnTo>
                <a:lnTo>
                  <a:pt x="75" y="1057"/>
                </a:lnTo>
                <a:lnTo>
                  <a:pt x="75" y="1032"/>
                </a:lnTo>
                <a:lnTo>
                  <a:pt x="75" y="1019"/>
                </a:lnTo>
                <a:lnTo>
                  <a:pt x="75" y="994"/>
                </a:lnTo>
                <a:lnTo>
                  <a:pt x="75" y="969"/>
                </a:lnTo>
                <a:lnTo>
                  <a:pt x="63" y="931"/>
                </a:lnTo>
                <a:lnTo>
                  <a:pt x="63" y="894"/>
                </a:lnTo>
                <a:lnTo>
                  <a:pt x="63" y="856"/>
                </a:lnTo>
                <a:lnTo>
                  <a:pt x="63" y="818"/>
                </a:lnTo>
                <a:lnTo>
                  <a:pt x="63" y="780"/>
                </a:lnTo>
                <a:lnTo>
                  <a:pt x="63" y="730"/>
                </a:lnTo>
                <a:lnTo>
                  <a:pt x="63" y="680"/>
                </a:lnTo>
                <a:lnTo>
                  <a:pt x="63" y="629"/>
                </a:lnTo>
                <a:lnTo>
                  <a:pt x="63" y="579"/>
                </a:lnTo>
                <a:lnTo>
                  <a:pt x="63" y="529"/>
                </a:lnTo>
                <a:lnTo>
                  <a:pt x="63" y="478"/>
                </a:lnTo>
                <a:lnTo>
                  <a:pt x="63" y="428"/>
                </a:lnTo>
                <a:lnTo>
                  <a:pt x="63" y="390"/>
                </a:lnTo>
                <a:lnTo>
                  <a:pt x="63" y="352"/>
                </a:lnTo>
                <a:lnTo>
                  <a:pt x="50" y="315"/>
                </a:lnTo>
                <a:lnTo>
                  <a:pt x="50" y="277"/>
                </a:lnTo>
                <a:lnTo>
                  <a:pt x="50" y="239"/>
                </a:lnTo>
                <a:lnTo>
                  <a:pt x="50" y="214"/>
                </a:lnTo>
                <a:lnTo>
                  <a:pt x="37" y="189"/>
                </a:lnTo>
                <a:lnTo>
                  <a:pt x="37" y="164"/>
                </a:lnTo>
                <a:lnTo>
                  <a:pt x="37" y="151"/>
                </a:lnTo>
                <a:lnTo>
                  <a:pt x="37" y="126"/>
                </a:lnTo>
                <a:lnTo>
                  <a:pt x="25" y="113"/>
                </a:lnTo>
                <a:lnTo>
                  <a:pt x="25" y="10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2"/>
          <p:cNvSpPr/>
          <p:nvPr/>
        </p:nvSpPr>
        <p:spPr>
          <a:xfrm>
            <a:off x="4689360" y="1320840"/>
            <a:ext cx="639720" cy="863640"/>
          </a:xfrm>
          <a:custGeom>
            <a:avLst/>
            <a:gdLst/>
            <a:ahLst/>
            <a:rect l="l" t="t" r="r" b="b"/>
            <a:pathLst>
              <a:path w="1008" h="1359">
                <a:moveTo>
                  <a:pt x="958" y="239"/>
                </a:moveTo>
                <a:lnTo>
                  <a:pt x="958" y="252"/>
                </a:lnTo>
                <a:lnTo>
                  <a:pt x="945" y="252"/>
                </a:lnTo>
                <a:lnTo>
                  <a:pt x="945" y="264"/>
                </a:lnTo>
                <a:lnTo>
                  <a:pt x="945" y="289"/>
                </a:lnTo>
                <a:lnTo>
                  <a:pt x="933" y="302"/>
                </a:lnTo>
                <a:lnTo>
                  <a:pt x="933" y="327"/>
                </a:lnTo>
                <a:lnTo>
                  <a:pt x="920" y="365"/>
                </a:lnTo>
                <a:lnTo>
                  <a:pt x="920" y="390"/>
                </a:lnTo>
                <a:lnTo>
                  <a:pt x="920" y="428"/>
                </a:lnTo>
                <a:lnTo>
                  <a:pt x="920" y="466"/>
                </a:lnTo>
                <a:lnTo>
                  <a:pt x="907" y="516"/>
                </a:lnTo>
                <a:lnTo>
                  <a:pt x="907" y="566"/>
                </a:lnTo>
                <a:lnTo>
                  <a:pt x="907" y="617"/>
                </a:lnTo>
                <a:lnTo>
                  <a:pt x="907" y="680"/>
                </a:lnTo>
                <a:lnTo>
                  <a:pt x="907" y="730"/>
                </a:lnTo>
                <a:lnTo>
                  <a:pt x="907" y="805"/>
                </a:lnTo>
                <a:lnTo>
                  <a:pt x="907" y="868"/>
                </a:lnTo>
                <a:lnTo>
                  <a:pt x="907" y="931"/>
                </a:lnTo>
                <a:lnTo>
                  <a:pt x="907" y="982"/>
                </a:lnTo>
                <a:lnTo>
                  <a:pt x="895" y="1032"/>
                </a:lnTo>
                <a:lnTo>
                  <a:pt x="895" y="1082"/>
                </a:lnTo>
                <a:lnTo>
                  <a:pt x="895" y="1133"/>
                </a:lnTo>
                <a:lnTo>
                  <a:pt x="895" y="1170"/>
                </a:lnTo>
                <a:lnTo>
                  <a:pt x="895" y="1208"/>
                </a:lnTo>
                <a:lnTo>
                  <a:pt x="895" y="1233"/>
                </a:lnTo>
                <a:lnTo>
                  <a:pt x="882" y="1271"/>
                </a:lnTo>
                <a:lnTo>
                  <a:pt x="882" y="1296"/>
                </a:lnTo>
                <a:lnTo>
                  <a:pt x="882" y="1309"/>
                </a:lnTo>
                <a:lnTo>
                  <a:pt x="882" y="1334"/>
                </a:lnTo>
                <a:lnTo>
                  <a:pt x="870" y="1347"/>
                </a:lnTo>
                <a:lnTo>
                  <a:pt x="870" y="1359"/>
                </a:lnTo>
                <a:lnTo>
                  <a:pt x="844" y="1359"/>
                </a:lnTo>
                <a:lnTo>
                  <a:pt x="832" y="1359"/>
                </a:lnTo>
                <a:lnTo>
                  <a:pt x="807" y="1347"/>
                </a:lnTo>
                <a:lnTo>
                  <a:pt x="769" y="1334"/>
                </a:lnTo>
                <a:lnTo>
                  <a:pt x="769" y="1321"/>
                </a:lnTo>
                <a:lnTo>
                  <a:pt x="756" y="1309"/>
                </a:lnTo>
                <a:lnTo>
                  <a:pt x="756" y="1296"/>
                </a:lnTo>
                <a:lnTo>
                  <a:pt x="744" y="1284"/>
                </a:lnTo>
                <a:lnTo>
                  <a:pt x="744" y="1259"/>
                </a:lnTo>
                <a:lnTo>
                  <a:pt x="731" y="1233"/>
                </a:lnTo>
                <a:lnTo>
                  <a:pt x="731" y="1208"/>
                </a:lnTo>
                <a:lnTo>
                  <a:pt x="731" y="1183"/>
                </a:lnTo>
                <a:lnTo>
                  <a:pt x="718" y="1145"/>
                </a:lnTo>
                <a:lnTo>
                  <a:pt x="718" y="1108"/>
                </a:lnTo>
                <a:lnTo>
                  <a:pt x="718" y="1070"/>
                </a:lnTo>
                <a:lnTo>
                  <a:pt x="718" y="1019"/>
                </a:lnTo>
                <a:lnTo>
                  <a:pt x="706" y="969"/>
                </a:lnTo>
                <a:lnTo>
                  <a:pt x="706" y="919"/>
                </a:lnTo>
                <a:lnTo>
                  <a:pt x="706" y="868"/>
                </a:lnTo>
                <a:lnTo>
                  <a:pt x="706" y="805"/>
                </a:lnTo>
                <a:lnTo>
                  <a:pt x="706" y="743"/>
                </a:lnTo>
                <a:lnTo>
                  <a:pt x="706" y="692"/>
                </a:lnTo>
                <a:lnTo>
                  <a:pt x="706" y="642"/>
                </a:lnTo>
                <a:lnTo>
                  <a:pt x="706" y="591"/>
                </a:lnTo>
                <a:lnTo>
                  <a:pt x="706" y="541"/>
                </a:lnTo>
                <a:lnTo>
                  <a:pt x="706" y="503"/>
                </a:lnTo>
                <a:lnTo>
                  <a:pt x="706" y="466"/>
                </a:lnTo>
                <a:lnTo>
                  <a:pt x="706" y="428"/>
                </a:lnTo>
                <a:lnTo>
                  <a:pt x="706" y="390"/>
                </a:lnTo>
                <a:lnTo>
                  <a:pt x="706" y="365"/>
                </a:lnTo>
                <a:lnTo>
                  <a:pt x="706" y="340"/>
                </a:lnTo>
                <a:lnTo>
                  <a:pt x="706" y="315"/>
                </a:lnTo>
                <a:lnTo>
                  <a:pt x="706" y="289"/>
                </a:lnTo>
                <a:lnTo>
                  <a:pt x="693" y="277"/>
                </a:lnTo>
                <a:lnTo>
                  <a:pt x="693" y="264"/>
                </a:lnTo>
                <a:lnTo>
                  <a:pt x="693" y="252"/>
                </a:lnTo>
                <a:lnTo>
                  <a:pt x="680" y="226"/>
                </a:lnTo>
                <a:lnTo>
                  <a:pt x="668" y="201"/>
                </a:lnTo>
                <a:lnTo>
                  <a:pt x="643" y="189"/>
                </a:lnTo>
                <a:lnTo>
                  <a:pt x="617" y="176"/>
                </a:lnTo>
                <a:lnTo>
                  <a:pt x="605" y="176"/>
                </a:lnTo>
                <a:lnTo>
                  <a:pt x="592" y="176"/>
                </a:lnTo>
                <a:lnTo>
                  <a:pt x="580" y="176"/>
                </a:lnTo>
                <a:lnTo>
                  <a:pt x="554" y="176"/>
                </a:lnTo>
                <a:lnTo>
                  <a:pt x="529" y="189"/>
                </a:lnTo>
                <a:lnTo>
                  <a:pt x="504" y="189"/>
                </a:lnTo>
                <a:lnTo>
                  <a:pt x="466" y="189"/>
                </a:lnTo>
                <a:lnTo>
                  <a:pt x="428" y="201"/>
                </a:lnTo>
                <a:lnTo>
                  <a:pt x="391" y="201"/>
                </a:lnTo>
                <a:lnTo>
                  <a:pt x="353" y="214"/>
                </a:lnTo>
                <a:lnTo>
                  <a:pt x="302" y="226"/>
                </a:lnTo>
                <a:lnTo>
                  <a:pt x="252" y="226"/>
                </a:lnTo>
                <a:lnTo>
                  <a:pt x="189" y="239"/>
                </a:lnTo>
                <a:lnTo>
                  <a:pt x="139" y="252"/>
                </a:lnTo>
                <a:lnTo>
                  <a:pt x="76" y="264"/>
                </a:lnTo>
                <a:lnTo>
                  <a:pt x="0" y="277"/>
                </a:lnTo>
                <a:lnTo>
                  <a:pt x="0" y="164"/>
                </a:lnTo>
                <a:lnTo>
                  <a:pt x="76" y="151"/>
                </a:lnTo>
                <a:lnTo>
                  <a:pt x="139" y="138"/>
                </a:lnTo>
                <a:lnTo>
                  <a:pt x="202" y="126"/>
                </a:lnTo>
                <a:lnTo>
                  <a:pt x="265" y="113"/>
                </a:lnTo>
                <a:lnTo>
                  <a:pt x="315" y="101"/>
                </a:lnTo>
                <a:lnTo>
                  <a:pt x="365" y="101"/>
                </a:lnTo>
                <a:lnTo>
                  <a:pt x="403" y="88"/>
                </a:lnTo>
                <a:lnTo>
                  <a:pt x="441" y="75"/>
                </a:lnTo>
                <a:lnTo>
                  <a:pt x="479" y="75"/>
                </a:lnTo>
                <a:lnTo>
                  <a:pt x="517" y="63"/>
                </a:lnTo>
                <a:lnTo>
                  <a:pt x="542" y="50"/>
                </a:lnTo>
                <a:lnTo>
                  <a:pt x="567" y="50"/>
                </a:lnTo>
                <a:lnTo>
                  <a:pt x="580" y="38"/>
                </a:lnTo>
                <a:lnTo>
                  <a:pt x="592" y="38"/>
                </a:lnTo>
                <a:lnTo>
                  <a:pt x="605" y="38"/>
                </a:lnTo>
                <a:lnTo>
                  <a:pt x="605" y="25"/>
                </a:lnTo>
                <a:lnTo>
                  <a:pt x="617" y="12"/>
                </a:lnTo>
                <a:lnTo>
                  <a:pt x="630" y="0"/>
                </a:lnTo>
                <a:lnTo>
                  <a:pt x="655" y="0"/>
                </a:lnTo>
                <a:lnTo>
                  <a:pt x="668" y="0"/>
                </a:lnTo>
                <a:lnTo>
                  <a:pt x="680" y="0"/>
                </a:lnTo>
                <a:lnTo>
                  <a:pt x="693" y="0"/>
                </a:lnTo>
                <a:lnTo>
                  <a:pt x="718" y="12"/>
                </a:lnTo>
                <a:lnTo>
                  <a:pt x="744" y="12"/>
                </a:lnTo>
                <a:lnTo>
                  <a:pt x="756" y="25"/>
                </a:lnTo>
                <a:lnTo>
                  <a:pt x="794" y="50"/>
                </a:lnTo>
                <a:lnTo>
                  <a:pt x="819" y="63"/>
                </a:lnTo>
                <a:lnTo>
                  <a:pt x="857" y="88"/>
                </a:lnTo>
                <a:lnTo>
                  <a:pt x="895" y="101"/>
                </a:lnTo>
                <a:lnTo>
                  <a:pt x="920" y="126"/>
                </a:lnTo>
                <a:lnTo>
                  <a:pt x="945" y="138"/>
                </a:lnTo>
                <a:lnTo>
                  <a:pt x="970" y="151"/>
                </a:lnTo>
                <a:lnTo>
                  <a:pt x="983" y="164"/>
                </a:lnTo>
                <a:lnTo>
                  <a:pt x="996" y="176"/>
                </a:lnTo>
                <a:lnTo>
                  <a:pt x="1008" y="189"/>
                </a:lnTo>
                <a:lnTo>
                  <a:pt x="1008" y="201"/>
                </a:lnTo>
                <a:lnTo>
                  <a:pt x="1008" y="214"/>
                </a:lnTo>
                <a:lnTo>
                  <a:pt x="996" y="226"/>
                </a:lnTo>
                <a:lnTo>
                  <a:pt x="983" y="239"/>
                </a:lnTo>
                <a:lnTo>
                  <a:pt x="958" y="239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13"/>
          <p:cNvSpPr/>
          <p:nvPr/>
        </p:nvSpPr>
        <p:spPr>
          <a:xfrm>
            <a:off x="4554360" y="1600200"/>
            <a:ext cx="447840" cy="919080"/>
          </a:xfrm>
          <a:custGeom>
            <a:avLst/>
            <a:gdLst/>
            <a:ahLst/>
            <a:rect l="l" t="t" r="r" b="b"/>
            <a:pathLst>
              <a:path w="705" h="1448">
                <a:moveTo>
                  <a:pt x="138" y="1259"/>
                </a:moveTo>
                <a:lnTo>
                  <a:pt x="214" y="1171"/>
                </a:lnTo>
                <a:lnTo>
                  <a:pt x="277" y="1083"/>
                </a:lnTo>
                <a:lnTo>
                  <a:pt x="340" y="995"/>
                </a:lnTo>
                <a:lnTo>
                  <a:pt x="390" y="894"/>
                </a:lnTo>
                <a:lnTo>
                  <a:pt x="416" y="844"/>
                </a:lnTo>
                <a:lnTo>
                  <a:pt x="428" y="793"/>
                </a:lnTo>
                <a:lnTo>
                  <a:pt x="453" y="730"/>
                </a:lnTo>
                <a:lnTo>
                  <a:pt x="466" y="680"/>
                </a:lnTo>
                <a:lnTo>
                  <a:pt x="479" y="617"/>
                </a:lnTo>
                <a:lnTo>
                  <a:pt x="491" y="554"/>
                </a:lnTo>
                <a:lnTo>
                  <a:pt x="504" y="479"/>
                </a:lnTo>
                <a:lnTo>
                  <a:pt x="516" y="416"/>
                </a:lnTo>
                <a:lnTo>
                  <a:pt x="516" y="353"/>
                </a:lnTo>
                <a:lnTo>
                  <a:pt x="516" y="290"/>
                </a:lnTo>
                <a:lnTo>
                  <a:pt x="516" y="240"/>
                </a:lnTo>
                <a:lnTo>
                  <a:pt x="516" y="189"/>
                </a:lnTo>
                <a:lnTo>
                  <a:pt x="504" y="151"/>
                </a:lnTo>
                <a:lnTo>
                  <a:pt x="504" y="126"/>
                </a:lnTo>
                <a:lnTo>
                  <a:pt x="491" y="101"/>
                </a:lnTo>
                <a:lnTo>
                  <a:pt x="479" y="89"/>
                </a:lnTo>
                <a:lnTo>
                  <a:pt x="453" y="63"/>
                </a:lnTo>
                <a:lnTo>
                  <a:pt x="441" y="51"/>
                </a:lnTo>
                <a:lnTo>
                  <a:pt x="441" y="26"/>
                </a:lnTo>
                <a:lnTo>
                  <a:pt x="441" y="13"/>
                </a:lnTo>
                <a:lnTo>
                  <a:pt x="441" y="0"/>
                </a:lnTo>
                <a:lnTo>
                  <a:pt x="453" y="0"/>
                </a:lnTo>
                <a:lnTo>
                  <a:pt x="466" y="0"/>
                </a:lnTo>
                <a:lnTo>
                  <a:pt x="479" y="0"/>
                </a:lnTo>
                <a:lnTo>
                  <a:pt x="504" y="0"/>
                </a:lnTo>
                <a:lnTo>
                  <a:pt x="529" y="0"/>
                </a:lnTo>
                <a:lnTo>
                  <a:pt x="554" y="13"/>
                </a:lnTo>
                <a:lnTo>
                  <a:pt x="579" y="13"/>
                </a:lnTo>
                <a:lnTo>
                  <a:pt x="605" y="26"/>
                </a:lnTo>
                <a:lnTo>
                  <a:pt x="630" y="38"/>
                </a:lnTo>
                <a:lnTo>
                  <a:pt x="655" y="63"/>
                </a:lnTo>
                <a:lnTo>
                  <a:pt x="668" y="76"/>
                </a:lnTo>
                <a:lnTo>
                  <a:pt x="693" y="101"/>
                </a:lnTo>
                <a:lnTo>
                  <a:pt x="693" y="126"/>
                </a:lnTo>
                <a:lnTo>
                  <a:pt x="705" y="151"/>
                </a:lnTo>
                <a:lnTo>
                  <a:pt x="705" y="189"/>
                </a:lnTo>
                <a:lnTo>
                  <a:pt x="705" y="252"/>
                </a:lnTo>
                <a:lnTo>
                  <a:pt x="705" y="340"/>
                </a:lnTo>
                <a:lnTo>
                  <a:pt x="693" y="428"/>
                </a:lnTo>
                <a:lnTo>
                  <a:pt x="680" y="516"/>
                </a:lnTo>
                <a:lnTo>
                  <a:pt x="668" y="567"/>
                </a:lnTo>
                <a:lnTo>
                  <a:pt x="668" y="617"/>
                </a:lnTo>
                <a:lnTo>
                  <a:pt x="655" y="668"/>
                </a:lnTo>
                <a:lnTo>
                  <a:pt x="630" y="718"/>
                </a:lnTo>
                <a:lnTo>
                  <a:pt x="617" y="781"/>
                </a:lnTo>
                <a:lnTo>
                  <a:pt x="592" y="831"/>
                </a:lnTo>
                <a:lnTo>
                  <a:pt x="567" y="881"/>
                </a:lnTo>
                <a:lnTo>
                  <a:pt x="542" y="944"/>
                </a:lnTo>
                <a:lnTo>
                  <a:pt x="516" y="1007"/>
                </a:lnTo>
                <a:lnTo>
                  <a:pt x="479" y="1058"/>
                </a:lnTo>
                <a:lnTo>
                  <a:pt x="441" y="1108"/>
                </a:lnTo>
                <a:lnTo>
                  <a:pt x="403" y="1158"/>
                </a:lnTo>
                <a:lnTo>
                  <a:pt x="365" y="1209"/>
                </a:lnTo>
                <a:lnTo>
                  <a:pt x="315" y="1247"/>
                </a:lnTo>
                <a:lnTo>
                  <a:pt x="277" y="1284"/>
                </a:lnTo>
                <a:lnTo>
                  <a:pt x="226" y="1322"/>
                </a:lnTo>
                <a:lnTo>
                  <a:pt x="176" y="1360"/>
                </a:lnTo>
                <a:lnTo>
                  <a:pt x="138" y="1385"/>
                </a:lnTo>
                <a:lnTo>
                  <a:pt x="100" y="1410"/>
                </a:lnTo>
                <a:lnTo>
                  <a:pt x="75" y="1423"/>
                </a:lnTo>
                <a:lnTo>
                  <a:pt x="50" y="1435"/>
                </a:lnTo>
                <a:lnTo>
                  <a:pt x="37" y="1448"/>
                </a:lnTo>
                <a:lnTo>
                  <a:pt x="12" y="1448"/>
                </a:lnTo>
                <a:lnTo>
                  <a:pt x="0" y="1435"/>
                </a:lnTo>
                <a:lnTo>
                  <a:pt x="12" y="1423"/>
                </a:lnTo>
                <a:lnTo>
                  <a:pt x="12" y="1398"/>
                </a:lnTo>
                <a:lnTo>
                  <a:pt x="25" y="1385"/>
                </a:lnTo>
                <a:lnTo>
                  <a:pt x="50" y="1360"/>
                </a:lnTo>
                <a:lnTo>
                  <a:pt x="75" y="1322"/>
                </a:lnTo>
                <a:lnTo>
                  <a:pt x="100" y="1297"/>
                </a:lnTo>
                <a:lnTo>
                  <a:pt x="138" y="1259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4"/>
          <p:cNvSpPr/>
          <p:nvPr/>
        </p:nvSpPr>
        <p:spPr>
          <a:xfrm>
            <a:off x="4978440" y="2224080"/>
            <a:ext cx="311040" cy="311040"/>
          </a:xfrm>
          <a:custGeom>
            <a:avLst/>
            <a:gdLst/>
            <a:ahLst/>
            <a:rect l="l" t="t" r="r" b="b"/>
            <a:pathLst>
              <a:path w="491" h="491">
                <a:moveTo>
                  <a:pt x="315" y="101"/>
                </a:moveTo>
                <a:lnTo>
                  <a:pt x="365" y="139"/>
                </a:lnTo>
                <a:lnTo>
                  <a:pt x="403" y="189"/>
                </a:lnTo>
                <a:lnTo>
                  <a:pt x="441" y="227"/>
                </a:lnTo>
                <a:lnTo>
                  <a:pt x="466" y="265"/>
                </a:lnTo>
                <a:lnTo>
                  <a:pt x="479" y="302"/>
                </a:lnTo>
                <a:lnTo>
                  <a:pt x="491" y="353"/>
                </a:lnTo>
                <a:lnTo>
                  <a:pt x="491" y="390"/>
                </a:lnTo>
                <a:lnTo>
                  <a:pt x="479" y="428"/>
                </a:lnTo>
                <a:lnTo>
                  <a:pt x="466" y="453"/>
                </a:lnTo>
                <a:lnTo>
                  <a:pt x="453" y="478"/>
                </a:lnTo>
                <a:lnTo>
                  <a:pt x="441" y="491"/>
                </a:lnTo>
                <a:lnTo>
                  <a:pt x="416" y="491"/>
                </a:lnTo>
                <a:lnTo>
                  <a:pt x="403" y="491"/>
                </a:lnTo>
                <a:lnTo>
                  <a:pt x="390" y="478"/>
                </a:lnTo>
                <a:lnTo>
                  <a:pt x="365" y="466"/>
                </a:lnTo>
                <a:lnTo>
                  <a:pt x="340" y="441"/>
                </a:lnTo>
                <a:lnTo>
                  <a:pt x="315" y="403"/>
                </a:lnTo>
                <a:lnTo>
                  <a:pt x="277" y="365"/>
                </a:lnTo>
                <a:lnTo>
                  <a:pt x="226" y="315"/>
                </a:lnTo>
                <a:lnTo>
                  <a:pt x="189" y="265"/>
                </a:lnTo>
                <a:lnTo>
                  <a:pt x="138" y="214"/>
                </a:lnTo>
                <a:lnTo>
                  <a:pt x="100" y="164"/>
                </a:lnTo>
                <a:lnTo>
                  <a:pt x="63" y="126"/>
                </a:lnTo>
                <a:lnTo>
                  <a:pt x="37" y="88"/>
                </a:lnTo>
                <a:lnTo>
                  <a:pt x="25" y="63"/>
                </a:lnTo>
                <a:lnTo>
                  <a:pt x="0" y="38"/>
                </a:lnTo>
                <a:lnTo>
                  <a:pt x="0" y="25"/>
                </a:lnTo>
                <a:lnTo>
                  <a:pt x="0" y="13"/>
                </a:lnTo>
                <a:lnTo>
                  <a:pt x="12" y="13"/>
                </a:lnTo>
                <a:lnTo>
                  <a:pt x="12" y="0"/>
                </a:lnTo>
                <a:lnTo>
                  <a:pt x="25" y="0"/>
                </a:lnTo>
                <a:lnTo>
                  <a:pt x="50" y="0"/>
                </a:lnTo>
                <a:lnTo>
                  <a:pt x="63" y="0"/>
                </a:lnTo>
                <a:lnTo>
                  <a:pt x="88" y="0"/>
                </a:lnTo>
                <a:lnTo>
                  <a:pt x="100" y="13"/>
                </a:lnTo>
                <a:lnTo>
                  <a:pt x="163" y="25"/>
                </a:lnTo>
                <a:lnTo>
                  <a:pt x="214" y="38"/>
                </a:lnTo>
                <a:lnTo>
                  <a:pt x="264" y="63"/>
                </a:lnTo>
                <a:lnTo>
                  <a:pt x="315" y="10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15"/>
          <p:cNvSpPr/>
          <p:nvPr/>
        </p:nvSpPr>
        <p:spPr>
          <a:xfrm>
            <a:off x="4226040" y="2535120"/>
            <a:ext cx="1055520" cy="1047960"/>
          </a:xfrm>
          <a:custGeom>
            <a:avLst/>
            <a:gdLst/>
            <a:ahLst/>
            <a:rect l="l" t="t" r="r" b="b"/>
            <a:pathLst>
              <a:path w="1664" h="1649">
                <a:moveTo>
                  <a:pt x="214" y="164"/>
                </a:moveTo>
                <a:lnTo>
                  <a:pt x="227" y="126"/>
                </a:lnTo>
                <a:lnTo>
                  <a:pt x="227" y="88"/>
                </a:lnTo>
                <a:lnTo>
                  <a:pt x="239" y="63"/>
                </a:lnTo>
                <a:lnTo>
                  <a:pt x="239" y="38"/>
                </a:lnTo>
                <a:lnTo>
                  <a:pt x="252" y="25"/>
                </a:lnTo>
                <a:lnTo>
                  <a:pt x="265" y="13"/>
                </a:lnTo>
                <a:lnTo>
                  <a:pt x="265" y="0"/>
                </a:lnTo>
                <a:lnTo>
                  <a:pt x="277" y="0"/>
                </a:lnTo>
                <a:lnTo>
                  <a:pt x="302" y="0"/>
                </a:lnTo>
                <a:lnTo>
                  <a:pt x="328" y="13"/>
                </a:lnTo>
                <a:lnTo>
                  <a:pt x="365" y="38"/>
                </a:lnTo>
                <a:lnTo>
                  <a:pt x="403" y="50"/>
                </a:lnTo>
                <a:lnTo>
                  <a:pt x="416" y="76"/>
                </a:lnTo>
                <a:lnTo>
                  <a:pt x="441" y="88"/>
                </a:lnTo>
                <a:lnTo>
                  <a:pt x="454" y="101"/>
                </a:lnTo>
                <a:lnTo>
                  <a:pt x="466" y="113"/>
                </a:lnTo>
                <a:lnTo>
                  <a:pt x="466" y="126"/>
                </a:lnTo>
                <a:lnTo>
                  <a:pt x="479" y="139"/>
                </a:lnTo>
                <a:lnTo>
                  <a:pt x="479" y="151"/>
                </a:lnTo>
                <a:lnTo>
                  <a:pt x="479" y="176"/>
                </a:lnTo>
                <a:lnTo>
                  <a:pt x="466" y="189"/>
                </a:lnTo>
                <a:lnTo>
                  <a:pt x="454" y="214"/>
                </a:lnTo>
                <a:lnTo>
                  <a:pt x="441" y="252"/>
                </a:lnTo>
                <a:lnTo>
                  <a:pt x="416" y="290"/>
                </a:lnTo>
                <a:lnTo>
                  <a:pt x="391" y="340"/>
                </a:lnTo>
                <a:lnTo>
                  <a:pt x="353" y="390"/>
                </a:lnTo>
                <a:lnTo>
                  <a:pt x="328" y="441"/>
                </a:lnTo>
                <a:lnTo>
                  <a:pt x="290" y="504"/>
                </a:lnTo>
                <a:lnTo>
                  <a:pt x="265" y="554"/>
                </a:lnTo>
                <a:lnTo>
                  <a:pt x="239" y="592"/>
                </a:lnTo>
                <a:lnTo>
                  <a:pt x="214" y="629"/>
                </a:lnTo>
                <a:lnTo>
                  <a:pt x="202" y="667"/>
                </a:lnTo>
                <a:lnTo>
                  <a:pt x="189" y="680"/>
                </a:lnTo>
                <a:lnTo>
                  <a:pt x="189" y="705"/>
                </a:lnTo>
                <a:lnTo>
                  <a:pt x="189" y="718"/>
                </a:lnTo>
                <a:lnTo>
                  <a:pt x="202" y="718"/>
                </a:lnTo>
                <a:lnTo>
                  <a:pt x="214" y="718"/>
                </a:lnTo>
                <a:lnTo>
                  <a:pt x="227" y="730"/>
                </a:lnTo>
                <a:lnTo>
                  <a:pt x="252" y="743"/>
                </a:lnTo>
                <a:lnTo>
                  <a:pt x="265" y="755"/>
                </a:lnTo>
                <a:lnTo>
                  <a:pt x="290" y="755"/>
                </a:lnTo>
                <a:lnTo>
                  <a:pt x="328" y="768"/>
                </a:lnTo>
                <a:lnTo>
                  <a:pt x="353" y="780"/>
                </a:lnTo>
                <a:lnTo>
                  <a:pt x="391" y="806"/>
                </a:lnTo>
                <a:lnTo>
                  <a:pt x="441" y="818"/>
                </a:lnTo>
                <a:lnTo>
                  <a:pt x="479" y="831"/>
                </a:lnTo>
                <a:lnTo>
                  <a:pt x="529" y="856"/>
                </a:lnTo>
                <a:lnTo>
                  <a:pt x="580" y="869"/>
                </a:lnTo>
                <a:lnTo>
                  <a:pt x="643" y="894"/>
                </a:lnTo>
                <a:lnTo>
                  <a:pt x="693" y="919"/>
                </a:lnTo>
                <a:lnTo>
                  <a:pt x="819" y="957"/>
                </a:lnTo>
                <a:lnTo>
                  <a:pt x="933" y="1007"/>
                </a:lnTo>
                <a:lnTo>
                  <a:pt x="1033" y="1045"/>
                </a:lnTo>
                <a:lnTo>
                  <a:pt x="1122" y="1083"/>
                </a:lnTo>
                <a:lnTo>
                  <a:pt x="1210" y="1133"/>
                </a:lnTo>
                <a:lnTo>
                  <a:pt x="1285" y="1171"/>
                </a:lnTo>
                <a:lnTo>
                  <a:pt x="1361" y="1208"/>
                </a:lnTo>
                <a:lnTo>
                  <a:pt x="1424" y="1246"/>
                </a:lnTo>
                <a:lnTo>
                  <a:pt x="1487" y="1284"/>
                </a:lnTo>
                <a:lnTo>
                  <a:pt x="1525" y="1322"/>
                </a:lnTo>
                <a:lnTo>
                  <a:pt x="1563" y="1359"/>
                </a:lnTo>
                <a:lnTo>
                  <a:pt x="1601" y="1397"/>
                </a:lnTo>
                <a:lnTo>
                  <a:pt x="1626" y="1422"/>
                </a:lnTo>
                <a:lnTo>
                  <a:pt x="1638" y="1460"/>
                </a:lnTo>
                <a:lnTo>
                  <a:pt x="1651" y="1485"/>
                </a:lnTo>
                <a:lnTo>
                  <a:pt x="1664" y="1510"/>
                </a:lnTo>
                <a:lnTo>
                  <a:pt x="1664" y="1536"/>
                </a:lnTo>
                <a:lnTo>
                  <a:pt x="1651" y="1561"/>
                </a:lnTo>
                <a:lnTo>
                  <a:pt x="1651" y="1586"/>
                </a:lnTo>
                <a:lnTo>
                  <a:pt x="1651" y="1599"/>
                </a:lnTo>
                <a:lnTo>
                  <a:pt x="1638" y="1611"/>
                </a:lnTo>
                <a:lnTo>
                  <a:pt x="1638" y="1624"/>
                </a:lnTo>
                <a:lnTo>
                  <a:pt x="1626" y="1636"/>
                </a:lnTo>
                <a:lnTo>
                  <a:pt x="1613" y="1649"/>
                </a:lnTo>
                <a:lnTo>
                  <a:pt x="1601" y="1649"/>
                </a:lnTo>
                <a:lnTo>
                  <a:pt x="1575" y="1649"/>
                </a:lnTo>
                <a:lnTo>
                  <a:pt x="1550" y="1636"/>
                </a:lnTo>
                <a:lnTo>
                  <a:pt x="1512" y="1611"/>
                </a:lnTo>
                <a:lnTo>
                  <a:pt x="1475" y="1599"/>
                </a:lnTo>
                <a:lnTo>
                  <a:pt x="1424" y="1561"/>
                </a:lnTo>
                <a:lnTo>
                  <a:pt x="1374" y="1523"/>
                </a:lnTo>
                <a:lnTo>
                  <a:pt x="1311" y="1485"/>
                </a:lnTo>
                <a:lnTo>
                  <a:pt x="1185" y="1397"/>
                </a:lnTo>
                <a:lnTo>
                  <a:pt x="1059" y="1309"/>
                </a:lnTo>
                <a:lnTo>
                  <a:pt x="933" y="1234"/>
                </a:lnTo>
                <a:lnTo>
                  <a:pt x="794" y="1158"/>
                </a:lnTo>
                <a:lnTo>
                  <a:pt x="668" y="1095"/>
                </a:lnTo>
                <a:lnTo>
                  <a:pt x="529" y="1032"/>
                </a:lnTo>
                <a:lnTo>
                  <a:pt x="403" y="982"/>
                </a:lnTo>
                <a:lnTo>
                  <a:pt x="277" y="919"/>
                </a:lnTo>
                <a:lnTo>
                  <a:pt x="214" y="894"/>
                </a:lnTo>
                <a:lnTo>
                  <a:pt x="164" y="869"/>
                </a:lnTo>
                <a:lnTo>
                  <a:pt x="113" y="856"/>
                </a:lnTo>
                <a:lnTo>
                  <a:pt x="75" y="831"/>
                </a:lnTo>
                <a:lnTo>
                  <a:pt x="50" y="818"/>
                </a:lnTo>
                <a:lnTo>
                  <a:pt x="25" y="806"/>
                </a:lnTo>
                <a:lnTo>
                  <a:pt x="12" y="793"/>
                </a:lnTo>
                <a:lnTo>
                  <a:pt x="0" y="780"/>
                </a:lnTo>
                <a:lnTo>
                  <a:pt x="0" y="768"/>
                </a:lnTo>
                <a:lnTo>
                  <a:pt x="0" y="755"/>
                </a:lnTo>
                <a:lnTo>
                  <a:pt x="12" y="730"/>
                </a:lnTo>
                <a:lnTo>
                  <a:pt x="12" y="705"/>
                </a:lnTo>
                <a:lnTo>
                  <a:pt x="25" y="667"/>
                </a:lnTo>
                <a:lnTo>
                  <a:pt x="50" y="629"/>
                </a:lnTo>
                <a:lnTo>
                  <a:pt x="75" y="592"/>
                </a:lnTo>
                <a:lnTo>
                  <a:pt x="101" y="541"/>
                </a:lnTo>
                <a:lnTo>
                  <a:pt x="126" y="491"/>
                </a:lnTo>
                <a:lnTo>
                  <a:pt x="138" y="441"/>
                </a:lnTo>
                <a:lnTo>
                  <a:pt x="164" y="390"/>
                </a:lnTo>
                <a:lnTo>
                  <a:pt x="176" y="340"/>
                </a:lnTo>
                <a:lnTo>
                  <a:pt x="202" y="290"/>
                </a:lnTo>
                <a:lnTo>
                  <a:pt x="214" y="252"/>
                </a:lnTo>
                <a:lnTo>
                  <a:pt x="214" y="201"/>
                </a:lnTo>
                <a:lnTo>
                  <a:pt x="214" y="164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6"/>
          <p:cNvSpPr/>
          <p:nvPr/>
        </p:nvSpPr>
        <p:spPr>
          <a:xfrm>
            <a:off x="3786120" y="2624040"/>
            <a:ext cx="1103400" cy="870120"/>
          </a:xfrm>
          <a:custGeom>
            <a:avLst/>
            <a:gdLst/>
            <a:ahLst/>
            <a:rect l="l" t="t" r="r" b="b"/>
            <a:pathLst>
              <a:path w="1739" h="1371">
                <a:moveTo>
                  <a:pt x="0" y="1346"/>
                </a:moveTo>
                <a:lnTo>
                  <a:pt x="0" y="1346"/>
                </a:lnTo>
                <a:lnTo>
                  <a:pt x="12" y="1334"/>
                </a:lnTo>
                <a:lnTo>
                  <a:pt x="12" y="1321"/>
                </a:lnTo>
                <a:lnTo>
                  <a:pt x="25" y="1321"/>
                </a:lnTo>
                <a:lnTo>
                  <a:pt x="37" y="1321"/>
                </a:lnTo>
                <a:lnTo>
                  <a:pt x="63" y="1309"/>
                </a:lnTo>
                <a:lnTo>
                  <a:pt x="88" y="1296"/>
                </a:lnTo>
                <a:lnTo>
                  <a:pt x="100" y="1283"/>
                </a:lnTo>
                <a:lnTo>
                  <a:pt x="126" y="1283"/>
                </a:lnTo>
                <a:lnTo>
                  <a:pt x="163" y="1271"/>
                </a:lnTo>
                <a:lnTo>
                  <a:pt x="189" y="1258"/>
                </a:lnTo>
                <a:lnTo>
                  <a:pt x="227" y="1246"/>
                </a:lnTo>
                <a:lnTo>
                  <a:pt x="264" y="1246"/>
                </a:lnTo>
                <a:lnTo>
                  <a:pt x="302" y="1233"/>
                </a:lnTo>
                <a:lnTo>
                  <a:pt x="340" y="1220"/>
                </a:lnTo>
                <a:lnTo>
                  <a:pt x="428" y="1195"/>
                </a:lnTo>
                <a:lnTo>
                  <a:pt x="516" y="1170"/>
                </a:lnTo>
                <a:lnTo>
                  <a:pt x="592" y="1145"/>
                </a:lnTo>
                <a:lnTo>
                  <a:pt x="668" y="1107"/>
                </a:lnTo>
                <a:lnTo>
                  <a:pt x="743" y="1082"/>
                </a:lnTo>
                <a:lnTo>
                  <a:pt x="819" y="1044"/>
                </a:lnTo>
                <a:lnTo>
                  <a:pt x="882" y="1006"/>
                </a:lnTo>
                <a:lnTo>
                  <a:pt x="958" y="969"/>
                </a:lnTo>
                <a:lnTo>
                  <a:pt x="1021" y="931"/>
                </a:lnTo>
                <a:lnTo>
                  <a:pt x="1071" y="881"/>
                </a:lnTo>
                <a:lnTo>
                  <a:pt x="1134" y="843"/>
                </a:lnTo>
                <a:lnTo>
                  <a:pt x="1184" y="792"/>
                </a:lnTo>
                <a:lnTo>
                  <a:pt x="1222" y="755"/>
                </a:lnTo>
                <a:lnTo>
                  <a:pt x="1273" y="704"/>
                </a:lnTo>
                <a:lnTo>
                  <a:pt x="1310" y="654"/>
                </a:lnTo>
                <a:lnTo>
                  <a:pt x="1348" y="591"/>
                </a:lnTo>
                <a:lnTo>
                  <a:pt x="1373" y="541"/>
                </a:lnTo>
                <a:lnTo>
                  <a:pt x="1399" y="490"/>
                </a:lnTo>
                <a:lnTo>
                  <a:pt x="1424" y="440"/>
                </a:lnTo>
                <a:lnTo>
                  <a:pt x="1449" y="402"/>
                </a:lnTo>
                <a:lnTo>
                  <a:pt x="1462" y="365"/>
                </a:lnTo>
                <a:lnTo>
                  <a:pt x="1487" y="327"/>
                </a:lnTo>
                <a:lnTo>
                  <a:pt x="1487" y="289"/>
                </a:lnTo>
                <a:lnTo>
                  <a:pt x="1500" y="264"/>
                </a:lnTo>
                <a:lnTo>
                  <a:pt x="1512" y="201"/>
                </a:lnTo>
                <a:lnTo>
                  <a:pt x="1512" y="163"/>
                </a:lnTo>
                <a:lnTo>
                  <a:pt x="1512" y="125"/>
                </a:lnTo>
                <a:lnTo>
                  <a:pt x="1500" y="88"/>
                </a:lnTo>
                <a:lnTo>
                  <a:pt x="1487" y="62"/>
                </a:lnTo>
                <a:lnTo>
                  <a:pt x="1487" y="37"/>
                </a:lnTo>
                <a:lnTo>
                  <a:pt x="1487" y="25"/>
                </a:lnTo>
                <a:lnTo>
                  <a:pt x="1500" y="12"/>
                </a:lnTo>
                <a:lnTo>
                  <a:pt x="1512" y="0"/>
                </a:lnTo>
                <a:lnTo>
                  <a:pt x="1525" y="0"/>
                </a:lnTo>
                <a:lnTo>
                  <a:pt x="1550" y="0"/>
                </a:lnTo>
                <a:lnTo>
                  <a:pt x="1563" y="0"/>
                </a:lnTo>
                <a:lnTo>
                  <a:pt x="1588" y="12"/>
                </a:lnTo>
                <a:lnTo>
                  <a:pt x="1613" y="12"/>
                </a:lnTo>
                <a:lnTo>
                  <a:pt x="1638" y="25"/>
                </a:lnTo>
                <a:lnTo>
                  <a:pt x="1663" y="37"/>
                </a:lnTo>
                <a:lnTo>
                  <a:pt x="1676" y="50"/>
                </a:lnTo>
                <a:lnTo>
                  <a:pt x="1701" y="62"/>
                </a:lnTo>
                <a:lnTo>
                  <a:pt x="1714" y="62"/>
                </a:lnTo>
                <a:lnTo>
                  <a:pt x="1726" y="75"/>
                </a:lnTo>
                <a:lnTo>
                  <a:pt x="1739" y="100"/>
                </a:lnTo>
                <a:lnTo>
                  <a:pt x="1739" y="125"/>
                </a:lnTo>
                <a:lnTo>
                  <a:pt x="1739" y="151"/>
                </a:lnTo>
                <a:lnTo>
                  <a:pt x="1739" y="188"/>
                </a:lnTo>
                <a:lnTo>
                  <a:pt x="1726" y="226"/>
                </a:lnTo>
                <a:lnTo>
                  <a:pt x="1726" y="264"/>
                </a:lnTo>
                <a:lnTo>
                  <a:pt x="1714" y="289"/>
                </a:lnTo>
                <a:lnTo>
                  <a:pt x="1701" y="327"/>
                </a:lnTo>
                <a:lnTo>
                  <a:pt x="1689" y="365"/>
                </a:lnTo>
                <a:lnTo>
                  <a:pt x="1663" y="402"/>
                </a:lnTo>
                <a:lnTo>
                  <a:pt x="1651" y="440"/>
                </a:lnTo>
                <a:lnTo>
                  <a:pt x="1626" y="490"/>
                </a:lnTo>
                <a:lnTo>
                  <a:pt x="1600" y="553"/>
                </a:lnTo>
                <a:lnTo>
                  <a:pt x="1563" y="616"/>
                </a:lnTo>
                <a:lnTo>
                  <a:pt x="1525" y="667"/>
                </a:lnTo>
                <a:lnTo>
                  <a:pt x="1487" y="730"/>
                </a:lnTo>
                <a:lnTo>
                  <a:pt x="1449" y="780"/>
                </a:lnTo>
                <a:lnTo>
                  <a:pt x="1399" y="843"/>
                </a:lnTo>
                <a:lnTo>
                  <a:pt x="1348" y="893"/>
                </a:lnTo>
                <a:lnTo>
                  <a:pt x="1298" y="931"/>
                </a:lnTo>
                <a:lnTo>
                  <a:pt x="1235" y="981"/>
                </a:lnTo>
                <a:lnTo>
                  <a:pt x="1184" y="1019"/>
                </a:lnTo>
                <a:lnTo>
                  <a:pt x="1109" y="1069"/>
                </a:lnTo>
                <a:lnTo>
                  <a:pt x="1046" y="1095"/>
                </a:lnTo>
                <a:lnTo>
                  <a:pt x="983" y="1132"/>
                </a:lnTo>
                <a:lnTo>
                  <a:pt x="907" y="1170"/>
                </a:lnTo>
                <a:lnTo>
                  <a:pt x="831" y="1195"/>
                </a:lnTo>
                <a:lnTo>
                  <a:pt x="756" y="1220"/>
                </a:lnTo>
                <a:lnTo>
                  <a:pt x="680" y="1246"/>
                </a:lnTo>
                <a:lnTo>
                  <a:pt x="605" y="1271"/>
                </a:lnTo>
                <a:lnTo>
                  <a:pt x="516" y="1283"/>
                </a:lnTo>
                <a:lnTo>
                  <a:pt x="453" y="1296"/>
                </a:lnTo>
                <a:lnTo>
                  <a:pt x="378" y="1321"/>
                </a:lnTo>
                <a:lnTo>
                  <a:pt x="327" y="1334"/>
                </a:lnTo>
                <a:lnTo>
                  <a:pt x="264" y="1346"/>
                </a:lnTo>
                <a:lnTo>
                  <a:pt x="214" y="1346"/>
                </a:lnTo>
                <a:lnTo>
                  <a:pt x="176" y="1359"/>
                </a:lnTo>
                <a:lnTo>
                  <a:pt x="138" y="1371"/>
                </a:lnTo>
                <a:lnTo>
                  <a:pt x="113" y="1371"/>
                </a:lnTo>
                <a:lnTo>
                  <a:pt x="88" y="1371"/>
                </a:lnTo>
                <a:lnTo>
                  <a:pt x="63" y="1371"/>
                </a:lnTo>
                <a:lnTo>
                  <a:pt x="37" y="1371"/>
                </a:lnTo>
                <a:lnTo>
                  <a:pt x="25" y="1371"/>
                </a:lnTo>
                <a:lnTo>
                  <a:pt x="12" y="1371"/>
                </a:lnTo>
                <a:lnTo>
                  <a:pt x="0" y="1359"/>
                </a:lnTo>
                <a:lnTo>
                  <a:pt x="0" y="134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1" descr=""/>
          <p:cNvPicPr/>
          <p:nvPr/>
        </p:nvPicPr>
        <p:blipFill>
          <a:blip r:embed="rId2"/>
          <a:stretch/>
        </p:blipFill>
        <p:spPr>
          <a:xfrm>
            <a:off x="314280" y="4572000"/>
            <a:ext cx="85154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8"/>
          <p:cNvGrpSpPr/>
          <p:nvPr/>
        </p:nvGrpSpPr>
        <p:grpSpPr>
          <a:xfrm>
            <a:off x="3303720" y="1193760"/>
            <a:ext cx="2541600" cy="2538360"/>
            <a:chOff x="3303720" y="1193760"/>
            <a:chExt cx="2541600" cy="2538360"/>
          </a:xfrm>
        </p:grpSpPr>
        <p:sp>
          <p:nvSpPr>
            <p:cNvPr id="223" name="直接连接符 5"/>
            <p:cNvSpPr/>
            <p:nvPr/>
          </p:nvSpPr>
          <p:spPr>
            <a:xfrm>
              <a:off x="3325680" y="2460600"/>
              <a:ext cx="2519640" cy="14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6"/>
            <p:cNvSpPr/>
            <p:nvPr/>
          </p:nvSpPr>
          <p:spPr>
            <a:xfrm flipH="1">
              <a:off x="4551480" y="1193760"/>
              <a:ext cx="1440" cy="25196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矩形 7"/>
            <p:cNvSpPr/>
            <p:nvPr/>
          </p:nvSpPr>
          <p:spPr>
            <a:xfrm>
              <a:off x="3303720" y="1212480"/>
              <a:ext cx="2519640" cy="2519640"/>
            </a:xfrm>
            <a:prstGeom prst="rect">
              <a:avLst/>
            </a:prstGeom>
            <a:noFill/>
            <a:ln w="25560">
              <a:solidFill>
                <a:srgbClr val="2e75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Freeform 6"/>
          <p:cNvSpPr/>
          <p:nvPr/>
        </p:nvSpPr>
        <p:spPr>
          <a:xfrm>
            <a:off x="4011480" y="1227240"/>
            <a:ext cx="895320" cy="704880"/>
          </a:xfrm>
          <a:custGeom>
            <a:avLst/>
            <a:gdLst/>
            <a:ahLst/>
            <a:rect l="l" t="t" r="r" b="b"/>
            <a:pathLst>
              <a:path w="1411" h="1108">
                <a:moveTo>
                  <a:pt x="340" y="995"/>
                </a:moveTo>
                <a:lnTo>
                  <a:pt x="264" y="1020"/>
                </a:lnTo>
                <a:lnTo>
                  <a:pt x="201" y="1058"/>
                </a:lnTo>
                <a:lnTo>
                  <a:pt x="138" y="1070"/>
                </a:lnTo>
                <a:lnTo>
                  <a:pt x="101" y="1083"/>
                </a:lnTo>
                <a:lnTo>
                  <a:pt x="63" y="1095"/>
                </a:lnTo>
                <a:lnTo>
                  <a:pt x="38" y="1108"/>
                </a:lnTo>
                <a:lnTo>
                  <a:pt x="12" y="1108"/>
                </a:lnTo>
                <a:lnTo>
                  <a:pt x="0" y="1095"/>
                </a:lnTo>
                <a:lnTo>
                  <a:pt x="0" y="1083"/>
                </a:lnTo>
                <a:lnTo>
                  <a:pt x="12" y="1070"/>
                </a:lnTo>
                <a:lnTo>
                  <a:pt x="25" y="1058"/>
                </a:lnTo>
                <a:lnTo>
                  <a:pt x="50" y="1033"/>
                </a:lnTo>
                <a:lnTo>
                  <a:pt x="88" y="1007"/>
                </a:lnTo>
                <a:lnTo>
                  <a:pt x="126" y="982"/>
                </a:lnTo>
                <a:lnTo>
                  <a:pt x="176" y="944"/>
                </a:lnTo>
                <a:lnTo>
                  <a:pt x="227" y="919"/>
                </a:lnTo>
                <a:lnTo>
                  <a:pt x="353" y="844"/>
                </a:lnTo>
                <a:lnTo>
                  <a:pt x="466" y="768"/>
                </a:lnTo>
                <a:lnTo>
                  <a:pt x="580" y="693"/>
                </a:lnTo>
                <a:lnTo>
                  <a:pt x="693" y="605"/>
                </a:lnTo>
                <a:lnTo>
                  <a:pt x="743" y="567"/>
                </a:lnTo>
                <a:lnTo>
                  <a:pt x="794" y="516"/>
                </a:lnTo>
                <a:lnTo>
                  <a:pt x="844" y="479"/>
                </a:lnTo>
                <a:lnTo>
                  <a:pt x="882" y="441"/>
                </a:lnTo>
                <a:lnTo>
                  <a:pt x="932" y="391"/>
                </a:lnTo>
                <a:lnTo>
                  <a:pt x="958" y="353"/>
                </a:lnTo>
                <a:lnTo>
                  <a:pt x="995" y="315"/>
                </a:lnTo>
                <a:lnTo>
                  <a:pt x="1033" y="277"/>
                </a:lnTo>
                <a:lnTo>
                  <a:pt x="1058" y="240"/>
                </a:lnTo>
                <a:lnTo>
                  <a:pt x="1084" y="202"/>
                </a:lnTo>
                <a:lnTo>
                  <a:pt x="1096" y="177"/>
                </a:lnTo>
                <a:lnTo>
                  <a:pt x="1109" y="151"/>
                </a:lnTo>
                <a:lnTo>
                  <a:pt x="1121" y="126"/>
                </a:lnTo>
                <a:lnTo>
                  <a:pt x="1121" y="114"/>
                </a:lnTo>
                <a:lnTo>
                  <a:pt x="1121" y="101"/>
                </a:lnTo>
                <a:lnTo>
                  <a:pt x="1109" y="89"/>
                </a:lnTo>
                <a:lnTo>
                  <a:pt x="1096" y="76"/>
                </a:lnTo>
                <a:lnTo>
                  <a:pt x="1096" y="51"/>
                </a:lnTo>
                <a:lnTo>
                  <a:pt x="1096" y="38"/>
                </a:lnTo>
                <a:lnTo>
                  <a:pt x="1109" y="13"/>
                </a:lnTo>
                <a:lnTo>
                  <a:pt x="1121" y="13"/>
                </a:lnTo>
                <a:lnTo>
                  <a:pt x="1134" y="0"/>
                </a:lnTo>
                <a:lnTo>
                  <a:pt x="1147" y="0"/>
                </a:lnTo>
                <a:lnTo>
                  <a:pt x="1159" y="0"/>
                </a:lnTo>
                <a:lnTo>
                  <a:pt x="1172" y="0"/>
                </a:lnTo>
                <a:lnTo>
                  <a:pt x="1185" y="0"/>
                </a:lnTo>
                <a:lnTo>
                  <a:pt x="1197" y="13"/>
                </a:lnTo>
                <a:lnTo>
                  <a:pt x="1210" y="13"/>
                </a:lnTo>
                <a:lnTo>
                  <a:pt x="1285" y="63"/>
                </a:lnTo>
                <a:lnTo>
                  <a:pt x="1348" y="114"/>
                </a:lnTo>
                <a:lnTo>
                  <a:pt x="1374" y="139"/>
                </a:lnTo>
                <a:lnTo>
                  <a:pt x="1399" y="164"/>
                </a:lnTo>
                <a:lnTo>
                  <a:pt x="1399" y="189"/>
                </a:lnTo>
                <a:lnTo>
                  <a:pt x="1411" y="214"/>
                </a:lnTo>
                <a:lnTo>
                  <a:pt x="1399" y="227"/>
                </a:lnTo>
                <a:lnTo>
                  <a:pt x="1399" y="240"/>
                </a:lnTo>
                <a:lnTo>
                  <a:pt x="1386" y="252"/>
                </a:lnTo>
                <a:lnTo>
                  <a:pt x="1374" y="277"/>
                </a:lnTo>
                <a:lnTo>
                  <a:pt x="1361" y="290"/>
                </a:lnTo>
                <a:lnTo>
                  <a:pt x="1336" y="315"/>
                </a:lnTo>
                <a:lnTo>
                  <a:pt x="1323" y="328"/>
                </a:lnTo>
                <a:lnTo>
                  <a:pt x="1298" y="353"/>
                </a:lnTo>
                <a:lnTo>
                  <a:pt x="1260" y="378"/>
                </a:lnTo>
                <a:lnTo>
                  <a:pt x="1235" y="403"/>
                </a:lnTo>
                <a:lnTo>
                  <a:pt x="1197" y="441"/>
                </a:lnTo>
                <a:lnTo>
                  <a:pt x="1147" y="479"/>
                </a:lnTo>
                <a:lnTo>
                  <a:pt x="1096" y="516"/>
                </a:lnTo>
                <a:lnTo>
                  <a:pt x="1046" y="554"/>
                </a:lnTo>
                <a:lnTo>
                  <a:pt x="995" y="605"/>
                </a:lnTo>
                <a:lnTo>
                  <a:pt x="932" y="655"/>
                </a:lnTo>
                <a:lnTo>
                  <a:pt x="794" y="743"/>
                </a:lnTo>
                <a:lnTo>
                  <a:pt x="643" y="831"/>
                </a:lnTo>
                <a:lnTo>
                  <a:pt x="491" y="919"/>
                </a:lnTo>
                <a:lnTo>
                  <a:pt x="340" y="99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7"/>
          <p:cNvSpPr/>
          <p:nvPr/>
        </p:nvSpPr>
        <p:spPr>
          <a:xfrm>
            <a:off x="4002120" y="1452600"/>
            <a:ext cx="1001520" cy="374760"/>
          </a:xfrm>
          <a:custGeom>
            <a:avLst/>
            <a:gdLst/>
            <a:ahLst/>
            <a:rect l="l" t="t" r="r" b="b"/>
            <a:pathLst>
              <a:path w="1576" h="591">
                <a:moveTo>
                  <a:pt x="1399" y="315"/>
                </a:moveTo>
                <a:lnTo>
                  <a:pt x="1450" y="340"/>
                </a:lnTo>
                <a:lnTo>
                  <a:pt x="1475" y="365"/>
                </a:lnTo>
                <a:lnTo>
                  <a:pt x="1513" y="377"/>
                </a:lnTo>
                <a:lnTo>
                  <a:pt x="1538" y="403"/>
                </a:lnTo>
                <a:lnTo>
                  <a:pt x="1550" y="428"/>
                </a:lnTo>
                <a:lnTo>
                  <a:pt x="1576" y="453"/>
                </a:lnTo>
                <a:lnTo>
                  <a:pt x="1576" y="466"/>
                </a:lnTo>
                <a:lnTo>
                  <a:pt x="1576" y="491"/>
                </a:lnTo>
                <a:lnTo>
                  <a:pt x="1576" y="516"/>
                </a:lnTo>
                <a:lnTo>
                  <a:pt x="1576" y="529"/>
                </a:lnTo>
                <a:lnTo>
                  <a:pt x="1576" y="541"/>
                </a:lnTo>
                <a:lnTo>
                  <a:pt x="1576" y="554"/>
                </a:lnTo>
                <a:lnTo>
                  <a:pt x="1563" y="566"/>
                </a:lnTo>
                <a:lnTo>
                  <a:pt x="1563" y="579"/>
                </a:lnTo>
                <a:lnTo>
                  <a:pt x="1550" y="579"/>
                </a:lnTo>
                <a:lnTo>
                  <a:pt x="1538" y="591"/>
                </a:lnTo>
                <a:lnTo>
                  <a:pt x="1525" y="591"/>
                </a:lnTo>
                <a:lnTo>
                  <a:pt x="1513" y="579"/>
                </a:lnTo>
                <a:lnTo>
                  <a:pt x="1500" y="579"/>
                </a:lnTo>
                <a:lnTo>
                  <a:pt x="1475" y="579"/>
                </a:lnTo>
                <a:lnTo>
                  <a:pt x="1437" y="566"/>
                </a:lnTo>
                <a:lnTo>
                  <a:pt x="1412" y="554"/>
                </a:lnTo>
                <a:lnTo>
                  <a:pt x="1374" y="541"/>
                </a:lnTo>
                <a:lnTo>
                  <a:pt x="1336" y="516"/>
                </a:lnTo>
                <a:lnTo>
                  <a:pt x="1311" y="516"/>
                </a:lnTo>
                <a:lnTo>
                  <a:pt x="1286" y="503"/>
                </a:lnTo>
                <a:lnTo>
                  <a:pt x="1248" y="491"/>
                </a:lnTo>
                <a:lnTo>
                  <a:pt x="1223" y="478"/>
                </a:lnTo>
                <a:lnTo>
                  <a:pt x="1185" y="466"/>
                </a:lnTo>
                <a:lnTo>
                  <a:pt x="1147" y="453"/>
                </a:lnTo>
                <a:lnTo>
                  <a:pt x="1109" y="440"/>
                </a:lnTo>
                <a:lnTo>
                  <a:pt x="1059" y="415"/>
                </a:lnTo>
                <a:lnTo>
                  <a:pt x="1008" y="403"/>
                </a:lnTo>
                <a:lnTo>
                  <a:pt x="958" y="377"/>
                </a:lnTo>
                <a:lnTo>
                  <a:pt x="908" y="365"/>
                </a:lnTo>
                <a:lnTo>
                  <a:pt x="845" y="340"/>
                </a:lnTo>
                <a:lnTo>
                  <a:pt x="782" y="327"/>
                </a:lnTo>
                <a:lnTo>
                  <a:pt x="719" y="302"/>
                </a:lnTo>
                <a:lnTo>
                  <a:pt x="656" y="277"/>
                </a:lnTo>
                <a:lnTo>
                  <a:pt x="580" y="252"/>
                </a:lnTo>
                <a:lnTo>
                  <a:pt x="504" y="226"/>
                </a:lnTo>
                <a:lnTo>
                  <a:pt x="441" y="201"/>
                </a:lnTo>
                <a:lnTo>
                  <a:pt x="378" y="176"/>
                </a:lnTo>
                <a:lnTo>
                  <a:pt x="328" y="163"/>
                </a:lnTo>
                <a:lnTo>
                  <a:pt x="277" y="138"/>
                </a:lnTo>
                <a:lnTo>
                  <a:pt x="227" y="126"/>
                </a:lnTo>
                <a:lnTo>
                  <a:pt x="189" y="113"/>
                </a:lnTo>
                <a:lnTo>
                  <a:pt x="151" y="88"/>
                </a:lnTo>
                <a:lnTo>
                  <a:pt x="114" y="75"/>
                </a:lnTo>
                <a:lnTo>
                  <a:pt x="88" y="63"/>
                </a:lnTo>
                <a:lnTo>
                  <a:pt x="63" y="63"/>
                </a:lnTo>
                <a:lnTo>
                  <a:pt x="38" y="50"/>
                </a:lnTo>
                <a:lnTo>
                  <a:pt x="25" y="38"/>
                </a:lnTo>
                <a:lnTo>
                  <a:pt x="13" y="38"/>
                </a:lnTo>
                <a:lnTo>
                  <a:pt x="0" y="25"/>
                </a:lnTo>
                <a:lnTo>
                  <a:pt x="13" y="12"/>
                </a:lnTo>
                <a:lnTo>
                  <a:pt x="25" y="12"/>
                </a:lnTo>
                <a:lnTo>
                  <a:pt x="38" y="0"/>
                </a:lnTo>
                <a:lnTo>
                  <a:pt x="51" y="0"/>
                </a:lnTo>
                <a:lnTo>
                  <a:pt x="63" y="0"/>
                </a:lnTo>
                <a:lnTo>
                  <a:pt x="88" y="0"/>
                </a:lnTo>
                <a:lnTo>
                  <a:pt x="114" y="0"/>
                </a:lnTo>
                <a:lnTo>
                  <a:pt x="139" y="0"/>
                </a:lnTo>
                <a:lnTo>
                  <a:pt x="177" y="0"/>
                </a:lnTo>
                <a:lnTo>
                  <a:pt x="214" y="12"/>
                </a:lnTo>
                <a:lnTo>
                  <a:pt x="252" y="12"/>
                </a:lnTo>
                <a:lnTo>
                  <a:pt x="303" y="25"/>
                </a:lnTo>
                <a:lnTo>
                  <a:pt x="353" y="25"/>
                </a:lnTo>
                <a:lnTo>
                  <a:pt x="403" y="25"/>
                </a:lnTo>
                <a:lnTo>
                  <a:pt x="529" y="50"/>
                </a:lnTo>
                <a:lnTo>
                  <a:pt x="656" y="75"/>
                </a:lnTo>
                <a:lnTo>
                  <a:pt x="794" y="101"/>
                </a:lnTo>
                <a:lnTo>
                  <a:pt x="933" y="138"/>
                </a:lnTo>
                <a:lnTo>
                  <a:pt x="1008" y="163"/>
                </a:lnTo>
                <a:lnTo>
                  <a:pt x="1071" y="176"/>
                </a:lnTo>
                <a:lnTo>
                  <a:pt x="1134" y="201"/>
                </a:lnTo>
                <a:lnTo>
                  <a:pt x="1198" y="226"/>
                </a:lnTo>
                <a:lnTo>
                  <a:pt x="1248" y="239"/>
                </a:lnTo>
                <a:lnTo>
                  <a:pt x="1311" y="264"/>
                </a:lnTo>
                <a:lnTo>
                  <a:pt x="1361" y="289"/>
                </a:lnTo>
                <a:lnTo>
                  <a:pt x="1399" y="31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8"/>
          <p:cNvSpPr/>
          <p:nvPr/>
        </p:nvSpPr>
        <p:spPr>
          <a:xfrm>
            <a:off x="3467160" y="1900080"/>
            <a:ext cx="2208240" cy="374760"/>
          </a:xfrm>
          <a:custGeom>
            <a:avLst/>
            <a:gdLst/>
            <a:ahLst/>
            <a:rect l="l" t="t" r="r" b="b"/>
            <a:pathLst>
              <a:path w="3478" h="591">
                <a:moveTo>
                  <a:pt x="2470" y="63"/>
                </a:moveTo>
                <a:lnTo>
                  <a:pt x="2558" y="50"/>
                </a:lnTo>
                <a:lnTo>
                  <a:pt x="2646" y="37"/>
                </a:lnTo>
                <a:lnTo>
                  <a:pt x="2722" y="25"/>
                </a:lnTo>
                <a:lnTo>
                  <a:pt x="2798" y="12"/>
                </a:lnTo>
                <a:lnTo>
                  <a:pt x="2861" y="12"/>
                </a:lnTo>
                <a:lnTo>
                  <a:pt x="2911" y="0"/>
                </a:lnTo>
                <a:lnTo>
                  <a:pt x="2974" y="0"/>
                </a:lnTo>
                <a:lnTo>
                  <a:pt x="3012" y="0"/>
                </a:lnTo>
                <a:lnTo>
                  <a:pt x="3050" y="0"/>
                </a:lnTo>
                <a:lnTo>
                  <a:pt x="3088" y="0"/>
                </a:lnTo>
                <a:lnTo>
                  <a:pt x="3138" y="12"/>
                </a:lnTo>
                <a:lnTo>
                  <a:pt x="3176" y="12"/>
                </a:lnTo>
                <a:lnTo>
                  <a:pt x="3214" y="25"/>
                </a:lnTo>
                <a:lnTo>
                  <a:pt x="3251" y="50"/>
                </a:lnTo>
                <a:lnTo>
                  <a:pt x="3289" y="63"/>
                </a:lnTo>
                <a:lnTo>
                  <a:pt x="3327" y="88"/>
                </a:lnTo>
                <a:lnTo>
                  <a:pt x="3365" y="100"/>
                </a:lnTo>
                <a:lnTo>
                  <a:pt x="3390" y="126"/>
                </a:lnTo>
                <a:lnTo>
                  <a:pt x="3415" y="138"/>
                </a:lnTo>
                <a:lnTo>
                  <a:pt x="3441" y="151"/>
                </a:lnTo>
                <a:lnTo>
                  <a:pt x="3453" y="176"/>
                </a:lnTo>
                <a:lnTo>
                  <a:pt x="3466" y="189"/>
                </a:lnTo>
                <a:lnTo>
                  <a:pt x="3466" y="201"/>
                </a:lnTo>
                <a:lnTo>
                  <a:pt x="3478" y="201"/>
                </a:lnTo>
                <a:lnTo>
                  <a:pt x="3478" y="214"/>
                </a:lnTo>
                <a:lnTo>
                  <a:pt x="3466" y="226"/>
                </a:lnTo>
                <a:lnTo>
                  <a:pt x="3453" y="239"/>
                </a:lnTo>
                <a:lnTo>
                  <a:pt x="3441" y="239"/>
                </a:lnTo>
                <a:lnTo>
                  <a:pt x="3428" y="251"/>
                </a:lnTo>
                <a:lnTo>
                  <a:pt x="3415" y="251"/>
                </a:lnTo>
                <a:lnTo>
                  <a:pt x="3390" y="264"/>
                </a:lnTo>
                <a:lnTo>
                  <a:pt x="3365" y="264"/>
                </a:lnTo>
                <a:lnTo>
                  <a:pt x="3340" y="277"/>
                </a:lnTo>
                <a:lnTo>
                  <a:pt x="3302" y="277"/>
                </a:lnTo>
                <a:lnTo>
                  <a:pt x="3264" y="277"/>
                </a:lnTo>
                <a:lnTo>
                  <a:pt x="3226" y="277"/>
                </a:lnTo>
                <a:lnTo>
                  <a:pt x="3176" y="277"/>
                </a:lnTo>
                <a:lnTo>
                  <a:pt x="3138" y="277"/>
                </a:lnTo>
                <a:lnTo>
                  <a:pt x="3088" y="277"/>
                </a:lnTo>
                <a:lnTo>
                  <a:pt x="3025" y="264"/>
                </a:lnTo>
                <a:lnTo>
                  <a:pt x="2974" y="264"/>
                </a:lnTo>
                <a:lnTo>
                  <a:pt x="2899" y="264"/>
                </a:lnTo>
                <a:lnTo>
                  <a:pt x="2823" y="264"/>
                </a:lnTo>
                <a:lnTo>
                  <a:pt x="2747" y="264"/>
                </a:lnTo>
                <a:lnTo>
                  <a:pt x="2659" y="264"/>
                </a:lnTo>
                <a:lnTo>
                  <a:pt x="2558" y="264"/>
                </a:lnTo>
                <a:lnTo>
                  <a:pt x="2457" y="277"/>
                </a:lnTo>
                <a:lnTo>
                  <a:pt x="2344" y="289"/>
                </a:lnTo>
                <a:lnTo>
                  <a:pt x="2231" y="302"/>
                </a:lnTo>
                <a:lnTo>
                  <a:pt x="2117" y="302"/>
                </a:lnTo>
                <a:lnTo>
                  <a:pt x="2016" y="314"/>
                </a:lnTo>
                <a:lnTo>
                  <a:pt x="1915" y="327"/>
                </a:lnTo>
                <a:lnTo>
                  <a:pt x="1815" y="340"/>
                </a:lnTo>
                <a:lnTo>
                  <a:pt x="1726" y="352"/>
                </a:lnTo>
                <a:lnTo>
                  <a:pt x="1651" y="365"/>
                </a:lnTo>
                <a:lnTo>
                  <a:pt x="1563" y="377"/>
                </a:lnTo>
                <a:lnTo>
                  <a:pt x="1247" y="428"/>
                </a:lnTo>
                <a:lnTo>
                  <a:pt x="920" y="478"/>
                </a:lnTo>
                <a:lnTo>
                  <a:pt x="844" y="491"/>
                </a:lnTo>
                <a:lnTo>
                  <a:pt x="769" y="516"/>
                </a:lnTo>
                <a:lnTo>
                  <a:pt x="693" y="528"/>
                </a:lnTo>
                <a:lnTo>
                  <a:pt x="630" y="541"/>
                </a:lnTo>
                <a:lnTo>
                  <a:pt x="567" y="554"/>
                </a:lnTo>
                <a:lnTo>
                  <a:pt x="516" y="566"/>
                </a:lnTo>
                <a:lnTo>
                  <a:pt x="453" y="566"/>
                </a:lnTo>
                <a:lnTo>
                  <a:pt x="403" y="579"/>
                </a:lnTo>
                <a:lnTo>
                  <a:pt x="365" y="591"/>
                </a:lnTo>
                <a:lnTo>
                  <a:pt x="315" y="591"/>
                </a:lnTo>
                <a:lnTo>
                  <a:pt x="277" y="591"/>
                </a:lnTo>
                <a:lnTo>
                  <a:pt x="227" y="591"/>
                </a:lnTo>
                <a:lnTo>
                  <a:pt x="189" y="579"/>
                </a:lnTo>
                <a:lnTo>
                  <a:pt x="151" y="566"/>
                </a:lnTo>
                <a:lnTo>
                  <a:pt x="113" y="554"/>
                </a:lnTo>
                <a:lnTo>
                  <a:pt x="75" y="541"/>
                </a:lnTo>
                <a:lnTo>
                  <a:pt x="50" y="528"/>
                </a:lnTo>
                <a:lnTo>
                  <a:pt x="37" y="516"/>
                </a:lnTo>
                <a:lnTo>
                  <a:pt x="25" y="503"/>
                </a:lnTo>
                <a:lnTo>
                  <a:pt x="12" y="491"/>
                </a:lnTo>
                <a:lnTo>
                  <a:pt x="0" y="478"/>
                </a:lnTo>
                <a:lnTo>
                  <a:pt x="0" y="465"/>
                </a:lnTo>
                <a:lnTo>
                  <a:pt x="12" y="453"/>
                </a:lnTo>
                <a:lnTo>
                  <a:pt x="25" y="453"/>
                </a:lnTo>
                <a:lnTo>
                  <a:pt x="37" y="440"/>
                </a:lnTo>
                <a:lnTo>
                  <a:pt x="50" y="440"/>
                </a:lnTo>
                <a:lnTo>
                  <a:pt x="63" y="440"/>
                </a:lnTo>
                <a:lnTo>
                  <a:pt x="88" y="440"/>
                </a:lnTo>
                <a:lnTo>
                  <a:pt x="113" y="428"/>
                </a:lnTo>
                <a:lnTo>
                  <a:pt x="138" y="428"/>
                </a:lnTo>
                <a:lnTo>
                  <a:pt x="176" y="428"/>
                </a:lnTo>
                <a:lnTo>
                  <a:pt x="214" y="415"/>
                </a:lnTo>
                <a:lnTo>
                  <a:pt x="264" y="415"/>
                </a:lnTo>
                <a:lnTo>
                  <a:pt x="315" y="402"/>
                </a:lnTo>
                <a:lnTo>
                  <a:pt x="378" y="402"/>
                </a:lnTo>
                <a:lnTo>
                  <a:pt x="441" y="390"/>
                </a:lnTo>
                <a:lnTo>
                  <a:pt x="516" y="377"/>
                </a:lnTo>
                <a:lnTo>
                  <a:pt x="592" y="365"/>
                </a:lnTo>
                <a:lnTo>
                  <a:pt x="668" y="352"/>
                </a:lnTo>
                <a:lnTo>
                  <a:pt x="756" y="340"/>
                </a:lnTo>
                <a:lnTo>
                  <a:pt x="857" y="327"/>
                </a:lnTo>
                <a:lnTo>
                  <a:pt x="958" y="314"/>
                </a:lnTo>
                <a:lnTo>
                  <a:pt x="1058" y="302"/>
                </a:lnTo>
                <a:lnTo>
                  <a:pt x="1172" y="277"/>
                </a:lnTo>
                <a:lnTo>
                  <a:pt x="1285" y="264"/>
                </a:lnTo>
                <a:lnTo>
                  <a:pt x="1399" y="239"/>
                </a:lnTo>
                <a:lnTo>
                  <a:pt x="1500" y="226"/>
                </a:lnTo>
                <a:lnTo>
                  <a:pt x="1600" y="214"/>
                </a:lnTo>
                <a:lnTo>
                  <a:pt x="1701" y="201"/>
                </a:lnTo>
                <a:lnTo>
                  <a:pt x="1789" y="189"/>
                </a:lnTo>
                <a:lnTo>
                  <a:pt x="1878" y="163"/>
                </a:lnTo>
                <a:lnTo>
                  <a:pt x="1953" y="151"/>
                </a:lnTo>
                <a:lnTo>
                  <a:pt x="2042" y="138"/>
                </a:lnTo>
                <a:lnTo>
                  <a:pt x="2117" y="126"/>
                </a:lnTo>
                <a:lnTo>
                  <a:pt x="2180" y="113"/>
                </a:lnTo>
                <a:lnTo>
                  <a:pt x="2256" y="100"/>
                </a:lnTo>
                <a:lnTo>
                  <a:pt x="2319" y="100"/>
                </a:lnTo>
                <a:lnTo>
                  <a:pt x="2369" y="88"/>
                </a:lnTo>
                <a:lnTo>
                  <a:pt x="2420" y="75"/>
                </a:lnTo>
                <a:lnTo>
                  <a:pt x="2470" y="6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9"/>
          <p:cNvSpPr/>
          <p:nvPr/>
        </p:nvSpPr>
        <p:spPr>
          <a:xfrm>
            <a:off x="4491000" y="2195640"/>
            <a:ext cx="208080" cy="1493640"/>
          </a:xfrm>
          <a:custGeom>
            <a:avLst/>
            <a:gdLst/>
            <a:ahLst/>
            <a:rect l="l" t="t" r="r" b="b"/>
            <a:pathLst>
              <a:path w="328" h="2354">
                <a:moveTo>
                  <a:pt x="290" y="995"/>
                </a:moveTo>
                <a:lnTo>
                  <a:pt x="302" y="1070"/>
                </a:lnTo>
                <a:lnTo>
                  <a:pt x="302" y="1158"/>
                </a:lnTo>
                <a:lnTo>
                  <a:pt x="302" y="1234"/>
                </a:lnTo>
                <a:lnTo>
                  <a:pt x="302" y="1309"/>
                </a:lnTo>
                <a:lnTo>
                  <a:pt x="302" y="1385"/>
                </a:lnTo>
                <a:lnTo>
                  <a:pt x="302" y="1460"/>
                </a:lnTo>
                <a:lnTo>
                  <a:pt x="302" y="1523"/>
                </a:lnTo>
                <a:lnTo>
                  <a:pt x="302" y="1599"/>
                </a:lnTo>
                <a:lnTo>
                  <a:pt x="302" y="1662"/>
                </a:lnTo>
                <a:lnTo>
                  <a:pt x="302" y="1712"/>
                </a:lnTo>
                <a:lnTo>
                  <a:pt x="290" y="1775"/>
                </a:lnTo>
                <a:lnTo>
                  <a:pt x="290" y="1826"/>
                </a:lnTo>
                <a:lnTo>
                  <a:pt x="290" y="1876"/>
                </a:lnTo>
                <a:lnTo>
                  <a:pt x="290" y="1926"/>
                </a:lnTo>
                <a:lnTo>
                  <a:pt x="290" y="1977"/>
                </a:lnTo>
                <a:lnTo>
                  <a:pt x="277" y="2014"/>
                </a:lnTo>
                <a:lnTo>
                  <a:pt x="277" y="2065"/>
                </a:lnTo>
                <a:lnTo>
                  <a:pt x="277" y="2102"/>
                </a:lnTo>
                <a:lnTo>
                  <a:pt x="265" y="2128"/>
                </a:lnTo>
                <a:lnTo>
                  <a:pt x="265" y="2165"/>
                </a:lnTo>
                <a:lnTo>
                  <a:pt x="265" y="2191"/>
                </a:lnTo>
                <a:lnTo>
                  <a:pt x="252" y="2228"/>
                </a:lnTo>
                <a:lnTo>
                  <a:pt x="252" y="2253"/>
                </a:lnTo>
                <a:lnTo>
                  <a:pt x="252" y="2266"/>
                </a:lnTo>
                <a:lnTo>
                  <a:pt x="239" y="2291"/>
                </a:lnTo>
                <a:lnTo>
                  <a:pt x="239" y="2304"/>
                </a:lnTo>
                <a:lnTo>
                  <a:pt x="239" y="2316"/>
                </a:lnTo>
                <a:lnTo>
                  <a:pt x="239" y="2329"/>
                </a:lnTo>
                <a:lnTo>
                  <a:pt x="227" y="2342"/>
                </a:lnTo>
                <a:lnTo>
                  <a:pt x="227" y="2354"/>
                </a:lnTo>
                <a:lnTo>
                  <a:pt x="214" y="2354"/>
                </a:lnTo>
                <a:lnTo>
                  <a:pt x="202" y="2342"/>
                </a:lnTo>
                <a:lnTo>
                  <a:pt x="189" y="2329"/>
                </a:lnTo>
                <a:lnTo>
                  <a:pt x="189" y="2316"/>
                </a:lnTo>
                <a:lnTo>
                  <a:pt x="176" y="2291"/>
                </a:lnTo>
                <a:lnTo>
                  <a:pt x="164" y="2253"/>
                </a:lnTo>
                <a:lnTo>
                  <a:pt x="151" y="2228"/>
                </a:lnTo>
                <a:lnTo>
                  <a:pt x="139" y="2178"/>
                </a:lnTo>
                <a:lnTo>
                  <a:pt x="139" y="2153"/>
                </a:lnTo>
                <a:lnTo>
                  <a:pt x="126" y="2128"/>
                </a:lnTo>
                <a:lnTo>
                  <a:pt x="126" y="2090"/>
                </a:lnTo>
                <a:lnTo>
                  <a:pt x="113" y="2052"/>
                </a:lnTo>
                <a:lnTo>
                  <a:pt x="113" y="2002"/>
                </a:lnTo>
                <a:lnTo>
                  <a:pt x="113" y="1951"/>
                </a:lnTo>
                <a:lnTo>
                  <a:pt x="113" y="1888"/>
                </a:lnTo>
                <a:lnTo>
                  <a:pt x="101" y="1826"/>
                </a:lnTo>
                <a:lnTo>
                  <a:pt x="101" y="1750"/>
                </a:lnTo>
                <a:lnTo>
                  <a:pt x="101" y="1674"/>
                </a:lnTo>
                <a:lnTo>
                  <a:pt x="101" y="1586"/>
                </a:lnTo>
                <a:lnTo>
                  <a:pt x="101" y="1498"/>
                </a:lnTo>
                <a:lnTo>
                  <a:pt x="88" y="1398"/>
                </a:lnTo>
                <a:lnTo>
                  <a:pt x="88" y="1297"/>
                </a:lnTo>
                <a:lnTo>
                  <a:pt x="88" y="1196"/>
                </a:lnTo>
                <a:lnTo>
                  <a:pt x="88" y="1070"/>
                </a:lnTo>
                <a:lnTo>
                  <a:pt x="88" y="957"/>
                </a:lnTo>
                <a:lnTo>
                  <a:pt x="88" y="856"/>
                </a:lnTo>
                <a:lnTo>
                  <a:pt x="88" y="756"/>
                </a:lnTo>
                <a:lnTo>
                  <a:pt x="88" y="668"/>
                </a:lnTo>
                <a:lnTo>
                  <a:pt x="88" y="579"/>
                </a:lnTo>
                <a:lnTo>
                  <a:pt x="88" y="504"/>
                </a:lnTo>
                <a:lnTo>
                  <a:pt x="88" y="428"/>
                </a:lnTo>
                <a:lnTo>
                  <a:pt x="76" y="365"/>
                </a:lnTo>
                <a:lnTo>
                  <a:pt x="76" y="315"/>
                </a:lnTo>
                <a:lnTo>
                  <a:pt x="76" y="265"/>
                </a:lnTo>
                <a:lnTo>
                  <a:pt x="63" y="214"/>
                </a:lnTo>
                <a:lnTo>
                  <a:pt x="63" y="177"/>
                </a:lnTo>
                <a:lnTo>
                  <a:pt x="50" y="151"/>
                </a:lnTo>
                <a:lnTo>
                  <a:pt x="50" y="126"/>
                </a:lnTo>
                <a:lnTo>
                  <a:pt x="38" y="114"/>
                </a:lnTo>
                <a:lnTo>
                  <a:pt x="13" y="89"/>
                </a:lnTo>
                <a:lnTo>
                  <a:pt x="0" y="76"/>
                </a:lnTo>
                <a:lnTo>
                  <a:pt x="0" y="51"/>
                </a:lnTo>
                <a:lnTo>
                  <a:pt x="0" y="26"/>
                </a:lnTo>
                <a:lnTo>
                  <a:pt x="13" y="13"/>
                </a:lnTo>
                <a:lnTo>
                  <a:pt x="25" y="0"/>
                </a:lnTo>
                <a:lnTo>
                  <a:pt x="38" y="0"/>
                </a:lnTo>
                <a:lnTo>
                  <a:pt x="63" y="0"/>
                </a:lnTo>
                <a:lnTo>
                  <a:pt x="88" y="0"/>
                </a:lnTo>
                <a:lnTo>
                  <a:pt x="113" y="0"/>
                </a:lnTo>
                <a:lnTo>
                  <a:pt x="151" y="13"/>
                </a:lnTo>
                <a:lnTo>
                  <a:pt x="176" y="13"/>
                </a:lnTo>
                <a:lnTo>
                  <a:pt x="202" y="26"/>
                </a:lnTo>
                <a:lnTo>
                  <a:pt x="239" y="26"/>
                </a:lnTo>
                <a:lnTo>
                  <a:pt x="252" y="38"/>
                </a:lnTo>
                <a:lnTo>
                  <a:pt x="277" y="51"/>
                </a:lnTo>
                <a:lnTo>
                  <a:pt x="290" y="51"/>
                </a:lnTo>
                <a:lnTo>
                  <a:pt x="302" y="63"/>
                </a:lnTo>
                <a:lnTo>
                  <a:pt x="315" y="76"/>
                </a:lnTo>
                <a:lnTo>
                  <a:pt x="328" y="101"/>
                </a:lnTo>
                <a:lnTo>
                  <a:pt x="328" y="139"/>
                </a:lnTo>
                <a:lnTo>
                  <a:pt x="328" y="177"/>
                </a:lnTo>
                <a:lnTo>
                  <a:pt x="315" y="214"/>
                </a:lnTo>
                <a:lnTo>
                  <a:pt x="302" y="227"/>
                </a:lnTo>
                <a:lnTo>
                  <a:pt x="302" y="240"/>
                </a:lnTo>
                <a:lnTo>
                  <a:pt x="302" y="265"/>
                </a:lnTo>
                <a:lnTo>
                  <a:pt x="302" y="290"/>
                </a:lnTo>
                <a:lnTo>
                  <a:pt x="290" y="328"/>
                </a:lnTo>
                <a:lnTo>
                  <a:pt x="290" y="365"/>
                </a:lnTo>
                <a:lnTo>
                  <a:pt x="290" y="403"/>
                </a:lnTo>
                <a:lnTo>
                  <a:pt x="290" y="454"/>
                </a:lnTo>
                <a:lnTo>
                  <a:pt x="290" y="504"/>
                </a:lnTo>
                <a:lnTo>
                  <a:pt x="290" y="554"/>
                </a:lnTo>
                <a:lnTo>
                  <a:pt x="290" y="617"/>
                </a:lnTo>
                <a:lnTo>
                  <a:pt x="290" y="680"/>
                </a:lnTo>
                <a:lnTo>
                  <a:pt x="290" y="756"/>
                </a:lnTo>
                <a:lnTo>
                  <a:pt x="290" y="831"/>
                </a:lnTo>
                <a:lnTo>
                  <a:pt x="290" y="907"/>
                </a:lnTo>
                <a:lnTo>
                  <a:pt x="290" y="99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4098960" y="2522520"/>
            <a:ext cx="144360" cy="671400"/>
          </a:xfrm>
          <a:custGeom>
            <a:avLst/>
            <a:gdLst/>
            <a:ahLst/>
            <a:rect l="l" t="t" r="r" b="b"/>
            <a:pathLst>
              <a:path w="227" h="1058">
                <a:moveTo>
                  <a:pt x="227" y="63"/>
                </a:moveTo>
                <a:lnTo>
                  <a:pt x="227" y="189"/>
                </a:lnTo>
                <a:lnTo>
                  <a:pt x="227" y="303"/>
                </a:lnTo>
                <a:lnTo>
                  <a:pt x="227" y="416"/>
                </a:lnTo>
                <a:lnTo>
                  <a:pt x="227" y="517"/>
                </a:lnTo>
                <a:lnTo>
                  <a:pt x="215" y="605"/>
                </a:lnTo>
                <a:lnTo>
                  <a:pt x="215" y="693"/>
                </a:lnTo>
                <a:lnTo>
                  <a:pt x="215" y="756"/>
                </a:lnTo>
                <a:lnTo>
                  <a:pt x="215" y="831"/>
                </a:lnTo>
                <a:lnTo>
                  <a:pt x="202" y="882"/>
                </a:lnTo>
                <a:lnTo>
                  <a:pt x="202" y="932"/>
                </a:lnTo>
                <a:lnTo>
                  <a:pt x="202" y="970"/>
                </a:lnTo>
                <a:lnTo>
                  <a:pt x="189" y="995"/>
                </a:lnTo>
                <a:lnTo>
                  <a:pt x="189" y="1033"/>
                </a:lnTo>
                <a:lnTo>
                  <a:pt x="177" y="1045"/>
                </a:lnTo>
                <a:lnTo>
                  <a:pt x="177" y="1058"/>
                </a:lnTo>
                <a:lnTo>
                  <a:pt x="164" y="1058"/>
                </a:lnTo>
                <a:lnTo>
                  <a:pt x="152" y="1058"/>
                </a:lnTo>
                <a:lnTo>
                  <a:pt x="139" y="1045"/>
                </a:lnTo>
                <a:lnTo>
                  <a:pt x="126" y="1033"/>
                </a:lnTo>
                <a:lnTo>
                  <a:pt x="114" y="1020"/>
                </a:lnTo>
                <a:lnTo>
                  <a:pt x="101" y="1007"/>
                </a:lnTo>
                <a:lnTo>
                  <a:pt x="89" y="995"/>
                </a:lnTo>
                <a:lnTo>
                  <a:pt x="63" y="970"/>
                </a:lnTo>
                <a:lnTo>
                  <a:pt x="38" y="932"/>
                </a:lnTo>
                <a:lnTo>
                  <a:pt x="26" y="894"/>
                </a:lnTo>
                <a:lnTo>
                  <a:pt x="13" y="869"/>
                </a:lnTo>
                <a:lnTo>
                  <a:pt x="0" y="844"/>
                </a:lnTo>
                <a:lnTo>
                  <a:pt x="13" y="831"/>
                </a:lnTo>
                <a:lnTo>
                  <a:pt x="13" y="819"/>
                </a:lnTo>
                <a:lnTo>
                  <a:pt x="13" y="793"/>
                </a:lnTo>
                <a:lnTo>
                  <a:pt x="13" y="756"/>
                </a:lnTo>
                <a:lnTo>
                  <a:pt x="13" y="718"/>
                </a:lnTo>
                <a:lnTo>
                  <a:pt x="26" y="668"/>
                </a:lnTo>
                <a:lnTo>
                  <a:pt x="26" y="617"/>
                </a:lnTo>
                <a:lnTo>
                  <a:pt x="26" y="554"/>
                </a:lnTo>
                <a:lnTo>
                  <a:pt x="38" y="504"/>
                </a:lnTo>
                <a:lnTo>
                  <a:pt x="38" y="441"/>
                </a:lnTo>
                <a:lnTo>
                  <a:pt x="38" y="391"/>
                </a:lnTo>
                <a:lnTo>
                  <a:pt x="38" y="340"/>
                </a:lnTo>
                <a:lnTo>
                  <a:pt x="38" y="290"/>
                </a:lnTo>
                <a:lnTo>
                  <a:pt x="38" y="240"/>
                </a:lnTo>
                <a:lnTo>
                  <a:pt x="38" y="202"/>
                </a:lnTo>
                <a:lnTo>
                  <a:pt x="26" y="164"/>
                </a:lnTo>
                <a:lnTo>
                  <a:pt x="26" y="126"/>
                </a:lnTo>
                <a:lnTo>
                  <a:pt x="26" y="101"/>
                </a:lnTo>
                <a:lnTo>
                  <a:pt x="26" y="63"/>
                </a:lnTo>
                <a:lnTo>
                  <a:pt x="26" y="51"/>
                </a:lnTo>
                <a:lnTo>
                  <a:pt x="26" y="26"/>
                </a:lnTo>
                <a:lnTo>
                  <a:pt x="38" y="13"/>
                </a:lnTo>
                <a:lnTo>
                  <a:pt x="51" y="0"/>
                </a:lnTo>
                <a:lnTo>
                  <a:pt x="63" y="0"/>
                </a:lnTo>
                <a:lnTo>
                  <a:pt x="89" y="0"/>
                </a:lnTo>
                <a:lnTo>
                  <a:pt x="101" y="0"/>
                </a:lnTo>
                <a:lnTo>
                  <a:pt x="126" y="0"/>
                </a:lnTo>
                <a:lnTo>
                  <a:pt x="139" y="13"/>
                </a:lnTo>
                <a:lnTo>
                  <a:pt x="164" y="26"/>
                </a:lnTo>
                <a:lnTo>
                  <a:pt x="202" y="38"/>
                </a:lnTo>
                <a:lnTo>
                  <a:pt x="227" y="6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Freeform 11"/>
          <p:cNvSpPr/>
          <p:nvPr/>
        </p:nvSpPr>
        <p:spPr>
          <a:xfrm>
            <a:off x="4186080" y="2379600"/>
            <a:ext cx="1057320" cy="814320"/>
          </a:xfrm>
          <a:custGeom>
            <a:avLst/>
            <a:gdLst/>
            <a:ahLst/>
            <a:rect l="l" t="t" r="r" b="b"/>
            <a:pathLst>
              <a:path w="1664" h="1284">
                <a:moveTo>
                  <a:pt x="1487" y="1108"/>
                </a:moveTo>
                <a:lnTo>
                  <a:pt x="1462" y="1145"/>
                </a:lnTo>
                <a:lnTo>
                  <a:pt x="1449" y="1183"/>
                </a:lnTo>
                <a:lnTo>
                  <a:pt x="1424" y="1208"/>
                </a:lnTo>
                <a:lnTo>
                  <a:pt x="1399" y="1246"/>
                </a:lnTo>
                <a:lnTo>
                  <a:pt x="1386" y="1259"/>
                </a:lnTo>
                <a:lnTo>
                  <a:pt x="1361" y="1271"/>
                </a:lnTo>
                <a:lnTo>
                  <a:pt x="1349" y="1284"/>
                </a:lnTo>
                <a:lnTo>
                  <a:pt x="1336" y="1284"/>
                </a:lnTo>
                <a:lnTo>
                  <a:pt x="1311" y="1284"/>
                </a:lnTo>
                <a:lnTo>
                  <a:pt x="1298" y="1284"/>
                </a:lnTo>
                <a:lnTo>
                  <a:pt x="1286" y="1271"/>
                </a:lnTo>
                <a:lnTo>
                  <a:pt x="1286" y="1259"/>
                </a:lnTo>
                <a:lnTo>
                  <a:pt x="1273" y="1246"/>
                </a:lnTo>
                <a:lnTo>
                  <a:pt x="1273" y="1233"/>
                </a:lnTo>
                <a:lnTo>
                  <a:pt x="1273" y="1208"/>
                </a:lnTo>
                <a:lnTo>
                  <a:pt x="1273" y="1196"/>
                </a:lnTo>
                <a:lnTo>
                  <a:pt x="1273" y="1170"/>
                </a:lnTo>
                <a:lnTo>
                  <a:pt x="1260" y="1145"/>
                </a:lnTo>
                <a:lnTo>
                  <a:pt x="1248" y="1120"/>
                </a:lnTo>
                <a:lnTo>
                  <a:pt x="1235" y="1095"/>
                </a:lnTo>
                <a:lnTo>
                  <a:pt x="1223" y="1070"/>
                </a:lnTo>
                <a:lnTo>
                  <a:pt x="1185" y="1045"/>
                </a:lnTo>
                <a:lnTo>
                  <a:pt x="1160" y="1019"/>
                </a:lnTo>
                <a:lnTo>
                  <a:pt x="1134" y="994"/>
                </a:lnTo>
                <a:lnTo>
                  <a:pt x="1097" y="957"/>
                </a:lnTo>
                <a:lnTo>
                  <a:pt x="1059" y="944"/>
                </a:lnTo>
                <a:lnTo>
                  <a:pt x="1034" y="919"/>
                </a:lnTo>
                <a:lnTo>
                  <a:pt x="1021" y="894"/>
                </a:lnTo>
                <a:lnTo>
                  <a:pt x="1008" y="881"/>
                </a:lnTo>
                <a:lnTo>
                  <a:pt x="996" y="868"/>
                </a:lnTo>
                <a:lnTo>
                  <a:pt x="983" y="856"/>
                </a:lnTo>
                <a:lnTo>
                  <a:pt x="983" y="843"/>
                </a:lnTo>
                <a:lnTo>
                  <a:pt x="996" y="843"/>
                </a:lnTo>
                <a:lnTo>
                  <a:pt x="996" y="831"/>
                </a:lnTo>
                <a:lnTo>
                  <a:pt x="1008" y="831"/>
                </a:lnTo>
                <a:lnTo>
                  <a:pt x="1021" y="831"/>
                </a:lnTo>
                <a:lnTo>
                  <a:pt x="1046" y="831"/>
                </a:lnTo>
                <a:lnTo>
                  <a:pt x="1059" y="843"/>
                </a:lnTo>
                <a:lnTo>
                  <a:pt x="1084" y="843"/>
                </a:lnTo>
                <a:lnTo>
                  <a:pt x="1122" y="856"/>
                </a:lnTo>
                <a:lnTo>
                  <a:pt x="1147" y="868"/>
                </a:lnTo>
                <a:lnTo>
                  <a:pt x="1172" y="868"/>
                </a:lnTo>
                <a:lnTo>
                  <a:pt x="1197" y="881"/>
                </a:lnTo>
                <a:lnTo>
                  <a:pt x="1223" y="881"/>
                </a:lnTo>
                <a:lnTo>
                  <a:pt x="1248" y="881"/>
                </a:lnTo>
                <a:lnTo>
                  <a:pt x="1260" y="881"/>
                </a:lnTo>
                <a:lnTo>
                  <a:pt x="1273" y="881"/>
                </a:lnTo>
                <a:lnTo>
                  <a:pt x="1286" y="881"/>
                </a:lnTo>
                <a:lnTo>
                  <a:pt x="1298" y="868"/>
                </a:lnTo>
                <a:lnTo>
                  <a:pt x="1311" y="843"/>
                </a:lnTo>
                <a:lnTo>
                  <a:pt x="1323" y="831"/>
                </a:lnTo>
                <a:lnTo>
                  <a:pt x="1323" y="805"/>
                </a:lnTo>
                <a:lnTo>
                  <a:pt x="1336" y="780"/>
                </a:lnTo>
                <a:lnTo>
                  <a:pt x="1336" y="743"/>
                </a:lnTo>
                <a:lnTo>
                  <a:pt x="1349" y="705"/>
                </a:lnTo>
                <a:lnTo>
                  <a:pt x="1361" y="629"/>
                </a:lnTo>
                <a:lnTo>
                  <a:pt x="1361" y="566"/>
                </a:lnTo>
                <a:lnTo>
                  <a:pt x="1361" y="491"/>
                </a:lnTo>
                <a:lnTo>
                  <a:pt x="1361" y="440"/>
                </a:lnTo>
                <a:lnTo>
                  <a:pt x="1361" y="403"/>
                </a:lnTo>
                <a:lnTo>
                  <a:pt x="1361" y="378"/>
                </a:lnTo>
                <a:lnTo>
                  <a:pt x="1349" y="365"/>
                </a:lnTo>
                <a:lnTo>
                  <a:pt x="1349" y="340"/>
                </a:lnTo>
                <a:lnTo>
                  <a:pt x="1349" y="315"/>
                </a:lnTo>
                <a:lnTo>
                  <a:pt x="1336" y="302"/>
                </a:lnTo>
                <a:lnTo>
                  <a:pt x="1336" y="289"/>
                </a:lnTo>
                <a:lnTo>
                  <a:pt x="1336" y="277"/>
                </a:lnTo>
                <a:lnTo>
                  <a:pt x="1323" y="277"/>
                </a:lnTo>
                <a:lnTo>
                  <a:pt x="1311" y="264"/>
                </a:lnTo>
                <a:lnTo>
                  <a:pt x="1298" y="252"/>
                </a:lnTo>
                <a:lnTo>
                  <a:pt x="1273" y="252"/>
                </a:lnTo>
                <a:lnTo>
                  <a:pt x="1248" y="239"/>
                </a:lnTo>
                <a:lnTo>
                  <a:pt x="1223" y="239"/>
                </a:lnTo>
                <a:lnTo>
                  <a:pt x="1185" y="239"/>
                </a:lnTo>
                <a:lnTo>
                  <a:pt x="1147" y="239"/>
                </a:lnTo>
                <a:lnTo>
                  <a:pt x="1134" y="239"/>
                </a:lnTo>
                <a:lnTo>
                  <a:pt x="1097" y="239"/>
                </a:lnTo>
                <a:lnTo>
                  <a:pt x="1059" y="252"/>
                </a:lnTo>
                <a:lnTo>
                  <a:pt x="1021" y="252"/>
                </a:lnTo>
                <a:lnTo>
                  <a:pt x="971" y="264"/>
                </a:lnTo>
                <a:lnTo>
                  <a:pt x="920" y="264"/>
                </a:lnTo>
                <a:lnTo>
                  <a:pt x="857" y="277"/>
                </a:lnTo>
                <a:lnTo>
                  <a:pt x="781" y="289"/>
                </a:lnTo>
                <a:lnTo>
                  <a:pt x="706" y="302"/>
                </a:lnTo>
                <a:lnTo>
                  <a:pt x="630" y="315"/>
                </a:lnTo>
                <a:lnTo>
                  <a:pt x="542" y="327"/>
                </a:lnTo>
                <a:lnTo>
                  <a:pt x="441" y="340"/>
                </a:lnTo>
                <a:lnTo>
                  <a:pt x="340" y="365"/>
                </a:lnTo>
                <a:lnTo>
                  <a:pt x="227" y="378"/>
                </a:lnTo>
                <a:lnTo>
                  <a:pt x="113" y="403"/>
                </a:lnTo>
                <a:lnTo>
                  <a:pt x="0" y="428"/>
                </a:lnTo>
                <a:lnTo>
                  <a:pt x="0" y="289"/>
                </a:lnTo>
                <a:lnTo>
                  <a:pt x="76" y="277"/>
                </a:lnTo>
                <a:lnTo>
                  <a:pt x="176" y="277"/>
                </a:lnTo>
                <a:lnTo>
                  <a:pt x="265" y="264"/>
                </a:lnTo>
                <a:lnTo>
                  <a:pt x="366" y="239"/>
                </a:lnTo>
                <a:lnTo>
                  <a:pt x="416" y="226"/>
                </a:lnTo>
                <a:lnTo>
                  <a:pt x="479" y="214"/>
                </a:lnTo>
                <a:lnTo>
                  <a:pt x="542" y="201"/>
                </a:lnTo>
                <a:lnTo>
                  <a:pt x="605" y="189"/>
                </a:lnTo>
                <a:lnTo>
                  <a:pt x="668" y="176"/>
                </a:lnTo>
                <a:lnTo>
                  <a:pt x="744" y="164"/>
                </a:lnTo>
                <a:lnTo>
                  <a:pt x="819" y="151"/>
                </a:lnTo>
                <a:lnTo>
                  <a:pt x="895" y="138"/>
                </a:lnTo>
                <a:lnTo>
                  <a:pt x="971" y="126"/>
                </a:lnTo>
                <a:lnTo>
                  <a:pt x="1034" y="113"/>
                </a:lnTo>
                <a:lnTo>
                  <a:pt x="1097" y="101"/>
                </a:lnTo>
                <a:lnTo>
                  <a:pt x="1147" y="88"/>
                </a:lnTo>
                <a:lnTo>
                  <a:pt x="1185" y="75"/>
                </a:lnTo>
                <a:lnTo>
                  <a:pt x="1210" y="63"/>
                </a:lnTo>
                <a:lnTo>
                  <a:pt x="1235" y="50"/>
                </a:lnTo>
                <a:lnTo>
                  <a:pt x="1248" y="50"/>
                </a:lnTo>
                <a:lnTo>
                  <a:pt x="1273" y="25"/>
                </a:lnTo>
                <a:lnTo>
                  <a:pt x="1286" y="13"/>
                </a:lnTo>
                <a:lnTo>
                  <a:pt x="1311" y="13"/>
                </a:lnTo>
                <a:lnTo>
                  <a:pt x="1323" y="0"/>
                </a:lnTo>
                <a:lnTo>
                  <a:pt x="1336" y="13"/>
                </a:lnTo>
                <a:lnTo>
                  <a:pt x="1349" y="13"/>
                </a:lnTo>
                <a:lnTo>
                  <a:pt x="1361" y="25"/>
                </a:lnTo>
                <a:lnTo>
                  <a:pt x="1386" y="25"/>
                </a:lnTo>
                <a:lnTo>
                  <a:pt x="1412" y="38"/>
                </a:lnTo>
                <a:lnTo>
                  <a:pt x="1437" y="63"/>
                </a:lnTo>
                <a:lnTo>
                  <a:pt x="1475" y="75"/>
                </a:lnTo>
                <a:lnTo>
                  <a:pt x="1512" y="101"/>
                </a:lnTo>
                <a:lnTo>
                  <a:pt x="1550" y="126"/>
                </a:lnTo>
                <a:lnTo>
                  <a:pt x="1576" y="138"/>
                </a:lnTo>
                <a:lnTo>
                  <a:pt x="1601" y="164"/>
                </a:lnTo>
                <a:lnTo>
                  <a:pt x="1626" y="176"/>
                </a:lnTo>
                <a:lnTo>
                  <a:pt x="1639" y="189"/>
                </a:lnTo>
                <a:lnTo>
                  <a:pt x="1651" y="214"/>
                </a:lnTo>
                <a:lnTo>
                  <a:pt x="1664" y="226"/>
                </a:lnTo>
                <a:lnTo>
                  <a:pt x="1664" y="252"/>
                </a:lnTo>
                <a:lnTo>
                  <a:pt x="1651" y="264"/>
                </a:lnTo>
                <a:lnTo>
                  <a:pt x="1639" y="277"/>
                </a:lnTo>
                <a:lnTo>
                  <a:pt x="1626" y="289"/>
                </a:lnTo>
                <a:lnTo>
                  <a:pt x="1613" y="302"/>
                </a:lnTo>
                <a:lnTo>
                  <a:pt x="1601" y="327"/>
                </a:lnTo>
                <a:lnTo>
                  <a:pt x="1588" y="352"/>
                </a:lnTo>
                <a:lnTo>
                  <a:pt x="1588" y="390"/>
                </a:lnTo>
                <a:lnTo>
                  <a:pt x="1576" y="428"/>
                </a:lnTo>
                <a:lnTo>
                  <a:pt x="1576" y="491"/>
                </a:lnTo>
                <a:lnTo>
                  <a:pt x="1576" y="554"/>
                </a:lnTo>
                <a:lnTo>
                  <a:pt x="1576" y="617"/>
                </a:lnTo>
                <a:lnTo>
                  <a:pt x="1576" y="692"/>
                </a:lnTo>
                <a:lnTo>
                  <a:pt x="1563" y="768"/>
                </a:lnTo>
                <a:lnTo>
                  <a:pt x="1563" y="831"/>
                </a:lnTo>
                <a:lnTo>
                  <a:pt x="1550" y="894"/>
                </a:lnTo>
                <a:lnTo>
                  <a:pt x="1538" y="957"/>
                </a:lnTo>
                <a:lnTo>
                  <a:pt x="1525" y="1007"/>
                </a:lnTo>
                <a:lnTo>
                  <a:pt x="1512" y="1057"/>
                </a:lnTo>
                <a:lnTo>
                  <a:pt x="1487" y="110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12"/>
          <p:cNvSpPr/>
          <p:nvPr/>
        </p:nvSpPr>
        <p:spPr>
          <a:xfrm>
            <a:off x="3483000" y="1787400"/>
            <a:ext cx="960480" cy="1295640"/>
          </a:xfrm>
          <a:custGeom>
            <a:avLst/>
            <a:gdLst/>
            <a:ahLst/>
            <a:rect l="l" t="t" r="r" b="b"/>
            <a:pathLst>
              <a:path w="1512" h="2039">
                <a:moveTo>
                  <a:pt x="265" y="1900"/>
                </a:moveTo>
                <a:lnTo>
                  <a:pt x="202" y="1938"/>
                </a:lnTo>
                <a:lnTo>
                  <a:pt x="151" y="1963"/>
                </a:lnTo>
                <a:lnTo>
                  <a:pt x="113" y="1988"/>
                </a:lnTo>
                <a:lnTo>
                  <a:pt x="75" y="2013"/>
                </a:lnTo>
                <a:lnTo>
                  <a:pt x="50" y="2026"/>
                </a:lnTo>
                <a:lnTo>
                  <a:pt x="25" y="2039"/>
                </a:lnTo>
                <a:lnTo>
                  <a:pt x="12" y="2039"/>
                </a:lnTo>
                <a:lnTo>
                  <a:pt x="0" y="2026"/>
                </a:lnTo>
                <a:lnTo>
                  <a:pt x="0" y="2013"/>
                </a:lnTo>
                <a:lnTo>
                  <a:pt x="0" y="2001"/>
                </a:lnTo>
                <a:lnTo>
                  <a:pt x="12" y="1988"/>
                </a:lnTo>
                <a:lnTo>
                  <a:pt x="25" y="1963"/>
                </a:lnTo>
                <a:lnTo>
                  <a:pt x="50" y="1938"/>
                </a:lnTo>
                <a:lnTo>
                  <a:pt x="75" y="1913"/>
                </a:lnTo>
                <a:lnTo>
                  <a:pt x="113" y="1875"/>
                </a:lnTo>
                <a:lnTo>
                  <a:pt x="151" y="1837"/>
                </a:lnTo>
                <a:lnTo>
                  <a:pt x="189" y="1799"/>
                </a:lnTo>
                <a:lnTo>
                  <a:pt x="239" y="1762"/>
                </a:lnTo>
                <a:lnTo>
                  <a:pt x="290" y="1711"/>
                </a:lnTo>
                <a:lnTo>
                  <a:pt x="340" y="1661"/>
                </a:lnTo>
                <a:lnTo>
                  <a:pt x="391" y="1598"/>
                </a:lnTo>
                <a:lnTo>
                  <a:pt x="441" y="1548"/>
                </a:lnTo>
                <a:lnTo>
                  <a:pt x="504" y="1485"/>
                </a:lnTo>
                <a:lnTo>
                  <a:pt x="567" y="1422"/>
                </a:lnTo>
                <a:lnTo>
                  <a:pt x="617" y="1346"/>
                </a:lnTo>
                <a:lnTo>
                  <a:pt x="680" y="1271"/>
                </a:lnTo>
                <a:lnTo>
                  <a:pt x="744" y="1195"/>
                </a:lnTo>
                <a:lnTo>
                  <a:pt x="807" y="1107"/>
                </a:lnTo>
                <a:lnTo>
                  <a:pt x="870" y="1019"/>
                </a:lnTo>
                <a:lnTo>
                  <a:pt x="920" y="918"/>
                </a:lnTo>
                <a:lnTo>
                  <a:pt x="983" y="818"/>
                </a:lnTo>
                <a:lnTo>
                  <a:pt x="1033" y="704"/>
                </a:lnTo>
                <a:lnTo>
                  <a:pt x="1096" y="591"/>
                </a:lnTo>
                <a:lnTo>
                  <a:pt x="1147" y="490"/>
                </a:lnTo>
                <a:lnTo>
                  <a:pt x="1185" y="390"/>
                </a:lnTo>
                <a:lnTo>
                  <a:pt x="1222" y="302"/>
                </a:lnTo>
                <a:lnTo>
                  <a:pt x="1235" y="213"/>
                </a:lnTo>
                <a:lnTo>
                  <a:pt x="1260" y="138"/>
                </a:lnTo>
                <a:lnTo>
                  <a:pt x="1273" y="62"/>
                </a:lnTo>
                <a:lnTo>
                  <a:pt x="1273" y="0"/>
                </a:lnTo>
                <a:lnTo>
                  <a:pt x="1323" y="25"/>
                </a:lnTo>
                <a:lnTo>
                  <a:pt x="1374" y="50"/>
                </a:lnTo>
                <a:lnTo>
                  <a:pt x="1424" y="75"/>
                </a:lnTo>
                <a:lnTo>
                  <a:pt x="1449" y="100"/>
                </a:lnTo>
                <a:lnTo>
                  <a:pt x="1475" y="125"/>
                </a:lnTo>
                <a:lnTo>
                  <a:pt x="1500" y="138"/>
                </a:lnTo>
                <a:lnTo>
                  <a:pt x="1512" y="163"/>
                </a:lnTo>
                <a:lnTo>
                  <a:pt x="1512" y="188"/>
                </a:lnTo>
                <a:lnTo>
                  <a:pt x="1512" y="201"/>
                </a:lnTo>
                <a:lnTo>
                  <a:pt x="1512" y="239"/>
                </a:lnTo>
                <a:lnTo>
                  <a:pt x="1500" y="276"/>
                </a:lnTo>
                <a:lnTo>
                  <a:pt x="1475" y="327"/>
                </a:lnTo>
                <a:lnTo>
                  <a:pt x="1462" y="377"/>
                </a:lnTo>
                <a:lnTo>
                  <a:pt x="1424" y="440"/>
                </a:lnTo>
                <a:lnTo>
                  <a:pt x="1386" y="516"/>
                </a:lnTo>
                <a:lnTo>
                  <a:pt x="1348" y="604"/>
                </a:lnTo>
                <a:lnTo>
                  <a:pt x="1311" y="692"/>
                </a:lnTo>
                <a:lnTo>
                  <a:pt x="1273" y="767"/>
                </a:lnTo>
                <a:lnTo>
                  <a:pt x="1222" y="843"/>
                </a:lnTo>
                <a:lnTo>
                  <a:pt x="1185" y="918"/>
                </a:lnTo>
                <a:lnTo>
                  <a:pt x="1147" y="981"/>
                </a:lnTo>
                <a:lnTo>
                  <a:pt x="1109" y="1044"/>
                </a:lnTo>
                <a:lnTo>
                  <a:pt x="1071" y="1095"/>
                </a:lnTo>
                <a:lnTo>
                  <a:pt x="1033" y="1145"/>
                </a:lnTo>
                <a:lnTo>
                  <a:pt x="958" y="1246"/>
                </a:lnTo>
                <a:lnTo>
                  <a:pt x="870" y="1346"/>
                </a:lnTo>
                <a:lnTo>
                  <a:pt x="781" y="1434"/>
                </a:lnTo>
                <a:lnTo>
                  <a:pt x="693" y="1535"/>
                </a:lnTo>
                <a:lnTo>
                  <a:pt x="605" y="1636"/>
                </a:lnTo>
                <a:lnTo>
                  <a:pt x="491" y="1724"/>
                </a:lnTo>
                <a:lnTo>
                  <a:pt x="378" y="1812"/>
                </a:lnTo>
                <a:lnTo>
                  <a:pt x="265" y="190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1" descr=""/>
          <p:cNvPicPr/>
          <p:nvPr/>
        </p:nvPicPr>
        <p:blipFill>
          <a:blip r:embed="rId2"/>
          <a:stretch/>
        </p:blipFill>
        <p:spPr>
          <a:xfrm>
            <a:off x="358920" y="4662360"/>
            <a:ext cx="8475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34880" y="1071360"/>
            <a:ext cx="7886880" cy="4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多音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笑脸 1"/>
          <p:cNvSpPr/>
          <p:nvPr/>
        </p:nvSpPr>
        <p:spPr>
          <a:xfrm>
            <a:off x="641520" y="1071720"/>
            <a:ext cx="453960" cy="441000"/>
          </a:xfrm>
          <a:prstGeom prst="smileyFace">
            <a:avLst>
              <a:gd name="adj" fmla="val 4653"/>
            </a:avLst>
          </a:prstGeom>
          <a:solidFill>
            <a:srgbClr val="f04172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587520" y="275580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组合 3"/>
          <p:cNvGrpSpPr/>
          <p:nvPr/>
        </p:nvGrpSpPr>
        <p:grpSpPr>
          <a:xfrm>
            <a:off x="1119240" y="1601640"/>
            <a:ext cx="6575400" cy="3932280"/>
            <a:chOff x="1119240" y="1601640"/>
            <a:chExt cx="6575400" cy="3932280"/>
          </a:xfrm>
        </p:grpSpPr>
        <p:sp>
          <p:nvSpPr>
            <p:cNvPr id="238" name="左大括号 4"/>
            <p:cNvSpPr/>
            <p:nvPr/>
          </p:nvSpPr>
          <p:spPr>
            <a:xfrm>
              <a:off x="1119240" y="1952280"/>
              <a:ext cx="309240" cy="2111400"/>
            </a:xfrm>
            <a:custGeom>
              <a:avLst/>
              <a:gdLst>
                <a:gd name="textAreaLeft" fmla="*/ 197640 w 309240"/>
                <a:gd name="textAreaRight" fmla="*/ 309600 w 309240"/>
                <a:gd name="textAreaTop" fmla="*/ 5400 h 2111400"/>
                <a:gd name="textAreaBottom" fmla="*/ 2106000 h 211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4"/>
                    <a:pt x="10800" y="187"/>
                  </a:cubicBezTo>
                  <a:lnTo>
                    <a:pt x="10800" y="10613"/>
                  </a:lnTo>
                  <a:cubicBezTo>
                    <a:pt x="10800" y="10707"/>
                    <a:pt x="5400" y="10800"/>
                    <a:pt x="0" y="10800"/>
                  </a:cubicBezTo>
                  <a:cubicBezTo>
                    <a:pt x="5400" y="10800"/>
                    <a:pt x="10800" y="10894"/>
                    <a:pt x="10800" y="10987"/>
                  </a:cubicBezTo>
                  <a:lnTo>
                    <a:pt x="10800" y="21413"/>
                  </a:lnTo>
                  <a:cubicBezTo>
                    <a:pt x="10800" y="21507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Box 4"/>
            <p:cNvSpPr/>
            <p:nvPr/>
          </p:nvSpPr>
          <p:spPr>
            <a:xfrm>
              <a:off x="1353960" y="1601640"/>
              <a:ext cx="6340680" cy="39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huò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和弄）（和稀泥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hé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和平）（和风细雨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hè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附和）（曲高和寡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huó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和面）（和水泥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3"/>
          <p:cNvGrpSpPr/>
          <p:nvPr/>
        </p:nvGrpSpPr>
        <p:grpSpPr>
          <a:xfrm>
            <a:off x="1090440" y="4332240"/>
            <a:ext cx="6575760" cy="1373400"/>
            <a:chOff x="1090440" y="4332240"/>
            <a:chExt cx="6575760" cy="1373400"/>
          </a:xfrm>
        </p:grpSpPr>
        <p:sp>
          <p:nvSpPr>
            <p:cNvPr id="241" name="左大括号 7"/>
            <p:cNvSpPr/>
            <p:nvPr/>
          </p:nvSpPr>
          <p:spPr>
            <a:xfrm>
              <a:off x="1090440" y="4617720"/>
              <a:ext cx="309240" cy="928800"/>
            </a:xfrm>
            <a:custGeom>
              <a:avLst/>
              <a:gdLst>
                <a:gd name="textAreaLeft" fmla="*/ 197640 w 309240"/>
                <a:gd name="textAreaRight" fmla="*/ 309600 w 30924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Box 4"/>
            <p:cNvSpPr/>
            <p:nvPr/>
          </p:nvSpPr>
          <p:spPr>
            <a:xfrm>
              <a:off x="1325160" y="4332240"/>
              <a:ext cx="63410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āi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挨着）（挨家挨户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ái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挨骂）（忍饥挨饿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TextBox 1"/>
          <p:cNvSpPr/>
          <p:nvPr/>
        </p:nvSpPr>
        <p:spPr>
          <a:xfrm>
            <a:off x="584280" y="478008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图片 2" descr="7"/>
          <p:cNvPicPr/>
          <p:nvPr/>
        </p:nvPicPr>
        <p:blipFill>
          <a:blip r:embed="rId2"/>
          <a:stretch/>
        </p:blipFill>
        <p:spPr>
          <a:xfrm>
            <a:off x="5670720" y="2146320"/>
            <a:ext cx="30398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圆角矩形 14"/>
          <p:cNvSpPr/>
          <p:nvPr/>
        </p:nvSpPr>
        <p:spPr>
          <a:xfrm>
            <a:off x="6421320" y="1766880"/>
            <a:ext cx="50976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圆角矩形 14"/>
          <p:cNvSpPr/>
          <p:nvPr/>
        </p:nvSpPr>
        <p:spPr>
          <a:xfrm>
            <a:off x="7094520" y="1797120"/>
            <a:ext cx="781200" cy="46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圆角矩形 14"/>
          <p:cNvSpPr/>
          <p:nvPr/>
        </p:nvSpPr>
        <p:spPr>
          <a:xfrm>
            <a:off x="6400800" y="2651040"/>
            <a:ext cx="4795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圆角矩形 14"/>
          <p:cNvSpPr/>
          <p:nvPr/>
        </p:nvSpPr>
        <p:spPr>
          <a:xfrm>
            <a:off x="7094520" y="2620800"/>
            <a:ext cx="781200" cy="46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文本框 8"/>
          <p:cNvSpPr/>
          <p:nvPr/>
        </p:nvSpPr>
        <p:spPr>
          <a:xfrm>
            <a:off x="411120" y="1413000"/>
            <a:ext cx="66834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皂（肥皂）       廊（长廊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息（休息）　     郎（放牛郎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碗（饭碗）       若（假若）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宛（宛如）       苦（苦瓜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透（透明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娇（娇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秀（优秀）       骄（骄傲）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左大括号 9"/>
          <p:cNvSpPr/>
          <p:nvPr/>
        </p:nvSpPr>
        <p:spPr>
          <a:xfrm>
            <a:off x="557280" y="1865160"/>
            <a:ext cx="75960" cy="708120"/>
          </a:xfrm>
          <a:custGeom>
            <a:avLst/>
            <a:gdLst>
              <a:gd name="textAreaLeft" fmla="*/ 48600 w 75960"/>
              <a:gd name="textAreaRight" fmla="*/ 76320 w 75960"/>
              <a:gd name="textAreaTop" fmla="*/ 1800 h 708120"/>
              <a:gd name="textAreaBottom" fmla="*/ 706320 h 7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左大括号 17"/>
          <p:cNvSpPr/>
          <p:nvPr/>
        </p:nvSpPr>
        <p:spPr>
          <a:xfrm>
            <a:off x="557280" y="3060720"/>
            <a:ext cx="75960" cy="708120"/>
          </a:xfrm>
          <a:custGeom>
            <a:avLst/>
            <a:gdLst>
              <a:gd name="textAreaLeft" fmla="*/ 48600 w 75960"/>
              <a:gd name="textAreaRight" fmla="*/ 76320 w 75960"/>
              <a:gd name="textAreaTop" fmla="*/ 1800 h 708120"/>
              <a:gd name="textAreaBottom" fmla="*/ 706320 h 7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左大括号 18"/>
          <p:cNvSpPr/>
          <p:nvPr/>
        </p:nvSpPr>
        <p:spPr>
          <a:xfrm>
            <a:off x="3608280" y="3090960"/>
            <a:ext cx="76320" cy="70776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707760"/>
              <a:gd name="textAreaBottom" fmla="*/ 705960 h 70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左大括号 1"/>
          <p:cNvSpPr/>
          <p:nvPr/>
        </p:nvSpPr>
        <p:spPr>
          <a:xfrm>
            <a:off x="3608280" y="1919160"/>
            <a:ext cx="76320" cy="70812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708120"/>
              <a:gd name="textAreaBottom" fmla="*/ 706320 h 7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左大括号 7"/>
          <p:cNvSpPr/>
          <p:nvPr/>
        </p:nvSpPr>
        <p:spPr>
          <a:xfrm>
            <a:off x="557280" y="4398840"/>
            <a:ext cx="75960" cy="708120"/>
          </a:xfrm>
          <a:custGeom>
            <a:avLst/>
            <a:gdLst>
              <a:gd name="textAreaLeft" fmla="*/ 48600 w 75960"/>
              <a:gd name="textAreaRight" fmla="*/ 76320 w 75960"/>
              <a:gd name="textAreaTop" fmla="*/ 1800 h 708120"/>
              <a:gd name="textAreaBottom" fmla="*/ 706320 h 7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左大括号 8"/>
          <p:cNvSpPr/>
          <p:nvPr/>
        </p:nvSpPr>
        <p:spPr>
          <a:xfrm>
            <a:off x="3608280" y="4398840"/>
            <a:ext cx="76320" cy="70812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708120"/>
              <a:gd name="textAreaBottom" fmla="*/ 706320 h 7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图片 10" descr="7"/>
          <p:cNvPicPr/>
          <p:nvPr/>
        </p:nvPicPr>
        <p:blipFill>
          <a:blip r:embed="rId2"/>
          <a:stretch/>
        </p:blipFill>
        <p:spPr>
          <a:xfrm>
            <a:off x="5718240" y="2627280"/>
            <a:ext cx="3139920" cy="2470320"/>
          </a:xfrm>
          <a:prstGeom prst="rect">
            <a:avLst/>
          </a:prstGeom>
          <a:ln w="0">
            <a:noFill/>
          </a:ln>
        </p:spPr>
      </p:pic>
      <p:sp>
        <p:nvSpPr>
          <p:cNvPr id="257" name="笑脸 10"/>
          <p:cNvSpPr/>
          <p:nvPr/>
        </p:nvSpPr>
        <p:spPr>
          <a:xfrm>
            <a:off x="641520" y="1071720"/>
            <a:ext cx="453960" cy="441000"/>
          </a:xfrm>
          <a:prstGeom prst="smileyFace">
            <a:avLst>
              <a:gd name="adj" fmla="val 4653"/>
            </a:avLst>
          </a:prstGeom>
          <a:solidFill>
            <a:srgbClr val="f04172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15"/>
          <p:cNvSpPr/>
          <p:nvPr/>
        </p:nvSpPr>
        <p:spPr>
          <a:xfrm>
            <a:off x="1312920" y="10317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形近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圆角矩形 14"/>
          <p:cNvSpPr/>
          <p:nvPr/>
        </p:nvSpPr>
        <p:spPr>
          <a:xfrm>
            <a:off x="6400800" y="2651040"/>
            <a:ext cx="479520" cy="4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圆角矩形 14"/>
          <p:cNvSpPr/>
          <p:nvPr/>
        </p:nvSpPr>
        <p:spPr>
          <a:xfrm>
            <a:off x="7094520" y="2620800"/>
            <a:ext cx="781200" cy="46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文本框 8"/>
          <p:cNvSpPr/>
          <p:nvPr/>
        </p:nvSpPr>
        <p:spPr>
          <a:xfrm>
            <a:off x="314280" y="1009800"/>
            <a:ext cx="67802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串（串门）     越（跨越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窜（逃窜）     超（超出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婴（婴儿）     希（希望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婪（贪婪）     稀（稀有）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扯（拉扯）      仰（仰望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址（地址）      柳（柳树）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左大括号 9"/>
          <p:cNvSpPr/>
          <p:nvPr/>
        </p:nvSpPr>
        <p:spPr>
          <a:xfrm>
            <a:off x="573120" y="1442880"/>
            <a:ext cx="81000" cy="773280"/>
          </a:xfrm>
          <a:custGeom>
            <a:avLst/>
            <a:gdLst>
              <a:gd name="textAreaLeft" fmla="*/ 51840 w 81000"/>
              <a:gd name="textAreaRight" fmla="*/ 81000 w 81000"/>
              <a:gd name="textAreaTop" fmla="*/ 1800 h 773280"/>
              <a:gd name="textAreaBottom" fmla="*/ 771480 h 77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左大括号 14"/>
          <p:cNvSpPr/>
          <p:nvPr/>
        </p:nvSpPr>
        <p:spPr>
          <a:xfrm>
            <a:off x="557280" y="2651040"/>
            <a:ext cx="81000" cy="773280"/>
          </a:xfrm>
          <a:custGeom>
            <a:avLst/>
            <a:gdLst>
              <a:gd name="textAreaLeft" fmla="*/ 51840 w 81000"/>
              <a:gd name="textAreaRight" fmla="*/ 81000 w 81000"/>
              <a:gd name="textAreaTop" fmla="*/ 1800 h 773280"/>
              <a:gd name="textAreaBottom" fmla="*/ 771480 h 77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左大括号 1"/>
          <p:cNvSpPr/>
          <p:nvPr/>
        </p:nvSpPr>
        <p:spPr>
          <a:xfrm>
            <a:off x="3203640" y="1442880"/>
            <a:ext cx="81000" cy="773280"/>
          </a:xfrm>
          <a:custGeom>
            <a:avLst/>
            <a:gdLst>
              <a:gd name="textAreaLeft" fmla="*/ 51840 w 81000"/>
              <a:gd name="textAreaRight" fmla="*/ 81000 w 81000"/>
              <a:gd name="textAreaTop" fmla="*/ 1800 h 773280"/>
              <a:gd name="textAreaBottom" fmla="*/ 771480 h 77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图片 3" descr="7"/>
          <p:cNvPicPr/>
          <p:nvPr/>
        </p:nvPicPr>
        <p:blipFill>
          <a:blip r:embed="rId2"/>
          <a:stretch/>
        </p:blipFill>
        <p:spPr>
          <a:xfrm>
            <a:off x="5916600" y="2475000"/>
            <a:ext cx="2638440" cy="1906560"/>
          </a:xfrm>
          <a:prstGeom prst="rect">
            <a:avLst/>
          </a:prstGeom>
          <a:ln w="0">
            <a:noFill/>
          </a:ln>
        </p:spPr>
      </p:pic>
      <p:sp>
        <p:nvSpPr>
          <p:cNvPr id="266" name="左大括号 2"/>
          <p:cNvSpPr/>
          <p:nvPr/>
        </p:nvSpPr>
        <p:spPr>
          <a:xfrm>
            <a:off x="3203640" y="2651040"/>
            <a:ext cx="81000" cy="773280"/>
          </a:xfrm>
          <a:custGeom>
            <a:avLst/>
            <a:gdLst>
              <a:gd name="textAreaLeft" fmla="*/ 51840 w 81000"/>
              <a:gd name="textAreaRight" fmla="*/ 81000 w 81000"/>
              <a:gd name="textAreaTop" fmla="*/ 1800 h 773280"/>
              <a:gd name="textAreaBottom" fmla="*/ 771480 h 77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4"/>
                  <a:pt x="10800" y="188"/>
                </a:cubicBezTo>
                <a:lnTo>
                  <a:pt x="10800" y="10612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4"/>
                  <a:pt x="10800" y="10988"/>
                </a:cubicBezTo>
                <a:lnTo>
                  <a:pt x="10800" y="21412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左大括号 13"/>
          <p:cNvSpPr/>
          <p:nvPr/>
        </p:nvSpPr>
        <p:spPr>
          <a:xfrm>
            <a:off x="484200" y="3968640"/>
            <a:ext cx="76320" cy="70812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708120"/>
              <a:gd name="textAreaBottom" fmla="*/ 706320 h 7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左大括号 3"/>
          <p:cNvSpPr/>
          <p:nvPr/>
        </p:nvSpPr>
        <p:spPr>
          <a:xfrm>
            <a:off x="3208320" y="3968640"/>
            <a:ext cx="76320" cy="70812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708120"/>
              <a:gd name="textAreaBottom" fmla="*/ 706320 h 7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3"/>
                </a:cubicBezTo>
                <a:lnTo>
                  <a:pt x="10800" y="10607"/>
                </a:lnTo>
                <a:cubicBezTo>
                  <a:pt x="10800" y="10704"/>
                  <a:pt x="5400" y="10800"/>
                  <a:pt x="0" y="10800"/>
                </a:cubicBezTo>
                <a:cubicBezTo>
                  <a:pt x="5400" y="10800"/>
                  <a:pt x="10800" y="10897"/>
                  <a:pt x="10800" y="10993"/>
                </a:cubicBezTo>
                <a:lnTo>
                  <a:pt x="10800" y="21407"/>
                </a:lnTo>
                <a:cubicBezTo>
                  <a:pt x="10800" y="21504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4357" descr=""/>
          <p:cNvPicPr/>
          <p:nvPr/>
        </p:nvPicPr>
        <p:blipFill>
          <a:blip r:embed="rId2"/>
          <a:stretch/>
        </p:blipFill>
        <p:spPr>
          <a:xfrm>
            <a:off x="6342120" y="557280"/>
            <a:ext cx="2633760" cy="1790640"/>
          </a:xfrm>
          <a:prstGeom prst="rect">
            <a:avLst/>
          </a:prstGeom>
          <a:ln w="0">
            <a:noFill/>
          </a:ln>
        </p:spPr>
      </p:pic>
      <p:sp>
        <p:nvSpPr>
          <p:cNvPr id="270" name="圆角矩形 8"/>
          <p:cNvSpPr/>
          <p:nvPr/>
        </p:nvSpPr>
        <p:spPr>
          <a:xfrm>
            <a:off x="351000" y="1095480"/>
            <a:ext cx="2295360" cy="49032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3240">
            <a:solidFill>
              <a:srgbClr val="c5e0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28"/>
          <p:cNvSpPr/>
          <p:nvPr/>
        </p:nvSpPr>
        <p:spPr>
          <a:xfrm>
            <a:off x="893880" y="1073160"/>
            <a:ext cx="22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词语学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图片 1" descr="字典"/>
          <p:cNvPicPr/>
          <p:nvPr/>
        </p:nvPicPr>
        <p:blipFill>
          <a:blip r:embed="rId3"/>
          <a:stretch/>
        </p:blipFill>
        <p:spPr>
          <a:xfrm>
            <a:off x="225360" y="1073160"/>
            <a:ext cx="847800" cy="625320"/>
          </a:xfrm>
          <a:prstGeom prst="rect">
            <a:avLst/>
          </a:prstGeom>
          <a:ln w="0">
            <a:noFill/>
          </a:ln>
        </p:spPr>
      </p:pic>
      <p:sp>
        <p:nvSpPr>
          <p:cNvPr id="273" name="笑脸 20"/>
          <p:cNvSpPr/>
          <p:nvPr/>
        </p:nvSpPr>
        <p:spPr>
          <a:xfrm>
            <a:off x="771480" y="1846440"/>
            <a:ext cx="453960" cy="441000"/>
          </a:xfrm>
          <a:prstGeom prst="smileyFace">
            <a:avLst>
              <a:gd name="adj" fmla="val 4653"/>
            </a:avLst>
          </a:prstGeom>
          <a:solidFill>
            <a:srgbClr val="f04172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2"/>
          <p:cNvSpPr/>
          <p:nvPr/>
        </p:nvSpPr>
        <p:spPr>
          <a:xfrm>
            <a:off x="1262160" y="179388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词语理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99"/>
          <p:cNvSpPr/>
          <p:nvPr/>
        </p:nvSpPr>
        <p:spPr>
          <a:xfrm>
            <a:off x="351000" y="2565360"/>
            <a:ext cx="86248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和弄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搅拌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小莉在小碗里和弄什么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黏稠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又黏又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这瓶糨糊太黏稠，反而不好用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玲珑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东西）精巧细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件木雕小虫真是玲珑可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68240" y="1701720"/>
            <a:ext cx="7027560" cy="354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3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生字，读准字音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认清字形，理解由生字组成的新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圆角矩形 15"/>
          <p:cNvSpPr/>
          <p:nvPr/>
        </p:nvSpPr>
        <p:spPr>
          <a:xfrm>
            <a:off x="334800" y="901800"/>
            <a:ext cx="2372040" cy="49212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324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9"/>
          <p:cNvSpPr/>
          <p:nvPr/>
        </p:nvSpPr>
        <p:spPr>
          <a:xfrm>
            <a:off x="825480" y="85572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0" descr="目标"/>
          <p:cNvPicPr/>
          <p:nvPr/>
        </p:nvPicPr>
        <p:blipFill>
          <a:blip r:embed="rId2"/>
          <a:stretch/>
        </p:blipFill>
        <p:spPr>
          <a:xfrm>
            <a:off x="334800" y="901800"/>
            <a:ext cx="492120" cy="492120"/>
          </a:xfrm>
          <a:prstGeom prst="rect">
            <a:avLst/>
          </a:prstGeom>
          <a:ln w="0">
            <a:noFill/>
          </a:ln>
        </p:spPr>
      </p:pic>
      <p:sp>
        <p:nvSpPr>
          <p:cNvPr id="47" name="圆角矩形 18"/>
          <p:cNvSpPr/>
          <p:nvPr/>
        </p:nvSpPr>
        <p:spPr>
          <a:xfrm>
            <a:off x="852480" y="1706400"/>
            <a:ext cx="519120" cy="501840"/>
          </a:xfrm>
          <a:prstGeom prst="roundRect">
            <a:avLst>
              <a:gd name="adj" fmla="val 16667"/>
            </a:avLst>
          </a:prstGeom>
          <a:solidFill>
            <a:srgbClr val="f4b183"/>
          </a:solidFill>
          <a:ln w="12600">
            <a:solidFill>
              <a:srgbClr val="f4b1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19"/>
          <p:cNvSpPr/>
          <p:nvPr/>
        </p:nvSpPr>
        <p:spPr>
          <a:xfrm>
            <a:off x="939960" y="1682640"/>
            <a:ext cx="2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圆角矩形 20"/>
          <p:cNvSpPr/>
          <p:nvPr/>
        </p:nvSpPr>
        <p:spPr>
          <a:xfrm>
            <a:off x="860400" y="2978280"/>
            <a:ext cx="519120" cy="503280"/>
          </a:xfrm>
          <a:prstGeom prst="roundRect">
            <a:avLst>
              <a:gd name="adj" fmla="val 16667"/>
            </a:avLst>
          </a:prstGeom>
          <a:solidFill>
            <a:srgbClr val="03ad8f"/>
          </a:solidFill>
          <a:ln w="12600">
            <a:solidFill>
              <a:srgbClr val="0ea2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1"/>
          <p:cNvSpPr/>
          <p:nvPr/>
        </p:nvSpPr>
        <p:spPr>
          <a:xfrm>
            <a:off x="949320" y="2954160"/>
            <a:ext cx="2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内容占位符 2"/>
          <p:cNvSpPr/>
          <p:nvPr/>
        </p:nvSpPr>
        <p:spPr>
          <a:xfrm>
            <a:off x="1679400" y="2905200"/>
            <a:ext cx="6909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正确、流利、有感情地朗读课文，用自己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话说说吹肥皂泡的过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圆角矩形 23"/>
          <p:cNvSpPr/>
          <p:nvPr/>
        </p:nvSpPr>
        <p:spPr>
          <a:xfrm>
            <a:off x="849240" y="4051440"/>
            <a:ext cx="519120" cy="502920"/>
          </a:xfrm>
          <a:prstGeom prst="roundRect">
            <a:avLst>
              <a:gd name="adj" fmla="val 16667"/>
            </a:avLst>
          </a:prstGeom>
          <a:solidFill>
            <a:srgbClr val="e7175c"/>
          </a:solidFill>
          <a:ln w="12600">
            <a:solidFill>
              <a:srgbClr val="f74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4"/>
          <p:cNvSpPr/>
          <p:nvPr/>
        </p:nvSpPr>
        <p:spPr>
          <a:xfrm>
            <a:off x="936720" y="4027320"/>
            <a:ext cx="2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内容占位符 2"/>
          <p:cNvSpPr/>
          <p:nvPr/>
        </p:nvSpPr>
        <p:spPr>
          <a:xfrm>
            <a:off x="1689120" y="4025880"/>
            <a:ext cx="69469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理解课文内容，感受作者丰富的想象，体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文中蕴含的感情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圆角矩形 26"/>
          <p:cNvSpPr/>
          <p:nvPr/>
        </p:nvSpPr>
        <p:spPr>
          <a:xfrm>
            <a:off x="860400" y="5270400"/>
            <a:ext cx="519120" cy="501840"/>
          </a:xfrm>
          <a:prstGeom prst="roundRect">
            <a:avLst>
              <a:gd name="adj" fmla="val 16667"/>
            </a:avLst>
          </a:prstGeom>
          <a:solidFill>
            <a:srgbClr val="26b3bc"/>
          </a:solidFill>
          <a:ln w="12600">
            <a:solidFill>
              <a:srgbClr val="3ed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7"/>
          <p:cNvSpPr/>
          <p:nvPr/>
        </p:nvSpPr>
        <p:spPr>
          <a:xfrm>
            <a:off x="949320" y="5208480"/>
            <a:ext cx="2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内容占位符 2"/>
          <p:cNvSpPr/>
          <p:nvPr/>
        </p:nvSpPr>
        <p:spPr>
          <a:xfrm>
            <a:off x="1689120" y="5256360"/>
            <a:ext cx="70992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体会作者对快乐的童年生活的留恋，学会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细观察、生动描述生活中的小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18680" y="1036800"/>
            <a:ext cx="8304120" cy="54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颤巍巍：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抖动摇晃的样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多形容老年人或病人的动作或声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那位老爷爷走起路来颤巍巍的，真让人担心。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山巅：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山顶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他历尽千辛万苦，终于登上了白雪覆盖的山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婴儿：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不满一岁的小孩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摇篮里的婴儿带着甜甜的微笑睡着了。  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希望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希望达到的某种目的或出现的某种情况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造句：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这个希望不难实现，我们一起努力吧！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28560" y="1009440"/>
            <a:ext cx="7886880" cy="78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近义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笑脸 1"/>
          <p:cNvSpPr/>
          <p:nvPr/>
        </p:nvSpPr>
        <p:spPr>
          <a:xfrm>
            <a:off x="824040" y="1009800"/>
            <a:ext cx="453960" cy="441000"/>
          </a:xfrm>
          <a:prstGeom prst="smileyFace">
            <a:avLst>
              <a:gd name="adj" fmla="val 4653"/>
            </a:avLst>
          </a:prstGeom>
          <a:solidFill>
            <a:srgbClr val="f04172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圆角矩形 3"/>
          <p:cNvSpPr/>
          <p:nvPr/>
        </p:nvSpPr>
        <p:spPr>
          <a:xfrm>
            <a:off x="2538360" y="4606920"/>
            <a:ext cx="71280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99"/>
          <p:cNvSpPr/>
          <p:nvPr/>
        </p:nvSpPr>
        <p:spPr>
          <a:xfrm>
            <a:off x="372960" y="1644480"/>
            <a:ext cx="79995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潮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湿润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透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透亮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玲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精巧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种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品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时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时候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方法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方式</a:t>
            </a:r>
            <a:r>
              <a:rPr b="0" lang="zh-CN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散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碎裂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山巅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山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骄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自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希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希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7"/>
          <p:cNvPicPr/>
          <p:nvPr/>
        </p:nvPicPr>
        <p:blipFill>
          <a:blip r:embed="rId2"/>
          <a:stretch/>
        </p:blipFill>
        <p:spPr>
          <a:xfrm>
            <a:off x="6407280" y="4546440"/>
            <a:ext cx="1965240" cy="13543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85640" y="1009440"/>
            <a:ext cx="78868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c00000"/>
                </a:solidFill>
                <a:latin typeface="Calibri"/>
              </a:rPr>
              <a:t>反义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笑脸 14"/>
          <p:cNvSpPr/>
          <p:nvPr/>
        </p:nvSpPr>
        <p:spPr>
          <a:xfrm>
            <a:off x="809640" y="1009800"/>
            <a:ext cx="453960" cy="441000"/>
          </a:xfrm>
          <a:prstGeom prst="smileyFace">
            <a:avLst>
              <a:gd name="adj" fmla="val 4653"/>
            </a:avLst>
          </a:prstGeom>
          <a:solidFill>
            <a:srgbClr val="f04172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圆角矩形 3"/>
          <p:cNvSpPr/>
          <p:nvPr/>
        </p:nvSpPr>
        <p:spPr>
          <a:xfrm>
            <a:off x="2025720" y="3189240"/>
            <a:ext cx="369720" cy="519120"/>
          </a:xfrm>
          <a:custGeom>
            <a:avLst/>
            <a:gdLst>
              <a:gd name="textAreaLeft" fmla="*/ 18000 w 369720"/>
              <a:gd name="textAreaRight" fmla="*/ 351720 w 369720"/>
              <a:gd name="textAreaTop" fmla="*/ 18000 h 519120"/>
              <a:gd name="textAreaBottom" fmla="*/ 501120 h 519120"/>
            </a:gdLst>
            <a:ahLst/>
            <a:rect l="textAreaLeft" t="textAreaTop" r="textAreaRight" b="textAreaBottom"/>
            <a:pathLst>
              <a:path w="21600" h="30320">
                <a:moveTo>
                  <a:pt x="3600" y="0"/>
                </a:moveTo>
                <a:arcTo wR="3600" hR="3600" stAng="16200000" swAng="-5400000"/>
                <a:lnTo>
                  <a:pt x="0" y="26720"/>
                </a:lnTo>
                <a:arcTo wR="3600" hR="3600" stAng="10800000" swAng="-5400000"/>
                <a:lnTo>
                  <a:pt x="18000" y="303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圆角矩形 3"/>
          <p:cNvSpPr/>
          <p:nvPr/>
        </p:nvSpPr>
        <p:spPr>
          <a:xfrm>
            <a:off x="2036880" y="3753000"/>
            <a:ext cx="369720" cy="520560"/>
          </a:xfrm>
          <a:custGeom>
            <a:avLst/>
            <a:gdLst>
              <a:gd name="textAreaLeft" fmla="*/ 18000 w 369720"/>
              <a:gd name="textAreaRight" fmla="*/ 351720 w 369720"/>
              <a:gd name="textAreaTop" fmla="*/ 18000 h 520560"/>
              <a:gd name="textAreaBottom" fmla="*/ 502560 h 520560"/>
            </a:gdLst>
            <a:ahLst/>
            <a:rect l="textAreaLeft" t="textAreaTop" r="textAreaRight" b="textAreaBottom"/>
            <a:pathLst>
              <a:path w="21600" h="30404">
                <a:moveTo>
                  <a:pt x="3600" y="0"/>
                </a:moveTo>
                <a:arcTo wR="3600" hR="3600" stAng="16200000" swAng="-5400000"/>
                <a:lnTo>
                  <a:pt x="0" y="26804"/>
                </a:lnTo>
                <a:arcTo wR="3600" hR="3600" stAng="10800000" swAng="-5400000"/>
                <a:lnTo>
                  <a:pt x="18000" y="304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99"/>
          <p:cNvSpPr/>
          <p:nvPr/>
        </p:nvSpPr>
        <p:spPr>
          <a:xfrm>
            <a:off x="485640" y="1646280"/>
            <a:ext cx="788688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潮湿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干燥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玲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粗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破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圆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融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凝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透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浑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自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约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快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悲伤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轻悠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沉甸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6400" y="1002960"/>
            <a:ext cx="788688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   </a:t>
            </a:r>
            <a:r>
              <a:rPr b="1" lang="zh-CN" sz="3200" spc="-1" strike="noStrike">
                <a:solidFill>
                  <a:srgbClr val="c00000"/>
                </a:solidFill>
                <a:latin typeface="Calibri Light"/>
              </a:rPr>
              <a:t>词语辨析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68080" y="1666440"/>
            <a:ext cx="8124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潮湿    湿润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同点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都有“水分充足”的意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点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潮湿”指含有比正常状态下较多的水分，单纯强调水分多。“湿润”指潮湿而润泽，强调因水分多而滋润、不干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运用示例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场暴雨过后，地面变得（     ），风里带着一股股清新而（        ）的气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笑脸 14"/>
          <p:cNvSpPr/>
          <p:nvPr/>
        </p:nvSpPr>
        <p:spPr>
          <a:xfrm>
            <a:off x="771480" y="974880"/>
            <a:ext cx="453960" cy="441000"/>
          </a:xfrm>
          <a:prstGeom prst="smileyFace">
            <a:avLst>
              <a:gd name="adj" fmla="val 4653"/>
            </a:avLst>
          </a:prstGeom>
          <a:solidFill>
            <a:srgbClr val="f04172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1"/>
          <p:cNvSpPr/>
          <p:nvPr/>
        </p:nvSpPr>
        <p:spPr>
          <a:xfrm>
            <a:off x="2678040" y="5234040"/>
            <a:ext cx="444024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潮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湿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3737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291600" y="1712880"/>
            <a:ext cx="8310600" cy="46195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文可以分成几个部分？各部分分别讲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可以分成三个部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第一部分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(1):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介绍“我”童年时最喜欢玩的游戏是吹肥皂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第二部分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(2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～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4):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写玩肥皂泡的过程以及产生的奇妙想象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第三部分（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5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）：写吹肥皂泡的感受——不仅给“我们”带来快乐，还寄托了“我们”美好的愿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圆角矩形 35"/>
          <p:cNvSpPr/>
          <p:nvPr/>
        </p:nvSpPr>
        <p:spPr>
          <a:xfrm>
            <a:off x="401760" y="957240"/>
            <a:ext cx="2346120" cy="49068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324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36"/>
          <p:cNvSpPr/>
          <p:nvPr/>
        </p:nvSpPr>
        <p:spPr>
          <a:xfrm>
            <a:off x="890640" y="91908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整体感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图片 38" descr="2列2行"/>
          <p:cNvPicPr/>
          <p:nvPr/>
        </p:nvPicPr>
        <p:blipFill>
          <a:blip r:embed="rId2"/>
          <a:stretch/>
        </p:blipFill>
        <p:spPr>
          <a:xfrm>
            <a:off x="393840" y="952560"/>
            <a:ext cx="5191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文本框 4"/>
          <p:cNvSpPr/>
          <p:nvPr/>
        </p:nvSpPr>
        <p:spPr>
          <a:xfrm>
            <a:off x="533520" y="1389240"/>
            <a:ext cx="7561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说课文是按照怎么的顺序来构建全文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吹肥皂泡</a:t>
            </a:r>
            <a:r>
              <a:rPr b="0" lang="zh-CN" sz="2800" spc="-1" strike="noStrike">
                <a:solidFill>
                  <a:srgbClr val="c00000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欣赏肥皂泡的样子</a:t>
            </a:r>
            <a:r>
              <a:rPr b="0" lang="zh-CN" sz="2800" spc="-1" strike="noStrike">
                <a:solidFill>
                  <a:srgbClr val="c00000"/>
                </a:solidFill>
                <a:latin typeface="楷体_GB2312"/>
              </a:rPr>
              <a:t>——</a:t>
            </a:r>
            <a:r>
              <a:rPr b="0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感受肥皂泡的乐趣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图片 2" descr="7"/>
          <p:cNvPicPr/>
          <p:nvPr/>
        </p:nvPicPr>
        <p:blipFill>
          <a:blip r:embed="rId2"/>
          <a:stretch/>
        </p:blipFill>
        <p:spPr>
          <a:xfrm>
            <a:off x="3057480" y="3787920"/>
            <a:ext cx="32799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85840" y="1712880"/>
            <a:ext cx="8238960" cy="19288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朗读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，说说本段在文中起了怎么的作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这一段用简单的一句话点明了“我”小时候最爱玩的游戏就是吹肥皂泡，呼应文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圆角矩形 39"/>
          <p:cNvSpPr/>
          <p:nvPr/>
        </p:nvSpPr>
        <p:spPr>
          <a:xfrm>
            <a:off x="324000" y="960480"/>
            <a:ext cx="2320920" cy="49032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324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文本框 40"/>
          <p:cNvSpPr/>
          <p:nvPr/>
        </p:nvSpPr>
        <p:spPr>
          <a:xfrm>
            <a:off x="824040" y="915840"/>
            <a:ext cx="18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文解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图片 42" descr="用户查寻"/>
          <p:cNvPicPr/>
          <p:nvPr/>
        </p:nvPicPr>
        <p:blipFill>
          <a:blip r:embed="rId2"/>
          <a:stretch/>
        </p:blipFill>
        <p:spPr>
          <a:xfrm>
            <a:off x="372960" y="949320"/>
            <a:ext cx="507960" cy="50148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2" descr="7"/>
          <p:cNvPicPr/>
          <p:nvPr/>
        </p:nvPicPr>
        <p:blipFill>
          <a:blip r:embed="rId3"/>
          <a:stretch/>
        </p:blipFill>
        <p:spPr>
          <a:xfrm>
            <a:off x="3854520" y="4425840"/>
            <a:ext cx="26510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25606"/>
          <p:cNvSpPr/>
          <p:nvPr/>
        </p:nvSpPr>
        <p:spPr>
          <a:xfrm>
            <a:off x="287280" y="1197000"/>
            <a:ext cx="8062920" cy="39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写了什么内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交代了吹肥皂泡最适合的天气——潮湿的阴雨时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“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母亲总教我们在廊子上吹肥皂泡”，一个“总”字说明吹肥皂泡这个游戏“我们”经常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图片 2" descr="7"/>
          <p:cNvPicPr/>
          <p:nvPr/>
        </p:nvPicPr>
        <p:blipFill>
          <a:blip r:embed="rId2"/>
          <a:stretch/>
        </p:blipFill>
        <p:spPr>
          <a:xfrm>
            <a:off x="3336840" y="4356000"/>
            <a:ext cx="27162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3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8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39840" y="1254240"/>
            <a:ext cx="8146800" cy="4194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写了什么内容？又是怎么描写的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这一段写了做肥皂水和吹肥皂泡的过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这一段里集中运用了动作描写，如“放、加、和弄和弄、沾、吹、提、扇”这些动词，生动形象地写出了做肥皂水和吹肥皂泡的详细过程，表现出“我们”快乐的心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33080" y="1290600"/>
            <a:ext cx="8537400" cy="42768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中的“先”“然后”“再”是表示什么的词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什么作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这些词语</a:t>
            </a:r>
            <a:r>
              <a:rPr b="0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都</a:t>
            </a:r>
            <a:r>
              <a:rPr b="0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是表示先后顺序的关联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它们准确地体现了做肥皂水、吹肥皂泡的过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图片 2" descr="7"/>
          <p:cNvPicPr/>
          <p:nvPr/>
        </p:nvPicPr>
        <p:blipFill>
          <a:blip r:embed="rId2"/>
          <a:stretch/>
        </p:blipFill>
        <p:spPr>
          <a:xfrm>
            <a:off x="2820960" y="4110120"/>
            <a:ext cx="297180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01400" y="1557000"/>
            <a:ext cx="8164440" cy="571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会认的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圆角矩形 27"/>
          <p:cNvSpPr/>
          <p:nvPr/>
        </p:nvSpPr>
        <p:spPr>
          <a:xfrm>
            <a:off x="351000" y="920880"/>
            <a:ext cx="2295360" cy="49032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3240">
            <a:solidFill>
              <a:srgbClr val="c5e0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28"/>
          <p:cNvSpPr/>
          <p:nvPr/>
        </p:nvSpPr>
        <p:spPr>
          <a:xfrm>
            <a:off x="893880" y="898560"/>
            <a:ext cx="220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生字学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30" descr="清单"/>
          <p:cNvPicPr/>
          <p:nvPr/>
        </p:nvPicPr>
        <p:blipFill>
          <a:blip r:embed="rId2"/>
          <a:stretch/>
        </p:blipFill>
        <p:spPr>
          <a:xfrm>
            <a:off x="360360" y="898560"/>
            <a:ext cx="533520" cy="534960"/>
          </a:xfrm>
          <a:prstGeom prst="rect">
            <a:avLst/>
          </a:prstGeom>
          <a:ln w="0">
            <a:noFill/>
          </a:ln>
        </p:spPr>
      </p:pic>
      <p:sp>
        <p:nvSpPr>
          <p:cNvPr id="62" name="笑脸 1"/>
          <p:cNvSpPr/>
          <p:nvPr/>
        </p:nvSpPr>
        <p:spPr>
          <a:xfrm>
            <a:off x="628560" y="1581120"/>
            <a:ext cx="453960" cy="441360"/>
          </a:xfrm>
          <a:prstGeom prst="smileyFace">
            <a:avLst>
              <a:gd name="adj" fmla="val 4653"/>
            </a:avLst>
          </a:prstGeom>
          <a:solidFill>
            <a:srgbClr val="f04172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3"/>
          <a:stretch/>
        </p:blipFill>
        <p:spPr>
          <a:xfrm>
            <a:off x="1187280" y="2247840"/>
            <a:ext cx="5543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03200" y="1436400"/>
            <a:ext cx="8183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怎样理解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中的两个“轻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“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轻轻地一提”“轻轻地扇送”，这两个“轻轻”体现出“我们”喜欢泡泡，生怕肥皂泡破裂的心理，可见“我们”吹肥皂泡时认真的态度和快乐的心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图片 2" descr="7"/>
          <p:cNvPicPr/>
          <p:nvPr/>
        </p:nvPicPr>
        <p:blipFill>
          <a:blip r:embed="rId2"/>
          <a:stretch/>
        </p:blipFill>
        <p:spPr>
          <a:xfrm>
            <a:off x="2873520" y="4330800"/>
            <a:ext cx="3243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" y="995040"/>
            <a:ext cx="8060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写了什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这一段中，作者抓住了肥皂泡的哪些方面进行描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展现了肥皂泡的什么特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这一段写了肥皂泡的美丽以及孩子们对肥皂泡的喜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作者抓住了肥皂泡的颜色、形状和变化进行描写，展现了肥皂泡的美丽与神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2" descr="7"/>
          <p:cNvPicPr/>
          <p:nvPr/>
        </p:nvPicPr>
        <p:blipFill>
          <a:blip r:embed="rId2"/>
          <a:stretch/>
        </p:blipFill>
        <p:spPr>
          <a:xfrm>
            <a:off x="5973840" y="4419720"/>
            <a:ext cx="2325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7360" y="1076040"/>
            <a:ext cx="8145360" cy="37177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中“那一个个轻清脆丽的小球……是那么圆满，那么自由，那么透明，那么美丽”这句话运用了什么修辞手法？有什么表达效果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运用了排比的修辞手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连续的四个“那么”构成了排比句，体现了作者对肥皂泡的喜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图片 2" descr="7"/>
          <p:cNvPicPr/>
          <p:nvPr/>
        </p:nvPicPr>
        <p:blipFill>
          <a:blip r:embed="rId2"/>
          <a:stretch/>
        </p:blipFill>
        <p:spPr>
          <a:xfrm>
            <a:off x="4297320" y="4621320"/>
            <a:ext cx="229572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01680" y="750960"/>
            <a:ext cx="816912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排   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把三个或三个以上意义相关或相近、结构相同或相似、语气相同的词组或句子并排在一起的修辞手法，叫作排比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用排比来说理，可以收到条理分明的效果；用排比来抒情，节奏和谐，显得感情洋溢；用排比来叙事、写景，能使层次清楚、描写细腻、形象生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排比的行文有节奏感，读起来朗朗上口，有极强的说服力，能增强文章的表达效果和气势，还能深化中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01400" y="1369800"/>
            <a:ext cx="8096040" cy="2649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吹肥皂泡、欣赏肥皂泡的过程中，作者产生了怎样的感受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作者的心里充满了快乐、骄傲与希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图片 2" descr="7"/>
          <p:cNvPicPr/>
          <p:nvPr/>
        </p:nvPicPr>
        <p:blipFill>
          <a:blip r:embed="rId2"/>
          <a:stretch/>
        </p:blipFill>
        <p:spPr>
          <a:xfrm>
            <a:off x="2540160" y="3807000"/>
            <a:ext cx="38192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99600" y="1223640"/>
            <a:ext cx="8218440" cy="4699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着用自己的话概括课文的中心主旨。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课文写了作者小时候和小伙伴们做肥皂水、吹肥皂泡的童年趣事，不仅表现了作者细心观察生活的特点，还表达了她对自己童年时代快乐生活的留恋之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图片 2" descr="7"/>
          <p:cNvPicPr/>
          <p:nvPr/>
        </p:nvPicPr>
        <p:blipFill>
          <a:blip r:embed="rId2"/>
          <a:stretch/>
        </p:blipFill>
        <p:spPr>
          <a:xfrm>
            <a:off x="2840040" y="3733920"/>
            <a:ext cx="382104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07520" y="1771560"/>
            <a:ext cx="7985160" cy="26877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6000"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是把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剩的碎肥皂放在一只小木碗里，加上点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，和弄和弄，使它融化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用一支竹笔套管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蘸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那黏稠的肥皂水，慢慢地吹起，吹成一个轻圆的网球大小的泡儿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轻轻地一提，那轻圆的球儿便从管上落了下来，软悠悠地在空中飘游。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动作描写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圆角矩形 43"/>
          <p:cNvSpPr/>
          <p:nvPr/>
        </p:nvSpPr>
        <p:spPr>
          <a:xfrm>
            <a:off x="326880" y="936720"/>
            <a:ext cx="2320920" cy="49032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324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4"/>
          <p:cNvSpPr/>
          <p:nvPr/>
        </p:nvSpPr>
        <p:spPr>
          <a:xfrm>
            <a:off x="817560" y="893880"/>
            <a:ext cx="18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佳句积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图片 47" descr="品"/>
          <p:cNvPicPr/>
          <p:nvPr/>
        </p:nvPicPr>
        <p:blipFill>
          <a:blip r:embed="rId2"/>
          <a:stretch/>
        </p:blipFill>
        <p:spPr>
          <a:xfrm>
            <a:off x="299880" y="906480"/>
            <a:ext cx="56196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5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628560" y="1420560"/>
            <a:ext cx="788688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一个个轻清脆丽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一串美丽的梦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我们自己小心地轻轻吹起的，吹了起来，又轻轻地飞起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那么圆满，那么自由，那么透明，那么美丽。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喻、排比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15600" y="1254240"/>
            <a:ext cx="760572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天上，轻轻地挨着明月，渡过天河跟着夕阳西去。或者轻悠悠地飘过大海，飞越山巅，又低低地落下落到一个熟睡中的婴儿的头发上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09520" y="1679400"/>
            <a:ext cx="8724960" cy="4351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 fontScale="91000"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心名言摘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了爱就有了一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希望便是快乐，创造便是快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墙角的花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孤芳自赏时，天地便小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读书奉行九个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书好，好读书，读好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养的花儿在寂静中开过去了，成功的果子便要在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明里结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6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的花，人们只惊慕她现时的明艳。然而当初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芽儿，浸透了奋斗的泪泉，洒遍了牺牲的血雨。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圆角矩形 71"/>
          <p:cNvSpPr/>
          <p:nvPr/>
        </p:nvSpPr>
        <p:spPr>
          <a:xfrm>
            <a:off x="274680" y="955800"/>
            <a:ext cx="2270160" cy="49032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324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文本框 72"/>
          <p:cNvSpPr/>
          <p:nvPr/>
        </p:nvSpPr>
        <p:spPr>
          <a:xfrm>
            <a:off x="758880" y="91116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拓展延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图片 74" descr="外链_icon"/>
          <p:cNvPicPr/>
          <p:nvPr/>
        </p:nvPicPr>
        <p:blipFill>
          <a:blip r:embed="rId2"/>
          <a:stretch/>
        </p:blipFill>
        <p:spPr>
          <a:xfrm>
            <a:off x="241200" y="93996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37840" y="934920"/>
            <a:ext cx="7886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会写的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笑脸 14"/>
          <p:cNvSpPr/>
          <p:nvPr/>
        </p:nvSpPr>
        <p:spPr>
          <a:xfrm>
            <a:off x="641520" y="965160"/>
            <a:ext cx="453960" cy="441360"/>
          </a:xfrm>
          <a:prstGeom prst="smileyFace">
            <a:avLst>
              <a:gd name="adj" fmla="val 4653"/>
            </a:avLst>
          </a:prstGeom>
          <a:solidFill>
            <a:srgbClr val="f04172"/>
          </a:solidFill>
          <a:ln w="1260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组合 38"/>
          <p:cNvGrpSpPr/>
          <p:nvPr/>
        </p:nvGrpSpPr>
        <p:grpSpPr>
          <a:xfrm>
            <a:off x="3503520" y="1795320"/>
            <a:ext cx="2541600" cy="2538720"/>
            <a:chOff x="3503520" y="1795320"/>
            <a:chExt cx="2541600" cy="2538720"/>
          </a:xfrm>
        </p:grpSpPr>
        <p:sp>
          <p:nvSpPr>
            <p:cNvPr id="67" name="直接连接符 3"/>
            <p:cNvSpPr/>
            <p:nvPr/>
          </p:nvSpPr>
          <p:spPr>
            <a:xfrm>
              <a:off x="3525480" y="3062160"/>
              <a:ext cx="2519640" cy="1440"/>
            </a:xfrm>
            <a:prstGeom prst="line">
              <a:avLst/>
            </a:prstGeom>
            <a:ln w="15840">
              <a:solidFill>
                <a:srgbClr val="72bfc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直接连接符 4"/>
            <p:cNvSpPr/>
            <p:nvPr/>
          </p:nvSpPr>
          <p:spPr>
            <a:xfrm flipH="1">
              <a:off x="4751280" y="1795320"/>
              <a:ext cx="1440" cy="2520000"/>
            </a:xfrm>
            <a:prstGeom prst="line">
              <a:avLst/>
            </a:prstGeom>
            <a:ln w="15840">
              <a:solidFill>
                <a:srgbClr val="72bfc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矩形 1"/>
            <p:cNvSpPr/>
            <p:nvPr/>
          </p:nvSpPr>
          <p:spPr>
            <a:xfrm>
              <a:off x="3503520" y="1814040"/>
              <a:ext cx="2519640" cy="2520000"/>
            </a:xfrm>
            <a:prstGeom prst="rect">
              <a:avLst/>
            </a:prstGeom>
            <a:noFill/>
            <a:ln w="25560">
              <a:solidFill>
                <a:srgbClr val="2e75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Freeform 5"/>
          <p:cNvSpPr/>
          <p:nvPr/>
        </p:nvSpPr>
        <p:spPr>
          <a:xfrm>
            <a:off x="4033800" y="2508120"/>
            <a:ext cx="355680" cy="763560"/>
          </a:xfrm>
          <a:custGeom>
            <a:avLst/>
            <a:gdLst/>
            <a:ahLst/>
            <a:rect l="l" t="t" r="r" b="b"/>
            <a:pathLst>
              <a:path w="224" h="481">
                <a:moveTo>
                  <a:pt x="24" y="56"/>
                </a:moveTo>
                <a:lnTo>
                  <a:pt x="16" y="48"/>
                </a:lnTo>
                <a:lnTo>
                  <a:pt x="8" y="40"/>
                </a:lnTo>
                <a:lnTo>
                  <a:pt x="8" y="32"/>
                </a:lnTo>
                <a:lnTo>
                  <a:pt x="0" y="24"/>
                </a:lnTo>
                <a:lnTo>
                  <a:pt x="0" y="16"/>
                </a:lnTo>
                <a:lnTo>
                  <a:pt x="0" y="8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0"/>
                </a:lnTo>
                <a:lnTo>
                  <a:pt x="64" y="8"/>
                </a:lnTo>
                <a:lnTo>
                  <a:pt x="72" y="8"/>
                </a:lnTo>
                <a:lnTo>
                  <a:pt x="88" y="8"/>
                </a:lnTo>
                <a:lnTo>
                  <a:pt x="96" y="8"/>
                </a:lnTo>
                <a:lnTo>
                  <a:pt x="104" y="16"/>
                </a:lnTo>
                <a:lnTo>
                  <a:pt x="112" y="16"/>
                </a:lnTo>
                <a:lnTo>
                  <a:pt x="120" y="16"/>
                </a:lnTo>
                <a:lnTo>
                  <a:pt x="128" y="24"/>
                </a:lnTo>
                <a:lnTo>
                  <a:pt x="128" y="32"/>
                </a:lnTo>
                <a:lnTo>
                  <a:pt x="136" y="32"/>
                </a:lnTo>
                <a:lnTo>
                  <a:pt x="136" y="40"/>
                </a:lnTo>
                <a:lnTo>
                  <a:pt x="136" y="48"/>
                </a:lnTo>
                <a:lnTo>
                  <a:pt x="136" y="56"/>
                </a:lnTo>
                <a:lnTo>
                  <a:pt x="144" y="72"/>
                </a:lnTo>
                <a:lnTo>
                  <a:pt x="144" y="88"/>
                </a:lnTo>
                <a:lnTo>
                  <a:pt x="152" y="104"/>
                </a:lnTo>
                <a:lnTo>
                  <a:pt x="152" y="121"/>
                </a:lnTo>
                <a:lnTo>
                  <a:pt x="160" y="137"/>
                </a:lnTo>
                <a:lnTo>
                  <a:pt x="160" y="153"/>
                </a:lnTo>
                <a:lnTo>
                  <a:pt x="160" y="161"/>
                </a:lnTo>
                <a:lnTo>
                  <a:pt x="160" y="177"/>
                </a:lnTo>
                <a:lnTo>
                  <a:pt x="168" y="193"/>
                </a:lnTo>
                <a:lnTo>
                  <a:pt x="168" y="209"/>
                </a:lnTo>
                <a:lnTo>
                  <a:pt x="176" y="225"/>
                </a:lnTo>
                <a:lnTo>
                  <a:pt x="176" y="249"/>
                </a:lnTo>
                <a:lnTo>
                  <a:pt x="184" y="265"/>
                </a:lnTo>
                <a:lnTo>
                  <a:pt x="184" y="289"/>
                </a:lnTo>
                <a:lnTo>
                  <a:pt x="192" y="313"/>
                </a:lnTo>
                <a:lnTo>
                  <a:pt x="192" y="337"/>
                </a:lnTo>
                <a:lnTo>
                  <a:pt x="200" y="361"/>
                </a:lnTo>
                <a:lnTo>
                  <a:pt x="208" y="385"/>
                </a:lnTo>
                <a:lnTo>
                  <a:pt x="208" y="417"/>
                </a:lnTo>
                <a:lnTo>
                  <a:pt x="216" y="449"/>
                </a:lnTo>
                <a:lnTo>
                  <a:pt x="224" y="473"/>
                </a:lnTo>
                <a:lnTo>
                  <a:pt x="216" y="481"/>
                </a:lnTo>
                <a:lnTo>
                  <a:pt x="208" y="481"/>
                </a:lnTo>
                <a:lnTo>
                  <a:pt x="200" y="481"/>
                </a:lnTo>
                <a:lnTo>
                  <a:pt x="192" y="473"/>
                </a:lnTo>
                <a:lnTo>
                  <a:pt x="184" y="473"/>
                </a:lnTo>
                <a:lnTo>
                  <a:pt x="176" y="465"/>
                </a:lnTo>
                <a:lnTo>
                  <a:pt x="168" y="465"/>
                </a:lnTo>
                <a:lnTo>
                  <a:pt x="168" y="457"/>
                </a:lnTo>
                <a:lnTo>
                  <a:pt x="160" y="449"/>
                </a:lnTo>
                <a:lnTo>
                  <a:pt x="160" y="441"/>
                </a:lnTo>
                <a:lnTo>
                  <a:pt x="160" y="433"/>
                </a:lnTo>
                <a:lnTo>
                  <a:pt x="152" y="425"/>
                </a:lnTo>
                <a:lnTo>
                  <a:pt x="152" y="417"/>
                </a:lnTo>
                <a:lnTo>
                  <a:pt x="152" y="409"/>
                </a:lnTo>
                <a:lnTo>
                  <a:pt x="144" y="401"/>
                </a:lnTo>
                <a:lnTo>
                  <a:pt x="144" y="385"/>
                </a:lnTo>
                <a:lnTo>
                  <a:pt x="136" y="377"/>
                </a:lnTo>
                <a:lnTo>
                  <a:pt x="136" y="361"/>
                </a:lnTo>
                <a:lnTo>
                  <a:pt x="128" y="345"/>
                </a:lnTo>
                <a:lnTo>
                  <a:pt x="128" y="329"/>
                </a:lnTo>
                <a:lnTo>
                  <a:pt x="120" y="313"/>
                </a:lnTo>
                <a:lnTo>
                  <a:pt x="112" y="297"/>
                </a:lnTo>
                <a:lnTo>
                  <a:pt x="112" y="281"/>
                </a:lnTo>
                <a:lnTo>
                  <a:pt x="104" y="257"/>
                </a:lnTo>
                <a:lnTo>
                  <a:pt x="96" y="225"/>
                </a:lnTo>
                <a:lnTo>
                  <a:pt x="80" y="185"/>
                </a:lnTo>
                <a:lnTo>
                  <a:pt x="72" y="153"/>
                </a:lnTo>
                <a:lnTo>
                  <a:pt x="64" y="129"/>
                </a:lnTo>
                <a:lnTo>
                  <a:pt x="56" y="104"/>
                </a:lnTo>
                <a:lnTo>
                  <a:pt x="40" y="88"/>
                </a:lnTo>
                <a:lnTo>
                  <a:pt x="32" y="72"/>
                </a:lnTo>
                <a:lnTo>
                  <a:pt x="24" y="5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4148280" y="2343240"/>
            <a:ext cx="1230120" cy="826920"/>
          </a:xfrm>
          <a:custGeom>
            <a:avLst/>
            <a:gdLst/>
            <a:ahLst/>
            <a:rect l="l" t="t" r="r" b="b"/>
            <a:pathLst>
              <a:path w="775" h="521">
                <a:moveTo>
                  <a:pt x="655" y="361"/>
                </a:moveTo>
                <a:lnTo>
                  <a:pt x="647" y="377"/>
                </a:lnTo>
                <a:lnTo>
                  <a:pt x="639" y="401"/>
                </a:lnTo>
                <a:lnTo>
                  <a:pt x="639" y="417"/>
                </a:lnTo>
                <a:lnTo>
                  <a:pt x="631" y="433"/>
                </a:lnTo>
                <a:lnTo>
                  <a:pt x="631" y="449"/>
                </a:lnTo>
                <a:lnTo>
                  <a:pt x="623" y="465"/>
                </a:lnTo>
                <a:lnTo>
                  <a:pt x="623" y="473"/>
                </a:lnTo>
                <a:lnTo>
                  <a:pt x="615" y="481"/>
                </a:lnTo>
                <a:lnTo>
                  <a:pt x="615" y="497"/>
                </a:lnTo>
                <a:lnTo>
                  <a:pt x="607" y="505"/>
                </a:lnTo>
                <a:lnTo>
                  <a:pt x="607" y="513"/>
                </a:lnTo>
                <a:lnTo>
                  <a:pt x="599" y="513"/>
                </a:lnTo>
                <a:lnTo>
                  <a:pt x="599" y="521"/>
                </a:lnTo>
                <a:lnTo>
                  <a:pt x="591" y="521"/>
                </a:lnTo>
                <a:lnTo>
                  <a:pt x="583" y="521"/>
                </a:lnTo>
                <a:lnTo>
                  <a:pt x="575" y="513"/>
                </a:lnTo>
                <a:lnTo>
                  <a:pt x="575" y="505"/>
                </a:lnTo>
                <a:lnTo>
                  <a:pt x="567" y="497"/>
                </a:lnTo>
                <a:lnTo>
                  <a:pt x="567" y="489"/>
                </a:lnTo>
                <a:lnTo>
                  <a:pt x="567" y="473"/>
                </a:lnTo>
                <a:lnTo>
                  <a:pt x="567" y="457"/>
                </a:lnTo>
                <a:lnTo>
                  <a:pt x="567" y="441"/>
                </a:lnTo>
                <a:lnTo>
                  <a:pt x="567" y="425"/>
                </a:lnTo>
                <a:lnTo>
                  <a:pt x="575" y="401"/>
                </a:lnTo>
                <a:lnTo>
                  <a:pt x="575" y="377"/>
                </a:lnTo>
                <a:lnTo>
                  <a:pt x="575" y="353"/>
                </a:lnTo>
                <a:lnTo>
                  <a:pt x="583" y="329"/>
                </a:lnTo>
                <a:lnTo>
                  <a:pt x="583" y="297"/>
                </a:lnTo>
                <a:lnTo>
                  <a:pt x="591" y="265"/>
                </a:lnTo>
                <a:lnTo>
                  <a:pt x="591" y="233"/>
                </a:lnTo>
                <a:lnTo>
                  <a:pt x="599" y="200"/>
                </a:lnTo>
                <a:lnTo>
                  <a:pt x="599" y="176"/>
                </a:lnTo>
                <a:lnTo>
                  <a:pt x="607" y="152"/>
                </a:lnTo>
                <a:lnTo>
                  <a:pt x="607" y="136"/>
                </a:lnTo>
                <a:lnTo>
                  <a:pt x="607" y="120"/>
                </a:lnTo>
                <a:lnTo>
                  <a:pt x="607" y="104"/>
                </a:lnTo>
                <a:lnTo>
                  <a:pt x="607" y="96"/>
                </a:lnTo>
                <a:lnTo>
                  <a:pt x="599" y="96"/>
                </a:lnTo>
                <a:lnTo>
                  <a:pt x="599" y="88"/>
                </a:lnTo>
                <a:lnTo>
                  <a:pt x="591" y="88"/>
                </a:lnTo>
                <a:lnTo>
                  <a:pt x="583" y="88"/>
                </a:lnTo>
                <a:lnTo>
                  <a:pt x="575" y="88"/>
                </a:lnTo>
                <a:lnTo>
                  <a:pt x="567" y="88"/>
                </a:lnTo>
                <a:lnTo>
                  <a:pt x="559" y="88"/>
                </a:lnTo>
                <a:lnTo>
                  <a:pt x="543" y="88"/>
                </a:lnTo>
                <a:lnTo>
                  <a:pt x="535" y="88"/>
                </a:lnTo>
                <a:lnTo>
                  <a:pt x="519" y="96"/>
                </a:lnTo>
                <a:lnTo>
                  <a:pt x="511" y="96"/>
                </a:lnTo>
                <a:lnTo>
                  <a:pt x="495" y="96"/>
                </a:lnTo>
                <a:lnTo>
                  <a:pt x="471" y="104"/>
                </a:lnTo>
                <a:lnTo>
                  <a:pt x="455" y="104"/>
                </a:lnTo>
                <a:lnTo>
                  <a:pt x="432" y="104"/>
                </a:lnTo>
                <a:lnTo>
                  <a:pt x="408" y="112"/>
                </a:lnTo>
                <a:lnTo>
                  <a:pt x="384" y="120"/>
                </a:lnTo>
                <a:lnTo>
                  <a:pt x="360" y="120"/>
                </a:lnTo>
                <a:lnTo>
                  <a:pt x="328" y="128"/>
                </a:lnTo>
                <a:lnTo>
                  <a:pt x="304" y="128"/>
                </a:lnTo>
                <a:lnTo>
                  <a:pt x="272" y="136"/>
                </a:lnTo>
                <a:lnTo>
                  <a:pt x="248" y="136"/>
                </a:lnTo>
                <a:lnTo>
                  <a:pt x="224" y="144"/>
                </a:lnTo>
                <a:lnTo>
                  <a:pt x="192" y="144"/>
                </a:lnTo>
                <a:lnTo>
                  <a:pt x="176" y="152"/>
                </a:lnTo>
                <a:lnTo>
                  <a:pt x="152" y="152"/>
                </a:lnTo>
                <a:lnTo>
                  <a:pt x="128" y="152"/>
                </a:lnTo>
                <a:lnTo>
                  <a:pt x="112" y="160"/>
                </a:lnTo>
                <a:lnTo>
                  <a:pt x="88" y="160"/>
                </a:lnTo>
                <a:lnTo>
                  <a:pt x="72" y="160"/>
                </a:lnTo>
                <a:lnTo>
                  <a:pt x="56" y="160"/>
                </a:lnTo>
                <a:lnTo>
                  <a:pt x="40" y="168"/>
                </a:lnTo>
                <a:lnTo>
                  <a:pt x="24" y="168"/>
                </a:lnTo>
                <a:lnTo>
                  <a:pt x="16" y="168"/>
                </a:lnTo>
                <a:lnTo>
                  <a:pt x="0" y="168"/>
                </a:lnTo>
                <a:lnTo>
                  <a:pt x="0" y="120"/>
                </a:lnTo>
                <a:lnTo>
                  <a:pt x="40" y="112"/>
                </a:lnTo>
                <a:lnTo>
                  <a:pt x="80" y="112"/>
                </a:lnTo>
                <a:lnTo>
                  <a:pt x="120" y="112"/>
                </a:lnTo>
                <a:lnTo>
                  <a:pt x="168" y="104"/>
                </a:lnTo>
                <a:lnTo>
                  <a:pt x="192" y="96"/>
                </a:lnTo>
                <a:lnTo>
                  <a:pt x="216" y="96"/>
                </a:lnTo>
                <a:lnTo>
                  <a:pt x="240" y="88"/>
                </a:lnTo>
                <a:lnTo>
                  <a:pt x="272" y="88"/>
                </a:lnTo>
                <a:lnTo>
                  <a:pt x="304" y="80"/>
                </a:lnTo>
                <a:lnTo>
                  <a:pt x="328" y="72"/>
                </a:lnTo>
                <a:lnTo>
                  <a:pt x="368" y="64"/>
                </a:lnTo>
                <a:lnTo>
                  <a:pt x="400" y="56"/>
                </a:lnTo>
                <a:lnTo>
                  <a:pt x="416" y="56"/>
                </a:lnTo>
                <a:lnTo>
                  <a:pt x="432" y="48"/>
                </a:lnTo>
                <a:lnTo>
                  <a:pt x="447" y="48"/>
                </a:lnTo>
                <a:lnTo>
                  <a:pt x="463" y="48"/>
                </a:lnTo>
                <a:lnTo>
                  <a:pt x="479" y="40"/>
                </a:lnTo>
                <a:lnTo>
                  <a:pt x="487" y="40"/>
                </a:lnTo>
                <a:lnTo>
                  <a:pt x="503" y="32"/>
                </a:lnTo>
                <a:lnTo>
                  <a:pt x="511" y="32"/>
                </a:lnTo>
                <a:lnTo>
                  <a:pt x="519" y="32"/>
                </a:lnTo>
                <a:lnTo>
                  <a:pt x="527" y="24"/>
                </a:lnTo>
                <a:lnTo>
                  <a:pt x="535" y="24"/>
                </a:lnTo>
                <a:lnTo>
                  <a:pt x="543" y="24"/>
                </a:lnTo>
                <a:lnTo>
                  <a:pt x="551" y="24"/>
                </a:lnTo>
                <a:lnTo>
                  <a:pt x="551" y="16"/>
                </a:lnTo>
                <a:lnTo>
                  <a:pt x="559" y="16"/>
                </a:lnTo>
                <a:lnTo>
                  <a:pt x="567" y="8"/>
                </a:lnTo>
                <a:lnTo>
                  <a:pt x="583" y="8"/>
                </a:lnTo>
                <a:lnTo>
                  <a:pt x="599" y="0"/>
                </a:lnTo>
                <a:lnTo>
                  <a:pt x="615" y="0"/>
                </a:lnTo>
                <a:lnTo>
                  <a:pt x="623" y="0"/>
                </a:lnTo>
                <a:lnTo>
                  <a:pt x="639" y="8"/>
                </a:lnTo>
                <a:lnTo>
                  <a:pt x="647" y="8"/>
                </a:lnTo>
                <a:lnTo>
                  <a:pt x="663" y="16"/>
                </a:lnTo>
                <a:lnTo>
                  <a:pt x="671" y="24"/>
                </a:lnTo>
                <a:lnTo>
                  <a:pt x="687" y="24"/>
                </a:lnTo>
                <a:lnTo>
                  <a:pt x="703" y="40"/>
                </a:lnTo>
                <a:lnTo>
                  <a:pt x="711" y="48"/>
                </a:lnTo>
                <a:lnTo>
                  <a:pt x="727" y="56"/>
                </a:lnTo>
                <a:lnTo>
                  <a:pt x="743" y="64"/>
                </a:lnTo>
                <a:lnTo>
                  <a:pt x="751" y="72"/>
                </a:lnTo>
                <a:lnTo>
                  <a:pt x="759" y="80"/>
                </a:lnTo>
                <a:lnTo>
                  <a:pt x="767" y="88"/>
                </a:lnTo>
                <a:lnTo>
                  <a:pt x="767" y="96"/>
                </a:lnTo>
                <a:lnTo>
                  <a:pt x="775" y="96"/>
                </a:lnTo>
                <a:lnTo>
                  <a:pt x="775" y="104"/>
                </a:lnTo>
                <a:lnTo>
                  <a:pt x="775" y="112"/>
                </a:lnTo>
                <a:lnTo>
                  <a:pt x="767" y="120"/>
                </a:lnTo>
                <a:lnTo>
                  <a:pt x="759" y="128"/>
                </a:lnTo>
                <a:lnTo>
                  <a:pt x="751" y="136"/>
                </a:lnTo>
                <a:lnTo>
                  <a:pt x="743" y="144"/>
                </a:lnTo>
                <a:lnTo>
                  <a:pt x="735" y="152"/>
                </a:lnTo>
                <a:lnTo>
                  <a:pt x="727" y="152"/>
                </a:lnTo>
                <a:lnTo>
                  <a:pt x="727" y="160"/>
                </a:lnTo>
                <a:lnTo>
                  <a:pt x="719" y="168"/>
                </a:lnTo>
                <a:lnTo>
                  <a:pt x="711" y="176"/>
                </a:lnTo>
                <a:lnTo>
                  <a:pt x="711" y="184"/>
                </a:lnTo>
                <a:lnTo>
                  <a:pt x="703" y="192"/>
                </a:lnTo>
                <a:lnTo>
                  <a:pt x="695" y="208"/>
                </a:lnTo>
                <a:lnTo>
                  <a:pt x="695" y="216"/>
                </a:lnTo>
                <a:lnTo>
                  <a:pt x="687" y="233"/>
                </a:lnTo>
                <a:lnTo>
                  <a:pt x="687" y="249"/>
                </a:lnTo>
                <a:lnTo>
                  <a:pt x="679" y="265"/>
                </a:lnTo>
                <a:lnTo>
                  <a:pt x="671" y="281"/>
                </a:lnTo>
                <a:lnTo>
                  <a:pt x="671" y="297"/>
                </a:lnTo>
                <a:lnTo>
                  <a:pt x="663" y="313"/>
                </a:lnTo>
                <a:lnTo>
                  <a:pt x="655" y="337"/>
                </a:lnTo>
                <a:lnTo>
                  <a:pt x="655" y="36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4313160" y="1962000"/>
            <a:ext cx="544680" cy="584280"/>
          </a:xfrm>
          <a:custGeom>
            <a:avLst/>
            <a:gdLst/>
            <a:ahLst/>
            <a:rect l="l" t="t" r="r" b="b"/>
            <a:pathLst>
              <a:path w="343" h="368">
                <a:moveTo>
                  <a:pt x="160" y="16"/>
                </a:moveTo>
                <a:lnTo>
                  <a:pt x="168" y="8"/>
                </a:lnTo>
                <a:lnTo>
                  <a:pt x="176" y="0"/>
                </a:lnTo>
                <a:lnTo>
                  <a:pt x="184" y="0"/>
                </a:lnTo>
                <a:lnTo>
                  <a:pt x="192" y="0"/>
                </a:lnTo>
                <a:lnTo>
                  <a:pt x="200" y="0"/>
                </a:lnTo>
                <a:lnTo>
                  <a:pt x="216" y="0"/>
                </a:lnTo>
                <a:lnTo>
                  <a:pt x="232" y="8"/>
                </a:lnTo>
                <a:lnTo>
                  <a:pt x="248" y="8"/>
                </a:lnTo>
                <a:lnTo>
                  <a:pt x="256" y="16"/>
                </a:lnTo>
                <a:lnTo>
                  <a:pt x="272" y="16"/>
                </a:lnTo>
                <a:lnTo>
                  <a:pt x="280" y="24"/>
                </a:lnTo>
                <a:lnTo>
                  <a:pt x="288" y="24"/>
                </a:lnTo>
                <a:lnTo>
                  <a:pt x="304" y="32"/>
                </a:lnTo>
                <a:lnTo>
                  <a:pt x="312" y="40"/>
                </a:lnTo>
                <a:lnTo>
                  <a:pt x="328" y="56"/>
                </a:lnTo>
                <a:lnTo>
                  <a:pt x="335" y="64"/>
                </a:lnTo>
                <a:lnTo>
                  <a:pt x="335" y="72"/>
                </a:lnTo>
                <a:lnTo>
                  <a:pt x="343" y="80"/>
                </a:lnTo>
                <a:lnTo>
                  <a:pt x="335" y="80"/>
                </a:lnTo>
                <a:lnTo>
                  <a:pt x="335" y="88"/>
                </a:lnTo>
                <a:lnTo>
                  <a:pt x="328" y="96"/>
                </a:lnTo>
                <a:lnTo>
                  <a:pt x="320" y="104"/>
                </a:lnTo>
                <a:lnTo>
                  <a:pt x="312" y="120"/>
                </a:lnTo>
                <a:lnTo>
                  <a:pt x="296" y="128"/>
                </a:lnTo>
                <a:lnTo>
                  <a:pt x="280" y="144"/>
                </a:lnTo>
                <a:lnTo>
                  <a:pt x="256" y="168"/>
                </a:lnTo>
                <a:lnTo>
                  <a:pt x="240" y="184"/>
                </a:lnTo>
                <a:lnTo>
                  <a:pt x="216" y="208"/>
                </a:lnTo>
                <a:lnTo>
                  <a:pt x="192" y="232"/>
                </a:lnTo>
                <a:lnTo>
                  <a:pt x="160" y="256"/>
                </a:lnTo>
                <a:lnTo>
                  <a:pt x="136" y="280"/>
                </a:lnTo>
                <a:lnTo>
                  <a:pt x="104" y="312"/>
                </a:lnTo>
                <a:lnTo>
                  <a:pt x="72" y="336"/>
                </a:lnTo>
                <a:lnTo>
                  <a:pt x="40" y="368"/>
                </a:lnTo>
                <a:lnTo>
                  <a:pt x="0" y="368"/>
                </a:lnTo>
                <a:lnTo>
                  <a:pt x="16" y="344"/>
                </a:lnTo>
                <a:lnTo>
                  <a:pt x="32" y="320"/>
                </a:lnTo>
                <a:lnTo>
                  <a:pt x="40" y="304"/>
                </a:lnTo>
                <a:lnTo>
                  <a:pt x="56" y="280"/>
                </a:lnTo>
                <a:lnTo>
                  <a:pt x="72" y="264"/>
                </a:lnTo>
                <a:lnTo>
                  <a:pt x="80" y="248"/>
                </a:lnTo>
                <a:lnTo>
                  <a:pt x="96" y="232"/>
                </a:lnTo>
                <a:lnTo>
                  <a:pt x="104" y="216"/>
                </a:lnTo>
                <a:lnTo>
                  <a:pt x="112" y="200"/>
                </a:lnTo>
                <a:lnTo>
                  <a:pt x="120" y="184"/>
                </a:lnTo>
                <a:lnTo>
                  <a:pt x="128" y="168"/>
                </a:lnTo>
                <a:lnTo>
                  <a:pt x="136" y="160"/>
                </a:lnTo>
                <a:lnTo>
                  <a:pt x="144" y="152"/>
                </a:lnTo>
                <a:lnTo>
                  <a:pt x="152" y="136"/>
                </a:lnTo>
                <a:lnTo>
                  <a:pt x="152" y="128"/>
                </a:lnTo>
                <a:lnTo>
                  <a:pt x="160" y="120"/>
                </a:lnTo>
                <a:lnTo>
                  <a:pt x="168" y="104"/>
                </a:lnTo>
                <a:lnTo>
                  <a:pt x="168" y="96"/>
                </a:lnTo>
                <a:lnTo>
                  <a:pt x="176" y="80"/>
                </a:lnTo>
                <a:lnTo>
                  <a:pt x="176" y="72"/>
                </a:lnTo>
                <a:lnTo>
                  <a:pt x="176" y="64"/>
                </a:lnTo>
                <a:lnTo>
                  <a:pt x="176" y="56"/>
                </a:lnTo>
                <a:lnTo>
                  <a:pt x="176" y="48"/>
                </a:lnTo>
                <a:lnTo>
                  <a:pt x="168" y="48"/>
                </a:lnTo>
                <a:lnTo>
                  <a:pt x="160" y="40"/>
                </a:lnTo>
                <a:lnTo>
                  <a:pt x="160" y="32"/>
                </a:lnTo>
                <a:lnTo>
                  <a:pt x="160" y="24"/>
                </a:lnTo>
                <a:lnTo>
                  <a:pt x="160" y="1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8"/>
          <p:cNvSpPr/>
          <p:nvPr/>
        </p:nvSpPr>
        <p:spPr>
          <a:xfrm>
            <a:off x="4262400" y="2751120"/>
            <a:ext cx="620640" cy="165240"/>
          </a:xfrm>
          <a:custGeom>
            <a:avLst/>
            <a:gdLst/>
            <a:ahLst/>
            <a:rect l="l" t="t" r="r" b="b"/>
            <a:pathLst>
              <a:path w="391" h="104">
                <a:moveTo>
                  <a:pt x="0" y="56"/>
                </a:moveTo>
                <a:lnTo>
                  <a:pt x="32" y="56"/>
                </a:lnTo>
                <a:lnTo>
                  <a:pt x="64" y="48"/>
                </a:lnTo>
                <a:lnTo>
                  <a:pt x="88" y="40"/>
                </a:lnTo>
                <a:lnTo>
                  <a:pt x="112" y="32"/>
                </a:lnTo>
                <a:lnTo>
                  <a:pt x="144" y="24"/>
                </a:lnTo>
                <a:lnTo>
                  <a:pt x="168" y="24"/>
                </a:lnTo>
                <a:lnTo>
                  <a:pt x="192" y="16"/>
                </a:lnTo>
                <a:lnTo>
                  <a:pt x="208" y="16"/>
                </a:lnTo>
                <a:lnTo>
                  <a:pt x="232" y="8"/>
                </a:lnTo>
                <a:lnTo>
                  <a:pt x="248" y="8"/>
                </a:lnTo>
                <a:lnTo>
                  <a:pt x="264" y="0"/>
                </a:lnTo>
                <a:lnTo>
                  <a:pt x="280" y="0"/>
                </a:lnTo>
                <a:lnTo>
                  <a:pt x="296" y="0"/>
                </a:lnTo>
                <a:lnTo>
                  <a:pt x="304" y="0"/>
                </a:lnTo>
                <a:lnTo>
                  <a:pt x="320" y="0"/>
                </a:lnTo>
                <a:lnTo>
                  <a:pt x="328" y="0"/>
                </a:lnTo>
                <a:lnTo>
                  <a:pt x="344" y="0"/>
                </a:lnTo>
                <a:lnTo>
                  <a:pt x="352" y="0"/>
                </a:lnTo>
                <a:lnTo>
                  <a:pt x="367" y="0"/>
                </a:lnTo>
                <a:lnTo>
                  <a:pt x="375" y="0"/>
                </a:lnTo>
                <a:lnTo>
                  <a:pt x="383" y="0"/>
                </a:lnTo>
                <a:lnTo>
                  <a:pt x="383" y="8"/>
                </a:lnTo>
                <a:lnTo>
                  <a:pt x="391" y="8"/>
                </a:lnTo>
                <a:lnTo>
                  <a:pt x="391" y="16"/>
                </a:lnTo>
                <a:lnTo>
                  <a:pt x="383" y="24"/>
                </a:lnTo>
                <a:lnTo>
                  <a:pt x="375" y="32"/>
                </a:lnTo>
                <a:lnTo>
                  <a:pt x="367" y="40"/>
                </a:lnTo>
                <a:lnTo>
                  <a:pt x="360" y="48"/>
                </a:lnTo>
                <a:lnTo>
                  <a:pt x="352" y="48"/>
                </a:lnTo>
                <a:lnTo>
                  <a:pt x="336" y="56"/>
                </a:lnTo>
                <a:lnTo>
                  <a:pt x="320" y="56"/>
                </a:lnTo>
                <a:lnTo>
                  <a:pt x="304" y="64"/>
                </a:lnTo>
                <a:lnTo>
                  <a:pt x="280" y="64"/>
                </a:lnTo>
                <a:lnTo>
                  <a:pt x="256" y="72"/>
                </a:lnTo>
                <a:lnTo>
                  <a:pt x="232" y="72"/>
                </a:lnTo>
                <a:lnTo>
                  <a:pt x="176" y="80"/>
                </a:lnTo>
                <a:lnTo>
                  <a:pt x="120" y="88"/>
                </a:lnTo>
                <a:lnTo>
                  <a:pt x="56" y="96"/>
                </a:lnTo>
                <a:lnTo>
                  <a:pt x="0" y="104"/>
                </a:lnTo>
                <a:lnTo>
                  <a:pt x="0" y="5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9"/>
          <p:cNvSpPr/>
          <p:nvPr/>
        </p:nvSpPr>
        <p:spPr>
          <a:xfrm>
            <a:off x="4338720" y="3056040"/>
            <a:ext cx="747720" cy="190440"/>
          </a:xfrm>
          <a:custGeom>
            <a:avLst/>
            <a:gdLst/>
            <a:ahLst/>
            <a:rect l="l" t="t" r="r" b="b"/>
            <a:pathLst>
              <a:path w="471" h="120">
                <a:moveTo>
                  <a:pt x="16" y="120"/>
                </a:moveTo>
                <a:lnTo>
                  <a:pt x="0" y="72"/>
                </a:lnTo>
                <a:lnTo>
                  <a:pt x="40" y="64"/>
                </a:lnTo>
                <a:lnTo>
                  <a:pt x="72" y="56"/>
                </a:lnTo>
                <a:lnTo>
                  <a:pt x="112" y="48"/>
                </a:lnTo>
                <a:lnTo>
                  <a:pt x="144" y="40"/>
                </a:lnTo>
                <a:lnTo>
                  <a:pt x="176" y="40"/>
                </a:lnTo>
                <a:lnTo>
                  <a:pt x="208" y="32"/>
                </a:lnTo>
                <a:lnTo>
                  <a:pt x="240" y="24"/>
                </a:lnTo>
                <a:lnTo>
                  <a:pt x="272" y="24"/>
                </a:lnTo>
                <a:lnTo>
                  <a:pt x="296" y="16"/>
                </a:lnTo>
                <a:lnTo>
                  <a:pt x="327" y="16"/>
                </a:lnTo>
                <a:lnTo>
                  <a:pt x="351" y="8"/>
                </a:lnTo>
                <a:lnTo>
                  <a:pt x="375" y="8"/>
                </a:lnTo>
                <a:lnTo>
                  <a:pt x="399" y="8"/>
                </a:lnTo>
                <a:lnTo>
                  <a:pt x="423" y="0"/>
                </a:lnTo>
                <a:lnTo>
                  <a:pt x="439" y="0"/>
                </a:lnTo>
                <a:lnTo>
                  <a:pt x="463" y="0"/>
                </a:lnTo>
                <a:lnTo>
                  <a:pt x="471" y="56"/>
                </a:lnTo>
                <a:lnTo>
                  <a:pt x="423" y="64"/>
                </a:lnTo>
                <a:lnTo>
                  <a:pt x="375" y="64"/>
                </a:lnTo>
                <a:lnTo>
                  <a:pt x="319" y="72"/>
                </a:lnTo>
                <a:lnTo>
                  <a:pt x="264" y="80"/>
                </a:lnTo>
                <a:lnTo>
                  <a:pt x="208" y="88"/>
                </a:lnTo>
                <a:lnTo>
                  <a:pt x="144" y="96"/>
                </a:lnTo>
                <a:lnTo>
                  <a:pt x="80" y="104"/>
                </a:lnTo>
                <a:lnTo>
                  <a:pt x="16" y="12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0"/>
          <p:cNvSpPr/>
          <p:nvPr/>
        </p:nvSpPr>
        <p:spPr>
          <a:xfrm>
            <a:off x="3666960" y="3297240"/>
            <a:ext cx="1914840" cy="496800"/>
          </a:xfrm>
          <a:custGeom>
            <a:avLst/>
            <a:gdLst/>
            <a:ahLst/>
            <a:rect l="l" t="t" r="r" b="b"/>
            <a:pathLst>
              <a:path w="1206" h="313">
                <a:moveTo>
                  <a:pt x="1014" y="96"/>
                </a:moveTo>
                <a:lnTo>
                  <a:pt x="974" y="104"/>
                </a:lnTo>
                <a:lnTo>
                  <a:pt x="926" y="112"/>
                </a:lnTo>
                <a:lnTo>
                  <a:pt x="886" y="120"/>
                </a:lnTo>
                <a:lnTo>
                  <a:pt x="846" y="128"/>
                </a:lnTo>
                <a:lnTo>
                  <a:pt x="814" y="136"/>
                </a:lnTo>
                <a:lnTo>
                  <a:pt x="774" y="144"/>
                </a:lnTo>
                <a:lnTo>
                  <a:pt x="742" y="153"/>
                </a:lnTo>
                <a:lnTo>
                  <a:pt x="711" y="161"/>
                </a:lnTo>
                <a:lnTo>
                  <a:pt x="679" y="169"/>
                </a:lnTo>
                <a:lnTo>
                  <a:pt x="639" y="177"/>
                </a:lnTo>
                <a:lnTo>
                  <a:pt x="607" y="185"/>
                </a:lnTo>
                <a:lnTo>
                  <a:pt x="567" y="201"/>
                </a:lnTo>
                <a:lnTo>
                  <a:pt x="519" y="209"/>
                </a:lnTo>
                <a:lnTo>
                  <a:pt x="471" y="225"/>
                </a:lnTo>
                <a:lnTo>
                  <a:pt x="423" y="241"/>
                </a:lnTo>
                <a:lnTo>
                  <a:pt x="375" y="249"/>
                </a:lnTo>
                <a:lnTo>
                  <a:pt x="351" y="257"/>
                </a:lnTo>
                <a:lnTo>
                  <a:pt x="327" y="265"/>
                </a:lnTo>
                <a:lnTo>
                  <a:pt x="303" y="273"/>
                </a:lnTo>
                <a:lnTo>
                  <a:pt x="279" y="281"/>
                </a:lnTo>
                <a:lnTo>
                  <a:pt x="263" y="281"/>
                </a:lnTo>
                <a:lnTo>
                  <a:pt x="239" y="289"/>
                </a:lnTo>
                <a:lnTo>
                  <a:pt x="223" y="289"/>
                </a:lnTo>
                <a:lnTo>
                  <a:pt x="207" y="297"/>
                </a:lnTo>
                <a:lnTo>
                  <a:pt x="191" y="297"/>
                </a:lnTo>
                <a:lnTo>
                  <a:pt x="183" y="305"/>
                </a:lnTo>
                <a:lnTo>
                  <a:pt x="168" y="305"/>
                </a:lnTo>
                <a:lnTo>
                  <a:pt x="160" y="313"/>
                </a:lnTo>
                <a:lnTo>
                  <a:pt x="144" y="313"/>
                </a:lnTo>
                <a:lnTo>
                  <a:pt x="136" y="313"/>
                </a:lnTo>
                <a:lnTo>
                  <a:pt x="128" y="313"/>
                </a:lnTo>
                <a:lnTo>
                  <a:pt x="112" y="313"/>
                </a:lnTo>
                <a:lnTo>
                  <a:pt x="104" y="313"/>
                </a:lnTo>
                <a:lnTo>
                  <a:pt x="88" y="305"/>
                </a:lnTo>
                <a:lnTo>
                  <a:pt x="72" y="297"/>
                </a:lnTo>
                <a:lnTo>
                  <a:pt x="56" y="289"/>
                </a:lnTo>
                <a:lnTo>
                  <a:pt x="40" y="281"/>
                </a:lnTo>
                <a:lnTo>
                  <a:pt x="16" y="265"/>
                </a:lnTo>
                <a:lnTo>
                  <a:pt x="0" y="249"/>
                </a:lnTo>
                <a:lnTo>
                  <a:pt x="8" y="249"/>
                </a:lnTo>
                <a:lnTo>
                  <a:pt x="24" y="249"/>
                </a:lnTo>
                <a:lnTo>
                  <a:pt x="40" y="249"/>
                </a:lnTo>
                <a:lnTo>
                  <a:pt x="56" y="241"/>
                </a:lnTo>
                <a:lnTo>
                  <a:pt x="72" y="241"/>
                </a:lnTo>
                <a:lnTo>
                  <a:pt x="96" y="241"/>
                </a:lnTo>
                <a:lnTo>
                  <a:pt x="112" y="233"/>
                </a:lnTo>
                <a:lnTo>
                  <a:pt x="136" y="233"/>
                </a:lnTo>
                <a:lnTo>
                  <a:pt x="160" y="225"/>
                </a:lnTo>
                <a:lnTo>
                  <a:pt x="183" y="225"/>
                </a:lnTo>
                <a:lnTo>
                  <a:pt x="207" y="217"/>
                </a:lnTo>
                <a:lnTo>
                  <a:pt x="231" y="217"/>
                </a:lnTo>
                <a:lnTo>
                  <a:pt x="263" y="209"/>
                </a:lnTo>
                <a:lnTo>
                  <a:pt x="287" y="201"/>
                </a:lnTo>
                <a:lnTo>
                  <a:pt x="319" y="193"/>
                </a:lnTo>
                <a:lnTo>
                  <a:pt x="351" y="185"/>
                </a:lnTo>
                <a:lnTo>
                  <a:pt x="367" y="185"/>
                </a:lnTo>
                <a:lnTo>
                  <a:pt x="391" y="177"/>
                </a:lnTo>
                <a:lnTo>
                  <a:pt x="407" y="169"/>
                </a:lnTo>
                <a:lnTo>
                  <a:pt x="431" y="169"/>
                </a:lnTo>
                <a:lnTo>
                  <a:pt x="447" y="161"/>
                </a:lnTo>
                <a:lnTo>
                  <a:pt x="471" y="153"/>
                </a:lnTo>
                <a:lnTo>
                  <a:pt x="495" y="153"/>
                </a:lnTo>
                <a:lnTo>
                  <a:pt x="519" y="144"/>
                </a:lnTo>
                <a:lnTo>
                  <a:pt x="551" y="136"/>
                </a:lnTo>
                <a:lnTo>
                  <a:pt x="575" y="128"/>
                </a:lnTo>
                <a:lnTo>
                  <a:pt x="607" y="120"/>
                </a:lnTo>
                <a:lnTo>
                  <a:pt x="631" y="112"/>
                </a:lnTo>
                <a:lnTo>
                  <a:pt x="663" y="104"/>
                </a:lnTo>
                <a:lnTo>
                  <a:pt x="695" y="96"/>
                </a:lnTo>
                <a:lnTo>
                  <a:pt x="735" y="88"/>
                </a:lnTo>
                <a:lnTo>
                  <a:pt x="766" y="80"/>
                </a:lnTo>
                <a:lnTo>
                  <a:pt x="798" y="72"/>
                </a:lnTo>
                <a:lnTo>
                  <a:pt x="830" y="64"/>
                </a:lnTo>
                <a:lnTo>
                  <a:pt x="862" y="56"/>
                </a:lnTo>
                <a:lnTo>
                  <a:pt x="894" y="48"/>
                </a:lnTo>
                <a:lnTo>
                  <a:pt x="918" y="40"/>
                </a:lnTo>
                <a:lnTo>
                  <a:pt x="942" y="32"/>
                </a:lnTo>
                <a:lnTo>
                  <a:pt x="966" y="24"/>
                </a:lnTo>
                <a:lnTo>
                  <a:pt x="990" y="24"/>
                </a:lnTo>
                <a:lnTo>
                  <a:pt x="1006" y="16"/>
                </a:lnTo>
                <a:lnTo>
                  <a:pt x="1030" y="16"/>
                </a:lnTo>
                <a:lnTo>
                  <a:pt x="1046" y="8"/>
                </a:lnTo>
                <a:lnTo>
                  <a:pt x="1054" y="8"/>
                </a:lnTo>
                <a:lnTo>
                  <a:pt x="1070" y="8"/>
                </a:lnTo>
                <a:lnTo>
                  <a:pt x="1078" y="8"/>
                </a:lnTo>
                <a:lnTo>
                  <a:pt x="1086" y="0"/>
                </a:lnTo>
                <a:lnTo>
                  <a:pt x="1094" y="0"/>
                </a:lnTo>
                <a:lnTo>
                  <a:pt x="1118" y="8"/>
                </a:lnTo>
                <a:lnTo>
                  <a:pt x="1142" y="8"/>
                </a:lnTo>
                <a:lnTo>
                  <a:pt x="1158" y="16"/>
                </a:lnTo>
                <a:lnTo>
                  <a:pt x="1174" y="16"/>
                </a:lnTo>
                <a:lnTo>
                  <a:pt x="1190" y="24"/>
                </a:lnTo>
                <a:lnTo>
                  <a:pt x="1198" y="32"/>
                </a:lnTo>
                <a:lnTo>
                  <a:pt x="1198" y="40"/>
                </a:lnTo>
                <a:lnTo>
                  <a:pt x="1206" y="48"/>
                </a:lnTo>
                <a:lnTo>
                  <a:pt x="1206" y="56"/>
                </a:lnTo>
                <a:lnTo>
                  <a:pt x="1198" y="56"/>
                </a:lnTo>
                <a:lnTo>
                  <a:pt x="1190" y="56"/>
                </a:lnTo>
                <a:lnTo>
                  <a:pt x="1182" y="64"/>
                </a:lnTo>
                <a:lnTo>
                  <a:pt x="1174" y="64"/>
                </a:lnTo>
                <a:lnTo>
                  <a:pt x="1166" y="64"/>
                </a:lnTo>
                <a:lnTo>
                  <a:pt x="1158" y="72"/>
                </a:lnTo>
                <a:lnTo>
                  <a:pt x="1142" y="72"/>
                </a:lnTo>
                <a:lnTo>
                  <a:pt x="1134" y="72"/>
                </a:lnTo>
                <a:lnTo>
                  <a:pt x="1118" y="80"/>
                </a:lnTo>
                <a:lnTo>
                  <a:pt x="1102" y="80"/>
                </a:lnTo>
                <a:lnTo>
                  <a:pt x="1078" y="88"/>
                </a:lnTo>
                <a:lnTo>
                  <a:pt x="1062" y="88"/>
                </a:lnTo>
                <a:lnTo>
                  <a:pt x="1038" y="96"/>
                </a:lnTo>
                <a:lnTo>
                  <a:pt x="1014" y="9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1"/>
          <p:cNvSpPr/>
          <p:nvPr/>
        </p:nvSpPr>
        <p:spPr>
          <a:xfrm>
            <a:off x="4541760" y="3170160"/>
            <a:ext cx="1317600" cy="992160"/>
          </a:xfrm>
          <a:custGeom>
            <a:avLst/>
            <a:gdLst/>
            <a:ahLst/>
            <a:rect l="l" t="t" r="r" b="b"/>
            <a:pathLst>
              <a:path w="830" h="625">
                <a:moveTo>
                  <a:pt x="830" y="481"/>
                </a:moveTo>
                <a:lnTo>
                  <a:pt x="830" y="489"/>
                </a:lnTo>
                <a:lnTo>
                  <a:pt x="830" y="497"/>
                </a:lnTo>
                <a:lnTo>
                  <a:pt x="830" y="505"/>
                </a:lnTo>
                <a:lnTo>
                  <a:pt x="830" y="513"/>
                </a:lnTo>
                <a:lnTo>
                  <a:pt x="822" y="521"/>
                </a:lnTo>
                <a:lnTo>
                  <a:pt x="814" y="529"/>
                </a:lnTo>
                <a:lnTo>
                  <a:pt x="806" y="537"/>
                </a:lnTo>
                <a:lnTo>
                  <a:pt x="790" y="545"/>
                </a:lnTo>
                <a:lnTo>
                  <a:pt x="766" y="561"/>
                </a:lnTo>
                <a:lnTo>
                  <a:pt x="735" y="577"/>
                </a:lnTo>
                <a:lnTo>
                  <a:pt x="695" y="585"/>
                </a:lnTo>
                <a:lnTo>
                  <a:pt x="663" y="601"/>
                </a:lnTo>
                <a:lnTo>
                  <a:pt x="639" y="609"/>
                </a:lnTo>
                <a:lnTo>
                  <a:pt x="615" y="609"/>
                </a:lnTo>
                <a:lnTo>
                  <a:pt x="591" y="617"/>
                </a:lnTo>
                <a:lnTo>
                  <a:pt x="567" y="617"/>
                </a:lnTo>
                <a:lnTo>
                  <a:pt x="543" y="617"/>
                </a:lnTo>
                <a:lnTo>
                  <a:pt x="511" y="625"/>
                </a:lnTo>
                <a:lnTo>
                  <a:pt x="487" y="625"/>
                </a:lnTo>
                <a:lnTo>
                  <a:pt x="455" y="625"/>
                </a:lnTo>
                <a:lnTo>
                  <a:pt x="423" y="625"/>
                </a:lnTo>
                <a:lnTo>
                  <a:pt x="391" y="625"/>
                </a:lnTo>
                <a:lnTo>
                  <a:pt x="359" y="625"/>
                </a:lnTo>
                <a:lnTo>
                  <a:pt x="335" y="625"/>
                </a:lnTo>
                <a:lnTo>
                  <a:pt x="303" y="625"/>
                </a:lnTo>
                <a:lnTo>
                  <a:pt x="279" y="625"/>
                </a:lnTo>
                <a:lnTo>
                  <a:pt x="255" y="625"/>
                </a:lnTo>
                <a:lnTo>
                  <a:pt x="239" y="617"/>
                </a:lnTo>
                <a:lnTo>
                  <a:pt x="215" y="617"/>
                </a:lnTo>
                <a:lnTo>
                  <a:pt x="199" y="609"/>
                </a:lnTo>
                <a:lnTo>
                  <a:pt x="176" y="609"/>
                </a:lnTo>
                <a:lnTo>
                  <a:pt x="160" y="601"/>
                </a:lnTo>
                <a:lnTo>
                  <a:pt x="144" y="585"/>
                </a:lnTo>
                <a:lnTo>
                  <a:pt x="128" y="577"/>
                </a:lnTo>
                <a:lnTo>
                  <a:pt x="112" y="569"/>
                </a:lnTo>
                <a:lnTo>
                  <a:pt x="96" y="553"/>
                </a:lnTo>
                <a:lnTo>
                  <a:pt x="80" y="537"/>
                </a:lnTo>
                <a:lnTo>
                  <a:pt x="64" y="521"/>
                </a:lnTo>
                <a:lnTo>
                  <a:pt x="56" y="513"/>
                </a:lnTo>
                <a:lnTo>
                  <a:pt x="48" y="497"/>
                </a:lnTo>
                <a:lnTo>
                  <a:pt x="40" y="481"/>
                </a:lnTo>
                <a:lnTo>
                  <a:pt x="32" y="465"/>
                </a:lnTo>
                <a:lnTo>
                  <a:pt x="24" y="449"/>
                </a:lnTo>
                <a:lnTo>
                  <a:pt x="24" y="433"/>
                </a:lnTo>
                <a:lnTo>
                  <a:pt x="16" y="417"/>
                </a:lnTo>
                <a:lnTo>
                  <a:pt x="16" y="401"/>
                </a:lnTo>
                <a:lnTo>
                  <a:pt x="16" y="377"/>
                </a:lnTo>
                <a:lnTo>
                  <a:pt x="16" y="353"/>
                </a:lnTo>
                <a:lnTo>
                  <a:pt x="8" y="329"/>
                </a:lnTo>
                <a:lnTo>
                  <a:pt x="8" y="305"/>
                </a:lnTo>
                <a:lnTo>
                  <a:pt x="8" y="281"/>
                </a:lnTo>
                <a:lnTo>
                  <a:pt x="8" y="249"/>
                </a:lnTo>
                <a:lnTo>
                  <a:pt x="16" y="184"/>
                </a:lnTo>
                <a:lnTo>
                  <a:pt x="8" y="120"/>
                </a:lnTo>
                <a:lnTo>
                  <a:pt x="8" y="56"/>
                </a:lnTo>
                <a:lnTo>
                  <a:pt x="0" y="0"/>
                </a:lnTo>
                <a:lnTo>
                  <a:pt x="24" y="8"/>
                </a:lnTo>
                <a:lnTo>
                  <a:pt x="48" y="16"/>
                </a:lnTo>
                <a:lnTo>
                  <a:pt x="64" y="24"/>
                </a:lnTo>
                <a:lnTo>
                  <a:pt x="72" y="32"/>
                </a:lnTo>
                <a:lnTo>
                  <a:pt x="88" y="32"/>
                </a:lnTo>
                <a:lnTo>
                  <a:pt x="96" y="40"/>
                </a:lnTo>
                <a:lnTo>
                  <a:pt x="104" y="48"/>
                </a:lnTo>
                <a:lnTo>
                  <a:pt x="104" y="56"/>
                </a:lnTo>
                <a:lnTo>
                  <a:pt x="112" y="64"/>
                </a:lnTo>
                <a:lnTo>
                  <a:pt x="112" y="72"/>
                </a:lnTo>
                <a:lnTo>
                  <a:pt x="112" y="88"/>
                </a:lnTo>
                <a:lnTo>
                  <a:pt x="104" y="96"/>
                </a:lnTo>
                <a:lnTo>
                  <a:pt x="104" y="104"/>
                </a:lnTo>
                <a:lnTo>
                  <a:pt x="104" y="112"/>
                </a:lnTo>
                <a:lnTo>
                  <a:pt x="96" y="128"/>
                </a:lnTo>
                <a:lnTo>
                  <a:pt x="96" y="136"/>
                </a:lnTo>
                <a:lnTo>
                  <a:pt x="96" y="144"/>
                </a:lnTo>
                <a:lnTo>
                  <a:pt x="88" y="160"/>
                </a:lnTo>
                <a:lnTo>
                  <a:pt x="88" y="176"/>
                </a:lnTo>
                <a:lnTo>
                  <a:pt x="80" y="184"/>
                </a:lnTo>
                <a:lnTo>
                  <a:pt x="80" y="216"/>
                </a:lnTo>
                <a:lnTo>
                  <a:pt x="80" y="249"/>
                </a:lnTo>
                <a:lnTo>
                  <a:pt x="72" y="289"/>
                </a:lnTo>
                <a:lnTo>
                  <a:pt x="80" y="321"/>
                </a:lnTo>
                <a:lnTo>
                  <a:pt x="80" y="345"/>
                </a:lnTo>
                <a:lnTo>
                  <a:pt x="80" y="361"/>
                </a:lnTo>
                <a:lnTo>
                  <a:pt x="88" y="377"/>
                </a:lnTo>
                <a:lnTo>
                  <a:pt x="88" y="393"/>
                </a:lnTo>
                <a:lnTo>
                  <a:pt x="96" y="409"/>
                </a:lnTo>
                <a:lnTo>
                  <a:pt x="96" y="417"/>
                </a:lnTo>
                <a:lnTo>
                  <a:pt x="104" y="433"/>
                </a:lnTo>
                <a:lnTo>
                  <a:pt x="112" y="441"/>
                </a:lnTo>
                <a:lnTo>
                  <a:pt x="128" y="457"/>
                </a:lnTo>
                <a:lnTo>
                  <a:pt x="144" y="473"/>
                </a:lnTo>
                <a:lnTo>
                  <a:pt x="160" y="489"/>
                </a:lnTo>
                <a:lnTo>
                  <a:pt x="176" y="497"/>
                </a:lnTo>
                <a:lnTo>
                  <a:pt x="184" y="505"/>
                </a:lnTo>
                <a:lnTo>
                  <a:pt x="199" y="513"/>
                </a:lnTo>
                <a:lnTo>
                  <a:pt x="215" y="513"/>
                </a:lnTo>
                <a:lnTo>
                  <a:pt x="231" y="513"/>
                </a:lnTo>
                <a:lnTo>
                  <a:pt x="247" y="521"/>
                </a:lnTo>
                <a:lnTo>
                  <a:pt x="271" y="521"/>
                </a:lnTo>
                <a:lnTo>
                  <a:pt x="295" y="521"/>
                </a:lnTo>
                <a:lnTo>
                  <a:pt x="319" y="521"/>
                </a:lnTo>
                <a:lnTo>
                  <a:pt x="343" y="521"/>
                </a:lnTo>
                <a:lnTo>
                  <a:pt x="367" y="521"/>
                </a:lnTo>
                <a:lnTo>
                  <a:pt x="391" y="521"/>
                </a:lnTo>
                <a:lnTo>
                  <a:pt x="415" y="521"/>
                </a:lnTo>
                <a:lnTo>
                  <a:pt x="439" y="521"/>
                </a:lnTo>
                <a:lnTo>
                  <a:pt x="455" y="521"/>
                </a:lnTo>
                <a:lnTo>
                  <a:pt x="479" y="521"/>
                </a:lnTo>
                <a:lnTo>
                  <a:pt x="495" y="513"/>
                </a:lnTo>
                <a:lnTo>
                  <a:pt x="527" y="513"/>
                </a:lnTo>
                <a:lnTo>
                  <a:pt x="567" y="505"/>
                </a:lnTo>
                <a:lnTo>
                  <a:pt x="599" y="497"/>
                </a:lnTo>
                <a:lnTo>
                  <a:pt x="631" y="481"/>
                </a:lnTo>
                <a:lnTo>
                  <a:pt x="647" y="473"/>
                </a:lnTo>
                <a:lnTo>
                  <a:pt x="663" y="465"/>
                </a:lnTo>
                <a:lnTo>
                  <a:pt x="679" y="449"/>
                </a:lnTo>
                <a:lnTo>
                  <a:pt x="687" y="433"/>
                </a:lnTo>
                <a:lnTo>
                  <a:pt x="703" y="417"/>
                </a:lnTo>
                <a:lnTo>
                  <a:pt x="711" y="393"/>
                </a:lnTo>
                <a:lnTo>
                  <a:pt x="719" y="361"/>
                </a:lnTo>
                <a:lnTo>
                  <a:pt x="727" y="337"/>
                </a:lnTo>
                <a:lnTo>
                  <a:pt x="727" y="321"/>
                </a:lnTo>
                <a:lnTo>
                  <a:pt x="727" y="305"/>
                </a:lnTo>
                <a:lnTo>
                  <a:pt x="735" y="289"/>
                </a:lnTo>
                <a:lnTo>
                  <a:pt x="735" y="281"/>
                </a:lnTo>
                <a:lnTo>
                  <a:pt x="735" y="273"/>
                </a:lnTo>
                <a:lnTo>
                  <a:pt x="742" y="257"/>
                </a:lnTo>
                <a:lnTo>
                  <a:pt x="742" y="249"/>
                </a:lnTo>
                <a:lnTo>
                  <a:pt x="742" y="241"/>
                </a:lnTo>
                <a:lnTo>
                  <a:pt x="742" y="233"/>
                </a:lnTo>
                <a:lnTo>
                  <a:pt x="750" y="224"/>
                </a:lnTo>
                <a:lnTo>
                  <a:pt x="750" y="216"/>
                </a:lnTo>
                <a:lnTo>
                  <a:pt x="758" y="216"/>
                </a:lnTo>
                <a:lnTo>
                  <a:pt x="758" y="208"/>
                </a:lnTo>
                <a:lnTo>
                  <a:pt x="766" y="208"/>
                </a:lnTo>
                <a:lnTo>
                  <a:pt x="766" y="216"/>
                </a:lnTo>
                <a:lnTo>
                  <a:pt x="774" y="224"/>
                </a:lnTo>
                <a:lnTo>
                  <a:pt x="774" y="241"/>
                </a:lnTo>
                <a:lnTo>
                  <a:pt x="782" y="257"/>
                </a:lnTo>
                <a:lnTo>
                  <a:pt x="782" y="281"/>
                </a:lnTo>
                <a:lnTo>
                  <a:pt x="790" y="305"/>
                </a:lnTo>
                <a:lnTo>
                  <a:pt x="790" y="329"/>
                </a:lnTo>
                <a:lnTo>
                  <a:pt x="798" y="361"/>
                </a:lnTo>
                <a:lnTo>
                  <a:pt x="798" y="385"/>
                </a:lnTo>
                <a:lnTo>
                  <a:pt x="806" y="409"/>
                </a:lnTo>
                <a:lnTo>
                  <a:pt x="806" y="433"/>
                </a:lnTo>
                <a:lnTo>
                  <a:pt x="814" y="449"/>
                </a:lnTo>
                <a:lnTo>
                  <a:pt x="814" y="465"/>
                </a:lnTo>
                <a:lnTo>
                  <a:pt x="822" y="473"/>
                </a:lnTo>
                <a:lnTo>
                  <a:pt x="830" y="48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2" descr=""/>
          <p:cNvPicPr/>
          <p:nvPr/>
        </p:nvPicPr>
        <p:blipFill>
          <a:blip r:embed="rId2"/>
          <a:stretch/>
        </p:blipFill>
        <p:spPr>
          <a:xfrm>
            <a:off x="409680" y="4716360"/>
            <a:ext cx="84294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圆角矩形 59"/>
          <p:cNvSpPr/>
          <p:nvPr/>
        </p:nvSpPr>
        <p:spPr>
          <a:xfrm>
            <a:off x="306360" y="914400"/>
            <a:ext cx="2374920" cy="49212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324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0"/>
          <p:cNvSpPr/>
          <p:nvPr/>
        </p:nvSpPr>
        <p:spPr>
          <a:xfrm>
            <a:off x="835200" y="863640"/>
            <a:ext cx="18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图片 70" descr="咨询总结"/>
          <p:cNvPicPr/>
          <p:nvPr/>
        </p:nvPicPr>
        <p:blipFill>
          <a:blip r:embed="rId2"/>
          <a:stretch/>
        </p:blipFill>
        <p:spPr>
          <a:xfrm>
            <a:off x="263520" y="835200"/>
            <a:ext cx="663480" cy="66348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1"/>
          <p:cNvSpPr/>
          <p:nvPr/>
        </p:nvSpPr>
        <p:spPr>
          <a:xfrm>
            <a:off x="447840" y="1650960"/>
            <a:ext cx="82483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课文讲述了伟大的世纪老人冰心童年时代做肥皂水、吹肥皂泡、看肥皂泡、想象肥皂泡的过程。细腻真切的描写，让我们仿佛身临其境。作者吹肥皂泡，不仅吹出了快乐，吹出了情趣，还吹出了梦想，也让我们感受到童年生活的美好。学完这篇课文，同学们有什么感想呢？大家可以拿起笔来，用简单的话写一写。课下还可以多读几遍课文，感受字里行间的美好、欢乐与纯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圆角矩形 75"/>
          <p:cNvSpPr/>
          <p:nvPr/>
        </p:nvSpPr>
        <p:spPr>
          <a:xfrm>
            <a:off x="322200" y="919080"/>
            <a:ext cx="2386080" cy="49068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324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79" descr="结构索引"/>
          <p:cNvPicPr/>
          <p:nvPr/>
        </p:nvPicPr>
        <p:blipFill>
          <a:blip r:embed="rId2"/>
          <a:stretch/>
        </p:blipFill>
        <p:spPr>
          <a:xfrm>
            <a:off x="284040" y="873000"/>
            <a:ext cx="603360" cy="603360"/>
          </a:xfrm>
          <a:prstGeom prst="rect">
            <a:avLst/>
          </a:prstGeom>
          <a:ln w="0">
            <a:noFill/>
          </a:ln>
        </p:spPr>
      </p:pic>
      <p:sp>
        <p:nvSpPr>
          <p:cNvPr id="334" name="文本框 80"/>
          <p:cNvSpPr/>
          <p:nvPr/>
        </p:nvSpPr>
        <p:spPr>
          <a:xfrm>
            <a:off x="824040" y="871560"/>
            <a:ext cx="188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结构图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2"/>
          <p:cNvSpPr/>
          <p:nvPr/>
        </p:nvSpPr>
        <p:spPr>
          <a:xfrm>
            <a:off x="184320" y="1382760"/>
            <a:ext cx="8775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做肥皂水：放、加、和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吹肥皂泡：蘸、吹、提、扇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肥  肥皂泡的特点：圆满、自由、透明、美丽  纯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皂             挨着明月、渡过天河         欢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泡  美好的想象 飘过大海、飞过山巅         希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落到熟睡的婴儿头发上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感受：充满了快乐、骄傲和希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自选图形 4"/>
          <p:cNvSpPr/>
          <p:nvPr/>
        </p:nvSpPr>
        <p:spPr>
          <a:xfrm>
            <a:off x="733320" y="2190600"/>
            <a:ext cx="155520" cy="3052800"/>
          </a:xfrm>
          <a:custGeom>
            <a:avLst/>
            <a:gdLst>
              <a:gd name="textAreaLeft" fmla="*/ 99360 w 155520"/>
              <a:gd name="textAreaRight" fmla="*/ 155520 w 155520"/>
              <a:gd name="textAreaTop" fmla="*/ 18000 h 3052800"/>
              <a:gd name="textAreaBottom" fmla="*/ 3034800 h 305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5"/>
                  <a:pt x="10800" y="410"/>
                </a:cubicBezTo>
                <a:lnTo>
                  <a:pt x="10800" y="10722"/>
                </a:lnTo>
                <a:cubicBezTo>
                  <a:pt x="10800" y="10927"/>
                  <a:pt x="5400" y="11132"/>
                  <a:pt x="0" y="11132"/>
                </a:cubicBezTo>
                <a:cubicBezTo>
                  <a:pt x="5400" y="11132"/>
                  <a:pt x="10800" y="11337"/>
                  <a:pt x="10800" y="11542"/>
                </a:cubicBezTo>
                <a:lnTo>
                  <a:pt x="10800" y="21190"/>
                </a:lnTo>
                <a:cubicBezTo>
                  <a:pt x="10800" y="2139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自选图形 4"/>
          <p:cNvSpPr/>
          <p:nvPr/>
        </p:nvSpPr>
        <p:spPr>
          <a:xfrm flipH="1">
            <a:off x="7419240" y="2322360"/>
            <a:ext cx="230040" cy="2976840"/>
          </a:xfrm>
          <a:custGeom>
            <a:avLst/>
            <a:gdLst>
              <a:gd name="textAreaLeft" fmla="*/ 146520 w 230040"/>
              <a:gd name="textAreaRight" fmla="*/ 230040 w 230040"/>
              <a:gd name="textAreaTop" fmla="*/ 27000 h 2976840"/>
              <a:gd name="textAreaBottom" fmla="*/ 2949840 h 2976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6"/>
                  <a:pt x="10800" y="631"/>
                </a:cubicBezTo>
                <a:lnTo>
                  <a:pt x="10800" y="10501"/>
                </a:lnTo>
                <a:cubicBezTo>
                  <a:pt x="10800" y="10817"/>
                  <a:pt x="5400" y="11132"/>
                  <a:pt x="0" y="11132"/>
                </a:cubicBezTo>
                <a:cubicBezTo>
                  <a:pt x="5400" y="11132"/>
                  <a:pt x="10800" y="11448"/>
                  <a:pt x="10800" y="11763"/>
                </a:cubicBezTo>
                <a:lnTo>
                  <a:pt x="10800" y="20969"/>
                </a:lnTo>
                <a:cubicBezTo>
                  <a:pt x="10800" y="2128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左大括号 1073743889"/>
          <p:cNvSpPr/>
          <p:nvPr/>
        </p:nvSpPr>
        <p:spPr>
          <a:xfrm>
            <a:off x="2762280" y="3749760"/>
            <a:ext cx="156960" cy="1101600"/>
          </a:xfrm>
          <a:custGeom>
            <a:avLst/>
            <a:gdLst>
              <a:gd name="textAreaLeft" fmla="*/ 100440 w 156960"/>
              <a:gd name="textAreaRight" fmla="*/ 157320 w 156960"/>
              <a:gd name="textAreaTop" fmla="*/ 18000 h 1101600"/>
              <a:gd name="textAreaBottom" fmla="*/ 1083600 h 110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70"/>
                  <a:pt x="10800" y="1140"/>
                </a:cubicBezTo>
                <a:lnTo>
                  <a:pt x="10800" y="9660"/>
                </a:lnTo>
                <a:cubicBezTo>
                  <a:pt x="10800" y="10230"/>
                  <a:pt x="5400" y="10800"/>
                  <a:pt x="0" y="10800"/>
                </a:cubicBezTo>
                <a:cubicBezTo>
                  <a:pt x="5400" y="10800"/>
                  <a:pt x="10800" y="11370"/>
                  <a:pt x="10800" y="11940"/>
                </a:cubicBezTo>
                <a:lnTo>
                  <a:pt x="10800" y="20460"/>
                </a:lnTo>
                <a:cubicBezTo>
                  <a:pt x="10800" y="2103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圆角矩形 5"/>
          <p:cNvSpPr/>
          <p:nvPr/>
        </p:nvSpPr>
        <p:spPr>
          <a:xfrm>
            <a:off x="446040" y="936720"/>
            <a:ext cx="2679840" cy="65556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324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文本框 9"/>
          <p:cNvSpPr/>
          <p:nvPr/>
        </p:nvSpPr>
        <p:spPr>
          <a:xfrm>
            <a:off x="1174680" y="92556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当堂测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内容占位符 3" descr="练习(1)"/>
          <p:cNvPicPr/>
          <p:nvPr/>
        </p:nvPicPr>
        <p:blipFill>
          <a:blip r:embed="rId2"/>
          <a:stretch/>
        </p:blipFill>
        <p:spPr>
          <a:xfrm>
            <a:off x="446040" y="879480"/>
            <a:ext cx="657360" cy="657360"/>
          </a:xfrm>
          <a:prstGeom prst="rect">
            <a:avLst/>
          </a:prstGeom>
          <a:ln w="0">
            <a:noFill/>
          </a:ln>
        </p:spPr>
      </p:pic>
      <p:sp>
        <p:nvSpPr>
          <p:cNvPr id="342" name="文本框 99"/>
          <p:cNvSpPr/>
          <p:nvPr/>
        </p:nvSpPr>
        <p:spPr>
          <a:xfrm>
            <a:off x="311040" y="1841400"/>
            <a:ext cx="8667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文作者是现代著名的散文家、诗人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文中运用丰富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描写，记叙了作者小时候和小伙伴们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童年趣事，不仅表现了作者细心观察生活的特点，还表达了她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文本框 1"/>
          <p:cNvSpPr/>
          <p:nvPr/>
        </p:nvSpPr>
        <p:spPr>
          <a:xfrm>
            <a:off x="158760" y="1866960"/>
            <a:ext cx="86724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                              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冰心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       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动作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做肥皂水    吹肥皂泡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                             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对自己童年时代快乐生活的留恋之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直接连接符 2"/>
          <p:cNvSpPr/>
          <p:nvPr/>
        </p:nvSpPr>
        <p:spPr>
          <a:xfrm>
            <a:off x="6832440" y="3992400"/>
            <a:ext cx="17416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接连接符 3"/>
          <p:cNvSpPr/>
          <p:nvPr/>
        </p:nvSpPr>
        <p:spPr>
          <a:xfrm>
            <a:off x="446040" y="4422600"/>
            <a:ext cx="36259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12280" y="2028600"/>
            <a:ext cx="8067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朗读课文，用自己的话说说吹肥皂泡的过程。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先将用剩的碎肥皂放在一只小木碗里，加上点儿水，和弄和弄，使它融化。然后用一支竹笔套管，蘸上黏稠的肥皂水，慢慢地吹，吹成一个轻圆的、网球大小的泡儿，再轻轻地一提，泡泡便从管子上落了下来，软悠悠地向空中飘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圆角矩形 5"/>
          <p:cNvSpPr/>
          <p:nvPr/>
        </p:nvSpPr>
        <p:spPr>
          <a:xfrm>
            <a:off x="446040" y="1100160"/>
            <a:ext cx="2536920" cy="655560"/>
          </a:xfrm>
          <a:prstGeom prst="roundRect">
            <a:avLst>
              <a:gd name="adj" fmla="val 16667"/>
            </a:avLst>
          </a:prstGeom>
          <a:solidFill>
            <a:srgbClr val="a9d18e"/>
          </a:solidFill>
          <a:ln w="324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文本框 9"/>
          <p:cNvSpPr/>
          <p:nvPr/>
        </p:nvSpPr>
        <p:spPr>
          <a:xfrm>
            <a:off x="1022400" y="1144440"/>
            <a:ext cx="19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后习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内容占位符 3" descr="练习(1)"/>
          <p:cNvPicPr/>
          <p:nvPr/>
        </p:nvPicPr>
        <p:blipFill>
          <a:blip r:embed="rId2"/>
          <a:stretch/>
        </p:blipFill>
        <p:spPr>
          <a:xfrm>
            <a:off x="446040" y="1104840"/>
            <a:ext cx="6573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20840" y="1080720"/>
            <a:ext cx="8364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课文中有一些句子不容易读懂，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色的浮光，在那轻清透明的球面上乱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课文中找一找，说说这些句子的意思。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五色的浮光，在那轻清透明的球面上乱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“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轻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”“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清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”“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透明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”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写出了肥皂泡表面的特点，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“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五色的浮光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”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在本就这样美丽的球面上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“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乱转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”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，不是更加动感十足、绚丽多彩，惹人喜爱了吗？这句话突出了肥皂泡的美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40920" y="1163520"/>
            <a:ext cx="830268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若是扇得好，一个大球会分裂成两三个玲珑娇软的小球，四散分飞。有时吹得太大了，扇得太急了，这脆薄的球，会扯成长圆的形式，颤巍巍的，光影零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泡泡吹得大小适中又扇得好时，一个大球就能够分成几个小球。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“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玲珑娇软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”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表现了泡泡的小巧、柔韧，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“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四散分飞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”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的情景显然比一个泡泡飘飞更加美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90240" y="1568520"/>
            <a:ext cx="81183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而吹得太大、扇得太急时，泡泡就会被扯长，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“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颤巍巍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”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写出了泡泡的动态，泡泡看上去似乎就要破碎了，真让人担心啊！从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“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光影零乱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”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中，又可以体会到颤动的泡泡制造出的一种美丽的梦幻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69360" y="988920"/>
            <a:ext cx="83487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句子，体会丰富的想象，再想一想：这些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轻清脆丽的小球，还有哪些美丽的去处呢 ？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借着扇子的轻风，把她们一个个送上天去送过海去。 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 到天上，轻轻地挨着明月，渡过天河跟着夕阳西去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轻悠悠地飘过大海，飞越山巅，又低低地落下，落到一个熟睡中的婴儿的头发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17320" y="107604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示例一：大大小小的泡泡，互相轻轻碰撞着，飘起来，穿过碧绿的草地，越过皑皑的雪峰，升上蔚蓝的天空，跟着太空飞船，飞向了浩瀚无垠的宇宙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 </a:t>
            </a:r>
            <a:r>
              <a:rPr b="0" lang="zh-CN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示例二：浮光乱转的泡泡，笑着，叫着，飘向了医院。它们穿过窗户，来到生病的小朋友床边，落在他们的手上，为小朋友们带去了欢乐，带去了健康的祝福</a:t>
            </a: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方正楷体简体"/>
                <a:ea typeface="方正楷体简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38"/>
          <p:cNvGrpSpPr/>
          <p:nvPr/>
        </p:nvGrpSpPr>
        <p:grpSpPr>
          <a:xfrm>
            <a:off x="3309840" y="1444680"/>
            <a:ext cx="2541600" cy="2538360"/>
            <a:chOff x="3309840" y="1444680"/>
            <a:chExt cx="2541600" cy="2538360"/>
          </a:xfrm>
        </p:grpSpPr>
        <p:sp>
          <p:nvSpPr>
            <p:cNvPr id="79" name="直接连接符 3"/>
            <p:cNvSpPr/>
            <p:nvPr/>
          </p:nvSpPr>
          <p:spPr>
            <a:xfrm>
              <a:off x="3331800" y="2711520"/>
              <a:ext cx="2519640" cy="14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接连接符 4"/>
            <p:cNvSpPr/>
            <p:nvPr/>
          </p:nvSpPr>
          <p:spPr>
            <a:xfrm flipH="1">
              <a:off x="4557600" y="1444680"/>
              <a:ext cx="1440" cy="25196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矩形 1"/>
            <p:cNvSpPr/>
            <p:nvPr/>
          </p:nvSpPr>
          <p:spPr>
            <a:xfrm>
              <a:off x="3309840" y="1463400"/>
              <a:ext cx="2519640" cy="2519640"/>
            </a:xfrm>
            <a:prstGeom prst="rect">
              <a:avLst/>
            </a:prstGeom>
            <a:noFill/>
            <a:ln w="25560">
              <a:solidFill>
                <a:srgbClr val="2e75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Freeform 32"/>
          <p:cNvSpPr/>
          <p:nvPr/>
        </p:nvSpPr>
        <p:spPr>
          <a:xfrm>
            <a:off x="4637160" y="1521000"/>
            <a:ext cx="336600" cy="304560"/>
          </a:xfrm>
          <a:custGeom>
            <a:avLst/>
            <a:gdLst/>
            <a:ahLst/>
            <a:rect l="l" t="t" r="r" b="b"/>
            <a:pathLst>
              <a:path w="530" h="479">
                <a:moveTo>
                  <a:pt x="0" y="0"/>
                </a:moveTo>
                <a:lnTo>
                  <a:pt x="38" y="0"/>
                </a:lnTo>
                <a:lnTo>
                  <a:pt x="76" y="0"/>
                </a:lnTo>
                <a:lnTo>
                  <a:pt x="126" y="13"/>
                </a:lnTo>
                <a:lnTo>
                  <a:pt x="164" y="13"/>
                </a:lnTo>
                <a:lnTo>
                  <a:pt x="202" y="26"/>
                </a:lnTo>
                <a:lnTo>
                  <a:pt x="253" y="38"/>
                </a:lnTo>
                <a:lnTo>
                  <a:pt x="290" y="63"/>
                </a:lnTo>
                <a:lnTo>
                  <a:pt x="328" y="76"/>
                </a:lnTo>
                <a:lnTo>
                  <a:pt x="366" y="101"/>
                </a:lnTo>
                <a:lnTo>
                  <a:pt x="404" y="126"/>
                </a:lnTo>
                <a:lnTo>
                  <a:pt x="429" y="151"/>
                </a:lnTo>
                <a:lnTo>
                  <a:pt x="467" y="177"/>
                </a:lnTo>
                <a:lnTo>
                  <a:pt x="479" y="189"/>
                </a:lnTo>
                <a:lnTo>
                  <a:pt x="505" y="214"/>
                </a:lnTo>
                <a:lnTo>
                  <a:pt x="517" y="240"/>
                </a:lnTo>
                <a:lnTo>
                  <a:pt x="517" y="265"/>
                </a:lnTo>
                <a:lnTo>
                  <a:pt x="530" y="315"/>
                </a:lnTo>
                <a:lnTo>
                  <a:pt x="530" y="365"/>
                </a:lnTo>
                <a:lnTo>
                  <a:pt x="517" y="416"/>
                </a:lnTo>
                <a:lnTo>
                  <a:pt x="492" y="453"/>
                </a:lnTo>
                <a:lnTo>
                  <a:pt x="479" y="466"/>
                </a:lnTo>
                <a:lnTo>
                  <a:pt x="467" y="479"/>
                </a:lnTo>
                <a:lnTo>
                  <a:pt x="442" y="479"/>
                </a:lnTo>
                <a:lnTo>
                  <a:pt x="416" y="479"/>
                </a:lnTo>
                <a:lnTo>
                  <a:pt x="379" y="453"/>
                </a:lnTo>
                <a:lnTo>
                  <a:pt x="341" y="428"/>
                </a:lnTo>
                <a:lnTo>
                  <a:pt x="303" y="403"/>
                </a:lnTo>
                <a:lnTo>
                  <a:pt x="265" y="365"/>
                </a:lnTo>
                <a:lnTo>
                  <a:pt x="215" y="315"/>
                </a:lnTo>
                <a:lnTo>
                  <a:pt x="177" y="265"/>
                </a:lnTo>
                <a:lnTo>
                  <a:pt x="139" y="227"/>
                </a:lnTo>
                <a:lnTo>
                  <a:pt x="101" y="177"/>
                </a:lnTo>
                <a:lnTo>
                  <a:pt x="63" y="139"/>
                </a:lnTo>
                <a:lnTo>
                  <a:pt x="38" y="88"/>
                </a:lnTo>
                <a:lnTo>
                  <a:pt x="13" y="38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3"/>
          <p:cNvSpPr/>
          <p:nvPr/>
        </p:nvSpPr>
        <p:spPr>
          <a:xfrm>
            <a:off x="4046400" y="1752480"/>
            <a:ext cx="1432080" cy="271440"/>
          </a:xfrm>
          <a:custGeom>
            <a:avLst/>
            <a:gdLst/>
            <a:ahLst/>
            <a:rect l="l" t="t" r="r" b="b"/>
            <a:pathLst>
              <a:path w="2256" h="428">
                <a:moveTo>
                  <a:pt x="1109" y="126"/>
                </a:moveTo>
                <a:lnTo>
                  <a:pt x="1185" y="114"/>
                </a:lnTo>
                <a:lnTo>
                  <a:pt x="1260" y="101"/>
                </a:lnTo>
                <a:lnTo>
                  <a:pt x="1336" y="88"/>
                </a:lnTo>
                <a:lnTo>
                  <a:pt x="1399" y="76"/>
                </a:lnTo>
                <a:lnTo>
                  <a:pt x="1462" y="63"/>
                </a:lnTo>
                <a:lnTo>
                  <a:pt x="1525" y="51"/>
                </a:lnTo>
                <a:lnTo>
                  <a:pt x="1588" y="38"/>
                </a:lnTo>
                <a:lnTo>
                  <a:pt x="1638" y="38"/>
                </a:lnTo>
                <a:lnTo>
                  <a:pt x="1689" y="26"/>
                </a:lnTo>
                <a:lnTo>
                  <a:pt x="1726" y="26"/>
                </a:lnTo>
                <a:lnTo>
                  <a:pt x="1764" y="13"/>
                </a:lnTo>
                <a:lnTo>
                  <a:pt x="1802" y="13"/>
                </a:lnTo>
                <a:lnTo>
                  <a:pt x="1840" y="13"/>
                </a:lnTo>
                <a:lnTo>
                  <a:pt x="1865" y="0"/>
                </a:lnTo>
                <a:lnTo>
                  <a:pt x="1903" y="0"/>
                </a:lnTo>
                <a:lnTo>
                  <a:pt x="1916" y="0"/>
                </a:lnTo>
                <a:lnTo>
                  <a:pt x="1953" y="0"/>
                </a:lnTo>
                <a:lnTo>
                  <a:pt x="2004" y="0"/>
                </a:lnTo>
                <a:lnTo>
                  <a:pt x="2029" y="13"/>
                </a:lnTo>
                <a:lnTo>
                  <a:pt x="2067" y="13"/>
                </a:lnTo>
                <a:lnTo>
                  <a:pt x="2092" y="13"/>
                </a:lnTo>
                <a:lnTo>
                  <a:pt x="2117" y="26"/>
                </a:lnTo>
                <a:lnTo>
                  <a:pt x="2142" y="38"/>
                </a:lnTo>
                <a:lnTo>
                  <a:pt x="2168" y="38"/>
                </a:lnTo>
                <a:lnTo>
                  <a:pt x="2193" y="51"/>
                </a:lnTo>
                <a:lnTo>
                  <a:pt x="2205" y="63"/>
                </a:lnTo>
                <a:lnTo>
                  <a:pt x="2218" y="63"/>
                </a:lnTo>
                <a:lnTo>
                  <a:pt x="2231" y="76"/>
                </a:lnTo>
                <a:lnTo>
                  <a:pt x="2243" y="88"/>
                </a:lnTo>
                <a:lnTo>
                  <a:pt x="2256" y="88"/>
                </a:lnTo>
                <a:lnTo>
                  <a:pt x="2256" y="101"/>
                </a:lnTo>
                <a:lnTo>
                  <a:pt x="2256" y="114"/>
                </a:lnTo>
                <a:lnTo>
                  <a:pt x="2243" y="114"/>
                </a:lnTo>
                <a:lnTo>
                  <a:pt x="2218" y="126"/>
                </a:lnTo>
                <a:lnTo>
                  <a:pt x="2205" y="139"/>
                </a:lnTo>
                <a:lnTo>
                  <a:pt x="2168" y="151"/>
                </a:lnTo>
                <a:lnTo>
                  <a:pt x="2130" y="164"/>
                </a:lnTo>
                <a:lnTo>
                  <a:pt x="2079" y="177"/>
                </a:lnTo>
                <a:lnTo>
                  <a:pt x="2029" y="189"/>
                </a:lnTo>
                <a:lnTo>
                  <a:pt x="2016" y="202"/>
                </a:lnTo>
                <a:lnTo>
                  <a:pt x="1991" y="202"/>
                </a:lnTo>
                <a:lnTo>
                  <a:pt x="1979" y="202"/>
                </a:lnTo>
                <a:lnTo>
                  <a:pt x="1953" y="202"/>
                </a:lnTo>
                <a:lnTo>
                  <a:pt x="1916" y="214"/>
                </a:lnTo>
                <a:lnTo>
                  <a:pt x="1890" y="214"/>
                </a:lnTo>
                <a:lnTo>
                  <a:pt x="1853" y="227"/>
                </a:lnTo>
                <a:lnTo>
                  <a:pt x="1815" y="227"/>
                </a:lnTo>
                <a:lnTo>
                  <a:pt x="1777" y="240"/>
                </a:lnTo>
                <a:lnTo>
                  <a:pt x="1739" y="240"/>
                </a:lnTo>
                <a:lnTo>
                  <a:pt x="1689" y="252"/>
                </a:lnTo>
                <a:lnTo>
                  <a:pt x="1638" y="252"/>
                </a:lnTo>
                <a:lnTo>
                  <a:pt x="1588" y="265"/>
                </a:lnTo>
                <a:lnTo>
                  <a:pt x="1525" y="265"/>
                </a:lnTo>
                <a:lnTo>
                  <a:pt x="1474" y="277"/>
                </a:lnTo>
                <a:lnTo>
                  <a:pt x="1411" y="277"/>
                </a:lnTo>
                <a:lnTo>
                  <a:pt x="1348" y="290"/>
                </a:lnTo>
                <a:lnTo>
                  <a:pt x="1273" y="290"/>
                </a:lnTo>
                <a:lnTo>
                  <a:pt x="1210" y="302"/>
                </a:lnTo>
                <a:lnTo>
                  <a:pt x="1134" y="315"/>
                </a:lnTo>
                <a:lnTo>
                  <a:pt x="1058" y="315"/>
                </a:lnTo>
                <a:lnTo>
                  <a:pt x="970" y="328"/>
                </a:lnTo>
                <a:lnTo>
                  <a:pt x="895" y="340"/>
                </a:lnTo>
                <a:lnTo>
                  <a:pt x="806" y="340"/>
                </a:lnTo>
                <a:lnTo>
                  <a:pt x="718" y="353"/>
                </a:lnTo>
                <a:lnTo>
                  <a:pt x="630" y="365"/>
                </a:lnTo>
                <a:lnTo>
                  <a:pt x="529" y="378"/>
                </a:lnTo>
                <a:lnTo>
                  <a:pt x="428" y="378"/>
                </a:lnTo>
                <a:lnTo>
                  <a:pt x="327" y="391"/>
                </a:lnTo>
                <a:lnTo>
                  <a:pt x="227" y="403"/>
                </a:lnTo>
                <a:lnTo>
                  <a:pt x="113" y="416"/>
                </a:lnTo>
                <a:lnTo>
                  <a:pt x="0" y="428"/>
                </a:lnTo>
                <a:lnTo>
                  <a:pt x="0" y="302"/>
                </a:lnTo>
                <a:lnTo>
                  <a:pt x="50" y="302"/>
                </a:lnTo>
                <a:lnTo>
                  <a:pt x="101" y="302"/>
                </a:lnTo>
                <a:lnTo>
                  <a:pt x="151" y="290"/>
                </a:lnTo>
                <a:lnTo>
                  <a:pt x="189" y="290"/>
                </a:lnTo>
                <a:lnTo>
                  <a:pt x="227" y="290"/>
                </a:lnTo>
                <a:lnTo>
                  <a:pt x="264" y="290"/>
                </a:lnTo>
                <a:lnTo>
                  <a:pt x="302" y="277"/>
                </a:lnTo>
                <a:lnTo>
                  <a:pt x="327" y="277"/>
                </a:lnTo>
                <a:lnTo>
                  <a:pt x="353" y="277"/>
                </a:lnTo>
                <a:lnTo>
                  <a:pt x="378" y="265"/>
                </a:lnTo>
                <a:lnTo>
                  <a:pt x="403" y="265"/>
                </a:lnTo>
                <a:lnTo>
                  <a:pt x="428" y="252"/>
                </a:lnTo>
                <a:lnTo>
                  <a:pt x="466" y="252"/>
                </a:lnTo>
                <a:lnTo>
                  <a:pt x="504" y="252"/>
                </a:lnTo>
                <a:lnTo>
                  <a:pt x="542" y="240"/>
                </a:lnTo>
                <a:lnTo>
                  <a:pt x="592" y="227"/>
                </a:lnTo>
                <a:lnTo>
                  <a:pt x="643" y="214"/>
                </a:lnTo>
                <a:lnTo>
                  <a:pt x="693" y="202"/>
                </a:lnTo>
                <a:lnTo>
                  <a:pt x="756" y="202"/>
                </a:lnTo>
                <a:lnTo>
                  <a:pt x="819" y="189"/>
                </a:lnTo>
                <a:lnTo>
                  <a:pt x="882" y="177"/>
                </a:lnTo>
                <a:lnTo>
                  <a:pt x="958" y="151"/>
                </a:lnTo>
                <a:lnTo>
                  <a:pt x="1033" y="139"/>
                </a:lnTo>
                <a:lnTo>
                  <a:pt x="1109" y="12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reeform 34"/>
          <p:cNvSpPr/>
          <p:nvPr/>
        </p:nvSpPr>
        <p:spPr>
          <a:xfrm>
            <a:off x="5054760" y="2160720"/>
            <a:ext cx="647640" cy="1238040"/>
          </a:xfrm>
          <a:custGeom>
            <a:avLst/>
            <a:gdLst/>
            <a:ahLst/>
            <a:rect l="l" t="t" r="r" b="b"/>
            <a:pathLst>
              <a:path w="1021" h="1951">
                <a:moveTo>
                  <a:pt x="491" y="1674"/>
                </a:moveTo>
                <a:lnTo>
                  <a:pt x="454" y="1649"/>
                </a:lnTo>
                <a:lnTo>
                  <a:pt x="403" y="1624"/>
                </a:lnTo>
                <a:lnTo>
                  <a:pt x="378" y="1611"/>
                </a:lnTo>
                <a:lnTo>
                  <a:pt x="340" y="1586"/>
                </a:lnTo>
                <a:lnTo>
                  <a:pt x="328" y="1574"/>
                </a:lnTo>
                <a:lnTo>
                  <a:pt x="315" y="1561"/>
                </a:lnTo>
                <a:lnTo>
                  <a:pt x="302" y="1548"/>
                </a:lnTo>
                <a:lnTo>
                  <a:pt x="302" y="1536"/>
                </a:lnTo>
                <a:lnTo>
                  <a:pt x="315" y="1536"/>
                </a:lnTo>
                <a:lnTo>
                  <a:pt x="328" y="1523"/>
                </a:lnTo>
                <a:lnTo>
                  <a:pt x="353" y="1523"/>
                </a:lnTo>
                <a:lnTo>
                  <a:pt x="391" y="1523"/>
                </a:lnTo>
                <a:lnTo>
                  <a:pt x="416" y="1523"/>
                </a:lnTo>
                <a:lnTo>
                  <a:pt x="466" y="1536"/>
                </a:lnTo>
                <a:lnTo>
                  <a:pt x="517" y="1536"/>
                </a:lnTo>
                <a:lnTo>
                  <a:pt x="554" y="1536"/>
                </a:lnTo>
                <a:lnTo>
                  <a:pt x="605" y="1548"/>
                </a:lnTo>
                <a:lnTo>
                  <a:pt x="643" y="1548"/>
                </a:lnTo>
                <a:lnTo>
                  <a:pt x="668" y="1548"/>
                </a:lnTo>
                <a:lnTo>
                  <a:pt x="693" y="1536"/>
                </a:lnTo>
                <a:lnTo>
                  <a:pt x="706" y="1536"/>
                </a:lnTo>
                <a:lnTo>
                  <a:pt x="718" y="1523"/>
                </a:lnTo>
                <a:lnTo>
                  <a:pt x="731" y="1523"/>
                </a:lnTo>
                <a:lnTo>
                  <a:pt x="731" y="1498"/>
                </a:lnTo>
                <a:lnTo>
                  <a:pt x="743" y="1473"/>
                </a:lnTo>
                <a:lnTo>
                  <a:pt x="743" y="1460"/>
                </a:lnTo>
                <a:lnTo>
                  <a:pt x="743" y="1423"/>
                </a:lnTo>
                <a:lnTo>
                  <a:pt x="731" y="1410"/>
                </a:lnTo>
                <a:lnTo>
                  <a:pt x="731" y="1397"/>
                </a:lnTo>
                <a:lnTo>
                  <a:pt x="718" y="1372"/>
                </a:lnTo>
                <a:lnTo>
                  <a:pt x="706" y="1360"/>
                </a:lnTo>
                <a:lnTo>
                  <a:pt x="693" y="1322"/>
                </a:lnTo>
                <a:lnTo>
                  <a:pt x="680" y="1297"/>
                </a:lnTo>
                <a:lnTo>
                  <a:pt x="655" y="1272"/>
                </a:lnTo>
                <a:lnTo>
                  <a:pt x="643" y="1246"/>
                </a:lnTo>
                <a:lnTo>
                  <a:pt x="592" y="1171"/>
                </a:lnTo>
                <a:lnTo>
                  <a:pt x="529" y="1121"/>
                </a:lnTo>
                <a:lnTo>
                  <a:pt x="479" y="1058"/>
                </a:lnTo>
                <a:lnTo>
                  <a:pt x="416" y="1007"/>
                </a:lnTo>
                <a:lnTo>
                  <a:pt x="391" y="982"/>
                </a:lnTo>
                <a:lnTo>
                  <a:pt x="365" y="957"/>
                </a:lnTo>
                <a:lnTo>
                  <a:pt x="340" y="944"/>
                </a:lnTo>
                <a:lnTo>
                  <a:pt x="328" y="919"/>
                </a:lnTo>
                <a:lnTo>
                  <a:pt x="315" y="907"/>
                </a:lnTo>
                <a:lnTo>
                  <a:pt x="302" y="894"/>
                </a:lnTo>
                <a:lnTo>
                  <a:pt x="290" y="881"/>
                </a:lnTo>
                <a:lnTo>
                  <a:pt x="290" y="869"/>
                </a:lnTo>
                <a:lnTo>
                  <a:pt x="302" y="844"/>
                </a:lnTo>
                <a:lnTo>
                  <a:pt x="315" y="818"/>
                </a:lnTo>
                <a:lnTo>
                  <a:pt x="328" y="781"/>
                </a:lnTo>
                <a:lnTo>
                  <a:pt x="353" y="743"/>
                </a:lnTo>
                <a:lnTo>
                  <a:pt x="378" y="680"/>
                </a:lnTo>
                <a:lnTo>
                  <a:pt x="416" y="630"/>
                </a:lnTo>
                <a:lnTo>
                  <a:pt x="454" y="567"/>
                </a:lnTo>
                <a:lnTo>
                  <a:pt x="479" y="491"/>
                </a:lnTo>
                <a:lnTo>
                  <a:pt x="517" y="441"/>
                </a:lnTo>
                <a:lnTo>
                  <a:pt x="542" y="390"/>
                </a:lnTo>
                <a:lnTo>
                  <a:pt x="554" y="340"/>
                </a:lnTo>
                <a:lnTo>
                  <a:pt x="567" y="315"/>
                </a:lnTo>
                <a:lnTo>
                  <a:pt x="580" y="290"/>
                </a:lnTo>
                <a:lnTo>
                  <a:pt x="580" y="265"/>
                </a:lnTo>
                <a:lnTo>
                  <a:pt x="567" y="252"/>
                </a:lnTo>
                <a:lnTo>
                  <a:pt x="554" y="252"/>
                </a:lnTo>
                <a:lnTo>
                  <a:pt x="542" y="252"/>
                </a:lnTo>
                <a:lnTo>
                  <a:pt x="529" y="252"/>
                </a:lnTo>
                <a:lnTo>
                  <a:pt x="504" y="252"/>
                </a:lnTo>
                <a:lnTo>
                  <a:pt x="479" y="252"/>
                </a:lnTo>
                <a:lnTo>
                  <a:pt x="454" y="265"/>
                </a:lnTo>
                <a:lnTo>
                  <a:pt x="416" y="265"/>
                </a:lnTo>
                <a:lnTo>
                  <a:pt x="378" y="265"/>
                </a:lnTo>
                <a:lnTo>
                  <a:pt x="328" y="277"/>
                </a:lnTo>
                <a:lnTo>
                  <a:pt x="290" y="277"/>
                </a:lnTo>
                <a:lnTo>
                  <a:pt x="239" y="290"/>
                </a:lnTo>
                <a:lnTo>
                  <a:pt x="176" y="302"/>
                </a:lnTo>
                <a:lnTo>
                  <a:pt x="126" y="302"/>
                </a:lnTo>
                <a:lnTo>
                  <a:pt x="63" y="315"/>
                </a:lnTo>
                <a:lnTo>
                  <a:pt x="0" y="328"/>
                </a:lnTo>
                <a:lnTo>
                  <a:pt x="0" y="189"/>
                </a:lnTo>
                <a:lnTo>
                  <a:pt x="63" y="189"/>
                </a:lnTo>
                <a:lnTo>
                  <a:pt x="113" y="189"/>
                </a:lnTo>
                <a:lnTo>
                  <a:pt x="176" y="177"/>
                </a:lnTo>
                <a:lnTo>
                  <a:pt x="227" y="177"/>
                </a:lnTo>
                <a:lnTo>
                  <a:pt x="277" y="164"/>
                </a:lnTo>
                <a:lnTo>
                  <a:pt x="328" y="151"/>
                </a:lnTo>
                <a:lnTo>
                  <a:pt x="378" y="151"/>
                </a:lnTo>
                <a:lnTo>
                  <a:pt x="416" y="139"/>
                </a:lnTo>
                <a:lnTo>
                  <a:pt x="454" y="126"/>
                </a:lnTo>
                <a:lnTo>
                  <a:pt x="491" y="101"/>
                </a:lnTo>
                <a:lnTo>
                  <a:pt x="529" y="88"/>
                </a:lnTo>
                <a:lnTo>
                  <a:pt x="554" y="76"/>
                </a:lnTo>
                <a:lnTo>
                  <a:pt x="580" y="63"/>
                </a:lnTo>
                <a:lnTo>
                  <a:pt x="605" y="51"/>
                </a:lnTo>
                <a:lnTo>
                  <a:pt x="617" y="51"/>
                </a:lnTo>
                <a:lnTo>
                  <a:pt x="630" y="38"/>
                </a:lnTo>
                <a:lnTo>
                  <a:pt x="655" y="13"/>
                </a:lnTo>
                <a:lnTo>
                  <a:pt x="668" y="0"/>
                </a:lnTo>
                <a:lnTo>
                  <a:pt x="706" y="0"/>
                </a:lnTo>
                <a:lnTo>
                  <a:pt x="731" y="13"/>
                </a:lnTo>
                <a:lnTo>
                  <a:pt x="769" y="25"/>
                </a:lnTo>
                <a:lnTo>
                  <a:pt x="807" y="51"/>
                </a:lnTo>
                <a:lnTo>
                  <a:pt x="857" y="76"/>
                </a:lnTo>
                <a:lnTo>
                  <a:pt x="907" y="114"/>
                </a:lnTo>
                <a:lnTo>
                  <a:pt x="933" y="139"/>
                </a:lnTo>
                <a:lnTo>
                  <a:pt x="958" y="164"/>
                </a:lnTo>
                <a:lnTo>
                  <a:pt x="983" y="177"/>
                </a:lnTo>
                <a:lnTo>
                  <a:pt x="996" y="189"/>
                </a:lnTo>
                <a:lnTo>
                  <a:pt x="1008" y="214"/>
                </a:lnTo>
                <a:lnTo>
                  <a:pt x="1021" y="227"/>
                </a:lnTo>
                <a:lnTo>
                  <a:pt x="1021" y="239"/>
                </a:lnTo>
                <a:lnTo>
                  <a:pt x="1021" y="252"/>
                </a:lnTo>
                <a:lnTo>
                  <a:pt x="1021" y="265"/>
                </a:lnTo>
                <a:lnTo>
                  <a:pt x="1021" y="277"/>
                </a:lnTo>
                <a:lnTo>
                  <a:pt x="1008" y="277"/>
                </a:lnTo>
                <a:lnTo>
                  <a:pt x="1008" y="290"/>
                </a:lnTo>
                <a:lnTo>
                  <a:pt x="983" y="290"/>
                </a:lnTo>
                <a:lnTo>
                  <a:pt x="970" y="302"/>
                </a:lnTo>
                <a:lnTo>
                  <a:pt x="945" y="302"/>
                </a:lnTo>
                <a:lnTo>
                  <a:pt x="920" y="302"/>
                </a:lnTo>
                <a:lnTo>
                  <a:pt x="895" y="315"/>
                </a:lnTo>
                <a:lnTo>
                  <a:pt x="870" y="328"/>
                </a:lnTo>
                <a:lnTo>
                  <a:pt x="832" y="353"/>
                </a:lnTo>
                <a:lnTo>
                  <a:pt x="794" y="378"/>
                </a:lnTo>
                <a:lnTo>
                  <a:pt x="756" y="416"/>
                </a:lnTo>
                <a:lnTo>
                  <a:pt x="718" y="466"/>
                </a:lnTo>
                <a:lnTo>
                  <a:pt x="668" y="516"/>
                </a:lnTo>
                <a:lnTo>
                  <a:pt x="617" y="579"/>
                </a:lnTo>
                <a:lnTo>
                  <a:pt x="567" y="655"/>
                </a:lnTo>
                <a:lnTo>
                  <a:pt x="529" y="705"/>
                </a:lnTo>
                <a:lnTo>
                  <a:pt x="504" y="756"/>
                </a:lnTo>
                <a:lnTo>
                  <a:pt x="479" y="793"/>
                </a:lnTo>
                <a:lnTo>
                  <a:pt x="454" y="831"/>
                </a:lnTo>
                <a:lnTo>
                  <a:pt x="454" y="856"/>
                </a:lnTo>
                <a:lnTo>
                  <a:pt x="441" y="869"/>
                </a:lnTo>
                <a:lnTo>
                  <a:pt x="454" y="869"/>
                </a:lnTo>
                <a:lnTo>
                  <a:pt x="466" y="881"/>
                </a:lnTo>
                <a:lnTo>
                  <a:pt x="479" y="894"/>
                </a:lnTo>
                <a:lnTo>
                  <a:pt x="491" y="907"/>
                </a:lnTo>
                <a:lnTo>
                  <a:pt x="517" y="919"/>
                </a:lnTo>
                <a:lnTo>
                  <a:pt x="554" y="944"/>
                </a:lnTo>
                <a:lnTo>
                  <a:pt x="592" y="969"/>
                </a:lnTo>
                <a:lnTo>
                  <a:pt x="630" y="995"/>
                </a:lnTo>
                <a:lnTo>
                  <a:pt x="680" y="1032"/>
                </a:lnTo>
                <a:lnTo>
                  <a:pt x="731" y="1070"/>
                </a:lnTo>
                <a:lnTo>
                  <a:pt x="781" y="1095"/>
                </a:lnTo>
                <a:lnTo>
                  <a:pt x="819" y="1133"/>
                </a:lnTo>
                <a:lnTo>
                  <a:pt x="857" y="1171"/>
                </a:lnTo>
                <a:lnTo>
                  <a:pt x="882" y="1209"/>
                </a:lnTo>
                <a:lnTo>
                  <a:pt x="920" y="1246"/>
                </a:lnTo>
                <a:lnTo>
                  <a:pt x="933" y="1284"/>
                </a:lnTo>
                <a:lnTo>
                  <a:pt x="958" y="1322"/>
                </a:lnTo>
                <a:lnTo>
                  <a:pt x="970" y="1360"/>
                </a:lnTo>
                <a:lnTo>
                  <a:pt x="983" y="1397"/>
                </a:lnTo>
                <a:lnTo>
                  <a:pt x="996" y="1435"/>
                </a:lnTo>
                <a:lnTo>
                  <a:pt x="1008" y="1460"/>
                </a:lnTo>
                <a:lnTo>
                  <a:pt x="1008" y="1498"/>
                </a:lnTo>
                <a:lnTo>
                  <a:pt x="1021" y="1536"/>
                </a:lnTo>
                <a:lnTo>
                  <a:pt x="1021" y="1574"/>
                </a:lnTo>
                <a:lnTo>
                  <a:pt x="1008" y="1611"/>
                </a:lnTo>
                <a:lnTo>
                  <a:pt x="996" y="1687"/>
                </a:lnTo>
                <a:lnTo>
                  <a:pt x="983" y="1750"/>
                </a:lnTo>
                <a:lnTo>
                  <a:pt x="945" y="1800"/>
                </a:lnTo>
                <a:lnTo>
                  <a:pt x="907" y="1851"/>
                </a:lnTo>
                <a:lnTo>
                  <a:pt x="895" y="1876"/>
                </a:lnTo>
                <a:lnTo>
                  <a:pt x="870" y="1901"/>
                </a:lnTo>
                <a:lnTo>
                  <a:pt x="857" y="1913"/>
                </a:lnTo>
                <a:lnTo>
                  <a:pt x="832" y="1926"/>
                </a:lnTo>
                <a:lnTo>
                  <a:pt x="819" y="1939"/>
                </a:lnTo>
                <a:lnTo>
                  <a:pt x="807" y="1939"/>
                </a:lnTo>
                <a:lnTo>
                  <a:pt x="794" y="1951"/>
                </a:lnTo>
                <a:lnTo>
                  <a:pt x="781" y="1951"/>
                </a:lnTo>
                <a:lnTo>
                  <a:pt x="769" y="1951"/>
                </a:lnTo>
                <a:lnTo>
                  <a:pt x="769" y="1939"/>
                </a:lnTo>
                <a:lnTo>
                  <a:pt x="756" y="1939"/>
                </a:lnTo>
                <a:lnTo>
                  <a:pt x="756" y="1926"/>
                </a:lnTo>
                <a:lnTo>
                  <a:pt x="743" y="1913"/>
                </a:lnTo>
                <a:lnTo>
                  <a:pt x="731" y="1901"/>
                </a:lnTo>
                <a:lnTo>
                  <a:pt x="731" y="1876"/>
                </a:lnTo>
                <a:lnTo>
                  <a:pt x="718" y="1851"/>
                </a:lnTo>
                <a:lnTo>
                  <a:pt x="718" y="1838"/>
                </a:lnTo>
                <a:lnTo>
                  <a:pt x="706" y="1813"/>
                </a:lnTo>
                <a:lnTo>
                  <a:pt x="680" y="1788"/>
                </a:lnTo>
                <a:lnTo>
                  <a:pt x="655" y="1762"/>
                </a:lnTo>
                <a:lnTo>
                  <a:pt x="617" y="1737"/>
                </a:lnTo>
                <a:lnTo>
                  <a:pt x="592" y="1712"/>
                </a:lnTo>
                <a:lnTo>
                  <a:pt x="542" y="1687"/>
                </a:lnTo>
                <a:lnTo>
                  <a:pt x="491" y="1674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35"/>
          <p:cNvSpPr/>
          <p:nvPr/>
        </p:nvSpPr>
        <p:spPr>
          <a:xfrm>
            <a:off x="4957920" y="2255760"/>
            <a:ext cx="176040" cy="1685880"/>
          </a:xfrm>
          <a:custGeom>
            <a:avLst/>
            <a:gdLst/>
            <a:ahLst/>
            <a:rect l="l" t="t" r="r" b="b"/>
            <a:pathLst>
              <a:path w="277" h="2656">
                <a:moveTo>
                  <a:pt x="25" y="13"/>
                </a:moveTo>
                <a:lnTo>
                  <a:pt x="50" y="0"/>
                </a:lnTo>
                <a:lnTo>
                  <a:pt x="63" y="0"/>
                </a:lnTo>
                <a:lnTo>
                  <a:pt x="88" y="0"/>
                </a:lnTo>
                <a:lnTo>
                  <a:pt x="113" y="0"/>
                </a:lnTo>
                <a:lnTo>
                  <a:pt x="151" y="0"/>
                </a:lnTo>
                <a:lnTo>
                  <a:pt x="189" y="13"/>
                </a:lnTo>
                <a:lnTo>
                  <a:pt x="226" y="26"/>
                </a:lnTo>
                <a:lnTo>
                  <a:pt x="277" y="38"/>
                </a:lnTo>
                <a:lnTo>
                  <a:pt x="277" y="164"/>
                </a:lnTo>
                <a:lnTo>
                  <a:pt x="277" y="277"/>
                </a:lnTo>
                <a:lnTo>
                  <a:pt x="277" y="391"/>
                </a:lnTo>
                <a:lnTo>
                  <a:pt x="277" y="504"/>
                </a:lnTo>
                <a:lnTo>
                  <a:pt x="277" y="617"/>
                </a:lnTo>
                <a:lnTo>
                  <a:pt x="277" y="730"/>
                </a:lnTo>
                <a:lnTo>
                  <a:pt x="277" y="831"/>
                </a:lnTo>
                <a:lnTo>
                  <a:pt x="277" y="932"/>
                </a:lnTo>
                <a:lnTo>
                  <a:pt x="277" y="1020"/>
                </a:lnTo>
                <a:lnTo>
                  <a:pt x="277" y="1121"/>
                </a:lnTo>
                <a:lnTo>
                  <a:pt x="277" y="1209"/>
                </a:lnTo>
                <a:lnTo>
                  <a:pt x="277" y="1297"/>
                </a:lnTo>
                <a:lnTo>
                  <a:pt x="277" y="1385"/>
                </a:lnTo>
                <a:lnTo>
                  <a:pt x="277" y="1460"/>
                </a:lnTo>
                <a:lnTo>
                  <a:pt x="277" y="1536"/>
                </a:lnTo>
                <a:lnTo>
                  <a:pt x="277" y="1611"/>
                </a:lnTo>
                <a:lnTo>
                  <a:pt x="277" y="1687"/>
                </a:lnTo>
                <a:lnTo>
                  <a:pt x="277" y="1750"/>
                </a:lnTo>
                <a:lnTo>
                  <a:pt x="277" y="1813"/>
                </a:lnTo>
                <a:lnTo>
                  <a:pt x="277" y="1876"/>
                </a:lnTo>
                <a:lnTo>
                  <a:pt x="277" y="1926"/>
                </a:lnTo>
                <a:lnTo>
                  <a:pt x="277" y="1989"/>
                </a:lnTo>
                <a:lnTo>
                  <a:pt x="277" y="2039"/>
                </a:lnTo>
                <a:lnTo>
                  <a:pt x="277" y="2090"/>
                </a:lnTo>
                <a:lnTo>
                  <a:pt x="277" y="2128"/>
                </a:lnTo>
                <a:lnTo>
                  <a:pt x="264" y="2165"/>
                </a:lnTo>
                <a:lnTo>
                  <a:pt x="264" y="2203"/>
                </a:lnTo>
                <a:lnTo>
                  <a:pt x="264" y="2241"/>
                </a:lnTo>
                <a:lnTo>
                  <a:pt x="264" y="2266"/>
                </a:lnTo>
                <a:lnTo>
                  <a:pt x="264" y="2304"/>
                </a:lnTo>
                <a:lnTo>
                  <a:pt x="264" y="2329"/>
                </a:lnTo>
                <a:lnTo>
                  <a:pt x="264" y="2341"/>
                </a:lnTo>
                <a:lnTo>
                  <a:pt x="264" y="2379"/>
                </a:lnTo>
                <a:lnTo>
                  <a:pt x="264" y="2417"/>
                </a:lnTo>
                <a:lnTo>
                  <a:pt x="252" y="2455"/>
                </a:lnTo>
                <a:lnTo>
                  <a:pt x="252" y="2480"/>
                </a:lnTo>
                <a:lnTo>
                  <a:pt x="252" y="2505"/>
                </a:lnTo>
                <a:lnTo>
                  <a:pt x="252" y="2530"/>
                </a:lnTo>
                <a:lnTo>
                  <a:pt x="239" y="2555"/>
                </a:lnTo>
                <a:lnTo>
                  <a:pt x="239" y="2581"/>
                </a:lnTo>
                <a:lnTo>
                  <a:pt x="239" y="2593"/>
                </a:lnTo>
                <a:lnTo>
                  <a:pt x="226" y="2618"/>
                </a:lnTo>
                <a:lnTo>
                  <a:pt x="226" y="2631"/>
                </a:lnTo>
                <a:lnTo>
                  <a:pt x="214" y="2644"/>
                </a:lnTo>
                <a:lnTo>
                  <a:pt x="214" y="2656"/>
                </a:lnTo>
                <a:lnTo>
                  <a:pt x="201" y="2656"/>
                </a:lnTo>
                <a:lnTo>
                  <a:pt x="189" y="2644"/>
                </a:lnTo>
                <a:lnTo>
                  <a:pt x="176" y="2631"/>
                </a:lnTo>
                <a:lnTo>
                  <a:pt x="163" y="2618"/>
                </a:lnTo>
                <a:lnTo>
                  <a:pt x="163" y="2593"/>
                </a:lnTo>
                <a:lnTo>
                  <a:pt x="151" y="2568"/>
                </a:lnTo>
                <a:lnTo>
                  <a:pt x="151" y="2543"/>
                </a:lnTo>
                <a:lnTo>
                  <a:pt x="138" y="2518"/>
                </a:lnTo>
                <a:lnTo>
                  <a:pt x="126" y="2480"/>
                </a:lnTo>
                <a:lnTo>
                  <a:pt x="126" y="2442"/>
                </a:lnTo>
                <a:lnTo>
                  <a:pt x="113" y="2404"/>
                </a:lnTo>
                <a:lnTo>
                  <a:pt x="113" y="2367"/>
                </a:lnTo>
                <a:lnTo>
                  <a:pt x="100" y="2316"/>
                </a:lnTo>
                <a:lnTo>
                  <a:pt x="100" y="2266"/>
                </a:lnTo>
                <a:lnTo>
                  <a:pt x="88" y="2216"/>
                </a:lnTo>
                <a:lnTo>
                  <a:pt x="88" y="2178"/>
                </a:lnTo>
                <a:lnTo>
                  <a:pt x="88" y="2140"/>
                </a:lnTo>
                <a:lnTo>
                  <a:pt x="88" y="2102"/>
                </a:lnTo>
                <a:lnTo>
                  <a:pt x="88" y="2052"/>
                </a:lnTo>
                <a:lnTo>
                  <a:pt x="75" y="2002"/>
                </a:lnTo>
                <a:lnTo>
                  <a:pt x="75" y="1951"/>
                </a:lnTo>
                <a:lnTo>
                  <a:pt x="75" y="1888"/>
                </a:lnTo>
                <a:lnTo>
                  <a:pt x="75" y="1825"/>
                </a:lnTo>
                <a:lnTo>
                  <a:pt x="75" y="1750"/>
                </a:lnTo>
                <a:lnTo>
                  <a:pt x="75" y="1674"/>
                </a:lnTo>
                <a:lnTo>
                  <a:pt x="75" y="1586"/>
                </a:lnTo>
                <a:lnTo>
                  <a:pt x="75" y="1511"/>
                </a:lnTo>
                <a:lnTo>
                  <a:pt x="63" y="1410"/>
                </a:lnTo>
                <a:lnTo>
                  <a:pt x="63" y="1309"/>
                </a:lnTo>
                <a:lnTo>
                  <a:pt x="63" y="1209"/>
                </a:lnTo>
                <a:lnTo>
                  <a:pt x="63" y="1108"/>
                </a:lnTo>
                <a:lnTo>
                  <a:pt x="63" y="995"/>
                </a:lnTo>
                <a:lnTo>
                  <a:pt x="63" y="894"/>
                </a:lnTo>
                <a:lnTo>
                  <a:pt x="63" y="806"/>
                </a:lnTo>
                <a:lnTo>
                  <a:pt x="63" y="718"/>
                </a:lnTo>
                <a:lnTo>
                  <a:pt x="63" y="630"/>
                </a:lnTo>
                <a:lnTo>
                  <a:pt x="63" y="554"/>
                </a:lnTo>
                <a:lnTo>
                  <a:pt x="63" y="491"/>
                </a:lnTo>
                <a:lnTo>
                  <a:pt x="63" y="428"/>
                </a:lnTo>
                <a:lnTo>
                  <a:pt x="50" y="365"/>
                </a:lnTo>
                <a:lnTo>
                  <a:pt x="50" y="315"/>
                </a:lnTo>
                <a:lnTo>
                  <a:pt x="50" y="265"/>
                </a:lnTo>
                <a:lnTo>
                  <a:pt x="37" y="227"/>
                </a:lnTo>
                <a:lnTo>
                  <a:pt x="37" y="202"/>
                </a:lnTo>
                <a:lnTo>
                  <a:pt x="37" y="177"/>
                </a:lnTo>
                <a:lnTo>
                  <a:pt x="25" y="151"/>
                </a:lnTo>
                <a:lnTo>
                  <a:pt x="25" y="139"/>
                </a:lnTo>
                <a:lnTo>
                  <a:pt x="12" y="114"/>
                </a:lnTo>
                <a:lnTo>
                  <a:pt x="0" y="101"/>
                </a:lnTo>
                <a:lnTo>
                  <a:pt x="0" y="76"/>
                </a:lnTo>
                <a:lnTo>
                  <a:pt x="0" y="63"/>
                </a:lnTo>
                <a:lnTo>
                  <a:pt x="0" y="51"/>
                </a:lnTo>
                <a:lnTo>
                  <a:pt x="12" y="38"/>
                </a:lnTo>
                <a:lnTo>
                  <a:pt x="12" y="26"/>
                </a:lnTo>
                <a:lnTo>
                  <a:pt x="25" y="1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36"/>
          <p:cNvSpPr/>
          <p:nvPr/>
        </p:nvSpPr>
        <p:spPr>
          <a:xfrm>
            <a:off x="4286160" y="2247840"/>
            <a:ext cx="608040" cy="647640"/>
          </a:xfrm>
          <a:custGeom>
            <a:avLst/>
            <a:gdLst/>
            <a:ahLst/>
            <a:rect l="l" t="t" r="r" b="b"/>
            <a:pathLst>
              <a:path w="958" h="1019">
                <a:moveTo>
                  <a:pt x="605" y="1019"/>
                </a:moveTo>
                <a:lnTo>
                  <a:pt x="605" y="1019"/>
                </a:lnTo>
                <a:lnTo>
                  <a:pt x="592" y="1007"/>
                </a:lnTo>
                <a:lnTo>
                  <a:pt x="592" y="994"/>
                </a:lnTo>
                <a:lnTo>
                  <a:pt x="580" y="982"/>
                </a:lnTo>
                <a:lnTo>
                  <a:pt x="580" y="956"/>
                </a:lnTo>
                <a:lnTo>
                  <a:pt x="580" y="944"/>
                </a:lnTo>
                <a:lnTo>
                  <a:pt x="580" y="919"/>
                </a:lnTo>
                <a:lnTo>
                  <a:pt x="567" y="893"/>
                </a:lnTo>
                <a:lnTo>
                  <a:pt x="567" y="856"/>
                </a:lnTo>
                <a:lnTo>
                  <a:pt x="567" y="830"/>
                </a:lnTo>
                <a:lnTo>
                  <a:pt x="580" y="793"/>
                </a:lnTo>
                <a:lnTo>
                  <a:pt x="580" y="755"/>
                </a:lnTo>
                <a:lnTo>
                  <a:pt x="580" y="717"/>
                </a:lnTo>
                <a:lnTo>
                  <a:pt x="580" y="667"/>
                </a:lnTo>
                <a:lnTo>
                  <a:pt x="592" y="617"/>
                </a:lnTo>
                <a:lnTo>
                  <a:pt x="592" y="566"/>
                </a:lnTo>
                <a:lnTo>
                  <a:pt x="592" y="528"/>
                </a:lnTo>
                <a:lnTo>
                  <a:pt x="605" y="478"/>
                </a:lnTo>
                <a:lnTo>
                  <a:pt x="605" y="440"/>
                </a:lnTo>
                <a:lnTo>
                  <a:pt x="605" y="403"/>
                </a:lnTo>
                <a:lnTo>
                  <a:pt x="605" y="377"/>
                </a:lnTo>
                <a:lnTo>
                  <a:pt x="605" y="340"/>
                </a:lnTo>
                <a:lnTo>
                  <a:pt x="605" y="314"/>
                </a:lnTo>
                <a:lnTo>
                  <a:pt x="605" y="289"/>
                </a:lnTo>
                <a:lnTo>
                  <a:pt x="617" y="264"/>
                </a:lnTo>
                <a:lnTo>
                  <a:pt x="605" y="251"/>
                </a:lnTo>
                <a:lnTo>
                  <a:pt x="605" y="239"/>
                </a:lnTo>
                <a:lnTo>
                  <a:pt x="605" y="214"/>
                </a:lnTo>
                <a:lnTo>
                  <a:pt x="605" y="201"/>
                </a:lnTo>
                <a:lnTo>
                  <a:pt x="592" y="189"/>
                </a:lnTo>
                <a:lnTo>
                  <a:pt x="580" y="189"/>
                </a:lnTo>
                <a:lnTo>
                  <a:pt x="554" y="189"/>
                </a:lnTo>
                <a:lnTo>
                  <a:pt x="529" y="189"/>
                </a:lnTo>
                <a:lnTo>
                  <a:pt x="491" y="201"/>
                </a:lnTo>
                <a:lnTo>
                  <a:pt x="454" y="201"/>
                </a:lnTo>
                <a:lnTo>
                  <a:pt x="403" y="214"/>
                </a:lnTo>
                <a:lnTo>
                  <a:pt x="353" y="226"/>
                </a:lnTo>
                <a:lnTo>
                  <a:pt x="302" y="226"/>
                </a:lnTo>
                <a:lnTo>
                  <a:pt x="252" y="239"/>
                </a:lnTo>
                <a:lnTo>
                  <a:pt x="202" y="251"/>
                </a:lnTo>
                <a:lnTo>
                  <a:pt x="151" y="251"/>
                </a:lnTo>
                <a:lnTo>
                  <a:pt x="113" y="264"/>
                </a:lnTo>
                <a:lnTo>
                  <a:pt x="75" y="264"/>
                </a:lnTo>
                <a:lnTo>
                  <a:pt x="38" y="264"/>
                </a:lnTo>
                <a:lnTo>
                  <a:pt x="0" y="264"/>
                </a:lnTo>
                <a:lnTo>
                  <a:pt x="0" y="138"/>
                </a:lnTo>
                <a:lnTo>
                  <a:pt x="63" y="138"/>
                </a:lnTo>
                <a:lnTo>
                  <a:pt x="126" y="138"/>
                </a:lnTo>
                <a:lnTo>
                  <a:pt x="176" y="138"/>
                </a:lnTo>
                <a:lnTo>
                  <a:pt x="227" y="138"/>
                </a:lnTo>
                <a:lnTo>
                  <a:pt x="277" y="126"/>
                </a:lnTo>
                <a:lnTo>
                  <a:pt x="328" y="126"/>
                </a:lnTo>
                <a:lnTo>
                  <a:pt x="378" y="113"/>
                </a:lnTo>
                <a:lnTo>
                  <a:pt x="416" y="100"/>
                </a:lnTo>
                <a:lnTo>
                  <a:pt x="454" y="100"/>
                </a:lnTo>
                <a:lnTo>
                  <a:pt x="491" y="88"/>
                </a:lnTo>
                <a:lnTo>
                  <a:pt x="517" y="75"/>
                </a:lnTo>
                <a:lnTo>
                  <a:pt x="554" y="63"/>
                </a:lnTo>
                <a:lnTo>
                  <a:pt x="580" y="50"/>
                </a:lnTo>
                <a:lnTo>
                  <a:pt x="592" y="50"/>
                </a:lnTo>
                <a:lnTo>
                  <a:pt x="617" y="38"/>
                </a:lnTo>
                <a:lnTo>
                  <a:pt x="630" y="25"/>
                </a:lnTo>
                <a:lnTo>
                  <a:pt x="655" y="12"/>
                </a:lnTo>
                <a:lnTo>
                  <a:pt x="668" y="0"/>
                </a:lnTo>
                <a:lnTo>
                  <a:pt x="693" y="0"/>
                </a:lnTo>
                <a:lnTo>
                  <a:pt x="706" y="0"/>
                </a:lnTo>
                <a:lnTo>
                  <a:pt x="731" y="0"/>
                </a:lnTo>
                <a:lnTo>
                  <a:pt x="769" y="12"/>
                </a:lnTo>
                <a:lnTo>
                  <a:pt x="807" y="38"/>
                </a:lnTo>
                <a:lnTo>
                  <a:pt x="857" y="75"/>
                </a:lnTo>
                <a:lnTo>
                  <a:pt x="882" y="88"/>
                </a:lnTo>
                <a:lnTo>
                  <a:pt x="895" y="100"/>
                </a:lnTo>
                <a:lnTo>
                  <a:pt x="920" y="126"/>
                </a:lnTo>
                <a:lnTo>
                  <a:pt x="933" y="138"/>
                </a:lnTo>
                <a:lnTo>
                  <a:pt x="945" y="151"/>
                </a:lnTo>
                <a:lnTo>
                  <a:pt x="945" y="163"/>
                </a:lnTo>
                <a:lnTo>
                  <a:pt x="958" y="176"/>
                </a:lnTo>
                <a:lnTo>
                  <a:pt x="958" y="201"/>
                </a:lnTo>
                <a:lnTo>
                  <a:pt x="933" y="226"/>
                </a:lnTo>
                <a:lnTo>
                  <a:pt x="920" y="239"/>
                </a:lnTo>
                <a:lnTo>
                  <a:pt x="882" y="264"/>
                </a:lnTo>
                <a:lnTo>
                  <a:pt x="870" y="264"/>
                </a:lnTo>
                <a:lnTo>
                  <a:pt x="870" y="277"/>
                </a:lnTo>
                <a:lnTo>
                  <a:pt x="857" y="289"/>
                </a:lnTo>
                <a:lnTo>
                  <a:pt x="844" y="302"/>
                </a:lnTo>
                <a:lnTo>
                  <a:pt x="844" y="314"/>
                </a:lnTo>
                <a:lnTo>
                  <a:pt x="832" y="340"/>
                </a:lnTo>
                <a:lnTo>
                  <a:pt x="819" y="352"/>
                </a:lnTo>
                <a:lnTo>
                  <a:pt x="819" y="377"/>
                </a:lnTo>
                <a:lnTo>
                  <a:pt x="807" y="403"/>
                </a:lnTo>
                <a:lnTo>
                  <a:pt x="794" y="428"/>
                </a:lnTo>
                <a:lnTo>
                  <a:pt x="794" y="465"/>
                </a:lnTo>
                <a:lnTo>
                  <a:pt x="781" y="491"/>
                </a:lnTo>
                <a:lnTo>
                  <a:pt x="769" y="541"/>
                </a:lnTo>
                <a:lnTo>
                  <a:pt x="756" y="579"/>
                </a:lnTo>
                <a:lnTo>
                  <a:pt x="756" y="617"/>
                </a:lnTo>
                <a:lnTo>
                  <a:pt x="744" y="654"/>
                </a:lnTo>
                <a:lnTo>
                  <a:pt x="731" y="705"/>
                </a:lnTo>
                <a:lnTo>
                  <a:pt x="731" y="742"/>
                </a:lnTo>
                <a:lnTo>
                  <a:pt x="718" y="780"/>
                </a:lnTo>
                <a:lnTo>
                  <a:pt x="706" y="818"/>
                </a:lnTo>
                <a:lnTo>
                  <a:pt x="706" y="843"/>
                </a:lnTo>
                <a:lnTo>
                  <a:pt x="693" y="881"/>
                </a:lnTo>
                <a:lnTo>
                  <a:pt x="680" y="906"/>
                </a:lnTo>
                <a:lnTo>
                  <a:pt x="680" y="931"/>
                </a:lnTo>
                <a:lnTo>
                  <a:pt x="668" y="944"/>
                </a:lnTo>
                <a:lnTo>
                  <a:pt x="655" y="969"/>
                </a:lnTo>
                <a:lnTo>
                  <a:pt x="655" y="982"/>
                </a:lnTo>
                <a:lnTo>
                  <a:pt x="643" y="994"/>
                </a:lnTo>
                <a:lnTo>
                  <a:pt x="630" y="1007"/>
                </a:lnTo>
                <a:lnTo>
                  <a:pt x="617" y="1019"/>
                </a:lnTo>
                <a:lnTo>
                  <a:pt x="605" y="1019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37"/>
          <p:cNvSpPr/>
          <p:nvPr/>
        </p:nvSpPr>
        <p:spPr>
          <a:xfrm>
            <a:off x="4476600" y="2041560"/>
            <a:ext cx="257400" cy="158760"/>
          </a:xfrm>
          <a:custGeom>
            <a:avLst/>
            <a:gdLst/>
            <a:ahLst/>
            <a:rect l="l" t="t" r="r" b="b"/>
            <a:pathLst>
              <a:path w="404" h="251">
                <a:moveTo>
                  <a:pt x="0" y="50"/>
                </a:moveTo>
                <a:lnTo>
                  <a:pt x="26" y="25"/>
                </a:lnTo>
                <a:lnTo>
                  <a:pt x="51" y="12"/>
                </a:lnTo>
                <a:lnTo>
                  <a:pt x="76" y="0"/>
                </a:lnTo>
                <a:lnTo>
                  <a:pt x="101" y="0"/>
                </a:lnTo>
                <a:lnTo>
                  <a:pt x="139" y="0"/>
                </a:lnTo>
                <a:lnTo>
                  <a:pt x="177" y="12"/>
                </a:lnTo>
                <a:lnTo>
                  <a:pt x="227" y="12"/>
                </a:lnTo>
                <a:lnTo>
                  <a:pt x="265" y="25"/>
                </a:lnTo>
                <a:lnTo>
                  <a:pt x="290" y="37"/>
                </a:lnTo>
                <a:lnTo>
                  <a:pt x="315" y="37"/>
                </a:lnTo>
                <a:lnTo>
                  <a:pt x="341" y="50"/>
                </a:lnTo>
                <a:lnTo>
                  <a:pt x="353" y="62"/>
                </a:lnTo>
                <a:lnTo>
                  <a:pt x="366" y="75"/>
                </a:lnTo>
                <a:lnTo>
                  <a:pt x="378" y="88"/>
                </a:lnTo>
                <a:lnTo>
                  <a:pt x="391" y="100"/>
                </a:lnTo>
                <a:lnTo>
                  <a:pt x="391" y="113"/>
                </a:lnTo>
                <a:lnTo>
                  <a:pt x="404" y="138"/>
                </a:lnTo>
                <a:lnTo>
                  <a:pt x="404" y="163"/>
                </a:lnTo>
                <a:lnTo>
                  <a:pt x="404" y="188"/>
                </a:lnTo>
                <a:lnTo>
                  <a:pt x="391" y="213"/>
                </a:lnTo>
                <a:lnTo>
                  <a:pt x="378" y="226"/>
                </a:lnTo>
                <a:lnTo>
                  <a:pt x="366" y="239"/>
                </a:lnTo>
                <a:lnTo>
                  <a:pt x="341" y="251"/>
                </a:lnTo>
                <a:lnTo>
                  <a:pt x="303" y="251"/>
                </a:lnTo>
                <a:lnTo>
                  <a:pt x="290" y="251"/>
                </a:lnTo>
                <a:lnTo>
                  <a:pt x="265" y="239"/>
                </a:lnTo>
                <a:lnTo>
                  <a:pt x="240" y="226"/>
                </a:lnTo>
                <a:lnTo>
                  <a:pt x="202" y="201"/>
                </a:lnTo>
                <a:lnTo>
                  <a:pt x="152" y="176"/>
                </a:lnTo>
                <a:lnTo>
                  <a:pt x="114" y="138"/>
                </a:lnTo>
                <a:lnTo>
                  <a:pt x="51" y="100"/>
                </a:lnTo>
                <a:lnTo>
                  <a:pt x="0" y="5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8"/>
          <p:cNvSpPr/>
          <p:nvPr/>
        </p:nvSpPr>
        <p:spPr>
          <a:xfrm>
            <a:off x="4094280" y="2319480"/>
            <a:ext cx="608040" cy="1174680"/>
          </a:xfrm>
          <a:custGeom>
            <a:avLst/>
            <a:gdLst/>
            <a:ahLst/>
            <a:rect l="l" t="t" r="r" b="b"/>
            <a:pathLst>
              <a:path w="958" h="1850">
                <a:moveTo>
                  <a:pt x="240" y="1108"/>
                </a:moveTo>
                <a:lnTo>
                  <a:pt x="252" y="957"/>
                </a:lnTo>
                <a:lnTo>
                  <a:pt x="265" y="818"/>
                </a:lnTo>
                <a:lnTo>
                  <a:pt x="265" y="667"/>
                </a:lnTo>
                <a:lnTo>
                  <a:pt x="265" y="516"/>
                </a:lnTo>
                <a:lnTo>
                  <a:pt x="265" y="453"/>
                </a:lnTo>
                <a:lnTo>
                  <a:pt x="252" y="390"/>
                </a:lnTo>
                <a:lnTo>
                  <a:pt x="252" y="327"/>
                </a:lnTo>
                <a:lnTo>
                  <a:pt x="252" y="277"/>
                </a:lnTo>
                <a:lnTo>
                  <a:pt x="240" y="227"/>
                </a:lnTo>
                <a:lnTo>
                  <a:pt x="227" y="189"/>
                </a:lnTo>
                <a:lnTo>
                  <a:pt x="227" y="164"/>
                </a:lnTo>
                <a:lnTo>
                  <a:pt x="215" y="126"/>
                </a:lnTo>
                <a:lnTo>
                  <a:pt x="202" y="101"/>
                </a:lnTo>
                <a:lnTo>
                  <a:pt x="189" y="88"/>
                </a:lnTo>
                <a:lnTo>
                  <a:pt x="189" y="63"/>
                </a:lnTo>
                <a:lnTo>
                  <a:pt x="189" y="50"/>
                </a:lnTo>
                <a:lnTo>
                  <a:pt x="177" y="38"/>
                </a:lnTo>
                <a:lnTo>
                  <a:pt x="189" y="25"/>
                </a:lnTo>
                <a:lnTo>
                  <a:pt x="189" y="13"/>
                </a:lnTo>
                <a:lnTo>
                  <a:pt x="202" y="0"/>
                </a:lnTo>
                <a:lnTo>
                  <a:pt x="227" y="0"/>
                </a:lnTo>
                <a:lnTo>
                  <a:pt x="240" y="0"/>
                </a:lnTo>
                <a:lnTo>
                  <a:pt x="265" y="0"/>
                </a:lnTo>
                <a:lnTo>
                  <a:pt x="303" y="0"/>
                </a:lnTo>
                <a:lnTo>
                  <a:pt x="341" y="13"/>
                </a:lnTo>
                <a:lnTo>
                  <a:pt x="378" y="25"/>
                </a:lnTo>
                <a:lnTo>
                  <a:pt x="429" y="25"/>
                </a:lnTo>
                <a:lnTo>
                  <a:pt x="429" y="176"/>
                </a:lnTo>
                <a:lnTo>
                  <a:pt x="429" y="327"/>
                </a:lnTo>
                <a:lnTo>
                  <a:pt x="429" y="453"/>
                </a:lnTo>
                <a:lnTo>
                  <a:pt x="429" y="579"/>
                </a:lnTo>
                <a:lnTo>
                  <a:pt x="416" y="705"/>
                </a:lnTo>
                <a:lnTo>
                  <a:pt x="416" y="818"/>
                </a:lnTo>
                <a:lnTo>
                  <a:pt x="416" y="919"/>
                </a:lnTo>
                <a:lnTo>
                  <a:pt x="404" y="1007"/>
                </a:lnTo>
                <a:lnTo>
                  <a:pt x="404" y="1045"/>
                </a:lnTo>
                <a:lnTo>
                  <a:pt x="404" y="1083"/>
                </a:lnTo>
                <a:lnTo>
                  <a:pt x="404" y="1120"/>
                </a:lnTo>
                <a:lnTo>
                  <a:pt x="404" y="1158"/>
                </a:lnTo>
                <a:lnTo>
                  <a:pt x="391" y="1196"/>
                </a:lnTo>
                <a:lnTo>
                  <a:pt x="391" y="1221"/>
                </a:lnTo>
                <a:lnTo>
                  <a:pt x="391" y="1246"/>
                </a:lnTo>
                <a:lnTo>
                  <a:pt x="391" y="1271"/>
                </a:lnTo>
                <a:lnTo>
                  <a:pt x="391" y="1296"/>
                </a:lnTo>
                <a:lnTo>
                  <a:pt x="391" y="1309"/>
                </a:lnTo>
                <a:lnTo>
                  <a:pt x="391" y="1334"/>
                </a:lnTo>
                <a:lnTo>
                  <a:pt x="404" y="1347"/>
                </a:lnTo>
                <a:lnTo>
                  <a:pt x="404" y="1359"/>
                </a:lnTo>
                <a:lnTo>
                  <a:pt x="404" y="1372"/>
                </a:lnTo>
                <a:lnTo>
                  <a:pt x="404" y="1385"/>
                </a:lnTo>
                <a:lnTo>
                  <a:pt x="416" y="1385"/>
                </a:lnTo>
                <a:lnTo>
                  <a:pt x="429" y="1372"/>
                </a:lnTo>
                <a:lnTo>
                  <a:pt x="454" y="1372"/>
                </a:lnTo>
                <a:lnTo>
                  <a:pt x="467" y="1359"/>
                </a:lnTo>
                <a:lnTo>
                  <a:pt x="492" y="1359"/>
                </a:lnTo>
                <a:lnTo>
                  <a:pt x="517" y="1347"/>
                </a:lnTo>
                <a:lnTo>
                  <a:pt x="555" y="1334"/>
                </a:lnTo>
                <a:lnTo>
                  <a:pt x="580" y="1322"/>
                </a:lnTo>
                <a:lnTo>
                  <a:pt x="618" y="1296"/>
                </a:lnTo>
                <a:lnTo>
                  <a:pt x="668" y="1284"/>
                </a:lnTo>
                <a:lnTo>
                  <a:pt x="706" y="1259"/>
                </a:lnTo>
                <a:lnTo>
                  <a:pt x="757" y="1234"/>
                </a:lnTo>
                <a:lnTo>
                  <a:pt x="807" y="1208"/>
                </a:lnTo>
                <a:lnTo>
                  <a:pt x="870" y="1183"/>
                </a:lnTo>
                <a:lnTo>
                  <a:pt x="933" y="1158"/>
                </a:lnTo>
                <a:lnTo>
                  <a:pt x="958" y="1234"/>
                </a:lnTo>
                <a:lnTo>
                  <a:pt x="895" y="1271"/>
                </a:lnTo>
                <a:lnTo>
                  <a:pt x="820" y="1322"/>
                </a:lnTo>
                <a:lnTo>
                  <a:pt x="757" y="1359"/>
                </a:lnTo>
                <a:lnTo>
                  <a:pt x="694" y="1397"/>
                </a:lnTo>
                <a:lnTo>
                  <a:pt x="643" y="1435"/>
                </a:lnTo>
                <a:lnTo>
                  <a:pt x="580" y="1473"/>
                </a:lnTo>
                <a:lnTo>
                  <a:pt x="542" y="1510"/>
                </a:lnTo>
                <a:lnTo>
                  <a:pt x="492" y="1536"/>
                </a:lnTo>
                <a:lnTo>
                  <a:pt x="454" y="1573"/>
                </a:lnTo>
                <a:lnTo>
                  <a:pt x="416" y="1599"/>
                </a:lnTo>
                <a:lnTo>
                  <a:pt x="378" y="1624"/>
                </a:lnTo>
                <a:lnTo>
                  <a:pt x="353" y="1649"/>
                </a:lnTo>
                <a:lnTo>
                  <a:pt x="328" y="1674"/>
                </a:lnTo>
                <a:lnTo>
                  <a:pt x="303" y="1687"/>
                </a:lnTo>
                <a:lnTo>
                  <a:pt x="290" y="1699"/>
                </a:lnTo>
                <a:lnTo>
                  <a:pt x="278" y="1724"/>
                </a:lnTo>
                <a:lnTo>
                  <a:pt x="252" y="1750"/>
                </a:lnTo>
                <a:lnTo>
                  <a:pt x="227" y="1775"/>
                </a:lnTo>
                <a:lnTo>
                  <a:pt x="215" y="1800"/>
                </a:lnTo>
                <a:lnTo>
                  <a:pt x="189" y="1813"/>
                </a:lnTo>
                <a:lnTo>
                  <a:pt x="177" y="1825"/>
                </a:lnTo>
                <a:lnTo>
                  <a:pt x="164" y="1838"/>
                </a:lnTo>
                <a:lnTo>
                  <a:pt x="152" y="1838"/>
                </a:lnTo>
                <a:lnTo>
                  <a:pt x="139" y="1850"/>
                </a:lnTo>
                <a:lnTo>
                  <a:pt x="126" y="1850"/>
                </a:lnTo>
                <a:lnTo>
                  <a:pt x="114" y="1838"/>
                </a:lnTo>
                <a:lnTo>
                  <a:pt x="101" y="1838"/>
                </a:lnTo>
                <a:lnTo>
                  <a:pt x="89" y="1825"/>
                </a:lnTo>
                <a:lnTo>
                  <a:pt x="76" y="1813"/>
                </a:lnTo>
                <a:lnTo>
                  <a:pt x="63" y="1800"/>
                </a:lnTo>
                <a:lnTo>
                  <a:pt x="51" y="1775"/>
                </a:lnTo>
                <a:lnTo>
                  <a:pt x="51" y="1750"/>
                </a:lnTo>
                <a:lnTo>
                  <a:pt x="26" y="1699"/>
                </a:lnTo>
                <a:lnTo>
                  <a:pt x="13" y="1661"/>
                </a:lnTo>
                <a:lnTo>
                  <a:pt x="13" y="1636"/>
                </a:lnTo>
                <a:lnTo>
                  <a:pt x="0" y="1611"/>
                </a:lnTo>
                <a:lnTo>
                  <a:pt x="13" y="1599"/>
                </a:lnTo>
                <a:lnTo>
                  <a:pt x="13" y="1586"/>
                </a:lnTo>
                <a:lnTo>
                  <a:pt x="26" y="1573"/>
                </a:lnTo>
                <a:lnTo>
                  <a:pt x="38" y="1561"/>
                </a:lnTo>
                <a:lnTo>
                  <a:pt x="51" y="1548"/>
                </a:lnTo>
                <a:lnTo>
                  <a:pt x="63" y="1523"/>
                </a:lnTo>
                <a:lnTo>
                  <a:pt x="89" y="1510"/>
                </a:lnTo>
                <a:lnTo>
                  <a:pt x="114" y="1485"/>
                </a:lnTo>
                <a:lnTo>
                  <a:pt x="139" y="1460"/>
                </a:lnTo>
                <a:lnTo>
                  <a:pt x="152" y="1435"/>
                </a:lnTo>
                <a:lnTo>
                  <a:pt x="177" y="1397"/>
                </a:lnTo>
                <a:lnTo>
                  <a:pt x="189" y="1347"/>
                </a:lnTo>
                <a:lnTo>
                  <a:pt x="202" y="1296"/>
                </a:lnTo>
                <a:lnTo>
                  <a:pt x="227" y="1246"/>
                </a:lnTo>
                <a:lnTo>
                  <a:pt x="227" y="1171"/>
                </a:lnTo>
                <a:lnTo>
                  <a:pt x="240" y="110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39"/>
          <p:cNvSpPr/>
          <p:nvPr/>
        </p:nvSpPr>
        <p:spPr>
          <a:xfrm>
            <a:off x="3397320" y="1913040"/>
            <a:ext cx="760320" cy="1725480"/>
          </a:xfrm>
          <a:custGeom>
            <a:avLst/>
            <a:gdLst/>
            <a:ahLst/>
            <a:rect l="l" t="t" r="r" b="b"/>
            <a:pathLst>
              <a:path w="1197" h="2719">
                <a:moveTo>
                  <a:pt x="1008" y="0"/>
                </a:moveTo>
                <a:lnTo>
                  <a:pt x="1046" y="0"/>
                </a:lnTo>
                <a:lnTo>
                  <a:pt x="1084" y="13"/>
                </a:lnTo>
                <a:lnTo>
                  <a:pt x="1134" y="25"/>
                </a:lnTo>
                <a:lnTo>
                  <a:pt x="1197" y="50"/>
                </a:lnTo>
                <a:lnTo>
                  <a:pt x="1197" y="88"/>
                </a:lnTo>
                <a:lnTo>
                  <a:pt x="1197" y="139"/>
                </a:lnTo>
                <a:lnTo>
                  <a:pt x="1197" y="189"/>
                </a:lnTo>
                <a:lnTo>
                  <a:pt x="1197" y="239"/>
                </a:lnTo>
                <a:lnTo>
                  <a:pt x="1185" y="302"/>
                </a:lnTo>
                <a:lnTo>
                  <a:pt x="1185" y="378"/>
                </a:lnTo>
                <a:lnTo>
                  <a:pt x="1185" y="441"/>
                </a:lnTo>
                <a:lnTo>
                  <a:pt x="1172" y="529"/>
                </a:lnTo>
                <a:lnTo>
                  <a:pt x="1172" y="604"/>
                </a:lnTo>
                <a:lnTo>
                  <a:pt x="1159" y="692"/>
                </a:lnTo>
                <a:lnTo>
                  <a:pt x="1147" y="768"/>
                </a:lnTo>
                <a:lnTo>
                  <a:pt x="1134" y="856"/>
                </a:lnTo>
                <a:lnTo>
                  <a:pt x="1109" y="944"/>
                </a:lnTo>
                <a:lnTo>
                  <a:pt x="1096" y="1032"/>
                </a:lnTo>
                <a:lnTo>
                  <a:pt x="1071" y="1133"/>
                </a:lnTo>
                <a:lnTo>
                  <a:pt x="1046" y="1221"/>
                </a:lnTo>
                <a:lnTo>
                  <a:pt x="1021" y="1322"/>
                </a:lnTo>
                <a:lnTo>
                  <a:pt x="996" y="1410"/>
                </a:lnTo>
                <a:lnTo>
                  <a:pt x="958" y="1511"/>
                </a:lnTo>
                <a:lnTo>
                  <a:pt x="920" y="1599"/>
                </a:lnTo>
                <a:lnTo>
                  <a:pt x="882" y="1687"/>
                </a:lnTo>
                <a:lnTo>
                  <a:pt x="832" y="1775"/>
                </a:lnTo>
                <a:lnTo>
                  <a:pt x="794" y="1863"/>
                </a:lnTo>
                <a:lnTo>
                  <a:pt x="731" y="1951"/>
                </a:lnTo>
                <a:lnTo>
                  <a:pt x="680" y="2039"/>
                </a:lnTo>
                <a:lnTo>
                  <a:pt x="630" y="2115"/>
                </a:lnTo>
                <a:lnTo>
                  <a:pt x="567" y="2190"/>
                </a:lnTo>
                <a:lnTo>
                  <a:pt x="517" y="2266"/>
                </a:lnTo>
                <a:lnTo>
                  <a:pt x="454" y="2329"/>
                </a:lnTo>
                <a:lnTo>
                  <a:pt x="391" y="2392"/>
                </a:lnTo>
                <a:lnTo>
                  <a:pt x="340" y="2455"/>
                </a:lnTo>
                <a:lnTo>
                  <a:pt x="277" y="2517"/>
                </a:lnTo>
                <a:lnTo>
                  <a:pt x="214" y="2568"/>
                </a:lnTo>
                <a:lnTo>
                  <a:pt x="164" y="2618"/>
                </a:lnTo>
                <a:lnTo>
                  <a:pt x="113" y="2656"/>
                </a:lnTo>
                <a:lnTo>
                  <a:pt x="75" y="2681"/>
                </a:lnTo>
                <a:lnTo>
                  <a:pt x="50" y="2706"/>
                </a:lnTo>
                <a:lnTo>
                  <a:pt x="25" y="2719"/>
                </a:lnTo>
                <a:lnTo>
                  <a:pt x="12" y="2719"/>
                </a:lnTo>
                <a:lnTo>
                  <a:pt x="0" y="2719"/>
                </a:lnTo>
                <a:lnTo>
                  <a:pt x="0" y="2706"/>
                </a:lnTo>
                <a:lnTo>
                  <a:pt x="0" y="2694"/>
                </a:lnTo>
                <a:lnTo>
                  <a:pt x="12" y="2681"/>
                </a:lnTo>
                <a:lnTo>
                  <a:pt x="12" y="2669"/>
                </a:lnTo>
                <a:lnTo>
                  <a:pt x="25" y="2643"/>
                </a:lnTo>
                <a:lnTo>
                  <a:pt x="38" y="2631"/>
                </a:lnTo>
                <a:lnTo>
                  <a:pt x="50" y="2606"/>
                </a:lnTo>
                <a:lnTo>
                  <a:pt x="75" y="2580"/>
                </a:lnTo>
                <a:lnTo>
                  <a:pt x="88" y="2555"/>
                </a:lnTo>
                <a:lnTo>
                  <a:pt x="113" y="2530"/>
                </a:lnTo>
                <a:lnTo>
                  <a:pt x="126" y="2492"/>
                </a:lnTo>
                <a:lnTo>
                  <a:pt x="164" y="2455"/>
                </a:lnTo>
                <a:lnTo>
                  <a:pt x="189" y="2417"/>
                </a:lnTo>
                <a:lnTo>
                  <a:pt x="214" y="2379"/>
                </a:lnTo>
                <a:lnTo>
                  <a:pt x="252" y="2341"/>
                </a:lnTo>
                <a:lnTo>
                  <a:pt x="315" y="2253"/>
                </a:lnTo>
                <a:lnTo>
                  <a:pt x="378" y="2165"/>
                </a:lnTo>
                <a:lnTo>
                  <a:pt x="441" y="2077"/>
                </a:lnTo>
                <a:lnTo>
                  <a:pt x="491" y="1976"/>
                </a:lnTo>
                <a:lnTo>
                  <a:pt x="554" y="1888"/>
                </a:lnTo>
                <a:lnTo>
                  <a:pt x="605" y="1787"/>
                </a:lnTo>
                <a:lnTo>
                  <a:pt x="643" y="1687"/>
                </a:lnTo>
                <a:lnTo>
                  <a:pt x="693" y="1586"/>
                </a:lnTo>
                <a:lnTo>
                  <a:pt x="731" y="1485"/>
                </a:lnTo>
                <a:lnTo>
                  <a:pt x="769" y="1372"/>
                </a:lnTo>
                <a:lnTo>
                  <a:pt x="794" y="1271"/>
                </a:lnTo>
                <a:lnTo>
                  <a:pt x="832" y="1171"/>
                </a:lnTo>
                <a:lnTo>
                  <a:pt x="857" y="1070"/>
                </a:lnTo>
                <a:lnTo>
                  <a:pt x="870" y="982"/>
                </a:lnTo>
                <a:lnTo>
                  <a:pt x="895" y="881"/>
                </a:lnTo>
                <a:lnTo>
                  <a:pt x="907" y="780"/>
                </a:lnTo>
                <a:lnTo>
                  <a:pt x="920" y="680"/>
                </a:lnTo>
                <a:lnTo>
                  <a:pt x="933" y="604"/>
                </a:lnTo>
                <a:lnTo>
                  <a:pt x="933" y="516"/>
                </a:lnTo>
                <a:lnTo>
                  <a:pt x="945" y="441"/>
                </a:lnTo>
                <a:lnTo>
                  <a:pt x="945" y="378"/>
                </a:lnTo>
                <a:lnTo>
                  <a:pt x="945" y="315"/>
                </a:lnTo>
                <a:lnTo>
                  <a:pt x="933" y="264"/>
                </a:lnTo>
                <a:lnTo>
                  <a:pt x="933" y="214"/>
                </a:lnTo>
                <a:lnTo>
                  <a:pt x="920" y="176"/>
                </a:lnTo>
                <a:lnTo>
                  <a:pt x="920" y="139"/>
                </a:lnTo>
                <a:lnTo>
                  <a:pt x="920" y="113"/>
                </a:lnTo>
                <a:lnTo>
                  <a:pt x="907" y="88"/>
                </a:lnTo>
                <a:lnTo>
                  <a:pt x="907" y="63"/>
                </a:lnTo>
                <a:lnTo>
                  <a:pt x="920" y="50"/>
                </a:lnTo>
                <a:lnTo>
                  <a:pt x="920" y="38"/>
                </a:lnTo>
                <a:lnTo>
                  <a:pt x="920" y="25"/>
                </a:lnTo>
                <a:lnTo>
                  <a:pt x="933" y="13"/>
                </a:lnTo>
                <a:lnTo>
                  <a:pt x="958" y="13"/>
                </a:lnTo>
                <a:lnTo>
                  <a:pt x="983" y="0"/>
                </a:lnTo>
                <a:lnTo>
                  <a:pt x="1008" y="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40"/>
          <p:cNvSpPr/>
          <p:nvPr/>
        </p:nvSpPr>
        <p:spPr>
          <a:xfrm>
            <a:off x="4334040" y="2527200"/>
            <a:ext cx="271440" cy="96840"/>
          </a:xfrm>
          <a:custGeom>
            <a:avLst/>
            <a:gdLst/>
            <a:ahLst/>
            <a:rect l="l" t="t" r="r" b="b"/>
            <a:pathLst>
              <a:path w="429" h="151">
                <a:moveTo>
                  <a:pt x="215" y="25"/>
                </a:moveTo>
                <a:lnTo>
                  <a:pt x="253" y="0"/>
                </a:lnTo>
                <a:lnTo>
                  <a:pt x="290" y="0"/>
                </a:lnTo>
                <a:lnTo>
                  <a:pt x="328" y="0"/>
                </a:lnTo>
                <a:lnTo>
                  <a:pt x="366" y="0"/>
                </a:lnTo>
                <a:lnTo>
                  <a:pt x="391" y="13"/>
                </a:lnTo>
                <a:lnTo>
                  <a:pt x="416" y="25"/>
                </a:lnTo>
                <a:lnTo>
                  <a:pt x="429" y="38"/>
                </a:lnTo>
                <a:lnTo>
                  <a:pt x="429" y="51"/>
                </a:lnTo>
                <a:lnTo>
                  <a:pt x="416" y="63"/>
                </a:lnTo>
                <a:lnTo>
                  <a:pt x="391" y="88"/>
                </a:lnTo>
                <a:lnTo>
                  <a:pt x="366" y="101"/>
                </a:lnTo>
                <a:lnTo>
                  <a:pt x="341" y="114"/>
                </a:lnTo>
                <a:lnTo>
                  <a:pt x="316" y="126"/>
                </a:lnTo>
                <a:lnTo>
                  <a:pt x="278" y="139"/>
                </a:lnTo>
                <a:lnTo>
                  <a:pt x="240" y="139"/>
                </a:lnTo>
                <a:lnTo>
                  <a:pt x="190" y="151"/>
                </a:lnTo>
                <a:lnTo>
                  <a:pt x="139" y="151"/>
                </a:lnTo>
                <a:lnTo>
                  <a:pt x="76" y="151"/>
                </a:lnTo>
                <a:lnTo>
                  <a:pt x="0" y="151"/>
                </a:lnTo>
                <a:lnTo>
                  <a:pt x="0" y="63"/>
                </a:lnTo>
                <a:lnTo>
                  <a:pt x="64" y="63"/>
                </a:lnTo>
                <a:lnTo>
                  <a:pt x="127" y="51"/>
                </a:lnTo>
                <a:lnTo>
                  <a:pt x="177" y="38"/>
                </a:lnTo>
                <a:lnTo>
                  <a:pt x="215" y="2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41"/>
          <p:cNvSpPr/>
          <p:nvPr/>
        </p:nvSpPr>
        <p:spPr>
          <a:xfrm>
            <a:off x="4317840" y="2782800"/>
            <a:ext cx="376560" cy="112680"/>
          </a:xfrm>
          <a:custGeom>
            <a:avLst/>
            <a:gdLst/>
            <a:ahLst/>
            <a:rect l="l" t="t" r="r" b="b"/>
            <a:pathLst>
              <a:path w="593" h="176">
                <a:moveTo>
                  <a:pt x="580" y="113"/>
                </a:moveTo>
                <a:lnTo>
                  <a:pt x="555" y="113"/>
                </a:lnTo>
                <a:lnTo>
                  <a:pt x="542" y="113"/>
                </a:lnTo>
                <a:lnTo>
                  <a:pt x="517" y="113"/>
                </a:lnTo>
                <a:lnTo>
                  <a:pt x="492" y="113"/>
                </a:lnTo>
                <a:lnTo>
                  <a:pt x="467" y="113"/>
                </a:lnTo>
                <a:lnTo>
                  <a:pt x="441" y="113"/>
                </a:lnTo>
                <a:lnTo>
                  <a:pt x="404" y="126"/>
                </a:lnTo>
                <a:lnTo>
                  <a:pt x="366" y="126"/>
                </a:lnTo>
                <a:lnTo>
                  <a:pt x="328" y="126"/>
                </a:lnTo>
                <a:lnTo>
                  <a:pt x="290" y="139"/>
                </a:lnTo>
                <a:lnTo>
                  <a:pt x="252" y="139"/>
                </a:lnTo>
                <a:lnTo>
                  <a:pt x="202" y="139"/>
                </a:lnTo>
                <a:lnTo>
                  <a:pt x="152" y="151"/>
                </a:lnTo>
                <a:lnTo>
                  <a:pt x="101" y="164"/>
                </a:lnTo>
                <a:lnTo>
                  <a:pt x="51" y="164"/>
                </a:lnTo>
                <a:lnTo>
                  <a:pt x="0" y="176"/>
                </a:lnTo>
                <a:lnTo>
                  <a:pt x="0" y="50"/>
                </a:lnTo>
                <a:lnTo>
                  <a:pt x="76" y="38"/>
                </a:lnTo>
                <a:lnTo>
                  <a:pt x="152" y="25"/>
                </a:lnTo>
                <a:lnTo>
                  <a:pt x="202" y="25"/>
                </a:lnTo>
                <a:lnTo>
                  <a:pt x="265" y="13"/>
                </a:lnTo>
                <a:lnTo>
                  <a:pt x="303" y="13"/>
                </a:lnTo>
                <a:lnTo>
                  <a:pt x="341" y="0"/>
                </a:lnTo>
                <a:lnTo>
                  <a:pt x="366" y="0"/>
                </a:lnTo>
                <a:lnTo>
                  <a:pt x="391" y="0"/>
                </a:lnTo>
                <a:lnTo>
                  <a:pt x="404" y="0"/>
                </a:lnTo>
                <a:lnTo>
                  <a:pt x="429" y="0"/>
                </a:lnTo>
                <a:lnTo>
                  <a:pt x="454" y="0"/>
                </a:lnTo>
                <a:lnTo>
                  <a:pt x="467" y="0"/>
                </a:lnTo>
                <a:lnTo>
                  <a:pt x="504" y="13"/>
                </a:lnTo>
                <a:lnTo>
                  <a:pt x="530" y="13"/>
                </a:lnTo>
                <a:lnTo>
                  <a:pt x="555" y="13"/>
                </a:lnTo>
                <a:lnTo>
                  <a:pt x="593" y="13"/>
                </a:lnTo>
                <a:lnTo>
                  <a:pt x="580" y="11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42"/>
          <p:cNvSpPr/>
          <p:nvPr/>
        </p:nvSpPr>
        <p:spPr>
          <a:xfrm>
            <a:off x="4573440" y="2951280"/>
            <a:ext cx="271440" cy="295200"/>
          </a:xfrm>
          <a:custGeom>
            <a:avLst/>
            <a:gdLst/>
            <a:ahLst/>
            <a:rect l="l" t="t" r="r" b="b"/>
            <a:pathLst>
              <a:path w="428" h="466">
                <a:moveTo>
                  <a:pt x="0" y="13"/>
                </a:move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7" y="0"/>
                </a:lnTo>
                <a:lnTo>
                  <a:pt x="63" y="0"/>
                </a:lnTo>
                <a:lnTo>
                  <a:pt x="75" y="0"/>
                </a:lnTo>
                <a:lnTo>
                  <a:pt x="100" y="13"/>
                </a:lnTo>
                <a:lnTo>
                  <a:pt x="126" y="13"/>
                </a:lnTo>
                <a:lnTo>
                  <a:pt x="151" y="26"/>
                </a:lnTo>
                <a:lnTo>
                  <a:pt x="176" y="38"/>
                </a:lnTo>
                <a:lnTo>
                  <a:pt x="201" y="51"/>
                </a:lnTo>
                <a:lnTo>
                  <a:pt x="239" y="63"/>
                </a:lnTo>
                <a:lnTo>
                  <a:pt x="264" y="89"/>
                </a:lnTo>
                <a:lnTo>
                  <a:pt x="290" y="114"/>
                </a:lnTo>
                <a:lnTo>
                  <a:pt x="315" y="139"/>
                </a:lnTo>
                <a:lnTo>
                  <a:pt x="340" y="164"/>
                </a:lnTo>
                <a:lnTo>
                  <a:pt x="365" y="177"/>
                </a:lnTo>
                <a:lnTo>
                  <a:pt x="378" y="202"/>
                </a:lnTo>
                <a:lnTo>
                  <a:pt x="390" y="227"/>
                </a:lnTo>
                <a:lnTo>
                  <a:pt x="403" y="252"/>
                </a:lnTo>
                <a:lnTo>
                  <a:pt x="416" y="265"/>
                </a:lnTo>
                <a:lnTo>
                  <a:pt x="416" y="277"/>
                </a:lnTo>
                <a:lnTo>
                  <a:pt x="428" y="302"/>
                </a:lnTo>
                <a:lnTo>
                  <a:pt x="416" y="328"/>
                </a:lnTo>
                <a:lnTo>
                  <a:pt x="416" y="365"/>
                </a:lnTo>
                <a:lnTo>
                  <a:pt x="403" y="391"/>
                </a:lnTo>
                <a:lnTo>
                  <a:pt x="403" y="428"/>
                </a:lnTo>
                <a:lnTo>
                  <a:pt x="390" y="441"/>
                </a:lnTo>
                <a:lnTo>
                  <a:pt x="390" y="454"/>
                </a:lnTo>
                <a:lnTo>
                  <a:pt x="378" y="454"/>
                </a:lnTo>
                <a:lnTo>
                  <a:pt x="365" y="466"/>
                </a:lnTo>
                <a:lnTo>
                  <a:pt x="353" y="466"/>
                </a:lnTo>
                <a:lnTo>
                  <a:pt x="340" y="466"/>
                </a:lnTo>
                <a:lnTo>
                  <a:pt x="327" y="466"/>
                </a:lnTo>
                <a:lnTo>
                  <a:pt x="315" y="466"/>
                </a:lnTo>
                <a:lnTo>
                  <a:pt x="302" y="454"/>
                </a:lnTo>
                <a:lnTo>
                  <a:pt x="277" y="441"/>
                </a:lnTo>
                <a:lnTo>
                  <a:pt x="252" y="416"/>
                </a:lnTo>
                <a:lnTo>
                  <a:pt x="239" y="391"/>
                </a:lnTo>
                <a:lnTo>
                  <a:pt x="201" y="365"/>
                </a:lnTo>
                <a:lnTo>
                  <a:pt x="176" y="328"/>
                </a:lnTo>
                <a:lnTo>
                  <a:pt x="151" y="277"/>
                </a:lnTo>
                <a:lnTo>
                  <a:pt x="113" y="240"/>
                </a:lnTo>
                <a:lnTo>
                  <a:pt x="88" y="189"/>
                </a:lnTo>
                <a:lnTo>
                  <a:pt x="63" y="151"/>
                </a:lnTo>
                <a:lnTo>
                  <a:pt x="37" y="114"/>
                </a:lnTo>
                <a:lnTo>
                  <a:pt x="25" y="76"/>
                </a:lnTo>
                <a:lnTo>
                  <a:pt x="12" y="51"/>
                </a:lnTo>
                <a:lnTo>
                  <a:pt x="0" y="38"/>
                </a:lnTo>
                <a:lnTo>
                  <a:pt x="0" y="26"/>
                </a:lnTo>
                <a:lnTo>
                  <a:pt x="0" y="1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2"/>
          <a:stretch/>
        </p:blipFill>
        <p:spPr>
          <a:xfrm>
            <a:off x="390600" y="4749840"/>
            <a:ext cx="84294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38"/>
          <p:cNvGrpSpPr/>
          <p:nvPr/>
        </p:nvGrpSpPr>
        <p:grpSpPr>
          <a:xfrm>
            <a:off x="3322800" y="1116000"/>
            <a:ext cx="2541600" cy="2538360"/>
            <a:chOff x="3322800" y="1116000"/>
            <a:chExt cx="2541600" cy="2538360"/>
          </a:xfrm>
        </p:grpSpPr>
        <p:sp>
          <p:nvSpPr>
            <p:cNvPr id="95" name="直接连接符 3"/>
            <p:cNvSpPr/>
            <p:nvPr/>
          </p:nvSpPr>
          <p:spPr>
            <a:xfrm>
              <a:off x="3344760" y="2382840"/>
              <a:ext cx="2519640" cy="1440"/>
            </a:xfrm>
            <a:prstGeom prst="line">
              <a:avLst/>
            </a:prstGeom>
            <a:ln w="15840">
              <a:solidFill>
                <a:srgbClr val="72bfc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直接连接符 4"/>
            <p:cNvSpPr/>
            <p:nvPr/>
          </p:nvSpPr>
          <p:spPr>
            <a:xfrm flipH="1">
              <a:off x="4570560" y="1116000"/>
              <a:ext cx="1440" cy="2519640"/>
            </a:xfrm>
            <a:prstGeom prst="line">
              <a:avLst/>
            </a:prstGeom>
            <a:ln w="15840">
              <a:solidFill>
                <a:srgbClr val="72bfc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3"/>
            <p:cNvSpPr/>
            <p:nvPr/>
          </p:nvSpPr>
          <p:spPr>
            <a:xfrm>
              <a:off x="3322800" y="1134720"/>
              <a:ext cx="2519640" cy="2519640"/>
            </a:xfrm>
            <a:prstGeom prst="rect">
              <a:avLst/>
            </a:prstGeom>
            <a:noFill/>
            <a:ln w="25560">
              <a:solidFill>
                <a:srgbClr val="2e75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>
            <a:off x="3629160" y="1722600"/>
            <a:ext cx="718920" cy="214200"/>
          </a:xfrm>
          <a:custGeom>
            <a:avLst/>
            <a:gdLst/>
            <a:ahLst/>
            <a:rect l="l" t="t" r="r" b="b"/>
            <a:pathLst>
              <a:path w="1133" h="337">
                <a:moveTo>
                  <a:pt x="439" y="106"/>
                </a:moveTo>
                <a:lnTo>
                  <a:pt x="496" y="89"/>
                </a:lnTo>
                <a:lnTo>
                  <a:pt x="538" y="89"/>
                </a:lnTo>
                <a:lnTo>
                  <a:pt x="581" y="71"/>
                </a:lnTo>
                <a:lnTo>
                  <a:pt x="623" y="71"/>
                </a:lnTo>
                <a:lnTo>
                  <a:pt x="666" y="53"/>
                </a:lnTo>
                <a:lnTo>
                  <a:pt x="694" y="36"/>
                </a:lnTo>
                <a:lnTo>
                  <a:pt x="737" y="36"/>
                </a:lnTo>
                <a:lnTo>
                  <a:pt x="765" y="36"/>
                </a:lnTo>
                <a:lnTo>
                  <a:pt x="793" y="18"/>
                </a:lnTo>
                <a:lnTo>
                  <a:pt x="822" y="18"/>
                </a:lnTo>
                <a:lnTo>
                  <a:pt x="850" y="18"/>
                </a:lnTo>
                <a:lnTo>
                  <a:pt x="864" y="0"/>
                </a:lnTo>
                <a:lnTo>
                  <a:pt x="893" y="0"/>
                </a:lnTo>
                <a:lnTo>
                  <a:pt x="907" y="0"/>
                </a:lnTo>
                <a:lnTo>
                  <a:pt x="921" y="0"/>
                </a:lnTo>
                <a:lnTo>
                  <a:pt x="935" y="0"/>
                </a:lnTo>
                <a:lnTo>
                  <a:pt x="978" y="0"/>
                </a:lnTo>
                <a:lnTo>
                  <a:pt x="1006" y="0"/>
                </a:lnTo>
                <a:lnTo>
                  <a:pt x="1048" y="18"/>
                </a:lnTo>
                <a:lnTo>
                  <a:pt x="1077" y="18"/>
                </a:lnTo>
                <a:lnTo>
                  <a:pt x="1105" y="36"/>
                </a:lnTo>
                <a:lnTo>
                  <a:pt x="1119" y="53"/>
                </a:lnTo>
                <a:lnTo>
                  <a:pt x="1133" y="71"/>
                </a:lnTo>
                <a:lnTo>
                  <a:pt x="1133" y="89"/>
                </a:lnTo>
                <a:lnTo>
                  <a:pt x="1119" y="106"/>
                </a:lnTo>
                <a:lnTo>
                  <a:pt x="1091" y="124"/>
                </a:lnTo>
                <a:lnTo>
                  <a:pt x="1077" y="124"/>
                </a:lnTo>
                <a:lnTo>
                  <a:pt x="1063" y="124"/>
                </a:lnTo>
                <a:lnTo>
                  <a:pt x="1034" y="142"/>
                </a:lnTo>
                <a:lnTo>
                  <a:pt x="1006" y="160"/>
                </a:lnTo>
                <a:lnTo>
                  <a:pt x="963" y="160"/>
                </a:lnTo>
                <a:lnTo>
                  <a:pt x="935" y="177"/>
                </a:lnTo>
                <a:lnTo>
                  <a:pt x="893" y="177"/>
                </a:lnTo>
                <a:lnTo>
                  <a:pt x="850" y="195"/>
                </a:lnTo>
                <a:lnTo>
                  <a:pt x="807" y="195"/>
                </a:lnTo>
                <a:lnTo>
                  <a:pt x="751" y="213"/>
                </a:lnTo>
                <a:lnTo>
                  <a:pt x="708" y="231"/>
                </a:lnTo>
                <a:lnTo>
                  <a:pt x="652" y="248"/>
                </a:lnTo>
                <a:lnTo>
                  <a:pt x="595" y="248"/>
                </a:lnTo>
                <a:lnTo>
                  <a:pt x="552" y="266"/>
                </a:lnTo>
                <a:lnTo>
                  <a:pt x="510" y="266"/>
                </a:lnTo>
                <a:lnTo>
                  <a:pt x="467" y="284"/>
                </a:lnTo>
                <a:lnTo>
                  <a:pt x="425" y="284"/>
                </a:lnTo>
                <a:lnTo>
                  <a:pt x="396" y="301"/>
                </a:lnTo>
                <a:lnTo>
                  <a:pt x="354" y="301"/>
                </a:lnTo>
                <a:lnTo>
                  <a:pt x="326" y="301"/>
                </a:lnTo>
                <a:lnTo>
                  <a:pt x="297" y="319"/>
                </a:lnTo>
                <a:lnTo>
                  <a:pt x="283" y="319"/>
                </a:lnTo>
                <a:lnTo>
                  <a:pt x="255" y="319"/>
                </a:lnTo>
                <a:lnTo>
                  <a:pt x="241" y="319"/>
                </a:lnTo>
                <a:lnTo>
                  <a:pt x="226" y="319"/>
                </a:lnTo>
                <a:lnTo>
                  <a:pt x="212" y="337"/>
                </a:lnTo>
                <a:lnTo>
                  <a:pt x="198" y="337"/>
                </a:lnTo>
                <a:lnTo>
                  <a:pt x="170" y="319"/>
                </a:lnTo>
                <a:lnTo>
                  <a:pt x="127" y="319"/>
                </a:lnTo>
                <a:lnTo>
                  <a:pt x="99" y="301"/>
                </a:lnTo>
                <a:lnTo>
                  <a:pt x="56" y="284"/>
                </a:lnTo>
                <a:lnTo>
                  <a:pt x="42" y="284"/>
                </a:lnTo>
                <a:lnTo>
                  <a:pt x="14" y="266"/>
                </a:lnTo>
                <a:lnTo>
                  <a:pt x="0" y="248"/>
                </a:lnTo>
                <a:lnTo>
                  <a:pt x="14" y="231"/>
                </a:lnTo>
                <a:lnTo>
                  <a:pt x="28" y="231"/>
                </a:lnTo>
                <a:lnTo>
                  <a:pt x="42" y="231"/>
                </a:lnTo>
                <a:lnTo>
                  <a:pt x="56" y="213"/>
                </a:lnTo>
                <a:lnTo>
                  <a:pt x="70" y="213"/>
                </a:lnTo>
                <a:lnTo>
                  <a:pt x="85" y="213"/>
                </a:lnTo>
                <a:lnTo>
                  <a:pt x="113" y="213"/>
                </a:lnTo>
                <a:lnTo>
                  <a:pt x="141" y="195"/>
                </a:lnTo>
                <a:lnTo>
                  <a:pt x="170" y="195"/>
                </a:lnTo>
                <a:lnTo>
                  <a:pt x="198" y="177"/>
                </a:lnTo>
                <a:lnTo>
                  <a:pt x="226" y="160"/>
                </a:lnTo>
                <a:lnTo>
                  <a:pt x="269" y="160"/>
                </a:lnTo>
                <a:lnTo>
                  <a:pt x="311" y="142"/>
                </a:lnTo>
                <a:lnTo>
                  <a:pt x="354" y="142"/>
                </a:lnTo>
                <a:lnTo>
                  <a:pt x="396" y="124"/>
                </a:lnTo>
                <a:lnTo>
                  <a:pt x="439" y="10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4384800" y="1766880"/>
            <a:ext cx="215640" cy="450720"/>
          </a:xfrm>
          <a:custGeom>
            <a:avLst/>
            <a:gdLst/>
            <a:ahLst/>
            <a:rect l="l" t="t" r="r" b="b"/>
            <a:pathLst>
              <a:path w="340" h="709">
                <a:moveTo>
                  <a:pt x="71" y="390"/>
                </a:moveTo>
                <a:lnTo>
                  <a:pt x="85" y="372"/>
                </a:lnTo>
                <a:lnTo>
                  <a:pt x="99" y="337"/>
                </a:lnTo>
                <a:lnTo>
                  <a:pt x="128" y="301"/>
                </a:lnTo>
                <a:lnTo>
                  <a:pt x="142" y="266"/>
                </a:lnTo>
                <a:lnTo>
                  <a:pt x="170" y="213"/>
                </a:lnTo>
                <a:lnTo>
                  <a:pt x="184" y="142"/>
                </a:lnTo>
                <a:lnTo>
                  <a:pt x="213" y="89"/>
                </a:lnTo>
                <a:lnTo>
                  <a:pt x="227" y="0"/>
                </a:lnTo>
                <a:lnTo>
                  <a:pt x="255" y="35"/>
                </a:lnTo>
                <a:lnTo>
                  <a:pt x="269" y="53"/>
                </a:lnTo>
                <a:lnTo>
                  <a:pt x="298" y="71"/>
                </a:lnTo>
                <a:lnTo>
                  <a:pt x="312" y="106"/>
                </a:lnTo>
                <a:lnTo>
                  <a:pt x="312" y="124"/>
                </a:lnTo>
                <a:lnTo>
                  <a:pt x="326" y="142"/>
                </a:lnTo>
                <a:lnTo>
                  <a:pt x="326" y="160"/>
                </a:lnTo>
                <a:lnTo>
                  <a:pt x="340" y="195"/>
                </a:lnTo>
                <a:lnTo>
                  <a:pt x="340" y="213"/>
                </a:lnTo>
                <a:lnTo>
                  <a:pt x="340" y="230"/>
                </a:lnTo>
                <a:lnTo>
                  <a:pt x="326" y="266"/>
                </a:lnTo>
                <a:lnTo>
                  <a:pt x="326" y="301"/>
                </a:lnTo>
                <a:lnTo>
                  <a:pt x="312" y="319"/>
                </a:lnTo>
                <a:lnTo>
                  <a:pt x="312" y="372"/>
                </a:lnTo>
                <a:lnTo>
                  <a:pt x="298" y="408"/>
                </a:lnTo>
                <a:lnTo>
                  <a:pt x="284" y="443"/>
                </a:lnTo>
                <a:lnTo>
                  <a:pt x="269" y="479"/>
                </a:lnTo>
                <a:lnTo>
                  <a:pt x="241" y="532"/>
                </a:lnTo>
                <a:lnTo>
                  <a:pt x="227" y="549"/>
                </a:lnTo>
                <a:lnTo>
                  <a:pt x="213" y="585"/>
                </a:lnTo>
                <a:lnTo>
                  <a:pt x="199" y="603"/>
                </a:lnTo>
                <a:lnTo>
                  <a:pt x="184" y="638"/>
                </a:lnTo>
                <a:lnTo>
                  <a:pt x="170" y="656"/>
                </a:lnTo>
                <a:lnTo>
                  <a:pt x="156" y="656"/>
                </a:lnTo>
                <a:lnTo>
                  <a:pt x="142" y="691"/>
                </a:lnTo>
                <a:lnTo>
                  <a:pt x="114" y="691"/>
                </a:lnTo>
                <a:lnTo>
                  <a:pt x="99" y="709"/>
                </a:lnTo>
                <a:lnTo>
                  <a:pt x="85" y="709"/>
                </a:lnTo>
                <a:lnTo>
                  <a:pt x="71" y="691"/>
                </a:lnTo>
                <a:lnTo>
                  <a:pt x="57" y="673"/>
                </a:lnTo>
                <a:lnTo>
                  <a:pt x="43" y="656"/>
                </a:lnTo>
                <a:lnTo>
                  <a:pt x="43" y="638"/>
                </a:lnTo>
                <a:lnTo>
                  <a:pt x="14" y="603"/>
                </a:lnTo>
                <a:lnTo>
                  <a:pt x="14" y="567"/>
                </a:lnTo>
                <a:lnTo>
                  <a:pt x="0" y="532"/>
                </a:lnTo>
                <a:lnTo>
                  <a:pt x="0" y="514"/>
                </a:lnTo>
                <a:lnTo>
                  <a:pt x="0" y="479"/>
                </a:lnTo>
                <a:lnTo>
                  <a:pt x="14" y="461"/>
                </a:lnTo>
                <a:lnTo>
                  <a:pt x="43" y="425"/>
                </a:lnTo>
                <a:lnTo>
                  <a:pt x="71" y="39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4527720" y="1722600"/>
            <a:ext cx="1171440" cy="404640"/>
          </a:xfrm>
          <a:custGeom>
            <a:avLst/>
            <a:gdLst/>
            <a:ahLst/>
            <a:rect l="l" t="t" r="r" b="b"/>
            <a:pathLst>
              <a:path w="1843" h="638">
                <a:moveTo>
                  <a:pt x="1843" y="301"/>
                </a:moveTo>
                <a:lnTo>
                  <a:pt x="1843" y="319"/>
                </a:lnTo>
                <a:lnTo>
                  <a:pt x="1828" y="319"/>
                </a:lnTo>
                <a:lnTo>
                  <a:pt x="1814" y="319"/>
                </a:lnTo>
                <a:lnTo>
                  <a:pt x="1800" y="337"/>
                </a:lnTo>
                <a:lnTo>
                  <a:pt x="1772" y="337"/>
                </a:lnTo>
                <a:lnTo>
                  <a:pt x="1758" y="355"/>
                </a:lnTo>
                <a:lnTo>
                  <a:pt x="1715" y="372"/>
                </a:lnTo>
                <a:lnTo>
                  <a:pt x="1687" y="390"/>
                </a:lnTo>
                <a:lnTo>
                  <a:pt x="1616" y="408"/>
                </a:lnTo>
                <a:lnTo>
                  <a:pt x="1545" y="443"/>
                </a:lnTo>
                <a:lnTo>
                  <a:pt x="1460" y="496"/>
                </a:lnTo>
                <a:lnTo>
                  <a:pt x="1389" y="550"/>
                </a:lnTo>
                <a:lnTo>
                  <a:pt x="1347" y="567"/>
                </a:lnTo>
                <a:lnTo>
                  <a:pt x="1318" y="603"/>
                </a:lnTo>
                <a:lnTo>
                  <a:pt x="1290" y="620"/>
                </a:lnTo>
                <a:lnTo>
                  <a:pt x="1276" y="620"/>
                </a:lnTo>
                <a:lnTo>
                  <a:pt x="1247" y="638"/>
                </a:lnTo>
                <a:lnTo>
                  <a:pt x="1233" y="638"/>
                </a:lnTo>
                <a:lnTo>
                  <a:pt x="1219" y="638"/>
                </a:lnTo>
                <a:lnTo>
                  <a:pt x="1205" y="638"/>
                </a:lnTo>
                <a:lnTo>
                  <a:pt x="1205" y="620"/>
                </a:lnTo>
                <a:lnTo>
                  <a:pt x="1205" y="603"/>
                </a:lnTo>
                <a:lnTo>
                  <a:pt x="1205" y="585"/>
                </a:lnTo>
                <a:lnTo>
                  <a:pt x="1205" y="550"/>
                </a:lnTo>
                <a:lnTo>
                  <a:pt x="1219" y="514"/>
                </a:lnTo>
                <a:lnTo>
                  <a:pt x="1233" y="479"/>
                </a:lnTo>
                <a:lnTo>
                  <a:pt x="1261" y="443"/>
                </a:lnTo>
                <a:lnTo>
                  <a:pt x="1276" y="390"/>
                </a:lnTo>
                <a:lnTo>
                  <a:pt x="1290" y="355"/>
                </a:lnTo>
                <a:lnTo>
                  <a:pt x="1304" y="319"/>
                </a:lnTo>
                <a:lnTo>
                  <a:pt x="1304" y="301"/>
                </a:lnTo>
                <a:lnTo>
                  <a:pt x="1318" y="266"/>
                </a:lnTo>
                <a:lnTo>
                  <a:pt x="1318" y="248"/>
                </a:lnTo>
                <a:lnTo>
                  <a:pt x="1318" y="231"/>
                </a:lnTo>
                <a:lnTo>
                  <a:pt x="1304" y="231"/>
                </a:lnTo>
                <a:lnTo>
                  <a:pt x="1290" y="213"/>
                </a:lnTo>
                <a:lnTo>
                  <a:pt x="1276" y="213"/>
                </a:lnTo>
                <a:lnTo>
                  <a:pt x="1261" y="231"/>
                </a:lnTo>
                <a:lnTo>
                  <a:pt x="1247" y="231"/>
                </a:lnTo>
                <a:lnTo>
                  <a:pt x="1219" y="231"/>
                </a:lnTo>
                <a:lnTo>
                  <a:pt x="1191" y="231"/>
                </a:lnTo>
                <a:lnTo>
                  <a:pt x="1148" y="231"/>
                </a:lnTo>
                <a:lnTo>
                  <a:pt x="1120" y="231"/>
                </a:lnTo>
                <a:lnTo>
                  <a:pt x="1077" y="248"/>
                </a:lnTo>
                <a:lnTo>
                  <a:pt x="1035" y="248"/>
                </a:lnTo>
                <a:lnTo>
                  <a:pt x="978" y="248"/>
                </a:lnTo>
                <a:lnTo>
                  <a:pt x="935" y="266"/>
                </a:lnTo>
                <a:lnTo>
                  <a:pt x="879" y="266"/>
                </a:lnTo>
                <a:lnTo>
                  <a:pt x="822" y="284"/>
                </a:lnTo>
                <a:lnTo>
                  <a:pt x="695" y="301"/>
                </a:lnTo>
                <a:lnTo>
                  <a:pt x="581" y="319"/>
                </a:lnTo>
                <a:lnTo>
                  <a:pt x="482" y="337"/>
                </a:lnTo>
                <a:lnTo>
                  <a:pt x="369" y="355"/>
                </a:lnTo>
                <a:lnTo>
                  <a:pt x="269" y="355"/>
                </a:lnTo>
                <a:lnTo>
                  <a:pt x="184" y="372"/>
                </a:lnTo>
                <a:lnTo>
                  <a:pt x="85" y="390"/>
                </a:lnTo>
                <a:lnTo>
                  <a:pt x="0" y="390"/>
                </a:lnTo>
                <a:lnTo>
                  <a:pt x="0" y="284"/>
                </a:lnTo>
                <a:lnTo>
                  <a:pt x="99" y="266"/>
                </a:lnTo>
                <a:lnTo>
                  <a:pt x="198" y="248"/>
                </a:lnTo>
                <a:lnTo>
                  <a:pt x="283" y="231"/>
                </a:lnTo>
                <a:lnTo>
                  <a:pt x="383" y="231"/>
                </a:lnTo>
                <a:lnTo>
                  <a:pt x="454" y="213"/>
                </a:lnTo>
                <a:lnTo>
                  <a:pt x="539" y="195"/>
                </a:lnTo>
                <a:lnTo>
                  <a:pt x="609" y="195"/>
                </a:lnTo>
                <a:lnTo>
                  <a:pt x="680" y="177"/>
                </a:lnTo>
                <a:lnTo>
                  <a:pt x="737" y="160"/>
                </a:lnTo>
                <a:lnTo>
                  <a:pt x="808" y="160"/>
                </a:lnTo>
                <a:lnTo>
                  <a:pt x="850" y="160"/>
                </a:lnTo>
                <a:lnTo>
                  <a:pt x="907" y="142"/>
                </a:lnTo>
                <a:lnTo>
                  <a:pt x="950" y="142"/>
                </a:lnTo>
                <a:lnTo>
                  <a:pt x="992" y="124"/>
                </a:lnTo>
                <a:lnTo>
                  <a:pt x="1035" y="124"/>
                </a:lnTo>
                <a:lnTo>
                  <a:pt x="1063" y="124"/>
                </a:lnTo>
                <a:lnTo>
                  <a:pt x="1134" y="106"/>
                </a:lnTo>
                <a:lnTo>
                  <a:pt x="1176" y="106"/>
                </a:lnTo>
                <a:lnTo>
                  <a:pt x="1233" y="89"/>
                </a:lnTo>
                <a:lnTo>
                  <a:pt x="1276" y="71"/>
                </a:lnTo>
                <a:lnTo>
                  <a:pt x="1304" y="71"/>
                </a:lnTo>
                <a:lnTo>
                  <a:pt x="1332" y="53"/>
                </a:lnTo>
                <a:lnTo>
                  <a:pt x="1361" y="53"/>
                </a:lnTo>
                <a:lnTo>
                  <a:pt x="1375" y="36"/>
                </a:lnTo>
                <a:lnTo>
                  <a:pt x="1403" y="18"/>
                </a:lnTo>
                <a:lnTo>
                  <a:pt x="1417" y="18"/>
                </a:lnTo>
                <a:lnTo>
                  <a:pt x="1446" y="0"/>
                </a:lnTo>
                <a:lnTo>
                  <a:pt x="1460" y="0"/>
                </a:lnTo>
                <a:lnTo>
                  <a:pt x="1474" y="0"/>
                </a:lnTo>
                <a:lnTo>
                  <a:pt x="1488" y="18"/>
                </a:lnTo>
                <a:lnTo>
                  <a:pt x="1517" y="18"/>
                </a:lnTo>
                <a:lnTo>
                  <a:pt x="1545" y="36"/>
                </a:lnTo>
                <a:lnTo>
                  <a:pt x="1573" y="53"/>
                </a:lnTo>
                <a:lnTo>
                  <a:pt x="1602" y="71"/>
                </a:lnTo>
                <a:lnTo>
                  <a:pt x="1630" y="106"/>
                </a:lnTo>
                <a:lnTo>
                  <a:pt x="1673" y="142"/>
                </a:lnTo>
                <a:lnTo>
                  <a:pt x="1715" y="177"/>
                </a:lnTo>
                <a:lnTo>
                  <a:pt x="1758" y="213"/>
                </a:lnTo>
                <a:lnTo>
                  <a:pt x="1786" y="231"/>
                </a:lnTo>
                <a:lnTo>
                  <a:pt x="1800" y="248"/>
                </a:lnTo>
                <a:lnTo>
                  <a:pt x="1814" y="266"/>
                </a:lnTo>
                <a:lnTo>
                  <a:pt x="1828" y="284"/>
                </a:lnTo>
                <a:lnTo>
                  <a:pt x="1843" y="30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4816440" y="1406520"/>
            <a:ext cx="324000" cy="304920"/>
          </a:xfrm>
          <a:custGeom>
            <a:avLst/>
            <a:gdLst/>
            <a:ahLst/>
            <a:rect l="l" t="t" r="r" b="b"/>
            <a:pathLst>
              <a:path w="510" h="478">
                <a:moveTo>
                  <a:pt x="0" y="0"/>
                </a:moveTo>
                <a:lnTo>
                  <a:pt x="42" y="0"/>
                </a:lnTo>
                <a:lnTo>
                  <a:pt x="85" y="0"/>
                </a:lnTo>
                <a:lnTo>
                  <a:pt x="127" y="18"/>
                </a:lnTo>
                <a:lnTo>
                  <a:pt x="170" y="18"/>
                </a:lnTo>
                <a:lnTo>
                  <a:pt x="212" y="35"/>
                </a:lnTo>
                <a:lnTo>
                  <a:pt x="255" y="53"/>
                </a:lnTo>
                <a:lnTo>
                  <a:pt x="297" y="71"/>
                </a:lnTo>
                <a:lnTo>
                  <a:pt x="340" y="106"/>
                </a:lnTo>
                <a:lnTo>
                  <a:pt x="382" y="124"/>
                </a:lnTo>
                <a:lnTo>
                  <a:pt x="411" y="159"/>
                </a:lnTo>
                <a:lnTo>
                  <a:pt x="439" y="177"/>
                </a:lnTo>
                <a:lnTo>
                  <a:pt x="467" y="195"/>
                </a:lnTo>
                <a:lnTo>
                  <a:pt x="481" y="230"/>
                </a:lnTo>
                <a:lnTo>
                  <a:pt x="496" y="248"/>
                </a:lnTo>
                <a:lnTo>
                  <a:pt x="510" y="283"/>
                </a:lnTo>
                <a:lnTo>
                  <a:pt x="510" y="301"/>
                </a:lnTo>
                <a:lnTo>
                  <a:pt x="510" y="354"/>
                </a:lnTo>
                <a:lnTo>
                  <a:pt x="496" y="408"/>
                </a:lnTo>
                <a:lnTo>
                  <a:pt x="481" y="443"/>
                </a:lnTo>
                <a:lnTo>
                  <a:pt x="467" y="461"/>
                </a:lnTo>
                <a:lnTo>
                  <a:pt x="453" y="461"/>
                </a:lnTo>
                <a:lnTo>
                  <a:pt x="439" y="478"/>
                </a:lnTo>
                <a:lnTo>
                  <a:pt x="425" y="461"/>
                </a:lnTo>
                <a:lnTo>
                  <a:pt x="396" y="461"/>
                </a:lnTo>
                <a:lnTo>
                  <a:pt x="382" y="461"/>
                </a:lnTo>
                <a:lnTo>
                  <a:pt x="354" y="443"/>
                </a:lnTo>
                <a:lnTo>
                  <a:pt x="326" y="425"/>
                </a:lnTo>
                <a:lnTo>
                  <a:pt x="297" y="408"/>
                </a:lnTo>
                <a:lnTo>
                  <a:pt x="226" y="354"/>
                </a:lnTo>
                <a:lnTo>
                  <a:pt x="170" y="301"/>
                </a:lnTo>
                <a:lnTo>
                  <a:pt x="127" y="248"/>
                </a:lnTo>
                <a:lnTo>
                  <a:pt x="85" y="195"/>
                </a:lnTo>
                <a:lnTo>
                  <a:pt x="70" y="177"/>
                </a:lnTo>
                <a:lnTo>
                  <a:pt x="56" y="142"/>
                </a:lnTo>
                <a:lnTo>
                  <a:pt x="28" y="124"/>
                </a:lnTo>
                <a:lnTo>
                  <a:pt x="28" y="89"/>
                </a:lnTo>
                <a:lnTo>
                  <a:pt x="14" y="71"/>
                </a:lnTo>
                <a:lnTo>
                  <a:pt x="14" y="53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4276800" y="2171880"/>
            <a:ext cx="458640" cy="529920"/>
          </a:xfrm>
          <a:custGeom>
            <a:avLst/>
            <a:gdLst/>
            <a:ahLst/>
            <a:rect l="l" t="t" r="r" b="b"/>
            <a:pathLst>
              <a:path w="723" h="833">
                <a:moveTo>
                  <a:pt x="510" y="71"/>
                </a:moveTo>
                <a:lnTo>
                  <a:pt x="496" y="35"/>
                </a:lnTo>
                <a:lnTo>
                  <a:pt x="496" y="18"/>
                </a:lnTo>
                <a:lnTo>
                  <a:pt x="510" y="0"/>
                </a:lnTo>
                <a:lnTo>
                  <a:pt x="525" y="0"/>
                </a:lnTo>
                <a:lnTo>
                  <a:pt x="539" y="0"/>
                </a:lnTo>
                <a:lnTo>
                  <a:pt x="553" y="0"/>
                </a:lnTo>
                <a:lnTo>
                  <a:pt x="567" y="0"/>
                </a:lnTo>
                <a:lnTo>
                  <a:pt x="581" y="18"/>
                </a:lnTo>
                <a:lnTo>
                  <a:pt x="595" y="18"/>
                </a:lnTo>
                <a:lnTo>
                  <a:pt x="610" y="35"/>
                </a:lnTo>
                <a:lnTo>
                  <a:pt x="638" y="53"/>
                </a:lnTo>
                <a:lnTo>
                  <a:pt x="652" y="71"/>
                </a:lnTo>
                <a:lnTo>
                  <a:pt x="666" y="89"/>
                </a:lnTo>
                <a:lnTo>
                  <a:pt x="680" y="89"/>
                </a:lnTo>
                <a:lnTo>
                  <a:pt x="695" y="106"/>
                </a:lnTo>
                <a:lnTo>
                  <a:pt x="709" y="124"/>
                </a:lnTo>
                <a:lnTo>
                  <a:pt x="723" y="142"/>
                </a:lnTo>
                <a:lnTo>
                  <a:pt x="723" y="160"/>
                </a:lnTo>
                <a:lnTo>
                  <a:pt x="723" y="177"/>
                </a:lnTo>
                <a:lnTo>
                  <a:pt x="723" y="195"/>
                </a:lnTo>
                <a:lnTo>
                  <a:pt x="709" y="213"/>
                </a:lnTo>
                <a:lnTo>
                  <a:pt x="695" y="248"/>
                </a:lnTo>
                <a:lnTo>
                  <a:pt x="666" y="266"/>
                </a:lnTo>
                <a:lnTo>
                  <a:pt x="652" y="301"/>
                </a:lnTo>
                <a:lnTo>
                  <a:pt x="624" y="337"/>
                </a:lnTo>
                <a:lnTo>
                  <a:pt x="581" y="390"/>
                </a:lnTo>
                <a:lnTo>
                  <a:pt x="510" y="461"/>
                </a:lnTo>
                <a:lnTo>
                  <a:pt x="425" y="549"/>
                </a:lnTo>
                <a:lnTo>
                  <a:pt x="326" y="620"/>
                </a:lnTo>
                <a:lnTo>
                  <a:pt x="227" y="691"/>
                </a:lnTo>
                <a:lnTo>
                  <a:pt x="184" y="727"/>
                </a:lnTo>
                <a:lnTo>
                  <a:pt x="142" y="762"/>
                </a:lnTo>
                <a:lnTo>
                  <a:pt x="99" y="780"/>
                </a:lnTo>
                <a:lnTo>
                  <a:pt x="71" y="798"/>
                </a:lnTo>
                <a:lnTo>
                  <a:pt x="43" y="815"/>
                </a:lnTo>
                <a:lnTo>
                  <a:pt x="28" y="815"/>
                </a:lnTo>
                <a:lnTo>
                  <a:pt x="14" y="833"/>
                </a:lnTo>
                <a:lnTo>
                  <a:pt x="0" y="833"/>
                </a:lnTo>
                <a:lnTo>
                  <a:pt x="0" y="815"/>
                </a:lnTo>
                <a:lnTo>
                  <a:pt x="14" y="798"/>
                </a:lnTo>
                <a:lnTo>
                  <a:pt x="43" y="762"/>
                </a:lnTo>
                <a:lnTo>
                  <a:pt x="57" y="727"/>
                </a:lnTo>
                <a:lnTo>
                  <a:pt x="99" y="691"/>
                </a:lnTo>
                <a:lnTo>
                  <a:pt x="142" y="638"/>
                </a:lnTo>
                <a:lnTo>
                  <a:pt x="184" y="585"/>
                </a:lnTo>
                <a:lnTo>
                  <a:pt x="227" y="532"/>
                </a:lnTo>
                <a:lnTo>
                  <a:pt x="269" y="479"/>
                </a:lnTo>
                <a:lnTo>
                  <a:pt x="312" y="425"/>
                </a:lnTo>
                <a:lnTo>
                  <a:pt x="354" y="390"/>
                </a:lnTo>
                <a:lnTo>
                  <a:pt x="383" y="337"/>
                </a:lnTo>
                <a:lnTo>
                  <a:pt x="411" y="301"/>
                </a:lnTo>
                <a:lnTo>
                  <a:pt x="439" y="266"/>
                </a:lnTo>
                <a:lnTo>
                  <a:pt x="454" y="230"/>
                </a:lnTo>
                <a:lnTo>
                  <a:pt x="468" y="213"/>
                </a:lnTo>
                <a:lnTo>
                  <a:pt x="482" y="177"/>
                </a:lnTo>
                <a:lnTo>
                  <a:pt x="496" y="160"/>
                </a:lnTo>
                <a:lnTo>
                  <a:pt x="510" y="142"/>
                </a:lnTo>
                <a:lnTo>
                  <a:pt x="510" y="106"/>
                </a:lnTo>
                <a:lnTo>
                  <a:pt x="510" y="89"/>
                </a:lnTo>
                <a:lnTo>
                  <a:pt x="510" y="7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032360" y="2386080"/>
            <a:ext cx="901440" cy="1035000"/>
          </a:xfrm>
          <a:custGeom>
            <a:avLst/>
            <a:gdLst/>
            <a:ahLst/>
            <a:rect l="l" t="t" r="r" b="b"/>
            <a:pathLst>
              <a:path w="1418" h="1630">
                <a:moveTo>
                  <a:pt x="298" y="1488"/>
                </a:moveTo>
                <a:lnTo>
                  <a:pt x="227" y="1524"/>
                </a:lnTo>
                <a:lnTo>
                  <a:pt x="170" y="1559"/>
                </a:lnTo>
                <a:lnTo>
                  <a:pt x="128" y="1577"/>
                </a:lnTo>
                <a:lnTo>
                  <a:pt x="85" y="1612"/>
                </a:lnTo>
                <a:lnTo>
                  <a:pt x="43" y="1612"/>
                </a:lnTo>
                <a:lnTo>
                  <a:pt x="29" y="1630"/>
                </a:lnTo>
                <a:lnTo>
                  <a:pt x="0" y="1630"/>
                </a:lnTo>
                <a:lnTo>
                  <a:pt x="0" y="1612"/>
                </a:lnTo>
                <a:lnTo>
                  <a:pt x="0" y="1595"/>
                </a:lnTo>
                <a:lnTo>
                  <a:pt x="15" y="1577"/>
                </a:lnTo>
                <a:lnTo>
                  <a:pt x="29" y="1577"/>
                </a:lnTo>
                <a:lnTo>
                  <a:pt x="43" y="1559"/>
                </a:lnTo>
                <a:lnTo>
                  <a:pt x="57" y="1542"/>
                </a:lnTo>
                <a:lnTo>
                  <a:pt x="71" y="1524"/>
                </a:lnTo>
                <a:lnTo>
                  <a:pt x="100" y="1506"/>
                </a:lnTo>
                <a:lnTo>
                  <a:pt x="114" y="1488"/>
                </a:lnTo>
                <a:lnTo>
                  <a:pt x="142" y="1453"/>
                </a:lnTo>
                <a:lnTo>
                  <a:pt x="170" y="1435"/>
                </a:lnTo>
                <a:lnTo>
                  <a:pt x="199" y="1418"/>
                </a:lnTo>
                <a:lnTo>
                  <a:pt x="241" y="1382"/>
                </a:lnTo>
                <a:lnTo>
                  <a:pt x="284" y="1347"/>
                </a:lnTo>
                <a:lnTo>
                  <a:pt x="355" y="1293"/>
                </a:lnTo>
                <a:lnTo>
                  <a:pt x="426" y="1223"/>
                </a:lnTo>
                <a:lnTo>
                  <a:pt x="482" y="1169"/>
                </a:lnTo>
                <a:lnTo>
                  <a:pt x="553" y="1099"/>
                </a:lnTo>
                <a:lnTo>
                  <a:pt x="610" y="1045"/>
                </a:lnTo>
                <a:lnTo>
                  <a:pt x="667" y="992"/>
                </a:lnTo>
                <a:lnTo>
                  <a:pt x="709" y="921"/>
                </a:lnTo>
                <a:lnTo>
                  <a:pt x="766" y="868"/>
                </a:lnTo>
                <a:lnTo>
                  <a:pt x="808" y="797"/>
                </a:lnTo>
                <a:lnTo>
                  <a:pt x="851" y="744"/>
                </a:lnTo>
                <a:lnTo>
                  <a:pt x="879" y="673"/>
                </a:lnTo>
                <a:lnTo>
                  <a:pt x="922" y="620"/>
                </a:lnTo>
                <a:lnTo>
                  <a:pt x="950" y="567"/>
                </a:lnTo>
                <a:lnTo>
                  <a:pt x="978" y="514"/>
                </a:lnTo>
                <a:lnTo>
                  <a:pt x="993" y="461"/>
                </a:lnTo>
                <a:lnTo>
                  <a:pt x="1021" y="425"/>
                </a:lnTo>
                <a:lnTo>
                  <a:pt x="1035" y="372"/>
                </a:lnTo>
                <a:lnTo>
                  <a:pt x="1049" y="336"/>
                </a:lnTo>
                <a:lnTo>
                  <a:pt x="1063" y="301"/>
                </a:lnTo>
                <a:lnTo>
                  <a:pt x="1078" y="266"/>
                </a:lnTo>
                <a:lnTo>
                  <a:pt x="1078" y="248"/>
                </a:lnTo>
                <a:lnTo>
                  <a:pt x="1078" y="230"/>
                </a:lnTo>
                <a:lnTo>
                  <a:pt x="1078" y="212"/>
                </a:lnTo>
                <a:lnTo>
                  <a:pt x="1078" y="195"/>
                </a:lnTo>
                <a:lnTo>
                  <a:pt x="1063" y="195"/>
                </a:lnTo>
                <a:lnTo>
                  <a:pt x="1035" y="177"/>
                </a:lnTo>
                <a:lnTo>
                  <a:pt x="993" y="177"/>
                </a:lnTo>
                <a:lnTo>
                  <a:pt x="950" y="177"/>
                </a:lnTo>
                <a:lnTo>
                  <a:pt x="893" y="177"/>
                </a:lnTo>
                <a:lnTo>
                  <a:pt x="837" y="177"/>
                </a:lnTo>
                <a:lnTo>
                  <a:pt x="766" y="177"/>
                </a:lnTo>
                <a:lnTo>
                  <a:pt x="766" y="71"/>
                </a:lnTo>
                <a:lnTo>
                  <a:pt x="851" y="71"/>
                </a:lnTo>
                <a:lnTo>
                  <a:pt x="922" y="71"/>
                </a:lnTo>
                <a:lnTo>
                  <a:pt x="978" y="71"/>
                </a:lnTo>
                <a:lnTo>
                  <a:pt x="1035" y="53"/>
                </a:lnTo>
                <a:lnTo>
                  <a:pt x="1078" y="53"/>
                </a:lnTo>
                <a:lnTo>
                  <a:pt x="1106" y="53"/>
                </a:lnTo>
                <a:lnTo>
                  <a:pt x="1134" y="35"/>
                </a:lnTo>
                <a:lnTo>
                  <a:pt x="1149" y="35"/>
                </a:lnTo>
                <a:lnTo>
                  <a:pt x="1177" y="17"/>
                </a:lnTo>
                <a:lnTo>
                  <a:pt x="1191" y="17"/>
                </a:lnTo>
                <a:lnTo>
                  <a:pt x="1219" y="0"/>
                </a:lnTo>
                <a:lnTo>
                  <a:pt x="1234" y="0"/>
                </a:lnTo>
                <a:lnTo>
                  <a:pt x="1248" y="0"/>
                </a:lnTo>
                <a:lnTo>
                  <a:pt x="1262" y="0"/>
                </a:lnTo>
                <a:lnTo>
                  <a:pt x="1276" y="17"/>
                </a:lnTo>
                <a:lnTo>
                  <a:pt x="1290" y="17"/>
                </a:lnTo>
                <a:lnTo>
                  <a:pt x="1304" y="35"/>
                </a:lnTo>
                <a:lnTo>
                  <a:pt x="1319" y="53"/>
                </a:lnTo>
                <a:lnTo>
                  <a:pt x="1333" y="71"/>
                </a:lnTo>
                <a:lnTo>
                  <a:pt x="1361" y="88"/>
                </a:lnTo>
                <a:lnTo>
                  <a:pt x="1375" y="106"/>
                </a:lnTo>
                <a:lnTo>
                  <a:pt x="1389" y="124"/>
                </a:lnTo>
                <a:lnTo>
                  <a:pt x="1404" y="142"/>
                </a:lnTo>
                <a:lnTo>
                  <a:pt x="1404" y="159"/>
                </a:lnTo>
                <a:lnTo>
                  <a:pt x="1418" y="177"/>
                </a:lnTo>
                <a:lnTo>
                  <a:pt x="1418" y="195"/>
                </a:lnTo>
                <a:lnTo>
                  <a:pt x="1418" y="212"/>
                </a:lnTo>
                <a:lnTo>
                  <a:pt x="1404" y="230"/>
                </a:lnTo>
                <a:lnTo>
                  <a:pt x="1389" y="248"/>
                </a:lnTo>
                <a:lnTo>
                  <a:pt x="1361" y="248"/>
                </a:lnTo>
                <a:lnTo>
                  <a:pt x="1347" y="266"/>
                </a:lnTo>
                <a:lnTo>
                  <a:pt x="1333" y="283"/>
                </a:lnTo>
                <a:lnTo>
                  <a:pt x="1319" y="301"/>
                </a:lnTo>
                <a:lnTo>
                  <a:pt x="1290" y="336"/>
                </a:lnTo>
                <a:lnTo>
                  <a:pt x="1262" y="372"/>
                </a:lnTo>
                <a:lnTo>
                  <a:pt x="1234" y="425"/>
                </a:lnTo>
                <a:lnTo>
                  <a:pt x="1191" y="478"/>
                </a:lnTo>
                <a:lnTo>
                  <a:pt x="1163" y="549"/>
                </a:lnTo>
                <a:lnTo>
                  <a:pt x="1078" y="691"/>
                </a:lnTo>
                <a:lnTo>
                  <a:pt x="993" y="833"/>
                </a:lnTo>
                <a:lnTo>
                  <a:pt x="893" y="957"/>
                </a:lnTo>
                <a:lnTo>
                  <a:pt x="780" y="1081"/>
                </a:lnTo>
                <a:lnTo>
                  <a:pt x="667" y="1187"/>
                </a:lnTo>
                <a:lnTo>
                  <a:pt x="553" y="1293"/>
                </a:lnTo>
                <a:lnTo>
                  <a:pt x="426" y="1400"/>
                </a:lnTo>
                <a:lnTo>
                  <a:pt x="298" y="148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12"/>
          <p:cNvSpPr/>
          <p:nvPr/>
        </p:nvSpPr>
        <p:spPr>
          <a:xfrm>
            <a:off x="4375080" y="2679840"/>
            <a:ext cx="189000" cy="156960"/>
          </a:xfrm>
          <a:custGeom>
            <a:avLst/>
            <a:gdLst/>
            <a:ahLst/>
            <a:rect l="l" t="t" r="r" b="b"/>
            <a:pathLst>
              <a:path w="298" h="248">
                <a:moveTo>
                  <a:pt x="0" y="0"/>
                </a:moveTo>
                <a:lnTo>
                  <a:pt x="57" y="0"/>
                </a:lnTo>
                <a:lnTo>
                  <a:pt x="113" y="0"/>
                </a:lnTo>
                <a:lnTo>
                  <a:pt x="156" y="17"/>
                </a:lnTo>
                <a:lnTo>
                  <a:pt x="213" y="35"/>
                </a:lnTo>
                <a:lnTo>
                  <a:pt x="227" y="35"/>
                </a:lnTo>
                <a:lnTo>
                  <a:pt x="241" y="53"/>
                </a:lnTo>
                <a:lnTo>
                  <a:pt x="255" y="70"/>
                </a:lnTo>
                <a:lnTo>
                  <a:pt x="269" y="88"/>
                </a:lnTo>
                <a:lnTo>
                  <a:pt x="283" y="106"/>
                </a:lnTo>
                <a:lnTo>
                  <a:pt x="283" y="124"/>
                </a:lnTo>
                <a:lnTo>
                  <a:pt x="298" y="159"/>
                </a:lnTo>
                <a:lnTo>
                  <a:pt x="298" y="177"/>
                </a:lnTo>
                <a:lnTo>
                  <a:pt x="298" y="212"/>
                </a:lnTo>
                <a:lnTo>
                  <a:pt x="283" y="230"/>
                </a:lnTo>
                <a:lnTo>
                  <a:pt x="269" y="248"/>
                </a:lnTo>
                <a:lnTo>
                  <a:pt x="255" y="248"/>
                </a:lnTo>
                <a:lnTo>
                  <a:pt x="241" y="248"/>
                </a:lnTo>
                <a:lnTo>
                  <a:pt x="227" y="230"/>
                </a:lnTo>
                <a:lnTo>
                  <a:pt x="213" y="230"/>
                </a:lnTo>
                <a:lnTo>
                  <a:pt x="184" y="212"/>
                </a:lnTo>
                <a:lnTo>
                  <a:pt x="156" y="194"/>
                </a:lnTo>
                <a:lnTo>
                  <a:pt x="142" y="159"/>
                </a:lnTo>
                <a:lnTo>
                  <a:pt x="113" y="141"/>
                </a:lnTo>
                <a:lnTo>
                  <a:pt x="85" y="106"/>
                </a:lnTo>
                <a:lnTo>
                  <a:pt x="57" y="70"/>
                </a:lnTo>
                <a:lnTo>
                  <a:pt x="28" y="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13"/>
          <p:cNvSpPr/>
          <p:nvPr/>
        </p:nvSpPr>
        <p:spPr>
          <a:xfrm>
            <a:off x="4968720" y="2341440"/>
            <a:ext cx="846360" cy="1057320"/>
          </a:xfrm>
          <a:custGeom>
            <a:avLst/>
            <a:gdLst/>
            <a:ahLst/>
            <a:rect l="l" t="t" r="r" b="b"/>
            <a:pathLst>
              <a:path w="1332" h="1666">
                <a:moveTo>
                  <a:pt x="892" y="1666"/>
                </a:moveTo>
                <a:lnTo>
                  <a:pt x="807" y="1666"/>
                </a:lnTo>
                <a:lnTo>
                  <a:pt x="708" y="1666"/>
                </a:lnTo>
                <a:lnTo>
                  <a:pt x="595" y="1666"/>
                </a:lnTo>
                <a:lnTo>
                  <a:pt x="481" y="1648"/>
                </a:lnTo>
                <a:lnTo>
                  <a:pt x="411" y="1630"/>
                </a:lnTo>
                <a:lnTo>
                  <a:pt x="354" y="1630"/>
                </a:lnTo>
                <a:lnTo>
                  <a:pt x="311" y="1613"/>
                </a:lnTo>
                <a:lnTo>
                  <a:pt x="269" y="1577"/>
                </a:lnTo>
                <a:lnTo>
                  <a:pt x="226" y="1559"/>
                </a:lnTo>
                <a:lnTo>
                  <a:pt x="184" y="1524"/>
                </a:lnTo>
                <a:lnTo>
                  <a:pt x="141" y="1489"/>
                </a:lnTo>
                <a:lnTo>
                  <a:pt x="113" y="1453"/>
                </a:lnTo>
                <a:lnTo>
                  <a:pt x="99" y="1418"/>
                </a:lnTo>
                <a:lnTo>
                  <a:pt x="85" y="1400"/>
                </a:lnTo>
                <a:lnTo>
                  <a:pt x="70" y="1364"/>
                </a:lnTo>
                <a:lnTo>
                  <a:pt x="70" y="1347"/>
                </a:lnTo>
                <a:lnTo>
                  <a:pt x="56" y="1311"/>
                </a:lnTo>
                <a:lnTo>
                  <a:pt x="42" y="1276"/>
                </a:lnTo>
                <a:lnTo>
                  <a:pt x="42" y="1240"/>
                </a:lnTo>
                <a:lnTo>
                  <a:pt x="28" y="1187"/>
                </a:lnTo>
                <a:lnTo>
                  <a:pt x="28" y="1152"/>
                </a:lnTo>
                <a:lnTo>
                  <a:pt x="28" y="1116"/>
                </a:lnTo>
                <a:lnTo>
                  <a:pt x="14" y="1063"/>
                </a:lnTo>
                <a:lnTo>
                  <a:pt x="14" y="1010"/>
                </a:lnTo>
                <a:lnTo>
                  <a:pt x="14" y="957"/>
                </a:lnTo>
                <a:lnTo>
                  <a:pt x="14" y="904"/>
                </a:lnTo>
                <a:lnTo>
                  <a:pt x="14" y="851"/>
                </a:lnTo>
                <a:lnTo>
                  <a:pt x="28" y="797"/>
                </a:lnTo>
                <a:lnTo>
                  <a:pt x="28" y="726"/>
                </a:lnTo>
                <a:lnTo>
                  <a:pt x="28" y="673"/>
                </a:lnTo>
                <a:lnTo>
                  <a:pt x="28" y="620"/>
                </a:lnTo>
                <a:lnTo>
                  <a:pt x="28" y="567"/>
                </a:lnTo>
                <a:lnTo>
                  <a:pt x="28" y="514"/>
                </a:lnTo>
                <a:lnTo>
                  <a:pt x="28" y="478"/>
                </a:lnTo>
                <a:lnTo>
                  <a:pt x="28" y="443"/>
                </a:lnTo>
                <a:lnTo>
                  <a:pt x="28" y="390"/>
                </a:lnTo>
                <a:lnTo>
                  <a:pt x="28" y="354"/>
                </a:lnTo>
                <a:lnTo>
                  <a:pt x="28" y="319"/>
                </a:lnTo>
                <a:lnTo>
                  <a:pt x="28" y="301"/>
                </a:lnTo>
                <a:lnTo>
                  <a:pt x="28" y="266"/>
                </a:lnTo>
                <a:lnTo>
                  <a:pt x="28" y="248"/>
                </a:lnTo>
                <a:lnTo>
                  <a:pt x="28" y="213"/>
                </a:lnTo>
                <a:lnTo>
                  <a:pt x="28" y="195"/>
                </a:lnTo>
                <a:lnTo>
                  <a:pt x="28" y="177"/>
                </a:lnTo>
                <a:lnTo>
                  <a:pt x="14" y="159"/>
                </a:lnTo>
                <a:lnTo>
                  <a:pt x="14" y="124"/>
                </a:lnTo>
                <a:lnTo>
                  <a:pt x="14" y="106"/>
                </a:lnTo>
                <a:lnTo>
                  <a:pt x="0" y="71"/>
                </a:lnTo>
                <a:lnTo>
                  <a:pt x="0" y="53"/>
                </a:lnTo>
                <a:lnTo>
                  <a:pt x="0" y="35"/>
                </a:lnTo>
                <a:lnTo>
                  <a:pt x="0" y="18"/>
                </a:lnTo>
                <a:lnTo>
                  <a:pt x="14" y="0"/>
                </a:lnTo>
                <a:lnTo>
                  <a:pt x="28" y="0"/>
                </a:lnTo>
                <a:lnTo>
                  <a:pt x="56" y="0"/>
                </a:lnTo>
                <a:lnTo>
                  <a:pt x="70" y="18"/>
                </a:lnTo>
                <a:lnTo>
                  <a:pt x="113" y="18"/>
                </a:lnTo>
                <a:lnTo>
                  <a:pt x="141" y="18"/>
                </a:lnTo>
                <a:lnTo>
                  <a:pt x="184" y="18"/>
                </a:lnTo>
                <a:lnTo>
                  <a:pt x="184" y="71"/>
                </a:lnTo>
                <a:lnTo>
                  <a:pt x="184" y="106"/>
                </a:lnTo>
                <a:lnTo>
                  <a:pt x="184" y="159"/>
                </a:lnTo>
                <a:lnTo>
                  <a:pt x="184" y="213"/>
                </a:lnTo>
                <a:lnTo>
                  <a:pt x="170" y="283"/>
                </a:lnTo>
                <a:lnTo>
                  <a:pt x="170" y="354"/>
                </a:lnTo>
                <a:lnTo>
                  <a:pt x="170" y="425"/>
                </a:lnTo>
                <a:lnTo>
                  <a:pt x="155" y="496"/>
                </a:lnTo>
                <a:lnTo>
                  <a:pt x="155" y="638"/>
                </a:lnTo>
                <a:lnTo>
                  <a:pt x="155" y="797"/>
                </a:lnTo>
                <a:lnTo>
                  <a:pt x="155" y="921"/>
                </a:lnTo>
                <a:lnTo>
                  <a:pt x="170" y="1063"/>
                </a:lnTo>
                <a:lnTo>
                  <a:pt x="184" y="1116"/>
                </a:lnTo>
                <a:lnTo>
                  <a:pt x="184" y="1170"/>
                </a:lnTo>
                <a:lnTo>
                  <a:pt x="198" y="1223"/>
                </a:lnTo>
                <a:lnTo>
                  <a:pt x="212" y="1258"/>
                </a:lnTo>
                <a:lnTo>
                  <a:pt x="240" y="1294"/>
                </a:lnTo>
                <a:lnTo>
                  <a:pt x="255" y="1329"/>
                </a:lnTo>
                <a:lnTo>
                  <a:pt x="283" y="1347"/>
                </a:lnTo>
                <a:lnTo>
                  <a:pt x="297" y="1364"/>
                </a:lnTo>
                <a:lnTo>
                  <a:pt x="354" y="1400"/>
                </a:lnTo>
                <a:lnTo>
                  <a:pt x="425" y="1418"/>
                </a:lnTo>
                <a:lnTo>
                  <a:pt x="481" y="1435"/>
                </a:lnTo>
                <a:lnTo>
                  <a:pt x="566" y="1453"/>
                </a:lnTo>
                <a:lnTo>
                  <a:pt x="637" y="1453"/>
                </a:lnTo>
                <a:lnTo>
                  <a:pt x="708" y="1471"/>
                </a:lnTo>
                <a:lnTo>
                  <a:pt x="779" y="1453"/>
                </a:lnTo>
                <a:lnTo>
                  <a:pt x="850" y="1453"/>
                </a:lnTo>
                <a:lnTo>
                  <a:pt x="907" y="1435"/>
                </a:lnTo>
                <a:lnTo>
                  <a:pt x="949" y="1418"/>
                </a:lnTo>
                <a:lnTo>
                  <a:pt x="992" y="1400"/>
                </a:lnTo>
                <a:lnTo>
                  <a:pt x="1020" y="1382"/>
                </a:lnTo>
                <a:lnTo>
                  <a:pt x="1034" y="1364"/>
                </a:lnTo>
                <a:lnTo>
                  <a:pt x="1048" y="1329"/>
                </a:lnTo>
                <a:lnTo>
                  <a:pt x="1063" y="1311"/>
                </a:lnTo>
                <a:lnTo>
                  <a:pt x="1077" y="1258"/>
                </a:lnTo>
                <a:lnTo>
                  <a:pt x="1091" y="1223"/>
                </a:lnTo>
                <a:lnTo>
                  <a:pt x="1105" y="1170"/>
                </a:lnTo>
                <a:lnTo>
                  <a:pt x="1119" y="1116"/>
                </a:lnTo>
                <a:lnTo>
                  <a:pt x="1133" y="1045"/>
                </a:lnTo>
                <a:lnTo>
                  <a:pt x="1148" y="992"/>
                </a:lnTo>
                <a:lnTo>
                  <a:pt x="1162" y="921"/>
                </a:lnTo>
                <a:lnTo>
                  <a:pt x="1176" y="886"/>
                </a:lnTo>
                <a:lnTo>
                  <a:pt x="1176" y="851"/>
                </a:lnTo>
                <a:lnTo>
                  <a:pt x="1190" y="815"/>
                </a:lnTo>
                <a:lnTo>
                  <a:pt x="1204" y="797"/>
                </a:lnTo>
                <a:lnTo>
                  <a:pt x="1204" y="780"/>
                </a:lnTo>
                <a:lnTo>
                  <a:pt x="1218" y="780"/>
                </a:lnTo>
                <a:lnTo>
                  <a:pt x="1233" y="797"/>
                </a:lnTo>
                <a:lnTo>
                  <a:pt x="1247" y="815"/>
                </a:lnTo>
                <a:lnTo>
                  <a:pt x="1247" y="851"/>
                </a:lnTo>
                <a:lnTo>
                  <a:pt x="1261" y="886"/>
                </a:lnTo>
                <a:lnTo>
                  <a:pt x="1261" y="939"/>
                </a:lnTo>
                <a:lnTo>
                  <a:pt x="1275" y="992"/>
                </a:lnTo>
                <a:lnTo>
                  <a:pt x="1275" y="1063"/>
                </a:lnTo>
                <a:lnTo>
                  <a:pt x="1289" y="1134"/>
                </a:lnTo>
                <a:lnTo>
                  <a:pt x="1289" y="1205"/>
                </a:lnTo>
                <a:lnTo>
                  <a:pt x="1304" y="1258"/>
                </a:lnTo>
                <a:lnTo>
                  <a:pt x="1304" y="1311"/>
                </a:lnTo>
                <a:lnTo>
                  <a:pt x="1318" y="1347"/>
                </a:lnTo>
                <a:lnTo>
                  <a:pt x="1318" y="1400"/>
                </a:lnTo>
                <a:lnTo>
                  <a:pt x="1332" y="1418"/>
                </a:lnTo>
                <a:lnTo>
                  <a:pt x="1332" y="1453"/>
                </a:lnTo>
                <a:lnTo>
                  <a:pt x="1332" y="1471"/>
                </a:lnTo>
                <a:lnTo>
                  <a:pt x="1332" y="1489"/>
                </a:lnTo>
                <a:lnTo>
                  <a:pt x="1332" y="1506"/>
                </a:lnTo>
                <a:lnTo>
                  <a:pt x="1318" y="1524"/>
                </a:lnTo>
                <a:lnTo>
                  <a:pt x="1304" y="1542"/>
                </a:lnTo>
                <a:lnTo>
                  <a:pt x="1275" y="1559"/>
                </a:lnTo>
                <a:lnTo>
                  <a:pt x="1247" y="1577"/>
                </a:lnTo>
                <a:lnTo>
                  <a:pt x="1218" y="1577"/>
                </a:lnTo>
                <a:lnTo>
                  <a:pt x="1148" y="1613"/>
                </a:lnTo>
                <a:lnTo>
                  <a:pt x="1063" y="1630"/>
                </a:lnTo>
                <a:lnTo>
                  <a:pt x="992" y="1648"/>
                </a:lnTo>
                <a:lnTo>
                  <a:pt x="892" y="166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4"/>
          <p:cNvSpPr/>
          <p:nvPr/>
        </p:nvSpPr>
        <p:spPr>
          <a:xfrm>
            <a:off x="5022720" y="2273400"/>
            <a:ext cx="468360" cy="596880"/>
          </a:xfrm>
          <a:custGeom>
            <a:avLst/>
            <a:gdLst/>
            <a:ahLst/>
            <a:rect l="l" t="t" r="r" b="b"/>
            <a:pathLst>
              <a:path w="737" h="939">
                <a:moveTo>
                  <a:pt x="340" y="868"/>
                </a:moveTo>
                <a:lnTo>
                  <a:pt x="340" y="850"/>
                </a:lnTo>
                <a:lnTo>
                  <a:pt x="326" y="832"/>
                </a:lnTo>
                <a:lnTo>
                  <a:pt x="326" y="815"/>
                </a:lnTo>
                <a:lnTo>
                  <a:pt x="311" y="779"/>
                </a:lnTo>
                <a:lnTo>
                  <a:pt x="283" y="762"/>
                </a:lnTo>
                <a:lnTo>
                  <a:pt x="269" y="744"/>
                </a:lnTo>
                <a:lnTo>
                  <a:pt x="241" y="726"/>
                </a:lnTo>
                <a:lnTo>
                  <a:pt x="212" y="708"/>
                </a:lnTo>
                <a:lnTo>
                  <a:pt x="198" y="691"/>
                </a:lnTo>
                <a:lnTo>
                  <a:pt x="170" y="673"/>
                </a:lnTo>
                <a:lnTo>
                  <a:pt x="141" y="655"/>
                </a:lnTo>
                <a:lnTo>
                  <a:pt x="127" y="638"/>
                </a:lnTo>
                <a:lnTo>
                  <a:pt x="113" y="620"/>
                </a:lnTo>
                <a:lnTo>
                  <a:pt x="113" y="602"/>
                </a:lnTo>
                <a:lnTo>
                  <a:pt x="127" y="602"/>
                </a:lnTo>
                <a:lnTo>
                  <a:pt x="141" y="602"/>
                </a:lnTo>
                <a:lnTo>
                  <a:pt x="184" y="602"/>
                </a:lnTo>
                <a:lnTo>
                  <a:pt x="212" y="602"/>
                </a:lnTo>
                <a:lnTo>
                  <a:pt x="255" y="620"/>
                </a:lnTo>
                <a:lnTo>
                  <a:pt x="297" y="620"/>
                </a:lnTo>
                <a:lnTo>
                  <a:pt x="326" y="638"/>
                </a:lnTo>
                <a:lnTo>
                  <a:pt x="354" y="638"/>
                </a:lnTo>
                <a:lnTo>
                  <a:pt x="368" y="638"/>
                </a:lnTo>
                <a:lnTo>
                  <a:pt x="382" y="620"/>
                </a:lnTo>
                <a:lnTo>
                  <a:pt x="396" y="620"/>
                </a:lnTo>
                <a:lnTo>
                  <a:pt x="411" y="602"/>
                </a:lnTo>
                <a:lnTo>
                  <a:pt x="425" y="584"/>
                </a:lnTo>
                <a:lnTo>
                  <a:pt x="439" y="567"/>
                </a:lnTo>
                <a:lnTo>
                  <a:pt x="439" y="549"/>
                </a:lnTo>
                <a:lnTo>
                  <a:pt x="453" y="496"/>
                </a:lnTo>
                <a:lnTo>
                  <a:pt x="467" y="443"/>
                </a:lnTo>
                <a:lnTo>
                  <a:pt x="481" y="389"/>
                </a:lnTo>
                <a:lnTo>
                  <a:pt x="496" y="336"/>
                </a:lnTo>
                <a:lnTo>
                  <a:pt x="496" y="301"/>
                </a:lnTo>
                <a:lnTo>
                  <a:pt x="496" y="283"/>
                </a:lnTo>
                <a:lnTo>
                  <a:pt x="496" y="248"/>
                </a:lnTo>
                <a:lnTo>
                  <a:pt x="496" y="230"/>
                </a:lnTo>
                <a:lnTo>
                  <a:pt x="496" y="212"/>
                </a:lnTo>
                <a:lnTo>
                  <a:pt x="481" y="194"/>
                </a:lnTo>
                <a:lnTo>
                  <a:pt x="467" y="194"/>
                </a:lnTo>
                <a:lnTo>
                  <a:pt x="453" y="177"/>
                </a:lnTo>
                <a:lnTo>
                  <a:pt x="439" y="177"/>
                </a:lnTo>
                <a:lnTo>
                  <a:pt x="425" y="177"/>
                </a:lnTo>
                <a:lnTo>
                  <a:pt x="396" y="177"/>
                </a:lnTo>
                <a:lnTo>
                  <a:pt x="368" y="177"/>
                </a:lnTo>
                <a:lnTo>
                  <a:pt x="340" y="194"/>
                </a:lnTo>
                <a:lnTo>
                  <a:pt x="311" y="194"/>
                </a:lnTo>
                <a:lnTo>
                  <a:pt x="269" y="194"/>
                </a:lnTo>
                <a:lnTo>
                  <a:pt x="184" y="212"/>
                </a:lnTo>
                <a:lnTo>
                  <a:pt x="113" y="230"/>
                </a:lnTo>
                <a:lnTo>
                  <a:pt x="56" y="248"/>
                </a:lnTo>
                <a:lnTo>
                  <a:pt x="0" y="248"/>
                </a:lnTo>
                <a:lnTo>
                  <a:pt x="28" y="124"/>
                </a:lnTo>
                <a:lnTo>
                  <a:pt x="85" y="124"/>
                </a:lnTo>
                <a:lnTo>
                  <a:pt x="141" y="124"/>
                </a:lnTo>
                <a:lnTo>
                  <a:pt x="212" y="106"/>
                </a:lnTo>
                <a:lnTo>
                  <a:pt x="269" y="88"/>
                </a:lnTo>
                <a:lnTo>
                  <a:pt x="297" y="88"/>
                </a:lnTo>
                <a:lnTo>
                  <a:pt x="326" y="70"/>
                </a:lnTo>
                <a:lnTo>
                  <a:pt x="354" y="70"/>
                </a:lnTo>
                <a:lnTo>
                  <a:pt x="368" y="53"/>
                </a:lnTo>
                <a:lnTo>
                  <a:pt x="382" y="53"/>
                </a:lnTo>
                <a:lnTo>
                  <a:pt x="396" y="35"/>
                </a:lnTo>
                <a:lnTo>
                  <a:pt x="411" y="35"/>
                </a:lnTo>
                <a:lnTo>
                  <a:pt x="411" y="17"/>
                </a:lnTo>
                <a:lnTo>
                  <a:pt x="425" y="17"/>
                </a:lnTo>
                <a:lnTo>
                  <a:pt x="439" y="0"/>
                </a:lnTo>
                <a:lnTo>
                  <a:pt x="453" y="0"/>
                </a:lnTo>
                <a:lnTo>
                  <a:pt x="481" y="0"/>
                </a:lnTo>
                <a:lnTo>
                  <a:pt x="510" y="0"/>
                </a:lnTo>
                <a:lnTo>
                  <a:pt x="552" y="17"/>
                </a:lnTo>
                <a:lnTo>
                  <a:pt x="595" y="35"/>
                </a:lnTo>
                <a:lnTo>
                  <a:pt x="637" y="70"/>
                </a:lnTo>
                <a:lnTo>
                  <a:pt x="666" y="88"/>
                </a:lnTo>
                <a:lnTo>
                  <a:pt x="680" y="106"/>
                </a:lnTo>
                <a:lnTo>
                  <a:pt x="708" y="106"/>
                </a:lnTo>
                <a:lnTo>
                  <a:pt x="708" y="124"/>
                </a:lnTo>
                <a:lnTo>
                  <a:pt x="722" y="124"/>
                </a:lnTo>
                <a:lnTo>
                  <a:pt x="737" y="141"/>
                </a:lnTo>
                <a:lnTo>
                  <a:pt x="737" y="159"/>
                </a:lnTo>
                <a:lnTo>
                  <a:pt x="737" y="177"/>
                </a:lnTo>
                <a:lnTo>
                  <a:pt x="722" y="194"/>
                </a:lnTo>
                <a:lnTo>
                  <a:pt x="708" y="212"/>
                </a:lnTo>
                <a:lnTo>
                  <a:pt x="694" y="230"/>
                </a:lnTo>
                <a:lnTo>
                  <a:pt x="694" y="248"/>
                </a:lnTo>
                <a:lnTo>
                  <a:pt x="680" y="265"/>
                </a:lnTo>
                <a:lnTo>
                  <a:pt x="680" y="283"/>
                </a:lnTo>
                <a:lnTo>
                  <a:pt x="666" y="319"/>
                </a:lnTo>
                <a:lnTo>
                  <a:pt x="666" y="354"/>
                </a:lnTo>
                <a:lnTo>
                  <a:pt x="666" y="372"/>
                </a:lnTo>
                <a:lnTo>
                  <a:pt x="652" y="443"/>
                </a:lnTo>
                <a:lnTo>
                  <a:pt x="637" y="513"/>
                </a:lnTo>
                <a:lnTo>
                  <a:pt x="623" y="584"/>
                </a:lnTo>
                <a:lnTo>
                  <a:pt x="609" y="638"/>
                </a:lnTo>
                <a:lnTo>
                  <a:pt x="581" y="708"/>
                </a:lnTo>
                <a:lnTo>
                  <a:pt x="567" y="762"/>
                </a:lnTo>
                <a:lnTo>
                  <a:pt x="538" y="815"/>
                </a:lnTo>
                <a:lnTo>
                  <a:pt x="496" y="850"/>
                </a:lnTo>
                <a:lnTo>
                  <a:pt x="467" y="886"/>
                </a:lnTo>
                <a:lnTo>
                  <a:pt x="439" y="903"/>
                </a:lnTo>
                <a:lnTo>
                  <a:pt x="411" y="921"/>
                </a:lnTo>
                <a:lnTo>
                  <a:pt x="382" y="939"/>
                </a:lnTo>
                <a:lnTo>
                  <a:pt x="368" y="939"/>
                </a:lnTo>
                <a:lnTo>
                  <a:pt x="354" y="921"/>
                </a:lnTo>
                <a:lnTo>
                  <a:pt x="340" y="903"/>
                </a:lnTo>
                <a:lnTo>
                  <a:pt x="340" y="886"/>
                </a:lnTo>
                <a:lnTo>
                  <a:pt x="340" y="86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5"/>
          <p:cNvSpPr/>
          <p:nvPr/>
        </p:nvSpPr>
        <p:spPr>
          <a:xfrm>
            <a:off x="3349800" y="1846440"/>
            <a:ext cx="736560" cy="1090440"/>
          </a:xfrm>
          <a:custGeom>
            <a:avLst/>
            <a:gdLst/>
            <a:ahLst/>
            <a:rect l="l" t="t" r="r" b="b"/>
            <a:pathLst>
              <a:path w="1162" h="1719">
                <a:moveTo>
                  <a:pt x="184" y="1613"/>
                </a:moveTo>
                <a:lnTo>
                  <a:pt x="142" y="1648"/>
                </a:lnTo>
                <a:lnTo>
                  <a:pt x="99" y="1666"/>
                </a:lnTo>
                <a:lnTo>
                  <a:pt x="71" y="1684"/>
                </a:lnTo>
                <a:lnTo>
                  <a:pt x="43" y="1701"/>
                </a:lnTo>
                <a:lnTo>
                  <a:pt x="29" y="1719"/>
                </a:lnTo>
                <a:lnTo>
                  <a:pt x="14" y="1719"/>
                </a:lnTo>
                <a:lnTo>
                  <a:pt x="0" y="1719"/>
                </a:lnTo>
                <a:lnTo>
                  <a:pt x="0" y="1701"/>
                </a:lnTo>
                <a:lnTo>
                  <a:pt x="0" y="1684"/>
                </a:lnTo>
                <a:lnTo>
                  <a:pt x="14" y="1666"/>
                </a:lnTo>
                <a:lnTo>
                  <a:pt x="29" y="1631"/>
                </a:lnTo>
                <a:lnTo>
                  <a:pt x="57" y="1613"/>
                </a:lnTo>
                <a:lnTo>
                  <a:pt x="85" y="1577"/>
                </a:lnTo>
                <a:lnTo>
                  <a:pt x="128" y="1524"/>
                </a:lnTo>
                <a:lnTo>
                  <a:pt x="170" y="1489"/>
                </a:lnTo>
                <a:lnTo>
                  <a:pt x="227" y="1436"/>
                </a:lnTo>
                <a:lnTo>
                  <a:pt x="269" y="1382"/>
                </a:lnTo>
                <a:lnTo>
                  <a:pt x="312" y="1329"/>
                </a:lnTo>
                <a:lnTo>
                  <a:pt x="355" y="1276"/>
                </a:lnTo>
                <a:lnTo>
                  <a:pt x="397" y="1205"/>
                </a:lnTo>
                <a:lnTo>
                  <a:pt x="454" y="1134"/>
                </a:lnTo>
                <a:lnTo>
                  <a:pt x="496" y="1081"/>
                </a:lnTo>
                <a:lnTo>
                  <a:pt x="539" y="1010"/>
                </a:lnTo>
                <a:lnTo>
                  <a:pt x="567" y="939"/>
                </a:lnTo>
                <a:lnTo>
                  <a:pt x="610" y="868"/>
                </a:lnTo>
                <a:lnTo>
                  <a:pt x="652" y="815"/>
                </a:lnTo>
                <a:lnTo>
                  <a:pt x="681" y="744"/>
                </a:lnTo>
                <a:lnTo>
                  <a:pt x="709" y="691"/>
                </a:lnTo>
                <a:lnTo>
                  <a:pt x="737" y="638"/>
                </a:lnTo>
                <a:lnTo>
                  <a:pt x="766" y="567"/>
                </a:lnTo>
                <a:lnTo>
                  <a:pt x="794" y="532"/>
                </a:lnTo>
                <a:lnTo>
                  <a:pt x="808" y="479"/>
                </a:lnTo>
                <a:lnTo>
                  <a:pt x="836" y="425"/>
                </a:lnTo>
                <a:lnTo>
                  <a:pt x="851" y="355"/>
                </a:lnTo>
                <a:lnTo>
                  <a:pt x="865" y="301"/>
                </a:lnTo>
                <a:lnTo>
                  <a:pt x="893" y="230"/>
                </a:lnTo>
                <a:lnTo>
                  <a:pt x="907" y="160"/>
                </a:lnTo>
                <a:lnTo>
                  <a:pt x="921" y="89"/>
                </a:lnTo>
                <a:lnTo>
                  <a:pt x="936" y="18"/>
                </a:lnTo>
                <a:lnTo>
                  <a:pt x="1162" y="0"/>
                </a:lnTo>
                <a:lnTo>
                  <a:pt x="1120" y="160"/>
                </a:lnTo>
                <a:lnTo>
                  <a:pt x="1077" y="301"/>
                </a:lnTo>
                <a:lnTo>
                  <a:pt x="1021" y="443"/>
                </a:lnTo>
                <a:lnTo>
                  <a:pt x="964" y="585"/>
                </a:lnTo>
                <a:lnTo>
                  <a:pt x="936" y="656"/>
                </a:lnTo>
                <a:lnTo>
                  <a:pt x="893" y="727"/>
                </a:lnTo>
                <a:lnTo>
                  <a:pt x="851" y="798"/>
                </a:lnTo>
                <a:lnTo>
                  <a:pt x="808" y="868"/>
                </a:lnTo>
                <a:lnTo>
                  <a:pt x="751" y="939"/>
                </a:lnTo>
                <a:lnTo>
                  <a:pt x="709" y="1010"/>
                </a:lnTo>
                <a:lnTo>
                  <a:pt x="652" y="1099"/>
                </a:lnTo>
                <a:lnTo>
                  <a:pt x="595" y="1170"/>
                </a:lnTo>
                <a:lnTo>
                  <a:pt x="539" y="1241"/>
                </a:lnTo>
                <a:lnTo>
                  <a:pt x="482" y="1312"/>
                </a:lnTo>
                <a:lnTo>
                  <a:pt x="425" y="1382"/>
                </a:lnTo>
                <a:lnTo>
                  <a:pt x="369" y="1436"/>
                </a:lnTo>
                <a:lnTo>
                  <a:pt x="326" y="1489"/>
                </a:lnTo>
                <a:lnTo>
                  <a:pt x="269" y="1542"/>
                </a:lnTo>
                <a:lnTo>
                  <a:pt x="227" y="1577"/>
                </a:lnTo>
                <a:lnTo>
                  <a:pt x="184" y="161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16"/>
          <p:cNvSpPr/>
          <p:nvPr/>
        </p:nvSpPr>
        <p:spPr>
          <a:xfrm>
            <a:off x="3762360" y="2284560"/>
            <a:ext cx="558720" cy="473040"/>
          </a:xfrm>
          <a:custGeom>
            <a:avLst/>
            <a:gdLst/>
            <a:ahLst/>
            <a:rect l="l" t="t" r="r" b="b"/>
            <a:pathLst>
              <a:path w="879" h="745">
                <a:moveTo>
                  <a:pt x="822" y="248"/>
                </a:moveTo>
                <a:lnTo>
                  <a:pt x="808" y="266"/>
                </a:lnTo>
                <a:lnTo>
                  <a:pt x="794" y="284"/>
                </a:lnTo>
                <a:lnTo>
                  <a:pt x="780" y="319"/>
                </a:lnTo>
                <a:lnTo>
                  <a:pt x="766" y="337"/>
                </a:lnTo>
                <a:lnTo>
                  <a:pt x="751" y="372"/>
                </a:lnTo>
                <a:lnTo>
                  <a:pt x="737" y="426"/>
                </a:lnTo>
                <a:lnTo>
                  <a:pt x="723" y="461"/>
                </a:lnTo>
                <a:lnTo>
                  <a:pt x="723" y="514"/>
                </a:lnTo>
                <a:lnTo>
                  <a:pt x="709" y="567"/>
                </a:lnTo>
                <a:lnTo>
                  <a:pt x="695" y="621"/>
                </a:lnTo>
                <a:lnTo>
                  <a:pt x="666" y="656"/>
                </a:lnTo>
                <a:lnTo>
                  <a:pt x="638" y="691"/>
                </a:lnTo>
                <a:lnTo>
                  <a:pt x="610" y="709"/>
                </a:lnTo>
                <a:lnTo>
                  <a:pt x="581" y="727"/>
                </a:lnTo>
                <a:lnTo>
                  <a:pt x="553" y="727"/>
                </a:lnTo>
                <a:lnTo>
                  <a:pt x="510" y="745"/>
                </a:lnTo>
                <a:lnTo>
                  <a:pt x="510" y="674"/>
                </a:lnTo>
                <a:lnTo>
                  <a:pt x="525" y="638"/>
                </a:lnTo>
                <a:lnTo>
                  <a:pt x="539" y="585"/>
                </a:lnTo>
                <a:lnTo>
                  <a:pt x="539" y="532"/>
                </a:lnTo>
                <a:lnTo>
                  <a:pt x="539" y="496"/>
                </a:lnTo>
                <a:lnTo>
                  <a:pt x="553" y="461"/>
                </a:lnTo>
                <a:lnTo>
                  <a:pt x="553" y="426"/>
                </a:lnTo>
                <a:lnTo>
                  <a:pt x="553" y="390"/>
                </a:lnTo>
                <a:lnTo>
                  <a:pt x="553" y="355"/>
                </a:lnTo>
                <a:lnTo>
                  <a:pt x="553" y="337"/>
                </a:lnTo>
                <a:lnTo>
                  <a:pt x="553" y="302"/>
                </a:lnTo>
                <a:lnTo>
                  <a:pt x="553" y="284"/>
                </a:lnTo>
                <a:lnTo>
                  <a:pt x="553" y="266"/>
                </a:lnTo>
                <a:lnTo>
                  <a:pt x="553" y="248"/>
                </a:lnTo>
                <a:lnTo>
                  <a:pt x="553" y="231"/>
                </a:lnTo>
                <a:lnTo>
                  <a:pt x="539" y="231"/>
                </a:lnTo>
                <a:lnTo>
                  <a:pt x="525" y="231"/>
                </a:lnTo>
                <a:lnTo>
                  <a:pt x="496" y="213"/>
                </a:lnTo>
                <a:lnTo>
                  <a:pt x="482" y="213"/>
                </a:lnTo>
                <a:lnTo>
                  <a:pt x="454" y="213"/>
                </a:lnTo>
                <a:lnTo>
                  <a:pt x="425" y="231"/>
                </a:lnTo>
                <a:lnTo>
                  <a:pt x="397" y="231"/>
                </a:lnTo>
                <a:lnTo>
                  <a:pt x="355" y="231"/>
                </a:lnTo>
                <a:lnTo>
                  <a:pt x="284" y="266"/>
                </a:lnTo>
                <a:lnTo>
                  <a:pt x="199" y="266"/>
                </a:lnTo>
                <a:lnTo>
                  <a:pt x="99" y="284"/>
                </a:lnTo>
                <a:lnTo>
                  <a:pt x="0" y="284"/>
                </a:lnTo>
                <a:lnTo>
                  <a:pt x="0" y="177"/>
                </a:lnTo>
                <a:lnTo>
                  <a:pt x="99" y="177"/>
                </a:lnTo>
                <a:lnTo>
                  <a:pt x="199" y="160"/>
                </a:lnTo>
                <a:lnTo>
                  <a:pt x="284" y="142"/>
                </a:lnTo>
                <a:lnTo>
                  <a:pt x="355" y="124"/>
                </a:lnTo>
                <a:lnTo>
                  <a:pt x="397" y="124"/>
                </a:lnTo>
                <a:lnTo>
                  <a:pt x="425" y="107"/>
                </a:lnTo>
                <a:lnTo>
                  <a:pt x="454" y="89"/>
                </a:lnTo>
                <a:lnTo>
                  <a:pt x="482" y="89"/>
                </a:lnTo>
                <a:lnTo>
                  <a:pt x="496" y="71"/>
                </a:lnTo>
                <a:lnTo>
                  <a:pt x="510" y="71"/>
                </a:lnTo>
                <a:lnTo>
                  <a:pt x="525" y="53"/>
                </a:lnTo>
                <a:lnTo>
                  <a:pt x="539" y="36"/>
                </a:lnTo>
                <a:lnTo>
                  <a:pt x="553" y="18"/>
                </a:lnTo>
                <a:lnTo>
                  <a:pt x="567" y="18"/>
                </a:lnTo>
                <a:lnTo>
                  <a:pt x="581" y="0"/>
                </a:lnTo>
                <a:lnTo>
                  <a:pt x="595" y="0"/>
                </a:lnTo>
                <a:lnTo>
                  <a:pt x="610" y="0"/>
                </a:lnTo>
                <a:lnTo>
                  <a:pt x="624" y="0"/>
                </a:lnTo>
                <a:lnTo>
                  <a:pt x="638" y="18"/>
                </a:lnTo>
                <a:lnTo>
                  <a:pt x="652" y="18"/>
                </a:lnTo>
                <a:lnTo>
                  <a:pt x="681" y="18"/>
                </a:lnTo>
                <a:lnTo>
                  <a:pt x="695" y="36"/>
                </a:lnTo>
                <a:lnTo>
                  <a:pt x="723" y="53"/>
                </a:lnTo>
                <a:lnTo>
                  <a:pt x="751" y="53"/>
                </a:lnTo>
                <a:lnTo>
                  <a:pt x="780" y="71"/>
                </a:lnTo>
                <a:lnTo>
                  <a:pt x="808" y="89"/>
                </a:lnTo>
                <a:lnTo>
                  <a:pt x="836" y="107"/>
                </a:lnTo>
                <a:lnTo>
                  <a:pt x="851" y="107"/>
                </a:lnTo>
                <a:lnTo>
                  <a:pt x="865" y="124"/>
                </a:lnTo>
                <a:lnTo>
                  <a:pt x="879" y="142"/>
                </a:lnTo>
                <a:lnTo>
                  <a:pt x="879" y="160"/>
                </a:lnTo>
                <a:lnTo>
                  <a:pt x="879" y="177"/>
                </a:lnTo>
                <a:lnTo>
                  <a:pt x="865" y="213"/>
                </a:lnTo>
                <a:lnTo>
                  <a:pt x="851" y="231"/>
                </a:lnTo>
                <a:lnTo>
                  <a:pt x="822" y="24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3790800" y="2701800"/>
            <a:ext cx="422280" cy="157320"/>
          </a:xfrm>
          <a:custGeom>
            <a:avLst/>
            <a:gdLst/>
            <a:ahLst/>
            <a:rect l="l" t="t" r="r" b="b"/>
            <a:pathLst>
              <a:path w="666" h="248">
                <a:moveTo>
                  <a:pt x="297" y="71"/>
                </a:moveTo>
                <a:lnTo>
                  <a:pt x="354" y="53"/>
                </a:lnTo>
                <a:lnTo>
                  <a:pt x="397" y="35"/>
                </a:lnTo>
                <a:lnTo>
                  <a:pt x="425" y="35"/>
                </a:lnTo>
                <a:lnTo>
                  <a:pt x="467" y="18"/>
                </a:lnTo>
                <a:lnTo>
                  <a:pt x="496" y="18"/>
                </a:lnTo>
                <a:lnTo>
                  <a:pt x="524" y="18"/>
                </a:lnTo>
                <a:lnTo>
                  <a:pt x="552" y="0"/>
                </a:lnTo>
                <a:lnTo>
                  <a:pt x="581" y="0"/>
                </a:lnTo>
                <a:lnTo>
                  <a:pt x="595" y="0"/>
                </a:lnTo>
                <a:lnTo>
                  <a:pt x="623" y="0"/>
                </a:lnTo>
                <a:lnTo>
                  <a:pt x="638" y="18"/>
                </a:lnTo>
                <a:lnTo>
                  <a:pt x="652" y="18"/>
                </a:lnTo>
                <a:lnTo>
                  <a:pt x="652" y="35"/>
                </a:lnTo>
                <a:lnTo>
                  <a:pt x="666" y="35"/>
                </a:lnTo>
                <a:lnTo>
                  <a:pt x="666" y="53"/>
                </a:lnTo>
                <a:lnTo>
                  <a:pt x="666" y="71"/>
                </a:lnTo>
                <a:lnTo>
                  <a:pt x="666" y="89"/>
                </a:lnTo>
                <a:lnTo>
                  <a:pt x="652" y="106"/>
                </a:lnTo>
                <a:lnTo>
                  <a:pt x="638" y="106"/>
                </a:lnTo>
                <a:lnTo>
                  <a:pt x="609" y="124"/>
                </a:lnTo>
                <a:lnTo>
                  <a:pt x="567" y="142"/>
                </a:lnTo>
                <a:lnTo>
                  <a:pt x="524" y="159"/>
                </a:lnTo>
                <a:lnTo>
                  <a:pt x="482" y="177"/>
                </a:lnTo>
                <a:lnTo>
                  <a:pt x="411" y="195"/>
                </a:lnTo>
                <a:lnTo>
                  <a:pt x="354" y="213"/>
                </a:lnTo>
                <a:lnTo>
                  <a:pt x="297" y="213"/>
                </a:lnTo>
                <a:lnTo>
                  <a:pt x="241" y="230"/>
                </a:lnTo>
                <a:lnTo>
                  <a:pt x="184" y="248"/>
                </a:lnTo>
                <a:lnTo>
                  <a:pt x="127" y="248"/>
                </a:lnTo>
                <a:lnTo>
                  <a:pt x="85" y="248"/>
                </a:lnTo>
                <a:lnTo>
                  <a:pt x="42" y="248"/>
                </a:lnTo>
                <a:lnTo>
                  <a:pt x="0" y="248"/>
                </a:lnTo>
                <a:lnTo>
                  <a:pt x="0" y="142"/>
                </a:lnTo>
                <a:lnTo>
                  <a:pt x="28" y="142"/>
                </a:lnTo>
                <a:lnTo>
                  <a:pt x="56" y="142"/>
                </a:lnTo>
                <a:lnTo>
                  <a:pt x="85" y="142"/>
                </a:lnTo>
                <a:lnTo>
                  <a:pt x="127" y="124"/>
                </a:lnTo>
                <a:lnTo>
                  <a:pt x="170" y="124"/>
                </a:lnTo>
                <a:lnTo>
                  <a:pt x="212" y="106"/>
                </a:lnTo>
                <a:lnTo>
                  <a:pt x="255" y="89"/>
                </a:lnTo>
                <a:lnTo>
                  <a:pt x="297" y="7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00440" y="2374920"/>
            <a:ext cx="125280" cy="641160"/>
          </a:xfrm>
          <a:custGeom>
            <a:avLst/>
            <a:gdLst/>
            <a:ahLst/>
            <a:rect l="l" t="t" r="r" b="b"/>
            <a:pathLst>
              <a:path w="198" h="1010">
                <a:moveTo>
                  <a:pt x="198" y="35"/>
                </a:moveTo>
                <a:lnTo>
                  <a:pt x="198" y="142"/>
                </a:lnTo>
                <a:lnTo>
                  <a:pt x="198" y="230"/>
                </a:lnTo>
                <a:lnTo>
                  <a:pt x="198" y="337"/>
                </a:lnTo>
                <a:lnTo>
                  <a:pt x="198" y="408"/>
                </a:lnTo>
                <a:lnTo>
                  <a:pt x="198" y="496"/>
                </a:lnTo>
                <a:lnTo>
                  <a:pt x="198" y="567"/>
                </a:lnTo>
                <a:lnTo>
                  <a:pt x="198" y="638"/>
                </a:lnTo>
                <a:lnTo>
                  <a:pt x="198" y="691"/>
                </a:lnTo>
                <a:lnTo>
                  <a:pt x="198" y="744"/>
                </a:lnTo>
                <a:lnTo>
                  <a:pt x="198" y="798"/>
                </a:lnTo>
                <a:lnTo>
                  <a:pt x="198" y="833"/>
                </a:lnTo>
                <a:lnTo>
                  <a:pt x="184" y="868"/>
                </a:lnTo>
                <a:lnTo>
                  <a:pt x="184" y="904"/>
                </a:lnTo>
                <a:lnTo>
                  <a:pt x="184" y="922"/>
                </a:lnTo>
                <a:lnTo>
                  <a:pt x="184" y="939"/>
                </a:lnTo>
                <a:lnTo>
                  <a:pt x="184" y="957"/>
                </a:lnTo>
                <a:lnTo>
                  <a:pt x="170" y="975"/>
                </a:lnTo>
                <a:lnTo>
                  <a:pt x="156" y="1010"/>
                </a:lnTo>
                <a:lnTo>
                  <a:pt x="142" y="1010"/>
                </a:lnTo>
                <a:lnTo>
                  <a:pt x="128" y="1010"/>
                </a:lnTo>
                <a:lnTo>
                  <a:pt x="113" y="992"/>
                </a:lnTo>
                <a:lnTo>
                  <a:pt x="99" y="975"/>
                </a:lnTo>
                <a:lnTo>
                  <a:pt x="99" y="939"/>
                </a:lnTo>
                <a:lnTo>
                  <a:pt x="85" y="922"/>
                </a:lnTo>
                <a:lnTo>
                  <a:pt x="85" y="886"/>
                </a:lnTo>
                <a:lnTo>
                  <a:pt x="71" y="851"/>
                </a:lnTo>
                <a:lnTo>
                  <a:pt x="71" y="815"/>
                </a:lnTo>
                <a:lnTo>
                  <a:pt x="71" y="780"/>
                </a:lnTo>
                <a:lnTo>
                  <a:pt x="57" y="727"/>
                </a:lnTo>
                <a:lnTo>
                  <a:pt x="57" y="673"/>
                </a:lnTo>
                <a:lnTo>
                  <a:pt x="57" y="620"/>
                </a:lnTo>
                <a:lnTo>
                  <a:pt x="57" y="567"/>
                </a:lnTo>
                <a:lnTo>
                  <a:pt x="57" y="496"/>
                </a:lnTo>
                <a:lnTo>
                  <a:pt x="42" y="443"/>
                </a:lnTo>
                <a:lnTo>
                  <a:pt x="42" y="372"/>
                </a:lnTo>
                <a:lnTo>
                  <a:pt x="42" y="319"/>
                </a:lnTo>
                <a:lnTo>
                  <a:pt x="42" y="284"/>
                </a:lnTo>
                <a:lnTo>
                  <a:pt x="28" y="230"/>
                </a:lnTo>
                <a:lnTo>
                  <a:pt x="28" y="195"/>
                </a:lnTo>
                <a:lnTo>
                  <a:pt x="14" y="160"/>
                </a:lnTo>
                <a:lnTo>
                  <a:pt x="14" y="142"/>
                </a:lnTo>
                <a:lnTo>
                  <a:pt x="0" y="106"/>
                </a:lnTo>
                <a:lnTo>
                  <a:pt x="0" y="89"/>
                </a:lnTo>
                <a:lnTo>
                  <a:pt x="0" y="71"/>
                </a:lnTo>
                <a:lnTo>
                  <a:pt x="0" y="53"/>
                </a:lnTo>
                <a:lnTo>
                  <a:pt x="0" y="35"/>
                </a:lnTo>
                <a:lnTo>
                  <a:pt x="0" y="18"/>
                </a:lnTo>
                <a:lnTo>
                  <a:pt x="14" y="18"/>
                </a:lnTo>
                <a:lnTo>
                  <a:pt x="14" y="0"/>
                </a:lnTo>
                <a:lnTo>
                  <a:pt x="42" y="0"/>
                </a:lnTo>
                <a:lnTo>
                  <a:pt x="57" y="0"/>
                </a:lnTo>
                <a:lnTo>
                  <a:pt x="71" y="0"/>
                </a:lnTo>
                <a:lnTo>
                  <a:pt x="99" y="0"/>
                </a:lnTo>
                <a:lnTo>
                  <a:pt x="128" y="18"/>
                </a:lnTo>
                <a:lnTo>
                  <a:pt x="156" y="18"/>
                </a:lnTo>
                <a:lnTo>
                  <a:pt x="198" y="3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1" descr=""/>
          <p:cNvPicPr/>
          <p:nvPr/>
        </p:nvPicPr>
        <p:blipFill>
          <a:blip r:embed="rId2"/>
          <a:stretch/>
        </p:blipFill>
        <p:spPr>
          <a:xfrm>
            <a:off x="366840" y="4481640"/>
            <a:ext cx="84754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38"/>
          <p:cNvGrpSpPr/>
          <p:nvPr/>
        </p:nvGrpSpPr>
        <p:grpSpPr>
          <a:xfrm>
            <a:off x="3322800" y="996840"/>
            <a:ext cx="2541600" cy="2538360"/>
            <a:chOff x="3322800" y="996840"/>
            <a:chExt cx="2541600" cy="2538360"/>
          </a:xfrm>
        </p:grpSpPr>
        <p:sp>
          <p:nvSpPr>
            <p:cNvPr id="113" name="直接连接符 3"/>
            <p:cNvSpPr/>
            <p:nvPr/>
          </p:nvSpPr>
          <p:spPr>
            <a:xfrm>
              <a:off x="3344760" y="2263680"/>
              <a:ext cx="2519640" cy="14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4"/>
            <p:cNvSpPr/>
            <p:nvPr/>
          </p:nvSpPr>
          <p:spPr>
            <a:xfrm flipH="1">
              <a:off x="4570560" y="996840"/>
              <a:ext cx="1440" cy="25196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矩形 2"/>
            <p:cNvSpPr/>
            <p:nvPr/>
          </p:nvSpPr>
          <p:spPr>
            <a:xfrm>
              <a:off x="3322800" y="1015560"/>
              <a:ext cx="2519640" cy="2519640"/>
            </a:xfrm>
            <a:prstGeom prst="rect">
              <a:avLst/>
            </a:prstGeom>
            <a:noFill/>
            <a:ln w="25560">
              <a:solidFill>
                <a:srgbClr val="2e75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Freeform 6"/>
          <p:cNvSpPr/>
          <p:nvPr/>
        </p:nvSpPr>
        <p:spPr>
          <a:xfrm>
            <a:off x="4154400" y="1266840"/>
            <a:ext cx="257400" cy="695160"/>
          </a:xfrm>
          <a:custGeom>
            <a:avLst/>
            <a:gdLst/>
            <a:ahLst/>
            <a:rect l="l" t="t" r="r" b="b"/>
            <a:pathLst>
              <a:path w="404" h="1095">
                <a:moveTo>
                  <a:pt x="404" y="541"/>
                </a:moveTo>
                <a:lnTo>
                  <a:pt x="404" y="604"/>
                </a:lnTo>
                <a:lnTo>
                  <a:pt x="404" y="642"/>
                </a:lnTo>
                <a:lnTo>
                  <a:pt x="391" y="692"/>
                </a:lnTo>
                <a:lnTo>
                  <a:pt x="391" y="730"/>
                </a:lnTo>
                <a:lnTo>
                  <a:pt x="391" y="780"/>
                </a:lnTo>
                <a:lnTo>
                  <a:pt x="391" y="818"/>
                </a:lnTo>
                <a:lnTo>
                  <a:pt x="391" y="843"/>
                </a:lnTo>
                <a:lnTo>
                  <a:pt x="391" y="881"/>
                </a:lnTo>
                <a:lnTo>
                  <a:pt x="391" y="906"/>
                </a:lnTo>
                <a:lnTo>
                  <a:pt x="378" y="931"/>
                </a:lnTo>
                <a:lnTo>
                  <a:pt x="378" y="957"/>
                </a:lnTo>
                <a:lnTo>
                  <a:pt x="378" y="982"/>
                </a:lnTo>
                <a:lnTo>
                  <a:pt x="378" y="994"/>
                </a:lnTo>
                <a:lnTo>
                  <a:pt x="378" y="1007"/>
                </a:lnTo>
                <a:lnTo>
                  <a:pt x="366" y="1019"/>
                </a:lnTo>
                <a:lnTo>
                  <a:pt x="366" y="1032"/>
                </a:lnTo>
                <a:lnTo>
                  <a:pt x="353" y="1057"/>
                </a:lnTo>
                <a:lnTo>
                  <a:pt x="341" y="1082"/>
                </a:lnTo>
                <a:lnTo>
                  <a:pt x="328" y="1095"/>
                </a:lnTo>
                <a:lnTo>
                  <a:pt x="315" y="1095"/>
                </a:lnTo>
                <a:lnTo>
                  <a:pt x="303" y="1095"/>
                </a:lnTo>
                <a:lnTo>
                  <a:pt x="303" y="1082"/>
                </a:lnTo>
                <a:lnTo>
                  <a:pt x="290" y="1057"/>
                </a:lnTo>
                <a:lnTo>
                  <a:pt x="277" y="1032"/>
                </a:lnTo>
                <a:lnTo>
                  <a:pt x="265" y="994"/>
                </a:lnTo>
                <a:lnTo>
                  <a:pt x="265" y="957"/>
                </a:lnTo>
                <a:lnTo>
                  <a:pt x="252" y="906"/>
                </a:lnTo>
                <a:lnTo>
                  <a:pt x="240" y="843"/>
                </a:lnTo>
                <a:lnTo>
                  <a:pt x="202" y="592"/>
                </a:lnTo>
                <a:lnTo>
                  <a:pt x="164" y="365"/>
                </a:lnTo>
                <a:lnTo>
                  <a:pt x="151" y="302"/>
                </a:lnTo>
                <a:lnTo>
                  <a:pt x="139" y="252"/>
                </a:lnTo>
                <a:lnTo>
                  <a:pt x="126" y="214"/>
                </a:lnTo>
                <a:lnTo>
                  <a:pt x="114" y="176"/>
                </a:lnTo>
                <a:lnTo>
                  <a:pt x="101" y="151"/>
                </a:lnTo>
                <a:lnTo>
                  <a:pt x="88" y="126"/>
                </a:lnTo>
                <a:lnTo>
                  <a:pt x="76" y="113"/>
                </a:lnTo>
                <a:lnTo>
                  <a:pt x="51" y="101"/>
                </a:lnTo>
                <a:lnTo>
                  <a:pt x="38" y="101"/>
                </a:lnTo>
                <a:lnTo>
                  <a:pt x="25" y="88"/>
                </a:lnTo>
                <a:lnTo>
                  <a:pt x="13" y="88"/>
                </a:lnTo>
                <a:lnTo>
                  <a:pt x="0" y="75"/>
                </a:lnTo>
                <a:lnTo>
                  <a:pt x="0" y="63"/>
                </a:lnTo>
                <a:lnTo>
                  <a:pt x="0" y="50"/>
                </a:lnTo>
                <a:lnTo>
                  <a:pt x="0" y="38"/>
                </a:lnTo>
                <a:lnTo>
                  <a:pt x="0" y="25"/>
                </a:lnTo>
                <a:lnTo>
                  <a:pt x="13" y="13"/>
                </a:lnTo>
                <a:lnTo>
                  <a:pt x="25" y="13"/>
                </a:lnTo>
                <a:lnTo>
                  <a:pt x="51" y="0"/>
                </a:lnTo>
                <a:lnTo>
                  <a:pt x="76" y="0"/>
                </a:lnTo>
                <a:lnTo>
                  <a:pt x="101" y="0"/>
                </a:lnTo>
                <a:lnTo>
                  <a:pt x="126" y="13"/>
                </a:lnTo>
                <a:lnTo>
                  <a:pt x="164" y="13"/>
                </a:lnTo>
                <a:lnTo>
                  <a:pt x="202" y="25"/>
                </a:lnTo>
                <a:lnTo>
                  <a:pt x="227" y="38"/>
                </a:lnTo>
                <a:lnTo>
                  <a:pt x="265" y="38"/>
                </a:lnTo>
                <a:lnTo>
                  <a:pt x="290" y="50"/>
                </a:lnTo>
                <a:lnTo>
                  <a:pt x="315" y="63"/>
                </a:lnTo>
                <a:lnTo>
                  <a:pt x="328" y="63"/>
                </a:lnTo>
                <a:lnTo>
                  <a:pt x="353" y="75"/>
                </a:lnTo>
                <a:lnTo>
                  <a:pt x="353" y="88"/>
                </a:lnTo>
                <a:lnTo>
                  <a:pt x="366" y="88"/>
                </a:lnTo>
                <a:lnTo>
                  <a:pt x="366" y="101"/>
                </a:lnTo>
                <a:lnTo>
                  <a:pt x="378" y="113"/>
                </a:lnTo>
                <a:lnTo>
                  <a:pt x="378" y="126"/>
                </a:lnTo>
                <a:lnTo>
                  <a:pt x="378" y="151"/>
                </a:lnTo>
                <a:lnTo>
                  <a:pt x="391" y="176"/>
                </a:lnTo>
                <a:lnTo>
                  <a:pt x="391" y="189"/>
                </a:lnTo>
                <a:lnTo>
                  <a:pt x="391" y="226"/>
                </a:lnTo>
                <a:lnTo>
                  <a:pt x="391" y="252"/>
                </a:lnTo>
                <a:lnTo>
                  <a:pt x="404" y="289"/>
                </a:lnTo>
                <a:lnTo>
                  <a:pt x="404" y="327"/>
                </a:lnTo>
                <a:lnTo>
                  <a:pt x="404" y="365"/>
                </a:lnTo>
                <a:lnTo>
                  <a:pt x="404" y="403"/>
                </a:lnTo>
                <a:lnTo>
                  <a:pt x="404" y="453"/>
                </a:lnTo>
                <a:lnTo>
                  <a:pt x="404" y="491"/>
                </a:lnTo>
                <a:lnTo>
                  <a:pt x="404" y="54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7"/>
          <p:cNvSpPr/>
          <p:nvPr/>
        </p:nvSpPr>
        <p:spPr>
          <a:xfrm>
            <a:off x="4827600" y="1171440"/>
            <a:ext cx="328680" cy="816120"/>
          </a:xfrm>
          <a:custGeom>
            <a:avLst/>
            <a:gdLst/>
            <a:ahLst/>
            <a:rect l="l" t="t" r="r" b="b"/>
            <a:pathLst>
              <a:path w="517" h="1284">
                <a:moveTo>
                  <a:pt x="290" y="780"/>
                </a:moveTo>
                <a:lnTo>
                  <a:pt x="265" y="831"/>
                </a:lnTo>
                <a:lnTo>
                  <a:pt x="239" y="894"/>
                </a:lnTo>
                <a:lnTo>
                  <a:pt x="214" y="944"/>
                </a:lnTo>
                <a:lnTo>
                  <a:pt x="189" y="994"/>
                </a:lnTo>
                <a:lnTo>
                  <a:pt x="164" y="1045"/>
                </a:lnTo>
                <a:lnTo>
                  <a:pt x="151" y="1082"/>
                </a:lnTo>
                <a:lnTo>
                  <a:pt x="126" y="1120"/>
                </a:lnTo>
                <a:lnTo>
                  <a:pt x="113" y="1158"/>
                </a:lnTo>
                <a:lnTo>
                  <a:pt x="101" y="1183"/>
                </a:lnTo>
                <a:lnTo>
                  <a:pt x="76" y="1208"/>
                </a:lnTo>
                <a:lnTo>
                  <a:pt x="63" y="1233"/>
                </a:lnTo>
                <a:lnTo>
                  <a:pt x="50" y="1246"/>
                </a:lnTo>
                <a:lnTo>
                  <a:pt x="50" y="1259"/>
                </a:lnTo>
                <a:lnTo>
                  <a:pt x="38" y="1271"/>
                </a:lnTo>
                <a:lnTo>
                  <a:pt x="25" y="1284"/>
                </a:lnTo>
                <a:lnTo>
                  <a:pt x="13" y="1284"/>
                </a:lnTo>
                <a:lnTo>
                  <a:pt x="13" y="1271"/>
                </a:lnTo>
                <a:lnTo>
                  <a:pt x="0" y="1259"/>
                </a:lnTo>
                <a:lnTo>
                  <a:pt x="0" y="1246"/>
                </a:lnTo>
                <a:lnTo>
                  <a:pt x="0" y="1233"/>
                </a:lnTo>
                <a:lnTo>
                  <a:pt x="13" y="1221"/>
                </a:lnTo>
                <a:lnTo>
                  <a:pt x="13" y="1196"/>
                </a:lnTo>
                <a:lnTo>
                  <a:pt x="13" y="1170"/>
                </a:lnTo>
                <a:lnTo>
                  <a:pt x="25" y="1145"/>
                </a:lnTo>
                <a:lnTo>
                  <a:pt x="25" y="1108"/>
                </a:lnTo>
                <a:lnTo>
                  <a:pt x="38" y="1082"/>
                </a:lnTo>
                <a:lnTo>
                  <a:pt x="38" y="1045"/>
                </a:lnTo>
                <a:lnTo>
                  <a:pt x="50" y="1007"/>
                </a:lnTo>
                <a:lnTo>
                  <a:pt x="63" y="956"/>
                </a:lnTo>
                <a:lnTo>
                  <a:pt x="76" y="919"/>
                </a:lnTo>
                <a:lnTo>
                  <a:pt x="101" y="831"/>
                </a:lnTo>
                <a:lnTo>
                  <a:pt x="126" y="743"/>
                </a:lnTo>
                <a:lnTo>
                  <a:pt x="139" y="654"/>
                </a:lnTo>
                <a:lnTo>
                  <a:pt x="164" y="579"/>
                </a:lnTo>
                <a:lnTo>
                  <a:pt x="176" y="516"/>
                </a:lnTo>
                <a:lnTo>
                  <a:pt x="189" y="453"/>
                </a:lnTo>
                <a:lnTo>
                  <a:pt x="189" y="390"/>
                </a:lnTo>
                <a:lnTo>
                  <a:pt x="202" y="340"/>
                </a:lnTo>
                <a:lnTo>
                  <a:pt x="202" y="289"/>
                </a:lnTo>
                <a:lnTo>
                  <a:pt x="214" y="252"/>
                </a:lnTo>
                <a:lnTo>
                  <a:pt x="214" y="214"/>
                </a:lnTo>
                <a:lnTo>
                  <a:pt x="202" y="176"/>
                </a:lnTo>
                <a:lnTo>
                  <a:pt x="202" y="151"/>
                </a:lnTo>
                <a:lnTo>
                  <a:pt x="202" y="138"/>
                </a:lnTo>
                <a:lnTo>
                  <a:pt x="189" y="113"/>
                </a:lnTo>
                <a:lnTo>
                  <a:pt x="176" y="101"/>
                </a:lnTo>
                <a:lnTo>
                  <a:pt x="151" y="88"/>
                </a:lnTo>
                <a:lnTo>
                  <a:pt x="139" y="75"/>
                </a:lnTo>
                <a:lnTo>
                  <a:pt x="139" y="50"/>
                </a:lnTo>
                <a:lnTo>
                  <a:pt x="126" y="38"/>
                </a:lnTo>
                <a:lnTo>
                  <a:pt x="126" y="25"/>
                </a:lnTo>
                <a:lnTo>
                  <a:pt x="139" y="25"/>
                </a:lnTo>
                <a:lnTo>
                  <a:pt x="139" y="12"/>
                </a:lnTo>
                <a:lnTo>
                  <a:pt x="151" y="12"/>
                </a:lnTo>
                <a:lnTo>
                  <a:pt x="164" y="0"/>
                </a:lnTo>
                <a:lnTo>
                  <a:pt x="176" y="0"/>
                </a:lnTo>
                <a:lnTo>
                  <a:pt x="202" y="0"/>
                </a:lnTo>
                <a:lnTo>
                  <a:pt x="214" y="0"/>
                </a:lnTo>
                <a:lnTo>
                  <a:pt x="265" y="12"/>
                </a:lnTo>
                <a:lnTo>
                  <a:pt x="302" y="25"/>
                </a:lnTo>
                <a:lnTo>
                  <a:pt x="353" y="38"/>
                </a:lnTo>
                <a:lnTo>
                  <a:pt x="416" y="63"/>
                </a:lnTo>
                <a:lnTo>
                  <a:pt x="441" y="75"/>
                </a:lnTo>
                <a:lnTo>
                  <a:pt x="466" y="101"/>
                </a:lnTo>
                <a:lnTo>
                  <a:pt x="479" y="113"/>
                </a:lnTo>
                <a:lnTo>
                  <a:pt x="491" y="126"/>
                </a:lnTo>
                <a:lnTo>
                  <a:pt x="504" y="151"/>
                </a:lnTo>
                <a:lnTo>
                  <a:pt x="517" y="164"/>
                </a:lnTo>
                <a:lnTo>
                  <a:pt x="517" y="176"/>
                </a:lnTo>
                <a:lnTo>
                  <a:pt x="517" y="201"/>
                </a:lnTo>
                <a:lnTo>
                  <a:pt x="517" y="214"/>
                </a:lnTo>
                <a:lnTo>
                  <a:pt x="517" y="226"/>
                </a:lnTo>
                <a:lnTo>
                  <a:pt x="517" y="239"/>
                </a:lnTo>
                <a:lnTo>
                  <a:pt x="504" y="264"/>
                </a:lnTo>
                <a:lnTo>
                  <a:pt x="504" y="289"/>
                </a:lnTo>
                <a:lnTo>
                  <a:pt x="491" y="315"/>
                </a:lnTo>
                <a:lnTo>
                  <a:pt x="479" y="352"/>
                </a:lnTo>
                <a:lnTo>
                  <a:pt x="466" y="377"/>
                </a:lnTo>
                <a:lnTo>
                  <a:pt x="454" y="415"/>
                </a:lnTo>
                <a:lnTo>
                  <a:pt x="428" y="466"/>
                </a:lnTo>
                <a:lnTo>
                  <a:pt x="416" y="503"/>
                </a:lnTo>
                <a:lnTo>
                  <a:pt x="391" y="554"/>
                </a:lnTo>
                <a:lnTo>
                  <a:pt x="365" y="604"/>
                </a:lnTo>
                <a:lnTo>
                  <a:pt x="353" y="654"/>
                </a:lnTo>
                <a:lnTo>
                  <a:pt x="315" y="717"/>
                </a:lnTo>
                <a:lnTo>
                  <a:pt x="290" y="78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8"/>
          <p:cNvSpPr/>
          <p:nvPr/>
        </p:nvSpPr>
        <p:spPr>
          <a:xfrm>
            <a:off x="3730680" y="1490760"/>
            <a:ext cx="1792080" cy="296640"/>
          </a:xfrm>
          <a:custGeom>
            <a:avLst/>
            <a:gdLst/>
            <a:ahLst/>
            <a:rect l="l" t="t" r="r" b="b"/>
            <a:pathLst>
              <a:path w="2823" h="466">
                <a:moveTo>
                  <a:pt x="2597" y="13"/>
                </a:moveTo>
                <a:lnTo>
                  <a:pt x="2634" y="26"/>
                </a:lnTo>
                <a:lnTo>
                  <a:pt x="2672" y="38"/>
                </a:lnTo>
                <a:lnTo>
                  <a:pt x="2710" y="63"/>
                </a:lnTo>
                <a:lnTo>
                  <a:pt x="2735" y="76"/>
                </a:lnTo>
                <a:lnTo>
                  <a:pt x="2760" y="101"/>
                </a:lnTo>
                <a:lnTo>
                  <a:pt x="2786" y="114"/>
                </a:lnTo>
                <a:lnTo>
                  <a:pt x="2798" y="139"/>
                </a:lnTo>
                <a:lnTo>
                  <a:pt x="2811" y="164"/>
                </a:lnTo>
                <a:lnTo>
                  <a:pt x="2811" y="189"/>
                </a:lnTo>
                <a:lnTo>
                  <a:pt x="2823" y="202"/>
                </a:lnTo>
                <a:lnTo>
                  <a:pt x="2811" y="214"/>
                </a:lnTo>
                <a:lnTo>
                  <a:pt x="2811" y="227"/>
                </a:lnTo>
                <a:lnTo>
                  <a:pt x="2798" y="227"/>
                </a:lnTo>
                <a:lnTo>
                  <a:pt x="2786" y="227"/>
                </a:lnTo>
                <a:lnTo>
                  <a:pt x="2773" y="227"/>
                </a:lnTo>
                <a:lnTo>
                  <a:pt x="2748" y="240"/>
                </a:lnTo>
                <a:lnTo>
                  <a:pt x="2735" y="240"/>
                </a:lnTo>
                <a:lnTo>
                  <a:pt x="2697" y="240"/>
                </a:lnTo>
                <a:lnTo>
                  <a:pt x="2672" y="240"/>
                </a:lnTo>
                <a:lnTo>
                  <a:pt x="2634" y="240"/>
                </a:lnTo>
                <a:lnTo>
                  <a:pt x="2597" y="240"/>
                </a:lnTo>
                <a:lnTo>
                  <a:pt x="2559" y="240"/>
                </a:lnTo>
                <a:lnTo>
                  <a:pt x="2508" y="240"/>
                </a:lnTo>
                <a:lnTo>
                  <a:pt x="2471" y="240"/>
                </a:lnTo>
                <a:lnTo>
                  <a:pt x="2408" y="240"/>
                </a:lnTo>
                <a:lnTo>
                  <a:pt x="2357" y="240"/>
                </a:lnTo>
                <a:lnTo>
                  <a:pt x="2294" y="240"/>
                </a:lnTo>
                <a:lnTo>
                  <a:pt x="2168" y="240"/>
                </a:lnTo>
                <a:lnTo>
                  <a:pt x="2055" y="240"/>
                </a:lnTo>
                <a:lnTo>
                  <a:pt x="1941" y="252"/>
                </a:lnTo>
                <a:lnTo>
                  <a:pt x="1828" y="252"/>
                </a:lnTo>
                <a:lnTo>
                  <a:pt x="1727" y="265"/>
                </a:lnTo>
                <a:lnTo>
                  <a:pt x="1626" y="265"/>
                </a:lnTo>
                <a:lnTo>
                  <a:pt x="1525" y="277"/>
                </a:lnTo>
                <a:lnTo>
                  <a:pt x="1437" y="290"/>
                </a:lnTo>
                <a:lnTo>
                  <a:pt x="1387" y="290"/>
                </a:lnTo>
                <a:lnTo>
                  <a:pt x="1349" y="302"/>
                </a:lnTo>
                <a:lnTo>
                  <a:pt x="1311" y="302"/>
                </a:lnTo>
                <a:lnTo>
                  <a:pt x="1273" y="315"/>
                </a:lnTo>
                <a:lnTo>
                  <a:pt x="1235" y="315"/>
                </a:lnTo>
                <a:lnTo>
                  <a:pt x="1210" y="315"/>
                </a:lnTo>
                <a:lnTo>
                  <a:pt x="1185" y="328"/>
                </a:lnTo>
                <a:lnTo>
                  <a:pt x="1160" y="328"/>
                </a:lnTo>
                <a:lnTo>
                  <a:pt x="1135" y="328"/>
                </a:lnTo>
                <a:lnTo>
                  <a:pt x="1109" y="328"/>
                </a:lnTo>
                <a:lnTo>
                  <a:pt x="1097" y="328"/>
                </a:lnTo>
                <a:lnTo>
                  <a:pt x="1072" y="328"/>
                </a:lnTo>
                <a:lnTo>
                  <a:pt x="1059" y="328"/>
                </a:lnTo>
                <a:lnTo>
                  <a:pt x="1046" y="340"/>
                </a:lnTo>
                <a:lnTo>
                  <a:pt x="1034" y="340"/>
                </a:lnTo>
                <a:lnTo>
                  <a:pt x="1021" y="340"/>
                </a:lnTo>
                <a:lnTo>
                  <a:pt x="1009" y="340"/>
                </a:lnTo>
                <a:lnTo>
                  <a:pt x="996" y="340"/>
                </a:lnTo>
                <a:lnTo>
                  <a:pt x="971" y="340"/>
                </a:lnTo>
                <a:lnTo>
                  <a:pt x="945" y="340"/>
                </a:lnTo>
                <a:lnTo>
                  <a:pt x="920" y="340"/>
                </a:lnTo>
                <a:lnTo>
                  <a:pt x="882" y="353"/>
                </a:lnTo>
                <a:lnTo>
                  <a:pt x="845" y="353"/>
                </a:lnTo>
                <a:lnTo>
                  <a:pt x="807" y="353"/>
                </a:lnTo>
                <a:lnTo>
                  <a:pt x="769" y="365"/>
                </a:lnTo>
                <a:lnTo>
                  <a:pt x="719" y="365"/>
                </a:lnTo>
                <a:lnTo>
                  <a:pt x="681" y="378"/>
                </a:lnTo>
                <a:lnTo>
                  <a:pt x="630" y="378"/>
                </a:lnTo>
                <a:lnTo>
                  <a:pt x="580" y="391"/>
                </a:lnTo>
                <a:lnTo>
                  <a:pt x="530" y="403"/>
                </a:lnTo>
                <a:lnTo>
                  <a:pt x="467" y="416"/>
                </a:lnTo>
                <a:lnTo>
                  <a:pt x="416" y="428"/>
                </a:lnTo>
                <a:lnTo>
                  <a:pt x="366" y="428"/>
                </a:lnTo>
                <a:lnTo>
                  <a:pt x="328" y="441"/>
                </a:lnTo>
                <a:lnTo>
                  <a:pt x="290" y="453"/>
                </a:lnTo>
                <a:lnTo>
                  <a:pt x="265" y="453"/>
                </a:lnTo>
                <a:lnTo>
                  <a:pt x="240" y="453"/>
                </a:lnTo>
                <a:lnTo>
                  <a:pt x="214" y="466"/>
                </a:lnTo>
                <a:lnTo>
                  <a:pt x="202" y="466"/>
                </a:lnTo>
                <a:lnTo>
                  <a:pt x="189" y="453"/>
                </a:lnTo>
                <a:lnTo>
                  <a:pt x="151" y="441"/>
                </a:lnTo>
                <a:lnTo>
                  <a:pt x="126" y="428"/>
                </a:lnTo>
                <a:lnTo>
                  <a:pt x="76" y="403"/>
                </a:lnTo>
                <a:lnTo>
                  <a:pt x="63" y="378"/>
                </a:lnTo>
                <a:lnTo>
                  <a:pt x="51" y="365"/>
                </a:lnTo>
                <a:lnTo>
                  <a:pt x="25" y="353"/>
                </a:lnTo>
                <a:lnTo>
                  <a:pt x="13" y="340"/>
                </a:lnTo>
                <a:lnTo>
                  <a:pt x="0" y="328"/>
                </a:lnTo>
                <a:lnTo>
                  <a:pt x="0" y="315"/>
                </a:lnTo>
                <a:lnTo>
                  <a:pt x="0" y="302"/>
                </a:lnTo>
                <a:lnTo>
                  <a:pt x="13" y="290"/>
                </a:lnTo>
                <a:lnTo>
                  <a:pt x="25" y="290"/>
                </a:lnTo>
                <a:lnTo>
                  <a:pt x="38" y="290"/>
                </a:lnTo>
                <a:lnTo>
                  <a:pt x="51" y="277"/>
                </a:lnTo>
                <a:lnTo>
                  <a:pt x="76" y="277"/>
                </a:lnTo>
                <a:lnTo>
                  <a:pt x="101" y="277"/>
                </a:lnTo>
                <a:lnTo>
                  <a:pt x="151" y="265"/>
                </a:lnTo>
                <a:lnTo>
                  <a:pt x="214" y="252"/>
                </a:lnTo>
                <a:lnTo>
                  <a:pt x="290" y="252"/>
                </a:lnTo>
                <a:lnTo>
                  <a:pt x="366" y="240"/>
                </a:lnTo>
                <a:lnTo>
                  <a:pt x="391" y="240"/>
                </a:lnTo>
                <a:lnTo>
                  <a:pt x="416" y="240"/>
                </a:lnTo>
                <a:lnTo>
                  <a:pt x="454" y="227"/>
                </a:lnTo>
                <a:lnTo>
                  <a:pt x="492" y="227"/>
                </a:lnTo>
                <a:lnTo>
                  <a:pt x="530" y="227"/>
                </a:lnTo>
                <a:lnTo>
                  <a:pt x="580" y="227"/>
                </a:lnTo>
                <a:lnTo>
                  <a:pt x="630" y="214"/>
                </a:lnTo>
                <a:lnTo>
                  <a:pt x="693" y="214"/>
                </a:lnTo>
                <a:lnTo>
                  <a:pt x="756" y="202"/>
                </a:lnTo>
                <a:lnTo>
                  <a:pt x="819" y="189"/>
                </a:lnTo>
                <a:lnTo>
                  <a:pt x="895" y="189"/>
                </a:lnTo>
                <a:lnTo>
                  <a:pt x="983" y="177"/>
                </a:lnTo>
                <a:lnTo>
                  <a:pt x="1059" y="177"/>
                </a:lnTo>
                <a:lnTo>
                  <a:pt x="1160" y="164"/>
                </a:lnTo>
                <a:lnTo>
                  <a:pt x="1248" y="151"/>
                </a:lnTo>
                <a:lnTo>
                  <a:pt x="1349" y="139"/>
                </a:lnTo>
                <a:lnTo>
                  <a:pt x="1450" y="126"/>
                </a:lnTo>
                <a:lnTo>
                  <a:pt x="1538" y="126"/>
                </a:lnTo>
                <a:lnTo>
                  <a:pt x="1626" y="114"/>
                </a:lnTo>
                <a:lnTo>
                  <a:pt x="1714" y="101"/>
                </a:lnTo>
                <a:lnTo>
                  <a:pt x="1803" y="88"/>
                </a:lnTo>
                <a:lnTo>
                  <a:pt x="1878" y="88"/>
                </a:lnTo>
                <a:lnTo>
                  <a:pt x="1941" y="76"/>
                </a:lnTo>
                <a:lnTo>
                  <a:pt x="2004" y="63"/>
                </a:lnTo>
                <a:lnTo>
                  <a:pt x="2067" y="63"/>
                </a:lnTo>
                <a:lnTo>
                  <a:pt x="2118" y="51"/>
                </a:lnTo>
                <a:lnTo>
                  <a:pt x="2168" y="51"/>
                </a:lnTo>
                <a:lnTo>
                  <a:pt x="2206" y="38"/>
                </a:lnTo>
                <a:lnTo>
                  <a:pt x="2244" y="38"/>
                </a:lnTo>
                <a:lnTo>
                  <a:pt x="2282" y="38"/>
                </a:lnTo>
                <a:lnTo>
                  <a:pt x="2307" y="26"/>
                </a:lnTo>
                <a:lnTo>
                  <a:pt x="2332" y="26"/>
                </a:lnTo>
                <a:lnTo>
                  <a:pt x="2408" y="13"/>
                </a:lnTo>
                <a:lnTo>
                  <a:pt x="2483" y="0"/>
                </a:lnTo>
                <a:lnTo>
                  <a:pt x="2546" y="13"/>
                </a:lnTo>
                <a:lnTo>
                  <a:pt x="2597" y="1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9"/>
          <p:cNvSpPr/>
          <p:nvPr/>
        </p:nvSpPr>
        <p:spPr>
          <a:xfrm>
            <a:off x="3459240" y="2122560"/>
            <a:ext cx="2255760" cy="287280"/>
          </a:xfrm>
          <a:custGeom>
            <a:avLst/>
            <a:gdLst/>
            <a:ahLst/>
            <a:rect l="l" t="t" r="r" b="b"/>
            <a:pathLst>
              <a:path w="3554" h="453">
                <a:moveTo>
                  <a:pt x="100" y="365"/>
                </a:moveTo>
                <a:lnTo>
                  <a:pt x="75" y="352"/>
                </a:lnTo>
                <a:lnTo>
                  <a:pt x="63" y="340"/>
                </a:lnTo>
                <a:lnTo>
                  <a:pt x="37" y="314"/>
                </a:lnTo>
                <a:lnTo>
                  <a:pt x="25" y="302"/>
                </a:lnTo>
                <a:lnTo>
                  <a:pt x="12" y="289"/>
                </a:lnTo>
                <a:lnTo>
                  <a:pt x="0" y="277"/>
                </a:lnTo>
                <a:lnTo>
                  <a:pt x="0" y="264"/>
                </a:lnTo>
                <a:lnTo>
                  <a:pt x="12" y="264"/>
                </a:lnTo>
                <a:lnTo>
                  <a:pt x="25" y="264"/>
                </a:lnTo>
                <a:lnTo>
                  <a:pt x="37" y="251"/>
                </a:lnTo>
                <a:lnTo>
                  <a:pt x="75" y="251"/>
                </a:lnTo>
                <a:lnTo>
                  <a:pt x="113" y="251"/>
                </a:lnTo>
                <a:lnTo>
                  <a:pt x="164" y="239"/>
                </a:lnTo>
                <a:lnTo>
                  <a:pt x="227" y="239"/>
                </a:lnTo>
                <a:lnTo>
                  <a:pt x="302" y="239"/>
                </a:lnTo>
                <a:lnTo>
                  <a:pt x="365" y="239"/>
                </a:lnTo>
                <a:lnTo>
                  <a:pt x="441" y="226"/>
                </a:lnTo>
                <a:lnTo>
                  <a:pt x="504" y="226"/>
                </a:lnTo>
                <a:lnTo>
                  <a:pt x="567" y="226"/>
                </a:lnTo>
                <a:lnTo>
                  <a:pt x="617" y="226"/>
                </a:lnTo>
                <a:lnTo>
                  <a:pt x="668" y="226"/>
                </a:lnTo>
                <a:lnTo>
                  <a:pt x="718" y="214"/>
                </a:lnTo>
                <a:lnTo>
                  <a:pt x="756" y="214"/>
                </a:lnTo>
                <a:lnTo>
                  <a:pt x="781" y="214"/>
                </a:lnTo>
                <a:lnTo>
                  <a:pt x="819" y="214"/>
                </a:lnTo>
                <a:lnTo>
                  <a:pt x="844" y="201"/>
                </a:lnTo>
                <a:lnTo>
                  <a:pt x="895" y="201"/>
                </a:lnTo>
                <a:lnTo>
                  <a:pt x="945" y="201"/>
                </a:lnTo>
                <a:lnTo>
                  <a:pt x="995" y="189"/>
                </a:lnTo>
                <a:lnTo>
                  <a:pt x="1058" y="189"/>
                </a:lnTo>
                <a:lnTo>
                  <a:pt x="1121" y="176"/>
                </a:lnTo>
                <a:lnTo>
                  <a:pt x="1197" y="163"/>
                </a:lnTo>
                <a:lnTo>
                  <a:pt x="1273" y="163"/>
                </a:lnTo>
                <a:lnTo>
                  <a:pt x="1361" y="151"/>
                </a:lnTo>
                <a:lnTo>
                  <a:pt x="1449" y="138"/>
                </a:lnTo>
                <a:lnTo>
                  <a:pt x="1550" y="126"/>
                </a:lnTo>
                <a:lnTo>
                  <a:pt x="1651" y="126"/>
                </a:lnTo>
                <a:lnTo>
                  <a:pt x="1764" y="113"/>
                </a:lnTo>
                <a:lnTo>
                  <a:pt x="1878" y="100"/>
                </a:lnTo>
                <a:lnTo>
                  <a:pt x="1991" y="88"/>
                </a:lnTo>
                <a:lnTo>
                  <a:pt x="2105" y="75"/>
                </a:lnTo>
                <a:lnTo>
                  <a:pt x="2205" y="63"/>
                </a:lnTo>
                <a:lnTo>
                  <a:pt x="2306" y="50"/>
                </a:lnTo>
                <a:lnTo>
                  <a:pt x="2394" y="37"/>
                </a:lnTo>
                <a:lnTo>
                  <a:pt x="2483" y="37"/>
                </a:lnTo>
                <a:lnTo>
                  <a:pt x="2571" y="25"/>
                </a:lnTo>
                <a:lnTo>
                  <a:pt x="2646" y="25"/>
                </a:lnTo>
                <a:lnTo>
                  <a:pt x="2710" y="12"/>
                </a:lnTo>
                <a:lnTo>
                  <a:pt x="2773" y="12"/>
                </a:lnTo>
                <a:lnTo>
                  <a:pt x="2823" y="0"/>
                </a:lnTo>
                <a:lnTo>
                  <a:pt x="2873" y="0"/>
                </a:lnTo>
                <a:lnTo>
                  <a:pt x="2924" y="0"/>
                </a:lnTo>
                <a:lnTo>
                  <a:pt x="2962" y="0"/>
                </a:lnTo>
                <a:lnTo>
                  <a:pt x="2987" y="0"/>
                </a:lnTo>
                <a:lnTo>
                  <a:pt x="3025" y="0"/>
                </a:lnTo>
                <a:lnTo>
                  <a:pt x="3062" y="0"/>
                </a:lnTo>
                <a:lnTo>
                  <a:pt x="3113" y="0"/>
                </a:lnTo>
                <a:lnTo>
                  <a:pt x="3163" y="12"/>
                </a:lnTo>
                <a:lnTo>
                  <a:pt x="3201" y="12"/>
                </a:lnTo>
                <a:lnTo>
                  <a:pt x="3251" y="25"/>
                </a:lnTo>
                <a:lnTo>
                  <a:pt x="3289" y="37"/>
                </a:lnTo>
                <a:lnTo>
                  <a:pt x="3340" y="63"/>
                </a:lnTo>
                <a:lnTo>
                  <a:pt x="3378" y="75"/>
                </a:lnTo>
                <a:lnTo>
                  <a:pt x="3415" y="100"/>
                </a:lnTo>
                <a:lnTo>
                  <a:pt x="3453" y="126"/>
                </a:lnTo>
                <a:lnTo>
                  <a:pt x="3478" y="138"/>
                </a:lnTo>
                <a:lnTo>
                  <a:pt x="3504" y="163"/>
                </a:lnTo>
                <a:lnTo>
                  <a:pt x="3529" y="176"/>
                </a:lnTo>
                <a:lnTo>
                  <a:pt x="3541" y="201"/>
                </a:lnTo>
                <a:lnTo>
                  <a:pt x="3554" y="214"/>
                </a:lnTo>
                <a:lnTo>
                  <a:pt x="3554" y="226"/>
                </a:lnTo>
                <a:lnTo>
                  <a:pt x="3554" y="251"/>
                </a:lnTo>
                <a:lnTo>
                  <a:pt x="3541" y="277"/>
                </a:lnTo>
                <a:lnTo>
                  <a:pt x="3541" y="289"/>
                </a:lnTo>
                <a:lnTo>
                  <a:pt x="3529" y="289"/>
                </a:lnTo>
                <a:lnTo>
                  <a:pt x="3516" y="289"/>
                </a:lnTo>
                <a:lnTo>
                  <a:pt x="3504" y="289"/>
                </a:lnTo>
                <a:lnTo>
                  <a:pt x="3491" y="289"/>
                </a:lnTo>
                <a:lnTo>
                  <a:pt x="3478" y="289"/>
                </a:lnTo>
                <a:lnTo>
                  <a:pt x="3453" y="289"/>
                </a:lnTo>
                <a:lnTo>
                  <a:pt x="3428" y="289"/>
                </a:lnTo>
                <a:lnTo>
                  <a:pt x="3403" y="289"/>
                </a:lnTo>
                <a:lnTo>
                  <a:pt x="3378" y="289"/>
                </a:lnTo>
                <a:lnTo>
                  <a:pt x="3340" y="277"/>
                </a:lnTo>
                <a:lnTo>
                  <a:pt x="3315" y="277"/>
                </a:lnTo>
                <a:lnTo>
                  <a:pt x="3277" y="277"/>
                </a:lnTo>
                <a:lnTo>
                  <a:pt x="3226" y="277"/>
                </a:lnTo>
                <a:lnTo>
                  <a:pt x="3188" y="277"/>
                </a:lnTo>
                <a:lnTo>
                  <a:pt x="3138" y="264"/>
                </a:lnTo>
                <a:lnTo>
                  <a:pt x="3088" y="264"/>
                </a:lnTo>
                <a:lnTo>
                  <a:pt x="2987" y="264"/>
                </a:lnTo>
                <a:lnTo>
                  <a:pt x="2886" y="264"/>
                </a:lnTo>
                <a:lnTo>
                  <a:pt x="2798" y="251"/>
                </a:lnTo>
                <a:lnTo>
                  <a:pt x="2710" y="251"/>
                </a:lnTo>
                <a:lnTo>
                  <a:pt x="2621" y="251"/>
                </a:lnTo>
                <a:lnTo>
                  <a:pt x="2546" y="251"/>
                </a:lnTo>
                <a:lnTo>
                  <a:pt x="2470" y="251"/>
                </a:lnTo>
                <a:lnTo>
                  <a:pt x="2407" y="251"/>
                </a:lnTo>
                <a:lnTo>
                  <a:pt x="2268" y="251"/>
                </a:lnTo>
                <a:lnTo>
                  <a:pt x="2130" y="251"/>
                </a:lnTo>
                <a:lnTo>
                  <a:pt x="1991" y="264"/>
                </a:lnTo>
                <a:lnTo>
                  <a:pt x="1852" y="264"/>
                </a:lnTo>
                <a:lnTo>
                  <a:pt x="1815" y="277"/>
                </a:lnTo>
                <a:lnTo>
                  <a:pt x="1777" y="277"/>
                </a:lnTo>
                <a:lnTo>
                  <a:pt x="1739" y="277"/>
                </a:lnTo>
                <a:lnTo>
                  <a:pt x="1701" y="289"/>
                </a:lnTo>
                <a:lnTo>
                  <a:pt x="1651" y="289"/>
                </a:lnTo>
                <a:lnTo>
                  <a:pt x="1600" y="289"/>
                </a:lnTo>
                <a:lnTo>
                  <a:pt x="1550" y="302"/>
                </a:lnTo>
                <a:lnTo>
                  <a:pt x="1500" y="302"/>
                </a:lnTo>
                <a:lnTo>
                  <a:pt x="1449" y="314"/>
                </a:lnTo>
                <a:lnTo>
                  <a:pt x="1386" y="327"/>
                </a:lnTo>
                <a:lnTo>
                  <a:pt x="1323" y="327"/>
                </a:lnTo>
                <a:lnTo>
                  <a:pt x="1260" y="340"/>
                </a:lnTo>
                <a:lnTo>
                  <a:pt x="1197" y="352"/>
                </a:lnTo>
                <a:lnTo>
                  <a:pt x="1121" y="352"/>
                </a:lnTo>
                <a:lnTo>
                  <a:pt x="1046" y="365"/>
                </a:lnTo>
                <a:lnTo>
                  <a:pt x="983" y="377"/>
                </a:lnTo>
                <a:lnTo>
                  <a:pt x="907" y="390"/>
                </a:lnTo>
                <a:lnTo>
                  <a:pt x="832" y="402"/>
                </a:lnTo>
                <a:lnTo>
                  <a:pt x="769" y="402"/>
                </a:lnTo>
                <a:lnTo>
                  <a:pt x="705" y="415"/>
                </a:lnTo>
                <a:lnTo>
                  <a:pt x="655" y="415"/>
                </a:lnTo>
                <a:lnTo>
                  <a:pt x="605" y="428"/>
                </a:lnTo>
                <a:lnTo>
                  <a:pt x="554" y="440"/>
                </a:lnTo>
                <a:lnTo>
                  <a:pt x="504" y="440"/>
                </a:lnTo>
                <a:lnTo>
                  <a:pt x="466" y="440"/>
                </a:lnTo>
                <a:lnTo>
                  <a:pt x="428" y="453"/>
                </a:lnTo>
                <a:lnTo>
                  <a:pt x="390" y="453"/>
                </a:lnTo>
                <a:lnTo>
                  <a:pt x="365" y="453"/>
                </a:lnTo>
                <a:lnTo>
                  <a:pt x="340" y="453"/>
                </a:lnTo>
                <a:lnTo>
                  <a:pt x="315" y="453"/>
                </a:lnTo>
                <a:lnTo>
                  <a:pt x="302" y="453"/>
                </a:lnTo>
                <a:lnTo>
                  <a:pt x="290" y="453"/>
                </a:lnTo>
                <a:lnTo>
                  <a:pt x="252" y="453"/>
                </a:lnTo>
                <a:lnTo>
                  <a:pt x="201" y="428"/>
                </a:lnTo>
                <a:lnTo>
                  <a:pt x="151" y="402"/>
                </a:lnTo>
                <a:lnTo>
                  <a:pt x="100" y="36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10"/>
          <p:cNvSpPr/>
          <p:nvPr/>
        </p:nvSpPr>
        <p:spPr>
          <a:xfrm>
            <a:off x="3451320" y="1898640"/>
            <a:ext cx="1231920" cy="1414440"/>
          </a:xfrm>
          <a:custGeom>
            <a:avLst/>
            <a:gdLst/>
            <a:ahLst/>
            <a:rect l="l" t="t" r="r" b="b"/>
            <a:pathLst>
              <a:path w="1941" h="2228">
                <a:moveTo>
                  <a:pt x="0" y="2216"/>
                </a:moveTo>
                <a:lnTo>
                  <a:pt x="0" y="2216"/>
                </a:lnTo>
                <a:lnTo>
                  <a:pt x="0" y="2190"/>
                </a:lnTo>
                <a:lnTo>
                  <a:pt x="25" y="2178"/>
                </a:lnTo>
                <a:lnTo>
                  <a:pt x="38" y="2153"/>
                </a:lnTo>
                <a:lnTo>
                  <a:pt x="63" y="2127"/>
                </a:lnTo>
                <a:lnTo>
                  <a:pt x="101" y="2102"/>
                </a:lnTo>
                <a:lnTo>
                  <a:pt x="139" y="2077"/>
                </a:lnTo>
                <a:lnTo>
                  <a:pt x="189" y="2039"/>
                </a:lnTo>
                <a:lnTo>
                  <a:pt x="252" y="2002"/>
                </a:lnTo>
                <a:lnTo>
                  <a:pt x="303" y="1951"/>
                </a:lnTo>
                <a:lnTo>
                  <a:pt x="366" y="1901"/>
                </a:lnTo>
                <a:lnTo>
                  <a:pt x="441" y="1851"/>
                </a:lnTo>
                <a:lnTo>
                  <a:pt x="504" y="1788"/>
                </a:lnTo>
                <a:lnTo>
                  <a:pt x="592" y="1725"/>
                </a:lnTo>
                <a:lnTo>
                  <a:pt x="668" y="1649"/>
                </a:lnTo>
                <a:lnTo>
                  <a:pt x="756" y="1574"/>
                </a:lnTo>
                <a:lnTo>
                  <a:pt x="832" y="1486"/>
                </a:lnTo>
                <a:lnTo>
                  <a:pt x="908" y="1410"/>
                </a:lnTo>
                <a:lnTo>
                  <a:pt x="983" y="1334"/>
                </a:lnTo>
                <a:lnTo>
                  <a:pt x="1059" y="1246"/>
                </a:lnTo>
                <a:lnTo>
                  <a:pt x="1122" y="1171"/>
                </a:lnTo>
                <a:lnTo>
                  <a:pt x="1185" y="1083"/>
                </a:lnTo>
                <a:lnTo>
                  <a:pt x="1248" y="1007"/>
                </a:lnTo>
                <a:lnTo>
                  <a:pt x="1311" y="919"/>
                </a:lnTo>
                <a:lnTo>
                  <a:pt x="1361" y="831"/>
                </a:lnTo>
                <a:lnTo>
                  <a:pt x="1399" y="755"/>
                </a:lnTo>
                <a:lnTo>
                  <a:pt x="1450" y="680"/>
                </a:lnTo>
                <a:lnTo>
                  <a:pt x="1475" y="604"/>
                </a:lnTo>
                <a:lnTo>
                  <a:pt x="1513" y="542"/>
                </a:lnTo>
                <a:lnTo>
                  <a:pt x="1538" y="479"/>
                </a:lnTo>
                <a:lnTo>
                  <a:pt x="1563" y="416"/>
                </a:lnTo>
                <a:lnTo>
                  <a:pt x="1588" y="353"/>
                </a:lnTo>
                <a:lnTo>
                  <a:pt x="1601" y="302"/>
                </a:lnTo>
                <a:lnTo>
                  <a:pt x="1613" y="252"/>
                </a:lnTo>
                <a:lnTo>
                  <a:pt x="1626" y="214"/>
                </a:lnTo>
                <a:lnTo>
                  <a:pt x="1626" y="176"/>
                </a:lnTo>
                <a:lnTo>
                  <a:pt x="1626" y="151"/>
                </a:lnTo>
                <a:lnTo>
                  <a:pt x="1626" y="126"/>
                </a:lnTo>
                <a:lnTo>
                  <a:pt x="1613" y="101"/>
                </a:lnTo>
                <a:lnTo>
                  <a:pt x="1613" y="88"/>
                </a:lnTo>
                <a:lnTo>
                  <a:pt x="1601" y="76"/>
                </a:lnTo>
                <a:lnTo>
                  <a:pt x="1588" y="76"/>
                </a:lnTo>
                <a:lnTo>
                  <a:pt x="1588" y="63"/>
                </a:lnTo>
                <a:lnTo>
                  <a:pt x="1588" y="51"/>
                </a:lnTo>
                <a:lnTo>
                  <a:pt x="1588" y="38"/>
                </a:lnTo>
                <a:lnTo>
                  <a:pt x="1588" y="25"/>
                </a:lnTo>
                <a:lnTo>
                  <a:pt x="1601" y="13"/>
                </a:lnTo>
                <a:lnTo>
                  <a:pt x="1613" y="0"/>
                </a:lnTo>
                <a:lnTo>
                  <a:pt x="1626" y="0"/>
                </a:lnTo>
                <a:lnTo>
                  <a:pt x="1651" y="0"/>
                </a:lnTo>
                <a:lnTo>
                  <a:pt x="1664" y="0"/>
                </a:lnTo>
                <a:lnTo>
                  <a:pt x="1689" y="0"/>
                </a:lnTo>
                <a:lnTo>
                  <a:pt x="1727" y="13"/>
                </a:lnTo>
                <a:lnTo>
                  <a:pt x="1752" y="25"/>
                </a:lnTo>
                <a:lnTo>
                  <a:pt x="1790" y="38"/>
                </a:lnTo>
                <a:lnTo>
                  <a:pt x="1828" y="51"/>
                </a:lnTo>
                <a:lnTo>
                  <a:pt x="1853" y="63"/>
                </a:lnTo>
                <a:lnTo>
                  <a:pt x="1878" y="88"/>
                </a:lnTo>
                <a:lnTo>
                  <a:pt x="1903" y="101"/>
                </a:lnTo>
                <a:lnTo>
                  <a:pt x="1916" y="114"/>
                </a:lnTo>
                <a:lnTo>
                  <a:pt x="1928" y="126"/>
                </a:lnTo>
                <a:lnTo>
                  <a:pt x="1941" y="151"/>
                </a:lnTo>
                <a:lnTo>
                  <a:pt x="1941" y="164"/>
                </a:lnTo>
                <a:lnTo>
                  <a:pt x="1941" y="176"/>
                </a:lnTo>
                <a:lnTo>
                  <a:pt x="1941" y="202"/>
                </a:lnTo>
                <a:lnTo>
                  <a:pt x="1941" y="214"/>
                </a:lnTo>
                <a:lnTo>
                  <a:pt x="1928" y="227"/>
                </a:lnTo>
                <a:lnTo>
                  <a:pt x="1916" y="252"/>
                </a:lnTo>
                <a:lnTo>
                  <a:pt x="1916" y="277"/>
                </a:lnTo>
                <a:lnTo>
                  <a:pt x="1903" y="302"/>
                </a:lnTo>
                <a:lnTo>
                  <a:pt x="1878" y="340"/>
                </a:lnTo>
                <a:lnTo>
                  <a:pt x="1865" y="365"/>
                </a:lnTo>
                <a:lnTo>
                  <a:pt x="1853" y="403"/>
                </a:lnTo>
                <a:lnTo>
                  <a:pt x="1828" y="441"/>
                </a:lnTo>
                <a:lnTo>
                  <a:pt x="1815" y="479"/>
                </a:lnTo>
                <a:lnTo>
                  <a:pt x="1790" y="529"/>
                </a:lnTo>
                <a:lnTo>
                  <a:pt x="1765" y="567"/>
                </a:lnTo>
                <a:lnTo>
                  <a:pt x="1739" y="617"/>
                </a:lnTo>
                <a:lnTo>
                  <a:pt x="1676" y="718"/>
                </a:lnTo>
                <a:lnTo>
                  <a:pt x="1626" y="806"/>
                </a:lnTo>
                <a:lnTo>
                  <a:pt x="1563" y="907"/>
                </a:lnTo>
                <a:lnTo>
                  <a:pt x="1513" y="995"/>
                </a:lnTo>
                <a:lnTo>
                  <a:pt x="1450" y="1070"/>
                </a:lnTo>
                <a:lnTo>
                  <a:pt x="1386" y="1158"/>
                </a:lnTo>
                <a:lnTo>
                  <a:pt x="1323" y="1234"/>
                </a:lnTo>
                <a:lnTo>
                  <a:pt x="1260" y="1309"/>
                </a:lnTo>
                <a:lnTo>
                  <a:pt x="1210" y="1372"/>
                </a:lnTo>
                <a:lnTo>
                  <a:pt x="1147" y="1448"/>
                </a:lnTo>
                <a:lnTo>
                  <a:pt x="1084" y="1511"/>
                </a:lnTo>
                <a:lnTo>
                  <a:pt x="1021" y="1574"/>
                </a:lnTo>
                <a:lnTo>
                  <a:pt x="958" y="1624"/>
                </a:lnTo>
                <a:lnTo>
                  <a:pt x="895" y="1687"/>
                </a:lnTo>
                <a:lnTo>
                  <a:pt x="832" y="1737"/>
                </a:lnTo>
                <a:lnTo>
                  <a:pt x="769" y="1788"/>
                </a:lnTo>
                <a:lnTo>
                  <a:pt x="655" y="1876"/>
                </a:lnTo>
                <a:lnTo>
                  <a:pt x="529" y="1964"/>
                </a:lnTo>
                <a:lnTo>
                  <a:pt x="403" y="2039"/>
                </a:lnTo>
                <a:lnTo>
                  <a:pt x="277" y="2115"/>
                </a:lnTo>
                <a:lnTo>
                  <a:pt x="214" y="2140"/>
                </a:lnTo>
                <a:lnTo>
                  <a:pt x="164" y="2165"/>
                </a:lnTo>
                <a:lnTo>
                  <a:pt x="113" y="2190"/>
                </a:lnTo>
                <a:lnTo>
                  <a:pt x="76" y="2203"/>
                </a:lnTo>
                <a:lnTo>
                  <a:pt x="38" y="2216"/>
                </a:lnTo>
                <a:lnTo>
                  <a:pt x="25" y="2228"/>
                </a:lnTo>
                <a:lnTo>
                  <a:pt x="0" y="2228"/>
                </a:lnTo>
                <a:lnTo>
                  <a:pt x="0" y="221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11"/>
          <p:cNvSpPr/>
          <p:nvPr/>
        </p:nvSpPr>
        <p:spPr>
          <a:xfrm>
            <a:off x="4203720" y="2673360"/>
            <a:ext cx="200160" cy="663480"/>
          </a:xfrm>
          <a:custGeom>
            <a:avLst/>
            <a:gdLst/>
            <a:ahLst/>
            <a:rect l="l" t="t" r="r" b="b"/>
            <a:pathLst>
              <a:path w="315" h="1045">
                <a:moveTo>
                  <a:pt x="0" y="0"/>
                </a:moveTo>
                <a:lnTo>
                  <a:pt x="265" y="13"/>
                </a:lnTo>
                <a:lnTo>
                  <a:pt x="277" y="113"/>
                </a:lnTo>
                <a:lnTo>
                  <a:pt x="277" y="202"/>
                </a:lnTo>
                <a:lnTo>
                  <a:pt x="277" y="290"/>
                </a:lnTo>
                <a:lnTo>
                  <a:pt x="290" y="365"/>
                </a:lnTo>
                <a:lnTo>
                  <a:pt x="290" y="453"/>
                </a:lnTo>
                <a:lnTo>
                  <a:pt x="302" y="516"/>
                </a:lnTo>
                <a:lnTo>
                  <a:pt x="302" y="579"/>
                </a:lnTo>
                <a:lnTo>
                  <a:pt x="302" y="642"/>
                </a:lnTo>
                <a:lnTo>
                  <a:pt x="302" y="705"/>
                </a:lnTo>
                <a:lnTo>
                  <a:pt x="315" y="743"/>
                </a:lnTo>
                <a:lnTo>
                  <a:pt x="315" y="793"/>
                </a:lnTo>
                <a:lnTo>
                  <a:pt x="315" y="831"/>
                </a:lnTo>
                <a:lnTo>
                  <a:pt x="315" y="869"/>
                </a:lnTo>
                <a:lnTo>
                  <a:pt x="315" y="894"/>
                </a:lnTo>
                <a:lnTo>
                  <a:pt x="315" y="919"/>
                </a:lnTo>
                <a:lnTo>
                  <a:pt x="315" y="932"/>
                </a:lnTo>
                <a:lnTo>
                  <a:pt x="315" y="969"/>
                </a:lnTo>
                <a:lnTo>
                  <a:pt x="315" y="995"/>
                </a:lnTo>
                <a:lnTo>
                  <a:pt x="302" y="1007"/>
                </a:lnTo>
                <a:lnTo>
                  <a:pt x="302" y="1020"/>
                </a:lnTo>
                <a:lnTo>
                  <a:pt x="290" y="1032"/>
                </a:lnTo>
                <a:lnTo>
                  <a:pt x="277" y="1045"/>
                </a:lnTo>
                <a:lnTo>
                  <a:pt x="265" y="1045"/>
                </a:lnTo>
                <a:lnTo>
                  <a:pt x="252" y="1045"/>
                </a:lnTo>
                <a:lnTo>
                  <a:pt x="239" y="1032"/>
                </a:lnTo>
                <a:lnTo>
                  <a:pt x="227" y="1007"/>
                </a:lnTo>
                <a:lnTo>
                  <a:pt x="214" y="995"/>
                </a:lnTo>
                <a:lnTo>
                  <a:pt x="201" y="957"/>
                </a:lnTo>
                <a:lnTo>
                  <a:pt x="189" y="932"/>
                </a:lnTo>
                <a:lnTo>
                  <a:pt x="176" y="894"/>
                </a:lnTo>
                <a:lnTo>
                  <a:pt x="164" y="856"/>
                </a:lnTo>
                <a:lnTo>
                  <a:pt x="151" y="755"/>
                </a:lnTo>
                <a:lnTo>
                  <a:pt x="138" y="667"/>
                </a:lnTo>
                <a:lnTo>
                  <a:pt x="126" y="567"/>
                </a:lnTo>
                <a:lnTo>
                  <a:pt x="113" y="466"/>
                </a:lnTo>
                <a:lnTo>
                  <a:pt x="113" y="403"/>
                </a:lnTo>
                <a:lnTo>
                  <a:pt x="101" y="353"/>
                </a:lnTo>
                <a:lnTo>
                  <a:pt x="88" y="302"/>
                </a:lnTo>
                <a:lnTo>
                  <a:pt x="75" y="239"/>
                </a:lnTo>
                <a:lnTo>
                  <a:pt x="63" y="176"/>
                </a:lnTo>
                <a:lnTo>
                  <a:pt x="50" y="126"/>
                </a:lnTo>
                <a:lnTo>
                  <a:pt x="25" y="63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12"/>
          <p:cNvSpPr/>
          <p:nvPr/>
        </p:nvSpPr>
        <p:spPr>
          <a:xfrm>
            <a:off x="4251240" y="2570040"/>
            <a:ext cx="1079640" cy="560520"/>
          </a:xfrm>
          <a:custGeom>
            <a:avLst/>
            <a:gdLst/>
            <a:ahLst/>
            <a:rect l="l" t="t" r="r" b="b"/>
            <a:pathLst>
              <a:path w="1702" h="881">
                <a:moveTo>
                  <a:pt x="1097" y="881"/>
                </a:moveTo>
                <a:lnTo>
                  <a:pt x="1122" y="818"/>
                </a:lnTo>
                <a:lnTo>
                  <a:pt x="1135" y="780"/>
                </a:lnTo>
                <a:lnTo>
                  <a:pt x="1147" y="730"/>
                </a:lnTo>
                <a:lnTo>
                  <a:pt x="1160" y="679"/>
                </a:lnTo>
                <a:lnTo>
                  <a:pt x="1173" y="629"/>
                </a:lnTo>
                <a:lnTo>
                  <a:pt x="1173" y="591"/>
                </a:lnTo>
                <a:lnTo>
                  <a:pt x="1185" y="553"/>
                </a:lnTo>
                <a:lnTo>
                  <a:pt x="1198" y="516"/>
                </a:lnTo>
                <a:lnTo>
                  <a:pt x="1198" y="490"/>
                </a:lnTo>
                <a:lnTo>
                  <a:pt x="1210" y="453"/>
                </a:lnTo>
                <a:lnTo>
                  <a:pt x="1210" y="428"/>
                </a:lnTo>
                <a:lnTo>
                  <a:pt x="1223" y="402"/>
                </a:lnTo>
                <a:lnTo>
                  <a:pt x="1223" y="390"/>
                </a:lnTo>
                <a:lnTo>
                  <a:pt x="1223" y="365"/>
                </a:lnTo>
                <a:lnTo>
                  <a:pt x="1223" y="352"/>
                </a:lnTo>
                <a:lnTo>
                  <a:pt x="1223" y="339"/>
                </a:lnTo>
                <a:lnTo>
                  <a:pt x="1223" y="302"/>
                </a:lnTo>
                <a:lnTo>
                  <a:pt x="1223" y="276"/>
                </a:lnTo>
                <a:lnTo>
                  <a:pt x="1223" y="251"/>
                </a:lnTo>
                <a:lnTo>
                  <a:pt x="1210" y="239"/>
                </a:lnTo>
                <a:lnTo>
                  <a:pt x="1198" y="226"/>
                </a:lnTo>
                <a:lnTo>
                  <a:pt x="1173" y="214"/>
                </a:lnTo>
                <a:lnTo>
                  <a:pt x="1147" y="214"/>
                </a:lnTo>
                <a:lnTo>
                  <a:pt x="1110" y="214"/>
                </a:lnTo>
                <a:lnTo>
                  <a:pt x="1097" y="214"/>
                </a:lnTo>
                <a:lnTo>
                  <a:pt x="1072" y="214"/>
                </a:lnTo>
                <a:lnTo>
                  <a:pt x="1047" y="214"/>
                </a:lnTo>
                <a:lnTo>
                  <a:pt x="1009" y="214"/>
                </a:lnTo>
                <a:lnTo>
                  <a:pt x="971" y="226"/>
                </a:lnTo>
                <a:lnTo>
                  <a:pt x="908" y="226"/>
                </a:lnTo>
                <a:lnTo>
                  <a:pt x="858" y="226"/>
                </a:lnTo>
                <a:lnTo>
                  <a:pt x="795" y="239"/>
                </a:lnTo>
                <a:lnTo>
                  <a:pt x="719" y="239"/>
                </a:lnTo>
                <a:lnTo>
                  <a:pt x="643" y="251"/>
                </a:lnTo>
                <a:lnTo>
                  <a:pt x="555" y="264"/>
                </a:lnTo>
                <a:lnTo>
                  <a:pt x="467" y="276"/>
                </a:lnTo>
                <a:lnTo>
                  <a:pt x="366" y="289"/>
                </a:lnTo>
                <a:lnTo>
                  <a:pt x="253" y="289"/>
                </a:lnTo>
                <a:lnTo>
                  <a:pt x="139" y="302"/>
                </a:lnTo>
                <a:lnTo>
                  <a:pt x="26" y="314"/>
                </a:lnTo>
                <a:lnTo>
                  <a:pt x="0" y="176"/>
                </a:lnTo>
                <a:lnTo>
                  <a:pt x="51" y="176"/>
                </a:lnTo>
                <a:lnTo>
                  <a:pt x="114" y="176"/>
                </a:lnTo>
                <a:lnTo>
                  <a:pt x="164" y="176"/>
                </a:lnTo>
                <a:lnTo>
                  <a:pt x="227" y="163"/>
                </a:lnTo>
                <a:lnTo>
                  <a:pt x="290" y="163"/>
                </a:lnTo>
                <a:lnTo>
                  <a:pt x="353" y="151"/>
                </a:lnTo>
                <a:lnTo>
                  <a:pt x="429" y="151"/>
                </a:lnTo>
                <a:lnTo>
                  <a:pt x="505" y="138"/>
                </a:lnTo>
                <a:lnTo>
                  <a:pt x="568" y="125"/>
                </a:lnTo>
                <a:lnTo>
                  <a:pt x="631" y="125"/>
                </a:lnTo>
                <a:lnTo>
                  <a:pt x="694" y="113"/>
                </a:lnTo>
                <a:lnTo>
                  <a:pt x="757" y="100"/>
                </a:lnTo>
                <a:lnTo>
                  <a:pt x="807" y="100"/>
                </a:lnTo>
                <a:lnTo>
                  <a:pt x="870" y="88"/>
                </a:lnTo>
                <a:lnTo>
                  <a:pt x="908" y="88"/>
                </a:lnTo>
                <a:lnTo>
                  <a:pt x="958" y="88"/>
                </a:lnTo>
                <a:lnTo>
                  <a:pt x="996" y="88"/>
                </a:lnTo>
                <a:lnTo>
                  <a:pt x="1034" y="75"/>
                </a:lnTo>
                <a:lnTo>
                  <a:pt x="1072" y="75"/>
                </a:lnTo>
                <a:lnTo>
                  <a:pt x="1097" y="63"/>
                </a:lnTo>
                <a:lnTo>
                  <a:pt x="1122" y="50"/>
                </a:lnTo>
                <a:lnTo>
                  <a:pt x="1147" y="50"/>
                </a:lnTo>
                <a:lnTo>
                  <a:pt x="1160" y="37"/>
                </a:lnTo>
                <a:lnTo>
                  <a:pt x="1173" y="37"/>
                </a:lnTo>
                <a:lnTo>
                  <a:pt x="1198" y="12"/>
                </a:lnTo>
                <a:lnTo>
                  <a:pt x="1223" y="0"/>
                </a:lnTo>
                <a:lnTo>
                  <a:pt x="1248" y="0"/>
                </a:lnTo>
                <a:lnTo>
                  <a:pt x="1273" y="12"/>
                </a:lnTo>
                <a:lnTo>
                  <a:pt x="1286" y="12"/>
                </a:lnTo>
                <a:lnTo>
                  <a:pt x="1311" y="25"/>
                </a:lnTo>
                <a:lnTo>
                  <a:pt x="1336" y="25"/>
                </a:lnTo>
                <a:lnTo>
                  <a:pt x="1362" y="37"/>
                </a:lnTo>
                <a:lnTo>
                  <a:pt x="1387" y="63"/>
                </a:lnTo>
                <a:lnTo>
                  <a:pt x="1425" y="75"/>
                </a:lnTo>
                <a:lnTo>
                  <a:pt x="1463" y="88"/>
                </a:lnTo>
                <a:lnTo>
                  <a:pt x="1513" y="113"/>
                </a:lnTo>
                <a:lnTo>
                  <a:pt x="1551" y="138"/>
                </a:lnTo>
                <a:lnTo>
                  <a:pt x="1576" y="163"/>
                </a:lnTo>
                <a:lnTo>
                  <a:pt x="1614" y="176"/>
                </a:lnTo>
                <a:lnTo>
                  <a:pt x="1639" y="201"/>
                </a:lnTo>
                <a:lnTo>
                  <a:pt x="1664" y="214"/>
                </a:lnTo>
                <a:lnTo>
                  <a:pt x="1677" y="226"/>
                </a:lnTo>
                <a:lnTo>
                  <a:pt x="1689" y="239"/>
                </a:lnTo>
                <a:lnTo>
                  <a:pt x="1689" y="251"/>
                </a:lnTo>
                <a:lnTo>
                  <a:pt x="1702" y="264"/>
                </a:lnTo>
                <a:lnTo>
                  <a:pt x="1689" y="276"/>
                </a:lnTo>
                <a:lnTo>
                  <a:pt x="1689" y="289"/>
                </a:lnTo>
                <a:lnTo>
                  <a:pt x="1677" y="302"/>
                </a:lnTo>
                <a:lnTo>
                  <a:pt x="1677" y="314"/>
                </a:lnTo>
                <a:lnTo>
                  <a:pt x="1652" y="327"/>
                </a:lnTo>
                <a:lnTo>
                  <a:pt x="1639" y="339"/>
                </a:lnTo>
                <a:lnTo>
                  <a:pt x="1614" y="339"/>
                </a:lnTo>
                <a:lnTo>
                  <a:pt x="1601" y="352"/>
                </a:lnTo>
                <a:lnTo>
                  <a:pt x="1589" y="365"/>
                </a:lnTo>
                <a:lnTo>
                  <a:pt x="1576" y="377"/>
                </a:lnTo>
                <a:lnTo>
                  <a:pt x="1563" y="390"/>
                </a:lnTo>
                <a:lnTo>
                  <a:pt x="1538" y="415"/>
                </a:lnTo>
                <a:lnTo>
                  <a:pt x="1526" y="440"/>
                </a:lnTo>
                <a:lnTo>
                  <a:pt x="1513" y="465"/>
                </a:lnTo>
                <a:lnTo>
                  <a:pt x="1488" y="490"/>
                </a:lnTo>
                <a:lnTo>
                  <a:pt x="1463" y="528"/>
                </a:lnTo>
                <a:lnTo>
                  <a:pt x="1450" y="566"/>
                </a:lnTo>
                <a:lnTo>
                  <a:pt x="1425" y="616"/>
                </a:lnTo>
                <a:lnTo>
                  <a:pt x="1399" y="654"/>
                </a:lnTo>
                <a:lnTo>
                  <a:pt x="1374" y="704"/>
                </a:lnTo>
                <a:lnTo>
                  <a:pt x="1349" y="767"/>
                </a:lnTo>
                <a:lnTo>
                  <a:pt x="1324" y="818"/>
                </a:lnTo>
                <a:lnTo>
                  <a:pt x="1286" y="881"/>
                </a:lnTo>
                <a:lnTo>
                  <a:pt x="1097" y="88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13"/>
          <p:cNvSpPr/>
          <p:nvPr/>
        </p:nvSpPr>
        <p:spPr>
          <a:xfrm>
            <a:off x="4346640" y="3081240"/>
            <a:ext cx="825480" cy="144720"/>
          </a:xfrm>
          <a:custGeom>
            <a:avLst/>
            <a:gdLst/>
            <a:ahLst/>
            <a:rect l="l" t="t" r="r" b="b"/>
            <a:pathLst>
              <a:path w="1298" h="227">
                <a:moveTo>
                  <a:pt x="0" y="101"/>
                </a:moveTo>
                <a:lnTo>
                  <a:pt x="50" y="101"/>
                </a:lnTo>
                <a:lnTo>
                  <a:pt x="101" y="101"/>
                </a:lnTo>
                <a:lnTo>
                  <a:pt x="164" y="88"/>
                </a:lnTo>
                <a:lnTo>
                  <a:pt x="239" y="76"/>
                </a:lnTo>
                <a:lnTo>
                  <a:pt x="315" y="76"/>
                </a:lnTo>
                <a:lnTo>
                  <a:pt x="403" y="63"/>
                </a:lnTo>
                <a:lnTo>
                  <a:pt x="504" y="50"/>
                </a:lnTo>
                <a:lnTo>
                  <a:pt x="605" y="38"/>
                </a:lnTo>
                <a:lnTo>
                  <a:pt x="655" y="25"/>
                </a:lnTo>
                <a:lnTo>
                  <a:pt x="706" y="25"/>
                </a:lnTo>
                <a:lnTo>
                  <a:pt x="743" y="13"/>
                </a:lnTo>
                <a:lnTo>
                  <a:pt x="794" y="13"/>
                </a:lnTo>
                <a:lnTo>
                  <a:pt x="832" y="13"/>
                </a:lnTo>
                <a:lnTo>
                  <a:pt x="869" y="13"/>
                </a:lnTo>
                <a:lnTo>
                  <a:pt x="895" y="0"/>
                </a:lnTo>
                <a:lnTo>
                  <a:pt x="932" y="0"/>
                </a:lnTo>
                <a:lnTo>
                  <a:pt x="958" y="0"/>
                </a:lnTo>
                <a:lnTo>
                  <a:pt x="983" y="0"/>
                </a:lnTo>
                <a:lnTo>
                  <a:pt x="1008" y="0"/>
                </a:lnTo>
                <a:lnTo>
                  <a:pt x="1021" y="0"/>
                </a:lnTo>
                <a:lnTo>
                  <a:pt x="1033" y="0"/>
                </a:lnTo>
                <a:lnTo>
                  <a:pt x="1046" y="0"/>
                </a:lnTo>
                <a:lnTo>
                  <a:pt x="1058" y="0"/>
                </a:lnTo>
                <a:lnTo>
                  <a:pt x="1071" y="0"/>
                </a:lnTo>
                <a:lnTo>
                  <a:pt x="1084" y="13"/>
                </a:lnTo>
                <a:lnTo>
                  <a:pt x="1109" y="25"/>
                </a:lnTo>
                <a:lnTo>
                  <a:pt x="1134" y="25"/>
                </a:lnTo>
                <a:lnTo>
                  <a:pt x="1172" y="25"/>
                </a:lnTo>
                <a:lnTo>
                  <a:pt x="1197" y="38"/>
                </a:lnTo>
                <a:lnTo>
                  <a:pt x="1222" y="38"/>
                </a:lnTo>
                <a:lnTo>
                  <a:pt x="1247" y="63"/>
                </a:lnTo>
                <a:lnTo>
                  <a:pt x="1273" y="88"/>
                </a:lnTo>
                <a:lnTo>
                  <a:pt x="1285" y="113"/>
                </a:lnTo>
                <a:lnTo>
                  <a:pt x="1298" y="139"/>
                </a:lnTo>
                <a:lnTo>
                  <a:pt x="1298" y="164"/>
                </a:lnTo>
                <a:lnTo>
                  <a:pt x="1285" y="176"/>
                </a:lnTo>
                <a:lnTo>
                  <a:pt x="1273" y="176"/>
                </a:lnTo>
                <a:lnTo>
                  <a:pt x="1247" y="176"/>
                </a:lnTo>
                <a:lnTo>
                  <a:pt x="1235" y="176"/>
                </a:lnTo>
                <a:lnTo>
                  <a:pt x="1222" y="189"/>
                </a:lnTo>
                <a:lnTo>
                  <a:pt x="1197" y="189"/>
                </a:lnTo>
                <a:lnTo>
                  <a:pt x="1172" y="189"/>
                </a:lnTo>
                <a:lnTo>
                  <a:pt x="1147" y="189"/>
                </a:lnTo>
                <a:lnTo>
                  <a:pt x="1121" y="189"/>
                </a:lnTo>
                <a:lnTo>
                  <a:pt x="1096" y="189"/>
                </a:lnTo>
                <a:lnTo>
                  <a:pt x="1058" y="189"/>
                </a:lnTo>
                <a:lnTo>
                  <a:pt x="1008" y="189"/>
                </a:lnTo>
                <a:lnTo>
                  <a:pt x="958" y="189"/>
                </a:lnTo>
                <a:lnTo>
                  <a:pt x="895" y="189"/>
                </a:lnTo>
                <a:lnTo>
                  <a:pt x="819" y="202"/>
                </a:lnTo>
                <a:lnTo>
                  <a:pt x="743" y="202"/>
                </a:lnTo>
                <a:lnTo>
                  <a:pt x="655" y="202"/>
                </a:lnTo>
                <a:lnTo>
                  <a:pt x="567" y="202"/>
                </a:lnTo>
                <a:lnTo>
                  <a:pt x="466" y="214"/>
                </a:lnTo>
                <a:lnTo>
                  <a:pt x="353" y="214"/>
                </a:lnTo>
                <a:lnTo>
                  <a:pt x="252" y="214"/>
                </a:lnTo>
                <a:lnTo>
                  <a:pt x="126" y="227"/>
                </a:lnTo>
                <a:lnTo>
                  <a:pt x="0" y="227"/>
                </a:lnTo>
                <a:lnTo>
                  <a:pt x="0" y="10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1" descr=""/>
          <p:cNvPicPr/>
          <p:nvPr/>
        </p:nvPicPr>
        <p:blipFill>
          <a:blip r:embed="rId2"/>
          <a:stretch/>
        </p:blipFill>
        <p:spPr>
          <a:xfrm>
            <a:off x="393840" y="4457880"/>
            <a:ext cx="846612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38"/>
          <p:cNvGrpSpPr/>
          <p:nvPr/>
        </p:nvGrpSpPr>
        <p:grpSpPr>
          <a:xfrm>
            <a:off x="3322800" y="1182600"/>
            <a:ext cx="2541600" cy="2538360"/>
            <a:chOff x="3322800" y="1182600"/>
            <a:chExt cx="2541600" cy="2538360"/>
          </a:xfrm>
        </p:grpSpPr>
        <p:sp>
          <p:nvSpPr>
            <p:cNvPr id="126" name="直接连接符 3"/>
            <p:cNvSpPr/>
            <p:nvPr/>
          </p:nvSpPr>
          <p:spPr>
            <a:xfrm>
              <a:off x="3344760" y="2449440"/>
              <a:ext cx="2519640" cy="14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直接连接符 4"/>
            <p:cNvSpPr/>
            <p:nvPr/>
          </p:nvSpPr>
          <p:spPr>
            <a:xfrm flipH="1">
              <a:off x="4570560" y="1182600"/>
              <a:ext cx="1440" cy="2519640"/>
            </a:xfrm>
            <a:prstGeom prst="line">
              <a:avLst/>
            </a:prstGeom>
            <a:ln w="15840">
              <a:solidFill>
                <a:srgbClr val="2e75b6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2"/>
            <p:cNvSpPr/>
            <p:nvPr/>
          </p:nvSpPr>
          <p:spPr>
            <a:xfrm>
              <a:off x="3322800" y="1201320"/>
              <a:ext cx="2519640" cy="2519640"/>
            </a:xfrm>
            <a:prstGeom prst="rect">
              <a:avLst/>
            </a:prstGeom>
            <a:noFill/>
            <a:ln w="25560">
              <a:solidFill>
                <a:srgbClr val="2e75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Freeform 8"/>
          <p:cNvSpPr/>
          <p:nvPr/>
        </p:nvSpPr>
        <p:spPr>
          <a:xfrm>
            <a:off x="4378320" y="1335240"/>
            <a:ext cx="679320" cy="311040"/>
          </a:xfrm>
          <a:custGeom>
            <a:avLst/>
            <a:gdLst/>
            <a:ahLst/>
            <a:rect l="l" t="t" r="r" b="b"/>
            <a:pathLst>
              <a:path w="1071" h="491">
                <a:moveTo>
                  <a:pt x="718" y="51"/>
                </a:moveTo>
                <a:lnTo>
                  <a:pt x="718" y="51"/>
                </a:lnTo>
                <a:lnTo>
                  <a:pt x="705" y="38"/>
                </a:lnTo>
                <a:lnTo>
                  <a:pt x="705" y="25"/>
                </a:lnTo>
                <a:lnTo>
                  <a:pt x="705" y="13"/>
                </a:lnTo>
                <a:lnTo>
                  <a:pt x="718" y="0"/>
                </a:lnTo>
                <a:lnTo>
                  <a:pt x="731" y="0"/>
                </a:lnTo>
                <a:lnTo>
                  <a:pt x="743" y="0"/>
                </a:lnTo>
                <a:lnTo>
                  <a:pt x="768" y="0"/>
                </a:lnTo>
                <a:lnTo>
                  <a:pt x="781" y="0"/>
                </a:lnTo>
                <a:lnTo>
                  <a:pt x="806" y="0"/>
                </a:lnTo>
                <a:lnTo>
                  <a:pt x="831" y="13"/>
                </a:lnTo>
                <a:lnTo>
                  <a:pt x="857" y="13"/>
                </a:lnTo>
                <a:lnTo>
                  <a:pt x="894" y="25"/>
                </a:lnTo>
                <a:lnTo>
                  <a:pt x="932" y="38"/>
                </a:lnTo>
                <a:lnTo>
                  <a:pt x="957" y="38"/>
                </a:lnTo>
                <a:lnTo>
                  <a:pt x="983" y="51"/>
                </a:lnTo>
                <a:lnTo>
                  <a:pt x="1008" y="63"/>
                </a:lnTo>
                <a:lnTo>
                  <a:pt x="1033" y="76"/>
                </a:lnTo>
                <a:lnTo>
                  <a:pt x="1046" y="88"/>
                </a:lnTo>
                <a:lnTo>
                  <a:pt x="1058" y="101"/>
                </a:lnTo>
                <a:lnTo>
                  <a:pt x="1071" y="114"/>
                </a:lnTo>
                <a:lnTo>
                  <a:pt x="1071" y="139"/>
                </a:lnTo>
                <a:lnTo>
                  <a:pt x="1058" y="151"/>
                </a:lnTo>
                <a:lnTo>
                  <a:pt x="1058" y="164"/>
                </a:lnTo>
                <a:lnTo>
                  <a:pt x="1033" y="189"/>
                </a:lnTo>
                <a:lnTo>
                  <a:pt x="1008" y="202"/>
                </a:lnTo>
                <a:lnTo>
                  <a:pt x="983" y="227"/>
                </a:lnTo>
                <a:lnTo>
                  <a:pt x="945" y="239"/>
                </a:lnTo>
                <a:lnTo>
                  <a:pt x="894" y="265"/>
                </a:lnTo>
                <a:lnTo>
                  <a:pt x="844" y="277"/>
                </a:lnTo>
                <a:lnTo>
                  <a:pt x="794" y="302"/>
                </a:lnTo>
                <a:lnTo>
                  <a:pt x="731" y="327"/>
                </a:lnTo>
                <a:lnTo>
                  <a:pt x="668" y="340"/>
                </a:lnTo>
                <a:lnTo>
                  <a:pt x="605" y="365"/>
                </a:lnTo>
                <a:lnTo>
                  <a:pt x="541" y="390"/>
                </a:lnTo>
                <a:lnTo>
                  <a:pt x="466" y="403"/>
                </a:lnTo>
                <a:lnTo>
                  <a:pt x="403" y="428"/>
                </a:lnTo>
                <a:lnTo>
                  <a:pt x="327" y="441"/>
                </a:lnTo>
                <a:lnTo>
                  <a:pt x="252" y="466"/>
                </a:lnTo>
                <a:lnTo>
                  <a:pt x="189" y="479"/>
                </a:lnTo>
                <a:lnTo>
                  <a:pt x="138" y="491"/>
                </a:lnTo>
                <a:lnTo>
                  <a:pt x="88" y="491"/>
                </a:lnTo>
                <a:lnTo>
                  <a:pt x="63" y="491"/>
                </a:lnTo>
                <a:lnTo>
                  <a:pt x="25" y="491"/>
                </a:lnTo>
                <a:lnTo>
                  <a:pt x="12" y="491"/>
                </a:lnTo>
                <a:lnTo>
                  <a:pt x="0" y="491"/>
                </a:lnTo>
                <a:lnTo>
                  <a:pt x="0" y="479"/>
                </a:lnTo>
                <a:lnTo>
                  <a:pt x="12" y="466"/>
                </a:lnTo>
                <a:lnTo>
                  <a:pt x="25" y="453"/>
                </a:lnTo>
                <a:lnTo>
                  <a:pt x="50" y="441"/>
                </a:lnTo>
                <a:lnTo>
                  <a:pt x="88" y="416"/>
                </a:lnTo>
                <a:lnTo>
                  <a:pt x="126" y="403"/>
                </a:lnTo>
                <a:lnTo>
                  <a:pt x="176" y="390"/>
                </a:lnTo>
                <a:lnTo>
                  <a:pt x="226" y="365"/>
                </a:lnTo>
                <a:lnTo>
                  <a:pt x="289" y="353"/>
                </a:lnTo>
                <a:lnTo>
                  <a:pt x="340" y="327"/>
                </a:lnTo>
                <a:lnTo>
                  <a:pt x="403" y="302"/>
                </a:lnTo>
                <a:lnTo>
                  <a:pt x="453" y="290"/>
                </a:lnTo>
                <a:lnTo>
                  <a:pt x="491" y="265"/>
                </a:lnTo>
                <a:lnTo>
                  <a:pt x="541" y="239"/>
                </a:lnTo>
                <a:lnTo>
                  <a:pt x="579" y="214"/>
                </a:lnTo>
                <a:lnTo>
                  <a:pt x="617" y="189"/>
                </a:lnTo>
                <a:lnTo>
                  <a:pt x="655" y="176"/>
                </a:lnTo>
                <a:lnTo>
                  <a:pt x="680" y="151"/>
                </a:lnTo>
                <a:lnTo>
                  <a:pt x="705" y="139"/>
                </a:lnTo>
                <a:lnTo>
                  <a:pt x="718" y="114"/>
                </a:lnTo>
                <a:lnTo>
                  <a:pt x="731" y="101"/>
                </a:lnTo>
                <a:lnTo>
                  <a:pt x="731" y="88"/>
                </a:lnTo>
                <a:lnTo>
                  <a:pt x="731" y="63"/>
                </a:lnTo>
                <a:lnTo>
                  <a:pt x="718" y="5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9"/>
          <p:cNvSpPr/>
          <p:nvPr/>
        </p:nvSpPr>
        <p:spPr>
          <a:xfrm>
            <a:off x="4649760" y="1535040"/>
            <a:ext cx="144360" cy="774720"/>
          </a:xfrm>
          <a:custGeom>
            <a:avLst/>
            <a:gdLst/>
            <a:ahLst/>
            <a:rect l="l" t="t" r="r" b="b"/>
            <a:pathLst>
              <a:path w="227" h="1221">
                <a:moveTo>
                  <a:pt x="101" y="1196"/>
                </a:moveTo>
                <a:lnTo>
                  <a:pt x="88" y="1170"/>
                </a:lnTo>
                <a:lnTo>
                  <a:pt x="88" y="1145"/>
                </a:lnTo>
                <a:lnTo>
                  <a:pt x="76" y="1108"/>
                </a:lnTo>
                <a:lnTo>
                  <a:pt x="63" y="1070"/>
                </a:lnTo>
                <a:lnTo>
                  <a:pt x="63" y="1032"/>
                </a:lnTo>
                <a:lnTo>
                  <a:pt x="63" y="982"/>
                </a:lnTo>
                <a:lnTo>
                  <a:pt x="76" y="919"/>
                </a:lnTo>
                <a:lnTo>
                  <a:pt x="76" y="856"/>
                </a:lnTo>
                <a:lnTo>
                  <a:pt x="88" y="793"/>
                </a:lnTo>
                <a:lnTo>
                  <a:pt x="88" y="730"/>
                </a:lnTo>
                <a:lnTo>
                  <a:pt x="88" y="680"/>
                </a:lnTo>
                <a:lnTo>
                  <a:pt x="88" y="642"/>
                </a:lnTo>
                <a:lnTo>
                  <a:pt x="101" y="604"/>
                </a:lnTo>
                <a:lnTo>
                  <a:pt x="101" y="579"/>
                </a:lnTo>
                <a:lnTo>
                  <a:pt x="88" y="554"/>
                </a:lnTo>
                <a:lnTo>
                  <a:pt x="88" y="541"/>
                </a:lnTo>
                <a:lnTo>
                  <a:pt x="88" y="529"/>
                </a:lnTo>
                <a:lnTo>
                  <a:pt x="88" y="516"/>
                </a:lnTo>
                <a:lnTo>
                  <a:pt x="76" y="491"/>
                </a:lnTo>
                <a:lnTo>
                  <a:pt x="76" y="478"/>
                </a:lnTo>
                <a:lnTo>
                  <a:pt x="76" y="453"/>
                </a:lnTo>
                <a:lnTo>
                  <a:pt x="63" y="415"/>
                </a:lnTo>
                <a:lnTo>
                  <a:pt x="63" y="390"/>
                </a:lnTo>
                <a:lnTo>
                  <a:pt x="50" y="352"/>
                </a:lnTo>
                <a:lnTo>
                  <a:pt x="50" y="315"/>
                </a:lnTo>
                <a:lnTo>
                  <a:pt x="38" y="277"/>
                </a:lnTo>
                <a:lnTo>
                  <a:pt x="38" y="226"/>
                </a:lnTo>
                <a:lnTo>
                  <a:pt x="25" y="176"/>
                </a:lnTo>
                <a:lnTo>
                  <a:pt x="13" y="126"/>
                </a:lnTo>
                <a:lnTo>
                  <a:pt x="13" y="63"/>
                </a:lnTo>
                <a:lnTo>
                  <a:pt x="0" y="0"/>
                </a:lnTo>
                <a:lnTo>
                  <a:pt x="50" y="38"/>
                </a:lnTo>
                <a:lnTo>
                  <a:pt x="101" y="63"/>
                </a:lnTo>
                <a:lnTo>
                  <a:pt x="139" y="88"/>
                </a:lnTo>
                <a:lnTo>
                  <a:pt x="177" y="113"/>
                </a:lnTo>
                <a:lnTo>
                  <a:pt x="202" y="126"/>
                </a:lnTo>
                <a:lnTo>
                  <a:pt x="214" y="138"/>
                </a:lnTo>
                <a:lnTo>
                  <a:pt x="227" y="164"/>
                </a:lnTo>
                <a:lnTo>
                  <a:pt x="227" y="176"/>
                </a:lnTo>
                <a:lnTo>
                  <a:pt x="227" y="189"/>
                </a:lnTo>
                <a:lnTo>
                  <a:pt x="227" y="226"/>
                </a:lnTo>
                <a:lnTo>
                  <a:pt x="227" y="264"/>
                </a:lnTo>
                <a:lnTo>
                  <a:pt x="227" y="315"/>
                </a:lnTo>
                <a:lnTo>
                  <a:pt x="227" y="352"/>
                </a:lnTo>
                <a:lnTo>
                  <a:pt x="227" y="390"/>
                </a:lnTo>
                <a:lnTo>
                  <a:pt x="214" y="428"/>
                </a:lnTo>
                <a:lnTo>
                  <a:pt x="214" y="491"/>
                </a:lnTo>
                <a:lnTo>
                  <a:pt x="214" y="554"/>
                </a:lnTo>
                <a:lnTo>
                  <a:pt x="214" y="617"/>
                </a:lnTo>
                <a:lnTo>
                  <a:pt x="214" y="692"/>
                </a:lnTo>
                <a:lnTo>
                  <a:pt x="214" y="780"/>
                </a:lnTo>
                <a:lnTo>
                  <a:pt x="214" y="856"/>
                </a:lnTo>
                <a:lnTo>
                  <a:pt x="214" y="931"/>
                </a:lnTo>
                <a:lnTo>
                  <a:pt x="214" y="1007"/>
                </a:lnTo>
                <a:lnTo>
                  <a:pt x="214" y="1057"/>
                </a:lnTo>
                <a:lnTo>
                  <a:pt x="202" y="1108"/>
                </a:lnTo>
                <a:lnTo>
                  <a:pt x="202" y="1145"/>
                </a:lnTo>
                <a:lnTo>
                  <a:pt x="202" y="1170"/>
                </a:lnTo>
                <a:lnTo>
                  <a:pt x="189" y="1196"/>
                </a:lnTo>
                <a:lnTo>
                  <a:pt x="189" y="1208"/>
                </a:lnTo>
                <a:lnTo>
                  <a:pt x="177" y="1208"/>
                </a:lnTo>
                <a:lnTo>
                  <a:pt x="164" y="1221"/>
                </a:lnTo>
                <a:lnTo>
                  <a:pt x="151" y="1221"/>
                </a:lnTo>
                <a:lnTo>
                  <a:pt x="139" y="1208"/>
                </a:lnTo>
                <a:lnTo>
                  <a:pt x="126" y="1208"/>
                </a:lnTo>
                <a:lnTo>
                  <a:pt x="101" y="119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10"/>
          <p:cNvSpPr/>
          <p:nvPr/>
        </p:nvSpPr>
        <p:spPr>
          <a:xfrm>
            <a:off x="4210200" y="1695600"/>
            <a:ext cx="1144440" cy="271440"/>
          </a:xfrm>
          <a:custGeom>
            <a:avLst/>
            <a:gdLst/>
            <a:ahLst/>
            <a:rect l="l" t="t" r="r" b="b"/>
            <a:pathLst>
              <a:path w="1802" h="428">
                <a:moveTo>
                  <a:pt x="630" y="327"/>
                </a:moveTo>
                <a:lnTo>
                  <a:pt x="592" y="339"/>
                </a:lnTo>
                <a:lnTo>
                  <a:pt x="542" y="352"/>
                </a:lnTo>
                <a:lnTo>
                  <a:pt x="504" y="365"/>
                </a:lnTo>
                <a:lnTo>
                  <a:pt x="466" y="365"/>
                </a:lnTo>
                <a:lnTo>
                  <a:pt x="428" y="377"/>
                </a:lnTo>
                <a:lnTo>
                  <a:pt x="391" y="390"/>
                </a:lnTo>
                <a:lnTo>
                  <a:pt x="365" y="390"/>
                </a:lnTo>
                <a:lnTo>
                  <a:pt x="328" y="402"/>
                </a:lnTo>
                <a:lnTo>
                  <a:pt x="302" y="402"/>
                </a:lnTo>
                <a:lnTo>
                  <a:pt x="277" y="415"/>
                </a:lnTo>
                <a:lnTo>
                  <a:pt x="265" y="415"/>
                </a:lnTo>
                <a:lnTo>
                  <a:pt x="239" y="415"/>
                </a:lnTo>
                <a:lnTo>
                  <a:pt x="227" y="415"/>
                </a:lnTo>
                <a:lnTo>
                  <a:pt x="214" y="428"/>
                </a:lnTo>
                <a:lnTo>
                  <a:pt x="201" y="428"/>
                </a:lnTo>
                <a:lnTo>
                  <a:pt x="189" y="428"/>
                </a:lnTo>
                <a:lnTo>
                  <a:pt x="164" y="428"/>
                </a:lnTo>
                <a:lnTo>
                  <a:pt x="126" y="415"/>
                </a:lnTo>
                <a:lnTo>
                  <a:pt x="101" y="402"/>
                </a:lnTo>
                <a:lnTo>
                  <a:pt x="63" y="390"/>
                </a:lnTo>
                <a:lnTo>
                  <a:pt x="38" y="377"/>
                </a:lnTo>
                <a:lnTo>
                  <a:pt x="25" y="365"/>
                </a:lnTo>
                <a:lnTo>
                  <a:pt x="12" y="352"/>
                </a:lnTo>
                <a:lnTo>
                  <a:pt x="0" y="339"/>
                </a:lnTo>
                <a:lnTo>
                  <a:pt x="0" y="327"/>
                </a:lnTo>
                <a:lnTo>
                  <a:pt x="12" y="327"/>
                </a:lnTo>
                <a:lnTo>
                  <a:pt x="25" y="327"/>
                </a:lnTo>
                <a:lnTo>
                  <a:pt x="38" y="314"/>
                </a:lnTo>
                <a:lnTo>
                  <a:pt x="50" y="314"/>
                </a:lnTo>
                <a:lnTo>
                  <a:pt x="75" y="314"/>
                </a:lnTo>
                <a:lnTo>
                  <a:pt x="101" y="302"/>
                </a:lnTo>
                <a:lnTo>
                  <a:pt x="126" y="302"/>
                </a:lnTo>
                <a:lnTo>
                  <a:pt x="138" y="302"/>
                </a:lnTo>
                <a:lnTo>
                  <a:pt x="164" y="289"/>
                </a:lnTo>
                <a:lnTo>
                  <a:pt x="189" y="289"/>
                </a:lnTo>
                <a:lnTo>
                  <a:pt x="214" y="289"/>
                </a:lnTo>
                <a:lnTo>
                  <a:pt x="252" y="277"/>
                </a:lnTo>
                <a:lnTo>
                  <a:pt x="290" y="264"/>
                </a:lnTo>
                <a:lnTo>
                  <a:pt x="328" y="264"/>
                </a:lnTo>
                <a:lnTo>
                  <a:pt x="365" y="251"/>
                </a:lnTo>
                <a:lnTo>
                  <a:pt x="416" y="239"/>
                </a:lnTo>
                <a:lnTo>
                  <a:pt x="466" y="226"/>
                </a:lnTo>
                <a:lnTo>
                  <a:pt x="517" y="214"/>
                </a:lnTo>
                <a:lnTo>
                  <a:pt x="580" y="201"/>
                </a:lnTo>
                <a:lnTo>
                  <a:pt x="630" y="188"/>
                </a:lnTo>
                <a:lnTo>
                  <a:pt x="693" y="176"/>
                </a:lnTo>
                <a:lnTo>
                  <a:pt x="769" y="163"/>
                </a:lnTo>
                <a:lnTo>
                  <a:pt x="832" y="138"/>
                </a:lnTo>
                <a:lnTo>
                  <a:pt x="907" y="126"/>
                </a:lnTo>
                <a:lnTo>
                  <a:pt x="983" y="113"/>
                </a:lnTo>
                <a:lnTo>
                  <a:pt x="1046" y="100"/>
                </a:lnTo>
                <a:lnTo>
                  <a:pt x="1096" y="88"/>
                </a:lnTo>
                <a:lnTo>
                  <a:pt x="1159" y="63"/>
                </a:lnTo>
                <a:lnTo>
                  <a:pt x="1210" y="63"/>
                </a:lnTo>
                <a:lnTo>
                  <a:pt x="1260" y="50"/>
                </a:lnTo>
                <a:lnTo>
                  <a:pt x="1298" y="37"/>
                </a:lnTo>
                <a:lnTo>
                  <a:pt x="1348" y="25"/>
                </a:lnTo>
                <a:lnTo>
                  <a:pt x="1386" y="25"/>
                </a:lnTo>
                <a:lnTo>
                  <a:pt x="1411" y="12"/>
                </a:lnTo>
                <a:lnTo>
                  <a:pt x="1449" y="12"/>
                </a:lnTo>
                <a:lnTo>
                  <a:pt x="1474" y="12"/>
                </a:lnTo>
                <a:lnTo>
                  <a:pt x="1500" y="12"/>
                </a:lnTo>
                <a:lnTo>
                  <a:pt x="1512" y="0"/>
                </a:lnTo>
                <a:lnTo>
                  <a:pt x="1525" y="0"/>
                </a:lnTo>
                <a:lnTo>
                  <a:pt x="1575" y="12"/>
                </a:lnTo>
                <a:lnTo>
                  <a:pt x="1626" y="12"/>
                </a:lnTo>
                <a:lnTo>
                  <a:pt x="1676" y="25"/>
                </a:lnTo>
                <a:lnTo>
                  <a:pt x="1714" y="37"/>
                </a:lnTo>
                <a:lnTo>
                  <a:pt x="1739" y="50"/>
                </a:lnTo>
                <a:lnTo>
                  <a:pt x="1752" y="63"/>
                </a:lnTo>
                <a:lnTo>
                  <a:pt x="1764" y="63"/>
                </a:lnTo>
                <a:lnTo>
                  <a:pt x="1777" y="75"/>
                </a:lnTo>
                <a:lnTo>
                  <a:pt x="1790" y="88"/>
                </a:lnTo>
                <a:lnTo>
                  <a:pt x="1802" y="88"/>
                </a:lnTo>
                <a:lnTo>
                  <a:pt x="1802" y="100"/>
                </a:lnTo>
                <a:lnTo>
                  <a:pt x="1802" y="113"/>
                </a:lnTo>
                <a:lnTo>
                  <a:pt x="1790" y="126"/>
                </a:lnTo>
                <a:lnTo>
                  <a:pt x="1790" y="138"/>
                </a:lnTo>
                <a:lnTo>
                  <a:pt x="1777" y="151"/>
                </a:lnTo>
                <a:lnTo>
                  <a:pt x="1764" y="163"/>
                </a:lnTo>
                <a:lnTo>
                  <a:pt x="1739" y="163"/>
                </a:lnTo>
                <a:lnTo>
                  <a:pt x="1701" y="176"/>
                </a:lnTo>
                <a:lnTo>
                  <a:pt x="1664" y="176"/>
                </a:lnTo>
                <a:lnTo>
                  <a:pt x="1638" y="176"/>
                </a:lnTo>
                <a:lnTo>
                  <a:pt x="1613" y="176"/>
                </a:lnTo>
                <a:lnTo>
                  <a:pt x="1575" y="176"/>
                </a:lnTo>
                <a:lnTo>
                  <a:pt x="1538" y="188"/>
                </a:lnTo>
                <a:lnTo>
                  <a:pt x="1487" y="188"/>
                </a:lnTo>
                <a:lnTo>
                  <a:pt x="1424" y="188"/>
                </a:lnTo>
                <a:lnTo>
                  <a:pt x="1374" y="201"/>
                </a:lnTo>
                <a:lnTo>
                  <a:pt x="1298" y="201"/>
                </a:lnTo>
                <a:lnTo>
                  <a:pt x="1235" y="214"/>
                </a:lnTo>
                <a:lnTo>
                  <a:pt x="1147" y="226"/>
                </a:lnTo>
                <a:lnTo>
                  <a:pt x="1071" y="239"/>
                </a:lnTo>
                <a:lnTo>
                  <a:pt x="996" y="251"/>
                </a:lnTo>
                <a:lnTo>
                  <a:pt x="907" y="264"/>
                </a:lnTo>
                <a:lnTo>
                  <a:pt x="819" y="289"/>
                </a:lnTo>
                <a:lnTo>
                  <a:pt x="731" y="314"/>
                </a:lnTo>
                <a:lnTo>
                  <a:pt x="630" y="327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4097160" y="1854360"/>
            <a:ext cx="648000" cy="599760"/>
          </a:xfrm>
          <a:custGeom>
            <a:avLst/>
            <a:gdLst/>
            <a:ahLst/>
            <a:rect l="l" t="t" r="r" b="b"/>
            <a:pathLst>
              <a:path w="1021" h="944">
                <a:moveTo>
                  <a:pt x="895" y="0"/>
                </a:moveTo>
                <a:lnTo>
                  <a:pt x="1021" y="151"/>
                </a:lnTo>
                <a:lnTo>
                  <a:pt x="971" y="214"/>
                </a:lnTo>
                <a:lnTo>
                  <a:pt x="908" y="277"/>
                </a:lnTo>
                <a:lnTo>
                  <a:pt x="857" y="328"/>
                </a:lnTo>
                <a:lnTo>
                  <a:pt x="807" y="378"/>
                </a:lnTo>
                <a:lnTo>
                  <a:pt x="757" y="428"/>
                </a:lnTo>
                <a:lnTo>
                  <a:pt x="706" y="479"/>
                </a:lnTo>
                <a:lnTo>
                  <a:pt x="656" y="516"/>
                </a:lnTo>
                <a:lnTo>
                  <a:pt x="618" y="554"/>
                </a:lnTo>
                <a:lnTo>
                  <a:pt x="568" y="605"/>
                </a:lnTo>
                <a:lnTo>
                  <a:pt x="530" y="642"/>
                </a:lnTo>
                <a:lnTo>
                  <a:pt x="479" y="667"/>
                </a:lnTo>
                <a:lnTo>
                  <a:pt x="442" y="705"/>
                </a:lnTo>
                <a:lnTo>
                  <a:pt x="404" y="730"/>
                </a:lnTo>
                <a:lnTo>
                  <a:pt x="366" y="756"/>
                </a:lnTo>
                <a:lnTo>
                  <a:pt x="328" y="781"/>
                </a:lnTo>
                <a:lnTo>
                  <a:pt x="303" y="806"/>
                </a:lnTo>
                <a:lnTo>
                  <a:pt x="227" y="844"/>
                </a:lnTo>
                <a:lnTo>
                  <a:pt x="177" y="869"/>
                </a:lnTo>
                <a:lnTo>
                  <a:pt x="126" y="894"/>
                </a:lnTo>
                <a:lnTo>
                  <a:pt x="89" y="919"/>
                </a:lnTo>
                <a:lnTo>
                  <a:pt x="51" y="932"/>
                </a:lnTo>
                <a:lnTo>
                  <a:pt x="26" y="944"/>
                </a:lnTo>
                <a:lnTo>
                  <a:pt x="13" y="944"/>
                </a:lnTo>
                <a:lnTo>
                  <a:pt x="0" y="932"/>
                </a:lnTo>
                <a:lnTo>
                  <a:pt x="0" y="907"/>
                </a:lnTo>
                <a:lnTo>
                  <a:pt x="26" y="894"/>
                </a:lnTo>
                <a:lnTo>
                  <a:pt x="51" y="869"/>
                </a:lnTo>
                <a:lnTo>
                  <a:pt x="76" y="831"/>
                </a:lnTo>
                <a:lnTo>
                  <a:pt x="126" y="793"/>
                </a:lnTo>
                <a:lnTo>
                  <a:pt x="177" y="756"/>
                </a:lnTo>
                <a:lnTo>
                  <a:pt x="240" y="705"/>
                </a:lnTo>
                <a:lnTo>
                  <a:pt x="265" y="680"/>
                </a:lnTo>
                <a:lnTo>
                  <a:pt x="303" y="655"/>
                </a:lnTo>
                <a:lnTo>
                  <a:pt x="341" y="630"/>
                </a:lnTo>
                <a:lnTo>
                  <a:pt x="366" y="592"/>
                </a:lnTo>
                <a:lnTo>
                  <a:pt x="404" y="554"/>
                </a:lnTo>
                <a:lnTo>
                  <a:pt x="454" y="516"/>
                </a:lnTo>
                <a:lnTo>
                  <a:pt x="492" y="479"/>
                </a:lnTo>
                <a:lnTo>
                  <a:pt x="530" y="441"/>
                </a:lnTo>
                <a:lnTo>
                  <a:pt x="568" y="391"/>
                </a:lnTo>
                <a:lnTo>
                  <a:pt x="618" y="340"/>
                </a:lnTo>
                <a:lnTo>
                  <a:pt x="656" y="290"/>
                </a:lnTo>
                <a:lnTo>
                  <a:pt x="706" y="240"/>
                </a:lnTo>
                <a:lnTo>
                  <a:pt x="757" y="189"/>
                </a:lnTo>
                <a:lnTo>
                  <a:pt x="794" y="126"/>
                </a:lnTo>
                <a:lnTo>
                  <a:pt x="845" y="63"/>
                </a:lnTo>
                <a:lnTo>
                  <a:pt x="895" y="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2"/>
          <p:cNvSpPr/>
          <p:nvPr/>
        </p:nvSpPr>
        <p:spPr>
          <a:xfrm>
            <a:off x="4738680" y="1814400"/>
            <a:ext cx="952560" cy="511200"/>
          </a:xfrm>
          <a:custGeom>
            <a:avLst/>
            <a:gdLst/>
            <a:ahLst/>
            <a:rect l="l" t="t" r="r" b="b"/>
            <a:pathLst>
              <a:path w="1500" h="806">
                <a:moveTo>
                  <a:pt x="932" y="793"/>
                </a:moveTo>
                <a:lnTo>
                  <a:pt x="907" y="793"/>
                </a:lnTo>
                <a:lnTo>
                  <a:pt x="882" y="781"/>
                </a:lnTo>
                <a:lnTo>
                  <a:pt x="857" y="768"/>
                </a:lnTo>
                <a:lnTo>
                  <a:pt x="819" y="743"/>
                </a:lnTo>
                <a:lnTo>
                  <a:pt x="781" y="718"/>
                </a:lnTo>
                <a:lnTo>
                  <a:pt x="731" y="693"/>
                </a:lnTo>
                <a:lnTo>
                  <a:pt x="680" y="655"/>
                </a:lnTo>
                <a:lnTo>
                  <a:pt x="630" y="605"/>
                </a:lnTo>
                <a:lnTo>
                  <a:pt x="567" y="567"/>
                </a:lnTo>
                <a:lnTo>
                  <a:pt x="504" y="516"/>
                </a:lnTo>
                <a:lnTo>
                  <a:pt x="428" y="454"/>
                </a:lnTo>
                <a:lnTo>
                  <a:pt x="353" y="391"/>
                </a:lnTo>
                <a:lnTo>
                  <a:pt x="277" y="315"/>
                </a:lnTo>
                <a:lnTo>
                  <a:pt x="189" y="240"/>
                </a:lnTo>
                <a:lnTo>
                  <a:pt x="101" y="164"/>
                </a:lnTo>
                <a:lnTo>
                  <a:pt x="0" y="76"/>
                </a:lnTo>
                <a:lnTo>
                  <a:pt x="63" y="0"/>
                </a:lnTo>
                <a:lnTo>
                  <a:pt x="138" y="63"/>
                </a:lnTo>
                <a:lnTo>
                  <a:pt x="214" y="126"/>
                </a:lnTo>
                <a:lnTo>
                  <a:pt x="302" y="177"/>
                </a:lnTo>
                <a:lnTo>
                  <a:pt x="365" y="227"/>
                </a:lnTo>
                <a:lnTo>
                  <a:pt x="441" y="277"/>
                </a:lnTo>
                <a:lnTo>
                  <a:pt x="504" y="315"/>
                </a:lnTo>
                <a:lnTo>
                  <a:pt x="567" y="353"/>
                </a:lnTo>
                <a:lnTo>
                  <a:pt x="630" y="378"/>
                </a:lnTo>
                <a:lnTo>
                  <a:pt x="756" y="428"/>
                </a:lnTo>
                <a:lnTo>
                  <a:pt x="895" y="479"/>
                </a:lnTo>
                <a:lnTo>
                  <a:pt x="1033" y="516"/>
                </a:lnTo>
                <a:lnTo>
                  <a:pt x="1184" y="567"/>
                </a:lnTo>
                <a:lnTo>
                  <a:pt x="1222" y="567"/>
                </a:lnTo>
                <a:lnTo>
                  <a:pt x="1260" y="579"/>
                </a:lnTo>
                <a:lnTo>
                  <a:pt x="1298" y="592"/>
                </a:lnTo>
                <a:lnTo>
                  <a:pt x="1323" y="605"/>
                </a:lnTo>
                <a:lnTo>
                  <a:pt x="1348" y="605"/>
                </a:lnTo>
                <a:lnTo>
                  <a:pt x="1374" y="617"/>
                </a:lnTo>
                <a:lnTo>
                  <a:pt x="1399" y="617"/>
                </a:lnTo>
                <a:lnTo>
                  <a:pt x="1424" y="630"/>
                </a:lnTo>
                <a:lnTo>
                  <a:pt x="1437" y="630"/>
                </a:lnTo>
                <a:lnTo>
                  <a:pt x="1462" y="642"/>
                </a:lnTo>
                <a:lnTo>
                  <a:pt x="1474" y="642"/>
                </a:lnTo>
                <a:lnTo>
                  <a:pt x="1474" y="655"/>
                </a:lnTo>
                <a:lnTo>
                  <a:pt x="1487" y="655"/>
                </a:lnTo>
                <a:lnTo>
                  <a:pt x="1500" y="655"/>
                </a:lnTo>
                <a:lnTo>
                  <a:pt x="1500" y="668"/>
                </a:lnTo>
                <a:lnTo>
                  <a:pt x="1487" y="680"/>
                </a:lnTo>
                <a:lnTo>
                  <a:pt x="1474" y="693"/>
                </a:lnTo>
                <a:lnTo>
                  <a:pt x="1449" y="693"/>
                </a:lnTo>
                <a:lnTo>
                  <a:pt x="1411" y="705"/>
                </a:lnTo>
                <a:lnTo>
                  <a:pt x="1374" y="718"/>
                </a:lnTo>
                <a:lnTo>
                  <a:pt x="1336" y="730"/>
                </a:lnTo>
                <a:lnTo>
                  <a:pt x="1285" y="756"/>
                </a:lnTo>
                <a:lnTo>
                  <a:pt x="1222" y="768"/>
                </a:lnTo>
                <a:lnTo>
                  <a:pt x="1172" y="781"/>
                </a:lnTo>
                <a:lnTo>
                  <a:pt x="1134" y="781"/>
                </a:lnTo>
                <a:lnTo>
                  <a:pt x="1084" y="793"/>
                </a:lnTo>
                <a:lnTo>
                  <a:pt x="1046" y="793"/>
                </a:lnTo>
                <a:lnTo>
                  <a:pt x="1008" y="806"/>
                </a:lnTo>
                <a:lnTo>
                  <a:pt x="970" y="806"/>
                </a:lnTo>
                <a:lnTo>
                  <a:pt x="932" y="79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3"/>
          <p:cNvSpPr/>
          <p:nvPr/>
        </p:nvSpPr>
        <p:spPr>
          <a:xfrm>
            <a:off x="3689280" y="1590840"/>
            <a:ext cx="312840" cy="326880"/>
          </a:xfrm>
          <a:custGeom>
            <a:avLst/>
            <a:gdLst/>
            <a:ahLst/>
            <a:rect l="l" t="t" r="r" b="b"/>
            <a:pathLst>
              <a:path w="491" h="516">
                <a:moveTo>
                  <a:pt x="176" y="38"/>
                </a:moveTo>
                <a:lnTo>
                  <a:pt x="214" y="50"/>
                </a:lnTo>
                <a:lnTo>
                  <a:pt x="252" y="63"/>
                </a:lnTo>
                <a:lnTo>
                  <a:pt x="277" y="76"/>
                </a:lnTo>
                <a:lnTo>
                  <a:pt x="315" y="88"/>
                </a:lnTo>
                <a:lnTo>
                  <a:pt x="340" y="113"/>
                </a:lnTo>
                <a:lnTo>
                  <a:pt x="365" y="138"/>
                </a:lnTo>
                <a:lnTo>
                  <a:pt x="390" y="164"/>
                </a:lnTo>
                <a:lnTo>
                  <a:pt x="416" y="189"/>
                </a:lnTo>
                <a:lnTo>
                  <a:pt x="441" y="227"/>
                </a:lnTo>
                <a:lnTo>
                  <a:pt x="453" y="252"/>
                </a:lnTo>
                <a:lnTo>
                  <a:pt x="466" y="277"/>
                </a:lnTo>
                <a:lnTo>
                  <a:pt x="479" y="302"/>
                </a:lnTo>
                <a:lnTo>
                  <a:pt x="479" y="327"/>
                </a:lnTo>
                <a:lnTo>
                  <a:pt x="491" y="352"/>
                </a:lnTo>
                <a:lnTo>
                  <a:pt x="479" y="378"/>
                </a:lnTo>
                <a:lnTo>
                  <a:pt x="479" y="415"/>
                </a:lnTo>
                <a:lnTo>
                  <a:pt x="466" y="428"/>
                </a:lnTo>
                <a:lnTo>
                  <a:pt x="466" y="453"/>
                </a:lnTo>
                <a:lnTo>
                  <a:pt x="453" y="466"/>
                </a:lnTo>
                <a:lnTo>
                  <a:pt x="441" y="478"/>
                </a:lnTo>
                <a:lnTo>
                  <a:pt x="441" y="491"/>
                </a:lnTo>
                <a:lnTo>
                  <a:pt x="428" y="503"/>
                </a:lnTo>
                <a:lnTo>
                  <a:pt x="416" y="503"/>
                </a:lnTo>
                <a:lnTo>
                  <a:pt x="403" y="516"/>
                </a:lnTo>
                <a:lnTo>
                  <a:pt x="390" y="503"/>
                </a:lnTo>
                <a:lnTo>
                  <a:pt x="378" y="503"/>
                </a:lnTo>
                <a:lnTo>
                  <a:pt x="365" y="491"/>
                </a:lnTo>
                <a:lnTo>
                  <a:pt x="340" y="466"/>
                </a:lnTo>
                <a:lnTo>
                  <a:pt x="315" y="441"/>
                </a:lnTo>
                <a:lnTo>
                  <a:pt x="277" y="415"/>
                </a:lnTo>
                <a:lnTo>
                  <a:pt x="239" y="378"/>
                </a:lnTo>
                <a:lnTo>
                  <a:pt x="201" y="340"/>
                </a:lnTo>
                <a:lnTo>
                  <a:pt x="163" y="302"/>
                </a:lnTo>
                <a:lnTo>
                  <a:pt x="126" y="264"/>
                </a:lnTo>
                <a:lnTo>
                  <a:pt x="100" y="227"/>
                </a:lnTo>
                <a:lnTo>
                  <a:pt x="75" y="189"/>
                </a:lnTo>
                <a:lnTo>
                  <a:pt x="50" y="164"/>
                </a:lnTo>
                <a:lnTo>
                  <a:pt x="37" y="138"/>
                </a:lnTo>
                <a:lnTo>
                  <a:pt x="25" y="113"/>
                </a:lnTo>
                <a:lnTo>
                  <a:pt x="12" y="88"/>
                </a:lnTo>
                <a:lnTo>
                  <a:pt x="12" y="50"/>
                </a:lnTo>
                <a:lnTo>
                  <a:pt x="0" y="25"/>
                </a:lnTo>
                <a:lnTo>
                  <a:pt x="12" y="13"/>
                </a:lnTo>
                <a:lnTo>
                  <a:pt x="12" y="0"/>
                </a:lnTo>
                <a:lnTo>
                  <a:pt x="25" y="0"/>
                </a:lnTo>
                <a:lnTo>
                  <a:pt x="37" y="0"/>
                </a:lnTo>
                <a:lnTo>
                  <a:pt x="50" y="0"/>
                </a:lnTo>
                <a:lnTo>
                  <a:pt x="75" y="13"/>
                </a:lnTo>
                <a:lnTo>
                  <a:pt x="88" y="13"/>
                </a:lnTo>
                <a:lnTo>
                  <a:pt x="113" y="13"/>
                </a:lnTo>
                <a:lnTo>
                  <a:pt x="151" y="25"/>
                </a:lnTo>
                <a:lnTo>
                  <a:pt x="176" y="3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4"/>
          <p:cNvSpPr/>
          <p:nvPr/>
        </p:nvSpPr>
        <p:spPr>
          <a:xfrm>
            <a:off x="3465360" y="2214720"/>
            <a:ext cx="536760" cy="966600"/>
          </a:xfrm>
          <a:custGeom>
            <a:avLst/>
            <a:gdLst/>
            <a:ahLst/>
            <a:rect l="l" t="t" r="r" b="b"/>
            <a:pathLst>
              <a:path w="844" h="1523">
                <a:moveTo>
                  <a:pt x="567" y="768"/>
                </a:moveTo>
                <a:lnTo>
                  <a:pt x="567" y="780"/>
                </a:lnTo>
                <a:lnTo>
                  <a:pt x="579" y="793"/>
                </a:lnTo>
                <a:lnTo>
                  <a:pt x="592" y="818"/>
                </a:lnTo>
                <a:lnTo>
                  <a:pt x="605" y="843"/>
                </a:lnTo>
                <a:lnTo>
                  <a:pt x="617" y="868"/>
                </a:lnTo>
                <a:lnTo>
                  <a:pt x="642" y="906"/>
                </a:lnTo>
                <a:lnTo>
                  <a:pt x="655" y="944"/>
                </a:lnTo>
                <a:lnTo>
                  <a:pt x="680" y="994"/>
                </a:lnTo>
                <a:lnTo>
                  <a:pt x="705" y="1044"/>
                </a:lnTo>
                <a:lnTo>
                  <a:pt x="731" y="1095"/>
                </a:lnTo>
                <a:lnTo>
                  <a:pt x="743" y="1158"/>
                </a:lnTo>
                <a:lnTo>
                  <a:pt x="743" y="1221"/>
                </a:lnTo>
                <a:lnTo>
                  <a:pt x="756" y="1284"/>
                </a:lnTo>
                <a:lnTo>
                  <a:pt x="756" y="1359"/>
                </a:lnTo>
                <a:lnTo>
                  <a:pt x="756" y="1447"/>
                </a:lnTo>
                <a:lnTo>
                  <a:pt x="756" y="1523"/>
                </a:lnTo>
                <a:lnTo>
                  <a:pt x="630" y="1472"/>
                </a:lnTo>
                <a:lnTo>
                  <a:pt x="630" y="1435"/>
                </a:lnTo>
                <a:lnTo>
                  <a:pt x="617" y="1384"/>
                </a:lnTo>
                <a:lnTo>
                  <a:pt x="617" y="1334"/>
                </a:lnTo>
                <a:lnTo>
                  <a:pt x="605" y="1284"/>
                </a:lnTo>
                <a:lnTo>
                  <a:pt x="592" y="1221"/>
                </a:lnTo>
                <a:lnTo>
                  <a:pt x="567" y="1170"/>
                </a:lnTo>
                <a:lnTo>
                  <a:pt x="554" y="1107"/>
                </a:lnTo>
                <a:lnTo>
                  <a:pt x="529" y="1044"/>
                </a:lnTo>
                <a:lnTo>
                  <a:pt x="504" y="982"/>
                </a:lnTo>
                <a:lnTo>
                  <a:pt x="479" y="919"/>
                </a:lnTo>
                <a:lnTo>
                  <a:pt x="466" y="868"/>
                </a:lnTo>
                <a:lnTo>
                  <a:pt x="453" y="831"/>
                </a:lnTo>
                <a:lnTo>
                  <a:pt x="441" y="793"/>
                </a:lnTo>
                <a:lnTo>
                  <a:pt x="441" y="755"/>
                </a:lnTo>
                <a:lnTo>
                  <a:pt x="441" y="730"/>
                </a:lnTo>
                <a:lnTo>
                  <a:pt x="441" y="717"/>
                </a:lnTo>
                <a:lnTo>
                  <a:pt x="441" y="692"/>
                </a:lnTo>
                <a:lnTo>
                  <a:pt x="453" y="679"/>
                </a:lnTo>
                <a:lnTo>
                  <a:pt x="453" y="654"/>
                </a:lnTo>
                <a:lnTo>
                  <a:pt x="466" y="617"/>
                </a:lnTo>
                <a:lnTo>
                  <a:pt x="466" y="591"/>
                </a:lnTo>
                <a:lnTo>
                  <a:pt x="479" y="554"/>
                </a:lnTo>
                <a:lnTo>
                  <a:pt x="491" y="503"/>
                </a:lnTo>
                <a:lnTo>
                  <a:pt x="504" y="465"/>
                </a:lnTo>
                <a:lnTo>
                  <a:pt x="516" y="415"/>
                </a:lnTo>
                <a:lnTo>
                  <a:pt x="516" y="377"/>
                </a:lnTo>
                <a:lnTo>
                  <a:pt x="529" y="352"/>
                </a:lnTo>
                <a:lnTo>
                  <a:pt x="529" y="314"/>
                </a:lnTo>
                <a:lnTo>
                  <a:pt x="529" y="289"/>
                </a:lnTo>
                <a:lnTo>
                  <a:pt x="529" y="277"/>
                </a:lnTo>
                <a:lnTo>
                  <a:pt x="529" y="264"/>
                </a:lnTo>
                <a:lnTo>
                  <a:pt x="529" y="252"/>
                </a:lnTo>
                <a:lnTo>
                  <a:pt x="516" y="252"/>
                </a:lnTo>
                <a:lnTo>
                  <a:pt x="504" y="252"/>
                </a:lnTo>
                <a:lnTo>
                  <a:pt x="491" y="252"/>
                </a:lnTo>
                <a:lnTo>
                  <a:pt x="466" y="252"/>
                </a:lnTo>
                <a:lnTo>
                  <a:pt x="441" y="264"/>
                </a:lnTo>
                <a:lnTo>
                  <a:pt x="416" y="264"/>
                </a:lnTo>
                <a:lnTo>
                  <a:pt x="378" y="277"/>
                </a:lnTo>
                <a:lnTo>
                  <a:pt x="340" y="289"/>
                </a:lnTo>
                <a:lnTo>
                  <a:pt x="302" y="302"/>
                </a:lnTo>
                <a:lnTo>
                  <a:pt x="252" y="314"/>
                </a:lnTo>
                <a:lnTo>
                  <a:pt x="214" y="327"/>
                </a:lnTo>
                <a:lnTo>
                  <a:pt x="176" y="327"/>
                </a:lnTo>
                <a:lnTo>
                  <a:pt x="126" y="327"/>
                </a:lnTo>
                <a:lnTo>
                  <a:pt x="88" y="327"/>
                </a:lnTo>
                <a:lnTo>
                  <a:pt x="50" y="314"/>
                </a:lnTo>
                <a:lnTo>
                  <a:pt x="0" y="302"/>
                </a:lnTo>
                <a:lnTo>
                  <a:pt x="12" y="289"/>
                </a:lnTo>
                <a:lnTo>
                  <a:pt x="37" y="277"/>
                </a:lnTo>
                <a:lnTo>
                  <a:pt x="63" y="264"/>
                </a:lnTo>
                <a:lnTo>
                  <a:pt x="88" y="252"/>
                </a:lnTo>
                <a:lnTo>
                  <a:pt x="138" y="226"/>
                </a:lnTo>
                <a:lnTo>
                  <a:pt x="176" y="214"/>
                </a:lnTo>
                <a:lnTo>
                  <a:pt x="239" y="189"/>
                </a:lnTo>
                <a:lnTo>
                  <a:pt x="290" y="176"/>
                </a:lnTo>
                <a:lnTo>
                  <a:pt x="340" y="151"/>
                </a:lnTo>
                <a:lnTo>
                  <a:pt x="378" y="126"/>
                </a:lnTo>
                <a:lnTo>
                  <a:pt x="428" y="113"/>
                </a:lnTo>
                <a:lnTo>
                  <a:pt x="453" y="100"/>
                </a:lnTo>
                <a:lnTo>
                  <a:pt x="479" y="75"/>
                </a:lnTo>
                <a:lnTo>
                  <a:pt x="491" y="63"/>
                </a:lnTo>
                <a:lnTo>
                  <a:pt x="504" y="50"/>
                </a:lnTo>
                <a:lnTo>
                  <a:pt x="529" y="25"/>
                </a:lnTo>
                <a:lnTo>
                  <a:pt x="554" y="12"/>
                </a:lnTo>
                <a:lnTo>
                  <a:pt x="567" y="0"/>
                </a:lnTo>
                <a:lnTo>
                  <a:pt x="592" y="0"/>
                </a:lnTo>
                <a:lnTo>
                  <a:pt x="617" y="0"/>
                </a:lnTo>
                <a:lnTo>
                  <a:pt x="642" y="12"/>
                </a:lnTo>
                <a:lnTo>
                  <a:pt x="693" y="38"/>
                </a:lnTo>
                <a:lnTo>
                  <a:pt x="743" y="63"/>
                </a:lnTo>
                <a:lnTo>
                  <a:pt x="756" y="88"/>
                </a:lnTo>
                <a:lnTo>
                  <a:pt x="781" y="100"/>
                </a:lnTo>
                <a:lnTo>
                  <a:pt x="806" y="113"/>
                </a:lnTo>
                <a:lnTo>
                  <a:pt x="819" y="126"/>
                </a:lnTo>
                <a:lnTo>
                  <a:pt x="832" y="138"/>
                </a:lnTo>
                <a:lnTo>
                  <a:pt x="844" y="151"/>
                </a:lnTo>
                <a:lnTo>
                  <a:pt x="844" y="163"/>
                </a:lnTo>
                <a:lnTo>
                  <a:pt x="844" y="176"/>
                </a:lnTo>
                <a:lnTo>
                  <a:pt x="844" y="189"/>
                </a:lnTo>
                <a:lnTo>
                  <a:pt x="832" y="214"/>
                </a:lnTo>
                <a:lnTo>
                  <a:pt x="819" y="226"/>
                </a:lnTo>
                <a:lnTo>
                  <a:pt x="794" y="239"/>
                </a:lnTo>
                <a:lnTo>
                  <a:pt x="794" y="252"/>
                </a:lnTo>
                <a:lnTo>
                  <a:pt x="769" y="277"/>
                </a:lnTo>
                <a:lnTo>
                  <a:pt x="756" y="302"/>
                </a:lnTo>
                <a:lnTo>
                  <a:pt x="743" y="327"/>
                </a:lnTo>
                <a:lnTo>
                  <a:pt x="718" y="365"/>
                </a:lnTo>
                <a:lnTo>
                  <a:pt x="693" y="403"/>
                </a:lnTo>
                <a:lnTo>
                  <a:pt x="680" y="453"/>
                </a:lnTo>
                <a:lnTo>
                  <a:pt x="655" y="503"/>
                </a:lnTo>
                <a:lnTo>
                  <a:pt x="630" y="554"/>
                </a:lnTo>
                <a:lnTo>
                  <a:pt x="605" y="604"/>
                </a:lnTo>
                <a:lnTo>
                  <a:pt x="592" y="642"/>
                </a:lnTo>
                <a:lnTo>
                  <a:pt x="579" y="679"/>
                </a:lnTo>
                <a:lnTo>
                  <a:pt x="567" y="717"/>
                </a:lnTo>
                <a:lnTo>
                  <a:pt x="567" y="742"/>
                </a:lnTo>
                <a:lnTo>
                  <a:pt x="567" y="755"/>
                </a:lnTo>
                <a:lnTo>
                  <a:pt x="567" y="76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5"/>
          <p:cNvSpPr/>
          <p:nvPr/>
        </p:nvSpPr>
        <p:spPr>
          <a:xfrm>
            <a:off x="3417840" y="3125880"/>
            <a:ext cx="2360520" cy="422280"/>
          </a:xfrm>
          <a:custGeom>
            <a:avLst/>
            <a:gdLst/>
            <a:ahLst/>
            <a:rect l="l" t="t" r="r" b="b"/>
            <a:pathLst>
              <a:path w="3718" h="667">
                <a:moveTo>
                  <a:pt x="1059" y="75"/>
                </a:moveTo>
                <a:lnTo>
                  <a:pt x="1084" y="75"/>
                </a:lnTo>
                <a:lnTo>
                  <a:pt x="1122" y="88"/>
                </a:lnTo>
                <a:lnTo>
                  <a:pt x="1147" y="88"/>
                </a:lnTo>
                <a:lnTo>
                  <a:pt x="1185" y="100"/>
                </a:lnTo>
                <a:lnTo>
                  <a:pt x="1223" y="113"/>
                </a:lnTo>
                <a:lnTo>
                  <a:pt x="1273" y="113"/>
                </a:lnTo>
                <a:lnTo>
                  <a:pt x="1311" y="126"/>
                </a:lnTo>
                <a:lnTo>
                  <a:pt x="1361" y="138"/>
                </a:lnTo>
                <a:lnTo>
                  <a:pt x="1424" y="138"/>
                </a:lnTo>
                <a:lnTo>
                  <a:pt x="1475" y="151"/>
                </a:lnTo>
                <a:lnTo>
                  <a:pt x="1538" y="163"/>
                </a:lnTo>
                <a:lnTo>
                  <a:pt x="1601" y="176"/>
                </a:lnTo>
                <a:lnTo>
                  <a:pt x="1676" y="188"/>
                </a:lnTo>
                <a:lnTo>
                  <a:pt x="1739" y="201"/>
                </a:lnTo>
                <a:lnTo>
                  <a:pt x="1815" y="214"/>
                </a:lnTo>
                <a:lnTo>
                  <a:pt x="1903" y="226"/>
                </a:lnTo>
                <a:lnTo>
                  <a:pt x="1979" y="239"/>
                </a:lnTo>
                <a:lnTo>
                  <a:pt x="2054" y="251"/>
                </a:lnTo>
                <a:lnTo>
                  <a:pt x="2130" y="251"/>
                </a:lnTo>
                <a:lnTo>
                  <a:pt x="2193" y="264"/>
                </a:lnTo>
                <a:lnTo>
                  <a:pt x="2256" y="277"/>
                </a:lnTo>
                <a:lnTo>
                  <a:pt x="2319" y="289"/>
                </a:lnTo>
                <a:lnTo>
                  <a:pt x="2370" y="289"/>
                </a:lnTo>
                <a:lnTo>
                  <a:pt x="2420" y="302"/>
                </a:lnTo>
                <a:lnTo>
                  <a:pt x="2470" y="302"/>
                </a:lnTo>
                <a:lnTo>
                  <a:pt x="2508" y="302"/>
                </a:lnTo>
                <a:lnTo>
                  <a:pt x="2546" y="314"/>
                </a:lnTo>
                <a:lnTo>
                  <a:pt x="2584" y="314"/>
                </a:lnTo>
                <a:lnTo>
                  <a:pt x="2622" y="314"/>
                </a:lnTo>
                <a:lnTo>
                  <a:pt x="2647" y="314"/>
                </a:lnTo>
                <a:lnTo>
                  <a:pt x="2672" y="327"/>
                </a:lnTo>
                <a:lnTo>
                  <a:pt x="2685" y="327"/>
                </a:lnTo>
                <a:lnTo>
                  <a:pt x="2735" y="327"/>
                </a:lnTo>
                <a:lnTo>
                  <a:pt x="2773" y="327"/>
                </a:lnTo>
                <a:lnTo>
                  <a:pt x="2836" y="314"/>
                </a:lnTo>
                <a:lnTo>
                  <a:pt x="2899" y="314"/>
                </a:lnTo>
                <a:lnTo>
                  <a:pt x="2987" y="314"/>
                </a:lnTo>
                <a:lnTo>
                  <a:pt x="3063" y="314"/>
                </a:lnTo>
                <a:lnTo>
                  <a:pt x="3164" y="314"/>
                </a:lnTo>
                <a:lnTo>
                  <a:pt x="3264" y="302"/>
                </a:lnTo>
                <a:lnTo>
                  <a:pt x="3315" y="302"/>
                </a:lnTo>
                <a:lnTo>
                  <a:pt x="3365" y="302"/>
                </a:lnTo>
                <a:lnTo>
                  <a:pt x="3416" y="302"/>
                </a:lnTo>
                <a:lnTo>
                  <a:pt x="3454" y="302"/>
                </a:lnTo>
                <a:lnTo>
                  <a:pt x="3504" y="302"/>
                </a:lnTo>
                <a:lnTo>
                  <a:pt x="3542" y="302"/>
                </a:lnTo>
                <a:lnTo>
                  <a:pt x="3567" y="302"/>
                </a:lnTo>
                <a:lnTo>
                  <a:pt x="3605" y="302"/>
                </a:lnTo>
                <a:lnTo>
                  <a:pt x="3630" y="302"/>
                </a:lnTo>
                <a:lnTo>
                  <a:pt x="3643" y="302"/>
                </a:lnTo>
                <a:lnTo>
                  <a:pt x="3668" y="314"/>
                </a:lnTo>
                <a:lnTo>
                  <a:pt x="3680" y="314"/>
                </a:lnTo>
                <a:lnTo>
                  <a:pt x="3693" y="314"/>
                </a:lnTo>
                <a:lnTo>
                  <a:pt x="3706" y="327"/>
                </a:lnTo>
                <a:lnTo>
                  <a:pt x="3718" y="327"/>
                </a:lnTo>
                <a:lnTo>
                  <a:pt x="3706" y="340"/>
                </a:lnTo>
                <a:lnTo>
                  <a:pt x="3706" y="352"/>
                </a:lnTo>
                <a:lnTo>
                  <a:pt x="3693" y="352"/>
                </a:lnTo>
                <a:lnTo>
                  <a:pt x="3680" y="365"/>
                </a:lnTo>
                <a:lnTo>
                  <a:pt x="3655" y="377"/>
                </a:lnTo>
                <a:lnTo>
                  <a:pt x="3643" y="377"/>
                </a:lnTo>
                <a:lnTo>
                  <a:pt x="3617" y="390"/>
                </a:lnTo>
                <a:lnTo>
                  <a:pt x="3592" y="402"/>
                </a:lnTo>
                <a:lnTo>
                  <a:pt x="3567" y="415"/>
                </a:lnTo>
                <a:lnTo>
                  <a:pt x="3529" y="428"/>
                </a:lnTo>
                <a:lnTo>
                  <a:pt x="3491" y="440"/>
                </a:lnTo>
                <a:lnTo>
                  <a:pt x="3454" y="453"/>
                </a:lnTo>
                <a:lnTo>
                  <a:pt x="3416" y="465"/>
                </a:lnTo>
                <a:lnTo>
                  <a:pt x="3365" y="491"/>
                </a:lnTo>
                <a:lnTo>
                  <a:pt x="3327" y="503"/>
                </a:lnTo>
                <a:lnTo>
                  <a:pt x="3227" y="528"/>
                </a:lnTo>
                <a:lnTo>
                  <a:pt x="3138" y="566"/>
                </a:lnTo>
                <a:lnTo>
                  <a:pt x="3063" y="591"/>
                </a:lnTo>
                <a:lnTo>
                  <a:pt x="2987" y="604"/>
                </a:lnTo>
                <a:lnTo>
                  <a:pt x="2937" y="629"/>
                </a:lnTo>
                <a:lnTo>
                  <a:pt x="2874" y="642"/>
                </a:lnTo>
                <a:lnTo>
                  <a:pt x="2836" y="654"/>
                </a:lnTo>
                <a:lnTo>
                  <a:pt x="2798" y="654"/>
                </a:lnTo>
                <a:lnTo>
                  <a:pt x="2735" y="667"/>
                </a:lnTo>
                <a:lnTo>
                  <a:pt x="2685" y="667"/>
                </a:lnTo>
                <a:lnTo>
                  <a:pt x="2634" y="667"/>
                </a:lnTo>
                <a:lnTo>
                  <a:pt x="2584" y="654"/>
                </a:lnTo>
                <a:lnTo>
                  <a:pt x="2571" y="642"/>
                </a:lnTo>
                <a:lnTo>
                  <a:pt x="2559" y="642"/>
                </a:lnTo>
                <a:lnTo>
                  <a:pt x="2546" y="642"/>
                </a:lnTo>
                <a:lnTo>
                  <a:pt x="2521" y="629"/>
                </a:lnTo>
                <a:lnTo>
                  <a:pt x="2496" y="616"/>
                </a:lnTo>
                <a:lnTo>
                  <a:pt x="2470" y="616"/>
                </a:lnTo>
                <a:lnTo>
                  <a:pt x="2445" y="604"/>
                </a:lnTo>
                <a:lnTo>
                  <a:pt x="2407" y="591"/>
                </a:lnTo>
                <a:lnTo>
                  <a:pt x="2382" y="591"/>
                </a:lnTo>
                <a:lnTo>
                  <a:pt x="2344" y="579"/>
                </a:lnTo>
                <a:lnTo>
                  <a:pt x="2307" y="566"/>
                </a:lnTo>
                <a:lnTo>
                  <a:pt x="2256" y="553"/>
                </a:lnTo>
                <a:lnTo>
                  <a:pt x="2218" y="541"/>
                </a:lnTo>
                <a:lnTo>
                  <a:pt x="2168" y="528"/>
                </a:lnTo>
                <a:lnTo>
                  <a:pt x="2118" y="503"/>
                </a:lnTo>
                <a:lnTo>
                  <a:pt x="2067" y="491"/>
                </a:lnTo>
                <a:lnTo>
                  <a:pt x="1185" y="251"/>
                </a:lnTo>
                <a:lnTo>
                  <a:pt x="1134" y="226"/>
                </a:lnTo>
                <a:lnTo>
                  <a:pt x="1084" y="214"/>
                </a:lnTo>
                <a:lnTo>
                  <a:pt x="1034" y="201"/>
                </a:lnTo>
                <a:lnTo>
                  <a:pt x="983" y="188"/>
                </a:lnTo>
                <a:lnTo>
                  <a:pt x="945" y="176"/>
                </a:lnTo>
                <a:lnTo>
                  <a:pt x="908" y="163"/>
                </a:lnTo>
                <a:lnTo>
                  <a:pt x="870" y="163"/>
                </a:lnTo>
                <a:lnTo>
                  <a:pt x="832" y="151"/>
                </a:lnTo>
                <a:lnTo>
                  <a:pt x="794" y="138"/>
                </a:lnTo>
                <a:lnTo>
                  <a:pt x="769" y="138"/>
                </a:lnTo>
                <a:lnTo>
                  <a:pt x="731" y="138"/>
                </a:lnTo>
                <a:lnTo>
                  <a:pt x="706" y="126"/>
                </a:lnTo>
                <a:lnTo>
                  <a:pt x="681" y="126"/>
                </a:lnTo>
                <a:lnTo>
                  <a:pt x="655" y="126"/>
                </a:lnTo>
                <a:lnTo>
                  <a:pt x="643" y="126"/>
                </a:lnTo>
                <a:lnTo>
                  <a:pt x="630" y="113"/>
                </a:lnTo>
                <a:lnTo>
                  <a:pt x="555" y="126"/>
                </a:lnTo>
                <a:lnTo>
                  <a:pt x="492" y="138"/>
                </a:lnTo>
                <a:lnTo>
                  <a:pt x="429" y="151"/>
                </a:lnTo>
                <a:lnTo>
                  <a:pt x="353" y="176"/>
                </a:lnTo>
                <a:lnTo>
                  <a:pt x="315" y="201"/>
                </a:lnTo>
                <a:lnTo>
                  <a:pt x="277" y="201"/>
                </a:lnTo>
                <a:lnTo>
                  <a:pt x="252" y="201"/>
                </a:lnTo>
                <a:lnTo>
                  <a:pt x="214" y="201"/>
                </a:lnTo>
                <a:lnTo>
                  <a:pt x="189" y="201"/>
                </a:lnTo>
                <a:lnTo>
                  <a:pt x="151" y="188"/>
                </a:lnTo>
                <a:lnTo>
                  <a:pt x="126" y="163"/>
                </a:lnTo>
                <a:lnTo>
                  <a:pt x="101" y="138"/>
                </a:lnTo>
                <a:lnTo>
                  <a:pt x="76" y="113"/>
                </a:lnTo>
                <a:lnTo>
                  <a:pt x="50" y="100"/>
                </a:lnTo>
                <a:lnTo>
                  <a:pt x="38" y="75"/>
                </a:lnTo>
                <a:lnTo>
                  <a:pt x="25" y="63"/>
                </a:lnTo>
                <a:lnTo>
                  <a:pt x="13" y="37"/>
                </a:lnTo>
                <a:lnTo>
                  <a:pt x="0" y="25"/>
                </a:lnTo>
                <a:lnTo>
                  <a:pt x="0" y="12"/>
                </a:lnTo>
                <a:lnTo>
                  <a:pt x="0" y="0"/>
                </a:lnTo>
                <a:lnTo>
                  <a:pt x="76" y="0"/>
                </a:lnTo>
                <a:lnTo>
                  <a:pt x="151" y="0"/>
                </a:lnTo>
                <a:lnTo>
                  <a:pt x="227" y="0"/>
                </a:lnTo>
                <a:lnTo>
                  <a:pt x="303" y="0"/>
                </a:lnTo>
                <a:lnTo>
                  <a:pt x="366" y="0"/>
                </a:lnTo>
                <a:lnTo>
                  <a:pt x="429" y="0"/>
                </a:lnTo>
                <a:lnTo>
                  <a:pt x="479" y="0"/>
                </a:lnTo>
                <a:lnTo>
                  <a:pt x="529" y="0"/>
                </a:lnTo>
                <a:lnTo>
                  <a:pt x="580" y="0"/>
                </a:lnTo>
                <a:lnTo>
                  <a:pt x="618" y="0"/>
                </a:lnTo>
                <a:lnTo>
                  <a:pt x="655" y="0"/>
                </a:lnTo>
                <a:lnTo>
                  <a:pt x="681" y="0"/>
                </a:lnTo>
                <a:lnTo>
                  <a:pt x="718" y="12"/>
                </a:lnTo>
                <a:lnTo>
                  <a:pt x="744" y="12"/>
                </a:lnTo>
                <a:lnTo>
                  <a:pt x="756" y="12"/>
                </a:lnTo>
                <a:lnTo>
                  <a:pt x="769" y="12"/>
                </a:lnTo>
                <a:lnTo>
                  <a:pt x="807" y="12"/>
                </a:lnTo>
                <a:lnTo>
                  <a:pt x="832" y="25"/>
                </a:lnTo>
                <a:lnTo>
                  <a:pt x="857" y="25"/>
                </a:lnTo>
                <a:lnTo>
                  <a:pt x="895" y="37"/>
                </a:lnTo>
                <a:lnTo>
                  <a:pt x="933" y="37"/>
                </a:lnTo>
                <a:lnTo>
                  <a:pt x="971" y="50"/>
                </a:lnTo>
                <a:lnTo>
                  <a:pt x="1021" y="63"/>
                </a:lnTo>
                <a:lnTo>
                  <a:pt x="1059" y="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16"/>
          <p:cNvSpPr/>
          <p:nvPr/>
        </p:nvSpPr>
        <p:spPr>
          <a:xfrm>
            <a:off x="4081320" y="2470320"/>
            <a:ext cx="615960" cy="742680"/>
          </a:xfrm>
          <a:custGeom>
            <a:avLst/>
            <a:gdLst/>
            <a:ahLst/>
            <a:rect l="l" t="t" r="r" b="b"/>
            <a:pathLst>
              <a:path w="971" h="1170">
                <a:moveTo>
                  <a:pt x="542" y="843"/>
                </a:moveTo>
                <a:lnTo>
                  <a:pt x="504" y="893"/>
                </a:lnTo>
                <a:lnTo>
                  <a:pt x="454" y="931"/>
                </a:lnTo>
                <a:lnTo>
                  <a:pt x="416" y="969"/>
                </a:lnTo>
                <a:lnTo>
                  <a:pt x="378" y="1006"/>
                </a:lnTo>
                <a:lnTo>
                  <a:pt x="340" y="1032"/>
                </a:lnTo>
                <a:lnTo>
                  <a:pt x="303" y="1057"/>
                </a:lnTo>
                <a:lnTo>
                  <a:pt x="265" y="1082"/>
                </a:lnTo>
                <a:lnTo>
                  <a:pt x="227" y="1107"/>
                </a:lnTo>
                <a:lnTo>
                  <a:pt x="189" y="1120"/>
                </a:lnTo>
                <a:lnTo>
                  <a:pt x="164" y="1145"/>
                </a:lnTo>
                <a:lnTo>
                  <a:pt x="139" y="1145"/>
                </a:lnTo>
                <a:lnTo>
                  <a:pt x="101" y="1158"/>
                </a:lnTo>
                <a:lnTo>
                  <a:pt x="76" y="1170"/>
                </a:lnTo>
                <a:lnTo>
                  <a:pt x="51" y="1170"/>
                </a:lnTo>
                <a:lnTo>
                  <a:pt x="25" y="1170"/>
                </a:lnTo>
                <a:lnTo>
                  <a:pt x="0" y="1170"/>
                </a:lnTo>
                <a:lnTo>
                  <a:pt x="88" y="1082"/>
                </a:lnTo>
                <a:lnTo>
                  <a:pt x="177" y="1006"/>
                </a:lnTo>
                <a:lnTo>
                  <a:pt x="252" y="931"/>
                </a:lnTo>
                <a:lnTo>
                  <a:pt x="328" y="868"/>
                </a:lnTo>
                <a:lnTo>
                  <a:pt x="378" y="793"/>
                </a:lnTo>
                <a:lnTo>
                  <a:pt x="441" y="730"/>
                </a:lnTo>
                <a:lnTo>
                  <a:pt x="492" y="667"/>
                </a:lnTo>
                <a:lnTo>
                  <a:pt x="530" y="616"/>
                </a:lnTo>
                <a:lnTo>
                  <a:pt x="567" y="553"/>
                </a:lnTo>
                <a:lnTo>
                  <a:pt x="605" y="490"/>
                </a:lnTo>
                <a:lnTo>
                  <a:pt x="643" y="415"/>
                </a:lnTo>
                <a:lnTo>
                  <a:pt x="681" y="352"/>
                </a:lnTo>
                <a:lnTo>
                  <a:pt x="706" y="264"/>
                </a:lnTo>
                <a:lnTo>
                  <a:pt x="744" y="188"/>
                </a:lnTo>
                <a:lnTo>
                  <a:pt x="769" y="88"/>
                </a:lnTo>
                <a:lnTo>
                  <a:pt x="794" y="0"/>
                </a:lnTo>
                <a:lnTo>
                  <a:pt x="832" y="25"/>
                </a:lnTo>
                <a:lnTo>
                  <a:pt x="870" y="50"/>
                </a:lnTo>
                <a:lnTo>
                  <a:pt x="895" y="75"/>
                </a:lnTo>
                <a:lnTo>
                  <a:pt x="920" y="88"/>
                </a:lnTo>
                <a:lnTo>
                  <a:pt x="933" y="113"/>
                </a:lnTo>
                <a:lnTo>
                  <a:pt x="958" y="125"/>
                </a:lnTo>
                <a:lnTo>
                  <a:pt x="971" y="138"/>
                </a:lnTo>
                <a:lnTo>
                  <a:pt x="971" y="151"/>
                </a:lnTo>
                <a:lnTo>
                  <a:pt x="971" y="163"/>
                </a:lnTo>
                <a:lnTo>
                  <a:pt x="971" y="188"/>
                </a:lnTo>
                <a:lnTo>
                  <a:pt x="958" y="214"/>
                </a:lnTo>
                <a:lnTo>
                  <a:pt x="945" y="251"/>
                </a:lnTo>
                <a:lnTo>
                  <a:pt x="933" y="289"/>
                </a:lnTo>
                <a:lnTo>
                  <a:pt x="920" y="327"/>
                </a:lnTo>
                <a:lnTo>
                  <a:pt x="895" y="377"/>
                </a:lnTo>
                <a:lnTo>
                  <a:pt x="857" y="440"/>
                </a:lnTo>
                <a:lnTo>
                  <a:pt x="794" y="553"/>
                </a:lnTo>
                <a:lnTo>
                  <a:pt x="719" y="654"/>
                </a:lnTo>
                <a:lnTo>
                  <a:pt x="643" y="755"/>
                </a:lnTo>
                <a:lnTo>
                  <a:pt x="542" y="84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17"/>
          <p:cNvSpPr/>
          <p:nvPr/>
        </p:nvSpPr>
        <p:spPr>
          <a:xfrm>
            <a:off x="4289400" y="2309760"/>
            <a:ext cx="952560" cy="959040"/>
          </a:xfrm>
          <a:custGeom>
            <a:avLst/>
            <a:gdLst/>
            <a:ahLst/>
            <a:rect l="l" t="t" r="r" b="b"/>
            <a:pathLst>
              <a:path w="1500" h="1510">
                <a:moveTo>
                  <a:pt x="945" y="38"/>
                </a:moveTo>
                <a:lnTo>
                  <a:pt x="945" y="25"/>
                </a:lnTo>
                <a:lnTo>
                  <a:pt x="958" y="12"/>
                </a:lnTo>
                <a:lnTo>
                  <a:pt x="970" y="0"/>
                </a:lnTo>
                <a:lnTo>
                  <a:pt x="996" y="0"/>
                </a:lnTo>
                <a:lnTo>
                  <a:pt x="1008" y="0"/>
                </a:lnTo>
                <a:lnTo>
                  <a:pt x="1021" y="0"/>
                </a:lnTo>
                <a:lnTo>
                  <a:pt x="1033" y="12"/>
                </a:lnTo>
                <a:lnTo>
                  <a:pt x="1059" y="12"/>
                </a:lnTo>
                <a:lnTo>
                  <a:pt x="1084" y="25"/>
                </a:lnTo>
                <a:lnTo>
                  <a:pt x="1109" y="38"/>
                </a:lnTo>
                <a:lnTo>
                  <a:pt x="1134" y="50"/>
                </a:lnTo>
                <a:lnTo>
                  <a:pt x="1172" y="63"/>
                </a:lnTo>
                <a:lnTo>
                  <a:pt x="1197" y="75"/>
                </a:lnTo>
                <a:lnTo>
                  <a:pt x="1222" y="88"/>
                </a:lnTo>
                <a:lnTo>
                  <a:pt x="1248" y="113"/>
                </a:lnTo>
                <a:lnTo>
                  <a:pt x="1273" y="126"/>
                </a:lnTo>
                <a:lnTo>
                  <a:pt x="1285" y="126"/>
                </a:lnTo>
                <a:lnTo>
                  <a:pt x="1285" y="138"/>
                </a:lnTo>
                <a:lnTo>
                  <a:pt x="1298" y="151"/>
                </a:lnTo>
                <a:lnTo>
                  <a:pt x="1298" y="163"/>
                </a:lnTo>
                <a:lnTo>
                  <a:pt x="1298" y="176"/>
                </a:lnTo>
                <a:lnTo>
                  <a:pt x="1285" y="201"/>
                </a:lnTo>
                <a:lnTo>
                  <a:pt x="1273" y="214"/>
                </a:lnTo>
                <a:lnTo>
                  <a:pt x="1260" y="214"/>
                </a:lnTo>
                <a:lnTo>
                  <a:pt x="1248" y="226"/>
                </a:lnTo>
                <a:lnTo>
                  <a:pt x="1235" y="239"/>
                </a:lnTo>
                <a:lnTo>
                  <a:pt x="1222" y="252"/>
                </a:lnTo>
                <a:lnTo>
                  <a:pt x="1210" y="264"/>
                </a:lnTo>
                <a:lnTo>
                  <a:pt x="1185" y="277"/>
                </a:lnTo>
                <a:lnTo>
                  <a:pt x="1172" y="302"/>
                </a:lnTo>
                <a:lnTo>
                  <a:pt x="1147" y="327"/>
                </a:lnTo>
                <a:lnTo>
                  <a:pt x="1122" y="365"/>
                </a:lnTo>
                <a:lnTo>
                  <a:pt x="1109" y="390"/>
                </a:lnTo>
                <a:lnTo>
                  <a:pt x="1084" y="415"/>
                </a:lnTo>
                <a:lnTo>
                  <a:pt x="1071" y="440"/>
                </a:lnTo>
                <a:lnTo>
                  <a:pt x="1059" y="466"/>
                </a:lnTo>
                <a:lnTo>
                  <a:pt x="1059" y="478"/>
                </a:lnTo>
                <a:lnTo>
                  <a:pt x="1059" y="491"/>
                </a:lnTo>
                <a:lnTo>
                  <a:pt x="1059" y="503"/>
                </a:lnTo>
                <a:lnTo>
                  <a:pt x="1071" y="516"/>
                </a:lnTo>
                <a:lnTo>
                  <a:pt x="1096" y="516"/>
                </a:lnTo>
                <a:lnTo>
                  <a:pt x="1109" y="528"/>
                </a:lnTo>
                <a:lnTo>
                  <a:pt x="1134" y="528"/>
                </a:lnTo>
                <a:lnTo>
                  <a:pt x="1159" y="528"/>
                </a:lnTo>
                <a:lnTo>
                  <a:pt x="1197" y="528"/>
                </a:lnTo>
                <a:lnTo>
                  <a:pt x="1222" y="528"/>
                </a:lnTo>
                <a:lnTo>
                  <a:pt x="1260" y="528"/>
                </a:lnTo>
                <a:lnTo>
                  <a:pt x="1298" y="541"/>
                </a:lnTo>
                <a:lnTo>
                  <a:pt x="1323" y="541"/>
                </a:lnTo>
                <a:lnTo>
                  <a:pt x="1361" y="554"/>
                </a:lnTo>
                <a:lnTo>
                  <a:pt x="1386" y="554"/>
                </a:lnTo>
                <a:lnTo>
                  <a:pt x="1399" y="566"/>
                </a:lnTo>
                <a:lnTo>
                  <a:pt x="1424" y="579"/>
                </a:lnTo>
                <a:lnTo>
                  <a:pt x="1437" y="604"/>
                </a:lnTo>
                <a:lnTo>
                  <a:pt x="1462" y="629"/>
                </a:lnTo>
                <a:lnTo>
                  <a:pt x="1487" y="654"/>
                </a:lnTo>
                <a:lnTo>
                  <a:pt x="1500" y="680"/>
                </a:lnTo>
                <a:lnTo>
                  <a:pt x="1500" y="705"/>
                </a:lnTo>
                <a:lnTo>
                  <a:pt x="1487" y="717"/>
                </a:lnTo>
                <a:lnTo>
                  <a:pt x="1475" y="730"/>
                </a:lnTo>
                <a:lnTo>
                  <a:pt x="1475" y="742"/>
                </a:lnTo>
                <a:lnTo>
                  <a:pt x="1462" y="755"/>
                </a:lnTo>
                <a:lnTo>
                  <a:pt x="1449" y="755"/>
                </a:lnTo>
                <a:lnTo>
                  <a:pt x="1437" y="768"/>
                </a:lnTo>
                <a:lnTo>
                  <a:pt x="1424" y="780"/>
                </a:lnTo>
                <a:lnTo>
                  <a:pt x="1424" y="805"/>
                </a:lnTo>
                <a:lnTo>
                  <a:pt x="1412" y="818"/>
                </a:lnTo>
                <a:lnTo>
                  <a:pt x="1399" y="856"/>
                </a:lnTo>
                <a:lnTo>
                  <a:pt x="1386" y="881"/>
                </a:lnTo>
                <a:lnTo>
                  <a:pt x="1374" y="919"/>
                </a:lnTo>
                <a:lnTo>
                  <a:pt x="1311" y="1070"/>
                </a:lnTo>
                <a:lnTo>
                  <a:pt x="1260" y="1221"/>
                </a:lnTo>
                <a:lnTo>
                  <a:pt x="1235" y="1284"/>
                </a:lnTo>
                <a:lnTo>
                  <a:pt x="1197" y="1347"/>
                </a:lnTo>
                <a:lnTo>
                  <a:pt x="1147" y="1397"/>
                </a:lnTo>
                <a:lnTo>
                  <a:pt x="1109" y="1435"/>
                </a:lnTo>
                <a:lnTo>
                  <a:pt x="1084" y="1447"/>
                </a:lnTo>
                <a:lnTo>
                  <a:pt x="1059" y="1472"/>
                </a:lnTo>
                <a:lnTo>
                  <a:pt x="1033" y="1485"/>
                </a:lnTo>
                <a:lnTo>
                  <a:pt x="1021" y="1485"/>
                </a:lnTo>
                <a:lnTo>
                  <a:pt x="996" y="1498"/>
                </a:lnTo>
                <a:lnTo>
                  <a:pt x="983" y="1498"/>
                </a:lnTo>
                <a:lnTo>
                  <a:pt x="970" y="1510"/>
                </a:lnTo>
                <a:lnTo>
                  <a:pt x="958" y="1510"/>
                </a:lnTo>
                <a:lnTo>
                  <a:pt x="933" y="1498"/>
                </a:lnTo>
                <a:lnTo>
                  <a:pt x="920" y="1485"/>
                </a:lnTo>
                <a:lnTo>
                  <a:pt x="920" y="1447"/>
                </a:lnTo>
                <a:lnTo>
                  <a:pt x="920" y="1422"/>
                </a:lnTo>
                <a:lnTo>
                  <a:pt x="920" y="1397"/>
                </a:lnTo>
                <a:lnTo>
                  <a:pt x="920" y="1384"/>
                </a:lnTo>
                <a:lnTo>
                  <a:pt x="907" y="1359"/>
                </a:lnTo>
                <a:lnTo>
                  <a:pt x="895" y="1347"/>
                </a:lnTo>
                <a:lnTo>
                  <a:pt x="882" y="1321"/>
                </a:lnTo>
                <a:lnTo>
                  <a:pt x="857" y="1296"/>
                </a:lnTo>
                <a:lnTo>
                  <a:pt x="844" y="1284"/>
                </a:lnTo>
                <a:lnTo>
                  <a:pt x="819" y="1258"/>
                </a:lnTo>
                <a:lnTo>
                  <a:pt x="794" y="1246"/>
                </a:lnTo>
                <a:lnTo>
                  <a:pt x="769" y="1233"/>
                </a:lnTo>
                <a:lnTo>
                  <a:pt x="744" y="1208"/>
                </a:lnTo>
                <a:lnTo>
                  <a:pt x="731" y="1196"/>
                </a:lnTo>
                <a:lnTo>
                  <a:pt x="718" y="1183"/>
                </a:lnTo>
                <a:lnTo>
                  <a:pt x="706" y="1170"/>
                </a:lnTo>
                <a:lnTo>
                  <a:pt x="706" y="1158"/>
                </a:lnTo>
                <a:lnTo>
                  <a:pt x="706" y="1145"/>
                </a:lnTo>
                <a:lnTo>
                  <a:pt x="718" y="1145"/>
                </a:lnTo>
                <a:lnTo>
                  <a:pt x="731" y="1145"/>
                </a:lnTo>
                <a:lnTo>
                  <a:pt x="744" y="1145"/>
                </a:lnTo>
                <a:lnTo>
                  <a:pt x="756" y="1145"/>
                </a:lnTo>
                <a:lnTo>
                  <a:pt x="794" y="1145"/>
                </a:lnTo>
                <a:lnTo>
                  <a:pt x="819" y="1158"/>
                </a:lnTo>
                <a:lnTo>
                  <a:pt x="857" y="1158"/>
                </a:lnTo>
                <a:lnTo>
                  <a:pt x="895" y="1170"/>
                </a:lnTo>
                <a:lnTo>
                  <a:pt x="920" y="1183"/>
                </a:lnTo>
                <a:lnTo>
                  <a:pt x="945" y="1183"/>
                </a:lnTo>
                <a:lnTo>
                  <a:pt x="970" y="1183"/>
                </a:lnTo>
                <a:lnTo>
                  <a:pt x="996" y="1183"/>
                </a:lnTo>
                <a:lnTo>
                  <a:pt x="1021" y="1183"/>
                </a:lnTo>
                <a:lnTo>
                  <a:pt x="1033" y="1170"/>
                </a:lnTo>
                <a:lnTo>
                  <a:pt x="1046" y="1158"/>
                </a:lnTo>
                <a:lnTo>
                  <a:pt x="1059" y="1145"/>
                </a:lnTo>
                <a:lnTo>
                  <a:pt x="1071" y="1133"/>
                </a:lnTo>
                <a:lnTo>
                  <a:pt x="1084" y="1107"/>
                </a:lnTo>
                <a:lnTo>
                  <a:pt x="1109" y="1082"/>
                </a:lnTo>
                <a:lnTo>
                  <a:pt x="1122" y="1045"/>
                </a:lnTo>
                <a:lnTo>
                  <a:pt x="1134" y="994"/>
                </a:lnTo>
                <a:lnTo>
                  <a:pt x="1159" y="956"/>
                </a:lnTo>
                <a:lnTo>
                  <a:pt x="1172" y="893"/>
                </a:lnTo>
                <a:lnTo>
                  <a:pt x="1197" y="843"/>
                </a:lnTo>
                <a:lnTo>
                  <a:pt x="1210" y="793"/>
                </a:lnTo>
                <a:lnTo>
                  <a:pt x="1222" y="755"/>
                </a:lnTo>
                <a:lnTo>
                  <a:pt x="1222" y="717"/>
                </a:lnTo>
                <a:lnTo>
                  <a:pt x="1235" y="692"/>
                </a:lnTo>
                <a:lnTo>
                  <a:pt x="1235" y="667"/>
                </a:lnTo>
                <a:lnTo>
                  <a:pt x="1235" y="654"/>
                </a:lnTo>
                <a:lnTo>
                  <a:pt x="1222" y="654"/>
                </a:lnTo>
                <a:lnTo>
                  <a:pt x="1210" y="642"/>
                </a:lnTo>
                <a:lnTo>
                  <a:pt x="1197" y="629"/>
                </a:lnTo>
                <a:lnTo>
                  <a:pt x="1172" y="629"/>
                </a:lnTo>
                <a:lnTo>
                  <a:pt x="1147" y="629"/>
                </a:lnTo>
                <a:lnTo>
                  <a:pt x="1109" y="629"/>
                </a:lnTo>
                <a:lnTo>
                  <a:pt x="1071" y="642"/>
                </a:lnTo>
                <a:lnTo>
                  <a:pt x="1021" y="654"/>
                </a:lnTo>
                <a:lnTo>
                  <a:pt x="970" y="667"/>
                </a:lnTo>
                <a:lnTo>
                  <a:pt x="933" y="680"/>
                </a:lnTo>
                <a:lnTo>
                  <a:pt x="907" y="692"/>
                </a:lnTo>
                <a:lnTo>
                  <a:pt x="895" y="692"/>
                </a:lnTo>
                <a:lnTo>
                  <a:pt x="870" y="692"/>
                </a:lnTo>
                <a:lnTo>
                  <a:pt x="857" y="680"/>
                </a:lnTo>
                <a:lnTo>
                  <a:pt x="844" y="680"/>
                </a:lnTo>
                <a:lnTo>
                  <a:pt x="832" y="667"/>
                </a:lnTo>
                <a:lnTo>
                  <a:pt x="832" y="654"/>
                </a:lnTo>
                <a:lnTo>
                  <a:pt x="832" y="617"/>
                </a:lnTo>
                <a:lnTo>
                  <a:pt x="832" y="591"/>
                </a:lnTo>
                <a:lnTo>
                  <a:pt x="844" y="566"/>
                </a:lnTo>
                <a:lnTo>
                  <a:pt x="857" y="541"/>
                </a:lnTo>
                <a:lnTo>
                  <a:pt x="870" y="528"/>
                </a:lnTo>
                <a:lnTo>
                  <a:pt x="882" y="516"/>
                </a:lnTo>
                <a:lnTo>
                  <a:pt x="895" y="491"/>
                </a:lnTo>
                <a:lnTo>
                  <a:pt x="920" y="466"/>
                </a:lnTo>
                <a:lnTo>
                  <a:pt x="933" y="453"/>
                </a:lnTo>
                <a:lnTo>
                  <a:pt x="945" y="415"/>
                </a:lnTo>
                <a:lnTo>
                  <a:pt x="958" y="390"/>
                </a:lnTo>
                <a:lnTo>
                  <a:pt x="983" y="352"/>
                </a:lnTo>
                <a:lnTo>
                  <a:pt x="996" y="314"/>
                </a:lnTo>
                <a:lnTo>
                  <a:pt x="1008" y="289"/>
                </a:lnTo>
                <a:lnTo>
                  <a:pt x="1021" y="264"/>
                </a:lnTo>
                <a:lnTo>
                  <a:pt x="1021" y="239"/>
                </a:lnTo>
                <a:lnTo>
                  <a:pt x="1033" y="214"/>
                </a:lnTo>
                <a:lnTo>
                  <a:pt x="1033" y="201"/>
                </a:lnTo>
                <a:lnTo>
                  <a:pt x="1033" y="189"/>
                </a:lnTo>
                <a:lnTo>
                  <a:pt x="1021" y="189"/>
                </a:lnTo>
                <a:lnTo>
                  <a:pt x="1008" y="189"/>
                </a:lnTo>
                <a:lnTo>
                  <a:pt x="983" y="189"/>
                </a:lnTo>
                <a:lnTo>
                  <a:pt x="958" y="189"/>
                </a:lnTo>
                <a:lnTo>
                  <a:pt x="933" y="189"/>
                </a:lnTo>
                <a:lnTo>
                  <a:pt x="895" y="201"/>
                </a:lnTo>
                <a:lnTo>
                  <a:pt x="857" y="214"/>
                </a:lnTo>
                <a:lnTo>
                  <a:pt x="807" y="214"/>
                </a:lnTo>
                <a:lnTo>
                  <a:pt x="706" y="239"/>
                </a:lnTo>
                <a:lnTo>
                  <a:pt x="605" y="277"/>
                </a:lnTo>
                <a:lnTo>
                  <a:pt x="504" y="302"/>
                </a:lnTo>
                <a:lnTo>
                  <a:pt x="403" y="340"/>
                </a:lnTo>
                <a:lnTo>
                  <a:pt x="353" y="352"/>
                </a:lnTo>
                <a:lnTo>
                  <a:pt x="315" y="365"/>
                </a:lnTo>
                <a:lnTo>
                  <a:pt x="277" y="377"/>
                </a:lnTo>
                <a:lnTo>
                  <a:pt x="239" y="390"/>
                </a:lnTo>
                <a:lnTo>
                  <a:pt x="214" y="403"/>
                </a:lnTo>
                <a:lnTo>
                  <a:pt x="189" y="403"/>
                </a:lnTo>
                <a:lnTo>
                  <a:pt x="164" y="403"/>
                </a:lnTo>
                <a:lnTo>
                  <a:pt x="151" y="403"/>
                </a:lnTo>
                <a:lnTo>
                  <a:pt x="126" y="403"/>
                </a:lnTo>
                <a:lnTo>
                  <a:pt x="101" y="403"/>
                </a:lnTo>
                <a:lnTo>
                  <a:pt x="75" y="390"/>
                </a:lnTo>
                <a:lnTo>
                  <a:pt x="50" y="365"/>
                </a:lnTo>
                <a:lnTo>
                  <a:pt x="25" y="352"/>
                </a:lnTo>
                <a:lnTo>
                  <a:pt x="12" y="340"/>
                </a:lnTo>
                <a:lnTo>
                  <a:pt x="0" y="314"/>
                </a:lnTo>
                <a:lnTo>
                  <a:pt x="0" y="302"/>
                </a:lnTo>
                <a:lnTo>
                  <a:pt x="25" y="302"/>
                </a:lnTo>
                <a:lnTo>
                  <a:pt x="38" y="289"/>
                </a:lnTo>
                <a:lnTo>
                  <a:pt x="75" y="277"/>
                </a:lnTo>
                <a:lnTo>
                  <a:pt x="113" y="277"/>
                </a:lnTo>
                <a:lnTo>
                  <a:pt x="151" y="264"/>
                </a:lnTo>
                <a:lnTo>
                  <a:pt x="202" y="252"/>
                </a:lnTo>
                <a:lnTo>
                  <a:pt x="315" y="226"/>
                </a:lnTo>
                <a:lnTo>
                  <a:pt x="428" y="201"/>
                </a:lnTo>
                <a:lnTo>
                  <a:pt x="554" y="176"/>
                </a:lnTo>
                <a:lnTo>
                  <a:pt x="668" y="138"/>
                </a:lnTo>
                <a:lnTo>
                  <a:pt x="731" y="126"/>
                </a:lnTo>
                <a:lnTo>
                  <a:pt x="781" y="113"/>
                </a:lnTo>
                <a:lnTo>
                  <a:pt x="832" y="101"/>
                </a:lnTo>
                <a:lnTo>
                  <a:pt x="870" y="88"/>
                </a:lnTo>
                <a:lnTo>
                  <a:pt x="895" y="75"/>
                </a:lnTo>
                <a:lnTo>
                  <a:pt x="920" y="63"/>
                </a:lnTo>
                <a:lnTo>
                  <a:pt x="933" y="50"/>
                </a:lnTo>
                <a:lnTo>
                  <a:pt x="945" y="3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图片 1" descr=""/>
          <p:cNvPicPr/>
          <p:nvPr/>
        </p:nvPicPr>
        <p:blipFill>
          <a:blip r:embed="rId2"/>
          <a:stretch/>
        </p:blipFill>
        <p:spPr>
          <a:xfrm>
            <a:off x="446040" y="4457880"/>
            <a:ext cx="8542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38"/>
          <p:cNvGrpSpPr/>
          <p:nvPr/>
        </p:nvGrpSpPr>
        <p:grpSpPr>
          <a:xfrm>
            <a:off x="3322800" y="1276200"/>
            <a:ext cx="2541600" cy="2538720"/>
            <a:chOff x="3322800" y="1276200"/>
            <a:chExt cx="2541600" cy="2538720"/>
          </a:xfrm>
        </p:grpSpPr>
        <p:sp>
          <p:nvSpPr>
            <p:cNvPr id="141" name="直接连接符 3"/>
            <p:cNvSpPr/>
            <p:nvPr/>
          </p:nvSpPr>
          <p:spPr>
            <a:xfrm>
              <a:off x="3344760" y="2543040"/>
              <a:ext cx="2519640" cy="1440"/>
            </a:xfrm>
            <a:prstGeom prst="line">
              <a:avLst/>
            </a:prstGeom>
            <a:ln w="15840">
              <a:solidFill>
                <a:srgbClr val="72bfc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直接连接符 4"/>
            <p:cNvSpPr/>
            <p:nvPr/>
          </p:nvSpPr>
          <p:spPr>
            <a:xfrm flipH="1">
              <a:off x="4570560" y="1276200"/>
              <a:ext cx="1440" cy="2520000"/>
            </a:xfrm>
            <a:prstGeom prst="line">
              <a:avLst/>
            </a:prstGeom>
            <a:ln w="15840">
              <a:solidFill>
                <a:srgbClr val="72bfc5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矩形 5"/>
            <p:cNvSpPr/>
            <p:nvPr/>
          </p:nvSpPr>
          <p:spPr>
            <a:xfrm>
              <a:off x="3322800" y="1294920"/>
              <a:ext cx="2519640" cy="2520000"/>
            </a:xfrm>
            <a:prstGeom prst="rect">
              <a:avLst/>
            </a:prstGeom>
            <a:noFill/>
            <a:ln w="25560">
              <a:solidFill>
                <a:srgbClr val="2e75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Freeform 6"/>
          <p:cNvSpPr/>
          <p:nvPr/>
        </p:nvSpPr>
        <p:spPr>
          <a:xfrm>
            <a:off x="3746520" y="1455840"/>
            <a:ext cx="566640" cy="1744560"/>
          </a:xfrm>
          <a:custGeom>
            <a:avLst/>
            <a:gdLst/>
            <a:ahLst/>
            <a:rect l="l" t="t" r="r" b="b"/>
            <a:pathLst>
              <a:path w="893" h="2747">
                <a:moveTo>
                  <a:pt x="439" y="372"/>
                </a:moveTo>
                <a:lnTo>
                  <a:pt x="425" y="425"/>
                </a:lnTo>
                <a:lnTo>
                  <a:pt x="411" y="478"/>
                </a:lnTo>
                <a:lnTo>
                  <a:pt x="397" y="549"/>
                </a:lnTo>
                <a:lnTo>
                  <a:pt x="383" y="620"/>
                </a:lnTo>
                <a:lnTo>
                  <a:pt x="369" y="709"/>
                </a:lnTo>
                <a:lnTo>
                  <a:pt x="354" y="797"/>
                </a:lnTo>
                <a:lnTo>
                  <a:pt x="326" y="886"/>
                </a:lnTo>
                <a:lnTo>
                  <a:pt x="312" y="1010"/>
                </a:lnTo>
                <a:lnTo>
                  <a:pt x="283" y="1116"/>
                </a:lnTo>
                <a:lnTo>
                  <a:pt x="269" y="1205"/>
                </a:lnTo>
                <a:lnTo>
                  <a:pt x="255" y="1293"/>
                </a:lnTo>
                <a:lnTo>
                  <a:pt x="241" y="1382"/>
                </a:lnTo>
                <a:lnTo>
                  <a:pt x="213" y="1453"/>
                </a:lnTo>
                <a:lnTo>
                  <a:pt x="213" y="1524"/>
                </a:lnTo>
                <a:lnTo>
                  <a:pt x="198" y="1577"/>
                </a:lnTo>
                <a:lnTo>
                  <a:pt x="184" y="1630"/>
                </a:lnTo>
                <a:lnTo>
                  <a:pt x="170" y="1666"/>
                </a:lnTo>
                <a:lnTo>
                  <a:pt x="170" y="1701"/>
                </a:lnTo>
                <a:lnTo>
                  <a:pt x="156" y="1737"/>
                </a:lnTo>
                <a:lnTo>
                  <a:pt x="156" y="1772"/>
                </a:lnTo>
                <a:lnTo>
                  <a:pt x="156" y="1790"/>
                </a:lnTo>
                <a:lnTo>
                  <a:pt x="142" y="1807"/>
                </a:lnTo>
                <a:lnTo>
                  <a:pt x="142" y="1825"/>
                </a:lnTo>
                <a:lnTo>
                  <a:pt x="142" y="1843"/>
                </a:lnTo>
                <a:lnTo>
                  <a:pt x="156" y="1861"/>
                </a:lnTo>
                <a:lnTo>
                  <a:pt x="156" y="1878"/>
                </a:lnTo>
                <a:lnTo>
                  <a:pt x="170" y="1896"/>
                </a:lnTo>
                <a:lnTo>
                  <a:pt x="184" y="1896"/>
                </a:lnTo>
                <a:lnTo>
                  <a:pt x="198" y="1931"/>
                </a:lnTo>
                <a:lnTo>
                  <a:pt x="213" y="1949"/>
                </a:lnTo>
                <a:lnTo>
                  <a:pt x="227" y="1967"/>
                </a:lnTo>
                <a:lnTo>
                  <a:pt x="255" y="1985"/>
                </a:lnTo>
                <a:lnTo>
                  <a:pt x="283" y="2020"/>
                </a:lnTo>
                <a:lnTo>
                  <a:pt x="326" y="2038"/>
                </a:lnTo>
                <a:lnTo>
                  <a:pt x="354" y="2073"/>
                </a:lnTo>
                <a:lnTo>
                  <a:pt x="411" y="2109"/>
                </a:lnTo>
                <a:lnTo>
                  <a:pt x="468" y="2162"/>
                </a:lnTo>
                <a:lnTo>
                  <a:pt x="524" y="2197"/>
                </a:lnTo>
                <a:lnTo>
                  <a:pt x="581" y="2250"/>
                </a:lnTo>
                <a:lnTo>
                  <a:pt x="652" y="2304"/>
                </a:lnTo>
                <a:lnTo>
                  <a:pt x="709" y="2339"/>
                </a:lnTo>
                <a:lnTo>
                  <a:pt x="751" y="2392"/>
                </a:lnTo>
                <a:lnTo>
                  <a:pt x="794" y="2428"/>
                </a:lnTo>
                <a:lnTo>
                  <a:pt x="822" y="2463"/>
                </a:lnTo>
                <a:lnTo>
                  <a:pt x="850" y="2481"/>
                </a:lnTo>
                <a:lnTo>
                  <a:pt x="865" y="2516"/>
                </a:lnTo>
                <a:lnTo>
                  <a:pt x="879" y="2534"/>
                </a:lnTo>
                <a:lnTo>
                  <a:pt x="893" y="2587"/>
                </a:lnTo>
                <a:lnTo>
                  <a:pt x="893" y="2623"/>
                </a:lnTo>
                <a:lnTo>
                  <a:pt x="893" y="2658"/>
                </a:lnTo>
                <a:lnTo>
                  <a:pt x="879" y="2694"/>
                </a:lnTo>
                <a:lnTo>
                  <a:pt x="865" y="2711"/>
                </a:lnTo>
                <a:lnTo>
                  <a:pt x="850" y="2729"/>
                </a:lnTo>
                <a:lnTo>
                  <a:pt x="836" y="2747"/>
                </a:lnTo>
                <a:lnTo>
                  <a:pt x="808" y="2747"/>
                </a:lnTo>
                <a:lnTo>
                  <a:pt x="794" y="2747"/>
                </a:lnTo>
                <a:lnTo>
                  <a:pt x="780" y="2729"/>
                </a:lnTo>
                <a:lnTo>
                  <a:pt x="765" y="2729"/>
                </a:lnTo>
                <a:lnTo>
                  <a:pt x="751" y="2711"/>
                </a:lnTo>
                <a:lnTo>
                  <a:pt x="737" y="2694"/>
                </a:lnTo>
                <a:lnTo>
                  <a:pt x="723" y="2676"/>
                </a:lnTo>
                <a:lnTo>
                  <a:pt x="709" y="2640"/>
                </a:lnTo>
                <a:lnTo>
                  <a:pt x="695" y="2623"/>
                </a:lnTo>
                <a:lnTo>
                  <a:pt x="666" y="2587"/>
                </a:lnTo>
                <a:lnTo>
                  <a:pt x="624" y="2552"/>
                </a:lnTo>
                <a:lnTo>
                  <a:pt x="581" y="2499"/>
                </a:lnTo>
                <a:lnTo>
                  <a:pt x="539" y="2445"/>
                </a:lnTo>
                <a:lnTo>
                  <a:pt x="468" y="2392"/>
                </a:lnTo>
                <a:lnTo>
                  <a:pt x="411" y="2321"/>
                </a:lnTo>
                <a:lnTo>
                  <a:pt x="326" y="2250"/>
                </a:lnTo>
                <a:lnTo>
                  <a:pt x="255" y="2180"/>
                </a:lnTo>
                <a:lnTo>
                  <a:pt x="198" y="2126"/>
                </a:lnTo>
                <a:lnTo>
                  <a:pt x="142" y="2073"/>
                </a:lnTo>
                <a:lnTo>
                  <a:pt x="99" y="2020"/>
                </a:lnTo>
                <a:lnTo>
                  <a:pt x="57" y="1985"/>
                </a:lnTo>
                <a:lnTo>
                  <a:pt x="28" y="1949"/>
                </a:lnTo>
                <a:lnTo>
                  <a:pt x="14" y="1931"/>
                </a:lnTo>
                <a:lnTo>
                  <a:pt x="0" y="1931"/>
                </a:lnTo>
                <a:lnTo>
                  <a:pt x="0" y="1896"/>
                </a:lnTo>
                <a:lnTo>
                  <a:pt x="0" y="1878"/>
                </a:lnTo>
                <a:lnTo>
                  <a:pt x="0" y="1843"/>
                </a:lnTo>
                <a:lnTo>
                  <a:pt x="0" y="1790"/>
                </a:lnTo>
                <a:lnTo>
                  <a:pt x="0" y="1772"/>
                </a:lnTo>
                <a:lnTo>
                  <a:pt x="14" y="1754"/>
                </a:lnTo>
                <a:lnTo>
                  <a:pt x="14" y="1737"/>
                </a:lnTo>
                <a:lnTo>
                  <a:pt x="14" y="1701"/>
                </a:lnTo>
                <a:lnTo>
                  <a:pt x="14" y="1683"/>
                </a:lnTo>
                <a:lnTo>
                  <a:pt x="28" y="1648"/>
                </a:lnTo>
                <a:lnTo>
                  <a:pt x="28" y="1612"/>
                </a:lnTo>
                <a:lnTo>
                  <a:pt x="43" y="1577"/>
                </a:lnTo>
                <a:lnTo>
                  <a:pt x="43" y="1524"/>
                </a:lnTo>
                <a:lnTo>
                  <a:pt x="57" y="1488"/>
                </a:lnTo>
                <a:lnTo>
                  <a:pt x="57" y="1435"/>
                </a:lnTo>
                <a:lnTo>
                  <a:pt x="71" y="1382"/>
                </a:lnTo>
                <a:lnTo>
                  <a:pt x="71" y="1311"/>
                </a:lnTo>
                <a:lnTo>
                  <a:pt x="85" y="1258"/>
                </a:lnTo>
                <a:lnTo>
                  <a:pt x="99" y="1187"/>
                </a:lnTo>
                <a:lnTo>
                  <a:pt x="113" y="1116"/>
                </a:lnTo>
                <a:lnTo>
                  <a:pt x="113" y="1045"/>
                </a:lnTo>
                <a:lnTo>
                  <a:pt x="128" y="992"/>
                </a:lnTo>
                <a:lnTo>
                  <a:pt x="142" y="921"/>
                </a:lnTo>
                <a:lnTo>
                  <a:pt x="142" y="850"/>
                </a:lnTo>
                <a:lnTo>
                  <a:pt x="156" y="797"/>
                </a:lnTo>
                <a:lnTo>
                  <a:pt x="156" y="744"/>
                </a:lnTo>
                <a:lnTo>
                  <a:pt x="170" y="691"/>
                </a:lnTo>
                <a:lnTo>
                  <a:pt x="170" y="638"/>
                </a:lnTo>
                <a:lnTo>
                  <a:pt x="184" y="602"/>
                </a:lnTo>
                <a:lnTo>
                  <a:pt x="184" y="549"/>
                </a:lnTo>
                <a:lnTo>
                  <a:pt x="184" y="514"/>
                </a:lnTo>
                <a:lnTo>
                  <a:pt x="184" y="478"/>
                </a:lnTo>
                <a:lnTo>
                  <a:pt x="198" y="443"/>
                </a:lnTo>
                <a:lnTo>
                  <a:pt x="198" y="407"/>
                </a:lnTo>
                <a:lnTo>
                  <a:pt x="198" y="390"/>
                </a:lnTo>
                <a:lnTo>
                  <a:pt x="198" y="354"/>
                </a:lnTo>
                <a:lnTo>
                  <a:pt x="198" y="301"/>
                </a:lnTo>
                <a:lnTo>
                  <a:pt x="198" y="266"/>
                </a:lnTo>
                <a:lnTo>
                  <a:pt x="198" y="230"/>
                </a:lnTo>
                <a:lnTo>
                  <a:pt x="198" y="195"/>
                </a:lnTo>
                <a:lnTo>
                  <a:pt x="184" y="177"/>
                </a:lnTo>
                <a:lnTo>
                  <a:pt x="170" y="142"/>
                </a:lnTo>
                <a:lnTo>
                  <a:pt x="170" y="124"/>
                </a:lnTo>
                <a:lnTo>
                  <a:pt x="156" y="124"/>
                </a:lnTo>
                <a:lnTo>
                  <a:pt x="128" y="106"/>
                </a:lnTo>
                <a:lnTo>
                  <a:pt x="113" y="88"/>
                </a:lnTo>
                <a:lnTo>
                  <a:pt x="113" y="71"/>
                </a:lnTo>
                <a:lnTo>
                  <a:pt x="113" y="35"/>
                </a:lnTo>
                <a:lnTo>
                  <a:pt x="113" y="17"/>
                </a:lnTo>
                <a:lnTo>
                  <a:pt x="128" y="17"/>
                </a:lnTo>
                <a:lnTo>
                  <a:pt x="156" y="0"/>
                </a:lnTo>
                <a:lnTo>
                  <a:pt x="198" y="0"/>
                </a:lnTo>
                <a:lnTo>
                  <a:pt x="227" y="0"/>
                </a:lnTo>
                <a:lnTo>
                  <a:pt x="283" y="17"/>
                </a:lnTo>
                <a:lnTo>
                  <a:pt x="326" y="35"/>
                </a:lnTo>
                <a:lnTo>
                  <a:pt x="369" y="53"/>
                </a:lnTo>
                <a:lnTo>
                  <a:pt x="397" y="71"/>
                </a:lnTo>
                <a:lnTo>
                  <a:pt x="411" y="88"/>
                </a:lnTo>
                <a:lnTo>
                  <a:pt x="439" y="106"/>
                </a:lnTo>
                <a:lnTo>
                  <a:pt x="454" y="106"/>
                </a:lnTo>
                <a:lnTo>
                  <a:pt x="468" y="124"/>
                </a:lnTo>
                <a:lnTo>
                  <a:pt x="468" y="142"/>
                </a:lnTo>
                <a:lnTo>
                  <a:pt x="482" y="142"/>
                </a:lnTo>
                <a:lnTo>
                  <a:pt x="482" y="159"/>
                </a:lnTo>
                <a:lnTo>
                  <a:pt x="482" y="177"/>
                </a:lnTo>
                <a:lnTo>
                  <a:pt x="482" y="195"/>
                </a:lnTo>
                <a:lnTo>
                  <a:pt x="482" y="212"/>
                </a:lnTo>
                <a:lnTo>
                  <a:pt x="482" y="230"/>
                </a:lnTo>
                <a:lnTo>
                  <a:pt x="468" y="266"/>
                </a:lnTo>
                <a:lnTo>
                  <a:pt x="468" y="301"/>
                </a:lnTo>
                <a:lnTo>
                  <a:pt x="454" y="336"/>
                </a:lnTo>
                <a:lnTo>
                  <a:pt x="439" y="372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7"/>
          <p:cNvSpPr/>
          <p:nvPr/>
        </p:nvSpPr>
        <p:spPr>
          <a:xfrm>
            <a:off x="3349800" y="2233440"/>
            <a:ext cx="828360" cy="270000"/>
          </a:xfrm>
          <a:custGeom>
            <a:avLst/>
            <a:gdLst/>
            <a:ahLst/>
            <a:rect l="l" t="t" r="r" b="b"/>
            <a:pathLst>
              <a:path w="1304" h="425">
                <a:moveTo>
                  <a:pt x="652" y="106"/>
                </a:moveTo>
                <a:lnTo>
                  <a:pt x="766" y="88"/>
                </a:lnTo>
                <a:lnTo>
                  <a:pt x="865" y="53"/>
                </a:lnTo>
                <a:lnTo>
                  <a:pt x="950" y="35"/>
                </a:lnTo>
                <a:lnTo>
                  <a:pt x="1035" y="35"/>
                </a:lnTo>
                <a:lnTo>
                  <a:pt x="1120" y="17"/>
                </a:lnTo>
                <a:lnTo>
                  <a:pt x="1191" y="0"/>
                </a:lnTo>
                <a:lnTo>
                  <a:pt x="1248" y="0"/>
                </a:lnTo>
                <a:lnTo>
                  <a:pt x="1304" y="0"/>
                </a:lnTo>
                <a:lnTo>
                  <a:pt x="1304" y="70"/>
                </a:lnTo>
                <a:lnTo>
                  <a:pt x="1163" y="106"/>
                </a:lnTo>
                <a:lnTo>
                  <a:pt x="1021" y="141"/>
                </a:lnTo>
                <a:lnTo>
                  <a:pt x="879" y="195"/>
                </a:lnTo>
                <a:lnTo>
                  <a:pt x="723" y="230"/>
                </a:lnTo>
                <a:lnTo>
                  <a:pt x="652" y="248"/>
                </a:lnTo>
                <a:lnTo>
                  <a:pt x="581" y="283"/>
                </a:lnTo>
                <a:lnTo>
                  <a:pt x="525" y="301"/>
                </a:lnTo>
                <a:lnTo>
                  <a:pt x="468" y="319"/>
                </a:lnTo>
                <a:lnTo>
                  <a:pt x="426" y="336"/>
                </a:lnTo>
                <a:lnTo>
                  <a:pt x="383" y="354"/>
                </a:lnTo>
                <a:lnTo>
                  <a:pt x="355" y="354"/>
                </a:lnTo>
                <a:lnTo>
                  <a:pt x="341" y="372"/>
                </a:lnTo>
                <a:lnTo>
                  <a:pt x="312" y="389"/>
                </a:lnTo>
                <a:lnTo>
                  <a:pt x="270" y="407"/>
                </a:lnTo>
                <a:lnTo>
                  <a:pt x="241" y="425"/>
                </a:lnTo>
                <a:lnTo>
                  <a:pt x="213" y="425"/>
                </a:lnTo>
                <a:lnTo>
                  <a:pt x="185" y="425"/>
                </a:lnTo>
                <a:lnTo>
                  <a:pt x="170" y="407"/>
                </a:lnTo>
                <a:lnTo>
                  <a:pt x="156" y="407"/>
                </a:lnTo>
                <a:lnTo>
                  <a:pt x="142" y="389"/>
                </a:lnTo>
                <a:lnTo>
                  <a:pt x="128" y="389"/>
                </a:lnTo>
                <a:lnTo>
                  <a:pt x="100" y="372"/>
                </a:lnTo>
                <a:lnTo>
                  <a:pt x="85" y="354"/>
                </a:lnTo>
                <a:lnTo>
                  <a:pt x="71" y="336"/>
                </a:lnTo>
                <a:lnTo>
                  <a:pt x="43" y="319"/>
                </a:lnTo>
                <a:lnTo>
                  <a:pt x="29" y="301"/>
                </a:lnTo>
                <a:lnTo>
                  <a:pt x="15" y="283"/>
                </a:lnTo>
                <a:lnTo>
                  <a:pt x="15" y="265"/>
                </a:lnTo>
                <a:lnTo>
                  <a:pt x="0" y="248"/>
                </a:lnTo>
                <a:lnTo>
                  <a:pt x="0" y="230"/>
                </a:lnTo>
                <a:lnTo>
                  <a:pt x="0" y="212"/>
                </a:lnTo>
                <a:lnTo>
                  <a:pt x="15" y="212"/>
                </a:lnTo>
                <a:lnTo>
                  <a:pt x="29" y="195"/>
                </a:lnTo>
                <a:lnTo>
                  <a:pt x="43" y="195"/>
                </a:lnTo>
                <a:lnTo>
                  <a:pt x="57" y="195"/>
                </a:lnTo>
                <a:lnTo>
                  <a:pt x="71" y="195"/>
                </a:lnTo>
                <a:lnTo>
                  <a:pt x="85" y="195"/>
                </a:lnTo>
                <a:lnTo>
                  <a:pt x="114" y="195"/>
                </a:lnTo>
                <a:lnTo>
                  <a:pt x="128" y="195"/>
                </a:lnTo>
                <a:lnTo>
                  <a:pt x="142" y="212"/>
                </a:lnTo>
                <a:lnTo>
                  <a:pt x="156" y="195"/>
                </a:lnTo>
                <a:lnTo>
                  <a:pt x="185" y="195"/>
                </a:lnTo>
                <a:lnTo>
                  <a:pt x="199" y="195"/>
                </a:lnTo>
                <a:lnTo>
                  <a:pt x="227" y="195"/>
                </a:lnTo>
                <a:lnTo>
                  <a:pt x="255" y="195"/>
                </a:lnTo>
                <a:lnTo>
                  <a:pt x="298" y="177"/>
                </a:lnTo>
                <a:lnTo>
                  <a:pt x="326" y="177"/>
                </a:lnTo>
                <a:lnTo>
                  <a:pt x="369" y="177"/>
                </a:lnTo>
                <a:lnTo>
                  <a:pt x="411" y="159"/>
                </a:lnTo>
                <a:lnTo>
                  <a:pt x="454" y="159"/>
                </a:lnTo>
                <a:lnTo>
                  <a:pt x="496" y="141"/>
                </a:lnTo>
                <a:lnTo>
                  <a:pt x="539" y="124"/>
                </a:lnTo>
                <a:lnTo>
                  <a:pt x="596" y="124"/>
                </a:lnTo>
                <a:lnTo>
                  <a:pt x="652" y="106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8"/>
          <p:cNvSpPr/>
          <p:nvPr/>
        </p:nvSpPr>
        <p:spPr>
          <a:xfrm>
            <a:off x="3484440" y="2085840"/>
            <a:ext cx="784440" cy="1238400"/>
          </a:xfrm>
          <a:custGeom>
            <a:avLst/>
            <a:gdLst/>
            <a:ahLst/>
            <a:rect l="l" t="t" r="r" b="b"/>
            <a:pathLst>
              <a:path w="1233" h="1950">
                <a:moveTo>
                  <a:pt x="340" y="1631"/>
                </a:moveTo>
                <a:lnTo>
                  <a:pt x="425" y="1560"/>
                </a:lnTo>
                <a:lnTo>
                  <a:pt x="510" y="1489"/>
                </a:lnTo>
                <a:lnTo>
                  <a:pt x="581" y="1400"/>
                </a:lnTo>
                <a:lnTo>
                  <a:pt x="638" y="1329"/>
                </a:lnTo>
                <a:lnTo>
                  <a:pt x="694" y="1241"/>
                </a:lnTo>
                <a:lnTo>
                  <a:pt x="751" y="1152"/>
                </a:lnTo>
                <a:lnTo>
                  <a:pt x="794" y="1064"/>
                </a:lnTo>
                <a:lnTo>
                  <a:pt x="836" y="975"/>
                </a:lnTo>
                <a:lnTo>
                  <a:pt x="865" y="886"/>
                </a:lnTo>
                <a:lnTo>
                  <a:pt x="893" y="798"/>
                </a:lnTo>
                <a:lnTo>
                  <a:pt x="907" y="709"/>
                </a:lnTo>
                <a:lnTo>
                  <a:pt x="935" y="620"/>
                </a:lnTo>
                <a:lnTo>
                  <a:pt x="950" y="550"/>
                </a:lnTo>
                <a:lnTo>
                  <a:pt x="964" y="479"/>
                </a:lnTo>
                <a:lnTo>
                  <a:pt x="978" y="426"/>
                </a:lnTo>
                <a:lnTo>
                  <a:pt x="978" y="355"/>
                </a:lnTo>
                <a:lnTo>
                  <a:pt x="978" y="301"/>
                </a:lnTo>
                <a:lnTo>
                  <a:pt x="978" y="266"/>
                </a:lnTo>
                <a:lnTo>
                  <a:pt x="992" y="213"/>
                </a:lnTo>
                <a:lnTo>
                  <a:pt x="978" y="177"/>
                </a:lnTo>
                <a:lnTo>
                  <a:pt x="978" y="142"/>
                </a:lnTo>
                <a:lnTo>
                  <a:pt x="978" y="124"/>
                </a:lnTo>
                <a:lnTo>
                  <a:pt x="978" y="107"/>
                </a:lnTo>
                <a:lnTo>
                  <a:pt x="978" y="89"/>
                </a:lnTo>
                <a:lnTo>
                  <a:pt x="964" y="71"/>
                </a:lnTo>
                <a:lnTo>
                  <a:pt x="964" y="53"/>
                </a:lnTo>
                <a:lnTo>
                  <a:pt x="964" y="36"/>
                </a:lnTo>
                <a:lnTo>
                  <a:pt x="978" y="18"/>
                </a:lnTo>
                <a:lnTo>
                  <a:pt x="992" y="0"/>
                </a:lnTo>
                <a:lnTo>
                  <a:pt x="1020" y="0"/>
                </a:lnTo>
                <a:lnTo>
                  <a:pt x="1063" y="0"/>
                </a:lnTo>
                <a:lnTo>
                  <a:pt x="1106" y="18"/>
                </a:lnTo>
                <a:lnTo>
                  <a:pt x="1148" y="18"/>
                </a:lnTo>
                <a:lnTo>
                  <a:pt x="1176" y="36"/>
                </a:lnTo>
                <a:lnTo>
                  <a:pt x="1205" y="53"/>
                </a:lnTo>
                <a:lnTo>
                  <a:pt x="1219" y="71"/>
                </a:lnTo>
                <a:lnTo>
                  <a:pt x="1233" y="89"/>
                </a:lnTo>
                <a:lnTo>
                  <a:pt x="1233" y="107"/>
                </a:lnTo>
                <a:lnTo>
                  <a:pt x="1233" y="124"/>
                </a:lnTo>
                <a:lnTo>
                  <a:pt x="1233" y="160"/>
                </a:lnTo>
                <a:lnTo>
                  <a:pt x="1233" y="177"/>
                </a:lnTo>
                <a:lnTo>
                  <a:pt x="1219" y="213"/>
                </a:lnTo>
                <a:lnTo>
                  <a:pt x="1219" y="266"/>
                </a:lnTo>
                <a:lnTo>
                  <a:pt x="1219" y="301"/>
                </a:lnTo>
                <a:lnTo>
                  <a:pt x="1205" y="355"/>
                </a:lnTo>
                <a:lnTo>
                  <a:pt x="1191" y="426"/>
                </a:lnTo>
                <a:lnTo>
                  <a:pt x="1176" y="479"/>
                </a:lnTo>
                <a:lnTo>
                  <a:pt x="1162" y="550"/>
                </a:lnTo>
                <a:lnTo>
                  <a:pt x="1134" y="638"/>
                </a:lnTo>
                <a:lnTo>
                  <a:pt x="1120" y="727"/>
                </a:lnTo>
                <a:lnTo>
                  <a:pt x="1091" y="815"/>
                </a:lnTo>
                <a:lnTo>
                  <a:pt x="1063" y="904"/>
                </a:lnTo>
                <a:lnTo>
                  <a:pt x="1035" y="993"/>
                </a:lnTo>
                <a:lnTo>
                  <a:pt x="992" y="1081"/>
                </a:lnTo>
                <a:lnTo>
                  <a:pt x="964" y="1152"/>
                </a:lnTo>
                <a:lnTo>
                  <a:pt x="921" y="1223"/>
                </a:lnTo>
                <a:lnTo>
                  <a:pt x="879" y="1294"/>
                </a:lnTo>
                <a:lnTo>
                  <a:pt x="836" y="1365"/>
                </a:lnTo>
                <a:lnTo>
                  <a:pt x="794" y="1418"/>
                </a:lnTo>
                <a:lnTo>
                  <a:pt x="737" y="1471"/>
                </a:lnTo>
                <a:lnTo>
                  <a:pt x="694" y="1524"/>
                </a:lnTo>
                <a:lnTo>
                  <a:pt x="638" y="1577"/>
                </a:lnTo>
                <a:lnTo>
                  <a:pt x="581" y="1613"/>
                </a:lnTo>
                <a:lnTo>
                  <a:pt x="510" y="1666"/>
                </a:lnTo>
                <a:lnTo>
                  <a:pt x="454" y="1719"/>
                </a:lnTo>
                <a:lnTo>
                  <a:pt x="383" y="1755"/>
                </a:lnTo>
                <a:lnTo>
                  <a:pt x="312" y="1808"/>
                </a:lnTo>
                <a:lnTo>
                  <a:pt x="241" y="1843"/>
                </a:lnTo>
                <a:lnTo>
                  <a:pt x="170" y="1879"/>
                </a:lnTo>
                <a:lnTo>
                  <a:pt x="128" y="1914"/>
                </a:lnTo>
                <a:lnTo>
                  <a:pt x="85" y="1932"/>
                </a:lnTo>
                <a:lnTo>
                  <a:pt x="42" y="1932"/>
                </a:lnTo>
                <a:lnTo>
                  <a:pt x="14" y="1950"/>
                </a:lnTo>
                <a:lnTo>
                  <a:pt x="0" y="1950"/>
                </a:lnTo>
                <a:lnTo>
                  <a:pt x="0" y="1932"/>
                </a:lnTo>
                <a:lnTo>
                  <a:pt x="14" y="1914"/>
                </a:lnTo>
                <a:lnTo>
                  <a:pt x="14" y="1896"/>
                </a:lnTo>
                <a:lnTo>
                  <a:pt x="28" y="1879"/>
                </a:lnTo>
                <a:lnTo>
                  <a:pt x="57" y="1879"/>
                </a:lnTo>
                <a:lnTo>
                  <a:pt x="71" y="1843"/>
                </a:lnTo>
                <a:lnTo>
                  <a:pt x="99" y="1826"/>
                </a:lnTo>
                <a:lnTo>
                  <a:pt x="128" y="1808"/>
                </a:lnTo>
                <a:lnTo>
                  <a:pt x="156" y="1790"/>
                </a:lnTo>
                <a:lnTo>
                  <a:pt x="184" y="1755"/>
                </a:lnTo>
                <a:lnTo>
                  <a:pt x="213" y="1737"/>
                </a:lnTo>
                <a:lnTo>
                  <a:pt x="255" y="1702"/>
                </a:lnTo>
                <a:lnTo>
                  <a:pt x="298" y="1666"/>
                </a:lnTo>
                <a:lnTo>
                  <a:pt x="340" y="1631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4241880" y="2536920"/>
            <a:ext cx="539640" cy="979560"/>
          </a:xfrm>
          <a:custGeom>
            <a:avLst/>
            <a:gdLst/>
            <a:ahLst/>
            <a:rect l="l" t="t" r="r" b="b"/>
            <a:pathLst>
              <a:path w="850" h="1542">
                <a:moveTo>
                  <a:pt x="722" y="18"/>
                </a:moveTo>
                <a:lnTo>
                  <a:pt x="751" y="18"/>
                </a:lnTo>
                <a:lnTo>
                  <a:pt x="779" y="36"/>
                </a:lnTo>
                <a:lnTo>
                  <a:pt x="808" y="53"/>
                </a:lnTo>
                <a:lnTo>
                  <a:pt x="822" y="53"/>
                </a:lnTo>
                <a:lnTo>
                  <a:pt x="836" y="71"/>
                </a:lnTo>
                <a:lnTo>
                  <a:pt x="836" y="89"/>
                </a:lnTo>
                <a:lnTo>
                  <a:pt x="850" y="89"/>
                </a:lnTo>
                <a:lnTo>
                  <a:pt x="850" y="106"/>
                </a:lnTo>
                <a:lnTo>
                  <a:pt x="850" y="142"/>
                </a:lnTo>
                <a:lnTo>
                  <a:pt x="850" y="160"/>
                </a:lnTo>
                <a:lnTo>
                  <a:pt x="836" y="195"/>
                </a:lnTo>
                <a:lnTo>
                  <a:pt x="836" y="230"/>
                </a:lnTo>
                <a:lnTo>
                  <a:pt x="822" y="284"/>
                </a:lnTo>
                <a:lnTo>
                  <a:pt x="822" y="355"/>
                </a:lnTo>
                <a:lnTo>
                  <a:pt x="808" y="408"/>
                </a:lnTo>
                <a:lnTo>
                  <a:pt x="793" y="496"/>
                </a:lnTo>
                <a:lnTo>
                  <a:pt x="765" y="567"/>
                </a:lnTo>
                <a:lnTo>
                  <a:pt x="751" y="638"/>
                </a:lnTo>
                <a:lnTo>
                  <a:pt x="737" y="709"/>
                </a:lnTo>
                <a:lnTo>
                  <a:pt x="708" y="780"/>
                </a:lnTo>
                <a:lnTo>
                  <a:pt x="680" y="833"/>
                </a:lnTo>
                <a:lnTo>
                  <a:pt x="652" y="904"/>
                </a:lnTo>
                <a:lnTo>
                  <a:pt x="623" y="957"/>
                </a:lnTo>
                <a:lnTo>
                  <a:pt x="581" y="1010"/>
                </a:lnTo>
                <a:lnTo>
                  <a:pt x="510" y="1117"/>
                </a:lnTo>
                <a:lnTo>
                  <a:pt x="425" y="1205"/>
                </a:lnTo>
                <a:lnTo>
                  <a:pt x="340" y="1312"/>
                </a:lnTo>
                <a:lnTo>
                  <a:pt x="241" y="1400"/>
                </a:lnTo>
                <a:lnTo>
                  <a:pt x="184" y="1436"/>
                </a:lnTo>
                <a:lnTo>
                  <a:pt x="141" y="1471"/>
                </a:lnTo>
                <a:lnTo>
                  <a:pt x="99" y="1489"/>
                </a:lnTo>
                <a:lnTo>
                  <a:pt x="70" y="1524"/>
                </a:lnTo>
                <a:lnTo>
                  <a:pt x="42" y="1542"/>
                </a:lnTo>
                <a:lnTo>
                  <a:pt x="28" y="1542"/>
                </a:lnTo>
                <a:lnTo>
                  <a:pt x="14" y="1542"/>
                </a:lnTo>
                <a:lnTo>
                  <a:pt x="0" y="1542"/>
                </a:lnTo>
                <a:lnTo>
                  <a:pt x="14" y="1524"/>
                </a:lnTo>
                <a:lnTo>
                  <a:pt x="14" y="1506"/>
                </a:lnTo>
                <a:lnTo>
                  <a:pt x="28" y="1489"/>
                </a:lnTo>
                <a:lnTo>
                  <a:pt x="56" y="1453"/>
                </a:lnTo>
                <a:lnTo>
                  <a:pt x="85" y="1418"/>
                </a:lnTo>
                <a:lnTo>
                  <a:pt x="113" y="1382"/>
                </a:lnTo>
                <a:lnTo>
                  <a:pt x="155" y="1347"/>
                </a:lnTo>
                <a:lnTo>
                  <a:pt x="241" y="1241"/>
                </a:lnTo>
                <a:lnTo>
                  <a:pt x="311" y="1134"/>
                </a:lnTo>
                <a:lnTo>
                  <a:pt x="382" y="1028"/>
                </a:lnTo>
                <a:lnTo>
                  <a:pt x="439" y="904"/>
                </a:lnTo>
                <a:lnTo>
                  <a:pt x="467" y="833"/>
                </a:lnTo>
                <a:lnTo>
                  <a:pt x="496" y="780"/>
                </a:lnTo>
                <a:lnTo>
                  <a:pt x="524" y="709"/>
                </a:lnTo>
                <a:lnTo>
                  <a:pt x="538" y="656"/>
                </a:lnTo>
                <a:lnTo>
                  <a:pt x="567" y="585"/>
                </a:lnTo>
                <a:lnTo>
                  <a:pt x="581" y="532"/>
                </a:lnTo>
                <a:lnTo>
                  <a:pt x="581" y="461"/>
                </a:lnTo>
                <a:lnTo>
                  <a:pt x="595" y="390"/>
                </a:lnTo>
                <a:lnTo>
                  <a:pt x="595" y="337"/>
                </a:lnTo>
                <a:lnTo>
                  <a:pt x="595" y="266"/>
                </a:lnTo>
                <a:lnTo>
                  <a:pt x="595" y="230"/>
                </a:lnTo>
                <a:lnTo>
                  <a:pt x="595" y="177"/>
                </a:lnTo>
                <a:lnTo>
                  <a:pt x="595" y="142"/>
                </a:lnTo>
                <a:lnTo>
                  <a:pt x="581" y="124"/>
                </a:lnTo>
                <a:lnTo>
                  <a:pt x="581" y="106"/>
                </a:lnTo>
                <a:lnTo>
                  <a:pt x="567" y="89"/>
                </a:lnTo>
                <a:lnTo>
                  <a:pt x="552" y="89"/>
                </a:lnTo>
                <a:lnTo>
                  <a:pt x="552" y="71"/>
                </a:lnTo>
                <a:lnTo>
                  <a:pt x="552" y="53"/>
                </a:lnTo>
                <a:lnTo>
                  <a:pt x="538" y="53"/>
                </a:lnTo>
                <a:lnTo>
                  <a:pt x="538" y="36"/>
                </a:lnTo>
                <a:lnTo>
                  <a:pt x="552" y="36"/>
                </a:lnTo>
                <a:lnTo>
                  <a:pt x="552" y="18"/>
                </a:lnTo>
                <a:lnTo>
                  <a:pt x="567" y="18"/>
                </a:lnTo>
                <a:lnTo>
                  <a:pt x="567" y="0"/>
                </a:lnTo>
                <a:lnTo>
                  <a:pt x="581" y="0"/>
                </a:lnTo>
                <a:lnTo>
                  <a:pt x="609" y="0"/>
                </a:lnTo>
                <a:lnTo>
                  <a:pt x="623" y="0"/>
                </a:lnTo>
                <a:lnTo>
                  <a:pt x="652" y="0"/>
                </a:lnTo>
                <a:lnTo>
                  <a:pt x="666" y="0"/>
                </a:lnTo>
                <a:lnTo>
                  <a:pt x="694" y="0"/>
                </a:lnTo>
                <a:lnTo>
                  <a:pt x="722" y="18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10"/>
          <p:cNvSpPr/>
          <p:nvPr/>
        </p:nvSpPr>
        <p:spPr>
          <a:xfrm>
            <a:off x="4960800" y="2435400"/>
            <a:ext cx="198720" cy="1271520"/>
          </a:xfrm>
          <a:custGeom>
            <a:avLst/>
            <a:gdLst/>
            <a:ahLst/>
            <a:rect l="l" t="t" r="r" b="b"/>
            <a:pathLst>
              <a:path w="311" h="2002">
                <a:moveTo>
                  <a:pt x="14" y="53"/>
                </a:moveTo>
                <a:lnTo>
                  <a:pt x="28" y="35"/>
                </a:lnTo>
                <a:lnTo>
                  <a:pt x="56" y="17"/>
                </a:lnTo>
                <a:lnTo>
                  <a:pt x="85" y="17"/>
                </a:lnTo>
                <a:lnTo>
                  <a:pt x="113" y="0"/>
                </a:lnTo>
                <a:lnTo>
                  <a:pt x="155" y="17"/>
                </a:lnTo>
                <a:lnTo>
                  <a:pt x="184" y="17"/>
                </a:lnTo>
                <a:lnTo>
                  <a:pt x="212" y="35"/>
                </a:lnTo>
                <a:lnTo>
                  <a:pt x="255" y="53"/>
                </a:lnTo>
                <a:lnTo>
                  <a:pt x="283" y="70"/>
                </a:lnTo>
                <a:lnTo>
                  <a:pt x="297" y="88"/>
                </a:lnTo>
                <a:lnTo>
                  <a:pt x="311" y="124"/>
                </a:lnTo>
                <a:lnTo>
                  <a:pt x="311" y="141"/>
                </a:lnTo>
                <a:lnTo>
                  <a:pt x="311" y="159"/>
                </a:lnTo>
                <a:lnTo>
                  <a:pt x="311" y="177"/>
                </a:lnTo>
                <a:lnTo>
                  <a:pt x="311" y="195"/>
                </a:lnTo>
                <a:lnTo>
                  <a:pt x="311" y="212"/>
                </a:lnTo>
                <a:lnTo>
                  <a:pt x="311" y="248"/>
                </a:lnTo>
                <a:lnTo>
                  <a:pt x="311" y="265"/>
                </a:lnTo>
                <a:lnTo>
                  <a:pt x="311" y="301"/>
                </a:lnTo>
                <a:lnTo>
                  <a:pt x="311" y="354"/>
                </a:lnTo>
                <a:lnTo>
                  <a:pt x="311" y="389"/>
                </a:lnTo>
                <a:lnTo>
                  <a:pt x="311" y="443"/>
                </a:lnTo>
                <a:lnTo>
                  <a:pt x="311" y="496"/>
                </a:lnTo>
                <a:lnTo>
                  <a:pt x="311" y="549"/>
                </a:lnTo>
                <a:lnTo>
                  <a:pt x="311" y="602"/>
                </a:lnTo>
                <a:lnTo>
                  <a:pt x="311" y="673"/>
                </a:lnTo>
                <a:lnTo>
                  <a:pt x="311" y="744"/>
                </a:lnTo>
                <a:lnTo>
                  <a:pt x="311" y="815"/>
                </a:lnTo>
                <a:lnTo>
                  <a:pt x="311" y="886"/>
                </a:lnTo>
                <a:lnTo>
                  <a:pt x="311" y="974"/>
                </a:lnTo>
                <a:lnTo>
                  <a:pt x="311" y="1027"/>
                </a:lnTo>
                <a:lnTo>
                  <a:pt x="311" y="1098"/>
                </a:lnTo>
                <a:lnTo>
                  <a:pt x="311" y="1169"/>
                </a:lnTo>
                <a:lnTo>
                  <a:pt x="297" y="1222"/>
                </a:lnTo>
                <a:lnTo>
                  <a:pt x="297" y="1293"/>
                </a:lnTo>
                <a:lnTo>
                  <a:pt x="297" y="1346"/>
                </a:lnTo>
                <a:lnTo>
                  <a:pt x="297" y="1400"/>
                </a:lnTo>
                <a:lnTo>
                  <a:pt x="297" y="1453"/>
                </a:lnTo>
                <a:lnTo>
                  <a:pt x="283" y="1506"/>
                </a:lnTo>
                <a:lnTo>
                  <a:pt x="283" y="1559"/>
                </a:lnTo>
                <a:lnTo>
                  <a:pt x="283" y="1595"/>
                </a:lnTo>
                <a:lnTo>
                  <a:pt x="269" y="1648"/>
                </a:lnTo>
                <a:lnTo>
                  <a:pt x="269" y="1683"/>
                </a:lnTo>
                <a:lnTo>
                  <a:pt x="269" y="1719"/>
                </a:lnTo>
                <a:lnTo>
                  <a:pt x="255" y="1790"/>
                </a:lnTo>
                <a:lnTo>
                  <a:pt x="240" y="1843"/>
                </a:lnTo>
                <a:lnTo>
                  <a:pt x="226" y="1896"/>
                </a:lnTo>
                <a:lnTo>
                  <a:pt x="226" y="1931"/>
                </a:lnTo>
                <a:lnTo>
                  <a:pt x="212" y="1967"/>
                </a:lnTo>
                <a:lnTo>
                  <a:pt x="198" y="1984"/>
                </a:lnTo>
                <a:lnTo>
                  <a:pt x="198" y="2002"/>
                </a:lnTo>
                <a:lnTo>
                  <a:pt x="184" y="2002"/>
                </a:lnTo>
                <a:lnTo>
                  <a:pt x="184" y="1984"/>
                </a:lnTo>
                <a:lnTo>
                  <a:pt x="170" y="1984"/>
                </a:lnTo>
                <a:lnTo>
                  <a:pt x="170" y="1949"/>
                </a:lnTo>
                <a:lnTo>
                  <a:pt x="155" y="1931"/>
                </a:lnTo>
                <a:lnTo>
                  <a:pt x="155" y="1896"/>
                </a:lnTo>
                <a:lnTo>
                  <a:pt x="141" y="1843"/>
                </a:lnTo>
                <a:lnTo>
                  <a:pt x="141" y="1790"/>
                </a:lnTo>
                <a:lnTo>
                  <a:pt x="127" y="1736"/>
                </a:lnTo>
                <a:lnTo>
                  <a:pt x="127" y="1701"/>
                </a:lnTo>
                <a:lnTo>
                  <a:pt x="127" y="1665"/>
                </a:lnTo>
                <a:lnTo>
                  <a:pt x="127" y="1612"/>
                </a:lnTo>
                <a:lnTo>
                  <a:pt x="127" y="1577"/>
                </a:lnTo>
                <a:lnTo>
                  <a:pt x="113" y="1524"/>
                </a:lnTo>
                <a:lnTo>
                  <a:pt x="113" y="1488"/>
                </a:lnTo>
                <a:lnTo>
                  <a:pt x="113" y="1435"/>
                </a:lnTo>
                <a:lnTo>
                  <a:pt x="113" y="1382"/>
                </a:lnTo>
                <a:lnTo>
                  <a:pt x="113" y="1311"/>
                </a:lnTo>
                <a:lnTo>
                  <a:pt x="113" y="1258"/>
                </a:lnTo>
                <a:lnTo>
                  <a:pt x="113" y="1187"/>
                </a:lnTo>
                <a:lnTo>
                  <a:pt x="99" y="1134"/>
                </a:lnTo>
                <a:lnTo>
                  <a:pt x="99" y="1063"/>
                </a:lnTo>
                <a:lnTo>
                  <a:pt x="99" y="974"/>
                </a:lnTo>
                <a:lnTo>
                  <a:pt x="99" y="903"/>
                </a:lnTo>
                <a:lnTo>
                  <a:pt x="99" y="833"/>
                </a:lnTo>
                <a:lnTo>
                  <a:pt x="99" y="744"/>
                </a:lnTo>
                <a:lnTo>
                  <a:pt x="99" y="673"/>
                </a:lnTo>
                <a:lnTo>
                  <a:pt x="99" y="602"/>
                </a:lnTo>
                <a:lnTo>
                  <a:pt x="85" y="531"/>
                </a:lnTo>
                <a:lnTo>
                  <a:pt x="85" y="478"/>
                </a:lnTo>
                <a:lnTo>
                  <a:pt x="85" y="425"/>
                </a:lnTo>
                <a:lnTo>
                  <a:pt x="85" y="372"/>
                </a:lnTo>
                <a:lnTo>
                  <a:pt x="85" y="336"/>
                </a:lnTo>
                <a:lnTo>
                  <a:pt x="70" y="283"/>
                </a:lnTo>
                <a:lnTo>
                  <a:pt x="70" y="248"/>
                </a:lnTo>
                <a:lnTo>
                  <a:pt x="70" y="212"/>
                </a:lnTo>
                <a:lnTo>
                  <a:pt x="56" y="195"/>
                </a:lnTo>
                <a:lnTo>
                  <a:pt x="56" y="177"/>
                </a:lnTo>
                <a:lnTo>
                  <a:pt x="56" y="159"/>
                </a:lnTo>
                <a:lnTo>
                  <a:pt x="42" y="141"/>
                </a:lnTo>
                <a:lnTo>
                  <a:pt x="42" y="124"/>
                </a:lnTo>
                <a:lnTo>
                  <a:pt x="28" y="124"/>
                </a:lnTo>
                <a:lnTo>
                  <a:pt x="14" y="106"/>
                </a:lnTo>
                <a:lnTo>
                  <a:pt x="0" y="88"/>
                </a:lnTo>
                <a:lnTo>
                  <a:pt x="0" y="70"/>
                </a:lnTo>
                <a:lnTo>
                  <a:pt x="14" y="5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11"/>
          <p:cNvSpPr/>
          <p:nvPr/>
        </p:nvSpPr>
        <p:spPr>
          <a:xfrm>
            <a:off x="4492800" y="1433520"/>
            <a:ext cx="784080" cy="338040"/>
          </a:xfrm>
          <a:custGeom>
            <a:avLst/>
            <a:gdLst/>
            <a:ahLst/>
            <a:rect l="l" t="t" r="r" b="b"/>
            <a:pathLst>
              <a:path w="1234" h="532">
                <a:moveTo>
                  <a:pt x="865" y="390"/>
                </a:moveTo>
                <a:lnTo>
                  <a:pt x="766" y="408"/>
                </a:lnTo>
                <a:lnTo>
                  <a:pt x="695" y="443"/>
                </a:lnTo>
                <a:lnTo>
                  <a:pt x="610" y="461"/>
                </a:lnTo>
                <a:lnTo>
                  <a:pt x="525" y="479"/>
                </a:lnTo>
                <a:lnTo>
                  <a:pt x="454" y="497"/>
                </a:lnTo>
                <a:lnTo>
                  <a:pt x="383" y="497"/>
                </a:lnTo>
                <a:lnTo>
                  <a:pt x="312" y="514"/>
                </a:lnTo>
                <a:lnTo>
                  <a:pt x="256" y="532"/>
                </a:lnTo>
                <a:lnTo>
                  <a:pt x="199" y="532"/>
                </a:lnTo>
                <a:lnTo>
                  <a:pt x="142" y="532"/>
                </a:lnTo>
                <a:lnTo>
                  <a:pt x="100" y="532"/>
                </a:lnTo>
                <a:lnTo>
                  <a:pt x="57" y="532"/>
                </a:lnTo>
                <a:lnTo>
                  <a:pt x="29" y="532"/>
                </a:lnTo>
                <a:lnTo>
                  <a:pt x="15" y="532"/>
                </a:lnTo>
                <a:lnTo>
                  <a:pt x="0" y="532"/>
                </a:lnTo>
                <a:lnTo>
                  <a:pt x="0" y="514"/>
                </a:lnTo>
                <a:lnTo>
                  <a:pt x="0" y="497"/>
                </a:lnTo>
                <a:lnTo>
                  <a:pt x="15" y="497"/>
                </a:lnTo>
                <a:lnTo>
                  <a:pt x="29" y="479"/>
                </a:lnTo>
                <a:lnTo>
                  <a:pt x="57" y="479"/>
                </a:lnTo>
                <a:lnTo>
                  <a:pt x="71" y="461"/>
                </a:lnTo>
                <a:lnTo>
                  <a:pt x="100" y="443"/>
                </a:lnTo>
                <a:lnTo>
                  <a:pt x="114" y="443"/>
                </a:lnTo>
                <a:lnTo>
                  <a:pt x="142" y="426"/>
                </a:lnTo>
                <a:lnTo>
                  <a:pt x="171" y="426"/>
                </a:lnTo>
                <a:lnTo>
                  <a:pt x="213" y="408"/>
                </a:lnTo>
                <a:lnTo>
                  <a:pt x="241" y="390"/>
                </a:lnTo>
                <a:lnTo>
                  <a:pt x="284" y="390"/>
                </a:lnTo>
                <a:lnTo>
                  <a:pt x="326" y="372"/>
                </a:lnTo>
                <a:lnTo>
                  <a:pt x="397" y="355"/>
                </a:lnTo>
                <a:lnTo>
                  <a:pt x="468" y="319"/>
                </a:lnTo>
                <a:lnTo>
                  <a:pt x="539" y="302"/>
                </a:lnTo>
                <a:lnTo>
                  <a:pt x="596" y="284"/>
                </a:lnTo>
                <a:lnTo>
                  <a:pt x="652" y="248"/>
                </a:lnTo>
                <a:lnTo>
                  <a:pt x="695" y="231"/>
                </a:lnTo>
                <a:lnTo>
                  <a:pt x="738" y="213"/>
                </a:lnTo>
                <a:lnTo>
                  <a:pt x="766" y="195"/>
                </a:lnTo>
                <a:lnTo>
                  <a:pt x="780" y="178"/>
                </a:lnTo>
                <a:lnTo>
                  <a:pt x="808" y="160"/>
                </a:lnTo>
                <a:lnTo>
                  <a:pt x="823" y="142"/>
                </a:lnTo>
                <a:lnTo>
                  <a:pt x="837" y="124"/>
                </a:lnTo>
                <a:lnTo>
                  <a:pt x="837" y="107"/>
                </a:lnTo>
                <a:lnTo>
                  <a:pt x="851" y="89"/>
                </a:lnTo>
                <a:lnTo>
                  <a:pt x="851" y="71"/>
                </a:lnTo>
                <a:lnTo>
                  <a:pt x="837" y="53"/>
                </a:lnTo>
                <a:lnTo>
                  <a:pt x="837" y="36"/>
                </a:lnTo>
                <a:lnTo>
                  <a:pt x="851" y="36"/>
                </a:lnTo>
                <a:lnTo>
                  <a:pt x="851" y="18"/>
                </a:lnTo>
                <a:lnTo>
                  <a:pt x="865" y="18"/>
                </a:lnTo>
                <a:lnTo>
                  <a:pt x="879" y="18"/>
                </a:lnTo>
                <a:lnTo>
                  <a:pt x="893" y="0"/>
                </a:lnTo>
                <a:lnTo>
                  <a:pt x="908" y="18"/>
                </a:lnTo>
                <a:lnTo>
                  <a:pt x="922" y="18"/>
                </a:lnTo>
                <a:lnTo>
                  <a:pt x="950" y="18"/>
                </a:lnTo>
                <a:lnTo>
                  <a:pt x="978" y="36"/>
                </a:lnTo>
                <a:lnTo>
                  <a:pt x="1007" y="36"/>
                </a:lnTo>
                <a:lnTo>
                  <a:pt x="1035" y="53"/>
                </a:lnTo>
                <a:lnTo>
                  <a:pt x="1064" y="71"/>
                </a:lnTo>
                <a:lnTo>
                  <a:pt x="1106" y="89"/>
                </a:lnTo>
                <a:lnTo>
                  <a:pt x="1134" y="124"/>
                </a:lnTo>
                <a:lnTo>
                  <a:pt x="1163" y="142"/>
                </a:lnTo>
                <a:lnTo>
                  <a:pt x="1191" y="160"/>
                </a:lnTo>
                <a:lnTo>
                  <a:pt x="1205" y="178"/>
                </a:lnTo>
                <a:lnTo>
                  <a:pt x="1219" y="195"/>
                </a:lnTo>
                <a:lnTo>
                  <a:pt x="1234" y="213"/>
                </a:lnTo>
                <a:lnTo>
                  <a:pt x="1234" y="231"/>
                </a:lnTo>
                <a:lnTo>
                  <a:pt x="1234" y="248"/>
                </a:lnTo>
                <a:lnTo>
                  <a:pt x="1219" y="248"/>
                </a:lnTo>
                <a:lnTo>
                  <a:pt x="1205" y="266"/>
                </a:lnTo>
                <a:lnTo>
                  <a:pt x="1191" y="266"/>
                </a:lnTo>
                <a:lnTo>
                  <a:pt x="1177" y="284"/>
                </a:lnTo>
                <a:lnTo>
                  <a:pt x="1163" y="284"/>
                </a:lnTo>
                <a:lnTo>
                  <a:pt x="1134" y="302"/>
                </a:lnTo>
                <a:lnTo>
                  <a:pt x="1106" y="319"/>
                </a:lnTo>
                <a:lnTo>
                  <a:pt x="1078" y="319"/>
                </a:lnTo>
                <a:lnTo>
                  <a:pt x="1049" y="337"/>
                </a:lnTo>
                <a:lnTo>
                  <a:pt x="1021" y="337"/>
                </a:lnTo>
                <a:lnTo>
                  <a:pt x="978" y="355"/>
                </a:lnTo>
                <a:lnTo>
                  <a:pt x="950" y="372"/>
                </a:lnTo>
                <a:lnTo>
                  <a:pt x="908" y="372"/>
                </a:lnTo>
                <a:lnTo>
                  <a:pt x="865" y="390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12"/>
          <p:cNvSpPr/>
          <p:nvPr/>
        </p:nvSpPr>
        <p:spPr>
          <a:xfrm>
            <a:off x="4330800" y="1906560"/>
            <a:ext cx="1152360" cy="247680"/>
          </a:xfrm>
          <a:custGeom>
            <a:avLst/>
            <a:gdLst/>
            <a:ahLst/>
            <a:rect l="l" t="t" r="r" b="b"/>
            <a:pathLst>
              <a:path w="1815" h="390">
                <a:moveTo>
                  <a:pt x="511" y="319"/>
                </a:moveTo>
                <a:lnTo>
                  <a:pt x="440" y="336"/>
                </a:lnTo>
                <a:lnTo>
                  <a:pt x="369" y="354"/>
                </a:lnTo>
                <a:lnTo>
                  <a:pt x="326" y="372"/>
                </a:lnTo>
                <a:lnTo>
                  <a:pt x="270" y="372"/>
                </a:lnTo>
                <a:lnTo>
                  <a:pt x="241" y="372"/>
                </a:lnTo>
                <a:lnTo>
                  <a:pt x="213" y="390"/>
                </a:lnTo>
                <a:lnTo>
                  <a:pt x="185" y="390"/>
                </a:lnTo>
                <a:lnTo>
                  <a:pt x="170" y="390"/>
                </a:lnTo>
                <a:lnTo>
                  <a:pt x="156" y="390"/>
                </a:lnTo>
                <a:lnTo>
                  <a:pt x="142" y="372"/>
                </a:lnTo>
                <a:lnTo>
                  <a:pt x="114" y="372"/>
                </a:lnTo>
                <a:lnTo>
                  <a:pt x="71" y="354"/>
                </a:lnTo>
                <a:lnTo>
                  <a:pt x="43" y="336"/>
                </a:lnTo>
                <a:lnTo>
                  <a:pt x="29" y="319"/>
                </a:lnTo>
                <a:lnTo>
                  <a:pt x="14" y="283"/>
                </a:lnTo>
                <a:lnTo>
                  <a:pt x="0" y="265"/>
                </a:lnTo>
                <a:lnTo>
                  <a:pt x="14" y="265"/>
                </a:lnTo>
                <a:lnTo>
                  <a:pt x="14" y="248"/>
                </a:lnTo>
                <a:lnTo>
                  <a:pt x="29" y="248"/>
                </a:lnTo>
                <a:lnTo>
                  <a:pt x="43" y="248"/>
                </a:lnTo>
                <a:lnTo>
                  <a:pt x="57" y="230"/>
                </a:lnTo>
                <a:lnTo>
                  <a:pt x="71" y="230"/>
                </a:lnTo>
                <a:lnTo>
                  <a:pt x="100" y="230"/>
                </a:lnTo>
                <a:lnTo>
                  <a:pt x="128" y="230"/>
                </a:lnTo>
                <a:lnTo>
                  <a:pt x="199" y="230"/>
                </a:lnTo>
                <a:lnTo>
                  <a:pt x="270" y="230"/>
                </a:lnTo>
                <a:lnTo>
                  <a:pt x="340" y="212"/>
                </a:lnTo>
                <a:lnTo>
                  <a:pt x="426" y="195"/>
                </a:lnTo>
                <a:lnTo>
                  <a:pt x="468" y="195"/>
                </a:lnTo>
                <a:lnTo>
                  <a:pt x="511" y="177"/>
                </a:lnTo>
                <a:lnTo>
                  <a:pt x="567" y="177"/>
                </a:lnTo>
                <a:lnTo>
                  <a:pt x="638" y="159"/>
                </a:lnTo>
                <a:lnTo>
                  <a:pt x="709" y="141"/>
                </a:lnTo>
                <a:lnTo>
                  <a:pt x="780" y="124"/>
                </a:lnTo>
                <a:lnTo>
                  <a:pt x="865" y="106"/>
                </a:lnTo>
                <a:lnTo>
                  <a:pt x="964" y="88"/>
                </a:lnTo>
                <a:lnTo>
                  <a:pt x="1049" y="71"/>
                </a:lnTo>
                <a:lnTo>
                  <a:pt x="1134" y="53"/>
                </a:lnTo>
                <a:lnTo>
                  <a:pt x="1205" y="35"/>
                </a:lnTo>
                <a:lnTo>
                  <a:pt x="1276" y="35"/>
                </a:lnTo>
                <a:lnTo>
                  <a:pt x="1333" y="17"/>
                </a:lnTo>
                <a:lnTo>
                  <a:pt x="1389" y="17"/>
                </a:lnTo>
                <a:lnTo>
                  <a:pt x="1432" y="0"/>
                </a:lnTo>
                <a:lnTo>
                  <a:pt x="1474" y="0"/>
                </a:lnTo>
                <a:lnTo>
                  <a:pt x="1503" y="0"/>
                </a:lnTo>
                <a:lnTo>
                  <a:pt x="1545" y="0"/>
                </a:lnTo>
                <a:lnTo>
                  <a:pt x="1574" y="17"/>
                </a:lnTo>
                <a:lnTo>
                  <a:pt x="1602" y="17"/>
                </a:lnTo>
                <a:lnTo>
                  <a:pt x="1645" y="17"/>
                </a:lnTo>
                <a:lnTo>
                  <a:pt x="1673" y="35"/>
                </a:lnTo>
                <a:lnTo>
                  <a:pt x="1701" y="53"/>
                </a:lnTo>
                <a:lnTo>
                  <a:pt x="1730" y="71"/>
                </a:lnTo>
                <a:lnTo>
                  <a:pt x="1758" y="88"/>
                </a:lnTo>
                <a:lnTo>
                  <a:pt x="1772" y="106"/>
                </a:lnTo>
                <a:lnTo>
                  <a:pt x="1786" y="106"/>
                </a:lnTo>
                <a:lnTo>
                  <a:pt x="1800" y="124"/>
                </a:lnTo>
                <a:lnTo>
                  <a:pt x="1815" y="141"/>
                </a:lnTo>
                <a:lnTo>
                  <a:pt x="1815" y="159"/>
                </a:lnTo>
                <a:lnTo>
                  <a:pt x="1800" y="177"/>
                </a:lnTo>
                <a:lnTo>
                  <a:pt x="1786" y="177"/>
                </a:lnTo>
                <a:lnTo>
                  <a:pt x="1772" y="177"/>
                </a:lnTo>
                <a:lnTo>
                  <a:pt x="1758" y="177"/>
                </a:lnTo>
                <a:lnTo>
                  <a:pt x="1730" y="177"/>
                </a:lnTo>
                <a:lnTo>
                  <a:pt x="1715" y="177"/>
                </a:lnTo>
                <a:lnTo>
                  <a:pt x="1673" y="177"/>
                </a:lnTo>
                <a:lnTo>
                  <a:pt x="1645" y="177"/>
                </a:lnTo>
                <a:lnTo>
                  <a:pt x="1602" y="177"/>
                </a:lnTo>
                <a:lnTo>
                  <a:pt x="1545" y="195"/>
                </a:lnTo>
                <a:lnTo>
                  <a:pt x="1489" y="195"/>
                </a:lnTo>
                <a:lnTo>
                  <a:pt x="1432" y="195"/>
                </a:lnTo>
                <a:lnTo>
                  <a:pt x="1347" y="212"/>
                </a:lnTo>
                <a:lnTo>
                  <a:pt x="1276" y="212"/>
                </a:lnTo>
                <a:lnTo>
                  <a:pt x="1177" y="230"/>
                </a:lnTo>
                <a:lnTo>
                  <a:pt x="1092" y="230"/>
                </a:lnTo>
                <a:lnTo>
                  <a:pt x="993" y="248"/>
                </a:lnTo>
                <a:lnTo>
                  <a:pt x="907" y="248"/>
                </a:lnTo>
                <a:lnTo>
                  <a:pt x="822" y="265"/>
                </a:lnTo>
                <a:lnTo>
                  <a:pt x="737" y="283"/>
                </a:lnTo>
                <a:lnTo>
                  <a:pt x="667" y="301"/>
                </a:lnTo>
                <a:lnTo>
                  <a:pt x="581" y="319"/>
                </a:lnTo>
                <a:lnTo>
                  <a:pt x="511" y="319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13"/>
          <p:cNvSpPr/>
          <p:nvPr/>
        </p:nvSpPr>
        <p:spPr>
          <a:xfrm>
            <a:off x="4232160" y="1703520"/>
            <a:ext cx="674640" cy="1035000"/>
          </a:xfrm>
          <a:custGeom>
            <a:avLst/>
            <a:gdLst/>
            <a:ahLst/>
            <a:rect l="l" t="t" r="r" b="b"/>
            <a:pathLst>
              <a:path w="1063" h="1630">
                <a:moveTo>
                  <a:pt x="298" y="1453"/>
                </a:moveTo>
                <a:lnTo>
                  <a:pt x="227" y="1488"/>
                </a:lnTo>
                <a:lnTo>
                  <a:pt x="170" y="1541"/>
                </a:lnTo>
                <a:lnTo>
                  <a:pt x="114" y="1577"/>
                </a:lnTo>
                <a:lnTo>
                  <a:pt x="71" y="1595"/>
                </a:lnTo>
                <a:lnTo>
                  <a:pt x="43" y="1612"/>
                </a:lnTo>
                <a:lnTo>
                  <a:pt x="15" y="1630"/>
                </a:lnTo>
                <a:lnTo>
                  <a:pt x="0" y="1630"/>
                </a:lnTo>
                <a:lnTo>
                  <a:pt x="0" y="1612"/>
                </a:lnTo>
                <a:lnTo>
                  <a:pt x="15" y="1577"/>
                </a:lnTo>
                <a:lnTo>
                  <a:pt x="29" y="1559"/>
                </a:lnTo>
                <a:lnTo>
                  <a:pt x="57" y="1524"/>
                </a:lnTo>
                <a:lnTo>
                  <a:pt x="100" y="1488"/>
                </a:lnTo>
                <a:lnTo>
                  <a:pt x="142" y="1435"/>
                </a:lnTo>
                <a:lnTo>
                  <a:pt x="185" y="1382"/>
                </a:lnTo>
                <a:lnTo>
                  <a:pt x="256" y="1329"/>
                </a:lnTo>
                <a:lnTo>
                  <a:pt x="312" y="1276"/>
                </a:lnTo>
                <a:lnTo>
                  <a:pt x="369" y="1205"/>
                </a:lnTo>
                <a:lnTo>
                  <a:pt x="426" y="1134"/>
                </a:lnTo>
                <a:lnTo>
                  <a:pt x="482" y="1063"/>
                </a:lnTo>
                <a:lnTo>
                  <a:pt x="525" y="992"/>
                </a:lnTo>
                <a:lnTo>
                  <a:pt x="567" y="903"/>
                </a:lnTo>
                <a:lnTo>
                  <a:pt x="610" y="833"/>
                </a:lnTo>
                <a:lnTo>
                  <a:pt x="652" y="744"/>
                </a:lnTo>
                <a:lnTo>
                  <a:pt x="695" y="655"/>
                </a:lnTo>
                <a:lnTo>
                  <a:pt x="723" y="567"/>
                </a:lnTo>
                <a:lnTo>
                  <a:pt x="752" y="478"/>
                </a:lnTo>
                <a:lnTo>
                  <a:pt x="766" y="390"/>
                </a:lnTo>
                <a:lnTo>
                  <a:pt x="780" y="301"/>
                </a:lnTo>
                <a:lnTo>
                  <a:pt x="794" y="195"/>
                </a:lnTo>
                <a:lnTo>
                  <a:pt x="808" y="106"/>
                </a:lnTo>
                <a:lnTo>
                  <a:pt x="808" y="0"/>
                </a:lnTo>
                <a:lnTo>
                  <a:pt x="865" y="17"/>
                </a:lnTo>
                <a:lnTo>
                  <a:pt x="908" y="35"/>
                </a:lnTo>
                <a:lnTo>
                  <a:pt x="950" y="53"/>
                </a:lnTo>
                <a:lnTo>
                  <a:pt x="978" y="71"/>
                </a:lnTo>
                <a:lnTo>
                  <a:pt x="1007" y="71"/>
                </a:lnTo>
                <a:lnTo>
                  <a:pt x="1035" y="88"/>
                </a:lnTo>
                <a:lnTo>
                  <a:pt x="1049" y="106"/>
                </a:lnTo>
                <a:lnTo>
                  <a:pt x="1063" y="124"/>
                </a:lnTo>
                <a:lnTo>
                  <a:pt x="1063" y="141"/>
                </a:lnTo>
                <a:lnTo>
                  <a:pt x="1063" y="159"/>
                </a:lnTo>
                <a:lnTo>
                  <a:pt x="1063" y="195"/>
                </a:lnTo>
                <a:lnTo>
                  <a:pt x="1063" y="230"/>
                </a:lnTo>
                <a:lnTo>
                  <a:pt x="1049" y="265"/>
                </a:lnTo>
                <a:lnTo>
                  <a:pt x="1035" y="301"/>
                </a:lnTo>
                <a:lnTo>
                  <a:pt x="1021" y="354"/>
                </a:lnTo>
                <a:lnTo>
                  <a:pt x="1007" y="425"/>
                </a:lnTo>
                <a:lnTo>
                  <a:pt x="993" y="478"/>
                </a:lnTo>
                <a:lnTo>
                  <a:pt x="964" y="549"/>
                </a:lnTo>
                <a:lnTo>
                  <a:pt x="936" y="602"/>
                </a:lnTo>
                <a:lnTo>
                  <a:pt x="908" y="673"/>
                </a:lnTo>
                <a:lnTo>
                  <a:pt x="865" y="744"/>
                </a:lnTo>
                <a:lnTo>
                  <a:pt x="837" y="815"/>
                </a:lnTo>
                <a:lnTo>
                  <a:pt x="794" y="868"/>
                </a:lnTo>
                <a:lnTo>
                  <a:pt x="752" y="957"/>
                </a:lnTo>
                <a:lnTo>
                  <a:pt x="709" y="1028"/>
                </a:lnTo>
                <a:lnTo>
                  <a:pt x="667" y="1081"/>
                </a:lnTo>
                <a:lnTo>
                  <a:pt x="610" y="1152"/>
                </a:lnTo>
                <a:lnTo>
                  <a:pt x="553" y="1222"/>
                </a:lnTo>
                <a:lnTo>
                  <a:pt x="496" y="1276"/>
                </a:lnTo>
                <a:lnTo>
                  <a:pt x="426" y="1329"/>
                </a:lnTo>
                <a:lnTo>
                  <a:pt x="369" y="1400"/>
                </a:lnTo>
                <a:lnTo>
                  <a:pt x="298" y="1453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14"/>
          <p:cNvSpPr/>
          <p:nvPr/>
        </p:nvSpPr>
        <p:spPr>
          <a:xfrm>
            <a:off x="4889520" y="2019240"/>
            <a:ext cx="944640" cy="619200"/>
          </a:xfrm>
          <a:custGeom>
            <a:avLst/>
            <a:gdLst/>
            <a:ahLst/>
            <a:rect l="l" t="t" r="r" b="b"/>
            <a:pathLst>
              <a:path w="1488" h="975">
                <a:moveTo>
                  <a:pt x="921" y="975"/>
                </a:moveTo>
                <a:lnTo>
                  <a:pt x="907" y="957"/>
                </a:lnTo>
                <a:lnTo>
                  <a:pt x="879" y="939"/>
                </a:lnTo>
                <a:lnTo>
                  <a:pt x="865" y="921"/>
                </a:lnTo>
                <a:lnTo>
                  <a:pt x="822" y="904"/>
                </a:lnTo>
                <a:lnTo>
                  <a:pt x="794" y="868"/>
                </a:lnTo>
                <a:lnTo>
                  <a:pt x="751" y="815"/>
                </a:lnTo>
                <a:lnTo>
                  <a:pt x="695" y="762"/>
                </a:lnTo>
                <a:lnTo>
                  <a:pt x="638" y="709"/>
                </a:lnTo>
                <a:lnTo>
                  <a:pt x="581" y="638"/>
                </a:lnTo>
                <a:lnTo>
                  <a:pt x="525" y="567"/>
                </a:lnTo>
                <a:lnTo>
                  <a:pt x="454" y="496"/>
                </a:lnTo>
                <a:lnTo>
                  <a:pt x="369" y="407"/>
                </a:lnTo>
                <a:lnTo>
                  <a:pt x="284" y="319"/>
                </a:lnTo>
                <a:lnTo>
                  <a:pt x="199" y="213"/>
                </a:lnTo>
                <a:lnTo>
                  <a:pt x="99" y="106"/>
                </a:lnTo>
                <a:lnTo>
                  <a:pt x="0" y="0"/>
                </a:lnTo>
                <a:lnTo>
                  <a:pt x="128" y="0"/>
                </a:lnTo>
                <a:lnTo>
                  <a:pt x="199" y="53"/>
                </a:lnTo>
                <a:lnTo>
                  <a:pt x="269" y="124"/>
                </a:lnTo>
                <a:lnTo>
                  <a:pt x="340" y="177"/>
                </a:lnTo>
                <a:lnTo>
                  <a:pt x="411" y="248"/>
                </a:lnTo>
                <a:lnTo>
                  <a:pt x="468" y="301"/>
                </a:lnTo>
                <a:lnTo>
                  <a:pt x="539" y="354"/>
                </a:lnTo>
                <a:lnTo>
                  <a:pt x="595" y="390"/>
                </a:lnTo>
                <a:lnTo>
                  <a:pt x="666" y="443"/>
                </a:lnTo>
                <a:lnTo>
                  <a:pt x="723" y="478"/>
                </a:lnTo>
                <a:lnTo>
                  <a:pt x="780" y="532"/>
                </a:lnTo>
                <a:lnTo>
                  <a:pt x="836" y="567"/>
                </a:lnTo>
                <a:lnTo>
                  <a:pt x="893" y="602"/>
                </a:lnTo>
                <a:lnTo>
                  <a:pt x="950" y="620"/>
                </a:lnTo>
                <a:lnTo>
                  <a:pt x="1006" y="656"/>
                </a:lnTo>
                <a:lnTo>
                  <a:pt x="1049" y="673"/>
                </a:lnTo>
                <a:lnTo>
                  <a:pt x="1106" y="709"/>
                </a:lnTo>
                <a:lnTo>
                  <a:pt x="1148" y="726"/>
                </a:lnTo>
                <a:lnTo>
                  <a:pt x="1191" y="744"/>
                </a:lnTo>
                <a:lnTo>
                  <a:pt x="1233" y="762"/>
                </a:lnTo>
                <a:lnTo>
                  <a:pt x="1276" y="780"/>
                </a:lnTo>
                <a:lnTo>
                  <a:pt x="1318" y="797"/>
                </a:lnTo>
                <a:lnTo>
                  <a:pt x="1347" y="815"/>
                </a:lnTo>
                <a:lnTo>
                  <a:pt x="1375" y="815"/>
                </a:lnTo>
                <a:lnTo>
                  <a:pt x="1403" y="833"/>
                </a:lnTo>
                <a:lnTo>
                  <a:pt x="1432" y="851"/>
                </a:lnTo>
                <a:lnTo>
                  <a:pt x="1446" y="851"/>
                </a:lnTo>
                <a:lnTo>
                  <a:pt x="1460" y="868"/>
                </a:lnTo>
                <a:lnTo>
                  <a:pt x="1474" y="868"/>
                </a:lnTo>
                <a:lnTo>
                  <a:pt x="1488" y="886"/>
                </a:lnTo>
                <a:lnTo>
                  <a:pt x="1488" y="904"/>
                </a:lnTo>
                <a:lnTo>
                  <a:pt x="1474" y="904"/>
                </a:lnTo>
                <a:lnTo>
                  <a:pt x="1460" y="921"/>
                </a:lnTo>
                <a:lnTo>
                  <a:pt x="1432" y="921"/>
                </a:lnTo>
                <a:lnTo>
                  <a:pt x="1389" y="939"/>
                </a:lnTo>
                <a:lnTo>
                  <a:pt x="1347" y="939"/>
                </a:lnTo>
                <a:lnTo>
                  <a:pt x="1304" y="957"/>
                </a:lnTo>
                <a:lnTo>
                  <a:pt x="1247" y="957"/>
                </a:lnTo>
                <a:lnTo>
                  <a:pt x="1191" y="975"/>
                </a:lnTo>
                <a:lnTo>
                  <a:pt x="1134" y="975"/>
                </a:lnTo>
                <a:lnTo>
                  <a:pt x="1092" y="975"/>
                </a:lnTo>
                <a:lnTo>
                  <a:pt x="1035" y="975"/>
                </a:lnTo>
                <a:lnTo>
                  <a:pt x="1006" y="975"/>
                </a:lnTo>
                <a:lnTo>
                  <a:pt x="964" y="975"/>
                </a:lnTo>
                <a:lnTo>
                  <a:pt x="936" y="975"/>
                </a:lnTo>
                <a:lnTo>
                  <a:pt x="921" y="975"/>
                </a:lnTo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图片 3" descr=""/>
          <p:cNvPicPr/>
          <p:nvPr/>
        </p:nvPicPr>
        <p:blipFill>
          <a:blip r:embed="rId2"/>
          <a:stretch/>
        </p:blipFill>
        <p:spPr>
          <a:xfrm>
            <a:off x="352440" y="4498920"/>
            <a:ext cx="8504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05:09:00Z</dcterms:created>
  <dc:creator/>
  <dc:description/>
  <dc:language>en-US</dc:language>
  <cp:lastModifiedBy/>
  <dcterms:modified xsi:type="dcterms:W3CDTF">2019-01-05T15:16:04Z</dcterms:modified>
  <cp:revision>5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14</vt:lpwstr>
  </property>
</Properties>
</file>