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709-51E4-4C45-8EDF-DB10DF93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151-0802-43C0-9770-7868FE28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0F17-D806-4699-936F-B8692E1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0DAFB-D93C-4D2D-8003-18CE7429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88917-752D-4B6A-92E4-263E128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594B5-70A2-4D6A-BB7C-EBA5320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0CD3A-421F-4160-AB6D-78DC602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668CC-9367-4185-B5C1-75016DFF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A0E5F-440E-4BC4-82B9-9E2A5A2A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BB38A-5660-46A0-BA07-74DC3084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2F97-7FE6-42CB-94E6-BC6DB44C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97563-4836-405A-BD54-5ED521CE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DCE-203C-48E2-ABA0-73EC3391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AAE4B-C90E-4400-8950-90E77311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BBCDC-C948-4891-84AF-FF40D5E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17B43-F552-4A73-8D1F-BEAA708C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AE047-5C9D-4107-8D57-7455A6DD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3317E-7938-411E-8097-D727CD2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E1E37-95EE-4ACE-9E6C-1653DE8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5C362-58CB-4C3E-9466-D25B3311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3D73E-174A-4A3B-A695-8E0FEE8B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7CA3-6EAF-4294-8E5E-C6BAFBF7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67CFF-DC6B-4A7E-974A-4DCCC070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F9B-2895-4FFE-8210-A471926A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02D1C-688E-4636-97CE-22275046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60485-5532-4DD7-B55A-8F577F3D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02A4C-F7D9-4CD4-8402-C330A519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160C0-0F07-4D70-8D17-3582F3D9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AD425-9B2A-4009-AE6D-EF68BA91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57835-EF08-479C-99B6-3DA25FD7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F0552-D78E-4299-BB03-F6C29BC5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555B23-238F-455C-8C77-D06FE337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67D34-9F52-41CC-97CB-96849F2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CE565-07FF-45CB-9F68-C639814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E88E-4C4F-4811-9BF2-98E0F9D3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328BB-2C5D-4696-AB6B-38D51400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9AF32-EC36-4DB4-B97A-AF2B13F5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4F960-D99C-4859-B0FF-830E7B7B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C6F89-796B-4646-B5CF-F49DE613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A4623-4524-4154-A251-998D6D9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A8578-44FF-48AF-8654-86ABBF9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6FFF5-DD90-48A5-A6FC-E1F4C32B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881B4-8417-4BBE-8517-67AC0E78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C2A83-BA3C-4B26-A16D-B2D947B6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87A2E-1C9E-4511-8EEA-6EB05C3B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829-A32C-4A9E-8472-0F8A9B82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72809-8F03-4326-A611-3BBDE5B2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D7643-77AD-4866-AEB7-FC1E117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0EDD8-7A75-44B6-889E-5483133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17F042-A47B-46D2-ABC1-60C90FE0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53B46-AFAD-40AB-AD97-52E20DB9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F25EE-EECA-436F-9235-C1F5CA74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DC514-C901-4F3C-BC7C-609A6EE9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C6755-8FE7-4B32-89BD-C75936B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C0BA4-01A8-400D-8C25-0CCA3AF4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26F6B-C227-4EF0-BE86-D03BF35E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59CD-8A27-42FA-9F4C-775B6EC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7308B-A39D-4CF2-B8BC-CF86FBB9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085D3F-7A03-4312-BD7D-10720ACE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578FD-BA7B-492D-AA41-4C4B2710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E5444-5B4E-4D5C-9420-A0EB012B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F9680C-36C6-4D62-A9FC-D72F6422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53F8A-8C19-442B-A251-8D47E98C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8CEE7F-42D8-460B-A393-2E647D76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621-0D0C-4A0C-9A87-77AD722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3037-63F2-4F23-8E35-579B63AA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3F79-D189-4842-BF77-F2D154C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C6B-5209-415C-9B25-D15BB3A8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729C-44C2-4AA7-855D-FCE359F4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A19C-F9AD-46AF-91B1-F5F0640A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9A0A-43FD-41B3-B172-DC1CE62B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8ECF-672A-497C-B7AA-EDBBDF4D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16E5-A072-43C1-A821-225CA38B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3275-6659-410F-B68D-73FBE4B7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72FE2-3943-4576-B152-FA53A019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F5F81-79D4-4B52-8E85-B7C2C3F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85F7-F3A8-45E5-A534-9E997AEB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094A1-FB84-4554-8243-EBD63341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0A376-1D8C-4944-A5F9-15A737A2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C5F-5745-4EAC-A9EE-4CC5CD4E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1CDE-9F37-40B5-A3AE-C8AED60A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650E-BC86-4D1F-B49E-4D8018AF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452-0210-4A12-8010-CED1FFCB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34D5-F699-471B-8860-AA6D00DE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0CB4-5A07-4388-BB41-5E6D5F2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82B0-47E8-4B68-87D9-5F9494BB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A4700-7DD9-418A-8EF3-2472B8F8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245F6-692A-4329-9EE7-D9C2DC1D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62A45-CAE4-4D75-A323-DEB3EBB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90D4-0AA5-4B50-B1BD-42D1EB40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E1D-8B9B-4522-9CAE-468A1921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5820-4A27-4E4E-82CE-129DEF8A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9DAD-3BAC-428E-AD6B-36794593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867F-FD5A-43E7-ABD6-F8359AED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80BF-3C33-448D-A114-D6DFD7B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5872-BE79-47E7-9BA4-DB17CAB6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72D0-0EA2-4E6B-9B5E-638BDA8B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BEB7-78CD-4C15-ACBF-482F67D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6D9D-85DB-47EB-AF2C-0C8B1632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DE8F3-274C-4276-961B-93509ADC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79F91-BCEA-4BDC-9DFF-07EA4F59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0A7D-3F73-457B-87B0-E3917C3F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4966-737B-46ED-95F5-F38BF3D1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F838-C2F7-4E27-833B-3ABFA83A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36B8-3E06-4968-B79C-CBE0FA29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D3A00-BFD4-4102-A667-91928F8E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74980-4254-4AFF-900F-43B41A1F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C62DC-2738-46C7-9B1E-AFA214D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F82F-4D9A-46C5-8397-5BA7BED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5834E-2F8A-4C10-A644-546761A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70DD-18BC-43BF-9913-D3DE219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7CD71-5EF6-4C7C-B66D-FB713147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9D7-4EDE-4729-BA08-77A9960C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16E52-23B8-43E2-B903-C402AA25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3A4BF-3F62-481B-92A1-68D2FB12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2140-750F-45B6-A551-54E7A20B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2FD25-E2F1-45F0-B16F-9EB12607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6BDD0-540B-4FA1-B679-2B4F14A9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A673B-1389-4344-886C-F76DF05C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AE45-3BF0-4535-B7CE-433EF4E6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8C98-64BA-45A5-9D01-620EBA67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B7256-3A5C-49FB-8D78-CF7C6CCB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A757E-F672-44E5-89F8-DA860F1E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2A4-181A-4216-9F9A-1E631F49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7C3B1-2555-440A-8968-8A4C2BE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4C6C-C06C-4695-8BB4-E56D4B7B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91F9-E9D1-4FEF-A1E0-39A9E35B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295AA-345C-41F5-AE63-35842836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6FDE4-0440-4214-AE21-D9D3811A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FF5A-1CD0-4BB4-AF01-F0BA5F46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1FC8-E138-4DE6-9A1A-96D649AA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C4480-263D-43D9-A0DF-B08B2F84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A230C-CC68-4951-A615-9AEADE37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22294-5728-433F-A836-65967C4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FB1-DCFD-452F-9555-6A0B8BC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7517-DAFC-47F4-B05A-7AEE203A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2CDE-1CEA-4A06-AEDD-BB2708C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E7729-0E5D-4111-8291-C336CA8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CC388-6B17-41EE-9B56-471A1A5B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7BBEC-E221-472A-97B1-0F3E5B030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1DA86-DAFA-44DE-81DD-783164EF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1AC5-6F46-459E-B7B8-30CC361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6B6B9-2CF8-4D04-A705-1FC545DE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2E268-C16E-4C10-820E-ECDB4C26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84EDD-E42B-4051-9181-E29ED649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543-EE9C-47C6-9C34-BA0C7360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9BB7-4497-45FE-ADDE-07FA25B5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58C05-947D-4850-9B4A-B8F8F791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8E8C4-8649-47EB-9868-D63F73F8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EF1DA-DCF4-40F8-A2FE-7FD6870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52923-5C04-41B6-98D2-1EAB8EFC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57DF1-7AF7-43EC-A7BA-34390452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FBD65-D1B7-4169-BCFC-0DC30C32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FECFA-552C-4519-9730-7A26F74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83307-9DEC-41FC-9B20-73B2889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450BB-2486-428D-AB65-241681E6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4867-FC79-4A38-B32F-B2D18407C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1C35-9DDA-4C74-BC31-7C43550D9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DE73-906F-463D-9EFD-DB21C172C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B005-3AB0-4497-AC67-4AAF39723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2610-7E4E-4F9B-8C4C-1F42B4EF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DE3-7772-4B7B-9859-D46A6D0E2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E9A-F857-4632-8374-8D5C9825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C97B-99A0-4F1C-8C84-35FC914D6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40A2-346E-4190-AD1C-A4469A1B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B19A-5BA3-4778-BCD7-269E1BBEF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4E41-01C3-43DB-B2FF-775717D65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AAC4-3A17-46AD-83BE-7D80471D9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E4E7-D038-4AD4-AEEA-B6C4ED63F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6"/>
          <p:cNvSpPr txBox="1"/>
          <p:nvPr/>
        </p:nvSpPr>
        <p:spPr>
          <a:xfrm>
            <a:off x="1835280" y="1484280"/>
            <a:ext cx="5113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800000"/>
                </a:solidFill>
                <a:latin typeface="黑体"/>
              </a:rPr>
              <a:t>肥 皂 泡</a:t>
            </a:r>
            <a:endParaRPr b="1" lang="en-US" sz="4400" spc="1" strike="noStrike">
              <a:ln w="0">
                <a:noFill/>
              </a:ln>
              <a:solidFill>
                <a:srgbClr val="8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1"/>
          <p:cNvSpPr/>
          <p:nvPr/>
        </p:nvSpPr>
        <p:spPr>
          <a:xfrm>
            <a:off x="755640" y="62064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黑体"/>
                <a:ea typeface="黑体"/>
              </a:rPr>
              <a:t>学习第六自然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"/>
          <p:cNvSpPr/>
          <p:nvPr/>
        </p:nvSpPr>
        <p:spPr>
          <a:xfrm>
            <a:off x="755640" y="16606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华文楷体"/>
                <a:ea typeface="华文楷体"/>
              </a:rPr>
              <a:t>但是，这梦幻般的肥皂泡，一个一个地吹起，飞高，又一个一个地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从梦幻的世界又回到了现实的世界，那些肥皂泡只能成为美好的梦想，成为童年美好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1" descr=""/>
          <p:cNvPicPr/>
          <p:nvPr/>
        </p:nvPicPr>
        <p:blipFill>
          <a:blip r:embed="rId1"/>
          <a:stretch/>
        </p:blipFill>
        <p:spPr>
          <a:xfrm>
            <a:off x="5321160" y="5446800"/>
            <a:ext cx="30672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2" descr=""/>
          <p:cNvPicPr/>
          <p:nvPr/>
        </p:nvPicPr>
        <p:blipFill>
          <a:blip r:embed="rId1"/>
          <a:stretch/>
        </p:blipFill>
        <p:spPr>
          <a:xfrm>
            <a:off x="6664320" y="3860640"/>
            <a:ext cx="2220840" cy="28530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"/>
          <p:cNvSpPr/>
          <p:nvPr/>
        </p:nvSpPr>
        <p:spPr>
          <a:xfrm>
            <a:off x="611280" y="1197000"/>
            <a:ext cx="74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玩肥皂泡游戏的过程中，冰心奶奶不但做了，吹了，还认真的欣赏了自己吹出的每一个肥皂泡，她满怀爱心和向往，写下了这篇美妙的文章，让我们一起再美美地读一读这篇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Box 2"/>
          <p:cNvSpPr/>
          <p:nvPr/>
        </p:nvSpPr>
        <p:spPr>
          <a:xfrm>
            <a:off x="1476360" y="1484280"/>
            <a:ext cx="60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年人啊，为着后来的记忆，小心着意地描你现在的图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7380360" y="5229360"/>
            <a:ext cx="1247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1"/>
          <p:cNvSpPr/>
          <p:nvPr/>
        </p:nvSpPr>
        <p:spPr>
          <a:xfrm>
            <a:off x="2916360" y="765000"/>
            <a:ext cx="37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黑体"/>
                <a:ea typeface="黑体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"/>
          <p:cNvSpPr/>
          <p:nvPr/>
        </p:nvSpPr>
        <p:spPr>
          <a:xfrm>
            <a:off x="826920" y="213372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后同学们自己去做肥皂泡吹肥皂泡，试着把吹肥皂泡的情景写下来，一定会很有意思。下节课请你把你的新发现介绍给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图片 1" descr=""/>
          <p:cNvPicPr/>
          <p:nvPr/>
        </p:nvPicPr>
        <p:blipFill>
          <a:blip r:embed="rId1"/>
          <a:stretch/>
        </p:blipFill>
        <p:spPr>
          <a:xfrm>
            <a:off x="179280" y="5095800"/>
            <a:ext cx="176220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1"/>
          <p:cNvSpPr/>
          <p:nvPr/>
        </p:nvSpPr>
        <p:spPr>
          <a:xfrm>
            <a:off x="2627280" y="69048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黑体"/>
                <a:ea typeface="黑体"/>
              </a:rPr>
              <a:t>拓展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"/>
          <p:cNvSpPr/>
          <p:nvPr/>
        </p:nvSpPr>
        <p:spPr>
          <a:xfrm>
            <a:off x="1714680" y="2825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阅读冰心的文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3" descr=""/>
          <p:cNvPicPr/>
          <p:nvPr/>
        </p:nvPicPr>
        <p:blipFill>
          <a:blip r:embed="rId1"/>
          <a:stretch/>
        </p:blipFill>
        <p:spPr>
          <a:xfrm>
            <a:off x="2411280" y="4653000"/>
            <a:ext cx="4695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1"/>
          <p:cNvSpPr/>
          <p:nvPr/>
        </p:nvSpPr>
        <p:spPr>
          <a:xfrm>
            <a:off x="2340000" y="2276640"/>
            <a:ext cx="45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99ff"/>
                </a:solidFill>
                <a:latin typeface="华文隶书"/>
                <a:ea typeface="华文隶书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1"/>
          <p:cNvSpPr/>
          <p:nvPr/>
        </p:nvSpPr>
        <p:spPr>
          <a:xfrm>
            <a:off x="324000" y="692280"/>
            <a:ext cx="8037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同学们，你们玩过吹泡泡的游戏吗？你们感觉怎么样？像我们这么大的时候，著名的儿童文学作家冰心奶奶也自己做过泡泡水，而且她吹的肥皂泡可不一般，那小小的、不起眼儿的肥皂泡，经过她的手，她的眼，以及她的心，吹出了童年的情趣，也吹出了冰心奶奶的梦想！想知道冰心奶奶是怎么吹肥皂泡的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Box 1"/>
          <p:cNvSpPr/>
          <p:nvPr/>
        </p:nvSpPr>
        <p:spPr>
          <a:xfrm>
            <a:off x="2843280" y="10540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99ff"/>
                </a:solidFill>
                <a:latin typeface="黑体"/>
                <a:ea typeface="黑体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2"/>
          <p:cNvSpPr/>
          <p:nvPr/>
        </p:nvSpPr>
        <p:spPr>
          <a:xfrm>
            <a:off x="1641600" y="2349360"/>
            <a:ext cx="6119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搅拌    溶化    玲珑    骄傲 渡过    婴儿    悬念    娇软 蘸水    屏住呼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图片 2" descr=""/>
          <p:cNvPicPr/>
          <p:nvPr/>
        </p:nvPicPr>
        <p:blipFill>
          <a:blip r:embed="rId1"/>
          <a:stretch/>
        </p:blipFill>
        <p:spPr>
          <a:xfrm>
            <a:off x="7020000" y="4008600"/>
            <a:ext cx="1825560" cy="2415960"/>
          </a:xfrm>
          <a:prstGeom prst="rect">
            <a:avLst/>
          </a:prstGeom>
          <a:ln w="0">
            <a:noFill/>
          </a:ln>
        </p:spPr>
      </p:pic>
      <p:sp>
        <p:nvSpPr>
          <p:cNvPr id="538" name="TextBox 1"/>
          <p:cNvSpPr/>
          <p:nvPr/>
        </p:nvSpPr>
        <p:spPr>
          <a:xfrm>
            <a:off x="1042920" y="692280"/>
            <a:ext cx="7416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ff"/>
                </a:solidFill>
                <a:latin typeface="黑体"/>
                <a:ea typeface="黑体"/>
              </a:rPr>
              <a:t>整体感知，把握文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默读课文，思考：课文围绕肥皂泡主要讲了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做泡泡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吹泡泡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看泡泡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梦幻泡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1"/>
          <p:cNvSpPr/>
          <p:nvPr/>
        </p:nvSpPr>
        <p:spPr>
          <a:xfrm>
            <a:off x="684360" y="119700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搅拌”、“粘稠”这些词语表现了吹肥皂泡的动作特别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轻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正因为慢慢地吹，才会有这样轻圆的网球大小的泡，只有轻轻地一提，肥皂泡才能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轻悠悠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地在空中飘游。看来吹肥皂泡也要我们认真地去做，仔细地去琢磨，小心地去吹，吹起的泡泡更要精心呵护，才能飘得更高更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1"/>
          <p:cNvSpPr/>
          <p:nvPr/>
        </p:nvSpPr>
        <p:spPr>
          <a:xfrm>
            <a:off x="826920" y="47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学习第四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"/>
          <p:cNvSpPr/>
          <p:nvPr/>
        </p:nvSpPr>
        <p:spPr>
          <a:xfrm>
            <a:off x="826920" y="162864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冰心从形态多姿、颜色多彩、变化多样几方面描写肥皂泡的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五色的浮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五色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即五彩。原指青、黄、赤、白、黑五种颜色，后来泛指多种颜色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浮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液体表面的光泽、颜色。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文指肥皂泡表面的光泽和颜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图片 3" descr=""/>
          <p:cNvPicPr/>
          <p:nvPr/>
        </p:nvPicPr>
        <p:blipFill>
          <a:blip r:embed="rId1"/>
          <a:stretch/>
        </p:blipFill>
        <p:spPr>
          <a:xfrm>
            <a:off x="7812000" y="5084640"/>
            <a:ext cx="11048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900000" y="1052640"/>
            <a:ext cx="70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轻清透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“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轻清透明”四个字不仅写出了肥皂泡“轻”的特点，而且写出了肥皂泡纯净、清亮、透明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600" spc="-1" strike="noStrike">
                <a:solidFill>
                  <a:srgbClr val="ff9900"/>
                </a:solidFill>
                <a:latin typeface="华文楷体"/>
                <a:ea typeface="华文楷体"/>
              </a:rPr>
              <a:t>轻清透明的球面上浮光百转、色彩斑斓，多美丽，多神奇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2" descr=""/>
          <p:cNvPicPr/>
          <p:nvPr/>
        </p:nvPicPr>
        <p:blipFill>
          <a:blip r:embed="rId1"/>
          <a:stretch/>
        </p:blipFill>
        <p:spPr>
          <a:xfrm>
            <a:off x="6546960" y="5229360"/>
            <a:ext cx="13525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684360" y="98100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玲珑娇软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那些小肥皂泡小巧精致而柔软、娇嫩、美丽。玲珑，精巧细致。娇软，美丽、娇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3399ff"/>
                </a:solidFill>
                <a:latin typeface="华文楷体"/>
                <a:ea typeface="华文楷体"/>
              </a:rPr>
              <a:t>为什么说是“玲珑娇软”而不说“玲珑柔软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达了喜爱、娇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9900"/>
                </a:solidFill>
                <a:latin typeface="华文楷体"/>
                <a:ea typeface="华文楷体"/>
              </a:rPr>
              <a:t>一串串玲珑娇软的小球四散纷飞，就像淘气的孩子玩捉迷藏游戏，多活泼、多可爱呀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755640" y="1647720"/>
            <a:ext cx="792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那么圆满，那么自由，那么透明，那么美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里连用了四个“那么”，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9900"/>
                </a:solidFill>
                <a:latin typeface="华文楷体"/>
                <a:ea typeface="华文楷体"/>
              </a:rPr>
              <a:t>（特别喜欢肥皂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"/>
          <p:cNvSpPr/>
          <p:nvPr/>
        </p:nvSpPr>
        <p:spPr>
          <a:xfrm>
            <a:off x="755640" y="83664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黑体"/>
                <a:ea typeface="黑体"/>
              </a:rPr>
              <a:t>学习第五自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2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81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31T10:39:54Z</dcterms:created>
  <dc:creator/>
  <dc:description/>
  <dc:language>en-US</dc:language>
  <cp:lastModifiedBy>储倩文</cp:lastModifiedBy>
  <dcterms:modified xsi:type="dcterms:W3CDTF">2014-12-03T09:12:38Z</dcterms:modified>
  <cp:revision>22</cp:revision>
  <dc:subject/>
  <dc:title>PowerPoint 演示文稿</dc:title>
</cp:coreProperties>
</file>