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13.gif" ContentType="image/gif"/>
  <Override PartName="/ppt/media/image11.gif" ContentType="image/gif"/>
  <Override PartName="/ppt/media/image12.wmf" ContentType="image/x-wmf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B07B-F3C4-4B67-8944-2DE6F5AC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0649-018F-4115-A5C3-F21DBA1EF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6B8-905D-477C-9E4B-FB1095C0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245D-2FC6-420F-AC89-3E66DD20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0C265-0AC5-4A04-A600-AEF8BAD6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FED8D-FFC0-48A8-A74E-48209764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26CC5-68D0-498D-8F33-CADA9D60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C2B17-5581-4196-A09E-A6F1D2F6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D3BD0-CCD9-4575-9B9F-D7E0EE49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DF4777-94E9-4C30-A092-77D0F7D8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160CA-57F0-4FE8-AFFA-0B9724E9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E4E00-FCBB-4F18-9EC4-B58B31DD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F461-ECB6-40F3-BD6C-FA2BD852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F37A1-D4AF-4E85-B639-C15B4C40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561-022F-46AB-ACE9-620C52E6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70493-7F82-4337-A06E-A0AC5133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627D5-613B-4C7A-B7C6-902232CC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CC587-969A-411A-BD8D-B9ADD5D4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DC236-B9AC-4AC7-A720-42A72EF7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483DC-B4B9-4DB0-AC1D-C0ABC76B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33D74-E9C7-46AF-85D8-61333C5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62B28-4EBC-4804-A7B1-5848C0D0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F9049-3F81-4696-B058-24B4E67D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3B8F9-AE90-427A-AE58-4D52617F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E8F39-0C65-4FF5-AA62-A445CB0C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82F-4C64-4C4B-9D60-A60172BC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17FEB-C01C-4050-AEBF-2599239F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3B16F-8000-4081-8AF9-2FF0AFE1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858CD-85A8-428C-AC0D-3A6AF951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785D9-B878-4FB2-A277-A545F28D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9F3DD-EC3F-4705-9592-BFEAB0E0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AC3E2-B070-4223-A9D8-4FA3CC5B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822DE-3180-47F8-B210-28CA789C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CEE6A-5BE5-4A0A-B25C-245537921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6584C-C5A4-4A31-994A-1B2F3461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1F440-3750-49D7-95B9-FD74FA8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81E7-AF45-4165-853C-3208BB9E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BACDF-3104-4923-A894-2FA782D4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60FE6-365B-4CEE-A3C5-14AEA2CD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03A6E-D93B-447C-9D02-3DECFAE5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3CE691-5ECB-41A1-842C-A30DC8F7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977C0-6832-42E5-A460-E481F0BD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A3808-AE77-4D30-A208-6C21778A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E3950-9762-44B8-9ECE-7A3CC68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8DF24-08D4-4E74-AFFE-C61F19F7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4C3BB-D80E-4950-9754-0BA7EDE7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A2D98-C31E-4ED6-891B-4C0D2EE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4219-80C4-45F0-BFEA-60412C7F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63912-9FDA-461B-BE48-782A136E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06BEC-96FE-46EC-BD04-AE614D74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E3ECE-BB2F-40A5-84B3-4B9EED13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1DDF5-B781-4659-B761-F8614842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B790C-309A-4FCA-8D38-BFCF2D07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0173-9D3A-45CD-96F5-E29D9A00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BE85-491C-4529-9A89-2FA48ED4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A69A-F60D-4B22-BB65-3260B954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D348-720F-4B48-BFEA-A3F0186B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CD31-5285-4F62-B8B3-70ED9E60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9EE-9897-447F-8C02-509D46D3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C5D8-8CE2-413E-A88F-0674BB20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99B9-D924-42EF-A724-F39CA025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B80F-D09F-4230-B1FA-142151C4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C0B2-2EBF-4BAA-A267-CC4256E50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C19-2106-46A9-8FC0-23FC3FFA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66BD-8EBE-46A8-A5CD-1C39A996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F7CF-0E87-409C-AA8A-BCCAF9F7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DF56-1308-47D1-91E2-73483AD8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620B-C935-4AD3-8D7B-88F458DA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35CED-54EB-4020-BF67-0CA41F7F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FDAD-4A86-45E5-A194-4CB5FAAE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9505-4B21-4A73-B659-4568ED76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0A87-F25C-4FF4-8D8F-775C03AB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6F61-C8AD-41BC-B052-43D64E6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C62B7-C812-4071-BB1C-B54F2254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2C5E-A9C0-41C4-B855-AC4D20D9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4DE96-5A3E-4820-8244-CF82E164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69F0-D309-4F8C-917A-1FFCCD8C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DD5DB-3572-432D-95EB-0390F57D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8B70F-B2C2-445F-A17A-530ACA15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E4147-30D2-43CB-A83E-57A70330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CCC-18A1-4EF7-8316-4911D56C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34E2-03A6-42C7-88FC-DFFBFEE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C94A-CDE9-4C65-81D2-28562C0C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FB94-4909-4322-A351-36475212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47194-36C2-4B5F-A683-744653AA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2F107-A225-4954-9592-4C7F3BD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BC76D-DC42-493D-B850-655C7AFB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0FD38-17B3-4D40-BC43-479A7E52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9ED4-F194-426C-B6C1-5DD09505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632E4-9806-4D77-BE18-C8649413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3622-85BB-46BA-B8A1-32315423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A75-460C-4356-B77D-16782846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ECB48-C7A2-4DDD-9388-0B9E99F3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6BF5B-8FAB-4FD1-9FE7-5399297D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50F47-2666-4522-A475-24C18AE7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619F-365B-4AF3-92E0-AF828192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C0564-8838-406E-967C-C5F4DDA2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D7732-AAD4-480D-97DC-2B990F3A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081AB-F130-49AC-A1CF-CBCE2234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D34BE-F356-4B61-8D6B-DF3FC988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1C8B7-8C1C-4BA5-9DC1-94FC214C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6656E-8BFC-4DEE-9CA4-A4EF5B61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215-9A38-4DE7-8BE1-B8CEDDFE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6870C-1D9B-4B7E-9909-6D258D1A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91B0D-DF2F-4B0A-8905-DBCFEF6D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44577-451D-4DCE-B866-DE200DF5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30A6-5076-47A7-ADAF-76C6C649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CA26C-0B59-44A1-9F26-392B9BC2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CF1CD-0AC5-4AC5-B972-22131767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934BA-BA0B-400A-BDDE-864C53E7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F95C-AC30-4DD0-952C-FE752F1D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10E6D-E1BD-499A-960E-43D844C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1B5A9-1161-4F82-AD58-BB5D5EF4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B04-3384-4436-94BB-81EBA1AD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551A-0B7F-4DAA-9819-7DF965E6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57B8E-6F9D-4FDF-9096-9CFC7A06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4D6E8-3FD5-4704-BF05-F7785118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CF6F-52CE-4CAD-AFD1-35A83CFE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22205-B05F-4EB4-8C3B-6F24A6F0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2475A-8B43-4BA4-9670-CA65BE9A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89EBB-2223-4D5E-BFB0-6BC87104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D1124-713A-456C-960D-9BE9AEEB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29F3C-B509-40FC-8F20-E33738BF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BF04E-5DCA-42F0-B1D5-90321DA2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B32-7C40-45F8-A13F-3095DCBD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947E-DD22-4FF0-9623-EEB024B2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1191A-2497-4447-A75D-B0CE713B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6ED61-7007-4498-AD19-FD53BDA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8CC51-26F1-4699-AEED-65A8C004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675B2-1E41-4518-AFBA-62B81288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FB5E3-A9C5-4C10-9AF6-A9012620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4B5A8-BF2C-4308-842D-8D8AB18F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382B2-3C77-446B-A49C-062A0C7E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2B130-4FD5-4CE7-B348-F83466E3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FD040-1621-4AC6-84DA-C1566764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3BC-2A8E-4F47-AB05-8E49B3E2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B654C-0BC4-456B-A978-172A5254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BE342-BA34-4FD5-8E76-3B39B187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490CD-2340-4A65-902D-12870264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B9E80-65BC-44E8-A021-73B4900F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E5301-A11C-4493-B8FB-72562AC3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0C5F8-1745-4EC9-8911-C4F4A08F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837D9-03DF-4131-BBC0-E6C7EDDF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F7097-899A-444F-94A2-C2707733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0C230-5B4B-45B2-829E-00D9DCF1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63FFD-1495-4BF9-99DC-9174B87E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2333-05C4-4C66-8A8E-4727E7BAD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watermap"/>
          <p:cNvPicPr/>
          <p:nvPr/>
        </p:nvPicPr>
        <p:blipFill>
          <a:blip r:embed="rId3"/>
          <a:stretch/>
        </p:blipFill>
        <p:spPr>
          <a:xfrm>
            <a:off x="0" y="6524640"/>
            <a:ext cx="9525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481A-786C-412D-8868-09CDD0696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4A66-B802-4898-B5C8-8B10C5922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D2B1-A24F-4F2C-BF29-CD895B4DE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D30A-A921-4ECE-956D-B273E7B34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3356-7DF2-42AE-98F4-5D090BF97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970-A6AD-49BF-93FC-C38D4BE3F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310B-498D-4510-9C94-CA334852B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4759-0494-4D08-A6D2-B32C10333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7CA3-B8BA-4BAB-83AD-431506ADD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F91E-6A9D-4801-8B62-E05D9BBFE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5760-7F16-41BF-9979-7CB57B15C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5" descr="20072916494682877801"/>
          <p:cNvPicPr/>
          <p:nvPr/>
        </p:nvPicPr>
        <p:blipFill>
          <a:blip r:embed="rId1"/>
          <a:stretch/>
        </p:blipFill>
        <p:spPr>
          <a:xfrm>
            <a:off x="-252360" y="-74520"/>
            <a:ext cx="9396360" cy="69325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4264200" y="1635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5651640" y="2060640"/>
            <a:ext cx="309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8"/>
          <p:cNvSpPr/>
          <p:nvPr/>
        </p:nvSpPr>
        <p:spPr>
          <a:xfrm>
            <a:off x="826920" y="907920"/>
            <a:ext cx="74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冀教版四年级语文下册第六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WordArt 13" descr=""/>
          <p:cNvPicPr/>
          <p:nvPr/>
        </p:nvPicPr>
        <p:blipFill>
          <a:blip r:embed="rId2"/>
          <a:stretch/>
        </p:blipFill>
        <p:spPr>
          <a:xfrm>
            <a:off x="1609560" y="1908000"/>
            <a:ext cx="5029200" cy="2243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3"/>
          <p:cNvSpPr/>
          <p:nvPr/>
        </p:nvSpPr>
        <p:spPr>
          <a:xfrm>
            <a:off x="826920" y="24703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借着扇子的轻风，把她们一个个送上天去，送过海去。到天上，轻轻地挨着明月，渡过天河跟着夕阳西去。或者轻悠悠地飘过大海，飞越山巅，又低低地落下，落到一个美人的玉簪边，落到一个浓睡中的婴儿的雏发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755640" y="1484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心奶奶希望肥皂泡飞到哪去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6" descr="1"/>
          <p:cNvPicPr/>
          <p:nvPr/>
        </p:nvPicPr>
        <p:blipFill>
          <a:blip r:embed="rId1"/>
          <a:stretch/>
        </p:blipFill>
        <p:spPr>
          <a:xfrm>
            <a:off x="250920" y="189000"/>
            <a:ext cx="129672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你就是肥皂泡，你会带着希望和梦想飞到哪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愿意说说你美好的想像，让我们也来分享你的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3" descr="42"/>
          <p:cNvPicPr/>
          <p:nvPr/>
        </p:nvPicPr>
        <p:blipFill>
          <a:blip r:embed="rId1"/>
          <a:stretch/>
        </p:blipFill>
        <p:spPr>
          <a:xfrm>
            <a:off x="2268360" y="1125360"/>
            <a:ext cx="4283280" cy="16606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23"/>
          <p:cNvPicPr/>
          <p:nvPr/>
        </p:nvPicPr>
        <p:blipFill>
          <a:blip r:embed="rId2"/>
          <a:stretch/>
        </p:blipFill>
        <p:spPr>
          <a:xfrm>
            <a:off x="6516720" y="4762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图片1"/>
          <p:cNvPicPr/>
          <p:nvPr/>
        </p:nvPicPr>
        <p:blipFill>
          <a:blip r:embed="rId3"/>
          <a:stretch/>
        </p:blipFill>
        <p:spPr>
          <a:xfrm>
            <a:off x="755640" y="620640"/>
            <a:ext cx="1368360" cy="129708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6"/>
          <p:cNvSpPr/>
          <p:nvPr/>
        </p:nvSpPr>
        <p:spPr>
          <a:xfrm>
            <a:off x="611280" y="299736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826920" y="34290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Arial"/>
              </a:rPr>
              <a:t>冰心奶奶笔下的肥皂泡可真美呀！你也试着写一写你喜欢的游戏</a:t>
            </a: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吧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17200" y="1600200"/>
            <a:ext cx="771516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课文，了解儿时的作者是怎样玩“吹肥皂泡”的游戏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作者对游戏过程有序及细致的描写，并体会作者由“玩吹肥皂泡”的游戏产生的美好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3"/>
          <p:cNvSpPr/>
          <p:nvPr/>
        </p:nvSpPr>
        <p:spPr>
          <a:xfrm>
            <a:off x="756000" y="476280"/>
            <a:ext cx="7610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童年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是梦中的真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是真中的梦，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是回忆时含泪的微笑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WordArt 4"/>
          <p:cNvSpPr txBox="1"/>
          <p:nvPr/>
        </p:nvSpPr>
        <p:spPr>
          <a:xfrm>
            <a:off x="826920" y="1700280"/>
            <a:ext cx="2637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冰心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09" name="Picture 14" descr="5"/>
          <p:cNvPicPr/>
          <p:nvPr/>
        </p:nvPicPr>
        <p:blipFill>
          <a:blip r:embed="rId1"/>
          <a:stretch/>
        </p:blipFill>
        <p:spPr>
          <a:xfrm>
            <a:off x="826920" y="4221000"/>
            <a:ext cx="2592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同学们自由读课文，找出你最喜欢的语句，做上标记，并在空白处简单写出你喜欢的理由，跟同桌说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泡"/>
          <p:cNvPicPr/>
          <p:nvPr/>
        </p:nvPicPr>
        <p:blipFill>
          <a:blip r:embed="rId1"/>
          <a:stretch/>
        </p:blipFill>
        <p:spPr>
          <a:xfrm>
            <a:off x="2340000" y="1268280"/>
            <a:ext cx="3529080" cy="24480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4"/>
          <p:cNvSpPr/>
          <p:nvPr/>
        </p:nvSpPr>
        <p:spPr>
          <a:xfrm>
            <a:off x="1187280" y="40766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把用剩的碎肥皂放在一只小木碗里，加上点水，搅拌搅拌，使它溶化。然后用一支竹笔的套管，蘸上那黏稠的肥皂水，慢慢地吹起，吹起一个轻圆的网球大小的泡儿，再轻轻地一提，那轻圆的球儿，便从管上落了下来，轻悠悠地在空中飘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2268360" y="620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优美的句子啊，快欣赏欣赏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8" descr="图片5"/>
          <p:cNvPicPr/>
          <p:nvPr/>
        </p:nvPicPr>
        <p:blipFill>
          <a:blip r:embed="rId2"/>
          <a:stretch/>
        </p:blipFill>
        <p:spPr>
          <a:xfrm>
            <a:off x="0" y="333360"/>
            <a:ext cx="2003400" cy="17208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3"/>
          <p:cNvSpPr/>
          <p:nvPr/>
        </p:nvSpPr>
        <p:spPr>
          <a:xfrm>
            <a:off x="900000" y="2492280"/>
            <a:ext cx="7848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轻清透明         玲珑娇软     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五色的浮光       光影凌乱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光丽的薄球        颤巍巍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403280" y="83664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冰心奶奶吹的肥皂泡的样子吗？快来读一读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图片12"/>
          <p:cNvPicPr/>
          <p:nvPr/>
        </p:nvPicPr>
        <p:blipFill>
          <a:blip r:embed="rId1"/>
          <a:stretch/>
        </p:blipFill>
        <p:spPr>
          <a:xfrm>
            <a:off x="395280" y="476280"/>
            <a:ext cx="1332000" cy="1582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755640" y="1125000"/>
            <a:ext cx="7632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吹肥皂泡的动作有什么特点？你是从哪体会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作轻：慢慢地吹起、轻轻地一提、轻轻地扇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样子轻：轻圆的、软悠悠地飘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肥皂泡"/>
          <p:cNvPicPr/>
          <p:nvPr/>
        </p:nvPicPr>
        <p:blipFill>
          <a:blip r:embed="rId1"/>
          <a:stretch/>
        </p:blipFill>
        <p:spPr>
          <a:xfrm>
            <a:off x="5364000" y="692280"/>
            <a:ext cx="3105360" cy="4572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1403280" y="7650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若是扇得好，一个大球，会分裂成两三个玲珑娇软的小球，四散分飞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755640" y="31417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时吹得太大了，扇得太急了，这脆弱的球，会扯成长圆的形式，颤巍巍的光影凌乱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3"/>
          <p:cNvPicPr/>
          <p:nvPr/>
        </p:nvPicPr>
        <p:blipFill>
          <a:blip r:embed="rId2"/>
          <a:stretch/>
        </p:blipFill>
        <p:spPr>
          <a:xfrm>
            <a:off x="395280" y="40464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55280" y="764640"/>
            <a:ext cx="7705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五色的浮光”：五色－－即五彩。原指青、黄、赤、白、黑五种颜色，后来泛指多种颜色。 浮光－－液体表面的光泽、颜色。课文指肥皂泡表面的光泽和颜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清透明”：不仅写出了肥皂泡“轻”的特点，而且写出了肥皂泡纯净、清亮、透明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玲珑娇软”：指那些小肥皂泡小巧精致而柔软、娇嫩、美丽。玲珑，精巧细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影凌乱”：指由于肥皂泡处于动态中，表面的光泽和颜色变化迅速且多样，显得不整齐、没有规律。凌乱，不整齐，没有秩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3:50:21Z</dcterms:created>
  <dc:creator>微软中国</dc:creator>
  <dc:description/>
  <dc:language>en-US</dc:language>
  <cp:lastModifiedBy>lbx777</cp:lastModifiedBy>
  <dcterms:modified xsi:type="dcterms:W3CDTF">2016-01-26T16:33:28Z</dcterms:modified>
  <cp:revision>16</cp:revision>
  <dc:subject/>
  <dc:title>29 肥 皂 泡</dc:title>
</cp:coreProperties>
</file>