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20.jpeg" ContentType="image/jpeg"/>
  <Override PartName="/ppt/media/image4.jpeg" ContentType="image/jpeg"/>
  <Override PartName="/ppt/media/image7.jpeg" ContentType="image/jpeg"/>
  <Override PartName="/ppt/media/image12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0.jpeg" ContentType="image/jpeg"/>
  <Override PartName="/ppt/media/image5.png" ContentType="image/png"/>
  <Override PartName="/ppt/media/image13.jpeg" ContentType="image/jpeg"/>
  <Override PartName="/ppt/media/image30.gif" ContentType="image/gif"/>
  <Override PartName="/ppt/media/image14.jpeg" ContentType="image/jpeg"/>
  <Override PartName="/ppt/media/image31.png" ContentType="image/png"/>
  <Override PartName="/ppt/media/image25.jpeg" ContentType="image/jpeg"/>
  <Override PartName="/ppt/media/image32.png" ContentType="image/png"/>
  <Override PartName="/ppt/media/image1.jpeg" ContentType="image/jpeg"/>
  <Override PartName="/ppt/media/image22.jpeg" ContentType="image/jpeg"/>
  <Override PartName="/ppt/media/image28.jpeg" ContentType="image/jpeg"/>
  <Override PartName="/ppt/media/image27.gif" ContentType="image/gif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5976-DD8C-41C7-A1F8-46FC171017D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点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返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以备分值相同的组再决一胜负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图片导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4C52-A530-444F-A0E7-159F2E137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9EFD-FD27-487F-B653-7A38685B8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6C68-0B66-4683-B54D-80C9B8C51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2A16-4833-46D3-AF8A-2F22F11C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7116-E246-491D-9C37-B20A43A97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B98C8-2841-4D4A-BD55-001E88335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FA5D9-3D7D-4741-B0D5-1D982C5C1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E8F9F-BF34-4CF6-804B-9F35DFDB4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E652C-BDA2-4191-BA61-9DEF4977A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073A-AAA2-427B-BA5F-2AEFC4759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34873-EE94-4833-A9A9-06EE6D658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E6AD-7176-45D2-83EC-80C351704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905D-9471-4BFB-9361-66B3DC182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D3434-7DF2-436A-A622-2A59B9B2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A658C-7B02-4290-A913-D77D37814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4975-9D2B-429C-B704-AC1A72688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75248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3400"/>
            <a:ext cx="274968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A11DB-B45D-4BAA-AAC1-2EA0CB692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D90A-C052-4235-B615-654C6DC07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095-28A8-41E6-B7A3-E1FD11410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88FA-F65A-4FB4-854C-FE8AC1559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3805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5165E-AA0A-4D20-A887-C2343BC3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3133-E450-47E8-B5E3-450CFF22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34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BA81-60C2-4985-B4E6-B6396561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75248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3400"/>
            <a:ext cx="85406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EFBA-07D9-4833-A3C3-3DD2FAB1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FD495-DD65-4D83-83C4-5F21B632837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E984-D9A5-4A1B-9773-8DBF76DE0C7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image" Target="../media/image27.gif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217000" y="404640"/>
            <a:ext cx="4586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88760" y="0"/>
            <a:ext cx="1155240" cy="2087640"/>
          </a:xfrm>
          <a:prstGeom prst="rect">
            <a:avLst/>
          </a:prstGeom>
          <a:solidFill>
            <a:srgbClr val="00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00ff"/>
                </a:solidFill>
                <a:latin typeface="Arial"/>
              </a:rPr>
              <a:t>神龙凌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、请概括第二部分具有重大意义的六件大事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9640" y="1700280"/>
            <a:ext cx="8280360" cy="37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、是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58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毛泽东发出“我们也要搞人造卫星！”的指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二、是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60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中国第一枚火箭的成功发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三、是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70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中国成功地将自己的第一颗人造地球卫星送上了太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四、是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992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年中共中央作出实施中国载人航天工程的战略决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五、是“长征”系列火箭发射久经考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六、是“神舟”一至四号飞船的成功发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9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2" dur="5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4" dur="500"/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运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时间为经、事件为纬的交叉方式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以时间推进等手段来切割事件，构成若干侧面，经过作者的精心组合剪辑将事件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完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而利落地呈现于读者面前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4</a:t>
            </a:r>
            <a:r>
              <a:rPr b="1" lang="zh-CN" sz="4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、主体部分：作者主要运用了什么写法？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1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0" y="1412640"/>
            <a:ext cx="884232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对中国航天史的回顾，是建立在叙述“神五”飞天这一重大的历史事件的基础上来写的，是作为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新闻背景材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来用的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对新闻事实起补充说明的作用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把航天史的材料以历史的形式系统地呈现在读者面前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能及时满足读者阅读的需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同时把事件放在历史的长河去考察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使事件本身具有历史的纵深感，意义也更加突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第二部分用大量篇幅写背景材料有何意义？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2560" y="3805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标题有何含义？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884232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其一，本文要传达的新闻事实是中国的载人航天飞船飞向了太空，并且取得了成功，标题可认为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实指“神舟”五号飞船发射的过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其二，中国的航天梦经过了几代人不懈的努力终于取得了成功，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标题也喻指这一探索过程。</a:t>
            </a:r>
            <a:br>
              <a:rPr sz="4000"/>
            </a:b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9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体裁知识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概念：通讯是以叙述、描写为主要表达方式，将具有新闻价值的人物或事件及时、具体、生动地予以报道的新闻体裁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通讯的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真实性、时效性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生动性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完整性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评论性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1680" y="2696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500" spc="-1" strike="noStrike">
                <a:solidFill>
                  <a:srgbClr val="000099"/>
                </a:solidFill>
                <a:latin typeface="Arial"/>
                <a:ea typeface="华文隶书"/>
              </a:rPr>
              <a:t>消息、通讯、报告文学</a:t>
            </a:r>
            <a:endParaRPr b="0" lang="en-US" sz="5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84232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8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三者都强调真实性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三者都具有时效性，消息最强、通讯较强、报告文学较弱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消息篇幅最短，通讯较长，报告文学最长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通讯与报告文学都具有文学性，后者比前者的文学色彩更浓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Arial"/>
                <a:ea typeface="楷体_GB2312"/>
              </a:rPr>
              <a:t>报告文学具有政论性，即它以明显的社会作用为目的，是一种特殊宣传工具。</a:t>
            </a:r>
            <a:r>
              <a:rPr b="1" lang="zh-CN" sz="3400" spc="-1" strike="noStrike">
                <a:solidFill>
                  <a:srgbClr val="ff0000"/>
                </a:solidFill>
                <a:latin typeface="Arial"/>
                <a:ea typeface="楷体_GB2312"/>
              </a:rPr>
              <a:t>通讯具有评论性，即它必须对人或事作出评论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>
            <a:hlinkClick r:id="rId2" action="ppaction://hlinksldjump"/>
          </p:cNvPr>
          <p:cNvSpPr/>
          <p:nvPr/>
        </p:nvSpPr>
        <p:spPr>
          <a:xfrm>
            <a:off x="8534520" y="6094440"/>
            <a:ext cx="358560" cy="358920"/>
          </a:xfrm>
          <a:custGeom>
            <a:avLst/>
            <a:gdLst>
              <a:gd name="textAreaLeft" fmla="*/ 23040 w 358560"/>
              <a:gd name="textAreaRight" fmla="*/ 335520 w 35856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22">
                <a:moveTo>
                  <a:pt x="0" y="0"/>
                </a:moveTo>
                <a:lnTo>
                  <a:pt x="21600" y="0"/>
                </a:lnTo>
                <a:lnTo>
                  <a:pt x="21600" y="21622"/>
                </a:lnTo>
                <a:lnTo>
                  <a:pt x="0" y="21622"/>
                </a:lnTo>
                <a:close/>
              </a:path>
              <a:path fill="lightenLess" w="21600" h="216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2">
                <a:moveTo>
                  <a:pt x="21600" y="0"/>
                </a:moveTo>
                <a:lnTo>
                  <a:pt x="21600" y="21622"/>
                </a:lnTo>
                <a:lnTo>
                  <a:pt x="20200" y="20222"/>
                </a:lnTo>
                <a:lnTo>
                  <a:pt x="20200" y="1400"/>
                </a:lnTo>
                <a:close/>
              </a:path>
              <a:path fill="darkenLess" w="21600" h="21622">
                <a:moveTo>
                  <a:pt x="21600" y="21622"/>
                </a:moveTo>
                <a:lnTo>
                  <a:pt x="0" y="21622"/>
                </a:lnTo>
                <a:lnTo>
                  <a:pt x="1400" y="20222"/>
                </a:lnTo>
                <a:lnTo>
                  <a:pt x="20200" y="20222"/>
                </a:lnTo>
                <a:close/>
              </a:path>
              <a:path fill="lighten" w="21600" h="21622">
                <a:moveTo>
                  <a:pt x="0" y="216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2"/>
                </a:lnTo>
                <a:close/>
              </a:path>
              <a:path fill="darken" w="21600" h="21622">
                <a:moveTo>
                  <a:pt x="10800" y="3848"/>
                </a:moveTo>
                <a:lnTo>
                  <a:pt x="13376" y="6459"/>
                </a:ln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lnTo>
                  <a:pt x="17763" y="10811"/>
                </a:lnTo>
                <a:lnTo>
                  <a:pt x="16109" y="10811"/>
                </a:lnTo>
                <a:lnTo>
                  <a:pt x="16109" y="18000"/>
                </a:lnTo>
                <a:lnTo>
                  <a:pt x="5491" y="18000"/>
                </a:lnTo>
                <a:lnTo>
                  <a:pt x="5491" y="10811"/>
                </a:lnTo>
                <a:lnTo>
                  <a:pt x="3837" y="10811"/>
                </a:lnTo>
                <a:close/>
              </a:path>
              <a:path fill="darkenLess" w="21600" h="21622">
                <a:moveTo>
                  <a:pt x="13376" y="6459"/>
                </a:moveTo>
                <a:lnTo>
                  <a:pt x="13376" y="4718"/>
                </a:lnTo>
                <a:lnTo>
                  <a:pt x="15152" y="4718"/>
                </a:lnTo>
                <a:lnTo>
                  <a:pt x="15152" y="8235"/>
                </a:lnTo>
                <a:close/>
              </a:path>
              <a:path fill="darkenLess" w="21600" h="21622">
                <a:moveTo>
                  <a:pt x="9877" y="14310"/>
                </a:moveTo>
                <a:lnTo>
                  <a:pt x="11723" y="14310"/>
                </a:lnTo>
                <a:lnTo>
                  <a:pt x="11723" y="18000"/>
                </a:lnTo>
                <a:lnTo>
                  <a:pt x="16109" y="18000"/>
                </a:lnTo>
                <a:lnTo>
                  <a:pt x="16109" y="10811"/>
                </a:lnTo>
                <a:lnTo>
                  <a:pt x="5491" y="10811"/>
                </a:lnTo>
                <a:lnTo>
                  <a:pt x="5491" y="18000"/>
                </a:lnTo>
                <a:lnTo>
                  <a:pt x="9877" y="18000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1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6" dur="5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1" dur="500"/>
                                        <p:tgtEl>
                                          <p:spTgt spid="1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1773360"/>
            <a:ext cx="9144000" cy="50846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4379400" y="3246480"/>
            <a:ext cx="38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42920" y="404640"/>
            <a:ext cx="6953400" cy="121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三、图片抢答题（</a:t>
            </a:r>
            <a:r>
              <a:rPr b="1" lang="en-US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40</a:t>
            </a:r>
            <a:r>
              <a:rPr b="1" lang="zh-CN" sz="5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分）</a:t>
            </a:r>
            <a:endParaRPr b="1" lang="en-US" sz="5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6156360" cy="6453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 rot="5400000">
            <a:off x="6066720" y="2437560"/>
            <a:ext cx="2952720" cy="1046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万户</a:t>
            </a:r>
            <a:endParaRPr b="1" i="1" lang="en-US" sz="5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8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3284640"/>
            <a:ext cx="9144000" cy="3817800"/>
          </a:xfrm>
          <a:prstGeom prst="rect">
            <a:avLst/>
          </a:prstGeom>
          <a:noFill/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　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世纪末，明朝一勇敢者万户坐在装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7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当时最大的窜天猴的椅子上，双手各持一大风筝，试图借助火药的推力和风筝的升力实现飞行的梦想。尽管这次试验是一次失败的悲剧，但万户被公认是载人航天技术的世界第一人。为了纪念万户，月球上的一个环形山以万户的名字命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427640" y="0"/>
            <a:ext cx="4716360" cy="32846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55640" y="765000"/>
            <a:ext cx="3429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39640" y="76500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427640" cy="37893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6516720" y="2565360"/>
            <a:ext cx="2286000" cy="126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补充了解</a:t>
            </a:r>
            <a:endParaRPr b="1" lang="en-US" sz="4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0" y="0"/>
            <a:ext cx="9144000" cy="525780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0" y="530388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在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世纪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7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代的一次国际天文联合会上，月球上一座环形山被命名为“万户”，以纪念“第一个试图利用火箭作飞行的人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l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7006320" y="1268280"/>
            <a:ext cx="789840" cy="42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楷体_GB2312"/>
              </a:rPr>
              <a:t>嫦娥奔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9144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列举“神一”至“神七”的发射时间。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324000" y="1628640"/>
            <a:ext cx="8820000" cy="48960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3855960" y="5516640"/>
            <a:ext cx="320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999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20</a:t>
            </a: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0" y="1550880"/>
            <a:ext cx="9144000" cy="53071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942840" y="2452680"/>
            <a:ext cx="28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神舟二号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200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１月１０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4"/>
          <a:stretch/>
        </p:blipFill>
        <p:spPr>
          <a:xfrm>
            <a:off x="0" y="1628640"/>
            <a:ext cx="9144000" cy="5229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917880" y="3141720"/>
            <a:ext cx="34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神舟”三号升空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02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日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0" y="1411200"/>
            <a:ext cx="9144000" cy="54468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3759120" y="3073320"/>
            <a:ext cx="27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6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206160" y="2565360"/>
            <a:ext cx="323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神五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7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72880" y="1916280"/>
            <a:ext cx="887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2005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月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12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日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9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时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分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0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秒，神舟六号在酒泉卫星发射中心升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8"/>
          <a:stretch/>
        </p:blipFill>
        <p:spPr>
          <a:xfrm>
            <a:off x="0" y="148428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539640" y="1773360"/>
            <a:ext cx="367344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008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2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时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分许，“神七”飞船在酒泉卫星发射中心发射成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0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65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70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257040" y="620640"/>
            <a:ext cx="3810240" cy="27050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4302000" y="620640"/>
            <a:ext cx="4734000" cy="276228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/>
          <p:cNvPicPr/>
          <p:nvPr/>
        </p:nvPicPr>
        <p:blipFill>
          <a:blip r:embed="rId4"/>
          <a:stretch/>
        </p:blipFill>
        <p:spPr>
          <a:xfrm>
            <a:off x="4354560" y="3500280"/>
            <a:ext cx="4610160" cy="29181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4292640"/>
            <a:ext cx="396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这是杨利伟拍摄的作品，他说这是他看到的（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地球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）最美的画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5" action="ppaction://hlinksldjump"/>
          </p:cNvPr>
          <p:cNvSpPr/>
          <p:nvPr/>
        </p:nvSpPr>
        <p:spPr>
          <a:xfrm>
            <a:off x="3852720" y="6022800"/>
            <a:ext cx="358920" cy="358920"/>
          </a:xfrm>
          <a:custGeom>
            <a:avLst/>
            <a:gdLst>
              <a:gd name="textAreaLeft" fmla="*/ 23040 w 358920"/>
              <a:gd name="textAreaRight" fmla="*/ 335880 w 358920"/>
              <a:gd name="textAreaTop" fmla="*/ 23040 h 358920"/>
              <a:gd name="textAreaBottom" fmla="*/ 335880 h 3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404640"/>
            <a:ext cx="5364000" cy="6120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5580000" y="1341360"/>
            <a:ext cx="3564000" cy="460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费俊龙、聂海胜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7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70" fill="hold"/>
                                        <p:tgtEl>
                                          <p:spTgt spid="16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0" y="1989000"/>
            <a:ext cx="9144000" cy="439416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947120" y="844200"/>
            <a:ext cx="70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翟志刚、刘伯明、景海鹏</a:t>
            </a:r>
            <a:r>
              <a:rPr b="0" lang="zh-CN" sz="32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0" y="3186000"/>
            <a:ext cx="4500720" cy="326736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3960720" cy="309708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4788000" y="4005360"/>
            <a:ext cx="4105080" cy="24480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24000" y="1197000"/>
            <a:ext cx="39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下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时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05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分，航天员顺利出舱，在太空中走出中国人的第一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2268360" y="3068640"/>
            <a:ext cx="1297080" cy="15289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651320" y="25257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翟志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77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77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3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38" dur="77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40" dur="77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540640" cy="126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2003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0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02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日“哥伦比亚号”航天飞机在降落时解体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0" y="1700280"/>
            <a:ext cx="4356000" cy="5157720"/>
          </a:xfrm>
          <a:prstGeom prst="rect">
            <a:avLst/>
          </a:prstGeom>
          <a:ln w="0">
            <a:noFill/>
          </a:ln>
        </p:spPr>
      </p:pic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427640" y="1700280"/>
            <a:ext cx="4716360" cy="659916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4356000" y="5810400"/>
            <a:ext cx="4537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263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航天飞机上有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名美国宇航员和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名以色列宇航员，其中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位是女性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1680" y="76320"/>
            <a:ext cx="85406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1680" y="620640"/>
            <a:ext cx="8540640" cy="540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324000" y="260280"/>
            <a:ext cx="6265800" cy="316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四、延伸拓展（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10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楷体_GB2312"/>
              </a:rPr>
              <a:t>分）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楷体_GB2312"/>
              <a:ea typeface="楷体_GB2312"/>
            </a:endParaRPr>
          </a:p>
        </p:txBody>
      </p:sp>
      <p:sp>
        <p:nvSpPr>
          <p:cNvPr id="185" name=""/>
          <p:cNvSpPr txBox="1"/>
          <p:nvPr/>
        </p:nvSpPr>
        <p:spPr>
          <a:xfrm rot="5400000">
            <a:off x="6084360" y="3500280"/>
            <a:ext cx="3960720" cy="649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宋体"/>
              </a:rPr>
              <a:t>一锤定音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539640" y="692280"/>
            <a:ext cx="8604360" cy="344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阅读下面的材料，依材料拟一条一句话新闻。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(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不超过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30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字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)</a:t>
            </a:r>
            <a:r>
              <a:rPr b="1" lang="zh-CN" sz="2800" spc="-1" strike="noStrike">
                <a:solidFill>
                  <a:srgbClr val="ff0000"/>
                </a:solidFill>
                <a:latin typeface="华文中宋"/>
                <a:ea typeface="华文中宋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a50021"/>
                </a:solidFill>
                <a:latin typeface="Arial"/>
              </a:rPr>
              <a:t>　　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北京市公安机关在追逃专项斗争中，采取“网上作战”等高科技手段和对在逃人员的分级督捕，自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日至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日，将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1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在京作案后逃跑的犯罪嫌疑人缉拿归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据介绍，按照中央政法委和公安部的部署，北京市公安局自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份开始对全市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99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年以来的负案、批捕、扣留在逃犯罪嫌疑人和从监管等场所逃脱的犯罪嫌疑人和罪犯，进行了全面调查，将查出的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1000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余名在逃人员的情况全部输入计算机上网，并与公安部联网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25892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4560" y="2276640"/>
            <a:ext cx="817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份北京公安采取“网上作战”分级督捕等措施缉拿逃犯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1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（或：“网上作战”分级督捕，北京公安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月份缉捕逃犯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211</a:t>
            </a:r>
            <a:r>
              <a:rPr b="1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名。）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87280" y="836640"/>
            <a:ext cx="30974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答案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0" name=""/>
          <p:cNvGraphicFramePr/>
          <p:nvPr/>
        </p:nvGraphicFramePr>
        <p:xfrm>
          <a:off x="0" y="-1488960"/>
          <a:ext cx="9144000" cy="4604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国航天事业发展史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1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0" y="-1028880"/>
          <a:ext cx="9144000" cy="9375840"/>
        </p:xfrm>
        <a:graphic>
          <a:graphicData uri="http://schemas.openxmlformats.org/drawingml/2006/table">
            <a:tbl>
              <a:tblPr/>
              <a:tblGrid>
                <a:gridCol w="9144000"/>
              </a:tblGrid>
              <a:tr h="9375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2556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6192720" cy="4032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042920" y="5302080"/>
            <a:ext cx="810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祝祖国航天事业永盛不衰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华文行楷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0" y="2565360"/>
            <a:ext cx="147636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1692360" y="476280"/>
            <a:ext cx="745164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restart="whenNotActive" nodeType="interactiveSeq" fill="hold">
                <p:stCondLst>
                  <p:cond evt="onClick">
                    <p:tgtEl>
                      <p:spTgt spid="195"/>
                    </p:tgtEl>
                  </p:cond>
                </p:stCondLst>
                <p:childTnLst>
                  <p:par>
                    <p:cTn id="361" fill="hold">
                      <p:stCondLst>
                        <p:cond evt="onClick">
                          <p:tgtEl>
                            <p:spTgt spid="195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4" dur="1" fill="hold"/>
                                        <p:tgtEl>
                                          <p:spTgt spid="19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395280" y="1341360"/>
            <a:ext cx="734544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1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飞向太空的航程</a:t>
            </a:r>
            <a:endParaRPr b="0" lang="en-US" sz="1800" spc="1" strike="noStrike">
              <a:ln w="1260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、新闻结构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42920" y="18900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读新闻   析结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1125360"/>
          <a:ext cx="9143640" cy="5376960"/>
        </p:xfrm>
        <a:graphic>
          <a:graphicData uri="http://schemas.openxmlformats.org/drawingml/2006/table">
            <a:tbl>
              <a:tblPr/>
              <a:tblGrid>
                <a:gridCol w="1890720"/>
                <a:gridCol w="679320"/>
                <a:gridCol w="754920"/>
                <a:gridCol w="5818680"/>
              </a:tblGrid>
              <a:tr h="935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段落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Arial"/>
                          <a:ea typeface="华文新魏"/>
                        </a:rPr>
                        <a:t>结构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内           容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72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4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686880" y="2133720"/>
            <a:ext cx="913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1-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908000" y="213372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导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19640" y="2205000"/>
            <a:ext cx="511164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“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神舟”五号飞船发射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举国关注，不同凡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9640" y="337500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4-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1840" y="3573360"/>
            <a:ext cx="561816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中国航天历史回顾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66160" y="3213000"/>
            <a:ext cx="78984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主 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25960" y="4581360"/>
            <a:ext cx="7902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宋体"/>
              </a:rPr>
              <a:t>新闻事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4653000"/>
            <a:ext cx="18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27-2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48000" y="486900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神舟”五号发射成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805360"/>
            <a:ext cx="172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结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564000" y="5734080"/>
            <a:ext cx="50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中华民族飞天梦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9640" y="580536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方正粗圆简体"/>
              </a:rPr>
              <a:t>3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463920" y="30780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270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627280" y="3284640"/>
            <a:ext cx="576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ff"/>
                </a:solidFill>
                <a:latin typeface="Arial"/>
              </a:rPr>
              <a:t>新闻背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9" presetSubtype="10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5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77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5" dur="770" fill="hold"/>
                                        <p:tgtEl>
                                          <p:spTgt spid="11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7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9" dur="77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01680" y="1752480"/>
            <a:ext cx="884232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导语部分：指出①至③段运用的表达方式及其表达效果，并说说第③段的作用是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第四段在文中的作用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请概括第二部分具有重大意义的六件大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主体部分：作者主要运用了什么写法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主体部分用大量篇幅写背景材料有什么好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标题有何含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1680" y="2060640"/>
            <a:ext cx="8540640" cy="396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描写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动形象，给人以立体感、       现场感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议论（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表露感情、倾向、观点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点明这一事件的重大意义，并指明这则新闻的新闻价值所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title"/>
          </p:nvPr>
        </p:nvSpPr>
        <p:spPr>
          <a:xfrm>
            <a:off x="301680" y="380880"/>
            <a:ext cx="8663040" cy="167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、导语部分：指出①至③段运用的表达方式及其表达效果，并说说第③段的作用是什么。</a:t>
            </a:r>
            <a:endParaRPr b="0" lang="en-US" sz="3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过渡段，承上启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新宋体"/>
                <a:ea typeface="新宋体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新宋体"/>
                <a:ea typeface="新宋体"/>
              </a:rPr>
              <a:t>、第四段在文中的作用是什么？</a:t>
            </a:r>
            <a:br>
              <a:rPr sz="4000"/>
            </a:b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2" dur="2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6T09:16:11Z</dcterms:created>
  <dc:creator>simplicity</dc:creator>
  <dc:description/>
  <dc:language>en-US</dc:language>
  <cp:lastModifiedBy>zmj</cp:lastModifiedBy>
  <dcterms:modified xsi:type="dcterms:W3CDTF">2009-12-18T05:19:10Z</dcterms:modified>
  <cp:revision>138</cp:revision>
  <dc:subject/>
  <dc:title>幻灯片 1</dc:title>
</cp:coreProperties>
</file>