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8.png" ContentType="image/png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695-5644-4889-BF18-615F7EF7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22B0-0C75-43B2-AFA0-0F827E30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95F-D18C-4E28-B744-AC5C9FE2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E6A-2590-408F-8758-1D758CCB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B1E1-CE64-4A8B-B3F3-5908FC96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3041-7E45-4E75-8D9C-CB1FE46E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B3DF-74BB-4B7D-BE85-E8FA75BD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869B-56F3-4939-954F-BEC11A29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08A4-43D8-401D-9F64-0C8F2787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0D14-A92B-48B7-BAEE-E3CEBD1D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133C-9C56-4009-8239-23AE46CC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F871-5A4F-4EA3-900E-1D343249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DE5A-6ABF-4A5C-BDDC-F04ECAF5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9D52-CF97-49DB-A3B6-5F156BD9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70BA-85B9-4365-AF4D-B662E7D8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7517-1C3B-41B1-9E2A-B9B1ED6B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C5E4-C6E4-4736-A6EE-3CBCB69F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5CE5-66CE-41F5-8825-AE7D29E9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CAC4-2DB2-4081-BF7C-A59BD500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6762-1B42-441E-8757-CD72A142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E17-13E4-44B1-9D54-8695A5EF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5F1-F025-49BB-89A4-0BD778F4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DB6-392A-4BD2-8A07-86139AA5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7A5E-4510-435B-ADDA-E857EB67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808D-9398-415F-89B1-C3BED5D6FAA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5ECE-5A68-4E67-AA5A-AB53BBC3902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zhan.net/html/200509/bdf9a2b7680988f68204d24aed565e8b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zdigao.net/pshome/hc/beijing/page_01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hinamap.com/pic/lvyou/wenhuayishu/china/index/china01-n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468360" y="1125000"/>
            <a:ext cx="7772400" cy="15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废墟的召唤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00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767ff"/>
                </a:solidFill>
                <a:latin typeface="Arial"/>
              </a:rPr>
              <a:t>宗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ffffff"/>
                </a:solidFill>
                <a:latin typeface="Arial"/>
              </a:rPr>
              <a:t>句段賞析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在文中找出你最喜欢的那一句或一段话，并把它有感情地朗读出来，同大家一起分享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冬日的斜阳无力地照在这一片田野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1707e3"/>
                </a:solidFill>
                <a:latin typeface="Arial"/>
              </a:rPr>
              <a:t>开篇便以低调的笔法来写周围的景色，给人一种沉重压抑的感觉。为下文渲染了气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远瀛观的断石柱，在灰蓝色的天空下，依然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寂寞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站着，显得四周那样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空荡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那样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无依无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1707e3"/>
                </a:solidFill>
                <a:latin typeface="Arial"/>
              </a:rPr>
              <a:t>划线词语显示出一种悲怆的气氛，以“灰蓝色的天空下”为背景，可使整篇文章更加大气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风在路另侧的小树林中呼啸，忽高忽低，如泣如诉，仿佛从废墟上飘来了“留—留—”的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1707e3"/>
                </a:solidFill>
                <a:latin typeface="Arial"/>
              </a:rPr>
              <a:t>这里的风也是低沉的，也像是受到环境的感染，足以显示出这里的气氛的沉重。风犹如此，人何以堪！破折号的作用是表示风的绵长，也暗示了历史的悠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句段欣赏，品味句子的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石波不兴，雕兵永驻，这蒙受了奇耻大辱的废墟，只管悠闲地、若无其事地停泊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空中一阵鸦噪，抬头只见寒鸦万点，驮着夕阳，掠过枯树林，转眼便消失在已呈粉红色的西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黑体"/>
                <a:ea typeface="黑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1989000"/>
            <a:ext cx="828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黑体"/>
              </a:rPr>
              <a:t>拟人的手法表现了这永不变化的废墟，使人感到历史似乎在这里停滞了，凝固了。其中蕴涵着作者对更新变革的渴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5013360"/>
            <a:ext cx="835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3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1707e3"/>
                </a:solidFill>
                <a:latin typeface="黑体"/>
                <a:ea typeface="黑体"/>
              </a:rPr>
              <a:t>空中鸦噪与废墟之静对比，既是写实景，又把人们的视线由地面引向透着美丽夕阳的空中。表达了作者对变革给国家和民族带来的万千气象的向往和憧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390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那不浓不淡处使我想起春日的紫藤萝，这铺天的霞锦，需要多少个藤萝花瓣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07e3"/>
                </a:solidFill>
                <a:latin typeface="黑体"/>
                <a:ea typeface="黑体"/>
              </a:rPr>
              <a:t>铺天的锦霞，象征着百废俱兴、重新腾飞的祖国的前程。这里作者用漫天的紫藤萝之美，来表达她的美好希望和赞美。同时，作者用“这铺天的霞锦，需要多少个藤萝花瓣啊”，呼唤每个人都要在民族振兴之际做出自己的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我想，能不能留下一部分废墟呢？……为了什么呢？为了凭吊这一段凝固的历史，为了记住废墟的召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07e3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1707e3"/>
                </a:solidFill>
                <a:latin typeface="黑体"/>
                <a:ea typeface="黑体"/>
              </a:rPr>
              <a:t>国家兴亡，匹夫有责”，废墟记录着历史，更呼唤一切爱国之士在不忘历史的同时，更要响应时代的召唤，投身到伟大的变革中，去奋斗，去建设新的一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077320" y="5410080"/>
            <a:ext cx="152388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524880" cy="6826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77240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拓展延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请同学们也来写一段景色描写，不要直接出现写自己的心情的词语，但要能够让读者通过阅读你的描写看出你的心情，或是愉快的，或是郁闷的，等等，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体现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“一切景语皆情语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Arial"/>
              </a:rPr>
              <a:t>作者简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宗璞，现代女作家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生于北京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当选为中国作家协会理事，现列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国际名人录和国际著名作家名人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要作品有：《弦上的梦》、《三生石》、《丁香结》。其中《三生石》获得第一届全国优秀中篇小说奖， 《弦上的梦》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7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全国优秀短篇小说奖。童话《总鳍鱼的故事》获得中国作家协会首届全国优秀儿童文学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9900cc"/>
                </a:solidFill>
                <a:latin typeface="Arial"/>
                <a:ea typeface="华文彩云"/>
              </a:rPr>
              <a:t>写作背景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707e3"/>
                </a:solidFill>
                <a:latin typeface="方正姚体"/>
                <a:ea typeface="方正姚体"/>
              </a:rPr>
              <a:t>本文创作于</a:t>
            </a:r>
            <a:r>
              <a:rPr b="0" lang="zh-CN" sz="4000" spc="-1" strike="noStrike">
                <a:solidFill>
                  <a:srgbClr val="1707e3"/>
                </a:solidFill>
                <a:latin typeface="方正姚体"/>
                <a:ea typeface="方正姚体"/>
              </a:rPr>
              <a:t>1979</a:t>
            </a:r>
            <a:r>
              <a:rPr b="0" lang="zh-CN" sz="4000" spc="-1" strike="noStrike">
                <a:solidFill>
                  <a:srgbClr val="1707e3"/>
                </a:solidFill>
                <a:latin typeface="方正姚体"/>
                <a:ea typeface="方正姚体"/>
              </a:rPr>
              <a:t>年岁末，时值党的改革开放的号召如春雷般在神州大地回响。作者将历史的回顾与现实的思考融入特定的景物之中，并通过画面蕴涵的意象，传达出一种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渴望改革、渴望振兴</a:t>
            </a:r>
            <a:r>
              <a:rPr b="0" lang="zh-CN" sz="4000" spc="-1" strike="noStrike">
                <a:solidFill>
                  <a:srgbClr val="1707e3"/>
                </a:solidFill>
                <a:latin typeface="方正姚体"/>
                <a:ea typeface="方正姚体"/>
              </a:rPr>
              <a:t>的时代呼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3212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942840"/>
            <a:ext cx="7315200" cy="4972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9528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大水法和远羸观残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257040"/>
            <a:ext cx="800100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ff"/>
                </a:solidFill>
                <a:latin typeface="Arial"/>
                <a:ea typeface="黑体"/>
              </a:rPr>
              <a:t>听录音朗读课文，弄清课文结构，掌握下列词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492280"/>
            <a:ext cx="8208720" cy="41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3"/>
                </a:solidFill>
                <a:latin typeface="黑体"/>
                <a:ea typeface="黑体"/>
              </a:rPr>
              <a:t>        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zhò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3"/>
                </a:solidFill>
                <a:latin typeface="黑体"/>
                <a:ea typeface="黑体"/>
              </a:rPr>
              <a:t>废墟           甲胄        停滞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3"/>
                </a:solidFill>
                <a:latin typeface="黑体"/>
                <a:ea typeface="黑体"/>
              </a:rPr>
              <a:t>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nìe r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3"/>
                </a:solidFill>
                <a:latin typeface="黑体"/>
                <a:ea typeface="黑体"/>
              </a:rPr>
              <a:t>凝固           充塞        嗫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ǐ  lǐ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xī s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3"/>
                </a:solidFill>
                <a:latin typeface="黑体"/>
                <a:ea typeface="黑体"/>
              </a:rPr>
              <a:t>迤逦           窸 窣       凭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全文可分四个部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—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段，是全文的第一部分，即对圆明园废墟的整体描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—10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段，作者直抒胸臆，号召人们留下来，改造这凝固的历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—20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段，作者通过“我”与年轻人的对话，向全社会的呼唤，尤其是对青年人的呼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段，篇末点题，表明全文主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4:08:12Z</dcterms:created>
  <dc:creator>__</dc:creator>
  <dc:description/>
  <dc:language>en-US</dc:language>
  <cp:lastModifiedBy>sg</cp:lastModifiedBy>
  <dcterms:modified xsi:type="dcterms:W3CDTF">2014-02-21T02:49:27Z</dcterms:modified>
  <cp:revision>29</cp:revision>
  <dc:subject/>
  <dc:title>废墟的召唤</dc:title>
</cp:coreProperties>
</file>