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1.jpeg" ContentType="image/jpeg"/>
  <Override PartName="/ppt/media/camera.wav" ContentType="audio/x-wav"/>
  <Override PartName="/ppt/media/image16.gif" ContentType="image/gif"/>
  <Override PartName="/ppt/media/image14.jpeg" ContentType="image/jpeg"/>
  <Override PartName="/ppt/media/image15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228-9494-4158-A00B-EE765A28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0BE-9880-4ABD-92BF-A9D4E3E2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602-EDE9-4D76-836F-73C2654B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616-B311-4B43-A0A7-B55D9BFB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EC0-A6F5-4072-AC28-460E9226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348-9917-41A3-92CE-F932CB66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BC8-F3F0-4A26-A0AF-DB1F2741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0FD-D697-4FE1-B520-1942C8A9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D16-92DB-4F7A-80DB-B21BE901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6CC-93D7-49B3-9442-35B97A2F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8E9-E9E5-493B-9F2C-8E95CEF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89D-4212-4239-907E-29710492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B51-8117-4C69-A946-943EED1DC9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uzhan.net/html/200509/bdf9a2b7680988f68204d24aed565e8b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废墟的召唤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Times New Roman"/>
              </a:rPr>
              <a:t>宗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作人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lpw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680" y="257040"/>
            <a:ext cx="80010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71880" y="1766880"/>
            <a:ext cx="4800600" cy="332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609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方正姚体"/>
              </a:rPr>
              <a:t>圆明园暗藏隐形巨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句段賞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在文中找出你最喜歡的那一句或一段話，並把它有感情地朗讀出來，同大家一起分享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94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找出文中写景的句子，并说明它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冬日的斜阳无力地照在这一片田野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开篇便以低调的笔法来写周围的景色，给人一种沉重压抑的感觉。为下文渲染了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远瀛观的断石柱，在灰蓝色的天空下，依然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寂寞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站着，显得四周那样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空荡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那样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无依无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划线词语显示出一种悲怆的气氛，以“灰蓝色的天空下”为背景，可使整篇文章更加大气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风在路另侧的小树林中呼啸，忽高忽低，如泣如诉，仿佛从废墟上飘来了“留—留—留—”的声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这里的风也是低沉的，也像是受到环境的感染，足以显示出这里的气氛的沉重。风犹如此，人何以堪！破折号的作用是表示风的绵长，也暗示了历史的悠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848720" y="3733920"/>
            <a:ext cx="1752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句段欣赏，品味句子的含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石波不兴，雕兵永驻，这蒙受了奇耻大辱的废墟，只管悠闲地、若无其事地停泊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拟人的手法表现了这永不变化的废墟，使人感到历史似乎在这里停滞了，凝固了。其中蕴涵着作者对更新变革的渴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空中一阵鸦噪，抬头只见寒鸦万点，驮着夕阳，掠过枯树林，转眼便消失在已呈粉红色的西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空中鸦噪与废墟之静对比，既是写实景，又把人们的视线由地面引向透着美丽夕阳的空中。表达了作者对变革给国家和民族带来的万千气象的向往和憧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那不浓不淡处使我想起春日的紫藤萝，这铺天的霞锦，需要多少个藤萝花瓣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铺天的锦霞，象征着百废俱兴、重新腾飞的祖国的前程。这里作者用漫天的紫藤萝之美，来表达她的美好希望和赞美。同时，作者用“这铺天的霞锦，需要多少个藤萝花瓣啊”，呼唤每个人都要在民族振兴之际做出自己的贡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我想，能不能留下一部分废墟呢？……为了什么呢？为了凭吊这一段凝固的历史，为了记住废墟的召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国家兴亡，匹夫有责”，废墟记录着历史，更呼唤一切爱国之士在不忘历史的同时，更要响应时代的召唤，投身到伟大的变革中，去奋斗，去建设新的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77320" y="5410080"/>
            <a:ext cx="15238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全文是如何结构文章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文可分四个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—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，是全文的第一部分，即对圆明园废墟的整体描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—1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，作者直抒胸臆，号召人们留下来，改造这凝固的历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—2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，作者通过“我”与年轻人的对话，向全社会的呼唤，尤其是对青年人的呼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，篇末点题，表明全文主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524880" cy="6826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请同学们也来写一段景色描写，不要直接出现写自己的心情的词语，但要能够让读者通过阅读你的描写看出你的心情，或是愉快的，或是郁闷的，等等，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体现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一切景语皆情语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宗璞，现代女作家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生于北京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当选为中国作家协会理事，现列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国际名人录和国际著名作家名人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作品有：《弦上的梦》、《三生石》、《丁香结》。其中《三生石》获得第一届全国优秀中篇小说奖， 《弦上的梦》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全国优秀短篇小说奖。童话《总鳍鱼的故事》获得中国作家协会首届全国优秀儿童文学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华文彩云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本文创作于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1979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年岁末，时值党的改革开放的号召如春雷般在神州大地回响。作者将历史的回顾与现实的思考融入特定的景物之中，并通过画面蕴涵的意象，传达出一种渴望改革、渴望振兴的时代呼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321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3720" y="2362320"/>
            <a:ext cx="4800600" cy="15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图片欣赏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0520" y="217440"/>
            <a:ext cx="856152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858160" cy="5143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200" y="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万园之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42840"/>
            <a:ext cx="7315200" cy="497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528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大水法和远羸观残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4:08:12Z</dcterms:created>
  <dc:creator>__</dc:creator>
  <dc:description/>
  <dc:language>en-US</dc:language>
  <cp:lastModifiedBy>微软用户</cp:lastModifiedBy>
  <dcterms:modified xsi:type="dcterms:W3CDTF">2006-12-20T03:02:45Z</dcterms:modified>
  <cp:revision>25</cp:revision>
  <dc:subject/>
  <dc:title>废墟的召唤</dc:title>
</cp:coreProperties>
</file>