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FBD88-C2E8-4E78-9788-A204313A7D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C95E4-3312-4B1A-ADD6-414844F586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48D49-B3CF-4D99-8F22-99B38F0053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7A4-2069-4B3A-BB17-8244F9DA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696-661F-4DE2-8768-C99B5AC5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FF6-9382-4EE8-934B-92F059A1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381-C7ED-4B96-BCF1-C3FF84CF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C94F-47C3-4226-92F1-63EA7FC4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803D-26B8-4243-9630-69729957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0068-303B-41B3-AC4F-D991950F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445F-893E-4766-8E61-FDF97F7F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A979-7912-452A-AF6F-F6BA1411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A7BE-B59E-472F-92C9-892892D1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AC0F-BFB2-4CE6-9686-2B2123B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349-894B-4B08-BA07-C589F28D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D47C-AF2C-409B-9BD0-4A16B62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BA28-07BA-4113-AD56-E64DA255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5289-EDCE-4923-8094-A3970C86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DA97-9955-4BA0-BB68-FB1A80A3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2FDA-59AA-4C65-A752-62E795B8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EDAC-D20E-4F90-AF8F-B8ED1975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82F7-A0FA-4DC3-A957-7BFB834D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1CF2-04D6-429E-9A3C-5DEBE62C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2FEE-DA25-4F45-83E3-FC9BA917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6B18-9DE0-45E6-AAC0-3B021171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261-81F1-4BF9-9858-EC8B5353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A0B1-E0C8-4980-AEAE-5FD461E3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CB16-CD73-4161-BA1B-39113461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0EF4-6174-4A1C-99D8-0BEEF120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C176-C1D9-4EA5-80B9-6E5C8845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1756-9DCF-4BC1-BE2F-D722286B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8673D-9E0D-4C3C-982B-36B3E0A8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9501-1722-453B-82AC-08BAE884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68730-AB37-4D5B-AAD3-0352F6E6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0D03D-770A-4C40-BFDA-0EAA6700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7A999-7E74-4820-B95F-5091B67C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BC9-22D3-4CBD-B89B-82E6359D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C2A83-C28C-4D3B-BB55-004B50A4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8BC8-476C-43FC-B1C0-E3AA2046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3E78-993B-49E9-8D6F-EEECEE6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FE02-0451-4A21-9613-E1B746E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0CEC-8759-41DF-92DD-0CB88D12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C0512-3DAC-4B48-B74A-8D010888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3D2D-9F39-4C38-8DB9-C6F640FB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5F2C-2F3E-4FFF-B841-17FDF190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CAFD-9B3C-4518-9EB4-0D0689DF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D28-9DFB-40B8-9B92-8F1C9F69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AE6-8C36-48D2-B256-67D4C87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CD0-E405-43EC-9B60-21926F0B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759-4893-47CF-A20A-39FC44E0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A49-E185-4F58-B4C1-CF22937D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48D6E-CA31-46D8-B41E-8FBBD46754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B40E1-AA1F-4B65-8D7D-926148575B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6"/>
          <p:cNvGrpSpPr/>
          <p:nvPr/>
        </p:nvGrpSpPr>
        <p:grpSpPr>
          <a:xfrm>
            <a:off x="-369720" y="9360"/>
            <a:ext cx="9515160" cy="6858000"/>
            <a:chOff x="-369720" y="9360"/>
            <a:chExt cx="9515160" cy="6858000"/>
          </a:xfrm>
        </p:grpSpPr>
        <p:pic>
          <p:nvPicPr>
            <p:cNvPr id="85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组 15"/>
            <p:cNvGrpSpPr/>
            <p:nvPr/>
          </p:nvGrpSpPr>
          <p:grpSpPr>
            <a:xfrm>
              <a:off x="-369720" y="4599000"/>
              <a:ext cx="1660320" cy="2216160"/>
              <a:chOff x="-369720" y="4599000"/>
              <a:chExt cx="1660320" cy="2216160"/>
            </a:xfrm>
          </p:grpSpPr>
          <p:pic>
            <p:nvPicPr>
              <p:cNvPr id="87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599000"/>
                <a:ext cx="505080" cy="204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120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A4054-7902-4D48-A9FA-987347F98C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1" name="组合 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32" name="矩形 13"/>
              <p:cNvSpPr/>
              <p:nvPr/>
            </p:nvSpPr>
            <p:spPr>
              <a:xfrm>
                <a:off x="0" y="0"/>
                <a:ext cx="9144000" cy="218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7e0e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3" name="图片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846680"/>
                <a:ext cx="9144000" cy="20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4" name="Picture 763" descr="구름"/>
            <p:cNvPicPr/>
            <p:nvPr/>
          </p:nvPicPr>
          <p:blipFill>
            <a:blip r:embed="rId3"/>
            <a:stretch/>
          </p:blipFill>
          <p:spPr>
            <a:xfrm>
              <a:off x="374400" y="996840"/>
              <a:ext cx="98424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9" descr="구름"/>
            <p:cNvPicPr/>
            <p:nvPr/>
          </p:nvPicPr>
          <p:blipFill>
            <a:blip r:embed="rId4"/>
            <a:stretch/>
          </p:blipFill>
          <p:spPr>
            <a:xfrm>
              <a:off x="4795920" y="179280"/>
              <a:ext cx="68256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40" descr="구름"/>
            <p:cNvPicPr/>
            <p:nvPr/>
          </p:nvPicPr>
          <p:blipFill>
            <a:blip r:embed="rId5"/>
            <a:stretch/>
          </p:blipFill>
          <p:spPr>
            <a:xfrm>
              <a:off x="7236000" y="502920"/>
              <a:ext cx="104292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图片 3" descr="小花.png"/>
            <p:cNvPicPr/>
            <p:nvPr/>
          </p:nvPicPr>
          <p:blipFill>
            <a:blip r:embed="rId6"/>
            <a:stretch/>
          </p:blipFill>
          <p:spPr>
            <a:xfrm>
              <a:off x="6948360" y="4941360"/>
              <a:ext cx="13111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4" descr="小花2.png"/>
            <p:cNvPicPr/>
            <p:nvPr/>
          </p:nvPicPr>
          <p:blipFill>
            <a:blip r:embed="rId7"/>
            <a:stretch/>
          </p:blipFill>
          <p:spPr>
            <a:xfrm>
              <a:off x="5434200" y="5553720"/>
              <a:ext cx="938160" cy="75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39" descr="구름"/>
          <p:cNvPicPr/>
          <p:nvPr/>
        </p:nvPicPr>
        <p:blipFill>
          <a:blip r:embed="rId8"/>
          <a:stretch/>
        </p:blipFill>
        <p:spPr>
          <a:xfrm>
            <a:off x="2700360" y="436680"/>
            <a:ext cx="1295280" cy="6904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28" descr="蝴蝶.png"/>
          <p:cNvPicPr/>
          <p:nvPr/>
        </p:nvPicPr>
        <p:blipFill>
          <a:blip r:embed="rId9"/>
          <a:stretch/>
        </p:blipFill>
        <p:spPr>
          <a:xfrm flipH="1" rot="18291600">
            <a:off x="5481720" y="870480"/>
            <a:ext cx="10191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10E05-17B9-4FBA-9583-736FFB53E1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660" descr=""/>
          <p:cNvPicPr/>
          <p:nvPr/>
        </p:nvPicPr>
        <p:blipFill>
          <a:blip r:embed="rId1"/>
          <a:stretch/>
        </p:blipFill>
        <p:spPr>
          <a:xfrm>
            <a:off x="2273400" y="1908000"/>
            <a:ext cx="4876560" cy="3864240"/>
          </a:xfrm>
          <a:prstGeom prst="rect">
            <a:avLst/>
          </a:prstGeom>
          <a:ln w="0">
            <a:noFill/>
          </a:ln>
        </p:spPr>
      </p:pic>
      <p:sp>
        <p:nvSpPr>
          <p:cNvPr id="190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46" descr="枫叶副本"/>
          <p:cNvPicPr/>
          <p:nvPr/>
        </p:nvPicPr>
        <p:blipFill>
          <a:blip r:embed="rId4"/>
          <a:stretch/>
        </p:blipFill>
        <p:spPr>
          <a:xfrm>
            <a:off x="3983040" y="3247920"/>
            <a:ext cx="1060560" cy="1014480"/>
          </a:xfrm>
          <a:prstGeom prst="rect">
            <a:avLst/>
          </a:prstGeom>
          <a:ln w="0">
            <a:noFill/>
          </a:ln>
        </p:spPr>
      </p:pic>
      <p:pic>
        <p:nvPicPr>
          <p:cNvPr id="194" name="矩形 47" descr=""/>
          <p:cNvPicPr/>
          <p:nvPr/>
        </p:nvPicPr>
        <p:blipFill>
          <a:blip r:embed="rId5"/>
          <a:stretch/>
        </p:blipFill>
        <p:spPr>
          <a:xfrm>
            <a:off x="1146240" y="5761080"/>
            <a:ext cx="7650000" cy="8650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3338"/>
          <p:cNvGrpSpPr/>
          <p:nvPr/>
        </p:nvGrpSpPr>
        <p:grpSpPr>
          <a:xfrm>
            <a:off x="1690560" y="905040"/>
            <a:ext cx="5781960" cy="1180800"/>
            <a:chOff x="1690560" y="905040"/>
            <a:chExt cx="5781960" cy="1180800"/>
          </a:xfrm>
        </p:grpSpPr>
        <p:sp>
          <p:nvSpPr>
            <p:cNvPr id="196" name="Text Box 2"/>
            <p:cNvSpPr/>
            <p:nvPr/>
          </p:nvSpPr>
          <p:spPr>
            <a:xfrm>
              <a:off x="2963880" y="1070640"/>
              <a:ext cx="450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54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枫树上的喜鹊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7" name="组合 13337"/>
            <p:cNvGrpSpPr/>
            <p:nvPr/>
          </p:nvGrpSpPr>
          <p:grpSpPr>
            <a:xfrm>
              <a:off x="1690560" y="905040"/>
              <a:ext cx="1181160" cy="1180800"/>
              <a:chOff x="1690560" y="905040"/>
              <a:chExt cx="1181160" cy="1180800"/>
            </a:xfrm>
          </p:grpSpPr>
          <p:sp>
            <p:nvSpPr>
              <p:cNvPr id="198" name="AutoShape 11"/>
              <p:cNvSpPr/>
              <p:nvPr/>
            </p:nvSpPr>
            <p:spPr>
              <a:xfrm>
                <a:off x="169056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文本框 13"/>
              <p:cNvSpPr/>
              <p:nvPr/>
            </p:nvSpPr>
            <p:spPr>
              <a:xfrm>
                <a:off x="1955520" y="1063440"/>
                <a:ext cx="59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9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"/>
          <p:cNvSpPr/>
          <p:nvPr/>
        </p:nvSpPr>
        <p:spPr>
          <a:xfrm>
            <a:off x="860400" y="1969920"/>
            <a:ext cx="729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仿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“一会儿……一会儿……一会儿……”写句子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图片 24" descr="花盆.png"/>
          <p:cNvPicPr/>
          <p:nvPr/>
        </p:nvPicPr>
        <p:blipFill>
          <a:blip r:embed="rId1"/>
          <a:stretch/>
        </p:blipFill>
        <p:spPr>
          <a:xfrm>
            <a:off x="860400" y="212256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230" name="矩形 2"/>
          <p:cNvSpPr/>
          <p:nvPr/>
        </p:nvSpPr>
        <p:spPr>
          <a:xfrm>
            <a:off x="1257480" y="3035160"/>
            <a:ext cx="68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上的白云，一会儿变成一栋房子，一会儿变成一个大南瓜，一会儿又变成一只小狗，真是变化多端呀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2"/>
          <p:cNvSpPr/>
          <p:nvPr/>
        </p:nvSpPr>
        <p:spPr>
          <a:xfrm>
            <a:off x="817560" y="3865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描写喜鹊阿姨教喜鹊弟弟学习拼音字母的场景。表现了“我”丰富的想象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3"/>
          <p:cNvSpPr/>
          <p:nvPr/>
        </p:nvSpPr>
        <p:spPr>
          <a:xfrm>
            <a:off x="793800" y="1422360"/>
            <a:ext cx="716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鹊！鹊！鹊！……”喜鹊阿姨教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知道，这便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ɑ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e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喜鹊弟弟们也跟着学：“鹊，鹊，鹊……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任意多边形 7"/>
          <p:cNvSpPr/>
          <p:nvPr/>
        </p:nvSpPr>
        <p:spPr>
          <a:xfrm>
            <a:off x="793800" y="324648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从这组对话体会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圆角矩形 8"/>
          <p:cNvSpPr/>
          <p:nvPr/>
        </p:nvSpPr>
        <p:spPr>
          <a:xfrm>
            <a:off x="6702480" y="3305160"/>
            <a:ext cx="1092240" cy="38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拟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2"/>
          <p:cNvSpPr/>
          <p:nvPr/>
        </p:nvSpPr>
        <p:spPr>
          <a:xfrm>
            <a:off x="933480" y="1522440"/>
            <a:ext cx="75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今天早上，太阳从渡口对岸山冈后面升上来了，我看见喜鹊阿姨站在窝边，指着上升的太阳，问喜鹊弟弟：“鹊！鹊鹊鹊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981000" y="399744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运用拟人的修辞方法，想象着喜鹊阿姨好像在指导孩子们看日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任意多边形 7"/>
          <p:cNvSpPr/>
          <p:nvPr/>
        </p:nvSpPr>
        <p:spPr>
          <a:xfrm>
            <a:off x="793800" y="331956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里用了什么修辞手法？你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圆角矩形 8"/>
          <p:cNvSpPr/>
          <p:nvPr/>
        </p:nvSpPr>
        <p:spPr>
          <a:xfrm>
            <a:off x="6702480" y="3084480"/>
            <a:ext cx="1092240" cy="38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拟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内容占位符 2"/>
          <p:cNvSpPr/>
          <p:nvPr/>
        </p:nvSpPr>
        <p:spPr>
          <a:xfrm>
            <a:off x="982800" y="2198520"/>
            <a:ext cx="731016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本文介绍了枫树上喜鹊一家的故事。通过“我”的创造性想象，把喜鹊一家的生活描写得其乐融融、有声有色，让我们感受到了童真童趣，表达了作者对动物、对大自然的无比热爱之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1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2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1"/>
          <p:cNvGrpSpPr/>
          <p:nvPr/>
        </p:nvGrpSpPr>
        <p:grpSpPr>
          <a:xfrm>
            <a:off x="784800" y="1332000"/>
            <a:ext cx="7340040" cy="3611880"/>
            <a:chOff x="784800" y="1332000"/>
            <a:chExt cx="7340040" cy="3611880"/>
          </a:xfrm>
        </p:grpSpPr>
        <p:sp>
          <p:nvSpPr>
            <p:cNvPr id="245" name="矩形 12"/>
            <p:cNvSpPr/>
            <p:nvPr/>
          </p:nvSpPr>
          <p:spPr>
            <a:xfrm>
              <a:off x="1035000" y="1332000"/>
              <a:ext cx="7089840" cy="36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8200" indent="-26820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看到下面的情景，你会想到什么？试着写下来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看见喜鹊阿姨找了一条虫子回来，站在窝边。喜鹊弟弟一齐叫道：“鹊！鹊！鹊鹊鹊！”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懂得，他们的意思是：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___________________________________________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喜鹊阿姨把虫子送到喜鹊弟弟嘴里，叫起来：“鹊，鹊，鹊</a:t>
              </a:r>
              <a:r>
                <a:rPr b="1" lang="en-US" sz="2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……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”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知道，她是在说：“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_______________________________________”</a:t>
              </a:r>
              <a:r>
                <a:rPr b="1" lang="zh-CN" sz="2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5"/>
            <p:cNvSpPr/>
            <p:nvPr/>
          </p:nvSpPr>
          <p:spPr>
            <a:xfrm>
              <a:off x="784800" y="1433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5"/>
          <p:cNvSpPr/>
          <p:nvPr/>
        </p:nvSpPr>
        <p:spPr>
          <a:xfrm>
            <a:off x="826920" y="128124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下面的情景，我能读懂意思，并写下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太阳公公下班了，月亮伯伯爬上了树梢。我看见喜鹊阿姨站在鸟窝边问喜鹊弟弟们：“鹊！鹊鹊鹊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懂得，她问话的意思是：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喜鹊弟弟们打着哈欠说：“鹊，鹊鹊，鹊鹊鹊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懂得，喜鹊弟弟们给出的答案是：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2"/>
          <p:cNvSpPr/>
          <p:nvPr/>
        </p:nvSpPr>
        <p:spPr>
          <a:xfrm>
            <a:off x="1835280" y="3543480"/>
            <a:ext cx="33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孩子们，想睡觉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6"/>
          <p:cNvSpPr/>
          <p:nvPr/>
        </p:nvSpPr>
        <p:spPr>
          <a:xfrm>
            <a:off x="1800360" y="5199120"/>
            <a:ext cx="50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的，妈妈，我们想睡觉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5"/>
          <p:cNvSpPr/>
          <p:nvPr/>
        </p:nvSpPr>
        <p:spPr>
          <a:xfrm>
            <a:off x="971640" y="191628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一、延伸阅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野菊坐在篱笆的后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侧着头，说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长大了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要有一把蓝色的遮阳伞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时候，我会很好看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要和蜜蜂谈话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2805120" y="692280"/>
            <a:ext cx="3603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5"/>
          <p:cNvSpPr/>
          <p:nvPr/>
        </p:nvSpPr>
        <p:spPr>
          <a:xfrm>
            <a:off x="971640" y="907920"/>
            <a:ext cx="75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站在她旁边的蒲公英，插嘴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是，那有什么好呢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野菊马上问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是，你会比我好吗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长大了，会有一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旅行用的黄色的小便帽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要带一只白羽毛的毽子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旅行到很多的地方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野菊沉思后说：“那真的很好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是，我不要像你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5"/>
          <p:cNvSpPr/>
          <p:nvPr/>
        </p:nvSpPr>
        <p:spPr>
          <a:xfrm>
            <a:off x="755640" y="184140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小野菊的理想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蒲公英的理想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每个人都有自己的理想，我的理想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"/>
          <p:cNvSpPr/>
          <p:nvPr/>
        </p:nvSpPr>
        <p:spPr>
          <a:xfrm>
            <a:off x="3419640" y="1916280"/>
            <a:ext cx="48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有一把蓝色的遮阳伞，和蜜蜂谈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2"/>
          <p:cNvSpPr/>
          <p:nvPr/>
        </p:nvSpPr>
        <p:spPr>
          <a:xfrm>
            <a:off x="3419640" y="2432160"/>
            <a:ext cx="48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有一顶黄色的小便帽，到处去旅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3"/>
          <p:cNvSpPr/>
          <p:nvPr/>
        </p:nvSpPr>
        <p:spPr>
          <a:xfrm>
            <a:off x="1332000" y="3573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b10f4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长大后环游世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969840" y="2381400"/>
            <a:ext cx="76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正确、流利地朗读课文，理解课文内容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在故事情境中有滋有味地朗读，体会“？”、“！”、“……”的作用，感受课文富有的童真童趣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体会作者对大自然对待小动物的无比热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图示 3" descr=""/>
          <p:cNvPicPr/>
          <p:nvPr/>
        </p:nvPicPr>
        <p:blipFill>
          <a:blip r:embed="rId1"/>
          <a:stretch/>
        </p:blipFill>
        <p:spPr>
          <a:xfrm>
            <a:off x="871560" y="1096920"/>
            <a:ext cx="3097080" cy="10558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31"/>
          <p:cNvGrpSpPr/>
          <p:nvPr/>
        </p:nvGrpSpPr>
        <p:grpSpPr>
          <a:xfrm>
            <a:off x="1165320" y="4986360"/>
            <a:ext cx="7562880" cy="1208160"/>
            <a:chOff x="1165320" y="4986360"/>
            <a:chExt cx="7562880" cy="1208160"/>
          </a:xfrm>
        </p:grpSpPr>
        <p:sp>
          <p:nvSpPr>
            <p:cNvPr id="204" name="单圆角矩形 33"/>
            <p:cNvSpPr/>
            <p:nvPr/>
          </p:nvSpPr>
          <p:spPr>
            <a:xfrm>
              <a:off x="2176560" y="5232240"/>
              <a:ext cx="6551640" cy="860400"/>
            </a:xfrm>
            <a:prstGeom prst="pie">
              <a:avLst/>
            </a:prstGeom>
            <a:noFill/>
            <a:ln w="2556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0600" rIns="120600" tIns="120600" bIns="120600" anchor="ctr">
              <a:noAutofit/>
            </a:bodyPr>
            <a:p>
              <a:pPr lvl="1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”为什么喜欢枫树上的喜鹊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任意多边形 32"/>
            <p:cNvSpPr/>
            <p:nvPr/>
          </p:nvSpPr>
          <p:spPr>
            <a:xfrm>
              <a:off x="1165320" y="4986360"/>
              <a:ext cx="1170000" cy="1208160"/>
            </a:xfrm>
            <a:prstGeom prst="pie">
              <a:avLst/>
            </a:prstGeom>
            <a:solidFill>
              <a:srgbClr val="8eb4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920" rIns="187920" tIns="216000" bIns="2307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卡通简体"/>
                  <a:ea typeface="方正卡通简体"/>
                </a:rPr>
                <a:t>边听边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图文框 38"/>
          <p:cNvSpPr/>
          <p:nvPr/>
        </p:nvSpPr>
        <p:spPr>
          <a:xfrm>
            <a:off x="2335320" y="1216080"/>
            <a:ext cx="4473360" cy="906480"/>
          </a:xfrm>
          <a:prstGeom prst="pie">
            <a:avLst/>
          </a:prstGeom>
          <a:solidFill>
            <a:srgbClr val="dce6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1440" rIns="181440" tIns="181440" bIns="18144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录音回顾课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2019240" y="2220840"/>
            <a:ext cx="51037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2"/>
          <p:cNvSpPr/>
          <p:nvPr/>
        </p:nvSpPr>
        <p:spPr>
          <a:xfrm>
            <a:off x="906480" y="4113360"/>
            <a:ext cx="77104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把“枫树”比作“绿色太阳伞”，写出了枫树的生命力旺盛。“遮蔽”说明树长得枝繁叶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0" name="矩形 2"/>
          <p:cNvSpPr/>
          <p:nvPr/>
        </p:nvSpPr>
        <p:spPr>
          <a:xfrm>
            <a:off x="906480" y="1806480"/>
            <a:ext cx="74674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村的渡口旁有一棵枫树，我很喜欢它。它好像一把很大又很高的绿色太阳伞，一直打开着。它的绿荫遮蔽了整个渡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任意多边形 8"/>
          <p:cNvSpPr/>
          <p:nvPr/>
        </p:nvSpPr>
        <p:spPr>
          <a:xfrm>
            <a:off x="1035000" y="352908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2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里用了什么修辞手法？你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圆角矩形 11"/>
          <p:cNvSpPr/>
          <p:nvPr/>
        </p:nvSpPr>
        <p:spPr>
          <a:xfrm>
            <a:off x="5505480" y="3022560"/>
            <a:ext cx="819000" cy="38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比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2"/>
          <p:cNvSpPr/>
          <p:nvPr/>
        </p:nvSpPr>
        <p:spPr>
          <a:xfrm>
            <a:off x="847800" y="1698480"/>
            <a:ext cx="75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村的渡口旁有一棵枫树，我很喜欢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枫树上有一个喜鹊的窝，我喜欢极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907920" y="371628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喜欢极了”是喜欢喜鹊窝，和第一句的“我喜欢它”不同，第一句是喜欢枫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任意多边形 7"/>
          <p:cNvSpPr/>
          <p:nvPr/>
        </p:nvSpPr>
        <p:spPr>
          <a:xfrm>
            <a:off x="1127160" y="292752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”喜欢什么？和第一句的“喜欢”有什么不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"/>
          <p:cNvSpPr/>
          <p:nvPr/>
        </p:nvSpPr>
        <p:spPr>
          <a:xfrm>
            <a:off x="884160" y="4484520"/>
            <a:ext cx="77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喜鹊阿姨”拉近了“我”和喜鹊的距离，可以看出在“我”的心中，喜鹊和“我”很亲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"/>
          <p:cNvSpPr/>
          <p:nvPr/>
        </p:nvSpPr>
        <p:spPr>
          <a:xfrm>
            <a:off x="884160" y="94284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的，我喜欢站在枫树下，抬头看喜鹊的窝。我常常觉得喜鹊会跟我说话，我像童话书里那样，在心中称呼她喜鹊阿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还像童话书里那样，在心中称呼小喜鹊是我的喜鹊弟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任意多边形 5"/>
          <p:cNvSpPr/>
          <p:nvPr/>
        </p:nvSpPr>
        <p:spPr>
          <a:xfrm>
            <a:off x="1287360" y="3805200"/>
            <a:ext cx="7083360" cy="679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从这里体会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2104920" y="2001240"/>
            <a:ext cx="4426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我像在童话书本里那样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在心中称呼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是我的喜鹊阿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我还像童话书本里那样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在心中称呼小喜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是我的喜鹊弟弟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566640" y="987480"/>
            <a:ext cx="30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趣变儿童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2"/>
          <p:cNvSpPr/>
          <p:nvPr/>
        </p:nvSpPr>
        <p:spPr>
          <a:xfrm>
            <a:off x="876240" y="44132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极”写出了喜欢的程度，“我真是喜欢极了”喜欢的是喜鹊阿姨的鸟窝里的六只小喜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"/>
          <p:cNvSpPr/>
          <p:nvPr/>
        </p:nvSpPr>
        <p:spPr>
          <a:xfrm>
            <a:off x="876240" y="18432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真是喜欢极了。上个星期天早上，我正要撑着渡船，到对岸的树林里去打柴的时候，发现喜鹊阿姨的鸟窝里有六只小喜鹊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任意多边形 7"/>
          <p:cNvSpPr/>
          <p:nvPr/>
        </p:nvSpPr>
        <p:spPr>
          <a:xfrm>
            <a:off x="793800" y="3726000"/>
            <a:ext cx="7683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真是喜欢极了”表明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2"/>
          <p:cNvSpPr/>
          <p:nvPr/>
        </p:nvSpPr>
        <p:spPr>
          <a:xfrm>
            <a:off x="923760" y="3863880"/>
            <a:ext cx="77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会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会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会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用了排比的修辞方法，写喜鹊阿姨教小喜鹊做的事情很多。作者笔下的喜鹊阿姨和人一样，会教孩子们唱歌，会教孩子们做游戏，还会发明拼音字母并教孩子们学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"/>
          <p:cNvSpPr/>
          <p:nvPr/>
        </p:nvSpPr>
        <p:spPr>
          <a:xfrm>
            <a:off x="923760" y="1393920"/>
            <a:ext cx="74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看见喜鹊阿姨站在她的鸟窝边，一会儿教喜鹊弟弟唱歌，一会儿教喜鹊弟弟做游戏，一会儿教他们学喜鹊阿姨自己发明的拼音字母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任意多边形 5"/>
          <p:cNvSpPr/>
          <p:nvPr/>
        </p:nvSpPr>
        <p:spPr>
          <a:xfrm>
            <a:off x="1228680" y="3159000"/>
            <a:ext cx="7683480" cy="55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SzPct val="102884"/>
              <a:buBlip>
                <a:blip r:embed="rId1"/>
              </a:buBlip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里用了什么修辞手法？你体会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圆角矩形 6"/>
          <p:cNvSpPr/>
          <p:nvPr/>
        </p:nvSpPr>
        <p:spPr>
          <a:xfrm>
            <a:off x="6688080" y="2695680"/>
            <a:ext cx="1730520" cy="38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拟人、排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荣德基</dc:creator>
  <dc:description/>
  <dc:language>en-US</dc:language>
  <cp:lastModifiedBy>Administrator</cp:lastModifiedBy>
  <dcterms:modified xsi:type="dcterms:W3CDTF">2018-03-17T10:04:56Z</dcterms:modified>
  <cp:revision>5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