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1C9-88E2-41E7-B32E-DF666387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23E-D4A4-410A-B014-7B591B64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D54-8F6F-40E1-BC60-260F115C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164-3885-4B72-9391-01DE1B1B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96D-EF2F-4C08-AC7F-57A29579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E33-78EF-45B8-A39F-A731BEA9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58D-A94F-4D8F-89E3-084DEE22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E5B-1757-4AAD-802A-B40F4DD2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0D7-B6A9-418E-B958-B28089F3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BD8-38ED-4034-9515-9C612085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5C1-1DAF-4214-B95B-E36A5CF9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827-E9B7-4793-93F7-A3153093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D0D4-68D7-46AC-84E6-A49321D2D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-1,NEXT" TargetMode="External"/><Relationship Id="rId3" Type="http://schemas.openxmlformats.org/officeDocument/2006/relationships/hyperlink" Target="258,3,&#24187;&#28783;&#29255; 3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24360" y="0"/>
            <a:ext cx="504036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芙蓉楼送辛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  <a:hlinkClick r:id="rId3"/>
              </a:rPr>
              <a:t>【唐】王昌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</a:rPr>
              <a:t>寒雨连江夜入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</a:rPr>
              <a:t> 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</a:rPr>
              <a:t>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</a:rPr>
              <a:t>平明送客楚山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</a:rPr>
              <a:t> 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</a:rPr>
              <a:t>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</a:rPr>
              <a:t>洛阳亲友如相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</a:rPr>
              <a:t> 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</a:rPr>
              <a:t>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</a:rPr>
              <a:t>一片冰心在玉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34920" y="6165720"/>
            <a:ext cx="649440" cy="648000"/>
          </a:xfrm>
          <a:custGeom>
            <a:avLst/>
            <a:gdLst>
              <a:gd name="textAreaLeft" fmla="*/ 40320 w 649440"/>
              <a:gd name="textAreaRight" fmla="*/ 609120 w 649440"/>
              <a:gd name="textAreaTop" fmla="*/ 40320 h 648000"/>
              <a:gd name="textAreaBottom" fmla="*/ 607680 h 64800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98" y="1350"/>
                </a:lnTo>
                <a:lnTo>
                  <a:pt x="1350" y="135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98" y="20250"/>
                </a:lnTo>
                <a:lnTo>
                  <a:pt x="20298" y="135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98" y="2025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48" h="21600">
                <a:moveTo>
                  <a:pt x="14341" y="10800"/>
                </a:moveTo>
                <a:lnTo>
                  <a:pt x="3780" y="17844"/>
                </a:lnTo>
                <a:lnTo>
                  <a:pt x="3780" y="3756"/>
                </a:lnTo>
                <a:close/>
              </a:path>
              <a:path fill="darken" w="21648" h="21600">
                <a:moveTo>
                  <a:pt x="16196" y="3756"/>
                </a:moveTo>
                <a:lnTo>
                  <a:pt x="16196" y="17844"/>
                </a:lnTo>
                <a:lnTo>
                  <a:pt x="17868" y="17844"/>
                </a:lnTo>
                <a:lnTo>
                  <a:pt x="17868" y="375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1800" y="4724280"/>
            <a:ext cx="115596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写作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思想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-2232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6000" y="2708280"/>
            <a:ext cx="53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题目的意思是：在芙蓉楼送别好朋友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36360" y="6165720"/>
            <a:ext cx="648000" cy="648000"/>
          </a:xfrm>
          <a:custGeom>
            <a:avLst/>
            <a:gdLst>
              <a:gd name="textAreaLeft" fmla="*/ 40320 w 648000"/>
              <a:gd name="textAreaRight" fmla="*/ 607680 w 648000"/>
              <a:gd name="textAreaTop" fmla="*/ 40320 h 648000"/>
              <a:gd name="textAreaBottom" fmla="*/ 60768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王昌龄（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690-756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），唐代诗人，字少伯，陕西西安人。他的诗多写边塞生活，是唐代边塞诗人的代表作家，其诗气势雄浑，格调高昂，《全唐诗》对昌龄诗的评价是“绪密而思清”，他的七绝诗尤为出色，甚至可与李白比美，故被冠之以“七绝圣手”的名号。尤其是他的边塞诗，流畅通脱，高昂向上，深受后人推崇。王昌龄的边塞诗充分体现了他的爱国主义，英雄主义精神，另外还深深蕴含了诗人对下层人民的人文关怀，体现了诗人扩大的视野和博大的胸怀。王昌龄在写作方式上擅长以景喻情，情景交融。殷璠《河岳英灵集》把他举为体现“风骨”的代表，誉其诗为“中兴高作”，选入的数量也为全集之冠。这些都可见他在诗坛上的地位。王昌龄的诗以三类题材居多，即边塞、闺情宫怨和送别。后人辑有《王昌龄集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36360" y="6165720"/>
            <a:ext cx="648000" cy="648000"/>
          </a:xfrm>
          <a:custGeom>
            <a:avLst/>
            <a:gdLst>
              <a:gd name="textAreaLeft" fmla="*/ 40320 w 648000"/>
              <a:gd name="textAreaRight" fmla="*/ 607680 w 648000"/>
              <a:gd name="textAreaTop" fmla="*/ 40320 h 648000"/>
              <a:gd name="textAreaBottom" fmla="*/ 60768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8000" y="44280"/>
            <a:ext cx="90010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寒雨连江夜入吴，平明送客楚山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冷雨洒满江天的夜晚我来到吴地，清晨送走好友，只留下楚山孤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洛阳亲友如相问，一片冰心在玉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到了洛阳，如果有亲友向您打听我的情况，就请转告他们，我的心依然像玉壶里的冰一样纯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6360" y="6165720"/>
            <a:ext cx="648000" cy="648000"/>
          </a:xfrm>
          <a:custGeom>
            <a:avLst/>
            <a:gdLst>
              <a:gd name="textAreaLeft" fmla="*/ 40320 w 648000"/>
              <a:gd name="textAreaRight" fmla="*/ 607680 w 648000"/>
              <a:gd name="textAreaTop" fmla="*/ 40320 h 648000"/>
              <a:gd name="textAreaBottom" fmla="*/ 60768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84080" y="117360"/>
            <a:ext cx="5420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作背景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诗人的朋友辛渐即将取到扬州，北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洛阳。正在江宁（今江苏南宁）任职诗人，亲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送行到了润州，在西北城楼（即“芙蓉楼”）为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践行，并写下这首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心思想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这首诗通过送别友人时的表白，表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了诗人藐视庸俗的功名利禄，不向排挤陷害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恶势力屈服，永葆高洁品质的崇高气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36360" y="6165720"/>
            <a:ext cx="648000" cy="648000"/>
          </a:xfrm>
          <a:custGeom>
            <a:avLst/>
            <a:gdLst>
              <a:gd name="textAreaLeft" fmla="*/ 40320 w 648000"/>
              <a:gd name="textAreaRight" fmla="*/ 607680 w 648000"/>
              <a:gd name="textAreaTop" fmla="*/ 40320 h 648000"/>
              <a:gd name="textAreaBottom" fmla="*/ 60768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1:18:52Z</dcterms:created>
  <dc:creator>未知用户</dc:creator>
  <dc:description/>
  <dc:language>en-US</dc:language>
  <cp:lastModifiedBy>未知用户</cp:lastModifiedBy>
  <cp:lastPrinted>1899-12-30T00:00:00Z</cp:lastPrinted>
  <dcterms:modified xsi:type="dcterms:W3CDTF">2009-05-12T11:26:1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0</vt:lpwstr>
  </property>
</Properties>
</file>