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F88-94B2-4F24-9ABF-8F2A592C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C02-64B4-40CA-ABF7-6B03ED11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00B-ACF9-4731-B8BC-A06EE6E5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FB1-9CA4-4817-AC08-72E4385A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472-A1EF-46AB-BCD3-347595CA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CB8-3838-44AB-AAC6-B2C8418A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F60-E2EB-4993-8406-C0F2B653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2CD-84AD-4372-ADFE-1EB31156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683-E463-480C-8D2C-0618E7FD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A1C-36BC-480D-9E3B-6D77AA3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891-E06C-44BE-B20A-DB5683D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645-F107-4EF9-8257-FA4EF9E1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A8F9-68C7-44AD-9439-111C552C5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81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28680" y="441360"/>
            <a:ext cx="78984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芙蓉楼送辛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79520" y="3909960"/>
            <a:ext cx="6069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唐  王昌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8800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王昌龄（西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98-7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字少伯，京兆长安（今陕西西安）人，汉族，盛唐著名边塞诗人，后人誉为  “七绝圣手”。王昌龄作为一代诗杰，是盛唐诗坛一著名诗人，世称王龙标，存诗一百七十余首，作品有《王昌龄集》。因他有丰富的生活经历和广泛的交游，对他的诗歌创作大有好处。因为诗名早著，所以与当时名诗人交游颇多，交谊很深，与李白、孟浩然、高适、綦毋潜、李颀、岑参、王之涣、王维、储光羲、常建等都有交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43320" y="2000160"/>
            <a:ext cx="2457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21040" y="22032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诵读全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1184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79480" y="620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芙蓉楼送辛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7240" y="1916280"/>
            <a:ext cx="206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寒雨连江夜入吴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平明送客楚山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洛阳亲友如相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片冰心在玉壶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9800" y="1360440"/>
            <a:ext cx="9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王昌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667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377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5724360" cy="429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0320" y="41904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句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08920" y="979560"/>
            <a:ext cx="249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芙 蓉 楼 送 辛 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寒雨连江夜入吴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平明送客楚山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270828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芙蓉楼：故址在今江苏省镇江市的西北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辛渐：作者王昌龄的朋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首诗是王昌龄在芙蓉楼送别辛渐去洛阳时所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16280"/>
            <a:ext cx="6932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寒雨：秋雨。心中惆怅、孤独，才觉雨寒 。秋雨一般有忧愁之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江：满江。洒满江面。有苍茫之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夜入吴：夜晚镇江下起了秋雨。镇江属吴地，故说“夜入吴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明：天刚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客：指辛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楚山孤：意为友人离去后自己如楚山般孤寂 、孤独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寒雨”二句的意思是说：昨夜镇江下了一场绵绵秋雨，凄风冷雨让人倍感忧伤；天刚亮，就送别好朋友回洛阳，远望你将行经的楚地，使我感到楚山孤影般的孤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4880" y="53640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句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30040" y="83664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洛阳亲友如相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片冰心在玉壶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7120" y="2728800"/>
            <a:ext cx="68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冰心：指人的品德美好 。心象冰一样晶莹剔透，一样纯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玉壶：在古语中具有多义性，它可以指洒壶、月亮、灯、滴漏等。在此把“玉壶”解释为酒壶，既是推杯换盏时的谐谑，也极符合王昌龄当时的心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9280" y="2081160"/>
            <a:ext cx="6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洛阳：辛渐是诗人的同乡，同为洛阳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相问：如，如果。相问：问起（我），向某人打听（我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4149720"/>
            <a:ext cx="65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洛阳”二句的意思是说：如果洛阳的亲友向你问起我的情况，你就告诉他们：我的心就象盛在玉壶的冰那样洁白透明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68944" t="0" r="0" b="0"/>
          <a:stretch/>
        </p:blipFill>
        <p:spPr>
          <a:xfrm>
            <a:off x="6948360" y="4730760"/>
            <a:ext cx="21956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35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这是一首送别诗。首句从昨夜秋雨写起，为送别设置了凄清的气氛。二句中的“平明”点明送客的时间；“楚山孤”，既写出了友人的去向，又暗寓了自己送客时的心情。三、四句，写的是自己，仍与送别之意相吻合。因为辛渐是诗人的同乡，辛渐返乡，亲友一定要问到诗人的情况，所以诗人送别辛渐时特别嘱托他：“家乡的亲友如果问到我现在的情况，你就说，我的为人就象那晶莹剔透的一块冰，装在洁白的玉壶之中。”表明自己不为遭贬而改变玉洁冰清的节操。构思新颖，委屈、怨恨之情含而不露。 “一片冰心在玉壶”是诗眼，但历来人们都认为“玉壶”与“冰心”一样，都指人的品德美好，这不符合实际。“玉壶”具有多义性，它可以指洒壶、月亮、灯、滴漏等。把“玉壶”解释为酒壶，既是推杯换盏时的谐谑，也极符合王昌龄当时的心态。全诗音调谐美，诗风沉郁，又采用问答形式，别开生面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5600" y="3074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全诗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800" y="1557360"/>
            <a:ext cx="17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寒雨连江夜入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平明送客楚山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洛阳亲友如相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一片冰心在玉壶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4360" y="549360"/>
            <a:ext cx="22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芙蓉楼送辛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王昌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2644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6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3716280"/>
            <a:ext cx="7705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是一首送别诗。诗的构思新颖，淡写朋友的离情别绪，重写自己的高风亮节。首两句苍茫的江雨和孤峙的楚山，烘托送别时的孤寂之情；后两句自比冰壶，表达自己开朗胸怀和坚强性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诗即景生情，寓情于景，含蓄蕴藉，韵味无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5600" y="3074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全诗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0" r="11691" b="29583"/>
          <a:stretch/>
        </p:blipFill>
        <p:spPr>
          <a:xfrm>
            <a:off x="3564000" y="0"/>
            <a:ext cx="558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理解问答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是一首送别友人的诗，作者与友人分别的时间是（     ），具体地点是（      ），友人所去的地方是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诗中哪些词语含蓄的写出了作者送别友人时依依不舍的感情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后一句诗用了什么修辞手法？表现了作者什么样的品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洛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80520" y="2421000"/>
            <a:ext cx="455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清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4960" y="2781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芙蓉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66720" y="177336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清晨： （平明送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000" y="2205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芙蓉楼（芙蓉楼送辛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06040" y="27082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洛阳： （洛阳亲友如相问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2200" y="35924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、寒雨（心中惆怅，才觉雨寒）、楚山孤（意为友人离去后自己如楚山般孤寂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486900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、比喻 。自比冰壶，表达自己开朗胸怀和坚强性格。表现自己开朗胸怀和坚强性格。高风亮节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芙蓉楼送辛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寒雨连江夜入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明送客楚山孤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洛阳亲友如相问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片冰心在玉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3:11:11Z</dcterms:created>
  <dc:creator>微软用户</dc:creator>
  <dc:description/>
  <dc:language>en-US</dc:language>
  <cp:lastModifiedBy>yang</cp:lastModifiedBy>
  <dcterms:modified xsi:type="dcterms:W3CDTF">2013-05-27T00:43:34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