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5.jpeg" ContentType="image/jpeg"/>
  <Override PartName="/ppt/media/image9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E138-DC2F-41CB-9AAF-424F80F7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DE59-C087-4654-B834-C72A87F6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61E70-44FD-4D23-A57D-60B0A23F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91ABE-DCF7-448C-A370-7C708F7F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9EF65-D772-4C2A-B1D9-1AF0F274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06AA3-C5F3-486A-9F0B-CB5CA47F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75A18-A138-4DAA-9A01-BCE4D8C2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9F8C8-ECBD-470A-91C6-E06E6D90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6EB93-B204-4B38-B1B4-D7D62310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32164-AB63-4F1F-A8DC-4757D139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66E02-0322-4C78-87A9-81A583D1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6ABF2-55E7-46BC-82C1-888543C4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3AE-00EC-4D45-8D7A-D4F5F3FF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76C3B-ECC9-4466-8739-2BF3571E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1DC88-62E6-4126-A77D-4E09D4AD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82DE7-0F99-4E58-AEAF-23AA6E8F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194C1-BC62-484C-B437-4BB79180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459A8-B083-441D-B0B9-FC4D3C47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E3AA6-DC46-464A-BBAD-C197C88B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71F69-FCB5-4CD3-8930-F28AE6CC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F1443-100A-4C69-8790-E073E05F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58120-E95B-459B-AD35-AABD20A7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4A7DA-BE2B-4893-8084-63872DA5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B6A-9B38-49AC-8A63-87B3FC5F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41A2C-2A42-4007-A769-0173E214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545F-1709-4989-A573-8DF05811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9379-74C6-4A37-9A22-7AAD6EAC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82C2-A24C-4C83-A348-AC38C130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BC87-14E8-4A79-9F09-D871589C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47C1-3B0E-4AD6-AAC8-BD18439B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2C1B-1EEC-4C32-A54C-9DB98704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A1D8-EAF7-4C0C-B84C-876C80DF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6B52-6EB9-4231-B012-BCC5F4E7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565D-4B53-4CD4-A75B-6B5C928A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A6F1-DE91-4F99-B799-52E69D2A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9B4F-16A6-4637-8FB6-13D63627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AEAA-8DC5-42E2-B8AC-5471C83F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1424-CF4F-42E0-81EF-60053D50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7FEC0-043A-4070-9A38-AE3279D1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56EB9-179F-42A2-B186-6FDD46B2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AA9E8-49C2-48C8-9060-B9F4ACE4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345A1-5EE3-41F2-9C0C-A13C8B7F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1A750-0191-422C-B5D5-0896A57E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9B97-D35B-4A48-8E59-AA525AD8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78A81-9C06-4B10-BA69-6A8B9D8F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00CFF-B0DC-4969-A2B2-4BFD3631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FC7E2-2063-4049-A836-DC276C30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54F14-FE99-4E92-99F6-F1BB0435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7AE91-5D91-4B2E-A005-1F6926FF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8E8F3-B6C6-4E06-BDE3-EAE39CBF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D8037-9E52-4747-83B5-0C05F6A9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73A15-115D-45F3-ADC8-216B2D14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CB4F3-7353-410C-9852-B71CBEA2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9B4D7-72CD-43FC-8B9D-ABACDD20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0D9D-11F8-4D55-8B55-F98E4FFD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A7E1C-BEB2-4A39-B15E-2A8DB862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62175-8C7A-4A48-927E-41E47DD6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3FDC5-0C84-4BBF-92C3-40313874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65635-3387-4570-BEEB-8377009C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BBA8D-C121-42CA-9D23-65BDDF7D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890F4-E007-40AE-87E3-97AF8D40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AED24-486F-4FB1-9002-9CABB537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B95E2-9D84-4B9C-97C3-92975039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9EA42-0ADF-4CD9-BF9D-C5C19C77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A32A2-AE3E-4086-9F10-81CD1C2A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73F-E0A5-43FF-B9E1-D87A55CC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6DB96-0B6C-46F9-B9A4-F1D3E51B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C6C35-B7DF-4492-BCAC-505956CD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9520C-7355-43A9-8B97-67B1B1EA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476A4-C45B-4282-80BA-2C7D9400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A04F5-9DF1-42A6-9C55-1425C3AF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24E50-E371-4500-8781-CFA96059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DB068-0580-4A1B-914B-563A5BD0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2C686-6E47-4573-B343-67A2A264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86C36-C9CA-49FD-9B75-C0B0D6BA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768D0-E3F8-4D69-AD20-E45AC974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59B4-4417-4FAD-AFE0-6909E51B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54958-A8B3-4AE9-A1AE-A5F296B7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8B2E6-74AC-4121-BCDF-0807B0FE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A49ED-38B6-44BB-8525-306D255B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FEEAB-CD6E-453D-BC73-4F7E2F44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C91D9-A2B7-468B-A370-32864E50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77CC9-4D89-4A58-85F4-5435034B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B643D-D69D-477E-B715-A4B09950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BBA44-D010-4FDB-91D3-53AC27A0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4C238-7001-431C-AC6C-8FEF4C12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5B1DA-0DDD-4938-8067-F6798A53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B86-CC4F-4D33-ADE0-C9885116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23739-35DB-44FE-8253-9ED9DEA1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F5773-5591-4F2A-816E-7B1D3EE0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2DEA0-4345-4816-BD14-1A7AB50A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BA43C-1834-4B33-A4A2-50ADC7A4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A8589-73E9-45E3-845E-1197B470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B7155-411D-4B7D-BCAC-820F677C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87316-7CE3-4630-991A-72387771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6D9A2-87D3-43D1-B4AB-21742E31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6393E-C810-4272-9A1E-524279B6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4905B-835C-4443-8792-7D9B363D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8C75-6F54-4992-BDD9-C9D3C575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5140B-3257-4BA1-9B14-8ED91F40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5AF71-8ED1-4488-99BB-ED7F9955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95A6A-4766-49A8-AE5E-17F03152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4BEB4-7F57-4B52-AB46-8DAFD739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D66DA-3867-43BE-B750-641E432A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83CCF-603D-41B1-BBD2-0DF2DF5F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66572-120B-43D1-A979-F6755544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82200-CDCE-4DBF-87A2-DF5D449A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B9FF5-3376-4DB6-A99D-520FDF10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25CD0-77BE-4788-A4F5-F65CD5D9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512-E56B-4F57-BA21-A4928E72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56626-EFED-4CB3-B05D-2900CC8C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93C40-F3CF-471D-8B6C-4CA6E7F6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F6C64-8595-4D52-B54B-F1D61E0F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30DB6-3D3E-402E-9693-FBC5C964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CA4DF-40D6-4035-B04D-973E372A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83AED-3FE6-41E9-8F2A-D9C1123F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209C1-8592-4E9A-82A2-8E1E8A77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4A6EC-0015-479B-8F1D-5E0044A2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65588-1213-499A-B3B6-DC1EE731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3EFFB-F120-4950-91EC-3167BCE2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05CB-FFCE-495A-9F8D-CA922E98C325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1AD5-BAD3-4D42-906A-73A55B97E755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7E9A-7923-4FFE-B96C-2D06F09D5B68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1854-EBAB-49F9-9AF0-FABE53EA27DB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91A8-8BCC-48D4-B09E-CB17312EE0BE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35F8-754F-467C-8205-A62DF5052823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0FEB-6DEF-42C2-BC27-3ABD8A72BA9A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FF35-9C41-4A8A-B387-809A509F1A53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6A78-13DA-47BB-A63C-822FA31B4348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0CFF-E676-441E-9933-D3BA9F1690E4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a0403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9" name="矩形 2"/>
          <p:cNvSpPr/>
          <p:nvPr/>
        </p:nvSpPr>
        <p:spPr>
          <a:xfrm>
            <a:off x="428760" y="285840"/>
            <a:ext cx="41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李白乘舟将欲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忽闻岸上踏歌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3"/>
          <p:cNvSpPr/>
          <p:nvPr/>
        </p:nvSpPr>
        <p:spPr>
          <a:xfrm>
            <a:off x="6072120" y="4643280"/>
            <a:ext cx="285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唐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·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李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赠汪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4"/>
          <p:cNvSpPr/>
          <p:nvPr/>
        </p:nvSpPr>
        <p:spPr>
          <a:xfrm>
            <a:off x="3214800" y="135720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桃花潭水深千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及汪伦送我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1" descr="p_large_bd8h_0af2000002272d11.jpg"/>
          <p:cNvPicPr/>
          <p:nvPr/>
        </p:nvPicPr>
        <p:blipFill>
          <a:blip r:embed="rId2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4"/>
          <p:cNvSpPr/>
          <p:nvPr/>
        </p:nvSpPr>
        <p:spPr>
          <a:xfrm>
            <a:off x="428760" y="428760"/>
            <a:ext cx="4952880" cy="825120"/>
          </a:xfrm>
          <a:prstGeom prst="rect">
            <a:avLst/>
          </a:prstGeom>
          <a:solidFill>
            <a:srgbClr val="e7c8b5"/>
          </a:solidFill>
          <a:ln w="9360">
            <a:solidFill>
              <a:srgbClr val="faf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70c0"/>
                </a:solidFill>
                <a:latin typeface="Arial"/>
              </a:rPr>
              <a:t>洛阳亲友如相问</a:t>
            </a:r>
            <a:r>
              <a:rPr b="1" i="1" lang="zh-CN" sz="36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428760" y="1357200"/>
            <a:ext cx="7858080" cy="703440"/>
          </a:xfrm>
          <a:prstGeom prst="rect">
            <a:avLst/>
          </a:prstGeom>
          <a:solidFill>
            <a:srgbClr val="e7c8b5"/>
          </a:solidFill>
          <a:ln w="9360">
            <a:solidFill>
              <a:srgbClr val="faf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译文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：如果洛阳的亲友询问我的情况，请你一定转告他们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2024280" y="3214800"/>
            <a:ext cx="1667880" cy="825120"/>
          </a:xfrm>
          <a:prstGeom prst="rect">
            <a:avLst/>
          </a:prstGeom>
          <a:solidFill>
            <a:srgbClr val="e7c8b5"/>
          </a:solidFill>
          <a:ln w="9360">
            <a:solidFill>
              <a:srgbClr val="faf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d5d"/>
                </a:solidFill>
                <a:latin typeface="Arial"/>
              </a:rPr>
              <a:t> </a:t>
            </a:r>
            <a:r>
              <a:rPr b="1" i="1" lang="zh-CN" sz="4800" spc="-1" strike="noStrike">
                <a:solidFill>
                  <a:srgbClr val="0070c0"/>
                </a:solidFill>
                <a:latin typeface="Arial"/>
              </a:rPr>
              <a:t>一片冰心在玉壶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428760" y="4214880"/>
            <a:ext cx="7929360" cy="703440"/>
          </a:xfrm>
          <a:prstGeom prst="rect">
            <a:avLst/>
          </a:prstGeom>
          <a:solidFill>
            <a:srgbClr val="e7c8b5"/>
          </a:solidFill>
          <a:ln w="9360">
            <a:solidFill>
              <a:srgbClr val="faf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译文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：我的一颗心如晶莹剔透的冰，清正廉明，贮藏在玉壶中一般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579132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05bb"/>
                </a:solidFill>
                <a:latin typeface="Arial"/>
              </a:rPr>
              <a:t>一片冰心在玉壶，表示诗人心地纯洁，表里如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图片 1" descr="p_large_DhnW_7f08000068fc2d0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3"/>
          <p:cNvSpPr/>
          <p:nvPr/>
        </p:nvSpPr>
        <p:spPr>
          <a:xfrm>
            <a:off x="571680" y="428760"/>
            <a:ext cx="788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、结合图和诗句说说你看到一幅怎样的画面？（说说诗文的意思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250920" y="1989000"/>
            <a:ext cx="8103960" cy="703440"/>
          </a:xfrm>
          <a:prstGeom prst="rect">
            <a:avLst/>
          </a:prstGeom>
          <a:solidFill>
            <a:srgbClr val="fffff4"/>
          </a:solidFill>
          <a:ln w="9360">
            <a:solidFill>
              <a:srgbClr val="faf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迷蒙的烟雨在夜幕中笼罩着吴地，与浩渺的江水连成一片。天亮时我将送你启程，而我却要独自留下，如同这形单影只的楚山。如果洛阳的亲友询问我的情况，请你一定转告他们。我的一颗心如晶莹剔透的冰，清正廉明，贮藏在玉壶中一般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5" descr="20083417838667_2_副本"/>
          <p:cNvPicPr/>
          <p:nvPr/>
        </p:nvPicPr>
        <p:blipFill>
          <a:blip r:embed="rId2"/>
          <a:stretch/>
        </p:blipFill>
        <p:spPr>
          <a:xfrm>
            <a:off x="-857160" y="0"/>
            <a:ext cx="1000116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701"/>
                </a:solidFill>
                <a:latin typeface="Franklin Gothic Medium"/>
              </a:rPr>
              <a:t>这首诗表达了作者怎样的思想感情？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表达了</a:t>
            </a:r>
            <a:r>
              <a:rPr b="1" lang="zh-CN" sz="4000" spc="-1" strike="noStrike">
                <a:solidFill>
                  <a:srgbClr val="1f05bb"/>
                </a:solidFill>
                <a:latin typeface="Times New Roman"/>
                <a:ea typeface="宋体"/>
              </a:rPr>
              <a:t>诗人不因流落他乡而改变气节，始终保持着高尚纯洁的品格和坚强乐观的精神</a:t>
            </a:r>
            <a:r>
              <a:rPr b="1" lang="zh-CN" sz="4000" spc="-1" strike="noStrike">
                <a:solidFill>
                  <a:srgbClr val="0070c0"/>
                </a:solidFill>
                <a:latin typeface="Times New Roman"/>
                <a:ea typeface="宋体"/>
              </a:rPr>
              <a:t>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14" descr="20090423175640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14400" y="-360"/>
            <a:ext cx="338292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Franklin Gothic Medium"/>
              </a:rPr>
              <a:t>送别诗四首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357120" y="1071720"/>
            <a:ext cx="4357800" cy="295776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黄鹤楼送孟浩然之广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唐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李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故人西辞黄鹤楼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烟花三月下扬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孤帆远影碧空尽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唯见长江天际流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5143680" y="2286000"/>
            <a:ext cx="3500280" cy="289692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送元二使安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王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渭城朝雨浥轻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客舍青青柳色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劝君更尽一杯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西出阳关无故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16"/>
          <p:cNvSpPr/>
          <p:nvPr/>
        </p:nvSpPr>
        <p:spPr>
          <a:xfrm>
            <a:off x="6143760" y="1071720"/>
            <a:ext cx="1650960" cy="609480"/>
          </a:xfrm>
          <a:prstGeom prst="borderCallout1">
            <a:avLst>
              <a:gd name="adj1" fmla="val 18750"/>
              <a:gd name="adj2" fmla="val -8333"/>
              <a:gd name="adj3" fmla="val 105652"/>
              <a:gd name="adj4" fmla="val -86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701"/>
                </a:solidFill>
                <a:latin typeface="Arial"/>
                <a:ea typeface="宋体"/>
              </a:rPr>
              <a:t>无限留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7"/>
          <p:cNvSpPr/>
          <p:nvPr/>
        </p:nvSpPr>
        <p:spPr>
          <a:xfrm rot="10614600">
            <a:off x="4787280" y="5606640"/>
            <a:ext cx="2087640" cy="609480"/>
          </a:xfrm>
          <a:prstGeom prst="borderCallout2">
            <a:avLst>
              <a:gd name="adj1" fmla="val 18750"/>
              <a:gd name="adj2" fmla="val -8333"/>
              <a:gd name="adj3" fmla="val 76976"/>
              <a:gd name="adj4" fmla="val -30087"/>
              <a:gd name="adj5" fmla="val 198143"/>
              <a:gd name="adj6" fmla="val -5131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伤感与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20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5" dur="2000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6" descr="8d6b10f74cba1f14730eec0c"/>
          <p:cNvPicPr/>
          <p:nvPr/>
        </p:nvPicPr>
        <p:blipFill>
          <a:blip r:embed="rId2"/>
          <a:srcRect l="0" t="0" r="11691" b="295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11"/>
          <p:cNvSpPr/>
          <p:nvPr/>
        </p:nvSpPr>
        <p:spPr>
          <a:xfrm>
            <a:off x="285840" y="428760"/>
            <a:ext cx="3382920" cy="2836080"/>
          </a:xfrm>
          <a:prstGeom prst="rect">
            <a:avLst/>
          </a:prstGeom>
          <a:solidFill>
            <a:srgbClr val="fffff4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别董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1" lang="zh-CN" sz="2000" spc="-1" strike="noStrike">
                <a:solidFill>
                  <a:srgbClr val="ff3701"/>
                </a:solidFill>
                <a:latin typeface="Arial"/>
                <a:ea typeface="宋体"/>
              </a:rPr>
              <a:t>唐 </a:t>
            </a:r>
            <a:r>
              <a:rPr b="1" lang="en-US" sz="2000" spc="-1" strike="noStrike">
                <a:solidFill>
                  <a:srgbClr val="ff3701"/>
                </a:solidFill>
                <a:latin typeface="Arial"/>
                <a:ea typeface="宋体"/>
              </a:rPr>
              <a:t>· </a:t>
            </a:r>
            <a:r>
              <a:rPr b="1" lang="zh-CN" sz="2000" spc="-1" strike="noStrike">
                <a:solidFill>
                  <a:srgbClr val="ff3701"/>
                </a:solidFill>
                <a:latin typeface="Arial"/>
                <a:ea typeface="宋体"/>
              </a:rPr>
              <a:t>高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千里黄云白日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北风吹雁雪纷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莫愁前路无知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天下谁人不识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2"/>
          <p:cNvSpPr/>
          <p:nvPr/>
        </p:nvSpPr>
        <p:spPr>
          <a:xfrm>
            <a:off x="3929040" y="428760"/>
            <a:ext cx="4929120" cy="3323520"/>
          </a:xfrm>
          <a:prstGeom prst="rect">
            <a:avLst/>
          </a:prstGeom>
          <a:solidFill>
            <a:srgbClr val="fffff4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送杜少府之任蜀州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唐 </a:t>
            </a:r>
            <a:r>
              <a:rPr b="1" lang="zh-CN" sz="2400" spc="-1" strike="noStrike">
                <a:solidFill>
                  <a:srgbClr val="ff3701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3701"/>
                </a:solidFill>
                <a:latin typeface="Arial"/>
                <a:ea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王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城阙辅三秦，风烟望五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君离别意，同是宦游人。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海内存知己，天涯若比邻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为在岐路，儿女共沾巾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6"/>
          <p:cNvSpPr/>
          <p:nvPr/>
        </p:nvSpPr>
        <p:spPr>
          <a:xfrm>
            <a:off x="1857240" y="4357800"/>
            <a:ext cx="3071880" cy="500040"/>
          </a:xfrm>
          <a:prstGeom prst="borderCallout1">
            <a:avLst>
              <a:gd name="adj1" fmla="val 18750"/>
              <a:gd name="adj2" fmla="val -8333"/>
              <a:gd name="adj3" fmla="val -791"/>
              <a:gd name="adj4" fmla="val 3711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701"/>
                </a:solidFill>
                <a:latin typeface="Arial"/>
                <a:ea typeface="宋体"/>
              </a:rPr>
              <a:t>充满乐观和鼓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图片 1" descr="p_large_CCIQ_748b000065b12d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2"/>
          <p:cNvSpPr/>
          <p:nvPr/>
        </p:nvSpPr>
        <p:spPr>
          <a:xfrm>
            <a:off x="2357280" y="500040"/>
            <a:ext cx="37576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3701"/>
                </a:solidFill>
                <a:latin typeface="Franklin Gothic Medium"/>
                <a:ea typeface="楷体_GB2312"/>
              </a:rPr>
              <a:t>课后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500040" y="2357280"/>
            <a:ext cx="82296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背诵并默写</a:t>
            </a:r>
            <a:r>
              <a:rPr b="1" lang="en-US" sz="44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芙蓉楼送辛渐</a:t>
            </a:r>
            <a:r>
              <a:rPr b="1" lang="en-US" sz="44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把</a:t>
            </a:r>
            <a:r>
              <a:rPr b="1" lang="en-US" sz="44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芙蓉楼送辛渐</a:t>
            </a:r>
            <a:r>
              <a:rPr b="1" lang="en-US" sz="44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改写成一篇送别的记叙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5" descr="20083417838667_2_副本"/>
          <p:cNvPicPr/>
          <p:nvPr/>
        </p:nvPicPr>
        <p:blipFill>
          <a:blip r:embed="rId2"/>
          <a:stretch/>
        </p:blipFill>
        <p:spPr>
          <a:xfrm>
            <a:off x="-857160" y="0"/>
            <a:ext cx="1000116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99720" y="500040"/>
            <a:ext cx="5429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Franklin Gothic Medium"/>
              </a:rPr>
              <a:t>芙 蓉 楼 送 辛 渐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4670280" y="1428840"/>
            <a:ext cx="14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王昌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4"/>
          <p:cNvSpPr/>
          <p:nvPr/>
        </p:nvSpPr>
        <p:spPr>
          <a:xfrm>
            <a:off x="1643040" y="2214720"/>
            <a:ext cx="53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寒雨连江夜入吴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平明送客楚山孤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6"/>
          <p:cNvSpPr/>
          <p:nvPr/>
        </p:nvSpPr>
        <p:spPr>
          <a:xfrm>
            <a:off x="1476360" y="3789360"/>
            <a:ext cx="602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洛阳亲友如相问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片冰心在玉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lyc012"/>
          <p:cNvPicPr/>
          <p:nvPr/>
        </p:nvPicPr>
        <p:blipFill>
          <a:blip r:embed="rId2">
            <a:lum bright="50000"/>
          </a:blip>
          <a:stretch/>
        </p:blipFill>
        <p:spPr>
          <a:xfrm>
            <a:off x="34920" y="0"/>
            <a:ext cx="9109080" cy="68324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王昌龄"/>
          <p:cNvPicPr/>
          <p:nvPr/>
        </p:nvPicPr>
        <p:blipFill>
          <a:blip r:embed="rId3"/>
          <a:stretch/>
        </p:blipFill>
        <p:spPr>
          <a:xfrm>
            <a:off x="428760" y="1357200"/>
            <a:ext cx="2928960" cy="4714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49" name="Text Box 6"/>
          <p:cNvSpPr/>
          <p:nvPr/>
        </p:nvSpPr>
        <p:spPr>
          <a:xfrm>
            <a:off x="3635280" y="907920"/>
            <a:ext cx="5214960" cy="283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00dd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3701"/>
                </a:solidFill>
                <a:latin typeface="楷体_GB2312"/>
                <a:ea typeface="楷体_GB2312"/>
              </a:rPr>
              <a:t>王昌龄，字少伯，世称王龙标，擅长七言绝句，盛唐著名边塞诗人，后人誉为</a:t>
            </a:r>
            <a:r>
              <a:rPr b="1" lang="zh-CN" sz="3600" spc="-1" strike="noStrike">
                <a:solidFill>
                  <a:srgbClr val="ff3701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701"/>
                </a:solidFill>
                <a:latin typeface="楷体_GB2312"/>
                <a:ea typeface="楷体_GB2312"/>
              </a:rPr>
              <a:t>七绝圣手</a:t>
            </a:r>
            <a:r>
              <a:rPr b="1" lang="zh-CN" sz="3600" spc="-1" strike="noStrike">
                <a:solidFill>
                  <a:srgbClr val="ff3701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3701"/>
                </a:solidFill>
                <a:latin typeface="楷体_GB2312"/>
                <a:ea typeface="楷体_GB2312"/>
              </a:rPr>
              <a:t>。现存诗一百七十余首，作品有</a:t>
            </a:r>
            <a:r>
              <a:rPr b="1" lang="en-US" sz="3600" spc="-1" strike="noStrike">
                <a:solidFill>
                  <a:srgbClr val="ff3701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3701"/>
                </a:solidFill>
                <a:latin typeface="楷体_GB2312"/>
                <a:ea typeface="楷体_GB2312"/>
              </a:rPr>
              <a:t>王昌龄集</a:t>
            </a:r>
            <a:r>
              <a:rPr b="1" lang="en-US" sz="3600" spc="-1" strike="noStrike">
                <a:solidFill>
                  <a:srgbClr val="ff3701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3701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701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701"/>
                </a:solidFill>
                <a:latin typeface="楷体_GB2312"/>
                <a:ea typeface="楷体_GB2312"/>
              </a:rPr>
              <a:t>他的边塞诗气势雄浑，格调高昂，充满了积极向上的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WordArt 5" descr=""/>
          <p:cNvPicPr/>
          <p:nvPr/>
        </p:nvPicPr>
        <p:blipFill>
          <a:blip r:embed="rId4"/>
          <a:stretch/>
        </p:blipFill>
        <p:spPr>
          <a:xfrm>
            <a:off x="487440" y="201600"/>
            <a:ext cx="4097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5" descr="20083417838667_2_副本"/>
          <p:cNvPicPr/>
          <p:nvPr/>
        </p:nvPicPr>
        <p:blipFill>
          <a:blip r:embed="rId2"/>
          <a:stretch/>
        </p:blipFill>
        <p:spPr>
          <a:xfrm>
            <a:off x="-857160" y="0"/>
            <a:ext cx="1000116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701"/>
                </a:solidFill>
                <a:latin typeface="Franklin Gothic Medium"/>
              </a:rPr>
              <a:t>自读指导一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701"/>
                </a:solidFill>
                <a:latin typeface="Franklin Gothic Book"/>
              </a:rPr>
              <a:t>1</a:t>
            </a:r>
            <a:r>
              <a:rPr b="0" lang="zh-CN" sz="6000" spc="-1" strike="noStrike">
                <a:solidFill>
                  <a:srgbClr val="ff3701"/>
                </a:solidFill>
                <a:latin typeface="Franklin Gothic Book"/>
              </a:rPr>
              <a:t>、初读诗文，边读边拼写生字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15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701"/>
                </a:solidFill>
                <a:latin typeface="Franklin Gothic Book"/>
              </a:rPr>
              <a:t>2</a:t>
            </a:r>
            <a:r>
              <a:rPr b="0" lang="zh-CN" sz="6000" spc="-1" strike="noStrike">
                <a:solidFill>
                  <a:srgbClr val="ff3701"/>
                </a:solidFill>
                <a:latin typeface="Franklin Gothic Book"/>
              </a:rPr>
              <a:t>、再读诗文，用“</a:t>
            </a:r>
            <a:r>
              <a:rPr b="0" lang="en-US" sz="6000" spc="-1" strike="noStrike">
                <a:solidFill>
                  <a:srgbClr val="ff3701"/>
                </a:solidFill>
                <a:latin typeface="Franklin Gothic Book"/>
              </a:rPr>
              <a:t>|”</a:t>
            </a:r>
            <a:r>
              <a:rPr b="0" lang="zh-CN" sz="6000" spc="-1" strike="noStrike">
                <a:solidFill>
                  <a:srgbClr val="ff3701"/>
                </a:solidFill>
                <a:latin typeface="Franklin Gothic Book"/>
              </a:rPr>
              <a:t>标出停顿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20083417838667_2_副本_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18920" y="632880"/>
            <a:ext cx="482436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862304"/>
                </a:solidFill>
                <a:latin typeface="Franklin Gothic Medium"/>
              </a:rPr>
              <a:t>芙蓉楼送辛渐</a:t>
            </a:r>
            <a:endParaRPr b="0" lang="en-US" sz="57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000080" y="2214720"/>
            <a:ext cx="69566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Franklin Gothic Book"/>
              </a:rPr>
              <a:t>寒雨 </a:t>
            </a:r>
            <a:r>
              <a:rPr b="1" lang="en-US" sz="3600" spc="-1" strike="noStrike">
                <a:solidFill>
                  <a:srgbClr val="ff3701"/>
                </a:solidFill>
                <a:latin typeface="Franklin Gothic Book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Franklin Gothic Book"/>
              </a:rPr>
              <a:t>连江 </a:t>
            </a:r>
            <a:r>
              <a:rPr b="1" lang="en-US" sz="3600" spc="-1" strike="noStrike">
                <a:solidFill>
                  <a:srgbClr val="ff3701"/>
                </a:solidFill>
                <a:latin typeface="Franklin Gothic Book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Franklin Gothic Book"/>
              </a:rPr>
              <a:t>夜入吴，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Book"/>
              </a:rPr>
              <a:t>　  平明 </a:t>
            </a:r>
            <a:r>
              <a:rPr b="1" lang="en-US" sz="3600" spc="-1" strike="noStrike">
                <a:solidFill>
                  <a:srgbClr val="ff3701"/>
                </a:solidFill>
                <a:latin typeface="Franklin Gothic Book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Franklin Gothic Book"/>
              </a:rPr>
              <a:t>送客 </a:t>
            </a:r>
            <a:r>
              <a:rPr b="1" lang="en-US" sz="3600" spc="-1" strike="noStrike">
                <a:solidFill>
                  <a:srgbClr val="ff3701"/>
                </a:solidFill>
                <a:latin typeface="Franklin Gothic Book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Franklin Gothic Book"/>
              </a:rPr>
              <a:t>楚山孤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Book"/>
              </a:rPr>
              <a:t>　  洛阳 </a:t>
            </a:r>
            <a:r>
              <a:rPr b="1" lang="en-US" sz="3600" spc="-1" strike="noStrike">
                <a:solidFill>
                  <a:srgbClr val="ff3701"/>
                </a:solidFill>
                <a:latin typeface="Franklin Gothic Book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Franklin Gothic Book"/>
              </a:rPr>
              <a:t>亲友 </a:t>
            </a:r>
            <a:r>
              <a:rPr b="1" lang="en-US" sz="3600" spc="-1" strike="noStrike">
                <a:solidFill>
                  <a:srgbClr val="ff3701"/>
                </a:solidFill>
                <a:latin typeface="Franklin Gothic Book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Franklin Gothic Book"/>
              </a:rPr>
              <a:t>如相问，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Book"/>
              </a:rPr>
              <a:t>　  一片 </a:t>
            </a:r>
            <a:r>
              <a:rPr b="1" lang="en-US" sz="3600" spc="-1" strike="noStrike">
                <a:solidFill>
                  <a:srgbClr val="ff3701"/>
                </a:solidFill>
                <a:latin typeface="Franklin Gothic Book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Franklin Gothic Book"/>
              </a:rPr>
              <a:t>冰心 </a:t>
            </a:r>
            <a:r>
              <a:rPr b="1" lang="en-US" sz="3600" spc="-1" strike="noStrike">
                <a:solidFill>
                  <a:srgbClr val="ff3701"/>
                </a:solidFill>
                <a:latin typeface="Franklin Gothic Book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Franklin Gothic Book"/>
              </a:rPr>
              <a:t>在玉壶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4452840" y="171468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王昌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5" descr="20083417838667_2_副本"/>
          <p:cNvPicPr/>
          <p:nvPr/>
        </p:nvPicPr>
        <p:blipFill>
          <a:blip r:embed="rId2"/>
          <a:stretch/>
        </p:blipFill>
        <p:spPr>
          <a:xfrm>
            <a:off x="-857160" y="0"/>
            <a:ext cx="1000116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701"/>
                </a:solidFill>
                <a:latin typeface="Franklin Gothic Medium"/>
              </a:rPr>
              <a:t>自读指导二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701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ff3701"/>
                </a:solidFill>
                <a:latin typeface="Franklin Gothic Book"/>
              </a:rPr>
              <a:t>、解释词语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701"/>
                </a:solidFill>
                <a:latin typeface="Franklin Gothic Book"/>
              </a:rPr>
              <a:t>①</a:t>
            </a:r>
            <a:r>
              <a:rPr b="1" lang="en-US" sz="3200" spc="-1" strike="noStrike">
                <a:solidFill>
                  <a:srgbClr val="ff3701"/>
                </a:solidFill>
                <a:latin typeface="Franklin Gothic Book"/>
              </a:rPr>
              <a:t>.</a:t>
            </a:r>
            <a:r>
              <a:rPr b="1" lang="zh-CN" sz="3200" spc="-1" strike="noStrike">
                <a:solidFill>
                  <a:srgbClr val="ff3701"/>
                </a:solidFill>
                <a:latin typeface="Franklin Gothic Book"/>
              </a:rPr>
              <a:t>芙蓉楼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701"/>
                </a:solidFill>
                <a:latin typeface="Franklin Gothic Book"/>
              </a:rPr>
              <a:t>②</a:t>
            </a:r>
            <a:r>
              <a:rPr b="1" lang="zh-CN" sz="3200" spc="-1" strike="noStrike">
                <a:solidFill>
                  <a:srgbClr val="ff3701"/>
                </a:solidFill>
                <a:latin typeface="Franklin Gothic Book"/>
              </a:rPr>
              <a:t>辛渐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701"/>
                </a:solidFill>
                <a:latin typeface="Franklin Gothic Book"/>
              </a:rPr>
              <a:t>③</a:t>
            </a:r>
            <a:r>
              <a:rPr b="1" lang="zh-CN" sz="3200" spc="-1" strike="noStrike">
                <a:solidFill>
                  <a:srgbClr val="ff3701"/>
                </a:solidFill>
                <a:latin typeface="Franklin Gothic Book"/>
              </a:rPr>
              <a:t>吴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701"/>
                </a:solidFill>
                <a:latin typeface="Franklin Gothic Book"/>
              </a:rPr>
              <a:t>④</a:t>
            </a:r>
            <a:r>
              <a:rPr b="1" lang="zh-CN" sz="3200" spc="-1" strike="noStrike">
                <a:solidFill>
                  <a:srgbClr val="ff3701"/>
                </a:solidFill>
                <a:latin typeface="Franklin Gothic Book"/>
              </a:rPr>
              <a:t>平明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701"/>
                </a:solidFill>
                <a:latin typeface="Franklin Gothic Book"/>
              </a:rPr>
              <a:t>⑤</a:t>
            </a:r>
            <a:r>
              <a:rPr b="1" lang="zh-CN" sz="3200" spc="-1" strike="noStrike">
                <a:solidFill>
                  <a:srgbClr val="ff3701"/>
                </a:solidFill>
                <a:latin typeface="Franklin Gothic Book"/>
              </a:rPr>
              <a:t>楚山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701"/>
                </a:solidFill>
                <a:latin typeface="Franklin Gothic Book"/>
              </a:rPr>
              <a:t>⑥</a:t>
            </a:r>
            <a:r>
              <a:rPr b="1" lang="zh-CN" sz="3200" spc="-1" strike="noStrike">
                <a:solidFill>
                  <a:srgbClr val="ff3701"/>
                </a:solidFill>
                <a:latin typeface="Franklin Gothic Book"/>
              </a:rPr>
              <a:t>冰心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701"/>
                </a:solidFill>
                <a:latin typeface="Franklin Gothic Book"/>
              </a:rPr>
              <a:t>⑦</a:t>
            </a:r>
            <a:r>
              <a:rPr b="1" lang="zh-CN" sz="3200" spc="-1" strike="noStrike">
                <a:solidFill>
                  <a:srgbClr val="ff3701"/>
                </a:solidFill>
                <a:latin typeface="Franklin Gothic Book"/>
              </a:rPr>
              <a:t>玉壶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"/>
          <p:cNvSpPr/>
          <p:nvPr/>
        </p:nvSpPr>
        <p:spPr>
          <a:xfrm>
            <a:off x="2484360" y="558972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701"/>
                </a:solidFill>
                <a:latin typeface="Arial"/>
              </a:rPr>
              <a:t>玉做的晶莹的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6" descr="34781_200908071007381VWCp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4"/>
          <p:cNvSpPr/>
          <p:nvPr/>
        </p:nvSpPr>
        <p:spPr>
          <a:xfrm>
            <a:off x="6950880" y="1311120"/>
            <a:ext cx="14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王昌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1785960" y="3929040"/>
            <a:ext cx="5786280" cy="1068840"/>
          </a:xfrm>
          <a:prstGeom prst="rect">
            <a:avLst/>
          </a:prstGeom>
          <a:gradFill rotWithShape="0">
            <a:gsLst>
              <a:gs pos="0">
                <a:srgbClr val="c47546">
                  <a:alpha val="5215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701"/>
                </a:solidFill>
                <a:latin typeface="宋体"/>
                <a:ea typeface="宋体"/>
              </a:rPr>
              <a:t>1.“</a:t>
            </a:r>
            <a:r>
              <a:rPr b="1" lang="zh-CN" sz="3200" spc="-1" strike="noStrike">
                <a:solidFill>
                  <a:srgbClr val="ff3701"/>
                </a:solidFill>
                <a:latin typeface="宋体"/>
                <a:ea typeface="宋体"/>
              </a:rPr>
              <a:t>寒雨”是什么季节的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701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ff3701"/>
                </a:solidFill>
                <a:latin typeface="宋体"/>
                <a:ea typeface="宋体"/>
              </a:rPr>
              <a:t>用自己的话说说“寒雨连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>
            <a:off x="8172360" y="6381720"/>
            <a:ext cx="971640" cy="476280"/>
          </a:xfrm>
          <a:prstGeom prst="leftArrow">
            <a:avLst>
              <a:gd name="adj1" fmla="val 50000"/>
              <a:gd name="adj2" fmla="val 51002"/>
            </a:avLst>
          </a:prstGeom>
          <a:solidFill>
            <a:srgbClr val="918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诗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2786040" y="2714760"/>
            <a:ext cx="42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d5d5"/>
                </a:solidFill>
                <a:latin typeface="Arial"/>
              </a:rPr>
              <a:t>寒雨连江夜入吴</a:t>
            </a:r>
            <a:r>
              <a:rPr b="0" i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642960" y="3786120"/>
            <a:ext cx="7929720" cy="703440"/>
          </a:xfrm>
          <a:prstGeom prst="rect">
            <a:avLst/>
          </a:prstGeom>
          <a:solidFill>
            <a:srgbClr val="e7c8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译文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迷蒙的烟雨在夜幕中笼罩着吴地，与浩渺的江水连成一片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95280" y="620640"/>
            <a:ext cx="79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701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3701"/>
                </a:solidFill>
                <a:latin typeface="Arial"/>
              </a:rPr>
              <a:t>、看注释和插图说说诗句的意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4" descr="芙蓉楼送辛渐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470" name="AutoShape 6"/>
          <p:cNvSpPr/>
          <p:nvPr/>
        </p:nvSpPr>
        <p:spPr>
          <a:xfrm>
            <a:off x="857160" y="4857840"/>
            <a:ext cx="6643800" cy="1143000"/>
          </a:xfrm>
          <a:prstGeom prst="wedgeRoundRectCallout">
            <a:avLst>
              <a:gd name="adj1" fmla="val -43912"/>
              <a:gd name="adj2" fmla="val 40074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楚山孤”用我们的话怎么说？你能从中体会到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2000160" y="1000080"/>
            <a:ext cx="43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平明送客楚山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</a:rPr>
              <a:t>孤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57120" y="4786200"/>
            <a:ext cx="8358120" cy="703440"/>
          </a:xfrm>
          <a:prstGeom prst="rect">
            <a:avLst/>
          </a:prstGeom>
          <a:solidFill>
            <a:srgbClr val="e7c8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译文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：天亮时我将送你启程，而我却要独自留下，如同这形单影只的楚山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5" descr="20083417838667_2_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701"/>
                </a:solidFill>
                <a:latin typeface="Franklin Gothic Book"/>
              </a:rPr>
              <a:t>前两行写景，写了哪些景物？从中看出作者心情怎样？从哪些词能看出来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5" name=""/>
          <p:cNvSpPr/>
          <p:nvPr/>
        </p:nvSpPr>
        <p:spPr>
          <a:xfrm>
            <a:off x="826920" y="3213000"/>
            <a:ext cx="66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701"/>
                </a:solidFill>
                <a:latin typeface="Arial"/>
              </a:rPr>
              <a:t>寒雨、连江、楚山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701"/>
                </a:solidFill>
                <a:latin typeface="Arial"/>
              </a:rPr>
              <a:t>表现了诗人凄凉的心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0:19:43Z</dcterms:created>
  <dc:creator>雨林木风</dc:creator>
  <dc:description/>
  <dc:language>en-US</dc:language>
  <cp:lastModifiedBy>微软用户</cp:lastModifiedBy>
  <dcterms:modified xsi:type="dcterms:W3CDTF">2013-10-23T00:31:12Z</dcterms:modified>
  <cp:revision>107</cp:revision>
  <dc:subject/>
  <dc:title>送  别</dc:title>
</cp:coreProperties>
</file>