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242-A54F-42A6-85AF-A86E0066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243-69B8-4923-8437-0BC5263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D35-856E-4874-B188-2B0CF181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CF4-4159-468A-AA72-D8FBC18E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731-F285-49DD-8347-1AB5C21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E8A-C9B0-4331-8D98-6F46C4D8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096-6F00-49B3-A904-0976EBA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C83-8E3D-4359-88CA-9DB3699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9CB-FBBD-472A-93FB-6D82A57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A21-9DFF-4199-9AEA-C5BC02B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0BD-1FA1-4932-92BB-3200164A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4BA-DB9E-419B-9C28-EB5B5D6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398-3F2A-4A57-AD68-58B997BD5C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odehaopengyou.unjs.com/" TargetMode="External"/><Relationship Id="rId3" Type="http://schemas.openxmlformats.org/officeDocument/2006/relationships/hyperlink" Target="http://www.unjs.com/zuowen/duhougan/20110305142920_588161.html" TargetMode="External"/><Relationship Id="rId4" Type="http://schemas.openxmlformats.org/officeDocument/2006/relationships/hyperlink" Target="http://www.unjs.com/zuowen/duhougan/20110305142920_588161.html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159878.htm" TargetMode="External"/><Relationship Id="rId3" Type="http://schemas.openxmlformats.org/officeDocument/2006/relationships/hyperlink" Target="http://baike.baidu.com/view/1775235.htm" TargetMode="External"/><Relationship Id="rId4" Type="http://schemas.openxmlformats.org/officeDocument/2006/relationships/hyperlink" Target="http://baike.baidu.com/view/1775235.htm" TargetMode="External"/><Relationship Id="rId5" Type="http://schemas.openxmlformats.org/officeDocument/2006/relationships/hyperlink" Target="http://baike.baidu.com/view/2411.htm" TargetMode="External"/><Relationship Id="rId6" Type="http://schemas.openxmlformats.org/officeDocument/2006/relationships/hyperlink" Target="http://baike.baidu.com/view/2411.htm" TargetMode="External"/><Relationship Id="rId7" Type="http://schemas.openxmlformats.org/officeDocument/2006/relationships/hyperlink" Target="http://baike.baidu.com/view/2874.ht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zhidao.baidu.com/search?word=&#27946;&#27743;&#24066;&amp;fr=qb_search_exp&amp;ie=utf8" TargetMode="External"/><Relationship Id="rId3" Type="http://schemas.openxmlformats.org/officeDocument/2006/relationships/hyperlink" Target="http://zhidao.baidu.com/search?word=&#33433;&#33993;&#27004;&amp;fr=qb_search_exp&amp;ie=utf8" TargetMode="External"/><Relationship Id="rId4" Type="http://schemas.openxmlformats.org/officeDocument/2006/relationships/hyperlink" Target="http://zhidao.baidu.com/search?word=&#25991;&#29289;&#20445;&#25252;&#21333;&#20301;&amp;fr=qb_search_exp&amp;ie=utf8" TargetMode="External"/><Relationship Id="rId5" Type="http://schemas.openxmlformats.org/officeDocument/2006/relationships/hyperlink" Target="http://zhidao.baidu.com/search?word=&#27946;&#27743;&#24066;&amp;fr=qb_search_exp&amp;ie=utf8" TargetMode="External"/><Relationship Id="rId6" Type="http://schemas.openxmlformats.org/officeDocument/2006/relationships/hyperlink" Target="http://zhidao.baidu.com/search?word=&#30693;&#21439;&amp;fr=qb_search_exp&amp;ie=utf8" TargetMode="External"/><Relationship Id="rId7" Type="http://schemas.openxmlformats.org/officeDocument/2006/relationships/hyperlink" Target="http://zhidao.baidu.com/search?word=&#30693;&#21439;&amp;fr=qb_search_exp&amp;ie=utf8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baike.baidu.com/view/743992.htm" TargetMode="External"/><Relationship Id="rId3" Type="http://schemas.openxmlformats.org/officeDocument/2006/relationships/hyperlink" Target="http://baike.baidu.com/view/67649.htm" TargetMode="External"/><Relationship Id="rId4" Type="http://schemas.openxmlformats.org/officeDocument/2006/relationships/hyperlink" Target="http://baike.baidu.com/view/2133.htm" TargetMode="External"/><Relationship Id="rId5" Type="http://schemas.openxmlformats.org/officeDocument/2006/relationships/hyperlink" Target="http://baike.baidu.com/view/16967.htm" TargetMode="External"/><Relationship Id="rId6" Type="http://schemas.openxmlformats.org/officeDocument/2006/relationships/hyperlink" Target="http://baike.baidu.com/view/7485.htm" TargetMode="External"/><Relationship Id="rId7" Type="http://schemas.openxmlformats.org/officeDocument/2006/relationships/hyperlink" Target="http://baike.baidu.com/view/33578.htm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201212071242481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9640" y="40464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华文行楷"/>
                <a:ea typeface="华文行楷"/>
              </a:rPr>
              <a:t>芙蓉楼送辛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8000" y="5151600"/>
            <a:ext cx="35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六（</a:t>
            </a:r>
            <a:r>
              <a:rPr b="0" lang="en-US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6</a:t>
            </a:r>
            <a:r>
              <a:rPr b="0" lang="zh-CN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）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行楷"/>
                <a:ea typeface="华文行楷"/>
              </a:rPr>
              <a:t>李怡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1433365_13817243659xy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95280" y="476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游戏时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332000" y="1989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15968"/>
                </a:solidFill>
                <a:latin typeface="华文楷体"/>
                <a:ea typeface="华文楷体"/>
              </a:rPr>
              <a:t>七个组中抽签选出一名同学代表各组来背诵，再从这七个人中选出一个背的最好的同学为他们组领奖，另外，这个同学可以额外获得一个神秘大奖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58920" y="13413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0a0"/>
                </a:solidFill>
                <a:latin typeface="华文行楷"/>
                <a:ea typeface="华文行楷"/>
              </a:rPr>
              <a:t>游戏规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20110518231239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大家从此诗里读懂了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7280" y="1700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《</a:t>
            </a:r>
            <a:r>
              <a:rPr b="0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芙蓉楼送辛渐</a:t>
            </a:r>
            <a:r>
              <a:rPr b="0" lang="en-US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》</a:t>
            </a:r>
            <a:r>
              <a:rPr b="0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，这首诗是盛唐著名诗人王昌龄贬为江宁（今南京市）丞后写的送别诗。它含蓄地反映了诗人遭受打击的愤懑（</a:t>
            </a:r>
            <a:r>
              <a:rPr b="0" lang="en-US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men</a:t>
            </a:r>
            <a:r>
              <a:rPr b="0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四声）和孤寂心情。诗写得十分含蓄深沉，写送别而不言别，着重表现诗人的高洁，借以表达被贬的幽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2014010920440054_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3152"/>
                </a:solidFill>
                <a:latin typeface="华文楷体"/>
                <a:ea typeface="华文楷体"/>
              </a:rPr>
              <a:t>下面每四个人一组讨论读后的感受吧</a:t>
            </a:r>
            <a:r>
              <a:rPr b="0" lang="en-US" sz="4000" spc="-1" strike="noStrike">
                <a:solidFill>
                  <a:srgbClr val="403152"/>
                </a:solidFill>
                <a:latin typeface="华文楷体"/>
                <a:ea typeface="华文楷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4360" y="2060640"/>
            <a:ext cx="7848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两位很多年没见面的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2"/>
              </a:rPr>
              <a:t>朋友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见面时，心中会充满了激动和喜悦，会有许多话要对朋友说，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3"/>
              </a:rPr>
              <a:t>《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4"/>
              </a:rPr>
              <a:t>芙蓉楼送辛渐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后感。可世上没有不散的酒席，人终究会离别、各奔东西的。古代许多文人墨客便以诗歌来抒发自己的感情。 　　“寒雨连江夜入吴，平明送客楚山孤。”是王昌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芙蓉楼送辛渐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的诗句，它表现了满江的寒雨在夜间悄悄的降临，早晨送别亲友心中感觉十分孤独，甚至觉得连山也孤孤单单的了，表达了诗人十分孤单、依依惜别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2012032114301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希望同学们回到家后勤复习哦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547640" y="3357720"/>
            <a:ext cx="51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课到此结束，谢谢大家的观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10" descr="t01002307bb838406e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芙蓉楼送辛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292720" y="17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唐</a:t>
            </a: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】    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王昌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268360" y="2781360"/>
            <a:ext cx="54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寒雨连江夜入吴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平明送客楚山孤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洛阳亲友如相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一片冰心在玉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20120925135746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28195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注释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55640" y="1700280"/>
            <a:ext cx="7848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芙蓉楼：原名西北楼，在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2"/>
              </a:rPr>
              <a:t>润州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今江苏省镇江市</a:t>
            </a: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西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寒雨：秋冬时节的冷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连江：满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吴：古代国名，这里泛指江苏南部、浙江北部一带。江苏镇江一带为三国时吴国所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平明：天亮的时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客：指作者的好友辛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3"/>
              </a:rPr>
              <a:t>7.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4"/>
              </a:rPr>
              <a:t>楚山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：春秋时的楚国在长江中下游一带，所以称这一带的山为楚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孤：独自，孤单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5"/>
              </a:rPr>
              <a:t>9.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6"/>
              </a:rPr>
              <a:t>洛阳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：位于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7"/>
              </a:rPr>
              <a:t>河南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省西部、黄河南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一片冰心在玉壶：我的心如晶莹剔透的冰贮藏在玉壶中一般。比喻人清廉正直。冰心，比喻纯洁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c712eba375c0ad12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2376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39640" y="39337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平明送客楚山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6228"/>
                </a:solidFill>
                <a:latin typeface="Adobe 楷体 Std R"/>
                <a:ea typeface="Adobe 楷体 Std R"/>
              </a:rPr>
              <a:t>清晨送走你，孤对楚山离愁无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539640" y="33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看谁最厉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68360" y="119700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寒雨连江夜入吴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468360" y="2133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6228"/>
                </a:solidFill>
                <a:latin typeface="Adobe 楷体 Std R"/>
                <a:ea typeface="Adobe 楷体 Std R"/>
              </a:rPr>
              <a:t>迷蒙的烟雨，连夜洒遍吴地江天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5" descr="32158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684360" y="1916280"/>
            <a:ext cx="770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39640" y="0"/>
            <a:ext cx="770436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4f6228"/>
                </a:solidFill>
                <a:latin typeface="Adobe 楷体 Std R"/>
                <a:ea typeface="Adobe 楷体 Std R"/>
              </a:rPr>
              <a:t>朋友啊，洛阳亲友若是问起我来，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84360" y="398304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一片冰心在玉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755640" y="47214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6228"/>
                </a:solidFill>
                <a:latin typeface="Adobe 楷体 Std R"/>
                <a:ea typeface="Adobe 楷体 Std R"/>
              </a:rPr>
              <a:t>就说我依然冰心玉壶，坚守信念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84360" y="148428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洛阳亲友如相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7" descr="200507171036125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-192240" y="333360"/>
            <a:ext cx="152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华文行楷"/>
                <a:ea typeface="华文行楷"/>
              </a:rPr>
              <a:t>谁知道芙蓉楼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124000" y="476280"/>
            <a:ext cx="648036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2"/>
              </a:rPr>
              <a:t>洪江市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黔（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qian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二声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)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3"/>
              </a:rPr>
              <a:t>芙蓉楼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，位于湘西古镇黔城西北隅，属湖南省省级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4"/>
              </a:rPr>
              <a:t>文物保护单位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，是一座江南古典园林式建筑。为纪念唐代大诗人王昌龄左迁龙标（今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5"/>
              </a:rPr>
              <a:t>洪江市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黔城）而建，历代文人墨客吟诗题赋、宴宾送客之地。乾隆四十年（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1776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）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6"/>
              </a:rPr>
              <a:t>知县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叶梦麟于东城外建芙蓉亭，嘉庆二十年（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1815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）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楷体"/>
                <a:ea typeface="华文楷体"/>
                <a:hlinkClick r:id="rId7"/>
              </a:rPr>
              <a:t>知县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曾钰（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yu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四声）择西城外香炉岩畔创修。道光十九年（</a:t>
            </a:r>
            <a:r>
              <a:rPr b="0" lang="en-US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1839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8" descr="20120901210242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内容占位符 4" descr="2006_7_15_632885630384687500.jpg"/>
          <p:cNvPicPr/>
          <p:nvPr/>
        </p:nvPicPr>
        <p:blipFill>
          <a:blip r:embed="rId2"/>
          <a:stretch/>
        </p:blipFill>
        <p:spPr>
          <a:xfrm rot="1378800">
            <a:off x="3301920" y="1978200"/>
            <a:ext cx="4286160" cy="3219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20090909154235317.jpg"/>
          <p:cNvPicPr/>
          <p:nvPr/>
        </p:nvPicPr>
        <p:blipFill>
          <a:blip r:embed="rId3"/>
          <a:stretch/>
        </p:blipFill>
        <p:spPr>
          <a:xfrm rot="20907600">
            <a:off x="3396960" y="1893600"/>
            <a:ext cx="3752640" cy="28731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20110905163531934.jpg"/>
          <p:cNvPicPr/>
          <p:nvPr/>
        </p:nvPicPr>
        <p:blipFill>
          <a:blip r:embed="rId4"/>
          <a:stretch/>
        </p:blipFill>
        <p:spPr>
          <a:xfrm>
            <a:off x="3348000" y="1989000"/>
            <a:ext cx="4602240" cy="2820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839520" y="333360"/>
            <a:ext cx="911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0a0"/>
                </a:solidFill>
                <a:latin typeface="华文楷体"/>
                <a:ea typeface="华文楷体"/>
              </a:rPr>
              <a:t>这就是芙蓉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7" descr="52197950201011252118351572307243599_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2962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826920" y="1628640"/>
            <a:ext cx="756144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王昌龄 ，字少伯，河东晋阳（今山西太原）人。盛唐著名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2"/>
              </a:rPr>
              <a:t>边塞诗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人，后人誉为“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3"/>
              </a:rPr>
              <a:t>七绝圣手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”。早年贫贱，困于农耕，年近不惑，始中进士。与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4"/>
              </a:rPr>
              <a:t>李白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、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5"/>
              </a:rPr>
              <a:t>高适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、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6"/>
              </a:rPr>
              <a:t>王维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、</a:t>
            </a:r>
            <a:r>
              <a:rPr b="0" lang="zh-CN" sz="3800" spc="-1" strike="noStrike" u="sng">
                <a:solidFill>
                  <a:srgbClr val="0000ff"/>
                </a:solidFill>
                <a:uFillTx/>
                <a:latin typeface="Adobe 楷体 Std R"/>
                <a:ea typeface="Adobe 楷体 Std R"/>
                <a:hlinkClick r:id="rId7"/>
              </a:rPr>
              <a:t>王之涣</a:t>
            </a:r>
            <a:r>
              <a:rPr b="0" lang="zh-CN" sz="3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等交厚。其诗以七绝见长，尤以登第之前赴西北边塞所作边塞诗最著，有“诗家夫子王江宁”之誉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c11"/>
                </a:solidFill>
                <a:latin typeface="Adobe 楷体 Std R"/>
                <a:ea typeface="Adobe 楷体 Std 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5" descr="20130510132552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1811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53735"/>
                </a:solidFill>
                <a:latin typeface="Adobe 楷体 Std R"/>
                <a:ea typeface="Adobe 楷体 Std R"/>
              </a:rPr>
              <a:t>评析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55640" y="191628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这是一首送别诗。诗的构思新颖，淡写朋友的离情别绪，重写自己的高风亮节。首两句苍茫的江雨和孤峙的楚山，烘托送别时的孤寂之情；后两句自比冰壶，表达自己开郎胸怀和坚强性格。全诗即景生情，寓情于景，含蓄蕴藉，韵味无穷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2:04:59Z</dcterms:created>
  <dc:creator>dell</dc:creator>
  <dc:description/>
  <dc:language>en-US</dc:language>
  <cp:lastModifiedBy>dell</cp:lastModifiedBy>
  <dcterms:modified xsi:type="dcterms:W3CDTF">2014-02-24T08:19:05Z</dcterms:modified>
  <cp:revision>46</cp:revision>
  <dc:subject/>
  <dc:title>幻灯片 1</dc:title>
</cp:coreProperties>
</file>