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44E-59C2-4E18-9C97-0EF48BF2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6C7-6ED5-4A30-BE2E-1E10D883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493-269A-43E6-B804-55293242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D96-3FFC-496F-AB62-73407923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0CFB-87E0-4EF6-BAA1-16DD200E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19FA-13EF-4CBB-8B4C-7A367023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68FB-1930-42B0-AED7-7907B901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3589-1F36-4B2F-8E82-2BFBC3A6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B22A-3B8D-4663-A709-8F7F2F4E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65AC-B84A-476D-9699-47870652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2E4B-9B59-434A-8D0A-A53EAB5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05D-84A3-44A4-A66F-05CD5DF3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98B2-25FC-469A-A6AB-BFF7897B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156E-68ED-454F-B691-80A0C555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C7EC-7902-4E52-9DD0-E17ECD0E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37DC-504F-475C-9644-1B1CEFB7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B880-89FF-4EEA-9F4D-94CA731E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9B8-D673-4DCD-A457-21609B91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702-F1F0-4050-9468-07E877E6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690-E1E9-4585-8E2C-6C70B4D7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E71-62F3-4E85-BC84-3AD218CE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F64-8FE3-49B8-B24B-4857BFB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2E6-5073-4A73-9FD1-F39E153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828-A675-4F5F-8117-B11A740D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0AD-C1A4-4BAA-9AB5-20D7B96C758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E052-EF7A-49E9-B7B2-97D89FD3DE1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453592.htm" TargetMode="External"/><Relationship Id="rId3" Type="http://schemas.openxmlformats.org/officeDocument/2006/relationships/hyperlink" Target="http://baike.baidu.com/view/1775235.htm" TargetMode="External"/><Relationship Id="rId4" Type="http://schemas.openxmlformats.org/officeDocument/2006/relationships/hyperlink" Target="http://baike.baidu.com/view/5488.htm" TargetMode="External"/><Relationship Id="rId5" Type="http://schemas.openxmlformats.org/officeDocument/2006/relationships/hyperlink" Target="http://baike.baidu.com/view/4479.ht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芙蓉楼送辛渐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唐    王昌龄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西师版   六年级（上）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216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2160ff"/>
                </a:solidFill>
                <a:latin typeface="Arial"/>
              </a:rPr>
              <a:t>寒雨连江夜入吴”，迷蒙的烟雨笼罩着吴地江天，织成了无边无际的愁网。夜雨增添了萧瑟的秋意，也渲染出离别的黯淡气氛。那寒意不仅弥漫在满江烟雨之中，更沁透在两个离人的心头。“连”字和“入”字写出雨势的平稳连绵，江雨悄然而来的动态能为人分明地感知，则诗人因离别之情而一夜未眠的情景也自可想见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16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2160ff"/>
                </a:solidFill>
                <a:latin typeface="Arial"/>
              </a:rPr>
              <a:t>诗人将听觉、视觉和想象概括成连江入吴的雨势，以大片淡墨染出满纸烟雨，用浩大的气魄烘托了“平明送客楚山孤”的开阔意境。</a:t>
            </a:r>
            <a:r>
              <a:rPr b="0" lang="zh-CN" sz="2400" spc="-1" strike="noStrike">
                <a:solidFill>
                  <a:srgbClr val="216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09480" y="22860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e86fe"/>
                    </a:gs>
                    <a:gs pos="100000">
                      <a:srgbClr val="ff6699">
                        <a:alpha val="57254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点评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e86fe"/>
                  </a:gs>
                  <a:gs pos="100000">
                    <a:srgbClr val="ff6699">
                      <a:alpha val="57254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3716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《芙蓉楼送辛渐》是一首送别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本诗的构思新颖，淡写朋友的离情别绪，重写自己的高风亮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首两句苍茫的江雨和孤峙的楚山，烘托送别时的孤寂之情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后两句自比冰壶，表达自己开朗胸怀和坚强性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全诗即景生情，寓情于景，含蓄蕴藉，韵味无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990720"/>
            <a:ext cx="3047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课后作业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124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背诵并默写《芙蓉楼送辛渐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理解诗句的意思及作者表达的思想感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762120"/>
            <a:ext cx="3809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00800" y="5029200"/>
            <a:ext cx="1981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360" y="7840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0"/>
            <a:ext cx="350496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镇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芙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蓉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2670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芙蓉楼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坐落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金山天下第一泉的塔影湖滨，其原建于古镇江城内三山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精山、月华山、寿丘山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中的月华山上。为东晋刺史王恭所建，唐代犹存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唐代大诗人王昌龄曾在古代“芙蓉楼”写下了著名的诗篇《芙蓉楼送辛渐》：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390720" y="990720"/>
            <a:ext cx="2191320" cy="518148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芙蓉楼送辛渐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042080" y="304920"/>
            <a:ext cx="2009160" cy="617220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d5d"/>
                </a:solidFill>
                <a:latin typeface="Arial"/>
                <a:ea typeface="楷体_GB2312"/>
              </a:rPr>
              <a:t>寒雨连江夜入吴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5240" y="380880"/>
            <a:ext cx="1094760" cy="601992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d5d"/>
                </a:solidFill>
                <a:latin typeface="Arial"/>
                <a:ea typeface="楷体_GB2312"/>
              </a:rPr>
              <a:t>平明送客楚山孤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9240" y="304920"/>
            <a:ext cx="2009160" cy="617220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d5d"/>
                </a:solidFill>
                <a:latin typeface="Arial"/>
                <a:ea typeface="楷体_GB2312"/>
              </a:rPr>
              <a:t>洛阳亲友如相问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9760" y="304920"/>
            <a:ext cx="1094760" cy="617220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d5d"/>
                </a:solidFill>
                <a:latin typeface="Arial"/>
                <a:ea typeface="楷体_GB2312"/>
              </a:rPr>
              <a:t>一片冰心在玉壶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28040" y="3763800"/>
            <a:ext cx="1155240" cy="2484720"/>
          </a:xfrm>
          <a:prstGeom prst="rect">
            <a:avLst/>
          </a:prstGeom>
          <a:solidFill>
            <a:srgbClr val="87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d5d"/>
                </a:solidFill>
                <a:latin typeface="楷体_GB2312"/>
                <a:ea typeface="楷体_GB2312"/>
              </a:rPr>
              <a:t>唐   王昌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3808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作者简介：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0574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王昌龄，字少伯，世称王龙标，擅长七言绝句，盛唐著名边塞诗人，后人誉为“七绝圣手”。现存诗一百七十余首，作品有《王昌龄集》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他的边塞诗气势雄浑，格调高昂，充满了积极向上的精神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5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5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5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"/>
            <a:ext cx="800100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【注释】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芙蓉楼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润州（今江苏镇江）的城楼。　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辛渐：诗人的一位朋友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寒雨：寒冷的雨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连江：满江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吴：三国时的吴国在长江下游一带，所以称这一带为吴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平明：清晨天刚亮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7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客：指辛渐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8. </a:t>
            </a: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楚山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春秋时的楚国在长江中下游一带，所以称这一带的山为楚山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9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孤：独自，孤单一人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一片冰心在玉壶：冰在玉壶之中，比喻人清廉正直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1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冰心：比喻心的纯洁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2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洛阳：位于</a:t>
            </a: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河南省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西部、</a:t>
            </a: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黄河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南岸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1523880"/>
            <a:ext cx="14479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</a:rPr>
              <a:t>芙</a:t>
            </a:r>
            <a:r>
              <a:rPr b="0" lang="zh-CN" sz="106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0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</a:rPr>
              <a:t>蓉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876920"/>
            <a:ext cx="2743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拼音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hú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首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士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外笔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:7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总笔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:10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0480" y="4952880"/>
            <a:ext cx="139932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</a:rPr>
              <a:t>壶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拼音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fú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首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外笔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: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总笔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: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35268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拼音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róng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首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部外笔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:1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总笔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: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5000" y="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e86fe"/>
                </a:solidFill>
                <a:latin typeface="Arial"/>
              </a:rPr>
              <a:t>生字词：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66680" y="304920"/>
            <a:ext cx="25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译文：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0574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寒雨连江夜入吴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819520"/>
            <a:ext cx="73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译文：迷蒙的烟雨在夜幕中笼罩着吴地，与浩渺的江水连成一片。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9360" y="3798720"/>
            <a:ext cx="25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平明送客楚山孤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4572000"/>
            <a:ext cx="84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译文：天亮时我将送你启程，而我却要独自留下，如同这形单影只的楚山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167652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d5d"/>
                </a:solidFill>
                <a:latin typeface="Arial"/>
              </a:rPr>
              <a:t>洛阳亲友如相问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590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译文：如果洛阳的亲友询问我的情况，请你一定转告他们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62160" y="4038480"/>
            <a:ext cx="119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d5d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5d5d"/>
                </a:solidFill>
                <a:latin typeface="Arial"/>
              </a:rPr>
              <a:t>一片冰心在玉壶</a:t>
            </a:r>
            <a:r>
              <a:rPr b="0" lang="zh-CN" sz="3200" spc="-1" strike="noStrike">
                <a:solidFill>
                  <a:srgbClr val="ff5d5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800600"/>
            <a:ext cx="64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译文：我的一颗心如晶莹剔透的冰，清正廉明，贮藏在玉壶中一般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66680" y="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鉴赏：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447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首句从昨夜秋雨写起，为送别设置了凄清的气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二句中的“平明”点明送客的时间；“楚山孤”，既写出了友人的去向，又暗寓了自己送客时的心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三、四句，写的是自己，仍与送别之意相吻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因为辛渐是诗人的同乡，辛渐返乡，亲友一定要问到诗人的情况，所以诗人送别辛渐时特别嘱托他：“家乡的亲友如果问到我现在的情况，你就说，我的为人就像那晶莹剔透的一块冰，装在洁白的玉壶之中。”表明自己不为遭贬而改变玉洁冰清的节操。构思新颖，委屈、怨恨之情含而不露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0-12-23T06:20:1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