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BA3-946C-4348-B3ED-6ED8980C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0FB-C931-488B-B639-4D50CFDD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166-B53A-45E1-AACD-E65E0FD6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E52-C439-47F0-9E19-7130F7AE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4EC5-9F3A-4B1C-8503-D3307A0A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BB2C-EA26-4DF6-AAC5-1CADB5D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F1D6-90AC-4DB8-86C6-811E1BB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F1FE-F18C-4216-9B46-447B842A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04F0-D341-49E6-B0C8-B167BA3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54B9-116E-44F2-849C-2327128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FEC-27C8-489D-AC27-FC0AC5EA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A5B-DF5F-440E-AA7D-62D2C76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5A7-7C94-46E3-9AEB-FB04879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9654-81FF-452A-94F5-0AA2A0F2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16E3-69A1-41F6-AFEF-BBB7B28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0A81-7CF2-49EB-9773-9E0F9382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F08-7622-404D-97CD-CBF2D899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9B2-B66F-4664-8F5D-4A90B9BE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857-4DE9-4C87-BD3F-E3B70C99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D32-320B-4D28-9515-0732657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A79-907E-4E24-ADAE-490E8ECF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645-5FE9-46EE-BBC1-28238AB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AE8-18F1-42D1-A11B-0EB42154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A34-733C-49E8-BEC2-1985D32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25BC-43AB-46B9-8835-F12ECE3541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2FB2-2994-4722-B11E-9E193316FB8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:\Bandari - Snowdreams &#38634;&#20043;&#26790;.mp3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71800" y="1828800"/>
            <a:ext cx="367992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00"/>
                </a:solidFill>
                <a:latin typeface="汉仪综艺体简"/>
                <a:ea typeface="汉仪综艺体简"/>
              </a:rPr>
              <a:t>翡冷翠山居</a:t>
            </a:r>
            <a:r>
              <a:rPr b="0" lang="zh-CN" sz="6600" spc="-1" strike="noStrike">
                <a:solidFill>
                  <a:srgbClr val="ffff00"/>
                </a:solidFill>
                <a:latin typeface="汉仪综艺体简"/>
                <a:ea typeface="汉仪综艺体简"/>
              </a:rPr>
              <a:t>闲话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但是他的态度和说话总是和蔼真率，令人觉得可亲近，凡是见过志摩几面的人，差不多都受到这种感化，引起一种好感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这个年头儿，别的什么都有，只是诚实却早已找不到，便是爪哇国里也怕不会有了罢，志摩却还保守着他天真烂漫的诚实，可以说是世所稀有的奇人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。（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周作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再谈到志摩的为人，那比他的散文还有趣！就说他是一部无韵的诗罢。节奏他是没有，结构也讲不到，但那股潇洒劲，一直是秋空的一缕行云，任风的东西南北吹，反正他自己没有方向。他自如的在空中舒卷，让你看了有趣味就得，旁的目的他没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（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杨振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87480"/>
            <a:ext cx="8915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徐志摩 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9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现代诗人、散文家。浙江海宁人。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1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毕业于杭州一中，先后就读于上海沪江大学、 天津北洋大学和北京大学。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赴美国学习银行学。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赴英国留学，入剑桥大学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2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开始创作新诗。参与发起成立新月社。加入文学研究会。任北京大学教授。印度大诗人泰戈尔访华时任翻译。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由南京乘飞机到北平，因遇雾在济南附近触山，机坠身亡。胡适痛悼：“天才横死，损失的是中国文学！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著有诗集《志摩的诗》《翡冷翠的一夜》《猛虎集》等。他的作品已编为《徐志摩文集》出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他的散文也自成一格 《我所知道的康桥》、《翡冷翠山居闲话》等都是传世佳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15040" y="4770000"/>
            <a:ext cx="38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宋体"/>
              </a:rPr>
              <a:t>                                               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在美国克拉克大学时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35920" y="327564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標楷體"/>
                <a:ea typeface="PMingLiU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88000" y="333360"/>
            <a:ext cx="3456000" cy="575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371600" y="380880"/>
            <a:ext cx="312732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4693680"/>
            <a:ext cx="382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宋体"/>
              </a:rPr>
              <a:t>                                                     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在杭州一中读书时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248000" cy="576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257800" y="263520"/>
            <a:ext cx="3886200" cy="583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6093000"/>
            <a:ext cx="813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66"/>
                </a:solidFill>
                <a:latin typeface="Arial Narrow"/>
                <a:ea typeface="PMingLiU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Arial Narrow"/>
                <a:ea typeface="PMingLiU"/>
              </a:rPr>
              <a:t>留学美国时摄          在康桥读书时留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吾将于茫茫人海中访吾唯一之灵魂伴侣，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得之，我幸；不得，我命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 ——徐志摩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像许多抒情诗人一样，女性是徐志摩灵感的源泉，也是他悲剧的根源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徐的前妻张幼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  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，由政界风云人物张君励为自己的妹妹张幼仪提亲，徐志摩把从未谋面的新娘娶进了门。张幼仪出身显赫富贵却不娇纵，相夫教子，恪尽妇道。而徐志摩对这桩“无爱的婚姻”始终心存疑虑，在英国念书时结识林徽因更促使他决心离婚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2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两人在柏林离婚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还在国内发表了离婚通告，成为当时的头号新闻。徐志摩还写下《笑解烦恼结》一诗送给张幼仪，痛斥封建礼教后说：“此去清风白日，自由道风景好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93236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09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徐志摩与前妻张幼仪摄于英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6188760"/>
            <a:ext cx="42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Narrow"/>
              </a:rPr>
              <a:t>张幼仪担任上海女子商业储蓄银行副总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476280"/>
            <a:ext cx="84643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林徽因秀外慧中，是有名的才女，其父林长民也是社会名流。她与徐志摩相识时只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岁，两人虽然相知很深，但最后林徽因还是嫁给了梁启超之子、后来的著名建筑学家梁思成，他们的姻缘也是一段佳话。从此林徽因成为徐志摩梦中可望而不可及的一个完美身影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林徽音"/>
          <p:cNvPicPr/>
          <p:nvPr/>
        </p:nvPicPr>
        <p:blipFill>
          <a:blip r:embed="rId2"/>
          <a:stretch/>
        </p:blipFill>
        <p:spPr>
          <a:xfrm>
            <a:off x="685800" y="152280"/>
            <a:ext cx="3525840" cy="594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3504960" cy="616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4360" y="625068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Narrow"/>
              </a:rPr>
              <a:t>少女时代的林徽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61779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Narrow"/>
              </a:rPr>
              <a:t>梁思成林徽因结婚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6756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志摩完美的现实追求终落在社交名媛陆小曼身上。陆小曼是有名的美人加才女，与徐志摩相恋时已是有夫之妇。两人的恋情成为当时最轰动的社会新闻之一。他们在经受了许多痛苦折磨后终成眷属，而婚礼上还遭到证婚人梁启超声色俱厉地训斥：“希望勿再做一次过来人。”婚后的徐志摩并非进了天堂，他父亲始终不承认陆小曼这个儿媳，而陆小曼整日沉浸在上海的社交场上使徐志摩痛惜她浪费才华，她挥金如土的习性也使诗人入不敷出。在种种矛盾中，徐志摩形容自己的创作陷入了“穷、窘、枯、干”的境地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志摩的风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梁实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一向爱志摩的散文。我和叶公超一样，以为志摩的散文在他的诗以上。志摩的可爱处，在他的散文里表现最清楚最活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志摩常说他写文章像是“跑野马”。他的意思是说，他写起文章来任性，信笔拈来，扯到山南海北，兜了无数的圈子，然后好费事的才回到本题。他的文章真是“跑野马”；但是跑得好。……他的“跑野马”的文笔不但不算毛病，转觉得可爱了。我以为志摩的散文优于他的诗的缘故，就是因为他在诗里为格局所限不能“跑野马”，以至于不能痛快的显露他的才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《读志摩的散文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284720" y="609300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徐志摩与陆小曼在北平结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3810240" cy="609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60760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Narrow"/>
                <a:ea typeface="PMingLiU"/>
              </a:rPr>
              <a:t>二十来岁的陆小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58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徐志摩在北平教书，而陆小曼坚持留在上海，于是徐志摩只得经常在平沪两地奔波，“总想飞”的诗人还特别喜欢乘坐当时并不普及的交通工具———飞机。悲剧终于发生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3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，徐志摩搭乘济南号邮机从南京飞向北平，飞机在山东党家山上空撞山炸毁，想飞的诗人死于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 徐志摩的生命被热爱他的三位女性用不同的方式延续：张幼仪自立、自强，继续侍奉公公，抚养儿子，并在上海创立时装公司、女子银行，开风气之先，业务也相当发达，直到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岁才再次结婚，得享天年。林徽因拣拾了一块失事飞机的碎片珍藏到去世，并提议设置“志摩奖金”鼓励文学青年。陆小曼终身素服，绝足社交场所，编辑出版《徐志摩全集》成为她唯一的心愿，而由于种种原因，这一愿望到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6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她辞世也没能实现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的梭罗离开了这个世界，而给这个世界留下了二十多部一流的散文集，《瓦尔登湖》对于今天的世界，依然具有不容置疑的指导意义。他一生追求简朴，崇尚自然，反抗强权。他的“非暴力抵抗”的斗争形式对后世产生了积极地影响，圣雄甘地和马丁路德金都受到他的启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然而，他对于自己的瓦尔登湖畔的生活并未大势渲染，他认为只有心中宁静，即使住在纽约、东京，心中有瓦尔登，生活也会更有意义，更有目的，更加幸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梭罗告诫世人心中的瓦尔登最重要。世上没有什么世外桃源，良好的心态才是幸福生活的真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热爱大自然的人内外感觉协调一致，即使进入成年后依然保持着童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       ——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爱默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28600"/>
            <a:ext cx="6553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在什么情景之下，都有一个心态问题。切莫把幸福的希望寄托在虚妄的远方，当下的生活就是最幸福的生活。而没有良好心态的人，错过明月的时候哀哭，哀哭的时候又错过星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使我不禁想到我们的祖先，他们认为“小隐隐于野，大隐隐于市”，明月清风不在眼前，而在心中；奇崛瑰丽无关山川，而关乎人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要记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培养一颗诗意的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徐志摩散文的内在本质正是诗，是抒情的奔放，是哲理的冥想，是欢乐的孕育，是悲怆的成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请跟着音乐倾心再读文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2"/>
          </p:cNvPr>
          <p:cNvSpPr/>
          <p:nvPr/>
        </p:nvSpPr>
        <p:spPr>
          <a:xfrm>
            <a:off x="7467480" y="480060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4724" y="8406"/>
                </a:moveTo>
                <a:lnTo>
                  <a:pt x="9155" y="8406"/>
                </a:lnTo>
                <a:lnTo>
                  <a:pt x="13576" y="3794"/>
                </a:lnTo>
                <a:lnTo>
                  <a:pt x="13576" y="17806"/>
                </a:lnTo>
                <a:lnTo>
                  <a:pt x="9155" y="13194"/>
                </a:lnTo>
                <a:lnTo>
                  <a:pt x="4724" y="13194"/>
                </a:lnTo>
                <a:close/>
              </a:path>
              <a:path fill="darken" w="23462" h="21600">
                <a:moveTo>
                  <a:pt x="15230" y="10800"/>
                </a:moveTo>
                <a:lnTo>
                  <a:pt x="18737" y="10800"/>
                </a:lnTo>
              </a:path>
              <a:path fill="darken" w="23462" h="21600">
                <a:moveTo>
                  <a:pt x="15230" y="8406"/>
                </a:moveTo>
                <a:lnTo>
                  <a:pt x="18737" y="5639"/>
                </a:lnTo>
              </a:path>
              <a:path fill="darken" w="23462" h="21600">
                <a:moveTo>
                  <a:pt x="15230" y="13194"/>
                </a:moveTo>
                <a:lnTo>
                  <a:pt x="18737" y="15961"/>
                </a:lnTo>
              </a:path>
            </a:pathLst>
          </a:custGeom>
          <a:solidFill>
            <a:srgbClr val="879c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志摩的好友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温源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评价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他的散文远胜过他的诗。因为他的散文比他的诗更能显出作者的性格。读他的散文我们宛然如见他整个性格的光辉，他的声音容貌，似一一呈现眼前——他的活泼，灵动，唠叨，兴奋，及其谈锋之自在如意——这些都在他的散文里见到了。他的诗却反似与他的性格相隔一层，他的诗是他的作品产物，他的散文却似他自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徐志摩把自己的笔比成“最不受羁绊的一匹野马”，他的散文也就有了“跑野马”的风格，思维、想像也如野马般在诗样语言描述、诗样情绪构思中自由驰骋，无拘无束，抒发思想感情、赞美自然灵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法国伟大作家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罗曼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罗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：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艺术的伟大意义的本质在于它能显示灵魂的真正感情、内心生活的奥秘以及热情的世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”散文正是志摩最好的表达性灵激情的艺术。散文如果失去了诗的纯美和音乐的旋律，就会沉闷而无生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志摩的散文，无论写的是什么题目，永远保持着一个亲热的态度。我实在找不出比“亲热”更好的形容词。他的散文不是板起面孔来写的——他这人根本就很少有板起面孔的时候。他的散文充满了同情和幽默。他的散文没有教训的气味，没有演讲的气味，而是象和知心的朋友谈话。无论谁，只要一读志摩的文章，就不知不觉的非站在他的朋友的地位上不可……他一面说着话，一面和你指点，和你商量，真跟好朋友谈话一样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志摩的文章的人，非成为他的朋友不可。他的散文有这样的魔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（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梁实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至于他那“跑野马”的散文，我老早就认为比他的诗还好。那用字，有多生动活泼！那颜色，真是“浓的化不开”！那联想的富丽，那生趣的充溢！尤其是他的态度与口吻，够多轻清，多顽皮，多伶俐！而那气力也真足，文章永远看不出懈怠，老那样象夏云的层涌，春泉的潺湲！（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杨振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与志摩的最后一别》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闲话”不“闲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梳理文章的思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30800" y="2567160"/>
            <a:ext cx="252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须踌躇你的服色与体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要约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必带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57800" y="2819520"/>
            <a:ext cx="2075400" cy="990360"/>
            <a:chOff x="5257800" y="2819520"/>
            <a:chExt cx="2075400" cy="990360"/>
          </a:xfrm>
        </p:grpSpPr>
        <p:sp>
          <p:nvSpPr>
            <p:cNvPr id="99" name=""/>
            <p:cNvSpPr/>
            <p:nvPr/>
          </p:nvSpPr>
          <p:spPr>
            <a:xfrm>
              <a:off x="5257800" y="2819520"/>
              <a:ext cx="152280" cy="9903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0960" y="312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身体自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497280" y="480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心灵自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934320" y="3657600"/>
            <a:ext cx="777600" cy="1066680"/>
            <a:chOff x="6934320" y="3657600"/>
            <a:chExt cx="777600" cy="1066680"/>
          </a:xfrm>
        </p:grpSpPr>
        <p:sp>
          <p:nvSpPr>
            <p:cNvPr id="103" name=""/>
            <p:cNvSpPr/>
            <p:nvPr/>
          </p:nvSpPr>
          <p:spPr>
            <a:xfrm>
              <a:off x="6934320" y="3657600"/>
              <a:ext cx="0" cy="1066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5800" y="369432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层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志摩其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胡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他的人生观真是一种“单纯的信仰”，这里面只有三个大字：一个是爱，一个是自由，一个是美。他梦想这三个理想的条件能够会合在一个人生里，这是他的“单纯信仰”。他的一生的历史，只是他追求这个单纯信仰的现实的历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追悼志摩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  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 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林徽因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认得他，今年整十年……他到康桥之后由狄更生介绍进了皇家学院，当时和他同学的有我姊丈温君源宁。一直到最近两个月中源宁还常在说他当时的许多笑话，虽然说是笑话，那也是他对志摩最早的一个惊异的印象。志摩认真的诗情，绝不含有任何矫伪，他那种痴，那种孩子似的天真实能令人惊讶。源宁说，有一天他在校舍里读书，外边下起了倾盆大雨——惟是英伦那样的岛国才有的狂雨——忽然他听到有人猛敲他的房门，外边跳进一个被雨水淋得全湿的客人。不用说他便是志摩，一进门一把扯着源宁向外跑，说快来我们到桥上去等着。这一来把源宁怔住了，他问志摩等什么在这大雨里。志摩睁大了眼睛，孩子似的高兴地说“看雨后的虹去”。源宁不止说他不去，并且劝志摩趁早将湿透的衣服换下，再穿上雨衣出去，英国的湿气岂是儿戏，志摩不等他说完，一溜烟地自己跑了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后我好奇地曾问过志摩这故事的真确，他笑着点头承认这全段故事的真实。我问：那么下文呢，你立在桥上等了多久，并且看到虹了没有？他说记不清但是他居然看到了虹。我诧异地打断他对那虹的描写，问他：怎么他便知道，准会有虹的。他得意地笑答我说：“完全诗意的信仰！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0-07-07T09:23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