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4DB-E6D1-4761-9EB7-CD1707D2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B2D-ADB8-4750-9DA5-5DFC8F6F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F38-259B-4D31-B566-8AF32731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C23-57FF-41C3-B32A-3C384DF4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4A89-9D40-42BE-A0C5-0467A3DA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4D0B-D6D9-415D-8BC6-7AB87BE9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2B85-C393-4ED0-B4E4-E067C7E8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DCD0-5D80-4AB1-9DC0-136BDB2D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FFFF-BCC0-479D-A200-2D95B71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20BE-A683-4F52-9FFD-E949BCF6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5ACA-A03D-43D2-9D84-CC9CD04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67A-D5C6-4AC6-A17B-CBE9C30D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B498-03EB-4524-B888-0FCDBC77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9E03-FF79-4B46-A8D0-4302591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A618-98EA-4E1C-B225-D55F44FC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0382-ED04-406F-8C58-352A612F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9839-FA65-4355-9A5C-78846115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1F6-DB5F-40A1-B8BF-FB9A4E99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DE7-E7B8-4AE8-B73E-CA94CF4B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A42-CDD6-440B-9375-5C24E91C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28D-A188-424E-928E-AF255548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09B-45B6-4688-B1F1-C17818D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47C-CE83-451C-BDB5-2C2974E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D91-0C26-471A-AFB0-D5EC664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8C5D-BB90-449D-96BF-F0A7C5B4F94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422280" y="1681200"/>
            <a:ext cx="295200" cy="4910040"/>
            <a:chOff x="422280" y="1681200"/>
            <a:chExt cx="295200" cy="4910040"/>
          </a:xfrm>
        </p:grpSpPr>
        <p:sp>
          <p:nvSpPr>
            <p:cNvPr id="16" name=""/>
            <p:cNvSpPr/>
            <p:nvPr/>
          </p:nvSpPr>
          <p:spPr>
            <a:xfrm>
              <a:off x="422280" y="1681200"/>
              <a:ext cx="29520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3680" y="1913040"/>
              <a:ext cx="190440" cy="46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484200" y="1660680"/>
            <a:ext cx="9056520" cy="274320"/>
            <a:chOff x="484200" y="1660680"/>
            <a:chExt cx="9056520" cy="274320"/>
          </a:xfrm>
        </p:grpSpPr>
        <p:sp>
          <p:nvSpPr>
            <p:cNvPr id="19" name=""/>
            <p:cNvSpPr/>
            <p:nvPr/>
          </p:nvSpPr>
          <p:spPr>
            <a:xfrm>
              <a:off x="9236160" y="1660680"/>
              <a:ext cx="304560" cy="27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84200" y="1724040"/>
              <a:ext cx="87519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3DC3-9785-4DBE-9A8F-05C2D9C2FCA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4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22280" y="2697120"/>
            <a:ext cx="295200" cy="4160880"/>
            <a:chOff x="422280" y="2697120"/>
            <a:chExt cx="295200" cy="4160880"/>
          </a:xfrm>
        </p:grpSpPr>
        <p:sp>
          <p:nvSpPr>
            <p:cNvPr id="84" name=""/>
            <p:cNvSpPr/>
            <p:nvPr/>
          </p:nvSpPr>
          <p:spPr>
            <a:xfrm>
              <a:off x="422280" y="2697120"/>
              <a:ext cx="29520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3680" y="2700360"/>
              <a:ext cx="161640" cy="41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84200" y="2697120"/>
            <a:ext cx="9056520" cy="274320"/>
            <a:chOff x="484200" y="2697120"/>
            <a:chExt cx="9056520" cy="274320"/>
          </a:xfrm>
        </p:grpSpPr>
        <p:sp>
          <p:nvSpPr>
            <p:cNvPr id="87" name=""/>
            <p:cNvSpPr/>
            <p:nvPr/>
          </p:nvSpPr>
          <p:spPr>
            <a:xfrm>
              <a:off x="9236160" y="2697120"/>
              <a:ext cx="304560" cy="27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4200" y="2760480"/>
              <a:ext cx="87519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9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翡 冷 翠 山 居 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闲 话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国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徐志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03280" y="69228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04640"/>
            <a:ext cx="7956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什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伟大的深沉的鼓舞的清明的优美的思想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根源不是可以在风籁中，云彩里，山势与地形的起伏里，花草的颜色与香息里寻得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划线处用了一长串形容词，作者这样写的用意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只要你自己心灵上不长疮瘢，眼不盲，耳不塞，这无形迹的最高等教育便永远是你的名分，这不取费的最珍贵的补剂便永远供你的受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这句中“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心灵上不长疮瘢”是指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探究主题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德国浪漫诗哲海德格尔说：“我们必须下定决心去倾听，倾听使我们超逾所有传统习见的樊篱，进入更为开阔的领域。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唯有“倾听”，我们才能“读懂”或听到大自然这部奇书发出的“绝对值得一听的，是从不曾从人口道过的话”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588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307852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关于作者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徐志摩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896—193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，浙江海宁人，诗人。著有诗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志摩的诗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猛虎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，散文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落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巴黎的鳞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，短篇小说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轮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等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180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初读课文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处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选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巴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鳞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体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抒情散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內容：文中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写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山居生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极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端自由，不受一切世俗拘束；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游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不必約伴，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有了伴多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得叫你分心；亦不必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书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，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自然就是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伟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大的一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书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，每一頁字句都有最深奧的消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评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：在徜徉自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适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兴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酣意足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余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，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闲话为题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，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笔挥洒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，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蓬勃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诚为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情景交融的佳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关于结构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思考：在文中作者先写了什么？后写了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层内容间有什么关联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最接近主题的语段是哪一段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体味语言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42100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多种修辞方法的使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虚实结合的妙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长短句的穿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语段精读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在静僻的道上你就会不自主的狂舞，看着你自己的身影幻出种种诡异的变相，因为道旁树木的阴影在他们纡徐的婆娑里暗示你舞蹈的快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这句话表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你的思想和着山壑间的水声，山罅里的泉响，有时一澄到底的清澈，有时激起成章的波动”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是说自然对人起什么作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5:03:58Z</dcterms:created>
  <dc:creator>徐艳</dc:creator>
  <dc:description/>
  <dc:language>en-US</dc:language>
  <cp:lastModifiedBy>User</cp:lastModifiedBy>
  <dcterms:modified xsi:type="dcterms:W3CDTF">2007-03-13T07:43:14Z</dcterms:modified>
  <cp:revision>19</cp:revision>
  <dc:subject/>
  <dc:title>    翡冷翠山居閒話     民國.徐志摩</dc:title>
</cp:coreProperties>
</file>