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DA0-D24A-46FF-9E57-CA2024B2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65A-2DAB-4728-9E04-42064A2C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7D3-75E6-45A1-A427-8465F33D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B17-7FF7-4822-8087-266B8B53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85A-7BAF-422A-A397-D20662DE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57D-440E-428F-AC2A-4E68D471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5FE-6B14-4F6E-A537-AC18F852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0D7-2C88-4C2F-86D4-9E7CE30D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B0E-5CEE-402B-8C97-0CAA9AF0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7E4-8029-4092-A1E1-70FF75D4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726-B614-4BF8-BB3F-8FCDCF7D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4F3-2F3E-4BAE-876F-713D8E93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1837-86B5-48D1-B17E-340F5628F8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39134;&#32418;&#28404;&#32736;&#35760;&#40644;&#23665;.ppt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hyperlink" Target="file:///&#39134;&#32418;&#28404;&#32736;&#35760;&#40644;&#23665;.ppt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飞红滴翠记黄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柯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44480" y="-3168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五岳归来不看山 黄山归来不看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极天，云一线异色，须臾成五彩；日上，正赤如丹，下有红光，动摇承之。或曰：此东海也。回视日观以西峰，或得日，或否，绛皓驳色，而皆若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姚鼐《登泰山记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一、本文“记”了黄山哪些方面的内容，各自的特点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险峰——奇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古松——顽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巧石——仙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烟云——皎洁、柔美、飘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日出——瑰丽、壮观、辉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温泉——温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4760" y="3457440"/>
            <a:ext cx="1278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地理概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地质形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162920" cy="4647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二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地理与地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自然是崇高的，卓越而美的，它煞费心机，创造世界。它创造了人间，还安排了一处胜境。它选取中皖南山区。它是大手笔，用火山喷发的手法，迅速地在周围一百二十公里，面积千平方公里的一个浑圆的区域里，分布了这么多花岗岩的山峰。它巧妙地搭配了其中三十六大峰和三十六小峰。高峰下临深谷；幽潭傍依天柱。这些朱砂的，丹红的，紫褐色的群峰，前拥后簇，高矮参差。三个主峰，高风峻骨，鼎足而立，撑起青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徐迟《黄山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三、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段  登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行石罅中，石峰片片夹起，路宛转石间，塞者凿之，陡者级之，断者架木通之，悬者植梯接之。下瞰峭壑阴森，枫松相间，五色纷披，烂若图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天都侧，从流石蛇行而上，攀草牵棘，石块丛起则历块，石崖侧削则援崖。每至手足无可着处，澄源必先登垂接。每念上既如此，下何以堪？终亦不顾。历险数次，遂达峰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徐宏祖《游黄山日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67080" y="3890880"/>
            <a:ext cx="4876920" cy="2967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4479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四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段  黄山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风呼啸，摇撼松树，如龙如凤，显出它们矫健多姿。它们的根盘入岩缝，和花岗石一般颜色，一般坚贞。它们有风修剪的波浪形的华盖；它们因风展开了似飞翔之翼翅。从峰顶俯视，它们如苔藓，披覆住岩石；从山腰仰视，它们如天女，亭亭而玉立。沿着岩壁折缝，一个个的走将出来，薄纱轻绸，露出的身段翩然起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徐迟《黄山记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476100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467480" cy="495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00200" y="1219320"/>
            <a:ext cx="6705720" cy="4695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五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段  黄山烟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71800" y="1371600"/>
            <a:ext cx="3436920" cy="502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1371600"/>
            <a:ext cx="3530520" cy="5105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浓雾半作半止，每一阵至，则对面不见，眺莲花诸峰，多在雾中。独上天都，予至其前，则雾徒于后；予越其右，则雾出于左。……山高风巨，雾气去来无定，下盼诸峰，时出为碧峤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qia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，时没为银海。再眺山下，则日光晶晶，别一区宇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徐宏祖《游黄山日记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六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16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17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段黄山日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2760840"/>
            <a:ext cx="3505320" cy="2928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373480" y="2664000"/>
            <a:ext cx="3555720" cy="2509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373480" y="1614600"/>
            <a:ext cx="3471840" cy="446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86000" y="2347920"/>
            <a:ext cx="3657600" cy="3386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533680" y="2876400"/>
            <a:ext cx="3132000" cy="2211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454120" y="2389320"/>
            <a:ext cx="3302280" cy="3106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2209680" y="1523880"/>
            <a:ext cx="4148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5" dur="1" fill="hold"/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突然睡醒，轻轻起来，看到峰峦还只有明暗阴阳之分时，黎明的霞光却渐渐显出了紫蓝青绿诸色。初升的太阳透露出第一道光芒。从未见过鲜红如此之红，从未见过鲜红如此之鲜。一刹那火球腾空，凝眸处彩霞掩映，光影有了千变万化，空间射下百道光柱。万松林无比绚丽，云谷寺豪光四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徐迟《黄山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先是看到乌云镶边的衣裙，姗姗移动，然后太阳突然上升了，半圆形的，我不知道它有多大，它的光辉立即四射开来，随着它的上升，它的颜色倏忽千变，朱红、橙黄、淡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是如此灿烂、透明，在它的照耀下万物为之增色，大地的一切也都苏醒了，可是它自己却在统体的光亮中逐渐隐着身子，和宇宙溶成一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菡子《黃山小記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04:06:38Z</dcterms:created>
  <dc:creator>ddsh</dc:creator>
  <dc:description/>
  <dc:language>en-US</dc:language>
  <cp:lastModifiedBy>zmj</cp:lastModifiedBy>
  <dcterms:modified xsi:type="dcterms:W3CDTF">2007-07-02T08:03:23Z</dcterms:modified>
  <cp:revision>5</cp:revision>
  <dc:subject/>
  <dc:title>飞红滴翠记黄山</dc:title>
</cp:coreProperties>
</file>