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gif" ContentType="image/gif"/>
  <Override PartName="/ppt/media/image3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41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4.jpeg" ContentType="image/jpeg"/>
  <Override PartName="/ppt/media/image25.jpeg" ContentType="image/jpe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6AB3-A74C-46AF-B99D-EDF37B51C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20B8-08E1-4EBE-A160-56AE724B9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1FB6-80D8-4D26-AD37-3FCB2469D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67A7-ECFF-4FE2-82A9-1857291B4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EAA4-4C34-4CAE-90C5-B51945035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8044-F53F-480D-920F-4A9DC002C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06F8-1DF8-4728-9978-6343A5955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025D-00D3-494A-B765-39BACC0B2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47AD-2591-490A-8854-1C810AC4F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DD2A-0445-4AA1-B399-D44584D87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E66D-5861-4CC7-AC47-A3B72D51C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33B6-6434-4499-AFE1-162478E50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EBDBA-448D-40E9-A1B4-9BB12D25E6F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file:///&#35270;&#39057;/&#22914;&#30011;&#27743;&#23665;&#65306;&#40644;&#23665;&#31179;&#20908;.wmv" TargetMode="External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&#22914;&#30011;&#27743;&#23665;&#65306;&#40644;&#23665;&#31179;&#20908;.wmv" TargetMode="Externa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hyperlink" Target="file:///&#21160;&#30011;/&#40644;&#23665;&#22855;&#30707;.exe" TargetMode="External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&#40644;&#23665;&#22855;&#30707;.exe" TargetMode="External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0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900000" y="1341360"/>
            <a:ext cx="7128000" cy="149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飞红滴翠记黄山</a:t>
            </a:r>
            <a:endParaRPr b="1" lang="en-US" sz="24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3" name=""/>
          <p:cNvSpPr/>
          <p:nvPr/>
        </p:nvSpPr>
        <p:spPr>
          <a:xfrm>
            <a:off x="6227640" y="4149720"/>
            <a:ext cx="175284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隶书"/>
              </a:rPr>
              <a:t>柯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00600" y="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华文彩云"/>
              </a:rPr>
              <a:t>制作人  扬中树人  李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怪石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山在虚无漂渺间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80880" y="457200"/>
            <a:ext cx="4343400" cy="222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蜚声中外的旅游胜地黄山，位于安徽省南部， 南北约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0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公里，东西约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0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公里，风景区方圆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54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平方公里，号称五百里黄山。属黄山市管辖。传说是中华祖先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轩辕黄帝修身炼丹而飘然成仙的地方。黄山千峰竞秀，万壑峥嵘。有名可指的就有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72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山峰，其中“莲花”、“光明顶”、“天都”三大主峰，均在海拔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800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米以上，拔地极天，气势磅礴，雄姿灵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" dur="3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鳌鱼托金龟 (前山)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04920" y="304920"/>
            <a:ext cx="6781680" cy="181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黄山面积约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1200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平方公里，精华景区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1154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平方公里，二湖、三瀑、十六泉、二十四溪相映争辉，尤以“</a:t>
            </a:r>
            <a:r>
              <a:rPr b="1" lang="zh-CN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奇松、怪石、云海、温泉”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四绝称著于世。明代地理学家徐霞客曾两游黄山，留下“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五岳归来不看山，黄山归来不看岳”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的赞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876920" y="5638680"/>
            <a:ext cx="37335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华文中宋"/>
              </a:rPr>
              <a:t>鳌鱼驮金龟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华文中宋"/>
              <a:ea typeface="华文中宋"/>
            </a:endParaRPr>
          </a:p>
        </p:txBody>
      </p:sp>
    </p:spTree>
  </p:cSld>
  <p:transition spd="slow">
    <p:zoom dir="in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" dur="3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黄山观云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3733920" cy="28670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80880" y="380880"/>
            <a:ext cx="8534520" cy="47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   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黄山风景区被誉为国 之             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瑰宝、世界奇观，已成为中华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民族壮丽山河的象征。集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泰山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           之雄伟、华山之险峻、恒山之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           烟云、庐山之飞瀑、雁荡之巧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           石、峨嵋之秀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于一体。号称“天下第一奇山”。自然分布有原生种质植物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5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，是中国南方的植物资源宝库。黄山的高山密林溪流中，还栖息着大量的野生动物，其中鱼类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，两栖类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，爬行类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8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，脊椎动物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9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被联合国教科文组织列为世界自然遗产地和世界文化遗产地，</a:t>
            </a: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　 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峰锁云海(西海大峡谷)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80880" y="3200400"/>
            <a:ext cx="8305920" cy="231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黄山奇，奇的令人着迷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</a:t>
            </a: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无论是万物复苏的春天，飞瀑点翠的夏日抑或是满山红遍的秋色，玉砌冰雕的冬景，全无人工斧凿的痕迹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304920"/>
            <a:ext cx="8153280" cy="231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黄山美</a:t>
            </a:r>
            <a:r>
              <a:rPr b="0" lang="en-US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,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美的令人心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    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群峰巍峨、巧石林立、劲松苍翠、云雾缥缈、幽谷深泉、鸟语花香， 素有“人间仙境”之称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粉色小花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6086520"/>
            <a:ext cx="533520" cy="5014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送客松(黄山前山)" descr=""/>
          <p:cNvPicPr/>
          <p:nvPr/>
        </p:nvPicPr>
        <p:blipFill>
          <a:blip r:embed="rId1"/>
          <a:stretch/>
        </p:blipFill>
        <p:spPr>
          <a:xfrm>
            <a:off x="4419720" y="3048120"/>
            <a:ext cx="4495680" cy="35463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380880" y="4419720"/>
            <a:ext cx="365760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d60093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ffffff"/>
                  </a:outerShdw>
                </a:effectLst>
                <a:latin typeface="华文新魏"/>
              </a:rPr>
              <a:t>苍松殷勤迎远客</a:t>
            </a:r>
            <a:endParaRPr b="1" lang="en-US" sz="2400" spc="1" strike="noStrike">
              <a:ln w="9360">
                <a:solidFill>
                  <a:srgbClr val="d60093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ffffff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257800" y="1219320"/>
            <a:ext cx="3657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8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19080">
                  <a:solidFill>
                    <a:srgbClr val="009900"/>
                  </a:solidFill>
                  <a:miter/>
                </a:ln>
                <a:solidFill>
                  <a:srgbClr val="99ff99"/>
                </a:solidFill>
                <a:effectLst>
                  <a:outerShdw dist="17819" dir="2700000" blurRad="0" rotWithShape="0">
                    <a:srgbClr val="009900"/>
                  </a:outerShdw>
                </a:effectLst>
                <a:latin typeface="华文新魏"/>
              </a:rPr>
              <a:t>别情依依送故友</a:t>
            </a:r>
            <a:endParaRPr b="1" i="1" lang="en-US" sz="2400" spc="1" strike="noStrike">
              <a:ln w="19080">
                <a:solidFill>
                  <a:srgbClr val="009900"/>
                </a:solidFill>
                <a:miter/>
              </a:ln>
              <a:solidFill>
                <a:srgbClr val="99ff99"/>
              </a:solidFill>
              <a:effectLst>
                <a:outerShdw dist="17819" dir="2700000" blurRad="0" rotWithShape="0">
                  <a:srgbClr val="009900"/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82" name="036" descr=""/>
          <p:cNvPicPr/>
          <p:nvPr/>
        </p:nvPicPr>
        <p:blipFill>
          <a:blip r:embed="rId2"/>
          <a:stretch/>
        </p:blipFill>
        <p:spPr>
          <a:xfrm>
            <a:off x="0" y="0"/>
            <a:ext cx="4859280" cy="3743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奇松" descr=""/>
          <p:cNvPicPr/>
          <p:nvPr/>
        </p:nvPicPr>
        <p:blipFill>
          <a:blip r:embed="rId1"/>
          <a:stretch/>
        </p:blipFill>
        <p:spPr>
          <a:xfrm>
            <a:off x="6629400" y="3276720"/>
            <a:ext cx="2278080" cy="3352680"/>
          </a:xfrm>
          <a:prstGeom prst="rect">
            <a:avLst/>
          </a:prstGeom>
          <a:ln w="0">
            <a:noFill/>
          </a:ln>
        </p:spPr>
      </p:pic>
      <p:pic>
        <p:nvPicPr>
          <p:cNvPr id="84" name="奇松4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3429000" cy="3657600"/>
          </a:xfrm>
          <a:prstGeom prst="rect">
            <a:avLst/>
          </a:prstGeom>
          <a:ln w="0">
            <a:noFill/>
          </a:ln>
        </p:spPr>
      </p:pic>
      <p:pic>
        <p:nvPicPr>
          <p:cNvPr id="85" name="奇松3" descr=""/>
          <p:cNvPicPr/>
          <p:nvPr/>
        </p:nvPicPr>
        <p:blipFill>
          <a:blip r:embed="rId3"/>
          <a:stretch/>
        </p:blipFill>
        <p:spPr>
          <a:xfrm>
            <a:off x="3733920" y="1905120"/>
            <a:ext cx="274320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762120" y="4267080"/>
            <a:ext cx="205740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757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华文行楷"/>
              </a:rPr>
              <a:t>奇松</a:t>
            </a:r>
            <a:endParaRPr b="1" i="1" lang="en-US" sz="2400" spc="1" strike="noStrike">
              <a:ln w="2844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华文行楷"/>
              <a:ea typeface="华文行楷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486400" y="838080"/>
            <a:ext cx="297180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隶书"/>
              </a:rPr>
              <a:t>奇松</a:t>
            </a:r>
            <a:endParaRPr b="1" lang="en-US" sz="2400" spc="1" strike="noStrike">
              <a:ln w="2844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隶书"/>
              <a:ea typeface="隶书"/>
            </a:endParaRPr>
          </a:p>
        </p:txBody>
      </p:sp>
    </p:spTree>
  </p:cSld>
  <p:transition spd="slow"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巍巍奇山" descr=""/>
          <p:cNvPicPr/>
          <p:nvPr/>
        </p:nvPicPr>
        <p:blipFill>
          <a:blip r:embed="rId1"/>
          <a:stretch/>
        </p:blipFill>
        <p:spPr>
          <a:xfrm>
            <a:off x="4343400" y="380880"/>
            <a:ext cx="4429080" cy="2951280"/>
          </a:xfrm>
          <a:prstGeom prst="rect">
            <a:avLst/>
          </a:prstGeom>
          <a:ln w="0">
            <a:noFill/>
          </a:ln>
        </p:spPr>
      </p:pic>
      <p:pic>
        <p:nvPicPr>
          <p:cNvPr id="89" name="仙人背包 (北海)" descr=""/>
          <p:cNvPicPr/>
          <p:nvPr/>
        </p:nvPicPr>
        <p:blipFill>
          <a:blip r:embed="rId2"/>
          <a:stretch/>
        </p:blipFill>
        <p:spPr>
          <a:xfrm>
            <a:off x="228600" y="380880"/>
            <a:ext cx="3657600" cy="2497320"/>
          </a:xfrm>
          <a:prstGeom prst="rect">
            <a:avLst/>
          </a:prstGeom>
          <a:ln w="0">
            <a:noFill/>
          </a:ln>
        </p:spPr>
      </p:pic>
      <p:pic>
        <p:nvPicPr>
          <p:cNvPr id="90" name="猪八戒吃西瓜(北海清凉台下)" descr=""/>
          <p:cNvPicPr/>
          <p:nvPr/>
        </p:nvPicPr>
        <p:blipFill>
          <a:blip r:embed="rId3"/>
          <a:stretch/>
        </p:blipFill>
        <p:spPr>
          <a:xfrm>
            <a:off x="304920" y="3505320"/>
            <a:ext cx="3809880" cy="2357280"/>
          </a:xfrm>
          <a:prstGeom prst="rect">
            <a:avLst/>
          </a:prstGeom>
          <a:ln w="0">
            <a:noFill/>
          </a:ln>
        </p:spPr>
      </p:pic>
      <p:pic>
        <p:nvPicPr>
          <p:cNvPr id="91" name="梦笔生花及笔架峰 (北海散花坞)" descr=""/>
          <p:cNvPicPr/>
          <p:nvPr/>
        </p:nvPicPr>
        <p:blipFill>
          <a:blip r:embed="rId4"/>
          <a:stretch/>
        </p:blipFill>
        <p:spPr>
          <a:xfrm>
            <a:off x="4952880" y="3886200"/>
            <a:ext cx="3657600" cy="24321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638680" y="64008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梦笔生花及笔架峰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60958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猪八戒吃西瓜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北海清凉台下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29718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仙人背包 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北海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43600" y="34290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黄山飞来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黄山天上玉屏" descr=""/>
          <p:cNvPicPr/>
          <p:nvPr/>
        </p:nvPicPr>
        <p:blipFill>
          <a:blip r:embed="rId1"/>
          <a:stretch/>
        </p:blipFill>
        <p:spPr>
          <a:xfrm>
            <a:off x="4876920" y="380880"/>
            <a:ext cx="3994200" cy="5943600"/>
          </a:xfrm>
          <a:prstGeom prst="rect">
            <a:avLst/>
          </a:prstGeom>
          <a:ln w="0">
            <a:noFill/>
          </a:ln>
        </p:spPr>
      </p:pic>
      <p:pic>
        <p:nvPicPr>
          <p:cNvPr id="97" name="西海大峡谷悬崖上修的“路”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4038840" cy="3031920"/>
          </a:xfrm>
          <a:prstGeom prst="rect">
            <a:avLst/>
          </a:prstGeom>
          <a:ln w="0">
            <a:noFill/>
          </a:ln>
        </p:spPr>
      </p:pic>
      <p:pic>
        <p:nvPicPr>
          <p:cNvPr id="98" name="天都晨吟-奇松怪石" descr=""/>
          <p:cNvPicPr/>
          <p:nvPr/>
        </p:nvPicPr>
        <p:blipFill>
          <a:blip r:embed="rId3"/>
          <a:stretch/>
        </p:blipFill>
        <p:spPr>
          <a:xfrm>
            <a:off x="762120" y="3733920"/>
            <a:ext cx="2233440" cy="28191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5791320" y="5562720"/>
            <a:ext cx="2809800" cy="44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华文中宋"/>
              </a:rPr>
              <a:t>黄山天上玉屏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华文中宋"/>
              <a:ea typeface="华文中宋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2895480"/>
            <a:ext cx="3962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西海大峡谷悬崖上修的“路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83160" y="4038480"/>
            <a:ext cx="189684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仿宋_GB2312"/>
                <a:ea typeface="仿宋_GB2312"/>
              </a:rPr>
              <a:t>天都晨吟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仿宋_GB2312"/>
                <a:ea typeface="仿宋_GB2312"/>
              </a:rPr>
              <a:t>奇松怪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雪帘" descr=""/>
          <p:cNvPicPr/>
          <p:nvPr/>
        </p:nvPicPr>
        <p:blipFill>
          <a:blip r:embed="rId1"/>
          <a:stretch/>
        </p:blipFill>
        <p:spPr>
          <a:xfrm>
            <a:off x="4191120" y="3886200"/>
            <a:ext cx="4647960" cy="2655720"/>
          </a:xfrm>
          <a:prstGeom prst="rect">
            <a:avLst/>
          </a:prstGeom>
          <a:ln w="0">
            <a:noFill/>
          </a:ln>
        </p:spPr>
      </p:pic>
      <p:pic>
        <p:nvPicPr>
          <p:cNvPr id="103" name="飞龙瀑" descr=""/>
          <p:cNvPicPr/>
          <p:nvPr/>
        </p:nvPicPr>
        <p:blipFill>
          <a:blip r:embed="rId2"/>
          <a:stretch/>
        </p:blipFill>
        <p:spPr>
          <a:xfrm>
            <a:off x="5181480" y="228600"/>
            <a:ext cx="2716200" cy="3429000"/>
          </a:xfrm>
          <a:prstGeom prst="rect">
            <a:avLst/>
          </a:prstGeom>
          <a:ln w="0">
            <a:noFill/>
          </a:ln>
        </p:spPr>
      </p:pic>
      <p:pic>
        <p:nvPicPr>
          <p:cNvPr id="104" name="黄山雪松" descr=""/>
          <p:cNvPicPr/>
          <p:nvPr/>
        </p:nvPicPr>
        <p:blipFill>
          <a:blip r:embed="rId3"/>
          <a:stretch/>
        </p:blipFill>
        <p:spPr>
          <a:xfrm>
            <a:off x="304920" y="228600"/>
            <a:ext cx="3612960" cy="51055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570480" y="914400"/>
            <a:ext cx="12776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黄山雪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95280" y="571500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雪   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533000" y="1066680"/>
            <a:ext cx="1277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飞龙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00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57200" y="380880"/>
            <a:ext cx="649116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3333cc"/>
                </a:solidFill>
                <a:latin typeface="Arial"/>
                <a:ea typeface="隶书"/>
              </a:rPr>
              <a:t>风景欣赏</a:t>
            </a:r>
            <a:r>
              <a:rPr b="0" lang="zh-CN" sz="6000" spc="-1" strike="noStrike" u="sng">
                <a:solidFill>
                  <a:srgbClr val="ccccff"/>
                </a:solidFill>
                <a:uFillTx/>
                <a:latin typeface="Arial"/>
                <a:ea typeface="隶书"/>
                <a:hlinkClick r:id="rId2"/>
              </a:rPr>
              <a:t>如画江山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651640" y="386064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欣赏黄山优美风光，说说赏后感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6000"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黄山万壑松云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4095720" cy="6095880"/>
          </a:xfrm>
          <a:prstGeom prst="rect">
            <a:avLst/>
          </a:prstGeom>
          <a:ln w="0">
            <a:noFill/>
          </a:ln>
        </p:spPr>
      </p:pic>
      <p:pic>
        <p:nvPicPr>
          <p:cNvPr id="109" name="山在虚无漂渺间" descr=""/>
          <p:cNvPicPr/>
          <p:nvPr/>
        </p:nvPicPr>
        <p:blipFill>
          <a:blip r:embed="rId2"/>
          <a:stretch/>
        </p:blipFill>
        <p:spPr>
          <a:xfrm>
            <a:off x="4952880" y="380880"/>
            <a:ext cx="3810240" cy="47167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876920" y="5638680"/>
            <a:ext cx="3809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  <a:ea typeface="华文新魏"/>
              </a:rPr>
              <a:t>山在虚无飘渺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7c8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浪涌莲花峰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153280" cy="4572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1600200" y="5410080"/>
            <a:ext cx="6095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12600">
                  <a:solidFill>
                    <a:srgbClr val="0066ff"/>
                  </a:solidFill>
                  <a:miter/>
                </a:ln>
                <a:solidFill>
                  <a:srgbClr val="0066ff">
                    <a:alpha val="50000"/>
                  </a:srgbClr>
                </a:solidFill>
                <a:effectLst>
                  <a:outerShdw dist="40186" dir="1096358" blurRad="0" rotWithShape="0">
                    <a:srgbClr val="3333cc"/>
                  </a:outerShdw>
                </a:effectLst>
                <a:latin typeface="华文新魏"/>
              </a:rPr>
              <a:t>浪涌莲花峰</a:t>
            </a:r>
            <a:endParaRPr b="1" i="1" lang="en-US" sz="2400" spc="1" strike="noStrike">
              <a:ln w="12600">
                <a:solidFill>
                  <a:srgbClr val="0066ff"/>
                </a:solidFill>
                <a:miter/>
              </a:ln>
              <a:solidFill>
                <a:srgbClr val="0066ff">
                  <a:alpha val="50000"/>
                </a:srgbClr>
              </a:solidFill>
              <a:effectLst>
                <a:outerShdw dist="40186" dir="1096358" blurRad="0" rotWithShape="0">
                  <a:srgbClr val="3333cc"/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113" name="粉色小花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6086520"/>
            <a:ext cx="533520" cy="5014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442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文章内容解析</a:t>
            </a:r>
            <a:r>
              <a:rPr b="1" lang="zh-CN" sz="5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914400"/>
            <a:ext cx="8991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这是一篇解说词，是为多部电视旅游风光片</a:t>
            </a:r>
            <a:r>
              <a:rPr b="1" lang="en-US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话说长江</a:t>
            </a:r>
            <a:r>
              <a:rPr b="1" lang="en-US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》</a:t>
            </a:r>
            <a:r>
              <a:rPr b="1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中黄山部分而写的。它有别于一般的游记，因为它是借助于电视镜头展示画面来介绍自然风光的，使用了现代影视的表现手段，所以，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仿宋_GB2312"/>
                <a:ea typeface="仿宋_GB2312"/>
              </a:rPr>
              <a:t>第一，它能自由地变换角度来表现，或环景、全景，或中近景，特写，或俯视，或仰视，或平视；第二，它要配合画面，要着眼于解释画面，讲出画面中不为人注意或隐含的东西，不宜过分发挥；第三，它应该口语化，要使观众一听就懂。</a:t>
            </a:r>
            <a:r>
              <a:rPr b="1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本文对于这三个特点体现得比较充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52280" y="0"/>
            <a:ext cx="2590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9144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　　    浏览课文，结合文章内容说一说题目的意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52280" y="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Arial"/>
              </a:rPr>
              <a:t>整体感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13716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飞红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文中的黄山日出；滴翠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青山苍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1905120"/>
            <a:ext cx="80773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本文在整体组合上，设置了三条线索，你能通过研读课文分析出来并作具体的解说吗（提示：时间，空间，逻辑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4360" y="3933720"/>
            <a:ext cx="8001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黄山地质的形成：</a:t>
            </a:r>
            <a:r>
              <a:rPr b="1" lang="zh-CN" sz="2800" spc="-1" strike="noStrike">
                <a:solidFill>
                  <a:srgbClr val="009900"/>
                </a:solidFill>
                <a:latin typeface="Arial"/>
              </a:rPr>
              <a:t>时间顺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上山到出山：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空间顺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奇峰、古松、怪石、云海、日出、温泉等景物逐一带出，相互独立：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逻辑顺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4000" y="4221000"/>
            <a:ext cx="152280" cy="1676520"/>
          </a:xfrm>
          <a:custGeom>
            <a:avLst/>
            <a:gdLst>
              <a:gd name="textAreaLeft" fmla="*/ 97200 w 152280"/>
              <a:gd name="textAreaRight" fmla="*/ 152640 w 15228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50000">
              <a:srgbClr val="ffffff"/>
            </a:gs>
            <a:gs pos="100000">
              <a:srgbClr val="ff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533520"/>
            <a:ext cx="8229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009900"/>
                </a:solidFill>
                <a:effectLst>
                  <a:outerShdw dist="40186" dir="4303641" blurRad="0" rotWithShape="0">
                    <a:srgbClr val="009900"/>
                  </a:outerShdw>
                </a:effectLst>
                <a:latin typeface="华文新魏"/>
              </a:rPr>
              <a:t>文章依照内容可分为几个部分？</a:t>
            </a:r>
            <a:endParaRPr b="1" lang="en-US" sz="2400" spc="1" strike="noStrike">
              <a:ln w="9360">
                <a:solidFill>
                  <a:srgbClr val="006600"/>
                </a:solidFill>
                <a:miter/>
              </a:ln>
              <a:solidFill>
                <a:srgbClr val="009900"/>
              </a:solidFill>
              <a:effectLst>
                <a:outerShdw dist="40186" dir="4303641" blurRad="0" rotWithShape="0">
                  <a:srgbClr val="0099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762120" y="2209680"/>
            <a:ext cx="2209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50000">
                      <a:srgbClr val="a603ab"/>
                    </a:gs>
                    <a:gs pos="100000">
                      <a:srgbClr val="a603ab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华文新魏"/>
              </a:rPr>
              <a:t>总写黄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50000">
                    <a:srgbClr val="a603ab"/>
                  </a:gs>
                  <a:gs pos="100000">
                    <a:srgbClr val="a603ab"/>
                  </a:gs>
                </a:gsLst>
                <a:lin ang="1350000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25" name=""/>
          <p:cNvSpPr/>
          <p:nvPr/>
        </p:nvSpPr>
        <p:spPr>
          <a:xfrm>
            <a:off x="2671200" y="3200400"/>
            <a:ext cx="13993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分写山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91120" y="2438280"/>
            <a:ext cx="1752480" cy="379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奇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怪石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古松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云雾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日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7238880" y="4648320"/>
            <a:ext cx="14479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0047ff"/>
                    </a:gs>
                    <a:gs pos="50000">
                      <a:srgbClr val="000082"/>
                    </a:gs>
                    <a:gs pos="100000">
                      <a:srgbClr val="0047f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华文新魏"/>
              </a:rPr>
              <a:t>山下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0047ff"/>
                  </a:gs>
                  <a:gs pos="50000">
                    <a:srgbClr val="000082"/>
                  </a:gs>
                  <a:gs pos="100000">
                    <a:srgbClr val="0047ff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0047ff"/>
                    </a:gs>
                    <a:gs pos="50000">
                      <a:srgbClr val="000082"/>
                    </a:gs>
                    <a:gs pos="100000">
                      <a:srgbClr val="0047f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华文新魏"/>
              </a:rPr>
              <a:t>温泉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0047ff"/>
                  </a:gs>
                  <a:gs pos="50000">
                    <a:srgbClr val="000082"/>
                  </a:gs>
                  <a:gs pos="100000">
                    <a:srgbClr val="0047ff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28" name=""/>
          <p:cNvSpPr/>
          <p:nvPr/>
        </p:nvSpPr>
        <p:spPr>
          <a:xfrm>
            <a:off x="4038480" y="2819520"/>
            <a:ext cx="228600" cy="2971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057400" y="3886200"/>
            <a:ext cx="1143000" cy="7621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920" y="4114800"/>
            <a:ext cx="1143000" cy="7621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9640" y="3200400"/>
            <a:ext cx="20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-3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362320" y="56386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--17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981840" y="5950080"/>
            <a:ext cx="21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09480" y="6094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14400" y="19810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990720"/>
            <a:ext cx="86868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2280" y="0"/>
            <a:ext cx="2590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2280" y="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Arial"/>
              </a:rPr>
              <a:t>整体感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91440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从时间顺序上说说黄山是怎样形成的。（或用简明示图画表示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213372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汪洋大海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丘陵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地壳运动，形成基础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喜马拉雅运动，黄山形成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冰山侵蚀，形成奇特的造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4360" y="36450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用吟哦讽诵读书法朗读课文，回顾前面风景，标出文中所写景物及特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0920" y="4941720"/>
            <a:ext cx="87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奇峰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高而险；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古松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苍翠奇特；</a:t>
            </a:r>
            <a:r>
              <a:rPr b="1" lang="zh-CN" sz="2800" spc="-1" strike="noStrike">
                <a:solidFill>
                  <a:srgbClr val="663300"/>
                </a:solidFill>
                <a:latin typeface="Arial"/>
              </a:rPr>
              <a:t>怪石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千姿百态；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云海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轻盈；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日出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瑰丽、壮观、辉煌；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温泉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令人有温馨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838080" y="2362320"/>
            <a:ext cx="228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62520" y="2590920"/>
            <a:ext cx="380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261200" y="1676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4211640" cy="836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2280" y="0"/>
            <a:ext cx="521172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Arial"/>
              </a:rPr>
              <a:t>品味黄山</a:t>
            </a:r>
            <a:r>
              <a:rPr b="0" lang="zh-CN" sz="3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黄山奇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83664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仿照示例，品味优美的语句，领略黄山雄奇、壮丽景色呈现出来的美，在书本上做批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2133720"/>
            <a:ext cx="70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例：黄山的峰石，经过人们智慧的精心点化，在大自然的宁静中，又增添了人间欢乐的生趣。这是黄山外在美和内在美的高度结合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9280" y="3844800"/>
            <a:ext cx="68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析：“人们智慧的精心点化”，是指人们为这些峰石所起的名字，而这些名字又是审美观照的结果，其中凝聚了想像力和创造力，体现了人们的情趣，使得冰冷的石头有了人的精魂。这是外加上去的，就是“外在美”；峰石本身的千奇百怪的造型是大自然的创造，是属于内在的，就是内在美。这句话是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着重讲人的审美创造的伟大作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080" descr=""/>
          <p:cNvPicPr/>
          <p:nvPr/>
        </p:nvPicPr>
        <p:blipFill>
          <a:blip r:embed="rId2"/>
          <a:stretch/>
        </p:blipFill>
        <p:spPr>
          <a:xfrm>
            <a:off x="7161120" y="0"/>
            <a:ext cx="20192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2590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2280" y="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Arial"/>
              </a:rPr>
              <a:t>解说黄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167652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反复吟读课文有关段落，结合下列风景画，选择你所最喜欢的试着为黄山风景解说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600" y="1143000"/>
            <a:ext cx="127764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隶书"/>
              </a:rPr>
              <a:t>百步云梯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009" descr=""/>
          <p:cNvPicPr/>
          <p:nvPr/>
        </p:nvPicPr>
        <p:blipFill>
          <a:blip r:embed="rId1"/>
          <a:stretch/>
        </p:blipFill>
        <p:spPr>
          <a:xfrm>
            <a:off x="1187280" y="0"/>
            <a:ext cx="79567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黄山石猴观海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24000" y="1484280"/>
            <a:ext cx="304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猴子观海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图片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checker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00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427640" y="1916280"/>
            <a:ext cx="44956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峰是云之家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云是峰之衣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黄山日出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975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116000" y="1052640"/>
            <a:ext cx="3733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黄山日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黄山日出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143000" y="304920"/>
            <a:ext cx="3733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黄山日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黄山之日落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042920" y="5589720"/>
            <a:ext cx="374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ffffff"/>
                </a:solidFill>
                <a:latin typeface="Arial"/>
                <a:ea typeface="隶书"/>
              </a:rPr>
              <a:t>黄山日落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">
    <p:checker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口头表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试用生动的语言描述下列黄山怪石的情态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松鼠跳天都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042920" y="404640"/>
            <a:ext cx="460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隶书"/>
              </a:rPr>
              <a:t>松鼠跳天都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童子拜观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5414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犀牛望月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zoom dir="in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00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cover dir="r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01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48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初入山峦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05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cover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峰锁云海(西海大峡谷)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1T11:58:39Z</dcterms:created>
  <dc:creator/>
  <dc:description/>
  <dc:language>en-US</dc:language>
  <cp:lastModifiedBy>zmj</cp:lastModifiedBy>
  <dcterms:modified xsi:type="dcterms:W3CDTF">2011-10-21T11:58:46Z</dcterms:modified>
  <cp:revision>34</cp:revision>
  <dc:subject/>
  <dc:title>PowerPoint Presentation</dc:title>
</cp:coreProperties>
</file>