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32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36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1.png" ContentType="image/png"/>
  <Override PartName="/ppt/media/image33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A589-4BAA-4239-B666-A28FC80B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5D5-AE5F-4976-BAA2-C168C516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02D-9F8B-4A4C-90FE-66371771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8A7-31BB-4E4B-9C72-28B793A4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277-4C86-4082-86DB-DAFB47D0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D85-DF2D-43AA-8819-5671CA07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496-B38D-4D57-8B04-A8A6921B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D05-3FA7-404C-847C-174B26A4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5942-2CB7-453E-B7DB-67744107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E33B-3965-485F-8F97-4E21A178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E88D-EB35-4C08-96D7-A8589A90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8E20-C71E-4945-AFF1-10D1A475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E2C8-E673-4639-ACFE-6E17F23D2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5.gif"/><Relationship Id="rId3" Type="http://schemas.openxmlformats.org/officeDocument/2006/relationships/hyperlink" Target="D:\&#35838;&#20214;\&#35838;&#20214;C\&#39118;&#31581;\&#39118;&#31581;45.swf" TargetMode="Externa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uang216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79640" y="1844640"/>
            <a:ext cx="5184720" cy="302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欢迎指导</a:t>
            </a:r>
            <a:endParaRPr b="1" lang="en-US" sz="96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3500280"/>
            <a:ext cx="554544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三（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）班语文课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50920" y="5013360"/>
            <a:ext cx="6480360" cy="4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佛市山禅城区南庄镇溶洲小学潘燕霞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58053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75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风筝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风筝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风筝4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31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梁山好汉风筝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z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fz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fz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38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fz1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11280" y="189000"/>
            <a:ext cx="47530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猜谜语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天上一只鸟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用线拴得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喜爱微风吹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害怕大雨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3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3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468360" y="6165720"/>
            <a:ext cx="1295280" cy="692280"/>
          </a:xfrm>
          <a:custGeom>
            <a:avLst/>
            <a:gdLst>
              <a:gd name="textAreaLeft" fmla="*/ 44640 w 1295280"/>
              <a:gd name="textAreaRight" fmla="*/ 1250640 w 12952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0405" h="21600">
                <a:moveTo>
                  <a:pt x="0" y="0"/>
                </a:moveTo>
                <a:lnTo>
                  <a:pt x="40405" y="0"/>
                </a:lnTo>
                <a:lnTo>
                  <a:pt x="40405" y="21600"/>
                </a:lnTo>
                <a:lnTo>
                  <a:pt x="0" y="21600"/>
                </a:lnTo>
                <a:close/>
              </a:path>
              <a:path fill="lightenLess" w="40405" h="21600">
                <a:moveTo>
                  <a:pt x="0" y="0"/>
                </a:moveTo>
                <a:lnTo>
                  <a:pt x="40405" y="0"/>
                </a:lnTo>
                <a:lnTo>
                  <a:pt x="39005" y="1400"/>
                </a:lnTo>
                <a:lnTo>
                  <a:pt x="1400" y="1400"/>
                </a:lnTo>
                <a:close/>
              </a:path>
              <a:path fill="darken" w="40405" h="21600">
                <a:moveTo>
                  <a:pt x="40405" y="0"/>
                </a:moveTo>
                <a:lnTo>
                  <a:pt x="40405" y="21600"/>
                </a:lnTo>
                <a:lnTo>
                  <a:pt x="39005" y="20200"/>
                </a:lnTo>
                <a:lnTo>
                  <a:pt x="39005" y="1400"/>
                </a:lnTo>
                <a:close/>
              </a:path>
              <a:path fill="darkenLess" w="40405" h="21600">
                <a:moveTo>
                  <a:pt x="40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05" y="20200"/>
                </a:lnTo>
                <a:close/>
              </a:path>
              <a:path fill="lighten" w="40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05" h="21600">
                <a:moveTo>
                  <a:pt x="13196" y="3794"/>
                </a:moveTo>
                <a:lnTo>
                  <a:pt x="27209" y="10800"/>
                </a:lnTo>
                <a:lnTo>
                  <a:pt x="131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050920" y="404640"/>
            <a:ext cx="619308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楷体"/>
              </a:rPr>
              <a:t>让我们来读读课文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  <a:ea typeface="华文楷体"/>
              </a:rPr>
              <a:t>注意听清要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华文楷体"/>
              </a:rPr>
              <a:t>读准字音，读通句子，边读边思考，课文围绕风筝写了哪些事儿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03280" y="981000"/>
            <a:ext cx="1513080" cy="503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隶书"/>
              </a:rPr>
              <a:t>我会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1484280"/>
            <a:ext cx="115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xi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8000" y="3933720"/>
            <a:ext cx="11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27640" y="393372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f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56360" y="1413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sà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1484280"/>
            <a:ext cx="11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y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76360" y="2492280"/>
            <a:ext cx="11653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依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067280" y="2565360"/>
            <a:ext cx="1079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歇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588000" y="2421000"/>
            <a:ext cx="10796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丧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92360" y="4724280"/>
            <a:ext cx="122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磨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356000" y="4797360"/>
            <a:ext cx="11653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坊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92" name="Gif0405_030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332000" y="907920"/>
            <a:ext cx="1512720" cy="503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隶书"/>
              </a:rPr>
              <a:t>多音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268360" y="3789360"/>
            <a:ext cx="3818160" cy="1650600"/>
            <a:chOff x="2268360" y="3789360"/>
            <a:chExt cx="3818160" cy="1650600"/>
          </a:xfrm>
        </p:grpSpPr>
        <p:sp>
          <p:nvSpPr>
            <p:cNvPr id="96" name=""/>
            <p:cNvSpPr/>
            <p:nvPr/>
          </p:nvSpPr>
          <p:spPr>
            <a:xfrm>
              <a:off x="2268360" y="4221000"/>
              <a:ext cx="129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81440" y="3789360"/>
              <a:ext cx="23050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（磨刀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（磨坊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05080" y="386244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m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05080" y="479736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m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17800" y="4005360"/>
              <a:ext cx="358560" cy="1368360"/>
            </a:xfrm>
            <a:custGeom>
              <a:avLst/>
              <a:gdLst>
                <a:gd name="textAreaLeft" fmla="*/ 228960 w 358560"/>
                <a:gd name="textAreaRight" fmla="*/ 358560 w 3585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124000" y="1484280"/>
            <a:ext cx="3818160" cy="2076840"/>
            <a:chOff x="2124000" y="1484280"/>
            <a:chExt cx="3818160" cy="2076840"/>
          </a:xfrm>
        </p:grpSpPr>
        <p:sp>
          <p:nvSpPr>
            <p:cNvPr id="102" name=""/>
            <p:cNvSpPr/>
            <p:nvPr/>
          </p:nvSpPr>
          <p:spPr>
            <a:xfrm>
              <a:off x="2124000" y="1915920"/>
              <a:ext cx="129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坊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37080" y="1484280"/>
              <a:ext cx="23050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（潍坊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（磨坊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60720" y="15573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fā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60720" y="249228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宋体"/>
                </a:rPr>
                <a:t>fá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73440" y="1700280"/>
              <a:ext cx="358560" cy="1368360"/>
            </a:xfrm>
            <a:custGeom>
              <a:avLst/>
              <a:gdLst>
                <a:gd name="textAreaLeft" fmla="*/ 228960 w 358560"/>
                <a:gd name="textAreaRight" fmla="*/ 358560 w 3585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Gif0405_030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123840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71640" y="9079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773360"/>
            <a:ext cx="7488360" cy="3484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憧  憬       凌空飞起      翩翩飞舞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依然        歇不下来      嘣地断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田 埂        垂头丧气      大惊失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倏  地       水 磨  坊      半沉半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476280"/>
            <a:ext cx="1224000" cy="503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隶书"/>
              </a:rPr>
              <a:t>我会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1268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g   jǐ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1341360"/>
            <a:ext cx="11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0360" y="1268280"/>
            <a:ext cx="11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i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4076640"/>
            <a:ext cx="11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h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349360"/>
            <a:ext cx="11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i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2349360"/>
            <a:ext cx="115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3213000"/>
            <a:ext cx="11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ě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59280" y="3284640"/>
            <a:ext cx="115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u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3213000"/>
            <a:ext cx="115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s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7080" y="4149720"/>
            <a:ext cx="115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00720" y="4076640"/>
            <a:ext cx="115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f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2276640"/>
            <a:ext cx="11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Gif0405_030" descr=""/>
          <p:cNvPicPr/>
          <p:nvPr/>
        </p:nvPicPr>
        <p:blipFill>
          <a:blip r:embed="rId2"/>
          <a:stretch/>
        </p:blipFill>
        <p:spPr>
          <a:xfrm>
            <a:off x="250920" y="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netease-bobo32-autumn1024n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332000" y="907920"/>
            <a:ext cx="1871640" cy="432000"/>
          </a:xfrm>
          <a:prstGeom prst="flowChartInputOutpu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整体感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Gif0405_030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1238400" cy="1238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26920" y="1413000"/>
            <a:ext cx="831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课文围绕风筝写了哪些事儿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263700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华文楷体"/>
                <a:ea typeface="华文楷体"/>
              </a:rPr>
              <a:t>       </a:t>
            </a:r>
            <a:r>
              <a:rPr b="1" lang="en-US" sz="3600" spc="-1" strike="noStrike">
                <a:solidFill>
                  <a:srgbClr val="990099"/>
                </a:solidFill>
                <a:latin typeface="华文楷体"/>
                <a:ea typeface="华文楷体"/>
              </a:rPr>
              <a:t>这篇课文主要围绕风筝写了</a:t>
            </a:r>
            <a:r>
              <a:rPr b="1" lang="en-US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作者</a:t>
            </a:r>
            <a:r>
              <a:rPr b="1" lang="en-US" sz="3600" spc="-1" strike="noStrike">
                <a:solidFill>
                  <a:srgbClr val="990099"/>
                </a:solidFill>
                <a:latin typeface="华文楷体"/>
                <a:ea typeface="华文楷体"/>
              </a:rPr>
              <a:t>小时候和伙伴们</a:t>
            </a:r>
            <a:r>
              <a:rPr b="1" lang="en-US" sz="3600" spc="-1" strike="noStrike" u="sng">
                <a:solidFill>
                  <a:srgbClr val="990099"/>
                </a:solidFill>
                <a:uFillTx/>
                <a:latin typeface="华文楷体"/>
                <a:ea typeface="华文楷体"/>
              </a:rPr>
              <a:t>做风筝、放风筝、找风筝</a:t>
            </a:r>
            <a:r>
              <a:rPr b="1" lang="en-US" sz="3600" spc="-1" strike="noStrike">
                <a:solidFill>
                  <a:srgbClr val="990099"/>
                </a:solidFill>
                <a:latin typeface="华文楷体"/>
                <a:ea typeface="华文楷体"/>
              </a:rPr>
              <a:t>的事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netease-bobo32-autumn1024n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74560" y="1197000"/>
            <a:ext cx="856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华文楷体"/>
              </a:rPr>
              <a:t>     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  <a:ea typeface="华文楷体"/>
              </a:rPr>
              <a:t>童年的时候，我们这些孩子，最大的快乐就是做风筝，放风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netease-bobo31-autumn1024n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395280" y="189000"/>
            <a:ext cx="2664000" cy="1022400"/>
            <a:chOff x="395280" y="189000"/>
            <a:chExt cx="2664000" cy="1022400"/>
          </a:xfrm>
        </p:grpSpPr>
        <p:pic>
          <p:nvPicPr>
            <p:cNvPr id="134" name="Gif0405_030" descr=""/>
            <p:cNvPicPr/>
            <p:nvPr/>
          </p:nvPicPr>
          <p:blipFill>
            <a:blip r:embed="rId2"/>
            <a:stretch/>
          </p:blipFill>
          <p:spPr>
            <a:xfrm>
              <a:off x="395280" y="189000"/>
              <a:ext cx="102240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187280" y="549360"/>
              <a:ext cx="1872000" cy="503280"/>
            </a:xfrm>
            <a:prstGeom prst="cloudCallout">
              <a:avLst>
                <a:gd name="adj1" fmla="val -66199"/>
                <a:gd name="adj2" fmla="val 2760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品读感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900000" y="1700280"/>
            <a:ext cx="1008000" cy="936720"/>
          </a:xfrm>
          <a:prstGeom prst="diamond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2637000"/>
            <a:ext cx="1008000" cy="936360"/>
          </a:xfrm>
          <a:prstGeom prst="diamond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3573360"/>
            <a:ext cx="1008000" cy="936720"/>
          </a:xfrm>
          <a:prstGeom prst="diamond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27280" y="1700280"/>
            <a:ext cx="56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1268280"/>
            <a:ext cx="68756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我们精心做着，心中充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了憧憬和希望。风筝做好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却什么也不像了。我们依然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活，把它叫做“幸福鸟”，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把我们的名字写在上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987640" y="2492280"/>
            <a:ext cx="647640" cy="216000"/>
            <a:chOff x="2987640" y="2492280"/>
            <a:chExt cx="647640" cy="216000"/>
          </a:xfrm>
        </p:grpSpPr>
        <p:sp>
          <p:nvSpPr>
            <p:cNvPr id="142" name=""/>
            <p:cNvSpPr/>
            <p:nvPr/>
          </p:nvSpPr>
          <p:spPr>
            <a:xfrm>
              <a:off x="2987640" y="2492280"/>
              <a:ext cx="216000" cy="2160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19640" y="2492280"/>
              <a:ext cx="215640" cy="2160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484360" y="3141720"/>
            <a:ext cx="5688000" cy="863640"/>
            <a:chOff x="2484360" y="3141720"/>
            <a:chExt cx="5688000" cy="863640"/>
          </a:xfrm>
        </p:grpSpPr>
        <p:sp>
          <p:nvSpPr>
            <p:cNvPr id="145" name=""/>
            <p:cNvSpPr/>
            <p:nvPr/>
          </p:nvSpPr>
          <p:spPr>
            <a:xfrm>
              <a:off x="7093080" y="3141720"/>
              <a:ext cx="215640" cy="2160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24720" y="3141720"/>
              <a:ext cx="216000" cy="2160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84360" y="3789360"/>
              <a:ext cx="216000" cy="2160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56720" y="3141720"/>
              <a:ext cx="215640" cy="2160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619280" y="4797360"/>
            <a:ext cx="2736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憧憬：向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3280" y="4869000"/>
            <a:ext cx="280836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依然：仍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NewsMedia_26228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ease-bobo31-autumn1024n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395280" y="189000"/>
            <a:ext cx="2664000" cy="1022400"/>
            <a:chOff x="395280" y="189000"/>
            <a:chExt cx="2664000" cy="1022400"/>
          </a:xfrm>
        </p:grpSpPr>
        <p:pic>
          <p:nvPicPr>
            <p:cNvPr id="153" name="Gif0405_030" descr=""/>
            <p:cNvPicPr/>
            <p:nvPr/>
          </p:nvPicPr>
          <p:blipFill>
            <a:blip r:embed="rId2"/>
            <a:stretch/>
          </p:blipFill>
          <p:spPr>
            <a:xfrm>
              <a:off x="395280" y="189000"/>
              <a:ext cx="102240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187280" y="549360"/>
              <a:ext cx="1872000" cy="503280"/>
            </a:xfrm>
            <a:prstGeom prst="cloudCallout">
              <a:avLst>
                <a:gd name="adj1" fmla="val -66199"/>
                <a:gd name="adj2" fmla="val 2760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品读感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900000" y="1700280"/>
            <a:ext cx="1008000" cy="936720"/>
          </a:xfrm>
          <a:prstGeom prst="diamond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2637000"/>
            <a:ext cx="1008000" cy="936360"/>
          </a:xfrm>
          <a:prstGeom prst="diamond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3573360"/>
            <a:ext cx="1008000" cy="936720"/>
          </a:xfrm>
          <a:prstGeom prst="diamond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1700280"/>
            <a:ext cx="56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1197000"/>
            <a:ext cx="759636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华文楷体"/>
                <a:ea typeface="华文楷体"/>
              </a:rPr>
              <a:t>         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我们去放风筝。一个人用手托着，另一个人牵着线，站在远远的地方，说“放”，那线一紧一松，风筝就凌空飞起，渐渐高过树梢了。牵线人飞快地跑起来。风筝越飞越高，在空中翩翩飞舞着，我们快活地喊叫着，在田野里拼命地奔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netease-bobo31-autumn1024n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395280" y="189000"/>
            <a:ext cx="2664000" cy="1022400"/>
            <a:chOff x="395280" y="189000"/>
            <a:chExt cx="2664000" cy="1022400"/>
          </a:xfrm>
        </p:grpSpPr>
        <p:pic>
          <p:nvPicPr>
            <p:cNvPr id="162" name="Gif0405_030" descr=""/>
            <p:cNvPicPr/>
            <p:nvPr/>
          </p:nvPicPr>
          <p:blipFill>
            <a:blip r:embed="rId2"/>
            <a:stretch/>
          </p:blipFill>
          <p:spPr>
            <a:xfrm>
              <a:off x="395280" y="189000"/>
              <a:ext cx="102240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187280" y="549360"/>
              <a:ext cx="1872000" cy="503280"/>
            </a:xfrm>
            <a:prstGeom prst="cloudCallout">
              <a:avLst>
                <a:gd name="adj1" fmla="val -66199"/>
                <a:gd name="adj2" fmla="val 2760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品读感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900000" y="1700280"/>
            <a:ext cx="1008000" cy="936720"/>
          </a:xfrm>
          <a:prstGeom prst="diamond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2637000"/>
            <a:ext cx="1008000" cy="936360"/>
          </a:xfrm>
          <a:prstGeom prst="diamond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0000" y="3573360"/>
            <a:ext cx="1008000" cy="936720"/>
          </a:xfrm>
          <a:prstGeom prst="diamond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27280" y="1700280"/>
            <a:ext cx="56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2720" y="1917720"/>
            <a:ext cx="68752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</a:t>
            </a:r>
            <a:r>
              <a:rPr b="1" lang="en-US" sz="4000" spc="-1" strike="noStrike">
                <a:solidFill>
                  <a:srgbClr val="333399"/>
                </a:solidFill>
                <a:latin typeface="华文楷体"/>
                <a:ea typeface="华文楷体"/>
              </a:rPr>
              <a:t>风筝越飞越高，在空中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楷体"/>
                <a:ea typeface="华文楷体"/>
              </a:rPr>
              <a:t>翩飞舞着，我们快活地喊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楷体"/>
                <a:ea typeface="华文楷体"/>
              </a:rPr>
              <a:t>着，在田野里拼命地奔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9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  <p:cond evt="onClick"/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69"/>
                          </p:tgtEl>
                        </p:cond>
                        <p:cond evt="onClick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netease-bobo31-autumn1024n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395280" y="189000"/>
            <a:ext cx="2664000" cy="1022400"/>
            <a:chOff x="395280" y="189000"/>
            <a:chExt cx="2664000" cy="1022400"/>
          </a:xfrm>
        </p:grpSpPr>
        <p:pic>
          <p:nvPicPr>
            <p:cNvPr id="172" name="Gif0405_030" descr=""/>
            <p:cNvPicPr/>
            <p:nvPr/>
          </p:nvPicPr>
          <p:blipFill>
            <a:blip r:embed="rId2"/>
            <a:stretch/>
          </p:blipFill>
          <p:spPr>
            <a:xfrm>
              <a:off x="395280" y="189000"/>
              <a:ext cx="102240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187280" y="549360"/>
              <a:ext cx="1872000" cy="503280"/>
            </a:xfrm>
            <a:prstGeom prst="cloudCallout">
              <a:avLst>
                <a:gd name="adj1" fmla="val -66199"/>
                <a:gd name="adj2" fmla="val 2760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品读感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900000" y="1700280"/>
            <a:ext cx="1008000" cy="936720"/>
          </a:xfrm>
          <a:prstGeom prst="diamond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2637000"/>
            <a:ext cx="1008000" cy="936360"/>
          </a:xfrm>
          <a:prstGeom prst="diamond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3573360"/>
            <a:ext cx="1008000" cy="936720"/>
          </a:xfrm>
          <a:prstGeom prst="diamond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1700280"/>
            <a:ext cx="56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52720" y="1917720"/>
            <a:ext cx="68752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</a:t>
            </a:r>
            <a:r>
              <a:rPr b="1" lang="en-US" sz="4000" spc="-1" strike="noStrike">
                <a:solidFill>
                  <a:srgbClr val="333399"/>
                </a:solidFill>
                <a:latin typeface="华文楷体"/>
                <a:ea typeface="华文楷体"/>
              </a:rPr>
              <a:t>风筝越飞越高，在空中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楷体"/>
                <a:ea typeface="华文楷体"/>
              </a:rPr>
              <a:t>翩飞舞着，我们快活地喊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楷体"/>
                <a:ea typeface="华文楷体"/>
              </a:rPr>
              <a:t>着，在田野里拼命地奔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netease-bobo31-autumn1024n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395280" y="189000"/>
            <a:ext cx="2664000" cy="1022400"/>
            <a:chOff x="395280" y="189000"/>
            <a:chExt cx="2664000" cy="1022400"/>
          </a:xfrm>
        </p:grpSpPr>
        <p:pic>
          <p:nvPicPr>
            <p:cNvPr id="181" name="Gif0405_030" descr=""/>
            <p:cNvPicPr/>
            <p:nvPr/>
          </p:nvPicPr>
          <p:blipFill>
            <a:blip r:embed="rId2"/>
            <a:stretch/>
          </p:blipFill>
          <p:spPr>
            <a:xfrm>
              <a:off x="395280" y="189000"/>
              <a:ext cx="102240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187280" y="549360"/>
              <a:ext cx="1872000" cy="503280"/>
            </a:xfrm>
            <a:prstGeom prst="cloudCallout">
              <a:avLst>
                <a:gd name="adj1" fmla="val -66199"/>
                <a:gd name="adj2" fmla="val 2760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品读感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900000" y="1700280"/>
            <a:ext cx="1008000" cy="936720"/>
          </a:xfrm>
          <a:prstGeom prst="diamond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2637000"/>
            <a:ext cx="1008000" cy="936360"/>
          </a:xfrm>
          <a:prstGeom prst="diamond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3573360"/>
            <a:ext cx="1008000" cy="936720"/>
          </a:xfrm>
          <a:prstGeom prst="diamond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27280" y="1700280"/>
            <a:ext cx="56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981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早晨玩到下午，我们还是歇不下来，牵着风筝在田野里奔跑。风筝越飞越高，似乎飞到了云彩上。忽然吹来一阵风，线嘣地断了。风筝在空中抖动了一下，便极快地飞走了。我们大惊失色，千呼万唤，那风筝越来越小，倏地便没了踪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4365720"/>
            <a:ext cx="172872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40000" y="4869000"/>
            <a:ext cx="619272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5516640"/>
            <a:ext cx="403236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3"/>
          </p:cNvPr>
          <p:cNvSpPr/>
          <p:nvPr/>
        </p:nvSpPr>
        <p:spPr>
          <a:xfrm>
            <a:off x="39528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7301"/>
                </a:moveTo>
                <a:lnTo>
                  <a:pt x="13221" y="7301"/>
                </a:lnTo>
                <a:lnTo>
                  <a:pt x="13604" y="7667"/>
                </a:lnTo>
                <a:lnTo>
                  <a:pt x="22813" y="7667"/>
                </a:lnTo>
                <a:lnTo>
                  <a:pt x="23370" y="8224"/>
                </a:lnTo>
                <a:lnTo>
                  <a:pt x="23370" y="8772"/>
                </a:lnTo>
                <a:lnTo>
                  <a:pt x="25215" y="8772"/>
                </a:lnTo>
                <a:lnTo>
                  <a:pt x="25581" y="8224"/>
                </a:lnTo>
                <a:lnTo>
                  <a:pt x="26320" y="8224"/>
                </a:lnTo>
                <a:lnTo>
                  <a:pt x="26320" y="13376"/>
                </a:lnTo>
                <a:lnTo>
                  <a:pt x="25581" y="13376"/>
                </a:lnTo>
                <a:lnTo>
                  <a:pt x="25215" y="12828"/>
                </a:lnTo>
                <a:lnTo>
                  <a:pt x="23370" y="12828"/>
                </a:lnTo>
                <a:lnTo>
                  <a:pt x="23370" y="14107"/>
                </a:lnTo>
                <a:lnTo>
                  <a:pt x="13787" y="14107"/>
                </a:lnTo>
                <a:lnTo>
                  <a:pt x="13787" y="9877"/>
                </a:lnTo>
                <a:lnTo>
                  <a:pt x="13604" y="9877"/>
                </a:lnTo>
                <a:lnTo>
                  <a:pt x="13221" y="10243"/>
                </a:lnTo>
                <a:lnTo>
                  <a:pt x="12308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200621116474361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40036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222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53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 rot="5400000">
            <a:off x="-1837080" y="2529000"/>
            <a:ext cx="4608360" cy="93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找风筝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2006072215222187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netease-bobo31-autumn1024n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395280" y="189000"/>
            <a:ext cx="2664000" cy="1022400"/>
            <a:chOff x="395280" y="189000"/>
            <a:chExt cx="2664000" cy="1022400"/>
          </a:xfrm>
        </p:grpSpPr>
        <p:pic>
          <p:nvPicPr>
            <p:cNvPr id="198" name="Gif0405_030" descr=""/>
            <p:cNvPicPr/>
            <p:nvPr/>
          </p:nvPicPr>
          <p:blipFill>
            <a:blip r:embed="rId2"/>
            <a:stretch/>
          </p:blipFill>
          <p:spPr>
            <a:xfrm>
              <a:off x="395280" y="189000"/>
              <a:ext cx="102240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187280" y="549360"/>
              <a:ext cx="1872000" cy="503280"/>
            </a:xfrm>
            <a:prstGeom prst="cloudCallout">
              <a:avLst>
                <a:gd name="adj1" fmla="val -66199"/>
                <a:gd name="adj2" fmla="val 2760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拓展训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971640" y="1989000"/>
            <a:ext cx="75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268280"/>
            <a:ext cx="932508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风筝飞走了，一会儿便没了踪影。就在我们垂头丧气地坐在田埂上流泪时，我们看见了村子里的水磨坊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到底“幸福鸟”会不会落在哪儿呢？我们向房子跑去，继续寻找我们的“幸福鸟”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4360" y="4292640"/>
            <a:ext cx="7315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“</a:t>
            </a: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幸福鸟”到底找到了没有？我们一起来想象一下吧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fly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netease-bobo32-autumn1024n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74560" y="1197000"/>
            <a:ext cx="856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华文楷体"/>
              </a:rPr>
              <a:t>     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  <a:ea typeface="华文楷体"/>
              </a:rPr>
              <a:t>童年的时候，我们这些孩子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华文楷体"/>
              </a:rPr>
              <a:t>最大的快乐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  <a:ea typeface="华文楷体"/>
              </a:rPr>
              <a:t>就是做风筝，放风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042920" y="1844640"/>
            <a:ext cx="720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把课文中你喜欢的句子抄在词语积累本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收集一些描写心情的词语，下节课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16200542105625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1351080" cy="13701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835280" y="907920"/>
            <a:ext cx="1873080" cy="576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课后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背景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684360" y="1197000"/>
            <a:ext cx="7127640" cy="26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谢谢大家</a:t>
            </a:r>
            <a:r>
              <a:rPr b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!</a:t>
            </a:r>
            <a:r>
              <a:rPr b="1" lang="zh-CN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再见</a:t>
            </a:r>
            <a:r>
              <a:rPr b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!</a:t>
            </a:r>
            <a:endParaRPr b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212fengzhe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4" descr=""/>
          <p:cNvPicPr/>
          <p:nvPr/>
        </p:nvPicPr>
        <p:blipFill>
          <a:blip r:embed="rId2"/>
          <a:srcRect l="2603" t="24712" r="72226" b="39805"/>
          <a:stretch/>
        </p:blipFill>
        <p:spPr>
          <a:xfrm>
            <a:off x="5796000" y="-316080"/>
            <a:ext cx="2089080" cy="2016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189000"/>
            <a:ext cx="55450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义务教育课程标准实验教科书第五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56000" y="2997360"/>
            <a:ext cx="468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10 </a:t>
            </a: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风筝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03640" y="198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18900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  <a:ea typeface="华文楷体"/>
              </a:rPr>
              <a:t>资料袋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1413000"/>
            <a:ext cx="6337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在中国，风筝有两千多年的历史。最初的风筝是用木头做的，叫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楷体"/>
              </a:rPr>
              <a:t>木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，后来改用纸做，叫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楷体"/>
              </a:rPr>
              <a:t>纸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。在纸鸢上装上竹哨，风吹竹哨，便发出像古筝一样的声音，因此有了风筝的称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楷体"/>
              </a:rPr>
              <a:t>山东潍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是著名的风筝之都，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198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年开始，那里每年都要举办一次国际风筝节。世界最大的风筝博物馆也在潍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81640" y="3386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fz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in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3:22:02Z</dcterms:created>
  <dc:creator>FSHX-4-46</dc:creator>
  <dc:description/>
  <dc:language>en-US</dc:language>
  <cp:lastModifiedBy>zmj</cp:lastModifiedBy>
  <dcterms:modified xsi:type="dcterms:W3CDTF">2012-12-01T09:10:25Z</dcterms:modified>
  <cp:revision>93</cp:revision>
  <dc:subject/>
  <dc:title>10     风    筝</dc:title>
</cp:coreProperties>
</file>