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6.jpeg" ContentType="image/jpeg"/>
  <Override PartName="/ppt/media/image25.gif" ContentType="image/gif"/>
  <Override PartName="/ppt/media/image21.jpeg" ContentType="image/jpeg"/>
  <Override PartName="/ppt/media/chimes.wav" ContentType="audio/x-wav"/>
  <Override PartName="/ppt/media/image36.gif" ContentType="image/gif"/>
  <Override PartName="/ppt/media/image19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4.png" ContentType="image/png"/>
  <Override PartName="/ppt/media/image10.jpeg" ContentType="image/jpeg"/>
  <Override PartName="/ppt/media/image12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34.jpeg" ContentType="image/jpeg"/>
  <Override PartName="/ppt/media/image27.png" ContentType="image/png"/>
  <Override PartName="/ppt/media/image33.jpeg" ContentType="image/jpeg"/>
  <Override PartName="/ppt/media/camera.wav" ContentType="audio/x-wav"/>
  <Override PartName="/ppt/media/image11.jpeg" ContentType="image/jpeg"/>
  <Override PartName="/ppt/media/image28.jpeg" ContentType="image/jpeg"/>
  <Override PartName="/ppt/media/image23.wmf" ContentType="image/x-wmf"/>
  <Override PartName="/ppt/media/image2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0.gif" ContentType="image/gif"/>
  <Override PartName="/ppt/media/image8.jpeg" ContentType="image/jpeg"/>
  <Override PartName="/ppt/media/image39.jpeg" ContentType="image/jpeg"/>
  <Override PartName="/ppt/media/image3.jpeg" ContentType="image/jpeg"/>
  <Override PartName="/ppt/media/image37.jpeg" ContentType="image/jpeg"/>
  <Override PartName="/ppt/media/laser.wav" ContentType="audio/x-wav"/>
  <Override PartName="/ppt/media/image16.jpeg" ContentType="image/jpeg"/>
  <Override PartName="/ppt/media/image20.png" ContentType="image/png"/>
  <Override PartName="/ppt/media/image2.jpeg" ContentType="image/jpeg"/>
  <Override PartName="/ppt/media/image9.jpeg" ContentType="image/jpeg"/>
  <Override PartName="/ppt/media/coin.wav" ContentType="audio/x-wav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451-791E-4DDA-8C1F-29DAC6EB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DAE-43B6-4592-AF86-ED0DEB2A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D38-DE66-46C8-AB2E-C70A30A0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0E1-073E-4447-B72E-E1F32AA3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DC9F-392D-4128-B7FD-C1D52C98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56F0-CF0B-43F6-B42F-B5F0CE69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A1D3-A14C-4374-9B35-F431E138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37FC-2D50-499B-9D88-9161CE27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A3EE-7597-4DEF-A23C-51C5D676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586A-4F35-4F4A-83FC-12792C65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F3EA-2460-448C-9A09-7C335831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31C-9B7B-423B-AD57-B956F464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3819-9325-4CAB-BC75-3061E686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4A38-FFEA-4343-B662-1ED4CE5E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335E-447C-432F-A90F-050470AD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6379-3662-4455-9319-7A687314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F642-8953-455E-87BD-6C4A84A0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456-729F-4EAA-A910-C4F9CB54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D95-C38E-497B-A2B6-7F9F32B4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1A2-5D5A-4353-A1C7-92DCB6FA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706-1769-43D4-BD67-150EA19F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FCB-CC6E-460C-9360-7AA360B1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C1C-2772-4F3C-86DB-B7535F3A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3DC-E0FC-4D51-9915-1DDE2D9E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8012-6E30-47F6-BD70-233D6E0C4D5D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28C3-F545-451A-8D19-AF80B406D962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image" Target="../media/image1.jpe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" Target="slide18.xml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zhidao.baidu.com/search?word=&#27178;&#30473;&#20919;&#23545;&amp;fr=qb_search_exp&amp;ie=gbk" TargetMode="External"/><Relationship Id="rId2" Type="http://schemas.openxmlformats.org/officeDocument/2006/relationships/hyperlink" Target="http://zhidao.baidu.com/search?word=&#23418;&#23376;&#29275;&amp;fr=qb_search_exp&amp;ie=gbk" TargetMode="External"/><Relationship Id="rId3" Type="http://schemas.openxmlformats.org/officeDocument/2006/relationships/hyperlink" Target="http://zhidao.baidu.com/search?word=&#34880;&#33616;&#36713;&#36757;&amp;fr=qb_search_exp&amp;ie=gbk" TargetMode="External"/><Relationship Id="rId4" Type="http://schemas.openxmlformats.org/officeDocument/2006/relationships/image" Target="../media/image22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3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38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611280" y="5950080"/>
            <a:ext cx="936360" cy="503280"/>
          </a:xfrm>
          <a:custGeom>
            <a:avLst/>
            <a:gdLst>
              <a:gd name="textAreaLeft" fmla="*/ 32400 w 936360"/>
              <a:gd name="textAreaRight" fmla="*/ 903960 w 93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74" h="21600">
                <a:moveTo>
                  <a:pt x="0" y="0"/>
                </a:moveTo>
                <a:lnTo>
                  <a:pt x="40174" y="0"/>
                </a:lnTo>
                <a:lnTo>
                  <a:pt x="40174" y="21600"/>
                </a:lnTo>
                <a:lnTo>
                  <a:pt x="0" y="21600"/>
                </a:lnTo>
                <a:close/>
              </a:path>
              <a:path fill="lightenLess" w="40174" h="21600">
                <a:moveTo>
                  <a:pt x="0" y="0"/>
                </a:moveTo>
                <a:lnTo>
                  <a:pt x="40174" y="0"/>
                </a:lnTo>
                <a:lnTo>
                  <a:pt x="38774" y="1400"/>
                </a:lnTo>
                <a:lnTo>
                  <a:pt x="1400" y="1400"/>
                </a:lnTo>
                <a:close/>
              </a:path>
              <a:path fill="darken" w="40174" h="21600">
                <a:moveTo>
                  <a:pt x="40174" y="0"/>
                </a:moveTo>
                <a:lnTo>
                  <a:pt x="40174" y="21600"/>
                </a:lnTo>
                <a:lnTo>
                  <a:pt x="38774" y="20200"/>
                </a:lnTo>
                <a:lnTo>
                  <a:pt x="38774" y="1400"/>
                </a:lnTo>
                <a:close/>
              </a:path>
              <a:path fill="darkenLess" w="40174" h="21600">
                <a:moveTo>
                  <a:pt x="40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74" y="20200"/>
                </a:lnTo>
                <a:close/>
              </a:path>
              <a:path fill="lighten" w="40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021360"/>
            <a:ext cx="115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2602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隶书"/>
              </a:rPr>
              <a:t>村 居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692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（清）高 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1628640"/>
            <a:ext cx="6264360" cy="416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草长莺飞二月天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拂堤杨柳醉春烟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儿童放学归来早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忙趁东风放纸鸢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443700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宋体"/>
              </a:rPr>
              <a:t>yuā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4" name="coi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6960" y="828720"/>
            <a:ext cx="7211880" cy="52005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893960" y="1120680"/>
            <a:ext cx="5357880" cy="4481640"/>
            <a:chOff x="1893960" y="1120680"/>
            <a:chExt cx="5357880" cy="4481640"/>
          </a:xfrm>
        </p:grpSpPr>
        <p:sp>
          <p:nvSpPr>
            <p:cNvPr id="104" name=""/>
            <p:cNvSpPr/>
            <p:nvPr/>
          </p:nvSpPr>
          <p:spPr>
            <a:xfrm>
              <a:off x="1893960" y="1120680"/>
              <a:ext cx="533088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893960" y="1120680"/>
              <a:ext cx="5357880" cy="4481640"/>
              <a:chOff x="1893960" y="1120680"/>
              <a:chExt cx="5357880" cy="4481640"/>
            </a:xfrm>
          </p:grpSpPr>
          <p:sp>
            <p:nvSpPr>
              <p:cNvPr id="106" name=""/>
              <p:cNvSpPr/>
              <p:nvPr/>
            </p:nvSpPr>
            <p:spPr>
              <a:xfrm>
                <a:off x="1893960" y="1120680"/>
                <a:ext cx="535788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893960" y="1120680"/>
                <a:ext cx="5357880" cy="448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33cc"/>
                    </a:solidFill>
                    <a:latin typeface="Times New Roman"/>
                  </a:rPr>
                  <a:t>  </a:t>
                </a:r>
                <a:r>
                  <a:rPr b="0" lang="zh-CN" sz="28800" spc="-1" strike="noStrike">
                    <a:solidFill>
                      <a:srgbClr val="0033cc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33cc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2479680" cy="2209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25400" y="-155520"/>
            <a:ext cx="7693200" cy="7173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45480" cy="70675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3006720" y="189000"/>
            <a:ext cx="2594880" cy="2301840"/>
            <a:chOff x="3006720" y="189000"/>
            <a:chExt cx="2594880" cy="2301840"/>
          </a:xfrm>
        </p:grpSpPr>
        <p:sp>
          <p:nvSpPr>
            <p:cNvPr id="116" name=""/>
            <p:cNvSpPr/>
            <p:nvPr/>
          </p:nvSpPr>
          <p:spPr>
            <a:xfrm>
              <a:off x="3006720" y="189000"/>
              <a:ext cx="2594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风   筝</a:t>
              </a:r>
              <a:endParaRPr b="0" lang="en-US" sz="9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14680" y="1911600"/>
              <a:ext cx="970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148360" y="198900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鲁  迅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51640" y="2492280"/>
            <a:ext cx="3492360" cy="270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60280"/>
            <a:ext cx="385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华文新魏"/>
                <a:ea typeface="华文新魏"/>
              </a:rPr>
              <a:t>走近大家鲁迅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564000" cy="5445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564000" y="189000"/>
            <a:ext cx="558000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鲁迅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81—193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名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周树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字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豫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浙江省绍兴市人。伟大的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文学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思想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革命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著作有杂文、小说、散文、诗歌等。代表作品有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小说集：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呐喊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彷徨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散文集：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朝花夕拾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散文诗集：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野草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杂文集：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二心集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           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而已集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中国现代文学史上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第一篇白话小说是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狂人日记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154764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4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11280" y="189000"/>
            <a:ext cx="47530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猜谜语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天上一只鸟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用线拴得牢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喜爱微风吹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害怕大雨浇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32000" y="-17136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鲁迅名言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49360"/>
            <a:ext cx="572436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时间就像海绵里的水，只要愿挤，总还是有的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倘只看书，便变成书橱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我好象是一只牛，吃的是草，挤出的是牛奶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不满是向上的车轮，能够载着不自满的人前进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宋体"/>
                <a:hlinkClick r:id="rId1"/>
              </a:rPr>
              <a:t>横眉冷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夫指，俯首甘为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宋体"/>
                <a:hlinkClick r:id="rId2"/>
              </a:rPr>
              <a:t>孺子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寄意寒星荃不察，我以我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宋体"/>
                <a:hlinkClick r:id="rId3"/>
              </a:rPr>
              <a:t>血荐轩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改造自己，总比禁止别人来的难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007400" y="1916280"/>
            <a:ext cx="1734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5904000" y="189000"/>
          <a:ext cx="3240000" cy="685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04000" y="189000"/>
                    <a:ext cx="324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  <p:sndAc>
      <p:stSnd>
        <p:snd r:embed="rId7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341360"/>
            <a:ext cx="9144000" cy="20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5f57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风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选自散文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野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。该集收录了鲁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1924—19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年所作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篇散文集，主要是以幽晦的象征表达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年代中期作者内心世界的苦闷和对现实社会的抗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风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写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192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日，恰逢农历正月初一，发表后因其对传统的封建的儿童的教育思想的强烈批判，深受读者尤其是青少年读者的欢迎和喜爱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5280" y="0"/>
            <a:ext cx="3489480" cy="102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楷体_GB2312"/>
              </a:rPr>
              <a:t>背　景　资　料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268360" y="260280"/>
            <a:ext cx="4032360" cy="7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00ff"/>
                </a:solidFill>
                <a:latin typeface="方正舒体"/>
              </a:rPr>
              <a:t>积    累    词    语</a:t>
            </a:r>
            <a:endParaRPr b="0" lang="en-US" sz="5400" spc="-1" strike="noStrike">
              <a:ln w="9360">
                <a:solidFill>
                  <a:srgbClr val="00ccff"/>
                </a:solidFill>
                <a:miter/>
              </a:ln>
              <a:solidFill>
                <a:srgbClr val="ff00ff"/>
              </a:solidFill>
              <a:latin typeface="方正舒体"/>
              <a:ea typeface="方正舒体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1125360"/>
            <a:ext cx="8964720" cy="51238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ēng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t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xi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ěi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du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丫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ch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j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寞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憔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iáo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cu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杀     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ju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别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荡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àng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嫌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xián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笑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bǐng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可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b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      惊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uáng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缩   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ào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然   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nü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杀  宽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恍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huǎng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然大悟      苦心孤诣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y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914400"/>
            <a:ext cx="53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16002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203040" y="271440"/>
            <a:ext cx="9138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1066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sh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í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49520" y="1052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什物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2864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什么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43920" y="16002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什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403848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8200" y="1905120"/>
            <a:ext cx="136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sh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é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7720" y="16765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恶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143000"/>
            <a:ext cx="304560" cy="1752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4960" y="9144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85520" y="9079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凶恶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4760" y="16002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ě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56800" y="1628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恶心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9720" y="220968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w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ù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32960" y="2286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嫌恶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48840" y="42670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模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1219320"/>
            <a:ext cx="304560" cy="1447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6800" y="3809880"/>
            <a:ext cx="99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m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ó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00040" y="3809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劳模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17520" y="464832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m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ú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00040" y="4648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模样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4038480" cy="28450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0" y="3200400"/>
            <a:ext cx="3924360" cy="342720"/>
            <a:chOff x="0" y="3200400"/>
            <a:chExt cx="3924360" cy="342720"/>
          </a:xfrm>
        </p:grpSpPr>
        <p:sp>
          <p:nvSpPr>
            <p:cNvPr id="158" name=""/>
            <p:cNvSpPr/>
            <p:nvPr/>
          </p:nvSpPr>
          <p:spPr>
            <a:xfrm>
              <a:off x="0" y="3200400"/>
              <a:ext cx="3924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3200400"/>
              <a:ext cx="3924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_x000b__x000c_"/>
                </a:rPr>
                <a:t>鲁迅在八道湾的住房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blinds dir="horz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58672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5f57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根据意思写出正确的词语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836640"/>
            <a:ext cx="669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孤独，没有依靠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557360"/>
            <a:ext cx="8209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容人瘦弱，面色不好看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276640"/>
            <a:ext cx="828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容秋冬天气寒冷，草木枯落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924280"/>
            <a:ext cx="845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（多指不易再见的离别）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3645000"/>
            <a:ext cx="784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容忽然醒悟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882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体心寒冷、受惊等而蜷缩或兼抖动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4941720"/>
            <a:ext cx="860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费尽心思钻研或经营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5661000"/>
            <a:ext cx="8388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坚强不屈的样子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6338880"/>
            <a:ext cx="831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虐待人而致死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692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伶仃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6000" y="148428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憔悴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16720" y="2133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肃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00720" y="285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诀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35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恍然大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4149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瑟缩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486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苦心孤诣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95640" y="5516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傲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4360" y="621648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虐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164360" y="5398920"/>
            <a:ext cx="2139840" cy="145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2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38080" y="106668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38600" y="914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46720" y="990720"/>
            <a:ext cx="260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xi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án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嫌恶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38600" y="18288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47080" y="1981080"/>
            <a:ext cx="249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zhu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àn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赚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99072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29720" y="8380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诀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3800" y="914400"/>
            <a:ext cx="17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ju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é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诀别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45200" y="14540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决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4160" y="1600200"/>
            <a:ext cx="184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ju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é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决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29720" y="2209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抉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14160" y="2362320"/>
            <a:ext cx="184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ju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é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抉择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380988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38600" y="3733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堕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10160" y="3789360"/>
            <a:ext cx="198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du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ò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堕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14920" y="4572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坠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99000" y="4724280"/>
            <a:ext cx="209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zhu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ì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下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380988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06040" y="4648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恕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0480" y="4800600"/>
            <a:ext cx="192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sh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ù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宽恕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62840" y="-1214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怒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4520" y="3809880"/>
            <a:ext cx="19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n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ù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愤怒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37339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怒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45480" cy="706752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900000" y="1916280"/>
            <a:ext cx="6767280" cy="1715400"/>
            <a:chOff x="900000" y="1916280"/>
            <a:chExt cx="6767280" cy="1715400"/>
          </a:xfrm>
        </p:grpSpPr>
        <p:sp>
          <p:nvSpPr>
            <p:cNvPr id="205" name=""/>
            <p:cNvSpPr/>
            <p:nvPr/>
          </p:nvSpPr>
          <p:spPr>
            <a:xfrm>
              <a:off x="900000" y="1916280"/>
              <a:ext cx="6767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第二课时</a:t>
              </a:r>
              <a:endParaRPr b="0" lang="en-US" sz="9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78680" y="3052800"/>
              <a:ext cx="12970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580000" y="2492280"/>
            <a:ext cx="349272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94040" y="550800"/>
            <a:ext cx="850680" cy="504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华文彩云"/>
                <a:ea typeface="微软雅黑"/>
              </a:rPr>
              <a:t>整  体   感    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79640" y="549360"/>
            <a:ext cx="44654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5f57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仿宋"/>
              </a:rPr>
              <a:t>朗读课文，思考问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141300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1" lang="en-US" sz="4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.</a:t>
            </a:r>
            <a:r>
              <a:rPr b="1" lang="zh-CN" sz="4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这篇文章写了一个什么故事？请简单复述故事情节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4360" y="3860640"/>
            <a:ext cx="28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laser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71640" y="1197000"/>
            <a:ext cx="7488000" cy="39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我”曾经不许小兄弟放风筝</a:t>
            </a:r>
            <a:r>
              <a:rPr b="1" lang="en-US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一次竟然毁坏了小兄弟亲手做的风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二十年后</a:t>
            </a:r>
            <a:r>
              <a:rPr b="1" lang="en-US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终于明白了游戏对于儿童的意义</a:t>
            </a:r>
            <a:r>
              <a:rPr b="1" lang="en-US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我醒悟过来</a:t>
            </a:r>
            <a:r>
              <a:rPr b="1" lang="en-US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回想自己当年的行径</a:t>
            </a:r>
            <a:r>
              <a:rPr b="1" lang="en-US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简直是“精神的虐杀”。于是”我”总想补过</a:t>
            </a:r>
            <a:r>
              <a:rPr b="1" lang="en-US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然而小兄弟却全然忘却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　　由此我觉悟到“我”已经永远无法补过</a:t>
            </a:r>
            <a:r>
              <a:rPr b="1" lang="en-US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心情依然沉重</a:t>
            </a:r>
            <a:r>
              <a:rPr b="1" lang="en-US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, </a:t>
            </a: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悲哀之至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2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95640" y="3500280"/>
            <a:ext cx="144756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299880" y="1600200"/>
            <a:ext cx="94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62864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记叙的顺序有三种，本文是哪一种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3500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顺序     倒叙      插叙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79840" y="489744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5486400"/>
            <a:ext cx="8076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NewsMedia_26228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24000" y="1917720"/>
            <a:ext cx="65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微软雅黑"/>
              </a:rPr>
              <a:t>文章的感情基调是什么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33cc"/>
                </a:solidFill>
                <a:latin typeface="华文新魏"/>
                <a:ea typeface="华文新魏"/>
              </a:rPr>
              <a:t>用文中的一个词概括。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2360" y="414972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悲     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497720" y="0"/>
            <a:ext cx="1646280" cy="1752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80880" y="334476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89000"/>
            <a:ext cx="71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华文仿宋"/>
                <a:ea typeface="华文仿宋"/>
              </a:rPr>
              <a:t>、第一段属于什么描写？ 此段有何作用？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1052640"/>
            <a:ext cx="62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、自然环境描写，渲染严冬肃杀的气氛，烘   托“我”悲哀的心情；</a:t>
            </a:r>
            <a:r>
              <a:rPr b="0" lang="zh-CN" sz="4800" spc="-1" strike="noStrike">
                <a:solidFill>
                  <a:srgbClr val="0033cc"/>
                </a:solidFill>
                <a:latin typeface="新宋体"/>
                <a:ea typeface="新宋体"/>
              </a:rPr>
              <a:t>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068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、作者看到“远处有一二风筝浮动”，就感到“惊异和悲哀”为什么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?</a:t>
            </a:r>
            <a:r>
              <a:rPr b="0" lang="en-US" sz="48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50864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故乡的风筝时节，是春二月，春光明媚，北京冬季未过，就放风筝，所以“惊异”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见到风筝，就想起小时候精神的虐杀的一幕，而且无从补过，心头不禁“悲哀”。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2421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、开篇点题，引出回忆，定下感情基调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 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3" name="chimes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用符号划出发现弟弟偷做风筝我、弟弟的神态动作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我为什么那样做，弟为何不反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363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1295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1295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新宋体"/>
                <a:ea typeface="隶书"/>
              </a:rPr>
              <a:t>我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2057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很惊惶地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666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失了色瑟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32130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绝望地站在小屋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1337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愤怒   即刻伸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8320" y="2819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抓断、掷、踏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34210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傲然走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28600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7680" y="2057400"/>
            <a:ext cx="183384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惊恐不安的内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悲苦无奈的神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8880" y="236232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3000" y="2286000"/>
            <a:ext cx="5461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专制、盛怒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41148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76720" y="45813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认为管的对，受封建家长制传统的影响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42670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4724280"/>
            <a:ext cx="22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认为管是正当，自认该罚。麻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3880" y="6248520"/>
            <a:ext cx="4953240" cy="457200"/>
          </a:xfrm>
          <a:prstGeom prst="leftArrow">
            <a:avLst>
              <a:gd name="adj1" fmla="val 50000"/>
              <a:gd name="adj2" fmla="val 270846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5562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新宋体"/>
                <a:ea typeface="新宋体"/>
              </a:rPr>
              <a:t>同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1752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152280"/>
            <a:ext cx="75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读第五至十一段；用不同符号划出我是如何省悟和补过的；弟弟知道有这么一件事后的神态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1295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7400" y="1295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新宋体"/>
                <a:ea typeface="隶书"/>
              </a:rPr>
              <a:t>我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2057400"/>
            <a:ext cx="25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幸偶尔看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心变铅块堕下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想补过、讨宽恕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惊  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什么也不记得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33526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3886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深深自责、严于自我解剖，抛弃旧我、追求新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304812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52880" y="3886200"/>
            <a:ext cx="2743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不抗争，麻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幼稚纯真，健忘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4952880"/>
            <a:ext cx="8076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揭示了“游戏是儿童最正当的行为，玩具是儿童的天使”这一科学道理。批判了封建教育制度对儿童自由、活泼的天性的扼杀。     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3" name="chimes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492360" y="1268280"/>
            <a:ext cx="11527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9198800">
            <a:off x="1980000" y="12679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嫌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47628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20818200">
            <a:off x="5076720" y="134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9272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弟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">
            <a:hlinkClick r:id="rId2" action="ppaction://hlinksldjump"/>
          </p:cNvPr>
          <p:cNvSpPr/>
          <p:nvPr/>
        </p:nvSpPr>
        <p:spPr>
          <a:xfrm>
            <a:off x="6443640" y="306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悲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24360" y="3500280"/>
            <a:ext cx="341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弟弟自甘受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受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不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然忘却。麻木，不觉醒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社会谴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56000" y="2060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甘受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受辱不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43280" y="26370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精神虐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">
            <a:hlinkClick r:id="rId3" action="ppaction://hlinksldjump"/>
          </p:cNvPr>
          <p:cNvSpPr/>
          <p:nvPr/>
        </p:nvSpPr>
        <p:spPr>
          <a:xfrm>
            <a:off x="250920" y="3284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忏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3284640"/>
            <a:ext cx="511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勇于反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勇于自我谴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勇于承担责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我谴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19280" y="2133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195640" y="1196640"/>
            <a:ext cx="1441440" cy="1079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4572000" y="1196640"/>
            <a:ext cx="1224000" cy="1079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971280" y="2637000"/>
            <a:ext cx="865080" cy="576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">
            <a:hlinkClick r:id="rId4" action="ppaction://hlinksldjump"/>
          </p:cNvPr>
          <p:cNvSpPr/>
          <p:nvPr/>
        </p:nvSpPr>
        <p:spPr>
          <a:xfrm>
            <a:off x="3492360" y="126828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悲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268360" y="2492280"/>
            <a:ext cx="33832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40000" y="2637000"/>
            <a:ext cx="331164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27640" y="2637000"/>
            <a:ext cx="792360" cy="5047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5" name="chimes.wav"/>
      </p:stSnd>
    </p:sndAc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-299880" y="1600200"/>
            <a:ext cx="94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总结：全文共分为（      ）部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34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—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：比较北京和故乡放风筝的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令、引出回忆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79840" y="489744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000" y="249408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—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：“我”回忆小时候在故乡故意弄坏小兄弟风筝的事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5486400"/>
            <a:ext cx="8076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64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5—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：到了中年，意识到错误，当道歉时，小弟已忘却，“我”心情更沉重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6720" y="4653000"/>
            <a:ext cx="87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照应开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着眼前北京的风筝，“我”的心情十分悲哀沉重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85080" y="26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11280" y="260280"/>
            <a:ext cx="3581280" cy="1050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中宋"/>
              </a:rPr>
              <a:t>课  堂  总  结</a:t>
            </a:r>
            <a:endParaRPr b="0" lang="en-US" sz="4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524640" y="836640"/>
            <a:ext cx="2619360" cy="3384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042920" y="1916280"/>
            <a:ext cx="7056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本文意蕴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手足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游戏对于儿童的意义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“我”的自省精神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6156360" y="836640"/>
            <a:ext cx="2195640" cy="26636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268360" y="148608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微软雅黑"/>
              </a:rPr>
              <a:t>合 作 探 究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3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900000" y="692280"/>
            <a:ext cx="2286000" cy="5619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练习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2060640"/>
            <a:ext cx="165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5280" y="3860640"/>
            <a:ext cx="74898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文章结尾与开头有一种         关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两段都突出作者           的心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76720" y="3789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照应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24360" y="44370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悲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64000" y="4365720"/>
            <a:ext cx="8636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284720" y="5084640"/>
            <a:ext cx="8636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557360"/>
            <a:ext cx="87487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文章第一段在全文中起         作用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其中关键的词语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27640" y="220500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惊异和悲哀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16360" y="2924280"/>
            <a:ext cx="24480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19640" y="1341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总领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12000" y="1341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08720" y="2060640"/>
            <a:ext cx="9349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21337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1440" y="549360"/>
            <a:ext cx="68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华文仿宋"/>
                <a:ea typeface="微软雅黑"/>
              </a:rPr>
              <a:t>.“</a:t>
            </a:r>
            <a:r>
              <a:rPr b="1" lang="zh-CN" sz="2800" spc="-1" strike="noStrike">
                <a:solidFill>
                  <a:srgbClr val="0033cc"/>
                </a:solidFill>
                <a:latin typeface="华文仿宋"/>
                <a:ea typeface="微软雅黑"/>
              </a:rPr>
              <a:t>四面都还是严冬的肃杀，久经诀别的故乡的久经逝去的春天，却就在这天空中荡漾了”，怎么说春天“久经逝去”</a:t>
            </a:r>
            <a:r>
              <a:rPr b="1" lang="zh-CN" sz="2800" spc="-1" strike="noStrike">
                <a:solidFill>
                  <a:srgbClr val="0033cc"/>
                </a:solidFill>
                <a:latin typeface="华文仿宋"/>
                <a:ea typeface="微软雅黑"/>
              </a:rPr>
              <a:t>?</a:t>
            </a:r>
            <a:r>
              <a:rPr b="1" lang="zh-CN" sz="2800" spc="-1" strike="noStrike">
                <a:solidFill>
                  <a:srgbClr val="0033cc"/>
                </a:solidFill>
                <a:latin typeface="华文仿宋"/>
                <a:ea typeface="微软雅黑"/>
              </a:rPr>
              <a:t>为什么又说这春天就在“北京的天空中荡漾”了</a:t>
            </a:r>
            <a:r>
              <a:rPr b="1" lang="zh-CN" sz="2800" spc="-1" strike="noStrike">
                <a:solidFill>
                  <a:srgbClr val="0033cc"/>
                </a:solidFill>
                <a:latin typeface="华文仿宋"/>
                <a:ea typeface="微软雅黑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65440" y="2638440"/>
            <a:ext cx="62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   </a:t>
            </a:r>
            <a:r>
              <a:rPr b="1" lang="zh-CN" sz="2800" spc="-1" strike="noStrike">
                <a:solidFill>
                  <a:srgbClr val="ff33cc"/>
                </a:solidFill>
                <a:latin typeface="新宋体"/>
                <a:ea typeface="新宋体"/>
              </a:rPr>
              <a:t> “</a:t>
            </a:r>
            <a:r>
              <a:rPr b="1" lang="zh-CN" sz="2800" spc="-1" strike="noStrike">
                <a:solidFill>
                  <a:srgbClr val="ff33cc"/>
                </a:solidFill>
                <a:latin typeface="新宋体"/>
                <a:ea typeface="新宋体"/>
              </a:rPr>
              <a:t>春天”：小时候故乡的春天，是天空中有风筝的春天</a:t>
            </a:r>
            <a:r>
              <a:rPr b="1" lang="en-US" sz="2800" spc="-1" strike="noStrike">
                <a:solidFill>
                  <a:srgbClr val="ff33cc"/>
                </a:solidFill>
                <a:latin typeface="新宋体"/>
                <a:ea typeface="新宋体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新宋体"/>
                <a:ea typeface="新宋体"/>
              </a:rPr>
              <a:t>    </a:t>
            </a:r>
            <a:r>
              <a:rPr b="1" lang="zh-CN" sz="2800" spc="-1" strike="noStrike">
                <a:solidFill>
                  <a:srgbClr val="ff33cc"/>
                </a:solidFill>
                <a:latin typeface="新宋体"/>
                <a:ea typeface="新宋体"/>
              </a:rPr>
              <a:t>在北京，看见远处有一二只风筝浮动，由风筝而联想到故乡风筝时节的春天气息，所以觉得这春天“就在这天空中荡漾了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3" name="chimes.wav"/>
      </p:stSnd>
    </p:sndAc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497720" y="0"/>
            <a:ext cx="1646280" cy="17524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0" y="2057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为什么说不许弟弟放风筝是“对于精神的虐杀”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9280" y="2590920"/>
            <a:ext cx="8964720" cy="45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戏是儿童最正当的行为，玩具是儿童的天使”，游戏实在出于儿童天性，游戏使儿童活泼、健康、聪明。因此不准游戏，无异于虐杀儿童天性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文中所说的“对于精神的虐杀的这一幕”，具体指什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2800" spc="-1" strike="noStrike">
                <a:solidFill>
                  <a:srgbClr val="3399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0920" y="1125360"/>
            <a:ext cx="7345440" cy="8254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这一幕，是指“我”不许小兄弟放风筝，发现他偷做风筝，气得我把他快要完工的风筝折断踏扁了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733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为什么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来毫不忆及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0920" y="4292640"/>
            <a:ext cx="8893080" cy="45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因为自己一向以为管小兄弟管得对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兄弟偷做风筝，自己也并不认为正当，以为兄长该管。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5445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为什么说心不竟堕下去而至于断绝？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6165720"/>
            <a:ext cx="8569080" cy="45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因为“我”知道还有补过的方法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.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”懂得游戏的意义后心情沉重，总想补过，说明什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197000"/>
            <a:ext cx="9144000" cy="11912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鲁迅接触科学思想，认识了错误，设法补过，并不因为自己当初的动机是好的就原谅自己，也不因为当初的想法是受了传统的影响而宽恕自己，也不因为时间相隔久远就不了了之，他的心情是那么沉重，可见他是多么严厉的解剖自己，他的为人是多么严肃认真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隶书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997360"/>
            <a:ext cx="8991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、为什么“我”的心只得沉重着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为什么小兄弟全然忘却，毫无怨恨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小兄弟不怨恨好不好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文章是不是局限在风筝事件上，有没有更加深广的含义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465300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达了更深沉的悲哀。小时候，自己对弟弟那样管束，简直是精神的虐杀，而弟弟却并不认为兄长的行为是精神的虐杀，时过境迁，忘得一干二净。我也无从补过，无从求得心情的轻松，因而更加悲哀。被虐杀者甘受虐杀，毫无抗争，使虐杀者横行无忌，所以令人悲哀、沉重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末段的语句怎样理解？为什么说“悲哀”是无可把握的悲哀？为什么说“我倒不如躲到肃杀的严冬中去吧，但是，四面又明明是严冬，正给我非常的寒威和冷气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701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“我”要讨弟弟的宽恕，抚平他精神的创伤，而弟弟却全然忘却，毫无怨恨，精神被虐杀而不自知，“我”沉重的心情因无法补过而只能一直沉重下去。而这种悲哀是意想不到的，所以说“无可把握的悲哀”，想摆脱也不可能了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“躲到肃杀的严冬中去”，就是不要望见春天，不要望见风筝，这才能忘却，才能摆脱悲哀。我只感觉到“非常的寒威和冷气”，不仅指当时的天气，而且指心头的悲凉。当年虐杀者与被虐杀者都被愚昧观念所支配，彼此都不以为有什么错，现在虐杀者有了觉悟而后悔痛苦，而被虐杀者已经全然忘却。觉悟者永远无法补过，这是尤其悲哀的，使人更加感到悲哀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2666880" y="3429000"/>
            <a:ext cx="5715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再见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horz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0364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18900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楷体"/>
              </a:rPr>
              <a:t>资料袋：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1413000"/>
            <a:ext cx="6337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楷体"/>
              </a:rPr>
              <a:t>在中国，风筝有两千多年的历史。最初的风筝是用木头做的，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木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楷体"/>
              </a:rPr>
              <a:t>，后来改用纸做，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纸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楷体"/>
              </a:rPr>
              <a:t>。在纸鸢上装上竹哨，风吹竹哨，便发出像古筝一样的声音，因此有了风筝的称呼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山东潍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楷体"/>
              </a:rPr>
              <a:t>是著名的风筝之都，从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华文楷体"/>
              </a:rPr>
              <a:t>198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楷体"/>
              </a:rPr>
              <a:t>年开始，那里每年都要举办一次国际风筝节。世界最大的风筝博物馆也在潍坊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fl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0212fengzhe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3:29:27Z</dcterms:created>
  <dc:creator>User</dc:creator>
  <dc:description/>
  <cp:keywords/>
  <dc:language>en-US</dc:language>
  <cp:lastModifiedBy>微软用户</cp:lastModifiedBy>
  <dcterms:modified xsi:type="dcterms:W3CDTF">2013-09-24T02:24:42Z</dcterms:modified>
  <cp:revision>1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