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5E9-5CD3-486B-ADFE-B326868F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F81-E966-4A08-81FF-D5AACC84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8B6-9A4B-47F8-8AAB-68EB5B66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2CF-5731-4005-9166-06F1D792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A5D-BC9D-44B4-BF04-A61BB80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1B2-AE00-4D13-B7DA-5FFC3F4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DC3-0424-41CB-8D92-BC556935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4A3-A34E-4AAD-A942-92F33B9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734-C720-4FD9-AE92-C18EB59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580-D2CB-4E30-9C54-D8CDE3E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3F-36F1-4D3E-A798-E7C7560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972-43EB-442C-ACD0-B31DB58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2F0-8216-48B2-84A6-314F95745961}" type="slidenum"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2637000"/>
            <a:ext cx="432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风筝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88000" y="5013360"/>
            <a:ext cx="3600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安昌镇中心小学 汪国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从早晨玩到下午，我们还是歇不下来，牵着风筝在田野里奔跑。风筝越飞越高，似乎飞到了云彩上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然吹来一阵风，线嘣地断了。风筝在空中抖动了一下，便极快地飞走了。我们大惊失色，千呼万唤，那风筝越来越小，倏地便没了踪影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从早晨玩到下午，我们还是歇不下来，牵着风筝在田野里奔跑。风筝越飞越高，似乎飞到了云彩上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然吹来一阵风，线嘣地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断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风筝在空中抖动了一下，便极快地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飞走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我们大惊失色，千呼万唤，那风筝越来越小，倏地便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没了踪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从早晨玩到下午，我们还是歇不下来，牵着风筝在田野里奔跑。风筝越飞越高，似乎飞到了云彩上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然吹来一阵风，线嘣地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断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风筝在空中抖动了一下，便极快地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飞走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我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大惊失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千呼万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风筝越来越小，倏地便</a:t>
            </a:r>
            <a:r>
              <a:rPr b="1" lang="zh-CN" sz="3200" spc="-1" strike="noStrike">
                <a:solidFill>
                  <a:srgbClr val="e03500"/>
                </a:solidFill>
                <a:latin typeface="Times New Roman"/>
              </a:rPr>
              <a:t>没了踪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我们都哭了，在田野里四处寻找，找了半个下午，还是没有踪影。我们垂头丧气地坐在田埂上，一抬头，看见远远的水面上半沉半浮着一个巨大的不论，不停地转着，将水扬起来，半圈儿水在闪着白光。那里是我们村的水磨坊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5280" y="2060640"/>
            <a:ext cx="720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我们向那房子跑去，继续寻找我们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的“幸福鸟”……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3440" y="11970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写话练习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191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拼命地跑到水磨坊，一看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8080" y="2819520"/>
            <a:ext cx="1822320" cy="304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32720" y="2349360"/>
            <a:ext cx="1584360" cy="0"/>
          </a:xfrm>
          <a:prstGeom prst="line">
            <a:avLst/>
          </a:prstGeom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2852640"/>
            <a:ext cx="5400720" cy="0"/>
          </a:xfrm>
          <a:prstGeom prst="line">
            <a:avLst/>
          </a:prstGeom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2852640"/>
            <a:ext cx="1584360" cy="0"/>
          </a:xfrm>
          <a:prstGeom prst="line">
            <a:avLst/>
          </a:prstGeom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3500280"/>
            <a:ext cx="5761080" cy="0"/>
          </a:xfrm>
          <a:prstGeom prst="line">
            <a:avLst/>
          </a:prstGeom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549440" y="0"/>
            <a:ext cx="12192120" cy="933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1268280"/>
            <a:ext cx="662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风筝越飞越高，在空中翩翩飞舞着，我们快活地喊叫着，在田野里拼命地奔跑。村里人看见了，说：“放得这么高！”　　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173196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68360" y="1268280"/>
            <a:ext cx="662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凌空飞起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，渐渐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高过树梢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了。牵线人飞快地跑起来。风筝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越飞越高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，在空中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翩翩飞舞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着，我们快活地喊叫着，在田野里拼命地奔跑。村里人看见了，说：“放得这么高！”　　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173196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68360" y="1268280"/>
            <a:ext cx="66247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凌空飞起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，渐渐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高过树梢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了。牵线人飞快地跑起来。风筝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越飞越高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，在空中</a:t>
            </a:r>
            <a:r>
              <a:rPr b="1" lang="zh-CN" sz="2800" spc="-1" strike="noStrike">
                <a:solidFill>
                  <a:srgbClr val="e03500"/>
                </a:solidFill>
                <a:latin typeface="Times New Roman"/>
                <a:ea typeface="楷体_GB2312"/>
              </a:rPr>
              <a:t>翩翩飞舞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着，我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快活地喊叫着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，在田野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拼命地奔跑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。村里人看见了，说：“放得这么高！”　　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173196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从早晨玩到下午，我们还是歇不下来，牵着风筝在田野里奔跑。风筝越飞越高，似乎飞到了云彩上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/>
  <dc:description/>
  <dc:language>en-US</dc:language>
  <cp:lastModifiedBy>微软用户</cp:lastModifiedBy>
  <dcterms:modified xsi:type="dcterms:W3CDTF">2010-09-19T11:35:42Z</dcterms:modified>
  <cp:revision>155</cp:revision>
  <dc:subject/>
  <dc:title>幻灯片 1</dc:title>
</cp:coreProperties>
</file>