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498B-0388-4A1B-9C91-9ACA075738D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27DA-1FFF-44D1-815F-9E5C84A51B8E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9CE2-CC92-4A34-A6A7-5DB6CB16AA51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9ECF-EBD2-4F36-A06F-AC7AD8401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3C29-E0F6-4B5F-8AC3-569E43B4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E287-EBE9-44C2-AB86-B3E4D9D52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D71F-EE25-433F-BF0C-CB678802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D5B0-BDDD-4DD3-BE0D-EDCFD795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C812-A371-47B9-87BC-1EAD46E8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E261-C25D-4F84-99A0-9E82822A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4CA0-DF8E-48E0-8185-F99ACCE8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ACDE-EA52-4BD5-A860-7B6CAA9A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3237-7E73-446F-B217-B619676C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D38C-9338-495A-BE34-41ED2ED0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D327-1067-4090-96A4-724F58D5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4E30-F5B1-4FCE-9928-47F49238F0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685800"/>
            <a:ext cx="4886280" cy="16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2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战历史不容翻案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钟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单圆角矩形 5"/>
          <p:cNvSpPr/>
          <p:nvPr/>
        </p:nvSpPr>
        <p:spPr>
          <a:xfrm>
            <a:off x="-23760" y="154080"/>
            <a:ext cx="3724200" cy="769680"/>
          </a:xfrm>
          <a:custGeom>
            <a:avLst/>
            <a:gdLst>
              <a:gd name="textAreaLeft" fmla="*/ 0 w 3724200"/>
              <a:gd name="textAreaRight" fmla="*/ 3724560 w 3724200"/>
              <a:gd name="textAreaTop" fmla="*/ 0 h 769680"/>
              <a:gd name="textAreaBottom" fmla="*/ 770040 h 769680"/>
            </a:gdLst>
            <a:ahLst/>
            <a:rect l="textAreaLeft" t="textAreaTop" r="textAreaRight" b="textAreaBottom"/>
            <a:pathLst>
              <a:path w="3816424" h="1263290">
                <a:moveTo>
                  <a:pt x="0" y="0"/>
                </a:moveTo>
                <a:lnTo>
                  <a:pt x="3402671" y="0"/>
                </a:lnTo>
                <a:cubicBezTo>
                  <a:pt x="3631180" y="0"/>
                  <a:pt x="3816424" y="185244"/>
                  <a:pt x="3816424" y="413753"/>
                </a:cubicBezTo>
                <a:lnTo>
                  <a:pt x="3816424" y="1263290"/>
                </a:lnTo>
                <a:lnTo>
                  <a:pt x="0" y="1263290"/>
                </a:lnTo>
                <a:lnTo>
                  <a:pt x="0" y="0"/>
                </a:lnTo>
                <a:close/>
              </a:path>
            </a:pathLst>
          </a:custGeom>
          <a:solidFill>
            <a:srgbClr val="7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/>
          <p:cNvSpPr/>
          <p:nvPr/>
        </p:nvSpPr>
        <p:spPr>
          <a:xfrm>
            <a:off x="219240" y="476280"/>
            <a:ext cx="997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副标题 2"/>
          <p:cNvSpPr/>
          <p:nvPr/>
        </p:nvSpPr>
        <p:spPr>
          <a:xfrm>
            <a:off x="403200" y="371520"/>
            <a:ext cx="34084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二、新课讲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SzPct val="8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1614600" y="1632960"/>
            <a:ext cx="606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作者针对敌论提出了哪些观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878040" y="2903400"/>
            <a:ext cx="7697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    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1.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根据《开罗宣言》和《波茨坦公告》，钓鱼岛及其附属岛屿作为“日本所窃取于中国之领土”，必须归还中国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878040" y="4537080"/>
            <a:ext cx="7697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    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2.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日本在钓鱼岛问题上挑起事端不是偶然的，根本原因是日本右翼势力仍大行其道，在日本国内形成了翻历史案的小气候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单圆角矩形 5"/>
          <p:cNvSpPr/>
          <p:nvPr/>
        </p:nvSpPr>
        <p:spPr>
          <a:xfrm>
            <a:off x="-23760" y="154080"/>
            <a:ext cx="3724200" cy="769680"/>
          </a:xfrm>
          <a:custGeom>
            <a:avLst/>
            <a:gdLst>
              <a:gd name="textAreaLeft" fmla="*/ 0 w 3724200"/>
              <a:gd name="textAreaRight" fmla="*/ 3724560 w 3724200"/>
              <a:gd name="textAreaTop" fmla="*/ 0 h 769680"/>
              <a:gd name="textAreaBottom" fmla="*/ 770040 h 769680"/>
            </a:gdLst>
            <a:ahLst/>
            <a:rect l="textAreaLeft" t="textAreaTop" r="textAreaRight" b="textAreaBottom"/>
            <a:pathLst>
              <a:path w="3816424" h="1263290">
                <a:moveTo>
                  <a:pt x="0" y="0"/>
                </a:moveTo>
                <a:lnTo>
                  <a:pt x="3402671" y="0"/>
                </a:lnTo>
                <a:cubicBezTo>
                  <a:pt x="3631180" y="0"/>
                  <a:pt x="3816424" y="185244"/>
                  <a:pt x="3816424" y="413753"/>
                </a:cubicBezTo>
                <a:lnTo>
                  <a:pt x="3816424" y="1263290"/>
                </a:lnTo>
                <a:lnTo>
                  <a:pt x="0" y="1263290"/>
                </a:lnTo>
                <a:lnTo>
                  <a:pt x="0" y="0"/>
                </a:lnTo>
                <a:close/>
              </a:path>
            </a:pathLst>
          </a:custGeom>
          <a:solidFill>
            <a:srgbClr val="7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/>
          <p:cNvSpPr/>
          <p:nvPr/>
        </p:nvSpPr>
        <p:spPr>
          <a:xfrm>
            <a:off x="219240" y="476280"/>
            <a:ext cx="997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副标题 2"/>
          <p:cNvSpPr/>
          <p:nvPr/>
        </p:nvSpPr>
        <p:spPr>
          <a:xfrm>
            <a:off x="403200" y="371520"/>
            <a:ext cx="34084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二、新课讲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SzPct val="8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982800" y="1078920"/>
            <a:ext cx="606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作者是如何驳斥敌论</a:t>
            </a:r>
            <a:r>
              <a:rPr b="0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1</a:t>
            </a:r>
            <a:r>
              <a:rPr b="0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403200" y="1946160"/>
            <a:ext cx="8336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    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驳斥敌论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1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：《开罗宣言》 和 《波茨坦公告》是同盟国单方面发表的政治宣言，缺乏国际法效力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403200" y="3562560"/>
            <a:ext cx="8067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    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讲道理：“《开罗宣言》 和 《波茨坦公告》 是构建二战后国际秩序的法律基础”“《开罗宣言》和《波茨坦公告》既是当年同盟国结束对日战争的前提，也是战后国际社会特别是亚洲国家接受日本重返国际大家庭的前提” 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403200" y="5141880"/>
            <a:ext cx="8067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    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摆事实：日本主动乞降，天皇发布诏书、全世界都见证日本签署投降书、日方明确承诺接受公告条款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单圆角矩形 5"/>
          <p:cNvSpPr/>
          <p:nvPr/>
        </p:nvSpPr>
        <p:spPr>
          <a:xfrm>
            <a:off x="-23760" y="154080"/>
            <a:ext cx="3724200" cy="769680"/>
          </a:xfrm>
          <a:custGeom>
            <a:avLst/>
            <a:gdLst>
              <a:gd name="textAreaLeft" fmla="*/ 0 w 3724200"/>
              <a:gd name="textAreaRight" fmla="*/ 3724560 w 3724200"/>
              <a:gd name="textAreaTop" fmla="*/ 0 h 769680"/>
              <a:gd name="textAreaBottom" fmla="*/ 770040 h 769680"/>
            </a:gdLst>
            <a:ahLst/>
            <a:rect l="textAreaLeft" t="textAreaTop" r="textAreaRight" b="textAreaBottom"/>
            <a:pathLst>
              <a:path w="3816424" h="1263290">
                <a:moveTo>
                  <a:pt x="0" y="0"/>
                </a:moveTo>
                <a:lnTo>
                  <a:pt x="3402671" y="0"/>
                </a:lnTo>
                <a:cubicBezTo>
                  <a:pt x="3631180" y="0"/>
                  <a:pt x="3816424" y="185244"/>
                  <a:pt x="3816424" y="413753"/>
                </a:cubicBezTo>
                <a:lnTo>
                  <a:pt x="3816424" y="1263290"/>
                </a:lnTo>
                <a:lnTo>
                  <a:pt x="0" y="1263290"/>
                </a:lnTo>
                <a:lnTo>
                  <a:pt x="0" y="0"/>
                </a:lnTo>
                <a:close/>
              </a:path>
            </a:pathLst>
          </a:custGeom>
          <a:solidFill>
            <a:srgbClr val="7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/>
          <p:cNvSpPr/>
          <p:nvPr/>
        </p:nvSpPr>
        <p:spPr>
          <a:xfrm>
            <a:off x="219240" y="476280"/>
            <a:ext cx="997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副标题 2"/>
          <p:cNvSpPr/>
          <p:nvPr/>
        </p:nvSpPr>
        <p:spPr>
          <a:xfrm>
            <a:off x="403200" y="371520"/>
            <a:ext cx="34084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二、新课讲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SzPct val="8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1406520" y="1558440"/>
            <a:ext cx="606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敌论</a:t>
            </a:r>
            <a:r>
              <a:rPr b="0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1</a:t>
            </a:r>
            <a:r>
              <a:rPr b="0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的实质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852480" y="3043440"/>
            <a:ext cx="716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    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日本如今公然质疑《开罗宣言》和《波茨坦公告》，实际上是企图否定世界反法西斯战争胜利成果，挑战战后国际秩序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单圆角矩形 5"/>
          <p:cNvSpPr/>
          <p:nvPr/>
        </p:nvSpPr>
        <p:spPr>
          <a:xfrm>
            <a:off x="-23760" y="154080"/>
            <a:ext cx="3724200" cy="769680"/>
          </a:xfrm>
          <a:custGeom>
            <a:avLst/>
            <a:gdLst>
              <a:gd name="textAreaLeft" fmla="*/ 0 w 3724200"/>
              <a:gd name="textAreaRight" fmla="*/ 3724560 w 3724200"/>
              <a:gd name="textAreaTop" fmla="*/ 0 h 769680"/>
              <a:gd name="textAreaBottom" fmla="*/ 770040 h 769680"/>
            </a:gdLst>
            <a:ahLst/>
            <a:rect l="textAreaLeft" t="textAreaTop" r="textAreaRight" b="textAreaBottom"/>
            <a:pathLst>
              <a:path w="3816424" h="1263290">
                <a:moveTo>
                  <a:pt x="0" y="0"/>
                </a:moveTo>
                <a:lnTo>
                  <a:pt x="3402671" y="0"/>
                </a:lnTo>
                <a:cubicBezTo>
                  <a:pt x="3631180" y="0"/>
                  <a:pt x="3816424" y="185244"/>
                  <a:pt x="3816424" y="413753"/>
                </a:cubicBezTo>
                <a:lnTo>
                  <a:pt x="3816424" y="1263290"/>
                </a:lnTo>
                <a:lnTo>
                  <a:pt x="0" y="1263290"/>
                </a:lnTo>
                <a:lnTo>
                  <a:pt x="0" y="0"/>
                </a:lnTo>
                <a:close/>
              </a:path>
            </a:pathLst>
          </a:custGeom>
          <a:solidFill>
            <a:srgbClr val="7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/>
          <p:cNvSpPr/>
          <p:nvPr/>
        </p:nvSpPr>
        <p:spPr>
          <a:xfrm>
            <a:off x="219240" y="476280"/>
            <a:ext cx="997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副标题 2"/>
          <p:cNvSpPr/>
          <p:nvPr/>
        </p:nvSpPr>
        <p:spPr>
          <a:xfrm>
            <a:off x="403200" y="371520"/>
            <a:ext cx="34084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二、新课讲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SzPct val="8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1073160" y="1078920"/>
            <a:ext cx="606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作者是如何驳斥敌论</a:t>
            </a:r>
            <a:r>
              <a:rPr b="0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92120" y="1946160"/>
            <a:ext cx="8202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    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驳斥敌论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2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：外界对于日本右翼势力抬头、整个国家“向右转”的猜测太过夸张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492120" y="3471840"/>
            <a:ext cx="8069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     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摆事实：日本国内不时有人跳出来，否认南京大屠杀、慰安妇等战争暴行， 否定“村山谈话”，日本政府还积极谋求修改和平宪法、无核三原则等。日本政要频频参拜靖国神社，甚至日本前首相、自民党总裁安倍晋三也公然前往参拜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627120" y="5416560"/>
            <a:ext cx="8067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    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对比论证：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1970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年德国总理勃兰特访问波兰，曾在犹太人殉难纪念碑前下跪，向二战受害者谢罪。日本政界不仅从未有人做过类似赎罪表示，反而公然篡改和抹杀二战侵略历史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单圆角矩形 5"/>
          <p:cNvSpPr/>
          <p:nvPr/>
        </p:nvSpPr>
        <p:spPr>
          <a:xfrm>
            <a:off x="-23760" y="154080"/>
            <a:ext cx="3724200" cy="769680"/>
          </a:xfrm>
          <a:custGeom>
            <a:avLst/>
            <a:gdLst>
              <a:gd name="textAreaLeft" fmla="*/ 0 w 3724200"/>
              <a:gd name="textAreaRight" fmla="*/ 3724560 w 3724200"/>
              <a:gd name="textAreaTop" fmla="*/ 0 h 769680"/>
              <a:gd name="textAreaBottom" fmla="*/ 770040 h 769680"/>
            </a:gdLst>
            <a:ahLst/>
            <a:rect l="textAreaLeft" t="textAreaTop" r="textAreaRight" b="textAreaBottom"/>
            <a:pathLst>
              <a:path w="3816424" h="1263290">
                <a:moveTo>
                  <a:pt x="0" y="0"/>
                </a:moveTo>
                <a:lnTo>
                  <a:pt x="3402671" y="0"/>
                </a:lnTo>
                <a:cubicBezTo>
                  <a:pt x="3631180" y="0"/>
                  <a:pt x="3816424" y="185244"/>
                  <a:pt x="3816424" y="413753"/>
                </a:cubicBezTo>
                <a:lnTo>
                  <a:pt x="3816424" y="1263290"/>
                </a:lnTo>
                <a:lnTo>
                  <a:pt x="0" y="1263290"/>
                </a:lnTo>
                <a:lnTo>
                  <a:pt x="0" y="0"/>
                </a:lnTo>
                <a:close/>
              </a:path>
            </a:pathLst>
          </a:custGeom>
          <a:solidFill>
            <a:srgbClr val="7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/>
          <p:cNvSpPr/>
          <p:nvPr/>
        </p:nvSpPr>
        <p:spPr>
          <a:xfrm>
            <a:off x="219240" y="476280"/>
            <a:ext cx="997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副标题 2"/>
          <p:cNvSpPr/>
          <p:nvPr/>
        </p:nvSpPr>
        <p:spPr>
          <a:xfrm>
            <a:off x="403200" y="371520"/>
            <a:ext cx="34084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二、新课讲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SzPct val="8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1706400" y="1865520"/>
            <a:ext cx="60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敌论</a:t>
            </a:r>
            <a:r>
              <a:rPr b="0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的实质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1122480" y="3163320"/>
            <a:ext cx="686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    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日本战后一直不愿深刻反省侵略历史，不愿彻底清算军国主义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单圆角矩形 5"/>
          <p:cNvSpPr/>
          <p:nvPr/>
        </p:nvSpPr>
        <p:spPr>
          <a:xfrm>
            <a:off x="-23760" y="154080"/>
            <a:ext cx="3724200" cy="769680"/>
          </a:xfrm>
          <a:custGeom>
            <a:avLst/>
            <a:gdLst>
              <a:gd name="textAreaLeft" fmla="*/ 0 w 3724200"/>
              <a:gd name="textAreaRight" fmla="*/ 3724560 w 3724200"/>
              <a:gd name="textAreaTop" fmla="*/ 0 h 769680"/>
              <a:gd name="textAreaBottom" fmla="*/ 770040 h 769680"/>
            </a:gdLst>
            <a:ahLst/>
            <a:rect l="textAreaLeft" t="textAreaTop" r="textAreaRight" b="textAreaBottom"/>
            <a:pathLst>
              <a:path w="3816424" h="1263290">
                <a:moveTo>
                  <a:pt x="0" y="0"/>
                </a:moveTo>
                <a:lnTo>
                  <a:pt x="3402671" y="0"/>
                </a:lnTo>
                <a:cubicBezTo>
                  <a:pt x="3631180" y="0"/>
                  <a:pt x="3816424" y="185244"/>
                  <a:pt x="3816424" y="413753"/>
                </a:cubicBezTo>
                <a:lnTo>
                  <a:pt x="3816424" y="1263290"/>
                </a:lnTo>
                <a:lnTo>
                  <a:pt x="0" y="1263290"/>
                </a:lnTo>
                <a:lnTo>
                  <a:pt x="0" y="0"/>
                </a:lnTo>
                <a:close/>
              </a:path>
            </a:pathLst>
          </a:custGeom>
          <a:solidFill>
            <a:srgbClr val="7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"/>
          <p:cNvSpPr/>
          <p:nvPr/>
        </p:nvSpPr>
        <p:spPr>
          <a:xfrm>
            <a:off x="219240" y="476280"/>
            <a:ext cx="997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副标题 2"/>
          <p:cNvSpPr/>
          <p:nvPr/>
        </p:nvSpPr>
        <p:spPr>
          <a:xfrm>
            <a:off x="403200" y="371520"/>
            <a:ext cx="34084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二、新课讲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SzPct val="8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1838160" y="1899720"/>
            <a:ext cx="60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作者针对日本的行为提出了什么要求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1303200" y="3157560"/>
            <a:ext cx="686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    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日本一再宣称要走“正常国家”之路，但日本首先要具备正常国家的心态，彻底清除军国主义遗毒，以实际行动赢得各国信任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单圆角矩形 5"/>
          <p:cNvSpPr/>
          <p:nvPr/>
        </p:nvSpPr>
        <p:spPr>
          <a:xfrm>
            <a:off x="-23760" y="154080"/>
            <a:ext cx="3724200" cy="769680"/>
          </a:xfrm>
          <a:custGeom>
            <a:avLst/>
            <a:gdLst>
              <a:gd name="textAreaLeft" fmla="*/ 0 w 3724200"/>
              <a:gd name="textAreaRight" fmla="*/ 3724560 w 3724200"/>
              <a:gd name="textAreaTop" fmla="*/ 0 h 769680"/>
              <a:gd name="textAreaBottom" fmla="*/ 770040 h 769680"/>
            </a:gdLst>
            <a:ahLst/>
            <a:rect l="textAreaLeft" t="textAreaTop" r="textAreaRight" b="textAreaBottom"/>
            <a:pathLst>
              <a:path w="3816424" h="1263290">
                <a:moveTo>
                  <a:pt x="0" y="0"/>
                </a:moveTo>
                <a:lnTo>
                  <a:pt x="3402671" y="0"/>
                </a:lnTo>
                <a:cubicBezTo>
                  <a:pt x="3631180" y="0"/>
                  <a:pt x="3816424" y="185244"/>
                  <a:pt x="3816424" y="413753"/>
                </a:cubicBezTo>
                <a:lnTo>
                  <a:pt x="3816424" y="1263290"/>
                </a:lnTo>
                <a:lnTo>
                  <a:pt x="0" y="1263290"/>
                </a:lnTo>
                <a:lnTo>
                  <a:pt x="0" y="0"/>
                </a:lnTo>
                <a:close/>
              </a:path>
            </a:pathLst>
          </a:custGeom>
          <a:solidFill>
            <a:srgbClr val="7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6"/>
          <p:cNvSpPr/>
          <p:nvPr/>
        </p:nvSpPr>
        <p:spPr>
          <a:xfrm>
            <a:off x="219240" y="476280"/>
            <a:ext cx="997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副标题 2"/>
          <p:cNvSpPr/>
          <p:nvPr/>
        </p:nvSpPr>
        <p:spPr>
          <a:xfrm>
            <a:off x="403200" y="371520"/>
            <a:ext cx="34084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三、归纳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SzPct val="8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8"/>
          <p:cNvSpPr/>
          <p:nvPr/>
        </p:nvSpPr>
        <p:spPr>
          <a:xfrm>
            <a:off x="968400" y="2713320"/>
            <a:ext cx="7210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    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这是一篇驳论文，作者针对敌方的谬论，明确了自己的观点。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批驳过程中，综合运用了引证法、例证法和对比论证法，论据确凿，论证严密；同时，论证中大量运用感叹句和反问句，感情充沛，富有气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单圆角矩形 5"/>
          <p:cNvSpPr/>
          <p:nvPr/>
        </p:nvSpPr>
        <p:spPr>
          <a:xfrm>
            <a:off x="-23760" y="154080"/>
            <a:ext cx="3724200" cy="769680"/>
          </a:xfrm>
          <a:custGeom>
            <a:avLst/>
            <a:gdLst>
              <a:gd name="textAreaLeft" fmla="*/ 0 w 3724200"/>
              <a:gd name="textAreaRight" fmla="*/ 3724560 w 3724200"/>
              <a:gd name="textAreaTop" fmla="*/ 0 h 769680"/>
              <a:gd name="textAreaBottom" fmla="*/ 770040 h 769680"/>
            </a:gdLst>
            <a:ahLst/>
            <a:rect l="textAreaLeft" t="textAreaTop" r="textAreaRight" b="textAreaBottom"/>
            <a:pathLst>
              <a:path w="3816424" h="1263290">
                <a:moveTo>
                  <a:pt x="0" y="0"/>
                </a:moveTo>
                <a:lnTo>
                  <a:pt x="3402671" y="0"/>
                </a:lnTo>
                <a:cubicBezTo>
                  <a:pt x="3631180" y="0"/>
                  <a:pt x="3816424" y="185244"/>
                  <a:pt x="3816424" y="413753"/>
                </a:cubicBezTo>
                <a:lnTo>
                  <a:pt x="3816424" y="1263290"/>
                </a:lnTo>
                <a:lnTo>
                  <a:pt x="0" y="1263290"/>
                </a:lnTo>
                <a:lnTo>
                  <a:pt x="0" y="0"/>
                </a:lnTo>
                <a:close/>
              </a:path>
            </a:pathLst>
          </a:custGeom>
          <a:solidFill>
            <a:srgbClr val="7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"/>
          <p:cNvSpPr/>
          <p:nvPr/>
        </p:nvSpPr>
        <p:spPr>
          <a:xfrm>
            <a:off x="219240" y="476280"/>
            <a:ext cx="997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副标题 2"/>
          <p:cNvSpPr/>
          <p:nvPr/>
        </p:nvSpPr>
        <p:spPr>
          <a:xfrm>
            <a:off x="403200" y="371520"/>
            <a:ext cx="34084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四、强化训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1"/>
          <p:cNvSpPr/>
          <p:nvPr/>
        </p:nvSpPr>
        <p:spPr>
          <a:xfrm>
            <a:off x="1432080" y="1592280"/>
            <a:ext cx="7440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70c0"/>
                </a:solidFill>
                <a:latin typeface="微软雅黑"/>
                <a:ea typeface="微软雅黑"/>
              </a:rPr>
              <a:t>作为中国人，你觉得应该如何解决钓鱼岛问题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2"/>
          <p:cNvSpPr/>
          <p:nvPr/>
        </p:nvSpPr>
        <p:spPr>
          <a:xfrm>
            <a:off x="914400" y="2505240"/>
            <a:ext cx="7261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       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我们应该用外交和平解决钓鱼岛问题，但是也不畏惧、不排除用武力的方法解决钓鱼岛问题。加快经济建设，提高我国的综合国力，加快人民军队的建设，建立现代化海空军，为将来武力解决钓鱼岛筹备更多的筹码。中华民族也要团结起来，捍卫国家主权和领土完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单圆角矩形 5"/>
          <p:cNvSpPr/>
          <p:nvPr/>
        </p:nvSpPr>
        <p:spPr>
          <a:xfrm>
            <a:off x="-23760" y="154080"/>
            <a:ext cx="3724200" cy="769680"/>
          </a:xfrm>
          <a:custGeom>
            <a:avLst/>
            <a:gdLst>
              <a:gd name="textAreaLeft" fmla="*/ 0 w 3724200"/>
              <a:gd name="textAreaRight" fmla="*/ 3724560 w 3724200"/>
              <a:gd name="textAreaTop" fmla="*/ 0 h 769680"/>
              <a:gd name="textAreaBottom" fmla="*/ 770040 h 769680"/>
            </a:gdLst>
            <a:ahLst/>
            <a:rect l="textAreaLeft" t="textAreaTop" r="textAreaRight" b="textAreaBottom"/>
            <a:pathLst>
              <a:path w="3816424" h="1263290">
                <a:moveTo>
                  <a:pt x="0" y="0"/>
                </a:moveTo>
                <a:lnTo>
                  <a:pt x="3402671" y="0"/>
                </a:lnTo>
                <a:cubicBezTo>
                  <a:pt x="3631180" y="0"/>
                  <a:pt x="3816424" y="185244"/>
                  <a:pt x="3816424" y="413753"/>
                </a:cubicBezTo>
                <a:lnTo>
                  <a:pt x="3816424" y="1263290"/>
                </a:lnTo>
                <a:lnTo>
                  <a:pt x="0" y="1263290"/>
                </a:lnTo>
                <a:lnTo>
                  <a:pt x="0" y="0"/>
                </a:lnTo>
                <a:close/>
              </a:path>
            </a:pathLst>
          </a:custGeom>
          <a:solidFill>
            <a:srgbClr val="7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6"/>
          <p:cNvSpPr/>
          <p:nvPr/>
        </p:nvSpPr>
        <p:spPr>
          <a:xfrm>
            <a:off x="219240" y="476280"/>
            <a:ext cx="997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副标题 2"/>
          <p:cNvSpPr/>
          <p:nvPr/>
        </p:nvSpPr>
        <p:spPr>
          <a:xfrm>
            <a:off x="403200" y="371520"/>
            <a:ext cx="34084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五、布置作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SzPct val="8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3"/>
          <p:cNvSpPr/>
          <p:nvPr/>
        </p:nvSpPr>
        <p:spPr>
          <a:xfrm>
            <a:off x="1314360" y="2281320"/>
            <a:ext cx="645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搜集有关钓鱼岛的历史资料及战后日本对待二战罪行的态度和做法，写一篇简短的评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2" descr=""/>
          <p:cNvPicPr/>
          <p:nvPr/>
        </p:nvPicPr>
        <p:blipFill>
          <a:blip r:embed="rId1"/>
          <a:srcRect l="0" t="23543" r="0" b="7290"/>
          <a:stretch/>
        </p:blipFill>
        <p:spPr>
          <a:xfrm>
            <a:off x="6203880" y="4738680"/>
            <a:ext cx="283536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单圆角矩形 5"/>
          <p:cNvSpPr/>
          <p:nvPr/>
        </p:nvSpPr>
        <p:spPr>
          <a:xfrm>
            <a:off x="-23760" y="154080"/>
            <a:ext cx="3724200" cy="769680"/>
          </a:xfrm>
          <a:custGeom>
            <a:avLst/>
            <a:gdLst>
              <a:gd name="textAreaLeft" fmla="*/ 0 w 3724200"/>
              <a:gd name="textAreaRight" fmla="*/ 3724560 w 3724200"/>
              <a:gd name="textAreaTop" fmla="*/ 0 h 769680"/>
              <a:gd name="textAreaBottom" fmla="*/ 770040 h 769680"/>
            </a:gdLst>
            <a:ahLst/>
            <a:rect l="textAreaLeft" t="textAreaTop" r="textAreaRight" b="textAreaBottom"/>
            <a:pathLst>
              <a:path w="3816424" h="1263290">
                <a:moveTo>
                  <a:pt x="0" y="0"/>
                </a:moveTo>
                <a:lnTo>
                  <a:pt x="3402671" y="0"/>
                </a:lnTo>
                <a:cubicBezTo>
                  <a:pt x="3631180" y="0"/>
                  <a:pt x="3816424" y="185244"/>
                  <a:pt x="3816424" y="413753"/>
                </a:cubicBezTo>
                <a:lnTo>
                  <a:pt x="3816424" y="1263290"/>
                </a:lnTo>
                <a:lnTo>
                  <a:pt x="0" y="1263290"/>
                </a:lnTo>
                <a:lnTo>
                  <a:pt x="0" y="0"/>
                </a:lnTo>
                <a:close/>
              </a:path>
            </a:pathLst>
          </a:custGeom>
          <a:solidFill>
            <a:srgbClr val="7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219240" y="476280"/>
            <a:ext cx="997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03200" y="371520"/>
            <a:ext cx="3408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一、新课引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890640" y="2538360"/>
            <a:ext cx="7539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74747"/>
                </a:solidFill>
                <a:latin typeface="微软雅黑"/>
                <a:ea typeface="微软雅黑"/>
              </a:rPr>
              <a:t>       </a:t>
            </a:r>
            <a:r>
              <a:rPr b="0" lang="zh-CN" sz="2000" spc="-1" strike="noStrike">
                <a:solidFill>
                  <a:srgbClr val="474747"/>
                </a:solidFill>
                <a:latin typeface="微软雅黑"/>
                <a:ea typeface="微软雅黑"/>
              </a:rPr>
              <a:t>2013</a:t>
            </a:r>
            <a:r>
              <a:rPr b="0" lang="zh-CN" sz="2000" spc="-1" strike="noStrike">
                <a:solidFill>
                  <a:srgbClr val="474747"/>
                </a:solidFill>
                <a:latin typeface="微软雅黑"/>
                <a:ea typeface="微软雅黑"/>
              </a:rPr>
              <a:t>年</a:t>
            </a:r>
            <a:r>
              <a:rPr b="0" lang="zh-CN" sz="2000" spc="-1" strike="noStrike">
                <a:solidFill>
                  <a:srgbClr val="474747"/>
                </a:solidFill>
                <a:latin typeface="微软雅黑"/>
                <a:ea typeface="微软雅黑"/>
              </a:rPr>
              <a:t>7</a:t>
            </a:r>
            <a:r>
              <a:rPr b="0" lang="zh-CN" sz="2000" spc="-1" strike="noStrike">
                <a:solidFill>
                  <a:srgbClr val="474747"/>
                </a:solidFill>
                <a:latin typeface="微软雅黑"/>
                <a:ea typeface="微软雅黑"/>
              </a:rPr>
              <a:t>月</a:t>
            </a:r>
            <a:r>
              <a:rPr b="0" lang="zh-CN" sz="2000" spc="-1" strike="noStrike">
                <a:solidFill>
                  <a:srgbClr val="474747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474747"/>
                </a:solidFill>
                <a:latin typeface="微软雅黑"/>
                <a:ea typeface="微软雅黑"/>
              </a:rPr>
              <a:t>日，在外交部例行记者会上，外交部发言人华春莹说：“日本军国主义发动的侵略战争给中韩等亚洲国家带来深重灾难，铁证如山。历史不容翻案。正确认识和对待历史是日本同亚洲邻国发展关系的重要政治基础。诚信是立国之本，一个国家特别是政治领导人只有诚实地面对自己和历史，正视现实，尊重事实，才有可能给这个国家创造未来，带来希望。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rcRect l="0" t="0" r="0" b="9002"/>
          <a:stretch/>
        </p:blipFill>
        <p:spPr>
          <a:xfrm>
            <a:off x="2279520" y="4646520"/>
            <a:ext cx="476280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单圆角矩形 5"/>
          <p:cNvSpPr/>
          <p:nvPr/>
        </p:nvSpPr>
        <p:spPr>
          <a:xfrm>
            <a:off x="-23760" y="154080"/>
            <a:ext cx="3724200" cy="769680"/>
          </a:xfrm>
          <a:custGeom>
            <a:avLst/>
            <a:gdLst>
              <a:gd name="textAreaLeft" fmla="*/ 0 w 3724200"/>
              <a:gd name="textAreaRight" fmla="*/ 3724560 w 3724200"/>
              <a:gd name="textAreaTop" fmla="*/ 0 h 769680"/>
              <a:gd name="textAreaBottom" fmla="*/ 770040 h 769680"/>
            </a:gdLst>
            <a:ahLst/>
            <a:rect l="textAreaLeft" t="textAreaTop" r="textAreaRight" b="textAreaBottom"/>
            <a:pathLst>
              <a:path w="3816424" h="1263290">
                <a:moveTo>
                  <a:pt x="0" y="0"/>
                </a:moveTo>
                <a:lnTo>
                  <a:pt x="3402671" y="0"/>
                </a:lnTo>
                <a:cubicBezTo>
                  <a:pt x="3631180" y="0"/>
                  <a:pt x="3816424" y="185244"/>
                  <a:pt x="3816424" y="413753"/>
                </a:cubicBezTo>
                <a:lnTo>
                  <a:pt x="3816424" y="1263290"/>
                </a:lnTo>
                <a:lnTo>
                  <a:pt x="0" y="1263290"/>
                </a:lnTo>
                <a:lnTo>
                  <a:pt x="0" y="0"/>
                </a:lnTo>
                <a:close/>
              </a:path>
            </a:pathLst>
          </a:custGeom>
          <a:solidFill>
            <a:srgbClr val="7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219240" y="476280"/>
            <a:ext cx="997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副标题 2"/>
          <p:cNvSpPr/>
          <p:nvPr/>
        </p:nvSpPr>
        <p:spPr>
          <a:xfrm>
            <a:off x="403200" y="371520"/>
            <a:ext cx="34084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二、新课讲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SzPct val="8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1397160" y="1305000"/>
            <a:ext cx="15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作者简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855720" y="3021840"/>
            <a:ext cx="77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74747"/>
                </a:solidFill>
                <a:latin typeface="微软雅黑"/>
                <a:ea typeface="微软雅黑"/>
              </a:rPr>
              <a:t>     “</a:t>
            </a:r>
            <a:r>
              <a:rPr b="0" lang="zh-CN" sz="2400" spc="-1" strike="noStrike">
                <a:solidFill>
                  <a:srgbClr val="474747"/>
                </a:solidFill>
                <a:latin typeface="微软雅黑"/>
                <a:ea typeface="微软雅黑"/>
              </a:rPr>
              <a:t>钟声”是“中国之声”的简称，暗中蕴含有“警世钟声”的寓意。它是人民日报国际评论，以“钟声”为笔名的国际评论自</a:t>
            </a:r>
            <a:r>
              <a:rPr b="0" lang="zh-CN" sz="2400" spc="-1" strike="noStrike">
                <a:solidFill>
                  <a:srgbClr val="474747"/>
                </a:solidFill>
                <a:latin typeface="微软雅黑"/>
                <a:ea typeface="微软雅黑"/>
              </a:rPr>
              <a:t>2008</a:t>
            </a:r>
            <a:r>
              <a:rPr b="0" lang="zh-CN" sz="2400" spc="-1" strike="noStrike">
                <a:solidFill>
                  <a:srgbClr val="474747"/>
                </a:solidFill>
                <a:latin typeface="微软雅黑"/>
                <a:ea typeface="微软雅黑"/>
              </a:rPr>
              <a:t>年</a:t>
            </a:r>
            <a:r>
              <a:rPr b="0" lang="zh-CN" sz="2400" spc="-1" strike="noStrike">
                <a:solidFill>
                  <a:srgbClr val="474747"/>
                </a:solidFill>
                <a:latin typeface="微软雅黑"/>
                <a:ea typeface="微软雅黑"/>
              </a:rPr>
              <a:t>11</a:t>
            </a:r>
            <a:r>
              <a:rPr b="0" lang="zh-CN" sz="2400" spc="-1" strike="noStrike">
                <a:solidFill>
                  <a:srgbClr val="474747"/>
                </a:solidFill>
                <a:latin typeface="微软雅黑"/>
                <a:ea typeface="微软雅黑"/>
              </a:rPr>
              <a:t>月推出后产生了较大影响。这是人民日报国际部继“国纪平”之后创立的又一新的署名评论，以正面阐述中国对一些国际问题和涉华问题的立场与主张为重点，在风格上以快速反应、尖锐鲜明见长，与“国纪平”的重大题材、深入评析形成互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单圆角矩形 5"/>
          <p:cNvSpPr/>
          <p:nvPr/>
        </p:nvSpPr>
        <p:spPr>
          <a:xfrm>
            <a:off x="-23760" y="154080"/>
            <a:ext cx="3724200" cy="769680"/>
          </a:xfrm>
          <a:custGeom>
            <a:avLst/>
            <a:gdLst>
              <a:gd name="textAreaLeft" fmla="*/ 0 w 3724200"/>
              <a:gd name="textAreaRight" fmla="*/ 3724560 w 3724200"/>
              <a:gd name="textAreaTop" fmla="*/ 0 h 769680"/>
              <a:gd name="textAreaBottom" fmla="*/ 770040 h 769680"/>
            </a:gdLst>
            <a:ahLst/>
            <a:rect l="textAreaLeft" t="textAreaTop" r="textAreaRight" b="textAreaBottom"/>
            <a:pathLst>
              <a:path w="3816424" h="1263290">
                <a:moveTo>
                  <a:pt x="0" y="0"/>
                </a:moveTo>
                <a:lnTo>
                  <a:pt x="3402671" y="0"/>
                </a:lnTo>
                <a:cubicBezTo>
                  <a:pt x="3631180" y="0"/>
                  <a:pt x="3816424" y="185244"/>
                  <a:pt x="3816424" y="413753"/>
                </a:cubicBezTo>
                <a:lnTo>
                  <a:pt x="3816424" y="1263290"/>
                </a:lnTo>
                <a:lnTo>
                  <a:pt x="0" y="1263290"/>
                </a:lnTo>
                <a:lnTo>
                  <a:pt x="0" y="0"/>
                </a:lnTo>
                <a:close/>
              </a:path>
            </a:pathLst>
          </a:custGeom>
          <a:solidFill>
            <a:srgbClr val="7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219240" y="476280"/>
            <a:ext cx="997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副标题 2"/>
          <p:cNvSpPr/>
          <p:nvPr/>
        </p:nvSpPr>
        <p:spPr>
          <a:xfrm>
            <a:off x="403200" y="371520"/>
            <a:ext cx="34084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二、新课讲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SzPct val="8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677880" y="1032120"/>
            <a:ext cx="21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议论文常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665280" y="1690560"/>
            <a:ext cx="8200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74747"/>
                </a:solidFill>
                <a:latin typeface="微软雅黑"/>
                <a:ea typeface="微软雅黑"/>
              </a:rPr>
              <a:t>议论文三要素：论点、论据和论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693720" y="2218320"/>
            <a:ext cx="8201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74747"/>
                </a:solidFill>
                <a:latin typeface="微软雅黑"/>
                <a:ea typeface="微软雅黑"/>
              </a:rPr>
              <a:t>论据的两种类型：事实论据和理论论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709560" y="2801880"/>
            <a:ext cx="8202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74747"/>
                </a:solidFill>
                <a:latin typeface="微软雅黑"/>
                <a:ea typeface="微软雅黑"/>
              </a:rPr>
              <a:t>常见的论证方法有：举例论证、道理论证、对比论证、比喻论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709560" y="3328920"/>
            <a:ext cx="8310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74747"/>
                </a:solidFill>
                <a:latin typeface="微软雅黑"/>
                <a:ea typeface="微软雅黑"/>
              </a:rPr>
              <a:t>议论文分为立论与驳论两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720720" y="3882960"/>
            <a:ext cx="8310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74747"/>
                </a:solidFill>
                <a:latin typeface="微软雅黑"/>
                <a:ea typeface="微软雅黑"/>
              </a:rPr>
              <a:t>立论是运用有力的证据从正面直接证明自己论点正确性的论证形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695160" y="4693320"/>
            <a:ext cx="7674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74747"/>
                </a:solidFill>
                <a:latin typeface="微软雅黑"/>
                <a:ea typeface="微软雅黑"/>
              </a:rPr>
              <a:t>驳论是通过驳斥敌论点，证明它是错误的，从而证明自己观点正确性的论证方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750960" y="5522760"/>
            <a:ext cx="6443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74747"/>
                </a:solidFill>
                <a:latin typeface="微软雅黑"/>
                <a:ea typeface="微软雅黑"/>
              </a:rPr>
              <a:t>驳论的一般方法包括驳论点、驳论据和驳论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单圆角矩形 5"/>
          <p:cNvSpPr/>
          <p:nvPr/>
        </p:nvSpPr>
        <p:spPr>
          <a:xfrm>
            <a:off x="-23760" y="154080"/>
            <a:ext cx="3724200" cy="769680"/>
          </a:xfrm>
          <a:custGeom>
            <a:avLst/>
            <a:gdLst>
              <a:gd name="textAreaLeft" fmla="*/ 0 w 3724200"/>
              <a:gd name="textAreaRight" fmla="*/ 3724560 w 3724200"/>
              <a:gd name="textAreaTop" fmla="*/ 0 h 769680"/>
              <a:gd name="textAreaBottom" fmla="*/ 770040 h 769680"/>
            </a:gdLst>
            <a:ahLst/>
            <a:rect l="textAreaLeft" t="textAreaTop" r="textAreaRight" b="textAreaBottom"/>
            <a:pathLst>
              <a:path w="3816424" h="1263290">
                <a:moveTo>
                  <a:pt x="0" y="0"/>
                </a:moveTo>
                <a:lnTo>
                  <a:pt x="3402671" y="0"/>
                </a:lnTo>
                <a:cubicBezTo>
                  <a:pt x="3631180" y="0"/>
                  <a:pt x="3816424" y="185244"/>
                  <a:pt x="3816424" y="413753"/>
                </a:cubicBezTo>
                <a:lnTo>
                  <a:pt x="3816424" y="1263290"/>
                </a:lnTo>
                <a:lnTo>
                  <a:pt x="0" y="1263290"/>
                </a:lnTo>
                <a:lnTo>
                  <a:pt x="0" y="0"/>
                </a:lnTo>
                <a:close/>
              </a:path>
            </a:pathLst>
          </a:custGeom>
          <a:solidFill>
            <a:srgbClr val="7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219240" y="476280"/>
            <a:ext cx="997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副标题 2"/>
          <p:cNvSpPr/>
          <p:nvPr/>
        </p:nvSpPr>
        <p:spPr>
          <a:xfrm>
            <a:off x="403200" y="371520"/>
            <a:ext cx="34084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二、新课讲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SzPct val="8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777960" y="142992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字词注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1127160" y="2606760"/>
            <a:ext cx="714528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76767"/>
                </a:solidFill>
                <a:latin typeface="微软雅黑"/>
                <a:ea typeface="微软雅黑"/>
              </a:rPr>
              <a:t>磊（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幼圆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幼圆"/>
              </a:rPr>
              <a:t>lěi </a:t>
            </a:r>
            <a:r>
              <a:rPr b="0" lang="zh-CN" sz="2400" spc="-1" strike="noStrike">
                <a:solidFill>
                  <a:srgbClr val="676767"/>
                </a:solidFill>
                <a:latin typeface="微软雅黑"/>
                <a:ea typeface="微软雅黑"/>
              </a:rPr>
              <a:t>）落     赎（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幼圆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幼圆"/>
              </a:rPr>
              <a:t>shú </a:t>
            </a:r>
            <a:r>
              <a:rPr b="0" lang="zh-CN" sz="2400" spc="-1" strike="noStrike">
                <a:solidFill>
                  <a:srgbClr val="676767"/>
                </a:solidFill>
                <a:latin typeface="微软雅黑"/>
                <a:ea typeface="微软雅黑"/>
              </a:rPr>
              <a:t>）罪     篡（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幼圆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幼圆"/>
              </a:rPr>
              <a:t>cuàn </a:t>
            </a:r>
            <a:r>
              <a:rPr b="0" lang="zh-CN" sz="2400" spc="-1" strike="noStrike">
                <a:solidFill>
                  <a:srgbClr val="676767"/>
                </a:solidFill>
                <a:latin typeface="微软雅黑"/>
                <a:ea typeface="微软雅黑"/>
              </a:rPr>
              <a:t>）改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76767"/>
                </a:solidFill>
                <a:latin typeface="微软雅黑"/>
                <a:ea typeface="微软雅黑"/>
              </a:rPr>
              <a:t>覆辙（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幼圆"/>
              </a:rPr>
              <a:t>zhé</a:t>
            </a:r>
            <a:r>
              <a:rPr b="0" lang="zh-CN" sz="2400" spc="-1" strike="noStrike">
                <a:solidFill>
                  <a:srgbClr val="676767"/>
                </a:solidFill>
                <a:latin typeface="微软雅黑"/>
                <a:ea typeface="微软雅黑"/>
              </a:rPr>
              <a:t>）  重信守诺（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幼圆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幼圆"/>
              </a:rPr>
              <a:t>nuò </a:t>
            </a:r>
            <a:r>
              <a:rPr b="0" lang="zh-CN" sz="2400" spc="-1" strike="noStrike">
                <a:solidFill>
                  <a:srgbClr val="676767"/>
                </a:solidFill>
                <a:latin typeface="微软雅黑"/>
                <a:ea typeface="微软雅黑"/>
              </a:rPr>
              <a:t>） 拭（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幼圆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幼圆"/>
              </a:rPr>
              <a:t>shì </a:t>
            </a:r>
            <a:r>
              <a:rPr b="0" lang="zh-CN" sz="2400" spc="-1" strike="noStrike">
                <a:solidFill>
                  <a:srgbClr val="676767"/>
                </a:solidFill>
                <a:latin typeface="微软雅黑"/>
                <a:ea typeface="微软雅黑"/>
              </a:rPr>
              <a:t>）目以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单圆角矩形 5"/>
          <p:cNvSpPr/>
          <p:nvPr/>
        </p:nvSpPr>
        <p:spPr>
          <a:xfrm>
            <a:off x="-23760" y="154080"/>
            <a:ext cx="3724200" cy="769680"/>
          </a:xfrm>
          <a:custGeom>
            <a:avLst/>
            <a:gdLst>
              <a:gd name="textAreaLeft" fmla="*/ 0 w 3724200"/>
              <a:gd name="textAreaRight" fmla="*/ 3724560 w 3724200"/>
              <a:gd name="textAreaTop" fmla="*/ 0 h 769680"/>
              <a:gd name="textAreaBottom" fmla="*/ 770040 h 769680"/>
            </a:gdLst>
            <a:ahLst/>
            <a:rect l="textAreaLeft" t="textAreaTop" r="textAreaRight" b="textAreaBottom"/>
            <a:pathLst>
              <a:path w="3816424" h="1263290">
                <a:moveTo>
                  <a:pt x="0" y="0"/>
                </a:moveTo>
                <a:lnTo>
                  <a:pt x="3402671" y="0"/>
                </a:lnTo>
                <a:cubicBezTo>
                  <a:pt x="3631180" y="0"/>
                  <a:pt x="3816424" y="185244"/>
                  <a:pt x="3816424" y="413753"/>
                </a:cubicBezTo>
                <a:lnTo>
                  <a:pt x="3816424" y="1263290"/>
                </a:lnTo>
                <a:lnTo>
                  <a:pt x="0" y="1263290"/>
                </a:lnTo>
                <a:lnTo>
                  <a:pt x="0" y="0"/>
                </a:lnTo>
                <a:close/>
              </a:path>
            </a:pathLst>
          </a:custGeom>
          <a:solidFill>
            <a:srgbClr val="7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219240" y="476280"/>
            <a:ext cx="997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副标题 2"/>
          <p:cNvSpPr/>
          <p:nvPr/>
        </p:nvSpPr>
        <p:spPr>
          <a:xfrm>
            <a:off x="403200" y="371520"/>
            <a:ext cx="34084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二、新课讲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SzPct val="8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777960" y="126648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解释词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18960" y="2027160"/>
            <a:ext cx="8469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磊落：光明正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赎罪：用某种实际表现抵销罪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篡改：用作伪的手段改动原文或歪曲原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覆辙：翻过车的道路，比喻过去失败的做法或前人失败的教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信守诺：注重自己说的话，说到做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铁证如山：形容证据确凿，像山一样不能动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拭目以待：擦亮眼睛等着瞧。形容期望很迫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单圆角矩形 5"/>
          <p:cNvSpPr/>
          <p:nvPr/>
        </p:nvSpPr>
        <p:spPr>
          <a:xfrm>
            <a:off x="-23760" y="154080"/>
            <a:ext cx="3724200" cy="769680"/>
          </a:xfrm>
          <a:custGeom>
            <a:avLst/>
            <a:gdLst>
              <a:gd name="textAreaLeft" fmla="*/ 0 w 3724200"/>
              <a:gd name="textAreaRight" fmla="*/ 3724560 w 3724200"/>
              <a:gd name="textAreaTop" fmla="*/ 0 h 769680"/>
              <a:gd name="textAreaBottom" fmla="*/ 770040 h 769680"/>
            </a:gdLst>
            <a:ahLst/>
            <a:rect l="textAreaLeft" t="textAreaTop" r="textAreaRight" b="textAreaBottom"/>
            <a:pathLst>
              <a:path w="3816424" h="1263290">
                <a:moveTo>
                  <a:pt x="0" y="0"/>
                </a:moveTo>
                <a:lnTo>
                  <a:pt x="3402671" y="0"/>
                </a:lnTo>
                <a:cubicBezTo>
                  <a:pt x="3631180" y="0"/>
                  <a:pt x="3816424" y="185244"/>
                  <a:pt x="3816424" y="413753"/>
                </a:cubicBezTo>
                <a:lnTo>
                  <a:pt x="3816424" y="1263290"/>
                </a:lnTo>
                <a:lnTo>
                  <a:pt x="0" y="1263290"/>
                </a:lnTo>
                <a:lnTo>
                  <a:pt x="0" y="0"/>
                </a:lnTo>
                <a:close/>
              </a:path>
            </a:pathLst>
          </a:custGeom>
          <a:solidFill>
            <a:srgbClr val="7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219240" y="476280"/>
            <a:ext cx="997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副标题 2"/>
          <p:cNvSpPr/>
          <p:nvPr/>
        </p:nvSpPr>
        <p:spPr>
          <a:xfrm>
            <a:off x="403200" y="371520"/>
            <a:ext cx="34084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二、新课讲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SzPct val="8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590400" y="1093320"/>
            <a:ext cx="79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写作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517680" y="2932200"/>
            <a:ext cx="8132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   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钓鱼岛自古以来就是中国固有的领土，这是无可争议的。中国最早对钓鱼岛管辖，中国比日本早几百年发现钓鱼岛，中国对钓鱼岛的文献记载可以追溯到明朝。明代的《使琉球录》和清代的《使琉球杂录》都明确记录了钓鱼岛属于中国台湾的附属岛屿，明清时期的志书和当时的海防绘图也表明了钓鱼岛是中国的领土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rcRect l="0" t="29229" r="0" b="0"/>
          <a:stretch/>
        </p:blipFill>
        <p:spPr>
          <a:xfrm>
            <a:off x="2262240" y="4873680"/>
            <a:ext cx="511344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单圆角矩形 5"/>
          <p:cNvSpPr/>
          <p:nvPr/>
        </p:nvSpPr>
        <p:spPr>
          <a:xfrm>
            <a:off x="-23760" y="154080"/>
            <a:ext cx="3724200" cy="769680"/>
          </a:xfrm>
          <a:custGeom>
            <a:avLst/>
            <a:gdLst>
              <a:gd name="textAreaLeft" fmla="*/ 0 w 3724200"/>
              <a:gd name="textAreaRight" fmla="*/ 3724560 w 3724200"/>
              <a:gd name="textAreaTop" fmla="*/ 0 h 769680"/>
              <a:gd name="textAreaBottom" fmla="*/ 770040 h 769680"/>
            </a:gdLst>
            <a:ahLst/>
            <a:rect l="textAreaLeft" t="textAreaTop" r="textAreaRight" b="textAreaBottom"/>
            <a:pathLst>
              <a:path w="3816424" h="1263290">
                <a:moveTo>
                  <a:pt x="0" y="0"/>
                </a:moveTo>
                <a:lnTo>
                  <a:pt x="3402671" y="0"/>
                </a:lnTo>
                <a:cubicBezTo>
                  <a:pt x="3631180" y="0"/>
                  <a:pt x="3816424" y="185244"/>
                  <a:pt x="3816424" y="413753"/>
                </a:cubicBezTo>
                <a:lnTo>
                  <a:pt x="3816424" y="1263290"/>
                </a:lnTo>
                <a:lnTo>
                  <a:pt x="0" y="1263290"/>
                </a:lnTo>
                <a:lnTo>
                  <a:pt x="0" y="0"/>
                </a:lnTo>
                <a:close/>
              </a:path>
            </a:pathLst>
          </a:custGeom>
          <a:solidFill>
            <a:srgbClr val="7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219240" y="476280"/>
            <a:ext cx="997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副标题 2"/>
          <p:cNvSpPr/>
          <p:nvPr/>
        </p:nvSpPr>
        <p:spPr>
          <a:xfrm>
            <a:off x="403200" y="371520"/>
            <a:ext cx="34084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二、新课讲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SzPct val="8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1682640" y="2073240"/>
            <a:ext cx="42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本文的中心论点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1208160" y="3325320"/>
            <a:ext cx="697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   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一个国家要在国际社会立足，赢得他国尊重信任，必须重信守诺，行事磊落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单圆角矩形 5"/>
          <p:cNvSpPr/>
          <p:nvPr/>
        </p:nvSpPr>
        <p:spPr>
          <a:xfrm>
            <a:off x="-23760" y="154080"/>
            <a:ext cx="3724200" cy="769680"/>
          </a:xfrm>
          <a:custGeom>
            <a:avLst/>
            <a:gdLst>
              <a:gd name="textAreaLeft" fmla="*/ 0 w 3724200"/>
              <a:gd name="textAreaRight" fmla="*/ 3724560 w 3724200"/>
              <a:gd name="textAreaTop" fmla="*/ 0 h 769680"/>
              <a:gd name="textAreaBottom" fmla="*/ 770040 h 769680"/>
            </a:gdLst>
            <a:ahLst/>
            <a:rect l="textAreaLeft" t="textAreaTop" r="textAreaRight" b="textAreaBottom"/>
            <a:pathLst>
              <a:path w="3816424" h="1263290">
                <a:moveTo>
                  <a:pt x="0" y="0"/>
                </a:moveTo>
                <a:lnTo>
                  <a:pt x="3402671" y="0"/>
                </a:lnTo>
                <a:cubicBezTo>
                  <a:pt x="3631180" y="0"/>
                  <a:pt x="3816424" y="185244"/>
                  <a:pt x="3816424" y="413753"/>
                </a:cubicBezTo>
                <a:lnTo>
                  <a:pt x="3816424" y="1263290"/>
                </a:lnTo>
                <a:lnTo>
                  <a:pt x="0" y="1263290"/>
                </a:lnTo>
                <a:lnTo>
                  <a:pt x="0" y="0"/>
                </a:lnTo>
                <a:close/>
              </a:path>
            </a:pathLst>
          </a:custGeom>
          <a:solidFill>
            <a:srgbClr val="7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219240" y="476280"/>
            <a:ext cx="997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副标题 2"/>
          <p:cNvSpPr/>
          <p:nvPr/>
        </p:nvSpPr>
        <p:spPr>
          <a:xfrm>
            <a:off x="403200" y="371520"/>
            <a:ext cx="34084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二、新课讲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SzPct val="8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1614600" y="1632960"/>
            <a:ext cx="606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对方提出了哪些观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878040" y="2903400"/>
            <a:ext cx="7697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    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1. 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《开罗宣言》 和 《波茨坦公告》是同盟国单方面发表的政治宣言，缺乏国际法效力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878040" y="4537080"/>
            <a:ext cx="7697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    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2.</a:t>
            </a:r>
            <a:r>
              <a:rPr b="0" lang="zh-CN" sz="2200" spc="-1" strike="noStrike">
                <a:solidFill>
                  <a:srgbClr val="474747"/>
                </a:solidFill>
                <a:latin typeface="微软雅黑"/>
                <a:ea typeface="微软雅黑"/>
              </a:rPr>
              <a:t>外界对于日本右翼势力抬头、整个国家“向右转”的猜测太过夸张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5T07:12:23Z</dcterms:created>
  <dc:creator> </dc:creator>
  <dc:description/>
  <dc:language>en-US</dc:language>
  <cp:lastModifiedBy>微软用户</cp:lastModifiedBy>
  <dcterms:modified xsi:type="dcterms:W3CDTF">2018-08-02T13:37:19Z</dcterms:modified>
  <cp:revision>1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