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A23-17A1-4403-90EF-41EF65D8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F26-9532-4766-8CF6-E3C0E191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E0E-27BD-4930-BE5F-D2E050EC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905-8113-411E-8DB4-1AC635DB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95D-0D87-4734-AA92-60DD51E0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AA1-577E-420A-9590-4914B18B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CA0-4F03-4670-BE99-E4E002D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6F1-4AF6-4292-BDF3-05D7BC68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B08-C5D2-4499-AC4A-E1F620C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697-0696-45A7-B082-F6A651B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641-CFCB-42D6-966A-E9BB408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D00-5606-4B14-8EC2-CFD5CC9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C927-44AE-43BC-8331-5367E6AB19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aike.baidu.com/view/41755.htm" TargetMode="External"/><Relationship Id="rId3" Type="http://schemas.openxmlformats.org/officeDocument/2006/relationships/hyperlink" Target="http://baike.baidu.com/view/41759.htm" TargetMode="External"/><Relationship Id="rId4" Type="http://schemas.openxmlformats.org/officeDocument/2006/relationships/hyperlink" Target="http://baike.baidu.com/view/123964.htm" TargetMode="External"/><Relationship Id="rId5" Type="http://schemas.openxmlformats.org/officeDocument/2006/relationships/hyperlink" Target="http://baike.baidu.com/view/7627.htm" TargetMode="External"/><Relationship Id="rId6" Type="http://schemas.openxmlformats.org/officeDocument/2006/relationships/hyperlink" Target="http://baike.baidu.com/view/5325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aike.baidu.com/view/61891.htm" TargetMode="External"/><Relationship Id="rId3" Type="http://schemas.openxmlformats.org/officeDocument/2006/relationships/hyperlink" Target="http://baike.baidu.com/view/15168.htm" TargetMode="External"/><Relationship Id="rId4" Type="http://schemas.openxmlformats.org/officeDocument/2006/relationships/hyperlink" Target="http://baike.baidu.com/view/159028.htm" TargetMode="External"/><Relationship Id="rId5" Type="http://schemas.openxmlformats.org/officeDocument/2006/relationships/hyperlink" Target="http://baike.baidu.com/view/155398.htm" TargetMode="External"/><Relationship Id="rId6" Type="http://schemas.openxmlformats.org/officeDocument/2006/relationships/hyperlink" Target="http://baike.baidu.com/view/155370.htm" TargetMode="External"/><Relationship Id="rId7" Type="http://schemas.openxmlformats.org/officeDocument/2006/relationships/hyperlink" Target="http://baike.baidu.com/view/31478.htm" TargetMode="External"/><Relationship Id="rId8" Type="http://schemas.openxmlformats.org/officeDocument/2006/relationships/hyperlink" Target="http://baike.baidu.com/view/155405.htm" TargetMode="External"/><Relationship Id="rId9" Type="http://schemas.openxmlformats.org/officeDocument/2006/relationships/hyperlink" Target="http://baike.baidu.com/view/155504.htm" TargetMode="External"/><Relationship Id="rId10" Type="http://schemas.openxmlformats.org/officeDocument/2006/relationships/hyperlink" Target="http://baike.baidu.com/view/2802709.htm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2133720"/>
            <a:ext cx="614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峨眉山月歌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533520"/>
            <a:ext cx="739116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峨眉山月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峨眉山月半轮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入平羌江水流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发清溪向三峡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君不见下渝州。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53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2286000"/>
            <a:ext cx="533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品名称：峨眉山月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年代：唐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：李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品体裁：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七言绝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762120"/>
            <a:ext cx="281952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作品概况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219320"/>
            <a:ext cx="83059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峨眉山：在今四川峨眉山市西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半轮秋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半圆的秋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上弦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下弦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影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平羌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江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青衣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峨眉山东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夜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今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发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出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清溪：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清溪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四川犍为峨眉山附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三峡：指长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瞿塘峡、巫峡、西陵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今在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四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湖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省的交界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君：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峨眉山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下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顺流而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渝州：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带。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380880"/>
            <a:ext cx="16765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注释</a:t>
            </a:r>
            <a:endParaRPr b="1" lang="en-US" sz="8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371600"/>
            <a:ext cx="81532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李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字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太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莲居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又号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谪仙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中国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唐朝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诗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诗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之称。代表作有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望庐山瀑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行路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蜀道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将进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梁甫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/>
              </a:rPr>
              <a:t>早发白帝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等多首。他因写诗而闻名，为当时的人们所激赏，称赞他的诗可以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泣鬼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他以富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浪漫主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彩的诗歌反映现实，描写山川，抒发壮志，吟咏豪情，因而成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光照古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伟大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380880"/>
            <a:ext cx="30481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作者简介</a:t>
            </a:r>
            <a:endParaRPr b="1" lang="en-US" sz="80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4720" y="533520"/>
            <a:ext cx="459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13400" y="533520"/>
            <a:ext cx="2273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一个秋高气爽、月色明朗的夜里，我乘着小船，从清溪驿顺流而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影映在江水之中，像一个好朋友一样，陪伴着我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在从清溪到渝洲的途中，月亮总被两岸的高山挡住，使我思念不已。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44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1295280"/>
            <a:ext cx="8153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从“峨眉山月”写起，点出了远游的时令是在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秋天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“秋”字因入韵关系倒置句末。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秋高气爽，月色特明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以“秋”字形容月色之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美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信手拈来，自然入妙。月只“半轮”，使读者联想到青山吐月的优美意境。次句“影”指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影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“月亮走，我也走”，只有观者顺流而下，才会看到“影入江水流”的妙景。所以此句不仅写出了月映清江的美景，同时暗点秋夜行船之事，意境空灵入妙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次句境中有人，第三句中人已露面：他正连夜从清溪驿出发进入岷江，向三峡驶去。“仗剑去国，辞亲远游”的青年，乍离乡土，对故国故人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恋恋不舍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江行见月，如见故人。然而明月毕竟不是故人，于是只能“仰头看明月，寄情千里光”了。末句“思君不见下渝州”表现了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依依惜别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无限情思，语短情长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304920"/>
            <a:ext cx="304812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作品赏析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167652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代王世贞评价说：“此是太白佳境，二十八字中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峨眉山、平羌江，清溪、三峡、渝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后人为之，不胜痕迹矣，益见此老炉锤之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诗中凡咏月处，皆抒发江行思友之情，令人陶醉。 诗境中无处不渗透着诗人江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体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情，无处不贯串着山月这一具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象征意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艺术形象，这就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广阔的空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较长的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457200"/>
            <a:ext cx="30481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名家评价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114640" y="2057400"/>
            <a:ext cx="4914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学习愉快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2-15T15:03:1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