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ECB-1E5B-4F70-A2A1-811D1F78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F09-902E-4A4E-B63F-00192DFC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5DDFC-D44B-4F64-8758-970AEB27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D13BC-6FF2-4D11-ADF6-76823BC1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0AA08-9844-4675-A864-7EA90B4A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4D204-3387-4D65-BDD6-24C0D1F6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1D025-F81F-4D64-9D62-7EFF2BB7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480FE-6295-4D06-BABF-37DCA40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E8882-B01B-4E2B-AD10-B425748C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72146-9A3F-4C5C-B1C5-904F572A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12692-01A9-4A6D-85F3-E95A02BC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1F537-58D3-44FA-8689-A050F0E1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896-8F66-45E2-808A-E3ACA3F4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A580C-ED0F-4F91-80B1-E7943531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3EDE3-9B66-4592-986C-0667E38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B8A8C-5BD8-467D-8248-353574D8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B3117-2CCE-422F-B276-ADA717EA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99C20-FF18-4C74-87FA-22385AC6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1F6DA-B2C4-4062-A277-39F22657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61B7C-4D62-4A10-AF65-77EE7B61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E76FE-892F-4BE3-B6A8-91D1AAAF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35076-5A19-4DBD-B8CC-8622EDD1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ADC26-BE5A-4D37-A1E0-53AA91EE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874-9586-4715-8DE3-377150F0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4763C-1FA1-4747-BBF8-005FDB06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45D2A-7FF6-4E60-B1D7-3BF3C835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557DD-CE8E-42C8-AB3F-044006B8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7FF3C-F23B-4294-9C60-7FD0D507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77D6A-8D94-40B1-B093-15B09C12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D1D6C-0DC3-402B-8315-DE700451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6993D-1CA5-4A4F-B018-74F1BF97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1AD66-EA7B-4EDF-BFBB-ABAA23B8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4D745-9486-4988-8B80-26EDF71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B6A96-2A06-4D87-9F1E-4B3A9AFB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43A5-7B85-43DB-B156-0074D314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E1217-6715-4B8B-ADEB-6CE6344D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1B5DC-647F-4BF4-84FC-272C6A04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A26C4-00DE-43A4-9572-AD3468FD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94135-1262-41FC-8133-4C940536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3B5CF-50E5-4755-B204-4CC4A1CF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25FDC-2894-44B8-B977-22ABB16A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16293-82A4-42FB-81F3-78BE6AA8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889DA-45DD-4131-8FD8-DFE520D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A320F-A5BE-4296-83AE-63F173FB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5B23E-9CCB-4C22-9056-19058C15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1F6B-3E9A-473F-893F-FC80A48E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635A4-B2D5-4347-956F-1FC8BCA6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15EB1-F568-42BC-B3AC-26738FEF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7ACE3-B140-4443-8A74-038E3B5B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12F6A-1800-4624-AB7B-C552B0F7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A4BEF-344D-4316-9EA0-C80C5519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1629-C683-488B-BDCA-92541216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E778-76C3-4312-AEAC-57859C56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34E5-FED1-454B-9BCA-DF598A6C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3954-C3D2-4BD3-AB87-64D74826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D6DC-12E4-4935-B207-665C073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650-7703-465D-BDBE-A484CCFF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F520-BC4C-438F-8B3F-EAA8E14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9D51-A2C6-4F98-A408-A666478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5DEE-E32C-4FAB-8584-863D24A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C339-13E7-4B0C-AB60-25FC0256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D172-EB73-40EA-84A7-96C9178E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E6CC-FA0C-4543-92C3-E5160766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DF9B-B40B-4C1F-9833-0EC44202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A3E00-1BE1-445F-AA6D-FC4F5B4F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9E36-832C-4B8C-BE77-0110182D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5760A-60F3-47B2-AD20-7DE28E55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EB3-4683-4F5B-BCEC-935186FF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AA73-A184-4784-9C02-C556071B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35FD-2AAA-4C39-9B5A-E6E9DE28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10DC-2E21-4E1A-81CD-7F433300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9291-BEC3-4F07-A4F2-AE55DF7A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318B-A768-488E-964A-3D8F87FC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9B22-D4AE-4B53-9BC1-8BA050AF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9323-8F21-461F-95E1-FA73C0BD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21F2-083B-4A8D-A0B2-244D6191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A0EE3-D425-4BA2-8531-E1638143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22D4E-500A-4BF1-95C6-16426A99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2F0-03F5-4335-9DDF-C5CBE9EF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915D1-FF10-46C7-AF17-5205A27C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7BE03-9F94-4BF5-80AE-644A1203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ED0C-775D-452E-B484-F16B3F84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7171-F519-410C-B92C-C1984531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1B04E-0C9F-44A9-BC35-1199F043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10F1F-C055-474C-AFF1-5C4FB631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1EF2E-1ED0-44A8-9E88-F48B5762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CE0B-0728-402C-B832-CBEF12EA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C146-C9C3-468F-A851-624E298B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A14A-7CA3-4E61-A6E3-4CC55867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FF3-E618-4740-AE85-7C7F33F9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84CC2-F450-4B85-A506-92D234B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8F98E-13B5-47CF-BC10-2977F2C5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E6E46-8BA0-4632-820D-DF864B8C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AB069-D4E2-4D25-8F06-16F99716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91EE2-5D36-4934-A19E-527D52C4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C74B6-6D9E-46C1-A1F7-745889A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E35A-62EE-4175-A3D3-B49E98AE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8582E-7CB0-40C3-9AB4-36BCE6CA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B5DA9-44AD-437A-B5E7-12428B7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CA373-4021-460A-8405-9413FCE8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EC2-E61F-4E62-971A-92160446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EE3D-2226-4B17-BF27-9159C545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9211E-1C36-4C21-A702-EF563DB9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C9486-830E-44F4-958B-EFFD7C25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7549D-EF68-49F8-9886-6D686A78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413CB-56D8-4E6D-AD00-48286879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C1280-FB55-4AF8-9F0D-F2F13905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3B345-A60A-4554-9270-05D4CE9A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1242-3A02-4007-9289-ADD3F4DC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9D4D-DFA7-49C1-B446-8674133D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6739-4200-400B-92A9-68E8D7FC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279-3B68-41A7-A49C-E588F39C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5B28F-BA96-4866-83D8-71AFA0D8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37010-DE4D-4266-BAEF-F7776C32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AEE19-C5CD-4106-A80E-F5740211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0E06B-EF2D-4B37-8883-25CA415C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73CA4-BCCA-4FB4-A46A-BC2992A2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39A3E-962D-44EC-BD11-71756245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EDD8D-E070-4620-83DF-ED38B181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41550-93D1-4C9C-9E5B-D304EAD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3C184-5FD3-4BFA-8D3E-CCDD2755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14705-835D-4D73-A275-9F18C5AB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626-7E1E-4A3E-BF79-1D6675C8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63499-19E0-49DB-9378-AB8FFAB4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6F455-78F3-420E-A2DA-DED0F32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FD735-0DE5-4D9A-80AE-024E9C67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EAD1E-75F3-42EF-984F-FA27F55E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40DF7-8F9B-4FAB-8B32-27A1EEC2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4B25A-4708-4B70-81F4-C53A7BBA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B7B5C-4A08-4DE8-92CC-0B7C8C59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DB69E-7ABB-4F41-AB36-64A36C59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428E-C318-4275-BDDD-5CF84EE6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B629C-60D1-47B9-95F9-38B47B3C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265-8830-45E4-A41F-DF710534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859DE-B400-420D-AF6A-79765D90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A5CD-FE91-4B1A-BCD4-AA33EF71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15FCB-1285-42BA-8AD4-B399956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FAF8C-B5C8-4929-AF9C-A2C7DF7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022C6-0BA2-4D56-99EA-C892C80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34BAB-EF05-47FB-9050-0C3296E2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0A0E5-3EDE-4342-9E3C-751BD07D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F1609-ABAC-4905-82C9-127F7662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603B6-DF8C-48F2-83D5-426C40DF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46B26-9F78-46C8-A473-5F7663D1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F591-5C34-45EA-B60D-D91D1348B0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04E0-6B3B-4EEA-8277-314BE7008C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8C00-7B45-4224-A9EF-3E0811DDEB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5FE-3A12-4470-984D-06E9039996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44E6-8110-4811-9807-DBEDF446C5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234C-C253-4032-A2B9-AE3D6746A5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DF1B-E415-4366-8DFE-BB903B3F10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F790-DE8E-42A8-A169-A9AEE3BB28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0DC0-7423-4140-B12D-F84A93A6A2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9B3-145A-495C-9C37-273C26F415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25AC-7F6E-4202-B532-F6417C0C33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644E-C015-4230-AB54-E8F1C5405C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35"/>
          <p:cNvSpPr/>
          <p:nvPr/>
        </p:nvSpPr>
        <p:spPr>
          <a:xfrm>
            <a:off x="0" y="4149720"/>
            <a:ext cx="9144000" cy="165564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4130"/>
          <p:cNvSpPr/>
          <p:nvPr/>
        </p:nvSpPr>
        <p:spPr>
          <a:xfrm>
            <a:off x="1547640" y="4294080"/>
            <a:ext cx="60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八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重要的是做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直接连接符 37"/>
          <p:cNvSpPr/>
          <p:nvPr/>
        </p:nvSpPr>
        <p:spPr>
          <a:xfrm>
            <a:off x="1476360" y="5157720"/>
            <a:ext cx="619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文本框 99"/>
          <p:cNvSpPr/>
          <p:nvPr/>
        </p:nvSpPr>
        <p:spPr>
          <a:xfrm>
            <a:off x="1314360" y="1967040"/>
            <a:ext cx="6997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</a:rPr>
              <a:t>本文先以“做事”与“交人”的重要性做铺垫，引出中心论点：“人生第一重要的东西是做人”。又分别将其与“做事”与“交人”联系起来，即从“做事态度认真、诚恳”，“做人诚实正直、光明磊落”两方面论述做人之更重要，结尾又以“做事”与“交人”在不可控因素中，而做人出于人心态度而可控为理由，强化中心论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1"/>
          <p:cNvSpPr/>
          <p:nvPr/>
        </p:nvSpPr>
        <p:spPr>
          <a:xfrm>
            <a:off x="3231720" y="9493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论证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2" descr=""/>
          <p:cNvPicPr/>
          <p:nvPr/>
        </p:nvPicPr>
        <p:blipFill>
          <a:blip r:embed="rId1"/>
          <a:stretch/>
        </p:blipFill>
        <p:spPr>
          <a:xfrm>
            <a:off x="890640" y="853920"/>
            <a:ext cx="1554120" cy="95580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4" descr=""/>
          <p:cNvPicPr/>
          <p:nvPr/>
        </p:nvPicPr>
        <p:blipFill>
          <a:blip r:embed="rId2"/>
          <a:stretch/>
        </p:blipFill>
        <p:spPr>
          <a:xfrm>
            <a:off x="6483240" y="5270400"/>
            <a:ext cx="20718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文本框 99"/>
          <p:cNvSpPr/>
          <p:nvPr/>
        </p:nvSpPr>
        <p:spPr>
          <a:xfrm>
            <a:off x="517680" y="1488960"/>
            <a:ext cx="81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人哪怕朋友遍天下，只要他对其中一个朋友有背信弃义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行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我们就有充分的理由怀疑他是否真爱朋友，因为一旦他认为必要，他同样会背叛其他的朋友。“与朋友交而不信”，只能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得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时之私欲，却是做人的大失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3"/>
          <p:cNvSpPr/>
          <p:nvPr/>
        </p:nvSpPr>
        <p:spPr>
          <a:xfrm>
            <a:off x="517680" y="3735360"/>
            <a:ext cx="810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问：能否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词改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得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词改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达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说说你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图片 4" descr=""/>
          <p:cNvPicPr/>
          <p:nvPr/>
        </p:nvPicPr>
        <p:blipFill>
          <a:blip r:embed="rId1"/>
          <a:stretch/>
        </p:blipFill>
        <p:spPr>
          <a:xfrm>
            <a:off x="712800" y="3633840"/>
            <a:ext cx="774720" cy="97452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6"/>
          <p:cNvGrpSpPr/>
          <p:nvPr/>
        </p:nvGrpSpPr>
        <p:grpSpPr>
          <a:xfrm>
            <a:off x="176040" y="496800"/>
            <a:ext cx="2319120" cy="700200"/>
            <a:chOff x="176040" y="496800"/>
            <a:chExt cx="2319120" cy="700200"/>
          </a:xfrm>
        </p:grpSpPr>
        <p:pic>
          <p:nvPicPr>
            <p:cNvPr id="700" name="Picture 7" descr="未标题-1"/>
            <p:cNvPicPr/>
            <p:nvPr/>
          </p:nvPicPr>
          <p:blipFill>
            <a:blip r:embed="rId2"/>
            <a:stretch/>
          </p:blipFill>
          <p:spPr>
            <a:xfrm>
              <a:off x="176040" y="49680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文本框 2"/>
            <p:cNvSpPr/>
            <p:nvPr/>
          </p:nvSpPr>
          <p:spPr>
            <a:xfrm>
              <a:off x="712440" y="5731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赏析语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文本框 1"/>
          <p:cNvSpPr/>
          <p:nvPr/>
        </p:nvSpPr>
        <p:spPr>
          <a:xfrm>
            <a:off x="646200" y="1192320"/>
            <a:ext cx="7851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行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得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均有贬义色彩，用在此处更加符合情景，换题干中所提示的词则会失去其色彩，这恰恰就失去了议论文语言中的准确性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图片 4" descr=""/>
          <p:cNvPicPr/>
          <p:nvPr/>
        </p:nvPicPr>
        <p:blipFill>
          <a:blip r:embed="rId1"/>
          <a:stretch/>
        </p:blipFill>
        <p:spPr>
          <a:xfrm>
            <a:off x="6426360" y="5278320"/>
            <a:ext cx="20714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4" descr=""/>
          <p:cNvPicPr/>
          <p:nvPr/>
        </p:nvPicPr>
        <p:blipFill>
          <a:blip r:embed="rId1"/>
          <a:stretch/>
        </p:blipFill>
        <p:spPr>
          <a:xfrm>
            <a:off x="6465960" y="5278320"/>
            <a:ext cx="2071440" cy="1262160"/>
          </a:xfrm>
          <a:prstGeom prst="rect">
            <a:avLst/>
          </a:prstGeom>
          <a:ln w="0">
            <a:noFill/>
          </a:ln>
        </p:spPr>
      </p:pic>
      <p:sp>
        <p:nvSpPr>
          <p:cNvPr id="705" name="文本框 2"/>
          <p:cNvSpPr/>
          <p:nvPr/>
        </p:nvSpPr>
        <p:spPr>
          <a:xfrm>
            <a:off x="692280" y="1625760"/>
            <a:ext cx="78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本在论证中心论点时，也围绕论点发表了其他的论断，这些论断哲理深刻，发人深省，请你找出其中一两句并结合自己的生活经验进行赏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文本框 99"/>
          <p:cNvSpPr/>
          <p:nvPr/>
        </p:nvSpPr>
        <p:spPr>
          <a:xfrm>
            <a:off x="1192320" y="141768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人当然不应该把非自己所能支配的东西当作人生的主要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1"/>
          <p:cNvSpPr/>
          <p:nvPr/>
        </p:nvSpPr>
        <p:spPr>
          <a:xfrm>
            <a:off x="1285920" y="269244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其将考试的结果作为目标，不若将自己努力奋斗的学习态度作为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2"/>
          <p:cNvSpPr/>
          <p:nvPr/>
        </p:nvSpPr>
        <p:spPr>
          <a:xfrm>
            <a:off x="1285920" y="3892680"/>
            <a:ext cx="65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其将圣人作为目标，不若将谦恭仁爱，谨言慎行的处世态度作为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文本框 99"/>
          <p:cNvSpPr/>
          <p:nvPr/>
        </p:nvSpPr>
        <p:spPr>
          <a:xfrm>
            <a:off x="882720" y="15429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重要的不是在世人心目中占据什么位置，和谁一起过日子，而是你自已究竟是一个什么样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1"/>
          <p:cNvSpPr/>
          <p:nvPr/>
        </p:nvSpPr>
        <p:spPr>
          <a:xfrm>
            <a:off x="1224000" y="3533760"/>
            <a:ext cx="64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虚名可以舍弃，环境可以忍受，但是一定要学会将自己变得足够优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文本框 1"/>
          <p:cNvSpPr/>
          <p:nvPr/>
        </p:nvSpPr>
        <p:spPr>
          <a:xfrm>
            <a:off x="623880" y="84780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读周国平，认识有趣的灵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图片 2" descr=""/>
          <p:cNvPicPr/>
          <p:nvPr/>
        </p:nvPicPr>
        <p:blipFill>
          <a:blip r:embed="rId1"/>
          <a:stretch/>
        </p:blipFill>
        <p:spPr>
          <a:xfrm>
            <a:off x="622440" y="1420920"/>
            <a:ext cx="78390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14"/>
          <p:cNvSpPr/>
          <p:nvPr/>
        </p:nvSpPr>
        <p:spPr>
          <a:xfrm>
            <a:off x="250920" y="765000"/>
            <a:ext cx="86230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主要作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尼采：在世纪的转折点上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人与永恒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尼采与形而上学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今天我活着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爱与孤独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守望的距离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http://img3x5.ddimg.cn/10/4/1116843265-1_u_2.jpg"/>
          <p:cNvPicPr/>
          <p:nvPr/>
        </p:nvPicPr>
        <p:blipFill>
          <a:blip r:embed="rId1"/>
          <a:stretch/>
        </p:blipFill>
        <p:spPr>
          <a:xfrm rot="1138800">
            <a:off x="6264000" y="3460680"/>
            <a:ext cx="17589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14"/>
          <p:cNvSpPr/>
          <p:nvPr/>
        </p:nvSpPr>
        <p:spPr>
          <a:xfrm>
            <a:off x="250920" y="907920"/>
            <a:ext cx="86230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品评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其散文长于文学的形式谈哲学，诸如生命的意义、死亡、自我、灵魂与超越等，虔诚探索现代人精神生活中的普遍困惑，重视关照心灵的历程与磨难，寓哲理于常情中，深入浅出，平易之中多见理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1"/>
          <p:cNvSpPr/>
          <p:nvPr/>
        </p:nvSpPr>
        <p:spPr>
          <a:xfrm>
            <a:off x="403200" y="1566720"/>
            <a:ext cx="823608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熟悉课文内容，理清论证思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学习作者用比较、分主次、辨正误等说理方法进行说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理解人生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第一重要的是做人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含义，培养健康的做事交友态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649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Picture 8" descr=""/>
          <p:cNvPicPr/>
          <p:nvPr/>
        </p:nvPicPr>
        <p:blipFill>
          <a:blip r:embed="rId2"/>
          <a:stretch/>
        </p:blipFill>
        <p:spPr>
          <a:xfrm>
            <a:off x="7772400" y="5516640"/>
            <a:ext cx="11095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9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653" name="Picture 10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矩形 72705"/>
          <p:cNvSpPr/>
          <p:nvPr/>
        </p:nvSpPr>
        <p:spPr>
          <a:xfrm>
            <a:off x="1198440" y="1258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怎样的人生才成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组合 6"/>
          <p:cNvGrpSpPr/>
          <p:nvPr/>
        </p:nvGrpSpPr>
        <p:grpSpPr>
          <a:xfrm>
            <a:off x="1278000" y="2057400"/>
            <a:ext cx="2795400" cy="3203640"/>
            <a:chOff x="1278000" y="2057400"/>
            <a:chExt cx="2795400" cy="3203640"/>
          </a:xfrm>
        </p:grpSpPr>
        <p:pic>
          <p:nvPicPr>
            <p:cNvPr id="657" name="图片 1" descr=""/>
            <p:cNvPicPr/>
            <p:nvPr/>
          </p:nvPicPr>
          <p:blipFill>
            <a:blip r:embed="rId2"/>
            <a:stretch/>
          </p:blipFill>
          <p:spPr>
            <a:xfrm>
              <a:off x="1278000" y="2057400"/>
              <a:ext cx="210816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文本框 2"/>
            <p:cNvSpPr/>
            <p:nvPr/>
          </p:nvSpPr>
          <p:spPr>
            <a:xfrm>
              <a:off x="3468240" y="2751840"/>
              <a:ext cx="60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事业兴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组合 7"/>
          <p:cNvGrpSpPr/>
          <p:nvPr/>
        </p:nvGrpSpPr>
        <p:grpSpPr>
          <a:xfrm>
            <a:off x="4984920" y="2057400"/>
            <a:ext cx="2676240" cy="3203640"/>
            <a:chOff x="4984920" y="2057400"/>
            <a:chExt cx="2676240" cy="3203640"/>
          </a:xfrm>
        </p:grpSpPr>
        <p:pic>
          <p:nvPicPr>
            <p:cNvPr id="660" name="图片 3" descr=""/>
            <p:cNvPicPr/>
            <p:nvPr/>
          </p:nvPicPr>
          <p:blipFill>
            <a:blip r:embed="rId3"/>
            <a:stretch/>
          </p:blipFill>
          <p:spPr>
            <a:xfrm>
              <a:off x="4984920" y="2057400"/>
              <a:ext cx="198900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文本框 4"/>
            <p:cNvSpPr/>
            <p:nvPr/>
          </p:nvSpPr>
          <p:spPr>
            <a:xfrm>
              <a:off x="7050240" y="2751840"/>
              <a:ext cx="61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交友广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文本框 5"/>
          <p:cNvSpPr/>
          <p:nvPr/>
        </p:nvSpPr>
        <p:spPr>
          <a:xfrm>
            <a:off x="1365120" y="558792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让我们听听周国平先生怎么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664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Rectangle 14"/>
          <p:cNvSpPr/>
          <p:nvPr/>
        </p:nvSpPr>
        <p:spPr>
          <a:xfrm>
            <a:off x="593640" y="2127240"/>
            <a:ext cx="498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国平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4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生于上海，中国社会科学院研究员，当代学者、散文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8" descr=""/>
          <p:cNvPicPr/>
          <p:nvPr/>
        </p:nvPicPr>
        <p:blipFill>
          <a:blip r:embed="rId2"/>
          <a:stretch/>
        </p:blipFill>
        <p:spPr>
          <a:xfrm>
            <a:off x="5705640" y="2627280"/>
            <a:ext cx="280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图片 2" descr=""/>
          <p:cNvPicPr/>
          <p:nvPr/>
        </p:nvPicPr>
        <p:blipFill>
          <a:blip r:embed="rId1"/>
          <a:stretch/>
        </p:blipFill>
        <p:spPr>
          <a:xfrm>
            <a:off x="5413320" y="920880"/>
            <a:ext cx="3438720" cy="4730760"/>
          </a:xfrm>
          <a:prstGeom prst="rect">
            <a:avLst/>
          </a:prstGeom>
          <a:ln w="0">
            <a:noFill/>
          </a:ln>
        </p:spPr>
      </p:pic>
      <p:sp>
        <p:nvSpPr>
          <p:cNvPr id="669" name="圆角矩形标注 3"/>
          <p:cNvSpPr/>
          <p:nvPr/>
        </p:nvSpPr>
        <p:spPr>
          <a:xfrm>
            <a:off x="539640" y="2295360"/>
            <a:ext cx="4319640" cy="1590840"/>
          </a:xfrm>
          <a:prstGeom prst="wedgeRoundRectCallout">
            <a:avLst>
              <a:gd name="adj1" fmla="val 73884"/>
              <a:gd name="adj2" fmla="val 4222"/>
              <a:gd name="adj3" fmla="val 16667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4"/>
          <p:cNvSpPr/>
          <p:nvPr/>
        </p:nvSpPr>
        <p:spPr>
          <a:xfrm>
            <a:off x="914400" y="2452680"/>
            <a:ext cx="41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我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生第一重要的是做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线形标注 2 5"/>
          <p:cNvSpPr/>
          <p:nvPr/>
        </p:nvSpPr>
        <p:spPr>
          <a:xfrm>
            <a:off x="1871640" y="4361040"/>
            <a:ext cx="1655640" cy="48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95180"/>
              <a:gd name="adj6" fmla="val -26342"/>
            </a:avLst>
          </a:prstGeom>
          <a:solidFill>
            <a:srgbClr val="dae3f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宋体"/>
              </a:rPr>
              <a:t>中心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6"/>
          <p:cNvGrpSpPr/>
          <p:nvPr/>
        </p:nvGrpSpPr>
        <p:grpSpPr>
          <a:xfrm>
            <a:off x="128520" y="404640"/>
            <a:ext cx="2319120" cy="700200"/>
            <a:chOff x="128520" y="404640"/>
            <a:chExt cx="2319120" cy="700200"/>
          </a:xfrm>
        </p:grpSpPr>
        <p:pic>
          <p:nvPicPr>
            <p:cNvPr id="673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128520" y="4046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文本框 2"/>
            <p:cNvSpPr/>
            <p:nvPr/>
          </p:nvSpPr>
          <p:spPr>
            <a:xfrm>
              <a:off x="664920" y="4809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文章理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Rectangle 2"/>
          <p:cNvSpPr/>
          <p:nvPr/>
        </p:nvSpPr>
        <p:spPr>
          <a:xfrm>
            <a:off x="371520" y="137808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是如何引出中心论点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圆角矩形 2"/>
          <p:cNvSpPr/>
          <p:nvPr/>
        </p:nvSpPr>
        <p:spPr>
          <a:xfrm>
            <a:off x="665280" y="2233440"/>
            <a:ext cx="222084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事业兴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（做事很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圆角矩形 3"/>
          <p:cNvSpPr/>
          <p:nvPr/>
        </p:nvSpPr>
        <p:spPr>
          <a:xfrm>
            <a:off x="666720" y="3716280"/>
            <a:ext cx="2219400" cy="1160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交友众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（交人很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圆角矩形 6"/>
          <p:cNvSpPr/>
          <p:nvPr/>
        </p:nvSpPr>
        <p:spPr>
          <a:xfrm>
            <a:off x="3780000" y="2809800"/>
            <a:ext cx="3798720" cy="139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Calibri"/>
              </a:rPr>
              <a:t>做事交人重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Calibri"/>
              </a:rPr>
              <a:t>（做人更加重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直接箭头连接符 7"/>
          <p:cNvCxnSpPr>
            <a:stCxn id="676" idx="3"/>
          </p:cNvCxnSpPr>
          <p:nvPr/>
        </p:nvCxnSpPr>
        <p:spPr>
          <a:xfrm>
            <a:off x="2885760" y="2809440"/>
            <a:ext cx="894600" cy="6771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680" name="直接箭头连接符 9"/>
          <p:cNvCxnSpPr>
            <a:stCxn id="677" idx="3"/>
          </p:cNvCxnSpPr>
          <p:nvPr/>
        </p:nvCxnSpPr>
        <p:spPr>
          <a:xfrm flipV="1">
            <a:off x="2885760" y="3571200"/>
            <a:ext cx="894600" cy="7246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pic>
        <p:nvPicPr>
          <p:cNvPr id="681" name="图片 10" descr=""/>
          <p:cNvPicPr/>
          <p:nvPr/>
        </p:nvPicPr>
        <p:blipFill>
          <a:blip r:embed="rId2"/>
          <a:stretch/>
        </p:blipFill>
        <p:spPr>
          <a:xfrm>
            <a:off x="938160" y="4937040"/>
            <a:ext cx="1781280" cy="1603440"/>
          </a:xfrm>
          <a:prstGeom prst="rect">
            <a:avLst/>
          </a:prstGeom>
          <a:ln w="0">
            <a:noFill/>
          </a:ln>
        </p:spPr>
      </p:pic>
      <p:sp>
        <p:nvSpPr>
          <p:cNvPr id="682" name="圆角矩形标注 11"/>
          <p:cNvSpPr/>
          <p:nvPr/>
        </p:nvSpPr>
        <p:spPr>
          <a:xfrm>
            <a:off x="2968560" y="5052960"/>
            <a:ext cx="5052960" cy="947880"/>
          </a:xfrm>
          <a:prstGeom prst="wedgeRoundRectCallout">
            <a:avLst>
              <a:gd name="adj1" fmla="val -55842"/>
              <a:gd name="adj2" fmla="val 74939"/>
              <a:gd name="adj3" fmla="val 1666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</a:rPr>
              <a:t>依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依我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之见，那是比做事和交人更重要的，是人生第一重要的东西，这就是做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文本框 1"/>
          <p:cNvSpPr/>
          <p:nvPr/>
        </p:nvSpPr>
        <p:spPr>
          <a:xfrm>
            <a:off x="1222200" y="952560"/>
            <a:ext cx="66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人体现在做事中的是什么？作者是怎么讲明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2"/>
          <p:cNvSpPr/>
          <p:nvPr/>
        </p:nvSpPr>
        <p:spPr>
          <a:xfrm>
            <a:off x="1222200" y="2233440"/>
            <a:ext cx="6527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是做事的方式和态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作者通过比较的方法来说明，商人学会做人，也是君子；学者学不会做人，也不能算君子。以此说明与做事相比，重要的是做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图片 4" descr=""/>
          <p:cNvPicPr/>
          <p:nvPr/>
        </p:nvPicPr>
        <p:blipFill>
          <a:blip r:embed="rId1"/>
          <a:stretch/>
        </p:blipFill>
        <p:spPr>
          <a:xfrm>
            <a:off x="6197760" y="4363920"/>
            <a:ext cx="2392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文本框 1"/>
          <p:cNvSpPr/>
          <p:nvPr/>
        </p:nvSpPr>
        <p:spPr>
          <a:xfrm>
            <a:off x="1419120" y="879480"/>
            <a:ext cx="65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人体现在交人中的是什么？作者是怎么讲明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3"/>
          <p:cNvSpPr/>
          <p:nvPr/>
        </p:nvSpPr>
        <p:spPr>
          <a:xfrm>
            <a:off x="1419120" y="2171880"/>
            <a:ext cx="6350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是交友诚信无欺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作者首选先辨别正误，解释做人体现在交人中不在于人缘的好坏和关系是否和睦，而在于诚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图片 4" descr=""/>
          <p:cNvPicPr/>
          <p:nvPr/>
        </p:nvPicPr>
        <p:blipFill>
          <a:blip r:embed="rId1"/>
          <a:stretch/>
        </p:blipFill>
        <p:spPr>
          <a:xfrm>
            <a:off x="5370480" y="4108320"/>
            <a:ext cx="30351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文本框 1"/>
          <p:cNvSpPr/>
          <p:nvPr/>
        </p:nvSpPr>
        <p:spPr>
          <a:xfrm>
            <a:off x="1335240" y="1052640"/>
            <a:ext cx="64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除此以外，作者还从哪方面论证了自己的中心观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99"/>
          <p:cNvSpPr/>
          <p:nvPr/>
        </p:nvSpPr>
        <p:spPr>
          <a:xfrm>
            <a:off x="1335240" y="229248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做事和交人是否顺利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往往受制于外在的因素，非自己所能支配，所以不应该成为人生的主要目标。一个人当然不应该把非自己所能支配的东西当作人生的主要目标。一个人真正能支配的唯有对这一切外存遭际的态度，简言之，就是如何做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3" descr=""/>
          <p:cNvPicPr/>
          <p:nvPr/>
        </p:nvPicPr>
        <p:blipFill>
          <a:blip r:embed="rId1"/>
          <a:stretch/>
        </p:blipFill>
        <p:spPr>
          <a:xfrm>
            <a:off x="6456240" y="5288040"/>
            <a:ext cx="20718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06:44:12Z</dcterms:created>
  <dc:creator/>
  <dc:description/>
  <dc:language>en-US</dc:language>
  <cp:lastModifiedBy>微软用户</cp:lastModifiedBy>
  <dcterms:modified xsi:type="dcterms:W3CDTF">2018-03-06T05:14:28Z</dcterms:modified>
  <cp:revision>4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