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7A1C-1C98-43DD-9A20-9EBD5727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7108-0E77-4BF7-A9D7-E63C06E9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425A-CF98-43D6-9778-E79E5B72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22F9-EA36-4983-908E-81EF2299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4AF-E4A0-4832-A095-DCE69202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6C6-84A6-4D04-9539-1BD548FC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7E2-AEA3-4381-85A3-52B6C6BF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863-B468-4BAC-8FB7-1789CE18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C4BA-BFFC-485E-AA59-DEC5A17A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3B8-3515-4C4E-BB2C-CA49A451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D46-B0AE-41CA-B71F-BF821D63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42D7-D152-418A-87C4-1B4EE427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7D91-EA97-4F95-B8F8-C417C51488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121932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叶根友毛笔行书简体"/>
              </a:rPr>
              <a:t>第 一 支 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581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梁晓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-380880" y="3048120"/>
            <a:ext cx="274320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380880" y="304812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9144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这篇文章写了一件什么事，分为几部分内容来写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380880" y="304812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9144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       “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我的第一支笔”的样子是怎样的？这支笔给你留下什么印象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380880" y="304812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76212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为什么作者久久不能忘怀这支笔？你是从何而知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380880" y="304812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53352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拉车人在大雨中缓慢的、一步步地朝这里拉来。看得出，那人拉得非常吃力，腰弯得很低，上身几乎俯得与地面平行了，两条裤腿都挽到膝盖以上，双臂拼力压住车吧，每迈一步，似乎都使出了浑身的劲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-380880" y="3048120"/>
            <a:ext cx="2743200" cy="3809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36232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228600"/>
            <a:ext cx="1904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黑体"/>
              </a:rPr>
              <a:t>此刻千言万语，如果你是孩子你想说什么？如果你是母亲你又想说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380880" y="304812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520" y="7621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文题是“第一支笔”，作者是意在写笔吗？他最终的目的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800600" y="2057400"/>
            <a:ext cx="3886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3399"/>
                </a:solidFill>
                <a:latin typeface="黑体"/>
                <a:ea typeface="黑体"/>
              </a:rPr>
              <a:t>在你的记忆长河里，什么事让你不能忘怀</a:t>
            </a:r>
            <a:r>
              <a:rPr b="1" lang="zh-CN" sz="4800" spc="-1" strike="noStrike">
                <a:solidFill>
                  <a:srgbClr val="003399"/>
                </a:solidFill>
                <a:latin typeface="書法家魏碑體"/>
                <a:ea typeface="書法家魏碑體"/>
              </a:rPr>
              <a:t>。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 rot="1297200">
            <a:off x="6324120" y="3276360"/>
            <a:ext cx="2819520" cy="3848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120" y="609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母爱润心无声，这支笔凝聚了母亲浓浓的爱和我对母亲深深地感激与敬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85800" y="2438280"/>
            <a:ext cx="396252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85800" y="2438280"/>
            <a:ext cx="396252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85800" y="2457360"/>
            <a:ext cx="3962520" cy="4095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8229600" y="6095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74702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文俊</cp:lastModifiedBy>
  <dcterms:modified xsi:type="dcterms:W3CDTF">2011-10-20T09:05:5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