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gif" ContentType="image/gif"/>
  <Override PartName="/ppt/media/camera.wav" ContentType="audio/x-wav"/>
  <Override PartName="/ppt/media/image10.gif" ContentType="image/gif"/>
  <Override PartName="/ppt/media/image5.gif" ContentType="image/gif"/>
  <Override PartName="/ppt/media/PCTITLE.WAV" ContentType="audio/x-wav"/>
  <Override PartName="/ppt/media/carbrake.wav" ContentType="audio/x-wav"/>
  <Override PartName="/ppt/media/image8.gif" ContentType="image/gif"/>
  <Override PartName="/ppt/media/image13.jpeg" ContentType="image/jpeg"/>
  <Override PartName="/ppt/media/glass.wav" ContentType="audio/x-wav"/>
  <Override PartName="/ppt/media/image1.gif" ContentType="image/gif"/>
  <Override PartName="/ppt/media/image11.wmf" ContentType="image/x-wmf"/>
  <Override PartName="/ppt/media/image6.wmf" ContentType="image/x-wmf"/>
  <Override PartName="/ppt/media/projctor.wav" ContentType="audio/x-wav"/>
  <Override PartName="/ppt/media/driveby.wav" ContentType="audio/x-wav"/>
  <Override PartName="/ppt/media/image9.jpeg" ContentType="image/jpeg"/>
  <Override PartName="/ppt/media/image4.jpeg" ContentType="image/jpeg"/>
  <Override PartName="/ppt/media/image2.png" ContentType="image/png"/>
  <Override PartName="/ppt/media/chimes.wav" ContentType="audio/x-wav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A5F-A2C3-484B-852C-7EB1FDCA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538-CC98-430F-B968-16B3B24C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A6C-F74A-4A21-A2F1-DC1555F1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D10-F3EF-4E84-87B0-805662DA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82D-2FCA-4006-B348-AF228A9C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FCD-C213-4CDD-8634-20A1D2A4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680-A5D7-4CF8-90CF-0EECFFD9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2BD-D0D1-4760-96EA-D5CB2771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2EB-0FB4-4FC1-9367-752B185C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56A-D100-4DD1-8A00-8AE1A154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937-2277-4A09-B222-394B0828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5B7-4464-48CD-A551-3A1DAB72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770B-E344-4177-B19C-9D64E4A506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audio" Target="../media/PCTITL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gif"/><Relationship Id="rId3" Type="http://schemas.openxmlformats.org/officeDocument/2006/relationships/image" Target="../media/image10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rbrake.wav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7.gif"/><Relationship Id="rId3" Type="http://schemas.openxmlformats.org/officeDocument/2006/relationships/slide" Target="slide9.xml"/><Relationship Id="rId4" Type="http://schemas.openxmlformats.org/officeDocument/2006/relationships/image" Target="../media/image12.gif"/><Relationship Id="rId5" Type="http://schemas.openxmlformats.org/officeDocument/2006/relationships/audio" Target="../media/chimes.wav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84360" y="1125360"/>
            <a:ext cx="4953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859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钓鱼的启示</a:t>
            </a:r>
            <a:endParaRPr b="1" lang="en-US" sz="2400" spc="1" strike="noStrike">
              <a:ln cap="sq" w="936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2" name=""/>
          <p:cNvSpPr/>
          <p:nvPr/>
        </p:nvSpPr>
        <p:spPr>
          <a:xfrm>
            <a:off x="8534520" y="6477120"/>
            <a:ext cx="533160" cy="30456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8880" y="6583320"/>
            <a:ext cx="455040" cy="276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思考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6280" y="6583320"/>
            <a:ext cx="363600" cy="276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启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03560" y="6593040"/>
            <a:ext cx="476280" cy="276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拓展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74760" y="6583320"/>
            <a:ext cx="546480" cy="276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心理变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23840" y="6583320"/>
            <a:ext cx="546480" cy="276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不想放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00560" y="6583320"/>
            <a:ext cx="546480" cy="276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课后练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29920" y="6583320"/>
            <a:ext cx="363600" cy="276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格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760" y="4941720"/>
            <a:ext cx="15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堂蕉利小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黎顺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CTI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410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95280" y="155736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体会“我”的心里变化过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276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惊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328464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—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急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24360" y="328464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—</a:t>
            </a: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乞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328464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依依不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00720" y="5661000"/>
            <a:ext cx="2057400" cy="95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451640" y="189000"/>
            <a:ext cx="1382760" cy="1382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4" name="chimes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99ccff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5105520"/>
            <a:ext cx="9144000" cy="1752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480" y="1981080"/>
            <a:ext cx="1067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1268280"/>
            <a:ext cx="8381880" cy="764280"/>
          </a:xfrm>
          <a:prstGeom prst="rect">
            <a:avLst/>
          </a:prstGeom>
          <a:solidFill>
            <a:srgbClr val="99cc00"/>
          </a:solidFill>
          <a:ln cap="sq" w="41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你遇到过类似的情况吗？是怎样做的？请联系个人的生活实际和体验想一想，说一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19320" y="1268280"/>
            <a:ext cx="792468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d0517"/>
                </a:solidFill>
                <a:latin typeface="Times New Roman"/>
              </a:rPr>
              <a:t>衡量真正的品德，是看他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d0517"/>
                </a:solidFill>
                <a:latin typeface="Times New Roman"/>
              </a:rPr>
              <a:t>知道没有人发觉的时候做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d0517"/>
                </a:solidFill>
                <a:latin typeface="Times New Roman"/>
              </a:rPr>
              <a:t>什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d0517"/>
                </a:solidFill>
                <a:latin typeface="Times New Roman"/>
              </a:rPr>
              <a:t>                                                                                  ——</a:t>
            </a:r>
            <a:r>
              <a:rPr b="0" lang="zh-CN" sz="4400" spc="-1" strike="noStrike">
                <a:solidFill>
                  <a:srgbClr val="9d0517"/>
                </a:solidFill>
                <a:latin typeface="Times New Roman"/>
              </a:rPr>
              <a:t>孟德斯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914400" cy="882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4149720"/>
            <a:ext cx="3456000" cy="1598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5" name="chimes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914400" y="-380880"/>
            <a:ext cx="12781080" cy="9585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90720" y="112536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作业“自助餐”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2276640"/>
            <a:ext cx="8224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、积累本文中好词佳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321300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隶书"/>
              </a:rPr>
              <a:t>、回家把课文的前半部分读给爸爸听，然后采访爸爸，如果他遇到那种情况会怎么做？然后在班上交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41911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54100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隶书"/>
                <a:ea typeface="隶书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4941720"/>
            <a:ext cx="2737080" cy="1636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2360" y="5238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98360" y="333360"/>
            <a:ext cx="47768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但是，在人生的旅途中，我却不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一次地遇到了与那条鲈鱼相似的诱惑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的“鱼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249228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“鱼”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24880" y="357336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鱼”——是金钱、地位、荣誉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168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476280"/>
            <a:ext cx="21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1341360"/>
            <a:ext cx="7580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父亲和“我”钓到一条怎样的鱼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2021760" y="2637000"/>
            <a:ext cx="485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“我”好不容易钓到一条大鱼，父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却让“我”放掉，他是不喜欢吗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4221000"/>
            <a:ext cx="730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“我”为什么不愿意把鲈鱼放回湖中？根据课文内容，用适当的词语概括“我”心情的变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68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16200" y="162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93120" y="102888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、我和父亲得意地欣赏着这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漂亮的大鲈鱼，看见鱼鳃在银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的月光下轻轻翕动着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64400" y="357336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２、父亲盯着鲈鱼了好一分儿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然后把目光转向了我：“孩子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你得把它放回湖里去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492360" y="1700280"/>
            <a:ext cx="1008360" cy="288720"/>
            <a:chOff x="3492360" y="1700280"/>
            <a:chExt cx="1008360" cy="288720"/>
          </a:xfrm>
        </p:grpSpPr>
        <p:sp>
          <p:nvSpPr>
            <p:cNvPr id="66" name=""/>
            <p:cNvSpPr/>
            <p:nvPr/>
          </p:nvSpPr>
          <p:spPr>
            <a:xfrm>
              <a:off x="3995640" y="1700280"/>
              <a:ext cx="505080" cy="288720"/>
            </a:xfrm>
            <a:prstGeom prst="triangle">
              <a:avLst>
                <a:gd name="adj" fmla="val 50000"/>
              </a:avLst>
            </a:prstGeom>
            <a:solidFill>
              <a:srgbClr val="ff66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92360" y="1700280"/>
              <a:ext cx="505080" cy="288720"/>
            </a:xfrm>
            <a:prstGeom prst="triangle">
              <a:avLst>
                <a:gd name="adj" fmla="val 50000"/>
              </a:avLst>
            </a:prstGeom>
            <a:solidFill>
              <a:srgbClr val="ff66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843280" y="4221000"/>
            <a:ext cx="1007640" cy="288720"/>
            <a:chOff x="2843280" y="4221000"/>
            <a:chExt cx="1007640" cy="288720"/>
          </a:xfrm>
        </p:grpSpPr>
        <p:sp>
          <p:nvSpPr>
            <p:cNvPr id="69" name=""/>
            <p:cNvSpPr/>
            <p:nvPr/>
          </p:nvSpPr>
          <p:spPr>
            <a:xfrm>
              <a:off x="3346200" y="4221000"/>
              <a:ext cx="504720" cy="288720"/>
            </a:xfrm>
            <a:prstGeom prst="triangle">
              <a:avLst>
                <a:gd name="adj" fmla="val 50000"/>
              </a:avLst>
            </a:prstGeom>
            <a:solidFill>
              <a:srgbClr val="ff66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43280" y="4221000"/>
              <a:ext cx="504720" cy="288720"/>
            </a:xfrm>
            <a:prstGeom prst="triangle">
              <a:avLst>
                <a:gd name="adj" fmla="val 50000"/>
              </a:avLst>
            </a:prstGeom>
            <a:solidFill>
              <a:srgbClr val="ff66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  <p:sndAc>
      <p:stSnd>
        <p:snd r:embed="rId2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24300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58920" y="1052640"/>
            <a:ext cx="684216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父亲曾告诫我的话：道德只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个简单的是与非的问题，但是实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起来却很难。要是人们从小受到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把钓到的大鲈鱼放回湖中这样严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教育的话，就会获得道德实践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勇气和力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2349360"/>
            <a:ext cx="468360" cy="287640"/>
          </a:xfrm>
          <a:prstGeom prst="flowChartExtra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2349360"/>
            <a:ext cx="468000" cy="287640"/>
          </a:xfrm>
          <a:prstGeom prst="flowChartExtra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2050920" y="2565360"/>
            <a:ext cx="14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却很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09800" y="4437000"/>
            <a:ext cx="50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51280" y="580536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4724280"/>
            <a:ext cx="3600360" cy="0"/>
          </a:xfrm>
          <a:prstGeom prst="line">
            <a:avLst/>
          </a:prstGeom>
          <a:ln cap="sq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32000" y="5516640"/>
            <a:ext cx="1944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5516640"/>
            <a:ext cx="2087640" cy="0"/>
          </a:xfrm>
          <a:prstGeom prst="line">
            <a:avLst/>
          </a:prstGeom>
          <a:ln cap="sq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867280" y="1628640"/>
            <a:ext cx="576360" cy="216000"/>
            <a:chOff x="5867280" y="1628640"/>
            <a:chExt cx="576360" cy="216000"/>
          </a:xfrm>
        </p:grpSpPr>
        <p:sp>
          <p:nvSpPr>
            <p:cNvPr id="82" name="">
              <a:hlinkClick r:id="rId4" action="ppaction://hlinksldjump"/>
            </p:cNvPr>
            <p:cNvSpPr/>
            <p:nvPr/>
          </p:nvSpPr>
          <p:spPr>
            <a:xfrm>
              <a:off x="5867280" y="1628640"/>
              <a:ext cx="216000" cy="216000"/>
            </a:xfrm>
            <a:prstGeom prst="ellipse">
              <a:avLst/>
            </a:prstGeom>
            <a:solidFill>
              <a:srgbClr val="ccff3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27640" y="1628640"/>
              <a:ext cx="216000" cy="216000"/>
            </a:xfrm>
            <a:prstGeom prst="ellipse">
              <a:avLst/>
            </a:prstGeom>
            <a:solidFill>
              <a:srgbClr val="ccff3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  <p:sndAc>
      <p:stSnd>
        <p:snd r:embed="rId5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28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父亲曾告诫我的话：道德只是个简单的是与非的问题，但是实践起来却很难。要是人们从小受到像把钓到的大鲈鱼放回湖中这样严格的教育的话，就会获得道德实践的勇气和力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3429000"/>
            <a:ext cx="8697960" cy="703440"/>
          </a:xfrm>
          <a:prstGeom prst="rect">
            <a:avLst/>
          </a:prstGeom>
          <a:solidFill>
            <a:srgbClr val="99cc00"/>
          </a:solidFill>
          <a:ln cap="sq"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是道德是非说起来容易做起来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518000"/>
            <a:ext cx="8382240" cy="703440"/>
          </a:xfrm>
          <a:prstGeom prst="rect">
            <a:avLst/>
          </a:prstGeom>
          <a:solidFill>
            <a:srgbClr val="99cc00"/>
          </a:solidFill>
          <a:ln cap="sq"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是必须从小时候开始，处处严格教育，事事严格要求，才能成为有道德的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867280" y="2421000"/>
            <a:ext cx="1463760" cy="857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析句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父亲和“我”钓到一条怎样的鱼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一条“我”以前从未见到过的大鲈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父亲为什么让“我”把鱼放回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因为距离开放捕捞鱼的时间还有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个小时，父亲不愿意做违反规定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2852640"/>
            <a:ext cx="914400" cy="425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914400" cy="425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24000" y="5300640"/>
            <a:ext cx="996840" cy="425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112536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不想放鱼的原因是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2637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”钓到这条鱼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不容易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3789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鲈鱼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又大又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508464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钓着鱼时四周又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无人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5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66ffff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86600" y="620640"/>
            <a:ext cx="2057400" cy="95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393372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1280" y="1484640"/>
            <a:ext cx="9489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道德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一种社会意识形态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是调整人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人之间、个人与社会之间关系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为规范的总和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1:38:59Z</dcterms:created>
  <dc:creator>wanguang</dc:creator>
  <dc:description/>
  <dc:language>en-US</dc:language>
  <cp:lastModifiedBy>Administrator</cp:lastModifiedBy>
  <dcterms:modified xsi:type="dcterms:W3CDTF">2008-03-20T02:52:56Z</dcterms:modified>
  <cp:revision>61</cp:revision>
  <dc:subject/>
  <dc:title>PowerPoint 演示文稿</dc:title>
</cp:coreProperties>
</file>