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chimes.wav" ContentType="audio/x-wav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54E2-DEA7-41F3-88BB-9F4BD981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8B24-F216-4419-99FE-840650CA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DB3-C09A-4EB6-8DD8-BF76D73F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0666-D4EA-4118-B514-C39A0500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8F0C-FD7F-414D-8273-AD32A74C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965A-AC30-458D-B250-C1E4B0AA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93E2-0052-4074-BA13-096BAB87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7502-BFFF-4078-920E-150480FC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E3AE-0412-4B47-8F51-8B5DE9BD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C87C-6192-452F-86CB-358B144B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FE35-DE1D-42B5-BC23-EBE9BB2E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FA48-2813-41F9-A838-5FDE814C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11AD-300A-4A70-B5C7-B42FAF5A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7314-CD6F-40FE-97E6-01AE76E2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4971-CF42-4619-AAC0-7B7ED3A1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CBC8-0A35-4780-AFA4-F1628BEE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1D8D-B170-40C6-BE08-AAE5519B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9C51-D13C-4BA4-903F-9F58CD8E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565A-CB41-45C9-B3A8-04F57AA5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74A7-F952-439D-BAC2-59C016A3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8C23-F23C-430C-8393-00BAE984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684B-9997-4E02-8A41-D12C2309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87E3-ABE3-472A-8FBB-E443A325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5C72-3109-46B5-9625-8F31A869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9C1E-792B-44BA-8AE9-6A5F72C184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E6E5-2F86-40AF-A4FB-8F3ADEC6AB1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 rot="5400000">
            <a:off x="4693680" y="2587680"/>
            <a:ext cx="616572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钓鱼的启示</a:t>
            </a:r>
            <a:endParaRPr b="0" i="1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3" name="Picture 3" descr="图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324000" y="1557360"/>
            <a:ext cx="6912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66"/>
                </a:solidFill>
                <a:latin typeface="Arial"/>
              </a:rPr>
              <a:t>钓鱼的启示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" descr="027ba"/>
          <p:cNvPicPr/>
          <p:nvPr/>
        </p:nvPicPr>
        <p:blipFill>
          <a:blip r:embed="rId1"/>
          <a:stretch/>
        </p:blipFill>
        <p:spPr>
          <a:xfrm>
            <a:off x="-147600" y="0"/>
            <a:ext cx="92916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1618920" y="2349360"/>
            <a:ext cx="70182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我抬头看了一下四周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到处都是静悄悄的，皎洁的月光下看不见其他人和船的影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95280" y="333360"/>
            <a:ext cx="84218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除了以上诱惑外，小詹姆斯还有什么理由不放走鲈鱼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-402840" y="2133720"/>
            <a:ext cx="164268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宋体"/>
              </a:rPr>
              <a:t>外在诱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2005122225338229"/>
          <p:cNvPicPr/>
          <p:nvPr/>
        </p:nvPicPr>
        <p:blipFill>
          <a:blip r:embed="rId1"/>
          <a:stretch/>
        </p:blipFill>
        <p:spPr>
          <a:xfrm>
            <a:off x="0" y="-382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395280" y="404640"/>
            <a:ext cx="83534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小詹姆斯这样不想放，并且还有机会不放走鲈鱼，可是他为什么最后会放走得之不易的鲈鱼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2124000" y="2492280"/>
            <a:ext cx="6591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孩子，你得把它放回水里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050920" y="3429000"/>
            <a:ext cx="659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你还会钓到别的鱼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2050920" y="4292640"/>
            <a:ext cx="659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父亲再没有说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547640" y="5589720"/>
            <a:ext cx="659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詹姆斯知道没有商量的余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1332000" y="2565360"/>
            <a:ext cx="144360" cy="23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-281880" y="2421000"/>
            <a:ext cx="1399320" cy="33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态度明确坚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理解詹姆斯的心理变化历程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钓到鱼时：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紧张、激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放鱼时：“爸爸！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―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不情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哪儿能钓到这么大的鱼呀！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―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抗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275560" y="3786120"/>
            <a:ext cx="134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放鱼后：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沮丧、悲哀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907640" y="3284280"/>
            <a:ext cx="5040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一个鱼指的是什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268360" y="1259280"/>
            <a:ext cx="6336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再没有钓到像三十四年前那个夜晚所钓到的那样大的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鱼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但是，在人生的旅途中，我却不止一次地遇到了与那条鲈鱼相似的诱惑人的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鱼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324000" y="2133720"/>
            <a:ext cx="1511280" cy="12222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金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396720" y="3573360"/>
            <a:ext cx="1511280" cy="1224000"/>
          </a:xfrm>
          <a:prstGeom prst="horizontalScrol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名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396720" y="5013360"/>
            <a:ext cx="1511280" cy="1297080"/>
          </a:xfrm>
          <a:prstGeom prst="horizontalScrol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地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2413080" y="4797360"/>
            <a:ext cx="3311280" cy="1800360"/>
          </a:xfrm>
          <a:prstGeom prst="horizontalScrol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形形式式的诱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背景音乐 - 温馨时刻.mp3" descr=""/>
          <p:cNvPicPr/>
          <p:nvPr/>
        </p:nvPicPr>
        <p:blipFill>
          <a:blip r:embed="rId6"/>
          <a:stretch/>
        </p:blipFill>
        <p:spPr>
          <a:xfrm>
            <a:off x="8839080" y="5877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9"/>
          <p:cNvSpPr/>
          <p:nvPr/>
        </p:nvSpPr>
        <p:spPr>
          <a:xfrm>
            <a:off x="5796000" y="328608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又大又漂亮的鲈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2292480" y="4156200"/>
            <a:ext cx="444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二个鱼指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  <p:sndAc>
      <p:stSnd>
        <p:snd r:embed="rId7" name="chimes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82506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本文主要告诉了我们什么道理？（启示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11280" y="213372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遵守规则不应该靠别人监督，而需要自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857160" y="29289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遵守规则必须严格，不能强调“特殊情况”通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黑体"/>
              </a:rPr>
              <a:t>思考讨论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爸爸坚决要詹姆斯放掉那条大鱼这件事为什么值得“骄傲”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24000" y="1989000"/>
            <a:ext cx="842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因为父亲以明确坚决的态度指引“我”战胜了诱惑，渡过了道德的难关，所以，“我”以自己的父亲而骄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68360" y="386064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同时“我”又为自己战胜诱惑而坚守规则而骄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026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50920" y="1557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十四年前那个月光如水的夜晚，给我留下了永久的回忆和终生的启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476360" y="29257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“永久的回忆”指的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476360" y="3429000"/>
            <a:ext cx="56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“终生的启示”指的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133"/>
          <p:cNvPicPr/>
          <p:nvPr/>
        </p:nvPicPr>
        <p:blipFill>
          <a:blip r:embed="rId1"/>
          <a:stretch/>
        </p:blipFill>
        <p:spPr>
          <a:xfrm>
            <a:off x="-291960" y="-216000"/>
            <a:ext cx="9740880" cy="7302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84360" y="1989000"/>
            <a:ext cx="7488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作者回忆了三十四年前那个月光如水的夜晚，自己和爸爸在湖中的小岛上钓鱼和放鱼，并从中获得启示的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2404800" y="907920"/>
            <a:ext cx="32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“永久的回忆”指的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50920" y="54936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187280" y="620640"/>
            <a:ext cx="56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“终生的启示”指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133"/>
          <p:cNvPicPr/>
          <p:nvPr/>
        </p:nvPicPr>
        <p:blipFill>
          <a:blip r:embed="rId1"/>
          <a:stretch/>
        </p:blipFill>
        <p:spPr>
          <a:xfrm>
            <a:off x="-318960" y="-237960"/>
            <a:ext cx="9747000" cy="7308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214200" y="35712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的天哪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足有１０公斤！这是他见过的最大的鱼。詹姆斯尽力压抑住紧张和激动的心情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仔细地观看自己的战利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他发现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这不是翻车鱼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而是一条大鲈鱼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611280" y="4286160"/>
            <a:ext cx="8532720" cy="1191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通过这句话，你知道小詹姆斯的心情是什么样的？从哪看出来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-68400" y="333360"/>
            <a:ext cx="921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鲈鱼味道鲜美，是餐桌上的美味佳肴；鲈鱼生性凶猛，活动能力大。所以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鲈鱼历来是钓鱼者追逐的对象，也是他们难以得到的捕获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3" descr="鲈鱼1"/>
          <p:cNvPicPr/>
          <p:nvPr/>
        </p:nvPicPr>
        <p:blipFill>
          <a:blip r:embed="rId2"/>
          <a:stretch/>
        </p:blipFill>
        <p:spPr>
          <a:xfrm>
            <a:off x="250920" y="1341360"/>
            <a:ext cx="6121440" cy="3575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鲈鱼2"/>
          <p:cNvPicPr/>
          <p:nvPr/>
        </p:nvPicPr>
        <p:blipFill>
          <a:blip r:embed="rId3"/>
          <a:stretch/>
        </p:blipFill>
        <p:spPr>
          <a:xfrm>
            <a:off x="2484360" y="3238560"/>
            <a:ext cx="68389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2960" y="71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为什么后来又把鲈鱼放了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14240" y="171432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离允许钓鲈鱼的时间还差两个小时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1155600" y="2928960"/>
            <a:ext cx="7988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小詹姆斯愿意放走鲈鱼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从哪儿看出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20051222253382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-71280"/>
            <a:ext cx="914400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父亲盯着鲈鱼看了好一会儿，然后把目光转向了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孩子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你得把它放回湖里去。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爸爸！为什么？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詹姆斯大叫起来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你还会钓到别的鱼的。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父亲平静地说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“可是不会钓到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这么大的鱼了。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儿子大声抗议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395280" y="549360"/>
            <a:ext cx="842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小詹姆斯为什么不愿意放走鲈鱼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042920" y="1773360"/>
            <a:ext cx="65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这是他见过的最大的鲈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000080" y="3000240"/>
            <a:ext cx="79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这不是翻车鱼，而是一条大鲈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928800" y="41432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这是他花了很长时间才钓上来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1187280" y="1989000"/>
            <a:ext cx="98640" cy="2583000"/>
          </a:xfrm>
          <a:custGeom>
            <a:avLst/>
            <a:gdLst>
              <a:gd name="textAreaLeft" fmla="*/ 63000 w 98640"/>
              <a:gd name="textAreaRight" fmla="*/ 99000 w 98640"/>
              <a:gd name="textAreaTop" fmla="*/ 116280 h 2583000"/>
              <a:gd name="textAreaBottom" fmla="*/ 2466720 h 258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5"/>
                  <a:pt x="10800" y="3109"/>
                </a:cubicBezTo>
                <a:lnTo>
                  <a:pt x="10800" y="7691"/>
                </a:lnTo>
                <a:cubicBezTo>
                  <a:pt x="10800" y="9246"/>
                  <a:pt x="5400" y="10800"/>
                  <a:pt x="0" y="10800"/>
                </a:cubicBezTo>
                <a:cubicBezTo>
                  <a:pt x="5400" y="10800"/>
                  <a:pt x="10800" y="12355"/>
                  <a:pt x="10800" y="13909"/>
                </a:cubicBezTo>
                <a:lnTo>
                  <a:pt x="10800" y="18491"/>
                </a:lnTo>
                <a:cubicBezTo>
                  <a:pt x="10800" y="20046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-402840" y="1928880"/>
            <a:ext cx="164268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宋体"/>
              </a:rPr>
              <a:t>内心诱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2:51:43Z</dcterms:created>
  <dc:creator>微软用户</dc:creator>
  <dc:description/>
  <dc:language>en-US</dc:language>
  <cp:lastModifiedBy>Administrator</cp:lastModifiedBy>
  <dcterms:modified xsi:type="dcterms:W3CDTF">2018-03-15T01:26:39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