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C6A6D-81A7-4FAA-95AD-FDDEECB947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7E487-9A8B-4FED-A8DA-A85ECA4DB3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B5284-6C80-43C0-B3D8-BC70DC673C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F96-019C-4874-B012-D6845B3C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995-A115-4999-A62B-C4A9CF22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FCB0C-E179-4DEF-A007-2481490D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C55E6-2E23-45DA-B510-4A4155B9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2EFF0-9E0D-4EB0-B915-CD4567EF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43CAE-29EB-4742-BB21-B2565614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2501-676B-4FA4-ADC2-F4A8CE5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7C03A-1D17-4BCB-82DF-65BDE2A7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40E78-A789-4FC8-9597-3FF243B0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9ACD1-DC2F-405D-8C0D-2CC0D6A3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F57C0-1D41-4BBA-B71E-7EA3B3FC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1D006-BF45-46B5-9F55-284770CE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6FF-C19D-4445-95C8-4D543CCA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CDA6F-456E-4601-BEA4-1562B8EB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BD27D-4675-4ED8-B2F0-38C9498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AD3EC-3215-44B5-A33E-4ACB1B16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67217-CFB1-4AE5-A88C-55B1E8D5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3C186-6A3A-480B-84F4-06885AFF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CDAD9-8BE0-4286-8F2D-18B2B75A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67B4B-9983-4C83-8484-753F47F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ED1D0-F5CE-4A63-8527-4D4C862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B78C5-1CF2-40C1-98EB-4EAD67AC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28DC1-D80A-460D-9921-4685A22E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63C-ED0D-461B-BEFA-D3945963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60770-03AF-4AB2-AB32-B19EB337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30DC2-9965-41AE-A077-244720FC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FCC98-D0B3-43C3-BD57-793076DC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13FC1-5D49-4DE3-939C-BA0A844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E7C2B-E6A4-48C7-966A-A0581B9D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E91ED-67AB-443E-A9B1-FC3A683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C0A1A-2022-4828-A5CB-ACBA7967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8011F-6C22-4CB4-A906-852C93F6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F6120-F64E-478C-90F9-3072A07C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A880E-6F9D-4BF2-8A19-13196CC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05D6-5BF3-4070-AF41-9CBD1651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FDB28-8DBE-488C-873C-E35BB413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E81F0-5FF7-47DC-818E-8958135E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EC03-19E8-467E-A66B-4AEE80D2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07883-83D0-4E6A-9546-EA81B2CF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5DC50-91BC-4E85-B684-7EA562A6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31468-D9B3-4644-ABC4-A21A452F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7A6BD-C9CC-40C0-944C-98137D9C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17647-68A8-4118-BEA6-A1BE42FE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069F6-BF85-4C25-85CC-F322E15D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398ED-9992-428D-B936-0D3AD53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06C6-5877-4307-BB99-0F5CEA21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DEB84-A994-4E40-8DF2-59CB7A8E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F4B34-4CEF-4298-825F-3DB4E9D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F9CD6-99CF-4BF8-B5A7-9DA26D4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448F7-FAB7-4540-92CA-61EAFFC2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CF62D-4DE3-44E5-A486-DECE08EB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06AF-5566-4CB6-AEBF-07E7EE6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FD3B-A7F0-411C-8115-7B637882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06FC-DE91-4C31-BAAF-F81576C3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9B9D-F835-4C14-9F26-832BD6A5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FA3E-B9A3-460C-AF4E-70B42532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662-66AB-499A-91A6-13AD9F2C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E6C5-FFD3-4A5A-9E0D-51FA332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E798-90ED-49F6-A104-3CB0575F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1828-252D-4602-88DA-90390AF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6F1D-5631-4366-A557-03036C29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DF1E-413F-4A12-8847-5F8FF42E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B4206-6CDE-44A0-808C-4E7AD1E0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1916-CD3A-4F1E-A70A-1E4FAD79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D75C-43C2-45DB-9827-99C3F5B6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307A-CC47-4C19-B209-091B88E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1794-0BF4-482D-A795-D4291ACC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4D4-291B-4D19-BFD0-6BF5C5AE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844B-4825-4B56-9EF4-B18F9FC2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14A8-E4A8-4543-B808-E8835B11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46C3-1065-4C03-A45F-9BC7843C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0CD4-6C55-4171-913B-773E457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D6B4-54DB-4D8F-801C-19A5A2F6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EE26-A5B4-452B-B233-268CEBDB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D3B9-BAF3-4151-82C5-755EF5BD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BFB85-7090-4C32-BA37-69C0E764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2FB6-C630-4464-96BC-F9B42D52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C6AB-D893-46ED-9441-4B39D083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0B6-2261-4B79-927B-8B321ACE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06C2-1155-409F-93F7-6EEBE39B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C884-3F40-4F41-A16C-8BF4B97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6911-4872-41B9-ABB0-7072F34B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83C0-6797-44E3-BFDD-840E05E5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0D3B-30E8-4AB7-866E-8456DA0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8F2C-0577-482A-99F1-09BE834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EAF5-12A0-4037-A86E-A0F280E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6525-0BA5-47C6-8950-5F482B15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2719-0FC3-4C21-B789-A4E68792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4871E-A5E2-4F1A-B88F-73B8B755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998-0E5D-4A2C-8702-E2BFB947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11F59-757C-4DBF-8D7D-990150A7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08830-2894-46EB-B5C5-7C1C493D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2B537-A3A3-4386-9F57-8788B67F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D82DA-7DDD-45A0-9843-E1A75FEB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D40E2-BB49-42B5-8E1C-D02E53F7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F0BF-599C-44AD-9EAD-0A000033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6EDC8-4F38-419D-8116-493BA07E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45E2-993A-4D2B-8849-00A948B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64A55-C08D-4615-808F-A181315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D7F5-C605-4BF3-9E0D-298574E6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829-69A8-4295-BEBA-DC5ABA70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C6E80-785C-45A5-9649-09D66DD4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ADA35-3FBC-4CC6-B92B-B5226855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998B7-0713-413D-BED1-D397012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C4962-93B3-408D-AB31-43A8C1A7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BF7B-6DAA-491E-96B9-4A21C82F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A9215-C648-4167-B456-3798070F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67313-CA64-4039-8A33-AF7BEF93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6007D-C25B-4411-BC9B-1806D058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BB967-32AA-4F39-A0A1-F7FB9DFA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DA6E0-8CE2-4498-85A3-226DA78F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FEA-D523-443C-B09B-0AE77D00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38FE5-AB0E-492D-946F-6BEA3F83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E4D1D-AE29-4FF4-A59B-283FEA89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28B4-4671-473A-8CFB-50C89353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3C78F-A331-4255-AD49-487CAA67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5841C-4A1D-439A-A6B1-B640A96C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F5227-9949-45D3-BA03-25A71E57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B2849-A921-4C8A-A98B-2741D2CF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20F1D-2105-480F-919A-017AADE8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C4179-CAF9-4A21-91C7-FF7FBF8E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7047E-7219-446D-8C72-2B54100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9D4-B42C-4022-A3E8-A85D2E6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BBECB-ADD4-4636-BA74-E80E2B5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131E8-2664-4DD7-9421-2A2B4A73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97BD-A576-4F8F-9006-7F5AA197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08C8-9E64-4826-B95A-023E3643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5827-18F2-40C9-855E-0D3CDF1E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71241-2758-4A09-A777-49AD0EBB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EDC99-BDB4-4CCC-9326-0781FB5D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12984-F92E-4B21-9514-23FD6A2F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5B9BB-7562-47F5-AA09-2A066B43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2E536-BBE7-4D13-9EF5-3D8AFD0C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54F-3FDE-4974-8EB3-ADFD410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EADAD-8350-48DD-A17C-EF23BBC9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92F79-D3D2-495C-AD1A-F6C1CF35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63A66-BECB-4989-A9D0-D610001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95CF-BE1C-4867-B068-54D43C2A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62AE8-5F8F-4217-86CC-BB27EABC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63816-3C76-406C-A46A-28722954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ECDAB-334B-40D3-8ACD-62DDD1BA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B33AF-44DF-4680-BBB2-495FAC3E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8CE32-A15E-4FFB-84DC-D58A614F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CEEA7-728A-4979-821D-03A53F92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49613-A944-42A9-9275-2A8FF8DBCC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F0F39-8D44-42C4-A1B0-8FF6F80213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2E100-9ACB-4F8A-BFAA-C1D8991186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组合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59" name="组合 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60" name="矩形 13"/>
              <p:cNvSpPr/>
              <p:nvPr/>
            </p:nvSpPr>
            <p:spPr>
              <a:xfrm>
                <a:off x="0" y="0"/>
                <a:ext cx="9144000" cy="218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7e0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61" name="图片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846680"/>
                <a:ext cx="9144000" cy="20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2" name="Picture 763" descr="구름"/>
            <p:cNvPicPr/>
            <p:nvPr/>
          </p:nvPicPr>
          <p:blipFill>
            <a:blip r:embed="rId3"/>
            <a:stretch/>
          </p:blipFill>
          <p:spPr>
            <a:xfrm>
              <a:off x="374400" y="996840"/>
              <a:ext cx="98424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39" descr="구름"/>
            <p:cNvPicPr/>
            <p:nvPr/>
          </p:nvPicPr>
          <p:blipFill>
            <a:blip r:embed="rId4"/>
            <a:stretch/>
          </p:blipFill>
          <p:spPr>
            <a:xfrm>
              <a:off x="4795920" y="179280"/>
              <a:ext cx="68256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0" descr="구름"/>
            <p:cNvPicPr/>
            <p:nvPr/>
          </p:nvPicPr>
          <p:blipFill>
            <a:blip r:embed="rId5"/>
            <a:stretch/>
          </p:blipFill>
          <p:spPr>
            <a:xfrm>
              <a:off x="7236000" y="502920"/>
              <a:ext cx="104292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图片 3" descr="小花.png"/>
            <p:cNvPicPr/>
            <p:nvPr/>
          </p:nvPicPr>
          <p:blipFill>
            <a:blip r:embed="rId6"/>
            <a:stretch/>
          </p:blipFill>
          <p:spPr>
            <a:xfrm>
              <a:off x="6948360" y="4941360"/>
              <a:ext cx="13111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图片 4" descr="小花2.png"/>
            <p:cNvPicPr/>
            <p:nvPr/>
          </p:nvPicPr>
          <p:blipFill>
            <a:blip r:embed="rId7"/>
            <a:stretch/>
          </p:blipFill>
          <p:spPr>
            <a:xfrm>
              <a:off x="5434200" y="5553720"/>
              <a:ext cx="938160" cy="75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7" name="Picture 39" descr="구름"/>
          <p:cNvPicPr/>
          <p:nvPr/>
        </p:nvPicPr>
        <p:blipFill>
          <a:blip r:embed="rId8"/>
          <a:stretch/>
        </p:blipFill>
        <p:spPr>
          <a:xfrm>
            <a:off x="2700360" y="436680"/>
            <a:ext cx="1295280" cy="69048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28" descr="蝴蝶.png"/>
          <p:cNvPicPr/>
          <p:nvPr/>
        </p:nvPicPr>
        <p:blipFill>
          <a:blip r:embed="rId9"/>
          <a:stretch/>
        </p:blipFill>
        <p:spPr>
          <a:xfrm flipH="1" rot="18291600">
            <a:off x="5478480" y="867240"/>
            <a:ext cx="1019160" cy="1103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B26C9-3072-482A-A2D3-858072DBDD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07159-E74F-4DA8-8BB8-EDB155356B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A0C8F-9DA4-40E3-8E30-3CC8E5DA71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502D7-8CF4-4F97-A7A5-F6AB43A01D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6"/>
          <p:cNvGrpSpPr/>
          <p:nvPr/>
        </p:nvGrpSpPr>
        <p:grpSpPr>
          <a:xfrm>
            <a:off x="-369720" y="9360"/>
            <a:ext cx="9515160" cy="6858000"/>
            <a:chOff x="-369720" y="9360"/>
            <a:chExt cx="9515160" cy="6858000"/>
          </a:xfrm>
        </p:grpSpPr>
        <p:pic>
          <p:nvPicPr>
            <p:cNvPr id="167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组 15"/>
            <p:cNvGrpSpPr/>
            <p:nvPr/>
          </p:nvGrpSpPr>
          <p:grpSpPr>
            <a:xfrm>
              <a:off x="-369720" y="4599000"/>
              <a:ext cx="1660320" cy="2216160"/>
              <a:chOff x="-369720" y="4599000"/>
              <a:chExt cx="1660320" cy="2216160"/>
            </a:xfrm>
          </p:grpSpPr>
          <p:pic>
            <p:nvPicPr>
              <p:cNvPr id="169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599000"/>
                <a:ext cx="505080" cy="204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120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8C1D1-6BC2-4031-AC92-D90ECAA26A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010B2-737E-4FCC-84CC-7E2489DADF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E17B5-394C-4C8E-A3A2-81134AC7D2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EAE36-B527-48D6-918C-56DD190633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5F52A-B5E8-4FF6-B84A-74D9D6EAC6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组合 6"/>
          <p:cNvGrpSpPr/>
          <p:nvPr/>
        </p:nvGrpSpPr>
        <p:grpSpPr>
          <a:xfrm>
            <a:off x="558720" y="1190520"/>
            <a:ext cx="2387520" cy="594360"/>
            <a:chOff x="558720" y="1190520"/>
            <a:chExt cx="2387520" cy="594360"/>
          </a:xfrm>
        </p:grpSpPr>
        <p:sp>
          <p:nvSpPr>
            <p:cNvPr id="518" name="圆角矩形 7"/>
            <p:cNvSpPr/>
            <p:nvPr/>
          </p:nvSpPr>
          <p:spPr>
            <a:xfrm>
              <a:off x="1064520" y="1308960"/>
              <a:ext cx="1881720" cy="38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文本框 16"/>
            <p:cNvSpPr/>
            <p:nvPr/>
          </p:nvSpPr>
          <p:spPr>
            <a:xfrm>
              <a:off x="1225440" y="1325160"/>
              <a:ext cx="17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谜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674280" cy="57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矩形 10"/>
          <p:cNvSpPr/>
          <p:nvPr/>
        </p:nvSpPr>
        <p:spPr>
          <a:xfrm>
            <a:off x="981000" y="2565360"/>
            <a:ext cx="75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脸上长鼻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头上挂扇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四根粗柱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条小辫子。（打一动物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谜底：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文本框 1"/>
          <p:cNvSpPr/>
          <p:nvPr/>
        </p:nvSpPr>
        <p:spPr>
          <a:xfrm>
            <a:off x="7351200" y="3710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大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23" descr=""/>
          <p:cNvPicPr/>
          <p:nvPr/>
        </p:nvPicPr>
        <p:blipFill>
          <a:blip r:embed="rId2"/>
          <a:stretch/>
        </p:blipFill>
        <p:spPr>
          <a:xfrm>
            <a:off x="2502000" y="4129200"/>
            <a:ext cx="32842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2"/>
          <p:cNvSpPr/>
          <p:nvPr/>
        </p:nvSpPr>
        <p:spPr>
          <a:xfrm>
            <a:off x="1084320" y="5221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写出了大象对自己的耳朵不能竖起来也产生了怀疑：自己的耳朵是不是有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6"/>
          <p:cNvSpPr/>
          <p:nvPr/>
        </p:nvSpPr>
        <p:spPr>
          <a:xfrm>
            <a:off x="730080" y="5276880"/>
            <a:ext cx="768384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圆角矩形 7"/>
          <p:cNvSpPr/>
          <p:nvPr/>
        </p:nvSpPr>
        <p:spPr>
          <a:xfrm>
            <a:off x="5873760" y="4718160"/>
            <a:ext cx="1690560" cy="65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怀疑自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信以为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3"/>
          <p:cNvSpPr/>
          <p:nvPr/>
        </p:nvSpPr>
        <p:spPr>
          <a:xfrm>
            <a:off x="720720" y="662040"/>
            <a:ext cx="77025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后来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象又遇到了小羊。小羊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也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象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的耳朵怎么是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耷拉着的呢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鹿、小马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还有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老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见到了大象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都要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说他的耳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象也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安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起来，他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自言自语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地说：“他们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么说，是不是我的耳朵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真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毛病啦？我得让我的耳朵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竖起来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圆角矩形 1"/>
          <p:cNvSpPr/>
          <p:nvPr/>
        </p:nvSpPr>
        <p:spPr>
          <a:xfrm>
            <a:off x="5322960" y="277920"/>
            <a:ext cx="1638360" cy="38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疑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圆角矩形 3"/>
          <p:cNvSpPr/>
          <p:nvPr/>
        </p:nvSpPr>
        <p:spPr>
          <a:xfrm>
            <a:off x="2846520" y="2760840"/>
            <a:ext cx="1638000" cy="38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看法一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圆角矩形 4"/>
          <p:cNvSpPr/>
          <p:nvPr/>
        </p:nvSpPr>
        <p:spPr>
          <a:xfrm>
            <a:off x="6961320" y="2690640"/>
            <a:ext cx="1758960" cy="669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想法改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图片 5" descr="ca7c1d3186d3918e490bd4c60164ad6e"/>
          <p:cNvPicPr/>
          <p:nvPr/>
        </p:nvPicPr>
        <p:blipFill>
          <a:blip r:embed="rId2"/>
          <a:stretch/>
        </p:blipFill>
        <p:spPr>
          <a:xfrm>
            <a:off x="7491240" y="6480"/>
            <a:ext cx="1643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2"/>
          <p:cNvSpPr/>
          <p:nvPr/>
        </p:nvSpPr>
        <p:spPr>
          <a:xfrm>
            <a:off x="884160" y="1325520"/>
            <a:ext cx="750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怎么才能让耳朵竖起来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矩形 3"/>
          <p:cNvSpPr/>
          <p:nvPr/>
        </p:nvSpPr>
        <p:spPr>
          <a:xfrm>
            <a:off x="1125360" y="2228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过渡句，起到承上启下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圆角矩形 9"/>
          <p:cNvSpPr/>
          <p:nvPr/>
        </p:nvSpPr>
        <p:spPr>
          <a:xfrm>
            <a:off x="6683400" y="1251000"/>
            <a:ext cx="1758960" cy="669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思考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想办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1"/>
          <p:cNvSpPr/>
          <p:nvPr/>
        </p:nvSpPr>
        <p:spPr>
          <a:xfrm>
            <a:off x="947880" y="3498840"/>
            <a:ext cx="73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天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站着睡觉的时候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就用两根竹竿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把耳朵撑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圆角矩形 2"/>
          <p:cNvSpPr/>
          <p:nvPr/>
        </p:nvSpPr>
        <p:spPr>
          <a:xfrm>
            <a:off x="5545080" y="4435560"/>
            <a:ext cx="1760760" cy="669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行为改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3" descr=""/>
          <p:cNvPicPr/>
          <p:nvPr/>
        </p:nvPicPr>
        <p:blipFill>
          <a:blip r:embed="rId1"/>
          <a:stretch/>
        </p:blipFill>
        <p:spPr>
          <a:xfrm>
            <a:off x="7143840" y="34920"/>
            <a:ext cx="187956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矩形 2"/>
          <p:cNvSpPr/>
          <p:nvPr/>
        </p:nvSpPr>
        <p:spPr>
          <a:xfrm>
            <a:off x="1220760" y="455760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飞进去、头痛、心烦”，写出大象用竹竿把耳朵撑起来了的后果很糟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任意多边形 5"/>
          <p:cNvSpPr/>
          <p:nvPr/>
        </p:nvSpPr>
        <p:spPr>
          <a:xfrm>
            <a:off x="1457280" y="367992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从这句中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矩形 1"/>
          <p:cNvSpPr/>
          <p:nvPr/>
        </p:nvSpPr>
        <p:spPr>
          <a:xfrm>
            <a:off x="658800" y="11667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可是，大象的耳朵眼儿里，经常有小虫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飞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进去，还在里面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跳舞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吵的他又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头痛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又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心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圆角矩形 9"/>
          <p:cNvSpPr/>
          <p:nvPr/>
        </p:nvSpPr>
        <p:spPr>
          <a:xfrm>
            <a:off x="4976640" y="2805120"/>
            <a:ext cx="2711520" cy="669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改变的结果不乐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23" descr=""/>
          <p:cNvPicPr/>
          <p:nvPr/>
        </p:nvPicPr>
        <p:blipFill>
          <a:blip r:embed="rId2"/>
          <a:stretch/>
        </p:blipFill>
        <p:spPr>
          <a:xfrm>
            <a:off x="6832440" y="-25560"/>
            <a:ext cx="2241720" cy="14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3"/>
          <p:cNvSpPr/>
          <p:nvPr/>
        </p:nvSpPr>
        <p:spPr>
          <a:xfrm>
            <a:off x="571680" y="83016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最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大象还是把他的耳朵放了下来。这样，虫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飞不进去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了。有虫子来的话，大象只要把他的大耳朵一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扇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就能把他们赶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2"/>
          <p:cNvSpPr/>
          <p:nvPr/>
        </p:nvSpPr>
        <p:spPr>
          <a:xfrm>
            <a:off x="571680" y="38768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实践出真知，大象的耳朵耷拉下来是有好处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6"/>
          <p:cNvSpPr/>
          <p:nvPr/>
        </p:nvSpPr>
        <p:spPr>
          <a:xfrm>
            <a:off x="801720" y="343368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飞不进去、一扇”说明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23" descr=""/>
          <p:cNvPicPr/>
          <p:nvPr/>
        </p:nvPicPr>
        <p:blipFill>
          <a:blip r:embed="rId2"/>
          <a:stretch/>
        </p:blipFill>
        <p:spPr>
          <a:xfrm>
            <a:off x="7380360" y="33480"/>
            <a:ext cx="17748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2"/>
          <p:cNvSpPr/>
          <p:nvPr/>
        </p:nvSpPr>
        <p:spPr>
          <a:xfrm>
            <a:off x="912960" y="1351080"/>
            <a:ext cx="750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说：“我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还是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让耳朵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耷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着吧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人家是人家，我是我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"/>
          <p:cNvSpPr/>
          <p:nvPr/>
        </p:nvSpPr>
        <p:spPr>
          <a:xfrm>
            <a:off x="912960" y="353232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每个人都有自己和别人不一样的地方，对别人的看法要有自己的判断，不要为了迎合别人盲目的改变自己，明白自己是与众不同的，是最棒的，要坚持做自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任意多边形 7"/>
          <p:cNvSpPr/>
          <p:nvPr/>
        </p:nvSpPr>
        <p:spPr>
          <a:xfrm>
            <a:off x="1219320" y="300348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说你对“人家是人家，我是我”的理解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圆角矩形 2"/>
          <p:cNvSpPr/>
          <p:nvPr/>
        </p:nvSpPr>
        <p:spPr>
          <a:xfrm>
            <a:off x="1649520" y="919080"/>
            <a:ext cx="1758960" cy="669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再次改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想通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圆角矩形 9"/>
          <p:cNvSpPr/>
          <p:nvPr/>
        </p:nvSpPr>
        <p:spPr>
          <a:xfrm>
            <a:off x="5632560" y="2333520"/>
            <a:ext cx="1758960" cy="669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慢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坚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23" descr=""/>
          <p:cNvPicPr/>
          <p:nvPr/>
        </p:nvPicPr>
        <p:blipFill>
          <a:blip r:embed="rId2"/>
          <a:stretch/>
        </p:blipFill>
        <p:spPr>
          <a:xfrm>
            <a:off x="6819840" y="14400"/>
            <a:ext cx="22986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12"/>
          <p:cNvSpPr/>
          <p:nvPr/>
        </p:nvSpPr>
        <p:spPr>
          <a:xfrm>
            <a:off x="977760" y="108756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家是人家，我是我。”结合生活实际，说说你是怎么理解这句话的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977760" y="2286000"/>
            <a:ext cx="755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是说要坚持自己的特点，保持自己的优点。不要随便改变自己的优点。根据这个可以联系生活实际再谈谈自己的理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红短跑很好，百米能跑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秒的好成绩。我不如他跑得快，但是我画的画很好。所以我不可以因为去练习跑步而放弃了自己画画的特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5"/>
          <p:cNvSpPr/>
          <p:nvPr/>
        </p:nvSpPr>
        <p:spPr>
          <a:xfrm>
            <a:off x="927720" y="14558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12"/>
          <p:cNvSpPr/>
          <p:nvPr/>
        </p:nvSpPr>
        <p:spPr>
          <a:xfrm>
            <a:off x="1068480" y="100980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画出课文中大象的话，说说大象的想法是怎么改变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2"/>
          <p:cNvSpPr/>
          <p:nvPr/>
        </p:nvSpPr>
        <p:spPr>
          <a:xfrm>
            <a:off x="1068480" y="1603440"/>
            <a:ext cx="739296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先从文中画出大象的话，再联系大象的做法去说说大象的想法为什么会改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大象说的话：①我生来就是这样啊。②他们都这么说，是不是我的耳朵真的有毛病啦？我得让我的耳朵竖起来。③我还是让耳朵耷拉着吧。人家是人家，我是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大象想让自己的耳朵竖起来，就在睡觉的时候用竹竿支着耳朵，可是小虫子飞进耳朵孔里跳舞，让他很不舒服。最后大象还是把耳朵耷拉下来，把虫子扇跑了。大象决定还是让耳朵耷拉着吧。人家是人家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是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5"/>
          <p:cNvSpPr/>
          <p:nvPr/>
        </p:nvSpPr>
        <p:spPr>
          <a:xfrm>
            <a:off x="802440" y="13557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文本框 1"/>
          <p:cNvSpPr/>
          <p:nvPr/>
        </p:nvSpPr>
        <p:spPr>
          <a:xfrm>
            <a:off x="41400" y="28440"/>
            <a:ext cx="90867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有一对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大耳朵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像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扇子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似的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耷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这一天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正在路上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慢慢地散步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遇到了小兔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兔子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咦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的耳朵怎么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耷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下夹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生来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就是这样啊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兔子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的耳朵是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竖着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的耳朵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一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是有病了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后来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遇到了小羊。小羊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也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的耳朵怎么是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耷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着的呢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鹿、小马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还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老鼠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见到了大象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都要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说他的耳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也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不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起来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自言自语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们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都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这么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是不是我的耳朵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真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毛病啦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得让我的耳朵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竖起来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怎么才能让耳朵竖起来呢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每天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站着睡觉的时候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就用两根竹竿把耳朵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撑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可是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的耳朵眼儿里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经常有小虫子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飞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去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还在里面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跳舞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吵得他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又头痛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又心烦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最后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还是把他的耳朵放了下来。这样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虫子飞不进去了。有虫子来的     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只要把他的大耳朵一扇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就能把它们赶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象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还是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让耳朵耷拉着吧。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人家是人家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我是我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4"/>
          <p:cNvSpPr/>
          <p:nvPr/>
        </p:nvSpPr>
        <p:spPr>
          <a:xfrm>
            <a:off x="882720" y="1515960"/>
            <a:ext cx="776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冰波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名赵冰波，杭州人。现供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浙江文学院。国家一级作家。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州作家协会副主席。 主要作品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童话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窗下的树皮小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毒蜘蛛之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波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爱的故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蛤蟆小姐减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中篇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怪蜗牛奇遇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颈鹿拉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蜻蜓，红蜻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长篇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怪蛋之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狼蝙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28" name="图片 324" descr=""/>
          <p:cNvPicPr/>
          <p:nvPr/>
        </p:nvPicPr>
        <p:blipFill>
          <a:blip r:embed="rId2"/>
          <a:stretch/>
        </p:blipFill>
        <p:spPr>
          <a:xfrm>
            <a:off x="5803920" y="2044800"/>
            <a:ext cx="2657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1"/>
          <p:cNvSpPr/>
          <p:nvPr/>
        </p:nvSpPr>
        <p:spPr>
          <a:xfrm>
            <a:off x="738360" y="65160"/>
            <a:ext cx="76672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邯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h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n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郸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n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据说，赵国的首都邯郸的人走路的             姿态很好看，动作非常优雅、轻快。燕              国有一个少年听到这个传说，非常羡慕，就走了很远的路去赵国，想学习邯郸人走路的方法。开始，他整天站在街头，研究每个人走路的姿态，再慢慢模仿他们，可是都没有成功。后来，他想可能是受到过去走路习惯的影响，所以，他决定忘掉以前走路的方法。从那时候起，他更专心研究邯郸人走路的姿势，不过，再怎么努力他还是学不会，最后他只好放弃。可是，因为他把以前走路的方法忘得一干二净，已经不知道该怎么走路，只好一路爬着回去。别人看到他的样子，都忍不住笑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组合 3"/>
          <p:cNvGrpSpPr/>
          <p:nvPr/>
        </p:nvGrpSpPr>
        <p:grpSpPr>
          <a:xfrm>
            <a:off x="160200" y="65160"/>
            <a:ext cx="2594160" cy="666720"/>
            <a:chOff x="160200" y="65160"/>
            <a:chExt cx="2594160" cy="666720"/>
          </a:xfrm>
        </p:grpSpPr>
        <p:sp>
          <p:nvSpPr>
            <p:cNvPr id="631" name="圆角矩形 7"/>
            <p:cNvSpPr/>
            <p:nvPr/>
          </p:nvSpPr>
          <p:spPr>
            <a:xfrm>
              <a:off x="976320" y="2030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160200" y="6516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文本框 16"/>
            <p:cNvSpPr/>
            <p:nvPr/>
          </p:nvSpPr>
          <p:spPr>
            <a:xfrm>
              <a:off x="1235520" y="2221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4" name="图片 30" descr=""/>
          <p:cNvPicPr/>
          <p:nvPr/>
        </p:nvPicPr>
        <p:blipFill>
          <a:blip r:embed="rId2"/>
          <a:stretch/>
        </p:blipFill>
        <p:spPr>
          <a:xfrm>
            <a:off x="6153120" y="4680"/>
            <a:ext cx="284004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3" descr=""/>
          <p:cNvPicPr/>
          <p:nvPr/>
        </p:nvPicPr>
        <p:blipFill>
          <a:blip r:embed="rId1"/>
          <a:stretch/>
        </p:blipFill>
        <p:spPr>
          <a:xfrm>
            <a:off x="1862280" y="2085840"/>
            <a:ext cx="5411520" cy="3500640"/>
          </a:xfrm>
          <a:prstGeom prst="rect">
            <a:avLst/>
          </a:prstGeom>
          <a:ln w="0">
            <a:noFill/>
          </a:ln>
        </p:spPr>
      </p:pic>
      <p:sp>
        <p:nvSpPr>
          <p:cNvPr id="525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8" name="组合 13338"/>
          <p:cNvGrpSpPr/>
          <p:nvPr/>
        </p:nvGrpSpPr>
        <p:grpSpPr>
          <a:xfrm>
            <a:off x="1886040" y="905040"/>
            <a:ext cx="5478480" cy="1180800"/>
            <a:chOff x="1886040" y="905040"/>
            <a:chExt cx="5478480" cy="1180800"/>
          </a:xfrm>
        </p:grpSpPr>
        <p:sp>
          <p:nvSpPr>
            <p:cNvPr id="529" name="Text Box 2"/>
            <p:cNvSpPr/>
            <p:nvPr/>
          </p:nvSpPr>
          <p:spPr>
            <a:xfrm>
              <a:off x="3211560" y="1005120"/>
              <a:ext cx="4152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大象的耳朵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0" name="组合 13337"/>
            <p:cNvGrpSpPr/>
            <p:nvPr/>
          </p:nvGrpSpPr>
          <p:grpSpPr>
            <a:xfrm>
              <a:off x="1886040" y="905040"/>
              <a:ext cx="1181160" cy="1180800"/>
              <a:chOff x="1886040" y="905040"/>
              <a:chExt cx="1181160" cy="1180800"/>
            </a:xfrm>
          </p:grpSpPr>
          <p:sp>
            <p:nvSpPr>
              <p:cNvPr id="531" name="AutoShape 11"/>
              <p:cNvSpPr/>
              <p:nvPr/>
            </p:nvSpPr>
            <p:spPr>
              <a:xfrm>
                <a:off x="188604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文本框 13"/>
              <p:cNvSpPr/>
              <p:nvPr/>
            </p:nvSpPr>
            <p:spPr>
              <a:xfrm>
                <a:off x="1922400" y="1024200"/>
                <a:ext cx="100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9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1"/>
          <p:cNvSpPr/>
          <p:nvPr/>
        </p:nvSpPr>
        <p:spPr>
          <a:xfrm>
            <a:off x="3051000" y="2238480"/>
            <a:ext cx="10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12"/>
          <p:cNvSpPr/>
          <p:nvPr/>
        </p:nvSpPr>
        <p:spPr>
          <a:xfrm>
            <a:off x="4184640" y="224640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17"/>
          <p:cNvSpPr/>
          <p:nvPr/>
        </p:nvSpPr>
        <p:spPr>
          <a:xfrm>
            <a:off x="2919240" y="2733840"/>
            <a:ext cx="112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4021200" y="2724120"/>
            <a:ext cx="112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20"/>
          <p:cNvSpPr/>
          <p:nvPr/>
        </p:nvSpPr>
        <p:spPr>
          <a:xfrm>
            <a:off x="6276960" y="2730600"/>
            <a:ext cx="112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7" descr="花盆.png"/>
          <p:cNvPicPr/>
          <p:nvPr/>
        </p:nvPicPr>
        <p:blipFill>
          <a:blip r:embed="rId1"/>
          <a:stretch/>
        </p:blipFill>
        <p:spPr>
          <a:xfrm>
            <a:off x="871560" y="1693800"/>
            <a:ext cx="507960" cy="595440"/>
          </a:xfrm>
          <a:prstGeom prst="rect">
            <a:avLst/>
          </a:prstGeom>
          <a:ln w="0">
            <a:noFill/>
          </a:ln>
        </p:spPr>
      </p:pic>
      <p:sp>
        <p:nvSpPr>
          <p:cNvPr id="539" name="TextBox 30"/>
          <p:cNvSpPr/>
          <p:nvPr/>
        </p:nvSpPr>
        <p:spPr>
          <a:xfrm>
            <a:off x="1740960" y="17715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c060"/>
                </a:solidFill>
                <a:latin typeface="黑体"/>
                <a:ea typeface="黑体"/>
              </a:rPr>
              <a:t>我会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24"/>
          <p:cNvSpPr/>
          <p:nvPr/>
        </p:nvSpPr>
        <p:spPr>
          <a:xfrm>
            <a:off x="5181480" y="2746440"/>
            <a:ext cx="112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28"/>
          <p:cNvSpPr/>
          <p:nvPr/>
        </p:nvSpPr>
        <p:spPr>
          <a:xfrm>
            <a:off x="2475000" y="3786120"/>
            <a:ext cx="12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32"/>
          <p:cNvSpPr/>
          <p:nvPr/>
        </p:nvSpPr>
        <p:spPr>
          <a:xfrm>
            <a:off x="4664160" y="381636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á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33"/>
          <p:cNvSpPr/>
          <p:nvPr/>
        </p:nvSpPr>
        <p:spPr>
          <a:xfrm>
            <a:off x="3483000" y="3811680"/>
            <a:ext cx="14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ò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37"/>
          <p:cNvSpPr/>
          <p:nvPr/>
        </p:nvSpPr>
        <p:spPr>
          <a:xfrm>
            <a:off x="2327400" y="4278240"/>
            <a:ext cx="112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38"/>
          <p:cNvSpPr/>
          <p:nvPr/>
        </p:nvSpPr>
        <p:spPr>
          <a:xfrm>
            <a:off x="3473280" y="4290840"/>
            <a:ext cx="112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43"/>
          <p:cNvSpPr/>
          <p:nvPr/>
        </p:nvSpPr>
        <p:spPr>
          <a:xfrm>
            <a:off x="4595760" y="4259160"/>
            <a:ext cx="112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44"/>
          <p:cNvSpPr/>
          <p:nvPr/>
        </p:nvSpPr>
        <p:spPr>
          <a:xfrm>
            <a:off x="5676840" y="4290840"/>
            <a:ext cx="112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46"/>
          <p:cNvSpPr/>
          <p:nvPr/>
        </p:nvSpPr>
        <p:spPr>
          <a:xfrm>
            <a:off x="5203800" y="2252520"/>
            <a:ext cx="10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47"/>
          <p:cNvSpPr/>
          <p:nvPr/>
        </p:nvSpPr>
        <p:spPr>
          <a:xfrm>
            <a:off x="6343560" y="2249640"/>
            <a:ext cx="11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29"/>
          <p:cNvSpPr/>
          <p:nvPr/>
        </p:nvSpPr>
        <p:spPr>
          <a:xfrm>
            <a:off x="1989000" y="2233440"/>
            <a:ext cx="12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ì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0"/>
          <p:cNvSpPr/>
          <p:nvPr/>
        </p:nvSpPr>
        <p:spPr>
          <a:xfrm>
            <a:off x="1830240" y="2754360"/>
            <a:ext cx="112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48"/>
          <p:cNvSpPr/>
          <p:nvPr/>
        </p:nvSpPr>
        <p:spPr>
          <a:xfrm>
            <a:off x="5686560" y="3838680"/>
            <a:ext cx="14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组合 5"/>
          <p:cNvGrpSpPr/>
          <p:nvPr/>
        </p:nvGrpSpPr>
        <p:grpSpPr>
          <a:xfrm>
            <a:off x="1935000" y="2328840"/>
            <a:ext cx="3432240" cy="1373400"/>
            <a:chOff x="1935000" y="2328840"/>
            <a:chExt cx="3432240" cy="1373400"/>
          </a:xfrm>
        </p:grpSpPr>
        <p:sp>
          <p:nvSpPr>
            <p:cNvPr id="554" name="左大括号 14"/>
            <p:cNvSpPr/>
            <p:nvPr/>
          </p:nvSpPr>
          <p:spPr>
            <a:xfrm>
              <a:off x="1935000" y="2600280"/>
              <a:ext cx="150480" cy="94788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47880"/>
                <a:gd name="textAreaBottom" fmla="*/ 94428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TextBox 15"/>
            <p:cNvSpPr/>
            <p:nvPr/>
          </p:nvSpPr>
          <p:spPr>
            <a:xfrm>
              <a:off x="2200320" y="2328840"/>
              <a:ext cx="3166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ì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似的）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ì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好似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6" name="TextBox 1"/>
          <p:cNvSpPr/>
          <p:nvPr/>
        </p:nvSpPr>
        <p:spPr>
          <a:xfrm>
            <a:off x="1374840" y="28306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5"/>
          <p:cNvGrpSpPr/>
          <p:nvPr/>
        </p:nvGrpSpPr>
        <p:grpSpPr>
          <a:xfrm>
            <a:off x="5040360" y="2336760"/>
            <a:ext cx="3433680" cy="1373400"/>
            <a:chOff x="5040360" y="2336760"/>
            <a:chExt cx="3433680" cy="1373400"/>
          </a:xfrm>
        </p:grpSpPr>
        <p:sp>
          <p:nvSpPr>
            <p:cNvPr id="558" name="左大括号 11"/>
            <p:cNvSpPr/>
            <p:nvPr/>
          </p:nvSpPr>
          <p:spPr>
            <a:xfrm>
              <a:off x="5040360" y="260820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TextBox 15"/>
            <p:cNvSpPr/>
            <p:nvPr/>
          </p:nvSpPr>
          <p:spPr>
            <a:xfrm>
              <a:off x="5305680" y="2336760"/>
              <a:ext cx="3168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àn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扇子）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ān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扇动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TextBox 1"/>
          <p:cNvSpPr/>
          <p:nvPr/>
        </p:nvSpPr>
        <p:spPr>
          <a:xfrm>
            <a:off x="4465800" y="283860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5"/>
          <p:cNvGrpSpPr/>
          <p:nvPr/>
        </p:nvGrpSpPr>
        <p:grpSpPr>
          <a:xfrm>
            <a:off x="1965240" y="3951360"/>
            <a:ext cx="3433680" cy="1373400"/>
            <a:chOff x="1965240" y="3951360"/>
            <a:chExt cx="3433680" cy="1373400"/>
          </a:xfrm>
        </p:grpSpPr>
        <p:sp>
          <p:nvSpPr>
            <p:cNvPr id="562" name="左大括号 16"/>
            <p:cNvSpPr/>
            <p:nvPr/>
          </p:nvSpPr>
          <p:spPr>
            <a:xfrm>
              <a:off x="1965240" y="422280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TextBox 15"/>
            <p:cNvSpPr/>
            <p:nvPr/>
          </p:nvSpPr>
          <p:spPr>
            <a:xfrm>
              <a:off x="2230560" y="3951360"/>
              <a:ext cx="3168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iào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睡觉）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 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ué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感觉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1"/>
          <p:cNvSpPr/>
          <p:nvPr/>
        </p:nvSpPr>
        <p:spPr>
          <a:xfrm>
            <a:off x="1390680" y="44528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图片 7" descr="花盆.png"/>
          <p:cNvPicPr/>
          <p:nvPr/>
        </p:nvPicPr>
        <p:blipFill>
          <a:blip r:embed="rId1"/>
          <a:stretch/>
        </p:blipFill>
        <p:spPr>
          <a:xfrm>
            <a:off x="596880" y="1446120"/>
            <a:ext cx="507960" cy="595440"/>
          </a:xfrm>
          <a:prstGeom prst="rect">
            <a:avLst/>
          </a:prstGeom>
          <a:ln w="0">
            <a:noFill/>
          </a:ln>
        </p:spPr>
      </p:pic>
      <p:sp>
        <p:nvSpPr>
          <p:cNvPr id="566" name="TextBox 30"/>
          <p:cNvSpPr/>
          <p:nvPr/>
        </p:nvSpPr>
        <p:spPr>
          <a:xfrm>
            <a:off x="1310760" y="1459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c060"/>
                </a:solidFill>
                <a:latin typeface="黑体"/>
                <a:ea typeface="黑体"/>
              </a:rPr>
              <a:t>多音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组合 5"/>
          <p:cNvGrpSpPr/>
          <p:nvPr/>
        </p:nvGrpSpPr>
        <p:grpSpPr>
          <a:xfrm>
            <a:off x="971640" y="1376280"/>
            <a:ext cx="7149960" cy="4519800"/>
            <a:chOff x="971640" y="1376280"/>
            <a:chExt cx="7149960" cy="4519800"/>
          </a:xfrm>
        </p:grpSpPr>
        <p:pic>
          <p:nvPicPr>
            <p:cNvPr id="568" name="任意多边形 6" descr=""/>
            <p:cNvPicPr/>
            <p:nvPr/>
          </p:nvPicPr>
          <p:blipFill>
            <a:blip r:embed="rId1"/>
            <a:stretch/>
          </p:blipFill>
          <p:spPr>
            <a:xfrm>
              <a:off x="971640" y="1376280"/>
              <a:ext cx="7149960" cy="45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任意多边形 7"/>
            <p:cNvSpPr/>
            <p:nvPr/>
          </p:nvSpPr>
          <p:spPr>
            <a:xfrm>
              <a:off x="1157400" y="2599200"/>
              <a:ext cx="6762600" cy="2936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5120" rIns="105120" tIns="105120" bIns="105120" anchor="ctr">
              <a:noAutofit/>
            </a:bodyPr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请同学们自由朗读课文，努力读准字音、读通句子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想一想：课文主要写了什么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内容占位符 2"/>
          <p:cNvSpPr/>
          <p:nvPr/>
        </p:nvSpPr>
        <p:spPr>
          <a:xfrm>
            <a:off x="1185840" y="1581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围绕大象的耳朵讲了一件什么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785880" y="2655720"/>
            <a:ext cx="72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围绕大象的耳朵，写了小动物们都认为大象的耳朵有毛病，大象听从别人的话，改变自己，把耳朵撑起来，却给自己带来很多烦恼，从中明白了一个道理：人家是人家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是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2"/>
          <p:cNvSpPr/>
          <p:nvPr/>
        </p:nvSpPr>
        <p:spPr>
          <a:xfrm>
            <a:off x="709560" y="3678120"/>
            <a:ext cx="77104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句。把大象的耳朵比作大扇子，形象具体。“耷拉”写出大象耳朵下垂的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2390760" y="15552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4" name="任意多边形 5"/>
          <p:cNvSpPr/>
          <p:nvPr/>
        </p:nvSpPr>
        <p:spPr>
          <a:xfrm>
            <a:off x="976320" y="3151080"/>
            <a:ext cx="768348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2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里用了什么修辞手法？你从中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1"/>
          <p:cNvSpPr/>
          <p:nvPr/>
        </p:nvSpPr>
        <p:spPr>
          <a:xfrm>
            <a:off x="520560" y="2033640"/>
            <a:ext cx="795204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有一对大耳朵，像扇子似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耷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23" descr=""/>
          <p:cNvPicPr/>
          <p:nvPr/>
        </p:nvPicPr>
        <p:blipFill>
          <a:blip r:embed="rId3"/>
          <a:stretch/>
        </p:blipFill>
        <p:spPr>
          <a:xfrm>
            <a:off x="6762600" y="52560"/>
            <a:ext cx="2293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矩形 2"/>
          <p:cNvSpPr/>
          <p:nvPr/>
        </p:nvSpPr>
        <p:spPr>
          <a:xfrm>
            <a:off x="693720" y="1111320"/>
            <a:ext cx="750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一天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正在路上慢慢地散步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遇到了小兔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兔子说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大象啊，你的耳朵怎么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耷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下来了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3"/>
          <p:cNvSpPr/>
          <p:nvPr/>
        </p:nvSpPr>
        <p:spPr>
          <a:xfrm>
            <a:off x="766800" y="521352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一句是语言描写，写出了小兔子一眼看出大象耳朵与众不同的地方——耷拉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7"/>
          <p:cNvSpPr/>
          <p:nvPr/>
        </p:nvSpPr>
        <p:spPr>
          <a:xfrm>
            <a:off x="766800" y="4654440"/>
            <a:ext cx="768348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里是什么描写？你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圆角矩形 1"/>
          <p:cNvSpPr/>
          <p:nvPr/>
        </p:nvSpPr>
        <p:spPr>
          <a:xfrm>
            <a:off x="3224160" y="2443320"/>
            <a:ext cx="1638360" cy="38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惊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图片 4" descr="66b331dba55c6ee5a960ac21036b96f8"/>
          <p:cNvPicPr/>
          <p:nvPr/>
        </p:nvPicPr>
        <p:blipFill>
          <a:blip r:embed="rId2"/>
          <a:stretch/>
        </p:blipFill>
        <p:spPr>
          <a:xfrm>
            <a:off x="7711920" y="12600"/>
            <a:ext cx="127656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1"/>
          <p:cNvSpPr/>
          <p:nvPr/>
        </p:nvSpPr>
        <p:spPr>
          <a:xfrm>
            <a:off x="754200" y="1103400"/>
            <a:ext cx="773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说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生来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就是这样啊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兔子说：“你看，我的耳朵是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竖着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，你的耳朵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是有病了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2"/>
          <p:cNvSpPr/>
          <p:nvPr/>
        </p:nvSpPr>
        <p:spPr>
          <a:xfrm>
            <a:off x="754200" y="419256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运用了对比的写法，疑问的句式，小兔子的耳朵是竖着的，大象的耳朵是耷拉的，从而小兔子坚定的认为大象的耳朵有病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任意多边形 4"/>
          <p:cNvSpPr/>
          <p:nvPr/>
        </p:nvSpPr>
        <p:spPr>
          <a:xfrm>
            <a:off x="1100160" y="363384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里用了什么写作手法？你从中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圆角矩形 5"/>
          <p:cNvSpPr/>
          <p:nvPr/>
        </p:nvSpPr>
        <p:spPr>
          <a:xfrm>
            <a:off x="6383160" y="2584440"/>
            <a:ext cx="1638360" cy="38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对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圆角矩形 1"/>
          <p:cNvSpPr/>
          <p:nvPr/>
        </p:nvSpPr>
        <p:spPr>
          <a:xfrm>
            <a:off x="3463920" y="925560"/>
            <a:ext cx="1638360" cy="38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不以为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圆角矩形 3"/>
          <p:cNvSpPr/>
          <p:nvPr/>
        </p:nvSpPr>
        <p:spPr>
          <a:xfrm>
            <a:off x="3273480" y="3244680"/>
            <a:ext cx="1084320" cy="368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肯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23" descr=""/>
          <p:cNvPicPr/>
          <p:nvPr/>
        </p:nvPicPr>
        <p:blipFill>
          <a:blip r:embed="rId2"/>
          <a:stretch/>
        </p:blipFill>
        <p:spPr>
          <a:xfrm>
            <a:off x="42840" y="138240"/>
            <a:ext cx="1892160" cy="12240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6" descr="66b331dba55c6ee5a960ac21036b96f8"/>
          <p:cNvPicPr/>
          <p:nvPr/>
        </p:nvPicPr>
        <p:blipFill>
          <a:blip r:embed="rId3"/>
          <a:stretch/>
        </p:blipFill>
        <p:spPr>
          <a:xfrm>
            <a:off x="7493040" y="138240"/>
            <a:ext cx="1476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荣德基</dc:creator>
  <dc:description/>
  <dc:language>en-US</dc:language>
  <cp:lastModifiedBy>微软用户</cp:lastModifiedBy>
  <dcterms:modified xsi:type="dcterms:W3CDTF">2019-03-19T04:10:51Z</dcterms:modified>
  <cp:revision>5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