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9.png" ContentType="image/png"/>
  <Override PartName="/ppt/media/image34.png" ContentType="image/png"/>
  <Override PartName="/ppt/media/image13.png" ContentType="image/png"/>
  <Override PartName="/ppt/media/image12.gif" ContentType="image/gif"/>
  <Override PartName="/ppt/media/image30.jpeg" ContentType="image/jpeg"/>
  <Override PartName="/ppt/media/image18.png" ContentType="image/png"/>
  <Override PartName="/ppt/media/image31.jpeg" ContentType="image/jpeg"/>
  <Override PartName="/ppt/media/image32.png" ContentType="image/png"/>
  <Override PartName="/ppt/media/image33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4.wmf" ContentType="image/x-wmf"/>
  <Override PartName="/ppt/media/image3.wmf" ContentType="image/x-wmf"/>
  <Override PartName="/ppt/media/image15.jpeg" ContentType="image/jpeg"/>
  <Override PartName="/ppt/media/image20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9057-AF24-4018-9D97-3636867C15D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．检查识字情况。出示不带拼音的字词：（课件标红本课需会认的生字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似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耷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竖着   竹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跳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头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心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扇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）读准字音。（自由读，指名领读，指名读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师随机指导：“似”“竖” “扇”是翘舌音，读的时候要卷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BEF1-1DE5-45B9-87D5-B603AABD96B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C8DE-62FF-4269-A340-4C2B9CCA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FF5-C6D8-4F37-891B-2254E73D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4173-078C-410C-8A01-0232BF21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BE2A-3B77-4A79-8741-0C4EB537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B88-E701-4444-988E-F4D230A0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A711-1457-44B0-B909-68AB9AF4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AD2B-9737-4B3C-85EF-C67F6B99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1B9-3A93-47DD-B6B5-150DB11F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B1DC-C961-4864-AD0A-674C08DC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3D9-12E7-4C5F-8CAD-6A04D53E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91A-4F5E-4481-BD49-984A9EA2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9554-C427-4B23-8854-6B73187F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4"/>
          <p:cNvGrpSpPr/>
          <p:nvPr/>
        </p:nvGrpSpPr>
        <p:grpSpPr>
          <a:xfrm>
            <a:off x="82440" y="125280"/>
            <a:ext cx="1279800" cy="600120"/>
            <a:chOff x="82440" y="125280"/>
            <a:chExt cx="1279800" cy="600120"/>
          </a:xfrm>
        </p:grpSpPr>
        <p:sp>
          <p:nvSpPr>
            <p:cNvPr id="75" name="Freeform 5"/>
            <p:cNvSpPr/>
            <p:nvPr/>
          </p:nvSpPr>
          <p:spPr>
            <a:xfrm>
              <a:off x="717120" y="125280"/>
              <a:ext cx="334080" cy="354600"/>
            </a:xfrm>
            <a:custGeom>
              <a:avLst/>
              <a:gdLst/>
              <a:ahLst/>
              <a:rect l="l" t="t" r="r" b="b"/>
              <a:pathLst>
                <a:path w="685" h="729">
                  <a:moveTo>
                    <a:pt x="566" y="255"/>
                  </a:moveTo>
                  <a:cubicBezTo>
                    <a:pt x="631" y="266"/>
                    <a:pt x="606" y="168"/>
                    <a:pt x="517" y="150"/>
                  </a:cubicBezTo>
                  <a:cubicBezTo>
                    <a:pt x="578" y="148"/>
                    <a:pt x="572" y="103"/>
                    <a:pt x="499" y="89"/>
                  </a:cubicBezTo>
                  <a:cubicBezTo>
                    <a:pt x="565" y="31"/>
                    <a:pt x="346" y="0"/>
                    <a:pt x="245" y="52"/>
                  </a:cubicBezTo>
                  <a:cubicBezTo>
                    <a:pt x="144" y="92"/>
                    <a:pt x="51" y="195"/>
                    <a:pt x="0" y="302"/>
                  </a:cubicBezTo>
                  <a:cubicBezTo>
                    <a:pt x="164" y="658"/>
                    <a:pt x="164" y="658"/>
                    <a:pt x="164" y="658"/>
                  </a:cubicBezTo>
                  <a:cubicBezTo>
                    <a:pt x="251" y="729"/>
                    <a:pt x="409" y="689"/>
                    <a:pt x="505" y="581"/>
                  </a:cubicBezTo>
                  <a:cubicBezTo>
                    <a:pt x="537" y="615"/>
                    <a:pt x="598" y="554"/>
                    <a:pt x="569" y="478"/>
                  </a:cubicBezTo>
                  <a:cubicBezTo>
                    <a:pt x="603" y="527"/>
                    <a:pt x="627" y="490"/>
                    <a:pt x="600" y="421"/>
                  </a:cubicBezTo>
                  <a:cubicBezTo>
                    <a:pt x="685" y="445"/>
                    <a:pt x="664" y="312"/>
                    <a:pt x="566" y="256"/>
                  </a:cubicBezTo>
                  <a:cubicBezTo>
                    <a:pt x="566" y="256"/>
                    <a:pt x="566" y="256"/>
                    <a:pt x="566" y="255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6"/>
            <p:cNvSpPr/>
            <p:nvPr/>
          </p:nvSpPr>
          <p:spPr>
            <a:xfrm>
              <a:off x="82440" y="222120"/>
              <a:ext cx="318600" cy="340560"/>
            </a:xfrm>
            <a:custGeom>
              <a:avLst/>
              <a:gdLst/>
              <a:ahLst/>
              <a:rect l="l" t="t" r="r" b="b"/>
              <a:pathLst>
                <a:path w="652" h="700">
                  <a:moveTo>
                    <a:pt x="328" y="18"/>
                  </a:moveTo>
                  <a:cubicBezTo>
                    <a:pt x="211" y="0"/>
                    <a:pt x="5" y="102"/>
                    <a:pt x="89" y="138"/>
                  </a:cubicBezTo>
                  <a:cubicBezTo>
                    <a:pt x="22" y="176"/>
                    <a:pt x="31" y="222"/>
                    <a:pt x="91" y="204"/>
                  </a:cubicBezTo>
                  <a:cubicBezTo>
                    <a:pt x="10" y="252"/>
                    <a:pt x="18" y="356"/>
                    <a:pt x="78" y="324"/>
                  </a:cubicBezTo>
                  <a:cubicBezTo>
                    <a:pt x="78" y="325"/>
                    <a:pt x="78" y="325"/>
                    <a:pt x="78" y="325"/>
                  </a:cubicBezTo>
                  <a:cubicBezTo>
                    <a:pt x="0" y="413"/>
                    <a:pt x="24" y="551"/>
                    <a:pt x="99" y="499"/>
                  </a:cubicBezTo>
                  <a:cubicBezTo>
                    <a:pt x="95" y="576"/>
                    <a:pt x="131" y="605"/>
                    <a:pt x="149" y="544"/>
                  </a:cubicBezTo>
                  <a:cubicBezTo>
                    <a:pt x="146" y="629"/>
                    <a:pt x="226" y="669"/>
                    <a:pt x="246" y="625"/>
                  </a:cubicBezTo>
                  <a:cubicBezTo>
                    <a:pt x="376" y="700"/>
                    <a:pt x="545" y="687"/>
                    <a:pt x="608" y="588"/>
                  </a:cubicBezTo>
                  <a:cubicBezTo>
                    <a:pt x="652" y="183"/>
                    <a:pt x="652" y="183"/>
                    <a:pt x="652" y="183"/>
                  </a:cubicBezTo>
                  <a:cubicBezTo>
                    <a:pt x="566" y="95"/>
                    <a:pt x="440" y="24"/>
                    <a:pt x="328" y="18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7"/>
            <p:cNvSpPr/>
            <p:nvPr/>
          </p:nvSpPr>
          <p:spPr>
            <a:xfrm>
              <a:off x="779400" y="163440"/>
              <a:ext cx="207360" cy="224640"/>
            </a:xfrm>
            <a:custGeom>
              <a:avLst/>
              <a:gdLst/>
              <a:ahLst/>
              <a:rect l="l" t="t" r="r" b="b"/>
              <a:pathLst>
                <a:path w="426" h="460">
                  <a:moveTo>
                    <a:pt x="337" y="166"/>
                  </a:moveTo>
                  <a:cubicBezTo>
                    <a:pt x="247" y="0"/>
                    <a:pt x="82" y="79"/>
                    <a:pt x="0" y="198"/>
                  </a:cubicBezTo>
                  <a:cubicBezTo>
                    <a:pt x="57" y="178"/>
                    <a:pt x="117" y="178"/>
                    <a:pt x="97" y="211"/>
                  </a:cubicBezTo>
                  <a:cubicBezTo>
                    <a:pt x="146" y="206"/>
                    <a:pt x="158" y="233"/>
                    <a:pt x="120" y="246"/>
                  </a:cubicBezTo>
                  <a:cubicBezTo>
                    <a:pt x="184" y="240"/>
                    <a:pt x="220" y="305"/>
                    <a:pt x="162" y="303"/>
                  </a:cubicBezTo>
                  <a:cubicBezTo>
                    <a:pt x="162" y="303"/>
                    <a:pt x="224" y="391"/>
                    <a:pt x="238" y="460"/>
                  </a:cubicBezTo>
                  <a:cubicBezTo>
                    <a:pt x="348" y="422"/>
                    <a:pt x="426" y="329"/>
                    <a:pt x="337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8"/>
            <p:cNvSpPr/>
            <p:nvPr/>
          </p:nvSpPr>
          <p:spPr>
            <a:xfrm>
              <a:off x="152280" y="264960"/>
              <a:ext cx="183600" cy="219240"/>
            </a:xfrm>
            <a:custGeom>
              <a:avLst/>
              <a:gdLst/>
              <a:ahLst/>
              <a:rect l="l" t="t" r="r" b="b"/>
              <a:pathLst>
                <a:path w="377" h="451">
                  <a:moveTo>
                    <a:pt x="252" y="271"/>
                  </a:moveTo>
                  <a:cubicBezTo>
                    <a:pt x="196" y="292"/>
                    <a:pt x="209" y="216"/>
                    <a:pt x="274" y="201"/>
                  </a:cubicBezTo>
                  <a:cubicBezTo>
                    <a:pt x="232" y="200"/>
                    <a:pt x="236" y="170"/>
                    <a:pt x="286" y="159"/>
                  </a:cubicBezTo>
                  <a:cubicBezTo>
                    <a:pt x="254" y="132"/>
                    <a:pt x="314" y="113"/>
                    <a:pt x="377" y="114"/>
                  </a:cubicBezTo>
                  <a:cubicBezTo>
                    <a:pt x="256" y="23"/>
                    <a:pt x="67" y="0"/>
                    <a:pt x="33" y="193"/>
                  </a:cubicBezTo>
                  <a:cubicBezTo>
                    <a:pt x="0" y="383"/>
                    <a:pt x="107" y="450"/>
                    <a:pt x="228" y="451"/>
                  </a:cubicBezTo>
                  <a:cubicBezTo>
                    <a:pt x="219" y="378"/>
                    <a:pt x="252" y="271"/>
                    <a:pt x="252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9"/>
            <p:cNvSpPr/>
            <p:nvPr/>
          </p:nvSpPr>
          <p:spPr>
            <a:xfrm>
              <a:off x="181440" y="157680"/>
              <a:ext cx="824400" cy="567720"/>
            </a:xfrm>
            <a:custGeom>
              <a:avLst/>
              <a:gdLst/>
              <a:ahLst/>
              <a:rect l="l" t="t" r="r" b="b"/>
              <a:pathLst>
                <a:path w="1691" h="1165">
                  <a:moveTo>
                    <a:pt x="1139" y="207"/>
                  </a:moveTo>
                  <a:cubicBezTo>
                    <a:pt x="1139" y="207"/>
                    <a:pt x="1084" y="179"/>
                    <a:pt x="995" y="161"/>
                  </a:cubicBezTo>
                  <a:cubicBezTo>
                    <a:pt x="1001" y="130"/>
                    <a:pt x="936" y="94"/>
                    <a:pt x="868" y="126"/>
                  </a:cubicBezTo>
                  <a:cubicBezTo>
                    <a:pt x="917" y="86"/>
                    <a:pt x="885" y="53"/>
                    <a:pt x="815" y="86"/>
                  </a:cubicBezTo>
                  <a:cubicBezTo>
                    <a:pt x="834" y="0"/>
                    <a:pt x="650" y="97"/>
                    <a:pt x="588" y="199"/>
                  </a:cubicBezTo>
                  <a:cubicBezTo>
                    <a:pt x="548" y="214"/>
                    <a:pt x="507" y="234"/>
                    <a:pt x="465" y="259"/>
                  </a:cubicBezTo>
                  <a:cubicBezTo>
                    <a:pt x="212" y="411"/>
                    <a:pt x="0" y="1013"/>
                    <a:pt x="625" y="1119"/>
                  </a:cubicBezTo>
                  <a:cubicBezTo>
                    <a:pt x="1508" y="1165"/>
                    <a:pt x="1691" y="474"/>
                    <a:pt x="1139" y="207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0"/>
            <p:cNvSpPr/>
            <p:nvPr/>
          </p:nvSpPr>
          <p:spPr>
            <a:xfrm>
              <a:off x="513000" y="466920"/>
              <a:ext cx="197640" cy="171720"/>
            </a:xfrm>
            <a:custGeom>
              <a:avLst/>
              <a:gdLst/>
              <a:ahLst/>
              <a:rect l="l" t="t" r="r" b="b"/>
              <a:pathLst>
                <a:path w="405" h="353">
                  <a:moveTo>
                    <a:pt x="295" y="71"/>
                  </a:moveTo>
                  <a:cubicBezTo>
                    <a:pt x="315" y="147"/>
                    <a:pt x="405" y="306"/>
                    <a:pt x="203" y="329"/>
                  </a:cubicBezTo>
                  <a:cubicBezTo>
                    <a:pt x="0" y="353"/>
                    <a:pt x="43" y="192"/>
                    <a:pt x="55" y="104"/>
                  </a:cubicBezTo>
                  <a:cubicBezTo>
                    <a:pt x="66" y="27"/>
                    <a:pt x="102" y="57"/>
                    <a:pt x="170" y="49"/>
                  </a:cubicBezTo>
                  <a:cubicBezTo>
                    <a:pt x="239" y="41"/>
                    <a:pt x="276" y="0"/>
                    <a:pt x="295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1"/>
            <p:cNvSpPr/>
            <p:nvPr/>
          </p:nvSpPr>
          <p:spPr>
            <a:xfrm>
              <a:off x="536760" y="394200"/>
              <a:ext cx="159120" cy="155160"/>
            </a:xfrm>
            <a:custGeom>
              <a:avLst/>
              <a:gdLst/>
              <a:ahLst/>
              <a:rect l="l" t="t" r="r" b="b"/>
              <a:pathLst>
                <a:path w="327" h="319">
                  <a:moveTo>
                    <a:pt x="105" y="11"/>
                  </a:moveTo>
                  <a:cubicBezTo>
                    <a:pt x="46" y="20"/>
                    <a:pt x="0" y="111"/>
                    <a:pt x="4" y="215"/>
                  </a:cubicBezTo>
                  <a:cubicBezTo>
                    <a:pt x="7" y="319"/>
                    <a:pt x="104" y="319"/>
                    <a:pt x="185" y="296"/>
                  </a:cubicBezTo>
                  <a:cubicBezTo>
                    <a:pt x="327" y="256"/>
                    <a:pt x="182" y="0"/>
                    <a:pt x="105" y="11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2"/>
            <p:cNvSpPr/>
            <p:nvPr/>
          </p:nvSpPr>
          <p:spPr>
            <a:xfrm>
              <a:off x="401760" y="498960"/>
              <a:ext cx="77760" cy="79200"/>
            </a:xfrm>
            <a:custGeom>
              <a:avLst/>
              <a:gdLst/>
              <a:ahLst/>
              <a:rect l="l" t="t" r="r" b="b"/>
              <a:pathLst>
                <a:path w="158" h="164">
                  <a:moveTo>
                    <a:pt x="153" y="73"/>
                  </a:moveTo>
                  <a:cubicBezTo>
                    <a:pt x="158" y="116"/>
                    <a:pt x="129" y="154"/>
                    <a:pt x="88" y="159"/>
                  </a:cubicBezTo>
                  <a:cubicBezTo>
                    <a:pt x="47" y="164"/>
                    <a:pt x="9" y="133"/>
                    <a:pt x="4" y="90"/>
                  </a:cubicBezTo>
                  <a:cubicBezTo>
                    <a:pt x="0" y="48"/>
                    <a:pt x="29" y="9"/>
                    <a:pt x="70" y="5"/>
                  </a:cubicBezTo>
                  <a:cubicBezTo>
                    <a:pt x="111" y="0"/>
                    <a:pt x="148" y="31"/>
                    <a:pt x="153" y="73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3"/>
            <p:cNvSpPr/>
            <p:nvPr/>
          </p:nvSpPr>
          <p:spPr>
            <a:xfrm>
              <a:off x="713520" y="463320"/>
              <a:ext cx="76680" cy="79200"/>
            </a:xfrm>
            <a:custGeom>
              <a:avLst/>
              <a:gdLst/>
              <a:ahLst/>
              <a:rect l="l" t="t" r="r" b="b"/>
              <a:pathLst>
                <a:path w="158" h="163">
                  <a:moveTo>
                    <a:pt x="153" y="73"/>
                  </a:moveTo>
                  <a:cubicBezTo>
                    <a:pt x="158" y="116"/>
                    <a:pt x="128" y="154"/>
                    <a:pt x="88" y="159"/>
                  </a:cubicBezTo>
                  <a:cubicBezTo>
                    <a:pt x="47" y="163"/>
                    <a:pt x="9" y="133"/>
                    <a:pt x="4" y="90"/>
                  </a:cubicBezTo>
                  <a:cubicBezTo>
                    <a:pt x="0" y="48"/>
                    <a:pt x="29" y="9"/>
                    <a:pt x="70" y="4"/>
                  </a:cubicBezTo>
                  <a:cubicBezTo>
                    <a:pt x="111" y="0"/>
                    <a:pt x="148" y="30"/>
                    <a:pt x="153" y="73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4"/>
            <p:cNvSpPr/>
            <p:nvPr/>
          </p:nvSpPr>
          <p:spPr>
            <a:xfrm>
              <a:off x="596160" y="559440"/>
              <a:ext cx="24120" cy="4248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47" y="42"/>
                  </a:moveTo>
                  <a:cubicBezTo>
                    <a:pt x="50" y="65"/>
                    <a:pt x="42" y="86"/>
                    <a:pt x="30" y="87"/>
                  </a:cubicBezTo>
                  <a:cubicBezTo>
                    <a:pt x="18" y="88"/>
                    <a:pt x="6" y="70"/>
                    <a:pt x="3" y="47"/>
                  </a:cubicBezTo>
                  <a:cubicBezTo>
                    <a:pt x="0" y="23"/>
                    <a:pt x="8" y="3"/>
                    <a:pt x="20" y="2"/>
                  </a:cubicBezTo>
                  <a:cubicBezTo>
                    <a:pt x="32" y="0"/>
                    <a:pt x="44" y="18"/>
                    <a:pt x="47" y="4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5"/>
            <p:cNvSpPr/>
            <p:nvPr/>
          </p:nvSpPr>
          <p:spPr>
            <a:xfrm>
              <a:off x="408960" y="391680"/>
              <a:ext cx="100440" cy="9936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182" y="143"/>
                  </a:moveTo>
                  <a:cubicBezTo>
                    <a:pt x="160" y="187"/>
                    <a:pt x="106" y="205"/>
                    <a:pt x="62" y="182"/>
                  </a:cubicBezTo>
                  <a:cubicBezTo>
                    <a:pt x="18" y="160"/>
                    <a:pt x="0" y="106"/>
                    <a:pt x="22" y="62"/>
                  </a:cubicBezTo>
                  <a:cubicBezTo>
                    <a:pt x="45" y="18"/>
                    <a:pt x="98" y="0"/>
                    <a:pt x="143" y="22"/>
                  </a:cubicBezTo>
                  <a:cubicBezTo>
                    <a:pt x="187" y="45"/>
                    <a:pt x="205" y="99"/>
                    <a:pt x="182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6"/>
            <p:cNvSpPr/>
            <p:nvPr/>
          </p:nvSpPr>
          <p:spPr>
            <a:xfrm>
              <a:off x="428040" y="399600"/>
              <a:ext cx="81360" cy="78480"/>
            </a:xfrm>
            <a:custGeom>
              <a:avLst/>
              <a:gdLst/>
              <a:ahLst/>
              <a:rect l="l" t="t" r="r" b="b"/>
              <a:pathLst>
                <a:path w="166" h="161">
                  <a:moveTo>
                    <a:pt x="104" y="6"/>
                  </a:moveTo>
                  <a:cubicBezTo>
                    <a:pt x="100" y="5"/>
                    <a:pt x="96" y="3"/>
                    <a:pt x="92" y="2"/>
                  </a:cubicBezTo>
                  <a:cubicBezTo>
                    <a:pt x="63" y="0"/>
                    <a:pt x="34" y="16"/>
                    <a:pt x="19" y="44"/>
                  </a:cubicBezTo>
                  <a:cubicBezTo>
                    <a:pt x="0" y="82"/>
                    <a:pt x="15" y="128"/>
                    <a:pt x="53" y="147"/>
                  </a:cubicBezTo>
                  <a:cubicBezTo>
                    <a:pt x="81" y="161"/>
                    <a:pt x="113" y="157"/>
                    <a:pt x="135" y="139"/>
                  </a:cubicBezTo>
                  <a:cubicBezTo>
                    <a:pt x="138" y="135"/>
                    <a:pt x="141" y="131"/>
                    <a:pt x="143" y="127"/>
                  </a:cubicBezTo>
                  <a:cubicBezTo>
                    <a:pt x="166" y="83"/>
                    <a:pt x="148" y="29"/>
                    <a:pt x="104" y="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7"/>
            <p:cNvSpPr/>
            <p:nvPr/>
          </p:nvSpPr>
          <p:spPr>
            <a:xfrm>
              <a:off x="439560" y="401400"/>
              <a:ext cx="69840" cy="68760"/>
            </a:xfrm>
            <a:custGeom>
              <a:avLst/>
              <a:gdLst/>
              <a:ahLst/>
              <a:rect l="l" t="t" r="r" b="b"/>
              <a:pathLst>
                <a:path w="143" h="142">
                  <a:moveTo>
                    <a:pt x="81" y="2"/>
                  </a:moveTo>
                  <a:cubicBezTo>
                    <a:pt x="79" y="2"/>
                    <a:pt x="77" y="1"/>
                    <a:pt x="75" y="0"/>
                  </a:cubicBezTo>
                  <a:cubicBezTo>
                    <a:pt x="51" y="1"/>
                    <a:pt x="29" y="15"/>
                    <a:pt x="17" y="38"/>
                  </a:cubicBezTo>
                  <a:cubicBezTo>
                    <a:pt x="0" y="72"/>
                    <a:pt x="14" y="113"/>
                    <a:pt x="48" y="131"/>
                  </a:cubicBezTo>
                  <a:cubicBezTo>
                    <a:pt x="71" y="142"/>
                    <a:pt x="98" y="140"/>
                    <a:pt x="118" y="126"/>
                  </a:cubicBezTo>
                  <a:cubicBezTo>
                    <a:pt x="119" y="125"/>
                    <a:pt x="120" y="124"/>
                    <a:pt x="120" y="123"/>
                  </a:cubicBezTo>
                  <a:cubicBezTo>
                    <a:pt x="143" y="79"/>
                    <a:pt x="125" y="25"/>
                    <a:pt x="81" y="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18"/>
            <p:cNvSpPr/>
            <p:nvPr/>
          </p:nvSpPr>
          <p:spPr>
            <a:xfrm>
              <a:off x="439560" y="403920"/>
              <a:ext cx="20520" cy="2088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8" y="30"/>
                  </a:moveTo>
                  <a:cubicBezTo>
                    <a:pt x="34" y="39"/>
                    <a:pt x="22" y="43"/>
                    <a:pt x="13" y="38"/>
                  </a:cubicBezTo>
                  <a:cubicBezTo>
                    <a:pt x="3" y="34"/>
                    <a:pt x="0" y="22"/>
                    <a:pt x="4" y="13"/>
                  </a:cubicBezTo>
                  <a:cubicBezTo>
                    <a:pt x="9" y="3"/>
                    <a:pt x="20" y="0"/>
                    <a:pt x="30" y="4"/>
                  </a:cubicBezTo>
                  <a:cubicBezTo>
                    <a:pt x="39" y="9"/>
                    <a:pt x="43" y="21"/>
                    <a:pt x="38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19"/>
            <p:cNvSpPr/>
            <p:nvPr/>
          </p:nvSpPr>
          <p:spPr>
            <a:xfrm>
              <a:off x="658440" y="363600"/>
              <a:ext cx="99720" cy="986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182" y="142"/>
                  </a:moveTo>
                  <a:cubicBezTo>
                    <a:pt x="160" y="186"/>
                    <a:pt x="106" y="204"/>
                    <a:pt x="62" y="182"/>
                  </a:cubicBezTo>
                  <a:cubicBezTo>
                    <a:pt x="17" y="159"/>
                    <a:pt x="0" y="106"/>
                    <a:pt x="22" y="61"/>
                  </a:cubicBezTo>
                  <a:cubicBezTo>
                    <a:pt x="44" y="17"/>
                    <a:pt x="98" y="0"/>
                    <a:pt x="142" y="22"/>
                  </a:cubicBezTo>
                  <a:cubicBezTo>
                    <a:pt x="186" y="44"/>
                    <a:pt x="204" y="98"/>
                    <a:pt x="182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20"/>
            <p:cNvSpPr/>
            <p:nvPr/>
          </p:nvSpPr>
          <p:spPr>
            <a:xfrm>
              <a:off x="677520" y="370440"/>
              <a:ext cx="80280" cy="78480"/>
            </a:xfrm>
            <a:custGeom>
              <a:avLst/>
              <a:gdLst/>
              <a:ahLst/>
              <a:rect l="l" t="t" r="r" b="b"/>
              <a:pathLst>
                <a:path w="165" h="161">
                  <a:moveTo>
                    <a:pt x="103" y="6"/>
                  </a:moveTo>
                  <a:cubicBezTo>
                    <a:pt x="100" y="4"/>
                    <a:pt x="96" y="3"/>
                    <a:pt x="92" y="1"/>
                  </a:cubicBezTo>
                  <a:cubicBezTo>
                    <a:pt x="62" y="0"/>
                    <a:pt x="33" y="15"/>
                    <a:pt x="19" y="43"/>
                  </a:cubicBezTo>
                  <a:cubicBezTo>
                    <a:pt x="0" y="81"/>
                    <a:pt x="15" y="128"/>
                    <a:pt x="53" y="147"/>
                  </a:cubicBezTo>
                  <a:cubicBezTo>
                    <a:pt x="80" y="161"/>
                    <a:pt x="112" y="156"/>
                    <a:pt x="135" y="139"/>
                  </a:cubicBezTo>
                  <a:cubicBezTo>
                    <a:pt x="138" y="135"/>
                    <a:pt x="141" y="131"/>
                    <a:pt x="143" y="126"/>
                  </a:cubicBezTo>
                  <a:cubicBezTo>
                    <a:pt x="165" y="82"/>
                    <a:pt x="147" y="28"/>
                    <a:pt x="103" y="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21"/>
            <p:cNvSpPr/>
            <p:nvPr/>
          </p:nvSpPr>
          <p:spPr>
            <a:xfrm>
              <a:off x="689040" y="373320"/>
              <a:ext cx="69120" cy="687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80" y="2"/>
                  </a:moveTo>
                  <a:cubicBezTo>
                    <a:pt x="79" y="1"/>
                    <a:pt x="77" y="0"/>
                    <a:pt x="75" y="0"/>
                  </a:cubicBezTo>
                  <a:cubicBezTo>
                    <a:pt x="51" y="1"/>
                    <a:pt x="29" y="14"/>
                    <a:pt x="17" y="37"/>
                  </a:cubicBezTo>
                  <a:cubicBezTo>
                    <a:pt x="0" y="71"/>
                    <a:pt x="14" y="113"/>
                    <a:pt x="48" y="130"/>
                  </a:cubicBezTo>
                  <a:cubicBezTo>
                    <a:pt x="71" y="142"/>
                    <a:pt x="98" y="139"/>
                    <a:pt x="118" y="125"/>
                  </a:cubicBezTo>
                  <a:cubicBezTo>
                    <a:pt x="119" y="124"/>
                    <a:pt x="119" y="123"/>
                    <a:pt x="120" y="122"/>
                  </a:cubicBezTo>
                  <a:cubicBezTo>
                    <a:pt x="142" y="78"/>
                    <a:pt x="124" y="24"/>
                    <a:pt x="80" y="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22"/>
            <p:cNvSpPr/>
            <p:nvPr/>
          </p:nvSpPr>
          <p:spPr>
            <a:xfrm>
              <a:off x="689040" y="375120"/>
              <a:ext cx="20880" cy="216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39" y="30"/>
                  </a:moveTo>
                  <a:cubicBezTo>
                    <a:pt x="34" y="40"/>
                    <a:pt x="23" y="44"/>
                    <a:pt x="13" y="39"/>
                  </a:cubicBezTo>
                  <a:cubicBezTo>
                    <a:pt x="4" y="34"/>
                    <a:pt x="0" y="23"/>
                    <a:pt x="5" y="13"/>
                  </a:cubicBezTo>
                  <a:cubicBezTo>
                    <a:pt x="10" y="4"/>
                    <a:pt x="21" y="0"/>
                    <a:pt x="30" y="5"/>
                  </a:cubicBezTo>
                  <a:cubicBezTo>
                    <a:pt x="40" y="10"/>
                    <a:pt x="44" y="21"/>
                    <a:pt x="39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23"/>
            <p:cNvSpPr/>
            <p:nvPr/>
          </p:nvSpPr>
          <p:spPr>
            <a:xfrm>
              <a:off x="1050840" y="381960"/>
              <a:ext cx="145080" cy="68760"/>
            </a:xfrm>
            <a:custGeom>
              <a:avLst/>
              <a:gdLst/>
              <a:ahLst/>
              <a:rect l="l" t="t" r="r" b="b"/>
              <a:pathLst>
                <a:path w="297" h="142">
                  <a:moveTo>
                    <a:pt x="287" y="53"/>
                  </a:moveTo>
                  <a:cubicBezTo>
                    <a:pt x="276" y="40"/>
                    <a:pt x="252" y="52"/>
                    <a:pt x="237" y="60"/>
                  </a:cubicBezTo>
                  <a:cubicBezTo>
                    <a:pt x="237" y="48"/>
                    <a:pt x="234" y="34"/>
                    <a:pt x="234" y="22"/>
                  </a:cubicBezTo>
                  <a:cubicBezTo>
                    <a:pt x="233" y="0"/>
                    <a:pt x="172" y="111"/>
                    <a:pt x="169" y="47"/>
                  </a:cubicBezTo>
                  <a:cubicBezTo>
                    <a:pt x="163" y="40"/>
                    <a:pt x="150" y="71"/>
                    <a:pt x="138" y="81"/>
                  </a:cubicBezTo>
                  <a:cubicBezTo>
                    <a:pt x="135" y="72"/>
                    <a:pt x="129" y="47"/>
                    <a:pt x="122" y="50"/>
                  </a:cubicBezTo>
                  <a:cubicBezTo>
                    <a:pt x="112" y="58"/>
                    <a:pt x="106" y="72"/>
                    <a:pt x="104" y="84"/>
                  </a:cubicBezTo>
                  <a:cubicBezTo>
                    <a:pt x="85" y="72"/>
                    <a:pt x="90" y="41"/>
                    <a:pt x="68" y="38"/>
                  </a:cubicBezTo>
                  <a:cubicBezTo>
                    <a:pt x="63" y="37"/>
                    <a:pt x="75" y="60"/>
                    <a:pt x="69" y="75"/>
                  </a:cubicBezTo>
                  <a:cubicBezTo>
                    <a:pt x="46" y="65"/>
                    <a:pt x="15" y="22"/>
                    <a:pt x="7" y="37"/>
                  </a:cubicBezTo>
                  <a:cubicBezTo>
                    <a:pt x="0" y="88"/>
                    <a:pt x="80" y="128"/>
                    <a:pt x="80" y="128"/>
                  </a:cubicBezTo>
                  <a:cubicBezTo>
                    <a:pt x="94" y="142"/>
                    <a:pt x="171" y="137"/>
                    <a:pt x="194" y="135"/>
                  </a:cubicBezTo>
                  <a:cubicBezTo>
                    <a:pt x="261" y="128"/>
                    <a:pt x="297" y="69"/>
                    <a:pt x="287" y="53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24"/>
            <p:cNvSpPr/>
            <p:nvPr/>
          </p:nvSpPr>
          <p:spPr>
            <a:xfrm>
              <a:off x="1214280" y="402120"/>
              <a:ext cx="138960" cy="145800"/>
            </a:xfrm>
            <a:custGeom>
              <a:avLst/>
              <a:gdLst/>
              <a:ahLst/>
              <a:rect l="l" t="t" r="r" b="b"/>
              <a:pathLst>
                <a:path w="284" h="299">
                  <a:moveTo>
                    <a:pt x="0" y="96"/>
                  </a:moveTo>
                  <a:cubicBezTo>
                    <a:pt x="55" y="74"/>
                    <a:pt x="208" y="0"/>
                    <a:pt x="246" y="52"/>
                  </a:cubicBezTo>
                  <a:cubicBezTo>
                    <a:pt x="284" y="104"/>
                    <a:pt x="160" y="240"/>
                    <a:pt x="131" y="270"/>
                  </a:cubicBezTo>
                  <a:cubicBezTo>
                    <a:pt x="102" y="299"/>
                    <a:pt x="0" y="96"/>
                    <a:pt x="0" y="96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25"/>
            <p:cNvSpPr/>
            <p:nvPr/>
          </p:nvSpPr>
          <p:spPr>
            <a:xfrm>
              <a:off x="1239840" y="437040"/>
              <a:ext cx="92880" cy="75600"/>
            </a:xfrm>
            <a:custGeom>
              <a:avLst/>
              <a:gdLst/>
              <a:ahLst/>
              <a:rect l="l" t="t" r="r" b="b"/>
              <a:pathLst>
                <a:path w="189" h="156">
                  <a:moveTo>
                    <a:pt x="0" y="55"/>
                  </a:moveTo>
                  <a:cubicBezTo>
                    <a:pt x="36" y="41"/>
                    <a:pt x="112" y="0"/>
                    <a:pt x="160" y="17"/>
                  </a:cubicBezTo>
                  <a:cubicBezTo>
                    <a:pt x="189" y="27"/>
                    <a:pt x="116" y="141"/>
                    <a:pt x="68" y="151"/>
                  </a:cubicBezTo>
                  <a:cubicBezTo>
                    <a:pt x="41" y="156"/>
                    <a:pt x="0" y="55"/>
                    <a:pt x="0" y="55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26"/>
            <p:cNvSpPr/>
            <p:nvPr/>
          </p:nvSpPr>
          <p:spPr>
            <a:xfrm>
              <a:off x="875520" y="382680"/>
              <a:ext cx="135360" cy="153720"/>
            </a:xfrm>
            <a:custGeom>
              <a:avLst/>
              <a:gdLst/>
              <a:ahLst/>
              <a:rect l="l" t="t" r="r" b="b"/>
              <a:pathLst>
                <a:path w="279" h="314">
                  <a:moveTo>
                    <a:pt x="279" y="138"/>
                  </a:moveTo>
                  <a:cubicBezTo>
                    <a:pt x="231" y="105"/>
                    <a:pt x="98" y="0"/>
                    <a:pt x="49" y="42"/>
                  </a:cubicBezTo>
                  <a:cubicBezTo>
                    <a:pt x="0" y="85"/>
                    <a:pt x="92" y="245"/>
                    <a:pt x="114" y="280"/>
                  </a:cubicBezTo>
                  <a:cubicBezTo>
                    <a:pt x="136" y="314"/>
                    <a:pt x="279" y="138"/>
                    <a:pt x="279" y="138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27"/>
            <p:cNvSpPr/>
            <p:nvPr/>
          </p:nvSpPr>
          <p:spPr>
            <a:xfrm>
              <a:off x="898200" y="421200"/>
              <a:ext cx="84960" cy="82800"/>
            </a:xfrm>
            <a:custGeom>
              <a:avLst/>
              <a:gdLst/>
              <a:ahLst/>
              <a:rect l="l" t="t" r="r" b="b"/>
              <a:pathLst>
                <a:path w="174" h="170">
                  <a:moveTo>
                    <a:pt x="174" y="84"/>
                  </a:moveTo>
                  <a:cubicBezTo>
                    <a:pt x="143" y="61"/>
                    <a:pt x="81" y="0"/>
                    <a:pt x="30" y="4"/>
                  </a:cubicBezTo>
                  <a:cubicBezTo>
                    <a:pt x="0" y="6"/>
                    <a:pt x="39" y="135"/>
                    <a:pt x="84" y="158"/>
                  </a:cubicBezTo>
                  <a:cubicBezTo>
                    <a:pt x="108" y="170"/>
                    <a:pt x="174" y="84"/>
                    <a:pt x="174" y="84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8"/>
            <p:cNvSpPr/>
            <p:nvPr/>
          </p:nvSpPr>
          <p:spPr>
            <a:xfrm>
              <a:off x="879120" y="426600"/>
              <a:ext cx="445680" cy="294840"/>
            </a:xfrm>
            <a:custGeom>
              <a:avLst/>
              <a:gdLst/>
              <a:ahLst/>
              <a:rect l="l" t="t" r="r" b="b"/>
              <a:pathLst>
                <a:path w="913" h="605">
                  <a:moveTo>
                    <a:pt x="481" y="6"/>
                  </a:moveTo>
                  <a:cubicBezTo>
                    <a:pt x="711" y="0"/>
                    <a:pt x="913" y="81"/>
                    <a:pt x="857" y="410"/>
                  </a:cubicBezTo>
                  <a:cubicBezTo>
                    <a:pt x="836" y="542"/>
                    <a:pt x="727" y="605"/>
                    <a:pt x="432" y="600"/>
                  </a:cubicBezTo>
                  <a:cubicBezTo>
                    <a:pt x="138" y="595"/>
                    <a:pt x="0" y="467"/>
                    <a:pt x="70" y="241"/>
                  </a:cubicBezTo>
                  <a:cubicBezTo>
                    <a:pt x="140" y="14"/>
                    <a:pt x="284" y="2"/>
                    <a:pt x="481" y="6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9"/>
            <p:cNvSpPr/>
            <p:nvPr/>
          </p:nvSpPr>
          <p:spPr>
            <a:xfrm>
              <a:off x="1067040" y="527040"/>
              <a:ext cx="63720" cy="31320"/>
            </a:xfrm>
            <a:custGeom>
              <a:avLst/>
              <a:gdLst/>
              <a:ahLst/>
              <a:rect l="l" t="t" r="r" b="b"/>
              <a:pathLst>
                <a:path w="130" h="65">
                  <a:moveTo>
                    <a:pt x="27" y="8"/>
                  </a:moveTo>
                  <a:cubicBezTo>
                    <a:pt x="57" y="3"/>
                    <a:pt x="98" y="0"/>
                    <a:pt x="112" y="10"/>
                  </a:cubicBezTo>
                  <a:cubicBezTo>
                    <a:pt x="130" y="22"/>
                    <a:pt x="82" y="65"/>
                    <a:pt x="67" y="65"/>
                  </a:cubicBezTo>
                  <a:cubicBezTo>
                    <a:pt x="52" y="64"/>
                    <a:pt x="0" y="24"/>
                    <a:pt x="27" y="8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30"/>
            <p:cNvSpPr/>
            <p:nvPr/>
          </p:nvSpPr>
          <p:spPr>
            <a:xfrm>
              <a:off x="1035720" y="574200"/>
              <a:ext cx="124920" cy="83520"/>
            </a:xfrm>
            <a:custGeom>
              <a:avLst/>
              <a:gdLst/>
              <a:ahLst/>
              <a:rect l="l" t="t" r="r" b="b"/>
              <a:pathLst>
                <a:path w="256" h="172">
                  <a:moveTo>
                    <a:pt x="31" y="16"/>
                  </a:moveTo>
                  <a:cubicBezTo>
                    <a:pt x="75" y="9"/>
                    <a:pt x="202" y="0"/>
                    <a:pt x="224" y="3"/>
                  </a:cubicBezTo>
                  <a:cubicBezTo>
                    <a:pt x="256" y="7"/>
                    <a:pt x="228" y="155"/>
                    <a:pt x="142" y="163"/>
                  </a:cubicBezTo>
                  <a:cubicBezTo>
                    <a:pt x="53" y="172"/>
                    <a:pt x="0" y="24"/>
                    <a:pt x="31" y="16"/>
                  </a:cubicBezTo>
                  <a:close/>
                </a:path>
              </a:pathLst>
            </a:custGeom>
            <a:solidFill>
              <a:srgbClr val="584b3a"/>
            </a:solidFill>
            <a:ln w="3240">
              <a:solidFill>
                <a:srgbClr val="584b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31"/>
            <p:cNvSpPr/>
            <p:nvPr/>
          </p:nvSpPr>
          <p:spPr>
            <a:xfrm>
              <a:off x="958680" y="561960"/>
              <a:ext cx="61920" cy="50400"/>
            </a:xfrm>
            <a:custGeom>
              <a:avLst/>
              <a:gdLst/>
              <a:ahLst/>
              <a:rect l="l" t="t" r="r" b="b"/>
              <a:pathLst>
                <a:path w="126" h="104">
                  <a:moveTo>
                    <a:pt x="125" y="54"/>
                  </a:moveTo>
                  <a:cubicBezTo>
                    <a:pt x="124" y="82"/>
                    <a:pt x="95" y="104"/>
                    <a:pt x="61" y="102"/>
                  </a:cubicBezTo>
                  <a:cubicBezTo>
                    <a:pt x="27" y="101"/>
                    <a:pt x="0" y="77"/>
                    <a:pt x="1" y="49"/>
                  </a:cubicBezTo>
                  <a:cubicBezTo>
                    <a:pt x="2" y="21"/>
                    <a:pt x="31" y="0"/>
                    <a:pt x="65" y="1"/>
                  </a:cubicBezTo>
                  <a:cubicBezTo>
                    <a:pt x="100" y="3"/>
                    <a:pt x="126" y="26"/>
                    <a:pt x="125" y="54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32"/>
            <p:cNvSpPr/>
            <p:nvPr/>
          </p:nvSpPr>
          <p:spPr>
            <a:xfrm>
              <a:off x="1178280" y="554040"/>
              <a:ext cx="63720" cy="53280"/>
            </a:xfrm>
            <a:custGeom>
              <a:avLst/>
              <a:gdLst/>
              <a:ahLst/>
              <a:rect l="l" t="t" r="r" b="b"/>
              <a:pathLst>
                <a:path w="131" h="109">
                  <a:moveTo>
                    <a:pt x="127" y="46"/>
                  </a:moveTo>
                  <a:cubicBezTo>
                    <a:pt x="131" y="74"/>
                    <a:pt x="107" y="100"/>
                    <a:pt x="73" y="105"/>
                  </a:cubicBezTo>
                  <a:cubicBezTo>
                    <a:pt x="39" y="109"/>
                    <a:pt x="8" y="91"/>
                    <a:pt x="4" y="63"/>
                  </a:cubicBezTo>
                  <a:cubicBezTo>
                    <a:pt x="0" y="35"/>
                    <a:pt x="25" y="9"/>
                    <a:pt x="59" y="5"/>
                  </a:cubicBezTo>
                  <a:cubicBezTo>
                    <a:pt x="93" y="0"/>
                    <a:pt x="124" y="19"/>
                    <a:pt x="127" y="4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33"/>
            <p:cNvSpPr/>
            <p:nvPr/>
          </p:nvSpPr>
          <p:spPr>
            <a:xfrm>
              <a:off x="1060200" y="598680"/>
              <a:ext cx="83880" cy="56520"/>
            </a:xfrm>
            <a:custGeom>
              <a:avLst/>
              <a:gdLst/>
              <a:ahLst/>
              <a:rect l="l" t="t" r="r" b="b"/>
              <a:pathLst>
                <a:path w="172" h="116">
                  <a:moveTo>
                    <a:pt x="172" y="43"/>
                  </a:moveTo>
                  <a:cubicBezTo>
                    <a:pt x="93" y="0"/>
                    <a:pt x="24" y="35"/>
                    <a:pt x="0" y="58"/>
                  </a:cubicBezTo>
                  <a:cubicBezTo>
                    <a:pt x="21" y="89"/>
                    <a:pt x="53" y="116"/>
                    <a:pt x="92" y="112"/>
                  </a:cubicBezTo>
                  <a:cubicBezTo>
                    <a:pt x="131" y="108"/>
                    <a:pt x="157" y="77"/>
                    <a:pt x="172" y="43"/>
                  </a:cubicBezTo>
                  <a:close/>
                </a:path>
              </a:pathLst>
            </a:custGeom>
            <a:solidFill>
              <a:srgbClr val="ce2c24"/>
            </a:solidFill>
            <a:ln cap="rnd" w="324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34"/>
            <p:cNvSpPr/>
            <p:nvPr/>
          </p:nvSpPr>
          <p:spPr>
            <a:xfrm>
              <a:off x="1041840" y="429120"/>
              <a:ext cx="38160" cy="47880"/>
            </a:xfrm>
            <a:custGeom>
              <a:avLst/>
              <a:gdLst/>
              <a:ahLst/>
              <a:rect l="l" t="t" r="r" b="b"/>
              <a:pathLst>
                <a:path w="79" h="99">
                  <a:moveTo>
                    <a:pt x="19" y="90"/>
                  </a:moveTo>
                  <a:cubicBezTo>
                    <a:pt x="40" y="99"/>
                    <a:pt x="77" y="54"/>
                    <a:pt x="79" y="0"/>
                  </a:cubicBezTo>
                  <a:cubicBezTo>
                    <a:pt x="56" y="1"/>
                    <a:pt x="34" y="2"/>
                    <a:pt x="12" y="4"/>
                  </a:cubicBezTo>
                  <a:cubicBezTo>
                    <a:pt x="6" y="46"/>
                    <a:pt x="0" y="83"/>
                    <a:pt x="19" y="90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35"/>
            <p:cNvSpPr/>
            <p:nvPr/>
          </p:nvSpPr>
          <p:spPr>
            <a:xfrm>
              <a:off x="1088280" y="429120"/>
              <a:ext cx="33840" cy="48600"/>
            </a:xfrm>
            <a:custGeom>
              <a:avLst/>
              <a:gdLst/>
              <a:ahLst/>
              <a:rect l="l" t="t" r="r" b="b"/>
              <a:pathLst>
                <a:path w="69" h="101">
                  <a:moveTo>
                    <a:pt x="27" y="96"/>
                  </a:moveTo>
                  <a:cubicBezTo>
                    <a:pt x="67" y="101"/>
                    <a:pt x="68" y="45"/>
                    <a:pt x="69" y="0"/>
                  </a:cubicBezTo>
                  <a:cubicBezTo>
                    <a:pt x="64" y="0"/>
                    <a:pt x="58" y="0"/>
                    <a:pt x="52" y="1"/>
                  </a:cubicBezTo>
                  <a:cubicBezTo>
                    <a:pt x="35" y="0"/>
                    <a:pt x="18" y="0"/>
                    <a:pt x="2" y="0"/>
                  </a:cubicBezTo>
                  <a:cubicBezTo>
                    <a:pt x="0" y="48"/>
                    <a:pt x="2" y="93"/>
                    <a:pt x="27" y="96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36"/>
            <p:cNvSpPr/>
            <p:nvPr/>
          </p:nvSpPr>
          <p:spPr>
            <a:xfrm>
              <a:off x="1132920" y="429120"/>
              <a:ext cx="38160" cy="52200"/>
            </a:xfrm>
            <a:custGeom>
              <a:avLst/>
              <a:gdLst/>
              <a:ahLst/>
              <a:rect l="l" t="t" r="r" b="b"/>
              <a:pathLst>
                <a:path w="78" h="107">
                  <a:moveTo>
                    <a:pt x="13" y="88"/>
                  </a:moveTo>
                  <a:cubicBezTo>
                    <a:pt x="28" y="107"/>
                    <a:pt x="78" y="89"/>
                    <a:pt x="71" y="5"/>
                  </a:cubicBezTo>
                  <a:cubicBezTo>
                    <a:pt x="50" y="2"/>
                    <a:pt x="29" y="0"/>
                    <a:pt x="7" y="0"/>
                  </a:cubicBezTo>
                  <a:cubicBezTo>
                    <a:pt x="8" y="34"/>
                    <a:pt x="0" y="71"/>
                    <a:pt x="13" y="88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37"/>
            <p:cNvSpPr/>
            <p:nvPr/>
          </p:nvSpPr>
          <p:spPr>
            <a:xfrm>
              <a:off x="1159200" y="504360"/>
              <a:ext cx="64800" cy="39240"/>
            </a:xfrm>
            <a:custGeom>
              <a:avLst/>
              <a:gdLst/>
              <a:ahLst/>
              <a:rect l="l" t="t" r="r" b="b"/>
              <a:pathLst>
                <a:path w="133" h="81">
                  <a:moveTo>
                    <a:pt x="124" y="78"/>
                  </a:moveTo>
                  <a:cubicBezTo>
                    <a:pt x="124" y="78"/>
                    <a:pt x="124" y="78"/>
                    <a:pt x="124" y="78"/>
                  </a:cubicBezTo>
                  <a:cubicBezTo>
                    <a:pt x="118" y="79"/>
                    <a:pt x="114" y="74"/>
                    <a:pt x="114" y="69"/>
                  </a:cubicBezTo>
                  <a:cubicBezTo>
                    <a:pt x="113" y="38"/>
                    <a:pt x="87" y="20"/>
                    <a:pt x="62" y="20"/>
                  </a:cubicBezTo>
                  <a:cubicBezTo>
                    <a:pt x="36" y="20"/>
                    <a:pt x="20" y="39"/>
                    <a:pt x="20" y="71"/>
                  </a:cubicBezTo>
                  <a:cubicBezTo>
                    <a:pt x="20" y="76"/>
                    <a:pt x="15" y="80"/>
                    <a:pt x="10" y="81"/>
                  </a:cubicBezTo>
                  <a:cubicBezTo>
                    <a:pt x="4" y="81"/>
                    <a:pt x="0" y="76"/>
                    <a:pt x="0" y="71"/>
                  </a:cubicBezTo>
                  <a:cubicBezTo>
                    <a:pt x="1" y="19"/>
                    <a:pt x="34" y="1"/>
                    <a:pt x="62" y="1"/>
                  </a:cubicBezTo>
                  <a:cubicBezTo>
                    <a:pt x="96" y="0"/>
                    <a:pt x="133" y="26"/>
                    <a:pt x="133" y="69"/>
                  </a:cubicBezTo>
                  <a:cubicBezTo>
                    <a:pt x="133" y="74"/>
                    <a:pt x="129" y="78"/>
                    <a:pt x="124" y="78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38"/>
            <p:cNvSpPr/>
            <p:nvPr/>
          </p:nvSpPr>
          <p:spPr>
            <a:xfrm>
              <a:off x="1212480" y="516600"/>
              <a:ext cx="21960" cy="1224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5" y="25"/>
                  </a:moveTo>
                  <a:cubicBezTo>
                    <a:pt x="3" y="25"/>
                    <a:pt x="2" y="25"/>
                    <a:pt x="1" y="23"/>
                  </a:cubicBezTo>
                  <a:cubicBezTo>
                    <a:pt x="0" y="21"/>
                    <a:pt x="1" y="19"/>
                    <a:pt x="3" y="18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40" y="0"/>
                    <a:pt x="42" y="1"/>
                    <a:pt x="43" y="3"/>
                  </a:cubicBezTo>
                  <a:cubicBezTo>
                    <a:pt x="44" y="5"/>
                    <a:pt x="43" y="7"/>
                    <a:pt x="41" y="8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6" y="25"/>
                    <a:pt x="6" y="25"/>
                    <a:pt x="5" y="25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39"/>
            <p:cNvSpPr/>
            <p:nvPr/>
          </p:nvSpPr>
          <p:spPr>
            <a:xfrm>
              <a:off x="1208160" y="504360"/>
              <a:ext cx="18360" cy="16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5" y="33"/>
                  </a:moveTo>
                  <a:cubicBezTo>
                    <a:pt x="3" y="33"/>
                    <a:pt x="2" y="33"/>
                    <a:pt x="1" y="32"/>
                  </a:cubicBezTo>
                  <a:cubicBezTo>
                    <a:pt x="0" y="30"/>
                    <a:pt x="0" y="28"/>
                    <a:pt x="2" y="26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3" y="0"/>
                    <a:pt x="35" y="0"/>
                    <a:pt x="37" y="2"/>
                  </a:cubicBezTo>
                  <a:cubicBezTo>
                    <a:pt x="38" y="4"/>
                    <a:pt x="38" y="6"/>
                    <a:pt x="36" y="8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6" y="33"/>
                    <a:pt x="5" y="33"/>
                    <a:pt x="5" y="33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40"/>
            <p:cNvSpPr/>
            <p:nvPr/>
          </p:nvSpPr>
          <p:spPr>
            <a:xfrm>
              <a:off x="975240" y="503640"/>
              <a:ext cx="64800" cy="38880"/>
            </a:xfrm>
            <a:custGeom>
              <a:avLst/>
              <a:gdLst/>
              <a:ahLst/>
              <a:rect l="l" t="t" r="r" b="b"/>
              <a:pathLst>
                <a:path w="133" h="81">
                  <a:moveTo>
                    <a:pt x="123" y="81"/>
                  </a:moveTo>
                  <a:cubicBezTo>
                    <a:pt x="123" y="81"/>
                    <a:pt x="123" y="81"/>
                    <a:pt x="123" y="81"/>
                  </a:cubicBezTo>
                  <a:cubicBezTo>
                    <a:pt x="118" y="81"/>
                    <a:pt x="113" y="76"/>
                    <a:pt x="113" y="71"/>
                  </a:cubicBezTo>
                  <a:cubicBezTo>
                    <a:pt x="113" y="39"/>
                    <a:pt x="98" y="20"/>
                    <a:pt x="71" y="20"/>
                  </a:cubicBezTo>
                  <a:cubicBezTo>
                    <a:pt x="47" y="19"/>
                    <a:pt x="20" y="38"/>
                    <a:pt x="19" y="68"/>
                  </a:cubicBezTo>
                  <a:cubicBezTo>
                    <a:pt x="19" y="74"/>
                    <a:pt x="14" y="78"/>
                    <a:pt x="9" y="78"/>
                  </a:cubicBezTo>
                  <a:cubicBezTo>
                    <a:pt x="4" y="77"/>
                    <a:pt x="0" y="73"/>
                    <a:pt x="0" y="68"/>
                  </a:cubicBezTo>
                  <a:cubicBezTo>
                    <a:pt x="1" y="26"/>
                    <a:pt x="38" y="0"/>
                    <a:pt x="71" y="0"/>
                  </a:cubicBezTo>
                  <a:cubicBezTo>
                    <a:pt x="100" y="1"/>
                    <a:pt x="133" y="19"/>
                    <a:pt x="133" y="71"/>
                  </a:cubicBezTo>
                  <a:cubicBezTo>
                    <a:pt x="133" y="76"/>
                    <a:pt x="129" y="80"/>
                    <a:pt x="123" y="81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41"/>
            <p:cNvSpPr/>
            <p:nvPr/>
          </p:nvSpPr>
          <p:spPr>
            <a:xfrm>
              <a:off x="965880" y="515880"/>
              <a:ext cx="20880" cy="1188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9" y="26"/>
                  </a:moveTo>
                  <a:cubicBezTo>
                    <a:pt x="39" y="26"/>
                    <a:pt x="38" y="25"/>
                    <a:pt x="38" y="25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1" y="7"/>
                    <a:pt x="0" y="5"/>
                    <a:pt x="1" y="3"/>
                  </a:cubicBezTo>
                  <a:cubicBezTo>
                    <a:pt x="2" y="1"/>
                    <a:pt x="5" y="0"/>
                    <a:pt x="7" y="1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3" y="19"/>
                    <a:pt x="44" y="21"/>
                    <a:pt x="43" y="23"/>
                  </a:cubicBezTo>
                  <a:cubicBezTo>
                    <a:pt x="42" y="25"/>
                    <a:pt x="41" y="25"/>
                    <a:pt x="39" y="26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42"/>
            <p:cNvSpPr/>
            <p:nvPr/>
          </p:nvSpPr>
          <p:spPr>
            <a:xfrm>
              <a:off x="972720" y="503640"/>
              <a:ext cx="18360" cy="1656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34"/>
                  </a:moveTo>
                  <a:cubicBezTo>
                    <a:pt x="33" y="34"/>
                    <a:pt x="32" y="33"/>
                    <a:pt x="31" y="33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6"/>
                    <a:pt x="0" y="4"/>
                    <a:pt x="2" y="2"/>
                  </a:cubicBezTo>
                  <a:cubicBezTo>
                    <a:pt x="3" y="0"/>
                    <a:pt x="6" y="0"/>
                    <a:pt x="7" y="1"/>
                  </a:cubicBezTo>
                  <a:cubicBezTo>
                    <a:pt x="37" y="26"/>
                    <a:pt x="37" y="26"/>
                    <a:pt x="37" y="26"/>
                  </a:cubicBezTo>
                  <a:cubicBezTo>
                    <a:pt x="38" y="28"/>
                    <a:pt x="38" y="30"/>
                    <a:pt x="37" y="32"/>
                  </a:cubicBezTo>
                  <a:cubicBezTo>
                    <a:pt x="36" y="33"/>
                    <a:pt x="35" y="33"/>
                    <a:pt x="34" y="34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252080" y="576000"/>
              <a:ext cx="110160" cy="4320"/>
              <a:chOff x="1252080" y="576000"/>
              <a:chExt cx="110160" cy="4320"/>
            </a:xfrm>
          </p:grpSpPr>
          <p:sp>
            <p:nvSpPr>
              <p:cNvPr id="114" name="Line 43"/>
              <p:cNvSpPr/>
              <p:nvPr/>
            </p:nvSpPr>
            <p:spPr>
              <a:xfrm>
                <a:off x="1252080" y="576000"/>
                <a:ext cx="110160" cy="4320"/>
              </a:xfrm>
              <a:prstGeom prst="line">
                <a:avLst/>
              </a:prstGeom>
              <a:ln cap="rnd" w="3240">
                <a:solidFill>
                  <a:srgbClr val="604c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1252080" y="576000"/>
                <a:ext cx="110160" cy="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1250280" y="591480"/>
              <a:ext cx="105840" cy="27000"/>
              <a:chOff x="1250280" y="591480"/>
              <a:chExt cx="105840" cy="27000"/>
            </a:xfrm>
          </p:grpSpPr>
          <p:sp>
            <p:nvSpPr>
              <p:cNvPr id="117" name="Line 44"/>
              <p:cNvSpPr/>
              <p:nvPr/>
            </p:nvSpPr>
            <p:spPr>
              <a:xfrm>
                <a:off x="1250280" y="591480"/>
                <a:ext cx="105840" cy="27000"/>
              </a:xfrm>
              <a:prstGeom prst="line">
                <a:avLst/>
              </a:prstGeom>
              <a:ln cap="rnd" w="3240">
                <a:solidFill>
                  <a:srgbClr val="604c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1250280" y="591480"/>
                <a:ext cx="10584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842040" y="601200"/>
              <a:ext cx="109440" cy="16200"/>
              <a:chOff x="842040" y="601200"/>
              <a:chExt cx="109440" cy="16200"/>
            </a:xfrm>
          </p:grpSpPr>
          <p:sp>
            <p:nvSpPr>
              <p:cNvPr id="120" name="Line 45"/>
              <p:cNvSpPr/>
              <p:nvPr/>
            </p:nvSpPr>
            <p:spPr>
              <a:xfrm flipH="1">
                <a:off x="842040" y="601200"/>
                <a:ext cx="109080" cy="16200"/>
              </a:xfrm>
              <a:prstGeom prst="line">
                <a:avLst/>
              </a:prstGeom>
              <a:ln cap="rnd" w="3240">
                <a:solidFill>
                  <a:srgbClr val="604c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842400" y="601200"/>
                <a:ext cx="109080" cy="1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839520" y="588240"/>
              <a:ext cx="110160" cy="5040"/>
              <a:chOff x="839520" y="588240"/>
              <a:chExt cx="110160" cy="5040"/>
            </a:xfrm>
          </p:grpSpPr>
          <p:sp>
            <p:nvSpPr>
              <p:cNvPr id="123" name="Line 46"/>
              <p:cNvSpPr/>
              <p:nvPr/>
            </p:nvSpPr>
            <p:spPr>
              <a:xfrm flipH="1">
                <a:off x="839520" y="588240"/>
                <a:ext cx="110160" cy="5040"/>
              </a:xfrm>
              <a:prstGeom prst="line">
                <a:avLst/>
              </a:prstGeom>
              <a:ln cap="rnd" w="3240">
                <a:solidFill>
                  <a:srgbClr val="604c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839520" y="588240"/>
                <a:ext cx="110160" cy="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5" name="Freeform 47"/>
            <p:cNvSpPr/>
            <p:nvPr/>
          </p:nvSpPr>
          <p:spPr>
            <a:xfrm>
              <a:off x="879120" y="426600"/>
              <a:ext cx="445680" cy="294840"/>
            </a:xfrm>
            <a:custGeom>
              <a:avLst/>
              <a:gdLst/>
              <a:ahLst/>
              <a:rect l="l" t="t" r="r" b="b"/>
              <a:pathLst>
                <a:path w="913" h="605">
                  <a:moveTo>
                    <a:pt x="481" y="6"/>
                  </a:moveTo>
                  <a:cubicBezTo>
                    <a:pt x="711" y="0"/>
                    <a:pt x="913" y="81"/>
                    <a:pt x="857" y="410"/>
                  </a:cubicBezTo>
                  <a:cubicBezTo>
                    <a:pt x="836" y="542"/>
                    <a:pt x="727" y="605"/>
                    <a:pt x="432" y="600"/>
                  </a:cubicBezTo>
                  <a:cubicBezTo>
                    <a:pt x="138" y="595"/>
                    <a:pt x="0" y="467"/>
                    <a:pt x="70" y="241"/>
                  </a:cubicBezTo>
                  <a:cubicBezTo>
                    <a:pt x="140" y="14"/>
                    <a:pt x="284" y="2"/>
                    <a:pt x="481" y="6"/>
                  </a:cubicBezTo>
                  <a:close/>
                </a:path>
              </a:pathLst>
            </a:custGeom>
            <a:noFill/>
            <a:ln cap="rnd" w="324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6" name="图片 50" descr=""/>
          <p:cNvPicPr/>
          <p:nvPr/>
        </p:nvPicPr>
        <p:blipFill>
          <a:blip r:embed="rId3"/>
          <a:stretch/>
        </p:blipFill>
        <p:spPr>
          <a:xfrm>
            <a:off x="8332920" y="3941640"/>
            <a:ext cx="738000" cy="12020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51" descr=""/>
          <p:cNvPicPr/>
          <p:nvPr/>
        </p:nvPicPr>
        <p:blipFill>
          <a:blip r:embed="rId4"/>
          <a:stretch/>
        </p:blipFill>
        <p:spPr>
          <a:xfrm>
            <a:off x="111240" y="4259160"/>
            <a:ext cx="1528560" cy="88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76C7-934C-4931-9B55-C65FAD3032E3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E2DE-D369-42C2-90D2-2BB6DBE15164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28" descr="C:\Users\gulbanum\AppData\Local\Microsoft\Windows\Temporary Internet Files\Content.IE5\D8VBUHW3\MC900441793[1].png"/>
          <p:cNvPicPr/>
          <p:nvPr/>
        </p:nvPicPr>
        <p:blipFill>
          <a:blip r:embed="rId2"/>
          <a:stretch/>
        </p:blipFill>
        <p:spPr>
          <a:xfrm>
            <a:off x="1116000" y="0"/>
            <a:ext cx="6723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321"/>
          <p:cNvGrpSpPr/>
          <p:nvPr/>
        </p:nvGrpSpPr>
        <p:grpSpPr>
          <a:xfrm>
            <a:off x="1835280" y="1384200"/>
            <a:ext cx="1596600" cy="1055520"/>
            <a:chOff x="1835280" y="1384200"/>
            <a:chExt cx="1596600" cy="1055520"/>
          </a:xfrm>
        </p:grpSpPr>
        <p:grpSp>
          <p:nvGrpSpPr>
            <p:cNvPr id="212" name="Group 152"/>
            <p:cNvGrpSpPr/>
            <p:nvPr/>
          </p:nvGrpSpPr>
          <p:grpSpPr>
            <a:xfrm>
              <a:off x="1835280" y="1384200"/>
              <a:ext cx="1596600" cy="1055520"/>
              <a:chOff x="1835280" y="1384200"/>
              <a:chExt cx="1596600" cy="1055520"/>
            </a:xfrm>
          </p:grpSpPr>
          <p:sp>
            <p:nvSpPr>
              <p:cNvPr id="213" name="AutoShape 151"/>
              <p:cNvSpPr/>
              <p:nvPr/>
            </p:nvSpPr>
            <p:spPr>
              <a:xfrm>
                <a:off x="1835280" y="1384200"/>
                <a:ext cx="159660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153"/>
              <p:cNvSpPr/>
              <p:nvPr/>
            </p:nvSpPr>
            <p:spPr>
              <a:xfrm>
                <a:off x="2739960" y="2435040"/>
                <a:ext cx="12600" cy="10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4"/>
                    </a:moveTo>
                    <a:lnTo>
                      <a:pt x="18" y="4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Freeform 154"/>
              <p:cNvSpPr/>
              <p:nvPr/>
            </p:nvSpPr>
            <p:spPr>
              <a:xfrm>
                <a:off x="1914120" y="1413720"/>
                <a:ext cx="1495080" cy="1026000"/>
              </a:xfrm>
              <a:custGeom>
                <a:avLst/>
                <a:gdLst/>
                <a:ahLst/>
                <a:rect l="l" t="t" r="r" b="b"/>
                <a:pathLst>
                  <a:path w="2166" h="2610">
                    <a:moveTo>
                      <a:pt x="1719" y="348"/>
                    </a:moveTo>
                    <a:lnTo>
                      <a:pt x="1679" y="335"/>
                    </a:lnTo>
                    <a:lnTo>
                      <a:pt x="1643" y="323"/>
                    </a:lnTo>
                    <a:lnTo>
                      <a:pt x="1609" y="313"/>
                    </a:lnTo>
                    <a:lnTo>
                      <a:pt x="1576" y="306"/>
                    </a:lnTo>
                    <a:lnTo>
                      <a:pt x="1545" y="300"/>
                    </a:lnTo>
                    <a:lnTo>
                      <a:pt x="1514" y="296"/>
                    </a:lnTo>
                    <a:lnTo>
                      <a:pt x="1487" y="294"/>
                    </a:lnTo>
                    <a:lnTo>
                      <a:pt x="1460" y="292"/>
                    </a:lnTo>
                    <a:lnTo>
                      <a:pt x="1434" y="292"/>
                    </a:lnTo>
                    <a:lnTo>
                      <a:pt x="1409" y="292"/>
                    </a:lnTo>
                    <a:lnTo>
                      <a:pt x="1385" y="295"/>
                    </a:lnTo>
                    <a:lnTo>
                      <a:pt x="1362" y="298"/>
                    </a:lnTo>
                    <a:lnTo>
                      <a:pt x="1338" y="300"/>
                    </a:lnTo>
                    <a:lnTo>
                      <a:pt x="1317" y="304"/>
                    </a:lnTo>
                    <a:lnTo>
                      <a:pt x="1294" y="308"/>
                    </a:lnTo>
                    <a:lnTo>
                      <a:pt x="1273" y="312"/>
                    </a:lnTo>
                    <a:lnTo>
                      <a:pt x="1271" y="312"/>
                    </a:lnTo>
                    <a:lnTo>
                      <a:pt x="1269" y="312"/>
                    </a:lnTo>
                    <a:lnTo>
                      <a:pt x="1265" y="313"/>
                    </a:lnTo>
                    <a:lnTo>
                      <a:pt x="1260" y="313"/>
                    </a:lnTo>
                    <a:lnTo>
                      <a:pt x="1254" y="277"/>
                    </a:lnTo>
                    <a:lnTo>
                      <a:pt x="1246" y="237"/>
                    </a:lnTo>
                    <a:lnTo>
                      <a:pt x="1239" y="194"/>
                    </a:lnTo>
                    <a:lnTo>
                      <a:pt x="1232" y="153"/>
                    </a:lnTo>
                    <a:lnTo>
                      <a:pt x="1225" y="116"/>
                    </a:lnTo>
                    <a:lnTo>
                      <a:pt x="1220" y="87"/>
                    </a:lnTo>
                    <a:lnTo>
                      <a:pt x="1216" y="67"/>
                    </a:lnTo>
                    <a:lnTo>
                      <a:pt x="1215" y="59"/>
                    </a:lnTo>
                    <a:lnTo>
                      <a:pt x="1162" y="40"/>
                    </a:lnTo>
                    <a:lnTo>
                      <a:pt x="1106" y="9"/>
                    </a:lnTo>
                    <a:lnTo>
                      <a:pt x="1095" y="7"/>
                    </a:lnTo>
                    <a:lnTo>
                      <a:pt x="1090" y="5"/>
                    </a:lnTo>
                    <a:lnTo>
                      <a:pt x="1085" y="4"/>
                    </a:lnTo>
                    <a:lnTo>
                      <a:pt x="1080" y="3"/>
                    </a:lnTo>
                    <a:lnTo>
                      <a:pt x="1075" y="1"/>
                    </a:lnTo>
                    <a:lnTo>
                      <a:pt x="1068" y="1"/>
                    </a:lnTo>
                    <a:lnTo>
                      <a:pt x="1063" y="0"/>
                    </a:lnTo>
                    <a:lnTo>
                      <a:pt x="1058" y="0"/>
                    </a:lnTo>
                    <a:lnTo>
                      <a:pt x="1053" y="0"/>
                    </a:lnTo>
                    <a:lnTo>
                      <a:pt x="1048" y="0"/>
                    </a:lnTo>
                    <a:lnTo>
                      <a:pt x="1043" y="0"/>
                    </a:lnTo>
                    <a:lnTo>
                      <a:pt x="1038" y="1"/>
                    </a:lnTo>
                    <a:lnTo>
                      <a:pt x="1034" y="1"/>
                    </a:lnTo>
                    <a:lnTo>
                      <a:pt x="1029" y="3"/>
                    </a:lnTo>
                    <a:lnTo>
                      <a:pt x="1024" y="4"/>
                    </a:lnTo>
                    <a:lnTo>
                      <a:pt x="1019" y="5"/>
                    </a:lnTo>
                    <a:lnTo>
                      <a:pt x="1014" y="7"/>
                    </a:lnTo>
                    <a:lnTo>
                      <a:pt x="994" y="14"/>
                    </a:lnTo>
                    <a:lnTo>
                      <a:pt x="974" y="26"/>
                    </a:lnTo>
                    <a:lnTo>
                      <a:pt x="955" y="42"/>
                    </a:lnTo>
                    <a:lnTo>
                      <a:pt x="939" y="61"/>
                    </a:lnTo>
                    <a:lnTo>
                      <a:pt x="924" y="82"/>
                    </a:lnTo>
                    <a:lnTo>
                      <a:pt x="911" y="107"/>
                    </a:lnTo>
                    <a:lnTo>
                      <a:pt x="900" y="133"/>
                    </a:lnTo>
                    <a:lnTo>
                      <a:pt x="891" y="163"/>
                    </a:lnTo>
                    <a:lnTo>
                      <a:pt x="877" y="228"/>
                    </a:lnTo>
                    <a:lnTo>
                      <a:pt x="878" y="230"/>
                    </a:lnTo>
                    <a:lnTo>
                      <a:pt x="883" y="236"/>
                    </a:lnTo>
                    <a:lnTo>
                      <a:pt x="888" y="244"/>
                    </a:lnTo>
                    <a:lnTo>
                      <a:pt x="896" y="253"/>
                    </a:lnTo>
                    <a:lnTo>
                      <a:pt x="872" y="248"/>
                    </a:lnTo>
                    <a:lnTo>
                      <a:pt x="848" y="242"/>
                    </a:lnTo>
                    <a:lnTo>
                      <a:pt x="823" y="237"/>
                    </a:lnTo>
                    <a:lnTo>
                      <a:pt x="796" y="233"/>
                    </a:lnTo>
                    <a:lnTo>
                      <a:pt x="770" y="230"/>
                    </a:lnTo>
                    <a:lnTo>
                      <a:pt x="743" y="229"/>
                    </a:lnTo>
                    <a:lnTo>
                      <a:pt x="716" y="228"/>
                    </a:lnTo>
                    <a:lnTo>
                      <a:pt x="688" y="228"/>
                    </a:lnTo>
                    <a:lnTo>
                      <a:pt x="660" y="229"/>
                    </a:lnTo>
                    <a:lnTo>
                      <a:pt x="633" y="230"/>
                    </a:lnTo>
                    <a:lnTo>
                      <a:pt x="604" y="234"/>
                    </a:lnTo>
                    <a:lnTo>
                      <a:pt x="575" y="240"/>
                    </a:lnTo>
                    <a:lnTo>
                      <a:pt x="547" y="245"/>
                    </a:lnTo>
                    <a:lnTo>
                      <a:pt x="518" y="253"/>
                    </a:lnTo>
                    <a:lnTo>
                      <a:pt x="489" y="262"/>
                    </a:lnTo>
                    <a:lnTo>
                      <a:pt x="461" y="271"/>
                    </a:lnTo>
                    <a:lnTo>
                      <a:pt x="432" y="283"/>
                    </a:lnTo>
                    <a:lnTo>
                      <a:pt x="405" y="298"/>
                    </a:lnTo>
                    <a:lnTo>
                      <a:pt x="377" y="312"/>
                    </a:lnTo>
                    <a:lnTo>
                      <a:pt x="350" y="329"/>
                    </a:lnTo>
                    <a:lnTo>
                      <a:pt x="324" y="349"/>
                    </a:lnTo>
                    <a:lnTo>
                      <a:pt x="297" y="369"/>
                    </a:lnTo>
                    <a:lnTo>
                      <a:pt x="271" y="391"/>
                    </a:lnTo>
                    <a:lnTo>
                      <a:pt x="246" y="416"/>
                    </a:lnTo>
                    <a:lnTo>
                      <a:pt x="222" y="443"/>
                    </a:lnTo>
                    <a:lnTo>
                      <a:pt x="198" y="471"/>
                    </a:lnTo>
                    <a:lnTo>
                      <a:pt x="175" y="503"/>
                    </a:lnTo>
                    <a:lnTo>
                      <a:pt x="154" y="536"/>
                    </a:lnTo>
                    <a:lnTo>
                      <a:pt x="134" y="572"/>
                    </a:lnTo>
                    <a:lnTo>
                      <a:pt x="114" y="610"/>
                    </a:lnTo>
                    <a:lnTo>
                      <a:pt x="95" y="649"/>
                    </a:lnTo>
                    <a:lnTo>
                      <a:pt x="77" y="693"/>
                    </a:lnTo>
                    <a:lnTo>
                      <a:pt x="73" y="701"/>
                    </a:lnTo>
                    <a:lnTo>
                      <a:pt x="67" y="718"/>
                    </a:lnTo>
                    <a:lnTo>
                      <a:pt x="58" y="744"/>
                    </a:lnTo>
                    <a:lnTo>
                      <a:pt x="48" y="778"/>
                    </a:lnTo>
                    <a:lnTo>
                      <a:pt x="37" y="822"/>
                    </a:lnTo>
                    <a:lnTo>
                      <a:pt x="25" y="872"/>
                    </a:lnTo>
                    <a:lnTo>
                      <a:pt x="15" y="931"/>
                    </a:lnTo>
                    <a:lnTo>
                      <a:pt x="6" y="996"/>
                    </a:lnTo>
                    <a:lnTo>
                      <a:pt x="1" y="1068"/>
                    </a:lnTo>
                    <a:lnTo>
                      <a:pt x="0" y="1146"/>
                    </a:lnTo>
                    <a:lnTo>
                      <a:pt x="3" y="1230"/>
                    </a:lnTo>
                    <a:lnTo>
                      <a:pt x="10" y="1320"/>
                    </a:lnTo>
                    <a:lnTo>
                      <a:pt x="25" y="1413"/>
                    </a:lnTo>
                    <a:lnTo>
                      <a:pt x="47" y="1512"/>
                    </a:lnTo>
                    <a:lnTo>
                      <a:pt x="77" y="1615"/>
                    </a:lnTo>
                    <a:lnTo>
                      <a:pt x="116" y="1721"/>
                    </a:lnTo>
                    <a:lnTo>
                      <a:pt x="149" y="1798"/>
                    </a:lnTo>
                    <a:lnTo>
                      <a:pt x="183" y="1873"/>
                    </a:lnTo>
                    <a:lnTo>
                      <a:pt x="219" y="1944"/>
                    </a:lnTo>
                    <a:lnTo>
                      <a:pt x="258" y="2014"/>
                    </a:lnTo>
                    <a:lnTo>
                      <a:pt x="296" y="2081"/>
                    </a:lnTo>
                    <a:lnTo>
                      <a:pt x="335" y="2144"/>
                    </a:lnTo>
                    <a:lnTo>
                      <a:pt x="373" y="2203"/>
                    </a:lnTo>
                    <a:lnTo>
                      <a:pt x="410" y="2259"/>
                    </a:lnTo>
                    <a:lnTo>
                      <a:pt x="445" y="2310"/>
                    </a:lnTo>
                    <a:lnTo>
                      <a:pt x="478" y="2355"/>
                    </a:lnTo>
                    <a:lnTo>
                      <a:pt x="507" y="2396"/>
                    </a:lnTo>
                    <a:lnTo>
                      <a:pt x="533" y="2430"/>
                    </a:lnTo>
                    <a:lnTo>
                      <a:pt x="554" y="2458"/>
                    </a:lnTo>
                    <a:lnTo>
                      <a:pt x="572" y="2479"/>
                    </a:lnTo>
                    <a:lnTo>
                      <a:pt x="583" y="2493"/>
                    </a:lnTo>
                    <a:lnTo>
                      <a:pt x="588" y="2500"/>
                    </a:lnTo>
                    <a:lnTo>
                      <a:pt x="594" y="2505"/>
                    </a:lnTo>
                    <a:lnTo>
                      <a:pt x="600" y="2510"/>
                    </a:lnTo>
                    <a:lnTo>
                      <a:pt x="616" y="2523"/>
                    </a:lnTo>
                    <a:lnTo>
                      <a:pt x="635" y="2537"/>
                    </a:lnTo>
                    <a:lnTo>
                      <a:pt x="657" y="2550"/>
                    </a:lnTo>
                    <a:lnTo>
                      <a:pt x="679" y="2563"/>
                    </a:lnTo>
                    <a:lnTo>
                      <a:pt x="704" y="2575"/>
                    </a:lnTo>
                    <a:lnTo>
                      <a:pt x="731" y="2585"/>
                    </a:lnTo>
                    <a:lnTo>
                      <a:pt x="760" y="2593"/>
                    </a:lnTo>
                    <a:lnTo>
                      <a:pt x="789" y="2600"/>
                    </a:lnTo>
                    <a:lnTo>
                      <a:pt x="806" y="2602"/>
                    </a:lnTo>
                    <a:lnTo>
                      <a:pt x="825" y="2605"/>
                    </a:lnTo>
                    <a:lnTo>
                      <a:pt x="843" y="2605"/>
                    </a:lnTo>
                    <a:lnTo>
                      <a:pt x="862" y="2605"/>
                    </a:lnTo>
                    <a:lnTo>
                      <a:pt x="881" y="2602"/>
                    </a:lnTo>
                    <a:lnTo>
                      <a:pt x="900" y="2600"/>
                    </a:lnTo>
                    <a:lnTo>
                      <a:pt x="919" y="2595"/>
                    </a:lnTo>
                    <a:lnTo>
                      <a:pt x="937" y="2588"/>
                    </a:lnTo>
                    <a:lnTo>
                      <a:pt x="954" y="2580"/>
                    </a:lnTo>
                    <a:lnTo>
                      <a:pt x="912" y="2589"/>
                    </a:lnTo>
                    <a:lnTo>
                      <a:pt x="999" y="2570"/>
                    </a:lnTo>
                    <a:lnTo>
                      <a:pt x="1008" y="2567"/>
                    </a:lnTo>
                    <a:lnTo>
                      <a:pt x="1017" y="2564"/>
                    </a:lnTo>
                    <a:lnTo>
                      <a:pt x="1024" y="2562"/>
                    </a:lnTo>
                    <a:lnTo>
                      <a:pt x="1033" y="2560"/>
                    </a:lnTo>
                    <a:lnTo>
                      <a:pt x="1042" y="2559"/>
                    </a:lnTo>
                    <a:lnTo>
                      <a:pt x="1051" y="2558"/>
                    </a:lnTo>
                    <a:lnTo>
                      <a:pt x="1061" y="2558"/>
                    </a:lnTo>
                    <a:lnTo>
                      <a:pt x="1070" y="2559"/>
                    </a:lnTo>
                    <a:lnTo>
                      <a:pt x="1075" y="2560"/>
                    </a:lnTo>
                    <a:lnTo>
                      <a:pt x="1087" y="2564"/>
                    </a:lnTo>
                    <a:lnTo>
                      <a:pt x="1100" y="2568"/>
                    </a:lnTo>
                    <a:lnTo>
                      <a:pt x="1105" y="2570"/>
                    </a:lnTo>
                    <a:lnTo>
                      <a:pt x="1096" y="2563"/>
                    </a:lnTo>
                    <a:lnTo>
                      <a:pt x="1106" y="2570"/>
                    </a:lnTo>
                    <a:lnTo>
                      <a:pt x="1119" y="2576"/>
                    </a:lnTo>
                    <a:lnTo>
                      <a:pt x="1131" y="2581"/>
                    </a:lnTo>
                    <a:lnTo>
                      <a:pt x="1145" y="2587"/>
                    </a:lnTo>
                    <a:lnTo>
                      <a:pt x="1160" y="2591"/>
                    </a:lnTo>
                    <a:lnTo>
                      <a:pt x="1176" y="2595"/>
                    </a:lnTo>
                    <a:lnTo>
                      <a:pt x="1193" y="2597"/>
                    </a:lnTo>
                    <a:lnTo>
                      <a:pt x="1211" y="2600"/>
                    </a:lnTo>
                    <a:lnTo>
                      <a:pt x="1231" y="2604"/>
                    </a:lnTo>
                    <a:lnTo>
                      <a:pt x="1250" y="2608"/>
                    </a:lnTo>
                    <a:lnTo>
                      <a:pt x="1268" y="2609"/>
                    </a:lnTo>
                    <a:lnTo>
                      <a:pt x="1286" y="2610"/>
                    </a:lnTo>
                    <a:lnTo>
                      <a:pt x="1303" y="2610"/>
                    </a:lnTo>
                    <a:lnTo>
                      <a:pt x="1319" y="2610"/>
                    </a:lnTo>
                    <a:lnTo>
                      <a:pt x="1336" y="2609"/>
                    </a:lnTo>
                    <a:lnTo>
                      <a:pt x="1351" y="2608"/>
                    </a:lnTo>
                    <a:lnTo>
                      <a:pt x="1372" y="2604"/>
                    </a:lnTo>
                    <a:lnTo>
                      <a:pt x="1391" y="2600"/>
                    </a:lnTo>
                    <a:lnTo>
                      <a:pt x="1409" y="2596"/>
                    </a:lnTo>
                    <a:lnTo>
                      <a:pt x="1422" y="2591"/>
                    </a:lnTo>
                    <a:lnTo>
                      <a:pt x="1435" y="2585"/>
                    </a:lnTo>
                    <a:lnTo>
                      <a:pt x="1445" y="2581"/>
                    </a:lnTo>
                    <a:lnTo>
                      <a:pt x="1453" y="2579"/>
                    </a:lnTo>
                    <a:lnTo>
                      <a:pt x="1456" y="2576"/>
                    </a:lnTo>
                    <a:lnTo>
                      <a:pt x="1519" y="2530"/>
                    </a:lnTo>
                    <a:lnTo>
                      <a:pt x="1581" y="2476"/>
                    </a:lnTo>
                    <a:lnTo>
                      <a:pt x="1642" y="2415"/>
                    </a:lnTo>
                    <a:lnTo>
                      <a:pt x="1701" y="2350"/>
                    </a:lnTo>
                    <a:lnTo>
                      <a:pt x="1759" y="2278"/>
                    </a:lnTo>
                    <a:lnTo>
                      <a:pt x="1813" y="2203"/>
                    </a:lnTo>
                    <a:lnTo>
                      <a:pt x="1866" y="2124"/>
                    </a:lnTo>
                    <a:lnTo>
                      <a:pt x="1915" y="2040"/>
                    </a:lnTo>
                    <a:lnTo>
                      <a:pt x="1962" y="1954"/>
                    </a:lnTo>
                    <a:lnTo>
                      <a:pt x="2005" y="1868"/>
                    </a:lnTo>
                    <a:lnTo>
                      <a:pt x="2042" y="1778"/>
                    </a:lnTo>
                    <a:lnTo>
                      <a:pt x="2076" y="1688"/>
                    </a:lnTo>
                    <a:lnTo>
                      <a:pt x="2105" y="1598"/>
                    </a:lnTo>
                    <a:lnTo>
                      <a:pt x="2128" y="1508"/>
                    </a:lnTo>
                    <a:lnTo>
                      <a:pt x="2147" y="1418"/>
                    </a:lnTo>
                    <a:lnTo>
                      <a:pt x="2158" y="1332"/>
                    </a:lnTo>
                    <a:lnTo>
                      <a:pt x="2163" y="1262"/>
                    </a:lnTo>
                    <a:lnTo>
                      <a:pt x="2166" y="1189"/>
                    </a:lnTo>
                    <a:lnTo>
                      <a:pt x="2165" y="1117"/>
                    </a:lnTo>
                    <a:lnTo>
                      <a:pt x="2159" y="1043"/>
                    </a:lnTo>
                    <a:lnTo>
                      <a:pt x="2151" y="969"/>
                    </a:lnTo>
                    <a:lnTo>
                      <a:pt x="2138" y="897"/>
                    </a:lnTo>
                    <a:lnTo>
                      <a:pt x="2120" y="826"/>
                    </a:lnTo>
                    <a:lnTo>
                      <a:pt x="2098" y="756"/>
                    </a:lnTo>
                    <a:lnTo>
                      <a:pt x="2070" y="689"/>
                    </a:lnTo>
                    <a:lnTo>
                      <a:pt x="2037" y="626"/>
                    </a:lnTo>
                    <a:lnTo>
                      <a:pt x="1999" y="566"/>
                    </a:lnTo>
                    <a:lnTo>
                      <a:pt x="1955" y="511"/>
                    </a:lnTo>
                    <a:lnTo>
                      <a:pt x="1906" y="461"/>
                    </a:lnTo>
                    <a:lnTo>
                      <a:pt x="1850" y="416"/>
                    </a:lnTo>
                    <a:lnTo>
                      <a:pt x="1788" y="379"/>
                    </a:lnTo>
                    <a:lnTo>
                      <a:pt x="1719" y="3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Freeform 155"/>
              <p:cNvSpPr/>
              <p:nvPr/>
            </p:nvSpPr>
            <p:spPr>
              <a:xfrm>
                <a:off x="1990440" y="1552680"/>
                <a:ext cx="1348200" cy="849240"/>
              </a:xfrm>
              <a:custGeom>
                <a:avLst/>
                <a:gdLst/>
                <a:ahLst/>
                <a:rect l="l" t="t" r="r" b="b"/>
                <a:pathLst>
                  <a:path w="1953" h="2172">
                    <a:moveTo>
                      <a:pt x="102" y="1337"/>
                    </a:moveTo>
                    <a:lnTo>
                      <a:pt x="67" y="1237"/>
                    </a:lnTo>
                    <a:lnTo>
                      <a:pt x="41" y="1141"/>
                    </a:lnTo>
                    <a:lnTo>
                      <a:pt x="20" y="1049"/>
                    </a:lnTo>
                    <a:lnTo>
                      <a:pt x="8" y="962"/>
                    </a:lnTo>
                    <a:lnTo>
                      <a:pt x="2" y="879"/>
                    </a:lnTo>
                    <a:lnTo>
                      <a:pt x="0" y="801"/>
                    </a:lnTo>
                    <a:lnTo>
                      <a:pt x="2" y="730"/>
                    </a:lnTo>
                    <a:lnTo>
                      <a:pt x="8" y="663"/>
                    </a:lnTo>
                    <a:lnTo>
                      <a:pt x="15" y="603"/>
                    </a:lnTo>
                    <a:lnTo>
                      <a:pt x="25" y="551"/>
                    </a:lnTo>
                    <a:lnTo>
                      <a:pt x="37" y="505"/>
                    </a:lnTo>
                    <a:lnTo>
                      <a:pt x="47" y="467"/>
                    </a:lnTo>
                    <a:lnTo>
                      <a:pt x="57" y="436"/>
                    </a:lnTo>
                    <a:lnTo>
                      <a:pt x="65" y="414"/>
                    </a:lnTo>
                    <a:lnTo>
                      <a:pt x="70" y="401"/>
                    </a:lnTo>
                    <a:lnTo>
                      <a:pt x="72" y="395"/>
                    </a:lnTo>
                    <a:lnTo>
                      <a:pt x="120" y="293"/>
                    </a:lnTo>
                    <a:lnTo>
                      <a:pt x="174" y="210"/>
                    </a:lnTo>
                    <a:lnTo>
                      <a:pt x="233" y="143"/>
                    </a:lnTo>
                    <a:lnTo>
                      <a:pt x="295" y="90"/>
                    </a:lnTo>
                    <a:lnTo>
                      <a:pt x="359" y="52"/>
                    </a:lnTo>
                    <a:lnTo>
                      <a:pt x="426" y="25"/>
                    </a:lnTo>
                    <a:lnTo>
                      <a:pt x="492" y="10"/>
                    </a:lnTo>
                    <a:lnTo>
                      <a:pt x="556" y="2"/>
                    </a:lnTo>
                    <a:lnTo>
                      <a:pt x="616" y="0"/>
                    </a:lnTo>
                    <a:lnTo>
                      <a:pt x="674" y="6"/>
                    </a:lnTo>
                    <a:lnTo>
                      <a:pt x="726" y="13"/>
                    </a:lnTo>
                    <a:lnTo>
                      <a:pt x="771" y="24"/>
                    </a:lnTo>
                    <a:lnTo>
                      <a:pt x="808" y="36"/>
                    </a:lnTo>
                    <a:lnTo>
                      <a:pt x="837" y="45"/>
                    </a:lnTo>
                    <a:lnTo>
                      <a:pt x="854" y="53"/>
                    </a:lnTo>
                    <a:lnTo>
                      <a:pt x="861" y="56"/>
                    </a:lnTo>
                    <a:lnTo>
                      <a:pt x="881" y="60"/>
                    </a:lnTo>
                    <a:lnTo>
                      <a:pt x="901" y="62"/>
                    </a:lnTo>
                    <a:lnTo>
                      <a:pt x="920" y="66"/>
                    </a:lnTo>
                    <a:lnTo>
                      <a:pt x="938" y="70"/>
                    </a:lnTo>
                    <a:lnTo>
                      <a:pt x="956" y="74"/>
                    </a:lnTo>
                    <a:lnTo>
                      <a:pt x="974" y="78"/>
                    </a:lnTo>
                    <a:lnTo>
                      <a:pt x="990" y="81"/>
                    </a:lnTo>
                    <a:lnTo>
                      <a:pt x="1008" y="83"/>
                    </a:lnTo>
                    <a:lnTo>
                      <a:pt x="1026" y="86"/>
                    </a:lnTo>
                    <a:lnTo>
                      <a:pt x="1042" y="89"/>
                    </a:lnTo>
                    <a:lnTo>
                      <a:pt x="1060" y="90"/>
                    </a:lnTo>
                    <a:lnTo>
                      <a:pt x="1079" y="91"/>
                    </a:lnTo>
                    <a:lnTo>
                      <a:pt x="1098" y="91"/>
                    </a:lnTo>
                    <a:lnTo>
                      <a:pt x="1116" y="90"/>
                    </a:lnTo>
                    <a:lnTo>
                      <a:pt x="1137" y="87"/>
                    </a:lnTo>
                    <a:lnTo>
                      <a:pt x="1158" y="85"/>
                    </a:lnTo>
                    <a:lnTo>
                      <a:pt x="1179" y="81"/>
                    </a:lnTo>
                    <a:lnTo>
                      <a:pt x="1201" y="77"/>
                    </a:lnTo>
                    <a:lnTo>
                      <a:pt x="1222" y="73"/>
                    </a:lnTo>
                    <a:lnTo>
                      <a:pt x="1242" y="69"/>
                    </a:lnTo>
                    <a:lnTo>
                      <a:pt x="1265" y="66"/>
                    </a:lnTo>
                    <a:lnTo>
                      <a:pt x="1287" y="64"/>
                    </a:lnTo>
                    <a:lnTo>
                      <a:pt x="1309" y="62"/>
                    </a:lnTo>
                    <a:lnTo>
                      <a:pt x="1333" y="61"/>
                    </a:lnTo>
                    <a:lnTo>
                      <a:pt x="1357" y="62"/>
                    </a:lnTo>
                    <a:lnTo>
                      <a:pt x="1384" y="64"/>
                    </a:lnTo>
                    <a:lnTo>
                      <a:pt x="1410" y="67"/>
                    </a:lnTo>
                    <a:lnTo>
                      <a:pt x="1438" y="71"/>
                    </a:lnTo>
                    <a:lnTo>
                      <a:pt x="1468" y="78"/>
                    </a:lnTo>
                    <a:lnTo>
                      <a:pt x="1501" y="86"/>
                    </a:lnTo>
                    <a:lnTo>
                      <a:pt x="1533" y="96"/>
                    </a:lnTo>
                    <a:lnTo>
                      <a:pt x="1570" y="110"/>
                    </a:lnTo>
                    <a:lnTo>
                      <a:pt x="1630" y="137"/>
                    </a:lnTo>
                    <a:lnTo>
                      <a:pt x="1686" y="170"/>
                    </a:lnTo>
                    <a:lnTo>
                      <a:pt x="1734" y="210"/>
                    </a:lnTo>
                    <a:lnTo>
                      <a:pt x="1777" y="254"/>
                    </a:lnTo>
                    <a:lnTo>
                      <a:pt x="1814" y="305"/>
                    </a:lnTo>
                    <a:lnTo>
                      <a:pt x="1847" y="359"/>
                    </a:lnTo>
                    <a:lnTo>
                      <a:pt x="1875" y="415"/>
                    </a:lnTo>
                    <a:lnTo>
                      <a:pt x="1898" y="474"/>
                    </a:lnTo>
                    <a:lnTo>
                      <a:pt x="1915" y="536"/>
                    </a:lnTo>
                    <a:lnTo>
                      <a:pt x="1930" y="600"/>
                    </a:lnTo>
                    <a:lnTo>
                      <a:pt x="1940" y="663"/>
                    </a:lnTo>
                    <a:lnTo>
                      <a:pt x="1948" y="727"/>
                    </a:lnTo>
                    <a:lnTo>
                      <a:pt x="1952" y="792"/>
                    </a:lnTo>
                    <a:lnTo>
                      <a:pt x="1953" y="854"/>
                    </a:lnTo>
                    <a:lnTo>
                      <a:pt x="1950" y="914"/>
                    </a:lnTo>
                    <a:lnTo>
                      <a:pt x="1947" y="974"/>
                    </a:lnTo>
                    <a:lnTo>
                      <a:pt x="1937" y="1055"/>
                    </a:lnTo>
                    <a:lnTo>
                      <a:pt x="1920" y="1138"/>
                    </a:lnTo>
                    <a:lnTo>
                      <a:pt x="1899" y="1222"/>
                    </a:lnTo>
                    <a:lnTo>
                      <a:pt x="1872" y="1308"/>
                    </a:lnTo>
                    <a:lnTo>
                      <a:pt x="1841" y="1392"/>
                    </a:lnTo>
                    <a:lnTo>
                      <a:pt x="1806" y="1478"/>
                    </a:lnTo>
                    <a:lnTo>
                      <a:pt x="1767" y="1561"/>
                    </a:lnTo>
                    <a:lnTo>
                      <a:pt x="1724" y="1641"/>
                    </a:lnTo>
                    <a:lnTo>
                      <a:pt x="1677" y="1720"/>
                    </a:lnTo>
                    <a:lnTo>
                      <a:pt x="1629" y="1797"/>
                    </a:lnTo>
                    <a:lnTo>
                      <a:pt x="1578" y="1868"/>
                    </a:lnTo>
                    <a:lnTo>
                      <a:pt x="1525" y="1935"/>
                    </a:lnTo>
                    <a:lnTo>
                      <a:pt x="1470" y="1998"/>
                    </a:lnTo>
                    <a:lnTo>
                      <a:pt x="1414" y="2055"/>
                    </a:lnTo>
                    <a:lnTo>
                      <a:pt x="1357" y="2105"/>
                    </a:lnTo>
                    <a:lnTo>
                      <a:pt x="1299" y="2148"/>
                    </a:lnTo>
                    <a:lnTo>
                      <a:pt x="1298" y="2150"/>
                    </a:lnTo>
                    <a:lnTo>
                      <a:pt x="1294" y="2151"/>
                    </a:lnTo>
                    <a:lnTo>
                      <a:pt x="1289" y="2154"/>
                    </a:lnTo>
                    <a:lnTo>
                      <a:pt x="1280" y="2156"/>
                    </a:lnTo>
                    <a:lnTo>
                      <a:pt x="1270" y="2160"/>
                    </a:lnTo>
                    <a:lnTo>
                      <a:pt x="1259" y="2164"/>
                    </a:lnTo>
                    <a:lnTo>
                      <a:pt x="1245" y="2167"/>
                    </a:lnTo>
                    <a:lnTo>
                      <a:pt x="1230" y="2169"/>
                    </a:lnTo>
                    <a:lnTo>
                      <a:pt x="1216" y="2171"/>
                    </a:lnTo>
                    <a:lnTo>
                      <a:pt x="1201" y="2172"/>
                    </a:lnTo>
                    <a:lnTo>
                      <a:pt x="1186" y="2172"/>
                    </a:lnTo>
                    <a:lnTo>
                      <a:pt x="1169" y="2172"/>
                    </a:lnTo>
                    <a:lnTo>
                      <a:pt x="1152" y="2169"/>
                    </a:lnTo>
                    <a:lnTo>
                      <a:pt x="1134" y="2167"/>
                    </a:lnTo>
                    <a:lnTo>
                      <a:pt x="1115" y="2162"/>
                    </a:lnTo>
                    <a:lnTo>
                      <a:pt x="1095" y="2155"/>
                    </a:lnTo>
                    <a:lnTo>
                      <a:pt x="1057" y="2140"/>
                    </a:lnTo>
                    <a:lnTo>
                      <a:pt x="1028" y="2131"/>
                    </a:lnTo>
                    <a:lnTo>
                      <a:pt x="1008" y="2125"/>
                    </a:lnTo>
                    <a:lnTo>
                      <a:pt x="994" y="2121"/>
                    </a:lnTo>
                    <a:lnTo>
                      <a:pt x="984" y="2119"/>
                    </a:lnTo>
                    <a:lnTo>
                      <a:pt x="977" y="2118"/>
                    </a:lnTo>
                    <a:lnTo>
                      <a:pt x="970" y="2118"/>
                    </a:lnTo>
                    <a:lnTo>
                      <a:pt x="963" y="2117"/>
                    </a:lnTo>
                    <a:lnTo>
                      <a:pt x="936" y="2114"/>
                    </a:lnTo>
                    <a:lnTo>
                      <a:pt x="910" y="2114"/>
                    </a:lnTo>
                    <a:lnTo>
                      <a:pt x="885" y="2118"/>
                    </a:lnTo>
                    <a:lnTo>
                      <a:pt x="861" y="2125"/>
                    </a:lnTo>
                    <a:lnTo>
                      <a:pt x="838" y="2133"/>
                    </a:lnTo>
                    <a:lnTo>
                      <a:pt x="818" y="2139"/>
                    </a:lnTo>
                    <a:lnTo>
                      <a:pt x="802" y="2147"/>
                    </a:lnTo>
                    <a:lnTo>
                      <a:pt x="788" y="2152"/>
                    </a:lnTo>
                    <a:lnTo>
                      <a:pt x="766" y="2159"/>
                    </a:lnTo>
                    <a:lnTo>
                      <a:pt x="745" y="2162"/>
                    </a:lnTo>
                    <a:lnTo>
                      <a:pt x="725" y="2163"/>
                    </a:lnTo>
                    <a:lnTo>
                      <a:pt x="703" y="2162"/>
                    </a:lnTo>
                    <a:lnTo>
                      <a:pt x="683" y="2158"/>
                    </a:lnTo>
                    <a:lnTo>
                      <a:pt x="664" y="2152"/>
                    </a:lnTo>
                    <a:lnTo>
                      <a:pt x="645" y="2146"/>
                    </a:lnTo>
                    <a:lnTo>
                      <a:pt x="629" y="2138"/>
                    </a:lnTo>
                    <a:lnTo>
                      <a:pt x="613" y="2130"/>
                    </a:lnTo>
                    <a:lnTo>
                      <a:pt x="597" y="2122"/>
                    </a:lnTo>
                    <a:lnTo>
                      <a:pt x="585" y="2114"/>
                    </a:lnTo>
                    <a:lnTo>
                      <a:pt x="575" y="2108"/>
                    </a:lnTo>
                    <a:lnTo>
                      <a:pt x="566" y="2101"/>
                    </a:lnTo>
                    <a:lnTo>
                      <a:pt x="558" y="2096"/>
                    </a:lnTo>
                    <a:lnTo>
                      <a:pt x="555" y="2093"/>
                    </a:lnTo>
                    <a:lnTo>
                      <a:pt x="553" y="2092"/>
                    </a:lnTo>
                    <a:lnTo>
                      <a:pt x="550" y="2088"/>
                    </a:lnTo>
                    <a:lnTo>
                      <a:pt x="541" y="2076"/>
                    </a:lnTo>
                    <a:lnTo>
                      <a:pt x="526" y="2056"/>
                    </a:lnTo>
                    <a:lnTo>
                      <a:pt x="505" y="2030"/>
                    </a:lnTo>
                    <a:lnTo>
                      <a:pt x="480" y="1998"/>
                    </a:lnTo>
                    <a:lnTo>
                      <a:pt x="453" y="1959"/>
                    </a:lnTo>
                    <a:lnTo>
                      <a:pt x="421" y="1914"/>
                    </a:lnTo>
                    <a:lnTo>
                      <a:pt x="387" y="1865"/>
                    </a:lnTo>
                    <a:lnTo>
                      <a:pt x="352" y="1811"/>
                    </a:lnTo>
                    <a:lnTo>
                      <a:pt x="314" y="1752"/>
                    </a:lnTo>
                    <a:lnTo>
                      <a:pt x="276" y="1690"/>
                    </a:lnTo>
                    <a:lnTo>
                      <a:pt x="240" y="1624"/>
                    </a:lnTo>
                    <a:lnTo>
                      <a:pt x="202" y="1556"/>
                    </a:lnTo>
                    <a:lnTo>
                      <a:pt x="167" y="1485"/>
                    </a:lnTo>
                    <a:lnTo>
                      <a:pt x="134" y="1412"/>
                    </a:lnTo>
                    <a:lnTo>
                      <a:pt x="102" y="1337"/>
                    </a:lnTo>
                    <a:close/>
                  </a:path>
                </a:pathLst>
              </a:custGeom>
              <a:solidFill>
                <a:srgbClr val="ff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156"/>
              <p:cNvSpPr/>
              <p:nvPr/>
            </p:nvSpPr>
            <p:spPr>
              <a:xfrm>
                <a:off x="2466720" y="1659960"/>
                <a:ext cx="795600" cy="693720"/>
              </a:xfrm>
              <a:custGeom>
                <a:avLst/>
                <a:gdLst/>
                <a:ahLst/>
                <a:rect l="l" t="t" r="r" b="b"/>
                <a:pathLst>
                  <a:path w="1154" h="1765">
                    <a:moveTo>
                      <a:pt x="949" y="59"/>
                    </a:moveTo>
                    <a:lnTo>
                      <a:pt x="944" y="55"/>
                    </a:lnTo>
                    <a:lnTo>
                      <a:pt x="930" y="46"/>
                    </a:lnTo>
                    <a:lnTo>
                      <a:pt x="910" y="34"/>
                    </a:lnTo>
                    <a:lnTo>
                      <a:pt x="883" y="21"/>
                    </a:lnTo>
                    <a:lnTo>
                      <a:pt x="853" y="9"/>
                    </a:lnTo>
                    <a:lnTo>
                      <a:pt x="820" y="1"/>
                    </a:lnTo>
                    <a:lnTo>
                      <a:pt x="788" y="0"/>
                    </a:lnTo>
                    <a:lnTo>
                      <a:pt x="755" y="8"/>
                    </a:lnTo>
                    <a:lnTo>
                      <a:pt x="727" y="20"/>
                    </a:lnTo>
                    <a:lnTo>
                      <a:pt x="706" y="29"/>
                    </a:lnTo>
                    <a:lnTo>
                      <a:pt x="688" y="38"/>
                    </a:lnTo>
                    <a:lnTo>
                      <a:pt x="673" y="46"/>
                    </a:lnTo>
                    <a:lnTo>
                      <a:pt x="658" y="55"/>
                    </a:lnTo>
                    <a:lnTo>
                      <a:pt x="641" y="66"/>
                    </a:lnTo>
                    <a:lnTo>
                      <a:pt x="622" y="79"/>
                    </a:lnTo>
                    <a:lnTo>
                      <a:pt x="597" y="97"/>
                    </a:lnTo>
                    <a:lnTo>
                      <a:pt x="571" y="113"/>
                    </a:lnTo>
                    <a:lnTo>
                      <a:pt x="547" y="120"/>
                    </a:lnTo>
                    <a:lnTo>
                      <a:pt x="524" y="120"/>
                    </a:lnTo>
                    <a:lnTo>
                      <a:pt x="502" y="118"/>
                    </a:lnTo>
                    <a:lnTo>
                      <a:pt x="479" y="117"/>
                    </a:lnTo>
                    <a:lnTo>
                      <a:pt x="456" y="118"/>
                    </a:lnTo>
                    <a:lnTo>
                      <a:pt x="432" y="128"/>
                    </a:lnTo>
                    <a:lnTo>
                      <a:pt x="406" y="146"/>
                    </a:lnTo>
                    <a:lnTo>
                      <a:pt x="378" y="170"/>
                    </a:lnTo>
                    <a:lnTo>
                      <a:pt x="350" y="196"/>
                    </a:lnTo>
                    <a:lnTo>
                      <a:pt x="324" y="226"/>
                    </a:lnTo>
                    <a:lnTo>
                      <a:pt x="301" y="263"/>
                    </a:lnTo>
                    <a:lnTo>
                      <a:pt x="281" y="309"/>
                    </a:lnTo>
                    <a:lnTo>
                      <a:pt x="266" y="365"/>
                    </a:lnTo>
                    <a:lnTo>
                      <a:pt x="257" y="433"/>
                    </a:lnTo>
                    <a:lnTo>
                      <a:pt x="256" y="518"/>
                    </a:lnTo>
                    <a:lnTo>
                      <a:pt x="255" y="581"/>
                    </a:lnTo>
                    <a:lnTo>
                      <a:pt x="248" y="664"/>
                    </a:lnTo>
                    <a:lnTo>
                      <a:pt x="237" y="761"/>
                    </a:lnTo>
                    <a:lnTo>
                      <a:pt x="219" y="864"/>
                    </a:lnTo>
                    <a:lnTo>
                      <a:pt x="195" y="965"/>
                    </a:lnTo>
                    <a:lnTo>
                      <a:pt x="166" y="1060"/>
                    </a:lnTo>
                    <a:lnTo>
                      <a:pt x="129" y="1140"/>
                    </a:lnTo>
                    <a:lnTo>
                      <a:pt x="85" y="1200"/>
                    </a:lnTo>
                    <a:lnTo>
                      <a:pt x="58" y="1241"/>
                    </a:lnTo>
                    <a:lnTo>
                      <a:pt x="35" y="1302"/>
                    </a:lnTo>
                    <a:lnTo>
                      <a:pt x="17" y="1380"/>
                    </a:lnTo>
                    <a:lnTo>
                      <a:pt x="5" y="1463"/>
                    </a:lnTo>
                    <a:lnTo>
                      <a:pt x="0" y="1547"/>
                    </a:lnTo>
                    <a:lnTo>
                      <a:pt x="4" y="1621"/>
                    </a:lnTo>
                    <a:lnTo>
                      <a:pt x="18" y="1680"/>
                    </a:lnTo>
                    <a:lnTo>
                      <a:pt x="43" y="1715"/>
                    </a:lnTo>
                    <a:lnTo>
                      <a:pt x="71" y="1732"/>
                    </a:lnTo>
                    <a:lnTo>
                      <a:pt x="92" y="1742"/>
                    </a:lnTo>
                    <a:lnTo>
                      <a:pt x="110" y="1746"/>
                    </a:lnTo>
                    <a:lnTo>
                      <a:pt x="126" y="1746"/>
                    </a:lnTo>
                    <a:lnTo>
                      <a:pt x="142" y="1744"/>
                    </a:lnTo>
                    <a:lnTo>
                      <a:pt x="161" y="1736"/>
                    </a:lnTo>
                    <a:lnTo>
                      <a:pt x="184" y="1727"/>
                    </a:lnTo>
                    <a:lnTo>
                      <a:pt x="213" y="1716"/>
                    </a:lnTo>
                    <a:lnTo>
                      <a:pt x="231" y="1711"/>
                    </a:lnTo>
                    <a:lnTo>
                      <a:pt x="248" y="1708"/>
                    </a:lnTo>
                    <a:lnTo>
                      <a:pt x="266" y="1705"/>
                    </a:lnTo>
                    <a:lnTo>
                      <a:pt x="284" y="1703"/>
                    </a:lnTo>
                    <a:lnTo>
                      <a:pt x="302" y="1703"/>
                    </a:lnTo>
                    <a:lnTo>
                      <a:pt x="320" y="1703"/>
                    </a:lnTo>
                    <a:lnTo>
                      <a:pt x="338" y="1704"/>
                    </a:lnTo>
                    <a:lnTo>
                      <a:pt x="355" y="1707"/>
                    </a:lnTo>
                    <a:lnTo>
                      <a:pt x="372" y="1709"/>
                    </a:lnTo>
                    <a:lnTo>
                      <a:pt x="388" y="1712"/>
                    </a:lnTo>
                    <a:lnTo>
                      <a:pt x="403" y="1716"/>
                    </a:lnTo>
                    <a:lnTo>
                      <a:pt x="417" y="1720"/>
                    </a:lnTo>
                    <a:lnTo>
                      <a:pt x="430" y="1725"/>
                    </a:lnTo>
                    <a:lnTo>
                      <a:pt x="442" y="1730"/>
                    </a:lnTo>
                    <a:lnTo>
                      <a:pt x="451" y="1736"/>
                    </a:lnTo>
                    <a:lnTo>
                      <a:pt x="460" y="1741"/>
                    </a:lnTo>
                    <a:lnTo>
                      <a:pt x="476" y="1752"/>
                    </a:lnTo>
                    <a:lnTo>
                      <a:pt x="495" y="1758"/>
                    </a:lnTo>
                    <a:lnTo>
                      <a:pt x="515" y="1762"/>
                    </a:lnTo>
                    <a:lnTo>
                      <a:pt x="537" y="1765"/>
                    </a:lnTo>
                    <a:lnTo>
                      <a:pt x="558" y="1763"/>
                    </a:lnTo>
                    <a:lnTo>
                      <a:pt x="578" y="1759"/>
                    </a:lnTo>
                    <a:lnTo>
                      <a:pt x="596" y="1753"/>
                    </a:lnTo>
                    <a:lnTo>
                      <a:pt x="610" y="1742"/>
                    </a:lnTo>
                    <a:lnTo>
                      <a:pt x="619" y="1733"/>
                    </a:lnTo>
                    <a:lnTo>
                      <a:pt x="631" y="1719"/>
                    </a:lnTo>
                    <a:lnTo>
                      <a:pt x="648" y="1698"/>
                    </a:lnTo>
                    <a:lnTo>
                      <a:pt x="667" y="1674"/>
                    </a:lnTo>
                    <a:lnTo>
                      <a:pt x="688" y="1645"/>
                    </a:lnTo>
                    <a:lnTo>
                      <a:pt x="712" y="1612"/>
                    </a:lnTo>
                    <a:lnTo>
                      <a:pt x="738" y="1579"/>
                    </a:lnTo>
                    <a:lnTo>
                      <a:pt x="765" y="1543"/>
                    </a:lnTo>
                    <a:lnTo>
                      <a:pt x="791" y="1507"/>
                    </a:lnTo>
                    <a:lnTo>
                      <a:pt x="818" y="1471"/>
                    </a:lnTo>
                    <a:lnTo>
                      <a:pt x="844" y="1435"/>
                    </a:lnTo>
                    <a:lnTo>
                      <a:pt x="869" y="1403"/>
                    </a:lnTo>
                    <a:lnTo>
                      <a:pt x="892" y="1371"/>
                    </a:lnTo>
                    <a:lnTo>
                      <a:pt x="913" y="1343"/>
                    </a:lnTo>
                    <a:lnTo>
                      <a:pt x="931" y="1320"/>
                    </a:lnTo>
                    <a:lnTo>
                      <a:pt x="946" y="1301"/>
                    </a:lnTo>
                    <a:lnTo>
                      <a:pt x="963" y="1277"/>
                    </a:lnTo>
                    <a:lnTo>
                      <a:pt x="984" y="1239"/>
                    </a:lnTo>
                    <a:lnTo>
                      <a:pt x="1009" y="1189"/>
                    </a:lnTo>
                    <a:lnTo>
                      <a:pt x="1037" y="1127"/>
                    </a:lnTo>
                    <a:lnTo>
                      <a:pt x="1065" y="1056"/>
                    </a:lnTo>
                    <a:lnTo>
                      <a:pt x="1091" y="977"/>
                    </a:lnTo>
                    <a:lnTo>
                      <a:pt x="1115" y="892"/>
                    </a:lnTo>
                    <a:lnTo>
                      <a:pt x="1134" y="801"/>
                    </a:lnTo>
                    <a:lnTo>
                      <a:pt x="1148" y="706"/>
                    </a:lnTo>
                    <a:lnTo>
                      <a:pt x="1154" y="608"/>
                    </a:lnTo>
                    <a:lnTo>
                      <a:pt x="1152" y="510"/>
                    </a:lnTo>
                    <a:lnTo>
                      <a:pt x="1138" y="412"/>
                    </a:lnTo>
                    <a:lnTo>
                      <a:pt x="1113" y="317"/>
                    </a:lnTo>
                    <a:lnTo>
                      <a:pt x="1073" y="226"/>
                    </a:lnTo>
                    <a:lnTo>
                      <a:pt x="1019" y="140"/>
                    </a:lnTo>
                    <a:lnTo>
                      <a:pt x="949" y="59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57"/>
              <p:cNvSpPr/>
              <p:nvPr/>
            </p:nvSpPr>
            <p:spPr>
              <a:xfrm>
                <a:off x="2435760" y="1595520"/>
                <a:ext cx="358200" cy="88200"/>
              </a:xfrm>
              <a:custGeom>
                <a:avLst/>
                <a:gdLst/>
                <a:ahLst/>
                <a:rect l="l" t="t" r="r" b="b"/>
                <a:pathLst>
                  <a:path w="519" h="213">
                    <a:moveTo>
                      <a:pt x="301" y="75"/>
                    </a:moveTo>
                    <a:lnTo>
                      <a:pt x="296" y="72"/>
                    </a:lnTo>
                    <a:lnTo>
                      <a:pt x="282" y="66"/>
                    </a:lnTo>
                    <a:lnTo>
                      <a:pt x="262" y="57"/>
                    </a:lnTo>
                    <a:lnTo>
                      <a:pt x="235" y="45"/>
                    </a:lnTo>
                    <a:lnTo>
                      <a:pt x="206" y="33"/>
                    </a:lnTo>
                    <a:lnTo>
                      <a:pt x="175" y="21"/>
                    </a:lnTo>
                    <a:lnTo>
                      <a:pt x="143" y="10"/>
                    </a:lnTo>
                    <a:lnTo>
                      <a:pt x="113" y="4"/>
                    </a:lnTo>
                    <a:lnTo>
                      <a:pt x="87" y="0"/>
                    </a:lnTo>
                    <a:lnTo>
                      <a:pt x="64" y="1"/>
                    </a:lnTo>
                    <a:lnTo>
                      <a:pt x="44" y="4"/>
                    </a:lnTo>
                    <a:lnTo>
                      <a:pt x="29" y="9"/>
                    </a:lnTo>
                    <a:lnTo>
                      <a:pt x="16" y="16"/>
                    </a:lnTo>
                    <a:lnTo>
                      <a:pt x="7" y="21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179" y="188"/>
                    </a:lnTo>
                    <a:lnTo>
                      <a:pt x="184" y="190"/>
                    </a:lnTo>
                    <a:lnTo>
                      <a:pt x="199" y="194"/>
                    </a:lnTo>
                    <a:lnTo>
                      <a:pt x="220" y="199"/>
                    </a:lnTo>
                    <a:lnTo>
                      <a:pt x="247" y="204"/>
                    </a:lnTo>
                    <a:lnTo>
                      <a:pt x="276" y="209"/>
                    </a:lnTo>
                    <a:lnTo>
                      <a:pt x="306" y="213"/>
                    </a:lnTo>
                    <a:lnTo>
                      <a:pt x="335" y="213"/>
                    </a:lnTo>
                    <a:lnTo>
                      <a:pt x="361" y="209"/>
                    </a:lnTo>
                    <a:lnTo>
                      <a:pt x="387" y="203"/>
                    </a:lnTo>
                    <a:lnTo>
                      <a:pt x="412" y="194"/>
                    </a:lnTo>
                    <a:lnTo>
                      <a:pt x="437" y="186"/>
                    </a:lnTo>
                    <a:lnTo>
                      <a:pt x="460" y="178"/>
                    </a:lnTo>
                    <a:lnTo>
                      <a:pt x="480" y="170"/>
                    </a:lnTo>
                    <a:lnTo>
                      <a:pt x="496" y="163"/>
                    </a:lnTo>
                    <a:lnTo>
                      <a:pt x="506" y="159"/>
                    </a:lnTo>
                    <a:lnTo>
                      <a:pt x="510" y="158"/>
                    </a:lnTo>
                    <a:lnTo>
                      <a:pt x="511" y="158"/>
                    </a:lnTo>
                    <a:lnTo>
                      <a:pt x="515" y="157"/>
                    </a:lnTo>
                    <a:lnTo>
                      <a:pt x="518" y="154"/>
                    </a:lnTo>
                    <a:lnTo>
                      <a:pt x="519" y="151"/>
                    </a:lnTo>
                    <a:lnTo>
                      <a:pt x="518" y="147"/>
                    </a:lnTo>
                    <a:lnTo>
                      <a:pt x="510" y="141"/>
                    </a:lnTo>
                    <a:lnTo>
                      <a:pt x="496" y="134"/>
                    </a:lnTo>
                    <a:lnTo>
                      <a:pt x="473" y="126"/>
                    </a:lnTo>
                    <a:lnTo>
                      <a:pt x="448" y="116"/>
                    </a:lnTo>
                    <a:lnTo>
                      <a:pt x="428" y="105"/>
                    </a:lnTo>
                    <a:lnTo>
                      <a:pt x="410" y="95"/>
                    </a:lnTo>
                    <a:lnTo>
                      <a:pt x="394" y="86"/>
                    </a:lnTo>
                    <a:lnTo>
                      <a:pt x="376" y="78"/>
                    </a:lnTo>
                    <a:lnTo>
                      <a:pt x="356" y="74"/>
                    </a:lnTo>
                    <a:lnTo>
                      <a:pt x="331" y="72"/>
                    </a:lnTo>
                    <a:lnTo>
                      <a:pt x="301" y="75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158"/>
              <p:cNvSpPr/>
              <p:nvPr/>
            </p:nvSpPr>
            <p:spPr>
              <a:xfrm>
                <a:off x="2044440" y="1638000"/>
                <a:ext cx="457200" cy="559080"/>
              </a:xfrm>
              <a:custGeom>
                <a:avLst/>
                <a:gdLst/>
                <a:ahLst/>
                <a:rect l="l" t="t" r="r" b="b"/>
                <a:pathLst>
                  <a:path w="666" h="1421">
                    <a:moveTo>
                      <a:pt x="368" y="19"/>
                    </a:moveTo>
                    <a:lnTo>
                      <a:pt x="364" y="21"/>
                    </a:lnTo>
                    <a:lnTo>
                      <a:pt x="356" y="27"/>
                    </a:lnTo>
                    <a:lnTo>
                      <a:pt x="341" y="37"/>
                    </a:lnTo>
                    <a:lnTo>
                      <a:pt x="320" y="50"/>
                    </a:lnTo>
                    <a:lnTo>
                      <a:pt x="298" y="69"/>
                    </a:lnTo>
                    <a:lnTo>
                      <a:pt x="271" y="91"/>
                    </a:lnTo>
                    <a:lnTo>
                      <a:pt x="242" y="116"/>
                    </a:lnTo>
                    <a:lnTo>
                      <a:pt x="212" y="146"/>
                    </a:lnTo>
                    <a:lnTo>
                      <a:pt x="182" y="179"/>
                    </a:lnTo>
                    <a:lnTo>
                      <a:pt x="150" y="218"/>
                    </a:lnTo>
                    <a:lnTo>
                      <a:pt x="120" y="258"/>
                    </a:lnTo>
                    <a:lnTo>
                      <a:pt x="92" y="303"/>
                    </a:lnTo>
                    <a:lnTo>
                      <a:pt x="67" y="352"/>
                    </a:lnTo>
                    <a:lnTo>
                      <a:pt x="44" y="403"/>
                    </a:lnTo>
                    <a:lnTo>
                      <a:pt x="26" y="460"/>
                    </a:lnTo>
                    <a:lnTo>
                      <a:pt x="12" y="519"/>
                    </a:lnTo>
                    <a:lnTo>
                      <a:pt x="4" y="577"/>
                    </a:lnTo>
                    <a:lnTo>
                      <a:pt x="0" y="635"/>
                    </a:lnTo>
                    <a:lnTo>
                      <a:pt x="0" y="692"/>
                    </a:lnTo>
                    <a:lnTo>
                      <a:pt x="4" y="748"/>
                    </a:lnTo>
                    <a:lnTo>
                      <a:pt x="12" y="802"/>
                    </a:lnTo>
                    <a:lnTo>
                      <a:pt x="22" y="855"/>
                    </a:lnTo>
                    <a:lnTo>
                      <a:pt x="33" y="905"/>
                    </a:lnTo>
                    <a:lnTo>
                      <a:pt x="47" y="952"/>
                    </a:lnTo>
                    <a:lnTo>
                      <a:pt x="62" y="997"/>
                    </a:lnTo>
                    <a:lnTo>
                      <a:pt x="79" y="1038"/>
                    </a:lnTo>
                    <a:lnTo>
                      <a:pt x="94" y="1076"/>
                    </a:lnTo>
                    <a:lnTo>
                      <a:pt x="110" y="1109"/>
                    </a:lnTo>
                    <a:lnTo>
                      <a:pt x="125" y="1138"/>
                    </a:lnTo>
                    <a:lnTo>
                      <a:pt x="138" y="1162"/>
                    </a:lnTo>
                    <a:lnTo>
                      <a:pt x="150" y="1180"/>
                    </a:lnTo>
                    <a:lnTo>
                      <a:pt x="160" y="1194"/>
                    </a:lnTo>
                    <a:lnTo>
                      <a:pt x="179" y="1216"/>
                    </a:lnTo>
                    <a:lnTo>
                      <a:pt x="199" y="1244"/>
                    </a:lnTo>
                    <a:lnTo>
                      <a:pt x="221" y="1273"/>
                    </a:lnTo>
                    <a:lnTo>
                      <a:pt x="241" y="1302"/>
                    </a:lnTo>
                    <a:lnTo>
                      <a:pt x="260" y="1329"/>
                    </a:lnTo>
                    <a:lnTo>
                      <a:pt x="274" y="1350"/>
                    </a:lnTo>
                    <a:lnTo>
                      <a:pt x="284" y="1366"/>
                    </a:lnTo>
                    <a:lnTo>
                      <a:pt x="288" y="1371"/>
                    </a:lnTo>
                    <a:lnTo>
                      <a:pt x="290" y="1374"/>
                    </a:lnTo>
                    <a:lnTo>
                      <a:pt x="296" y="1382"/>
                    </a:lnTo>
                    <a:lnTo>
                      <a:pt x="305" y="1392"/>
                    </a:lnTo>
                    <a:lnTo>
                      <a:pt x="318" y="1404"/>
                    </a:lnTo>
                    <a:lnTo>
                      <a:pt x="330" y="1413"/>
                    </a:lnTo>
                    <a:lnTo>
                      <a:pt x="343" y="1420"/>
                    </a:lnTo>
                    <a:lnTo>
                      <a:pt x="356" y="1421"/>
                    </a:lnTo>
                    <a:lnTo>
                      <a:pt x="366" y="1413"/>
                    </a:lnTo>
                    <a:lnTo>
                      <a:pt x="376" y="1402"/>
                    </a:lnTo>
                    <a:lnTo>
                      <a:pt x="388" y="1391"/>
                    </a:lnTo>
                    <a:lnTo>
                      <a:pt x="401" y="1379"/>
                    </a:lnTo>
                    <a:lnTo>
                      <a:pt x="412" y="1365"/>
                    </a:lnTo>
                    <a:lnTo>
                      <a:pt x="424" y="1346"/>
                    </a:lnTo>
                    <a:lnTo>
                      <a:pt x="433" y="1324"/>
                    </a:lnTo>
                    <a:lnTo>
                      <a:pt x="438" y="1295"/>
                    </a:lnTo>
                    <a:lnTo>
                      <a:pt x="439" y="1259"/>
                    </a:lnTo>
                    <a:lnTo>
                      <a:pt x="436" y="1163"/>
                    </a:lnTo>
                    <a:lnTo>
                      <a:pt x="431" y="1053"/>
                    </a:lnTo>
                    <a:lnTo>
                      <a:pt x="426" y="954"/>
                    </a:lnTo>
                    <a:lnTo>
                      <a:pt x="424" y="889"/>
                    </a:lnTo>
                    <a:lnTo>
                      <a:pt x="430" y="852"/>
                    </a:lnTo>
                    <a:lnTo>
                      <a:pt x="448" y="787"/>
                    </a:lnTo>
                    <a:lnTo>
                      <a:pt x="473" y="701"/>
                    </a:lnTo>
                    <a:lnTo>
                      <a:pt x="503" y="607"/>
                    </a:lnTo>
                    <a:lnTo>
                      <a:pt x="536" y="514"/>
                    </a:lnTo>
                    <a:lnTo>
                      <a:pt x="569" y="432"/>
                    </a:lnTo>
                    <a:lnTo>
                      <a:pt x="596" y="369"/>
                    </a:lnTo>
                    <a:lnTo>
                      <a:pt x="618" y="337"/>
                    </a:lnTo>
                    <a:lnTo>
                      <a:pt x="633" y="323"/>
                    </a:lnTo>
                    <a:lnTo>
                      <a:pt x="645" y="305"/>
                    </a:lnTo>
                    <a:lnTo>
                      <a:pt x="654" y="283"/>
                    </a:lnTo>
                    <a:lnTo>
                      <a:pt x="661" y="260"/>
                    </a:lnTo>
                    <a:lnTo>
                      <a:pt x="664" y="233"/>
                    </a:lnTo>
                    <a:lnTo>
                      <a:pt x="666" y="207"/>
                    </a:lnTo>
                    <a:lnTo>
                      <a:pt x="664" y="178"/>
                    </a:lnTo>
                    <a:lnTo>
                      <a:pt x="662" y="149"/>
                    </a:lnTo>
                    <a:lnTo>
                      <a:pt x="658" y="133"/>
                    </a:lnTo>
                    <a:lnTo>
                      <a:pt x="652" y="119"/>
                    </a:lnTo>
                    <a:lnTo>
                      <a:pt x="642" y="102"/>
                    </a:lnTo>
                    <a:lnTo>
                      <a:pt x="629" y="86"/>
                    </a:lnTo>
                    <a:lnTo>
                      <a:pt x="614" y="71"/>
                    </a:lnTo>
                    <a:lnTo>
                      <a:pt x="598" y="56"/>
                    </a:lnTo>
                    <a:lnTo>
                      <a:pt x="579" y="42"/>
                    </a:lnTo>
                    <a:lnTo>
                      <a:pt x="557" y="31"/>
                    </a:lnTo>
                    <a:lnTo>
                      <a:pt x="536" y="20"/>
                    </a:lnTo>
                    <a:lnTo>
                      <a:pt x="513" y="11"/>
                    </a:lnTo>
                    <a:lnTo>
                      <a:pt x="489" y="4"/>
                    </a:lnTo>
                    <a:lnTo>
                      <a:pt x="464" y="0"/>
                    </a:lnTo>
                    <a:lnTo>
                      <a:pt x="440" y="0"/>
                    </a:lnTo>
                    <a:lnTo>
                      <a:pt x="416" y="3"/>
                    </a:lnTo>
                    <a:lnTo>
                      <a:pt x="392" y="8"/>
                    </a:lnTo>
                    <a:lnTo>
                      <a:pt x="368" y="19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159"/>
              <p:cNvSpPr/>
              <p:nvPr/>
            </p:nvSpPr>
            <p:spPr>
              <a:xfrm>
                <a:off x="2429640" y="2357280"/>
                <a:ext cx="409680" cy="36360"/>
              </a:xfrm>
              <a:custGeom>
                <a:avLst/>
                <a:gdLst/>
                <a:ahLst/>
                <a:rect l="l" t="t" r="r" b="b"/>
                <a:pathLst>
                  <a:path w="590" h="105">
                    <a:moveTo>
                      <a:pt x="81" y="104"/>
                    </a:moveTo>
                    <a:lnTo>
                      <a:pt x="71" y="101"/>
                    </a:lnTo>
                    <a:lnTo>
                      <a:pt x="59" y="99"/>
                    </a:lnTo>
                    <a:lnTo>
                      <a:pt x="49" y="93"/>
                    </a:lnTo>
                    <a:lnTo>
                      <a:pt x="39" y="88"/>
                    </a:lnTo>
                    <a:lnTo>
                      <a:pt x="29" y="80"/>
                    </a:lnTo>
                    <a:lnTo>
                      <a:pt x="19" y="71"/>
                    </a:lnTo>
                    <a:lnTo>
                      <a:pt x="9" y="59"/>
                    </a:lnTo>
                    <a:lnTo>
                      <a:pt x="0" y="46"/>
                    </a:lnTo>
                    <a:lnTo>
                      <a:pt x="5" y="47"/>
                    </a:lnTo>
                    <a:lnTo>
                      <a:pt x="20" y="50"/>
                    </a:lnTo>
                    <a:lnTo>
                      <a:pt x="42" y="53"/>
                    </a:lnTo>
                    <a:lnTo>
                      <a:pt x="68" y="55"/>
                    </a:lnTo>
                    <a:lnTo>
                      <a:pt x="98" y="55"/>
                    </a:lnTo>
                    <a:lnTo>
                      <a:pt x="130" y="53"/>
                    </a:lnTo>
                    <a:lnTo>
                      <a:pt x="159" y="45"/>
                    </a:lnTo>
                    <a:lnTo>
                      <a:pt x="185" y="32"/>
                    </a:lnTo>
                    <a:lnTo>
                      <a:pt x="198" y="24"/>
                    </a:lnTo>
                    <a:lnTo>
                      <a:pt x="213" y="17"/>
                    </a:lnTo>
                    <a:lnTo>
                      <a:pt x="230" y="12"/>
                    </a:lnTo>
                    <a:lnTo>
                      <a:pt x="247" y="7"/>
                    </a:lnTo>
                    <a:lnTo>
                      <a:pt x="266" y="4"/>
                    </a:lnTo>
                    <a:lnTo>
                      <a:pt x="286" y="1"/>
                    </a:lnTo>
                    <a:lnTo>
                      <a:pt x="306" y="0"/>
                    </a:lnTo>
                    <a:lnTo>
                      <a:pt x="327" y="0"/>
                    </a:lnTo>
                    <a:lnTo>
                      <a:pt x="348" y="1"/>
                    </a:lnTo>
                    <a:lnTo>
                      <a:pt x="368" y="4"/>
                    </a:lnTo>
                    <a:lnTo>
                      <a:pt x="390" y="8"/>
                    </a:lnTo>
                    <a:lnTo>
                      <a:pt x="410" y="12"/>
                    </a:lnTo>
                    <a:lnTo>
                      <a:pt x="429" y="17"/>
                    </a:lnTo>
                    <a:lnTo>
                      <a:pt x="446" y="25"/>
                    </a:lnTo>
                    <a:lnTo>
                      <a:pt x="464" y="33"/>
                    </a:lnTo>
                    <a:lnTo>
                      <a:pt x="479" y="42"/>
                    </a:lnTo>
                    <a:lnTo>
                      <a:pt x="505" y="58"/>
                    </a:lnTo>
                    <a:lnTo>
                      <a:pt x="528" y="66"/>
                    </a:lnTo>
                    <a:lnTo>
                      <a:pt x="547" y="70"/>
                    </a:lnTo>
                    <a:lnTo>
                      <a:pt x="562" y="68"/>
                    </a:lnTo>
                    <a:lnTo>
                      <a:pt x="573" y="66"/>
                    </a:lnTo>
                    <a:lnTo>
                      <a:pt x="582" y="62"/>
                    </a:lnTo>
                    <a:lnTo>
                      <a:pt x="587" y="58"/>
                    </a:lnTo>
                    <a:lnTo>
                      <a:pt x="589" y="57"/>
                    </a:lnTo>
                    <a:lnTo>
                      <a:pt x="589" y="59"/>
                    </a:lnTo>
                    <a:lnTo>
                      <a:pt x="590" y="66"/>
                    </a:lnTo>
                    <a:lnTo>
                      <a:pt x="587" y="75"/>
                    </a:lnTo>
                    <a:lnTo>
                      <a:pt x="580" y="84"/>
                    </a:lnTo>
                    <a:lnTo>
                      <a:pt x="565" y="91"/>
                    </a:lnTo>
                    <a:lnTo>
                      <a:pt x="541" y="93"/>
                    </a:lnTo>
                    <a:lnTo>
                      <a:pt x="504" y="90"/>
                    </a:lnTo>
                    <a:lnTo>
                      <a:pt x="454" y="78"/>
                    </a:lnTo>
                    <a:lnTo>
                      <a:pt x="451" y="76"/>
                    </a:lnTo>
                    <a:lnTo>
                      <a:pt x="446" y="75"/>
                    </a:lnTo>
                    <a:lnTo>
                      <a:pt x="436" y="72"/>
                    </a:lnTo>
                    <a:lnTo>
                      <a:pt x="425" y="68"/>
                    </a:lnTo>
                    <a:lnTo>
                      <a:pt x="410" y="66"/>
                    </a:lnTo>
                    <a:lnTo>
                      <a:pt x="392" y="62"/>
                    </a:lnTo>
                    <a:lnTo>
                      <a:pt x="373" y="58"/>
                    </a:lnTo>
                    <a:lnTo>
                      <a:pt x="354" y="54"/>
                    </a:lnTo>
                    <a:lnTo>
                      <a:pt x="333" y="51"/>
                    </a:lnTo>
                    <a:lnTo>
                      <a:pt x="311" y="49"/>
                    </a:lnTo>
                    <a:lnTo>
                      <a:pt x="289" y="49"/>
                    </a:lnTo>
                    <a:lnTo>
                      <a:pt x="267" y="49"/>
                    </a:lnTo>
                    <a:lnTo>
                      <a:pt x="247" y="51"/>
                    </a:lnTo>
                    <a:lnTo>
                      <a:pt x="227" y="55"/>
                    </a:lnTo>
                    <a:lnTo>
                      <a:pt x="209" y="61"/>
                    </a:lnTo>
                    <a:lnTo>
                      <a:pt x="193" y="70"/>
                    </a:lnTo>
                    <a:lnTo>
                      <a:pt x="190" y="71"/>
                    </a:lnTo>
                    <a:lnTo>
                      <a:pt x="184" y="76"/>
                    </a:lnTo>
                    <a:lnTo>
                      <a:pt x="173" y="83"/>
                    </a:lnTo>
                    <a:lnTo>
                      <a:pt x="159" y="90"/>
                    </a:lnTo>
                    <a:lnTo>
                      <a:pt x="141" y="96"/>
                    </a:lnTo>
                    <a:lnTo>
                      <a:pt x="122" y="101"/>
                    </a:lnTo>
                    <a:lnTo>
                      <a:pt x="102" y="105"/>
                    </a:lnTo>
                    <a:lnTo>
                      <a:pt x="81" y="104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160"/>
              <p:cNvSpPr/>
              <p:nvPr/>
            </p:nvSpPr>
            <p:spPr>
              <a:xfrm>
                <a:off x="2085840" y="1666080"/>
                <a:ext cx="327240" cy="435240"/>
              </a:xfrm>
              <a:custGeom>
                <a:avLst/>
                <a:gdLst/>
                <a:ahLst/>
                <a:rect l="l" t="t" r="r" b="b"/>
                <a:pathLst>
                  <a:path w="474" h="1109">
                    <a:moveTo>
                      <a:pt x="312" y="8"/>
                    </a:moveTo>
                    <a:lnTo>
                      <a:pt x="309" y="10"/>
                    </a:lnTo>
                    <a:lnTo>
                      <a:pt x="303" y="12"/>
                    </a:lnTo>
                    <a:lnTo>
                      <a:pt x="293" y="18"/>
                    </a:lnTo>
                    <a:lnTo>
                      <a:pt x="279" y="25"/>
                    </a:lnTo>
                    <a:lnTo>
                      <a:pt x="261" y="36"/>
                    </a:lnTo>
                    <a:lnTo>
                      <a:pt x="242" y="48"/>
                    </a:lnTo>
                    <a:lnTo>
                      <a:pt x="222" y="62"/>
                    </a:lnTo>
                    <a:lnTo>
                      <a:pt x="199" y="79"/>
                    </a:lnTo>
                    <a:lnTo>
                      <a:pt x="177" y="100"/>
                    </a:lnTo>
                    <a:lnTo>
                      <a:pt x="153" y="123"/>
                    </a:lnTo>
                    <a:lnTo>
                      <a:pt x="129" y="148"/>
                    </a:lnTo>
                    <a:lnTo>
                      <a:pt x="106" y="176"/>
                    </a:lnTo>
                    <a:lnTo>
                      <a:pt x="85" y="207"/>
                    </a:lnTo>
                    <a:lnTo>
                      <a:pt x="65" y="241"/>
                    </a:lnTo>
                    <a:lnTo>
                      <a:pt x="46" y="278"/>
                    </a:lnTo>
                    <a:lnTo>
                      <a:pt x="31" y="318"/>
                    </a:lnTo>
                    <a:lnTo>
                      <a:pt x="9" y="401"/>
                    </a:lnTo>
                    <a:lnTo>
                      <a:pt x="0" y="485"/>
                    </a:lnTo>
                    <a:lnTo>
                      <a:pt x="0" y="569"/>
                    </a:lnTo>
                    <a:lnTo>
                      <a:pt x="7" y="648"/>
                    </a:lnTo>
                    <a:lnTo>
                      <a:pt x="17" y="721"/>
                    </a:lnTo>
                    <a:lnTo>
                      <a:pt x="28" y="780"/>
                    </a:lnTo>
                    <a:lnTo>
                      <a:pt x="38" y="826"/>
                    </a:lnTo>
                    <a:lnTo>
                      <a:pt x="46" y="853"/>
                    </a:lnTo>
                    <a:lnTo>
                      <a:pt x="60" y="892"/>
                    </a:lnTo>
                    <a:lnTo>
                      <a:pt x="77" y="933"/>
                    </a:lnTo>
                    <a:lnTo>
                      <a:pt x="96" y="971"/>
                    </a:lnTo>
                    <a:lnTo>
                      <a:pt x="115" y="1007"/>
                    </a:lnTo>
                    <a:lnTo>
                      <a:pt x="133" y="1037"/>
                    </a:lnTo>
                    <a:lnTo>
                      <a:pt x="148" y="1061"/>
                    </a:lnTo>
                    <a:lnTo>
                      <a:pt x="158" y="1076"/>
                    </a:lnTo>
                    <a:lnTo>
                      <a:pt x="162" y="1082"/>
                    </a:lnTo>
                    <a:lnTo>
                      <a:pt x="163" y="1086"/>
                    </a:lnTo>
                    <a:lnTo>
                      <a:pt x="167" y="1094"/>
                    </a:lnTo>
                    <a:lnTo>
                      <a:pt x="173" y="1103"/>
                    </a:lnTo>
                    <a:lnTo>
                      <a:pt x="180" y="1108"/>
                    </a:lnTo>
                    <a:lnTo>
                      <a:pt x="191" y="1109"/>
                    </a:lnTo>
                    <a:lnTo>
                      <a:pt x="202" y="1100"/>
                    </a:lnTo>
                    <a:lnTo>
                      <a:pt x="216" y="1079"/>
                    </a:lnTo>
                    <a:lnTo>
                      <a:pt x="230" y="1041"/>
                    </a:lnTo>
                    <a:lnTo>
                      <a:pt x="238" y="983"/>
                    </a:lnTo>
                    <a:lnTo>
                      <a:pt x="238" y="907"/>
                    </a:lnTo>
                    <a:lnTo>
                      <a:pt x="232" y="821"/>
                    </a:lnTo>
                    <a:lnTo>
                      <a:pt x="227" y="727"/>
                    </a:lnTo>
                    <a:lnTo>
                      <a:pt x="225" y="633"/>
                    </a:lnTo>
                    <a:lnTo>
                      <a:pt x="232" y="543"/>
                    </a:lnTo>
                    <a:lnTo>
                      <a:pt x="254" y="463"/>
                    </a:lnTo>
                    <a:lnTo>
                      <a:pt x="293" y="397"/>
                    </a:lnTo>
                    <a:lnTo>
                      <a:pt x="339" y="343"/>
                    </a:lnTo>
                    <a:lnTo>
                      <a:pt x="380" y="295"/>
                    </a:lnTo>
                    <a:lnTo>
                      <a:pt x="411" y="255"/>
                    </a:lnTo>
                    <a:lnTo>
                      <a:pt x="437" y="220"/>
                    </a:lnTo>
                    <a:lnTo>
                      <a:pt x="455" y="190"/>
                    </a:lnTo>
                    <a:lnTo>
                      <a:pt x="468" y="164"/>
                    </a:lnTo>
                    <a:lnTo>
                      <a:pt x="474" y="139"/>
                    </a:lnTo>
                    <a:lnTo>
                      <a:pt x="473" y="116"/>
                    </a:lnTo>
                    <a:lnTo>
                      <a:pt x="468" y="93"/>
                    </a:lnTo>
                    <a:lnTo>
                      <a:pt x="459" y="69"/>
                    </a:lnTo>
                    <a:lnTo>
                      <a:pt x="446" y="46"/>
                    </a:lnTo>
                    <a:lnTo>
                      <a:pt x="430" y="27"/>
                    </a:lnTo>
                    <a:lnTo>
                      <a:pt x="410" y="11"/>
                    </a:lnTo>
                    <a:lnTo>
                      <a:pt x="382" y="2"/>
                    </a:lnTo>
                    <a:lnTo>
                      <a:pt x="351" y="0"/>
                    </a:lnTo>
                    <a:lnTo>
                      <a:pt x="312" y="8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161"/>
              <p:cNvSpPr/>
              <p:nvPr/>
            </p:nvSpPr>
            <p:spPr>
              <a:xfrm>
                <a:off x="2512440" y="2351520"/>
                <a:ext cx="306360" cy="37800"/>
              </a:xfrm>
              <a:custGeom>
                <a:avLst/>
                <a:gdLst/>
                <a:ahLst/>
                <a:rect l="l" t="t" r="r" b="b"/>
                <a:pathLst>
                  <a:path w="442" h="110">
                    <a:moveTo>
                      <a:pt x="0" y="85"/>
                    </a:moveTo>
                    <a:lnTo>
                      <a:pt x="3" y="85"/>
                    </a:lnTo>
                    <a:lnTo>
                      <a:pt x="9" y="84"/>
                    </a:lnTo>
                    <a:lnTo>
                      <a:pt x="19" y="83"/>
                    </a:lnTo>
                    <a:lnTo>
                      <a:pt x="32" y="79"/>
                    </a:lnTo>
                    <a:lnTo>
                      <a:pt x="46" y="75"/>
                    </a:lnTo>
                    <a:lnTo>
                      <a:pt x="61" y="71"/>
                    </a:lnTo>
                    <a:lnTo>
                      <a:pt x="76" y="64"/>
                    </a:lnTo>
                    <a:lnTo>
                      <a:pt x="88" y="56"/>
                    </a:lnTo>
                    <a:lnTo>
                      <a:pt x="90" y="55"/>
                    </a:lnTo>
                    <a:lnTo>
                      <a:pt x="93" y="51"/>
                    </a:lnTo>
                    <a:lnTo>
                      <a:pt x="100" y="45"/>
                    </a:lnTo>
                    <a:lnTo>
                      <a:pt x="109" y="37"/>
                    </a:lnTo>
                    <a:lnTo>
                      <a:pt x="119" y="29"/>
                    </a:lnTo>
                    <a:lnTo>
                      <a:pt x="131" y="20"/>
                    </a:lnTo>
                    <a:lnTo>
                      <a:pt x="146" y="13"/>
                    </a:lnTo>
                    <a:lnTo>
                      <a:pt x="161" y="6"/>
                    </a:lnTo>
                    <a:lnTo>
                      <a:pt x="179" y="1"/>
                    </a:lnTo>
                    <a:lnTo>
                      <a:pt x="198" y="0"/>
                    </a:lnTo>
                    <a:lnTo>
                      <a:pt x="218" y="1"/>
                    </a:lnTo>
                    <a:lnTo>
                      <a:pt x="240" y="6"/>
                    </a:lnTo>
                    <a:lnTo>
                      <a:pt x="262" y="17"/>
                    </a:lnTo>
                    <a:lnTo>
                      <a:pt x="285" y="31"/>
                    </a:lnTo>
                    <a:lnTo>
                      <a:pt x="309" y="53"/>
                    </a:lnTo>
                    <a:lnTo>
                      <a:pt x="333" y="80"/>
                    </a:lnTo>
                    <a:lnTo>
                      <a:pt x="335" y="81"/>
                    </a:lnTo>
                    <a:lnTo>
                      <a:pt x="343" y="84"/>
                    </a:lnTo>
                    <a:lnTo>
                      <a:pt x="355" y="89"/>
                    </a:lnTo>
                    <a:lnTo>
                      <a:pt x="369" y="95"/>
                    </a:lnTo>
                    <a:lnTo>
                      <a:pt x="387" y="99"/>
                    </a:lnTo>
                    <a:lnTo>
                      <a:pt x="405" y="103"/>
                    </a:lnTo>
                    <a:lnTo>
                      <a:pt x="423" y="104"/>
                    </a:lnTo>
                    <a:lnTo>
                      <a:pt x="442" y="103"/>
                    </a:lnTo>
                    <a:lnTo>
                      <a:pt x="441" y="104"/>
                    </a:lnTo>
                    <a:lnTo>
                      <a:pt x="437" y="107"/>
                    </a:lnTo>
                    <a:lnTo>
                      <a:pt x="429" y="109"/>
                    </a:lnTo>
                    <a:lnTo>
                      <a:pt x="415" y="110"/>
                    </a:lnTo>
                    <a:lnTo>
                      <a:pt x="393" y="110"/>
                    </a:lnTo>
                    <a:lnTo>
                      <a:pt x="363" y="107"/>
                    </a:lnTo>
                    <a:lnTo>
                      <a:pt x="321" y="96"/>
                    </a:lnTo>
                    <a:lnTo>
                      <a:pt x="270" y="80"/>
                    </a:lnTo>
                    <a:lnTo>
                      <a:pt x="267" y="79"/>
                    </a:lnTo>
                    <a:lnTo>
                      <a:pt x="260" y="74"/>
                    </a:lnTo>
                    <a:lnTo>
                      <a:pt x="248" y="68"/>
                    </a:lnTo>
                    <a:lnTo>
                      <a:pt x="231" y="62"/>
                    </a:lnTo>
                    <a:lnTo>
                      <a:pt x="209" y="58"/>
                    </a:lnTo>
                    <a:lnTo>
                      <a:pt x="184" y="58"/>
                    </a:lnTo>
                    <a:lnTo>
                      <a:pt x="154" y="62"/>
                    </a:lnTo>
                    <a:lnTo>
                      <a:pt x="120" y="71"/>
                    </a:lnTo>
                    <a:lnTo>
                      <a:pt x="119" y="72"/>
                    </a:lnTo>
                    <a:lnTo>
                      <a:pt x="112" y="76"/>
                    </a:lnTo>
                    <a:lnTo>
                      <a:pt x="103" y="81"/>
                    </a:lnTo>
                    <a:lnTo>
                      <a:pt x="90" y="87"/>
                    </a:lnTo>
                    <a:lnTo>
                      <a:pt x="73" y="91"/>
                    </a:lnTo>
                    <a:lnTo>
                      <a:pt x="52" y="92"/>
                    </a:lnTo>
                    <a:lnTo>
                      <a:pt x="28" y="91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162"/>
              <p:cNvSpPr/>
              <p:nvPr/>
            </p:nvSpPr>
            <p:spPr>
              <a:xfrm>
                <a:off x="2512440" y="1608120"/>
                <a:ext cx="327240" cy="64800"/>
              </a:xfrm>
              <a:custGeom>
                <a:avLst/>
                <a:gdLst/>
                <a:ahLst/>
                <a:rect l="l" t="t" r="r" b="b"/>
                <a:pathLst>
                  <a:path w="473" h="165">
                    <a:moveTo>
                      <a:pt x="0" y="0"/>
                    </a:moveTo>
                    <a:lnTo>
                      <a:pt x="4" y="0"/>
                    </a:lnTo>
                    <a:lnTo>
                      <a:pt x="13" y="2"/>
                    </a:lnTo>
                    <a:lnTo>
                      <a:pt x="28" y="4"/>
                    </a:lnTo>
                    <a:lnTo>
                      <a:pt x="48" y="9"/>
                    </a:lnTo>
                    <a:lnTo>
                      <a:pt x="72" y="17"/>
                    </a:lnTo>
                    <a:lnTo>
                      <a:pt x="98" y="28"/>
                    </a:lnTo>
                    <a:lnTo>
                      <a:pt x="129" y="42"/>
                    </a:lnTo>
                    <a:lnTo>
                      <a:pt x="159" y="61"/>
                    </a:lnTo>
                    <a:lnTo>
                      <a:pt x="190" y="78"/>
                    </a:lnTo>
                    <a:lnTo>
                      <a:pt x="221" y="90"/>
                    </a:lnTo>
                    <a:lnTo>
                      <a:pt x="251" y="98"/>
                    </a:lnTo>
                    <a:lnTo>
                      <a:pt x="277" y="100"/>
                    </a:lnTo>
                    <a:lnTo>
                      <a:pt x="300" y="102"/>
                    </a:lnTo>
                    <a:lnTo>
                      <a:pt x="318" y="102"/>
                    </a:lnTo>
                    <a:lnTo>
                      <a:pt x="329" y="100"/>
                    </a:lnTo>
                    <a:lnTo>
                      <a:pt x="333" y="100"/>
                    </a:lnTo>
                    <a:lnTo>
                      <a:pt x="473" y="49"/>
                    </a:lnTo>
                    <a:lnTo>
                      <a:pt x="469" y="53"/>
                    </a:lnTo>
                    <a:lnTo>
                      <a:pt x="457" y="62"/>
                    </a:lnTo>
                    <a:lnTo>
                      <a:pt x="441" y="77"/>
                    </a:lnTo>
                    <a:lnTo>
                      <a:pt x="422" y="94"/>
                    </a:lnTo>
                    <a:lnTo>
                      <a:pt x="401" y="111"/>
                    </a:lnTo>
                    <a:lnTo>
                      <a:pt x="381" y="127"/>
                    </a:lnTo>
                    <a:lnTo>
                      <a:pt x="363" y="141"/>
                    </a:lnTo>
                    <a:lnTo>
                      <a:pt x="350" y="150"/>
                    </a:lnTo>
                    <a:lnTo>
                      <a:pt x="344" y="154"/>
                    </a:lnTo>
                    <a:lnTo>
                      <a:pt x="334" y="157"/>
                    </a:lnTo>
                    <a:lnTo>
                      <a:pt x="323" y="160"/>
                    </a:lnTo>
                    <a:lnTo>
                      <a:pt x="309" y="161"/>
                    </a:lnTo>
                    <a:lnTo>
                      <a:pt x="295" y="164"/>
                    </a:lnTo>
                    <a:lnTo>
                      <a:pt x="279" y="164"/>
                    </a:lnTo>
                    <a:lnTo>
                      <a:pt x="261" y="165"/>
                    </a:lnTo>
                    <a:lnTo>
                      <a:pt x="243" y="164"/>
                    </a:lnTo>
                    <a:lnTo>
                      <a:pt x="224" y="162"/>
                    </a:lnTo>
                    <a:lnTo>
                      <a:pt x="207" y="161"/>
                    </a:lnTo>
                    <a:lnTo>
                      <a:pt x="189" y="157"/>
                    </a:lnTo>
                    <a:lnTo>
                      <a:pt x="172" y="153"/>
                    </a:lnTo>
                    <a:lnTo>
                      <a:pt x="156" y="148"/>
                    </a:lnTo>
                    <a:lnTo>
                      <a:pt x="141" y="141"/>
                    </a:lnTo>
                    <a:lnTo>
                      <a:pt x="127" y="133"/>
                    </a:lnTo>
                    <a:lnTo>
                      <a:pt x="116" y="124"/>
                    </a:lnTo>
                    <a:lnTo>
                      <a:pt x="97" y="103"/>
                    </a:lnTo>
                    <a:lnTo>
                      <a:pt x="81" y="82"/>
                    </a:lnTo>
                    <a:lnTo>
                      <a:pt x="68" y="62"/>
                    </a:lnTo>
                    <a:lnTo>
                      <a:pt x="56" y="42"/>
                    </a:lnTo>
                    <a:lnTo>
                      <a:pt x="43" y="27"/>
                    </a:lnTo>
                    <a:lnTo>
                      <a:pt x="30" y="13"/>
                    </a:lnTo>
                    <a:lnTo>
                      <a:pt x="1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163"/>
              <p:cNvSpPr/>
              <p:nvPr/>
            </p:nvSpPr>
            <p:spPr>
              <a:xfrm>
                <a:off x="2813040" y="1702800"/>
                <a:ext cx="392760" cy="373680"/>
              </a:xfrm>
              <a:custGeom>
                <a:avLst/>
                <a:gdLst/>
                <a:ahLst/>
                <a:rect l="l" t="t" r="r" b="b"/>
                <a:pathLst>
                  <a:path w="570" h="953">
                    <a:moveTo>
                      <a:pt x="443" y="29"/>
                    </a:moveTo>
                    <a:lnTo>
                      <a:pt x="440" y="26"/>
                    </a:lnTo>
                    <a:lnTo>
                      <a:pt x="432" y="19"/>
                    </a:lnTo>
                    <a:lnTo>
                      <a:pt x="418" y="13"/>
                    </a:lnTo>
                    <a:lnTo>
                      <a:pt x="400" y="5"/>
                    </a:lnTo>
                    <a:lnTo>
                      <a:pt x="377" y="0"/>
                    </a:lnTo>
                    <a:lnTo>
                      <a:pt x="351" y="0"/>
                    </a:lnTo>
                    <a:lnTo>
                      <a:pt x="322" y="5"/>
                    </a:lnTo>
                    <a:lnTo>
                      <a:pt x="289" y="19"/>
                    </a:lnTo>
                    <a:lnTo>
                      <a:pt x="258" y="35"/>
                    </a:lnTo>
                    <a:lnTo>
                      <a:pt x="233" y="44"/>
                    </a:lnTo>
                    <a:lnTo>
                      <a:pt x="210" y="48"/>
                    </a:lnTo>
                    <a:lnTo>
                      <a:pt x="191" y="51"/>
                    </a:lnTo>
                    <a:lnTo>
                      <a:pt x="175" y="52"/>
                    </a:lnTo>
                    <a:lnTo>
                      <a:pt x="160" y="56"/>
                    </a:lnTo>
                    <a:lnTo>
                      <a:pt x="146" y="65"/>
                    </a:lnTo>
                    <a:lnTo>
                      <a:pt x="132" y="80"/>
                    </a:lnTo>
                    <a:lnTo>
                      <a:pt x="104" y="126"/>
                    </a:lnTo>
                    <a:lnTo>
                      <a:pt x="81" y="180"/>
                    </a:lnTo>
                    <a:lnTo>
                      <a:pt x="63" y="241"/>
                    </a:lnTo>
                    <a:lnTo>
                      <a:pt x="47" y="304"/>
                    </a:lnTo>
                    <a:lnTo>
                      <a:pt x="36" y="366"/>
                    </a:lnTo>
                    <a:lnTo>
                      <a:pt x="26" y="425"/>
                    </a:lnTo>
                    <a:lnTo>
                      <a:pt x="17" y="479"/>
                    </a:lnTo>
                    <a:lnTo>
                      <a:pt x="8" y="524"/>
                    </a:lnTo>
                    <a:lnTo>
                      <a:pt x="2" y="569"/>
                    </a:lnTo>
                    <a:lnTo>
                      <a:pt x="0" y="623"/>
                    </a:lnTo>
                    <a:lnTo>
                      <a:pt x="2" y="679"/>
                    </a:lnTo>
                    <a:lnTo>
                      <a:pt x="8" y="736"/>
                    </a:lnTo>
                    <a:lnTo>
                      <a:pt x="18" y="788"/>
                    </a:lnTo>
                    <a:lnTo>
                      <a:pt x="34" y="832"/>
                    </a:lnTo>
                    <a:lnTo>
                      <a:pt x="54" y="864"/>
                    </a:lnTo>
                    <a:lnTo>
                      <a:pt x="79" y="878"/>
                    </a:lnTo>
                    <a:lnTo>
                      <a:pt x="104" y="885"/>
                    </a:lnTo>
                    <a:lnTo>
                      <a:pt x="127" y="893"/>
                    </a:lnTo>
                    <a:lnTo>
                      <a:pt x="146" y="904"/>
                    </a:lnTo>
                    <a:lnTo>
                      <a:pt x="165" y="915"/>
                    </a:lnTo>
                    <a:lnTo>
                      <a:pt x="181" y="927"/>
                    </a:lnTo>
                    <a:lnTo>
                      <a:pt x="197" y="937"/>
                    </a:lnTo>
                    <a:lnTo>
                      <a:pt x="212" y="947"/>
                    </a:lnTo>
                    <a:lnTo>
                      <a:pt x="229" y="952"/>
                    </a:lnTo>
                    <a:lnTo>
                      <a:pt x="238" y="953"/>
                    </a:lnTo>
                    <a:lnTo>
                      <a:pt x="249" y="953"/>
                    </a:lnTo>
                    <a:lnTo>
                      <a:pt x="260" y="950"/>
                    </a:lnTo>
                    <a:lnTo>
                      <a:pt x="274" y="947"/>
                    </a:lnTo>
                    <a:lnTo>
                      <a:pt x="288" y="940"/>
                    </a:lnTo>
                    <a:lnTo>
                      <a:pt x="303" y="933"/>
                    </a:lnTo>
                    <a:lnTo>
                      <a:pt x="320" y="924"/>
                    </a:lnTo>
                    <a:lnTo>
                      <a:pt x="336" y="914"/>
                    </a:lnTo>
                    <a:lnTo>
                      <a:pt x="354" y="902"/>
                    </a:lnTo>
                    <a:lnTo>
                      <a:pt x="370" y="887"/>
                    </a:lnTo>
                    <a:lnTo>
                      <a:pt x="388" y="873"/>
                    </a:lnTo>
                    <a:lnTo>
                      <a:pt x="405" y="857"/>
                    </a:lnTo>
                    <a:lnTo>
                      <a:pt x="423" y="840"/>
                    </a:lnTo>
                    <a:lnTo>
                      <a:pt x="440" y="820"/>
                    </a:lnTo>
                    <a:lnTo>
                      <a:pt x="457" y="800"/>
                    </a:lnTo>
                    <a:lnTo>
                      <a:pt x="473" y="779"/>
                    </a:lnTo>
                    <a:lnTo>
                      <a:pt x="511" y="711"/>
                    </a:lnTo>
                    <a:lnTo>
                      <a:pt x="541" y="623"/>
                    </a:lnTo>
                    <a:lnTo>
                      <a:pt x="561" y="520"/>
                    </a:lnTo>
                    <a:lnTo>
                      <a:pt x="570" y="411"/>
                    </a:lnTo>
                    <a:lnTo>
                      <a:pt x="564" y="300"/>
                    </a:lnTo>
                    <a:lnTo>
                      <a:pt x="543" y="195"/>
                    </a:lnTo>
                    <a:lnTo>
                      <a:pt x="502" y="102"/>
                    </a:lnTo>
                    <a:lnTo>
                      <a:pt x="443" y="29"/>
                    </a:lnTo>
                    <a:close/>
                  </a:path>
                </a:pathLst>
              </a:custGeom>
              <a:solidFill>
                <a:srgbClr val="ff72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164"/>
              <p:cNvSpPr/>
              <p:nvPr/>
            </p:nvSpPr>
            <p:spPr>
              <a:xfrm>
                <a:off x="2918160" y="1814760"/>
                <a:ext cx="207000" cy="199080"/>
              </a:xfrm>
              <a:custGeom>
                <a:avLst/>
                <a:gdLst/>
                <a:ahLst/>
                <a:rect l="l" t="t" r="r" b="b"/>
                <a:pathLst>
                  <a:path w="297" h="507">
                    <a:moveTo>
                      <a:pt x="231" y="15"/>
                    </a:moveTo>
                    <a:lnTo>
                      <a:pt x="229" y="14"/>
                    </a:lnTo>
                    <a:lnTo>
                      <a:pt x="224" y="11"/>
                    </a:lnTo>
                    <a:lnTo>
                      <a:pt x="218" y="7"/>
                    </a:lnTo>
                    <a:lnTo>
                      <a:pt x="208" y="3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68" y="3"/>
                    </a:lnTo>
                    <a:lnTo>
                      <a:pt x="151" y="11"/>
                    </a:lnTo>
                    <a:lnTo>
                      <a:pt x="136" y="19"/>
                    </a:lnTo>
                    <a:lnTo>
                      <a:pt x="122" y="24"/>
                    </a:lnTo>
                    <a:lnTo>
                      <a:pt x="111" y="27"/>
                    </a:lnTo>
                    <a:lnTo>
                      <a:pt x="102" y="28"/>
                    </a:lnTo>
                    <a:lnTo>
                      <a:pt x="93" y="29"/>
                    </a:lnTo>
                    <a:lnTo>
                      <a:pt x="86" y="31"/>
                    </a:lnTo>
                    <a:lnTo>
                      <a:pt x="78" y="35"/>
                    </a:lnTo>
                    <a:lnTo>
                      <a:pt x="71" y="43"/>
                    </a:lnTo>
                    <a:lnTo>
                      <a:pt x="57" y="66"/>
                    </a:lnTo>
                    <a:lnTo>
                      <a:pt x="44" y="95"/>
                    </a:lnTo>
                    <a:lnTo>
                      <a:pt x="35" y="127"/>
                    </a:lnTo>
                    <a:lnTo>
                      <a:pt x="26" y="158"/>
                    </a:lnTo>
                    <a:lnTo>
                      <a:pt x="20" y="191"/>
                    </a:lnTo>
                    <a:lnTo>
                      <a:pt x="15" y="223"/>
                    </a:lnTo>
                    <a:lnTo>
                      <a:pt x="10" y="252"/>
                    </a:lnTo>
                    <a:lnTo>
                      <a:pt x="5" y="276"/>
                    </a:lnTo>
                    <a:lnTo>
                      <a:pt x="1" y="299"/>
                    </a:lnTo>
                    <a:lnTo>
                      <a:pt x="0" y="328"/>
                    </a:lnTo>
                    <a:lnTo>
                      <a:pt x="1" y="359"/>
                    </a:lnTo>
                    <a:lnTo>
                      <a:pt x="4" y="389"/>
                    </a:lnTo>
                    <a:lnTo>
                      <a:pt x="9" y="418"/>
                    </a:lnTo>
                    <a:lnTo>
                      <a:pt x="16" y="442"/>
                    </a:lnTo>
                    <a:lnTo>
                      <a:pt x="26" y="459"/>
                    </a:lnTo>
                    <a:lnTo>
                      <a:pt x="39" y="467"/>
                    </a:lnTo>
                    <a:lnTo>
                      <a:pt x="53" y="471"/>
                    </a:lnTo>
                    <a:lnTo>
                      <a:pt x="64" y="475"/>
                    </a:lnTo>
                    <a:lnTo>
                      <a:pt x="76" y="481"/>
                    </a:lnTo>
                    <a:lnTo>
                      <a:pt x="84" y="486"/>
                    </a:lnTo>
                    <a:lnTo>
                      <a:pt x="93" y="493"/>
                    </a:lnTo>
                    <a:lnTo>
                      <a:pt x="102" y="500"/>
                    </a:lnTo>
                    <a:lnTo>
                      <a:pt x="110" y="503"/>
                    </a:lnTo>
                    <a:lnTo>
                      <a:pt x="118" y="507"/>
                    </a:lnTo>
                    <a:lnTo>
                      <a:pt x="128" y="507"/>
                    </a:lnTo>
                    <a:lnTo>
                      <a:pt x="142" y="503"/>
                    </a:lnTo>
                    <a:lnTo>
                      <a:pt x="157" y="497"/>
                    </a:lnTo>
                    <a:lnTo>
                      <a:pt x="175" y="485"/>
                    </a:lnTo>
                    <a:lnTo>
                      <a:pt x="194" y="472"/>
                    </a:lnTo>
                    <a:lnTo>
                      <a:pt x="212" y="455"/>
                    </a:lnTo>
                    <a:lnTo>
                      <a:pt x="231" y="435"/>
                    </a:lnTo>
                    <a:lnTo>
                      <a:pt x="248" y="413"/>
                    </a:lnTo>
                    <a:lnTo>
                      <a:pt x="268" y="376"/>
                    </a:lnTo>
                    <a:lnTo>
                      <a:pt x="283" y="328"/>
                    </a:lnTo>
                    <a:lnTo>
                      <a:pt x="294" y="274"/>
                    </a:lnTo>
                    <a:lnTo>
                      <a:pt x="297" y="215"/>
                    </a:lnTo>
                    <a:lnTo>
                      <a:pt x="294" y="157"/>
                    </a:lnTo>
                    <a:lnTo>
                      <a:pt x="282" y="102"/>
                    </a:lnTo>
                    <a:lnTo>
                      <a:pt x="262" y="53"/>
                    </a:lnTo>
                    <a:lnTo>
                      <a:pt x="231" y="15"/>
                    </a:lnTo>
                    <a:close/>
                  </a:path>
                </a:pathLst>
              </a:custGeom>
              <a:solidFill>
                <a:srgbClr val="ffa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165"/>
              <p:cNvSpPr/>
              <p:nvPr/>
            </p:nvSpPr>
            <p:spPr>
              <a:xfrm>
                <a:off x="2607840" y="1590480"/>
                <a:ext cx="279360" cy="59040"/>
              </a:xfrm>
              <a:custGeom>
                <a:avLst/>
                <a:gdLst/>
                <a:ahLst/>
                <a:rect l="l" t="t" r="r" b="b"/>
                <a:pathLst>
                  <a:path w="406" h="150">
                    <a:moveTo>
                      <a:pt x="29" y="82"/>
                    </a:moveTo>
                    <a:lnTo>
                      <a:pt x="29" y="75"/>
                    </a:lnTo>
                    <a:lnTo>
                      <a:pt x="27" y="61"/>
                    </a:lnTo>
                    <a:lnTo>
                      <a:pt x="23" y="44"/>
                    </a:lnTo>
                    <a:lnTo>
                      <a:pt x="14" y="29"/>
                    </a:lnTo>
                    <a:lnTo>
                      <a:pt x="5" y="17"/>
                    </a:lnTo>
                    <a:lnTo>
                      <a:pt x="0" y="8"/>
                    </a:lnTo>
                    <a:lnTo>
                      <a:pt x="3" y="1"/>
                    </a:lnTo>
                    <a:lnTo>
                      <a:pt x="14" y="0"/>
                    </a:lnTo>
                    <a:lnTo>
                      <a:pt x="25" y="1"/>
                    </a:lnTo>
                    <a:lnTo>
                      <a:pt x="41" y="4"/>
                    </a:lnTo>
                    <a:lnTo>
                      <a:pt x="58" y="7"/>
                    </a:lnTo>
                    <a:lnTo>
                      <a:pt x="77" y="9"/>
                    </a:lnTo>
                    <a:lnTo>
                      <a:pt x="96" y="13"/>
                    </a:lnTo>
                    <a:lnTo>
                      <a:pt x="114" y="17"/>
                    </a:lnTo>
                    <a:lnTo>
                      <a:pt x="130" y="20"/>
                    </a:lnTo>
                    <a:lnTo>
                      <a:pt x="144" y="22"/>
                    </a:lnTo>
                    <a:lnTo>
                      <a:pt x="158" y="24"/>
                    </a:lnTo>
                    <a:lnTo>
                      <a:pt x="174" y="24"/>
                    </a:lnTo>
                    <a:lnTo>
                      <a:pt x="193" y="24"/>
                    </a:lnTo>
                    <a:lnTo>
                      <a:pt x="214" y="22"/>
                    </a:lnTo>
                    <a:lnTo>
                      <a:pt x="235" y="21"/>
                    </a:lnTo>
                    <a:lnTo>
                      <a:pt x="253" y="19"/>
                    </a:lnTo>
                    <a:lnTo>
                      <a:pt x="270" y="16"/>
                    </a:lnTo>
                    <a:lnTo>
                      <a:pt x="284" y="13"/>
                    </a:lnTo>
                    <a:lnTo>
                      <a:pt x="295" y="11"/>
                    </a:lnTo>
                    <a:lnTo>
                      <a:pt x="308" y="8"/>
                    </a:lnTo>
                    <a:lnTo>
                      <a:pt x="319" y="5"/>
                    </a:lnTo>
                    <a:lnTo>
                      <a:pt x="332" y="3"/>
                    </a:lnTo>
                    <a:lnTo>
                      <a:pt x="343" y="3"/>
                    </a:lnTo>
                    <a:lnTo>
                      <a:pt x="355" y="3"/>
                    </a:lnTo>
                    <a:lnTo>
                      <a:pt x="368" y="4"/>
                    </a:lnTo>
                    <a:lnTo>
                      <a:pt x="381" y="8"/>
                    </a:lnTo>
                    <a:lnTo>
                      <a:pt x="400" y="20"/>
                    </a:lnTo>
                    <a:lnTo>
                      <a:pt x="406" y="37"/>
                    </a:lnTo>
                    <a:lnTo>
                      <a:pt x="401" y="53"/>
                    </a:lnTo>
                    <a:lnTo>
                      <a:pt x="387" y="66"/>
                    </a:lnTo>
                    <a:lnTo>
                      <a:pt x="377" y="71"/>
                    </a:lnTo>
                    <a:lnTo>
                      <a:pt x="364" y="76"/>
                    </a:lnTo>
                    <a:lnTo>
                      <a:pt x="352" y="83"/>
                    </a:lnTo>
                    <a:lnTo>
                      <a:pt x="339" y="90"/>
                    </a:lnTo>
                    <a:lnTo>
                      <a:pt x="328" y="96"/>
                    </a:lnTo>
                    <a:lnTo>
                      <a:pt x="319" y="102"/>
                    </a:lnTo>
                    <a:lnTo>
                      <a:pt x="313" y="104"/>
                    </a:lnTo>
                    <a:lnTo>
                      <a:pt x="310" y="105"/>
                    </a:lnTo>
                    <a:lnTo>
                      <a:pt x="250" y="129"/>
                    </a:lnTo>
                    <a:lnTo>
                      <a:pt x="245" y="130"/>
                    </a:lnTo>
                    <a:lnTo>
                      <a:pt x="233" y="132"/>
                    </a:lnTo>
                    <a:lnTo>
                      <a:pt x="216" y="136"/>
                    </a:lnTo>
                    <a:lnTo>
                      <a:pt x="195" y="140"/>
                    </a:lnTo>
                    <a:lnTo>
                      <a:pt x="175" y="144"/>
                    </a:lnTo>
                    <a:lnTo>
                      <a:pt x="156" y="146"/>
                    </a:lnTo>
                    <a:lnTo>
                      <a:pt x="143" y="149"/>
                    </a:lnTo>
                    <a:lnTo>
                      <a:pt x="136" y="150"/>
                    </a:lnTo>
                    <a:lnTo>
                      <a:pt x="133" y="149"/>
                    </a:lnTo>
                    <a:lnTo>
                      <a:pt x="125" y="146"/>
                    </a:lnTo>
                    <a:lnTo>
                      <a:pt x="114" y="141"/>
                    </a:lnTo>
                    <a:lnTo>
                      <a:pt x="101" y="133"/>
                    </a:lnTo>
                    <a:lnTo>
                      <a:pt x="85" y="123"/>
                    </a:lnTo>
                    <a:lnTo>
                      <a:pt x="68" y="111"/>
                    </a:lnTo>
                    <a:lnTo>
                      <a:pt x="49" y="98"/>
                    </a:lnTo>
                    <a:lnTo>
                      <a:pt x="29" y="82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166"/>
              <p:cNvSpPr/>
              <p:nvPr/>
            </p:nvSpPr>
            <p:spPr>
              <a:xfrm>
                <a:off x="2000880" y="1640160"/>
                <a:ext cx="360000" cy="705240"/>
              </a:xfrm>
              <a:custGeom>
                <a:avLst/>
                <a:gdLst/>
                <a:ahLst/>
                <a:rect l="l" t="t" r="r" b="b"/>
                <a:pathLst>
                  <a:path w="521" h="1794">
                    <a:moveTo>
                      <a:pt x="221" y="0"/>
                    </a:moveTo>
                    <a:lnTo>
                      <a:pt x="217" y="4"/>
                    </a:lnTo>
                    <a:lnTo>
                      <a:pt x="204" y="14"/>
                    </a:lnTo>
                    <a:lnTo>
                      <a:pt x="187" y="33"/>
                    </a:lnTo>
                    <a:lnTo>
                      <a:pt x="164" y="58"/>
                    </a:lnTo>
                    <a:lnTo>
                      <a:pt x="139" y="92"/>
                    </a:lnTo>
                    <a:lnTo>
                      <a:pt x="113" y="134"/>
                    </a:lnTo>
                    <a:lnTo>
                      <a:pt x="85" y="184"/>
                    </a:lnTo>
                    <a:lnTo>
                      <a:pt x="60" y="244"/>
                    </a:lnTo>
                    <a:lnTo>
                      <a:pt x="37" y="312"/>
                    </a:lnTo>
                    <a:lnTo>
                      <a:pt x="18" y="388"/>
                    </a:lnTo>
                    <a:lnTo>
                      <a:pt x="5" y="475"/>
                    </a:lnTo>
                    <a:lnTo>
                      <a:pt x="0" y="570"/>
                    </a:lnTo>
                    <a:lnTo>
                      <a:pt x="4" y="676"/>
                    </a:lnTo>
                    <a:lnTo>
                      <a:pt x="19" y="791"/>
                    </a:lnTo>
                    <a:lnTo>
                      <a:pt x="46" y="918"/>
                    </a:lnTo>
                    <a:lnTo>
                      <a:pt x="85" y="1053"/>
                    </a:lnTo>
                    <a:lnTo>
                      <a:pt x="89" y="1060"/>
                    </a:lnTo>
                    <a:lnTo>
                      <a:pt x="100" y="1080"/>
                    </a:lnTo>
                    <a:lnTo>
                      <a:pt x="116" y="1111"/>
                    </a:lnTo>
                    <a:lnTo>
                      <a:pt x="139" y="1152"/>
                    </a:lnTo>
                    <a:lnTo>
                      <a:pt x="165" y="1201"/>
                    </a:lnTo>
                    <a:lnTo>
                      <a:pt x="196" y="1256"/>
                    </a:lnTo>
                    <a:lnTo>
                      <a:pt x="230" y="1317"/>
                    </a:lnTo>
                    <a:lnTo>
                      <a:pt x="265" y="1380"/>
                    </a:lnTo>
                    <a:lnTo>
                      <a:pt x="301" y="1443"/>
                    </a:lnTo>
                    <a:lnTo>
                      <a:pt x="338" y="1508"/>
                    </a:lnTo>
                    <a:lnTo>
                      <a:pt x="375" y="1570"/>
                    </a:lnTo>
                    <a:lnTo>
                      <a:pt x="410" y="1629"/>
                    </a:lnTo>
                    <a:lnTo>
                      <a:pt x="443" y="1682"/>
                    </a:lnTo>
                    <a:lnTo>
                      <a:pt x="473" y="1728"/>
                    </a:lnTo>
                    <a:lnTo>
                      <a:pt x="499" y="1766"/>
                    </a:lnTo>
                    <a:lnTo>
                      <a:pt x="521" y="1794"/>
                    </a:lnTo>
                    <a:lnTo>
                      <a:pt x="517" y="1787"/>
                    </a:lnTo>
                    <a:lnTo>
                      <a:pt x="507" y="1769"/>
                    </a:lnTo>
                    <a:lnTo>
                      <a:pt x="492" y="1740"/>
                    </a:lnTo>
                    <a:lnTo>
                      <a:pt x="472" y="1703"/>
                    </a:lnTo>
                    <a:lnTo>
                      <a:pt x="448" y="1657"/>
                    </a:lnTo>
                    <a:lnTo>
                      <a:pt x="419" y="1605"/>
                    </a:lnTo>
                    <a:lnTo>
                      <a:pt x="388" y="1549"/>
                    </a:lnTo>
                    <a:lnTo>
                      <a:pt x="357" y="1488"/>
                    </a:lnTo>
                    <a:lnTo>
                      <a:pt x="323" y="1426"/>
                    </a:lnTo>
                    <a:lnTo>
                      <a:pt x="289" y="1363"/>
                    </a:lnTo>
                    <a:lnTo>
                      <a:pt x="255" y="1301"/>
                    </a:lnTo>
                    <a:lnTo>
                      <a:pt x="223" y="1241"/>
                    </a:lnTo>
                    <a:lnTo>
                      <a:pt x="193" y="1184"/>
                    </a:lnTo>
                    <a:lnTo>
                      <a:pt x="164" y="1131"/>
                    </a:lnTo>
                    <a:lnTo>
                      <a:pt x="140" y="1085"/>
                    </a:lnTo>
                    <a:lnTo>
                      <a:pt x="120" y="1047"/>
                    </a:lnTo>
                    <a:lnTo>
                      <a:pt x="118" y="1040"/>
                    </a:lnTo>
                    <a:lnTo>
                      <a:pt x="111" y="1021"/>
                    </a:lnTo>
                    <a:lnTo>
                      <a:pt x="101" y="989"/>
                    </a:lnTo>
                    <a:lnTo>
                      <a:pt x="90" y="945"/>
                    </a:lnTo>
                    <a:lnTo>
                      <a:pt x="77" y="894"/>
                    </a:lnTo>
                    <a:lnTo>
                      <a:pt x="66" y="834"/>
                    </a:lnTo>
                    <a:lnTo>
                      <a:pt x="56" y="765"/>
                    </a:lnTo>
                    <a:lnTo>
                      <a:pt x="48" y="691"/>
                    </a:lnTo>
                    <a:lnTo>
                      <a:pt x="43" y="611"/>
                    </a:lnTo>
                    <a:lnTo>
                      <a:pt x="44" y="528"/>
                    </a:lnTo>
                    <a:lnTo>
                      <a:pt x="52" y="441"/>
                    </a:lnTo>
                    <a:lnTo>
                      <a:pt x="67" y="352"/>
                    </a:lnTo>
                    <a:lnTo>
                      <a:pt x="90" y="262"/>
                    </a:lnTo>
                    <a:lnTo>
                      <a:pt x="123" y="172"/>
                    </a:lnTo>
                    <a:lnTo>
                      <a:pt x="165" y="85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167"/>
              <p:cNvSpPr/>
              <p:nvPr/>
            </p:nvSpPr>
            <p:spPr>
              <a:xfrm>
                <a:off x="2557800" y="1621440"/>
                <a:ext cx="242280" cy="46800"/>
              </a:xfrm>
              <a:custGeom>
                <a:avLst/>
                <a:gdLst/>
                <a:ahLst/>
                <a:rect l="l" t="t" r="r" b="b"/>
                <a:pathLst>
                  <a:path w="350" h="120">
                    <a:moveTo>
                      <a:pt x="0" y="0"/>
                    </a:moveTo>
                    <a:lnTo>
                      <a:pt x="5" y="4"/>
                    </a:lnTo>
                    <a:lnTo>
                      <a:pt x="16" y="16"/>
                    </a:lnTo>
                    <a:lnTo>
                      <a:pt x="35" y="32"/>
                    </a:lnTo>
                    <a:lnTo>
                      <a:pt x="59" y="50"/>
                    </a:lnTo>
                    <a:lnTo>
                      <a:pt x="85" y="69"/>
                    </a:lnTo>
                    <a:lnTo>
                      <a:pt x="113" y="87"/>
                    </a:lnTo>
                    <a:lnTo>
                      <a:pt x="141" y="102"/>
                    </a:lnTo>
                    <a:lnTo>
                      <a:pt x="166" y="110"/>
                    </a:lnTo>
                    <a:lnTo>
                      <a:pt x="190" y="115"/>
                    </a:lnTo>
                    <a:lnTo>
                      <a:pt x="215" y="118"/>
                    </a:lnTo>
                    <a:lnTo>
                      <a:pt x="240" y="120"/>
                    </a:lnTo>
                    <a:lnTo>
                      <a:pt x="264" y="119"/>
                    </a:lnTo>
                    <a:lnTo>
                      <a:pt x="287" y="116"/>
                    </a:lnTo>
                    <a:lnTo>
                      <a:pt x="306" y="111"/>
                    </a:lnTo>
                    <a:lnTo>
                      <a:pt x="321" y="102"/>
                    </a:lnTo>
                    <a:lnTo>
                      <a:pt x="331" y="90"/>
                    </a:lnTo>
                    <a:lnTo>
                      <a:pt x="350" y="61"/>
                    </a:lnTo>
                    <a:lnTo>
                      <a:pt x="345" y="62"/>
                    </a:lnTo>
                    <a:lnTo>
                      <a:pt x="331" y="68"/>
                    </a:lnTo>
                    <a:lnTo>
                      <a:pt x="311" y="73"/>
                    </a:lnTo>
                    <a:lnTo>
                      <a:pt x="286" y="78"/>
                    </a:lnTo>
                    <a:lnTo>
                      <a:pt x="255" y="82"/>
                    </a:lnTo>
                    <a:lnTo>
                      <a:pt x="225" y="83"/>
                    </a:lnTo>
                    <a:lnTo>
                      <a:pt x="195" y="79"/>
                    </a:lnTo>
                    <a:lnTo>
                      <a:pt x="167" y="70"/>
                    </a:lnTo>
                    <a:lnTo>
                      <a:pt x="163" y="68"/>
                    </a:lnTo>
                    <a:lnTo>
                      <a:pt x="153" y="60"/>
                    </a:lnTo>
                    <a:lnTo>
                      <a:pt x="137" y="49"/>
                    </a:lnTo>
                    <a:lnTo>
                      <a:pt x="116" y="37"/>
                    </a:lnTo>
                    <a:lnTo>
                      <a:pt x="90" y="25"/>
                    </a:lnTo>
                    <a:lnTo>
                      <a:pt x="61" y="14"/>
                    </a:lnTo>
                    <a:lnTo>
                      <a:pt x="3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168"/>
              <p:cNvSpPr/>
              <p:nvPr/>
            </p:nvSpPr>
            <p:spPr>
              <a:xfrm>
                <a:off x="2108520" y="1694520"/>
                <a:ext cx="194760" cy="361080"/>
              </a:xfrm>
              <a:custGeom>
                <a:avLst/>
                <a:gdLst/>
                <a:ahLst/>
                <a:rect l="l" t="t" r="r" b="b"/>
                <a:pathLst>
                  <a:path w="281" h="918">
                    <a:moveTo>
                      <a:pt x="232" y="13"/>
                    </a:moveTo>
                    <a:lnTo>
                      <a:pt x="227" y="14"/>
                    </a:lnTo>
                    <a:lnTo>
                      <a:pt x="215" y="21"/>
                    </a:lnTo>
                    <a:lnTo>
                      <a:pt x="196" y="31"/>
                    </a:lnTo>
                    <a:lnTo>
                      <a:pt x="173" y="47"/>
                    </a:lnTo>
                    <a:lnTo>
                      <a:pt x="145" y="71"/>
                    </a:lnTo>
                    <a:lnTo>
                      <a:pt x="116" y="101"/>
                    </a:lnTo>
                    <a:lnTo>
                      <a:pt x="87" y="141"/>
                    </a:lnTo>
                    <a:lnTo>
                      <a:pt x="60" y="189"/>
                    </a:lnTo>
                    <a:lnTo>
                      <a:pt x="39" y="236"/>
                    </a:lnTo>
                    <a:lnTo>
                      <a:pt x="22" y="290"/>
                    </a:lnTo>
                    <a:lnTo>
                      <a:pt x="8" y="355"/>
                    </a:lnTo>
                    <a:lnTo>
                      <a:pt x="0" y="431"/>
                    </a:lnTo>
                    <a:lnTo>
                      <a:pt x="0" y="520"/>
                    </a:lnTo>
                    <a:lnTo>
                      <a:pt x="12" y="621"/>
                    </a:lnTo>
                    <a:lnTo>
                      <a:pt x="33" y="737"/>
                    </a:lnTo>
                    <a:lnTo>
                      <a:pt x="70" y="869"/>
                    </a:lnTo>
                    <a:lnTo>
                      <a:pt x="73" y="874"/>
                    </a:lnTo>
                    <a:lnTo>
                      <a:pt x="82" y="885"/>
                    </a:lnTo>
                    <a:lnTo>
                      <a:pt x="95" y="899"/>
                    </a:lnTo>
                    <a:lnTo>
                      <a:pt x="109" y="911"/>
                    </a:lnTo>
                    <a:lnTo>
                      <a:pt x="121" y="918"/>
                    </a:lnTo>
                    <a:lnTo>
                      <a:pt x="131" y="915"/>
                    </a:lnTo>
                    <a:lnTo>
                      <a:pt x="135" y="898"/>
                    </a:lnTo>
                    <a:lnTo>
                      <a:pt x="131" y="862"/>
                    </a:lnTo>
                    <a:lnTo>
                      <a:pt x="126" y="848"/>
                    </a:lnTo>
                    <a:lnTo>
                      <a:pt x="114" y="808"/>
                    </a:lnTo>
                    <a:lnTo>
                      <a:pt x="97" y="748"/>
                    </a:lnTo>
                    <a:lnTo>
                      <a:pt x="84" y="666"/>
                    </a:lnTo>
                    <a:lnTo>
                      <a:pt x="75" y="571"/>
                    </a:lnTo>
                    <a:lnTo>
                      <a:pt x="78" y="462"/>
                    </a:lnTo>
                    <a:lnTo>
                      <a:pt x="96" y="345"/>
                    </a:lnTo>
                    <a:lnTo>
                      <a:pt x="135" y="222"/>
                    </a:lnTo>
                    <a:lnTo>
                      <a:pt x="136" y="218"/>
                    </a:lnTo>
                    <a:lnTo>
                      <a:pt x="143" y="207"/>
                    </a:lnTo>
                    <a:lnTo>
                      <a:pt x="152" y="188"/>
                    </a:lnTo>
                    <a:lnTo>
                      <a:pt x="167" y="166"/>
                    </a:lnTo>
                    <a:lnTo>
                      <a:pt x="186" y="139"/>
                    </a:lnTo>
                    <a:lnTo>
                      <a:pt x="211" y="112"/>
                    </a:lnTo>
                    <a:lnTo>
                      <a:pt x="242" y="83"/>
                    </a:lnTo>
                    <a:lnTo>
                      <a:pt x="280" y="54"/>
                    </a:lnTo>
                    <a:lnTo>
                      <a:pt x="280" y="50"/>
                    </a:lnTo>
                    <a:lnTo>
                      <a:pt x="281" y="41"/>
                    </a:lnTo>
                    <a:lnTo>
                      <a:pt x="281" y="29"/>
                    </a:lnTo>
                    <a:lnTo>
                      <a:pt x="280" y="16"/>
                    </a:lnTo>
                    <a:lnTo>
                      <a:pt x="275" y="5"/>
                    </a:lnTo>
                    <a:lnTo>
                      <a:pt x="266" y="0"/>
                    </a:lnTo>
                    <a:lnTo>
                      <a:pt x="252" y="1"/>
                    </a:lnTo>
                    <a:lnTo>
                      <a:pt x="232" y="13"/>
                    </a:lnTo>
                    <a:close/>
                  </a:path>
                </a:pathLst>
              </a:custGeom>
              <a:solidFill>
                <a:srgbClr val="91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169"/>
              <p:cNvSpPr/>
              <p:nvPr/>
            </p:nvSpPr>
            <p:spPr>
              <a:xfrm>
                <a:off x="2518560" y="2365560"/>
                <a:ext cx="261000" cy="33120"/>
              </a:xfrm>
              <a:custGeom>
                <a:avLst/>
                <a:gdLst/>
                <a:ahLst/>
                <a:rect l="l" t="t" r="r" b="b"/>
                <a:pathLst>
                  <a:path w="379" h="95">
                    <a:moveTo>
                      <a:pt x="0" y="71"/>
                    </a:moveTo>
                    <a:lnTo>
                      <a:pt x="4" y="70"/>
                    </a:lnTo>
                    <a:lnTo>
                      <a:pt x="15" y="66"/>
                    </a:lnTo>
                    <a:lnTo>
                      <a:pt x="31" y="60"/>
                    </a:lnTo>
                    <a:lnTo>
                      <a:pt x="51" y="54"/>
                    </a:lnTo>
                    <a:lnTo>
                      <a:pt x="73" y="46"/>
                    </a:lnTo>
                    <a:lnTo>
                      <a:pt x="94" y="37"/>
                    </a:lnTo>
                    <a:lnTo>
                      <a:pt x="113" y="29"/>
                    </a:lnTo>
                    <a:lnTo>
                      <a:pt x="128" y="19"/>
                    </a:lnTo>
                    <a:lnTo>
                      <a:pt x="142" y="12"/>
                    </a:lnTo>
                    <a:lnTo>
                      <a:pt x="157" y="5"/>
                    </a:lnTo>
                    <a:lnTo>
                      <a:pt x="175" y="1"/>
                    </a:lnTo>
                    <a:lnTo>
                      <a:pt x="195" y="0"/>
                    </a:lnTo>
                    <a:lnTo>
                      <a:pt x="218" y="2"/>
                    </a:lnTo>
                    <a:lnTo>
                      <a:pt x="243" y="9"/>
                    </a:lnTo>
                    <a:lnTo>
                      <a:pt x="272" y="19"/>
                    </a:lnTo>
                    <a:lnTo>
                      <a:pt x="302" y="37"/>
                    </a:lnTo>
                    <a:lnTo>
                      <a:pt x="379" y="95"/>
                    </a:lnTo>
                    <a:lnTo>
                      <a:pt x="376" y="95"/>
                    </a:lnTo>
                    <a:lnTo>
                      <a:pt x="368" y="95"/>
                    </a:lnTo>
                    <a:lnTo>
                      <a:pt x="355" y="93"/>
                    </a:lnTo>
                    <a:lnTo>
                      <a:pt x="340" y="92"/>
                    </a:lnTo>
                    <a:lnTo>
                      <a:pt x="323" y="89"/>
                    </a:lnTo>
                    <a:lnTo>
                      <a:pt x="306" y="85"/>
                    </a:lnTo>
                    <a:lnTo>
                      <a:pt x="291" y="80"/>
                    </a:lnTo>
                    <a:lnTo>
                      <a:pt x="277" y="72"/>
                    </a:lnTo>
                    <a:lnTo>
                      <a:pt x="273" y="70"/>
                    </a:lnTo>
                    <a:lnTo>
                      <a:pt x="262" y="66"/>
                    </a:lnTo>
                    <a:lnTo>
                      <a:pt x="244" y="59"/>
                    </a:lnTo>
                    <a:lnTo>
                      <a:pt x="220" y="52"/>
                    </a:lnTo>
                    <a:lnTo>
                      <a:pt x="191" y="50"/>
                    </a:lnTo>
                    <a:lnTo>
                      <a:pt x="158" y="51"/>
                    </a:lnTo>
                    <a:lnTo>
                      <a:pt x="121" y="58"/>
                    </a:lnTo>
                    <a:lnTo>
                      <a:pt x="79" y="72"/>
                    </a:lnTo>
                    <a:lnTo>
                      <a:pt x="78" y="73"/>
                    </a:lnTo>
                    <a:lnTo>
                      <a:pt x="73" y="75"/>
                    </a:lnTo>
                    <a:lnTo>
                      <a:pt x="65" y="77"/>
                    </a:lnTo>
                    <a:lnTo>
                      <a:pt x="55" y="80"/>
                    </a:lnTo>
                    <a:lnTo>
                      <a:pt x="43" y="81"/>
                    </a:lnTo>
                    <a:lnTo>
                      <a:pt x="29" y="80"/>
                    </a:lnTo>
                    <a:lnTo>
                      <a:pt x="15" y="77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2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170"/>
              <p:cNvSpPr/>
              <p:nvPr/>
            </p:nvSpPr>
            <p:spPr>
              <a:xfrm>
                <a:off x="2955600" y="1599840"/>
                <a:ext cx="262800" cy="90720"/>
              </a:xfrm>
              <a:custGeom>
                <a:avLst/>
                <a:gdLst/>
                <a:ahLst/>
                <a:rect l="l" t="t" r="r" b="b"/>
                <a:pathLst>
                  <a:path w="382" h="221">
                    <a:moveTo>
                      <a:pt x="0" y="0"/>
                    </a:moveTo>
                    <a:lnTo>
                      <a:pt x="4" y="0"/>
                    </a:lnTo>
                    <a:lnTo>
                      <a:pt x="13" y="0"/>
                    </a:lnTo>
                    <a:lnTo>
                      <a:pt x="27" y="1"/>
                    </a:lnTo>
                    <a:lnTo>
                      <a:pt x="46" y="2"/>
                    </a:lnTo>
                    <a:lnTo>
                      <a:pt x="68" y="6"/>
                    </a:lnTo>
                    <a:lnTo>
                      <a:pt x="95" y="10"/>
                    </a:lnTo>
                    <a:lnTo>
                      <a:pt x="124" y="17"/>
                    </a:lnTo>
                    <a:lnTo>
                      <a:pt x="154" y="26"/>
                    </a:lnTo>
                    <a:lnTo>
                      <a:pt x="185" y="38"/>
                    </a:lnTo>
                    <a:lnTo>
                      <a:pt x="217" y="52"/>
                    </a:lnTo>
                    <a:lnTo>
                      <a:pt x="250" y="71"/>
                    </a:lnTo>
                    <a:lnTo>
                      <a:pt x="280" y="92"/>
                    </a:lnTo>
                    <a:lnTo>
                      <a:pt x="310" y="117"/>
                    </a:lnTo>
                    <a:lnTo>
                      <a:pt x="337" y="147"/>
                    </a:lnTo>
                    <a:lnTo>
                      <a:pt x="362" y="182"/>
                    </a:lnTo>
                    <a:lnTo>
                      <a:pt x="382" y="221"/>
                    </a:lnTo>
                    <a:lnTo>
                      <a:pt x="381" y="220"/>
                    </a:lnTo>
                    <a:lnTo>
                      <a:pt x="376" y="216"/>
                    </a:lnTo>
                    <a:lnTo>
                      <a:pt x="368" y="208"/>
                    </a:lnTo>
                    <a:lnTo>
                      <a:pt x="358" y="200"/>
                    </a:lnTo>
                    <a:lnTo>
                      <a:pt x="344" y="188"/>
                    </a:lnTo>
                    <a:lnTo>
                      <a:pt x="328" y="175"/>
                    </a:lnTo>
                    <a:lnTo>
                      <a:pt x="308" y="160"/>
                    </a:lnTo>
                    <a:lnTo>
                      <a:pt x="286" y="145"/>
                    </a:lnTo>
                    <a:lnTo>
                      <a:pt x="260" y="128"/>
                    </a:lnTo>
                    <a:lnTo>
                      <a:pt x="232" y="110"/>
                    </a:lnTo>
                    <a:lnTo>
                      <a:pt x="200" y="92"/>
                    </a:lnTo>
                    <a:lnTo>
                      <a:pt x="166" y="74"/>
                    </a:lnTo>
                    <a:lnTo>
                      <a:pt x="129" y="54"/>
                    </a:lnTo>
                    <a:lnTo>
                      <a:pt x="88" y="35"/>
                    </a:lnTo>
                    <a:lnTo>
                      <a:pt x="46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171"/>
              <p:cNvSpPr/>
              <p:nvPr/>
            </p:nvSpPr>
            <p:spPr>
              <a:xfrm>
                <a:off x="2605680" y="1464120"/>
                <a:ext cx="119520" cy="203040"/>
              </a:xfrm>
              <a:custGeom>
                <a:avLst/>
                <a:gdLst/>
                <a:ahLst/>
                <a:rect l="l" t="t" r="r" b="b"/>
                <a:pathLst>
                  <a:path w="174" h="503">
                    <a:moveTo>
                      <a:pt x="115" y="481"/>
                    </a:moveTo>
                    <a:lnTo>
                      <a:pt x="113" y="468"/>
                    </a:lnTo>
                    <a:lnTo>
                      <a:pt x="108" y="432"/>
                    </a:lnTo>
                    <a:lnTo>
                      <a:pt x="101" y="381"/>
                    </a:lnTo>
                    <a:lnTo>
                      <a:pt x="89" y="318"/>
                    </a:lnTo>
                    <a:lnTo>
                      <a:pt x="73" y="249"/>
                    </a:lnTo>
                    <a:lnTo>
                      <a:pt x="53" y="182"/>
                    </a:lnTo>
                    <a:lnTo>
                      <a:pt x="29" y="120"/>
                    </a:lnTo>
                    <a:lnTo>
                      <a:pt x="0" y="72"/>
                    </a:lnTo>
                    <a:lnTo>
                      <a:pt x="1" y="68"/>
                    </a:lnTo>
                    <a:lnTo>
                      <a:pt x="4" y="58"/>
                    </a:lnTo>
                    <a:lnTo>
                      <a:pt x="9" y="46"/>
                    </a:lnTo>
                    <a:lnTo>
                      <a:pt x="16" y="32"/>
                    </a:lnTo>
                    <a:lnTo>
                      <a:pt x="25" y="18"/>
                    </a:lnTo>
                    <a:lnTo>
                      <a:pt x="38" y="7"/>
                    </a:lnTo>
                    <a:lnTo>
                      <a:pt x="52" y="0"/>
                    </a:lnTo>
                    <a:lnTo>
                      <a:pt x="68" y="2"/>
                    </a:lnTo>
                    <a:lnTo>
                      <a:pt x="113" y="27"/>
                    </a:lnTo>
                    <a:lnTo>
                      <a:pt x="117" y="40"/>
                    </a:lnTo>
                    <a:lnTo>
                      <a:pt x="126" y="75"/>
                    </a:lnTo>
                    <a:lnTo>
                      <a:pt x="137" y="128"/>
                    </a:lnTo>
                    <a:lnTo>
                      <a:pt x="150" y="194"/>
                    </a:lnTo>
                    <a:lnTo>
                      <a:pt x="162" y="266"/>
                    </a:lnTo>
                    <a:lnTo>
                      <a:pt x="171" y="340"/>
                    </a:lnTo>
                    <a:lnTo>
                      <a:pt x="174" y="411"/>
                    </a:lnTo>
                    <a:lnTo>
                      <a:pt x="170" y="473"/>
                    </a:lnTo>
                    <a:lnTo>
                      <a:pt x="169" y="476"/>
                    </a:lnTo>
                    <a:lnTo>
                      <a:pt x="166" y="482"/>
                    </a:lnTo>
                    <a:lnTo>
                      <a:pt x="161" y="490"/>
                    </a:lnTo>
                    <a:lnTo>
                      <a:pt x="156" y="498"/>
                    </a:lnTo>
                    <a:lnTo>
                      <a:pt x="147" y="503"/>
                    </a:lnTo>
                    <a:lnTo>
                      <a:pt x="139" y="503"/>
                    </a:lnTo>
                    <a:lnTo>
                      <a:pt x="127" y="497"/>
                    </a:lnTo>
                    <a:lnTo>
                      <a:pt x="115" y="481"/>
                    </a:lnTo>
                    <a:close/>
                  </a:path>
                </a:pathLst>
              </a:custGeom>
              <a:solidFill>
                <a:srgbClr val="5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172"/>
              <p:cNvSpPr/>
              <p:nvPr/>
            </p:nvSpPr>
            <p:spPr>
              <a:xfrm>
                <a:off x="2655000" y="1472400"/>
                <a:ext cx="57960" cy="133200"/>
              </a:xfrm>
              <a:custGeom>
                <a:avLst/>
                <a:gdLst/>
                <a:ahLst/>
                <a:rect l="l" t="t" r="r" b="b"/>
                <a:pathLst>
                  <a:path w="84" h="339">
                    <a:moveTo>
                      <a:pt x="0" y="0"/>
                    </a:moveTo>
                    <a:lnTo>
                      <a:pt x="5" y="1"/>
                    </a:lnTo>
                    <a:lnTo>
                      <a:pt x="16" y="4"/>
                    </a:lnTo>
                    <a:lnTo>
                      <a:pt x="29" y="11"/>
                    </a:lnTo>
                    <a:lnTo>
                      <a:pt x="36" y="21"/>
                    </a:lnTo>
                    <a:lnTo>
                      <a:pt x="39" y="30"/>
                    </a:lnTo>
                    <a:lnTo>
                      <a:pt x="44" y="54"/>
                    </a:lnTo>
                    <a:lnTo>
                      <a:pt x="51" y="90"/>
                    </a:lnTo>
                    <a:lnTo>
                      <a:pt x="60" y="133"/>
                    </a:lnTo>
                    <a:lnTo>
                      <a:pt x="69" y="183"/>
                    </a:lnTo>
                    <a:lnTo>
                      <a:pt x="77" y="236"/>
                    </a:lnTo>
                    <a:lnTo>
                      <a:pt x="83" y="289"/>
                    </a:lnTo>
                    <a:lnTo>
                      <a:pt x="84" y="336"/>
                    </a:lnTo>
                    <a:lnTo>
                      <a:pt x="83" y="337"/>
                    </a:lnTo>
                    <a:lnTo>
                      <a:pt x="79" y="339"/>
                    </a:lnTo>
                    <a:lnTo>
                      <a:pt x="74" y="336"/>
                    </a:lnTo>
                    <a:lnTo>
                      <a:pt x="69" y="328"/>
                    </a:lnTo>
                    <a:lnTo>
                      <a:pt x="68" y="316"/>
                    </a:lnTo>
                    <a:lnTo>
                      <a:pt x="63" y="285"/>
                    </a:lnTo>
                    <a:lnTo>
                      <a:pt x="56" y="240"/>
                    </a:lnTo>
                    <a:lnTo>
                      <a:pt x="48" y="186"/>
                    </a:lnTo>
                    <a:lnTo>
                      <a:pt x="38" y="129"/>
                    </a:lnTo>
                    <a:lnTo>
                      <a:pt x="26" y="75"/>
                    </a:ln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28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173"/>
              <p:cNvSpPr/>
              <p:nvPr/>
            </p:nvSpPr>
            <p:spPr>
              <a:xfrm>
                <a:off x="2616120" y="1487880"/>
                <a:ext cx="88560" cy="176760"/>
              </a:xfrm>
              <a:custGeom>
                <a:avLst/>
                <a:gdLst/>
                <a:ahLst/>
                <a:rect l="l" t="t" r="r" b="b"/>
                <a:pathLst>
                  <a:path w="127" h="450">
                    <a:moveTo>
                      <a:pt x="22" y="0"/>
                    </a:moveTo>
                    <a:lnTo>
                      <a:pt x="25" y="6"/>
                    </a:lnTo>
                    <a:lnTo>
                      <a:pt x="34" y="26"/>
                    </a:lnTo>
                    <a:lnTo>
                      <a:pt x="48" y="59"/>
                    </a:lnTo>
                    <a:lnTo>
                      <a:pt x="66" y="106"/>
                    </a:lnTo>
                    <a:lnTo>
                      <a:pt x="83" y="170"/>
                    </a:lnTo>
                    <a:lnTo>
                      <a:pt x="100" y="247"/>
                    </a:lnTo>
                    <a:lnTo>
                      <a:pt x="116" y="341"/>
                    </a:lnTo>
                    <a:lnTo>
                      <a:pt x="127" y="450"/>
                    </a:lnTo>
                    <a:lnTo>
                      <a:pt x="124" y="449"/>
                    </a:lnTo>
                    <a:lnTo>
                      <a:pt x="116" y="446"/>
                    </a:lnTo>
                    <a:lnTo>
                      <a:pt x="107" y="440"/>
                    </a:lnTo>
                    <a:lnTo>
                      <a:pt x="101" y="429"/>
                    </a:lnTo>
                    <a:lnTo>
                      <a:pt x="100" y="417"/>
                    </a:lnTo>
                    <a:lnTo>
                      <a:pt x="97" y="384"/>
                    </a:lnTo>
                    <a:lnTo>
                      <a:pt x="92" y="335"/>
                    </a:lnTo>
                    <a:lnTo>
                      <a:pt x="84" y="275"/>
                    </a:lnTo>
                    <a:lnTo>
                      <a:pt x="72" y="208"/>
                    </a:lnTo>
                    <a:lnTo>
                      <a:pt x="53" y="139"/>
                    </a:lnTo>
                    <a:lnTo>
                      <a:pt x="30" y="72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5" y="5"/>
                    </a:lnTo>
                    <a:lnTo>
                      <a:pt x="13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Freeform 174"/>
              <p:cNvSpPr/>
              <p:nvPr/>
            </p:nvSpPr>
            <p:spPr>
              <a:xfrm>
                <a:off x="2261880" y="1563480"/>
                <a:ext cx="245880" cy="38520"/>
              </a:xfrm>
              <a:custGeom>
                <a:avLst/>
                <a:gdLst/>
                <a:ahLst/>
                <a:rect l="l" t="t" r="r" b="b"/>
                <a:pathLst>
                  <a:path w="356" h="110">
                    <a:moveTo>
                      <a:pt x="4" y="73"/>
                    </a:moveTo>
                    <a:lnTo>
                      <a:pt x="5" y="72"/>
                    </a:lnTo>
                    <a:lnTo>
                      <a:pt x="8" y="68"/>
                    </a:lnTo>
                    <a:lnTo>
                      <a:pt x="14" y="62"/>
                    </a:lnTo>
                    <a:lnTo>
                      <a:pt x="22" y="54"/>
                    </a:lnTo>
                    <a:lnTo>
                      <a:pt x="32" y="46"/>
                    </a:lnTo>
                    <a:lnTo>
                      <a:pt x="44" y="35"/>
                    </a:lnTo>
                    <a:lnTo>
                      <a:pt x="61" y="26"/>
                    </a:lnTo>
                    <a:lnTo>
                      <a:pt x="80" y="18"/>
                    </a:lnTo>
                    <a:lnTo>
                      <a:pt x="101" y="10"/>
                    </a:lnTo>
                    <a:lnTo>
                      <a:pt x="126" y="5"/>
                    </a:lnTo>
                    <a:lnTo>
                      <a:pt x="155" y="1"/>
                    </a:lnTo>
                    <a:lnTo>
                      <a:pt x="188" y="0"/>
                    </a:lnTo>
                    <a:lnTo>
                      <a:pt x="223" y="1"/>
                    </a:lnTo>
                    <a:lnTo>
                      <a:pt x="262" y="8"/>
                    </a:lnTo>
                    <a:lnTo>
                      <a:pt x="306" y="18"/>
                    </a:lnTo>
                    <a:lnTo>
                      <a:pt x="354" y="33"/>
                    </a:lnTo>
                    <a:lnTo>
                      <a:pt x="354" y="34"/>
                    </a:lnTo>
                    <a:lnTo>
                      <a:pt x="356" y="37"/>
                    </a:lnTo>
                    <a:lnTo>
                      <a:pt x="356" y="39"/>
                    </a:lnTo>
                    <a:lnTo>
                      <a:pt x="356" y="43"/>
                    </a:lnTo>
                    <a:lnTo>
                      <a:pt x="352" y="47"/>
                    </a:lnTo>
                    <a:lnTo>
                      <a:pt x="346" y="50"/>
                    </a:lnTo>
                    <a:lnTo>
                      <a:pt x="335" y="52"/>
                    </a:lnTo>
                    <a:lnTo>
                      <a:pt x="322" y="52"/>
                    </a:lnTo>
                    <a:lnTo>
                      <a:pt x="312" y="52"/>
                    </a:lnTo>
                    <a:lnTo>
                      <a:pt x="300" y="51"/>
                    </a:lnTo>
                    <a:lnTo>
                      <a:pt x="286" y="51"/>
                    </a:lnTo>
                    <a:lnTo>
                      <a:pt x="270" y="52"/>
                    </a:lnTo>
                    <a:lnTo>
                      <a:pt x="252" y="52"/>
                    </a:lnTo>
                    <a:lnTo>
                      <a:pt x="235" y="54"/>
                    </a:lnTo>
                    <a:lnTo>
                      <a:pt x="216" y="55"/>
                    </a:lnTo>
                    <a:lnTo>
                      <a:pt x="196" y="58"/>
                    </a:lnTo>
                    <a:lnTo>
                      <a:pt x="175" y="60"/>
                    </a:lnTo>
                    <a:lnTo>
                      <a:pt x="155" y="64"/>
                    </a:lnTo>
                    <a:lnTo>
                      <a:pt x="136" y="68"/>
                    </a:lnTo>
                    <a:lnTo>
                      <a:pt x="118" y="75"/>
                    </a:lnTo>
                    <a:lnTo>
                      <a:pt x="100" y="81"/>
                    </a:lnTo>
                    <a:lnTo>
                      <a:pt x="83" y="88"/>
                    </a:lnTo>
                    <a:lnTo>
                      <a:pt x="68" y="97"/>
                    </a:lnTo>
                    <a:lnTo>
                      <a:pt x="55" y="108"/>
                    </a:lnTo>
                    <a:lnTo>
                      <a:pt x="52" y="109"/>
                    </a:lnTo>
                    <a:lnTo>
                      <a:pt x="43" y="110"/>
                    </a:lnTo>
                    <a:lnTo>
                      <a:pt x="33" y="110"/>
                    </a:lnTo>
                    <a:lnTo>
                      <a:pt x="21" y="110"/>
                    </a:lnTo>
                    <a:lnTo>
                      <a:pt x="10" y="108"/>
                    </a:lnTo>
                    <a:lnTo>
                      <a:pt x="3" y="101"/>
                    </a:lnTo>
                    <a:lnTo>
                      <a:pt x="0" y="90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175"/>
              <p:cNvSpPr/>
              <p:nvPr/>
            </p:nvSpPr>
            <p:spPr>
              <a:xfrm>
                <a:off x="2297160" y="1564560"/>
                <a:ext cx="161280" cy="28080"/>
              </a:xfrm>
              <a:custGeom>
                <a:avLst/>
                <a:gdLst/>
                <a:ahLst/>
                <a:rect l="l" t="t" r="r" b="b"/>
                <a:pathLst>
                  <a:path w="234" h="86">
                    <a:moveTo>
                      <a:pt x="4" y="57"/>
                    </a:moveTo>
                    <a:lnTo>
                      <a:pt x="6" y="56"/>
                    </a:lnTo>
                    <a:lnTo>
                      <a:pt x="7" y="53"/>
                    </a:lnTo>
                    <a:lnTo>
                      <a:pt x="11" y="48"/>
                    </a:lnTo>
                    <a:lnTo>
                      <a:pt x="16" y="42"/>
                    </a:lnTo>
                    <a:lnTo>
                      <a:pt x="22" y="36"/>
                    </a:lnTo>
                    <a:lnTo>
                      <a:pt x="31" y="28"/>
                    </a:lnTo>
                    <a:lnTo>
                      <a:pt x="41" y="21"/>
                    </a:lnTo>
                    <a:lnTo>
                      <a:pt x="53" y="15"/>
                    </a:lnTo>
                    <a:lnTo>
                      <a:pt x="67" y="9"/>
                    </a:lnTo>
                    <a:lnTo>
                      <a:pt x="84" y="4"/>
                    </a:lnTo>
                    <a:lnTo>
                      <a:pt x="103" y="2"/>
                    </a:lnTo>
                    <a:lnTo>
                      <a:pt x="124" y="0"/>
                    </a:lnTo>
                    <a:lnTo>
                      <a:pt x="147" y="2"/>
                    </a:lnTo>
                    <a:lnTo>
                      <a:pt x="173" y="6"/>
                    </a:lnTo>
                    <a:lnTo>
                      <a:pt x="201" y="13"/>
                    </a:lnTo>
                    <a:lnTo>
                      <a:pt x="232" y="24"/>
                    </a:lnTo>
                    <a:lnTo>
                      <a:pt x="234" y="27"/>
                    </a:lnTo>
                    <a:lnTo>
                      <a:pt x="234" y="32"/>
                    </a:lnTo>
                    <a:lnTo>
                      <a:pt x="227" y="38"/>
                    </a:lnTo>
                    <a:lnTo>
                      <a:pt x="211" y="40"/>
                    </a:lnTo>
                    <a:lnTo>
                      <a:pt x="197" y="38"/>
                    </a:lnTo>
                    <a:lnTo>
                      <a:pt x="177" y="40"/>
                    </a:lnTo>
                    <a:lnTo>
                      <a:pt x="154" y="41"/>
                    </a:lnTo>
                    <a:lnTo>
                      <a:pt x="129" y="44"/>
                    </a:lnTo>
                    <a:lnTo>
                      <a:pt x="103" y="49"/>
                    </a:lnTo>
                    <a:lnTo>
                      <a:pt x="77" y="57"/>
                    </a:lnTo>
                    <a:lnTo>
                      <a:pt x="55" y="69"/>
                    </a:lnTo>
                    <a:lnTo>
                      <a:pt x="37" y="83"/>
                    </a:lnTo>
                    <a:lnTo>
                      <a:pt x="34" y="83"/>
                    </a:lnTo>
                    <a:lnTo>
                      <a:pt x="29" y="85"/>
                    </a:lnTo>
                    <a:lnTo>
                      <a:pt x="22" y="86"/>
                    </a:lnTo>
                    <a:lnTo>
                      <a:pt x="14" y="85"/>
                    </a:lnTo>
                    <a:lnTo>
                      <a:pt x="8" y="83"/>
                    </a:lnTo>
                    <a:lnTo>
                      <a:pt x="3" y="78"/>
                    </a:lnTo>
                    <a:lnTo>
                      <a:pt x="0" y="69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Freeform 176"/>
              <p:cNvSpPr/>
              <p:nvPr/>
            </p:nvSpPr>
            <p:spPr>
              <a:xfrm>
                <a:off x="2342880" y="1572840"/>
                <a:ext cx="74160" cy="936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2" y="24"/>
                    </a:moveTo>
                    <a:lnTo>
                      <a:pt x="3" y="23"/>
                    </a:lnTo>
                    <a:lnTo>
                      <a:pt x="7" y="17"/>
                    </a:lnTo>
                    <a:lnTo>
                      <a:pt x="14" y="12"/>
                    </a:lnTo>
                    <a:lnTo>
                      <a:pt x="25" y="6"/>
                    </a:lnTo>
                    <a:lnTo>
                      <a:pt x="39" y="2"/>
                    </a:lnTo>
                    <a:lnTo>
                      <a:pt x="58" y="0"/>
                    </a:lnTo>
                    <a:lnTo>
                      <a:pt x="81" y="3"/>
                    </a:lnTo>
                    <a:lnTo>
                      <a:pt x="109" y="11"/>
                    </a:lnTo>
                    <a:lnTo>
                      <a:pt x="109" y="12"/>
                    </a:lnTo>
                    <a:lnTo>
                      <a:pt x="109" y="14"/>
                    </a:lnTo>
                    <a:lnTo>
                      <a:pt x="106" y="16"/>
                    </a:lnTo>
                    <a:lnTo>
                      <a:pt x="99" y="17"/>
                    </a:lnTo>
                    <a:lnTo>
                      <a:pt x="92" y="17"/>
                    </a:lnTo>
                    <a:lnTo>
                      <a:pt x="82" y="17"/>
                    </a:lnTo>
                    <a:lnTo>
                      <a:pt x="72" y="17"/>
                    </a:lnTo>
                    <a:lnTo>
                      <a:pt x="59" y="19"/>
                    </a:lnTo>
                    <a:lnTo>
                      <a:pt x="48" y="21"/>
                    </a:lnTo>
                    <a:lnTo>
                      <a:pt x="36" y="24"/>
                    </a:lnTo>
                    <a:lnTo>
                      <a:pt x="25" y="29"/>
                    </a:lnTo>
                    <a:lnTo>
                      <a:pt x="17" y="36"/>
                    </a:lnTo>
                    <a:lnTo>
                      <a:pt x="13" y="36"/>
                    </a:lnTo>
                    <a:lnTo>
                      <a:pt x="7" y="36"/>
                    </a:lnTo>
                    <a:lnTo>
                      <a:pt x="0" y="33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ffc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Freeform 177"/>
              <p:cNvSpPr/>
              <p:nvPr/>
            </p:nvSpPr>
            <p:spPr>
              <a:xfrm>
                <a:off x="2510640" y="2238120"/>
                <a:ext cx="78120" cy="86040"/>
              </a:xfrm>
              <a:custGeom>
                <a:avLst/>
                <a:gdLst/>
                <a:ahLst/>
                <a:rect l="l" t="t" r="r" b="b"/>
                <a:pathLst>
                  <a:path w="111" h="217">
                    <a:moveTo>
                      <a:pt x="25" y="22"/>
                    </a:moveTo>
                    <a:lnTo>
                      <a:pt x="20" y="46"/>
                    </a:lnTo>
                    <a:lnTo>
                      <a:pt x="9" y="99"/>
                    </a:lnTo>
                    <a:lnTo>
                      <a:pt x="0" y="157"/>
                    </a:lnTo>
                    <a:lnTo>
                      <a:pt x="0" y="195"/>
                    </a:lnTo>
                    <a:lnTo>
                      <a:pt x="5" y="203"/>
                    </a:lnTo>
                    <a:lnTo>
                      <a:pt x="13" y="209"/>
                    </a:lnTo>
                    <a:lnTo>
                      <a:pt x="22" y="213"/>
                    </a:lnTo>
                    <a:lnTo>
                      <a:pt x="32" y="216"/>
                    </a:lnTo>
                    <a:lnTo>
                      <a:pt x="43" y="217"/>
                    </a:lnTo>
                    <a:lnTo>
                      <a:pt x="53" y="217"/>
                    </a:lnTo>
                    <a:lnTo>
                      <a:pt x="62" y="217"/>
                    </a:lnTo>
                    <a:lnTo>
                      <a:pt x="71" y="217"/>
                    </a:lnTo>
                    <a:lnTo>
                      <a:pt x="86" y="211"/>
                    </a:lnTo>
                    <a:lnTo>
                      <a:pt x="97" y="194"/>
                    </a:lnTo>
                    <a:lnTo>
                      <a:pt x="103" y="174"/>
                    </a:lnTo>
                    <a:lnTo>
                      <a:pt x="107" y="155"/>
                    </a:lnTo>
                    <a:lnTo>
                      <a:pt x="107" y="132"/>
                    </a:lnTo>
                    <a:lnTo>
                      <a:pt x="110" y="99"/>
                    </a:lnTo>
                    <a:lnTo>
                      <a:pt x="111" y="70"/>
                    </a:lnTo>
                    <a:lnTo>
                      <a:pt x="111" y="58"/>
                    </a:lnTo>
                    <a:lnTo>
                      <a:pt x="110" y="54"/>
                    </a:lnTo>
                    <a:lnTo>
                      <a:pt x="106" y="44"/>
                    </a:lnTo>
                    <a:lnTo>
                      <a:pt x="100" y="29"/>
                    </a:lnTo>
                    <a:lnTo>
                      <a:pt x="91" y="15"/>
                    </a:lnTo>
                    <a:lnTo>
                      <a:pt x="79" y="4"/>
                    </a:lnTo>
                    <a:lnTo>
                      <a:pt x="64" y="0"/>
                    </a:lnTo>
                    <a:lnTo>
                      <a:pt x="47" y="5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Freeform 178"/>
              <p:cNvSpPr/>
              <p:nvPr/>
            </p:nvSpPr>
            <p:spPr>
              <a:xfrm>
                <a:off x="2794320" y="2265120"/>
                <a:ext cx="68040" cy="82440"/>
              </a:xfrm>
              <a:custGeom>
                <a:avLst/>
                <a:gdLst/>
                <a:ahLst/>
                <a:rect l="l" t="t" r="r" b="b"/>
                <a:pathLst>
                  <a:path w="99" h="198">
                    <a:moveTo>
                      <a:pt x="26" y="21"/>
                    </a:moveTo>
                    <a:lnTo>
                      <a:pt x="20" y="30"/>
                    </a:lnTo>
                    <a:lnTo>
                      <a:pt x="14" y="45"/>
                    </a:lnTo>
                    <a:lnTo>
                      <a:pt x="7" y="65"/>
                    </a:lnTo>
                    <a:lnTo>
                      <a:pt x="2" y="88"/>
                    </a:lnTo>
                    <a:lnTo>
                      <a:pt x="0" y="112"/>
                    </a:lnTo>
                    <a:lnTo>
                      <a:pt x="0" y="136"/>
                    </a:lnTo>
                    <a:lnTo>
                      <a:pt x="4" y="158"/>
                    </a:lnTo>
                    <a:lnTo>
                      <a:pt x="12" y="177"/>
                    </a:lnTo>
                    <a:lnTo>
                      <a:pt x="24" y="190"/>
                    </a:lnTo>
                    <a:lnTo>
                      <a:pt x="36" y="196"/>
                    </a:lnTo>
                    <a:lnTo>
                      <a:pt x="49" y="198"/>
                    </a:lnTo>
                    <a:lnTo>
                      <a:pt x="62" y="195"/>
                    </a:lnTo>
                    <a:lnTo>
                      <a:pt x="74" y="190"/>
                    </a:lnTo>
                    <a:lnTo>
                      <a:pt x="83" y="183"/>
                    </a:lnTo>
                    <a:lnTo>
                      <a:pt x="91" y="175"/>
                    </a:lnTo>
                    <a:lnTo>
                      <a:pt x="96" y="169"/>
                    </a:lnTo>
                    <a:lnTo>
                      <a:pt x="99" y="138"/>
                    </a:lnTo>
                    <a:lnTo>
                      <a:pt x="98" y="90"/>
                    </a:lnTo>
                    <a:lnTo>
                      <a:pt x="94" y="40"/>
                    </a:lnTo>
                    <a:lnTo>
                      <a:pt x="85" y="12"/>
                    </a:lnTo>
                    <a:lnTo>
                      <a:pt x="80" y="7"/>
                    </a:lnTo>
                    <a:lnTo>
                      <a:pt x="75" y="4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57" y="2"/>
                    </a:lnTo>
                    <a:lnTo>
                      <a:pt x="48" y="5"/>
                    </a:lnTo>
                    <a:lnTo>
                      <a:pt x="38" y="12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Freeform 179"/>
              <p:cNvSpPr/>
              <p:nvPr/>
            </p:nvSpPr>
            <p:spPr>
              <a:xfrm>
                <a:off x="3001320" y="1836000"/>
                <a:ext cx="68040" cy="47160"/>
              </a:xfrm>
              <a:custGeom>
                <a:avLst/>
                <a:gdLst/>
                <a:ahLst/>
                <a:rect l="l" t="t" r="r" b="b"/>
                <a:pathLst>
                  <a:path w="100" h="132">
                    <a:moveTo>
                      <a:pt x="71" y="6"/>
                    </a:moveTo>
                    <a:lnTo>
                      <a:pt x="69" y="4"/>
                    </a:lnTo>
                    <a:lnTo>
                      <a:pt x="63" y="3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4" y="2"/>
                    </a:lnTo>
                    <a:lnTo>
                      <a:pt x="24" y="4"/>
                    </a:lnTo>
                    <a:lnTo>
                      <a:pt x="15" y="11"/>
                    </a:lnTo>
                    <a:lnTo>
                      <a:pt x="10" y="23"/>
                    </a:lnTo>
                    <a:lnTo>
                      <a:pt x="3" y="48"/>
                    </a:lnTo>
                    <a:lnTo>
                      <a:pt x="0" y="69"/>
                    </a:lnTo>
                    <a:lnTo>
                      <a:pt x="0" y="87"/>
                    </a:lnTo>
                    <a:lnTo>
                      <a:pt x="1" y="100"/>
                    </a:lnTo>
                    <a:lnTo>
                      <a:pt x="3" y="107"/>
                    </a:lnTo>
                    <a:lnTo>
                      <a:pt x="8" y="112"/>
                    </a:lnTo>
                    <a:lnTo>
                      <a:pt x="15" y="119"/>
                    </a:lnTo>
                    <a:lnTo>
                      <a:pt x="22" y="124"/>
                    </a:lnTo>
                    <a:lnTo>
                      <a:pt x="31" y="129"/>
                    </a:lnTo>
                    <a:lnTo>
                      <a:pt x="39" y="132"/>
                    </a:lnTo>
                    <a:lnTo>
                      <a:pt x="48" y="132"/>
                    </a:lnTo>
                    <a:lnTo>
                      <a:pt x="54" y="131"/>
                    </a:lnTo>
                    <a:lnTo>
                      <a:pt x="60" y="127"/>
                    </a:lnTo>
                    <a:lnTo>
                      <a:pt x="68" y="122"/>
                    </a:lnTo>
                    <a:lnTo>
                      <a:pt x="75" y="114"/>
                    </a:lnTo>
                    <a:lnTo>
                      <a:pt x="82" y="106"/>
                    </a:lnTo>
                    <a:lnTo>
                      <a:pt x="88" y="98"/>
                    </a:lnTo>
                    <a:lnTo>
                      <a:pt x="93" y="89"/>
                    </a:lnTo>
                    <a:lnTo>
                      <a:pt x="97" y="79"/>
                    </a:lnTo>
                    <a:lnTo>
                      <a:pt x="98" y="72"/>
                    </a:lnTo>
                    <a:lnTo>
                      <a:pt x="100" y="53"/>
                    </a:lnTo>
                    <a:lnTo>
                      <a:pt x="99" y="32"/>
                    </a:lnTo>
                    <a:lnTo>
                      <a:pt x="90" y="15"/>
                    </a:lnTo>
                    <a:lnTo>
                      <a:pt x="71" y="6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Freeform 180"/>
              <p:cNvSpPr/>
              <p:nvPr/>
            </p:nvSpPr>
            <p:spPr>
              <a:xfrm>
                <a:off x="3055320" y="1616400"/>
                <a:ext cx="117720" cy="42480"/>
              </a:xfrm>
              <a:custGeom>
                <a:avLst/>
                <a:gdLst/>
                <a:ahLst/>
                <a:rect l="l" t="t" r="r" b="b"/>
                <a:pathLst>
                  <a:path w="172" h="107">
                    <a:moveTo>
                      <a:pt x="0" y="0"/>
                    </a:moveTo>
                    <a:lnTo>
                      <a:pt x="5" y="2"/>
                    </a:lnTo>
                    <a:lnTo>
                      <a:pt x="19" y="8"/>
                    </a:lnTo>
                    <a:lnTo>
                      <a:pt x="39" y="17"/>
                    </a:lnTo>
                    <a:lnTo>
                      <a:pt x="65" y="29"/>
                    </a:lnTo>
                    <a:lnTo>
                      <a:pt x="93" y="45"/>
                    </a:lnTo>
                    <a:lnTo>
                      <a:pt x="122" y="63"/>
                    </a:lnTo>
                    <a:lnTo>
                      <a:pt x="148" y="83"/>
                    </a:lnTo>
                    <a:lnTo>
                      <a:pt x="172" y="107"/>
                    </a:lnTo>
                    <a:lnTo>
                      <a:pt x="171" y="104"/>
                    </a:lnTo>
                    <a:lnTo>
                      <a:pt x="165" y="95"/>
                    </a:lnTo>
                    <a:lnTo>
                      <a:pt x="153" y="82"/>
                    </a:lnTo>
                    <a:lnTo>
                      <a:pt x="137" y="66"/>
                    </a:lnTo>
                    <a:lnTo>
                      <a:pt x="114" y="49"/>
                    </a:lnTo>
                    <a:lnTo>
                      <a:pt x="84" y="32"/>
                    </a:lnTo>
                    <a:lnTo>
                      <a:pt x="4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2" name="TextBox 323"/>
            <p:cNvSpPr/>
            <p:nvPr/>
          </p:nvSpPr>
          <p:spPr>
            <a:xfrm>
              <a:off x="2028960" y="162396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展览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组合 321"/>
          <p:cNvGrpSpPr/>
          <p:nvPr/>
        </p:nvGrpSpPr>
        <p:grpSpPr>
          <a:xfrm>
            <a:off x="3060720" y="2100240"/>
            <a:ext cx="1595160" cy="1025640"/>
            <a:chOff x="3060720" y="2100240"/>
            <a:chExt cx="1595160" cy="1025640"/>
          </a:xfrm>
        </p:grpSpPr>
        <p:grpSp>
          <p:nvGrpSpPr>
            <p:cNvPr id="244" name="Group 152"/>
            <p:cNvGrpSpPr/>
            <p:nvPr/>
          </p:nvGrpSpPr>
          <p:grpSpPr>
            <a:xfrm>
              <a:off x="3060720" y="2100240"/>
              <a:ext cx="1595160" cy="1025640"/>
              <a:chOff x="3060720" y="2100240"/>
              <a:chExt cx="1595160" cy="1025640"/>
            </a:xfrm>
          </p:grpSpPr>
          <p:sp>
            <p:nvSpPr>
              <p:cNvPr id="245" name="AutoShape 151"/>
              <p:cNvSpPr/>
              <p:nvPr/>
            </p:nvSpPr>
            <p:spPr>
              <a:xfrm>
                <a:off x="3060720" y="2100240"/>
                <a:ext cx="1595160" cy="10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Freeform 153"/>
              <p:cNvSpPr/>
              <p:nvPr/>
            </p:nvSpPr>
            <p:spPr>
              <a:xfrm>
                <a:off x="3966480" y="3119760"/>
                <a:ext cx="12600" cy="10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4"/>
                    </a:moveTo>
                    <a:lnTo>
                      <a:pt x="18" y="4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Freeform 154"/>
              <p:cNvSpPr/>
              <p:nvPr/>
            </p:nvSpPr>
            <p:spPr>
              <a:xfrm>
                <a:off x="3141360" y="2100240"/>
                <a:ext cx="1494000" cy="1024200"/>
              </a:xfrm>
              <a:custGeom>
                <a:avLst/>
                <a:gdLst/>
                <a:ahLst/>
                <a:rect l="l" t="t" r="r" b="b"/>
                <a:pathLst>
                  <a:path w="2166" h="2610">
                    <a:moveTo>
                      <a:pt x="1719" y="348"/>
                    </a:moveTo>
                    <a:lnTo>
                      <a:pt x="1679" y="335"/>
                    </a:lnTo>
                    <a:lnTo>
                      <a:pt x="1643" y="323"/>
                    </a:lnTo>
                    <a:lnTo>
                      <a:pt x="1609" y="313"/>
                    </a:lnTo>
                    <a:lnTo>
                      <a:pt x="1576" y="306"/>
                    </a:lnTo>
                    <a:lnTo>
                      <a:pt x="1545" y="300"/>
                    </a:lnTo>
                    <a:lnTo>
                      <a:pt x="1514" y="296"/>
                    </a:lnTo>
                    <a:lnTo>
                      <a:pt x="1487" y="294"/>
                    </a:lnTo>
                    <a:lnTo>
                      <a:pt x="1460" y="292"/>
                    </a:lnTo>
                    <a:lnTo>
                      <a:pt x="1434" y="292"/>
                    </a:lnTo>
                    <a:lnTo>
                      <a:pt x="1409" y="292"/>
                    </a:lnTo>
                    <a:lnTo>
                      <a:pt x="1385" y="295"/>
                    </a:lnTo>
                    <a:lnTo>
                      <a:pt x="1362" y="298"/>
                    </a:lnTo>
                    <a:lnTo>
                      <a:pt x="1338" y="300"/>
                    </a:lnTo>
                    <a:lnTo>
                      <a:pt x="1317" y="304"/>
                    </a:lnTo>
                    <a:lnTo>
                      <a:pt x="1294" y="308"/>
                    </a:lnTo>
                    <a:lnTo>
                      <a:pt x="1273" y="312"/>
                    </a:lnTo>
                    <a:lnTo>
                      <a:pt x="1271" y="312"/>
                    </a:lnTo>
                    <a:lnTo>
                      <a:pt x="1269" y="312"/>
                    </a:lnTo>
                    <a:lnTo>
                      <a:pt x="1265" y="313"/>
                    </a:lnTo>
                    <a:lnTo>
                      <a:pt x="1260" y="313"/>
                    </a:lnTo>
                    <a:lnTo>
                      <a:pt x="1254" y="277"/>
                    </a:lnTo>
                    <a:lnTo>
                      <a:pt x="1246" y="237"/>
                    </a:lnTo>
                    <a:lnTo>
                      <a:pt x="1239" y="194"/>
                    </a:lnTo>
                    <a:lnTo>
                      <a:pt x="1232" y="153"/>
                    </a:lnTo>
                    <a:lnTo>
                      <a:pt x="1225" y="116"/>
                    </a:lnTo>
                    <a:lnTo>
                      <a:pt x="1220" y="87"/>
                    </a:lnTo>
                    <a:lnTo>
                      <a:pt x="1216" y="67"/>
                    </a:lnTo>
                    <a:lnTo>
                      <a:pt x="1215" y="59"/>
                    </a:lnTo>
                    <a:lnTo>
                      <a:pt x="1162" y="40"/>
                    </a:lnTo>
                    <a:lnTo>
                      <a:pt x="1106" y="9"/>
                    </a:lnTo>
                    <a:lnTo>
                      <a:pt x="1095" y="7"/>
                    </a:lnTo>
                    <a:lnTo>
                      <a:pt x="1090" y="5"/>
                    </a:lnTo>
                    <a:lnTo>
                      <a:pt x="1085" y="4"/>
                    </a:lnTo>
                    <a:lnTo>
                      <a:pt x="1080" y="3"/>
                    </a:lnTo>
                    <a:lnTo>
                      <a:pt x="1075" y="1"/>
                    </a:lnTo>
                    <a:lnTo>
                      <a:pt x="1068" y="1"/>
                    </a:lnTo>
                    <a:lnTo>
                      <a:pt x="1063" y="0"/>
                    </a:lnTo>
                    <a:lnTo>
                      <a:pt x="1058" y="0"/>
                    </a:lnTo>
                    <a:lnTo>
                      <a:pt x="1053" y="0"/>
                    </a:lnTo>
                    <a:lnTo>
                      <a:pt x="1048" y="0"/>
                    </a:lnTo>
                    <a:lnTo>
                      <a:pt x="1043" y="0"/>
                    </a:lnTo>
                    <a:lnTo>
                      <a:pt x="1038" y="1"/>
                    </a:lnTo>
                    <a:lnTo>
                      <a:pt x="1034" y="1"/>
                    </a:lnTo>
                    <a:lnTo>
                      <a:pt x="1029" y="3"/>
                    </a:lnTo>
                    <a:lnTo>
                      <a:pt x="1024" y="4"/>
                    </a:lnTo>
                    <a:lnTo>
                      <a:pt x="1019" y="5"/>
                    </a:lnTo>
                    <a:lnTo>
                      <a:pt x="1014" y="7"/>
                    </a:lnTo>
                    <a:lnTo>
                      <a:pt x="994" y="14"/>
                    </a:lnTo>
                    <a:lnTo>
                      <a:pt x="974" y="26"/>
                    </a:lnTo>
                    <a:lnTo>
                      <a:pt x="955" y="42"/>
                    </a:lnTo>
                    <a:lnTo>
                      <a:pt x="939" y="61"/>
                    </a:lnTo>
                    <a:lnTo>
                      <a:pt x="924" y="82"/>
                    </a:lnTo>
                    <a:lnTo>
                      <a:pt x="911" y="107"/>
                    </a:lnTo>
                    <a:lnTo>
                      <a:pt x="900" y="133"/>
                    </a:lnTo>
                    <a:lnTo>
                      <a:pt x="891" y="163"/>
                    </a:lnTo>
                    <a:lnTo>
                      <a:pt x="877" y="228"/>
                    </a:lnTo>
                    <a:lnTo>
                      <a:pt x="878" y="230"/>
                    </a:lnTo>
                    <a:lnTo>
                      <a:pt x="883" y="236"/>
                    </a:lnTo>
                    <a:lnTo>
                      <a:pt x="888" y="244"/>
                    </a:lnTo>
                    <a:lnTo>
                      <a:pt x="896" y="253"/>
                    </a:lnTo>
                    <a:lnTo>
                      <a:pt x="872" y="248"/>
                    </a:lnTo>
                    <a:lnTo>
                      <a:pt x="848" y="242"/>
                    </a:lnTo>
                    <a:lnTo>
                      <a:pt x="823" y="237"/>
                    </a:lnTo>
                    <a:lnTo>
                      <a:pt x="796" y="233"/>
                    </a:lnTo>
                    <a:lnTo>
                      <a:pt x="770" y="230"/>
                    </a:lnTo>
                    <a:lnTo>
                      <a:pt x="743" y="229"/>
                    </a:lnTo>
                    <a:lnTo>
                      <a:pt x="716" y="228"/>
                    </a:lnTo>
                    <a:lnTo>
                      <a:pt x="688" y="228"/>
                    </a:lnTo>
                    <a:lnTo>
                      <a:pt x="660" y="229"/>
                    </a:lnTo>
                    <a:lnTo>
                      <a:pt x="633" y="230"/>
                    </a:lnTo>
                    <a:lnTo>
                      <a:pt x="604" y="234"/>
                    </a:lnTo>
                    <a:lnTo>
                      <a:pt x="575" y="240"/>
                    </a:lnTo>
                    <a:lnTo>
                      <a:pt x="547" y="245"/>
                    </a:lnTo>
                    <a:lnTo>
                      <a:pt x="518" y="253"/>
                    </a:lnTo>
                    <a:lnTo>
                      <a:pt x="489" y="262"/>
                    </a:lnTo>
                    <a:lnTo>
                      <a:pt x="461" y="271"/>
                    </a:lnTo>
                    <a:lnTo>
                      <a:pt x="432" y="283"/>
                    </a:lnTo>
                    <a:lnTo>
                      <a:pt x="405" y="298"/>
                    </a:lnTo>
                    <a:lnTo>
                      <a:pt x="377" y="312"/>
                    </a:lnTo>
                    <a:lnTo>
                      <a:pt x="350" y="329"/>
                    </a:lnTo>
                    <a:lnTo>
                      <a:pt x="324" y="349"/>
                    </a:lnTo>
                    <a:lnTo>
                      <a:pt x="297" y="369"/>
                    </a:lnTo>
                    <a:lnTo>
                      <a:pt x="271" y="391"/>
                    </a:lnTo>
                    <a:lnTo>
                      <a:pt x="246" y="416"/>
                    </a:lnTo>
                    <a:lnTo>
                      <a:pt x="222" y="443"/>
                    </a:lnTo>
                    <a:lnTo>
                      <a:pt x="198" y="471"/>
                    </a:lnTo>
                    <a:lnTo>
                      <a:pt x="175" y="503"/>
                    </a:lnTo>
                    <a:lnTo>
                      <a:pt x="154" y="536"/>
                    </a:lnTo>
                    <a:lnTo>
                      <a:pt x="134" y="572"/>
                    </a:lnTo>
                    <a:lnTo>
                      <a:pt x="114" y="610"/>
                    </a:lnTo>
                    <a:lnTo>
                      <a:pt x="95" y="649"/>
                    </a:lnTo>
                    <a:lnTo>
                      <a:pt x="77" y="693"/>
                    </a:lnTo>
                    <a:lnTo>
                      <a:pt x="73" y="701"/>
                    </a:lnTo>
                    <a:lnTo>
                      <a:pt x="67" y="718"/>
                    </a:lnTo>
                    <a:lnTo>
                      <a:pt x="58" y="744"/>
                    </a:lnTo>
                    <a:lnTo>
                      <a:pt x="48" y="778"/>
                    </a:lnTo>
                    <a:lnTo>
                      <a:pt x="37" y="822"/>
                    </a:lnTo>
                    <a:lnTo>
                      <a:pt x="25" y="872"/>
                    </a:lnTo>
                    <a:lnTo>
                      <a:pt x="15" y="931"/>
                    </a:lnTo>
                    <a:lnTo>
                      <a:pt x="6" y="996"/>
                    </a:lnTo>
                    <a:lnTo>
                      <a:pt x="1" y="1068"/>
                    </a:lnTo>
                    <a:lnTo>
                      <a:pt x="0" y="1146"/>
                    </a:lnTo>
                    <a:lnTo>
                      <a:pt x="3" y="1230"/>
                    </a:lnTo>
                    <a:lnTo>
                      <a:pt x="10" y="1320"/>
                    </a:lnTo>
                    <a:lnTo>
                      <a:pt x="25" y="1413"/>
                    </a:lnTo>
                    <a:lnTo>
                      <a:pt x="47" y="1512"/>
                    </a:lnTo>
                    <a:lnTo>
                      <a:pt x="77" y="1615"/>
                    </a:lnTo>
                    <a:lnTo>
                      <a:pt x="116" y="1721"/>
                    </a:lnTo>
                    <a:lnTo>
                      <a:pt x="149" y="1798"/>
                    </a:lnTo>
                    <a:lnTo>
                      <a:pt x="183" y="1873"/>
                    </a:lnTo>
                    <a:lnTo>
                      <a:pt x="219" y="1944"/>
                    </a:lnTo>
                    <a:lnTo>
                      <a:pt x="258" y="2014"/>
                    </a:lnTo>
                    <a:lnTo>
                      <a:pt x="296" y="2081"/>
                    </a:lnTo>
                    <a:lnTo>
                      <a:pt x="335" y="2144"/>
                    </a:lnTo>
                    <a:lnTo>
                      <a:pt x="373" y="2203"/>
                    </a:lnTo>
                    <a:lnTo>
                      <a:pt x="410" y="2259"/>
                    </a:lnTo>
                    <a:lnTo>
                      <a:pt x="445" y="2310"/>
                    </a:lnTo>
                    <a:lnTo>
                      <a:pt x="478" y="2355"/>
                    </a:lnTo>
                    <a:lnTo>
                      <a:pt x="507" y="2396"/>
                    </a:lnTo>
                    <a:lnTo>
                      <a:pt x="533" y="2430"/>
                    </a:lnTo>
                    <a:lnTo>
                      <a:pt x="554" y="2458"/>
                    </a:lnTo>
                    <a:lnTo>
                      <a:pt x="572" y="2479"/>
                    </a:lnTo>
                    <a:lnTo>
                      <a:pt x="583" y="2493"/>
                    </a:lnTo>
                    <a:lnTo>
                      <a:pt x="588" y="2500"/>
                    </a:lnTo>
                    <a:lnTo>
                      <a:pt x="594" y="2505"/>
                    </a:lnTo>
                    <a:lnTo>
                      <a:pt x="600" y="2510"/>
                    </a:lnTo>
                    <a:lnTo>
                      <a:pt x="616" y="2523"/>
                    </a:lnTo>
                    <a:lnTo>
                      <a:pt x="635" y="2537"/>
                    </a:lnTo>
                    <a:lnTo>
                      <a:pt x="657" y="2550"/>
                    </a:lnTo>
                    <a:lnTo>
                      <a:pt x="679" y="2563"/>
                    </a:lnTo>
                    <a:lnTo>
                      <a:pt x="704" y="2575"/>
                    </a:lnTo>
                    <a:lnTo>
                      <a:pt x="731" y="2585"/>
                    </a:lnTo>
                    <a:lnTo>
                      <a:pt x="760" y="2593"/>
                    </a:lnTo>
                    <a:lnTo>
                      <a:pt x="789" y="2600"/>
                    </a:lnTo>
                    <a:lnTo>
                      <a:pt x="806" y="2602"/>
                    </a:lnTo>
                    <a:lnTo>
                      <a:pt x="825" y="2605"/>
                    </a:lnTo>
                    <a:lnTo>
                      <a:pt x="843" y="2605"/>
                    </a:lnTo>
                    <a:lnTo>
                      <a:pt x="862" y="2605"/>
                    </a:lnTo>
                    <a:lnTo>
                      <a:pt x="881" y="2602"/>
                    </a:lnTo>
                    <a:lnTo>
                      <a:pt x="900" y="2600"/>
                    </a:lnTo>
                    <a:lnTo>
                      <a:pt x="919" y="2595"/>
                    </a:lnTo>
                    <a:lnTo>
                      <a:pt x="937" y="2588"/>
                    </a:lnTo>
                    <a:lnTo>
                      <a:pt x="954" y="2580"/>
                    </a:lnTo>
                    <a:lnTo>
                      <a:pt x="912" y="2589"/>
                    </a:lnTo>
                    <a:lnTo>
                      <a:pt x="999" y="2570"/>
                    </a:lnTo>
                    <a:lnTo>
                      <a:pt x="1008" y="2567"/>
                    </a:lnTo>
                    <a:lnTo>
                      <a:pt x="1017" y="2564"/>
                    </a:lnTo>
                    <a:lnTo>
                      <a:pt x="1024" y="2562"/>
                    </a:lnTo>
                    <a:lnTo>
                      <a:pt x="1033" y="2560"/>
                    </a:lnTo>
                    <a:lnTo>
                      <a:pt x="1042" y="2559"/>
                    </a:lnTo>
                    <a:lnTo>
                      <a:pt x="1051" y="2558"/>
                    </a:lnTo>
                    <a:lnTo>
                      <a:pt x="1061" y="2558"/>
                    </a:lnTo>
                    <a:lnTo>
                      <a:pt x="1070" y="2559"/>
                    </a:lnTo>
                    <a:lnTo>
                      <a:pt x="1075" y="2560"/>
                    </a:lnTo>
                    <a:lnTo>
                      <a:pt x="1087" y="2564"/>
                    </a:lnTo>
                    <a:lnTo>
                      <a:pt x="1100" y="2568"/>
                    </a:lnTo>
                    <a:lnTo>
                      <a:pt x="1105" y="2570"/>
                    </a:lnTo>
                    <a:lnTo>
                      <a:pt x="1096" y="2563"/>
                    </a:lnTo>
                    <a:lnTo>
                      <a:pt x="1106" y="2570"/>
                    </a:lnTo>
                    <a:lnTo>
                      <a:pt x="1119" y="2576"/>
                    </a:lnTo>
                    <a:lnTo>
                      <a:pt x="1131" y="2581"/>
                    </a:lnTo>
                    <a:lnTo>
                      <a:pt x="1145" y="2587"/>
                    </a:lnTo>
                    <a:lnTo>
                      <a:pt x="1160" y="2591"/>
                    </a:lnTo>
                    <a:lnTo>
                      <a:pt x="1176" y="2595"/>
                    </a:lnTo>
                    <a:lnTo>
                      <a:pt x="1193" y="2597"/>
                    </a:lnTo>
                    <a:lnTo>
                      <a:pt x="1211" y="2600"/>
                    </a:lnTo>
                    <a:lnTo>
                      <a:pt x="1231" y="2604"/>
                    </a:lnTo>
                    <a:lnTo>
                      <a:pt x="1250" y="2608"/>
                    </a:lnTo>
                    <a:lnTo>
                      <a:pt x="1268" y="2609"/>
                    </a:lnTo>
                    <a:lnTo>
                      <a:pt x="1286" y="2610"/>
                    </a:lnTo>
                    <a:lnTo>
                      <a:pt x="1303" y="2610"/>
                    </a:lnTo>
                    <a:lnTo>
                      <a:pt x="1319" y="2610"/>
                    </a:lnTo>
                    <a:lnTo>
                      <a:pt x="1336" y="2609"/>
                    </a:lnTo>
                    <a:lnTo>
                      <a:pt x="1351" y="2608"/>
                    </a:lnTo>
                    <a:lnTo>
                      <a:pt x="1372" y="2604"/>
                    </a:lnTo>
                    <a:lnTo>
                      <a:pt x="1391" y="2600"/>
                    </a:lnTo>
                    <a:lnTo>
                      <a:pt x="1409" y="2596"/>
                    </a:lnTo>
                    <a:lnTo>
                      <a:pt x="1422" y="2591"/>
                    </a:lnTo>
                    <a:lnTo>
                      <a:pt x="1435" y="2585"/>
                    </a:lnTo>
                    <a:lnTo>
                      <a:pt x="1445" y="2581"/>
                    </a:lnTo>
                    <a:lnTo>
                      <a:pt x="1453" y="2579"/>
                    </a:lnTo>
                    <a:lnTo>
                      <a:pt x="1456" y="2576"/>
                    </a:lnTo>
                    <a:lnTo>
                      <a:pt x="1519" y="2530"/>
                    </a:lnTo>
                    <a:lnTo>
                      <a:pt x="1581" y="2476"/>
                    </a:lnTo>
                    <a:lnTo>
                      <a:pt x="1642" y="2415"/>
                    </a:lnTo>
                    <a:lnTo>
                      <a:pt x="1701" y="2350"/>
                    </a:lnTo>
                    <a:lnTo>
                      <a:pt x="1759" y="2278"/>
                    </a:lnTo>
                    <a:lnTo>
                      <a:pt x="1813" y="2203"/>
                    </a:lnTo>
                    <a:lnTo>
                      <a:pt x="1866" y="2124"/>
                    </a:lnTo>
                    <a:lnTo>
                      <a:pt x="1915" y="2040"/>
                    </a:lnTo>
                    <a:lnTo>
                      <a:pt x="1962" y="1954"/>
                    </a:lnTo>
                    <a:lnTo>
                      <a:pt x="2005" y="1868"/>
                    </a:lnTo>
                    <a:lnTo>
                      <a:pt x="2042" y="1778"/>
                    </a:lnTo>
                    <a:lnTo>
                      <a:pt x="2076" y="1688"/>
                    </a:lnTo>
                    <a:lnTo>
                      <a:pt x="2105" y="1598"/>
                    </a:lnTo>
                    <a:lnTo>
                      <a:pt x="2128" y="1508"/>
                    </a:lnTo>
                    <a:lnTo>
                      <a:pt x="2147" y="1418"/>
                    </a:lnTo>
                    <a:lnTo>
                      <a:pt x="2158" y="1332"/>
                    </a:lnTo>
                    <a:lnTo>
                      <a:pt x="2163" y="1262"/>
                    </a:lnTo>
                    <a:lnTo>
                      <a:pt x="2166" y="1189"/>
                    </a:lnTo>
                    <a:lnTo>
                      <a:pt x="2165" y="1117"/>
                    </a:lnTo>
                    <a:lnTo>
                      <a:pt x="2159" y="1043"/>
                    </a:lnTo>
                    <a:lnTo>
                      <a:pt x="2151" y="969"/>
                    </a:lnTo>
                    <a:lnTo>
                      <a:pt x="2138" y="897"/>
                    </a:lnTo>
                    <a:lnTo>
                      <a:pt x="2120" y="826"/>
                    </a:lnTo>
                    <a:lnTo>
                      <a:pt x="2098" y="756"/>
                    </a:lnTo>
                    <a:lnTo>
                      <a:pt x="2070" y="689"/>
                    </a:lnTo>
                    <a:lnTo>
                      <a:pt x="2037" y="626"/>
                    </a:lnTo>
                    <a:lnTo>
                      <a:pt x="1999" y="566"/>
                    </a:lnTo>
                    <a:lnTo>
                      <a:pt x="1955" y="511"/>
                    </a:lnTo>
                    <a:lnTo>
                      <a:pt x="1906" y="461"/>
                    </a:lnTo>
                    <a:lnTo>
                      <a:pt x="1850" y="416"/>
                    </a:lnTo>
                    <a:lnTo>
                      <a:pt x="1788" y="379"/>
                    </a:lnTo>
                    <a:lnTo>
                      <a:pt x="1719" y="3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Freeform 155"/>
              <p:cNvSpPr/>
              <p:nvPr/>
            </p:nvSpPr>
            <p:spPr>
              <a:xfrm>
                <a:off x="3217680" y="2238840"/>
                <a:ext cx="1347120" cy="847800"/>
              </a:xfrm>
              <a:custGeom>
                <a:avLst/>
                <a:gdLst/>
                <a:ahLst/>
                <a:rect l="l" t="t" r="r" b="b"/>
                <a:pathLst>
                  <a:path w="1953" h="2172">
                    <a:moveTo>
                      <a:pt x="102" y="1337"/>
                    </a:moveTo>
                    <a:lnTo>
                      <a:pt x="67" y="1237"/>
                    </a:lnTo>
                    <a:lnTo>
                      <a:pt x="41" y="1141"/>
                    </a:lnTo>
                    <a:lnTo>
                      <a:pt x="20" y="1049"/>
                    </a:lnTo>
                    <a:lnTo>
                      <a:pt x="8" y="962"/>
                    </a:lnTo>
                    <a:lnTo>
                      <a:pt x="2" y="879"/>
                    </a:lnTo>
                    <a:lnTo>
                      <a:pt x="0" y="801"/>
                    </a:lnTo>
                    <a:lnTo>
                      <a:pt x="2" y="730"/>
                    </a:lnTo>
                    <a:lnTo>
                      <a:pt x="8" y="663"/>
                    </a:lnTo>
                    <a:lnTo>
                      <a:pt x="15" y="603"/>
                    </a:lnTo>
                    <a:lnTo>
                      <a:pt x="25" y="551"/>
                    </a:lnTo>
                    <a:lnTo>
                      <a:pt x="37" y="505"/>
                    </a:lnTo>
                    <a:lnTo>
                      <a:pt x="47" y="467"/>
                    </a:lnTo>
                    <a:lnTo>
                      <a:pt x="57" y="436"/>
                    </a:lnTo>
                    <a:lnTo>
                      <a:pt x="65" y="414"/>
                    </a:lnTo>
                    <a:lnTo>
                      <a:pt x="70" y="401"/>
                    </a:lnTo>
                    <a:lnTo>
                      <a:pt x="72" y="395"/>
                    </a:lnTo>
                    <a:lnTo>
                      <a:pt x="120" y="293"/>
                    </a:lnTo>
                    <a:lnTo>
                      <a:pt x="174" y="210"/>
                    </a:lnTo>
                    <a:lnTo>
                      <a:pt x="233" y="143"/>
                    </a:lnTo>
                    <a:lnTo>
                      <a:pt x="295" y="90"/>
                    </a:lnTo>
                    <a:lnTo>
                      <a:pt x="359" y="52"/>
                    </a:lnTo>
                    <a:lnTo>
                      <a:pt x="426" y="25"/>
                    </a:lnTo>
                    <a:lnTo>
                      <a:pt x="492" y="10"/>
                    </a:lnTo>
                    <a:lnTo>
                      <a:pt x="556" y="2"/>
                    </a:lnTo>
                    <a:lnTo>
                      <a:pt x="616" y="0"/>
                    </a:lnTo>
                    <a:lnTo>
                      <a:pt x="674" y="6"/>
                    </a:lnTo>
                    <a:lnTo>
                      <a:pt x="726" y="13"/>
                    </a:lnTo>
                    <a:lnTo>
                      <a:pt x="771" y="24"/>
                    </a:lnTo>
                    <a:lnTo>
                      <a:pt x="808" y="36"/>
                    </a:lnTo>
                    <a:lnTo>
                      <a:pt x="837" y="45"/>
                    </a:lnTo>
                    <a:lnTo>
                      <a:pt x="854" y="53"/>
                    </a:lnTo>
                    <a:lnTo>
                      <a:pt x="861" y="56"/>
                    </a:lnTo>
                    <a:lnTo>
                      <a:pt x="881" y="60"/>
                    </a:lnTo>
                    <a:lnTo>
                      <a:pt x="901" y="62"/>
                    </a:lnTo>
                    <a:lnTo>
                      <a:pt x="920" y="66"/>
                    </a:lnTo>
                    <a:lnTo>
                      <a:pt x="938" y="70"/>
                    </a:lnTo>
                    <a:lnTo>
                      <a:pt x="956" y="74"/>
                    </a:lnTo>
                    <a:lnTo>
                      <a:pt x="974" y="78"/>
                    </a:lnTo>
                    <a:lnTo>
                      <a:pt x="990" y="81"/>
                    </a:lnTo>
                    <a:lnTo>
                      <a:pt x="1008" y="83"/>
                    </a:lnTo>
                    <a:lnTo>
                      <a:pt x="1026" y="86"/>
                    </a:lnTo>
                    <a:lnTo>
                      <a:pt x="1042" y="89"/>
                    </a:lnTo>
                    <a:lnTo>
                      <a:pt x="1060" y="90"/>
                    </a:lnTo>
                    <a:lnTo>
                      <a:pt x="1079" y="91"/>
                    </a:lnTo>
                    <a:lnTo>
                      <a:pt x="1098" y="91"/>
                    </a:lnTo>
                    <a:lnTo>
                      <a:pt x="1116" y="90"/>
                    </a:lnTo>
                    <a:lnTo>
                      <a:pt x="1137" y="87"/>
                    </a:lnTo>
                    <a:lnTo>
                      <a:pt x="1158" y="85"/>
                    </a:lnTo>
                    <a:lnTo>
                      <a:pt x="1179" y="81"/>
                    </a:lnTo>
                    <a:lnTo>
                      <a:pt x="1201" y="77"/>
                    </a:lnTo>
                    <a:lnTo>
                      <a:pt x="1222" y="73"/>
                    </a:lnTo>
                    <a:lnTo>
                      <a:pt x="1242" y="69"/>
                    </a:lnTo>
                    <a:lnTo>
                      <a:pt x="1265" y="66"/>
                    </a:lnTo>
                    <a:lnTo>
                      <a:pt x="1287" y="64"/>
                    </a:lnTo>
                    <a:lnTo>
                      <a:pt x="1309" y="62"/>
                    </a:lnTo>
                    <a:lnTo>
                      <a:pt x="1333" y="61"/>
                    </a:lnTo>
                    <a:lnTo>
                      <a:pt x="1357" y="62"/>
                    </a:lnTo>
                    <a:lnTo>
                      <a:pt x="1384" y="64"/>
                    </a:lnTo>
                    <a:lnTo>
                      <a:pt x="1410" y="67"/>
                    </a:lnTo>
                    <a:lnTo>
                      <a:pt x="1438" y="71"/>
                    </a:lnTo>
                    <a:lnTo>
                      <a:pt x="1468" y="78"/>
                    </a:lnTo>
                    <a:lnTo>
                      <a:pt x="1501" y="86"/>
                    </a:lnTo>
                    <a:lnTo>
                      <a:pt x="1533" y="96"/>
                    </a:lnTo>
                    <a:lnTo>
                      <a:pt x="1570" y="110"/>
                    </a:lnTo>
                    <a:lnTo>
                      <a:pt x="1630" y="137"/>
                    </a:lnTo>
                    <a:lnTo>
                      <a:pt x="1686" y="170"/>
                    </a:lnTo>
                    <a:lnTo>
                      <a:pt x="1734" y="210"/>
                    </a:lnTo>
                    <a:lnTo>
                      <a:pt x="1777" y="254"/>
                    </a:lnTo>
                    <a:lnTo>
                      <a:pt x="1814" y="305"/>
                    </a:lnTo>
                    <a:lnTo>
                      <a:pt x="1847" y="359"/>
                    </a:lnTo>
                    <a:lnTo>
                      <a:pt x="1875" y="415"/>
                    </a:lnTo>
                    <a:lnTo>
                      <a:pt x="1898" y="474"/>
                    </a:lnTo>
                    <a:lnTo>
                      <a:pt x="1915" y="536"/>
                    </a:lnTo>
                    <a:lnTo>
                      <a:pt x="1930" y="600"/>
                    </a:lnTo>
                    <a:lnTo>
                      <a:pt x="1940" y="663"/>
                    </a:lnTo>
                    <a:lnTo>
                      <a:pt x="1948" y="727"/>
                    </a:lnTo>
                    <a:lnTo>
                      <a:pt x="1952" y="792"/>
                    </a:lnTo>
                    <a:lnTo>
                      <a:pt x="1953" y="854"/>
                    </a:lnTo>
                    <a:lnTo>
                      <a:pt x="1950" y="914"/>
                    </a:lnTo>
                    <a:lnTo>
                      <a:pt x="1947" y="974"/>
                    </a:lnTo>
                    <a:lnTo>
                      <a:pt x="1937" y="1055"/>
                    </a:lnTo>
                    <a:lnTo>
                      <a:pt x="1920" y="1138"/>
                    </a:lnTo>
                    <a:lnTo>
                      <a:pt x="1899" y="1222"/>
                    </a:lnTo>
                    <a:lnTo>
                      <a:pt x="1872" y="1308"/>
                    </a:lnTo>
                    <a:lnTo>
                      <a:pt x="1841" y="1392"/>
                    </a:lnTo>
                    <a:lnTo>
                      <a:pt x="1806" y="1478"/>
                    </a:lnTo>
                    <a:lnTo>
                      <a:pt x="1767" y="1561"/>
                    </a:lnTo>
                    <a:lnTo>
                      <a:pt x="1724" y="1641"/>
                    </a:lnTo>
                    <a:lnTo>
                      <a:pt x="1677" y="1720"/>
                    </a:lnTo>
                    <a:lnTo>
                      <a:pt x="1629" y="1797"/>
                    </a:lnTo>
                    <a:lnTo>
                      <a:pt x="1578" y="1868"/>
                    </a:lnTo>
                    <a:lnTo>
                      <a:pt x="1525" y="1935"/>
                    </a:lnTo>
                    <a:lnTo>
                      <a:pt x="1470" y="1998"/>
                    </a:lnTo>
                    <a:lnTo>
                      <a:pt x="1414" y="2055"/>
                    </a:lnTo>
                    <a:lnTo>
                      <a:pt x="1357" y="2105"/>
                    </a:lnTo>
                    <a:lnTo>
                      <a:pt x="1299" y="2148"/>
                    </a:lnTo>
                    <a:lnTo>
                      <a:pt x="1298" y="2150"/>
                    </a:lnTo>
                    <a:lnTo>
                      <a:pt x="1294" y="2151"/>
                    </a:lnTo>
                    <a:lnTo>
                      <a:pt x="1289" y="2154"/>
                    </a:lnTo>
                    <a:lnTo>
                      <a:pt x="1280" y="2156"/>
                    </a:lnTo>
                    <a:lnTo>
                      <a:pt x="1270" y="2160"/>
                    </a:lnTo>
                    <a:lnTo>
                      <a:pt x="1259" y="2164"/>
                    </a:lnTo>
                    <a:lnTo>
                      <a:pt x="1245" y="2167"/>
                    </a:lnTo>
                    <a:lnTo>
                      <a:pt x="1230" y="2169"/>
                    </a:lnTo>
                    <a:lnTo>
                      <a:pt x="1216" y="2171"/>
                    </a:lnTo>
                    <a:lnTo>
                      <a:pt x="1201" y="2172"/>
                    </a:lnTo>
                    <a:lnTo>
                      <a:pt x="1186" y="2172"/>
                    </a:lnTo>
                    <a:lnTo>
                      <a:pt x="1169" y="2172"/>
                    </a:lnTo>
                    <a:lnTo>
                      <a:pt x="1152" y="2169"/>
                    </a:lnTo>
                    <a:lnTo>
                      <a:pt x="1134" y="2167"/>
                    </a:lnTo>
                    <a:lnTo>
                      <a:pt x="1115" y="2162"/>
                    </a:lnTo>
                    <a:lnTo>
                      <a:pt x="1095" y="2155"/>
                    </a:lnTo>
                    <a:lnTo>
                      <a:pt x="1057" y="2140"/>
                    </a:lnTo>
                    <a:lnTo>
                      <a:pt x="1028" y="2131"/>
                    </a:lnTo>
                    <a:lnTo>
                      <a:pt x="1008" y="2125"/>
                    </a:lnTo>
                    <a:lnTo>
                      <a:pt x="994" y="2121"/>
                    </a:lnTo>
                    <a:lnTo>
                      <a:pt x="984" y="2119"/>
                    </a:lnTo>
                    <a:lnTo>
                      <a:pt x="977" y="2118"/>
                    </a:lnTo>
                    <a:lnTo>
                      <a:pt x="970" y="2118"/>
                    </a:lnTo>
                    <a:lnTo>
                      <a:pt x="963" y="2117"/>
                    </a:lnTo>
                    <a:lnTo>
                      <a:pt x="936" y="2114"/>
                    </a:lnTo>
                    <a:lnTo>
                      <a:pt x="910" y="2114"/>
                    </a:lnTo>
                    <a:lnTo>
                      <a:pt x="885" y="2118"/>
                    </a:lnTo>
                    <a:lnTo>
                      <a:pt x="861" y="2125"/>
                    </a:lnTo>
                    <a:lnTo>
                      <a:pt x="838" y="2133"/>
                    </a:lnTo>
                    <a:lnTo>
                      <a:pt x="818" y="2139"/>
                    </a:lnTo>
                    <a:lnTo>
                      <a:pt x="802" y="2147"/>
                    </a:lnTo>
                    <a:lnTo>
                      <a:pt x="788" y="2152"/>
                    </a:lnTo>
                    <a:lnTo>
                      <a:pt x="766" y="2159"/>
                    </a:lnTo>
                    <a:lnTo>
                      <a:pt x="745" y="2162"/>
                    </a:lnTo>
                    <a:lnTo>
                      <a:pt x="725" y="2163"/>
                    </a:lnTo>
                    <a:lnTo>
                      <a:pt x="703" y="2162"/>
                    </a:lnTo>
                    <a:lnTo>
                      <a:pt x="683" y="2158"/>
                    </a:lnTo>
                    <a:lnTo>
                      <a:pt x="664" y="2152"/>
                    </a:lnTo>
                    <a:lnTo>
                      <a:pt x="645" y="2146"/>
                    </a:lnTo>
                    <a:lnTo>
                      <a:pt x="629" y="2138"/>
                    </a:lnTo>
                    <a:lnTo>
                      <a:pt x="613" y="2130"/>
                    </a:lnTo>
                    <a:lnTo>
                      <a:pt x="597" y="2122"/>
                    </a:lnTo>
                    <a:lnTo>
                      <a:pt x="585" y="2114"/>
                    </a:lnTo>
                    <a:lnTo>
                      <a:pt x="575" y="2108"/>
                    </a:lnTo>
                    <a:lnTo>
                      <a:pt x="566" y="2101"/>
                    </a:lnTo>
                    <a:lnTo>
                      <a:pt x="558" y="2096"/>
                    </a:lnTo>
                    <a:lnTo>
                      <a:pt x="555" y="2093"/>
                    </a:lnTo>
                    <a:lnTo>
                      <a:pt x="553" y="2092"/>
                    </a:lnTo>
                    <a:lnTo>
                      <a:pt x="550" y="2088"/>
                    </a:lnTo>
                    <a:lnTo>
                      <a:pt x="541" y="2076"/>
                    </a:lnTo>
                    <a:lnTo>
                      <a:pt x="526" y="2056"/>
                    </a:lnTo>
                    <a:lnTo>
                      <a:pt x="505" y="2030"/>
                    </a:lnTo>
                    <a:lnTo>
                      <a:pt x="480" y="1998"/>
                    </a:lnTo>
                    <a:lnTo>
                      <a:pt x="453" y="1959"/>
                    </a:lnTo>
                    <a:lnTo>
                      <a:pt x="421" y="1914"/>
                    </a:lnTo>
                    <a:lnTo>
                      <a:pt x="387" y="1865"/>
                    </a:lnTo>
                    <a:lnTo>
                      <a:pt x="352" y="1811"/>
                    </a:lnTo>
                    <a:lnTo>
                      <a:pt x="314" y="1752"/>
                    </a:lnTo>
                    <a:lnTo>
                      <a:pt x="276" y="1690"/>
                    </a:lnTo>
                    <a:lnTo>
                      <a:pt x="240" y="1624"/>
                    </a:lnTo>
                    <a:lnTo>
                      <a:pt x="202" y="1556"/>
                    </a:lnTo>
                    <a:lnTo>
                      <a:pt x="167" y="1485"/>
                    </a:lnTo>
                    <a:lnTo>
                      <a:pt x="134" y="1412"/>
                    </a:lnTo>
                    <a:lnTo>
                      <a:pt x="102" y="1337"/>
                    </a:lnTo>
                    <a:close/>
                  </a:path>
                </a:pathLst>
              </a:custGeom>
              <a:solidFill>
                <a:srgbClr val="ff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Freeform 156"/>
              <p:cNvSpPr/>
              <p:nvPr/>
            </p:nvSpPr>
            <p:spPr>
              <a:xfrm>
                <a:off x="3693600" y="2346120"/>
                <a:ext cx="794880" cy="692280"/>
              </a:xfrm>
              <a:custGeom>
                <a:avLst/>
                <a:gdLst/>
                <a:ahLst/>
                <a:rect l="l" t="t" r="r" b="b"/>
                <a:pathLst>
                  <a:path w="1154" h="1765">
                    <a:moveTo>
                      <a:pt x="949" y="59"/>
                    </a:moveTo>
                    <a:lnTo>
                      <a:pt x="944" y="55"/>
                    </a:lnTo>
                    <a:lnTo>
                      <a:pt x="930" y="46"/>
                    </a:lnTo>
                    <a:lnTo>
                      <a:pt x="910" y="34"/>
                    </a:lnTo>
                    <a:lnTo>
                      <a:pt x="883" y="21"/>
                    </a:lnTo>
                    <a:lnTo>
                      <a:pt x="853" y="9"/>
                    </a:lnTo>
                    <a:lnTo>
                      <a:pt x="820" y="1"/>
                    </a:lnTo>
                    <a:lnTo>
                      <a:pt x="788" y="0"/>
                    </a:lnTo>
                    <a:lnTo>
                      <a:pt x="755" y="8"/>
                    </a:lnTo>
                    <a:lnTo>
                      <a:pt x="727" y="20"/>
                    </a:lnTo>
                    <a:lnTo>
                      <a:pt x="706" y="29"/>
                    </a:lnTo>
                    <a:lnTo>
                      <a:pt x="688" y="38"/>
                    </a:lnTo>
                    <a:lnTo>
                      <a:pt x="673" y="46"/>
                    </a:lnTo>
                    <a:lnTo>
                      <a:pt x="658" y="55"/>
                    </a:lnTo>
                    <a:lnTo>
                      <a:pt x="641" y="66"/>
                    </a:lnTo>
                    <a:lnTo>
                      <a:pt x="622" y="79"/>
                    </a:lnTo>
                    <a:lnTo>
                      <a:pt x="597" y="97"/>
                    </a:lnTo>
                    <a:lnTo>
                      <a:pt x="571" y="113"/>
                    </a:lnTo>
                    <a:lnTo>
                      <a:pt x="547" y="120"/>
                    </a:lnTo>
                    <a:lnTo>
                      <a:pt x="524" y="120"/>
                    </a:lnTo>
                    <a:lnTo>
                      <a:pt x="502" y="118"/>
                    </a:lnTo>
                    <a:lnTo>
                      <a:pt x="479" y="117"/>
                    </a:lnTo>
                    <a:lnTo>
                      <a:pt x="456" y="118"/>
                    </a:lnTo>
                    <a:lnTo>
                      <a:pt x="432" y="128"/>
                    </a:lnTo>
                    <a:lnTo>
                      <a:pt x="406" y="146"/>
                    </a:lnTo>
                    <a:lnTo>
                      <a:pt x="378" y="170"/>
                    </a:lnTo>
                    <a:lnTo>
                      <a:pt x="350" y="196"/>
                    </a:lnTo>
                    <a:lnTo>
                      <a:pt x="324" y="226"/>
                    </a:lnTo>
                    <a:lnTo>
                      <a:pt x="301" y="263"/>
                    </a:lnTo>
                    <a:lnTo>
                      <a:pt x="281" y="309"/>
                    </a:lnTo>
                    <a:lnTo>
                      <a:pt x="266" y="365"/>
                    </a:lnTo>
                    <a:lnTo>
                      <a:pt x="257" y="433"/>
                    </a:lnTo>
                    <a:lnTo>
                      <a:pt x="256" y="518"/>
                    </a:lnTo>
                    <a:lnTo>
                      <a:pt x="255" y="581"/>
                    </a:lnTo>
                    <a:lnTo>
                      <a:pt x="248" y="664"/>
                    </a:lnTo>
                    <a:lnTo>
                      <a:pt x="237" y="761"/>
                    </a:lnTo>
                    <a:lnTo>
                      <a:pt x="219" y="864"/>
                    </a:lnTo>
                    <a:lnTo>
                      <a:pt x="195" y="965"/>
                    </a:lnTo>
                    <a:lnTo>
                      <a:pt x="166" y="1060"/>
                    </a:lnTo>
                    <a:lnTo>
                      <a:pt x="129" y="1140"/>
                    </a:lnTo>
                    <a:lnTo>
                      <a:pt x="85" y="1200"/>
                    </a:lnTo>
                    <a:lnTo>
                      <a:pt x="58" y="1241"/>
                    </a:lnTo>
                    <a:lnTo>
                      <a:pt x="35" y="1302"/>
                    </a:lnTo>
                    <a:lnTo>
                      <a:pt x="17" y="1380"/>
                    </a:lnTo>
                    <a:lnTo>
                      <a:pt x="5" y="1463"/>
                    </a:lnTo>
                    <a:lnTo>
                      <a:pt x="0" y="1547"/>
                    </a:lnTo>
                    <a:lnTo>
                      <a:pt x="4" y="1621"/>
                    </a:lnTo>
                    <a:lnTo>
                      <a:pt x="18" y="1680"/>
                    </a:lnTo>
                    <a:lnTo>
                      <a:pt x="43" y="1715"/>
                    </a:lnTo>
                    <a:lnTo>
                      <a:pt x="71" y="1732"/>
                    </a:lnTo>
                    <a:lnTo>
                      <a:pt x="92" y="1742"/>
                    </a:lnTo>
                    <a:lnTo>
                      <a:pt x="110" y="1746"/>
                    </a:lnTo>
                    <a:lnTo>
                      <a:pt x="126" y="1746"/>
                    </a:lnTo>
                    <a:lnTo>
                      <a:pt x="142" y="1744"/>
                    </a:lnTo>
                    <a:lnTo>
                      <a:pt x="161" y="1736"/>
                    </a:lnTo>
                    <a:lnTo>
                      <a:pt x="184" y="1727"/>
                    </a:lnTo>
                    <a:lnTo>
                      <a:pt x="213" y="1716"/>
                    </a:lnTo>
                    <a:lnTo>
                      <a:pt x="231" y="1711"/>
                    </a:lnTo>
                    <a:lnTo>
                      <a:pt x="248" y="1708"/>
                    </a:lnTo>
                    <a:lnTo>
                      <a:pt x="266" y="1705"/>
                    </a:lnTo>
                    <a:lnTo>
                      <a:pt x="284" y="1703"/>
                    </a:lnTo>
                    <a:lnTo>
                      <a:pt x="302" y="1703"/>
                    </a:lnTo>
                    <a:lnTo>
                      <a:pt x="320" y="1703"/>
                    </a:lnTo>
                    <a:lnTo>
                      <a:pt x="338" y="1704"/>
                    </a:lnTo>
                    <a:lnTo>
                      <a:pt x="355" y="1707"/>
                    </a:lnTo>
                    <a:lnTo>
                      <a:pt x="372" y="1709"/>
                    </a:lnTo>
                    <a:lnTo>
                      <a:pt x="388" y="1712"/>
                    </a:lnTo>
                    <a:lnTo>
                      <a:pt x="403" y="1716"/>
                    </a:lnTo>
                    <a:lnTo>
                      <a:pt x="417" y="1720"/>
                    </a:lnTo>
                    <a:lnTo>
                      <a:pt x="430" y="1725"/>
                    </a:lnTo>
                    <a:lnTo>
                      <a:pt x="442" y="1730"/>
                    </a:lnTo>
                    <a:lnTo>
                      <a:pt x="451" y="1736"/>
                    </a:lnTo>
                    <a:lnTo>
                      <a:pt x="460" y="1741"/>
                    </a:lnTo>
                    <a:lnTo>
                      <a:pt x="476" y="1752"/>
                    </a:lnTo>
                    <a:lnTo>
                      <a:pt x="495" y="1758"/>
                    </a:lnTo>
                    <a:lnTo>
                      <a:pt x="515" y="1762"/>
                    </a:lnTo>
                    <a:lnTo>
                      <a:pt x="537" y="1765"/>
                    </a:lnTo>
                    <a:lnTo>
                      <a:pt x="558" y="1763"/>
                    </a:lnTo>
                    <a:lnTo>
                      <a:pt x="578" y="1759"/>
                    </a:lnTo>
                    <a:lnTo>
                      <a:pt x="596" y="1753"/>
                    </a:lnTo>
                    <a:lnTo>
                      <a:pt x="610" y="1742"/>
                    </a:lnTo>
                    <a:lnTo>
                      <a:pt x="619" y="1733"/>
                    </a:lnTo>
                    <a:lnTo>
                      <a:pt x="631" y="1719"/>
                    </a:lnTo>
                    <a:lnTo>
                      <a:pt x="648" y="1698"/>
                    </a:lnTo>
                    <a:lnTo>
                      <a:pt x="667" y="1674"/>
                    </a:lnTo>
                    <a:lnTo>
                      <a:pt x="688" y="1645"/>
                    </a:lnTo>
                    <a:lnTo>
                      <a:pt x="712" y="1612"/>
                    </a:lnTo>
                    <a:lnTo>
                      <a:pt x="738" y="1579"/>
                    </a:lnTo>
                    <a:lnTo>
                      <a:pt x="765" y="1543"/>
                    </a:lnTo>
                    <a:lnTo>
                      <a:pt x="791" y="1507"/>
                    </a:lnTo>
                    <a:lnTo>
                      <a:pt x="818" y="1471"/>
                    </a:lnTo>
                    <a:lnTo>
                      <a:pt x="844" y="1435"/>
                    </a:lnTo>
                    <a:lnTo>
                      <a:pt x="869" y="1403"/>
                    </a:lnTo>
                    <a:lnTo>
                      <a:pt x="892" y="1371"/>
                    </a:lnTo>
                    <a:lnTo>
                      <a:pt x="913" y="1343"/>
                    </a:lnTo>
                    <a:lnTo>
                      <a:pt x="931" y="1320"/>
                    </a:lnTo>
                    <a:lnTo>
                      <a:pt x="946" y="1301"/>
                    </a:lnTo>
                    <a:lnTo>
                      <a:pt x="963" y="1277"/>
                    </a:lnTo>
                    <a:lnTo>
                      <a:pt x="984" y="1239"/>
                    </a:lnTo>
                    <a:lnTo>
                      <a:pt x="1009" y="1189"/>
                    </a:lnTo>
                    <a:lnTo>
                      <a:pt x="1037" y="1127"/>
                    </a:lnTo>
                    <a:lnTo>
                      <a:pt x="1065" y="1056"/>
                    </a:lnTo>
                    <a:lnTo>
                      <a:pt x="1091" y="977"/>
                    </a:lnTo>
                    <a:lnTo>
                      <a:pt x="1115" y="892"/>
                    </a:lnTo>
                    <a:lnTo>
                      <a:pt x="1134" y="801"/>
                    </a:lnTo>
                    <a:lnTo>
                      <a:pt x="1148" y="706"/>
                    </a:lnTo>
                    <a:lnTo>
                      <a:pt x="1154" y="608"/>
                    </a:lnTo>
                    <a:lnTo>
                      <a:pt x="1152" y="510"/>
                    </a:lnTo>
                    <a:lnTo>
                      <a:pt x="1138" y="412"/>
                    </a:lnTo>
                    <a:lnTo>
                      <a:pt x="1113" y="317"/>
                    </a:lnTo>
                    <a:lnTo>
                      <a:pt x="1073" y="226"/>
                    </a:lnTo>
                    <a:lnTo>
                      <a:pt x="1019" y="140"/>
                    </a:lnTo>
                    <a:lnTo>
                      <a:pt x="949" y="59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Freeform 157"/>
              <p:cNvSpPr/>
              <p:nvPr/>
            </p:nvSpPr>
            <p:spPr>
              <a:xfrm>
                <a:off x="3662640" y="2281320"/>
                <a:ext cx="357840" cy="83520"/>
              </a:xfrm>
              <a:custGeom>
                <a:avLst/>
                <a:gdLst/>
                <a:ahLst/>
                <a:rect l="l" t="t" r="r" b="b"/>
                <a:pathLst>
                  <a:path w="519" h="213">
                    <a:moveTo>
                      <a:pt x="301" y="75"/>
                    </a:moveTo>
                    <a:lnTo>
                      <a:pt x="296" y="72"/>
                    </a:lnTo>
                    <a:lnTo>
                      <a:pt x="282" y="66"/>
                    </a:lnTo>
                    <a:lnTo>
                      <a:pt x="262" y="57"/>
                    </a:lnTo>
                    <a:lnTo>
                      <a:pt x="235" y="45"/>
                    </a:lnTo>
                    <a:lnTo>
                      <a:pt x="206" y="33"/>
                    </a:lnTo>
                    <a:lnTo>
                      <a:pt x="175" y="21"/>
                    </a:lnTo>
                    <a:lnTo>
                      <a:pt x="143" y="10"/>
                    </a:lnTo>
                    <a:lnTo>
                      <a:pt x="113" y="4"/>
                    </a:lnTo>
                    <a:lnTo>
                      <a:pt x="87" y="0"/>
                    </a:lnTo>
                    <a:lnTo>
                      <a:pt x="64" y="1"/>
                    </a:lnTo>
                    <a:lnTo>
                      <a:pt x="44" y="4"/>
                    </a:lnTo>
                    <a:lnTo>
                      <a:pt x="29" y="9"/>
                    </a:lnTo>
                    <a:lnTo>
                      <a:pt x="16" y="16"/>
                    </a:lnTo>
                    <a:lnTo>
                      <a:pt x="7" y="21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179" y="188"/>
                    </a:lnTo>
                    <a:lnTo>
                      <a:pt x="184" y="190"/>
                    </a:lnTo>
                    <a:lnTo>
                      <a:pt x="199" y="194"/>
                    </a:lnTo>
                    <a:lnTo>
                      <a:pt x="220" y="199"/>
                    </a:lnTo>
                    <a:lnTo>
                      <a:pt x="247" y="204"/>
                    </a:lnTo>
                    <a:lnTo>
                      <a:pt x="276" y="209"/>
                    </a:lnTo>
                    <a:lnTo>
                      <a:pt x="306" y="213"/>
                    </a:lnTo>
                    <a:lnTo>
                      <a:pt x="335" y="213"/>
                    </a:lnTo>
                    <a:lnTo>
                      <a:pt x="361" y="209"/>
                    </a:lnTo>
                    <a:lnTo>
                      <a:pt x="387" y="203"/>
                    </a:lnTo>
                    <a:lnTo>
                      <a:pt x="412" y="194"/>
                    </a:lnTo>
                    <a:lnTo>
                      <a:pt x="437" y="186"/>
                    </a:lnTo>
                    <a:lnTo>
                      <a:pt x="460" y="178"/>
                    </a:lnTo>
                    <a:lnTo>
                      <a:pt x="480" y="170"/>
                    </a:lnTo>
                    <a:lnTo>
                      <a:pt x="496" y="163"/>
                    </a:lnTo>
                    <a:lnTo>
                      <a:pt x="506" y="159"/>
                    </a:lnTo>
                    <a:lnTo>
                      <a:pt x="510" y="158"/>
                    </a:lnTo>
                    <a:lnTo>
                      <a:pt x="511" y="158"/>
                    </a:lnTo>
                    <a:lnTo>
                      <a:pt x="515" y="157"/>
                    </a:lnTo>
                    <a:lnTo>
                      <a:pt x="518" y="154"/>
                    </a:lnTo>
                    <a:lnTo>
                      <a:pt x="519" y="151"/>
                    </a:lnTo>
                    <a:lnTo>
                      <a:pt x="518" y="147"/>
                    </a:lnTo>
                    <a:lnTo>
                      <a:pt x="510" y="141"/>
                    </a:lnTo>
                    <a:lnTo>
                      <a:pt x="496" y="134"/>
                    </a:lnTo>
                    <a:lnTo>
                      <a:pt x="473" y="126"/>
                    </a:lnTo>
                    <a:lnTo>
                      <a:pt x="448" y="116"/>
                    </a:lnTo>
                    <a:lnTo>
                      <a:pt x="428" y="105"/>
                    </a:lnTo>
                    <a:lnTo>
                      <a:pt x="410" y="95"/>
                    </a:lnTo>
                    <a:lnTo>
                      <a:pt x="394" y="86"/>
                    </a:lnTo>
                    <a:lnTo>
                      <a:pt x="376" y="78"/>
                    </a:lnTo>
                    <a:lnTo>
                      <a:pt x="356" y="74"/>
                    </a:lnTo>
                    <a:lnTo>
                      <a:pt x="331" y="72"/>
                    </a:lnTo>
                    <a:lnTo>
                      <a:pt x="301" y="75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Freeform 158"/>
              <p:cNvSpPr/>
              <p:nvPr/>
            </p:nvSpPr>
            <p:spPr>
              <a:xfrm>
                <a:off x="3271680" y="2323800"/>
                <a:ext cx="459360" cy="553320"/>
              </a:xfrm>
              <a:custGeom>
                <a:avLst/>
                <a:gdLst/>
                <a:ahLst/>
                <a:rect l="l" t="t" r="r" b="b"/>
                <a:pathLst>
                  <a:path w="666" h="1421">
                    <a:moveTo>
                      <a:pt x="368" y="19"/>
                    </a:moveTo>
                    <a:lnTo>
                      <a:pt x="364" y="21"/>
                    </a:lnTo>
                    <a:lnTo>
                      <a:pt x="356" y="27"/>
                    </a:lnTo>
                    <a:lnTo>
                      <a:pt x="341" y="37"/>
                    </a:lnTo>
                    <a:lnTo>
                      <a:pt x="320" y="50"/>
                    </a:lnTo>
                    <a:lnTo>
                      <a:pt x="298" y="69"/>
                    </a:lnTo>
                    <a:lnTo>
                      <a:pt x="271" y="91"/>
                    </a:lnTo>
                    <a:lnTo>
                      <a:pt x="242" y="116"/>
                    </a:lnTo>
                    <a:lnTo>
                      <a:pt x="212" y="146"/>
                    </a:lnTo>
                    <a:lnTo>
                      <a:pt x="182" y="179"/>
                    </a:lnTo>
                    <a:lnTo>
                      <a:pt x="150" y="218"/>
                    </a:lnTo>
                    <a:lnTo>
                      <a:pt x="120" y="258"/>
                    </a:lnTo>
                    <a:lnTo>
                      <a:pt x="92" y="303"/>
                    </a:lnTo>
                    <a:lnTo>
                      <a:pt x="67" y="352"/>
                    </a:lnTo>
                    <a:lnTo>
                      <a:pt x="44" y="403"/>
                    </a:lnTo>
                    <a:lnTo>
                      <a:pt x="26" y="460"/>
                    </a:lnTo>
                    <a:lnTo>
                      <a:pt x="12" y="519"/>
                    </a:lnTo>
                    <a:lnTo>
                      <a:pt x="4" y="577"/>
                    </a:lnTo>
                    <a:lnTo>
                      <a:pt x="0" y="635"/>
                    </a:lnTo>
                    <a:lnTo>
                      <a:pt x="0" y="692"/>
                    </a:lnTo>
                    <a:lnTo>
                      <a:pt x="4" y="748"/>
                    </a:lnTo>
                    <a:lnTo>
                      <a:pt x="12" y="802"/>
                    </a:lnTo>
                    <a:lnTo>
                      <a:pt x="22" y="855"/>
                    </a:lnTo>
                    <a:lnTo>
                      <a:pt x="33" y="905"/>
                    </a:lnTo>
                    <a:lnTo>
                      <a:pt x="47" y="952"/>
                    </a:lnTo>
                    <a:lnTo>
                      <a:pt x="62" y="997"/>
                    </a:lnTo>
                    <a:lnTo>
                      <a:pt x="79" y="1038"/>
                    </a:lnTo>
                    <a:lnTo>
                      <a:pt x="94" y="1076"/>
                    </a:lnTo>
                    <a:lnTo>
                      <a:pt x="110" y="1109"/>
                    </a:lnTo>
                    <a:lnTo>
                      <a:pt x="125" y="1138"/>
                    </a:lnTo>
                    <a:lnTo>
                      <a:pt x="138" y="1162"/>
                    </a:lnTo>
                    <a:lnTo>
                      <a:pt x="150" y="1180"/>
                    </a:lnTo>
                    <a:lnTo>
                      <a:pt x="160" y="1194"/>
                    </a:lnTo>
                    <a:lnTo>
                      <a:pt x="179" y="1216"/>
                    </a:lnTo>
                    <a:lnTo>
                      <a:pt x="199" y="1244"/>
                    </a:lnTo>
                    <a:lnTo>
                      <a:pt x="221" y="1273"/>
                    </a:lnTo>
                    <a:lnTo>
                      <a:pt x="241" y="1302"/>
                    </a:lnTo>
                    <a:lnTo>
                      <a:pt x="260" y="1329"/>
                    </a:lnTo>
                    <a:lnTo>
                      <a:pt x="274" y="1350"/>
                    </a:lnTo>
                    <a:lnTo>
                      <a:pt x="284" y="1366"/>
                    </a:lnTo>
                    <a:lnTo>
                      <a:pt x="288" y="1371"/>
                    </a:lnTo>
                    <a:lnTo>
                      <a:pt x="290" y="1374"/>
                    </a:lnTo>
                    <a:lnTo>
                      <a:pt x="296" y="1382"/>
                    </a:lnTo>
                    <a:lnTo>
                      <a:pt x="305" y="1392"/>
                    </a:lnTo>
                    <a:lnTo>
                      <a:pt x="318" y="1404"/>
                    </a:lnTo>
                    <a:lnTo>
                      <a:pt x="330" y="1413"/>
                    </a:lnTo>
                    <a:lnTo>
                      <a:pt x="343" y="1420"/>
                    </a:lnTo>
                    <a:lnTo>
                      <a:pt x="356" y="1421"/>
                    </a:lnTo>
                    <a:lnTo>
                      <a:pt x="366" y="1413"/>
                    </a:lnTo>
                    <a:lnTo>
                      <a:pt x="376" y="1402"/>
                    </a:lnTo>
                    <a:lnTo>
                      <a:pt x="388" y="1391"/>
                    </a:lnTo>
                    <a:lnTo>
                      <a:pt x="401" y="1379"/>
                    </a:lnTo>
                    <a:lnTo>
                      <a:pt x="412" y="1365"/>
                    </a:lnTo>
                    <a:lnTo>
                      <a:pt x="424" y="1346"/>
                    </a:lnTo>
                    <a:lnTo>
                      <a:pt x="433" y="1324"/>
                    </a:lnTo>
                    <a:lnTo>
                      <a:pt x="438" y="1295"/>
                    </a:lnTo>
                    <a:lnTo>
                      <a:pt x="439" y="1259"/>
                    </a:lnTo>
                    <a:lnTo>
                      <a:pt x="436" y="1163"/>
                    </a:lnTo>
                    <a:lnTo>
                      <a:pt x="431" y="1053"/>
                    </a:lnTo>
                    <a:lnTo>
                      <a:pt x="426" y="954"/>
                    </a:lnTo>
                    <a:lnTo>
                      <a:pt x="424" y="889"/>
                    </a:lnTo>
                    <a:lnTo>
                      <a:pt x="430" y="852"/>
                    </a:lnTo>
                    <a:lnTo>
                      <a:pt x="448" y="787"/>
                    </a:lnTo>
                    <a:lnTo>
                      <a:pt x="473" y="701"/>
                    </a:lnTo>
                    <a:lnTo>
                      <a:pt x="503" y="607"/>
                    </a:lnTo>
                    <a:lnTo>
                      <a:pt x="536" y="514"/>
                    </a:lnTo>
                    <a:lnTo>
                      <a:pt x="569" y="432"/>
                    </a:lnTo>
                    <a:lnTo>
                      <a:pt x="596" y="369"/>
                    </a:lnTo>
                    <a:lnTo>
                      <a:pt x="618" y="337"/>
                    </a:lnTo>
                    <a:lnTo>
                      <a:pt x="633" y="323"/>
                    </a:lnTo>
                    <a:lnTo>
                      <a:pt x="645" y="305"/>
                    </a:lnTo>
                    <a:lnTo>
                      <a:pt x="654" y="283"/>
                    </a:lnTo>
                    <a:lnTo>
                      <a:pt x="661" y="260"/>
                    </a:lnTo>
                    <a:lnTo>
                      <a:pt x="664" y="233"/>
                    </a:lnTo>
                    <a:lnTo>
                      <a:pt x="666" y="207"/>
                    </a:lnTo>
                    <a:lnTo>
                      <a:pt x="664" y="178"/>
                    </a:lnTo>
                    <a:lnTo>
                      <a:pt x="662" y="149"/>
                    </a:lnTo>
                    <a:lnTo>
                      <a:pt x="658" y="133"/>
                    </a:lnTo>
                    <a:lnTo>
                      <a:pt x="652" y="119"/>
                    </a:lnTo>
                    <a:lnTo>
                      <a:pt x="642" y="102"/>
                    </a:lnTo>
                    <a:lnTo>
                      <a:pt x="629" y="86"/>
                    </a:lnTo>
                    <a:lnTo>
                      <a:pt x="614" y="71"/>
                    </a:lnTo>
                    <a:lnTo>
                      <a:pt x="598" y="56"/>
                    </a:lnTo>
                    <a:lnTo>
                      <a:pt x="579" y="42"/>
                    </a:lnTo>
                    <a:lnTo>
                      <a:pt x="557" y="31"/>
                    </a:lnTo>
                    <a:lnTo>
                      <a:pt x="536" y="20"/>
                    </a:lnTo>
                    <a:lnTo>
                      <a:pt x="513" y="11"/>
                    </a:lnTo>
                    <a:lnTo>
                      <a:pt x="489" y="4"/>
                    </a:lnTo>
                    <a:lnTo>
                      <a:pt x="464" y="0"/>
                    </a:lnTo>
                    <a:lnTo>
                      <a:pt x="440" y="0"/>
                    </a:lnTo>
                    <a:lnTo>
                      <a:pt x="416" y="3"/>
                    </a:lnTo>
                    <a:lnTo>
                      <a:pt x="392" y="8"/>
                    </a:lnTo>
                    <a:lnTo>
                      <a:pt x="368" y="19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Freeform 159"/>
              <p:cNvSpPr/>
              <p:nvPr/>
            </p:nvSpPr>
            <p:spPr>
              <a:xfrm>
                <a:off x="3656520" y="3042000"/>
                <a:ext cx="407520" cy="36360"/>
              </a:xfrm>
              <a:custGeom>
                <a:avLst/>
                <a:gdLst/>
                <a:ahLst/>
                <a:rect l="l" t="t" r="r" b="b"/>
                <a:pathLst>
                  <a:path w="590" h="105">
                    <a:moveTo>
                      <a:pt x="81" y="104"/>
                    </a:moveTo>
                    <a:lnTo>
                      <a:pt x="71" y="101"/>
                    </a:lnTo>
                    <a:lnTo>
                      <a:pt x="59" y="99"/>
                    </a:lnTo>
                    <a:lnTo>
                      <a:pt x="49" y="93"/>
                    </a:lnTo>
                    <a:lnTo>
                      <a:pt x="39" y="88"/>
                    </a:lnTo>
                    <a:lnTo>
                      <a:pt x="29" y="80"/>
                    </a:lnTo>
                    <a:lnTo>
                      <a:pt x="19" y="71"/>
                    </a:lnTo>
                    <a:lnTo>
                      <a:pt x="9" y="59"/>
                    </a:lnTo>
                    <a:lnTo>
                      <a:pt x="0" y="46"/>
                    </a:lnTo>
                    <a:lnTo>
                      <a:pt x="5" y="47"/>
                    </a:lnTo>
                    <a:lnTo>
                      <a:pt x="20" y="50"/>
                    </a:lnTo>
                    <a:lnTo>
                      <a:pt x="42" y="53"/>
                    </a:lnTo>
                    <a:lnTo>
                      <a:pt x="68" y="55"/>
                    </a:lnTo>
                    <a:lnTo>
                      <a:pt x="98" y="55"/>
                    </a:lnTo>
                    <a:lnTo>
                      <a:pt x="130" y="53"/>
                    </a:lnTo>
                    <a:lnTo>
                      <a:pt x="159" y="45"/>
                    </a:lnTo>
                    <a:lnTo>
                      <a:pt x="185" y="32"/>
                    </a:lnTo>
                    <a:lnTo>
                      <a:pt x="198" y="24"/>
                    </a:lnTo>
                    <a:lnTo>
                      <a:pt x="213" y="17"/>
                    </a:lnTo>
                    <a:lnTo>
                      <a:pt x="230" y="12"/>
                    </a:lnTo>
                    <a:lnTo>
                      <a:pt x="247" y="7"/>
                    </a:lnTo>
                    <a:lnTo>
                      <a:pt x="266" y="4"/>
                    </a:lnTo>
                    <a:lnTo>
                      <a:pt x="286" y="1"/>
                    </a:lnTo>
                    <a:lnTo>
                      <a:pt x="306" y="0"/>
                    </a:lnTo>
                    <a:lnTo>
                      <a:pt x="327" y="0"/>
                    </a:lnTo>
                    <a:lnTo>
                      <a:pt x="348" y="1"/>
                    </a:lnTo>
                    <a:lnTo>
                      <a:pt x="368" y="4"/>
                    </a:lnTo>
                    <a:lnTo>
                      <a:pt x="390" y="8"/>
                    </a:lnTo>
                    <a:lnTo>
                      <a:pt x="410" y="12"/>
                    </a:lnTo>
                    <a:lnTo>
                      <a:pt x="429" y="17"/>
                    </a:lnTo>
                    <a:lnTo>
                      <a:pt x="446" y="25"/>
                    </a:lnTo>
                    <a:lnTo>
                      <a:pt x="464" y="33"/>
                    </a:lnTo>
                    <a:lnTo>
                      <a:pt x="479" y="42"/>
                    </a:lnTo>
                    <a:lnTo>
                      <a:pt x="505" y="58"/>
                    </a:lnTo>
                    <a:lnTo>
                      <a:pt x="528" y="66"/>
                    </a:lnTo>
                    <a:lnTo>
                      <a:pt x="547" y="70"/>
                    </a:lnTo>
                    <a:lnTo>
                      <a:pt x="562" y="68"/>
                    </a:lnTo>
                    <a:lnTo>
                      <a:pt x="573" y="66"/>
                    </a:lnTo>
                    <a:lnTo>
                      <a:pt x="582" y="62"/>
                    </a:lnTo>
                    <a:lnTo>
                      <a:pt x="587" y="58"/>
                    </a:lnTo>
                    <a:lnTo>
                      <a:pt x="589" y="57"/>
                    </a:lnTo>
                    <a:lnTo>
                      <a:pt x="589" y="59"/>
                    </a:lnTo>
                    <a:lnTo>
                      <a:pt x="590" y="66"/>
                    </a:lnTo>
                    <a:lnTo>
                      <a:pt x="587" y="75"/>
                    </a:lnTo>
                    <a:lnTo>
                      <a:pt x="580" y="84"/>
                    </a:lnTo>
                    <a:lnTo>
                      <a:pt x="565" y="91"/>
                    </a:lnTo>
                    <a:lnTo>
                      <a:pt x="541" y="93"/>
                    </a:lnTo>
                    <a:lnTo>
                      <a:pt x="504" y="90"/>
                    </a:lnTo>
                    <a:lnTo>
                      <a:pt x="454" y="78"/>
                    </a:lnTo>
                    <a:lnTo>
                      <a:pt x="451" y="76"/>
                    </a:lnTo>
                    <a:lnTo>
                      <a:pt x="446" y="75"/>
                    </a:lnTo>
                    <a:lnTo>
                      <a:pt x="436" y="72"/>
                    </a:lnTo>
                    <a:lnTo>
                      <a:pt x="425" y="68"/>
                    </a:lnTo>
                    <a:lnTo>
                      <a:pt x="410" y="66"/>
                    </a:lnTo>
                    <a:lnTo>
                      <a:pt x="392" y="62"/>
                    </a:lnTo>
                    <a:lnTo>
                      <a:pt x="373" y="58"/>
                    </a:lnTo>
                    <a:lnTo>
                      <a:pt x="354" y="54"/>
                    </a:lnTo>
                    <a:lnTo>
                      <a:pt x="333" y="51"/>
                    </a:lnTo>
                    <a:lnTo>
                      <a:pt x="311" y="49"/>
                    </a:lnTo>
                    <a:lnTo>
                      <a:pt x="289" y="49"/>
                    </a:lnTo>
                    <a:lnTo>
                      <a:pt x="267" y="49"/>
                    </a:lnTo>
                    <a:lnTo>
                      <a:pt x="247" y="51"/>
                    </a:lnTo>
                    <a:lnTo>
                      <a:pt x="227" y="55"/>
                    </a:lnTo>
                    <a:lnTo>
                      <a:pt x="209" y="61"/>
                    </a:lnTo>
                    <a:lnTo>
                      <a:pt x="193" y="70"/>
                    </a:lnTo>
                    <a:lnTo>
                      <a:pt x="190" y="71"/>
                    </a:lnTo>
                    <a:lnTo>
                      <a:pt x="184" y="76"/>
                    </a:lnTo>
                    <a:lnTo>
                      <a:pt x="173" y="83"/>
                    </a:lnTo>
                    <a:lnTo>
                      <a:pt x="159" y="90"/>
                    </a:lnTo>
                    <a:lnTo>
                      <a:pt x="141" y="96"/>
                    </a:lnTo>
                    <a:lnTo>
                      <a:pt x="122" y="101"/>
                    </a:lnTo>
                    <a:lnTo>
                      <a:pt x="102" y="105"/>
                    </a:lnTo>
                    <a:lnTo>
                      <a:pt x="81" y="104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Freeform 160"/>
              <p:cNvSpPr/>
              <p:nvPr/>
            </p:nvSpPr>
            <p:spPr>
              <a:xfrm>
                <a:off x="3313080" y="2351880"/>
                <a:ext cx="326880" cy="429840"/>
              </a:xfrm>
              <a:custGeom>
                <a:avLst/>
                <a:gdLst/>
                <a:ahLst/>
                <a:rect l="l" t="t" r="r" b="b"/>
                <a:pathLst>
                  <a:path w="474" h="1109">
                    <a:moveTo>
                      <a:pt x="312" y="8"/>
                    </a:moveTo>
                    <a:lnTo>
                      <a:pt x="309" y="10"/>
                    </a:lnTo>
                    <a:lnTo>
                      <a:pt x="303" y="12"/>
                    </a:lnTo>
                    <a:lnTo>
                      <a:pt x="293" y="18"/>
                    </a:lnTo>
                    <a:lnTo>
                      <a:pt x="279" y="25"/>
                    </a:lnTo>
                    <a:lnTo>
                      <a:pt x="261" y="36"/>
                    </a:lnTo>
                    <a:lnTo>
                      <a:pt x="242" y="48"/>
                    </a:lnTo>
                    <a:lnTo>
                      <a:pt x="222" y="62"/>
                    </a:lnTo>
                    <a:lnTo>
                      <a:pt x="199" y="79"/>
                    </a:lnTo>
                    <a:lnTo>
                      <a:pt x="177" y="100"/>
                    </a:lnTo>
                    <a:lnTo>
                      <a:pt x="153" y="123"/>
                    </a:lnTo>
                    <a:lnTo>
                      <a:pt x="129" y="148"/>
                    </a:lnTo>
                    <a:lnTo>
                      <a:pt x="106" y="176"/>
                    </a:lnTo>
                    <a:lnTo>
                      <a:pt x="85" y="207"/>
                    </a:lnTo>
                    <a:lnTo>
                      <a:pt x="65" y="241"/>
                    </a:lnTo>
                    <a:lnTo>
                      <a:pt x="46" y="278"/>
                    </a:lnTo>
                    <a:lnTo>
                      <a:pt x="31" y="318"/>
                    </a:lnTo>
                    <a:lnTo>
                      <a:pt x="9" y="401"/>
                    </a:lnTo>
                    <a:lnTo>
                      <a:pt x="0" y="485"/>
                    </a:lnTo>
                    <a:lnTo>
                      <a:pt x="0" y="569"/>
                    </a:lnTo>
                    <a:lnTo>
                      <a:pt x="7" y="648"/>
                    </a:lnTo>
                    <a:lnTo>
                      <a:pt x="17" y="721"/>
                    </a:lnTo>
                    <a:lnTo>
                      <a:pt x="28" y="780"/>
                    </a:lnTo>
                    <a:lnTo>
                      <a:pt x="38" y="826"/>
                    </a:lnTo>
                    <a:lnTo>
                      <a:pt x="46" y="853"/>
                    </a:lnTo>
                    <a:lnTo>
                      <a:pt x="60" y="892"/>
                    </a:lnTo>
                    <a:lnTo>
                      <a:pt x="77" y="933"/>
                    </a:lnTo>
                    <a:lnTo>
                      <a:pt x="96" y="971"/>
                    </a:lnTo>
                    <a:lnTo>
                      <a:pt x="115" y="1007"/>
                    </a:lnTo>
                    <a:lnTo>
                      <a:pt x="133" y="1037"/>
                    </a:lnTo>
                    <a:lnTo>
                      <a:pt x="148" y="1061"/>
                    </a:lnTo>
                    <a:lnTo>
                      <a:pt x="158" y="1076"/>
                    </a:lnTo>
                    <a:lnTo>
                      <a:pt x="162" y="1082"/>
                    </a:lnTo>
                    <a:lnTo>
                      <a:pt x="163" y="1086"/>
                    </a:lnTo>
                    <a:lnTo>
                      <a:pt x="167" y="1094"/>
                    </a:lnTo>
                    <a:lnTo>
                      <a:pt x="173" y="1103"/>
                    </a:lnTo>
                    <a:lnTo>
                      <a:pt x="180" y="1108"/>
                    </a:lnTo>
                    <a:lnTo>
                      <a:pt x="191" y="1109"/>
                    </a:lnTo>
                    <a:lnTo>
                      <a:pt x="202" y="1100"/>
                    </a:lnTo>
                    <a:lnTo>
                      <a:pt x="216" y="1079"/>
                    </a:lnTo>
                    <a:lnTo>
                      <a:pt x="230" y="1041"/>
                    </a:lnTo>
                    <a:lnTo>
                      <a:pt x="238" y="983"/>
                    </a:lnTo>
                    <a:lnTo>
                      <a:pt x="238" y="907"/>
                    </a:lnTo>
                    <a:lnTo>
                      <a:pt x="232" y="821"/>
                    </a:lnTo>
                    <a:lnTo>
                      <a:pt x="227" y="727"/>
                    </a:lnTo>
                    <a:lnTo>
                      <a:pt x="225" y="633"/>
                    </a:lnTo>
                    <a:lnTo>
                      <a:pt x="232" y="543"/>
                    </a:lnTo>
                    <a:lnTo>
                      <a:pt x="254" y="463"/>
                    </a:lnTo>
                    <a:lnTo>
                      <a:pt x="293" y="397"/>
                    </a:lnTo>
                    <a:lnTo>
                      <a:pt x="339" y="343"/>
                    </a:lnTo>
                    <a:lnTo>
                      <a:pt x="380" y="295"/>
                    </a:lnTo>
                    <a:lnTo>
                      <a:pt x="411" y="255"/>
                    </a:lnTo>
                    <a:lnTo>
                      <a:pt x="437" y="220"/>
                    </a:lnTo>
                    <a:lnTo>
                      <a:pt x="455" y="190"/>
                    </a:lnTo>
                    <a:lnTo>
                      <a:pt x="468" y="164"/>
                    </a:lnTo>
                    <a:lnTo>
                      <a:pt x="474" y="139"/>
                    </a:lnTo>
                    <a:lnTo>
                      <a:pt x="473" y="116"/>
                    </a:lnTo>
                    <a:lnTo>
                      <a:pt x="468" y="93"/>
                    </a:lnTo>
                    <a:lnTo>
                      <a:pt x="459" y="69"/>
                    </a:lnTo>
                    <a:lnTo>
                      <a:pt x="446" y="46"/>
                    </a:lnTo>
                    <a:lnTo>
                      <a:pt x="430" y="27"/>
                    </a:lnTo>
                    <a:lnTo>
                      <a:pt x="410" y="11"/>
                    </a:lnTo>
                    <a:lnTo>
                      <a:pt x="382" y="2"/>
                    </a:lnTo>
                    <a:lnTo>
                      <a:pt x="351" y="0"/>
                    </a:lnTo>
                    <a:lnTo>
                      <a:pt x="312" y="8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Freeform 161"/>
              <p:cNvSpPr/>
              <p:nvPr/>
            </p:nvSpPr>
            <p:spPr>
              <a:xfrm>
                <a:off x="3738960" y="3036240"/>
                <a:ext cx="303840" cy="37800"/>
              </a:xfrm>
              <a:custGeom>
                <a:avLst/>
                <a:gdLst/>
                <a:ahLst/>
                <a:rect l="l" t="t" r="r" b="b"/>
                <a:pathLst>
                  <a:path w="442" h="110">
                    <a:moveTo>
                      <a:pt x="0" y="85"/>
                    </a:moveTo>
                    <a:lnTo>
                      <a:pt x="3" y="85"/>
                    </a:lnTo>
                    <a:lnTo>
                      <a:pt x="9" y="84"/>
                    </a:lnTo>
                    <a:lnTo>
                      <a:pt x="19" y="83"/>
                    </a:lnTo>
                    <a:lnTo>
                      <a:pt x="32" y="79"/>
                    </a:lnTo>
                    <a:lnTo>
                      <a:pt x="46" y="75"/>
                    </a:lnTo>
                    <a:lnTo>
                      <a:pt x="61" y="71"/>
                    </a:lnTo>
                    <a:lnTo>
                      <a:pt x="76" y="64"/>
                    </a:lnTo>
                    <a:lnTo>
                      <a:pt x="88" y="56"/>
                    </a:lnTo>
                    <a:lnTo>
                      <a:pt x="90" y="55"/>
                    </a:lnTo>
                    <a:lnTo>
                      <a:pt x="93" y="51"/>
                    </a:lnTo>
                    <a:lnTo>
                      <a:pt x="100" y="45"/>
                    </a:lnTo>
                    <a:lnTo>
                      <a:pt x="109" y="37"/>
                    </a:lnTo>
                    <a:lnTo>
                      <a:pt x="119" y="29"/>
                    </a:lnTo>
                    <a:lnTo>
                      <a:pt x="131" y="20"/>
                    </a:lnTo>
                    <a:lnTo>
                      <a:pt x="146" y="13"/>
                    </a:lnTo>
                    <a:lnTo>
                      <a:pt x="161" y="6"/>
                    </a:lnTo>
                    <a:lnTo>
                      <a:pt x="179" y="1"/>
                    </a:lnTo>
                    <a:lnTo>
                      <a:pt x="198" y="0"/>
                    </a:lnTo>
                    <a:lnTo>
                      <a:pt x="218" y="1"/>
                    </a:lnTo>
                    <a:lnTo>
                      <a:pt x="240" y="6"/>
                    </a:lnTo>
                    <a:lnTo>
                      <a:pt x="262" y="17"/>
                    </a:lnTo>
                    <a:lnTo>
                      <a:pt x="285" y="31"/>
                    </a:lnTo>
                    <a:lnTo>
                      <a:pt x="309" y="53"/>
                    </a:lnTo>
                    <a:lnTo>
                      <a:pt x="333" y="80"/>
                    </a:lnTo>
                    <a:lnTo>
                      <a:pt x="335" y="81"/>
                    </a:lnTo>
                    <a:lnTo>
                      <a:pt x="343" y="84"/>
                    </a:lnTo>
                    <a:lnTo>
                      <a:pt x="355" y="89"/>
                    </a:lnTo>
                    <a:lnTo>
                      <a:pt x="369" y="95"/>
                    </a:lnTo>
                    <a:lnTo>
                      <a:pt x="387" y="99"/>
                    </a:lnTo>
                    <a:lnTo>
                      <a:pt x="405" y="103"/>
                    </a:lnTo>
                    <a:lnTo>
                      <a:pt x="423" y="104"/>
                    </a:lnTo>
                    <a:lnTo>
                      <a:pt x="442" y="103"/>
                    </a:lnTo>
                    <a:lnTo>
                      <a:pt x="441" y="104"/>
                    </a:lnTo>
                    <a:lnTo>
                      <a:pt x="437" y="107"/>
                    </a:lnTo>
                    <a:lnTo>
                      <a:pt x="429" y="109"/>
                    </a:lnTo>
                    <a:lnTo>
                      <a:pt x="415" y="110"/>
                    </a:lnTo>
                    <a:lnTo>
                      <a:pt x="393" y="110"/>
                    </a:lnTo>
                    <a:lnTo>
                      <a:pt x="363" y="107"/>
                    </a:lnTo>
                    <a:lnTo>
                      <a:pt x="321" y="96"/>
                    </a:lnTo>
                    <a:lnTo>
                      <a:pt x="270" y="80"/>
                    </a:lnTo>
                    <a:lnTo>
                      <a:pt x="267" y="79"/>
                    </a:lnTo>
                    <a:lnTo>
                      <a:pt x="260" y="74"/>
                    </a:lnTo>
                    <a:lnTo>
                      <a:pt x="248" y="68"/>
                    </a:lnTo>
                    <a:lnTo>
                      <a:pt x="231" y="62"/>
                    </a:lnTo>
                    <a:lnTo>
                      <a:pt x="209" y="58"/>
                    </a:lnTo>
                    <a:lnTo>
                      <a:pt x="184" y="58"/>
                    </a:lnTo>
                    <a:lnTo>
                      <a:pt x="154" y="62"/>
                    </a:lnTo>
                    <a:lnTo>
                      <a:pt x="120" y="71"/>
                    </a:lnTo>
                    <a:lnTo>
                      <a:pt x="119" y="72"/>
                    </a:lnTo>
                    <a:lnTo>
                      <a:pt x="112" y="76"/>
                    </a:lnTo>
                    <a:lnTo>
                      <a:pt x="103" y="81"/>
                    </a:lnTo>
                    <a:lnTo>
                      <a:pt x="90" y="87"/>
                    </a:lnTo>
                    <a:lnTo>
                      <a:pt x="73" y="91"/>
                    </a:lnTo>
                    <a:lnTo>
                      <a:pt x="52" y="92"/>
                    </a:lnTo>
                    <a:lnTo>
                      <a:pt x="28" y="91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Freeform 162"/>
              <p:cNvSpPr/>
              <p:nvPr/>
            </p:nvSpPr>
            <p:spPr>
              <a:xfrm>
                <a:off x="3738960" y="2294280"/>
                <a:ext cx="326880" cy="64800"/>
              </a:xfrm>
              <a:custGeom>
                <a:avLst/>
                <a:gdLst/>
                <a:ahLst/>
                <a:rect l="l" t="t" r="r" b="b"/>
                <a:pathLst>
                  <a:path w="473" h="165">
                    <a:moveTo>
                      <a:pt x="0" y="0"/>
                    </a:moveTo>
                    <a:lnTo>
                      <a:pt x="4" y="0"/>
                    </a:lnTo>
                    <a:lnTo>
                      <a:pt x="13" y="2"/>
                    </a:lnTo>
                    <a:lnTo>
                      <a:pt x="28" y="4"/>
                    </a:lnTo>
                    <a:lnTo>
                      <a:pt x="48" y="9"/>
                    </a:lnTo>
                    <a:lnTo>
                      <a:pt x="72" y="17"/>
                    </a:lnTo>
                    <a:lnTo>
                      <a:pt x="98" y="28"/>
                    </a:lnTo>
                    <a:lnTo>
                      <a:pt x="129" y="42"/>
                    </a:lnTo>
                    <a:lnTo>
                      <a:pt x="159" y="61"/>
                    </a:lnTo>
                    <a:lnTo>
                      <a:pt x="190" y="78"/>
                    </a:lnTo>
                    <a:lnTo>
                      <a:pt x="221" y="90"/>
                    </a:lnTo>
                    <a:lnTo>
                      <a:pt x="251" y="98"/>
                    </a:lnTo>
                    <a:lnTo>
                      <a:pt x="277" y="100"/>
                    </a:lnTo>
                    <a:lnTo>
                      <a:pt x="300" y="102"/>
                    </a:lnTo>
                    <a:lnTo>
                      <a:pt x="318" y="102"/>
                    </a:lnTo>
                    <a:lnTo>
                      <a:pt x="329" y="100"/>
                    </a:lnTo>
                    <a:lnTo>
                      <a:pt x="333" y="100"/>
                    </a:lnTo>
                    <a:lnTo>
                      <a:pt x="473" y="49"/>
                    </a:lnTo>
                    <a:lnTo>
                      <a:pt x="469" y="53"/>
                    </a:lnTo>
                    <a:lnTo>
                      <a:pt x="457" y="62"/>
                    </a:lnTo>
                    <a:lnTo>
                      <a:pt x="441" y="77"/>
                    </a:lnTo>
                    <a:lnTo>
                      <a:pt x="422" y="94"/>
                    </a:lnTo>
                    <a:lnTo>
                      <a:pt x="401" y="111"/>
                    </a:lnTo>
                    <a:lnTo>
                      <a:pt x="381" y="127"/>
                    </a:lnTo>
                    <a:lnTo>
                      <a:pt x="363" y="141"/>
                    </a:lnTo>
                    <a:lnTo>
                      <a:pt x="350" y="150"/>
                    </a:lnTo>
                    <a:lnTo>
                      <a:pt x="344" y="154"/>
                    </a:lnTo>
                    <a:lnTo>
                      <a:pt x="334" y="157"/>
                    </a:lnTo>
                    <a:lnTo>
                      <a:pt x="323" y="160"/>
                    </a:lnTo>
                    <a:lnTo>
                      <a:pt x="309" y="161"/>
                    </a:lnTo>
                    <a:lnTo>
                      <a:pt x="295" y="164"/>
                    </a:lnTo>
                    <a:lnTo>
                      <a:pt x="279" y="164"/>
                    </a:lnTo>
                    <a:lnTo>
                      <a:pt x="261" y="165"/>
                    </a:lnTo>
                    <a:lnTo>
                      <a:pt x="243" y="164"/>
                    </a:lnTo>
                    <a:lnTo>
                      <a:pt x="224" y="162"/>
                    </a:lnTo>
                    <a:lnTo>
                      <a:pt x="207" y="161"/>
                    </a:lnTo>
                    <a:lnTo>
                      <a:pt x="189" y="157"/>
                    </a:lnTo>
                    <a:lnTo>
                      <a:pt x="172" y="153"/>
                    </a:lnTo>
                    <a:lnTo>
                      <a:pt x="156" y="148"/>
                    </a:lnTo>
                    <a:lnTo>
                      <a:pt x="141" y="141"/>
                    </a:lnTo>
                    <a:lnTo>
                      <a:pt x="127" y="133"/>
                    </a:lnTo>
                    <a:lnTo>
                      <a:pt x="116" y="124"/>
                    </a:lnTo>
                    <a:lnTo>
                      <a:pt x="97" y="103"/>
                    </a:lnTo>
                    <a:lnTo>
                      <a:pt x="81" y="82"/>
                    </a:lnTo>
                    <a:lnTo>
                      <a:pt x="68" y="62"/>
                    </a:lnTo>
                    <a:lnTo>
                      <a:pt x="56" y="42"/>
                    </a:lnTo>
                    <a:lnTo>
                      <a:pt x="43" y="27"/>
                    </a:lnTo>
                    <a:lnTo>
                      <a:pt x="30" y="13"/>
                    </a:lnTo>
                    <a:lnTo>
                      <a:pt x="1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Freeform 163"/>
              <p:cNvSpPr/>
              <p:nvPr/>
            </p:nvSpPr>
            <p:spPr>
              <a:xfrm>
                <a:off x="4039200" y="2388600"/>
                <a:ext cx="390600" cy="378000"/>
              </a:xfrm>
              <a:custGeom>
                <a:avLst/>
                <a:gdLst/>
                <a:ahLst/>
                <a:rect l="l" t="t" r="r" b="b"/>
                <a:pathLst>
                  <a:path w="570" h="953">
                    <a:moveTo>
                      <a:pt x="443" y="29"/>
                    </a:moveTo>
                    <a:lnTo>
                      <a:pt x="440" y="26"/>
                    </a:lnTo>
                    <a:lnTo>
                      <a:pt x="432" y="19"/>
                    </a:lnTo>
                    <a:lnTo>
                      <a:pt x="418" y="13"/>
                    </a:lnTo>
                    <a:lnTo>
                      <a:pt x="400" y="5"/>
                    </a:lnTo>
                    <a:lnTo>
                      <a:pt x="377" y="0"/>
                    </a:lnTo>
                    <a:lnTo>
                      <a:pt x="351" y="0"/>
                    </a:lnTo>
                    <a:lnTo>
                      <a:pt x="322" y="5"/>
                    </a:lnTo>
                    <a:lnTo>
                      <a:pt x="289" y="19"/>
                    </a:lnTo>
                    <a:lnTo>
                      <a:pt x="258" y="35"/>
                    </a:lnTo>
                    <a:lnTo>
                      <a:pt x="233" y="44"/>
                    </a:lnTo>
                    <a:lnTo>
                      <a:pt x="210" y="48"/>
                    </a:lnTo>
                    <a:lnTo>
                      <a:pt x="191" y="51"/>
                    </a:lnTo>
                    <a:lnTo>
                      <a:pt x="175" y="52"/>
                    </a:lnTo>
                    <a:lnTo>
                      <a:pt x="160" y="56"/>
                    </a:lnTo>
                    <a:lnTo>
                      <a:pt x="146" y="65"/>
                    </a:lnTo>
                    <a:lnTo>
                      <a:pt x="132" y="80"/>
                    </a:lnTo>
                    <a:lnTo>
                      <a:pt x="104" y="126"/>
                    </a:lnTo>
                    <a:lnTo>
                      <a:pt x="81" y="180"/>
                    </a:lnTo>
                    <a:lnTo>
                      <a:pt x="63" y="241"/>
                    </a:lnTo>
                    <a:lnTo>
                      <a:pt x="47" y="304"/>
                    </a:lnTo>
                    <a:lnTo>
                      <a:pt x="36" y="366"/>
                    </a:lnTo>
                    <a:lnTo>
                      <a:pt x="26" y="425"/>
                    </a:lnTo>
                    <a:lnTo>
                      <a:pt x="17" y="479"/>
                    </a:lnTo>
                    <a:lnTo>
                      <a:pt x="8" y="524"/>
                    </a:lnTo>
                    <a:lnTo>
                      <a:pt x="2" y="569"/>
                    </a:lnTo>
                    <a:lnTo>
                      <a:pt x="0" y="623"/>
                    </a:lnTo>
                    <a:lnTo>
                      <a:pt x="2" y="679"/>
                    </a:lnTo>
                    <a:lnTo>
                      <a:pt x="8" y="736"/>
                    </a:lnTo>
                    <a:lnTo>
                      <a:pt x="18" y="788"/>
                    </a:lnTo>
                    <a:lnTo>
                      <a:pt x="34" y="832"/>
                    </a:lnTo>
                    <a:lnTo>
                      <a:pt x="54" y="864"/>
                    </a:lnTo>
                    <a:lnTo>
                      <a:pt x="79" y="878"/>
                    </a:lnTo>
                    <a:lnTo>
                      <a:pt x="104" y="885"/>
                    </a:lnTo>
                    <a:lnTo>
                      <a:pt x="127" y="893"/>
                    </a:lnTo>
                    <a:lnTo>
                      <a:pt x="146" y="904"/>
                    </a:lnTo>
                    <a:lnTo>
                      <a:pt x="165" y="915"/>
                    </a:lnTo>
                    <a:lnTo>
                      <a:pt x="181" y="927"/>
                    </a:lnTo>
                    <a:lnTo>
                      <a:pt x="197" y="937"/>
                    </a:lnTo>
                    <a:lnTo>
                      <a:pt x="212" y="947"/>
                    </a:lnTo>
                    <a:lnTo>
                      <a:pt x="229" y="952"/>
                    </a:lnTo>
                    <a:lnTo>
                      <a:pt x="238" y="953"/>
                    </a:lnTo>
                    <a:lnTo>
                      <a:pt x="249" y="953"/>
                    </a:lnTo>
                    <a:lnTo>
                      <a:pt x="260" y="950"/>
                    </a:lnTo>
                    <a:lnTo>
                      <a:pt x="274" y="947"/>
                    </a:lnTo>
                    <a:lnTo>
                      <a:pt x="288" y="940"/>
                    </a:lnTo>
                    <a:lnTo>
                      <a:pt x="303" y="933"/>
                    </a:lnTo>
                    <a:lnTo>
                      <a:pt x="320" y="924"/>
                    </a:lnTo>
                    <a:lnTo>
                      <a:pt x="336" y="914"/>
                    </a:lnTo>
                    <a:lnTo>
                      <a:pt x="354" y="902"/>
                    </a:lnTo>
                    <a:lnTo>
                      <a:pt x="370" y="887"/>
                    </a:lnTo>
                    <a:lnTo>
                      <a:pt x="388" y="873"/>
                    </a:lnTo>
                    <a:lnTo>
                      <a:pt x="405" y="857"/>
                    </a:lnTo>
                    <a:lnTo>
                      <a:pt x="423" y="840"/>
                    </a:lnTo>
                    <a:lnTo>
                      <a:pt x="440" y="820"/>
                    </a:lnTo>
                    <a:lnTo>
                      <a:pt x="457" y="800"/>
                    </a:lnTo>
                    <a:lnTo>
                      <a:pt x="473" y="779"/>
                    </a:lnTo>
                    <a:lnTo>
                      <a:pt x="511" y="711"/>
                    </a:lnTo>
                    <a:lnTo>
                      <a:pt x="541" y="623"/>
                    </a:lnTo>
                    <a:lnTo>
                      <a:pt x="561" y="520"/>
                    </a:lnTo>
                    <a:lnTo>
                      <a:pt x="570" y="411"/>
                    </a:lnTo>
                    <a:lnTo>
                      <a:pt x="564" y="300"/>
                    </a:lnTo>
                    <a:lnTo>
                      <a:pt x="543" y="195"/>
                    </a:lnTo>
                    <a:lnTo>
                      <a:pt x="502" y="102"/>
                    </a:lnTo>
                    <a:lnTo>
                      <a:pt x="443" y="29"/>
                    </a:lnTo>
                    <a:close/>
                  </a:path>
                </a:pathLst>
              </a:custGeom>
              <a:solidFill>
                <a:srgbClr val="ff72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Freeform 164"/>
              <p:cNvSpPr/>
              <p:nvPr/>
            </p:nvSpPr>
            <p:spPr>
              <a:xfrm>
                <a:off x="4144320" y="2500200"/>
                <a:ext cx="204840" cy="198720"/>
              </a:xfrm>
              <a:custGeom>
                <a:avLst/>
                <a:gdLst/>
                <a:ahLst/>
                <a:rect l="l" t="t" r="r" b="b"/>
                <a:pathLst>
                  <a:path w="297" h="507">
                    <a:moveTo>
                      <a:pt x="231" y="15"/>
                    </a:moveTo>
                    <a:lnTo>
                      <a:pt x="229" y="14"/>
                    </a:lnTo>
                    <a:lnTo>
                      <a:pt x="224" y="11"/>
                    </a:lnTo>
                    <a:lnTo>
                      <a:pt x="218" y="7"/>
                    </a:lnTo>
                    <a:lnTo>
                      <a:pt x="208" y="3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68" y="3"/>
                    </a:lnTo>
                    <a:lnTo>
                      <a:pt x="151" y="11"/>
                    </a:lnTo>
                    <a:lnTo>
                      <a:pt x="136" y="19"/>
                    </a:lnTo>
                    <a:lnTo>
                      <a:pt x="122" y="24"/>
                    </a:lnTo>
                    <a:lnTo>
                      <a:pt x="111" y="27"/>
                    </a:lnTo>
                    <a:lnTo>
                      <a:pt x="102" y="28"/>
                    </a:lnTo>
                    <a:lnTo>
                      <a:pt x="93" y="29"/>
                    </a:lnTo>
                    <a:lnTo>
                      <a:pt x="86" y="31"/>
                    </a:lnTo>
                    <a:lnTo>
                      <a:pt x="78" y="35"/>
                    </a:lnTo>
                    <a:lnTo>
                      <a:pt x="71" y="43"/>
                    </a:lnTo>
                    <a:lnTo>
                      <a:pt x="57" y="66"/>
                    </a:lnTo>
                    <a:lnTo>
                      <a:pt x="44" y="95"/>
                    </a:lnTo>
                    <a:lnTo>
                      <a:pt x="35" y="127"/>
                    </a:lnTo>
                    <a:lnTo>
                      <a:pt x="26" y="158"/>
                    </a:lnTo>
                    <a:lnTo>
                      <a:pt x="20" y="191"/>
                    </a:lnTo>
                    <a:lnTo>
                      <a:pt x="15" y="223"/>
                    </a:lnTo>
                    <a:lnTo>
                      <a:pt x="10" y="252"/>
                    </a:lnTo>
                    <a:lnTo>
                      <a:pt x="5" y="276"/>
                    </a:lnTo>
                    <a:lnTo>
                      <a:pt x="1" y="299"/>
                    </a:lnTo>
                    <a:lnTo>
                      <a:pt x="0" y="328"/>
                    </a:lnTo>
                    <a:lnTo>
                      <a:pt x="1" y="359"/>
                    </a:lnTo>
                    <a:lnTo>
                      <a:pt x="4" y="389"/>
                    </a:lnTo>
                    <a:lnTo>
                      <a:pt x="9" y="418"/>
                    </a:lnTo>
                    <a:lnTo>
                      <a:pt x="16" y="442"/>
                    </a:lnTo>
                    <a:lnTo>
                      <a:pt x="26" y="459"/>
                    </a:lnTo>
                    <a:lnTo>
                      <a:pt x="39" y="467"/>
                    </a:lnTo>
                    <a:lnTo>
                      <a:pt x="53" y="471"/>
                    </a:lnTo>
                    <a:lnTo>
                      <a:pt x="64" y="475"/>
                    </a:lnTo>
                    <a:lnTo>
                      <a:pt x="76" y="481"/>
                    </a:lnTo>
                    <a:lnTo>
                      <a:pt x="84" y="486"/>
                    </a:lnTo>
                    <a:lnTo>
                      <a:pt x="93" y="493"/>
                    </a:lnTo>
                    <a:lnTo>
                      <a:pt x="102" y="500"/>
                    </a:lnTo>
                    <a:lnTo>
                      <a:pt x="110" y="503"/>
                    </a:lnTo>
                    <a:lnTo>
                      <a:pt x="118" y="507"/>
                    </a:lnTo>
                    <a:lnTo>
                      <a:pt x="128" y="507"/>
                    </a:lnTo>
                    <a:lnTo>
                      <a:pt x="142" y="503"/>
                    </a:lnTo>
                    <a:lnTo>
                      <a:pt x="157" y="497"/>
                    </a:lnTo>
                    <a:lnTo>
                      <a:pt x="175" y="485"/>
                    </a:lnTo>
                    <a:lnTo>
                      <a:pt x="194" y="472"/>
                    </a:lnTo>
                    <a:lnTo>
                      <a:pt x="212" y="455"/>
                    </a:lnTo>
                    <a:lnTo>
                      <a:pt x="231" y="435"/>
                    </a:lnTo>
                    <a:lnTo>
                      <a:pt x="248" y="413"/>
                    </a:lnTo>
                    <a:lnTo>
                      <a:pt x="268" y="376"/>
                    </a:lnTo>
                    <a:lnTo>
                      <a:pt x="283" y="328"/>
                    </a:lnTo>
                    <a:lnTo>
                      <a:pt x="294" y="274"/>
                    </a:lnTo>
                    <a:lnTo>
                      <a:pt x="297" y="215"/>
                    </a:lnTo>
                    <a:lnTo>
                      <a:pt x="294" y="157"/>
                    </a:lnTo>
                    <a:lnTo>
                      <a:pt x="282" y="102"/>
                    </a:lnTo>
                    <a:lnTo>
                      <a:pt x="262" y="53"/>
                    </a:lnTo>
                    <a:lnTo>
                      <a:pt x="231" y="15"/>
                    </a:lnTo>
                    <a:close/>
                  </a:path>
                </a:pathLst>
              </a:custGeom>
              <a:solidFill>
                <a:srgbClr val="ffa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Freeform 165"/>
              <p:cNvSpPr/>
              <p:nvPr/>
            </p:nvSpPr>
            <p:spPr>
              <a:xfrm>
                <a:off x="3834360" y="2276640"/>
                <a:ext cx="275400" cy="63360"/>
              </a:xfrm>
              <a:custGeom>
                <a:avLst/>
                <a:gdLst/>
                <a:ahLst/>
                <a:rect l="l" t="t" r="r" b="b"/>
                <a:pathLst>
                  <a:path w="406" h="150">
                    <a:moveTo>
                      <a:pt x="29" y="82"/>
                    </a:moveTo>
                    <a:lnTo>
                      <a:pt x="29" y="75"/>
                    </a:lnTo>
                    <a:lnTo>
                      <a:pt x="27" y="61"/>
                    </a:lnTo>
                    <a:lnTo>
                      <a:pt x="23" y="44"/>
                    </a:lnTo>
                    <a:lnTo>
                      <a:pt x="14" y="29"/>
                    </a:lnTo>
                    <a:lnTo>
                      <a:pt x="5" y="17"/>
                    </a:lnTo>
                    <a:lnTo>
                      <a:pt x="0" y="8"/>
                    </a:lnTo>
                    <a:lnTo>
                      <a:pt x="3" y="1"/>
                    </a:lnTo>
                    <a:lnTo>
                      <a:pt x="14" y="0"/>
                    </a:lnTo>
                    <a:lnTo>
                      <a:pt x="25" y="1"/>
                    </a:lnTo>
                    <a:lnTo>
                      <a:pt x="41" y="4"/>
                    </a:lnTo>
                    <a:lnTo>
                      <a:pt x="58" y="7"/>
                    </a:lnTo>
                    <a:lnTo>
                      <a:pt x="77" y="9"/>
                    </a:lnTo>
                    <a:lnTo>
                      <a:pt x="96" y="13"/>
                    </a:lnTo>
                    <a:lnTo>
                      <a:pt x="114" y="17"/>
                    </a:lnTo>
                    <a:lnTo>
                      <a:pt x="130" y="20"/>
                    </a:lnTo>
                    <a:lnTo>
                      <a:pt x="144" y="22"/>
                    </a:lnTo>
                    <a:lnTo>
                      <a:pt x="158" y="24"/>
                    </a:lnTo>
                    <a:lnTo>
                      <a:pt x="174" y="24"/>
                    </a:lnTo>
                    <a:lnTo>
                      <a:pt x="193" y="24"/>
                    </a:lnTo>
                    <a:lnTo>
                      <a:pt x="214" y="22"/>
                    </a:lnTo>
                    <a:lnTo>
                      <a:pt x="235" y="21"/>
                    </a:lnTo>
                    <a:lnTo>
                      <a:pt x="253" y="19"/>
                    </a:lnTo>
                    <a:lnTo>
                      <a:pt x="270" y="16"/>
                    </a:lnTo>
                    <a:lnTo>
                      <a:pt x="284" y="13"/>
                    </a:lnTo>
                    <a:lnTo>
                      <a:pt x="295" y="11"/>
                    </a:lnTo>
                    <a:lnTo>
                      <a:pt x="308" y="8"/>
                    </a:lnTo>
                    <a:lnTo>
                      <a:pt x="319" y="5"/>
                    </a:lnTo>
                    <a:lnTo>
                      <a:pt x="332" y="3"/>
                    </a:lnTo>
                    <a:lnTo>
                      <a:pt x="343" y="3"/>
                    </a:lnTo>
                    <a:lnTo>
                      <a:pt x="355" y="3"/>
                    </a:lnTo>
                    <a:lnTo>
                      <a:pt x="368" y="4"/>
                    </a:lnTo>
                    <a:lnTo>
                      <a:pt x="381" y="8"/>
                    </a:lnTo>
                    <a:lnTo>
                      <a:pt x="400" y="20"/>
                    </a:lnTo>
                    <a:lnTo>
                      <a:pt x="406" y="37"/>
                    </a:lnTo>
                    <a:lnTo>
                      <a:pt x="401" y="53"/>
                    </a:lnTo>
                    <a:lnTo>
                      <a:pt x="387" y="66"/>
                    </a:lnTo>
                    <a:lnTo>
                      <a:pt x="377" y="71"/>
                    </a:lnTo>
                    <a:lnTo>
                      <a:pt x="364" y="76"/>
                    </a:lnTo>
                    <a:lnTo>
                      <a:pt x="352" y="83"/>
                    </a:lnTo>
                    <a:lnTo>
                      <a:pt x="339" y="90"/>
                    </a:lnTo>
                    <a:lnTo>
                      <a:pt x="328" y="96"/>
                    </a:lnTo>
                    <a:lnTo>
                      <a:pt x="319" y="102"/>
                    </a:lnTo>
                    <a:lnTo>
                      <a:pt x="313" y="104"/>
                    </a:lnTo>
                    <a:lnTo>
                      <a:pt x="310" y="105"/>
                    </a:lnTo>
                    <a:lnTo>
                      <a:pt x="250" y="129"/>
                    </a:lnTo>
                    <a:lnTo>
                      <a:pt x="245" y="130"/>
                    </a:lnTo>
                    <a:lnTo>
                      <a:pt x="233" y="132"/>
                    </a:lnTo>
                    <a:lnTo>
                      <a:pt x="216" y="136"/>
                    </a:lnTo>
                    <a:lnTo>
                      <a:pt x="195" y="140"/>
                    </a:lnTo>
                    <a:lnTo>
                      <a:pt x="175" y="144"/>
                    </a:lnTo>
                    <a:lnTo>
                      <a:pt x="156" y="146"/>
                    </a:lnTo>
                    <a:lnTo>
                      <a:pt x="143" y="149"/>
                    </a:lnTo>
                    <a:lnTo>
                      <a:pt x="136" y="150"/>
                    </a:lnTo>
                    <a:lnTo>
                      <a:pt x="133" y="149"/>
                    </a:lnTo>
                    <a:lnTo>
                      <a:pt x="125" y="146"/>
                    </a:lnTo>
                    <a:lnTo>
                      <a:pt x="114" y="141"/>
                    </a:lnTo>
                    <a:lnTo>
                      <a:pt x="101" y="133"/>
                    </a:lnTo>
                    <a:lnTo>
                      <a:pt x="85" y="123"/>
                    </a:lnTo>
                    <a:lnTo>
                      <a:pt x="68" y="111"/>
                    </a:lnTo>
                    <a:lnTo>
                      <a:pt x="49" y="98"/>
                    </a:lnTo>
                    <a:lnTo>
                      <a:pt x="29" y="82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Freeform 166"/>
              <p:cNvSpPr/>
              <p:nvPr/>
            </p:nvSpPr>
            <p:spPr>
              <a:xfrm>
                <a:off x="3228120" y="2325960"/>
                <a:ext cx="357840" cy="704160"/>
              </a:xfrm>
              <a:custGeom>
                <a:avLst/>
                <a:gdLst/>
                <a:ahLst/>
                <a:rect l="l" t="t" r="r" b="b"/>
                <a:pathLst>
                  <a:path w="521" h="1794">
                    <a:moveTo>
                      <a:pt x="221" y="0"/>
                    </a:moveTo>
                    <a:lnTo>
                      <a:pt x="217" y="4"/>
                    </a:lnTo>
                    <a:lnTo>
                      <a:pt x="204" y="14"/>
                    </a:lnTo>
                    <a:lnTo>
                      <a:pt x="187" y="33"/>
                    </a:lnTo>
                    <a:lnTo>
                      <a:pt x="164" y="58"/>
                    </a:lnTo>
                    <a:lnTo>
                      <a:pt x="139" y="92"/>
                    </a:lnTo>
                    <a:lnTo>
                      <a:pt x="113" y="134"/>
                    </a:lnTo>
                    <a:lnTo>
                      <a:pt x="85" y="184"/>
                    </a:lnTo>
                    <a:lnTo>
                      <a:pt x="60" y="244"/>
                    </a:lnTo>
                    <a:lnTo>
                      <a:pt x="37" y="312"/>
                    </a:lnTo>
                    <a:lnTo>
                      <a:pt x="18" y="388"/>
                    </a:lnTo>
                    <a:lnTo>
                      <a:pt x="5" y="475"/>
                    </a:lnTo>
                    <a:lnTo>
                      <a:pt x="0" y="570"/>
                    </a:lnTo>
                    <a:lnTo>
                      <a:pt x="4" y="676"/>
                    </a:lnTo>
                    <a:lnTo>
                      <a:pt x="19" y="791"/>
                    </a:lnTo>
                    <a:lnTo>
                      <a:pt x="46" y="918"/>
                    </a:lnTo>
                    <a:lnTo>
                      <a:pt x="85" y="1053"/>
                    </a:lnTo>
                    <a:lnTo>
                      <a:pt x="89" y="1060"/>
                    </a:lnTo>
                    <a:lnTo>
                      <a:pt x="100" y="1080"/>
                    </a:lnTo>
                    <a:lnTo>
                      <a:pt x="116" y="1111"/>
                    </a:lnTo>
                    <a:lnTo>
                      <a:pt x="139" y="1152"/>
                    </a:lnTo>
                    <a:lnTo>
                      <a:pt x="165" y="1201"/>
                    </a:lnTo>
                    <a:lnTo>
                      <a:pt x="196" y="1256"/>
                    </a:lnTo>
                    <a:lnTo>
                      <a:pt x="230" y="1317"/>
                    </a:lnTo>
                    <a:lnTo>
                      <a:pt x="265" y="1380"/>
                    </a:lnTo>
                    <a:lnTo>
                      <a:pt x="301" y="1443"/>
                    </a:lnTo>
                    <a:lnTo>
                      <a:pt x="338" y="1508"/>
                    </a:lnTo>
                    <a:lnTo>
                      <a:pt x="375" y="1570"/>
                    </a:lnTo>
                    <a:lnTo>
                      <a:pt x="410" y="1629"/>
                    </a:lnTo>
                    <a:lnTo>
                      <a:pt x="443" y="1682"/>
                    </a:lnTo>
                    <a:lnTo>
                      <a:pt x="473" y="1728"/>
                    </a:lnTo>
                    <a:lnTo>
                      <a:pt x="499" y="1766"/>
                    </a:lnTo>
                    <a:lnTo>
                      <a:pt x="521" y="1794"/>
                    </a:lnTo>
                    <a:lnTo>
                      <a:pt x="517" y="1787"/>
                    </a:lnTo>
                    <a:lnTo>
                      <a:pt x="507" y="1769"/>
                    </a:lnTo>
                    <a:lnTo>
                      <a:pt x="492" y="1740"/>
                    </a:lnTo>
                    <a:lnTo>
                      <a:pt x="472" y="1703"/>
                    </a:lnTo>
                    <a:lnTo>
                      <a:pt x="448" y="1657"/>
                    </a:lnTo>
                    <a:lnTo>
                      <a:pt x="419" y="1605"/>
                    </a:lnTo>
                    <a:lnTo>
                      <a:pt x="388" y="1549"/>
                    </a:lnTo>
                    <a:lnTo>
                      <a:pt x="357" y="1488"/>
                    </a:lnTo>
                    <a:lnTo>
                      <a:pt x="323" y="1426"/>
                    </a:lnTo>
                    <a:lnTo>
                      <a:pt x="289" y="1363"/>
                    </a:lnTo>
                    <a:lnTo>
                      <a:pt x="255" y="1301"/>
                    </a:lnTo>
                    <a:lnTo>
                      <a:pt x="223" y="1241"/>
                    </a:lnTo>
                    <a:lnTo>
                      <a:pt x="193" y="1184"/>
                    </a:lnTo>
                    <a:lnTo>
                      <a:pt x="164" y="1131"/>
                    </a:lnTo>
                    <a:lnTo>
                      <a:pt x="140" y="1085"/>
                    </a:lnTo>
                    <a:lnTo>
                      <a:pt x="120" y="1047"/>
                    </a:lnTo>
                    <a:lnTo>
                      <a:pt x="118" y="1040"/>
                    </a:lnTo>
                    <a:lnTo>
                      <a:pt x="111" y="1021"/>
                    </a:lnTo>
                    <a:lnTo>
                      <a:pt x="101" y="989"/>
                    </a:lnTo>
                    <a:lnTo>
                      <a:pt x="90" y="945"/>
                    </a:lnTo>
                    <a:lnTo>
                      <a:pt x="77" y="894"/>
                    </a:lnTo>
                    <a:lnTo>
                      <a:pt x="66" y="834"/>
                    </a:lnTo>
                    <a:lnTo>
                      <a:pt x="56" y="765"/>
                    </a:lnTo>
                    <a:lnTo>
                      <a:pt x="48" y="691"/>
                    </a:lnTo>
                    <a:lnTo>
                      <a:pt x="43" y="611"/>
                    </a:lnTo>
                    <a:lnTo>
                      <a:pt x="44" y="528"/>
                    </a:lnTo>
                    <a:lnTo>
                      <a:pt x="52" y="441"/>
                    </a:lnTo>
                    <a:lnTo>
                      <a:pt x="67" y="352"/>
                    </a:lnTo>
                    <a:lnTo>
                      <a:pt x="90" y="262"/>
                    </a:lnTo>
                    <a:lnTo>
                      <a:pt x="123" y="172"/>
                    </a:lnTo>
                    <a:lnTo>
                      <a:pt x="165" y="85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Freeform 167"/>
              <p:cNvSpPr/>
              <p:nvPr/>
            </p:nvSpPr>
            <p:spPr>
              <a:xfrm>
                <a:off x="3784680" y="2307240"/>
                <a:ext cx="241920" cy="46800"/>
              </a:xfrm>
              <a:custGeom>
                <a:avLst/>
                <a:gdLst/>
                <a:ahLst/>
                <a:rect l="l" t="t" r="r" b="b"/>
                <a:pathLst>
                  <a:path w="350" h="120">
                    <a:moveTo>
                      <a:pt x="0" y="0"/>
                    </a:moveTo>
                    <a:lnTo>
                      <a:pt x="5" y="4"/>
                    </a:lnTo>
                    <a:lnTo>
                      <a:pt x="16" y="16"/>
                    </a:lnTo>
                    <a:lnTo>
                      <a:pt x="35" y="32"/>
                    </a:lnTo>
                    <a:lnTo>
                      <a:pt x="59" y="50"/>
                    </a:lnTo>
                    <a:lnTo>
                      <a:pt x="85" y="69"/>
                    </a:lnTo>
                    <a:lnTo>
                      <a:pt x="113" y="87"/>
                    </a:lnTo>
                    <a:lnTo>
                      <a:pt x="141" y="102"/>
                    </a:lnTo>
                    <a:lnTo>
                      <a:pt x="166" y="110"/>
                    </a:lnTo>
                    <a:lnTo>
                      <a:pt x="190" y="115"/>
                    </a:lnTo>
                    <a:lnTo>
                      <a:pt x="215" y="118"/>
                    </a:lnTo>
                    <a:lnTo>
                      <a:pt x="240" y="120"/>
                    </a:lnTo>
                    <a:lnTo>
                      <a:pt x="264" y="119"/>
                    </a:lnTo>
                    <a:lnTo>
                      <a:pt x="287" y="116"/>
                    </a:lnTo>
                    <a:lnTo>
                      <a:pt x="306" y="111"/>
                    </a:lnTo>
                    <a:lnTo>
                      <a:pt x="321" y="102"/>
                    </a:lnTo>
                    <a:lnTo>
                      <a:pt x="331" y="90"/>
                    </a:lnTo>
                    <a:lnTo>
                      <a:pt x="350" y="61"/>
                    </a:lnTo>
                    <a:lnTo>
                      <a:pt x="345" y="62"/>
                    </a:lnTo>
                    <a:lnTo>
                      <a:pt x="331" y="68"/>
                    </a:lnTo>
                    <a:lnTo>
                      <a:pt x="311" y="73"/>
                    </a:lnTo>
                    <a:lnTo>
                      <a:pt x="286" y="78"/>
                    </a:lnTo>
                    <a:lnTo>
                      <a:pt x="255" y="82"/>
                    </a:lnTo>
                    <a:lnTo>
                      <a:pt x="225" y="83"/>
                    </a:lnTo>
                    <a:lnTo>
                      <a:pt x="195" y="79"/>
                    </a:lnTo>
                    <a:lnTo>
                      <a:pt x="167" y="70"/>
                    </a:lnTo>
                    <a:lnTo>
                      <a:pt x="163" y="68"/>
                    </a:lnTo>
                    <a:lnTo>
                      <a:pt x="153" y="60"/>
                    </a:lnTo>
                    <a:lnTo>
                      <a:pt x="137" y="49"/>
                    </a:lnTo>
                    <a:lnTo>
                      <a:pt x="116" y="37"/>
                    </a:lnTo>
                    <a:lnTo>
                      <a:pt x="90" y="25"/>
                    </a:lnTo>
                    <a:lnTo>
                      <a:pt x="61" y="14"/>
                    </a:lnTo>
                    <a:lnTo>
                      <a:pt x="3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Freeform 168"/>
              <p:cNvSpPr/>
              <p:nvPr/>
            </p:nvSpPr>
            <p:spPr>
              <a:xfrm>
                <a:off x="3335400" y="2380320"/>
                <a:ext cx="194400" cy="365040"/>
              </a:xfrm>
              <a:custGeom>
                <a:avLst/>
                <a:gdLst/>
                <a:ahLst/>
                <a:rect l="l" t="t" r="r" b="b"/>
                <a:pathLst>
                  <a:path w="281" h="918">
                    <a:moveTo>
                      <a:pt x="232" y="13"/>
                    </a:moveTo>
                    <a:lnTo>
                      <a:pt x="227" y="14"/>
                    </a:lnTo>
                    <a:lnTo>
                      <a:pt x="215" y="21"/>
                    </a:lnTo>
                    <a:lnTo>
                      <a:pt x="196" y="31"/>
                    </a:lnTo>
                    <a:lnTo>
                      <a:pt x="173" y="47"/>
                    </a:lnTo>
                    <a:lnTo>
                      <a:pt x="145" y="71"/>
                    </a:lnTo>
                    <a:lnTo>
                      <a:pt x="116" y="101"/>
                    </a:lnTo>
                    <a:lnTo>
                      <a:pt x="87" y="141"/>
                    </a:lnTo>
                    <a:lnTo>
                      <a:pt x="60" y="189"/>
                    </a:lnTo>
                    <a:lnTo>
                      <a:pt x="39" y="236"/>
                    </a:lnTo>
                    <a:lnTo>
                      <a:pt x="22" y="290"/>
                    </a:lnTo>
                    <a:lnTo>
                      <a:pt x="8" y="355"/>
                    </a:lnTo>
                    <a:lnTo>
                      <a:pt x="0" y="431"/>
                    </a:lnTo>
                    <a:lnTo>
                      <a:pt x="0" y="520"/>
                    </a:lnTo>
                    <a:lnTo>
                      <a:pt x="12" y="621"/>
                    </a:lnTo>
                    <a:lnTo>
                      <a:pt x="33" y="737"/>
                    </a:lnTo>
                    <a:lnTo>
                      <a:pt x="70" y="869"/>
                    </a:lnTo>
                    <a:lnTo>
                      <a:pt x="73" y="874"/>
                    </a:lnTo>
                    <a:lnTo>
                      <a:pt x="82" y="885"/>
                    </a:lnTo>
                    <a:lnTo>
                      <a:pt x="95" y="899"/>
                    </a:lnTo>
                    <a:lnTo>
                      <a:pt x="109" y="911"/>
                    </a:lnTo>
                    <a:lnTo>
                      <a:pt x="121" y="918"/>
                    </a:lnTo>
                    <a:lnTo>
                      <a:pt x="131" y="915"/>
                    </a:lnTo>
                    <a:lnTo>
                      <a:pt x="135" y="898"/>
                    </a:lnTo>
                    <a:lnTo>
                      <a:pt x="131" y="862"/>
                    </a:lnTo>
                    <a:lnTo>
                      <a:pt x="126" y="848"/>
                    </a:lnTo>
                    <a:lnTo>
                      <a:pt x="114" y="808"/>
                    </a:lnTo>
                    <a:lnTo>
                      <a:pt x="97" y="748"/>
                    </a:lnTo>
                    <a:lnTo>
                      <a:pt x="84" y="666"/>
                    </a:lnTo>
                    <a:lnTo>
                      <a:pt x="75" y="571"/>
                    </a:lnTo>
                    <a:lnTo>
                      <a:pt x="78" y="462"/>
                    </a:lnTo>
                    <a:lnTo>
                      <a:pt x="96" y="345"/>
                    </a:lnTo>
                    <a:lnTo>
                      <a:pt x="135" y="222"/>
                    </a:lnTo>
                    <a:lnTo>
                      <a:pt x="136" y="218"/>
                    </a:lnTo>
                    <a:lnTo>
                      <a:pt x="143" y="207"/>
                    </a:lnTo>
                    <a:lnTo>
                      <a:pt x="152" y="188"/>
                    </a:lnTo>
                    <a:lnTo>
                      <a:pt x="167" y="166"/>
                    </a:lnTo>
                    <a:lnTo>
                      <a:pt x="186" y="139"/>
                    </a:lnTo>
                    <a:lnTo>
                      <a:pt x="211" y="112"/>
                    </a:lnTo>
                    <a:lnTo>
                      <a:pt x="242" y="83"/>
                    </a:lnTo>
                    <a:lnTo>
                      <a:pt x="280" y="54"/>
                    </a:lnTo>
                    <a:lnTo>
                      <a:pt x="280" y="50"/>
                    </a:lnTo>
                    <a:lnTo>
                      <a:pt x="281" y="41"/>
                    </a:lnTo>
                    <a:lnTo>
                      <a:pt x="281" y="29"/>
                    </a:lnTo>
                    <a:lnTo>
                      <a:pt x="280" y="16"/>
                    </a:lnTo>
                    <a:lnTo>
                      <a:pt x="275" y="5"/>
                    </a:lnTo>
                    <a:lnTo>
                      <a:pt x="266" y="0"/>
                    </a:lnTo>
                    <a:lnTo>
                      <a:pt x="252" y="1"/>
                    </a:lnTo>
                    <a:lnTo>
                      <a:pt x="232" y="13"/>
                    </a:lnTo>
                    <a:close/>
                  </a:path>
                </a:pathLst>
              </a:custGeom>
              <a:solidFill>
                <a:srgbClr val="91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Freeform 169"/>
              <p:cNvSpPr/>
              <p:nvPr/>
            </p:nvSpPr>
            <p:spPr>
              <a:xfrm>
                <a:off x="3745080" y="3050280"/>
                <a:ext cx="262440" cy="32760"/>
              </a:xfrm>
              <a:custGeom>
                <a:avLst/>
                <a:gdLst/>
                <a:ahLst/>
                <a:rect l="l" t="t" r="r" b="b"/>
                <a:pathLst>
                  <a:path w="379" h="95">
                    <a:moveTo>
                      <a:pt x="0" y="71"/>
                    </a:moveTo>
                    <a:lnTo>
                      <a:pt x="4" y="70"/>
                    </a:lnTo>
                    <a:lnTo>
                      <a:pt x="15" y="66"/>
                    </a:lnTo>
                    <a:lnTo>
                      <a:pt x="31" y="60"/>
                    </a:lnTo>
                    <a:lnTo>
                      <a:pt x="51" y="54"/>
                    </a:lnTo>
                    <a:lnTo>
                      <a:pt x="73" y="46"/>
                    </a:lnTo>
                    <a:lnTo>
                      <a:pt x="94" y="37"/>
                    </a:lnTo>
                    <a:lnTo>
                      <a:pt x="113" y="29"/>
                    </a:lnTo>
                    <a:lnTo>
                      <a:pt x="128" y="19"/>
                    </a:lnTo>
                    <a:lnTo>
                      <a:pt x="142" y="12"/>
                    </a:lnTo>
                    <a:lnTo>
                      <a:pt x="157" y="5"/>
                    </a:lnTo>
                    <a:lnTo>
                      <a:pt x="175" y="1"/>
                    </a:lnTo>
                    <a:lnTo>
                      <a:pt x="195" y="0"/>
                    </a:lnTo>
                    <a:lnTo>
                      <a:pt x="218" y="2"/>
                    </a:lnTo>
                    <a:lnTo>
                      <a:pt x="243" y="9"/>
                    </a:lnTo>
                    <a:lnTo>
                      <a:pt x="272" y="19"/>
                    </a:lnTo>
                    <a:lnTo>
                      <a:pt x="302" y="37"/>
                    </a:lnTo>
                    <a:lnTo>
                      <a:pt x="379" y="95"/>
                    </a:lnTo>
                    <a:lnTo>
                      <a:pt x="376" y="95"/>
                    </a:lnTo>
                    <a:lnTo>
                      <a:pt x="368" y="95"/>
                    </a:lnTo>
                    <a:lnTo>
                      <a:pt x="355" y="93"/>
                    </a:lnTo>
                    <a:lnTo>
                      <a:pt x="340" y="92"/>
                    </a:lnTo>
                    <a:lnTo>
                      <a:pt x="323" y="89"/>
                    </a:lnTo>
                    <a:lnTo>
                      <a:pt x="306" y="85"/>
                    </a:lnTo>
                    <a:lnTo>
                      <a:pt x="291" y="80"/>
                    </a:lnTo>
                    <a:lnTo>
                      <a:pt x="277" y="72"/>
                    </a:lnTo>
                    <a:lnTo>
                      <a:pt x="273" y="70"/>
                    </a:lnTo>
                    <a:lnTo>
                      <a:pt x="262" y="66"/>
                    </a:lnTo>
                    <a:lnTo>
                      <a:pt x="244" y="59"/>
                    </a:lnTo>
                    <a:lnTo>
                      <a:pt x="220" y="52"/>
                    </a:lnTo>
                    <a:lnTo>
                      <a:pt x="191" y="50"/>
                    </a:lnTo>
                    <a:lnTo>
                      <a:pt x="158" y="51"/>
                    </a:lnTo>
                    <a:lnTo>
                      <a:pt x="121" y="58"/>
                    </a:lnTo>
                    <a:lnTo>
                      <a:pt x="79" y="72"/>
                    </a:lnTo>
                    <a:lnTo>
                      <a:pt x="78" y="73"/>
                    </a:lnTo>
                    <a:lnTo>
                      <a:pt x="73" y="75"/>
                    </a:lnTo>
                    <a:lnTo>
                      <a:pt x="65" y="77"/>
                    </a:lnTo>
                    <a:lnTo>
                      <a:pt x="55" y="80"/>
                    </a:lnTo>
                    <a:lnTo>
                      <a:pt x="43" y="81"/>
                    </a:lnTo>
                    <a:lnTo>
                      <a:pt x="29" y="80"/>
                    </a:lnTo>
                    <a:lnTo>
                      <a:pt x="15" y="77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2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Freeform 170"/>
              <p:cNvSpPr/>
              <p:nvPr/>
            </p:nvSpPr>
            <p:spPr>
              <a:xfrm>
                <a:off x="4182120" y="2286000"/>
                <a:ext cx="262440" cy="85680"/>
              </a:xfrm>
              <a:custGeom>
                <a:avLst/>
                <a:gdLst/>
                <a:ahLst/>
                <a:rect l="l" t="t" r="r" b="b"/>
                <a:pathLst>
                  <a:path w="382" h="221">
                    <a:moveTo>
                      <a:pt x="0" y="0"/>
                    </a:moveTo>
                    <a:lnTo>
                      <a:pt x="4" y="0"/>
                    </a:lnTo>
                    <a:lnTo>
                      <a:pt x="13" y="0"/>
                    </a:lnTo>
                    <a:lnTo>
                      <a:pt x="27" y="1"/>
                    </a:lnTo>
                    <a:lnTo>
                      <a:pt x="46" y="2"/>
                    </a:lnTo>
                    <a:lnTo>
                      <a:pt x="68" y="6"/>
                    </a:lnTo>
                    <a:lnTo>
                      <a:pt x="95" y="10"/>
                    </a:lnTo>
                    <a:lnTo>
                      <a:pt x="124" y="17"/>
                    </a:lnTo>
                    <a:lnTo>
                      <a:pt x="154" y="26"/>
                    </a:lnTo>
                    <a:lnTo>
                      <a:pt x="185" y="38"/>
                    </a:lnTo>
                    <a:lnTo>
                      <a:pt x="217" y="52"/>
                    </a:lnTo>
                    <a:lnTo>
                      <a:pt x="250" y="71"/>
                    </a:lnTo>
                    <a:lnTo>
                      <a:pt x="280" y="92"/>
                    </a:lnTo>
                    <a:lnTo>
                      <a:pt x="310" y="117"/>
                    </a:lnTo>
                    <a:lnTo>
                      <a:pt x="337" y="147"/>
                    </a:lnTo>
                    <a:lnTo>
                      <a:pt x="362" y="182"/>
                    </a:lnTo>
                    <a:lnTo>
                      <a:pt x="382" y="221"/>
                    </a:lnTo>
                    <a:lnTo>
                      <a:pt x="381" y="220"/>
                    </a:lnTo>
                    <a:lnTo>
                      <a:pt x="376" y="216"/>
                    </a:lnTo>
                    <a:lnTo>
                      <a:pt x="368" y="208"/>
                    </a:lnTo>
                    <a:lnTo>
                      <a:pt x="358" y="200"/>
                    </a:lnTo>
                    <a:lnTo>
                      <a:pt x="344" y="188"/>
                    </a:lnTo>
                    <a:lnTo>
                      <a:pt x="328" y="175"/>
                    </a:lnTo>
                    <a:lnTo>
                      <a:pt x="308" y="160"/>
                    </a:lnTo>
                    <a:lnTo>
                      <a:pt x="286" y="145"/>
                    </a:lnTo>
                    <a:lnTo>
                      <a:pt x="260" y="128"/>
                    </a:lnTo>
                    <a:lnTo>
                      <a:pt x="232" y="110"/>
                    </a:lnTo>
                    <a:lnTo>
                      <a:pt x="200" y="92"/>
                    </a:lnTo>
                    <a:lnTo>
                      <a:pt x="166" y="74"/>
                    </a:lnTo>
                    <a:lnTo>
                      <a:pt x="129" y="54"/>
                    </a:lnTo>
                    <a:lnTo>
                      <a:pt x="88" y="35"/>
                    </a:lnTo>
                    <a:lnTo>
                      <a:pt x="46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Freeform 171"/>
              <p:cNvSpPr/>
              <p:nvPr/>
            </p:nvSpPr>
            <p:spPr>
              <a:xfrm>
                <a:off x="3832560" y="2150640"/>
                <a:ext cx="119520" cy="197640"/>
              </a:xfrm>
              <a:custGeom>
                <a:avLst/>
                <a:gdLst/>
                <a:ahLst/>
                <a:rect l="l" t="t" r="r" b="b"/>
                <a:pathLst>
                  <a:path w="174" h="503">
                    <a:moveTo>
                      <a:pt x="115" y="481"/>
                    </a:moveTo>
                    <a:lnTo>
                      <a:pt x="113" y="468"/>
                    </a:lnTo>
                    <a:lnTo>
                      <a:pt x="108" y="432"/>
                    </a:lnTo>
                    <a:lnTo>
                      <a:pt x="101" y="381"/>
                    </a:lnTo>
                    <a:lnTo>
                      <a:pt x="89" y="318"/>
                    </a:lnTo>
                    <a:lnTo>
                      <a:pt x="73" y="249"/>
                    </a:lnTo>
                    <a:lnTo>
                      <a:pt x="53" y="182"/>
                    </a:lnTo>
                    <a:lnTo>
                      <a:pt x="29" y="120"/>
                    </a:lnTo>
                    <a:lnTo>
                      <a:pt x="0" y="72"/>
                    </a:lnTo>
                    <a:lnTo>
                      <a:pt x="1" y="68"/>
                    </a:lnTo>
                    <a:lnTo>
                      <a:pt x="4" y="58"/>
                    </a:lnTo>
                    <a:lnTo>
                      <a:pt x="9" y="46"/>
                    </a:lnTo>
                    <a:lnTo>
                      <a:pt x="16" y="32"/>
                    </a:lnTo>
                    <a:lnTo>
                      <a:pt x="25" y="18"/>
                    </a:lnTo>
                    <a:lnTo>
                      <a:pt x="38" y="7"/>
                    </a:lnTo>
                    <a:lnTo>
                      <a:pt x="52" y="0"/>
                    </a:lnTo>
                    <a:lnTo>
                      <a:pt x="68" y="2"/>
                    </a:lnTo>
                    <a:lnTo>
                      <a:pt x="113" y="27"/>
                    </a:lnTo>
                    <a:lnTo>
                      <a:pt x="117" y="40"/>
                    </a:lnTo>
                    <a:lnTo>
                      <a:pt x="126" y="75"/>
                    </a:lnTo>
                    <a:lnTo>
                      <a:pt x="137" y="128"/>
                    </a:lnTo>
                    <a:lnTo>
                      <a:pt x="150" y="194"/>
                    </a:lnTo>
                    <a:lnTo>
                      <a:pt x="162" y="266"/>
                    </a:lnTo>
                    <a:lnTo>
                      <a:pt x="171" y="340"/>
                    </a:lnTo>
                    <a:lnTo>
                      <a:pt x="174" y="411"/>
                    </a:lnTo>
                    <a:lnTo>
                      <a:pt x="170" y="473"/>
                    </a:lnTo>
                    <a:lnTo>
                      <a:pt x="169" y="476"/>
                    </a:lnTo>
                    <a:lnTo>
                      <a:pt x="166" y="482"/>
                    </a:lnTo>
                    <a:lnTo>
                      <a:pt x="161" y="490"/>
                    </a:lnTo>
                    <a:lnTo>
                      <a:pt x="156" y="498"/>
                    </a:lnTo>
                    <a:lnTo>
                      <a:pt x="147" y="503"/>
                    </a:lnTo>
                    <a:lnTo>
                      <a:pt x="139" y="503"/>
                    </a:lnTo>
                    <a:lnTo>
                      <a:pt x="127" y="497"/>
                    </a:lnTo>
                    <a:lnTo>
                      <a:pt x="115" y="481"/>
                    </a:lnTo>
                    <a:close/>
                  </a:path>
                </a:pathLst>
              </a:custGeom>
              <a:solidFill>
                <a:srgbClr val="5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Freeform 172"/>
              <p:cNvSpPr/>
              <p:nvPr/>
            </p:nvSpPr>
            <p:spPr>
              <a:xfrm>
                <a:off x="3881880" y="2158920"/>
                <a:ext cx="57960" cy="132840"/>
              </a:xfrm>
              <a:custGeom>
                <a:avLst/>
                <a:gdLst/>
                <a:ahLst/>
                <a:rect l="l" t="t" r="r" b="b"/>
                <a:pathLst>
                  <a:path w="84" h="339">
                    <a:moveTo>
                      <a:pt x="0" y="0"/>
                    </a:moveTo>
                    <a:lnTo>
                      <a:pt x="5" y="1"/>
                    </a:lnTo>
                    <a:lnTo>
                      <a:pt x="16" y="4"/>
                    </a:lnTo>
                    <a:lnTo>
                      <a:pt x="29" y="11"/>
                    </a:lnTo>
                    <a:lnTo>
                      <a:pt x="36" y="21"/>
                    </a:lnTo>
                    <a:lnTo>
                      <a:pt x="39" y="30"/>
                    </a:lnTo>
                    <a:lnTo>
                      <a:pt x="44" y="54"/>
                    </a:lnTo>
                    <a:lnTo>
                      <a:pt x="51" y="90"/>
                    </a:lnTo>
                    <a:lnTo>
                      <a:pt x="60" y="133"/>
                    </a:lnTo>
                    <a:lnTo>
                      <a:pt x="69" y="183"/>
                    </a:lnTo>
                    <a:lnTo>
                      <a:pt x="77" y="236"/>
                    </a:lnTo>
                    <a:lnTo>
                      <a:pt x="83" y="289"/>
                    </a:lnTo>
                    <a:lnTo>
                      <a:pt x="84" y="336"/>
                    </a:lnTo>
                    <a:lnTo>
                      <a:pt x="83" y="337"/>
                    </a:lnTo>
                    <a:lnTo>
                      <a:pt x="79" y="339"/>
                    </a:lnTo>
                    <a:lnTo>
                      <a:pt x="74" y="336"/>
                    </a:lnTo>
                    <a:lnTo>
                      <a:pt x="69" y="328"/>
                    </a:lnTo>
                    <a:lnTo>
                      <a:pt x="68" y="316"/>
                    </a:lnTo>
                    <a:lnTo>
                      <a:pt x="63" y="285"/>
                    </a:lnTo>
                    <a:lnTo>
                      <a:pt x="56" y="240"/>
                    </a:lnTo>
                    <a:lnTo>
                      <a:pt x="48" y="186"/>
                    </a:lnTo>
                    <a:lnTo>
                      <a:pt x="38" y="129"/>
                    </a:lnTo>
                    <a:lnTo>
                      <a:pt x="26" y="75"/>
                    </a:ln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28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Freeform 173"/>
              <p:cNvSpPr/>
              <p:nvPr/>
            </p:nvSpPr>
            <p:spPr>
              <a:xfrm>
                <a:off x="3842640" y="2174040"/>
                <a:ext cx="88560" cy="181440"/>
              </a:xfrm>
              <a:custGeom>
                <a:avLst/>
                <a:gdLst/>
                <a:ahLst/>
                <a:rect l="l" t="t" r="r" b="b"/>
                <a:pathLst>
                  <a:path w="127" h="450">
                    <a:moveTo>
                      <a:pt x="22" y="0"/>
                    </a:moveTo>
                    <a:lnTo>
                      <a:pt x="25" y="6"/>
                    </a:lnTo>
                    <a:lnTo>
                      <a:pt x="34" y="26"/>
                    </a:lnTo>
                    <a:lnTo>
                      <a:pt x="48" y="59"/>
                    </a:lnTo>
                    <a:lnTo>
                      <a:pt x="66" y="106"/>
                    </a:lnTo>
                    <a:lnTo>
                      <a:pt x="83" y="170"/>
                    </a:lnTo>
                    <a:lnTo>
                      <a:pt x="100" y="247"/>
                    </a:lnTo>
                    <a:lnTo>
                      <a:pt x="116" y="341"/>
                    </a:lnTo>
                    <a:lnTo>
                      <a:pt x="127" y="450"/>
                    </a:lnTo>
                    <a:lnTo>
                      <a:pt x="124" y="449"/>
                    </a:lnTo>
                    <a:lnTo>
                      <a:pt x="116" y="446"/>
                    </a:lnTo>
                    <a:lnTo>
                      <a:pt x="107" y="440"/>
                    </a:lnTo>
                    <a:lnTo>
                      <a:pt x="101" y="429"/>
                    </a:lnTo>
                    <a:lnTo>
                      <a:pt x="100" y="417"/>
                    </a:lnTo>
                    <a:lnTo>
                      <a:pt x="97" y="384"/>
                    </a:lnTo>
                    <a:lnTo>
                      <a:pt x="92" y="335"/>
                    </a:lnTo>
                    <a:lnTo>
                      <a:pt x="84" y="275"/>
                    </a:lnTo>
                    <a:lnTo>
                      <a:pt x="72" y="208"/>
                    </a:lnTo>
                    <a:lnTo>
                      <a:pt x="53" y="139"/>
                    </a:lnTo>
                    <a:lnTo>
                      <a:pt x="30" y="72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5" y="5"/>
                    </a:lnTo>
                    <a:lnTo>
                      <a:pt x="13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Freeform 174"/>
              <p:cNvSpPr/>
              <p:nvPr/>
            </p:nvSpPr>
            <p:spPr>
              <a:xfrm>
                <a:off x="3489120" y="2249640"/>
                <a:ext cx="245880" cy="38520"/>
              </a:xfrm>
              <a:custGeom>
                <a:avLst/>
                <a:gdLst/>
                <a:ahLst/>
                <a:rect l="l" t="t" r="r" b="b"/>
                <a:pathLst>
                  <a:path w="356" h="110">
                    <a:moveTo>
                      <a:pt x="4" y="73"/>
                    </a:moveTo>
                    <a:lnTo>
                      <a:pt x="5" y="72"/>
                    </a:lnTo>
                    <a:lnTo>
                      <a:pt x="8" y="68"/>
                    </a:lnTo>
                    <a:lnTo>
                      <a:pt x="14" y="62"/>
                    </a:lnTo>
                    <a:lnTo>
                      <a:pt x="22" y="54"/>
                    </a:lnTo>
                    <a:lnTo>
                      <a:pt x="32" y="46"/>
                    </a:lnTo>
                    <a:lnTo>
                      <a:pt x="44" y="35"/>
                    </a:lnTo>
                    <a:lnTo>
                      <a:pt x="61" y="26"/>
                    </a:lnTo>
                    <a:lnTo>
                      <a:pt x="80" y="18"/>
                    </a:lnTo>
                    <a:lnTo>
                      <a:pt x="101" y="10"/>
                    </a:lnTo>
                    <a:lnTo>
                      <a:pt x="126" y="5"/>
                    </a:lnTo>
                    <a:lnTo>
                      <a:pt x="155" y="1"/>
                    </a:lnTo>
                    <a:lnTo>
                      <a:pt x="188" y="0"/>
                    </a:lnTo>
                    <a:lnTo>
                      <a:pt x="223" y="1"/>
                    </a:lnTo>
                    <a:lnTo>
                      <a:pt x="262" y="8"/>
                    </a:lnTo>
                    <a:lnTo>
                      <a:pt x="306" y="18"/>
                    </a:lnTo>
                    <a:lnTo>
                      <a:pt x="354" y="33"/>
                    </a:lnTo>
                    <a:lnTo>
                      <a:pt x="354" y="34"/>
                    </a:lnTo>
                    <a:lnTo>
                      <a:pt x="356" y="37"/>
                    </a:lnTo>
                    <a:lnTo>
                      <a:pt x="356" y="39"/>
                    </a:lnTo>
                    <a:lnTo>
                      <a:pt x="356" y="43"/>
                    </a:lnTo>
                    <a:lnTo>
                      <a:pt x="352" y="47"/>
                    </a:lnTo>
                    <a:lnTo>
                      <a:pt x="346" y="50"/>
                    </a:lnTo>
                    <a:lnTo>
                      <a:pt x="335" y="52"/>
                    </a:lnTo>
                    <a:lnTo>
                      <a:pt x="322" y="52"/>
                    </a:lnTo>
                    <a:lnTo>
                      <a:pt x="312" y="52"/>
                    </a:lnTo>
                    <a:lnTo>
                      <a:pt x="300" y="51"/>
                    </a:lnTo>
                    <a:lnTo>
                      <a:pt x="286" y="51"/>
                    </a:lnTo>
                    <a:lnTo>
                      <a:pt x="270" y="52"/>
                    </a:lnTo>
                    <a:lnTo>
                      <a:pt x="252" y="52"/>
                    </a:lnTo>
                    <a:lnTo>
                      <a:pt x="235" y="54"/>
                    </a:lnTo>
                    <a:lnTo>
                      <a:pt x="216" y="55"/>
                    </a:lnTo>
                    <a:lnTo>
                      <a:pt x="196" y="58"/>
                    </a:lnTo>
                    <a:lnTo>
                      <a:pt x="175" y="60"/>
                    </a:lnTo>
                    <a:lnTo>
                      <a:pt x="155" y="64"/>
                    </a:lnTo>
                    <a:lnTo>
                      <a:pt x="136" y="68"/>
                    </a:lnTo>
                    <a:lnTo>
                      <a:pt x="118" y="75"/>
                    </a:lnTo>
                    <a:lnTo>
                      <a:pt x="100" y="81"/>
                    </a:lnTo>
                    <a:lnTo>
                      <a:pt x="83" y="88"/>
                    </a:lnTo>
                    <a:lnTo>
                      <a:pt x="68" y="97"/>
                    </a:lnTo>
                    <a:lnTo>
                      <a:pt x="55" y="108"/>
                    </a:lnTo>
                    <a:lnTo>
                      <a:pt x="52" y="109"/>
                    </a:lnTo>
                    <a:lnTo>
                      <a:pt x="43" y="110"/>
                    </a:lnTo>
                    <a:lnTo>
                      <a:pt x="33" y="110"/>
                    </a:lnTo>
                    <a:lnTo>
                      <a:pt x="21" y="110"/>
                    </a:lnTo>
                    <a:lnTo>
                      <a:pt x="10" y="108"/>
                    </a:lnTo>
                    <a:lnTo>
                      <a:pt x="3" y="101"/>
                    </a:lnTo>
                    <a:lnTo>
                      <a:pt x="0" y="90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Freeform 175"/>
              <p:cNvSpPr/>
              <p:nvPr/>
            </p:nvSpPr>
            <p:spPr>
              <a:xfrm>
                <a:off x="3524040" y="2250720"/>
                <a:ext cx="161280" cy="28080"/>
              </a:xfrm>
              <a:custGeom>
                <a:avLst/>
                <a:gdLst/>
                <a:ahLst/>
                <a:rect l="l" t="t" r="r" b="b"/>
                <a:pathLst>
                  <a:path w="234" h="86">
                    <a:moveTo>
                      <a:pt x="4" y="57"/>
                    </a:moveTo>
                    <a:lnTo>
                      <a:pt x="6" y="56"/>
                    </a:lnTo>
                    <a:lnTo>
                      <a:pt x="7" y="53"/>
                    </a:lnTo>
                    <a:lnTo>
                      <a:pt x="11" y="48"/>
                    </a:lnTo>
                    <a:lnTo>
                      <a:pt x="16" y="42"/>
                    </a:lnTo>
                    <a:lnTo>
                      <a:pt x="22" y="36"/>
                    </a:lnTo>
                    <a:lnTo>
                      <a:pt x="31" y="28"/>
                    </a:lnTo>
                    <a:lnTo>
                      <a:pt x="41" y="21"/>
                    </a:lnTo>
                    <a:lnTo>
                      <a:pt x="53" y="15"/>
                    </a:lnTo>
                    <a:lnTo>
                      <a:pt x="67" y="9"/>
                    </a:lnTo>
                    <a:lnTo>
                      <a:pt x="84" y="4"/>
                    </a:lnTo>
                    <a:lnTo>
                      <a:pt x="103" y="2"/>
                    </a:lnTo>
                    <a:lnTo>
                      <a:pt x="124" y="0"/>
                    </a:lnTo>
                    <a:lnTo>
                      <a:pt x="147" y="2"/>
                    </a:lnTo>
                    <a:lnTo>
                      <a:pt x="173" y="6"/>
                    </a:lnTo>
                    <a:lnTo>
                      <a:pt x="201" y="13"/>
                    </a:lnTo>
                    <a:lnTo>
                      <a:pt x="232" y="24"/>
                    </a:lnTo>
                    <a:lnTo>
                      <a:pt x="234" y="27"/>
                    </a:lnTo>
                    <a:lnTo>
                      <a:pt x="234" y="32"/>
                    </a:lnTo>
                    <a:lnTo>
                      <a:pt x="227" y="38"/>
                    </a:lnTo>
                    <a:lnTo>
                      <a:pt x="211" y="40"/>
                    </a:lnTo>
                    <a:lnTo>
                      <a:pt x="197" y="38"/>
                    </a:lnTo>
                    <a:lnTo>
                      <a:pt x="177" y="40"/>
                    </a:lnTo>
                    <a:lnTo>
                      <a:pt x="154" y="41"/>
                    </a:lnTo>
                    <a:lnTo>
                      <a:pt x="129" y="44"/>
                    </a:lnTo>
                    <a:lnTo>
                      <a:pt x="103" y="49"/>
                    </a:lnTo>
                    <a:lnTo>
                      <a:pt x="77" y="57"/>
                    </a:lnTo>
                    <a:lnTo>
                      <a:pt x="55" y="69"/>
                    </a:lnTo>
                    <a:lnTo>
                      <a:pt x="37" y="83"/>
                    </a:lnTo>
                    <a:lnTo>
                      <a:pt x="34" y="83"/>
                    </a:lnTo>
                    <a:lnTo>
                      <a:pt x="29" y="85"/>
                    </a:lnTo>
                    <a:lnTo>
                      <a:pt x="22" y="86"/>
                    </a:lnTo>
                    <a:lnTo>
                      <a:pt x="14" y="85"/>
                    </a:lnTo>
                    <a:lnTo>
                      <a:pt x="8" y="83"/>
                    </a:lnTo>
                    <a:lnTo>
                      <a:pt x="3" y="78"/>
                    </a:lnTo>
                    <a:lnTo>
                      <a:pt x="0" y="69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Freeform 176"/>
              <p:cNvSpPr/>
              <p:nvPr/>
            </p:nvSpPr>
            <p:spPr>
              <a:xfrm>
                <a:off x="3569760" y="2259000"/>
                <a:ext cx="73800" cy="1404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2" y="24"/>
                    </a:moveTo>
                    <a:lnTo>
                      <a:pt x="3" y="23"/>
                    </a:lnTo>
                    <a:lnTo>
                      <a:pt x="7" y="17"/>
                    </a:lnTo>
                    <a:lnTo>
                      <a:pt x="14" y="12"/>
                    </a:lnTo>
                    <a:lnTo>
                      <a:pt x="25" y="6"/>
                    </a:lnTo>
                    <a:lnTo>
                      <a:pt x="39" y="2"/>
                    </a:lnTo>
                    <a:lnTo>
                      <a:pt x="58" y="0"/>
                    </a:lnTo>
                    <a:lnTo>
                      <a:pt x="81" y="3"/>
                    </a:lnTo>
                    <a:lnTo>
                      <a:pt x="109" y="11"/>
                    </a:lnTo>
                    <a:lnTo>
                      <a:pt x="109" y="12"/>
                    </a:lnTo>
                    <a:lnTo>
                      <a:pt x="109" y="14"/>
                    </a:lnTo>
                    <a:lnTo>
                      <a:pt x="106" y="16"/>
                    </a:lnTo>
                    <a:lnTo>
                      <a:pt x="99" y="17"/>
                    </a:lnTo>
                    <a:lnTo>
                      <a:pt x="92" y="17"/>
                    </a:lnTo>
                    <a:lnTo>
                      <a:pt x="82" y="17"/>
                    </a:lnTo>
                    <a:lnTo>
                      <a:pt x="72" y="17"/>
                    </a:lnTo>
                    <a:lnTo>
                      <a:pt x="59" y="19"/>
                    </a:lnTo>
                    <a:lnTo>
                      <a:pt x="48" y="21"/>
                    </a:lnTo>
                    <a:lnTo>
                      <a:pt x="36" y="24"/>
                    </a:lnTo>
                    <a:lnTo>
                      <a:pt x="25" y="29"/>
                    </a:lnTo>
                    <a:lnTo>
                      <a:pt x="17" y="36"/>
                    </a:lnTo>
                    <a:lnTo>
                      <a:pt x="13" y="36"/>
                    </a:lnTo>
                    <a:lnTo>
                      <a:pt x="7" y="36"/>
                    </a:lnTo>
                    <a:lnTo>
                      <a:pt x="0" y="33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ffc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Freeform 177"/>
              <p:cNvSpPr/>
              <p:nvPr/>
            </p:nvSpPr>
            <p:spPr>
              <a:xfrm>
                <a:off x="3737160" y="292320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111" h="217">
                    <a:moveTo>
                      <a:pt x="25" y="22"/>
                    </a:moveTo>
                    <a:lnTo>
                      <a:pt x="20" y="46"/>
                    </a:lnTo>
                    <a:lnTo>
                      <a:pt x="9" y="99"/>
                    </a:lnTo>
                    <a:lnTo>
                      <a:pt x="0" y="157"/>
                    </a:lnTo>
                    <a:lnTo>
                      <a:pt x="0" y="195"/>
                    </a:lnTo>
                    <a:lnTo>
                      <a:pt x="5" y="203"/>
                    </a:lnTo>
                    <a:lnTo>
                      <a:pt x="13" y="209"/>
                    </a:lnTo>
                    <a:lnTo>
                      <a:pt x="22" y="213"/>
                    </a:lnTo>
                    <a:lnTo>
                      <a:pt x="32" y="216"/>
                    </a:lnTo>
                    <a:lnTo>
                      <a:pt x="43" y="217"/>
                    </a:lnTo>
                    <a:lnTo>
                      <a:pt x="53" y="217"/>
                    </a:lnTo>
                    <a:lnTo>
                      <a:pt x="62" y="217"/>
                    </a:lnTo>
                    <a:lnTo>
                      <a:pt x="71" y="217"/>
                    </a:lnTo>
                    <a:lnTo>
                      <a:pt x="86" y="211"/>
                    </a:lnTo>
                    <a:lnTo>
                      <a:pt x="97" y="194"/>
                    </a:lnTo>
                    <a:lnTo>
                      <a:pt x="103" y="174"/>
                    </a:lnTo>
                    <a:lnTo>
                      <a:pt x="107" y="155"/>
                    </a:lnTo>
                    <a:lnTo>
                      <a:pt x="107" y="132"/>
                    </a:lnTo>
                    <a:lnTo>
                      <a:pt x="110" y="99"/>
                    </a:lnTo>
                    <a:lnTo>
                      <a:pt x="111" y="70"/>
                    </a:lnTo>
                    <a:lnTo>
                      <a:pt x="111" y="58"/>
                    </a:lnTo>
                    <a:lnTo>
                      <a:pt x="110" y="54"/>
                    </a:lnTo>
                    <a:lnTo>
                      <a:pt x="106" y="44"/>
                    </a:lnTo>
                    <a:lnTo>
                      <a:pt x="100" y="29"/>
                    </a:lnTo>
                    <a:lnTo>
                      <a:pt x="91" y="15"/>
                    </a:lnTo>
                    <a:lnTo>
                      <a:pt x="79" y="4"/>
                    </a:lnTo>
                    <a:lnTo>
                      <a:pt x="64" y="0"/>
                    </a:lnTo>
                    <a:lnTo>
                      <a:pt x="47" y="5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Freeform 178"/>
              <p:cNvSpPr/>
              <p:nvPr/>
            </p:nvSpPr>
            <p:spPr>
              <a:xfrm>
                <a:off x="4020480" y="2950200"/>
                <a:ext cx="67680" cy="77760"/>
              </a:xfrm>
              <a:custGeom>
                <a:avLst/>
                <a:gdLst/>
                <a:ahLst/>
                <a:rect l="l" t="t" r="r" b="b"/>
                <a:pathLst>
                  <a:path w="99" h="198">
                    <a:moveTo>
                      <a:pt x="26" y="21"/>
                    </a:moveTo>
                    <a:lnTo>
                      <a:pt x="20" y="30"/>
                    </a:lnTo>
                    <a:lnTo>
                      <a:pt x="14" y="45"/>
                    </a:lnTo>
                    <a:lnTo>
                      <a:pt x="7" y="65"/>
                    </a:lnTo>
                    <a:lnTo>
                      <a:pt x="2" y="88"/>
                    </a:lnTo>
                    <a:lnTo>
                      <a:pt x="0" y="112"/>
                    </a:lnTo>
                    <a:lnTo>
                      <a:pt x="0" y="136"/>
                    </a:lnTo>
                    <a:lnTo>
                      <a:pt x="4" y="158"/>
                    </a:lnTo>
                    <a:lnTo>
                      <a:pt x="12" y="177"/>
                    </a:lnTo>
                    <a:lnTo>
                      <a:pt x="24" y="190"/>
                    </a:lnTo>
                    <a:lnTo>
                      <a:pt x="36" y="196"/>
                    </a:lnTo>
                    <a:lnTo>
                      <a:pt x="49" y="198"/>
                    </a:lnTo>
                    <a:lnTo>
                      <a:pt x="62" y="195"/>
                    </a:lnTo>
                    <a:lnTo>
                      <a:pt x="74" y="190"/>
                    </a:lnTo>
                    <a:lnTo>
                      <a:pt x="83" y="183"/>
                    </a:lnTo>
                    <a:lnTo>
                      <a:pt x="91" y="175"/>
                    </a:lnTo>
                    <a:lnTo>
                      <a:pt x="96" y="169"/>
                    </a:lnTo>
                    <a:lnTo>
                      <a:pt x="99" y="138"/>
                    </a:lnTo>
                    <a:lnTo>
                      <a:pt x="98" y="90"/>
                    </a:lnTo>
                    <a:lnTo>
                      <a:pt x="94" y="40"/>
                    </a:lnTo>
                    <a:lnTo>
                      <a:pt x="85" y="12"/>
                    </a:lnTo>
                    <a:lnTo>
                      <a:pt x="80" y="7"/>
                    </a:lnTo>
                    <a:lnTo>
                      <a:pt x="75" y="4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57" y="2"/>
                    </a:lnTo>
                    <a:lnTo>
                      <a:pt x="48" y="5"/>
                    </a:lnTo>
                    <a:lnTo>
                      <a:pt x="38" y="12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Freeform 179"/>
              <p:cNvSpPr/>
              <p:nvPr/>
            </p:nvSpPr>
            <p:spPr>
              <a:xfrm>
                <a:off x="4227480" y="2521440"/>
                <a:ext cx="67680" cy="47160"/>
              </a:xfrm>
              <a:custGeom>
                <a:avLst/>
                <a:gdLst/>
                <a:ahLst/>
                <a:rect l="l" t="t" r="r" b="b"/>
                <a:pathLst>
                  <a:path w="100" h="132">
                    <a:moveTo>
                      <a:pt x="71" y="6"/>
                    </a:moveTo>
                    <a:lnTo>
                      <a:pt x="69" y="4"/>
                    </a:lnTo>
                    <a:lnTo>
                      <a:pt x="63" y="3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4" y="2"/>
                    </a:lnTo>
                    <a:lnTo>
                      <a:pt x="24" y="4"/>
                    </a:lnTo>
                    <a:lnTo>
                      <a:pt x="15" y="11"/>
                    </a:lnTo>
                    <a:lnTo>
                      <a:pt x="10" y="23"/>
                    </a:lnTo>
                    <a:lnTo>
                      <a:pt x="3" y="48"/>
                    </a:lnTo>
                    <a:lnTo>
                      <a:pt x="0" y="69"/>
                    </a:lnTo>
                    <a:lnTo>
                      <a:pt x="0" y="87"/>
                    </a:lnTo>
                    <a:lnTo>
                      <a:pt x="1" y="100"/>
                    </a:lnTo>
                    <a:lnTo>
                      <a:pt x="3" y="107"/>
                    </a:lnTo>
                    <a:lnTo>
                      <a:pt x="8" y="112"/>
                    </a:lnTo>
                    <a:lnTo>
                      <a:pt x="15" y="119"/>
                    </a:lnTo>
                    <a:lnTo>
                      <a:pt x="22" y="124"/>
                    </a:lnTo>
                    <a:lnTo>
                      <a:pt x="31" y="129"/>
                    </a:lnTo>
                    <a:lnTo>
                      <a:pt x="39" y="132"/>
                    </a:lnTo>
                    <a:lnTo>
                      <a:pt x="48" y="132"/>
                    </a:lnTo>
                    <a:lnTo>
                      <a:pt x="54" y="131"/>
                    </a:lnTo>
                    <a:lnTo>
                      <a:pt x="60" y="127"/>
                    </a:lnTo>
                    <a:lnTo>
                      <a:pt x="68" y="122"/>
                    </a:lnTo>
                    <a:lnTo>
                      <a:pt x="75" y="114"/>
                    </a:lnTo>
                    <a:lnTo>
                      <a:pt x="82" y="106"/>
                    </a:lnTo>
                    <a:lnTo>
                      <a:pt x="88" y="98"/>
                    </a:lnTo>
                    <a:lnTo>
                      <a:pt x="93" y="89"/>
                    </a:lnTo>
                    <a:lnTo>
                      <a:pt x="97" y="79"/>
                    </a:lnTo>
                    <a:lnTo>
                      <a:pt x="98" y="72"/>
                    </a:lnTo>
                    <a:lnTo>
                      <a:pt x="100" y="53"/>
                    </a:lnTo>
                    <a:lnTo>
                      <a:pt x="99" y="32"/>
                    </a:lnTo>
                    <a:lnTo>
                      <a:pt x="90" y="15"/>
                    </a:lnTo>
                    <a:lnTo>
                      <a:pt x="71" y="6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Freeform 180"/>
              <p:cNvSpPr/>
              <p:nvPr/>
            </p:nvSpPr>
            <p:spPr>
              <a:xfrm>
                <a:off x="4281480" y="2302560"/>
                <a:ext cx="117720" cy="42120"/>
              </a:xfrm>
              <a:custGeom>
                <a:avLst/>
                <a:gdLst/>
                <a:ahLst/>
                <a:rect l="l" t="t" r="r" b="b"/>
                <a:pathLst>
                  <a:path w="172" h="107">
                    <a:moveTo>
                      <a:pt x="0" y="0"/>
                    </a:moveTo>
                    <a:lnTo>
                      <a:pt x="5" y="2"/>
                    </a:lnTo>
                    <a:lnTo>
                      <a:pt x="19" y="8"/>
                    </a:lnTo>
                    <a:lnTo>
                      <a:pt x="39" y="17"/>
                    </a:lnTo>
                    <a:lnTo>
                      <a:pt x="65" y="29"/>
                    </a:lnTo>
                    <a:lnTo>
                      <a:pt x="93" y="45"/>
                    </a:lnTo>
                    <a:lnTo>
                      <a:pt x="122" y="63"/>
                    </a:lnTo>
                    <a:lnTo>
                      <a:pt x="148" y="83"/>
                    </a:lnTo>
                    <a:lnTo>
                      <a:pt x="172" y="107"/>
                    </a:lnTo>
                    <a:lnTo>
                      <a:pt x="171" y="104"/>
                    </a:lnTo>
                    <a:lnTo>
                      <a:pt x="165" y="95"/>
                    </a:lnTo>
                    <a:lnTo>
                      <a:pt x="153" y="82"/>
                    </a:lnTo>
                    <a:lnTo>
                      <a:pt x="137" y="66"/>
                    </a:lnTo>
                    <a:lnTo>
                      <a:pt x="114" y="49"/>
                    </a:lnTo>
                    <a:lnTo>
                      <a:pt x="84" y="32"/>
                    </a:lnTo>
                    <a:lnTo>
                      <a:pt x="4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4" name="TextBox 323"/>
            <p:cNvSpPr/>
            <p:nvPr/>
          </p:nvSpPr>
          <p:spPr>
            <a:xfrm>
              <a:off x="3255840" y="2309760"/>
              <a:ext cx="1217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宇航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组合 321"/>
          <p:cNvGrpSpPr/>
          <p:nvPr/>
        </p:nvGrpSpPr>
        <p:grpSpPr>
          <a:xfrm>
            <a:off x="900000" y="295200"/>
            <a:ext cx="2376360" cy="1027080"/>
            <a:chOff x="900000" y="295200"/>
            <a:chExt cx="2376360" cy="1027080"/>
          </a:xfrm>
        </p:grpSpPr>
        <p:grpSp>
          <p:nvGrpSpPr>
            <p:cNvPr id="276" name="Group 152"/>
            <p:cNvGrpSpPr/>
            <p:nvPr/>
          </p:nvGrpSpPr>
          <p:grpSpPr>
            <a:xfrm>
              <a:off x="900000" y="295200"/>
              <a:ext cx="2376360" cy="1027080"/>
              <a:chOff x="900000" y="295200"/>
              <a:chExt cx="2376360" cy="1027080"/>
            </a:xfrm>
          </p:grpSpPr>
          <p:sp>
            <p:nvSpPr>
              <p:cNvPr id="277" name="AutoShape 151"/>
              <p:cNvSpPr/>
              <p:nvPr/>
            </p:nvSpPr>
            <p:spPr>
              <a:xfrm>
                <a:off x="900000" y="295200"/>
                <a:ext cx="2376360" cy="10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Freeform 153"/>
              <p:cNvSpPr/>
              <p:nvPr/>
            </p:nvSpPr>
            <p:spPr>
              <a:xfrm>
                <a:off x="2249640" y="1316160"/>
                <a:ext cx="15120" cy="10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4"/>
                    </a:moveTo>
                    <a:lnTo>
                      <a:pt x="18" y="4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Freeform 154"/>
              <p:cNvSpPr/>
              <p:nvPr/>
            </p:nvSpPr>
            <p:spPr>
              <a:xfrm>
                <a:off x="1019880" y="295200"/>
                <a:ext cx="2225160" cy="1025640"/>
              </a:xfrm>
              <a:custGeom>
                <a:avLst/>
                <a:gdLst/>
                <a:ahLst/>
                <a:rect l="l" t="t" r="r" b="b"/>
                <a:pathLst>
                  <a:path w="2166" h="2610">
                    <a:moveTo>
                      <a:pt x="1719" y="348"/>
                    </a:moveTo>
                    <a:lnTo>
                      <a:pt x="1679" y="335"/>
                    </a:lnTo>
                    <a:lnTo>
                      <a:pt x="1643" y="323"/>
                    </a:lnTo>
                    <a:lnTo>
                      <a:pt x="1609" y="313"/>
                    </a:lnTo>
                    <a:lnTo>
                      <a:pt x="1576" y="306"/>
                    </a:lnTo>
                    <a:lnTo>
                      <a:pt x="1545" y="300"/>
                    </a:lnTo>
                    <a:lnTo>
                      <a:pt x="1514" y="296"/>
                    </a:lnTo>
                    <a:lnTo>
                      <a:pt x="1487" y="294"/>
                    </a:lnTo>
                    <a:lnTo>
                      <a:pt x="1460" y="292"/>
                    </a:lnTo>
                    <a:lnTo>
                      <a:pt x="1434" y="292"/>
                    </a:lnTo>
                    <a:lnTo>
                      <a:pt x="1409" y="292"/>
                    </a:lnTo>
                    <a:lnTo>
                      <a:pt x="1385" y="295"/>
                    </a:lnTo>
                    <a:lnTo>
                      <a:pt x="1362" y="298"/>
                    </a:lnTo>
                    <a:lnTo>
                      <a:pt x="1338" y="300"/>
                    </a:lnTo>
                    <a:lnTo>
                      <a:pt x="1317" y="304"/>
                    </a:lnTo>
                    <a:lnTo>
                      <a:pt x="1294" y="308"/>
                    </a:lnTo>
                    <a:lnTo>
                      <a:pt x="1273" y="312"/>
                    </a:lnTo>
                    <a:lnTo>
                      <a:pt x="1271" y="312"/>
                    </a:lnTo>
                    <a:lnTo>
                      <a:pt x="1269" y="312"/>
                    </a:lnTo>
                    <a:lnTo>
                      <a:pt x="1265" y="313"/>
                    </a:lnTo>
                    <a:lnTo>
                      <a:pt x="1260" y="313"/>
                    </a:lnTo>
                    <a:lnTo>
                      <a:pt x="1254" y="277"/>
                    </a:lnTo>
                    <a:lnTo>
                      <a:pt x="1246" y="237"/>
                    </a:lnTo>
                    <a:lnTo>
                      <a:pt x="1239" y="194"/>
                    </a:lnTo>
                    <a:lnTo>
                      <a:pt x="1232" y="153"/>
                    </a:lnTo>
                    <a:lnTo>
                      <a:pt x="1225" y="116"/>
                    </a:lnTo>
                    <a:lnTo>
                      <a:pt x="1220" y="87"/>
                    </a:lnTo>
                    <a:lnTo>
                      <a:pt x="1216" y="67"/>
                    </a:lnTo>
                    <a:lnTo>
                      <a:pt x="1215" y="59"/>
                    </a:lnTo>
                    <a:lnTo>
                      <a:pt x="1162" y="40"/>
                    </a:lnTo>
                    <a:lnTo>
                      <a:pt x="1106" y="9"/>
                    </a:lnTo>
                    <a:lnTo>
                      <a:pt x="1095" y="7"/>
                    </a:lnTo>
                    <a:lnTo>
                      <a:pt x="1090" y="5"/>
                    </a:lnTo>
                    <a:lnTo>
                      <a:pt x="1085" y="4"/>
                    </a:lnTo>
                    <a:lnTo>
                      <a:pt x="1080" y="3"/>
                    </a:lnTo>
                    <a:lnTo>
                      <a:pt x="1075" y="1"/>
                    </a:lnTo>
                    <a:lnTo>
                      <a:pt x="1068" y="1"/>
                    </a:lnTo>
                    <a:lnTo>
                      <a:pt x="1063" y="0"/>
                    </a:lnTo>
                    <a:lnTo>
                      <a:pt x="1058" y="0"/>
                    </a:lnTo>
                    <a:lnTo>
                      <a:pt x="1053" y="0"/>
                    </a:lnTo>
                    <a:lnTo>
                      <a:pt x="1048" y="0"/>
                    </a:lnTo>
                    <a:lnTo>
                      <a:pt x="1043" y="0"/>
                    </a:lnTo>
                    <a:lnTo>
                      <a:pt x="1038" y="1"/>
                    </a:lnTo>
                    <a:lnTo>
                      <a:pt x="1034" y="1"/>
                    </a:lnTo>
                    <a:lnTo>
                      <a:pt x="1029" y="3"/>
                    </a:lnTo>
                    <a:lnTo>
                      <a:pt x="1024" y="4"/>
                    </a:lnTo>
                    <a:lnTo>
                      <a:pt x="1019" y="5"/>
                    </a:lnTo>
                    <a:lnTo>
                      <a:pt x="1014" y="7"/>
                    </a:lnTo>
                    <a:lnTo>
                      <a:pt x="994" y="14"/>
                    </a:lnTo>
                    <a:lnTo>
                      <a:pt x="974" y="26"/>
                    </a:lnTo>
                    <a:lnTo>
                      <a:pt x="955" y="42"/>
                    </a:lnTo>
                    <a:lnTo>
                      <a:pt x="939" y="61"/>
                    </a:lnTo>
                    <a:lnTo>
                      <a:pt x="924" y="82"/>
                    </a:lnTo>
                    <a:lnTo>
                      <a:pt x="911" y="107"/>
                    </a:lnTo>
                    <a:lnTo>
                      <a:pt x="900" y="133"/>
                    </a:lnTo>
                    <a:lnTo>
                      <a:pt x="891" y="163"/>
                    </a:lnTo>
                    <a:lnTo>
                      <a:pt x="877" y="228"/>
                    </a:lnTo>
                    <a:lnTo>
                      <a:pt x="878" y="230"/>
                    </a:lnTo>
                    <a:lnTo>
                      <a:pt x="883" y="236"/>
                    </a:lnTo>
                    <a:lnTo>
                      <a:pt x="888" y="244"/>
                    </a:lnTo>
                    <a:lnTo>
                      <a:pt x="896" y="253"/>
                    </a:lnTo>
                    <a:lnTo>
                      <a:pt x="872" y="248"/>
                    </a:lnTo>
                    <a:lnTo>
                      <a:pt x="848" y="242"/>
                    </a:lnTo>
                    <a:lnTo>
                      <a:pt x="823" y="237"/>
                    </a:lnTo>
                    <a:lnTo>
                      <a:pt x="796" y="233"/>
                    </a:lnTo>
                    <a:lnTo>
                      <a:pt x="770" y="230"/>
                    </a:lnTo>
                    <a:lnTo>
                      <a:pt x="743" y="229"/>
                    </a:lnTo>
                    <a:lnTo>
                      <a:pt x="716" y="228"/>
                    </a:lnTo>
                    <a:lnTo>
                      <a:pt x="688" y="228"/>
                    </a:lnTo>
                    <a:lnTo>
                      <a:pt x="660" y="229"/>
                    </a:lnTo>
                    <a:lnTo>
                      <a:pt x="633" y="230"/>
                    </a:lnTo>
                    <a:lnTo>
                      <a:pt x="604" y="234"/>
                    </a:lnTo>
                    <a:lnTo>
                      <a:pt x="575" y="240"/>
                    </a:lnTo>
                    <a:lnTo>
                      <a:pt x="547" y="245"/>
                    </a:lnTo>
                    <a:lnTo>
                      <a:pt x="518" y="253"/>
                    </a:lnTo>
                    <a:lnTo>
                      <a:pt x="489" y="262"/>
                    </a:lnTo>
                    <a:lnTo>
                      <a:pt x="461" y="271"/>
                    </a:lnTo>
                    <a:lnTo>
                      <a:pt x="432" y="283"/>
                    </a:lnTo>
                    <a:lnTo>
                      <a:pt x="405" y="298"/>
                    </a:lnTo>
                    <a:lnTo>
                      <a:pt x="377" y="312"/>
                    </a:lnTo>
                    <a:lnTo>
                      <a:pt x="350" y="329"/>
                    </a:lnTo>
                    <a:lnTo>
                      <a:pt x="324" y="349"/>
                    </a:lnTo>
                    <a:lnTo>
                      <a:pt x="297" y="369"/>
                    </a:lnTo>
                    <a:lnTo>
                      <a:pt x="271" y="391"/>
                    </a:lnTo>
                    <a:lnTo>
                      <a:pt x="246" y="416"/>
                    </a:lnTo>
                    <a:lnTo>
                      <a:pt x="222" y="443"/>
                    </a:lnTo>
                    <a:lnTo>
                      <a:pt x="198" y="471"/>
                    </a:lnTo>
                    <a:lnTo>
                      <a:pt x="175" y="503"/>
                    </a:lnTo>
                    <a:lnTo>
                      <a:pt x="154" y="536"/>
                    </a:lnTo>
                    <a:lnTo>
                      <a:pt x="134" y="572"/>
                    </a:lnTo>
                    <a:lnTo>
                      <a:pt x="114" y="610"/>
                    </a:lnTo>
                    <a:lnTo>
                      <a:pt x="95" y="649"/>
                    </a:lnTo>
                    <a:lnTo>
                      <a:pt x="77" y="693"/>
                    </a:lnTo>
                    <a:lnTo>
                      <a:pt x="73" y="701"/>
                    </a:lnTo>
                    <a:lnTo>
                      <a:pt x="67" y="718"/>
                    </a:lnTo>
                    <a:lnTo>
                      <a:pt x="58" y="744"/>
                    </a:lnTo>
                    <a:lnTo>
                      <a:pt x="48" y="778"/>
                    </a:lnTo>
                    <a:lnTo>
                      <a:pt x="37" y="822"/>
                    </a:lnTo>
                    <a:lnTo>
                      <a:pt x="25" y="872"/>
                    </a:lnTo>
                    <a:lnTo>
                      <a:pt x="15" y="931"/>
                    </a:lnTo>
                    <a:lnTo>
                      <a:pt x="6" y="996"/>
                    </a:lnTo>
                    <a:lnTo>
                      <a:pt x="1" y="1068"/>
                    </a:lnTo>
                    <a:lnTo>
                      <a:pt x="0" y="1146"/>
                    </a:lnTo>
                    <a:lnTo>
                      <a:pt x="3" y="1230"/>
                    </a:lnTo>
                    <a:lnTo>
                      <a:pt x="10" y="1320"/>
                    </a:lnTo>
                    <a:lnTo>
                      <a:pt x="25" y="1413"/>
                    </a:lnTo>
                    <a:lnTo>
                      <a:pt x="47" y="1512"/>
                    </a:lnTo>
                    <a:lnTo>
                      <a:pt x="77" y="1615"/>
                    </a:lnTo>
                    <a:lnTo>
                      <a:pt x="116" y="1721"/>
                    </a:lnTo>
                    <a:lnTo>
                      <a:pt x="149" y="1798"/>
                    </a:lnTo>
                    <a:lnTo>
                      <a:pt x="183" y="1873"/>
                    </a:lnTo>
                    <a:lnTo>
                      <a:pt x="219" y="1944"/>
                    </a:lnTo>
                    <a:lnTo>
                      <a:pt x="258" y="2014"/>
                    </a:lnTo>
                    <a:lnTo>
                      <a:pt x="296" y="2081"/>
                    </a:lnTo>
                    <a:lnTo>
                      <a:pt x="335" y="2144"/>
                    </a:lnTo>
                    <a:lnTo>
                      <a:pt x="373" y="2203"/>
                    </a:lnTo>
                    <a:lnTo>
                      <a:pt x="410" y="2259"/>
                    </a:lnTo>
                    <a:lnTo>
                      <a:pt x="445" y="2310"/>
                    </a:lnTo>
                    <a:lnTo>
                      <a:pt x="478" y="2355"/>
                    </a:lnTo>
                    <a:lnTo>
                      <a:pt x="507" y="2396"/>
                    </a:lnTo>
                    <a:lnTo>
                      <a:pt x="533" y="2430"/>
                    </a:lnTo>
                    <a:lnTo>
                      <a:pt x="554" y="2458"/>
                    </a:lnTo>
                    <a:lnTo>
                      <a:pt x="572" y="2479"/>
                    </a:lnTo>
                    <a:lnTo>
                      <a:pt x="583" y="2493"/>
                    </a:lnTo>
                    <a:lnTo>
                      <a:pt x="588" y="2500"/>
                    </a:lnTo>
                    <a:lnTo>
                      <a:pt x="594" y="2505"/>
                    </a:lnTo>
                    <a:lnTo>
                      <a:pt x="600" y="2510"/>
                    </a:lnTo>
                    <a:lnTo>
                      <a:pt x="616" y="2523"/>
                    </a:lnTo>
                    <a:lnTo>
                      <a:pt x="635" y="2537"/>
                    </a:lnTo>
                    <a:lnTo>
                      <a:pt x="657" y="2550"/>
                    </a:lnTo>
                    <a:lnTo>
                      <a:pt x="679" y="2563"/>
                    </a:lnTo>
                    <a:lnTo>
                      <a:pt x="704" y="2575"/>
                    </a:lnTo>
                    <a:lnTo>
                      <a:pt x="731" y="2585"/>
                    </a:lnTo>
                    <a:lnTo>
                      <a:pt x="760" y="2593"/>
                    </a:lnTo>
                    <a:lnTo>
                      <a:pt x="789" y="2600"/>
                    </a:lnTo>
                    <a:lnTo>
                      <a:pt x="806" y="2602"/>
                    </a:lnTo>
                    <a:lnTo>
                      <a:pt x="825" y="2605"/>
                    </a:lnTo>
                    <a:lnTo>
                      <a:pt x="843" y="2605"/>
                    </a:lnTo>
                    <a:lnTo>
                      <a:pt x="862" y="2605"/>
                    </a:lnTo>
                    <a:lnTo>
                      <a:pt x="881" y="2602"/>
                    </a:lnTo>
                    <a:lnTo>
                      <a:pt x="900" y="2600"/>
                    </a:lnTo>
                    <a:lnTo>
                      <a:pt x="919" y="2595"/>
                    </a:lnTo>
                    <a:lnTo>
                      <a:pt x="937" y="2588"/>
                    </a:lnTo>
                    <a:lnTo>
                      <a:pt x="954" y="2580"/>
                    </a:lnTo>
                    <a:lnTo>
                      <a:pt x="912" y="2589"/>
                    </a:lnTo>
                    <a:lnTo>
                      <a:pt x="999" y="2570"/>
                    </a:lnTo>
                    <a:lnTo>
                      <a:pt x="1008" y="2567"/>
                    </a:lnTo>
                    <a:lnTo>
                      <a:pt x="1017" y="2564"/>
                    </a:lnTo>
                    <a:lnTo>
                      <a:pt x="1024" y="2562"/>
                    </a:lnTo>
                    <a:lnTo>
                      <a:pt x="1033" y="2560"/>
                    </a:lnTo>
                    <a:lnTo>
                      <a:pt x="1042" y="2559"/>
                    </a:lnTo>
                    <a:lnTo>
                      <a:pt x="1051" y="2558"/>
                    </a:lnTo>
                    <a:lnTo>
                      <a:pt x="1061" y="2558"/>
                    </a:lnTo>
                    <a:lnTo>
                      <a:pt x="1070" y="2559"/>
                    </a:lnTo>
                    <a:lnTo>
                      <a:pt x="1075" y="2560"/>
                    </a:lnTo>
                    <a:lnTo>
                      <a:pt x="1087" y="2564"/>
                    </a:lnTo>
                    <a:lnTo>
                      <a:pt x="1100" y="2568"/>
                    </a:lnTo>
                    <a:lnTo>
                      <a:pt x="1105" y="2570"/>
                    </a:lnTo>
                    <a:lnTo>
                      <a:pt x="1096" y="2563"/>
                    </a:lnTo>
                    <a:lnTo>
                      <a:pt x="1106" y="2570"/>
                    </a:lnTo>
                    <a:lnTo>
                      <a:pt x="1119" y="2576"/>
                    </a:lnTo>
                    <a:lnTo>
                      <a:pt x="1131" y="2581"/>
                    </a:lnTo>
                    <a:lnTo>
                      <a:pt x="1145" y="2587"/>
                    </a:lnTo>
                    <a:lnTo>
                      <a:pt x="1160" y="2591"/>
                    </a:lnTo>
                    <a:lnTo>
                      <a:pt x="1176" y="2595"/>
                    </a:lnTo>
                    <a:lnTo>
                      <a:pt x="1193" y="2597"/>
                    </a:lnTo>
                    <a:lnTo>
                      <a:pt x="1211" y="2600"/>
                    </a:lnTo>
                    <a:lnTo>
                      <a:pt x="1231" y="2604"/>
                    </a:lnTo>
                    <a:lnTo>
                      <a:pt x="1250" y="2608"/>
                    </a:lnTo>
                    <a:lnTo>
                      <a:pt x="1268" y="2609"/>
                    </a:lnTo>
                    <a:lnTo>
                      <a:pt x="1286" y="2610"/>
                    </a:lnTo>
                    <a:lnTo>
                      <a:pt x="1303" y="2610"/>
                    </a:lnTo>
                    <a:lnTo>
                      <a:pt x="1319" y="2610"/>
                    </a:lnTo>
                    <a:lnTo>
                      <a:pt x="1336" y="2609"/>
                    </a:lnTo>
                    <a:lnTo>
                      <a:pt x="1351" y="2608"/>
                    </a:lnTo>
                    <a:lnTo>
                      <a:pt x="1372" y="2604"/>
                    </a:lnTo>
                    <a:lnTo>
                      <a:pt x="1391" y="2600"/>
                    </a:lnTo>
                    <a:lnTo>
                      <a:pt x="1409" y="2596"/>
                    </a:lnTo>
                    <a:lnTo>
                      <a:pt x="1422" y="2591"/>
                    </a:lnTo>
                    <a:lnTo>
                      <a:pt x="1435" y="2585"/>
                    </a:lnTo>
                    <a:lnTo>
                      <a:pt x="1445" y="2581"/>
                    </a:lnTo>
                    <a:lnTo>
                      <a:pt x="1453" y="2579"/>
                    </a:lnTo>
                    <a:lnTo>
                      <a:pt x="1456" y="2576"/>
                    </a:lnTo>
                    <a:lnTo>
                      <a:pt x="1519" y="2530"/>
                    </a:lnTo>
                    <a:lnTo>
                      <a:pt x="1581" y="2476"/>
                    </a:lnTo>
                    <a:lnTo>
                      <a:pt x="1642" y="2415"/>
                    </a:lnTo>
                    <a:lnTo>
                      <a:pt x="1701" y="2350"/>
                    </a:lnTo>
                    <a:lnTo>
                      <a:pt x="1759" y="2278"/>
                    </a:lnTo>
                    <a:lnTo>
                      <a:pt x="1813" y="2203"/>
                    </a:lnTo>
                    <a:lnTo>
                      <a:pt x="1866" y="2124"/>
                    </a:lnTo>
                    <a:lnTo>
                      <a:pt x="1915" y="2040"/>
                    </a:lnTo>
                    <a:lnTo>
                      <a:pt x="1962" y="1954"/>
                    </a:lnTo>
                    <a:lnTo>
                      <a:pt x="2005" y="1868"/>
                    </a:lnTo>
                    <a:lnTo>
                      <a:pt x="2042" y="1778"/>
                    </a:lnTo>
                    <a:lnTo>
                      <a:pt x="2076" y="1688"/>
                    </a:lnTo>
                    <a:lnTo>
                      <a:pt x="2105" y="1598"/>
                    </a:lnTo>
                    <a:lnTo>
                      <a:pt x="2128" y="1508"/>
                    </a:lnTo>
                    <a:lnTo>
                      <a:pt x="2147" y="1418"/>
                    </a:lnTo>
                    <a:lnTo>
                      <a:pt x="2158" y="1332"/>
                    </a:lnTo>
                    <a:lnTo>
                      <a:pt x="2163" y="1262"/>
                    </a:lnTo>
                    <a:lnTo>
                      <a:pt x="2166" y="1189"/>
                    </a:lnTo>
                    <a:lnTo>
                      <a:pt x="2165" y="1117"/>
                    </a:lnTo>
                    <a:lnTo>
                      <a:pt x="2159" y="1043"/>
                    </a:lnTo>
                    <a:lnTo>
                      <a:pt x="2151" y="969"/>
                    </a:lnTo>
                    <a:lnTo>
                      <a:pt x="2138" y="897"/>
                    </a:lnTo>
                    <a:lnTo>
                      <a:pt x="2120" y="826"/>
                    </a:lnTo>
                    <a:lnTo>
                      <a:pt x="2098" y="756"/>
                    </a:lnTo>
                    <a:lnTo>
                      <a:pt x="2070" y="689"/>
                    </a:lnTo>
                    <a:lnTo>
                      <a:pt x="2037" y="626"/>
                    </a:lnTo>
                    <a:lnTo>
                      <a:pt x="1999" y="566"/>
                    </a:lnTo>
                    <a:lnTo>
                      <a:pt x="1955" y="511"/>
                    </a:lnTo>
                    <a:lnTo>
                      <a:pt x="1906" y="461"/>
                    </a:lnTo>
                    <a:lnTo>
                      <a:pt x="1850" y="416"/>
                    </a:lnTo>
                    <a:lnTo>
                      <a:pt x="1788" y="379"/>
                    </a:lnTo>
                    <a:lnTo>
                      <a:pt x="1719" y="3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Freeform 155"/>
              <p:cNvSpPr/>
              <p:nvPr/>
            </p:nvSpPr>
            <p:spPr>
              <a:xfrm>
                <a:off x="1134000" y="434160"/>
                <a:ext cx="2006640" cy="853560"/>
              </a:xfrm>
              <a:custGeom>
                <a:avLst/>
                <a:gdLst/>
                <a:ahLst/>
                <a:rect l="l" t="t" r="r" b="b"/>
                <a:pathLst>
                  <a:path w="1953" h="2172">
                    <a:moveTo>
                      <a:pt x="102" y="1337"/>
                    </a:moveTo>
                    <a:lnTo>
                      <a:pt x="67" y="1237"/>
                    </a:lnTo>
                    <a:lnTo>
                      <a:pt x="41" y="1141"/>
                    </a:lnTo>
                    <a:lnTo>
                      <a:pt x="20" y="1049"/>
                    </a:lnTo>
                    <a:lnTo>
                      <a:pt x="8" y="962"/>
                    </a:lnTo>
                    <a:lnTo>
                      <a:pt x="2" y="879"/>
                    </a:lnTo>
                    <a:lnTo>
                      <a:pt x="0" y="801"/>
                    </a:lnTo>
                    <a:lnTo>
                      <a:pt x="2" y="730"/>
                    </a:lnTo>
                    <a:lnTo>
                      <a:pt x="8" y="663"/>
                    </a:lnTo>
                    <a:lnTo>
                      <a:pt x="15" y="603"/>
                    </a:lnTo>
                    <a:lnTo>
                      <a:pt x="25" y="551"/>
                    </a:lnTo>
                    <a:lnTo>
                      <a:pt x="37" y="505"/>
                    </a:lnTo>
                    <a:lnTo>
                      <a:pt x="47" y="467"/>
                    </a:lnTo>
                    <a:lnTo>
                      <a:pt x="57" y="436"/>
                    </a:lnTo>
                    <a:lnTo>
                      <a:pt x="65" y="414"/>
                    </a:lnTo>
                    <a:lnTo>
                      <a:pt x="70" y="401"/>
                    </a:lnTo>
                    <a:lnTo>
                      <a:pt x="72" y="395"/>
                    </a:lnTo>
                    <a:lnTo>
                      <a:pt x="120" y="293"/>
                    </a:lnTo>
                    <a:lnTo>
                      <a:pt x="174" y="210"/>
                    </a:lnTo>
                    <a:lnTo>
                      <a:pt x="233" y="143"/>
                    </a:lnTo>
                    <a:lnTo>
                      <a:pt x="295" y="90"/>
                    </a:lnTo>
                    <a:lnTo>
                      <a:pt x="359" y="52"/>
                    </a:lnTo>
                    <a:lnTo>
                      <a:pt x="426" y="25"/>
                    </a:lnTo>
                    <a:lnTo>
                      <a:pt x="492" y="10"/>
                    </a:lnTo>
                    <a:lnTo>
                      <a:pt x="556" y="2"/>
                    </a:lnTo>
                    <a:lnTo>
                      <a:pt x="616" y="0"/>
                    </a:lnTo>
                    <a:lnTo>
                      <a:pt x="674" y="6"/>
                    </a:lnTo>
                    <a:lnTo>
                      <a:pt x="726" y="13"/>
                    </a:lnTo>
                    <a:lnTo>
                      <a:pt x="771" y="24"/>
                    </a:lnTo>
                    <a:lnTo>
                      <a:pt x="808" y="36"/>
                    </a:lnTo>
                    <a:lnTo>
                      <a:pt x="837" y="45"/>
                    </a:lnTo>
                    <a:lnTo>
                      <a:pt x="854" y="53"/>
                    </a:lnTo>
                    <a:lnTo>
                      <a:pt x="861" y="56"/>
                    </a:lnTo>
                    <a:lnTo>
                      <a:pt x="881" y="60"/>
                    </a:lnTo>
                    <a:lnTo>
                      <a:pt x="901" y="62"/>
                    </a:lnTo>
                    <a:lnTo>
                      <a:pt x="920" y="66"/>
                    </a:lnTo>
                    <a:lnTo>
                      <a:pt x="938" y="70"/>
                    </a:lnTo>
                    <a:lnTo>
                      <a:pt x="956" y="74"/>
                    </a:lnTo>
                    <a:lnTo>
                      <a:pt x="974" y="78"/>
                    </a:lnTo>
                    <a:lnTo>
                      <a:pt x="990" y="81"/>
                    </a:lnTo>
                    <a:lnTo>
                      <a:pt x="1008" y="83"/>
                    </a:lnTo>
                    <a:lnTo>
                      <a:pt x="1026" y="86"/>
                    </a:lnTo>
                    <a:lnTo>
                      <a:pt x="1042" y="89"/>
                    </a:lnTo>
                    <a:lnTo>
                      <a:pt x="1060" y="90"/>
                    </a:lnTo>
                    <a:lnTo>
                      <a:pt x="1079" y="91"/>
                    </a:lnTo>
                    <a:lnTo>
                      <a:pt x="1098" y="91"/>
                    </a:lnTo>
                    <a:lnTo>
                      <a:pt x="1116" y="90"/>
                    </a:lnTo>
                    <a:lnTo>
                      <a:pt x="1137" y="87"/>
                    </a:lnTo>
                    <a:lnTo>
                      <a:pt x="1158" y="85"/>
                    </a:lnTo>
                    <a:lnTo>
                      <a:pt x="1179" y="81"/>
                    </a:lnTo>
                    <a:lnTo>
                      <a:pt x="1201" y="77"/>
                    </a:lnTo>
                    <a:lnTo>
                      <a:pt x="1222" y="73"/>
                    </a:lnTo>
                    <a:lnTo>
                      <a:pt x="1242" y="69"/>
                    </a:lnTo>
                    <a:lnTo>
                      <a:pt x="1265" y="66"/>
                    </a:lnTo>
                    <a:lnTo>
                      <a:pt x="1287" y="64"/>
                    </a:lnTo>
                    <a:lnTo>
                      <a:pt x="1309" y="62"/>
                    </a:lnTo>
                    <a:lnTo>
                      <a:pt x="1333" y="61"/>
                    </a:lnTo>
                    <a:lnTo>
                      <a:pt x="1357" y="62"/>
                    </a:lnTo>
                    <a:lnTo>
                      <a:pt x="1384" y="64"/>
                    </a:lnTo>
                    <a:lnTo>
                      <a:pt x="1410" y="67"/>
                    </a:lnTo>
                    <a:lnTo>
                      <a:pt x="1438" y="71"/>
                    </a:lnTo>
                    <a:lnTo>
                      <a:pt x="1468" y="78"/>
                    </a:lnTo>
                    <a:lnTo>
                      <a:pt x="1501" y="86"/>
                    </a:lnTo>
                    <a:lnTo>
                      <a:pt x="1533" y="96"/>
                    </a:lnTo>
                    <a:lnTo>
                      <a:pt x="1570" y="110"/>
                    </a:lnTo>
                    <a:lnTo>
                      <a:pt x="1630" y="137"/>
                    </a:lnTo>
                    <a:lnTo>
                      <a:pt x="1686" y="170"/>
                    </a:lnTo>
                    <a:lnTo>
                      <a:pt x="1734" y="210"/>
                    </a:lnTo>
                    <a:lnTo>
                      <a:pt x="1777" y="254"/>
                    </a:lnTo>
                    <a:lnTo>
                      <a:pt x="1814" y="305"/>
                    </a:lnTo>
                    <a:lnTo>
                      <a:pt x="1847" y="359"/>
                    </a:lnTo>
                    <a:lnTo>
                      <a:pt x="1875" y="415"/>
                    </a:lnTo>
                    <a:lnTo>
                      <a:pt x="1898" y="474"/>
                    </a:lnTo>
                    <a:lnTo>
                      <a:pt x="1915" y="536"/>
                    </a:lnTo>
                    <a:lnTo>
                      <a:pt x="1930" y="600"/>
                    </a:lnTo>
                    <a:lnTo>
                      <a:pt x="1940" y="663"/>
                    </a:lnTo>
                    <a:lnTo>
                      <a:pt x="1948" y="727"/>
                    </a:lnTo>
                    <a:lnTo>
                      <a:pt x="1952" y="792"/>
                    </a:lnTo>
                    <a:lnTo>
                      <a:pt x="1953" y="854"/>
                    </a:lnTo>
                    <a:lnTo>
                      <a:pt x="1950" y="914"/>
                    </a:lnTo>
                    <a:lnTo>
                      <a:pt x="1947" y="974"/>
                    </a:lnTo>
                    <a:lnTo>
                      <a:pt x="1937" y="1055"/>
                    </a:lnTo>
                    <a:lnTo>
                      <a:pt x="1920" y="1138"/>
                    </a:lnTo>
                    <a:lnTo>
                      <a:pt x="1899" y="1222"/>
                    </a:lnTo>
                    <a:lnTo>
                      <a:pt x="1872" y="1308"/>
                    </a:lnTo>
                    <a:lnTo>
                      <a:pt x="1841" y="1392"/>
                    </a:lnTo>
                    <a:lnTo>
                      <a:pt x="1806" y="1478"/>
                    </a:lnTo>
                    <a:lnTo>
                      <a:pt x="1767" y="1561"/>
                    </a:lnTo>
                    <a:lnTo>
                      <a:pt x="1724" y="1641"/>
                    </a:lnTo>
                    <a:lnTo>
                      <a:pt x="1677" y="1720"/>
                    </a:lnTo>
                    <a:lnTo>
                      <a:pt x="1629" y="1797"/>
                    </a:lnTo>
                    <a:lnTo>
                      <a:pt x="1578" y="1868"/>
                    </a:lnTo>
                    <a:lnTo>
                      <a:pt x="1525" y="1935"/>
                    </a:lnTo>
                    <a:lnTo>
                      <a:pt x="1470" y="1998"/>
                    </a:lnTo>
                    <a:lnTo>
                      <a:pt x="1414" y="2055"/>
                    </a:lnTo>
                    <a:lnTo>
                      <a:pt x="1357" y="2105"/>
                    </a:lnTo>
                    <a:lnTo>
                      <a:pt x="1299" y="2148"/>
                    </a:lnTo>
                    <a:lnTo>
                      <a:pt x="1298" y="2150"/>
                    </a:lnTo>
                    <a:lnTo>
                      <a:pt x="1294" y="2151"/>
                    </a:lnTo>
                    <a:lnTo>
                      <a:pt x="1289" y="2154"/>
                    </a:lnTo>
                    <a:lnTo>
                      <a:pt x="1280" y="2156"/>
                    </a:lnTo>
                    <a:lnTo>
                      <a:pt x="1270" y="2160"/>
                    </a:lnTo>
                    <a:lnTo>
                      <a:pt x="1259" y="2164"/>
                    </a:lnTo>
                    <a:lnTo>
                      <a:pt x="1245" y="2167"/>
                    </a:lnTo>
                    <a:lnTo>
                      <a:pt x="1230" y="2169"/>
                    </a:lnTo>
                    <a:lnTo>
                      <a:pt x="1216" y="2171"/>
                    </a:lnTo>
                    <a:lnTo>
                      <a:pt x="1201" y="2172"/>
                    </a:lnTo>
                    <a:lnTo>
                      <a:pt x="1186" y="2172"/>
                    </a:lnTo>
                    <a:lnTo>
                      <a:pt x="1169" y="2172"/>
                    </a:lnTo>
                    <a:lnTo>
                      <a:pt x="1152" y="2169"/>
                    </a:lnTo>
                    <a:lnTo>
                      <a:pt x="1134" y="2167"/>
                    </a:lnTo>
                    <a:lnTo>
                      <a:pt x="1115" y="2162"/>
                    </a:lnTo>
                    <a:lnTo>
                      <a:pt x="1095" y="2155"/>
                    </a:lnTo>
                    <a:lnTo>
                      <a:pt x="1057" y="2140"/>
                    </a:lnTo>
                    <a:lnTo>
                      <a:pt x="1028" y="2131"/>
                    </a:lnTo>
                    <a:lnTo>
                      <a:pt x="1008" y="2125"/>
                    </a:lnTo>
                    <a:lnTo>
                      <a:pt x="994" y="2121"/>
                    </a:lnTo>
                    <a:lnTo>
                      <a:pt x="984" y="2119"/>
                    </a:lnTo>
                    <a:lnTo>
                      <a:pt x="977" y="2118"/>
                    </a:lnTo>
                    <a:lnTo>
                      <a:pt x="970" y="2118"/>
                    </a:lnTo>
                    <a:lnTo>
                      <a:pt x="963" y="2117"/>
                    </a:lnTo>
                    <a:lnTo>
                      <a:pt x="936" y="2114"/>
                    </a:lnTo>
                    <a:lnTo>
                      <a:pt x="910" y="2114"/>
                    </a:lnTo>
                    <a:lnTo>
                      <a:pt x="885" y="2118"/>
                    </a:lnTo>
                    <a:lnTo>
                      <a:pt x="861" y="2125"/>
                    </a:lnTo>
                    <a:lnTo>
                      <a:pt x="838" y="2133"/>
                    </a:lnTo>
                    <a:lnTo>
                      <a:pt x="818" y="2139"/>
                    </a:lnTo>
                    <a:lnTo>
                      <a:pt x="802" y="2147"/>
                    </a:lnTo>
                    <a:lnTo>
                      <a:pt x="788" y="2152"/>
                    </a:lnTo>
                    <a:lnTo>
                      <a:pt x="766" y="2159"/>
                    </a:lnTo>
                    <a:lnTo>
                      <a:pt x="745" y="2162"/>
                    </a:lnTo>
                    <a:lnTo>
                      <a:pt x="725" y="2163"/>
                    </a:lnTo>
                    <a:lnTo>
                      <a:pt x="703" y="2162"/>
                    </a:lnTo>
                    <a:lnTo>
                      <a:pt x="683" y="2158"/>
                    </a:lnTo>
                    <a:lnTo>
                      <a:pt x="664" y="2152"/>
                    </a:lnTo>
                    <a:lnTo>
                      <a:pt x="645" y="2146"/>
                    </a:lnTo>
                    <a:lnTo>
                      <a:pt x="629" y="2138"/>
                    </a:lnTo>
                    <a:lnTo>
                      <a:pt x="613" y="2130"/>
                    </a:lnTo>
                    <a:lnTo>
                      <a:pt x="597" y="2122"/>
                    </a:lnTo>
                    <a:lnTo>
                      <a:pt x="585" y="2114"/>
                    </a:lnTo>
                    <a:lnTo>
                      <a:pt x="575" y="2108"/>
                    </a:lnTo>
                    <a:lnTo>
                      <a:pt x="566" y="2101"/>
                    </a:lnTo>
                    <a:lnTo>
                      <a:pt x="558" y="2096"/>
                    </a:lnTo>
                    <a:lnTo>
                      <a:pt x="555" y="2093"/>
                    </a:lnTo>
                    <a:lnTo>
                      <a:pt x="553" y="2092"/>
                    </a:lnTo>
                    <a:lnTo>
                      <a:pt x="550" y="2088"/>
                    </a:lnTo>
                    <a:lnTo>
                      <a:pt x="541" y="2076"/>
                    </a:lnTo>
                    <a:lnTo>
                      <a:pt x="526" y="2056"/>
                    </a:lnTo>
                    <a:lnTo>
                      <a:pt x="505" y="2030"/>
                    </a:lnTo>
                    <a:lnTo>
                      <a:pt x="480" y="1998"/>
                    </a:lnTo>
                    <a:lnTo>
                      <a:pt x="453" y="1959"/>
                    </a:lnTo>
                    <a:lnTo>
                      <a:pt x="421" y="1914"/>
                    </a:lnTo>
                    <a:lnTo>
                      <a:pt x="387" y="1865"/>
                    </a:lnTo>
                    <a:lnTo>
                      <a:pt x="352" y="1811"/>
                    </a:lnTo>
                    <a:lnTo>
                      <a:pt x="314" y="1752"/>
                    </a:lnTo>
                    <a:lnTo>
                      <a:pt x="276" y="1690"/>
                    </a:lnTo>
                    <a:lnTo>
                      <a:pt x="240" y="1624"/>
                    </a:lnTo>
                    <a:lnTo>
                      <a:pt x="202" y="1556"/>
                    </a:lnTo>
                    <a:lnTo>
                      <a:pt x="167" y="1485"/>
                    </a:lnTo>
                    <a:lnTo>
                      <a:pt x="134" y="1412"/>
                    </a:lnTo>
                    <a:lnTo>
                      <a:pt x="102" y="1337"/>
                    </a:lnTo>
                    <a:close/>
                  </a:path>
                </a:pathLst>
              </a:custGeom>
              <a:solidFill>
                <a:srgbClr val="ff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Freeform 156"/>
              <p:cNvSpPr/>
              <p:nvPr/>
            </p:nvSpPr>
            <p:spPr>
              <a:xfrm>
                <a:off x="1842840" y="541440"/>
                <a:ext cx="1183680" cy="693360"/>
              </a:xfrm>
              <a:custGeom>
                <a:avLst/>
                <a:gdLst/>
                <a:ahLst/>
                <a:rect l="l" t="t" r="r" b="b"/>
                <a:pathLst>
                  <a:path w="1154" h="1765">
                    <a:moveTo>
                      <a:pt x="949" y="59"/>
                    </a:moveTo>
                    <a:lnTo>
                      <a:pt x="944" y="55"/>
                    </a:lnTo>
                    <a:lnTo>
                      <a:pt x="930" y="46"/>
                    </a:lnTo>
                    <a:lnTo>
                      <a:pt x="910" y="34"/>
                    </a:lnTo>
                    <a:lnTo>
                      <a:pt x="883" y="21"/>
                    </a:lnTo>
                    <a:lnTo>
                      <a:pt x="853" y="9"/>
                    </a:lnTo>
                    <a:lnTo>
                      <a:pt x="820" y="1"/>
                    </a:lnTo>
                    <a:lnTo>
                      <a:pt x="788" y="0"/>
                    </a:lnTo>
                    <a:lnTo>
                      <a:pt x="755" y="8"/>
                    </a:lnTo>
                    <a:lnTo>
                      <a:pt x="727" y="20"/>
                    </a:lnTo>
                    <a:lnTo>
                      <a:pt x="706" y="29"/>
                    </a:lnTo>
                    <a:lnTo>
                      <a:pt x="688" y="38"/>
                    </a:lnTo>
                    <a:lnTo>
                      <a:pt x="673" y="46"/>
                    </a:lnTo>
                    <a:lnTo>
                      <a:pt x="658" y="55"/>
                    </a:lnTo>
                    <a:lnTo>
                      <a:pt x="641" y="66"/>
                    </a:lnTo>
                    <a:lnTo>
                      <a:pt x="622" y="79"/>
                    </a:lnTo>
                    <a:lnTo>
                      <a:pt x="597" y="97"/>
                    </a:lnTo>
                    <a:lnTo>
                      <a:pt x="571" y="113"/>
                    </a:lnTo>
                    <a:lnTo>
                      <a:pt x="547" y="120"/>
                    </a:lnTo>
                    <a:lnTo>
                      <a:pt x="524" y="120"/>
                    </a:lnTo>
                    <a:lnTo>
                      <a:pt x="502" y="118"/>
                    </a:lnTo>
                    <a:lnTo>
                      <a:pt x="479" y="117"/>
                    </a:lnTo>
                    <a:lnTo>
                      <a:pt x="456" y="118"/>
                    </a:lnTo>
                    <a:lnTo>
                      <a:pt x="432" y="128"/>
                    </a:lnTo>
                    <a:lnTo>
                      <a:pt x="406" y="146"/>
                    </a:lnTo>
                    <a:lnTo>
                      <a:pt x="378" y="170"/>
                    </a:lnTo>
                    <a:lnTo>
                      <a:pt x="350" y="196"/>
                    </a:lnTo>
                    <a:lnTo>
                      <a:pt x="324" y="226"/>
                    </a:lnTo>
                    <a:lnTo>
                      <a:pt x="301" y="263"/>
                    </a:lnTo>
                    <a:lnTo>
                      <a:pt x="281" y="309"/>
                    </a:lnTo>
                    <a:lnTo>
                      <a:pt x="266" y="365"/>
                    </a:lnTo>
                    <a:lnTo>
                      <a:pt x="257" y="433"/>
                    </a:lnTo>
                    <a:lnTo>
                      <a:pt x="256" y="518"/>
                    </a:lnTo>
                    <a:lnTo>
                      <a:pt x="255" y="581"/>
                    </a:lnTo>
                    <a:lnTo>
                      <a:pt x="248" y="664"/>
                    </a:lnTo>
                    <a:lnTo>
                      <a:pt x="237" y="761"/>
                    </a:lnTo>
                    <a:lnTo>
                      <a:pt x="219" y="864"/>
                    </a:lnTo>
                    <a:lnTo>
                      <a:pt x="195" y="965"/>
                    </a:lnTo>
                    <a:lnTo>
                      <a:pt x="166" y="1060"/>
                    </a:lnTo>
                    <a:lnTo>
                      <a:pt x="129" y="1140"/>
                    </a:lnTo>
                    <a:lnTo>
                      <a:pt x="85" y="1200"/>
                    </a:lnTo>
                    <a:lnTo>
                      <a:pt x="58" y="1241"/>
                    </a:lnTo>
                    <a:lnTo>
                      <a:pt x="35" y="1302"/>
                    </a:lnTo>
                    <a:lnTo>
                      <a:pt x="17" y="1380"/>
                    </a:lnTo>
                    <a:lnTo>
                      <a:pt x="5" y="1463"/>
                    </a:lnTo>
                    <a:lnTo>
                      <a:pt x="0" y="1547"/>
                    </a:lnTo>
                    <a:lnTo>
                      <a:pt x="4" y="1621"/>
                    </a:lnTo>
                    <a:lnTo>
                      <a:pt x="18" y="1680"/>
                    </a:lnTo>
                    <a:lnTo>
                      <a:pt x="43" y="1715"/>
                    </a:lnTo>
                    <a:lnTo>
                      <a:pt x="71" y="1732"/>
                    </a:lnTo>
                    <a:lnTo>
                      <a:pt x="92" y="1742"/>
                    </a:lnTo>
                    <a:lnTo>
                      <a:pt x="110" y="1746"/>
                    </a:lnTo>
                    <a:lnTo>
                      <a:pt x="126" y="1746"/>
                    </a:lnTo>
                    <a:lnTo>
                      <a:pt x="142" y="1744"/>
                    </a:lnTo>
                    <a:lnTo>
                      <a:pt x="161" y="1736"/>
                    </a:lnTo>
                    <a:lnTo>
                      <a:pt x="184" y="1727"/>
                    </a:lnTo>
                    <a:lnTo>
                      <a:pt x="213" y="1716"/>
                    </a:lnTo>
                    <a:lnTo>
                      <a:pt x="231" y="1711"/>
                    </a:lnTo>
                    <a:lnTo>
                      <a:pt x="248" y="1708"/>
                    </a:lnTo>
                    <a:lnTo>
                      <a:pt x="266" y="1705"/>
                    </a:lnTo>
                    <a:lnTo>
                      <a:pt x="284" y="1703"/>
                    </a:lnTo>
                    <a:lnTo>
                      <a:pt x="302" y="1703"/>
                    </a:lnTo>
                    <a:lnTo>
                      <a:pt x="320" y="1703"/>
                    </a:lnTo>
                    <a:lnTo>
                      <a:pt x="338" y="1704"/>
                    </a:lnTo>
                    <a:lnTo>
                      <a:pt x="355" y="1707"/>
                    </a:lnTo>
                    <a:lnTo>
                      <a:pt x="372" y="1709"/>
                    </a:lnTo>
                    <a:lnTo>
                      <a:pt x="388" y="1712"/>
                    </a:lnTo>
                    <a:lnTo>
                      <a:pt x="403" y="1716"/>
                    </a:lnTo>
                    <a:lnTo>
                      <a:pt x="417" y="1720"/>
                    </a:lnTo>
                    <a:lnTo>
                      <a:pt x="430" y="1725"/>
                    </a:lnTo>
                    <a:lnTo>
                      <a:pt x="442" y="1730"/>
                    </a:lnTo>
                    <a:lnTo>
                      <a:pt x="451" y="1736"/>
                    </a:lnTo>
                    <a:lnTo>
                      <a:pt x="460" y="1741"/>
                    </a:lnTo>
                    <a:lnTo>
                      <a:pt x="476" y="1752"/>
                    </a:lnTo>
                    <a:lnTo>
                      <a:pt x="495" y="1758"/>
                    </a:lnTo>
                    <a:lnTo>
                      <a:pt x="515" y="1762"/>
                    </a:lnTo>
                    <a:lnTo>
                      <a:pt x="537" y="1765"/>
                    </a:lnTo>
                    <a:lnTo>
                      <a:pt x="558" y="1763"/>
                    </a:lnTo>
                    <a:lnTo>
                      <a:pt x="578" y="1759"/>
                    </a:lnTo>
                    <a:lnTo>
                      <a:pt x="596" y="1753"/>
                    </a:lnTo>
                    <a:lnTo>
                      <a:pt x="610" y="1742"/>
                    </a:lnTo>
                    <a:lnTo>
                      <a:pt x="619" y="1733"/>
                    </a:lnTo>
                    <a:lnTo>
                      <a:pt x="631" y="1719"/>
                    </a:lnTo>
                    <a:lnTo>
                      <a:pt x="648" y="1698"/>
                    </a:lnTo>
                    <a:lnTo>
                      <a:pt x="667" y="1674"/>
                    </a:lnTo>
                    <a:lnTo>
                      <a:pt x="688" y="1645"/>
                    </a:lnTo>
                    <a:lnTo>
                      <a:pt x="712" y="1612"/>
                    </a:lnTo>
                    <a:lnTo>
                      <a:pt x="738" y="1579"/>
                    </a:lnTo>
                    <a:lnTo>
                      <a:pt x="765" y="1543"/>
                    </a:lnTo>
                    <a:lnTo>
                      <a:pt x="791" y="1507"/>
                    </a:lnTo>
                    <a:lnTo>
                      <a:pt x="818" y="1471"/>
                    </a:lnTo>
                    <a:lnTo>
                      <a:pt x="844" y="1435"/>
                    </a:lnTo>
                    <a:lnTo>
                      <a:pt x="869" y="1403"/>
                    </a:lnTo>
                    <a:lnTo>
                      <a:pt x="892" y="1371"/>
                    </a:lnTo>
                    <a:lnTo>
                      <a:pt x="913" y="1343"/>
                    </a:lnTo>
                    <a:lnTo>
                      <a:pt x="931" y="1320"/>
                    </a:lnTo>
                    <a:lnTo>
                      <a:pt x="946" y="1301"/>
                    </a:lnTo>
                    <a:lnTo>
                      <a:pt x="963" y="1277"/>
                    </a:lnTo>
                    <a:lnTo>
                      <a:pt x="984" y="1239"/>
                    </a:lnTo>
                    <a:lnTo>
                      <a:pt x="1009" y="1189"/>
                    </a:lnTo>
                    <a:lnTo>
                      <a:pt x="1037" y="1127"/>
                    </a:lnTo>
                    <a:lnTo>
                      <a:pt x="1065" y="1056"/>
                    </a:lnTo>
                    <a:lnTo>
                      <a:pt x="1091" y="977"/>
                    </a:lnTo>
                    <a:lnTo>
                      <a:pt x="1115" y="892"/>
                    </a:lnTo>
                    <a:lnTo>
                      <a:pt x="1134" y="801"/>
                    </a:lnTo>
                    <a:lnTo>
                      <a:pt x="1148" y="706"/>
                    </a:lnTo>
                    <a:lnTo>
                      <a:pt x="1154" y="608"/>
                    </a:lnTo>
                    <a:lnTo>
                      <a:pt x="1152" y="510"/>
                    </a:lnTo>
                    <a:lnTo>
                      <a:pt x="1138" y="412"/>
                    </a:lnTo>
                    <a:lnTo>
                      <a:pt x="1113" y="317"/>
                    </a:lnTo>
                    <a:lnTo>
                      <a:pt x="1073" y="226"/>
                    </a:lnTo>
                    <a:lnTo>
                      <a:pt x="1019" y="140"/>
                    </a:lnTo>
                    <a:lnTo>
                      <a:pt x="949" y="59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Freeform 157"/>
              <p:cNvSpPr/>
              <p:nvPr/>
            </p:nvSpPr>
            <p:spPr>
              <a:xfrm>
                <a:off x="1796400" y="476640"/>
                <a:ext cx="529560" cy="83520"/>
              </a:xfrm>
              <a:custGeom>
                <a:avLst/>
                <a:gdLst/>
                <a:ahLst/>
                <a:rect l="l" t="t" r="r" b="b"/>
                <a:pathLst>
                  <a:path w="519" h="213">
                    <a:moveTo>
                      <a:pt x="301" y="75"/>
                    </a:moveTo>
                    <a:lnTo>
                      <a:pt x="296" y="72"/>
                    </a:lnTo>
                    <a:lnTo>
                      <a:pt x="282" y="66"/>
                    </a:lnTo>
                    <a:lnTo>
                      <a:pt x="262" y="57"/>
                    </a:lnTo>
                    <a:lnTo>
                      <a:pt x="235" y="45"/>
                    </a:lnTo>
                    <a:lnTo>
                      <a:pt x="206" y="33"/>
                    </a:lnTo>
                    <a:lnTo>
                      <a:pt x="175" y="21"/>
                    </a:lnTo>
                    <a:lnTo>
                      <a:pt x="143" y="10"/>
                    </a:lnTo>
                    <a:lnTo>
                      <a:pt x="113" y="4"/>
                    </a:lnTo>
                    <a:lnTo>
                      <a:pt x="87" y="0"/>
                    </a:lnTo>
                    <a:lnTo>
                      <a:pt x="64" y="1"/>
                    </a:lnTo>
                    <a:lnTo>
                      <a:pt x="44" y="4"/>
                    </a:lnTo>
                    <a:lnTo>
                      <a:pt x="29" y="9"/>
                    </a:lnTo>
                    <a:lnTo>
                      <a:pt x="16" y="16"/>
                    </a:lnTo>
                    <a:lnTo>
                      <a:pt x="7" y="21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179" y="188"/>
                    </a:lnTo>
                    <a:lnTo>
                      <a:pt x="184" y="190"/>
                    </a:lnTo>
                    <a:lnTo>
                      <a:pt x="199" y="194"/>
                    </a:lnTo>
                    <a:lnTo>
                      <a:pt x="220" y="199"/>
                    </a:lnTo>
                    <a:lnTo>
                      <a:pt x="247" y="204"/>
                    </a:lnTo>
                    <a:lnTo>
                      <a:pt x="276" y="209"/>
                    </a:lnTo>
                    <a:lnTo>
                      <a:pt x="306" y="213"/>
                    </a:lnTo>
                    <a:lnTo>
                      <a:pt x="335" y="213"/>
                    </a:lnTo>
                    <a:lnTo>
                      <a:pt x="361" y="209"/>
                    </a:lnTo>
                    <a:lnTo>
                      <a:pt x="387" y="203"/>
                    </a:lnTo>
                    <a:lnTo>
                      <a:pt x="412" y="194"/>
                    </a:lnTo>
                    <a:lnTo>
                      <a:pt x="437" y="186"/>
                    </a:lnTo>
                    <a:lnTo>
                      <a:pt x="460" y="178"/>
                    </a:lnTo>
                    <a:lnTo>
                      <a:pt x="480" y="170"/>
                    </a:lnTo>
                    <a:lnTo>
                      <a:pt x="496" y="163"/>
                    </a:lnTo>
                    <a:lnTo>
                      <a:pt x="506" y="159"/>
                    </a:lnTo>
                    <a:lnTo>
                      <a:pt x="510" y="158"/>
                    </a:lnTo>
                    <a:lnTo>
                      <a:pt x="511" y="158"/>
                    </a:lnTo>
                    <a:lnTo>
                      <a:pt x="515" y="157"/>
                    </a:lnTo>
                    <a:lnTo>
                      <a:pt x="518" y="154"/>
                    </a:lnTo>
                    <a:lnTo>
                      <a:pt x="519" y="151"/>
                    </a:lnTo>
                    <a:lnTo>
                      <a:pt x="518" y="147"/>
                    </a:lnTo>
                    <a:lnTo>
                      <a:pt x="510" y="141"/>
                    </a:lnTo>
                    <a:lnTo>
                      <a:pt x="496" y="134"/>
                    </a:lnTo>
                    <a:lnTo>
                      <a:pt x="473" y="126"/>
                    </a:lnTo>
                    <a:lnTo>
                      <a:pt x="448" y="116"/>
                    </a:lnTo>
                    <a:lnTo>
                      <a:pt x="428" y="105"/>
                    </a:lnTo>
                    <a:lnTo>
                      <a:pt x="410" y="95"/>
                    </a:lnTo>
                    <a:lnTo>
                      <a:pt x="394" y="86"/>
                    </a:lnTo>
                    <a:lnTo>
                      <a:pt x="376" y="78"/>
                    </a:lnTo>
                    <a:lnTo>
                      <a:pt x="356" y="74"/>
                    </a:lnTo>
                    <a:lnTo>
                      <a:pt x="331" y="72"/>
                    </a:lnTo>
                    <a:lnTo>
                      <a:pt x="301" y="75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Freeform 158"/>
              <p:cNvSpPr/>
              <p:nvPr/>
            </p:nvSpPr>
            <p:spPr>
              <a:xfrm>
                <a:off x="1214280" y="519120"/>
                <a:ext cx="684000" cy="558720"/>
              </a:xfrm>
              <a:custGeom>
                <a:avLst/>
                <a:gdLst/>
                <a:ahLst/>
                <a:rect l="l" t="t" r="r" b="b"/>
                <a:pathLst>
                  <a:path w="666" h="1421">
                    <a:moveTo>
                      <a:pt x="368" y="19"/>
                    </a:moveTo>
                    <a:lnTo>
                      <a:pt x="364" y="21"/>
                    </a:lnTo>
                    <a:lnTo>
                      <a:pt x="356" y="27"/>
                    </a:lnTo>
                    <a:lnTo>
                      <a:pt x="341" y="37"/>
                    </a:lnTo>
                    <a:lnTo>
                      <a:pt x="320" y="50"/>
                    </a:lnTo>
                    <a:lnTo>
                      <a:pt x="298" y="69"/>
                    </a:lnTo>
                    <a:lnTo>
                      <a:pt x="271" y="91"/>
                    </a:lnTo>
                    <a:lnTo>
                      <a:pt x="242" y="116"/>
                    </a:lnTo>
                    <a:lnTo>
                      <a:pt x="212" y="146"/>
                    </a:lnTo>
                    <a:lnTo>
                      <a:pt x="182" y="179"/>
                    </a:lnTo>
                    <a:lnTo>
                      <a:pt x="150" y="218"/>
                    </a:lnTo>
                    <a:lnTo>
                      <a:pt x="120" y="258"/>
                    </a:lnTo>
                    <a:lnTo>
                      <a:pt x="92" y="303"/>
                    </a:lnTo>
                    <a:lnTo>
                      <a:pt x="67" y="352"/>
                    </a:lnTo>
                    <a:lnTo>
                      <a:pt x="44" y="403"/>
                    </a:lnTo>
                    <a:lnTo>
                      <a:pt x="26" y="460"/>
                    </a:lnTo>
                    <a:lnTo>
                      <a:pt x="12" y="519"/>
                    </a:lnTo>
                    <a:lnTo>
                      <a:pt x="4" y="577"/>
                    </a:lnTo>
                    <a:lnTo>
                      <a:pt x="0" y="635"/>
                    </a:lnTo>
                    <a:lnTo>
                      <a:pt x="0" y="692"/>
                    </a:lnTo>
                    <a:lnTo>
                      <a:pt x="4" y="748"/>
                    </a:lnTo>
                    <a:lnTo>
                      <a:pt x="12" y="802"/>
                    </a:lnTo>
                    <a:lnTo>
                      <a:pt x="22" y="855"/>
                    </a:lnTo>
                    <a:lnTo>
                      <a:pt x="33" y="905"/>
                    </a:lnTo>
                    <a:lnTo>
                      <a:pt x="47" y="952"/>
                    </a:lnTo>
                    <a:lnTo>
                      <a:pt x="62" y="997"/>
                    </a:lnTo>
                    <a:lnTo>
                      <a:pt x="79" y="1038"/>
                    </a:lnTo>
                    <a:lnTo>
                      <a:pt x="94" y="1076"/>
                    </a:lnTo>
                    <a:lnTo>
                      <a:pt x="110" y="1109"/>
                    </a:lnTo>
                    <a:lnTo>
                      <a:pt x="125" y="1138"/>
                    </a:lnTo>
                    <a:lnTo>
                      <a:pt x="138" y="1162"/>
                    </a:lnTo>
                    <a:lnTo>
                      <a:pt x="150" y="1180"/>
                    </a:lnTo>
                    <a:lnTo>
                      <a:pt x="160" y="1194"/>
                    </a:lnTo>
                    <a:lnTo>
                      <a:pt x="179" y="1216"/>
                    </a:lnTo>
                    <a:lnTo>
                      <a:pt x="199" y="1244"/>
                    </a:lnTo>
                    <a:lnTo>
                      <a:pt x="221" y="1273"/>
                    </a:lnTo>
                    <a:lnTo>
                      <a:pt x="241" y="1302"/>
                    </a:lnTo>
                    <a:lnTo>
                      <a:pt x="260" y="1329"/>
                    </a:lnTo>
                    <a:lnTo>
                      <a:pt x="274" y="1350"/>
                    </a:lnTo>
                    <a:lnTo>
                      <a:pt x="284" y="1366"/>
                    </a:lnTo>
                    <a:lnTo>
                      <a:pt x="288" y="1371"/>
                    </a:lnTo>
                    <a:lnTo>
                      <a:pt x="290" y="1374"/>
                    </a:lnTo>
                    <a:lnTo>
                      <a:pt x="296" y="1382"/>
                    </a:lnTo>
                    <a:lnTo>
                      <a:pt x="305" y="1392"/>
                    </a:lnTo>
                    <a:lnTo>
                      <a:pt x="318" y="1404"/>
                    </a:lnTo>
                    <a:lnTo>
                      <a:pt x="330" y="1413"/>
                    </a:lnTo>
                    <a:lnTo>
                      <a:pt x="343" y="1420"/>
                    </a:lnTo>
                    <a:lnTo>
                      <a:pt x="356" y="1421"/>
                    </a:lnTo>
                    <a:lnTo>
                      <a:pt x="366" y="1413"/>
                    </a:lnTo>
                    <a:lnTo>
                      <a:pt x="376" y="1402"/>
                    </a:lnTo>
                    <a:lnTo>
                      <a:pt x="388" y="1391"/>
                    </a:lnTo>
                    <a:lnTo>
                      <a:pt x="401" y="1379"/>
                    </a:lnTo>
                    <a:lnTo>
                      <a:pt x="412" y="1365"/>
                    </a:lnTo>
                    <a:lnTo>
                      <a:pt x="424" y="1346"/>
                    </a:lnTo>
                    <a:lnTo>
                      <a:pt x="433" y="1324"/>
                    </a:lnTo>
                    <a:lnTo>
                      <a:pt x="438" y="1295"/>
                    </a:lnTo>
                    <a:lnTo>
                      <a:pt x="439" y="1259"/>
                    </a:lnTo>
                    <a:lnTo>
                      <a:pt x="436" y="1163"/>
                    </a:lnTo>
                    <a:lnTo>
                      <a:pt x="431" y="1053"/>
                    </a:lnTo>
                    <a:lnTo>
                      <a:pt x="426" y="954"/>
                    </a:lnTo>
                    <a:lnTo>
                      <a:pt x="424" y="889"/>
                    </a:lnTo>
                    <a:lnTo>
                      <a:pt x="430" y="852"/>
                    </a:lnTo>
                    <a:lnTo>
                      <a:pt x="448" y="787"/>
                    </a:lnTo>
                    <a:lnTo>
                      <a:pt x="473" y="701"/>
                    </a:lnTo>
                    <a:lnTo>
                      <a:pt x="503" y="607"/>
                    </a:lnTo>
                    <a:lnTo>
                      <a:pt x="536" y="514"/>
                    </a:lnTo>
                    <a:lnTo>
                      <a:pt x="569" y="432"/>
                    </a:lnTo>
                    <a:lnTo>
                      <a:pt x="596" y="369"/>
                    </a:lnTo>
                    <a:lnTo>
                      <a:pt x="618" y="337"/>
                    </a:lnTo>
                    <a:lnTo>
                      <a:pt x="633" y="323"/>
                    </a:lnTo>
                    <a:lnTo>
                      <a:pt x="645" y="305"/>
                    </a:lnTo>
                    <a:lnTo>
                      <a:pt x="654" y="283"/>
                    </a:lnTo>
                    <a:lnTo>
                      <a:pt x="661" y="260"/>
                    </a:lnTo>
                    <a:lnTo>
                      <a:pt x="664" y="233"/>
                    </a:lnTo>
                    <a:lnTo>
                      <a:pt x="666" y="207"/>
                    </a:lnTo>
                    <a:lnTo>
                      <a:pt x="664" y="178"/>
                    </a:lnTo>
                    <a:lnTo>
                      <a:pt x="662" y="149"/>
                    </a:lnTo>
                    <a:lnTo>
                      <a:pt x="658" y="133"/>
                    </a:lnTo>
                    <a:lnTo>
                      <a:pt x="652" y="119"/>
                    </a:lnTo>
                    <a:lnTo>
                      <a:pt x="642" y="102"/>
                    </a:lnTo>
                    <a:lnTo>
                      <a:pt x="629" y="86"/>
                    </a:lnTo>
                    <a:lnTo>
                      <a:pt x="614" y="71"/>
                    </a:lnTo>
                    <a:lnTo>
                      <a:pt x="598" y="56"/>
                    </a:lnTo>
                    <a:lnTo>
                      <a:pt x="579" y="42"/>
                    </a:lnTo>
                    <a:lnTo>
                      <a:pt x="557" y="31"/>
                    </a:lnTo>
                    <a:lnTo>
                      <a:pt x="536" y="20"/>
                    </a:lnTo>
                    <a:lnTo>
                      <a:pt x="513" y="11"/>
                    </a:lnTo>
                    <a:lnTo>
                      <a:pt x="489" y="4"/>
                    </a:lnTo>
                    <a:lnTo>
                      <a:pt x="464" y="0"/>
                    </a:lnTo>
                    <a:lnTo>
                      <a:pt x="440" y="0"/>
                    </a:lnTo>
                    <a:lnTo>
                      <a:pt x="416" y="3"/>
                    </a:lnTo>
                    <a:lnTo>
                      <a:pt x="392" y="8"/>
                    </a:lnTo>
                    <a:lnTo>
                      <a:pt x="368" y="19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Freeform 159"/>
              <p:cNvSpPr/>
              <p:nvPr/>
            </p:nvSpPr>
            <p:spPr>
              <a:xfrm>
                <a:off x="1787400" y="1238400"/>
                <a:ext cx="607320" cy="36360"/>
              </a:xfrm>
              <a:custGeom>
                <a:avLst/>
                <a:gdLst/>
                <a:ahLst/>
                <a:rect l="l" t="t" r="r" b="b"/>
                <a:pathLst>
                  <a:path w="590" h="105">
                    <a:moveTo>
                      <a:pt x="81" y="104"/>
                    </a:moveTo>
                    <a:lnTo>
                      <a:pt x="71" y="101"/>
                    </a:lnTo>
                    <a:lnTo>
                      <a:pt x="59" y="99"/>
                    </a:lnTo>
                    <a:lnTo>
                      <a:pt x="49" y="93"/>
                    </a:lnTo>
                    <a:lnTo>
                      <a:pt x="39" y="88"/>
                    </a:lnTo>
                    <a:lnTo>
                      <a:pt x="29" y="80"/>
                    </a:lnTo>
                    <a:lnTo>
                      <a:pt x="19" y="71"/>
                    </a:lnTo>
                    <a:lnTo>
                      <a:pt x="9" y="59"/>
                    </a:lnTo>
                    <a:lnTo>
                      <a:pt x="0" y="46"/>
                    </a:lnTo>
                    <a:lnTo>
                      <a:pt x="5" y="47"/>
                    </a:lnTo>
                    <a:lnTo>
                      <a:pt x="20" y="50"/>
                    </a:lnTo>
                    <a:lnTo>
                      <a:pt x="42" y="53"/>
                    </a:lnTo>
                    <a:lnTo>
                      <a:pt x="68" y="55"/>
                    </a:lnTo>
                    <a:lnTo>
                      <a:pt x="98" y="55"/>
                    </a:lnTo>
                    <a:lnTo>
                      <a:pt x="130" y="53"/>
                    </a:lnTo>
                    <a:lnTo>
                      <a:pt x="159" y="45"/>
                    </a:lnTo>
                    <a:lnTo>
                      <a:pt x="185" y="32"/>
                    </a:lnTo>
                    <a:lnTo>
                      <a:pt x="198" y="24"/>
                    </a:lnTo>
                    <a:lnTo>
                      <a:pt x="213" y="17"/>
                    </a:lnTo>
                    <a:lnTo>
                      <a:pt x="230" y="12"/>
                    </a:lnTo>
                    <a:lnTo>
                      <a:pt x="247" y="7"/>
                    </a:lnTo>
                    <a:lnTo>
                      <a:pt x="266" y="4"/>
                    </a:lnTo>
                    <a:lnTo>
                      <a:pt x="286" y="1"/>
                    </a:lnTo>
                    <a:lnTo>
                      <a:pt x="306" y="0"/>
                    </a:lnTo>
                    <a:lnTo>
                      <a:pt x="327" y="0"/>
                    </a:lnTo>
                    <a:lnTo>
                      <a:pt x="348" y="1"/>
                    </a:lnTo>
                    <a:lnTo>
                      <a:pt x="368" y="4"/>
                    </a:lnTo>
                    <a:lnTo>
                      <a:pt x="390" y="8"/>
                    </a:lnTo>
                    <a:lnTo>
                      <a:pt x="410" y="12"/>
                    </a:lnTo>
                    <a:lnTo>
                      <a:pt x="429" y="17"/>
                    </a:lnTo>
                    <a:lnTo>
                      <a:pt x="446" y="25"/>
                    </a:lnTo>
                    <a:lnTo>
                      <a:pt x="464" y="33"/>
                    </a:lnTo>
                    <a:lnTo>
                      <a:pt x="479" y="42"/>
                    </a:lnTo>
                    <a:lnTo>
                      <a:pt x="505" y="58"/>
                    </a:lnTo>
                    <a:lnTo>
                      <a:pt x="528" y="66"/>
                    </a:lnTo>
                    <a:lnTo>
                      <a:pt x="547" y="70"/>
                    </a:lnTo>
                    <a:lnTo>
                      <a:pt x="562" y="68"/>
                    </a:lnTo>
                    <a:lnTo>
                      <a:pt x="573" y="66"/>
                    </a:lnTo>
                    <a:lnTo>
                      <a:pt x="582" y="62"/>
                    </a:lnTo>
                    <a:lnTo>
                      <a:pt x="587" y="58"/>
                    </a:lnTo>
                    <a:lnTo>
                      <a:pt x="589" y="57"/>
                    </a:lnTo>
                    <a:lnTo>
                      <a:pt x="589" y="59"/>
                    </a:lnTo>
                    <a:lnTo>
                      <a:pt x="590" y="66"/>
                    </a:lnTo>
                    <a:lnTo>
                      <a:pt x="587" y="75"/>
                    </a:lnTo>
                    <a:lnTo>
                      <a:pt x="580" y="84"/>
                    </a:lnTo>
                    <a:lnTo>
                      <a:pt x="565" y="91"/>
                    </a:lnTo>
                    <a:lnTo>
                      <a:pt x="541" y="93"/>
                    </a:lnTo>
                    <a:lnTo>
                      <a:pt x="504" y="90"/>
                    </a:lnTo>
                    <a:lnTo>
                      <a:pt x="454" y="78"/>
                    </a:lnTo>
                    <a:lnTo>
                      <a:pt x="451" y="76"/>
                    </a:lnTo>
                    <a:lnTo>
                      <a:pt x="446" y="75"/>
                    </a:lnTo>
                    <a:lnTo>
                      <a:pt x="436" y="72"/>
                    </a:lnTo>
                    <a:lnTo>
                      <a:pt x="425" y="68"/>
                    </a:lnTo>
                    <a:lnTo>
                      <a:pt x="410" y="66"/>
                    </a:lnTo>
                    <a:lnTo>
                      <a:pt x="392" y="62"/>
                    </a:lnTo>
                    <a:lnTo>
                      <a:pt x="373" y="58"/>
                    </a:lnTo>
                    <a:lnTo>
                      <a:pt x="354" y="54"/>
                    </a:lnTo>
                    <a:lnTo>
                      <a:pt x="333" y="51"/>
                    </a:lnTo>
                    <a:lnTo>
                      <a:pt x="311" y="49"/>
                    </a:lnTo>
                    <a:lnTo>
                      <a:pt x="289" y="49"/>
                    </a:lnTo>
                    <a:lnTo>
                      <a:pt x="267" y="49"/>
                    </a:lnTo>
                    <a:lnTo>
                      <a:pt x="247" y="51"/>
                    </a:lnTo>
                    <a:lnTo>
                      <a:pt x="227" y="55"/>
                    </a:lnTo>
                    <a:lnTo>
                      <a:pt x="209" y="61"/>
                    </a:lnTo>
                    <a:lnTo>
                      <a:pt x="193" y="70"/>
                    </a:lnTo>
                    <a:lnTo>
                      <a:pt x="190" y="71"/>
                    </a:lnTo>
                    <a:lnTo>
                      <a:pt x="184" y="76"/>
                    </a:lnTo>
                    <a:lnTo>
                      <a:pt x="173" y="83"/>
                    </a:lnTo>
                    <a:lnTo>
                      <a:pt x="159" y="90"/>
                    </a:lnTo>
                    <a:lnTo>
                      <a:pt x="141" y="96"/>
                    </a:lnTo>
                    <a:lnTo>
                      <a:pt x="122" y="101"/>
                    </a:lnTo>
                    <a:lnTo>
                      <a:pt x="102" y="105"/>
                    </a:lnTo>
                    <a:lnTo>
                      <a:pt x="81" y="104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Freeform 160"/>
              <p:cNvSpPr/>
              <p:nvPr/>
            </p:nvSpPr>
            <p:spPr>
              <a:xfrm>
                <a:off x="1275840" y="547200"/>
                <a:ext cx="487080" cy="435240"/>
              </a:xfrm>
              <a:custGeom>
                <a:avLst/>
                <a:gdLst/>
                <a:ahLst/>
                <a:rect l="l" t="t" r="r" b="b"/>
                <a:pathLst>
                  <a:path w="474" h="1109">
                    <a:moveTo>
                      <a:pt x="312" y="8"/>
                    </a:moveTo>
                    <a:lnTo>
                      <a:pt x="309" y="10"/>
                    </a:lnTo>
                    <a:lnTo>
                      <a:pt x="303" y="12"/>
                    </a:lnTo>
                    <a:lnTo>
                      <a:pt x="293" y="18"/>
                    </a:lnTo>
                    <a:lnTo>
                      <a:pt x="279" y="25"/>
                    </a:lnTo>
                    <a:lnTo>
                      <a:pt x="261" y="36"/>
                    </a:lnTo>
                    <a:lnTo>
                      <a:pt x="242" y="48"/>
                    </a:lnTo>
                    <a:lnTo>
                      <a:pt x="222" y="62"/>
                    </a:lnTo>
                    <a:lnTo>
                      <a:pt x="199" y="79"/>
                    </a:lnTo>
                    <a:lnTo>
                      <a:pt x="177" y="100"/>
                    </a:lnTo>
                    <a:lnTo>
                      <a:pt x="153" y="123"/>
                    </a:lnTo>
                    <a:lnTo>
                      <a:pt x="129" y="148"/>
                    </a:lnTo>
                    <a:lnTo>
                      <a:pt x="106" y="176"/>
                    </a:lnTo>
                    <a:lnTo>
                      <a:pt x="85" y="207"/>
                    </a:lnTo>
                    <a:lnTo>
                      <a:pt x="65" y="241"/>
                    </a:lnTo>
                    <a:lnTo>
                      <a:pt x="46" y="278"/>
                    </a:lnTo>
                    <a:lnTo>
                      <a:pt x="31" y="318"/>
                    </a:lnTo>
                    <a:lnTo>
                      <a:pt x="9" y="401"/>
                    </a:lnTo>
                    <a:lnTo>
                      <a:pt x="0" y="485"/>
                    </a:lnTo>
                    <a:lnTo>
                      <a:pt x="0" y="569"/>
                    </a:lnTo>
                    <a:lnTo>
                      <a:pt x="7" y="648"/>
                    </a:lnTo>
                    <a:lnTo>
                      <a:pt x="17" y="721"/>
                    </a:lnTo>
                    <a:lnTo>
                      <a:pt x="28" y="780"/>
                    </a:lnTo>
                    <a:lnTo>
                      <a:pt x="38" y="826"/>
                    </a:lnTo>
                    <a:lnTo>
                      <a:pt x="46" y="853"/>
                    </a:lnTo>
                    <a:lnTo>
                      <a:pt x="60" y="892"/>
                    </a:lnTo>
                    <a:lnTo>
                      <a:pt x="77" y="933"/>
                    </a:lnTo>
                    <a:lnTo>
                      <a:pt x="96" y="971"/>
                    </a:lnTo>
                    <a:lnTo>
                      <a:pt x="115" y="1007"/>
                    </a:lnTo>
                    <a:lnTo>
                      <a:pt x="133" y="1037"/>
                    </a:lnTo>
                    <a:lnTo>
                      <a:pt x="148" y="1061"/>
                    </a:lnTo>
                    <a:lnTo>
                      <a:pt x="158" y="1076"/>
                    </a:lnTo>
                    <a:lnTo>
                      <a:pt x="162" y="1082"/>
                    </a:lnTo>
                    <a:lnTo>
                      <a:pt x="163" y="1086"/>
                    </a:lnTo>
                    <a:lnTo>
                      <a:pt x="167" y="1094"/>
                    </a:lnTo>
                    <a:lnTo>
                      <a:pt x="173" y="1103"/>
                    </a:lnTo>
                    <a:lnTo>
                      <a:pt x="180" y="1108"/>
                    </a:lnTo>
                    <a:lnTo>
                      <a:pt x="191" y="1109"/>
                    </a:lnTo>
                    <a:lnTo>
                      <a:pt x="202" y="1100"/>
                    </a:lnTo>
                    <a:lnTo>
                      <a:pt x="216" y="1079"/>
                    </a:lnTo>
                    <a:lnTo>
                      <a:pt x="230" y="1041"/>
                    </a:lnTo>
                    <a:lnTo>
                      <a:pt x="238" y="983"/>
                    </a:lnTo>
                    <a:lnTo>
                      <a:pt x="238" y="907"/>
                    </a:lnTo>
                    <a:lnTo>
                      <a:pt x="232" y="821"/>
                    </a:lnTo>
                    <a:lnTo>
                      <a:pt x="227" y="727"/>
                    </a:lnTo>
                    <a:lnTo>
                      <a:pt x="225" y="633"/>
                    </a:lnTo>
                    <a:lnTo>
                      <a:pt x="232" y="543"/>
                    </a:lnTo>
                    <a:lnTo>
                      <a:pt x="254" y="463"/>
                    </a:lnTo>
                    <a:lnTo>
                      <a:pt x="293" y="397"/>
                    </a:lnTo>
                    <a:lnTo>
                      <a:pt x="339" y="343"/>
                    </a:lnTo>
                    <a:lnTo>
                      <a:pt x="380" y="295"/>
                    </a:lnTo>
                    <a:lnTo>
                      <a:pt x="411" y="255"/>
                    </a:lnTo>
                    <a:lnTo>
                      <a:pt x="437" y="220"/>
                    </a:lnTo>
                    <a:lnTo>
                      <a:pt x="455" y="190"/>
                    </a:lnTo>
                    <a:lnTo>
                      <a:pt x="468" y="164"/>
                    </a:lnTo>
                    <a:lnTo>
                      <a:pt x="474" y="139"/>
                    </a:lnTo>
                    <a:lnTo>
                      <a:pt x="473" y="116"/>
                    </a:lnTo>
                    <a:lnTo>
                      <a:pt x="468" y="93"/>
                    </a:lnTo>
                    <a:lnTo>
                      <a:pt x="459" y="69"/>
                    </a:lnTo>
                    <a:lnTo>
                      <a:pt x="446" y="46"/>
                    </a:lnTo>
                    <a:lnTo>
                      <a:pt x="430" y="27"/>
                    </a:lnTo>
                    <a:lnTo>
                      <a:pt x="410" y="11"/>
                    </a:lnTo>
                    <a:lnTo>
                      <a:pt x="382" y="2"/>
                    </a:lnTo>
                    <a:lnTo>
                      <a:pt x="351" y="0"/>
                    </a:lnTo>
                    <a:lnTo>
                      <a:pt x="312" y="8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161"/>
              <p:cNvSpPr/>
              <p:nvPr/>
            </p:nvSpPr>
            <p:spPr>
              <a:xfrm>
                <a:off x="1910520" y="1232280"/>
                <a:ext cx="456120" cy="37800"/>
              </a:xfrm>
              <a:custGeom>
                <a:avLst/>
                <a:gdLst/>
                <a:ahLst/>
                <a:rect l="l" t="t" r="r" b="b"/>
                <a:pathLst>
                  <a:path w="442" h="110">
                    <a:moveTo>
                      <a:pt x="0" y="85"/>
                    </a:moveTo>
                    <a:lnTo>
                      <a:pt x="3" y="85"/>
                    </a:lnTo>
                    <a:lnTo>
                      <a:pt x="9" y="84"/>
                    </a:lnTo>
                    <a:lnTo>
                      <a:pt x="19" y="83"/>
                    </a:lnTo>
                    <a:lnTo>
                      <a:pt x="32" y="79"/>
                    </a:lnTo>
                    <a:lnTo>
                      <a:pt x="46" y="75"/>
                    </a:lnTo>
                    <a:lnTo>
                      <a:pt x="61" y="71"/>
                    </a:lnTo>
                    <a:lnTo>
                      <a:pt x="76" y="64"/>
                    </a:lnTo>
                    <a:lnTo>
                      <a:pt x="88" y="56"/>
                    </a:lnTo>
                    <a:lnTo>
                      <a:pt x="90" y="55"/>
                    </a:lnTo>
                    <a:lnTo>
                      <a:pt x="93" y="51"/>
                    </a:lnTo>
                    <a:lnTo>
                      <a:pt x="100" y="45"/>
                    </a:lnTo>
                    <a:lnTo>
                      <a:pt x="109" y="37"/>
                    </a:lnTo>
                    <a:lnTo>
                      <a:pt x="119" y="29"/>
                    </a:lnTo>
                    <a:lnTo>
                      <a:pt x="131" y="20"/>
                    </a:lnTo>
                    <a:lnTo>
                      <a:pt x="146" y="13"/>
                    </a:lnTo>
                    <a:lnTo>
                      <a:pt x="161" y="6"/>
                    </a:lnTo>
                    <a:lnTo>
                      <a:pt x="179" y="1"/>
                    </a:lnTo>
                    <a:lnTo>
                      <a:pt x="198" y="0"/>
                    </a:lnTo>
                    <a:lnTo>
                      <a:pt x="218" y="1"/>
                    </a:lnTo>
                    <a:lnTo>
                      <a:pt x="240" y="6"/>
                    </a:lnTo>
                    <a:lnTo>
                      <a:pt x="262" y="17"/>
                    </a:lnTo>
                    <a:lnTo>
                      <a:pt x="285" y="31"/>
                    </a:lnTo>
                    <a:lnTo>
                      <a:pt x="309" y="53"/>
                    </a:lnTo>
                    <a:lnTo>
                      <a:pt x="333" y="80"/>
                    </a:lnTo>
                    <a:lnTo>
                      <a:pt x="335" y="81"/>
                    </a:lnTo>
                    <a:lnTo>
                      <a:pt x="343" y="84"/>
                    </a:lnTo>
                    <a:lnTo>
                      <a:pt x="355" y="89"/>
                    </a:lnTo>
                    <a:lnTo>
                      <a:pt x="369" y="95"/>
                    </a:lnTo>
                    <a:lnTo>
                      <a:pt x="387" y="99"/>
                    </a:lnTo>
                    <a:lnTo>
                      <a:pt x="405" y="103"/>
                    </a:lnTo>
                    <a:lnTo>
                      <a:pt x="423" y="104"/>
                    </a:lnTo>
                    <a:lnTo>
                      <a:pt x="442" y="103"/>
                    </a:lnTo>
                    <a:lnTo>
                      <a:pt x="441" y="104"/>
                    </a:lnTo>
                    <a:lnTo>
                      <a:pt x="437" y="107"/>
                    </a:lnTo>
                    <a:lnTo>
                      <a:pt x="429" y="109"/>
                    </a:lnTo>
                    <a:lnTo>
                      <a:pt x="415" y="110"/>
                    </a:lnTo>
                    <a:lnTo>
                      <a:pt x="393" y="110"/>
                    </a:lnTo>
                    <a:lnTo>
                      <a:pt x="363" y="107"/>
                    </a:lnTo>
                    <a:lnTo>
                      <a:pt x="321" y="96"/>
                    </a:lnTo>
                    <a:lnTo>
                      <a:pt x="270" y="80"/>
                    </a:lnTo>
                    <a:lnTo>
                      <a:pt x="267" y="79"/>
                    </a:lnTo>
                    <a:lnTo>
                      <a:pt x="260" y="74"/>
                    </a:lnTo>
                    <a:lnTo>
                      <a:pt x="248" y="68"/>
                    </a:lnTo>
                    <a:lnTo>
                      <a:pt x="231" y="62"/>
                    </a:lnTo>
                    <a:lnTo>
                      <a:pt x="209" y="58"/>
                    </a:lnTo>
                    <a:lnTo>
                      <a:pt x="184" y="58"/>
                    </a:lnTo>
                    <a:lnTo>
                      <a:pt x="154" y="62"/>
                    </a:lnTo>
                    <a:lnTo>
                      <a:pt x="120" y="71"/>
                    </a:lnTo>
                    <a:lnTo>
                      <a:pt x="119" y="72"/>
                    </a:lnTo>
                    <a:lnTo>
                      <a:pt x="112" y="76"/>
                    </a:lnTo>
                    <a:lnTo>
                      <a:pt x="103" y="81"/>
                    </a:lnTo>
                    <a:lnTo>
                      <a:pt x="90" y="87"/>
                    </a:lnTo>
                    <a:lnTo>
                      <a:pt x="73" y="91"/>
                    </a:lnTo>
                    <a:lnTo>
                      <a:pt x="52" y="92"/>
                    </a:lnTo>
                    <a:lnTo>
                      <a:pt x="28" y="91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162"/>
              <p:cNvSpPr/>
              <p:nvPr/>
            </p:nvSpPr>
            <p:spPr>
              <a:xfrm>
                <a:off x="1910520" y="489600"/>
                <a:ext cx="487080" cy="69480"/>
              </a:xfrm>
              <a:custGeom>
                <a:avLst/>
                <a:gdLst/>
                <a:ahLst/>
                <a:rect l="l" t="t" r="r" b="b"/>
                <a:pathLst>
                  <a:path w="473" h="165">
                    <a:moveTo>
                      <a:pt x="0" y="0"/>
                    </a:moveTo>
                    <a:lnTo>
                      <a:pt x="4" y="0"/>
                    </a:lnTo>
                    <a:lnTo>
                      <a:pt x="13" y="2"/>
                    </a:lnTo>
                    <a:lnTo>
                      <a:pt x="28" y="4"/>
                    </a:lnTo>
                    <a:lnTo>
                      <a:pt x="48" y="9"/>
                    </a:lnTo>
                    <a:lnTo>
                      <a:pt x="72" y="17"/>
                    </a:lnTo>
                    <a:lnTo>
                      <a:pt x="98" y="28"/>
                    </a:lnTo>
                    <a:lnTo>
                      <a:pt x="129" y="42"/>
                    </a:lnTo>
                    <a:lnTo>
                      <a:pt x="159" y="61"/>
                    </a:lnTo>
                    <a:lnTo>
                      <a:pt x="190" y="78"/>
                    </a:lnTo>
                    <a:lnTo>
                      <a:pt x="221" y="90"/>
                    </a:lnTo>
                    <a:lnTo>
                      <a:pt x="251" y="98"/>
                    </a:lnTo>
                    <a:lnTo>
                      <a:pt x="277" y="100"/>
                    </a:lnTo>
                    <a:lnTo>
                      <a:pt x="300" y="102"/>
                    </a:lnTo>
                    <a:lnTo>
                      <a:pt x="318" y="102"/>
                    </a:lnTo>
                    <a:lnTo>
                      <a:pt x="329" y="100"/>
                    </a:lnTo>
                    <a:lnTo>
                      <a:pt x="333" y="100"/>
                    </a:lnTo>
                    <a:lnTo>
                      <a:pt x="473" y="49"/>
                    </a:lnTo>
                    <a:lnTo>
                      <a:pt x="469" y="53"/>
                    </a:lnTo>
                    <a:lnTo>
                      <a:pt x="457" y="62"/>
                    </a:lnTo>
                    <a:lnTo>
                      <a:pt x="441" y="77"/>
                    </a:lnTo>
                    <a:lnTo>
                      <a:pt x="422" y="94"/>
                    </a:lnTo>
                    <a:lnTo>
                      <a:pt x="401" y="111"/>
                    </a:lnTo>
                    <a:lnTo>
                      <a:pt x="381" y="127"/>
                    </a:lnTo>
                    <a:lnTo>
                      <a:pt x="363" y="141"/>
                    </a:lnTo>
                    <a:lnTo>
                      <a:pt x="350" y="150"/>
                    </a:lnTo>
                    <a:lnTo>
                      <a:pt x="344" y="154"/>
                    </a:lnTo>
                    <a:lnTo>
                      <a:pt x="334" y="157"/>
                    </a:lnTo>
                    <a:lnTo>
                      <a:pt x="323" y="160"/>
                    </a:lnTo>
                    <a:lnTo>
                      <a:pt x="309" y="161"/>
                    </a:lnTo>
                    <a:lnTo>
                      <a:pt x="295" y="164"/>
                    </a:lnTo>
                    <a:lnTo>
                      <a:pt x="279" y="164"/>
                    </a:lnTo>
                    <a:lnTo>
                      <a:pt x="261" y="165"/>
                    </a:lnTo>
                    <a:lnTo>
                      <a:pt x="243" y="164"/>
                    </a:lnTo>
                    <a:lnTo>
                      <a:pt x="224" y="162"/>
                    </a:lnTo>
                    <a:lnTo>
                      <a:pt x="207" y="161"/>
                    </a:lnTo>
                    <a:lnTo>
                      <a:pt x="189" y="157"/>
                    </a:lnTo>
                    <a:lnTo>
                      <a:pt x="172" y="153"/>
                    </a:lnTo>
                    <a:lnTo>
                      <a:pt x="156" y="148"/>
                    </a:lnTo>
                    <a:lnTo>
                      <a:pt x="141" y="141"/>
                    </a:lnTo>
                    <a:lnTo>
                      <a:pt x="127" y="133"/>
                    </a:lnTo>
                    <a:lnTo>
                      <a:pt x="116" y="124"/>
                    </a:lnTo>
                    <a:lnTo>
                      <a:pt x="97" y="103"/>
                    </a:lnTo>
                    <a:lnTo>
                      <a:pt x="81" y="82"/>
                    </a:lnTo>
                    <a:lnTo>
                      <a:pt x="68" y="62"/>
                    </a:lnTo>
                    <a:lnTo>
                      <a:pt x="56" y="42"/>
                    </a:lnTo>
                    <a:lnTo>
                      <a:pt x="43" y="27"/>
                    </a:lnTo>
                    <a:lnTo>
                      <a:pt x="30" y="13"/>
                    </a:lnTo>
                    <a:lnTo>
                      <a:pt x="1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163"/>
              <p:cNvSpPr/>
              <p:nvPr/>
            </p:nvSpPr>
            <p:spPr>
              <a:xfrm>
                <a:off x="2357640" y="583920"/>
                <a:ext cx="585000" cy="373680"/>
              </a:xfrm>
              <a:custGeom>
                <a:avLst/>
                <a:gdLst/>
                <a:ahLst/>
                <a:rect l="l" t="t" r="r" b="b"/>
                <a:pathLst>
                  <a:path w="570" h="953">
                    <a:moveTo>
                      <a:pt x="443" y="29"/>
                    </a:moveTo>
                    <a:lnTo>
                      <a:pt x="440" y="26"/>
                    </a:lnTo>
                    <a:lnTo>
                      <a:pt x="432" y="19"/>
                    </a:lnTo>
                    <a:lnTo>
                      <a:pt x="418" y="13"/>
                    </a:lnTo>
                    <a:lnTo>
                      <a:pt x="400" y="5"/>
                    </a:lnTo>
                    <a:lnTo>
                      <a:pt x="377" y="0"/>
                    </a:lnTo>
                    <a:lnTo>
                      <a:pt x="351" y="0"/>
                    </a:lnTo>
                    <a:lnTo>
                      <a:pt x="322" y="5"/>
                    </a:lnTo>
                    <a:lnTo>
                      <a:pt x="289" y="19"/>
                    </a:lnTo>
                    <a:lnTo>
                      <a:pt x="258" y="35"/>
                    </a:lnTo>
                    <a:lnTo>
                      <a:pt x="233" y="44"/>
                    </a:lnTo>
                    <a:lnTo>
                      <a:pt x="210" y="48"/>
                    </a:lnTo>
                    <a:lnTo>
                      <a:pt x="191" y="51"/>
                    </a:lnTo>
                    <a:lnTo>
                      <a:pt x="175" y="52"/>
                    </a:lnTo>
                    <a:lnTo>
                      <a:pt x="160" y="56"/>
                    </a:lnTo>
                    <a:lnTo>
                      <a:pt x="146" y="65"/>
                    </a:lnTo>
                    <a:lnTo>
                      <a:pt x="132" y="80"/>
                    </a:lnTo>
                    <a:lnTo>
                      <a:pt x="104" y="126"/>
                    </a:lnTo>
                    <a:lnTo>
                      <a:pt x="81" y="180"/>
                    </a:lnTo>
                    <a:lnTo>
                      <a:pt x="63" y="241"/>
                    </a:lnTo>
                    <a:lnTo>
                      <a:pt x="47" y="304"/>
                    </a:lnTo>
                    <a:lnTo>
                      <a:pt x="36" y="366"/>
                    </a:lnTo>
                    <a:lnTo>
                      <a:pt x="26" y="425"/>
                    </a:lnTo>
                    <a:lnTo>
                      <a:pt x="17" y="479"/>
                    </a:lnTo>
                    <a:lnTo>
                      <a:pt x="8" y="524"/>
                    </a:lnTo>
                    <a:lnTo>
                      <a:pt x="2" y="569"/>
                    </a:lnTo>
                    <a:lnTo>
                      <a:pt x="0" y="623"/>
                    </a:lnTo>
                    <a:lnTo>
                      <a:pt x="2" y="679"/>
                    </a:lnTo>
                    <a:lnTo>
                      <a:pt x="8" y="736"/>
                    </a:lnTo>
                    <a:lnTo>
                      <a:pt x="18" y="788"/>
                    </a:lnTo>
                    <a:lnTo>
                      <a:pt x="34" y="832"/>
                    </a:lnTo>
                    <a:lnTo>
                      <a:pt x="54" y="864"/>
                    </a:lnTo>
                    <a:lnTo>
                      <a:pt x="79" y="878"/>
                    </a:lnTo>
                    <a:lnTo>
                      <a:pt x="104" y="885"/>
                    </a:lnTo>
                    <a:lnTo>
                      <a:pt x="127" y="893"/>
                    </a:lnTo>
                    <a:lnTo>
                      <a:pt x="146" y="904"/>
                    </a:lnTo>
                    <a:lnTo>
                      <a:pt x="165" y="915"/>
                    </a:lnTo>
                    <a:lnTo>
                      <a:pt x="181" y="927"/>
                    </a:lnTo>
                    <a:lnTo>
                      <a:pt x="197" y="937"/>
                    </a:lnTo>
                    <a:lnTo>
                      <a:pt x="212" y="947"/>
                    </a:lnTo>
                    <a:lnTo>
                      <a:pt x="229" y="952"/>
                    </a:lnTo>
                    <a:lnTo>
                      <a:pt x="238" y="953"/>
                    </a:lnTo>
                    <a:lnTo>
                      <a:pt x="249" y="953"/>
                    </a:lnTo>
                    <a:lnTo>
                      <a:pt x="260" y="950"/>
                    </a:lnTo>
                    <a:lnTo>
                      <a:pt x="274" y="947"/>
                    </a:lnTo>
                    <a:lnTo>
                      <a:pt x="288" y="940"/>
                    </a:lnTo>
                    <a:lnTo>
                      <a:pt x="303" y="933"/>
                    </a:lnTo>
                    <a:lnTo>
                      <a:pt x="320" y="924"/>
                    </a:lnTo>
                    <a:lnTo>
                      <a:pt x="336" y="914"/>
                    </a:lnTo>
                    <a:lnTo>
                      <a:pt x="354" y="902"/>
                    </a:lnTo>
                    <a:lnTo>
                      <a:pt x="370" y="887"/>
                    </a:lnTo>
                    <a:lnTo>
                      <a:pt x="388" y="873"/>
                    </a:lnTo>
                    <a:lnTo>
                      <a:pt x="405" y="857"/>
                    </a:lnTo>
                    <a:lnTo>
                      <a:pt x="423" y="840"/>
                    </a:lnTo>
                    <a:lnTo>
                      <a:pt x="440" y="820"/>
                    </a:lnTo>
                    <a:lnTo>
                      <a:pt x="457" y="800"/>
                    </a:lnTo>
                    <a:lnTo>
                      <a:pt x="473" y="779"/>
                    </a:lnTo>
                    <a:lnTo>
                      <a:pt x="511" y="711"/>
                    </a:lnTo>
                    <a:lnTo>
                      <a:pt x="541" y="623"/>
                    </a:lnTo>
                    <a:lnTo>
                      <a:pt x="561" y="520"/>
                    </a:lnTo>
                    <a:lnTo>
                      <a:pt x="570" y="411"/>
                    </a:lnTo>
                    <a:lnTo>
                      <a:pt x="564" y="300"/>
                    </a:lnTo>
                    <a:lnTo>
                      <a:pt x="543" y="195"/>
                    </a:lnTo>
                    <a:lnTo>
                      <a:pt x="502" y="102"/>
                    </a:lnTo>
                    <a:lnTo>
                      <a:pt x="443" y="29"/>
                    </a:lnTo>
                    <a:close/>
                  </a:path>
                </a:pathLst>
              </a:custGeom>
              <a:solidFill>
                <a:srgbClr val="ff72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Freeform 164"/>
              <p:cNvSpPr/>
              <p:nvPr/>
            </p:nvSpPr>
            <p:spPr>
              <a:xfrm>
                <a:off x="2514240" y="695880"/>
                <a:ext cx="305280" cy="199080"/>
              </a:xfrm>
              <a:custGeom>
                <a:avLst/>
                <a:gdLst/>
                <a:ahLst/>
                <a:rect l="l" t="t" r="r" b="b"/>
                <a:pathLst>
                  <a:path w="297" h="507">
                    <a:moveTo>
                      <a:pt x="231" y="15"/>
                    </a:moveTo>
                    <a:lnTo>
                      <a:pt x="229" y="14"/>
                    </a:lnTo>
                    <a:lnTo>
                      <a:pt x="224" y="11"/>
                    </a:lnTo>
                    <a:lnTo>
                      <a:pt x="218" y="7"/>
                    </a:lnTo>
                    <a:lnTo>
                      <a:pt x="208" y="3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68" y="3"/>
                    </a:lnTo>
                    <a:lnTo>
                      <a:pt x="151" y="11"/>
                    </a:lnTo>
                    <a:lnTo>
                      <a:pt x="136" y="19"/>
                    </a:lnTo>
                    <a:lnTo>
                      <a:pt x="122" y="24"/>
                    </a:lnTo>
                    <a:lnTo>
                      <a:pt x="111" y="27"/>
                    </a:lnTo>
                    <a:lnTo>
                      <a:pt x="102" y="28"/>
                    </a:lnTo>
                    <a:lnTo>
                      <a:pt x="93" y="29"/>
                    </a:lnTo>
                    <a:lnTo>
                      <a:pt x="86" y="31"/>
                    </a:lnTo>
                    <a:lnTo>
                      <a:pt x="78" y="35"/>
                    </a:lnTo>
                    <a:lnTo>
                      <a:pt x="71" y="43"/>
                    </a:lnTo>
                    <a:lnTo>
                      <a:pt x="57" y="66"/>
                    </a:lnTo>
                    <a:lnTo>
                      <a:pt x="44" y="95"/>
                    </a:lnTo>
                    <a:lnTo>
                      <a:pt x="35" y="127"/>
                    </a:lnTo>
                    <a:lnTo>
                      <a:pt x="26" y="158"/>
                    </a:lnTo>
                    <a:lnTo>
                      <a:pt x="20" y="191"/>
                    </a:lnTo>
                    <a:lnTo>
                      <a:pt x="15" y="223"/>
                    </a:lnTo>
                    <a:lnTo>
                      <a:pt x="10" y="252"/>
                    </a:lnTo>
                    <a:lnTo>
                      <a:pt x="5" y="276"/>
                    </a:lnTo>
                    <a:lnTo>
                      <a:pt x="1" y="299"/>
                    </a:lnTo>
                    <a:lnTo>
                      <a:pt x="0" y="328"/>
                    </a:lnTo>
                    <a:lnTo>
                      <a:pt x="1" y="359"/>
                    </a:lnTo>
                    <a:lnTo>
                      <a:pt x="4" y="389"/>
                    </a:lnTo>
                    <a:lnTo>
                      <a:pt x="9" y="418"/>
                    </a:lnTo>
                    <a:lnTo>
                      <a:pt x="16" y="442"/>
                    </a:lnTo>
                    <a:lnTo>
                      <a:pt x="26" y="459"/>
                    </a:lnTo>
                    <a:lnTo>
                      <a:pt x="39" y="467"/>
                    </a:lnTo>
                    <a:lnTo>
                      <a:pt x="53" y="471"/>
                    </a:lnTo>
                    <a:lnTo>
                      <a:pt x="64" y="475"/>
                    </a:lnTo>
                    <a:lnTo>
                      <a:pt x="76" y="481"/>
                    </a:lnTo>
                    <a:lnTo>
                      <a:pt x="84" y="486"/>
                    </a:lnTo>
                    <a:lnTo>
                      <a:pt x="93" y="493"/>
                    </a:lnTo>
                    <a:lnTo>
                      <a:pt x="102" y="500"/>
                    </a:lnTo>
                    <a:lnTo>
                      <a:pt x="110" y="503"/>
                    </a:lnTo>
                    <a:lnTo>
                      <a:pt x="118" y="507"/>
                    </a:lnTo>
                    <a:lnTo>
                      <a:pt x="128" y="507"/>
                    </a:lnTo>
                    <a:lnTo>
                      <a:pt x="142" y="503"/>
                    </a:lnTo>
                    <a:lnTo>
                      <a:pt x="157" y="497"/>
                    </a:lnTo>
                    <a:lnTo>
                      <a:pt x="175" y="485"/>
                    </a:lnTo>
                    <a:lnTo>
                      <a:pt x="194" y="472"/>
                    </a:lnTo>
                    <a:lnTo>
                      <a:pt x="212" y="455"/>
                    </a:lnTo>
                    <a:lnTo>
                      <a:pt x="231" y="435"/>
                    </a:lnTo>
                    <a:lnTo>
                      <a:pt x="248" y="413"/>
                    </a:lnTo>
                    <a:lnTo>
                      <a:pt x="268" y="376"/>
                    </a:lnTo>
                    <a:lnTo>
                      <a:pt x="283" y="328"/>
                    </a:lnTo>
                    <a:lnTo>
                      <a:pt x="294" y="274"/>
                    </a:lnTo>
                    <a:lnTo>
                      <a:pt x="297" y="215"/>
                    </a:lnTo>
                    <a:lnTo>
                      <a:pt x="294" y="157"/>
                    </a:lnTo>
                    <a:lnTo>
                      <a:pt x="282" y="102"/>
                    </a:lnTo>
                    <a:lnTo>
                      <a:pt x="262" y="53"/>
                    </a:lnTo>
                    <a:lnTo>
                      <a:pt x="231" y="15"/>
                    </a:lnTo>
                    <a:close/>
                  </a:path>
                </a:pathLst>
              </a:custGeom>
              <a:solidFill>
                <a:srgbClr val="ffa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Freeform 165"/>
              <p:cNvSpPr/>
              <p:nvPr/>
            </p:nvSpPr>
            <p:spPr>
              <a:xfrm>
                <a:off x="2052360" y="471960"/>
                <a:ext cx="415800" cy="54000"/>
              </a:xfrm>
              <a:custGeom>
                <a:avLst/>
                <a:gdLst/>
                <a:ahLst/>
                <a:rect l="l" t="t" r="r" b="b"/>
                <a:pathLst>
                  <a:path w="406" h="150">
                    <a:moveTo>
                      <a:pt x="29" y="82"/>
                    </a:moveTo>
                    <a:lnTo>
                      <a:pt x="29" y="75"/>
                    </a:lnTo>
                    <a:lnTo>
                      <a:pt x="27" y="61"/>
                    </a:lnTo>
                    <a:lnTo>
                      <a:pt x="23" y="44"/>
                    </a:lnTo>
                    <a:lnTo>
                      <a:pt x="14" y="29"/>
                    </a:lnTo>
                    <a:lnTo>
                      <a:pt x="5" y="17"/>
                    </a:lnTo>
                    <a:lnTo>
                      <a:pt x="0" y="8"/>
                    </a:lnTo>
                    <a:lnTo>
                      <a:pt x="3" y="1"/>
                    </a:lnTo>
                    <a:lnTo>
                      <a:pt x="14" y="0"/>
                    </a:lnTo>
                    <a:lnTo>
                      <a:pt x="25" y="1"/>
                    </a:lnTo>
                    <a:lnTo>
                      <a:pt x="41" y="4"/>
                    </a:lnTo>
                    <a:lnTo>
                      <a:pt x="58" y="7"/>
                    </a:lnTo>
                    <a:lnTo>
                      <a:pt x="77" y="9"/>
                    </a:lnTo>
                    <a:lnTo>
                      <a:pt x="96" y="13"/>
                    </a:lnTo>
                    <a:lnTo>
                      <a:pt x="114" y="17"/>
                    </a:lnTo>
                    <a:lnTo>
                      <a:pt x="130" y="20"/>
                    </a:lnTo>
                    <a:lnTo>
                      <a:pt x="144" y="22"/>
                    </a:lnTo>
                    <a:lnTo>
                      <a:pt x="158" y="24"/>
                    </a:lnTo>
                    <a:lnTo>
                      <a:pt x="174" y="24"/>
                    </a:lnTo>
                    <a:lnTo>
                      <a:pt x="193" y="24"/>
                    </a:lnTo>
                    <a:lnTo>
                      <a:pt x="214" y="22"/>
                    </a:lnTo>
                    <a:lnTo>
                      <a:pt x="235" y="21"/>
                    </a:lnTo>
                    <a:lnTo>
                      <a:pt x="253" y="19"/>
                    </a:lnTo>
                    <a:lnTo>
                      <a:pt x="270" y="16"/>
                    </a:lnTo>
                    <a:lnTo>
                      <a:pt x="284" y="13"/>
                    </a:lnTo>
                    <a:lnTo>
                      <a:pt x="295" y="11"/>
                    </a:lnTo>
                    <a:lnTo>
                      <a:pt x="308" y="8"/>
                    </a:lnTo>
                    <a:lnTo>
                      <a:pt x="319" y="5"/>
                    </a:lnTo>
                    <a:lnTo>
                      <a:pt x="332" y="3"/>
                    </a:lnTo>
                    <a:lnTo>
                      <a:pt x="343" y="3"/>
                    </a:lnTo>
                    <a:lnTo>
                      <a:pt x="355" y="3"/>
                    </a:lnTo>
                    <a:lnTo>
                      <a:pt x="368" y="4"/>
                    </a:lnTo>
                    <a:lnTo>
                      <a:pt x="381" y="8"/>
                    </a:lnTo>
                    <a:lnTo>
                      <a:pt x="400" y="20"/>
                    </a:lnTo>
                    <a:lnTo>
                      <a:pt x="406" y="37"/>
                    </a:lnTo>
                    <a:lnTo>
                      <a:pt x="401" y="53"/>
                    </a:lnTo>
                    <a:lnTo>
                      <a:pt x="387" y="66"/>
                    </a:lnTo>
                    <a:lnTo>
                      <a:pt x="377" y="71"/>
                    </a:lnTo>
                    <a:lnTo>
                      <a:pt x="364" y="76"/>
                    </a:lnTo>
                    <a:lnTo>
                      <a:pt x="352" y="83"/>
                    </a:lnTo>
                    <a:lnTo>
                      <a:pt x="339" y="90"/>
                    </a:lnTo>
                    <a:lnTo>
                      <a:pt x="328" y="96"/>
                    </a:lnTo>
                    <a:lnTo>
                      <a:pt x="319" y="102"/>
                    </a:lnTo>
                    <a:lnTo>
                      <a:pt x="313" y="104"/>
                    </a:lnTo>
                    <a:lnTo>
                      <a:pt x="310" y="105"/>
                    </a:lnTo>
                    <a:lnTo>
                      <a:pt x="250" y="129"/>
                    </a:lnTo>
                    <a:lnTo>
                      <a:pt x="245" y="130"/>
                    </a:lnTo>
                    <a:lnTo>
                      <a:pt x="233" y="132"/>
                    </a:lnTo>
                    <a:lnTo>
                      <a:pt x="216" y="136"/>
                    </a:lnTo>
                    <a:lnTo>
                      <a:pt x="195" y="140"/>
                    </a:lnTo>
                    <a:lnTo>
                      <a:pt x="175" y="144"/>
                    </a:lnTo>
                    <a:lnTo>
                      <a:pt x="156" y="146"/>
                    </a:lnTo>
                    <a:lnTo>
                      <a:pt x="143" y="149"/>
                    </a:lnTo>
                    <a:lnTo>
                      <a:pt x="136" y="150"/>
                    </a:lnTo>
                    <a:lnTo>
                      <a:pt x="133" y="149"/>
                    </a:lnTo>
                    <a:lnTo>
                      <a:pt x="125" y="146"/>
                    </a:lnTo>
                    <a:lnTo>
                      <a:pt x="114" y="141"/>
                    </a:lnTo>
                    <a:lnTo>
                      <a:pt x="101" y="133"/>
                    </a:lnTo>
                    <a:lnTo>
                      <a:pt x="85" y="123"/>
                    </a:lnTo>
                    <a:lnTo>
                      <a:pt x="68" y="111"/>
                    </a:lnTo>
                    <a:lnTo>
                      <a:pt x="49" y="98"/>
                    </a:lnTo>
                    <a:lnTo>
                      <a:pt x="29" y="82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Freeform 166"/>
              <p:cNvSpPr/>
              <p:nvPr/>
            </p:nvSpPr>
            <p:spPr>
              <a:xfrm>
                <a:off x="1149480" y="521280"/>
                <a:ext cx="536040" cy="704880"/>
              </a:xfrm>
              <a:custGeom>
                <a:avLst/>
                <a:gdLst/>
                <a:ahLst/>
                <a:rect l="l" t="t" r="r" b="b"/>
                <a:pathLst>
                  <a:path w="521" h="1794">
                    <a:moveTo>
                      <a:pt x="221" y="0"/>
                    </a:moveTo>
                    <a:lnTo>
                      <a:pt x="217" y="4"/>
                    </a:lnTo>
                    <a:lnTo>
                      <a:pt x="204" y="14"/>
                    </a:lnTo>
                    <a:lnTo>
                      <a:pt x="187" y="33"/>
                    </a:lnTo>
                    <a:lnTo>
                      <a:pt x="164" y="58"/>
                    </a:lnTo>
                    <a:lnTo>
                      <a:pt x="139" y="92"/>
                    </a:lnTo>
                    <a:lnTo>
                      <a:pt x="113" y="134"/>
                    </a:lnTo>
                    <a:lnTo>
                      <a:pt x="85" y="184"/>
                    </a:lnTo>
                    <a:lnTo>
                      <a:pt x="60" y="244"/>
                    </a:lnTo>
                    <a:lnTo>
                      <a:pt x="37" y="312"/>
                    </a:lnTo>
                    <a:lnTo>
                      <a:pt x="18" y="388"/>
                    </a:lnTo>
                    <a:lnTo>
                      <a:pt x="5" y="475"/>
                    </a:lnTo>
                    <a:lnTo>
                      <a:pt x="0" y="570"/>
                    </a:lnTo>
                    <a:lnTo>
                      <a:pt x="4" y="676"/>
                    </a:lnTo>
                    <a:lnTo>
                      <a:pt x="19" y="791"/>
                    </a:lnTo>
                    <a:lnTo>
                      <a:pt x="46" y="918"/>
                    </a:lnTo>
                    <a:lnTo>
                      <a:pt x="85" y="1053"/>
                    </a:lnTo>
                    <a:lnTo>
                      <a:pt x="89" y="1060"/>
                    </a:lnTo>
                    <a:lnTo>
                      <a:pt x="100" y="1080"/>
                    </a:lnTo>
                    <a:lnTo>
                      <a:pt x="116" y="1111"/>
                    </a:lnTo>
                    <a:lnTo>
                      <a:pt x="139" y="1152"/>
                    </a:lnTo>
                    <a:lnTo>
                      <a:pt x="165" y="1201"/>
                    </a:lnTo>
                    <a:lnTo>
                      <a:pt x="196" y="1256"/>
                    </a:lnTo>
                    <a:lnTo>
                      <a:pt x="230" y="1317"/>
                    </a:lnTo>
                    <a:lnTo>
                      <a:pt x="265" y="1380"/>
                    </a:lnTo>
                    <a:lnTo>
                      <a:pt x="301" y="1443"/>
                    </a:lnTo>
                    <a:lnTo>
                      <a:pt x="338" y="1508"/>
                    </a:lnTo>
                    <a:lnTo>
                      <a:pt x="375" y="1570"/>
                    </a:lnTo>
                    <a:lnTo>
                      <a:pt x="410" y="1629"/>
                    </a:lnTo>
                    <a:lnTo>
                      <a:pt x="443" y="1682"/>
                    </a:lnTo>
                    <a:lnTo>
                      <a:pt x="473" y="1728"/>
                    </a:lnTo>
                    <a:lnTo>
                      <a:pt x="499" y="1766"/>
                    </a:lnTo>
                    <a:lnTo>
                      <a:pt x="521" y="1794"/>
                    </a:lnTo>
                    <a:lnTo>
                      <a:pt x="517" y="1787"/>
                    </a:lnTo>
                    <a:lnTo>
                      <a:pt x="507" y="1769"/>
                    </a:lnTo>
                    <a:lnTo>
                      <a:pt x="492" y="1740"/>
                    </a:lnTo>
                    <a:lnTo>
                      <a:pt x="472" y="1703"/>
                    </a:lnTo>
                    <a:lnTo>
                      <a:pt x="448" y="1657"/>
                    </a:lnTo>
                    <a:lnTo>
                      <a:pt x="419" y="1605"/>
                    </a:lnTo>
                    <a:lnTo>
                      <a:pt x="388" y="1549"/>
                    </a:lnTo>
                    <a:lnTo>
                      <a:pt x="357" y="1488"/>
                    </a:lnTo>
                    <a:lnTo>
                      <a:pt x="323" y="1426"/>
                    </a:lnTo>
                    <a:lnTo>
                      <a:pt x="289" y="1363"/>
                    </a:lnTo>
                    <a:lnTo>
                      <a:pt x="255" y="1301"/>
                    </a:lnTo>
                    <a:lnTo>
                      <a:pt x="223" y="1241"/>
                    </a:lnTo>
                    <a:lnTo>
                      <a:pt x="193" y="1184"/>
                    </a:lnTo>
                    <a:lnTo>
                      <a:pt x="164" y="1131"/>
                    </a:lnTo>
                    <a:lnTo>
                      <a:pt x="140" y="1085"/>
                    </a:lnTo>
                    <a:lnTo>
                      <a:pt x="120" y="1047"/>
                    </a:lnTo>
                    <a:lnTo>
                      <a:pt x="118" y="1040"/>
                    </a:lnTo>
                    <a:lnTo>
                      <a:pt x="111" y="1021"/>
                    </a:lnTo>
                    <a:lnTo>
                      <a:pt x="101" y="989"/>
                    </a:lnTo>
                    <a:lnTo>
                      <a:pt x="90" y="945"/>
                    </a:lnTo>
                    <a:lnTo>
                      <a:pt x="77" y="894"/>
                    </a:lnTo>
                    <a:lnTo>
                      <a:pt x="66" y="834"/>
                    </a:lnTo>
                    <a:lnTo>
                      <a:pt x="56" y="765"/>
                    </a:lnTo>
                    <a:lnTo>
                      <a:pt x="48" y="691"/>
                    </a:lnTo>
                    <a:lnTo>
                      <a:pt x="43" y="611"/>
                    </a:lnTo>
                    <a:lnTo>
                      <a:pt x="44" y="528"/>
                    </a:lnTo>
                    <a:lnTo>
                      <a:pt x="52" y="441"/>
                    </a:lnTo>
                    <a:lnTo>
                      <a:pt x="67" y="352"/>
                    </a:lnTo>
                    <a:lnTo>
                      <a:pt x="90" y="262"/>
                    </a:lnTo>
                    <a:lnTo>
                      <a:pt x="123" y="172"/>
                    </a:lnTo>
                    <a:lnTo>
                      <a:pt x="165" y="85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Freeform 167"/>
              <p:cNvSpPr/>
              <p:nvPr/>
            </p:nvSpPr>
            <p:spPr>
              <a:xfrm>
                <a:off x="1978200" y="502560"/>
                <a:ext cx="357840" cy="46800"/>
              </a:xfrm>
              <a:custGeom>
                <a:avLst/>
                <a:gdLst/>
                <a:ahLst/>
                <a:rect l="l" t="t" r="r" b="b"/>
                <a:pathLst>
                  <a:path w="350" h="120">
                    <a:moveTo>
                      <a:pt x="0" y="0"/>
                    </a:moveTo>
                    <a:lnTo>
                      <a:pt x="5" y="4"/>
                    </a:lnTo>
                    <a:lnTo>
                      <a:pt x="16" y="16"/>
                    </a:lnTo>
                    <a:lnTo>
                      <a:pt x="35" y="32"/>
                    </a:lnTo>
                    <a:lnTo>
                      <a:pt x="59" y="50"/>
                    </a:lnTo>
                    <a:lnTo>
                      <a:pt x="85" y="69"/>
                    </a:lnTo>
                    <a:lnTo>
                      <a:pt x="113" y="87"/>
                    </a:lnTo>
                    <a:lnTo>
                      <a:pt x="141" y="102"/>
                    </a:lnTo>
                    <a:lnTo>
                      <a:pt x="166" y="110"/>
                    </a:lnTo>
                    <a:lnTo>
                      <a:pt x="190" y="115"/>
                    </a:lnTo>
                    <a:lnTo>
                      <a:pt x="215" y="118"/>
                    </a:lnTo>
                    <a:lnTo>
                      <a:pt x="240" y="120"/>
                    </a:lnTo>
                    <a:lnTo>
                      <a:pt x="264" y="119"/>
                    </a:lnTo>
                    <a:lnTo>
                      <a:pt x="287" y="116"/>
                    </a:lnTo>
                    <a:lnTo>
                      <a:pt x="306" y="111"/>
                    </a:lnTo>
                    <a:lnTo>
                      <a:pt x="321" y="102"/>
                    </a:lnTo>
                    <a:lnTo>
                      <a:pt x="331" y="90"/>
                    </a:lnTo>
                    <a:lnTo>
                      <a:pt x="350" y="61"/>
                    </a:lnTo>
                    <a:lnTo>
                      <a:pt x="345" y="62"/>
                    </a:lnTo>
                    <a:lnTo>
                      <a:pt x="331" y="68"/>
                    </a:lnTo>
                    <a:lnTo>
                      <a:pt x="311" y="73"/>
                    </a:lnTo>
                    <a:lnTo>
                      <a:pt x="286" y="78"/>
                    </a:lnTo>
                    <a:lnTo>
                      <a:pt x="255" y="82"/>
                    </a:lnTo>
                    <a:lnTo>
                      <a:pt x="225" y="83"/>
                    </a:lnTo>
                    <a:lnTo>
                      <a:pt x="195" y="79"/>
                    </a:lnTo>
                    <a:lnTo>
                      <a:pt x="167" y="70"/>
                    </a:lnTo>
                    <a:lnTo>
                      <a:pt x="163" y="68"/>
                    </a:lnTo>
                    <a:lnTo>
                      <a:pt x="153" y="60"/>
                    </a:lnTo>
                    <a:lnTo>
                      <a:pt x="137" y="49"/>
                    </a:lnTo>
                    <a:lnTo>
                      <a:pt x="116" y="37"/>
                    </a:lnTo>
                    <a:lnTo>
                      <a:pt x="90" y="25"/>
                    </a:lnTo>
                    <a:lnTo>
                      <a:pt x="61" y="14"/>
                    </a:lnTo>
                    <a:lnTo>
                      <a:pt x="3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Freeform 168"/>
              <p:cNvSpPr/>
              <p:nvPr/>
            </p:nvSpPr>
            <p:spPr>
              <a:xfrm>
                <a:off x="1309320" y="575640"/>
                <a:ext cx="289800" cy="360720"/>
              </a:xfrm>
              <a:custGeom>
                <a:avLst/>
                <a:gdLst/>
                <a:ahLst/>
                <a:rect l="l" t="t" r="r" b="b"/>
                <a:pathLst>
                  <a:path w="281" h="918">
                    <a:moveTo>
                      <a:pt x="232" y="13"/>
                    </a:moveTo>
                    <a:lnTo>
                      <a:pt x="227" y="14"/>
                    </a:lnTo>
                    <a:lnTo>
                      <a:pt x="215" y="21"/>
                    </a:lnTo>
                    <a:lnTo>
                      <a:pt x="196" y="31"/>
                    </a:lnTo>
                    <a:lnTo>
                      <a:pt x="173" y="47"/>
                    </a:lnTo>
                    <a:lnTo>
                      <a:pt x="145" y="71"/>
                    </a:lnTo>
                    <a:lnTo>
                      <a:pt x="116" y="101"/>
                    </a:lnTo>
                    <a:lnTo>
                      <a:pt x="87" y="141"/>
                    </a:lnTo>
                    <a:lnTo>
                      <a:pt x="60" y="189"/>
                    </a:lnTo>
                    <a:lnTo>
                      <a:pt x="39" y="236"/>
                    </a:lnTo>
                    <a:lnTo>
                      <a:pt x="22" y="290"/>
                    </a:lnTo>
                    <a:lnTo>
                      <a:pt x="8" y="355"/>
                    </a:lnTo>
                    <a:lnTo>
                      <a:pt x="0" y="431"/>
                    </a:lnTo>
                    <a:lnTo>
                      <a:pt x="0" y="520"/>
                    </a:lnTo>
                    <a:lnTo>
                      <a:pt x="12" y="621"/>
                    </a:lnTo>
                    <a:lnTo>
                      <a:pt x="33" y="737"/>
                    </a:lnTo>
                    <a:lnTo>
                      <a:pt x="70" y="869"/>
                    </a:lnTo>
                    <a:lnTo>
                      <a:pt x="73" y="874"/>
                    </a:lnTo>
                    <a:lnTo>
                      <a:pt x="82" y="885"/>
                    </a:lnTo>
                    <a:lnTo>
                      <a:pt x="95" y="899"/>
                    </a:lnTo>
                    <a:lnTo>
                      <a:pt x="109" y="911"/>
                    </a:lnTo>
                    <a:lnTo>
                      <a:pt x="121" y="918"/>
                    </a:lnTo>
                    <a:lnTo>
                      <a:pt x="131" y="915"/>
                    </a:lnTo>
                    <a:lnTo>
                      <a:pt x="135" y="898"/>
                    </a:lnTo>
                    <a:lnTo>
                      <a:pt x="131" y="862"/>
                    </a:lnTo>
                    <a:lnTo>
                      <a:pt x="126" y="848"/>
                    </a:lnTo>
                    <a:lnTo>
                      <a:pt x="114" y="808"/>
                    </a:lnTo>
                    <a:lnTo>
                      <a:pt x="97" y="748"/>
                    </a:lnTo>
                    <a:lnTo>
                      <a:pt x="84" y="666"/>
                    </a:lnTo>
                    <a:lnTo>
                      <a:pt x="75" y="571"/>
                    </a:lnTo>
                    <a:lnTo>
                      <a:pt x="78" y="462"/>
                    </a:lnTo>
                    <a:lnTo>
                      <a:pt x="96" y="345"/>
                    </a:lnTo>
                    <a:lnTo>
                      <a:pt x="135" y="222"/>
                    </a:lnTo>
                    <a:lnTo>
                      <a:pt x="136" y="218"/>
                    </a:lnTo>
                    <a:lnTo>
                      <a:pt x="143" y="207"/>
                    </a:lnTo>
                    <a:lnTo>
                      <a:pt x="152" y="188"/>
                    </a:lnTo>
                    <a:lnTo>
                      <a:pt x="167" y="166"/>
                    </a:lnTo>
                    <a:lnTo>
                      <a:pt x="186" y="139"/>
                    </a:lnTo>
                    <a:lnTo>
                      <a:pt x="211" y="112"/>
                    </a:lnTo>
                    <a:lnTo>
                      <a:pt x="242" y="83"/>
                    </a:lnTo>
                    <a:lnTo>
                      <a:pt x="280" y="54"/>
                    </a:lnTo>
                    <a:lnTo>
                      <a:pt x="280" y="50"/>
                    </a:lnTo>
                    <a:lnTo>
                      <a:pt x="281" y="41"/>
                    </a:lnTo>
                    <a:lnTo>
                      <a:pt x="281" y="29"/>
                    </a:lnTo>
                    <a:lnTo>
                      <a:pt x="280" y="16"/>
                    </a:lnTo>
                    <a:lnTo>
                      <a:pt x="275" y="5"/>
                    </a:lnTo>
                    <a:lnTo>
                      <a:pt x="266" y="0"/>
                    </a:lnTo>
                    <a:lnTo>
                      <a:pt x="252" y="1"/>
                    </a:lnTo>
                    <a:lnTo>
                      <a:pt x="232" y="13"/>
                    </a:lnTo>
                    <a:close/>
                  </a:path>
                </a:pathLst>
              </a:custGeom>
              <a:solidFill>
                <a:srgbClr val="91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Freeform 169"/>
              <p:cNvSpPr/>
              <p:nvPr/>
            </p:nvSpPr>
            <p:spPr>
              <a:xfrm>
                <a:off x="1919520" y="1246680"/>
                <a:ext cx="388440" cy="33120"/>
              </a:xfrm>
              <a:custGeom>
                <a:avLst/>
                <a:gdLst/>
                <a:ahLst/>
                <a:rect l="l" t="t" r="r" b="b"/>
                <a:pathLst>
                  <a:path w="379" h="95">
                    <a:moveTo>
                      <a:pt x="0" y="71"/>
                    </a:moveTo>
                    <a:lnTo>
                      <a:pt x="4" y="70"/>
                    </a:lnTo>
                    <a:lnTo>
                      <a:pt x="15" y="66"/>
                    </a:lnTo>
                    <a:lnTo>
                      <a:pt x="31" y="60"/>
                    </a:lnTo>
                    <a:lnTo>
                      <a:pt x="51" y="54"/>
                    </a:lnTo>
                    <a:lnTo>
                      <a:pt x="73" y="46"/>
                    </a:lnTo>
                    <a:lnTo>
                      <a:pt x="94" y="37"/>
                    </a:lnTo>
                    <a:lnTo>
                      <a:pt x="113" y="29"/>
                    </a:lnTo>
                    <a:lnTo>
                      <a:pt x="128" y="19"/>
                    </a:lnTo>
                    <a:lnTo>
                      <a:pt x="142" y="12"/>
                    </a:lnTo>
                    <a:lnTo>
                      <a:pt x="157" y="5"/>
                    </a:lnTo>
                    <a:lnTo>
                      <a:pt x="175" y="1"/>
                    </a:lnTo>
                    <a:lnTo>
                      <a:pt x="195" y="0"/>
                    </a:lnTo>
                    <a:lnTo>
                      <a:pt x="218" y="2"/>
                    </a:lnTo>
                    <a:lnTo>
                      <a:pt x="243" y="9"/>
                    </a:lnTo>
                    <a:lnTo>
                      <a:pt x="272" y="19"/>
                    </a:lnTo>
                    <a:lnTo>
                      <a:pt x="302" y="37"/>
                    </a:lnTo>
                    <a:lnTo>
                      <a:pt x="379" y="95"/>
                    </a:lnTo>
                    <a:lnTo>
                      <a:pt x="376" y="95"/>
                    </a:lnTo>
                    <a:lnTo>
                      <a:pt x="368" y="95"/>
                    </a:lnTo>
                    <a:lnTo>
                      <a:pt x="355" y="93"/>
                    </a:lnTo>
                    <a:lnTo>
                      <a:pt x="340" y="92"/>
                    </a:lnTo>
                    <a:lnTo>
                      <a:pt x="323" y="89"/>
                    </a:lnTo>
                    <a:lnTo>
                      <a:pt x="306" y="85"/>
                    </a:lnTo>
                    <a:lnTo>
                      <a:pt x="291" y="80"/>
                    </a:lnTo>
                    <a:lnTo>
                      <a:pt x="277" y="72"/>
                    </a:lnTo>
                    <a:lnTo>
                      <a:pt x="273" y="70"/>
                    </a:lnTo>
                    <a:lnTo>
                      <a:pt x="262" y="66"/>
                    </a:lnTo>
                    <a:lnTo>
                      <a:pt x="244" y="59"/>
                    </a:lnTo>
                    <a:lnTo>
                      <a:pt x="220" y="52"/>
                    </a:lnTo>
                    <a:lnTo>
                      <a:pt x="191" y="50"/>
                    </a:lnTo>
                    <a:lnTo>
                      <a:pt x="158" y="51"/>
                    </a:lnTo>
                    <a:lnTo>
                      <a:pt x="121" y="58"/>
                    </a:lnTo>
                    <a:lnTo>
                      <a:pt x="79" y="72"/>
                    </a:lnTo>
                    <a:lnTo>
                      <a:pt x="78" y="73"/>
                    </a:lnTo>
                    <a:lnTo>
                      <a:pt x="73" y="75"/>
                    </a:lnTo>
                    <a:lnTo>
                      <a:pt x="65" y="77"/>
                    </a:lnTo>
                    <a:lnTo>
                      <a:pt x="55" y="80"/>
                    </a:lnTo>
                    <a:lnTo>
                      <a:pt x="43" y="81"/>
                    </a:lnTo>
                    <a:lnTo>
                      <a:pt x="29" y="80"/>
                    </a:lnTo>
                    <a:lnTo>
                      <a:pt x="15" y="77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2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Freeform 170"/>
              <p:cNvSpPr/>
              <p:nvPr/>
            </p:nvSpPr>
            <p:spPr>
              <a:xfrm>
                <a:off x="2570400" y="481320"/>
                <a:ext cx="391320" cy="86040"/>
              </a:xfrm>
              <a:custGeom>
                <a:avLst/>
                <a:gdLst/>
                <a:ahLst/>
                <a:rect l="l" t="t" r="r" b="b"/>
                <a:pathLst>
                  <a:path w="382" h="221">
                    <a:moveTo>
                      <a:pt x="0" y="0"/>
                    </a:moveTo>
                    <a:lnTo>
                      <a:pt x="4" y="0"/>
                    </a:lnTo>
                    <a:lnTo>
                      <a:pt x="13" y="0"/>
                    </a:lnTo>
                    <a:lnTo>
                      <a:pt x="27" y="1"/>
                    </a:lnTo>
                    <a:lnTo>
                      <a:pt x="46" y="2"/>
                    </a:lnTo>
                    <a:lnTo>
                      <a:pt x="68" y="6"/>
                    </a:lnTo>
                    <a:lnTo>
                      <a:pt x="95" y="10"/>
                    </a:lnTo>
                    <a:lnTo>
                      <a:pt x="124" y="17"/>
                    </a:lnTo>
                    <a:lnTo>
                      <a:pt x="154" y="26"/>
                    </a:lnTo>
                    <a:lnTo>
                      <a:pt x="185" y="38"/>
                    </a:lnTo>
                    <a:lnTo>
                      <a:pt x="217" y="52"/>
                    </a:lnTo>
                    <a:lnTo>
                      <a:pt x="250" y="71"/>
                    </a:lnTo>
                    <a:lnTo>
                      <a:pt x="280" y="92"/>
                    </a:lnTo>
                    <a:lnTo>
                      <a:pt x="310" y="117"/>
                    </a:lnTo>
                    <a:lnTo>
                      <a:pt x="337" y="147"/>
                    </a:lnTo>
                    <a:lnTo>
                      <a:pt x="362" y="182"/>
                    </a:lnTo>
                    <a:lnTo>
                      <a:pt x="382" y="221"/>
                    </a:lnTo>
                    <a:lnTo>
                      <a:pt x="381" y="220"/>
                    </a:lnTo>
                    <a:lnTo>
                      <a:pt x="376" y="216"/>
                    </a:lnTo>
                    <a:lnTo>
                      <a:pt x="368" y="208"/>
                    </a:lnTo>
                    <a:lnTo>
                      <a:pt x="358" y="200"/>
                    </a:lnTo>
                    <a:lnTo>
                      <a:pt x="344" y="188"/>
                    </a:lnTo>
                    <a:lnTo>
                      <a:pt x="328" y="175"/>
                    </a:lnTo>
                    <a:lnTo>
                      <a:pt x="308" y="160"/>
                    </a:lnTo>
                    <a:lnTo>
                      <a:pt x="286" y="145"/>
                    </a:lnTo>
                    <a:lnTo>
                      <a:pt x="260" y="128"/>
                    </a:lnTo>
                    <a:lnTo>
                      <a:pt x="232" y="110"/>
                    </a:lnTo>
                    <a:lnTo>
                      <a:pt x="200" y="92"/>
                    </a:lnTo>
                    <a:lnTo>
                      <a:pt x="166" y="74"/>
                    </a:lnTo>
                    <a:lnTo>
                      <a:pt x="129" y="54"/>
                    </a:lnTo>
                    <a:lnTo>
                      <a:pt x="88" y="35"/>
                    </a:lnTo>
                    <a:lnTo>
                      <a:pt x="46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Freeform 171"/>
              <p:cNvSpPr/>
              <p:nvPr/>
            </p:nvSpPr>
            <p:spPr>
              <a:xfrm>
                <a:off x="2049480" y="345600"/>
                <a:ext cx="175320" cy="198000"/>
              </a:xfrm>
              <a:custGeom>
                <a:avLst/>
                <a:gdLst/>
                <a:ahLst/>
                <a:rect l="l" t="t" r="r" b="b"/>
                <a:pathLst>
                  <a:path w="174" h="503">
                    <a:moveTo>
                      <a:pt x="115" y="481"/>
                    </a:moveTo>
                    <a:lnTo>
                      <a:pt x="113" y="468"/>
                    </a:lnTo>
                    <a:lnTo>
                      <a:pt x="108" y="432"/>
                    </a:lnTo>
                    <a:lnTo>
                      <a:pt x="101" y="381"/>
                    </a:lnTo>
                    <a:lnTo>
                      <a:pt x="89" y="318"/>
                    </a:lnTo>
                    <a:lnTo>
                      <a:pt x="73" y="249"/>
                    </a:lnTo>
                    <a:lnTo>
                      <a:pt x="53" y="182"/>
                    </a:lnTo>
                    <a:lnTo>
                      <a:pt x="29" y="120"/>
                    </a:lnTo>
                    <a:lnTo>
                      <a:pt x="0" y="72"/>
                    </a:lnTo>
                    <a:lnTo>
                      <a:pt x="1" y="68"/>
                    </a:lnTo>
                    <a:lnTo>
                      <a:pt x="4" y="58"/>
                    </a:lnTo>
                    <a:lnTo>
                      <a:pt x="9" y="46"/>
                    </a:lnTo>
                    <a:lnTo>
                      <a:pt x="16" y="32"/>
                    </a:lnTo>
                    <a:lnTo>
                      <a:pt x="25" y="18"/>
                    </a:lnTo>
                    <a:lnTo>
                      <a:pt x="38" y="7"/>
                    </a:lnTo>
                    <a:lnTo>
                      <a:pt x="52" y="0"/>
                    </a:lnTo>
                    <a:lnTo>
                      <a:pt x="68" y="2"/>
                    </a:lnTo>
                    <a:lnTo>
                      <a:pt x="113" y="27"/>
                    </a:lnTo>
                    <a:lnTo>
                      <a:pt x="117" y="40"/>
                    </a:lnTo>
                    <a:lnTo>
                      <a:pt x="126" y="75"/>
                    </a:lnTo>
                    <a:lnTo>
                      <a:pt x="137" y="128"/>
                    </a:lnTo>
                    <a:lnTo>
                      <a:pt x="150" y="194"/>
                    </a:lnTo>
                    <a:lnTo>
                      <a:pt x="162" y="266"/>
                    </a:lnTo>
                    <a:lnTo>
                      <a:pt x="171" y="340"/>
                    </a:lnTo>
                    <a:lnTo>
                      <a:pt x="174" y="411"/>
                    </a:lnTo>
                    <a:lnTo>
                      <a:pt x="170" y="473"/>
                    </a:lnTo>
                    <a:lnTo>
                      <a:pt x="169" y="476"/>
                    </a:lnTo>
                    <a:lnTo>
                      <a:pt x="166" y="482"/>
                    </a:lnTo>
                    <a:lnTo>
                      <a:pt x="161" y="490"/>
                    </a:lnTo>
                    <a:lnTo>
                      <a:pt x="156" y="498"/>
                    </a:lnTo>
                    <a:lnTo>
                      <a:pt x="147" y="503"/>
                    </a:lnTo>
                    <a:lnTo>
                      <a:pt x="139" y="503"/>
                    </a:lnTo>
                    <a:lnTo>
                      <a:pt x="127" y="497"/>
                    </a:lnTo>
                    <a:lnTo>
                      <a:pt x="115" y="481"/>
                    </a:lnTo>
                    <a:close/>
                  </a:path>
                </a:pathLst>
              </a:custGeom>
              <a:solidFill>
                <a:srgbClr val="5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172"/>
              <p:cNvSpPr/>
              <p:nvPr/>
            </p:nvSpPr>
            <p:spPr>
              <a:xfrm>
                <a:off x="2122920" y="353880"/>
                <a:ext cx="86400" cy="132840"/>
              </a:xfrm>
              <a:custGeom>
                <a:avLst/>
                <a:gdLst/>
                <a:ahLst/>
                <a:rect l="l" t="t" r="r" b="b"/>
                <a:pathLst>
                  <a:path w="84" h="339">
                    <a:moveTo>
                      <a:pt x="0" y="0"/>
                    </a:moveTo>
                    <a:lnTo>
                      <a:pt x="5" y="1"/>
                    </a:lnTo>
                    <a:lnTo>
                      <a:pt x="16" y="4"/>
                    </a:lnTo>
                    <a:lnTo>
                      <a:pt x="29" y="11"/>
                    </a:lnTo>
                    <a:lnTo>
                      <a:pt x="36" y="21"/>
                    </a:lnTo>
                    <a:lnTo>
                      <a:pt x="39" y="30"/>
                    </a:lnTo>
                    <a:lnTo>
                      <a:pt x="44" y="54"/>
                    </a:lnTo>
                    <a:lnTo>
                      <a:pt x="51" y="90"/>
                    </a:lnTo>
                    <a:lnTo>
                      <a:pt x="60" y="133"/>
                    </a:lnTo>
                    <a:lnTo>
                      <a:pt x="69" y="183"/>
                    </a:lnTo>
                    <a:lnTo>
                      <a:pt x="77" y="236"/>
                    </a:lnTo>
                    <a:lnTo>
                      <a:pt x="83" y="289"/>
                    </a:lnTo>
                    <a:lnTo>
                      <a:pt x="84" y="336"/>
                    </a:lnTo>
                    <a:lnTo>
                      <a:pt x="83" y="337"/>
                    </a:lnTo>
                    <a:lnTo>
                      <a:pt x="79" y="339"/>
                    </a:lnTo>
                    <a:lnTo>
                      <a:pt x="74" y="336"/>
                    </a:lnTo>
                    <a:lnTo>
                      <a:pt x="69" y="328"/>
                    </a:lnTo>
                    <a:lnTo>
                      <a:pt x="68" y="316"/>
                    </a:lnTo>
                    <a:lnTo>
                      <a:pt x="63" y="285"/>
                    </a:lnTo>
                    <a:lnTo>
                      <a:pt x="56" y="240"/>
                    </a:lnTo>
                    <a:lnTo>
                      <a:pt x="48" y="186"/>
                    </a:lnTo>
                    <a:lnTo>
                      <a:pt x="38" y="129"/>
                    </a:lnTo>
                    <a:lnTo>
                      <a:pt x="26" y="75"/>
                    </a:ln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28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Freeform 173"/>
              <p:cNvSpPr/>
              <p:nvPr/>
            </p:nvSpPr>
            <p:spPr>
              <a:xfrm>
                <a:off x="2064960" y="369000"/>
                <a:ext cx="131760" cy="176760"/>
              </a:xfrm>
              <a:custGeom>
                <a:avLst/>
                <a:gdLst/>
                <a:ahLst/>
                <a:rect l="l" t="t" r="r" b="b"/>
                <a:pathLst>
                  <a:path w="127" h="450">
                    <a:moveTo>
                      <a:pt x="22" y="0"/>
                    </a:moveTo>
                    <a:lnTo>
                      <a:pt x="25" y="6"/>
                    </a:lnTo>
                    <a:lnTo>
                      <a:pt x="34" y="26"/>
                    </a:lnTo>
                    <a:lnTo>
                      <a:pt x="48" y="59"/>
                    </a:lnTo>
                    <a:lnTo>
                      <a:pt x="66" y="106"/>
                    </a:lnTo>
                    <a:lnTo>
                      <a:pt x="83" y="170"/>
                    </a:lnTo>
                    <a:lnTo>
                      <a:pt x="100" y="247"/>
                    </a:lnTo>
                    <a:lnTo>
                      <a:pt x="116" y="341"/>
                    </a:lnTo>
                    <a:lnTo>
                      <a:pt x="127" y="450"/>
                    </a:lnTo>
                    <a:lnTo>
                      <a:pt x="124" y="449"/>
                    </a:lnTo>
                    <a:lnTo>
                      <a:pt x="116" y="446"/>
                    </a:lnTo>
                    <a:lnTo>
                      <a:pt x="107" y="440"/>
                    </a:lnTo>
                    <a:lnTo>
                      <a:pt x="101" y="429"/>
                    </a:lnTo>
                    <a:lnTo>
                      <a:pt x="100" y="417"/>
                    </a:lnTo>
                    <a:lnTo>
                      <a:pt x="97" y="384"/>
                    </a:lnTo>
                    <a:lnTo>
                      <a:pt x="92" y="335"/>
                    </a:lnTo>
                    <a:lnTo>
                      <a:pt x="84" y="275"/>
                    </a:lnTo>
                    <a:lnTo>
                      <a:pt x="72" y="208"/>
                    </a:lnTo>
                    <a:lnTo>
                      <a:pt x="53" y="139"/>
                    </a:lnTo>
                    <a:lnTo>
                      <a:pt x="30" y="72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5" y="5"/>
                    </a:lnTo>
                    <a:lnTo>
                      <a:pt x="13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174"/>
              <p:cNvSpPr/>
              <p:nvPr/>
            </p:nvSpPr>
            <p:spPr>
              <a:xfrm>
                <a:off x="1537920" y="444600"/>
                <a:ext cx="366120" cy="42120"/>
              </a:xfrm>
              <a:custGeom>
                <a:avLst/>
                <a:gdLst/>
                <a:ahLst/>
                <a:rect l="l" t="t" r="r" b="b"/>
                <a:pathLst>
                  <a:path w="356" h="110">
                    <a:moveTo>
                      <a:pt x="4" y="73"/>
                    </a:moveTo>
                    <a:lnTo>
                      <a:pt x="5" y="72"/>
                    </a:lnTo>
                    <a:lnTo>
                      <a:pt x="8" y="68"/>
                    </a:lnTo>
                    <a:lnTo>
                      <a:pt x="14" y="62"/>
                    </a:lnTo>
                    <a:lnTo>
                      <a:pt x="22" y="54"/>
                    </a:lnTo>
                    <a:lnTo>
                      <a:pt x="32" y="46"/>
                    </a:lnTo>
                    <a:lnTo>
                      <a:pt x="44" y="35"/>
                    </a:lnTo>
                    <a:lnTo>
                      <a:pt x="61" y="26"/>
                    </a:lnTo>
                    <a:lnTo>
                      <a:pt x="80" y="18"/>
                    </a:lnTo>
                    <a:lnTo>
                      <a:pt x="101" y="10"/>
                    </a:lnTo>
                    <a:lnTo>
                      <a:pt x="126" y="5"/>
                    </a:lnTo>
                    <a:lnTo>
                      <a:pt x="155" y="1"/>
                    </a:lnTo>
                    <a:lnTo>
                      <a:pt x="188" y="0"/>
                    </a:lnTo>
                    <a:lnTo>
                      <a:pt x="223" y="1"/>
                    </a:lnTo>
                    <a:lnTo>
                      <a:pt x="262" y="8"/>
                    </a:lnTo>
                    <a:lnTo>
                      <a:pt x="306" y="18"/>
                    </a:lnTo>
                    <a:lnTo>
                      <a:pt x="354" y="33"/>
                    </a:lnTo>
                    <a:lnTo>
                      <a:pt x="354" y="34"/>
                    </a:lnTo>
                    <a:lnTo>
                      <a:pt x="356" y="37"/>
                    </a:lnTo>
                    <a:lnTo>
                      <a:pt x="356" y="39"/>
                    </a:lnTo>
                    <a:lnTo>
                      <a:pt x="356" y="43"/>
                    </a:lnTo>
                    <a:lnTo>
                      <a:pt x="352" y="47"/>
                    </a:lnTo>
                    <a:lnTo>
                      <a:pt x="346" y="50"/>
                    </a:lnTo>
                    <a:lnTo>
                      <a:pt x="335" y="52"/>
                    </a:lnTo>
                    <a:lnTo>
                      <a:pt x="322" y="52"/>
                    </a:lnTo>
                    <a:lnTo>
                      <a:pt x="312" y="52"/>
                    </a:lnTo>
                    <a:lnTo>
                      <a:pt x="300" y="51"/>
                    </a:lnTo>
                    <a:lnTo>
                      <a:pt x="286" y="51"/>
                    </a:lnTo>
                    <a:lnTo>
                      <a:pt x="270" y="52"/>
                    </a:lnTo>
                    <a:lnTo>
                      <a:pt x="252" y="52"/>
                    </a:lnTo>
                    <a:lnTo>
                      <a:pt x="235" y="54"/>
                    </a:lnTo>
                    <a:lnTo>
                      <a:pt x="216" y="55"/>
                    </a:lnTo>
                    <a:lnTo>
                      <a:pt x="196" y="58"/>
                    </a:lnTo>
                    <a:lnTo>
                      <a:pt x="175" y="60"/>
                    </a:lnTo>
                    <a:lnTo>
                      <a:pt x="155" y="64"/>
                    </a:lnTo>
                    <a:lnTo>
                      <a:pt x="136" y="68"/>
                    </a:lnTo>
                    <a:lnTo>
                      <a:pt x="118" y="75"/>
                    </a:lnTo>
                    <a:lnTo>
                      <a:pt x="100" y="81"/>
                    </a:lnTo>
                    <a:lnTo>
                      <a:pt x="83" y="88"/>
                    </a:lnTo>
                    <a:lnTo>
                      <a:pt x="68" y="97"/>
                    </a:lnTo>
                    <a:lnTo>
                      <a:pt x="55" y="108"/>
                    </a:lnTo>
                    <a:lnTo>
                      <a:pt x="52" y="109"/>
                    </a:lnTo>
                    <a:lnTo>
                      <a:pt x="43" y="110"/>
                    </a:lnTo>
                    <a:lnTo>
                      <a:pt x="33" y="110"/>
                    </a:lnTo>
                    <a:lnTo>
                      <a:pt x="21" y="110"/>
                    </a:lnTo>
                    <a:lnTo>
                      <a:pt x="10" y="108"/>
                    </a:lnTo>
                    <a:lnTo>
                      <a:pt x="3" y="101"/>
                    </a:lnTo>
                    <a:lnTo>
                      <a:pt x="0" y="90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Freeform 175"/>
              <p:cNvSpPr/>
              <p:nvPr/>
            </p:nvSpPr>
            <p:spPr>
              <a:xfrm>
                <a:off x="1590480" y="445680"/>
                <a:ext cx="240120" cy="33120"/>
              </a:xfrm>
              <a:custGeom>
                <a:avLst/>
                <a:gdLst/>
                <a:ahLst/>
                <a:rect l="l" t="t" r="r" b="b"/>
                <a:pathLst>
                  <a:path w="234" h="86">
                    <a:moveTo>
                      <a:pt x="4" y="57"/>
                    </a:moveTo>
                    <a:lnTo>
                      <a:pt x="6" y="56"/>
                    </a:lnTo>
                    <a:lnTo>
                      <a:pt x="7" y="53"/>
                    </a:lnTo>
                    <a:lnTo>
                      <a:pt x="11" y="48"/>
                    </a:lnTo>
                    <a:lnTo>
                      <a:pt x="16" y="42"/>
                    </a:lnTo>
                    <a:lnTo>
                      <a:pt x="22" y="36"/>
                    </a:lnTo>
                    <a:lnTo>
                      <a:pt x="31" y="28"/>
                    </a:lnTo>
                    <a:lnTo>
                      <a:pt x="41" y="21"/>
                    </a:lnTo>
                    <a:lnTo>
                      <a:pt x="53" y="15"/>
                    </a:lnTo>
                    <a:lnTo>
                      <a:pt x="67" y="9"/>
                    </a:lnTo>
                    <a:lnTo>
                      <a:pt x="84" y="4"/>
                    </a:lnTo>
                    <a:lnTo>
                      <a:pt x="103" y="2"/>
                    </a:lnTo>
                    <a:lnTo>
                      <a:pt x="124" y="0"/>
                    </a:lnTo>
                    <a:lnTo>
                      <a:pt x="147" y="2"/>
                    </a:lnTo>
                    <a:lnTo>
                      <a:pt x="173" y="6"/>
                    </a:lnTo>
                    <a:lnTo>
                      <a:pt x="201" y="13"/>
                    </a:lnTo>
                    <a:lnTo>
                      <a:pt x="232" y="24"/>
                    </a:lnTo>
                    <a:lnTo>
                      <a:pt x="234" y="27"/>
                    </a:lnTo>
                    <a:lnTo>
                      <a:pt x="234" y="32"/>
                    </a:lnTo>
                    <a:lnTo>
                      <a:pt x="227" y="38"/>
                    </a:lnTo>
                    <a:lnTo>
                      <a:pt x="211" y="40"/>
                    </a:lnTo>
                    <a:lnTo>
                      <a:pt x="197" y="38"/>
                    </a:lnTo>
                    <a:lnTo>
                      <a:pt x="177" y="40"/>
                    </a:lnTo>
                    <a:lnTo>
                      <a:pt x="154" y="41"/>
                    </a:lnTo>
                    <a:lnTo>
                      <a:pt x="129" y="44"/>
                    </a:lnTo>
                    <a:lnTo>
                      <a:pt x="103" y="49"/>
                    </a:lnTo>
                    <a:lnTo>
                      <a:pt x="77" y="57"/>
                    </a:lnTo>
                    <a:lnTo>
                      <a:pt x="55" y="69"/>
                    </a:lnTo>
                    <a:lnTo>
                      <a:pt x="37" y="83"/>
                    </a:lnTo>
                    <a:lnTo>
                      <a:pt x="34" y="83"/>
                    </a:lnTo>
                    <a:lnTo>
                      <a:pt x="29" y="85"/>
                    </a:lnTo>
                    <a:lnTo>
                      <a:pt x="22" y="86"/>
                    </a:lnTo>
                    <a:lnTo>
                      <a:pt x="14" y="85"/>
                    </a:lnTo>
                    <a:lnTo>
                      <a:pt x="8" y="83"/>
                    </a:lnTo>
                    <a:lnTo>
                      <a:pt x="3" y="78"/>
                    </a:lnTo>
                    <a:lnTo>
                      <a:pt x="0" y="69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Freeform 176"/>
              <p:cNvSpPr/>
              <p:nvPr/>
            </p:nvSpPr>
            <p:spPr>
              <a:xfrm>
                <a:off x="1658160" y="453960"/>
                <a:ext cx="110160" cy="1404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2" y="24"/>
                    </a:moveTo>
                    <a:lnTo>
                      <a:pt x="3" y="23"/>
                    </a:lnTo>
                    <a:lnTo>
                      <a:pt x="7" y="17"/>
                    </a:lnTo>
                    <a:lnTo>
                      <a:pt x="14" y="12"/>
                    </a:lnTo>
                    <a:lnTo>
                      <a:pt x="25" y="6"/>
                    </a:lnTo>
                    <a:lnTo>
                      <a:pt x="39" y="2"/>
                    </a:lnTo>
                    <a:lnTo>
                      <a:pt x="58" y="0"/>
                    </a:lnTo>
                    <a:lnTo>
                      <a:pt x="81" y="3"/>
                    </a:lnTo>
                    <a:lnTo>
                      <a:pt x="109" y="11"/>
                    </a:lnTo>
                    <a:lnTo>
                      <a:pt x="109" y="12"/>
                    </a:lnTo>
                    <a:lnTo>
                      <a:pt x="109" y="14"/>
                    </a:lnTo>
                    <a:lnTo>
                      <a:pt x="106" y="16"/>
                    </a:lnTo>
                    <a:lnTo>
                      <a:pt x="99" y="17"/>
                    </a:lnTo>
                    <a:lnTo>
                      <a:pt x="92" y="17"/>
                    </a:lnTo>
                    <a:lnTo>
                      <a:pt x="82" y="17"/>
                    </a:lnTo>
                    <a:lnTo>
                      <a:pt x="72" y="17"/>
                    </a:lnTo>
                    <a:lnTo>
                      <a:pt x="59" y="19"/>
                    </a:lnTo>
                    <a:lnTo>
                      <a:pt x="48" y="21"/>
                    </a:lnTo>
                    <a:lnTo>
                      <a:pt x="36" y="24"/>
                    </a:lnTo>
                    <a:lnTo>
                      <a:pt x="25" y="29"/>
                    </a:lnTo>
                    <a:lnTo>
                      <a:pt x="17" y="36"/>
                    </a:lnTo>
                    <a:lnTo>
                      <a:pt x="13" y="36"/>
                    </a:lnTo>
                    <a:lnTo>
                      <a:pt x="7" y="36"/>
                    </a:lnTo>
                    <a:lnTo>
                      <a:pt x="0" y="33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ffc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Freeform 177"/>
              <p:cNvSpPr/>
              <p:nvPr/>
            </p:nvSpPr>
            <p:spPr>
              <a:xfrm>
                <a:off x="1907640" y="1119240"/>
                <a:ext cx="113760" cy="86040"/>
              </a:xfrm>
              <a:custGeom>
                <a:avLst/>
                <a:gdLst/>
                <a:ahLst/>
                <a:rect l="l" t="t" r="r" b="b"/>
                <a:pathLst>
                  <a:path w="111" h="217">
                    <a:moveTo>
                      <a:pt x="25" y="22"/>
                    </a:moveTo>
                    <a:lnTo>
                      <a:pt x="20" y="46"/>
                    </a:lnTo>
                    <a:lnTo>
                      <a:pt x="9" y="99"/>
                    </a:lnTo>
                    <a:lnTo>
                      <a:pt x="0" y="157"/>
                    </a:lnTo>
                    <a:lnTo>
                      <a:pt x="0" y="195"/>
                    </a:lnTo>
                    <a:lnTo>
                      <a:pt x="5" y="203"/>
                    </a:lnTo>
                    <a:lnTo>
                      <a:pt x="13" y="209"/>
                    </a:lnTo>
                    <a:lnTo>
                      <a:pt x="22" y="213"/>
                    </a:lnTo>
                    <a:lnTo>
                      <a:pt x="32" y="216"/>
                    </a:lnTo>
                    <a:lnTo>
                      <a:pt x="43" y="217"/>
                    </a:lnTo>
                    <a:lnTo>
                      <a:pt x="53" y="217"/>
                    </a:lnTo>
                    <a:lnTo>
                      <a:pt x="62" y="217"/>
                    </a:lnTo>
                    <a:lnTo>
                      <a:pt x="71" y="217"/>
                    </a:lnTo>
                    <a:lnTo>
                      <a:pt x="86" y="211"/>
                    </a:lnTo>
                    <a:lnTo>
                      <a:pt x="97" y="194"/>
                    </a:lnTo>
                    <a:lnTo>
                      <a:pt x="103" y="174"/>
                    </a:lnTo>
                    <a:lnTo>
                      <a:pt x="107" y="155"/>
                    </a:lnTo>
                    <a:lnTo>
                      <a:pt x="107" y="132"/>
                    </a:lnTo>
                    <a:lnTo>
                      <a:pt x="110" y="99"/>
                    </a:lnTo>
                    <a:lnTo>
                      <a:pt x="111" y="70"/>
                    </a:lnTo>
                    <a:lnTo>
                      <a:pt x="111" y="58"/>
                    </a:lnTo>
                    <a:lnTo>
                      <a:pt x="110" y="54"/>
                    </a:lnTo>
                    <a:lnTo>
                      <a:pt x="106" y="44"/>
                    </a:lnTo>
                    <a:lnTo>
                      <a:pt x="100" y="29"/>
                    </a:lnTo>
                    <a:lnTo>
                      <a:pt x="91" y="15"/>
                    </a:lnTo>
                    <a:lnTo>
                      <a:pt x="79" y="4"/>
                    </a:lnTo>
                    <a:lnTo>
                      <a:pt x="64" y="0"/>
                    </a:lnTo>
                    <a:lnTo>
                      <a:pt x="47" y="5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Freeform 178"/>
              <p:cNvSpPr/>
              <p:nvPr/>
            </p:nvSpPr>
            <p:spPr>
              <a:xfrm>
                <a:off x="2329920" y="1146240"/>
                <a:ext cx="101160" cy="82440"/>
              </a:xfrm>
              <a:custGeom>
                <a:avLst/>
                <a:gdLst/>
                <a:ahLst/>
                <a:rect l="l" t="t" r="r" b="b"/>
                <a:pathLst>
                  <a:path w="99" h="198">
                    <a:moveTo>
                      <a:pt x="26" y="21"/>
                    </a:moveTo>
                    <a:lnTo>
                      <a:pt x="20" y="30"/>
                    </a:lnTo>
                    <a:lnTo>
                      <a:pt x="14" y="45"/>
                    </a:lnTo>
                    <a:lnTo>
                      <a:pt x="7" y="65"/>
                    </a:lnTo>
                    <a:lnTo>
                      <a:pt x="2" y="88"/>
                    </a:lnTo>
                    <a:lnTo>
                      <a:pt x="0" y="112"/>
                    </a:lnTo>
                    <a:lnTo>
                      <a:pt x="0" y="136"/>
                    </a:lnTo>
                    <a:lnTo>
                      <a:pt x="4" y="158"/>
                    </a:lnTo>
                    <a:lnTo>
                      <a:pt x="12" y="177"/>
                    </a:lnTo>
                    <a:lnTo>
                      <a:pt x="24" y="190"/>
                    </a:lnTo>
                    <a:lnTo>
                      <a:pt x="36" y="196"/>
                    </a:lnTo>
                    <a:lnTo>
                      <a:pt x="49" y="198"/>
                    </a:lnTo>
                    <a:lnTo>
                      <a:pt x="62" y="195"/>
                    </a:lnTo>
                    <a:lnTo>
                      <a:pt x="74" y="190"/>
                    </a:lnTo>
                    <a:lnTo>
                      <a:pt x="83" y="183"/>
                    </a:lnTo>
                    <a:lnTo>
                      <a:pt x="91" y="175"/>
                    </a:lnTo>
                    <a:lnTo>
                      <a:pt x="96" y="169"/>
                    </a:lnTo>
                    <a:lnTo>
                      <a:pt x="99" y="138"/>
                    </a:lnTo>
                    <a:lnTo>
                      <a:pt x="98" y="90"/>
                    </a:lnTo>
                    <a:lnTo>
                      <a:pt x="94" y="40"/>
                    </a:lnTo>
                    <a:lnTo>
                      <a:pt x="85" y="12"/>
                    </a:lnTo>
                    <a:lnTo>
                      <a:pt x="80" y="7"/>
                    </a:lnTo>
                    <a:lnTo>
                      <a:pt x="75" y="4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57" y="2"/>
                    </a:lnTo>
                    <a:lnTo>
                      <a:pt x="48" y="5"/>
                    </a:lnTo>
                    <a:lnTo>
                      <a:pt x="38" y="12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Freeform 179"/>
              <p:cNvSpPr/>
              <p:nvPr/>
            </p:nvSpPr>
            <p:spPr>
              <a:xfrm>
                <a:off x="2638080" y="717120"/>
                <a:ext cx="101160" cy="47160"/>
              </a:xfrm>
              <a:custGeom>
                <a:avLst/>
                <a:gdLst/>
                <a:ahLst/>
                <a:rect l="l" t="t" r="r" b="b"/>
                <a:pathLst>
                  <a:path w="100" h="132">
                    <a:moveTo>
                      <a:pt x="71" y="6"/>
                    </a:moveTo>
                    <a:lnTo>
                      <a:pt x="69" y="4"/>
                    </a:lnTo>
                    <a:lnTo>
                      <a:pt x="63" y="3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4" y="2"/>
                    </a:lnTo>
                    <a:lnTo>
                      <a:pt x="24" y="4"/>
                    </a:lnTo>
                    <a:lnTo>
                      <a:pt x="15" y="11"/>
                    </a:lnTo>
                    <a:lnTo>
                      <a:pt x="10" y="23"/>
                    </a:lnTo>
                    <a:lnTo>
                      <a:pt x="3" y="48"/>
                    </a:lnTo>
                    <a:lnTo>
                      <a:pt x="0" y="69"/>
                    </a:lnTo>
                    <a:lnTo>
                      <a:pt x="0" y="87"/>
                    </a:lnTo>
                    <a:lnTo>
                      <a:pt x="1" y="100"/>
                    </a:lnTo>
                    <a:lnTo>
                      <a:pt x="3" y="107"/>
                    </a:lnTo>
                    <a:lnTo>
                      <a:pt x="8" y="112"/>
                    </a:lnTo>
                    <a:lnTo>
                      <a:pt x="15" y="119"/>
                    </a:lnTo>
                    <a:lnTo>
                      <a:pt x="22" y="124"/>
                    </a:lnTo>
                    <a:lnTo>
                      <a:pt x="31" y="129"/>
                    </a:lnTo>
                    <a:lnTo>
                      <a:pt x="39" y="132"/>
                    </a:lnTo>
                    <a:lnTo>
                      <a:pt x="48" y="132"/>
                    </a:lnTo>
                    <a:lnTo>
                      <a:pt x="54" y="131"/>
                    </a:lnTo>
                    <a:lnTo>
                      <a:pt x="60" y="127"/>
                    </a:lnTo>
                    <a:lnTo>
                      <a:pt x="68" y="122"/>
                    </a:lnTo>
                    <a:lnTo>
                      <a:pt x="75" y="114"/>
                    </a:lnTo>
                    <a:lnTo>
                      <a:pt x="82" y="106"/>
                    </a:lnTo>
                    <a:lnTo>
                      <a:pt x="88" y="98"/>
                    </a:lnTo>
                    <a:lnTo>
                      <a:pt x="93" y="89"/>
                    </a:lnTo>
                    <a:lnTo>
                      <a:pt x="97" y="79"/>
                    </a:lnTo>
                    <a:lnTo>
                      <a:pt x="98" y="72"/>
                    </a:lnTo>
                    <a:lnTo>
                      <a:pt x="100" y="53"/>
                    </a:lnTo>
                    <a:lnTo>
                      <a:pt x="99" y="32"/>
                    </a:lnTo>
                    <a:lnTo>
                      <a:pt x="90" y="15"/>
                    </a:lnTo>
                    <a:lnTo>
                      <a:pt x="71" y="6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Freeform 180"/>
              <p:cNvSpPr/>
              <p:nvPr/>
            </p:nvSpPr>
            <p:spPr>
              <a:xfrm>
                <a:off x="2718360" y="497880"/>
                <a:ext cx="175320" cy="42480"/>
              </a:xfrm>
              <a:custGeom>
                <a:avLst/>
                <a:gdLst/>
                <a:ahLst/>
                <a:rect l="l" t="t" r="r" b="b"/>
                <a:pathLst>
                  <a:path w="172" h="107">
                    <a:moveTo>
                      <a:pt x="0" y="0"/>
                    </a:moveTo>
                    <a:lnTo>
                      <a:pt x="5" y="2"/>
                    </a:lnTo>
                    <a:lnTo>
                      <a:pt x="19" y="8"/>
                    </a:lnTo>
                    <a:lnTo>
                      <a:pt x="39" y="17"/>
                    </a:lnTo>
                    <a:lnTo>
                      <a:pt x="65" y="29"/>
                    </a:lnTo>
                    <a:lnTo>
                      <a:pt x="93" y="45"/>
                    </a:lnTo>
                    <a:lnTo>
                      <a:pt x="122" y="63"/>
                    </a:lnTo>
                    <a:lnTo>
                      <a:pt x="148" y="83"/>
                    </a:lnTo>
                    <a:lnTo>
                      <a:pt x="172" y="107"/>
                    </a:lnTo>
                    <a:lnTo>
                      <a:pt x="171" y="104"/>
                    </a:lnTo>
                    <a:lnTo>
                      <a:pt x="165" y="95"/>
                    </a:lnTo>
                    <a:lnTo>
                      <a:pt x="153" y="82"/>
                    </a:lnTo>
                    <a:lnTo>
                      <a:pt x="137" y="66"/>
                    </a:lnTo>
                    <a:lnTo>
                      <a:pt x="114" y="49"/>
                    </a:lnTo>
                    <a:lnTo>
                      <a:pt x="84" y="32"/>
                    </a:lnTo>
                    <a:lnTo>
                      <a:pt x="4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6" name="TextBox 323"/>
            <p:cNvSpPr/>
            <p:nvPr/>
          </p:nvSpPr>
          <p:spPr>
            <a:xfrm>
              <a:off x="1190520" y="504720"/>
              <a:ext cx="181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博物馆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组合 321"/>
          <p:cNvGrpSpPr/>
          <p:nvPr/>
        </p:nvGrpSpPr>
        <p:grpSpPr>
          <a:xfrm>
            <a:off x="4519440" y="2502000"/>
            <a:ext cx="1596960" cy="1025280"/>
            <a:chOff x="4519440" y="2502000"/>
            <a:chExt cx="1596960" cy="1025280"/>
          </a:xfrm>
        </p:grpSpPr>
        <p:grpSp>
          <p:nvGrpSpPr>
            <p:cNvPr id="308" name="Group 152"/>
            <p:cNvGrpSpPr/>
            <p:nvPr/>
          </p:nvGrpSpPr>
          <p:grpSpPr>
            <a:xfrm>
              <a:off x="4519440" y="2502000"/>
              <a:ext cx="1596960" cy="1025280"/>
              <a:chOff x="4519440" y="2502000"/>
              <a:chExt cx="1596960" cy="1025280"/>
            </a:xfrm>
          </p:grpSpPr>
          <p:sp>
            <p:nvSpPr>
              <p:cNvPr id="309" name="AutoShape 151"/>
              <p:cNvSpPr/>
              <p:nvPr/>
            </p:nvSpPr>
            <p:spPr>
              <a:xfrm>
                <a:off x="4519440" y="2502000"/>
                <a:ext cx="1596960" cy="10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Freeform 153"/>
              <p:cNvSpPr/>
              <p:nvPr/>
            </p:nvSpPr>
            <p:spPr>
              <a:xfrm>
                <a:off x="5426280" y="3521160"/>
                <a:ext cx="10080" cy="10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4"/>
                    </a:moveTo>
                    <a:lnTo>
                      <a:pt x="18" y="4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Freeform 154"/>
              <p:cNvSpPr/>
              <p:nvPr/>
            </p:nvSpPr>
            <p:spPr>
              <a:xfrm>
                <a:off x="4600080" y="2502000"/>
                <a:ext cx="1495440" cy="1023840"/>
              </a:xfrm>
              <a:custGeom>
                <a:avLst/>
                <a:gdLst/>
                <a:ahLst/>
                <a:rect l="l" t="t" r="r" b="b"/>
                <a:pathLst>
                  <a:path w="2166" h="2610">
                    <a:moveTo>
                      <a:pt x="1719" y="348"/>
                    </a:moveTo>
                    <a:lnTo>
                      <a:pt x="1679" y="335"/>
                    </a:lnTo>
                    <a:lnTo>
                      <a:pt x="1643" y="323"/>
                    </a:lnTo>
                    <a:lnTo>
                      <a:pt x="1609" y="313"/>
                    </a:lnTo>
                    <a:lnTo>
                      <a:pt x="1576" y="306"/>
                    </a:lnTo>
                    <a:lnTo>
                      <a:pt x="1545" y="300"/>
                    </a:lnTo>
                    <a:lnTo>
                      <a:pt x="1514" y="296"/>
                    </a:lnTo>
                    <a:lnTo>
                      <a:pt x="1487" y="294"/>
                    </a:lnTo>
                    <a:lnTo>
                      <a:pt x="1460" y="292"/>
                    </a:lnTo>
                    <a:lnTo>
                      <a:pt x="1434" y="292"/>
                    </a:lnTo>
                    <a:lnTo>
                      <a:pt x="1409" y="292"/>
                    </a:lnTo>
                    <a:lnTo>
                      <a:pt x="1385" y="295"/>
                    </a:lnTo>
                    <a:lnTo>
                      <a:pt x="1362" y="298"/>
                    </a:lnTo>
                    <a:lnTo>
                      <a:pt x="1338" y="300"/>
                    </a:lnTo>
                    <a:lnTo>
                      <a:pt x="1317" y="304"/>
                    </a:lnTo>
                    <a:lnTo>
                      <a:pt x="1294" y="308"/>
                    </a:lnTo>
                    <a:lnTo>
                      <a:pt x="1273" y="312"/>
                    </a:lnTo>
                    <a:lnTo>
                      <a:pt x="1271" y="312"/>
                    </a:lnTo>
                    <a:lnTo>
                      <a:pt x="1269" y="312"/>
                    </a:lnTo>
                    <a:lnTo>
                      <a:pt x="1265" y="313"/>
                    </a:lnTo>
                    <a:lnTo>
                      <a:pt x="1260" y="313"/>
                    </a:lnTo>
                    <a:lnTo>
                      <a:pt x="1254" y="277"/>
                    </a:lnTo>
                    <a:lnTo>
                      <a:pt x="1246" y="237"/>
                    </a:lnTo>
                    <a:lnTo>
                      <a:pt x="1239" y="194"/>
                    </a:lnTo>
                    <a:lnTo>
                      <a:pt x="1232" y="153"/>
                    </a:lnTo>
                    <a:lnTo>
                      <a:pt x="1225" y="116"/>
                    </a:lnTo>
                    <a:lnTo>
                      <a:pt x="1220" y="87"/>
                    </a:lnTo>
                    <a:lnTo>
                      <a:pt x="1216" y="67"/>
                    </a:lnTo>
                    <a:lnTo>
                      <a:pt x="1215" y="59"/>
                    </a:lnTo>
                    <a:lnTo>
                      <a:pt x="1162" y="40"/>
                    </a:lnTo>
                    <a:lnTo>
                      <a:pt x="1106" y="9"/>
                    </a:lnTo>
                    <a:lnTo>
                      <a:pt x="1095" y="7"/>
                    </a:lnTo>
                    <a:lnTo>
                      <a:pt x="1090" y="5"/>
                    </a:lnTo>
                    <a:lnTo>
                      <a:pt x="1085" y="4"/>
                    </a:lnTo>
                    <a:lnTo>
                      <a:pt x="1080" y="3"/>
                    </a:lnTo>
                    <a:lnTo>
                      <a:pt x="1075" y="1"/>
                    </a:lnTo>
                    <a:lnTo>
                      <a:pt x="1068" y="1"/>
                    </a:lnTo>
                    <a:lnTo>
                      <a:pt x="1063" y="0"/>
                    </a:lnTo>
                    <a:lnTo>
                      <a:pt x="1058" y="0"/>
                    </a:lnTo>
                    <a:lnTo>
                      <a:pt x="1053" y="0"/>
                    </a:lnTo>
                    <a:lnTo>
                      <a:pt x="1048" y="0"/>
                    </a:lnTo>
                    <a:lnTo>
                      <a:pt x="1043" y="0"/>
                    </a:lnTo>
                    <a:lnTo>
                      <a:pt x="1038" y="1"/>
                    </a:lnTo>
                    <a:lnTo>
                      <a:pt x="1034" y="1"/>
                    </a:lnTo>
                    <a:lnTo>
                      <a:pt x="1029" y="3"/>
                    </a:lnTo>
                    <a:lnTo>
                      <a:pt x="1024" y="4"/>
                    </a:lnTo>
                    <a:lnTo>
                      <a:pt x="1019" y="5"/>
                    </a:lnTo>
                    <a:lnTo>
                      <a:pt x="1014" y="7"/>
                    </a:lnTo>
                    <a:lnTo>
                      <a:pt x="994" y="14"/>
                    </a:lnTo>
                    <a:lnTo>
                      <a:pt x="974" y="26"/>
                    </a:lnTo>
                    <a:lnTo>
                      <a:pt x="955" y="42"/>
                    </a:lnTo>
                    <a:lnTo>
                      <a:pt x="939" y="61"/>
                    </a:lnTo>
                    <a:lnTo>
                      <a:pt x="924" y="82"/>
                    </a:lnTo>
                    <a:lnTo>
                      <a:pt x="911" y="107"/>
                    </a:lnTo>
                    <a:lnTo>
                      <a:pt x="900" y="133"/>
                    </a:lnTo>
                    <a:lnTo>
                      <a:pt x="891" y="163"/>
                    </a:lnTo>
                    <a:lnTo>
                      <a:pt x="877" y="228"/>
                    </a:lnTo>
                    <a:lnTo>
                      <a:pt x="878" y="230"/>
                    </a:lnTo>
                    <a:lnTo>
                      <a:pt x="883" y="236"/>
                    </a:lnTo>
                    <a:lnTo>
                      <a:pt x="888" y="244"/>
                    </a:lnTo>
                    <a:lnTo>
                      <a:pt x="896" y="253"/>
                    </a:lnTo>
                    <a:lnTo>
                      <a:pt x="872" y="248"/>
                    </a:lnTo>
                    <a:lnTo>
                      <a:pt x="848" y="242"/>
                    </a:lnTo>
                    <a:lnTo>
                      <a:pt x="823" y="237"/>
                    </a:lnTo>
                    <a:lnTo>
                      <a:pt x="796" y="233"/>
                    </a:lnTo>
                    <a:lnTo>
                      <a:pt x="770" y="230"/>
                    </a:lnTo>
                    <a:lnTo>
                      <a:pt x="743" y="229"/>
                    </a:lnTo>
                    <a:lnTo>
                      <a:pt x="716" y="228"/>
                    </a:lnTo>
                    <a:lnTo>
                      <a:pt x="688" y="228"/>
                    </a:lnTo>
                    <a:lnTo>
                      <a:pt x="660" y="229"/>
                    </a:lnTo>
                    <a:lnTo>
                      <a:pt x="633" y="230"/>
                    </a:lnTo>
                    <a:lnTo>
                      <a:pt x="604" y="234"/>
                    </a:lnTo>
                    <a:lnTo>
                      <a:pt x="575" y="240"/>
                    </a:lnTo>
                    <a:lnTo>
                      <a:pt x="547" y="245"/>
                    </a:lnTo>
                    <a:lnTo>
                      <a:pt x="518" y="253"/>
                    </a:lnTo>
                    <a:lnTo>
                      <a:pt x="489" y="262"/>
                    </a:lnTo>
                    <a:lnTo>
                      <a:pt x="461" y="271"/>
                    </a:lnTo>
                    <a:lnTo>
                      <a:pt x="432" y="283"/>
                    </a:lnTo>
                    <a:lnTo>
                      <a:pt x="405" y="298"/>
                    </a:lnTo>
                    <a:lnTo>
                      <a:pt x="377" y="312"/>
                    </a:lnTo>
                    <a:lnTo>
                      <a:pt x="350" y="329"/>
                    </a:lnTo>
                    <a:lnTo>
                      <a:pt x="324" y="349"/>
                    </a:lnTo>
                    <a:lnTo>
                      <a:pt x="297" y="369"/>
                    </a:lnTo>
                    <a:lnTo>
                      <a:pt x="271" y="391"/>
                    </a:lnTo>
                    <a:lnTo>
                      <a:pt x="246" y="416"/>
                    </a:lnTo>
                    <a:lnTo>
                      <a:pt x="222" y="443"/>
                    </a:lnTo>
                    <a:lnTo>
                      <a:pt x="198" y="471"/>
                    </a:lnTo>
                    <a:lnTo>
                      <a:pt x="175" y="503"/>
                    </a:lnTo>
                    <a:lnTo>
                      <a:pt x="154" y="536"/>
                    </a:lnTo>
                    <a:lnTo>
                      <a:pt x="134" y="572"/>
                    </a:lnTo>
                    <a:lnTo>
                      <a:pt x="114" y="610"/>
                    </a:lnTo>
                    <a:lnTo>
                      <a:pt x="95" y="649"/>
                    </a:lnTo>
                    <a:lnTo>
                      <a:pt x="77" y="693"/>
                    </a:lnTo>
                    <a:lnTo>
                      <a:pt x="73" y="701"/>
                    </a:lnTo>
                    <a:lnTo>
                      <a:pt x="67" y="718"/>
                    </a:lnTo>
                    <a:lnTo>
                      <a:pt x="58" y="744"/>
                    </a:lnTo>
                    <a:lnTo>
                      <a:pt x="48" y="778"/>
                    </a:lnTo>
                    <a:lnTo>
                      <a:pt x="37" y="822"/>
                    </a:lnTo>
                    <a:lnTo>
                      <a:pt x="25" y="872"/>
                    </a:lnTo>
                    <a:lnTo>
                      <a:pt x="15" y="931"/>
                    </a:lnTo>
                    <a:lnTo>
                      <a:pt x="6" y="996"/>
                    </a:lnTo>
                    <a:lnTo>
                      <a:pt x="1" y="1068"/>
                    </a:lnTo>
                    <a:lnTo>
                      <a:pt x="0" y="1146"/>
                    </a:lnTo>
                    <a:lnTo>
                      <a:pt x="3" y="1230"/>
                    </a:lnTo>
                    <a:lnTo>
                      <a:pt x="10" y="1320"/>
                    </a:lnTo>
                    <a:lnTo>
                      <a:pt x="25" y="1413"/>
                    </a:lnTo>
                    <a:lnTo>
                      <a:pt x="47" y="1512"/>
                    </a:lnTo>
                    <a:lnTo>
                      <a:pt x="77" y="1615"/>
                    </a:lnTo>
                    <a:lnTo>
                      <a:pt x="116" y="1721"/>
                    </a:lnTo>
                    <a:lnTo>
                      <a:pt x="149" y="1798"/>
                    </a:lnTo>
                    <a:lnTo>
                      <a:pt x="183" y="1873"/>
                    </a:lnTo>
                    <a:lnTo>
                      <a:pt x="219" y="1944"/>
                    </a:lnTo>
                    <a:lnTo>
                      <a:pt x="258" y="2014"/>
                    </a:lnTo>
                    <a:lnTo>
                      <a:pt x="296" y="2081"/>
                    </a:lnTo>
                    <a:lnTo>
                      <a:pt x="335" y="2144"/>
                    </a:lnTo>
                    <a:lnTo>
                      <a:pt x="373" y="2203"/>
                    </a:lnTo>
                    <a:lnTo>
                      <a:pt x="410" y="2259"/>
                    </a:lnTo>
                    <a:lnTo>
                      <a:pt x="445" y="2310"/>
                    </a:lnTo>
                    <a:lnTo>
                      <a:pt x="478" y="2355"/>
                    </a:lnTo>
                    <a:lnTo>
                      <a:pt x="507" y="2396"/>
                    </a:lnTo>
                    <a:lnTo>
                      <a:pt x="533" y="2430"/>
                    </a:lnTo>
                    <a:lnTo>
                      <a:pt x="554" y="2458"/>
                    </a:lnTo>
                    <a:lnTo>
                      <a:pt x="572" y="2479"/>
                    </a:lnTo>
                    <a:lnTo>
                      <a:pt x="583" y="2493"/>
                    </a:lnTo>
                    <a:lnTo>
                      <a:pt x="588" y="2500"/>
                    </a:lnTo>
                    <a:lnTo>
                      <a:pt x="594" y="2505"/>
                    </a:lnTo>
                    <a:lnTo>
                      <a:pt x="600" y="2510"/>
                    </a:lnTo>
                    <a:lnTo>
                      <a:pt x="616" y="2523"/>
                    </a:lnTo>
                    <a:lnTo>
                      <a:pt x="635" y="2537"/>
                    </a:lnTo>
                    <a:lnTo>
                      <a:pt x="657" y="2550"/>
                    </a:lnTo>
                    <a:lnTo>
                      <a:pt x="679" y="2563"/>
                    </a:lnTo>
                    <a:lnTo>
                      <a:pt x="704" y="2575"/>
                    </a:lnTo>
                    <a:lnTo>
                      <a:pt x="731" y="2585"/>
                    </a:lnTo>
                    <a:lnTo>
                      <a:pt x="760" y="2593"/>
                    </a:lnTo>
                    <a:lnTo>
                      <a:pt x="789" y="2600"/>
                    </a:lnTo>
                    <a:lnTo>
                      <a:pt x="806" y="2602"/>
                    </a:lnTo>
                    <a:lnTo>
                      <a:pt x="825" y="2605"/>
                    </a:lnTo>
                    <a:lnTo>
                      <a:pt x="843" y="2605"/>
                    </a:lnTo>
                    <a:lnTo>
                      <a:pt x="862" y="2605"/>
                    </a:lnTo>
                    <a:lnTo>
                      <a:pt x="881" y="2602"/>
                    </a:lnTo>
                    <a:lnTo>
                      <a:pt x="900" y="2600"/>
                    </a:lnTo>
                    <a:lnTo>
                      <a:pt x="919" y="2595"/>
                    </a:lnTo>
                    <a:lnTo>
                      <a:pt x="937" y="2588"/>
                    </a:lnTo>
                    <a:lnTo>
                      <a:pt x="954" y="2580"/>
                    </a:lnTo>
                    <a:lnTo>
                      <a:pt x="912" y="2589"/>
                    </a:lnTo>
                    <a:lnTo>
                      <a:pt x="999" y="2570"/>
                    </a:lnTo>
                    <a:lnTo>
                      <a:pt x="1008" y="2567"/>
                    </a:lnTo>
                    <a:lnTo>
                      <a:pt x="1017" y="2564"/>
                    </a:lnTo>
                    <a:lnTo>
                      <a:pt x="1024" y="2562"/>
                    </a:lnTo>
                    <a:lnTo>
                      <a:pt x="1033" y="2560"/>
                    </a:lnTo>
                    <a:lnTo>
                      <a:pt x="1042" y="2559"/>
                    </a:lnTo>
                    <a:lnTo>
                      <a:pt x="1051" y="2558"/>
                    </a:lnTo>
                    <a:lnTo>
                      <a:pt x="1061" y="2558"/>
                    </a:lnTo>
                    <a:lnTo>
                      <a:pt x="1070" y="2559"/>
                    </a:lnTo>
                    <a:lnTo>
                      <a:pt x="1075" y="2560"/>
                    </a:lnTo>
                    <a:lnTo>
                      <a:pt x="1087" y="2564"/>
                    </a:lnTo>
                    <a:lnTo>
                      <a:pt x="1100" y="2568"/>
                    </a:lnTo>
                    <a:lnTo>
                      <a:pt x="1105" y="2570"/>
                    </a:lnTo>
                    <a:lnTo>
                      <a:pt x="1096" y="2563"/>
                    </a:lnTo>
                    <a:lnTo>
                      <a:pt x="1106" y="2570"/>
                    </a:lnTo>
                    <a:lnTo>
                      <a:pt x="1119" y="2576"/>
                    </a:lnTo>
                    <a:lnTo>
                      <a:pt x="1131" y="2581"/>
                    </a:lnTo>
                    <a:lnTo>
                      <a:pt x="1145" y="2587"/>
                    </a:lnTo>
                    <a:lnTo>
                      <a:pt x="1160" y="2591"/>
                    </a:lnTo>
                    <a:lnTo>
                      <a:pt x="1176" y="2595"/>
                    </a:lnTo>
                    <a:lnTo>
                      <a:pt x="1193" y="2597"/>
                    </a:lnTo>
                    <a:lnTo>
                      <a:pt x="1211" y="2600"/>
                    </a:lnTo>
                    <a:lnTo>
                      <a:pt x="1231" y="2604"/>
                    </a:lnTo>
                    <a:lnTo>
                      <a:pt x="1250" y="2608"/>
                    </a:lnTo>
                    <a:lnTo>
                      <a:pt x="1268" y="2609"/>
                    </a:lnTo>
                    <a:lnTo>
                      <a:pt x="1286" y="2610"/>
                    </a:lnTo>
                    <a:lnTo>
                      <a:pt x="1303" y="2610"/>
                    </a:lnTo>
                    <a:lnTo>
                      <a:pt x="1319" y="2610"/>
                    </a:lnTo>
                    <a:lnTo>
                      <a:pt x="1336" y="2609"/>
                    </a:lnTo>
                    <a:lnTo>
                      <a:pt x="1351" y="2608"/>
                    </a:lnTo>
                    <a:lnTo>
                      <a:pt x="1372" y="2604"/>
                    </a:lnTo>
                    <a:lnTo>
                      <a:pt x="1391" y="2600"/>
                    </a:lnTo>
                    <a:lnTo>
                      <a:pt x="1409" y="2596"/>
                    </a:lnTo>
                    <a:lnTo>
                      <a:pt x="1422" y="2591"/>
                    </a:lnTo>
                    <a:lnTo>
                      <a:pt x="1435" y="2585"/>
                    </a:lnTo>
                    <a:lnTo>
                      <a:pt x="1445" y="2581"/>
                    </a:lnTo>
                    <a:lnTo>
                      <a:pt x="1453" y="2579"/>
                    </a:lnTo>
                    <a:lnTo>
                      <a:pt x="1456" y="2576"/>
                    </a:lnTo>
                    <a:lnTo>
                      <a:pt x="1519" y="2530"/>
                    </a:lnTo>
                    <a:lnTo>
                      <a:pt x="1581" y="2476"/>
                    </a:lnTo>
                    <a:lnTo>
                      <a:pt x="1642" y="2415"/>
                    </a:lnTo>
                    <a:lnTo>
                      <a:pt x="1701" y="2350"/>
                    </a:lnTo>
                    <a:lnTo>
                      <a:pt x="1759" y="2278"/>
                    </a:lnTo>
                    <a:lnTo>
                      <a:pt x="1813" y="2203"/>
                    </a:lnTo>
                    <a:lnTo>
                      <a:pt x="1866" y="2124"/>
                    </a:lnTo>
                    <a:lnTo>
                      <a:pt x="1915" y="2040"/>
                    </a:lnTo>
                    <a:lnTo>
                      <a:pt x="1962" y="1954"/>
                    </a:lnTo>
                    <a:lnTo>
                      <a:pt x="2005" y="1868"/>
                    </a:lnTo>
                    <a:lnTo>
                      <a:pt x="2042" y="1778"/>
                    </a:lnTo>
                    <a:lnTo>
                      <a:pt x="2076" y="1688"/>
                    </a:lnTo>
                    <a:lnTo>
                      <a:pt x="2105" y="1598"/>
                    </a:lnTo>
                    <a:lnTo>
                      <a:pt x="2128" y="1508"/>
                    </a:lnTo>
                    <a:lnTo>
                      <a:pt x="2147" y="1418"/>
                    </a:lnTo>
                    <a:lnTo>
                      <a:pt x="2158" y="1332"/>
                    </a:lnTo>
                    <a:lnTo>
                      <a:pt x="2163" y="1262"/>
                    </a:lnTo>
                    <a:lnTo>
                      <a:pt x="2166" y="1189"/>
                    </a:lnTo>
                    <a:lnTo>
                      <a:pt x="2165" y="1117"/>
                    </a:lnTo>
                    <a:lnTo>
                      <a:pt x="2159" y="1043"/>
                    </a:lnTo>
                    <a:lnTo>
                      <a:pt x="2151" y="969"/>
                    </a:lnTo>
                    <a:lnTo>
                      <a:pt x="2138" y="897"/>
                    </a:lnTo>
                    <a:lnTo>
                      <a:pt x="2120" y="826"/>
                    </a:lnTo>
                    <a:lnTo>
                      <a:pt x="2098" y="756"/>
                    </a:lnTo>
                    <a:lnTo>
                      <a:pt x="2070" y="689"/>
                    </a:lnTo>
                    <a:lnTo>
                      <a:pt x="2037" y="626"/>
                    </a:lnTo>
                    <a:lnTo>
                      <a:pt x="1999" y="566"/>
                    </a:lnTo>
                    <a:lnTo>
                      <a:pt x="1955" y="511"/>
                    </a:lnTo>
                    <a:lnTo>
                      <a:pt x="1906" y="461"/>
                    </a:lnTo>
                    <a:lnTo>
                      <a:pt x="1850" y="416"/>
                    </a:lnTo>
                    <a:lnTo>
                      <a:pt x="1788" y="379"/>
                    </a:lnTo>
                    <a:lnTo>
                      <a:pt x="1719" y="3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155"/>
              <p:cNvSpPr/>
              <p:nvPr/>
            </p:nvSpPr>
            <p:spPr>
              <a:xfrm>
                <a:off x="4676760" y="2640600"/>
                <a:ext cx="1348560" cy="847440"/>
              </a:xfrm>
              <a:custGeom>
                <a:avLst/>
                <a:gdLst/>
                <a:ahLst/>
                <a:rect l="l" t="t" r="r" b="b"/>
                <a:pathLst>
                  <a:path w="1953" h="2172">
                    <a:moveTo>
                      <a:pt x="102" y="1337"/>
                    </a:moveTo>
                    <a:lnTo>
                      <a:pt x="67" y="1237"/>
                    </a:lnTo>
                    <a:lnTo>
                      <a:pt x="41" y="1141"/>
                    </a:lnTo>
                    <a:lnTo>
                      <a:pt x="20" y="1049"/>
                    </a:lnTo>
                    <a:lnTo>
                      <a:pt x="8" y="962"/>
                    </a:lnTo>
                    <a:lnTo>
                      <a:pt x="2" y="879"/>
                    </a:lnTo>
                    <a:lnTo>
                      <a:pt x="0" y="801"/>
                    </a:lnTo>
                    <a:lnTo>
                      <a:pt x="2" y="730"/>
                    </a:lnTo>
                    <a:lnTo>
                      <a:pt x="8" y="663"/>
                    </a:lnTo>
                    <a:lnTo>
                      <a:pt x="15" y="603"/>
                    </a:lnTo>
                    <a:lnTo>
                      <a:pt x="25" y="551"/>
                    </a:lnTo>
                    <a:lnTo>
                      <a:pt x="37" y="505"/>
                    </a:lnTo>
                    <a:lnTo>
                      <a:pt x="47" y="467"/>
                    </a:lnTo>
                    <a:lnTo>
                      <a:pt x="57" y="436"/>
                    </a:lnTo>
                    <a:lnTo>
                      <a:pt x="65" y="414"/>
                    </a:lnTo>
                    <a:lnTo>
                      <a:pt x="70" y="401"/>
                    </a:lnTo>
                    <a:lnTo>
                      <a:pt x="72" y="395"/>
                    </a:lnTo>
                    <a:lnTo>
                      <a:pt x="120" y="293"/>
                    </a:lnTo>
                    <a:lnTo>
                      <a:pt x="174" y="210"/>
                    </a:lnTo>
                    <a:lnTo>
                      <a:pt x="233" y="143"/>
                    </a:lnTo>
                    <a:lnTo>
                      <a:pt x="295" y="90"/>
                    </a:lnTo>
                    <a:lnTo>
                      <a:pt x="359" y="52"/>
                    </a:lnTo>
                    <a:lnTo>
                      <a:pt x="426" y="25"/>
                    </a:lnTo>
                    <a:lnTo>
                      <a:pt x="492" y="10"/>
                    </a:lnTo>
                    <a:lnTo>
                      <a:pt x="556" y="2"/>
                    </a:lnTo>
                    <a:lnTo>
                      <a:pt x="616" y="0"/>
                    </a:lnTo>
                    <a:lnTo>
                      <a:pt x="674" y="6"/>
                    </a:lnTo>
                    <a:lnTo>
                      <a:pt x="726" y="13"/>
                    </a:lnTo>
                    <a:lnTo>
                      <a:pt x="771" y="24"/>
                    </a:lnTo>
                    <a:lnTo>
                      <a:pt x="808" y="36"/>
                    </a:lnTo>
                    <a:lnTo>
                      <a:pt x="837" y="45"/>
                    </a:lnTo>
                    <a:lnTo>
                      <a:pt x="854" y="53"/>
                    </a:lnTo>
                    <a:lnTo>
                      <a:pt x="861" y="56"/>
                    </a:lnTo>
                    <a:lnTo>
                      <a:pt x="881" y="60"/>
                    </a:lnTo>
                    <a:lnTo>
                      <a:pt x="901" y="62"/>
                    </a:lnTo>
                    <a:lnTo>
                      <a:pt x="920" y="66"/>
                    </a:lnTo>
                    <a:lnTo>
                      <a:pt x="938" y="70"/>
                    </a:lnTo>
                    <a:lnTo>
                      <a:pt x="956" y="74"/>
                    </a:lnTo>
                    <a:lnTo>
                      <a:pt x="974" y="78"/>
                    </a:lnTo>
                    <a:lnTo>
                      <a:pt x="990" y="81"/>
                    </a:lnTo>
                    <a:lnTo>
                      <a:pt x="1008" y="83"/>
                    </a:lnTo>
                    <a:lnTo>
                      <a:pt x="1026" y="86"/>
                    </a:lnTo>
                    <a:lnTo>
                      <a:pt x="1042" y="89"/>
                    </a:lnTo>
                    <a:lnTo>
                      <a:pt x="1060" y="90"/>
                    </a:lnTo>
                    <a:lnTo>
                      <a:pt x="1079" y="91"/>
                    </a:lnTo>
                    <a:lnTo>
                      <a:pt x="1098" y="91"/>
                    </a:lnTo>
                    <a:lnTo>
                      <a:pt x="1116" y="90"/>
                    </a:lnTo>
                    <a:lnTo>
                      <a:pt x="1137" y="87"/>
                    </a:lnTo>
                    <a:lnTo>
                      <a:pt x="1158" y="85"/>
                    </a:lnTo>
                    <a:lnTo>
                      <a:pt x="1179" y="81"/>
                    </a:lnTo>
                    <a:lnTo>
                      <a:pt x="1201" y="77"/>
                    </a:lnTo>
                    <a:lnTo>
                      <a:pt x="1222" y="73"/>
                    </a:lnTo>
                    <a:lnTo>
                      <a:pt x="1242" y="69"/>
                    </a:lnTo>
                    <a:lnTo>
                      <a:pt x="1265" y="66"/>
                    </a:lnTo>
                    <a:lnTo>
                      <a:pt x="1287" y="64"/>
                    </a:lnTo>
                    <a:lnTo>
                      <a:pt x="1309" y="62"/>
                    </a:lnTo>
                    <a:lnTo>
                      <a:pt x="1333" y="61"/>
                    </a:lnTo>
                    <a:lnTo>
                      <a:pt x="1357" y="62"/>
                    </a:lnTo>
                    <a:lnTo>
                      <a:pt x="1384" y="64"/>
                    </a:lnTo>
                    <a:lnTo>
                      <a:pt x="1410" y="67"/>
                    </a:lnTo>
                    <a:lnTo>
                      <a:pt x="1438" y="71"/>
                    </a:lnTo>
                    <a:lnTo>
                      <a:pt x="1468" y="78"/>
                    </a:lnTo>
                    <a:lnTo>
                      <a:pt x="1501" y="86"/>
                    </a:lnTo>
                    <a:lnTo>
                      <a:pt x="1533" y="96"/>
                    </a:lnTo>
                    <a:lnTo>
                      <a:pt x="1570" y="110"/>
                    </a:lnTo>
                    <a:lnTo>
                      <a:pt x="1630" y="137"/>
                    </a:lnTo>
                    <a:lnTo>
                      <a:pt x="1686" y="170"/>
                    </a:lnTo>
                    <a:lnTo>
                      <a:pt x="1734" y="210"/>
                    </a:lnTo>
                    <a:lnTo>
                      <a:pt x="1777" y="254"/>
                    </a:lnTo>
                    <a:lnTo>
                      <a:pt x="1814" y="305"/>
                    </a:lnTo>
                    <a:lnTo>
                      <a:pt x="1847" y="359"/>
                    </a:lnTo>
                    <a:lnTo>
                      <a:pt x="1875" y="415"/>
                    </a:lnTo>
                    <a:lnTo>
                      <a:pt x="1898" y="474"/>
                    </a:lnTo>
                    <a:lnTo>
                      <a:pt x="1915" y="536"/>
                    </a:lnTo>
                    <a:lnTo>
                      <a:pt x="1930" y="600"/>
                    </a:lnTo>
                    <a:lnTo>
                      <a:pt x="1940" y="663"/>
                    </a:lnTo>
                    <a:lnTo>
                      <a:pt x="1948" y="727"/>
                    </a:lnTo>
                    <a:lnTo>
                      <a:pt x="1952" y="792"/>
                    </a:lnTo>
                    <a:lnTo>
                      <a:pt x="1953" y="854"/>
                    </a:lnTo>
                    <a:lnTo>
                      <a:pt x="1950" y="914"/>
                    </a:lnTo>
                    <a:lnTo>
                      <a:pt x="1947" y="974"/>
                    </a:lnTo>
                    <a:lnTo>
                      <a:pt x="1937" y="1055"/>
                    </a:lnTo>
                    <a:lnTo>
                      <a:pt x="1920" y="1138"/>
                    </a:lnTo>
                    <a:lnTo>
                      <a:pt x="1899" y="1222"/>
                    </a:lnTo>
                    <a:lnTo>
                      <a:pt x="1872" y="1308"/>
                    </a:lnTo>
                    <a:lnTo>
                      <a:pt x="1841" y="1392"/>
                    </a:lnTo>
                    <a:lnTo>
                      <a:pt x="1806" y="1478"/>
                    </a:lnTo>
                    <a:lnTo>
                      <a:pt x="1767" y="1561"/>
                    </a:lnTo>
                    <a:lnTo>
                      <a:pt x="1724" y="1641"/>
                    </a:lnTo>
                    <a:lnTo>
                      <a:pt x="1677" y="1720"/>
                    </a:lnTo>
                    <a:lnTo>
                      <a:pt x="1629" y="1797"/>
                    </a:lnTo>
                    <a:lnTo>
                      <a:pt x="1578" y="1868"/>
                    </a:lnTo>
                    <a:lnTo>
                      <a:pt x="1525" y="1935"/>
                    </a:lnTo>
                    <a:lnTo>
                      <a:pt x="1470" y="1998"/>
                    </a:lnTo>
                    <a:lnTo>
                      <a:pt x="1414" y="2055"/>
                    </a:lnTo>
                    <a:lnTo>
                      <a:pt x="1357" y="2105"/>
                    </a:lnTo>
                    <a:lnTo>
                      <a:pt x="1299" y="2148"/>
                    </a:lnTo>
                    <a:lnTo>
                      <a:pt x="1298" y="2150"/>
                    </a:lnTo>
                    <a:lnTo>
                      <a:pt x="1294" y="2151"/>
                    </a:lnTo>
                    <a:lnTo>
                      <a:pt x="1289" y="2154"/>
                    </a:lnTo>
                    <a:lnTo>
                      <a:pt x="1280" y="2156"/>
                    </a:lnTo>
                    <a:lnTo>
                      <a:pt x="1270" y="2160"/>
                    </a:lnTo>
                    <a:lnTo>
                      <a:pt x="1259" y="2164"/>
                    </a:lnTo>
                    <a:lnTo>
                      <a:pt x="1245" y="2167"/>
                    </a:lnTo>
                    <a:lnTo>
                      <a:pt x="1230" y="2169"/>
                    </a:lnTo>
                    <a:lnTo>
                      <a:pt x="1216" y="2171"/>
                    </a:lnTo>
                    <a:lnTo>
                      <a:pt x="1201" y="2172"/>
                    </a:lnTo>
                    <a:lnTo>
                      <a:pt x="1186" y="2172"/>
                    </a:lnTo>
                    <a:lnTo>
                      <a:pt x="1169" y="2172"/>
                    </a:lnTo>
                    <a:lnTo>
                      <a:pt x="1152" y="2169"/>
                    </a:lnTo>
                    <a:lnTo>
                      <a:pt x="1134" y="2167"/>
                    </a:lnTo>
                    <a:lnTo>
                      <a:pt x="1115" y="2162"/>
                    </a:lnTo>
                    <a:lnTo>
                      <a:pt x="1095" y="2155"/>
                    </a:lnTo>
                    <a:lnTo>
                      <a:pt x="1057" y="2140"/>
                    </a:lnTo>
                    <a:lnTo>
                      <a:pt x="1028" y="2131"/>
                    </a:lnTo>
                    <a:lnTo>
                      <a:pt x="1008" y="2125"/>
                    </a:lnTo>
                    <a:lnTo>
                      <a:pt x="994" y="2121"/>
                    </a:lnTo>
                    <a:lnTo>
                      <a:pt x="984" y="2119"/>
                    </a:lnTo>
                    <a:lnTo>
                      <a:pt x="977" y="2118"/>
                    </a:lnTo>
                    <a:lnTo>
                      <a:pt x="970" y="2118"/>
                    </a:lnTo>
                    <a:lnTo>
                      <a:pt x="963" y="2117"/>
                    </a:lnTo>
                    <a:lnTo>
                      <a:pt x="936" y="2114"/>
                    </a:lnTo>
                    <a:lnTo>
                      <a:pt x="910" y="2114"/>
                    </a:lnTo>
                    <a:lnTo>
                      <a:pt x="885" y="2118"/>
                    </a:lnTo>
                    <a:lnTo>
                      <a:pt x="861" y="2125"/>
                    </a:lnTo>
                    <a:lnTo>
                      <a:pt x="838" y="2133"/>
                    </a:lnTo>
                    <a:lnTo>
                      <a:pt x="818" y="2139"/>
                    </a:lnTo>
                    <a:lnTo>
                      <a:pt x="802" y="2147"/>
                    </a:lnTo>
                    <a:lnTo>
                      <a:pt x="788" y="2152"/>
                    </a:lnTo>
                    <a:lnTo>
                      <a:pt x="766" y="2159"/>
                    </a:lnTo>
                    <a:lnTo>
                      <a:pt x="745" y="2162"/>
                    </a:lnTo>
                    <a:lnTo>
                      <a:pt x="725" y="2163"/>
                    </a:lnTo>
                    <a:lnTo>
                      <a:pt x="703" y="2162"/>
                    </a:lnTo>
                    <a:lnTo>
                      <a:pt x="683" y="2158"/>
                    </a:lnTo>
                    <a:lnTo>
                      <a:pt x="664" y="2152"/>
                    </a:lnTo>
                    <a:lnTo>
                      <a:pt x="645" y="2146"/>
                    </a:lnTo>
                    <a:lnTo>
                      <a:pt x="629" y="2138"/>
                    </a:lnTo>
                    <a:lnTo>
                      <a:pt x="613" y="2130"/>
                    </a:lnTo>
                    <a:lnTo>
                      <a:pt x="597" y="2122"/>
                    </a:lnTo>
                    <a:lnTo>
                      <a:pt x="585" y="2114"/>
                    </a:lnTo>
                    <a:lnTo>
                      <a:pt x="575" y="2108"/>
                    </a:lnTo>
                    <a:lnTo>
                      <a:pt x="566" y="2101"/>
                    </a:lnTo>
                    <a:lnTo>
                      <a:pt x="558" y="2096"/>
                    </a:lnTo>
                    <a:lnTo>
                      <a:pt x="555" y="2093"/>
                    </a:lnTo>
                    <a:lnTo>
                      <a:pt x="553" y="2092"/>
                    </a:lnTo>
                    <a:lnTo>
                      <a:pt x="550" y="2088"/>
                    </a:lnTo>
                    <a:lnTo>
                      <a:pt x="541" y="2076"/>
                    </a:lnTo>
                    <a:lnTo>
                      <a:pt x="526" y="2056"/>
                    </a:lnTo>
                    <a:lnTo>
                      <a:pt x="505" y="2030"/>
                    </a:lnTo>
                    <a:lnTo>
                      <a:pt x="480" y="1998"/>
                    </a:lnTo>
                    <a:lnTo>
                      <a:pt x="453" y="1959"/>
                    </a:lnTo>
                    <a:lnTo>
                      <a:pt x="421" y="1914"/>
                    </a:lnTo>
                    <a:lnTo>
                      <a:pt x="387" y="1865"/>
                    </a:lnTo>
                    <a:lnTo>
                      <a:pt x="352" y="1811"/>
                    </a:lnTo>
                    <a:lnTo>
                      <a:pt x="314" y="1752"/>
                    </a:lnTo>
                    <a:lnTo>
                      <a:pt x="276" y="1690"/>
                    </a:lnTo>
                    <a:lnTo>
                      <a:pt x="240" y="1624"/>
                    </a:lnTo>
                    <a:lnTo>
                      <a:pt x="202" y="1556"/>
                    </a:lnTo>
                    <a:lnTo>
                      <a:pt x="167" y="1485"/>
                    </a:lnTo>
                    <a:lnTo>
                      <a:pt x="134" y="1412"/>
                    </a:lnTo>
                    <a:lnTo>
                      <a:pt x="102" y="1337"/>
                    </a:lnTo>
                    <a:close/>
                  </a:path>
                </a:pathLst>
              </a:custGeom>
              <a:solidFill>
                <a:srgbClr val="ff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Freeform 156"/>
              <p:cNvSpPr/>
              <p:nvPr/>
            </p:nvSpPr>
            <p:spPr>
              <a:xfrm>
                <a:off x="5153040" y="2747520"/>
                <a:ext cx="795600" cy="691920"/>
              </a:xfrm>
              <a:custGeom>
                <a:avLst/>
                <a:gdLst/>
                <a:ahLst/>
                <a:rect l="l" t="t" r="r" b="b"/>
                <a:pathLst>
                  <a:path w="1154" h="1765">
                    <a:moveTo>
                      <a:pt x="949" y="59"/>
                    </a:moveTo>
                    <a:lnTo>
                      <a:pt x="944" y="55"/>
                    </a:lnTo>
                    <a:lnTo>
                      <a:pt x="930" y="46"/>
                    </a:lnTo>
                    <a:lnTo>
                      <a:pt x="910" y="34"/>
                    </a:lnTo>
                    <a:lnTo>
                      <a:pt x="883" y="21"/>
                    </a:lnTo>
                    <a:lnTo>
                      <a:pt x="853" y="9"/>
                    </a:lnTo>
                    <a:lnTo>
                      <a:pt x="820" y="1"/>
                    </a:lnTo>
                    <a:lnTo>
                      <a:pt x="788" y="0"/>
                    </a:lnTo>
                    <a:lnTo>
                      <a:pt x="755" y="8"/>
                    </a:lnTo>
                    <a:lnTo>
                      <a:pt x="727" y="20"/>
                    </a:lnTo>
                    <a:lnTo>
                      <a:pt x="706" y="29"/>
                    </a:lnTo>
                    <a:lnTo>
                      <a:pt x="688" y="38"/>
                    </a:lnTo>
                    <a:lnTo>
                      <a:pt x="673" y="46"/>
                    </a:lnTo>
                    <a:lnTo>
                      <a:pt x="658" y="55"/>
                    </a:lnTo>
                    <a:lnTo>
                      <a:pt x="641" y="66"/>
                    </a:lnTo>
                    <a:lnTo>
                      <a:pt x="622" y="79"/>
                    </a:lnTo>
                    <a:lnTo>
                      <a:pt x="597" y="97"/>
                    </a:lnTo>
                    <a:lnTo>
                      <a:pt x="571" y="113"/>
                    </a:lnTo>
                    <a:lnTo>
                      <a:pt x="547" y="120"/>
                    </a:lnTo>
                    <a:lnTo>
                      <a:pt x="524" y="120"/>
                    </a:lnTo>
                    <a:lnTo>
                      <a:pt x="502" y="118"/>
                    </a:lnTo>
                    <a:lnTo>
                      <a:pt x="479" y="117"/>
                    </a:lnTo>
                    <a:lnTo>
                      <a:pt x="456" y="118"/>
                    </a:lnTo>
                    <a:lnTo>
                      <a:pt x="432" y="128"/>
                    </a:lnTo>
                    <a:lnTo>
                      <a:pt x="406" y="146"/>
                    </a:lnTo>
                    <a:lnTo>
                      <a:pt x="378" y="170"/>
                    </a:lnTo>
                    <a:lnTo>
                      <a:pt x="350" y="196"/>
                    </a:lnTo>
                    <a:lnTo>
                      <a:pt x="324" y="226"/>
                    </a:lnTo>
                    <a:lnTo>
                      <a:pt x="301" y="263"/>
                    </a:lnTo>
                    <a:lnTo>
                      <a:pt x="281" y="309"/>
                    </a:lnTo>
                    <a:lnTo>
                      <a:pt x="266" y="365"/>
                    </a:lnTo>
                    <a:lnTo>
                      <a:pt x="257" y="433"/>
                    </a:lnTo>
                    <a:lnTo>
                      <a:pt x="256" y="518"/>
                    </a:lnTo>
                    <a:lnTo>
                      <a:pt x="255" y="581"/>
                    </a:lnTo>
                    <a:lnTo>
                      <a:pt x="248" y="664"/>
                    </a:lnTo>
                    <a:lnTo>
                      <a:pt x="237" y="761"/>
                    </a:lnTo>
                    <a:lnTo>
                      <a:pt x="219" y="864"/>
                    </a:lnTo>
                    <a:lnTo>
                      <a:pt x="195" y="965"/>
                    </a:lnTo>
                    <a:lnTo>
                      <a:pt x="166" y="1060"/>
                    </a:lnTo>
                    <a:lnTo>
                      <a:pt x="129" y="1140"/>
                    </a:lnTo>
                    <a:lnTo>
                      <a:pt x="85" y="1200"/>
                    </a:lnTo>
                    <a:lnTo>
                      <a:pt x="58" y="1241"/>
                    </a:lnTo>
                    <a:lnTo>
                      <a:pt x="35" y="1302"/>
                    </a:lnTo>
                    <a:lnTo>
                      <a:pt x="17" y="1380"/>
                    </a:lnTo>
                    <a:lnTo>
                      <a:pt x="5" y="1463"/>
                    </a:lnTo>
                    <a:lnTo>
                      <a:pt x="0" y="1547"/>
                    </a:lnTo>
                    <a:lnTo>
                      <a:pt x="4" y="1621"/>
                    </a:lnTo>
                    <a:lnTo>
                      <a:pt x="18" y="1680"/>
                    </a:lnTo>
                    <a:lnTo>
                      <a:pt x="43" y="1715"/>
                    </a:lnTo>
                    <a:lnTo>
                      <a:pt x="71" y="1732"/>
                    </a:lnTo>
                    <a:lnTo>
                      <a:pt x="92" y="1742"/>
                    </a:lnTo>
                    <a:lnTo>
                      <a:pt x="110" y="1746"/>
                    </a:lnTo>
                    <a:lnTo>
                      <a:pt x="126" y="1746"/>
                    </a:lnTo>
                    <a:lnTo>
                      <a:pt x="142" y="1744"/>
                    </a:lnTo>
                    <a:lnTo>
                      <a:pt x="161" y="1736"/>
                    </a:lnTo>
                    <a:lnTo>
                      <a:pt x="184" y="1727"/>
                    </a:lnTo>
                    <a:lnTo>
                      <a:pt x="213" y="1716"/>
                    </a:lnTo>
                    <a:lnTo>
                      <a:pt x="231" y="1711"/>
                    </a:lnTo>
                    <a:lnTo>
                      <a:pt x="248" y="1708"/>
                    </a:lnTo>
                    <a:lnTo>
                      <a:pt x="266" y="1705"/>
                    </a:lnTo>
                    <a:lnTo>
                      <a:pt x="284" y="1703"/>
                    </a:lnTo>
                    <a:lnTo>
                      <a:pt x="302" y="1703"/>
                    </a:lnTo>
                    <a:lnTo>
                      <a:pt x="320" y="1703"/>
                    </a:lnTo>
                    <a:lnTo>
                      <a:pt x="338" y="1704"/>
                    </a:lnTo>
                    <a:lnTo>
                      <a:pt x="355" y="1707"/>
                    </a:lnTo>
                    <a:lnTo>
                      <a:pt x="372" y="1709"/>
                    </a:lnTo>
                    <a:lnTo>
                      <a:pt x="388" y="1712"/>
                    </a:lnTo>
                    <a:lnTo>
                      <a:pt x="403" y="1716"/>
                    </a:lnTo>
                    <a:lnTo>
                      <a:pt x="417" y="1720"/>
                    </a:lnTo>
                    <a:lnTo>
                      <a:pt x="430" y="1725"/>
                    </a:lnTo>
                    <a:lnTo>
                      <a:pt x="442" y="1730"/>
                    </a:lnTo>
                    <a:lnTo>
                      <a:pt x="451" y="1736"/>
                    </a:lnTo>
                    <a:lnTo>
                      <a:pt x="460" y="1741"/>
                    </a:lnTo>
                    <a:lnTo>
                      <a:pt x="476" y="1752"/>
                    </a:lnTo>
                    <a:lnTo>
                      <a:pt x="495" y="1758"/>
                    </a:lnTo>
                    <a:lnTo>
                      <a:pt x="515" y="1762"/>
                    </a:lnTo>
                    <a:lnTo>
                      <a:pt x="537" y="1765"/>
                    </a:lnTo>
                    <a:lnTo>
                      <a:pt x="558" y="1763"/>
                    </a:lnTo>
                    <a:lnTo>
                      <a:pt x="578" y="1759"/>
                    </a:lnTo>
                    <a:lnTo>
                      <a:pt x="596" y="1753"/>
                    </a:lnTo>
                    <a:lnTo>
                      <a:pt x="610" y="1742"/>
                    </a:lnTo>
                    <a:lnTo>
                      <a:pt x="619" y="1733"/>
                    </a:lnTo>
                    <a:lnTo>
                      <a:pt x="631" y="1719"/>
                    </a:lnTo>
                    <a:lnTo>
                      <a:pt x="648" y="1698"/>
                    </a:lnTo>
                    <a:lnTo>
                      <a:pt x="667" y="1674"/>
                    </a:lnTo>
                    <a:lnTo>
                      <a:pt x="688" y="1645"/>
                    </a:lnTo>
                    <a:lnTo>
                      <a:pt x="712" y="1612"/>
                    </a:lnTo>
                    <a:lnTo>
                      <a:pt x="738" y="1579"/>
                    </a:lnTo>
                    <a:lnTo>
                      <a:pt x="765" y="1543"/>
                    </a:lnTo>
                    <a:lnTo>
                      <a:pt x="791" y="1507"/>
                    </a:lnTo>
                    <a:lnTo>
                      <a:pt x="818" y="1471"/>
                    </a:lnTo>
                    <a:lnTo>
                      <a:pt x="844" y="1435"/>
                    </a:lnTo>
                    <a:lnTo>
                      <a:pt x="869" y="1403"/>
                    </a:lnTo>
                    <a:lnTo>
                      <a:pt x="892" y="1371"/>
                    </a:lnTo>
                    <a:lnTo>
                      <a:pt x="913" y="1343"/>
                    </a:lnTo>
                    <a:lnTo>
                      <a:pt x="931" y="1320"/>
                    </a:lnTo>
                    <a:lnTo>
                      <a:pt x="946" y="1301"/>
                    </a:lnTo>
                    <a:lnTo>
                      <a:pt x="963" y="1277"/>
                    </a:lnTo>
                    <a:lnTo>
                      <a:pt x="984" y="1239"/>
                    </a:lnTo>
                    <a:lnTo>
                      <a:pt x="1009" y="1189"/>
                    </a:lnTo>
                    <a:lnTo>
                      <a:pt x="1037" y="1127"/>
                    </a:lnTo>
                    <a:lnTo>
                      <a:pt x="1065" y="1056"/>
                    </a:lnTo>
                    <a:lnTo>
                      <a:pt x="1091" y="977"/>
                    </a:lnTo>
                    <a:lnTo>
                      <a:pt x="1115" y="892"/>
                    </a:lnTo>
                    <a:lnTo>
                      <a:pt x="1134" y="801"/>
                    </a:lnTo>
                    <a:lnTo>
                      <a:pt x="1148" y="706"/>
                    </a:lnTo>
                    <a:lnTo>
                      <a:pt x="1154" y="608"/>
                    </a:lnTo>
                    <a:lnTo>
                      <a:pt x="1152" y="510"/>
                    </a:lnTo>
                    <a:lnTo>
                      <a:pt x="1138" y="412"/>
                    </a:lnTo>
                    <a:lnTo>
                      <a:pt x="1113" y="317"/>
                    </a:lnTo>
                    <a:lnTo>
                      <a:pt x="1073" y="226"/>
                    </a:lnTo>
                    <a:lnTo>
                      <a:pt x="1019" y="140"/>
                    </a:lnTo>
                    <a:lnTo>
                      <a:pt x="949" y="59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Freeform 157"/>
              <p:cNvSpPr/>
              <p:nvPr/>
            </p:nvSpPr>
            <p:spPr>
              <a:xfrm>
                <a:off x="5122080" y="2683080"/>
                <a:ext cx="356040" cy="87840"/>
              </a:xfrm>
              <a:custGeom>
                <a:avLst/>
                <a:gdLst/>
                <a:ahLst/>
                <a:rect l="l" t="t" r="r" b="b"/>
                <a:pathLst>
                  <a:path w="519" h="213">
                    <a:moveTo>
                      <a:pt x="301" y="75"/>
                    </a:moveTo>
                    <a:lnTo>
                      <a:pt x="296" y="72"/>
                    </a:lnTo>
                    <a:lnTo>
                      <a:pt x="282" y="66"/>
                    </a:lnTo>
                    <a:lnTo>
                      <a:pt x="262" y="57"/>
                    </a:lnTo>
                    <a:lnTo>
                      <a:pt x="235" y="45"/>
                    </a:lnTo>
                    <a:lnTo>
                      <a:pt x="206" y="33"/>
                    </a:lnTo>
                    <a:lnTo>
                      <a:pt x="175" y="21"/>
                    </a:lnTo>
                    <a:lnTo>
                      <a:pt x="143" y="10"/>
                    </a:lnTo>
                    <a:lnTo>
                      <a:pt x="113" y="4"/>
                    </a:lnTo>
                    <a:lnTo>
                      <a:pt x="87" y="0"/>
                    </a:lnTo>
                    <a:lnTo>
                      <a:pt x="64" y="1"/>
                    </a:lnTo>
                    <a:lnTo>
                      <a:pt x="44" y="4"/>
                    </a:lnTo>
                    <a:lnTo>
                      <a:pt x="29" y="9"/>
                    </a:lnTo>
                    <a:lnTo>
                      <a:pt x="16" y="16"/>
                    </a:lnTo>
                    <a:lnTo>
                      <a:pt x="7" y="21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179" y="188"/>
                    </a:lnTo>
                    <a:lnTo>
                      <a:pt x="184" y="190"/>
                    </a:lnTo>
                    <a:lnTo>
                      <a:pt x="199" y="194"/>
                    </a:lnTo>
                    <a:lnTo>
                      <a:pt x="220" y="199"/>
                    </a:lnTo>
                    <a:lnTo>
                      <a:pt x="247" y="204"/>
                    </a:lnTo>
                    <a:lnTo>
                      <a:pt x="276" y="209"/>
                    </a:lnTo>
                    <a:lnTo>
                      <a:pt x="306" y="213"/>
                    </a:lnTo>
                    <a:lnTo>
                      <a:pt x="335" y="213"/>
                    </a:lnTo>
                    <a:lnTo>
                      <a:pt x="361" y="209"/>
                    </a:lnTo>
                    <a:lnTo>
                      <a:pt x="387" y="203"/>
                    </a:lnTo>
                    <a:lnTo>
                      <a:pt x="412" y="194"/>
                    </a:lnTo>
                    <a:lnTo>
                      <a:pt x="437" y="186"/>
                    </a:lnTo>
                    <a:lnTo>
                      <a:pt x="460" y="178"/>
                    </a:lnTo>
                    <a:lnTo>
                      <a:pt x="480" y="170"/>
                    </a:lnTo>
                    <a:lnTo>
                      <a:pt x="496" y="163"/>
                    </a:lnTo>
                    <a:lnTo>
                      <a:pt x="506" y="159"/>
                    </a:lnTo>
                    <a:lnTo>
                      <a:pt x="510" y="158"/>
                    </a:lnTo>
                    <a:lnTo>
                      <a:pt x="511" y="158"/>
                    </a:lnTo>
                    <a:lnTo>
                      <a:pt x="515" y="157"/>
                    </a:lnTo>
                    <a:lnTo>
                      <a:pt x="518" y="154"/>
                    </a:lnTo>
                    <a:lnTo>
                      <a:pt x="519" y="151"/>
                    </a:lnTo>
                    <a:lnTo>
                      <a:pt x="518" y="147"/>
                    </a:lnTo>
                    <a:lnTo>
                      <a:pt x="510" y="141"/>
                    </a:lnTo>
                    <a:lnTo>
                      <a:pt x="496" y="134"/>
                    </a:lnTo>
                    <a:lnTo>
                      <a:pt x="473" y="126"/>
                    </a:lnTo>
                    <a:lnTo>
                      <a:pt x="448" y="116"/>
                    </a:lnTo>
                    <a:lnTo>
                      <a:pt x="428" y="105"/>
                    </a:lnTo>
                    <a:lnTo>
                      <a:pt x="410" y="95"/>
                    </a:lnTo>
                    <a:lnTo>
                      <a:pt x="394" y="86"/>
                    </a:lnTo>
                    <a:lnTo>
                      <a:pt x="376" y="78"/>
                    </a:lnTo>
                    <a:lnTo>
                      <a:pt x="356" y="74"/>
                    </a:lnTo>
                    <a:lnTo>
                      <a:pt x="331" y="72"/>
                    </a:lnTo>
                    <a:lnTo>
                      <a:pt x="301" y="75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158"/>
              <p:cNvSpPr/>
              <p:nvPr/>
            </p:nvSpPr>
            <p:spPr>
              <a:xfrm>
                <a:off x="4730760" y="2725560"/>
                <a:ext cx="461520" cy="557640"/>
              </a:xfrm>
              <a:custGeom>
                <a:avLst/>
                <a:gdLst/>
                <a:ahLst/>
                <a:rect l="l" t="t" r="r" b="b"/>
                <a:pathLst>
                  <a:path w="666" h="1421">
                    <a:moveTo>
                      <a:pt x="368" y="19"/>
                    </a:moveTo>
                    <a:lnTo>
                      <a:pt x="364" y="21"/>
                    </a:lnTo>
                    <a:lnTo>
                      <a:pt x="356" y="27"/>
                    </a:lnTo>
                    <a:lnTo>
                      <a:pt x="341" y="37"/>
                    </a:lnTo>
                    <a:lnTo>
                      <a:pt x="320" y="50"/>
                    </a:lnTo>
                    <a:lnTo>
                      <a:pt x="298" y="69"/>
                    </a:lnTo>
                    <a:lnTo>
                      <a:pt x="271" y="91"/>
                    </a:lnTo>
                    <a:lnTo>
                      <a:pt x="242" y="116"/>
                    </a:lnTo>
                    <a:lnTo>
                      <a:pt x="212" y="146"/>
                    </a:lnTo>
                    <a:lnTo>
                      <a:pt x="182" y="179"/>
                    </a:lnTo>
                    <a:lnTo>
                      <a:pt x="150" y="218"/>
                    </a:lnTo>
                    <a:lnTo>
                      <a:pt x="120" y="258"/>
                    </a:lnTo>
                    <a:lnTo>
                      <a:pt x="92" y="303"/>
                    </a:lnTo>
                    <a:lnTo>
                      <a:pt x="67" y="352"/>
                    </a:lnTo>
                    <a:lnTo>
                      <a:pt x="44" y="403"/>
                    </a:lnTo>
                    <a:lnTo>
                      <a:pt x="26" y="460"/>
                    </a:lnTo>
                    <a:lnTo>
                      <a:pt x="12" y="519"/>
                    </a:lnTo>
                    <a:lnTo>
                      <a:pt x="4" y="577"/>
                    </a:lnTo>
                    <a:lnTo>
                      <a:pt x="0" y="635"/>
                    </a:lnTo>
                    <a:lnTo>
                      <a:pt x="0" y="692"/>
                    </a:lnTo>
                    <a:lnTo>
                      <a:pt x="4" y="748"/>
                    </a:lnTo>
                    <a:lnTo>
                      <a:pt x="12" y="802"/>
                    </a:lnTo>
                    <a:lnTo>
                      <a:pt x="22" y="855"/>
                    </a:lnTo>
                    <a:lnTo>
                      <a:pt x="33" y="905"/>
                    </a:lnTo>
                    <a:lnTo>
                      <a:pt x="47" y="952"/>
                    </a:lnTo>
                    <a:lnTo>
                      <a:pt x="62" y="997"/>
                    </a:lnTo>
                    <a:lnTo>
                      <a:pt x="79" y="1038"/>
                    </a:lnTo>
                    <a:lnTo>
                      <a:pt x="94" y="1076"/>
                    </a:lnTo>
                    <a:lnTo>
                      <a:pt x="110" y="1109"/>
                    </a:lnTo>
                    <a:lnTo>
                      <a:pt x="125" y="1138"/>
                    </a:lnTo>
                    <a:lnTo>
                      <a:pt x="138" y="1162"/>
                    </a:lnTo>
                    <a:lnTo>
                      <a:pt x="150" y="1180"/>
                    </a:lnTo>
                    <a:lnTo>
                      <a:pt x="160" y="1194"/>
                    </a:lnTo>
                    <a:lnTo>
                      <a:pt x="179" y="1216"/>
                    </a:lnTo>
                    <a:lnTo>
                      <a:pt x="199" y="1244"/>
                    </a:lnTo>
                    <a:lnTo>
                      <a:pt x="221" y="1273"/>
                    </a:lnTo>
                    <a:lnTo>
                      <a:pt x="241" y="1302"/>
                    </a:lnTo>
                    <a:lnTo>
                      <a:pt x="260" y="1329"/>
                    </a:lnTo>
                    <a:lnTo>
                      <a:pt x="274" y="1350"/>
                    </a:lnTo>
                    <a:lnTo>
                      <a:pt x="284" y="1366"/>
                    </a:lnTo>
                    <a:lnTo>
                      <a:pt x="288" y="1371"/>
                    </a:lnTo>
                    <a:lnTo>
                      <a:pt x="290" y="1374"/>
                    </a:lnTo>
                    <a:lnTo>
                      <a:pt x="296" y="1382"/>
                    </a:lnTo>
                    <a:lnTo>
                      <a:pt x="305" y="1392"/>
                    </a:lnTo>
                    <a:lnTo>
                      <a:pt x="318" y="1404"/>
                    </a:lnTo>
                    <a:lnTo>
                      <a:pt x="330" y="1413"/>
                    </a:lnTo>
                    <a:lnTo>
                      <a:pt x="343" y="1420"/>
                    </a:lnTo>
                    <a:lnTo>
                      <a:pt x="356" y="1421"/>
                    </a:lnTo>
                    <a:lnTo>
                      <a:pt x="366" y="1413"/>
                    </a:lnTo>
                    <a:lnTo>
                      <a:pt x="376" y="1402"/>
                    </a:lnTo>
                    <a:lnTo>
                      <a:pt x="388" y="1391"/>
                    </a:lnTo>
                    <a:lnTo>
                      <a:pt x="401" y="1379"/>
                    </a:lnTo>
                    <a:lnTo>
                      <a:pt x="412" y="1365"/>
                    </a:lnTo>
                    <a:lnTo>
                      <a:pt x="424" y="1346"/>
                    </a:lnTo>
                    <a:lnTo>
                      <a:pt x="433" y="1324"/>
                    </a:lnTo>
                    <a:lnTo>
                      <a:pt x="438" y="1295"/>
                    </a:lnTo>
                    <a:lnTo>
                      <a:pt x="439" y="1259"/>
                    </a:lnTo>
                    <a:lnTo>
                      <a:pt x="436" y="1163"/>
                    </a:lnTo>
                    <a:lnTo>
                      <a:pt x="431" y="1053"/>
                    </a:lnTo>
                    <a:lnTo>
                      <a:pt x="426" y="954"/>
                    </a:lnTo>
                    <a:lnTo>
                      <a:pt x="424" y="889"/>
                    </a:lnTo>
                    <a:lnTo>
                      <a:pt x="430" y="852"/>
                    </a:lnTo>
                    <a:lnTo>
                      <a:pt x="448" y="787"/>
                    </a:lnTo>
                    <a:lnTo>
                      <a:pt x="473" y="701"/>
                    </a:lnTo>
                    <a:lnTo>
                      <a:pt x="503" y="607"/>
                    </a:lnTo>
                    <a:lnTo>
                      <a:pt x="536" y="514"/>
                    </a:lnTo>
                    <a:lnTo>
                      <a:pt x="569" y="432"/>
                    </a:lnTo>
                    <a:lnTo>
                      <a:pt x="596" y="369"/>
                    </a:lnTo>
                    <a:lnTo>
                      <a:pt x="618" y="337"/>
                    </a:lnTo>
                    <a:lnTo>
                      <a:pt x="633" y="323"/>
                    </a:lnTo>
                    <a:lnTo>
                      <a:pt x="645" y="305"/>
                    </a:lnTo>
                    <a:lnTo>
                      <a:pt x="654" y="283"/>
                    </a:lnTo>
                    <a:lnTo>
                      <a:pt x="661" y="260"/>
                    </a:lnTo>
                    <a:lnTo>
                      <a:pt x="664" y="233"/>
                    </a:lnTo>
                    <a:lnTo>
                      <a:pt x="666" y="207"/>
                    </a:lnTo>
                    <a:lnTo>
                      <a:pt x="664" y="178"/>
                    </a:lnTo>
                    <a:lnTo>
                      <a:pt x="662" y="149"/>
                    </a:lnTo>
                    <a:lnTo>
                      <a:pt x="658" y="133"/>
                    </a:lnTo>
                    <a:lnTo>
                      <a:pt x="652" y="119"/>
                    </a:lnTo>
                    <a:lnTo>
                      <a:pt x="642" y="102"/>
                    </a:lnTo>
                    <a:lnTo>
                      <a:pt x="629" y="86"/>
                    </a:lnTo>
                    <a:lnTo>
                      <a:pt x="614" y="71"/>
                    </a:lnTo>
                    <a:lnTo>
                      <a:pt x="598" y="56"/>
                    </a:lnTo>
                    <a:lnTo>
                      <a:pt x="579" y="42"/>
                    </a:lnTo>
                    <a:lnTo>
                      <a:pt x="557" y="31"/>
                    </a:lnTo>
                    <a:lnTo>
                      <a:pt x="536" y="20"/>
                    </a:lnTo>
                    <a:lnTo>
                      <a:pt x="513" y="11"/>
                    </a:lnTo>
                    <a:lnTo>
                      <a:pt x="489" y="4"/>
                    </a:lnTo>
                    <a:lnTo>
                      <a:pt x="464" y="0"/>
                    </a:lnTo>
                    <a:lnTo>
                      <a:pt x="440" y="0"/>
                    </a:lnTo>
                    <a:lnTo>
                      <a:pt x="416" y="3"/>
                    </a:lnTo>
                    <a:lnTo>
                      <a:pt x="392" y="8"/>
                    </a:lnTo>
                    <a:lnTo>
                      <a:pt x="368" y="19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159"/>
              <p:cNvSpPr/>
              <p:nvPr/>
            </p:nvSpPr>
            <p:spPr>
              <a:xfrm>
                <a:off x="5115960" y="3443400"/>
                <a:ext cx="407880" cy="36360"/>
              </a:xfrm>
              <a:custGeom>
                <a:avLst/>
                <a:gdLst/>
                <a:ahLst/>
                <a:rect l="l" t="t" r="r" b="b"/>
                <a:pathLst>
                  <a:path w="590" h="105">
                    <a:moveTo>
                      <a:pt x="81" y="104"/>
                    </a:moveTo>
                    <a:lnTo>
                      <a:pt x="71" y="101"/>
                    </a:lnTo>
                    <a:lnTo>
                      <a:pt x="59" y="99"/>
                    </a:lnTo>
                    <a:lnTo>
                      <a:pt x="49" y="93"/>
                    </a:lnTo>
                    <a:lnTo>
                      <a:pt x="39" y="88"/>
                    </a:lnTo>
                    <a:lnTo>
                      <a:pt x="29" y="80"/>
                    </a:lnTo>
                    <a:lnTo>
                      <a:pt x="19" y="71"/>
                    </a:lnTo>
                    <a:lnTo>
                      <a:pt x="9" y="59"/>
                    </a:lnTo>
                    <a:lnTo>
                      <a:pt x="0" y="46"/>
                    </a:lnTo>
                    <a:lnTo>
                      <a:pt x="5" y="47"/>
                    </a:lnTo>
                    <a:lnTo>
                      <a:pt x="20" y="50"/>
                    </a:lnTo>
                    <a:lnTo>
                      <a:pt x="42" y="53"/>
                    </a:lnTo>
                    <a:lnTo>
                      <a:pt x="68" y="55"/>
                    </a:lnTo>
                    <a:lnTo>
                      <a:pt x="98" y="55"/>
                    </a:lnTo>
                    <a:lnTo>
                      <a:pt x="130" y="53"/>
                    </a:lnTo>
                    <a:lnTo>
                      <a:pt x="159" y="45"/>
                    </a:lnTo>
                    <a:lnTo>
                      <a:pt x="185" y="32"/>
                    </a:lnTo>
                    <a:lnTo>
                      <a:pt x="198" y="24"/>
                    </a:lnTo>
                    <a:lnTo>
                      <a:pt x="213" y="17"/>
                    </a:lnTo>
                    <a:lnTo>
                      <a:pt x="230" y="12"/>
                    </a:lnTo>
                    <a:lnTo>
                      <a:pt x="247" y="7"/>
                    </a:lnTo>
                    <a:lnTo>
                      <a:pt x="266" y="4"/>
                    </a:lnTo>
                    <a:lnTo>
                      <a:pt x="286" y="1"/>
                    </a:lnTo>
                    <a:lnTo>
                      <a:pt x="306" y="0"/>
                    </a:lnTo>
                    <a:lnTo>
                      <a:pt x="327" y="0"/>
                    </a:lnTo>
                    <a:lnTo>
                      <a:pt x="348" y="1"/>
                    </a:lnTo>
                    <a:lnTo>
                      <a:pt x="368" y="4"/>
                    </a:lnTo>
                    <a:lnTo>
                      <a:pt x="390" y="8"/>
                    </a:lnTo>
                    <a:lnTo>
                      <a:pt x="410" y="12"/>
                    </a:lnTo>
                    <a:lnTo>
                      <a:pt x="429" y="17"/>
                    </a:lnTo>
                    <a:lnTo>
                      <a:pt x="446" y="25"/>
                    </a:lnTo>
                    <a:lnTo>
                      <a:pt x="464" y="33"/>
                    </a:lnTo>
                    <a:lnTo>
                      <a:pt x="479" y="42"/>
                    </a:lnTo>
                    <a:lnTo>
                      <a:pt x="505" y="58"/>
                    </a:lnTo>
                    <a:lnTo>
                      <a:pt x="528" y="66"/>
                    </a:lnTo>
                    <a:lnTo>
                      <a:pt x="547" y="70"/>
                    </a:lnTo>
                    <a:lnTo>
                      <a:pt x="562" y="68"/>
                    </a:lnTo>
                    <a:lnTo>
                      <a:pt x="573" y="66"/>
                    </a:lnTo>
                    <a:lnTo>
                      <a:pt x="582" y="62"/>
                    </a:lnTo>
                    <a:lnTo>
                      <a:pt x="587" y="58"/>
                    </a:lnTo>
                    <a:lnTo>
                      <a:pt x="589" y="57"/>
                    </a:lnTo>
                    <a:lnTo>
                      <a:pt x="589" y="59"/>
                    </a:lnTo>
                    <a:lnTo>
                      <a:pt x="590" y="66"/>
                    </a:lnTo>
                    <a:lnTo>
                      <a:pt x="587" y="75"/>
                    </a:lnTo>
                    <a:lnTo>
                      <a:pt x="580" y="84"/>
                    </a:lnTo>
                    <a:lnTo>
                      <a:pt x="565" y="91"/>
                    </a:lnTo>
                    <a:lnTo>
                      <a:pt x="541" y="93"/>
                    </a:lnTo>
                    <a:lnTo>
                      <a:pt x="504" y="90"/>
                    </a:lnTo>
                    <a:lnTo>
                      <a:pt x="454" y="78"/>
                    </a:lnTo>
                    <a:lnTo>
                      <a:pt x="451" y="76"/>
                    </a:lnTo>
                    <a:lnTo>
                      <a:pt x="446" y="75"/>
                    </a:lnTo>
                    <a:lnTo>
                      <a:pt x="436" y="72"/>
                    </a:lnTo>
                    <a:lnTo>
                      <a:pt x="425" y="68"/>
                    </a:lnTo>
                    <a:lnTo>
                      <a:pt x="410" y="66"/>
                    </a:lnTo>
                    <a:lnTo>
                      <a:pt x="392" y="62"/>
                    </a:lnTo>
                    <a:lnTo>
                      <a:pt x="373" y="58"/>
                    </a:lnTo>
                    <a:lnTo>
                      <a:pt x="354" y="54"/>
                    </a:lnTo>
                    <a:lnTo>
                      <a:pt x="333" y="51"/>
                    </a:lnTo>
                    <a:lnTo>
                      <a:pt x="311" y="49"/>
                    </a:lnTo>
                    <a:lnTo>
                      <a:pt x="289" y="49"/>
                    </a:lnTo>
                    <a:lnTo>
                      <a:pt x="267" y="49"/>
                    </a:lnTo>
                    <a:lnTo>
                      <a:pt x="247" y="51"/>
                    </a:lnTo>
                    <a:lnTo>
                      <a:pt x="227" y="55"/>
                    </a:lnTo>
                    <a:lnTo>
                      <a:pt x="209" y="61"/>
                    </a:lnTo>
                    <a:lnTo>
                      <a:pt x="193" y="70"/>
                    </a:lnTo>
                    <a:lnTo>
                      <a:pt x="190" y="71"/>
                    </a:lnTo>
                    <a:lnTo>
                      <a:pt x="184" y="76"/>
                    </a:lnTo>
                    <a:lnTo>
                      <a:pt x="173" y="83"/>
                    </a:lnTo>
                    <a:lnTo>
                      <a:pt x="159" y="90"/>
                    </a:lnTo>
                    <a:lnTo>
                      <a:pt x="141" y="96"/>
                    </a:lnTo>
                    <a:lnTo>
                      <a:pt x="122" y="101"/>
                    </a:lnTo>
                    <a:lnTo>
                      <a:pt x="102" y="105"/>
                    </a:lnTo>
                    <a:lnTo>
                      <a:pt x="81" y="104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160"/>
              <p:cNvSpPr/>
              <p:nvPr/>
            </p:nvSpPr>
            <p:spPr>
              <a:xfrm>
                <a:off x="4772160" y="2753640"/>
                <a:ext cx="327240" cy="434520"/>
              </a:xfrm>
              <a:custGeom>
                <a:avLst/>
                <a:gdLst/>
                <a:ahLst/>
                <a:rect l="l" t="t" r="r" b="b"/>
                <a:pathLst>
                  <a:path w="474" h="1109">
                    <a:moveTo>
                      <a:pt x="312" y="8"/>
                    </a:moveTo>
                    <a:lnTo>
                      <a:pt x="309" y="10"/>
                    </a:lnTo>
                    <a:lnTo>
                      <a:pt x="303" y="12"/>
                    </a:lnTo>
                    <a:lnTo>
                      <a:pt x="293" y="18"/>
                    </a:lnTo>
                    <a:lnTo>
                      <a:pt x="279" y="25"/>
                    </a:lnTo>
                    <a:lnTo>
                      <a:pt x="261" y="36"/>
                    </a:lnTo>
                    <a:lnTo>
                      <a:pt x="242" y="48"/>
                    </a:lnTo>
                    <a:lnTo>
                      <a:pt x="222" y="62"/>
                    </a:lnTo>
                    <a:lnTo>
                      <a:pt x="199" y="79"/>
                    </a:lnTo>
                    <a:lnTo>
                      <a:pt x="177" y="100"/>
                    </a:lnTo>
                    <a:lnTo>
                      <a:pt x="153" y="123"/>
                    </a:lnTo>
                    <a:lnTo>
                      <a:pt x="129" y="148"/>
                    </a:lnTo>
                    <a:lnTo>
                      <a:pt x="106" y="176"/>
                    </a:lnTo>
                    <a:lnTo>
                      <a:pt x="85" y="207"/>
                    </a:lnTo>
                    <a:lnTo>
                      <a:pt x="65" y="241"/>
                    </a:lnTo>
                    <a:lnTo>
                      <a:pt x="46" y="278"/>
                    </a:lnTo>
                    <a:lnTo>
                      <a:pt x="31" y="318"/>
                    </a:lnTo>
                    <a:lnTo>
                      <a:pt x="9" y="401"/>
                    </a:lnTo>
                    <a:lnTo>
                      <a:pt x="0" y="485"/>
                    </a:lnTo>
                    <a:lnTo>
                      <a:pt x="0" y="569"/>
                    </a:lnTo>
                    <a:lnTo>
                      <a:pt x="7" y="648"/>
                    </a:lnTo>
                    <a:lnTo>
                      <a:pt x="17" y="721"/>
                    </a:lnTo>
                    <a:lnTo>
                      <a:pt x="28" y="780"/>
                    </a:lnTo>
                    <a:lnTo>
                      <a:pt x="38" y="826"/>
                    </a:lnTo>
                    <a:lnTo>
                      <a:pt x="46" y="853"/>
                    </a:lnTo>
                    <a:lnTo>
                      <a:pt x="60" y="892"/>
                    </a:lnTo>
                    <a:lnTo>
                      <a:pt x="77" y="933"/>
                    </a:lnTo>
                    <a:lnTo>
                      <a:pt x="96" y="971"/>
                    </a:lnTo>
                    <a:lnTo>
                      <a:pt x="115" y="1007"/>
                    </a:lnTo>
                    <a:lnTo>
                      <a:pt x="133" y="1037"/>
                    </a:lnTo>
                    <a:lnTo>
                      <a:pt x="148" y="1061"/>
                    </a:lnTo>
                    <a:lnTo>
                      <a:pt x="158" y="1076"/>
                    </a:lnTo>
                    <a:lnTo>
                      <a:pt x="162" y="1082"/>
                    </a:lnTo>
                    <a:lnTo>
                      <a:pt x="163" y="1086"/>
                    </a:lnTo>
                    <a:lnTo>
                      <a:pt x="167" y="1094"/>
                    </a:lnTo>
                    <a:lnTo>
                      <a:pt x="173" y="1103"/>
                    </a:lnTo>
                    <a:lnTo>
                      <a:pt x="180" y="1108"/>
                    </a:lnTo>
                    <a:lnTo>
                      <a:pt x="191" y="1109"/>
                    </a:lnTo>
                    <a:lnTo>
                      <a:pt x="202" y="1100"/>
                    </a:lnTo>
                    <a:lnTo>
                      <a:pt x="216" y="1079"/>
                    </a:lnTo>
                    <a:lnTo>
                      <a:pt x="230" y="1041"/>
                    </a:lnTo>
                    <a:lnTo>
                      <a:pt x="238" y="983"/>
                    </a:lnTo>
                    <a:lnTo>
                      <a:pt x="238" y="907"/>
                    </a:lnTo>
                    <a:lnTo>
                      <a:pt x="232" y="821"/>
                    </a:lnTo>
                    <a:lnTo>
                      <a:pt x="227" y="727"/>
                    </a:lnTo>
                    <a:lnTo>
                      <a:pt x="225" y="633"/>
                    </a:lnTo>
                    <a:lnTo>
                      <a:pt x="232" y="543"/>
                    </a:lnTo>
                    <a:lnTo>
                      <a:pt x="254" y="463"/>
                    </a:lnTo>
                    <a:lnTo>
                      <a:pt x="293" y="397"/>
                    </a:lnTo>
                    <a:lnTo>
                      <a:pt x="339" y="343"/>
                    </a:lnTo>
                    <a:lnTo>
                      <a:pt x="380" y="295"/>
                    </a:lnTo>
                    <a:lnTo>
                      <a:pt x="411" y="255"/>
                    </a:lnTo>
                    <a:lnTo>
                      <a:pt x="437" y="220"/>
                    </a:lnTo>
                    <a:lnTo>
                      <a:pt x="455" y="190"/>
                    </a:lnTo>
                    <a:lnTo>
                      <a:pt x="468" y="164"/>
                    </a:lnTo>
                    <a:lnTo>
                      <a:pt x="474" y="139"/>
                    </a:lnTo>
                    <a:lnTo>
                      <a:pt x="473" y="116"/>
                    </a:lnTo>
                    <a:lnTo>
                      <a:pt x="468" y="93"/>
                    </a:lnTo>
                    <a:lnTo>
                      <a:pt x="459" y="69"/>
                    </a:lnTo>
                    <a:lnTo>
                      <a:pt x="446" y="46"/>
                    </a:lnTo>
                    <a:lnTo>
                      <a:pt x="430" y="27"/>
                    </a:lnTo>
                    <a:lnTo>
                      <a:pt x="410" y="11"/>
                    </a:lnTo>
                    <a:lnTo>
                      <a:pt x="382" y="2"/>
                    </a:lnTo>
                    <a:lnTo>
                      <a:pt x="351" y="0"/>
                    </a:lnTo>
                    <a:lnTo>
                      <a:pt x="312" y="8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Freeform 161"/>
              <p:cNvSpPr/>
              <p:nvPr/>
            </p:nvSpPr>
            <p:spPr>
              <a:xfrm>
                <a:off x="5198400" y="3437640"/>
                <a:ext cx="306720" cy="37800"/>
              </a:xfrm>
              <a:custGeom>
                <a:avLst/>
                <a:gdLst/>
                <a:ahLst/>
                <a:rect l="l" t="t" r="r" b="b"/>
                <a:pathLst>
                  <a:path w="442" h="110">
                    <a:moveTo>
                      <a:pt x="0" y="85"/>
                    </a:moveTo>
                    <a:lnTo>
                      <a:pt x="3" y="85"/>
                    </a:lnTo>
                    <a:lnTo>
                      <a:pt x="9" y="84"/>
                    </a:lnTo>
                    <a:lnTo>
                      <a:pt x="19" y="83"/>
                    </a:lnTo>
                    <a:lnTo>
                      <a:pt x="32" y="79"/>
                    </a:lnTo>
                    <a:lnTo>
                      <a:pt x="46" y="75"/>
                    </a:lnTo>
                    <a:lnTo>
                      <a:pt x="61" y="71"/>
                    </a:lnTo>
                    <a:lnTo>
                      <a:pt x="76" y="64"/>
                    </a:lnTo>
                    <a:lnTo>
                      <a:pt x="88" y="56"/>
                    </a:lnTo>
                    <a:lnTo>
                      <a:pt x="90" y="55"/>
                    </a:lnTo>
                    <a:lnTo>
                      <a:pt x="93" y="51"/>
                    </a:lnTo>
                    <a:lnTo>
                      <a:pt x="100" y="45"/>
                    </a:lnTo>
                    <a:lnTo>
                      <a:pt x="109" y="37"/>
                    </a:lnTo>
                    <a:lnTo>
                      <a:pt x="119" y="29"/>
                    </a:lnTo>
                    <a:lnTo>
                      <a:pt x="131" y="20"/>
                    </a:lnTo>
                    <a:lnTo>
                      <a:pt x="146" y="13"/>
                    </a:lnTo>
                    <a:lnTo>
                      <a:pt x="161" y="6"/>
                    </a:lnTo>
                    <a:lnTo>
                      <a:pt x="179" y="1"/>
                    </a:lnTo>
                    <a:lnTo>
                      <a:pt x="198" y="0"/>
                    </a:lnTo>
                    <a:lnTo>
                      <a:pt x="218" y="1"/>
                    </a:lnTo>
                    <a:lnTo>
                      <a:pt x="240" y="6"/>
                    </a:lnTo>
                    <a:lnTo>
                      <a:pt x="262" y="17"/>
                    </a:lnTo>
                    <a:lnTo>
                      <a:pt x="285" y="31"/>
                    </a:lnTo>
                    <a:lnTo>
                      <a:pt x="309" y="53"/>
                    </a:lnTo>
                    <a:lnTo>
                      <a:pt x="333" y="80"/>
                    </a:lnTo>
                    <a:lnTo>
                      <a:pt x="335" y="81"/>
                    </a:lnTo>
                    <a:lnTo>
                      <a:pt x="343" y="84"/>
                    </a:lnTo>
                    <a:lnTo>
                      <a:pt x="355" y="89"/>
                    </a:lnTo>
                    <a:lnTo>
                      <a:pt x="369" y="95"/>
                    </a:lnTo>
                    <a:lnTo>
                      <a:pt x="387" y="99"/>
                    </a:lnTo>
                    <a:lnTo>
                      <a:pt x="405" y="103"/>
                    </a:lnTo>
                    <a:lnTo>
                      <a:pt x="423" y="104"/>
                    </a:lnTo>
                    <a:lnTo>
                      <a:pt x="442" y="103"/>
                    </a:lnTo>
                    <a:lnTo>
                      <a:pt x="441" y="104"/>
                    </a:lnTo>
                    <a:lnTo>
                      <a:pt x="437" y="107"/>
                    </a:lnTo>
                    <a:lnTo>
                      <a:pt x="429" y="109"/>
                    </a:lnTo>
                    <a:lnTo>
                      <a:pt x="415" y="110"/>
                    </a:lnTo>
                    <a:lnTo>
                      <a:pt x="393" y="110"/>
                    </a:lnTo>
                    <a:lnTo>
                      <a:pt x="363" y="107"/>
                    </a:lnTo>
                    <a:lnTo>
                      <a:pt x="321" y="96"/>
                    </a:lnTo>
                    <a:lnTo>
                      <a:pt x="270" y="80"/>
                    </a:lnTo>
                    <a:lnTo>
                      <a:pt x="267" y="79"/>
                    </a:lnTo>
                    <a:lnTo>
                      <a:pt x="260" y="74"/>
                    </a:lnTo>
                    <a:lnTo>
                      <a:pt x="248" y="68"/>
                    </a:lnTo>
                    <a:lnTo>
                      <a:pt x="231" y="62"/>
                    </a:lnTo>
                    <a:lnTo>
                      <a:pt x="209" y="58"/>
                    </a:lnTo>
                    <a:lnTo>
                      <a:pt x="184" y="58"/>
                    </a:lnTo>
                    <a:lnTo>
                      <a:pt x="154" y="62"/>
                    </a:lnTo>
                    <a:lnTo>
                      <a:pt x="120" y="71"/>
                    </a:lnTo>
                    <a:lnTo>
                      <a:pt x="119" y="72"/>
                    </a:lnTo>
                    <a:lnTo>
                      <a:pt x="112" y="76"/>
                    </a:lnTo>
                    <a:lnTo>
                      <a:pt x="103" y="81"/>
                    </a:lnTo>
                    <a:lnTo>
                      <a:pt x="90" y="87"/>
                    </a:lnTo>
                    <a:lnTo>
                      <a:pt x="73" y="91"/>
                    </a:lnTo>
                    <a:lnTo>
                      <a:pt x="52" y="92"/>
                    </a:lnTo>
                    <a:lnTo>
                      <a:pt x="28" y="91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Freeform 162"/>
              <p:cNvSpPr/>
              <p:nvPr/>
            </p:nvSpPr>
            <p:spPr>
              <a:xfrm>
                <a:off x="5198400" y="2696040"/>
                <a:ext cx="327240" cy="69120"/>
              </a:xfrm>
              <a:custGeom>
                <a:avLst/>
                <a:gdLst/>
                <a:ahLst/>
                <a:rect l="l" t="t" r="r" b="b"/>
                <a:pathLst>
                  <a:path w="473" h="165">
                    <a:moveTo>
                      <a:pt x="0" y="0"/>
                    </a:moveTo>
                    <a:lnTo>
                      <a:pt x="4" y="0"/>
                    </a:lnTo>
                    <a:lnTo>
                      <a:pt x="13" y="2"/>
                    </a:lnTo>
                    <a:lnTo>
                      <a:pt x="28" y="4"/>
                    </a:lnTo>
                    <a:lnTo>
                      <a:pt x="48" y="9"/>
                    </a:lnTo>
                    <a:lnTo>
                      <a:pt x="72" y="17"/>
                    </a:lnTo>
                    <a:lnTo>
                      <a:pt x="98" y="28"/>
                    </a:lnTo>
                    <a:lnTo>
                      <a:pt x="129" y="42"/>
                    </a:lnTo>
                    <a:lnTo>
                      <a:pt x="159" y="61"/>
                    </a:lnTo>
                    <a:lnTo>
                      <a:pt x="190" y="78"/>
                    </a:lnTo>
                    <a:lnTo>
                      <a:pt x="221" y="90"/>
                    </a:lnTo>
                    <a:lnTo>
                      <a:pt x="251" y="98"/>
                    </a:lnTo>
                    <a:lnTo>
                      <a:pt x="277" y="100"/>
                    </a:lnTo>
                    <a:lnTo>
                      <a:pt x="300" y="102"/>
                    </a:lnTo>
                    <a:lnTo>
                      <a:pt x="318" y="102"/>
                    </a:lnTo>
                    <a:lnTo>
                      <a:pt x="329" y="100"/>
                    </a:lnTo>
                    <a:lnTo>
                      <a:pt x="333" y="100"/>
                    </a:lnTo>
                    <a:lnTo>
                      <a:pt x="473" y="49"/>
                    </a:lnTo>
                    <a:lnTo>
                      <a:pt x="469" y="53"/>
                    </a:lnTo>
                    <a:lnTo>
                      <a:pt x="457" y="62"/>
                    </a:lnTo>
                    <a:lnTo>
                      <a:pt x="441" y="77"/>
                    </a:lnTo>
                    <a:lnTo>
                      <a:pt x="422" y="94"/>
                    </a:lnTo>
                    <a:lnTo>
                      <a:pt x="401" y="111"/>
                    </a:lnTo>
                    <a:lnTo>
                      <a:pt x="381" y="127"/>
                    </a:lnTo>
                    <a:lnTo>
                      <a:pt x="363" y="141"/>
                    </a:lnTo>
                    <a:lnTo>
                      <a:pt x="350" y="150"/>
                    </a:lnTo>
                    <a:lnTo>
                      <a:pt x="344" y="154"/>
                    </a:lnTo>
                    <a:lnTo>
                      <a:pt x="334" y="157"/>
                    </a:lnTo>
                    <a:lnTo>
                      <a:pt x="323" y="160"/>
                    </a:lnTo>
                    <a:lnTo>
                      <a:pt x="309" y="161"/>
                    </a:lnTo>
                    <a:lnTo>
                      <a:pt x="295" y="164"/>
                    </a:lnTo>
                    <a:lnTo>
                      <a:pt x="279" y="164"/>
                    </a:lnTo>
                    <a:lnTo>
                      <a:pt x="261" y="165"/>
                    </a:lnTo>
                    <a:lnTo>
                      <a:pt x="243" y="164"/>
                    </a:lnTo>
                    <a:lnTo>
                      <a:pt x="224" y="162"/>
                    </a:lnTo>
                    <a:lnTo>
                      <a:pt x="207" y="161"/>
                    </a:lnTo>
                    <a:lnTo>
                      <a:pt x="189" y="157"/>
                    </a:lnTo>
                    <a:lnTo>
                      <a:pt x="172" y="153"/>
                    </a:lnTo>
                    <a:lnTo>
                      <a:pt x="156" y="148"/>
                    </a:lnTo>
                    <a:lnTo>
                      <a:pt x="141" y="141"/>
                    </a:lnTo>
                    <a:lnTo>
                      <a:pt x="127" y="133"/>
                    </a:lnTo>
                    <a:lnTo>
                      <a:pt x="116" y="124"/>
                    </a:lnTo>
                    <a:lnTo>
                      <a:pt x="97" y="103"/>
                    </a:lnTo>
                    <a:lnTo>
                      <a:pt x="81" y="82"/>
                    </a:lnTo>
                    <a:lnTo>
                      <a:pt x="68" y="62"/>
                    </a:lnTo>
                    <a:lnTo>
                      <a:pt x="56" y="42"/>
                    </a:lnTo>
                    <a:lnTo>
                      <a:pt x="43" y="27"/>
                    </a:lnTo>
                    <a:lnTo>
                      <a:pt x="30" y="13"/>
                    </a:lnTo>
                    <a:lnTo>
                      <a:pt x="1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Freeform 163"/>
              <p:cNvSpPr/>
              <p:nvPr/>
            </p:nvSpPr>
            <p:spPr>
              <a:xfrm>
                <a:off x="5499360" y="2790000"/>
                <a:ext cx="393120" cy="372960"/>
              </a:xfrm>
              <a:custGeom>
                <a:avLst/>
                <a:gdLst/>
                <a:ahLst/>
                <a:rect l="l" t="t" r="r" b="b"/>
                <a:pathLst>
                  <a:path w="570" h="953">
                    <a:moveTo>
                      <a:pt x="443" y="29"/>
                    </a:moveTo>
                    <a:lnTo>
                      <a:pt x="440" y="26"/>
                    </a:lnTo>
                    <a:lnTo>
                      <a:pt x="432" y="19"/>
                    </a:lnTo>
                    <a:lnTo>
                      <a:pt x="418" y="13"/>
                    </a:lnTo>
                    <a:lnTo>
                      <a:pt x="400" y="5"/>
                    </a:lnTo>
                    <a:lnTo>
                      <a:pt x="377" y="0"/>
                    </a:lnTo>
                    <a:lnTo>
                      <a:pt x="351" y="0"/>
                    </a:lnTo>
                    <a:lnTo>
                      <a:pt x="322" y="5"/>
                    </a:lnTo>
                    <a:lnTo>
                      <a:pt x="289" y="19"/>
                    </a:lnTo>
                    <a:lnTo>
                      <a:pt x="258" y="35"/>
                    </a:lnTo>
                    <a:lnTo>
                      <a:pt x="233" y="44"/>
                    </a:lnTo>
                    <a:lnTo>
                      <a:pt x="210" y="48"/>
                    </a:lnTo>
                    <a:lnTo>
                      <a:pt x="191" y="51"/>
                    </a:lnTo>
                    <a:lnTo>
                      <a:pt x="175" y="52"/>
                    </a:lnTo>
                    <a:lnTo>
                      <a:pt x="160" y="56"/>
                    </a:lnTo>
                    <a:lnTo>
                      <a:pt x="146" y="65"/>
                    </a:lnTo>
                    <a:lnTo>
                      <a:pt x="132" y="80"/>
                    </a:lnTo>
                    <a:lnTo>
                      <a:pt x="104" y="126"/>
                    </a:lnTo>
                    <a:lnTo>
                      <a:pt x="81" y="180"/>
                    </a:lnTo>
                    <a:lnTo>
                      <a:pt x="63" y="241"/>
                    </a:lnTo>
                    <a:lnTo>
                      <a:pt x="47" y="304"/>
                    </a:lnTo>
                    <a:lnTo>
                      <a:pt x="36" y="366"/>
                    </a:lnTo>
                    <a:lnTo>
                      <a:pt x="26" y="425"/>
                    </a:lnTo>
                    <a:lnTo>
                      <a:pt x="17" y="479"/>
                    </a:lnTo>
                    <a:lnTo>
                      <a:pt x="8" y="524"/>
                    </a:lnTo>
                    <a:lnTo>
                      <a:pt x="2" y="569"/>
                    </a:lnTo>
                    <a:lnTo>
                      <a:pt x="0" y="623"/>
                    </a:lnTo>
                    <a:lnTo>
                      <a:pt x="2" y="679"/>
                    </a:lnTo>
                    <a:lnTo>
                      <a:pt x="8" y="736"/>
                    </a:lnTo>
                    <a:lnTo>
                      <a:pt x="18" y="788"/>
                    </a:lnTo>
                    <a:lnTo>
                      <a:pt x="34" y="832"/>
                    </a:lnTo>
                    <a:lnTo>
                      <a:pt x="54" y="864"/>
                    </a:lnTo>
                    <a:lnTo>
                      <a:pt x="79" y="878"/>
                    </a:lnTo>
                    <a:lnTo>
                      <a:pt x="104" y="885"/>
                    </a:lnTo>
                    <a:lnTo>
                      <a:pt x="127" y="893"/>
                    </a:lnTo>
                    <a:lnTo>
                      <a:pt x="146" y="904"/>
                    </a:lnTo>
                    <a:lnTo>
                      <a:pt x="165" y="915"/>
                    </a:lnTo>
                    <a:lnTo>
                      <a:pt x="181" y="927"/>
                    </a:lnTo>
                    <a:lnTo>
                      <a:pt x="197" y="937"/>
                    </a:lnTo>
                    <a:lnTo>
                      <a:pt x="212" y="947"/>
                    </a:lnTo>
                    <a:lnTo>
                      <a:pt x="229" y="952"/>
                    </a:lnTo>
                    <a:lnTo>
                      <a:pt x="238" y="953"/>
                    </a:lnTo>
                    <a:lnTo>
                      <a:pt x="249" y="953"/>
                    </a:lnTo>
                    <a:lnTo>
                      <a:pt x="260" y="950"/>
                    </a:lnTo>
                    <a:lnTo>
                      <a:pt x="274" y="947"/>
                    </a:lnTo>
                    <a:lnTo>
                      <a:pt x="288" y="940"/>
                    </a:lnTo>
                    <a:lnTo>
                      <a:pt x="303" y="933"/>
                    </a:lnTo>
                    <a:lnTo>
                      <a:pt x="320" y="924"/>
                    </a:lnTo>
                    <a:lnTo>
                      <a:pt x="336" y="914"/>
                    </a:lnTo>
                    <a:lnTo>
                      <a:pt x="354" y="902"/>
                    </a:lnTo>
                    <a:lnTo>
                      <a:pt x="370" y="887"/>
                    </a:lnTo>
                    <a:lnTo>
                      <a:pt x="388" y="873"/>
                    </a:lnTo>
                    <a:lnTo>
                      <a:pt x="405" y="857"/>
                    </a:lnTo>
                    <a:lnTo>
                      <a:pt x="423" y="840"/>
                    </a:lnTo>
                    <a:lnTo>
                      <a:pt x="440" y="820"/>
                    </a:lnTo>
                    <a:lnTo>
                      <a:pt x="457" y="800"/>
                    </a:lnTo>
                    <a:lnTo>
                      <a:pt x="473" y="779"/>
                    </a:lnTo>
                    <a:lnTo>
                      <a:pt x="511" y="711"/>
                    </a:lnTo>
                    <a:lnTo>
                      <a:pt x="541" y="623"/>
                    </a:lnTo>
                    <a:lnTo>
                      <a:pt x="561" y="520"/>
                    </a:lnTo>
                    <a:lnTo>
                      <a:pt x="570" y="411"/>
                    </a:lnTo>
                    <a:lnTo>
                      <a:pt x="564" y="300"/>
                    </a:lnTo>
                    <a:lnTo>
                      <a:pt x="543" y="195"/>
                    </a:lnTo>
                    <a:lnTo>
                      <a:pt x="502" y="102"/>
                    </a:lnTo>
                    <a:lnTo>
                      <a:pt x="443" y="29"/>
                    </a:lnTo>
                    <a:close/>
                  </a:path>
                </a:pathLst>
              </a:custGeom>
              <a:solidFill>
                <a:srgbClr val="ff72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Freeform 164"/>
              <p:cNvSpPr/>
              <p:nvPr/>
            </p:nvSpPr>
            <p:spPr>
              <a:xfrm>
                <a:off x="5604480" y="2901960"/>
                <a:ext cx="205200" cy="203400"/>
              </a:xfrm>
              <a:custGeom>
                <a:avLst/>
                <a:gdLst/>
                <a:ahLst/>
                <a:rect l="l" t="t" r="r" b="b"/>
                <a:pathLst>
                  <a:path w="297" h="507">
                    <a:moveTo>
                      <a:pt x="231" y="15"/>
                    </a:moveTo>
                    <a:lnTo>
                      <a:pt x="229" y="14"/>
                    </a:lnTo>
                    <a:lnTo>
                      <a:pt x="224" y="11"/>
                    </a:lnTo>
                    <a:lnTo>
                      <a:pt x="218" y="7"/>
                    </a:lnTo>
                    <a:lnTo>
                      <a:pt x="208" y="3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68" y="3"/>
                    </a:lnTo>
                    <a:lnTo>
                      <a:pt x="151" y="11"/>
                    </a:lnTo>
                    <a:lnTo>
                      <a:pt x="136" y="19"/>
                    </a:lnTo>
                    <a:lnTo>
                      <a:pt x="122" y="24"/>
                    </a:lnTo>
                    <a:lnTo>
                      <a:pt x="111" y="27"/>
                    </a:lnTo>
                    <a:lnTo>
                      <a:pt x="102" y="28"/>
                    </a:lnTo>
                    <a:lnTo>
                      <a:pt x="93" y="29"/>
                    </a:lnTo>
                    <a:lnTo>
                      <a:pt x="86" y="31"/>
                    </a:lnTo>
                    <a:lnTo>
                      <a:pt x="78" y="35"/>
                    </a:lnTo>
                    <a:lnTo>
                      <a:pt x="71" y="43"/>
                    </a:lnTo>
                    <a:lnTo>
                      <a:pt x="57" y="66"/>
                    </a:lnTo>
                    <a:lnTo>
                      <a:pt x="44" y="95"/>
                    </a:lnTo>
                    <a:lnTo>
                      <a:pt x="35" y="127"/>
                    </a:lnTo>
                    <a:lnTo>
                      <a:pt x="26" y="158"/>
                    </a:lnTo>
                    <a:lnTo>
                      <a:pt x="20" y="191"/>
                    </a:lnTo>
                    <a:lnTo>
                      <a:pt x="15" y="223"/>
                    </a:lnTo>
                    <a:lnTo>
                      <a:pt x="10" y="252"/>
                    </a:lnTo>
                    <a:lnTo>
                      <a:pt x="5" y="276"/>
                    </a:lnTo>
                    <a:lnTo>
                      <a:pt x="1" y="299"/>
                    </a:lnTo>
                    <a:lnTo>
                      <a:pt x="0" y="328"/>
                    </a:lnTo>
                    <a:lnTo>
                      <a:pt x="1" y="359"/>
                    </a:lnTo>
                    <a:lnTo>
                      <a:pt x="4" y="389"/>
                    </a:lnTo>
                    <a:lnTo>
                      <a:pt x="9" y="418"/>
                    </a:lnTo>
                    <a:lnTo>
                      <a:pt x="16" y="442"/>
                    </a:lnTo>
                    <a:lnTo>
                      <a:pt x="26" y="459"/>
                    </a:lnTo>
                    <a:lnTo>
                      <a:pt x="39" y="467"/>
                    </a:lnTo>
                    <a:lnTo>
                      <a:pt x="53" y="471"/>
                    </a:lnTo>
                    <a:lnTo>
                      <a:pt x="64" y="475"/>
                    </a:lnTo>
                    <a:lnTo>
                      <a:pt x="76" y="481"/>
                    </a:lnTo>
                    <a:lnTo>
                      <a:pt x="84" y="486"/>
                    </a:lnTo>
                    <a:lnTo>
                      <a:pt x="93" y="493"/>
                    </a:lnTo>
                    <a:lnTo>
                      <a:pt x="102" y="500"/>
                    </a:lnTo>
                    <a:lnTo>
                      <a:pt x="110" y="503"/>
                    </a:lnTo>
                    <a:lnTo>
                      <a:pt x="118" y="507"/>
                    </a:lnTo>
                    <a:lnTo>
                      <a:pt x="128" y="507"/>
                    </a:lnTo>
                    <a:lnTo>
                      <a:pt x="142" y="503"/>
                    </a:lnTo>
                    <a:lnTo>
                      <a:pt x="157" y="497"/>
                    </a:lnTo>
                    <a:lnTo>
                      <a:pt x="175" y="485"/>
                    </a:lnTo>
                    <a:lnTo>
                      <a:pt x="194" y="472"/>
                    </a:lnTo>
                    <a:lnTo>
                      <a:pt x="212" y="455"/>
                    </a:lnTo>
                    <a:lnTo>
                      <a:pt x="231" y="435"/>
                    </a:lnTo>
                    <a:lnTo>
                      <a:pt x="248" y="413"/>
                    </a:lnTo>
                    <a:lnTo>
                      <a:pt x="268" y="376"/>
                    </a:lnTo>
                    <a:lnTo>
                      <a:pt x="283" y="328"/>
                    </a:lnTo>
                    <a:lnTo>
                      <a:pt x="294" y="274"/>
                    </a:lnTo>
                    <a:lnTo>
                      <a:pt x="297" y="215"/>
                    </a:lnTo>
                    <a:lnTo>
                      <a:pt x="294" y="157"/>
                    </a:lnTo>
                    <a:lnTo>
                      <a:pt x="282" y="102"/>
                    </a:lnTo>
                    <a:lnTo>
                      <a:pt x="262" y="53"/>
                    </a:lnTo>
                    <a:lnTo>
                      <a:pt x="231" y="15"/>
                    </a:lnTo>
                    <a:close/>
                  </a:path>
                </a:pathLst>
              </a:custGeom>
              <a:solidFill>
                <a:srgbClr val="ffa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Freeform 165"/>
              <p:cNvSpPr/>
              <p:nvPr/>
            </p:nvSpPr>
            <p:spPr>
              <a:xfrm>
                <a:off x="5293800" y="2678400"/>
                <a:ext cx="279360" cy="63360"/>
              </a:xfrm>
              <a:custGeom>
                <a:avLst/>
                <a:gdLst/>
                <a:ahLst/>
                <a:rect l="l" t="t" r="r" b="b"/>
                <a:pathLst>
                  <a:path w="406" h="150">
                    <a:moveTo>
                      <a:pt x="29" y="82"/>
                    </a:moveTo>
                    <a:lnTo>
                      <a:pt x="29" y="75"/>
                    </a:lnTo>
                    <a:lnTo>
                      <a:pt x="27" y="61"/>
                    </a:lnTo>
                    <a:lnTo>
                      <a:pt x="23" y="44"/>
                    </a:lnTo>
                    <a:lnTo>
                      <a:pt x="14" y="29"/>
                    </a:lnTo>
                    <a:lnTo>
                      <a:pt x="5" y="17"/>
                    </a:lnTo>
                    <a:lnTo>
                      <a:pt x="0" y="8"/>
                    </a:lnTo>
                    <a:lnTo>
                      <a:pt x="3" y="1"/>
                    </a:lnTo>
                    <a:lnTo>
                      <a:pt x="14" y="0"/>
                    </a:lnTo>
                    <a:lnTo>
                      <a:pt x="25" y="1"/>
                    </a:lnTo>
                    <a:lnTo>
                      <a:pt x="41" y="4"/>
                    </a:lnTo>
                    <a:lnTo>
                      <a:pt x="58" y="7"/>
                    </a:lnTo>
                    <a:lnTo>
                      <a:pt x="77" y="9"/>
                    </a:lnTo>
                    <a:lnTo>
                      <a:pt x="96" y="13"/>
                    </a:lnTo>
                    <a:lnTo>
                      <a:pt x="114" y="17"/>
                    </a:lnTo>
                    <a:lnTo>
                      <a:pt x="130" y="20"/>
                    </a:lnTo>
                    <a:lnTo>
                      <a:pt x="144" y="22"/>
                    </a:lnTo>
                    <a:lnTo>
                      <a:pt x="158" y="24"/>
                    </a:lnTo>
                    <a:lnTo>
                      <a:pt x="174" y="24"/>
                    </a:lnTo>
                    <a:lnTo>
                      <a:pt x="193" y="24"/>
                    </a:lnTo>
                    <a:lnTo>
                      <a:pt x="214" y="22"/>
                    </a:lnTo>
                    <a:lnTo>
                      <a:pt x="235" y="21"/>
                    </a:lnTo>
                    <a:lnTo>
                      <a:pt x="253" y="19"/>
                    </a:lnTo>
                    <a:lnTo>
                      <a:pt x="270" y="16"/>
                    </a:lnTo>
                    <a:lnTo>
                      <a:pt x="284" y="13"/>
                    </a:lnTo>
                    <a:lnTo>
                      <a:pt x="295" y="11"/>
                    </a:lnTo>
                    <a:lnTo>
                      <a:pt x="308" y="8"/>
                    </a:lnTo>
                    <a:lnTo>
                      <a:pt x="319" y="5"/>
                    </a:lnTo>
                    <a:lnTo>
                      <a:pt x="332" y="3"/>
                    </a:lnTo>
                    <a:lnTo>
                      <a:pt x="343" y="3"/>
                    </a:lnTo>
                    <a:lnTo>
                      <a:pt x="355" y="3"/>
                    </a:lnTo>
                    <a:lnTo>
                      <a:pt x="368" y="4"/>
                    </a:lnTo>
                    <a:lnTo>
                      <a:pt x="381" y="8"/>
                    </a:lnTo>
                    <a:lnTo>
                      <a:pt x="400" y="20"/>
                    </a:lnTo>
                    <a:lnTo>
                      <a:pt x="406" y="37"/>
                    </a:lnTo>
                    <a:lnTo>
                      <a:pt x="401" y="53"/>
                    </a:lnTo>
                    <a:lnTo>
                      <a:pt x="387" y="66"/>
                    </a:lnTo>
                    <a:lnTo>
                      <a:pt x="377" y="71"/>
                    </a:lnTo>
                    <a:lnTo>
                      <a:pt x="364" y="76"/>
                    </a:lnTo>
                    <a:lnTo>
                      <a:pt x="352" y="83"/>
                    </a:lnTo>
                    <a:lnTo>
                      <a:pt x="339" y="90"/>
                    </a:lnTo>
                    <a:lnTo>
                      <a:pt x="328" y="96"/>
                    </a:lnTo>
                    <a:lnTo>
                      <a:pt x="319" y="102"/>
                    </a:lnTo>
                    <a:lnTo>
                      <a:pt x="313" y="104"/>
                    </a:lnTo>
                    <a:lnTo>
                      <a:pt x="310" y="105"/>
                    </a:lnTo>
                    <a:lnTo>
                      <a:pt x="250" y="129"/>
                    </a:lnTo>
                    <a:lnTo>
                      <a:pt x="245" y="130"/>
                    </a:lnTo>
                    <a:lnTo>
                      <a:pt x="233" y="132"/>
                    </a:lnTo>
                    <a:lnTo>
                      <a:pt x="216" y="136"/>
                    </a:lnTo>
                    <a:lnTo>
                      <a:pt x="195" y="140"/>
                    </a:lnTo>
                    <a:lnTo>
                      <a:pt x="175" y="144"/>
                    </a:lnTo>
                    <a:lnTo>
                      <a:pt x="156" y="146"/>
                    </a:lnTo>
                    <a:lnTo>
                      <a:pt x="143" y="149"/>
                    </a:lnTo>
                    <a:lnTo>
                      <a:pt x="136" y="150"/>
                    </a:lnTo>
                    <a:lnTo>
                      <a:pt x="133" y="149"/>
                    </a:lnTo>
                    <a:lnTo>
                      <a:pt x="125" y="146"/>
                    </a:lnTo>
                    <a:lnTo>
                      <a:pt x="114" y="141"/>
                    </a:lnTo>
                    <a:lnTo>
                      <a:pt x="101" y="133"/>
                    </a:lnTo>
                    <a:lnTo>
                      <a:pt x="85" y="123"/>
                    </a:lnTo>
                    <a:lnTo>
                      <a:pt x="68" y="111"/>
                    </a:lnTo>
                    <a:lnTo>
                      <a:pt x="49" y="98"/>
                    </a:lnTo>
                    <a:lnTo>
                      <a:pt x="29" y="82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Freeform 166"/>
              <p:cNvSpPr/>
              <p:nvPr/>
            </p:nvSpPr>
            <p:spPr>
              <a:xfrm>
                <a:off x="4686840" y="2727720"/>
                <a:ext cx="360000" cy="703800"/>
              </a:xfrm>
              <a:custGeom>
                <a:avLst/>
                <a:gdLst/>
                <a:ahLst/>
                <a:rect l="l" t="t" r="r" b="b"/>
                <a:pathLst>
                  <a:path w="521" h="1794">
                    <a:moveTo>
                      <a:pt x="221" y="0"/>
                    </a:moveTo>
                    <a:lnTo>
                      <a:pt x="217" y="4"/>
                    </a:lnTo>
                    <a:lnTo>
                      <a:pt x="204" y="14"/>
                    </a:lnTo>
                    <a:lnTo>
                      <a:pt x="187" y="33"/>
                    </a:lnTo>
                    <a:lnTo>
                      <a:pt x="164" y="58"/>
                    </a:lnTo>
                    <a:lnTo>
                      <a:pt x="139" y="92"/>
                    </a:lnTo>
                    <a:lnTo>
                      <a:pt x="113" y="134"/>
                    </a:lnTo>
                    <a:lnTo>
                      <a:pt x="85" y="184"/>
                    </a:lnTo>
                    <a:lnTo>
                      <a:pt x="60" y="244"/>
                    </a:lnTo>
                    <a:lnTo>
                      <a:pt x="37" y="312"/>
                    </a:lnTo>
                    <a:lnTo>
                      <a:pt x="18" y="388"/>
                    </a:lnTo>
                    <a:lnTo>
                      <a:pt x="5" y="475"/>
                    </a:lnTo>
                    <a:lnTo>
                      <a:pt x="0" y="570"/>
                    </a:lnTo>
                    <a:lnTo>
                      <a:pt x="4" y="676"/>
                    </a:lnTo>
                    <a:lnTo>
                      <a:pt x="19" y="791"/>
                    </a:lnTo>
                    <a:lnTo>
                      <a:pt x="46" y="918"/>
                    </a:lnTo>
                    <a:lnTo>
                      <a:pt x="85" y="1053"/>
                    </a:lnTo>
                    <a:lnTo>
                      <a:pt x="89" y="1060"/>
                    </a:lnTo>
                    <a:lnTo>
                      <a:pt x="100" y="1080"/>
                    </a:lnTo>
                    <a:lnTo>
                      <a:pt x="116" y="1111"/>
                    </a:lnTo>
                    <a:lnTo>
                      <a:pt x="139" y="1152"/>
                    </a:lnTo>
                    <a:lnTo>
                      <a:pt x="165" y="1201"/>
                    </a:lnTo>
                    <a:lnTo>
                      <a:pt x="196" y="1256"/>
                    </a:lnTo>
                    <a:lnTo>
                      <a:pt x="230" y="1317"/>
                    </a:lnTo>
                    <a:lnTo>
                      <a:pt x="265" y="1380"/>
                    </a:lnTo>
                    <a:lnTo>
                      <a:pt x="301" y="1443"/>
                    </a:lnTo>
                    <a:lnTo>
                      <a:pt x="338" y="1508"/>
                    </a:lnTo>
                    <a:lnTo>
                      <a:pt x="375" y="1570"/>
                    </a:lnTo>
                    <a:lnTo>
                      <a:pt x="410" y="1629"/>
                    </a:lnTo>
                    <a:lnTo>
                      <a:pt x="443" y="1682"/>
                    </a:lnTo>
                    <a:lnTo>
                      <a:pt x="473" y="1728"/>
                    </a:lnTo>
                    <a:lnTo>
                      <a:pt x="499" y="1766"/>
                    </a:lnTo>
                    <a:lnTo>
                      <a:pt x="521" y="1794"/>
                    </a:lnTo>
                    <a:lnTo>
                      <a:pt x="517" y="1787"/>
                    </a:lnTo>
                    <a:lnTo>
                      <a:pt x="507" y="1769"/>
                    </a:lnTo>
                    <a:lnTo>
                      <a:pt x="492" y="1740"/>
                    </a:lnTo>
                    <a:lnTo>
                      <a:pt x="472" y="1703"/>
                    </a:lnTo>
                    <a:lnTo>
                      <a:pt x="448" y="1657"/>
                    </a:lnTo>
                    <a:lnTo>
                      <a:pt x="419" y="1605"/>
                    </a:lnTo>
                    <a:lnTo>
                      <a:pt x="388" y="1549"/>
                    </a:lnTo>
                    <a:lnTo>
                      <a:pt x="357" y="1488"/>
                    </a:lnTo>
                    <a:lnTo>
                      <a:pt x="323" y="1426"/>
                    </a:lnTo>
                    <a:lnTo>
                      <a:pt x="289" y="1363"/>
                    </a:lnTo>
                    <a:lnTo>
                      <a:pt x="255" y="1301"/>
                    </a:lnTo>
                    <a:lnTo>
                      <a:pt x="223" y="1241"/>
                    </a:lnTo>
                    <a:lnTo>
                      <a:pt x="193" y="1184"/>
                    </a:lnTo>
                    <a:lnTo>
                      <a:pt x="164" y="1131"/>
                    </a:lnTo>
                    <a:lnTo>
                      <a:pt x="140" y="1085"/>
                    </a:lnTo>
                    <a:lnTo>
                      <a:pt x="120" y="1047"/>
                    </a:lnTo>
                    <a:lnTo>
                      <a:pt x="118" y="1040"/>
                    </a:lnTo>
                    <a:lnTo>
                      <a:pt x="111" y="1021"/>
                    </a:lnTo>
                    <a:lnTo>
                      <a:pt x="101" y="989"/>
                    </a:lnTo>
                    <a:lnTo>
                      <a:pt x="90" y="945"/>
                    </a:lnTo>
                    <a:lnTo>
                      <a:pt x="77" y="894"/>
                    </a:lnTo>
                    <a:lnTo>
                      <a:pt x="66" y="834"/>
                    </a:lnTo>
                    <a:lnTo>
                      <a:pt x="56" y="765"/>
                    </a:lnTo>
                    <a:lnTo>
                      <a:pt x="48" y="691"/>
                    </a:lnTo>
                    <a:lnTo>
                      <a:pt x="43" y="611"/>
                    </a:lnTo>
                    <a:lnTo>
                      <a:pt x="44" y="528"/>
                    </a:lnTo>
                    <a:lnTo>
                      <a:pt x="52" y="441"/>
                    </a:lnTo>
                    <a:lnTo>
                      <a:pt x="67" y="352"/>
                    </a:lnTo>
                    <a:lnTo>
                      <a:pt x="90" y="262"/>
                    </a:lnTo>
                    <a:lnTo>
                      <a:pt x="123" y="172"/>
                    </a:lnTo>
                    <a:lnTo>
                      <a:pt x="165" y="85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Freeform 167"/>
              <p:cNvSpPr/>
              <p:nvPr/>
            </p:nvSpPr>
            <p:spPr>
              <a:xfrm>
                <a:off x="5244120" y="2709000"/>
                <a:ext cx="240480" cy="46800"/>
              </a:xfrm>
              <a:custGeom>
                <a:avLst/>
                <a:gdLst/>
                <a:ahLst/>
                <a:rect l="l" t="t" r="r" b="b"/>
                <a:pathLst>
                  <a:path w="350" h="120">
                    <a:moveTo>
                      <a:pt x="0" y="0"/>
                    </a:moveTo>
                    <a:lnTo>
                      <a:pt x="5" y="4"/>
                    </a:lnTo>
                    <a:lnTo>
                      <a:pt x="16" y="16"/>
                    </a:lnTo>
                    <a:lnTo>
                      <a:pt x="35" y="32"/>
                    </a:lnTo>
                    <a:lnTo>
                      <a:pt x="59" y="50"/>
                    </a:lnTo>
                    <a:lnTo>
                      <a:pt x="85" y="69"/>
                    </a:lnTo>
                    <a:lnTo>
                      <a:pt x="113" y="87"/>
                    </a:lnTo>
                    <a:lnTo>
                      <a:pt x="141" y="102"/>
                    </a:lnTo>
                    <a:lnTo>
                      <a:pt x="166" y="110"/>
                    </a:lnTo>
                    <a:lnTo>
                      <a:pt x="190" y="115"/>
                    </a:lnTo>
                    <a:lnTo>
                      <a:pt x="215" y="118"/>
                    </a:lnTo>
                    <a:lnTo>
                      <a:pt x="240" y="120"/>
                    </a:lnTo>
                    <a:lnTo>
                      <a:pt x="264" y="119"/>
                    </a:lnTo>
                    <a:lnTo>
                      <a:pt x="287" y="116"/>
                    </a:lnTo>
                    <a:lnTo>
                      <a:pt x="306" y="111"/>
                    </a:lnTo>
                    <a:lnTo>
                      <a:pt x="321" y="102"/>
                    </a:lnTo>
                    <a:lnTo>
                      <a:pt x="331" y="90"/>
                    </a:lnTo>
                    <a:lnTo>
                      <a:pt x="350" y="61"/>
                    </a:lnTo>
                    <a:lnTo>
                      <a:pt x="345" y="62"/>
                    </a:lnTo>
                    <a:lnTo>
                      <a:pt x="331" y="68"/>
                    </a:lnTo>
                    <a:lnTo>
                      <a:pt x="311" y="73"/>
                    </a:lnTo>
                    <a:lnTo>
                      <a:pt x="286" y="78"/>
                    </a:lnTo>
                    <a:lnTo>
                      <a:pt x="255" y="82"/>
                    </a:lnTo>
                    <a:lnTo>
                      <a:pt x="225" y="83"/>
                    </a:lnTo>
                    <a:lnTo>
                      <a:pt x="195" y="79"/>
                    </a:lnTo>
                    <a:lnTo>
                      <a:pt x="167" y="70"/>
                    </a:lnTo>
                    <a:lnTo>
                      <a:pt x="163" y="68"/>
                    </a:lnTo>
                    <a:lnTo>
                      <a:pt x="153" y="60"/>
                    </a:lnTo>
                    <a:lnTo>
                      <a:pt x="137" y="49"/>
                    </a:lnTo>
                    <a:lnTo>
                      <a:pt x="116" y="37"/>
                    </a:lnTo>
                    <a:lnTo>
                      <a:pt x="90" y="25"/>
                    </a:lnTo>
                    <a:lnTo>
                      <a:pt x="61" y="14"/>
                    </a:lnTo>
                    <a:lnTo>
                      <a:pt x="3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Freeform 168"/>
              <p:cNvSpPr/>
              <p:nvPr/>
            </p:nvSpPr>
            <p:spPr>
              <a:xfrm>
                <a:off x="4794480" y="2781720"/>
                <a:ext cx="194760" cy="355320"/>
              </a:xfrm>
              <a:custGeom>
                <a:avLst/>
                <a:gdLst/>
                <a:ahLst/>
                <a:rect l="l" t="t" r="r" b="b"/>
                <a:pathLst>
                  <a:path w="281" h="918">
                    <a:moveTo>
                      <a:pt x="232" y="13"/>
                    </a:moveTo>
                    <a:lnTo>
                      <a:pt x="227" y="14"/>
                    </a:lnTo>
                    <a:lnTo>
                      <a:pt x="215" y="21"/>
                    </a:lnTo>
                    <a:lnTo>
                      <a:pt x="196" y="31"/>
                    </a:lnTo>
                    <a:lnTo>
                      <a:pt x="173" y="47"/>
                    </a:lnTo>
                    <a:lnTo>
                      <a:pt x="145" y="71"/>
                    </a:lnTo>
                    <a:lnTo>
                      <a:pt x="116" y="101"/>
                    </a:lnTo>
                    <a:lnTo>
                      <a:pt x="87" y="141"/>
                    </a:lnTo>
                    <a:lnTo>
                      <a:pt x="60" y="189"/>
                    </a:lnTo>
                    <a:lnTo>
                      <a:pt x="39" y="236"/>
                    </a:lnTo>
                    <a:lnTo>
                      <a:pt x="22" y="290"/>
                    </a:lnTo>
                    <a:lnTo>
                      <a:pt x="8" y="355"/>
                    </a:lnTo>
                    <a:lnTo>
                      <a:pt x="0" y="431"/>
                    </a:lnTo>
                    <a:lnTo>
                      <a:pt x="0" y="520"/>
                    </a:lnTo>
                    <a:lnTo>
                      <a:pt x="12" y="621"/>
                    </a:lnTo>
                    <a:lnTo>
                      <a:pt x="33" y="737"/>
                    </a:lnTo>
                    <a:lnTo>
                      <a:pt x="70" y="869"/>
                    </a:lnTo>
                    <a:lnTo>
                      <a:pt x="73" y="874"/>
                    </a:lnTo>
                    <a:lnTo>
                      <a:pt x="82" y="885"/>
                    </a:lnTo>
                    <a:lnTo>
                      <a:pt x="95" y="899"/>
                    </a:lnTo>
                    <a:lnTo>
                      <a:pt x="109" y="911"/>
                    </a:lnTo>
                    <a:lnTo>
                      <a:pt x="121" y="918"/>
                    </a:lnTo>
                    <a:lnTo>
                      <a:pt x="131" y="915"/>
                    </a:lnTo>
                    <a:lnTo>
                      <a:pt x="135" y="898"/>
                    </a:lnTo>
                    <a:lnTo>
                      <a:pt x="131" y="862"/>
                    </a:lnTo>
                    <a:lnTo>
                      <a:pt x="126" y="848"/>
                    </a:lnTo>
                    <a:lnTo>
                      <a:pt x="114" y="808"/>
                    </a:lnTo>
                    <a:lnTo>
                      <a:pt x="97" y="748"/>
                    </a:lnTo>
                    <a:lnTo>
                      <a:pt x="84" y="666"/>
                    </a:lnTo>
                    <a:lnTo>
                      <a:pt x="75" y="571"/>
                    </a:lnTo>
                    <a:lnTo>
                      <a:pt x="78" y="462"/>
                    </a:lnTo>
                    <a:lnTo>
                      <a:pt x="96" y="345"/>
                    </a:lnTo>
                    <a:lnTo>
                      <a:pt x="135" y="222"/>
                    </a:lnTo>
                    <a:lnTo>
                      <a:pt x="136" y="218"/>
                    </a:lnTo>
                    <a:lnTo>
                      <a:pt x="143" y="207"/>
                    </a:lnTo>
                    <a:lnTo>
                      <a:pt x="152" y="188"/>
                    </a:lnTo>
                    <a:lnTo>
                      <a:pt x="167" y="166"/>
                    </a:lnTo>
                    <a:lnTo>
                      <a:pt x="186" y="139"/>
                    </a:lnTo>
                    <a:lnTo>
                      <a:pt x="211" y="112"/>
                    </a:lnTo>
                    <a:lnTo>
                      <a:pt x="242" y="83"/>
                    </a:lnTo>
                    <a:lnTo>
                      <a:pt x="280" y="54"/>
                    </a:lnTo>
                    <a:lnTo>
                      <a:pt x="280" y="50"/>
                    </a:lnTo>
                    <a:lnTo>
                      <a:pt x="281" y="41"/>
                    </a:lnTo>
                    <a:lnTo>
                      <a:pt x="281" y="29"/>
                    </a:lnTo>
                    <a:lnTo>
                      <a:pt x="280" y="16"/>
                    </a:lnTo>
                    <a:lnTo>
                      <a:pt x="275" y="5"/>
                    </a:lnTo>
                    <a:lnTo>
                      <a:pt x="266" y="0"/>
                    </a:lnTo>
                    <a:lnTo>
                      <a:pt x="252" y="1"/>
                    </a:lnTo>
                    <a:lnTo>
                      <a:pt x="232" y="13"/>
                    </a:lnTo>
                    <a:close/>
                  </a:path>
                </a:pathLst>
              </a:custGeom>
              <a:solidFill>
                <a:srgbClr val="91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Freeform 169"/>
              <p:cNvSpPr/>
              <p:nvPr/>
            </p:nvSpPr>
            <p:spPr>
              <a:xfrm>
                <a:off x="5204520" y="3451680"/>
                <a:ext cx="261000" cy="32760"/>
              </a:xfrm>
              <a:custGeom>
                <a:avLst/>
                <a:gdLst/>
                <a:ahLst/>
                <a:rect l="l" t="t" r="r" b="b"/>
                <a:pathLst>
                  <a:path w="379" h="95">
                    <a:moveTo>
                      <a:pt x="0" y="71"/>
                    </a:moveTo>
                    <a:lnTo>
                      <a:pt x="4" y="70"/>
                    </a:lnTo>
                    <a:lnTo>
                      <a:pt x="15" y="66"/>
                    </a:lnTo>
                    <a:lnTo>
                      <a:pt x="31" y="60"/>
                    </a:lnTo>
                    <a:lnTo>
                      <a:pt x="51" y="54"/>
                    </a:lnTo>
                    <a:lnTo>
                      <a:pt x="73" y="46"/>
                    </a:lnTo>
                    <a:lnTo>
                      <a:pt x="94" y="37"/>
                    </a:lnTo>
                    <a:lnTo>
                      <a:pt x="113" y="29"/>
                    </a:lnTo>
                    <a:lnTo>
                      <a:pt x="128" y="19"/>
                    </a:lnTo>
                    <a:lnTo>
                      <a:pt x="142" y="12"/>
                    </a:lnTo>
                    <a:lnTo>
                      <a:pt x="157" y="5"/>
                    </a:lnTo>
                    <a:lnTo>
                      <a:pt x="175" y="1"/>
                    </a:lnTo>
                    <a:lnTo>
                      <a:pt x="195" y="0"/>
                    </a:lnTo>
                    <a:lnTo>
                      <a:pt x="218" y="2"/>
                    </a:lnTo>
                    <a:lnTo>
                      <a:pt x="243" y="9"/>
                    </a:lnTo>
                    <a:lnTo>
                      <a:pt x="272" y="19"/>
                    </a:lnTo>
                    <a:lnTo>
                      <a:pt x="302" y="37"/>
                    </a:lnTo>
                    <a:lnTo>
                      <a:pt x="379" y="95"/>
                    </a:lnTo>
                    <a:lnTo>
                      <a:pt x="376" y="95"/>
                    </a:lnTo>
                    <a:lnTo>
                      <a:pt x="368" y="95"/>
                    </a:lnTo>
                    <a:lnTo>
                      <a:pt x="355" y="93"/>
                    </a:lnTo>
                    <a:lnTo>
                      <a:pt x="340" y="92"/>
                    </a:lnTo>
                    <a:lnTo>
                      <a:pt x="323" y="89"/>
                    </a:lnTo>
                    <a:lnTo>
                      <a:pt x="306" y="85"/>
                    </a:lnTo>
                    <a:lnTo>
                      <a:pt x="291" y="80"/>
                    </a:lnTo>
                    <a:lnTo>
                      <a:pt x="277" y="72"/>
                    </a:lnTo>
                    <a:lnTo>
                      <a:pt x="273" y="70"/>
                    </a:lnTo>
                    <a:lnTo>
                      <a:pt x="262" y="66"/>
                    </a:lnTo>
                    <a:lnTo>
                      <a:pt x="244" y="59"/>
                    </a:lnTo>
                    <a:lnTo>
                      <a:pt x="220" y="52"/>
                    </a:lnTo>
                    <a:lnTo>
                      <a:pt x="191" y="50"/>
                    </a:lnTo>
                    <a:lnTo>
                      <a:pt x="158" y="51"/>
                    </a:lnTo>
                    <a:lnTo>
                      <a:pt x="121" y="58"/>
                    </a:lnTo>
                    <a:lnTo>
                      <a:pt x="79" y="72"/>
                    </a:lnTo>
                    <a:lnTo>
                      <a:pt x="78" y="73"/>
                    </a:lnTo>
                    <a:lnTo>
                      <a:pt x="73" y="75"/>
                    </a:lnTo>
                    <a:lnTo>
                      <a:pt x="65" y="77"/>
                    </a:lnTo>
                    <a:lnTo>
                      <a:pt x="55" y="80"/>
                    </a:lnTo>
                    <a:lnTo>
                      <a:pt x="43" y="81"/>
                    </a:lnTo>
                    <a:lnTo>
                      <a:pt x="29" y="80"/>
                    </a:lnTo>
                    <a:lnTo>
                      <a:pt x="15" y="77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2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Freeform 170"/>
              <p:cNvSpPr/>
              <p:nvPr/>
            </p:nvSpPr>
            <p:spPr>
              <a:xfrm>
                <a:off x="5641920" y="2687760"/>
                <a:ext cx="262800" cy="90720"/>
              </a:xfrm>
              <a:custGeom>
                <a:avLst/>
                <a:gdLst/>
                <a:ahLst/>
                <a:rect l="l" t="t" r="r" b="b"/>
                <a:pathLst>
                  <a:path w="382" h="221">
                    <a:moveTo>
                      <a:pt x="0" y="0"/>
                    </a:moveTo>
                    <a:lnTo>
                      <a:pt x="4" y="0"/>
                    </a:lnTo>
                    <a:lnTo>
                      <a:pt x="13" y="0"/>
                    </a:lnTo>
                    <a:lnTo>
                      <a:pt x="27" y="1"/>
                    </a:lnTo>
                    <a:lnTo>
                      <a:pt x="46" y="2"/>
                    </a:lnTo>
                    <a:lnTo>
                      <a:pt x="68" y="6"/>
                    </a:lnTo>
                    <a:lnTo>
                      <a:pt x="95" y="10"/>
                    </a:lnTo>
                    <a:lnTo>
                      <a:pt x="124" y="17"/>
                    </a:lnTo>
                    <a:lnTo>
                      <a:pt x="154" y="26"/>
                    </a:lnTo>
                    <a:lnTo>
                      <a:pt x="185" y="38"/>
                    </a:lnTo>
                    <a:lnTo>
                      <a:pt x="217" y="52"/>
                    </a:lnTo>
                    <a:lnTo>
                      <a:pt x="250" y="71"/>
                    </a:lnTo>
                    <a:lnTo>
                      <a:pt x="280" y="92"/>
                    </a:lnTo>
                    <a:lnTo>
                      <a:pt x="310" y="117"/>
                    </a:lnTo>
                    <a:lnTo>
                      <a:pt x="337" y="147"/>
                    </a:lnTo>
                    <a:lnTo>
                      <a:pt x="362" y="182"/>
                    </a:lnTo>
                    <a:lnTo>
                      <a:pt x="382" y="221"/>
                    </a:lnTo>
                    <a:lnTo>
                      <a:pt x="381" y="220"/>
                    </a:lnTo>
                    <a:lnTo>
                      <a:pt x="376" y="216"/>
                    </a:lnTo>
                    <a:lnTo>
                      <a:pt x="368" y="208"/>
                    </a:lnTo>
                    <a:lnTo>
                      <a:pt x="358" y="200"/>
                    </a:lnTo>
                    <a:lnTo>
                      <a:pt x="344" y="188"/>
                    </a:lnTo>
                    <a:lnTo>
                      <a:pt x="328" y="175"/>
                    </a:lnTo>
                    <a:lnTo>
                      <a:pt x="308" y="160"/>
                    </a:lnTo>
                    <a:lnTo>
                      <a:pt x="286" y="145"/>
                    </a:lnTo>
                    <a:lnTo>
                      <a:pt x="260" y="128"/>
                    </a:lnTo>
                    <a:lnTo>
                      <a:pt x="232" y="110"/>
                    </a:lnTo>
                    <a:lnTo>
                      <a:pt x="200" y="92"/>
                    </a:lnTo>
                    <a:lnTo>
                      <a:pt x="166" y="74"/>
                    </a:lnTo>
                    <a:lnTo>
                      <a:pt x="129" y="54"/>
                    </a:lnTo>
                    <a:lnTo>
                      <a:pt x="88" y="35"/>
                    </a:lnTo>
                    <a:lnTo>
                      <a:pt x="46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Freeform 171"/>
              <p:cNvSpPr/>
              <p:nvPr/>
            </p:nvSpPr>
            <p:spPr>
              <a:xfrm>
                <a:off x="5292000" y="2552400"/>
                <a:ext cx="117720" cy="197640"/>
              </a:xfrm>
              <a:custGeom>
                <a:avLst/>
                <a:gdLst/>
                <a:ahLst/>
                <a:rect l="l" t="t" r="r" b="b"/>
                <a:pathLst>
                  <a:path w="174" h="503">
                    <a:moveTo>
                      <a:pt x="115" y="481"/>
                    </a:moveTo>
                    <a:lnTo>
                      <a:pt x="113" y="468"/>
                    </a:lnTo>
                    <a:lnTo>
                      <a:pt x="108" y="432"/>
                    </a:lnTo>
                    <a:lnTo>
                      <a:pt x="101" y="381"/>
                    </a:lnTo>
                    <a:lnTo>
                      <a:pt x="89" y="318"/>
                    </a:lnTo>
                    <a:lnTo>
                      <a:pt x="73" y="249"/>
                    </a:lnTo>
                    <a:lnTo>
                      <a:pt x="53" y="182"/>
                    </a:lnTo>
                    <a:lnTo>
                      <a:pt x="29" y="120"/>
                    </a:lnTo>
                    <a:lnTo>
                      <a:pt x="0" y="72"/>
                    </a:lnTo>
                    <a:lnTo>
                      <a:pt x="1" y="68"/>
                    </a:lnTo>
                    <a:lnTo>
                      <a:pt x="4" y="58"/>
                    </a:lnTo>
                    <a:lnTo>
                      <a:pt x="9" y="46"/>
                    </a:lnTo>
                    <a:lnTo>
                      <a:pt x="16" y="32"/>
                    </a:lnTo>
                    <a:lnTo>
                      <a:pt x="25" y="18"/>
                    </a:lnTo>
                    <a:lnTo>
                      <a:pt x="38" y="7"/>
                    </a:lnTo>
                    <a:lnTo>
                      <a:pt x="52" y="0"/>
                    </a:lnTo>
                    <a:lnTo>
                      <a:pt x="68" y="2"/>
                    </a:lnTo>
                    <a:lnTo>
                      <a:pt x="113" y="27"/>
                    </a:lnTo>
                    <a:lnTo>
                      <a:pt x="117" y="40"/>
                    </a:lnTo>
                    <a:lnTo>
                      <a:pt x="126" y="75"/>
                    </a:lnTo>
                    <a:lnTo>
                      <a:pt x="137" y="128"/>
                    </a:lnTo>
                    <a:lnTo>
                      <a:pt x="150" y="194"/>
                    </a:lnTo>
                    <a:lnTo>
                      <a:pt x="162" y="266"/>
                    </a:lnTo>
                    <a:lnTo>
                      <a:pt x="171" y="340"/>
                    </a:lnTo>
                    <a:lnTo>
                      <a:pt x="174" y="411"/>
                    </a:lnTo>
                    <a:lnTo>
                      <a:pt x="170" y="473"/>
                    </a:lnTo>
                    <a:lnTo>
                      <a:pt x="169" y="476"/>
                    </a:lnTo>
                    <a:lnTo>
                      <a:pt x="166" y="482"/>
                    </a:lnTo>
                    <a:lnTo>
                      <a:pt x="161" y="490"/>
                    </a:lnTo>
                    <a:lnTo>
                      <a:pt x="156" y="498"/>
                    </a:lnTo>
                    <a:lnTo>
                      <a:pt x="147" y="503"/>
                    </a:lnTo>
                    <a:lnTo>
                      <a:pt x="139" y="503"/>
                    </a:lnTo>
                    <a:lnTo>
                      <a:pt x="127" y="497"/>
                    </a:lnTo>
                    <a:lnTo>
                      <a:pt x="115" y="481"/>
                    </a:lnTo>
                    <a:close/>
                  </a:path>
                </a:pathLst>
              </a:custGeom>
              <a:solidFill>
                <a:srgbClr val="5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Freeform 172"/>
              <p:cNvSpPr/>
              <p:nvPr/>
            </p:nvSpPr>
            <p:spPr>
              <a:xfrm>
                <a:off x="5341320" y="2560680"/>
                <a:ext cx="57960" cy="132840"/>
              </a:xfrm>
              <a:custGeom>
                <a:avLst/>
                <a:gdLst/>
                <a:ahLst/>
                <a:rect l="l" t="t" r="r" b="b"/>
                <a:pathLst>
                  <a:path w="84" h="339">
                    <a:moveTo>
                      <a:pt x="0" y="0"/>
                    </a:moveTo>
                    <a:lnTo>
                      <a:pt x="5" y="1"/>
                    </a:lnTo>
                    <a:lnTo>
                      <a:pt x="16" y="4"/>
                    </a:lnTo>
                    <a:lnTo>
                      <a:pt x="29" y="11"/>
                    </a:lnTo>
                    <a:lnTo>
                      <a:pt x="36" y="21"/>
                    </a:lnTo>
                    <a:lnTo>
                      <a:pt x="39" y="30"/>
                    </a:lnTo>
                    <a:lnTo>
                      <a:pt x="44" y="54"/>
                    </a:lnTo>
                    <a:lnTo>
                      <a:pt x="51" y="90"/>
                    </a:lnTo>
                    <a:lnTo>
                      <a:pt x="60" y="133"/>
                    </a:lnTo>
                    <a:lnTo>
                      <a:pt x="69" y="183"/>
                    </a:lnTo>
                    <a:lnTo>
                      <a:pt x="77" y="236"/>
                    </a:lnTo>
                    <a:lnTo>
                      <a:pt x="83" y="289"/>
                    </a:lnTo>
                    <a:lnTo>
                      <a:pt x="84" y="336"/>
                    </a:lnTo>
                    <a:lnTo>
                      <a:pt x="83" y="337"/>
                    </a:lnTo>
                    <a:lnTo>
                      <a:pt x="79" y="339"/>
                    </a:lnTo>
                    <a:lnTo>
                      <a:pt x="74" y="336"/>
                    </a:lnTo>
                    <a:lnTo>
                      <a:pt x="69" y="328"/>
                    </a:lnTo>
                    <a:lnTo>
                      <a:pt x="68" y="316"/>
                    </a:lnTo>
                    <a:lnTo>
                      <a:pt x="63" y="285"/>
                    </a:lnTo>
                    <a:lnTo>
                      <a:pt x="56" y="240"/>
                    </a:lnTo>
                    <a:lnTo>
                      <a:pt x="48" y="186"/>
                    </a:lnTo>
                    <a:lnTo>
                      <a:pt x="38" y="129"/>
                    </a:lnTo>
                    <a:lnTo>
                      <a:pt x="26" y="75"/>
                    </a:ln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28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Freeform 173"/>
              <p:cNvSpPr/>
              <p:nvPr/>
            </p:nvSpPr>
            <p:spPr>
              <a:xfrm>
                <a:off x="5302440" y="2575800"/>
                <a:ext cx="88560" cy="181440"/>
              </a:xfrm>
              <a:custGeom>
                <a:avLst/>
                <a:gdLst/>
                <a:ahLst/>
                <a:rect l="l" t="t" r="r" b="b"/>
                <a:pathLst>
                  <a:path w="127" h="450">
                    <a:moveTo>
                      <a:pt x="22" y="0"/>
                    </a:moveTo>
                    <a:lnTo>
                      <a:pt x="25" y="6"/>
                    </a:lnTo>
                    <a:lnTo>
                      <a:pt x="34" y="26"/>
                    </a:lnTo>
                    <a:lnTo>
                      <a:pt x="48" y="59"/>
                    </a:lnTo>
                    <a:lnTo>
                      <a:pt x="66" y="106"/>
                    </a:lnTo>
                    <a:lnTo>
                      <a:pt x="83" y="170"/>
                    </a:lnTo>
                    <a:lnTo>
                      <a:pt x="100" y="247"/>
                    </a:lnTo>
                    <a:lnTo>
                      <a:pt x="116" y="341"/>
                    </a:lnTo>
                    <a:lnTo>
                      <a:pt x="127" y="450"/>
                    </a:lnTo>
                    <a:lnTo>
                      <a:pt x="124" y="449"/>
                    </a:lnTo>
                    <a:lnTo>
                      <a:pt x="116" y="446"/>
                    </a:lnTo>
                    <a:lnTo>
                      <a:pt x="107" y="440"/>
                    </a:lnTo>
                    <a:lnTo>
                      <a:pt x="101" y="429"/>
                    </a:lnTo>
                    <a:lnTo>
                      <a:pt x="100" y="417"/>
                    </a:lnTo>
                    <a:lnTo>
                      <a:pt x="97" y="384"/>
                    </a:lnTo>
                    <a:lnTo>
                      <a:pt x="92" y="335"/>
                    </a:lnTo>
                    <a:lnTo>
                      <a:pt x="84" y="275"/>
                    </a:lnTo>
                    <a:lnTo>
                      <a:pt x="72" y="208"/>
                    </a:lnTo>
                    <a:lnTo>
                      <a:pt x="53" y="139"/>
                    </a:lnTo>
                    <a:lnTo>
                      <a:pt x="30" y="72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5" y="5"/>
                    </a:lnTo>
                    <a:lnTo>
                      <a:pt x="13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Freeform 174"/>
              <p:cNvSpPr/>
              <p:nvPr/>
            </p:nvSpPr>
            <p:spPr>
              <a:xfrm>
                <a:off x="4948200" y="2651400"/>
                <a:ext cx="245880" cy="38520"/>
              </a:xfrm>
              <a:custGeom>
                <a:avLst/>
                <a:gdLst/>
                <a:ahLst/>
                <a:rect l="l" t="t" r="r" b="b"/>
                <a:pathLst>
                  <a:path w="356" h="110">
                    <a:moveTo>
                      <a:pt x="4" y="73"/>
                    </a:moveTo>
                    <a:lnTo>
                      <a:pt x="5" y="72"/>
                    </a:lnTo>
                    <a:lnTo>
                      <a:pt x="8" y="68"/>
                    </a:lnTo>
                    <a:lnTo>
                      <a:pt x="14" y="62"/>
                    </a:lnTo>
                    <a:lnTo>
                      <a:pt x="22" y="54"/>
                    </a:lnTo>
                    <a:lnTo>
                      <a:pt x="32" y="46"/>
                    </a:lnTo>
                    <a:lnTo>
                      <a:pt x="44" y="35"/>
                    </a:lnTo>
                    <a:lnTo>
                      <a:pt x="61" y="26"/>
                    </a:lnTo>
                    <a:lnTo>
                      <a:pt x="80" y="18"/>
                    </a:lnTo>
                    <a:lnTo>
                      <a:pt x="101" y="10"/>
                    </a:lnTo>
                    <a:lnTo>
                      <a:pt x="126" y="5"/>
                    </a:lnTo>
                    <a:lnTo>
                      <a:pt x="155" y="1"/>
                    </a:lnTo>
                    <a:lnTo>
                      <a:pt x="188" y="0"/>
                    </a:lnTo>
                    <a:lnTo>
                      <a:pt x="223" y="1"/>
                    </a:lnTo>
                    <a:lnTo>
                      <a:pt x="262" y="8"/>
                    </a:lnTo>
                    <a:lnTo>
                      <a:pt x="306" y="18"/>
                    </a:lnTo>
                    <a:lnTo>
                      <a:pt x="354" y="33"/>
                    </a:lnTo>
                    <a:lnTo>
                      <a:pt x="354" y="34"/>
                    </a:lnTo>
                    <a:lnTo>
                      <a:pt x="356" y="37"/>
                    </a:lnTo>
                    <a:lnTo>
                      <a:pt x="356" y="39"/>
                    </a:lnTo>
                    <a:lnTo>
                      <a:pt x="356" y="43"/>
                    </a:lnTo>
                    <a:lnTo>
                      <a:pt x="352" y="47"/>
                    </a:lnTo>
                    <a:lnTo>
                      <a:pt x="346" y="50"/>
                    </a:lnTo>
                    <a:lnTo>
                      <a:pt x="335" y="52"/>
                    </a:lnTo>
                    <a:lnTo>
                      <a:pt x="322" y="52"/>
                    </a:lnTo>
                    <a:lnTo>
                      <a:pt x="312" y="52"/>
                    </a:lnTo>
                    <a:lnTo>
                      <a:pt x="300" y="51"/>
                    </a:lnTo>
                    <a:lnTo>
                      <a:pt x="286" y="51"/>
                    </a:lnTo>
                    <a:lnTo>
                      <a:pt x="270" y="52"/>
                    </a:lnTo>
                    <a:lnTo>
                      <a:pt x="252" y="52"/>
                    </a:lnTo>
                    <a:lnTo>
                      <a:pt x="235" y="54"/>
                    </a:lnTo>
                    <a:lnTo>
                      <a:pt x="216" y="55"/>
                    </a:lnTo>
                    <a:lnTo>
                      <a:pt x="196" y="58"/>
                    </a:lnTo>
                    <a:lnTo>
                      <a:pt x="175" y="60"/>
                    </a:lnTo>
                    <a:lnTo>
                      <a:pt x="155" y="64"/>
                    </a:lnTo>
                    <a:lnTo>
                      <a:pt x="136" y="68"/>
                    </a:lnTo>
                    <a:lnTo>
                      <a:pt x="118" y="75"/>
                    </a:lnTo>
                    <a:lnTo>
                      <a:pt x="100" y="81"/>
                    </a:lnTo>
                    <a:lnTo>
                      <a:pt x="83" y="88"/>
                    </a:lnTo>
                    <a:lnTo>
                      <a:pt x="68" y="97"/>
                    </a:lnTo>
                    <a:lnTo>
                      <a:pt x="55" y="108"/>
                    </a:lnTo>
                    <a:lnTo>
                      <a:pt x="52" y="109"/>
                    </a:lnTo>
                    <a:lnTo>
                      <a:pt x="43" y="110"/>
                    </a:lnTo>
                    <a:lnTo>
                      <a:pt x="33" y="110"/>
                    </a:lnTo>
                    <a:lnTo>
                      <a:pt x="21" y="110"/>
                    </a:lnTo>
                    <a:lnTo>
                      <a:pt x="10" y="108"/>
                    </a:lnTo>
                    <a:lnTo>
                      <a:pt x="3" y="101"/>
                    </a:lnTo>
                    <a:lnTo>
                      <a:pt x="0" y="90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Freeform 175"/>
              <p:cNvSpPr/>
              <p:nvPr/>
            </p:nvSpPr>
            <p:spPr>
              <a:xfrm>
                <a:off x="4983480" y="2652480"/>
                <a:ext cx="161280" cy="28080"/>
              </a:xfrm>
              <a:custGeom>
                <a:avLst/>
                <a:gdLst/>
                <a:ahLst/>
                <a:rect l="l" t="t" r="r" b="b"/>
                <a:pathLst>
                  <a:path w="234" h="86">
                    <a:moveTo>
                      <a:pt x="4" y="57"/>
                    </a:moveTo>
                    <a:lnTo>
                      <a:pt x="6" y="56"/>
                    </a:lnTo>
                    <a:lnTo>
                      <a:pt x="7" y="53"/>
                    </a:lnTo>
                    <a:lnTo>
                      <a:pt x="11" y="48"/>
                    </a:lnTo>
                    <a:lnTo>
                      <a:pt x="16" y="42"/>
                    </a:lnTo>
                    <a:lnTo>
                      <a:pt x="22" y="36"/>
                    </a:lnTo>
                    <a:lnTo>
                      <a:pt x="31" y="28"/>
                    </a:lnTo>
                    <a:lnTo>
                      <a:pt x="41" y="21"/>
                    </a:lnTo>
                    <a:lnTo>
                      <a:pt x="53" y="15"/>
                    </a:lnTo>
                    <a:lnTo>
                      <a:pt x="67" y="9"/>
                    </a:lnTo>
                    <a:lnTo>
                      <a:pt x="84" y="4"/>
                    </a:lnTo>
                    <a:lnTo>
                      <a:pt x="103" y="2"/>
                    </a:lnTo>
                    <a:lnTo>
                      <a:pt x="124" y="0"/>
                    </a:lnTo>
                    <a:lnTo>
                      <a:pt x="147" y="2"/>
                    </a:lnTo>
                    <a:lnTo>
                      <a:pt x="173" y="6"/>
                    </a:lnTo>
                    <a:lnTo>
                      <a:pt x="201" y="13"/>
                    </a:lnTo>
                    <a:lnTo>
                      <a:pt x="232" y="24"/>
                    </a:lnTo>
                    <a:lnTo>
                      <a:pt x="234" y="27"/>
                    </a:lnTo>
                    <a:lnTo>
                      <a:pt x="234" y="32"/>
                    </a:lnTo>
                    <a:lnTo>
                      <a:pt x="227" y="38"/>
                    </a:lnTo>
                    <a:lnTo>
                      <a:pt x="211" y="40"/>
                    </a:lnTo>
                    <a:lnTo>
                      <a:pt x="197" y="38"/>
                    </a:lnTo>
                    <a:lnTo>
                      <a:pt x="177" y="40"/>
                    </a:lnTo>
                    <a:lnTo>
                      <a:pt x="154" y="41"/>
                    </a:lnTo>
                    <a:lnTo>
                      <a:pt x="129" y="44"/>
                    </a:lnTo>
                    <a:lnTo>
                      <a:pt x="103" y="49"/>
                    </a:lnTo>
                    <a:lnTo>
                      <a:pt x="77" y="57"/>
                    </a:lnTo>
                    <a:lnTo>
                      <a:pt x="55" y="69"/>
                    </a:lnTo>
                    <a:lnTo>
                      <a:pt x="37" y="83"/>
                    </a:lnTo>
                    <a:lnTo>
                      <a:pt x="34" y="83"/>
                    </a:lnTo>
                    <a:lnTo>
                      <a:pt x="29" y="85"/>
                    </a:lnTo>
                    <a:lnTo>
                      <a:pt x="22" y="86"/>
                    </a:lnTo>
                    <a:lnTo>
                      <a:pt x="14" y="85"/>
                    </a:lnTo>
                    <a:lnTo>
                      <a:pt x="8" y="83"/>
                    </a:lnTo>
                    <a:lnTo>
                      <a:pt x="3" y="78"/>
                    </a:lnTo>
                    <a:lnTo>
                      <a:pt x="0" y="69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176"/>
              <p:cNvSpPr/>
              <p:nvPr/>
            </p:nvSpPr>
            <p:spPr>
              <a:xfrm>
                <a:off x="5028840" y="2660760"/>
                <a:ext cx="74160" cy="1152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2" y="24"/>
                    </a:moveTo>
                    <a:lnTo>
                      <a:pt x="3" y="23"/>
                    </a:lnTo>
                    <a:lnTo>
                      <a:pt x="7" y="17"/>
                    </a:lnTo>
                    <a:lnTo>
                      <a:pt x="14" y="12"/>
                    </a:lnTo>
                    <a:lnTo>
                      <a:pt x="25" y="6"/>
                    </a:lnTo>
                    <a:lnTo>
                      <a:pt x="39" y="2"/>
                    </a:lnTo>
                    <a:lnTo>
                      <a:pt x="58" y="0"/>
                    </a:lnTo>
                    <a:lnTo>
                      <a:pt x="81" y="3"/>
                    </a:lnTo>
                    <a:lnTo>
                      <a:pt x="109" y="11"/>
                    </a:lnTo>
                    <a:lnTo>
                      <a:pt x="109" y="12"/>
                    </a:lnTo>
                    <a:lnTo>
                      <a:pt x="109" y="14"/>
                    </a:lnTo>
                    <a:lnTo>
                      <a:pt x="106" y="16"/>
                    </a:lnTo>
                    <a:lnTo>
                      <a:pt x="99" y="17"/>
                    </a:lnTo>
                    <a:lnTo>
                      <a:pt x="92" y="17"/>
                    </a:lnTo>
                    <a:lnTo>
                      <a:pt x="82" y="17"/>
                    </a:lnTo>
                    <a:lnTo>
                      <a:pt x="72" y="17"/>
                    </a:lnTo>
                    <a:lnTo>
                      <a:pt x="59" y="19"/>
                    </a:lnTo>
                    <a:lnTo>
                      <a:pt x="48" y="21"/>
                    </a:lnTo>
                    <a:lnTo>
                      <a:pt x="36" y="24"/>
                    </a:lnTo>
                    <a:lnTo>
                      <a:pt x="25" y="29"/>
                    </a:lnTo>
                    <a:lnTo>
                      <a:pt x="17" y="36"/>
                    </a:lnTo>
                    <a:lnTo>
                      <a:pt x="13" y="36"/>
                    </a:lnTo>
                    <a:lnTo>
                      <a:pt x="7" y="36"/>
                    </a:lnTo>
                    <a:lnTo>
                      <a:pt x="0" y="33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ffc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177"/>
              <p:cNvSpPr/>
              <p:nvPr/>
            </p:nvSpPr>
            <p:spPr>
              <a:xfrm>
                <a:off x="5196600" y="332460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111" h="217">
                    <a:moveTo>
                      <a:pt x="25" y="22"/>
                    </a:moveTo>
                    <a:lnTo>
                      <a:pt x="20" y="46"/>
                    </a:lnTo>
                    <a:lnTo>
                      <a:pt x="9" y="99"/>
                    </a:lnTo>
                    <a:lnTo>
                      <a:pt x="0" y="157"/>
                    </a:lnTo>
                    <a:lnTo>
                      <a:pt x="0" y="195"/>
                    </a:lnTo>
                    <a:lnTo>
                      <a:pt x="5" y="203"/>
                    </a:lnTo>
                    <a:lnTo>
                      <a:pt x="13" y="209"/>
                    </a:lnTo>
                    <a:lnTo>
                      <a:pt x="22" y="213"/>
                    </a:lnTo>
                    <a:lnTo>
                      <a:pt x="32" y="216"/>
                    </a:lnTo>
                    <a:lnTo>
                      <a:pt x="43" y="217"/>
                    </a:lnTo>
                    <a:lnTo>
                      <a:pt x="53" y="217"/>
                    </a:lnTo>
                    <a:lnTo>
                      <a:pt x="62" y="217"/>
                    </a:lnTo>
                    <a:lnTo>
                      <a:pt x="71" y="217"/>
                    </a:lnTo>
                    <a:lnTo>
                      <a:pt x="86" y="211"/>
                    </a:lnTo>
                    <a:lnTo>
                      <a:pt x="97" y="194"/>
                    </a:lnTo>
                    <a:lnTo>
                      <a:pt x="103" y="174"/>
                    </a:lnTo>
                    <a:lnTo>
                      <a:pt x="107" y="155"/>
                    </a:lnTo>
                    <a:lnTo>
                      <a:pt x="107" y="132"/>
                    </a:lnTo>
                    <a:lnTo>
                      <a:pt x="110" y="99"/>
                    </a:lnTo>
                    <a:lnTo>
                      <a:pt x="111" y="70"/>
                    </a:lnTo>
                    <a:lnTo>
                      <a:pt x="111" y="58"/>
                    </a:lnTo>
                    <a:lnTo>
                      <a:pt x="110" y="54"/>
                    </a:lnTo>
                    <a:lnTo>
                      <a:pt x="106" y="44"/>
                    </a:lnTo>
                    <a:lnTo>
                      <a:pt x="100" y="29"/>
                    </a:lnTo>
                    <a:lnTo>
                      <a:pt x="91" y="15"/>
                    </a:lnTo>
                    <a:lnTo>
                      <a:pt x="79" y="4"/>
                    </a:lnTo>
                    <a:lnTo>
                      <a:pt x="64" y="0"/>
                    </a:lnTo>
                    <a:lnTo>
                      <a:pt x="47" y="5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Freeform 178"/>
              <p:cNvSpPr/>
              <p:nvPr/>
            </p:nvSpPr>
            <p:spPr>
              <a:xfrm>
                <a:off x="5480280" y="3351600"/>
                <a:ext cx="68040" cy="77760"/>
              </a:xfrm>
              <a:custGeom>
                <a:avLst/>
                <a:gdLst/>
                <a:ahLst/>
                <a:rect l="l" t="t" r="r" b="b"/>
                <a:pathLst>
                  <a:path w="99" h="198">
                    <a:moveTo>
                      <a:pt x="26" y="21"/>
                    </a:moveTo>
                    <a:lnTo>
                      <a:pt x="20" y="30"/>
                    </a:lnTo>
                    <a:lnTo>
                      <a:pt x="14" y="45"/>
                    </a:lnTo>
                    <a:lnTo>
                      <a:pt x="7" y="65"/>
                    </a:lnTo>
                    <a:lnTo>
                      <a:pt x="2" y="88"/>
                    </a:lnTo>
                    <a:lnTo>
                      <a:pt x="0" y="112"/>
                    </a:lnTo>
                    <a:lnTo>
                      <a:pt x="0" y="136"/>
                    </a:lnTo>
                    <a:lnTo>
                      <a:pt x="4" y="158"/>
                    </a:lnTo>
                    <a:lnTo>
                      <a:pt x="12" y="177"/>
                    </a:lnTo>
                    <a:lnTo>
                      <a:pt x="24" y="190"/>
                    </a:lnTo>
                    <a:lnTo>
                      <a:pt x="36" y="196"/>
                    </a:lnTo>
                    <a:lnTo>
                      <a:pt x="49" y="198"/>
                    </a:lnTo>
                    <a:lnTo>
                      <a:pt x="62" y="195"/>
                    </a:lnTo>
                    <a:lnTo>
                      <a:pt x="74" y="190"/>
                    </a:lnTo>
                    <a:lnTo>
                      <a:pt x="83" y="183"/>
                    </a:lnTo>
                    <a:lnTo>
                      <a:pt x="91" y="175"/>
                    </a:lnTo>
                    <a:lnTo>
                      <a:pt x="96" y="169"/>
                    </a:lnTo>
                    <a:lnTo>
                      <a:pt x="99" y="138"/>
                    </a:lnTo>
                    <a:lnTo>
                      <a:pt x="98" y="90"/>
                    </a:lnTo>
                    <a:lnTo>
                      <a:pt x="94" y="40"/>
                    </a:lnTo>
                    <a:lnTo>
                      <a:pt x="85" y="12"/>
                    </a:lnTo>
                    <a:lnTo>
                      <a:pt x="80" y="7"/>
                    </a:lnTo>
                    <a:lnTo>
                      <a:pt x="75" y="4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57" y="2"/>
                    </a:lnTo>
                    <a:lnTo>
                      <a:pt x="48" y="5"/>
                    </a:lnTo>
                    <a:lnTo>
                      <a:pt x="38" y="12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179"/>
              <p:cNvSpPr/>
              <p:nvPr/>
            </p:nvSpPr>
            <p:spPr>
              <a:xfrm>
                <a:off x="5687640" y="2923200"/>
                <a:ext cx="68040" cy="51480"/>
              </a:xfrm>
              <a:custGeom>
                <a:avLst/>
                <a:gdLst/>
                <a:ahLst/>
                <a:rect l="l" t="t" r="r" b="b"/>
                <a:pathLst>
                  <a:path w="100" h="132">
                    <a:moveTo>
                      <a:pt x="71" y="6"/>
                    </a:moveTo>
                    <a:lnTo>
                      <a:pt x="69" y="4"/>
                    </a:lnTo>
                    <a:lnTo>
                      <a:pt x="63" y="3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4" y="2"/>
                    </a:lnTo>
                    <a:lnTo>
                      <a:pt x="24" y="4"/>
                    </a:lnTo>
                    <a:lnTo>
                      <a:pt x="15" y="11"/>
                    </a:lnTo>
                    <a:lnTo>
                      <a:pt x="10" y="23"/>
                    </a:lnTo>
                    <a:lnTo>
                      <a:pt x="3" y="48"/>
                    </a:lnTo>
                    <a:lnTo>
                      <a:pt x="0" y="69"/>
                    </a:lnTo>
                    <a:lnTo>
                      <a:pt x="0" y="87"/>
                    </a:lnTo>
                    <a:lnTo>
                      <a:pt x="1" y="100"/>
                    </a:lnTo>
                    <a:lnTo>
                      <a:pt x="3" y="107"/>
                    </a:lnTo>
                    <a:lnTo>
                      <a:pt x="8" y="112"/>
                    </a:lnTo>
                    <a:lnTo>
                      <a:pt x="15" y="119"/>
                    </a:lnTo>
                    <a:lnTo>
                      <a:pt x="22" y="124"/>
                    </a:lnTo>
                    <a:lnTo>
                      <a:pt x="31" y="129"/>
                    </a:lnTo>
                    <a:lnTo>
                      <a:pt x="39" y="132"/>
                    </a:lnTo>
                    <a:lnTo>
                      <a:pt x="48" y="132"/>
                    </a:lnTo>
                    <a:lnTo>
                      <a:pt x="54" y="131"/>
                    </a:lnTo>
                    <a:lnTo>
                      <a:pt x="60" y="127"/>
                    </a:lnTo>
                    <a:lnTo>
                      <a:pt x="68" y="122"/>
                    </a:lnTo>
                    <a:lnTo>
                      <a:pt x="75" y="114"/>
                    </a:lnTo>
                    <a:lnTo>
                      <a:pt x="82" y="106"/>
                    </a:lnTo>
                    <a:lnTo>
                      <a:pt x="88" y="98"/>
                    </a:lnTo>
                    <a:lnTo>
                      <a:pt x="93" y="89"/>
                    </a:lnTo>
                    <a:lnTo>
                      <a:pt x="97" y="79"/>
                    </a:lnTo>
                    <a:lnTo>
                      <a:pt x="98" y="72"/>
                    </a:lnTo>
                    <a:lnTo>
                      <a:pt x="100" y="53"/>
                    </a:lnTo>
                    <a:lnTo>
                      <a:pt x="99" y="32"/>
                    </a:lnTo>
                    <a:lnTo>
                      <a:pt x="90" y="15"/>
                    </a:lnTo>
                    <a:lnTo>
                      <a:pt x="71" y="6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180"/>
              <p:cNvSpPr/>
              <p:nvPr/>
            </p:nvSpPr>
            <p:spPr>
              <a:xfrm>
                <a:off x="5741640" y="2704320"/>
                <a:ext cx="117720" cy="42120"/>
              </a:xfrm>
              <a:custGeom>
                <a:avLst/>
                <a:gdLst/>
                <a:ahLst/>
                <a:rect l="l" t="t" r="r" b="b"/>
                <a:pathLst>
                  <a:path w="172" h="107">
                    <a:moveTo>
                      <a:pt x="0" y="0"/>
                    </a:moveTo>
                    <a:lnTo>
                      <a:pt x="5" y="2"/>
                    </a:lnTo>
                    <a:lnTo>
                      <a:pt x="19" y="8"/>
                    </a:lnTo>
                    <a:lnTo>
                      <a:pt x="39" y="17"/>
                    </a:lnTo>
                    <a:lnTo>
                      <a:pt x="65" y="29"/>
                    </a:lnTo>
                    <a:lnTo>
                      <a:pt x="93" y="45"/>
                    </a:lnTo>
                    <a:lnTo>
                      <a:pt x="122" y="63"/>
                    </a:lnTo>
                    <a:lnTo>
                      <a:pt x="148" y="83"/>
                    </a:lnTo>
                    <a:lnTo>
                      <a:pt x="172" y="107"/>
                    </a:lnTo>
                    <a:lnTo>
                      <a:pt x="171" y="104"/>
                    </a:lnTo>
                    <a:lnTo>
                      <a:pt x="165" y="95"/>
                    </a:lnTo>
                    <a:lnTo>
                      <a:pt x="153" y="82"/>
                    </a:lnTo>
                    <a:lnTo>
                      <a:pt x="137" y="66"/>
                    </a:lnTo>
                    <a:lnTo>
                      <a:pt x="114" y="49"/>
                    </a:lnTo>
                    <a:lnTo>
                      <a:pt x="84" y="32"/>
                    </a:lnTo>
                    <a:lnTo>
                      <a:pt x="4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8" name="TextBox 323"/>
            <p:cNvSpPr/>
            <p:nvPr/>
          </p:nvSpPr>
          <p:spPr>
            <a:xfrm>
              <a:off x="4714560" y="2711520"/>
              <a:ext cx="121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宇宙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组合 321"/>
          <p:cNvGrpSpPr/>
          <p:nvPr/>
        </p:nvGrpSpPr>
        <p:grpSpPr>
          <a:xfrm>
            <a:off x="2843280" y="0"/>
            <a:ext cx="1596600" cy="1027080"/>
            <a:chOff x="2843280" y="0"/>
            <a:chExt cx="1596600" cy="1027080"/>
          </a:xfrm>
        </p:grpSpPr>
        <p:grpSp>
          <p:nvGrpSpPr>
            <p:cNvPr id="340" name="Group 152"/>
            <p:cNvGrpSpPr/>
            <p:nvPr/>
          </p:nvGrpSpPr>
          <p:grpSpPr>
            <a:xfrm>
              <a:off x="2843280" y="0"/>
              <a:ext cx="1596600" cy="1027080"/>
              <a:chOff x="2843280" y="0"/>
              <a:chExt cx="1596600" cy="1027080"/>
            </a:xfrm>
          </p:grpSpPr>
          <p:sp>
            <p:nvSpPr>
              <p:cNvPr id="341" name="AutoShape 151"/>
              <p:cNvSpPr/>
              <p:nvPr/>
            </p:nvSpPr>
            <p:spPr>
              <a:xfrm>
                <a:off x="2843280" y="0"/>
                <a:ext cx="1596600" cy="10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153"/>
              <p:cNvSpPr/>
              <p:nvPr/>
            </p:nvSpPr>
            <p:spPr>
              <a:xfrm>
                <a:off x="3750120" y="1020960"/>
                <a:ext cx="10080" cy="10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4"/>
                    </a:moveTo>
                    <a:lnTo>
                      <a:pt x="18" y="4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54"/>
              <p:cNvSpPr/>
              <p:nvPr/>
            </p:nvSpPr>
            <p:spPr>
              <a:xfrm>
                <a:off x="2923920" y="0"/>
                <a:ext cx="1495080" cy="1025640"/>
              </a:xfrm>
              <a:custGeom>
                <a:avLst/>
                <a:gdLst/>
                <a:ahLst/>
                <a:rect l="l" t="t" r="r" b="b"/>
                <a:pathLst>
                  <a:path w="2166" h="2610">
                    <a:moveTo>
                      <a:pt x="1719" y="348"/>
                    </a:moveTo>
                    <a:lnTo>
                      <a:pt x="1679" y="335"/>
                    </a:lnTo>
                    <a:lnTo>
                      <a:pt x="1643" y="323"/>
                    </a:lnTo>
                    <a:lnTo>
                      <a:pt x="1609" y="313"/>
                    </a:lnTo>
                    <a:lnTo>
                      <a:pt x="1576" y="306"/>
                    </a:lnTo>
                    <a:lnTo>
                      <a:pt x="1545" y="300"/>
                    </a:lnTo>
                    <a:lnTo>
                      <a:pt x="1514" y="296"/>
                    </a:lnTo>
                    <a:lnTo>
                      <a:pt x="1487" y="294"/>
                    </a:lnTo>
                    <a:lnTo>
                      <a:pt x="1460" y="292"/>
                    </a:lnTo>
                    <a:lnTo>
                      <a:pt x="1434" y="292"/>
                    </a:lnTo>
                    <a:lnTo>
                      <a:pt x="1409" y="292"/>
                    </a:lnTo>
                    <a:lnTo>
                      <a:pt x="1385" y="295"/>
                    </a:lnTo>
                    <a:lnTo>
                      <a:pt x="1362" y="298"/>
                    </a:lnTo>
                    <a:lnTo>
                      <a:pt x="1338" y="300"/>
                    </a:lnTo>
                    <a:lnTo>
                      <a:pt x="1317" y="304"/>
                    </a:lnTo>
                    <a:lnTo>
                      <a:pt x="1294" y="308"/>
                    </a:lnTo>
                    <a:lnTo>
                      <a:pt x="1273" y="312"/>
                    </a:lnTo>
                    <a:lnTo>
                      <a:pt x="1271" y="312"/>
                    </a:lnTo>
                    <a:lnTo>
                      <a:pt x="1269" y="312"/>
                    </a:lnTo>
                    <a:lnTo>
                      <a:pt x="1265" y="313"/>
                    </a:lnTo>
                    <a:lnTo>
                      <a:pt x="1260" y="313"/>
                    </a:lnTo>
                    <a:lnTo>
                      <a:pt x="1254" y="277"/>
                    </a:lnTo>
                    <a:lnTo>
                      <a:pt x="1246" y="237"/>
                    </a:lnTo>
                    <a:lnTo>
                      <a:pt x="1239" y="194"/>
                    </a:lnTo>
                    <a:lnTo>
                      <a:pt x="1232" y="153"/>
                    </a:lnTo>
                    <a:lnTo>
                      <a:pt x="1225" y="116"/>
                    </a:lnTo>
                    <a:lnTo>
                      <a:pt x="1220" y="87"/>
                    </a:lnTo>
                    <a:lnTo>
                      <a:pt x="1216" y="67"/>
                    </a:lnTo>
                    <a:lnTo>
                      <a:pt x="1215" y="59"/>
                    </a:lnTo>
                    <a:lnTo>
                      <a:pt x="1162" y="40"/>
                    </a:lnTo>
                    <a:lnTo>
                      <a:pt x="1106" y="9"/>
                    </a:lnTo>
                    <a:lnTo>
                      <a:pt x="1095" y="7"/>
                    </a:lnTo>
                    <a:lnTo>
                      <a:pt x="1090" y="5"/>
                    </a:lnTo>
                    <a:lnTo>
                      <a:pt x="1085" y="4"/>
                    </a:lnTo>
                    <a:lnTo>
                      <a:pt x="1080" y="3"/>
                    </a:lnTo>
                    <a:lnTo>
                      <a:pt x="1075" y="1"/>
                    </a:lnTo>
                    <a:lnTo>
                      <a:pt x="1068" y="1"/>
                    </a:lnTo>
                    <a:lnTo>
                      <a:pt x="1063" y="0"/>
                    </a:lnTo>
                    <a:lnTo>
                      <a:pt x="1058" y="0"/>
                    </a:lnTo>
                    <a:lnTo>
                      <a:pt x="1053" y="0"/>
                    </a:lnTo>
                    <a:lnTo>
                      <a:pt x="1048" y="0"/>
                    </a:lnTo>
                    <a:lnTo>
                      <a:pt x="1043" y="0"/>
                    </a:lnTo>
                    <a:lnTo>
                      <a:pt x="1038" y="1"/>
                    </a:lnTo>
                    <a:lnTo>
                      <a:pt x="1034" y="1"/>
                    </a:lnTo>
                    <a:lnTo>
                      <a:pt x="1029" y="3"/>
                    </a:lnTo>
                    <a:lnTo>
                      <a:pt x="1024" y="4"/>
                    </a:lnTo>
                    <a:lnTo>
                      <a:pt x="1019" y="5"/>
                    </a:lnTo>
                    <a:lnTo>
                      <a:pt x="1014" y="7"/>
                    </a:lnTo>
                    <a:lnTo>
                      <a:pt x="994" y="14"/>
                    </a:lnTo>
                    <a:lnTo>
                      <a:pt x="974" y="26"/>
                    </a:lnTo>
                    <a:lnTo>
                      <a:pt x="955" y="42"/>
                    </a:lnTo>
                    <a:lnTo>
                      <a:pt x="939" y="61"/>
                    </a:lnTo>
                    <a:lnTo>
                      <a:pt x="924" y="82"/>
                    </a:lnTo>
                    <a:lnTo>
                      <a:pt x="911" y="107"/>
                    </a:lnTo>
                    <a:lnTo>
                      <a:pt x="900" y="133"/>
                    </a:lnTo>
                    <a:lnTo>
                      <a:pt x="891" y="163"/>
                    </a:lnTo>
                    <a:lnTo>
                      <a:pt x="877" y="228"/>
                    </a:lnTo>
                    <a:lnTo>
                      <a:pt x="878" y="230"/>
                    </a:lnTo>
                    <a:lnTo>
                      <a:pt x="883" y="236"/>
                    </a:lnTo>
                    <a:lnTo>
                      <a:pt x="888" y="244"/>
                    </a:lnTo>
                    <a:lnTo>
                      <a:pt x="896" y="253"/>
                    </a:lnTo>
                    <a:lnTo>
                      <a:pt x="872" y="248"/>
                    </a:lnTo>
                    <a:lnTo>
                      <a:pt x="848" y="242"/>
                    </a:lnTo>
                    <a:lnTo>
                      <a:pt x="823" y="237"/>
                    </a:lnTo>
                    <a:lnTo>
                      <a:pt x="796" y="233"/>
                    </a:lnTo>
                    <a:lnTo>
                      <a:pt x="770" y="230"/>
                    </a:lnTo>
                    <a:lnTo>
                      <a:pt x="743" y="229"/>
                    </a:lnTo>
                    <a:lnTo>
                      <a:pt x="716" y="228"/>
                    </a:lnTo>
                    <a:lnTo>
                      <a:pt x="688" y="228"/>
                    </a:lnTo>
                    <a:lnTo>
                      <a:pt x="660" y="229"/>
                    </a:lnTo>
                    <a:lnTo>
                      <a:pt x="633" y="230"/>
                    </a:lnTo>
                    <a:lnTo>
                      <a:pt x="604" y="234"/>
                    </a:lnTo>
                    <a:lnTo>
                      <a:pt x="575" y="240"/>
                    </a:lnTo>
                    <a:lnTo>
                      <a:pt x="547" y="245"/>
                    </a:lnTo>
                    <a:lnTo>
                      <a:pt x="518" y="253"/>
                    </a:lnTo>
                    <a:lnTo>
                      <a:pt x="489" y="262"/>
                    </a:lnTo>
                    <a:lnTo>
                      <a:pt x="461" y="271"/>
                    </a:lnTo>
                    <a:lnTo>
                      <a:pt x="432" y="283"/>
                    </a:lnTo>
                    <a:lnTo>
                      <a:pt x="405" y="298"/>
                    </a:lnTo>
                    <a:lnTo>
                      <a:pt x="377" y="312"/>
                    </a:lnTo>
                    <a:lnTo>
                      <a:pt x="350" y="329"/>
                    </a:lnTo>
                    <a:lnTo>
                      <a:pt x="324" y="349"/>
                    </a:lnTo>
                    <a:lnTo>
                      <a:pt x="297" y="369"/>
                    </a:lnTo>
                    <a:lnTo>
                      <a:pt x="271" y="391"/>
                    </a:lnTo>
                    <a:lnTo>
                      <a:pt x="246" y="416"/>
                    </a:lnTo>
                    <a:lnTo>
                      <a:pt x="222" y="443"/>
                    </a:lnTo>
                    <a:lnTo>
                      <a:pt x="198" y="471"/>
                    </a:lnTo>
                    <a:lnTo>
                      <a:pt x="175" y="503"/>
                    </a:lnTo>
                    <a:lnTo>
                      <a:pt x="154" y="536"/>
                    </a:lnTo>
                    <a:lnTo>
                      <a:pt x="134" y="572"/>
                    </a:lnTo>
                    <a:lnTo>
                      <a:pt x="114" y="610"/>
                    </a:lnTo>
                    <a:lnTo>
                      <a:pt x="95" y="649"/>
                    </a:lnTo>
                    <a:lnTo>
                      <a:pt x="77" y="693"/>
                    </a:lnTo>
                    <a:lnTo>
                      <a:pt x="73" y="701"/>
                    </a:lnTo>
                    <a:lnTo>
                      <a:pt x="67" y="718"/>
                    </a:lnTo>
                    <a:lnTo>
                      <a:pt x="58" y="744"/>
                    </a:lnTo>
                    <a:lnTo>
                      <a:pt x="48" y="778"/>
                    </a:lnTo>
                    <a:lnTo>
                      <a:pt x="37" y="822"/>
                    </a:lnTo>
                    <a:lnTo>
                      <a:pt x="25" y="872"/>
                    </a:lnTo>
                    <a:lnTo>
                      <a:pt x="15" y="931"/>
                    </a:lnTo>
                    <a:lnTo>
                      <a:pt x="6" y="996"/>
                    </a:lnTo>
                    <a:lnTo>
                      <a:pt x="1" y="1068"/>
                    </a:lnTo>
                    <a:lnTo>
                      <a:pt x="0" y="1146"/>
                    </a:lnTo>
                    <a:lnTo>
                      <a:pt x="3" y="1230"/>
                    </a:lnTo>
                    <a:lnTo>
                      <a:pt x="10" y="1320"/>
                    </a:lnTo>
                    <a:lnTo>
                      <a:pt x="25" y="1413"/>
                    </a:lnTo>
                    <a:lnTo>
                      <a:pt x="47" y="1512"/>
                    </a:lnTo>
                    <a:lnTo>
                      <a:pt x="77" y="1615"/>
                    </a:lnTo>
                    <a:lnTo>
                      <a:pt x="116" y="1721"/>
                    </a:lnTo>
                    <a:lnTo>
                      <a:pt x="149" y="1798"/>
                    </a:lnTo>
                    <a:lnTo>
                      <a:pt x="183" y="1873"/>
                    </a:lnTo>
                    <a:lnTo>
                      <a:pt x="219" y="1944"/>
                    </a:lnTo>
                    <a:lnTo>
                      <a:pt x="258" y="2014"/>
                    </a:lnTo>
                    <a:lnTo>
                      <a:pt x="296" y="2081"/>
                    </a:lnTo>
                    <a:lnTo>
                      <a:pt x="335" y="2144"/>
                    </a:lnTo>
                    <a:lnTo>
                      <a:pt x="373" y="2203"/>
                    </a:lnTo>
                    <a:lnTo>
                      <a:pt x="410" y="2259"/>
                    </a:lnTo>
                    <a:lnTo>
                      <a:pt x="445" y="2310"/>
                    </a:lnTo>
                    <a:lnTo>
                      <a:pt x="478" y="2355"/>
                    </a:lnTo>
                    <a:lnTo>
                      <a:pt x="507" y="2396"/>
                    </a:lnTo>
                    <a:lnTo>
                      <a:pt x="533" y="2430"/>
                    </a:lnTo>
                    <a:lnTo>
                      <a:pt x="554" y="2458"/>
                    </a:lnTo>
                    <a:lnTo>
                      <a:pt x="572" y="2479"/>
                    </a:lnTo>
                    <a:lnTo>
                      <a:pt x="583" y="2493"/>
                    </a:lnTo>
                    <a:lnTo>
                      <a:pt x="588" y="2500"/>
                    </a:lnTo>
                    <a:lnTo>
                      <a:pt x="594" y="2505"/>
                    </a:lnTo>
                    <a:lnTo>
                      <a:pt x="600" y="2510"/>
                    </a:lnTo>
                    <a:lnTo>
                      <a:pt x="616" y="2523"/>
                    </a:lnTo>
                    <a:lnTo>
                      <a:pt x="635" y="2537"/>
                    </a:lnTo>
                    <a:lnTo>
                      <a:pt x="657" y="2550"/>
                    </a:lnTo>
                    <a:lnTo>
                      <a:pt x="679" y="2563"/>
                    </a:lnTo>
                    <a:lnTo>
                      <a:pt x="704" y="2575"/>
                    </a:lnTo>
                    <a:lnTo>
                      <a:pt x="731" y="2585"/>
                    </a:lnTo>
                    <a:lnTo>
                      <a:pt x="760" y="2593"/>
                    </a:lnTo>
                    <a:lnTo>
                      <a:pt x="789" y="2600"/>
                    </a:lnTo>
                    <a:lnTo>
                      <a:pt x="806" y="2602"/>
                    </a:lnTo>
                    <a:lnTo>
                      <a:pt x="825" y="2605"/>
                    </a:lnTo>
                    <a:lnTo>
                      <a:pt x="843" y="2605"/>
                    </a:lnTo>
                    <a:lnTo>
                      <a:pt x="862" y="2605"/>
                    </a:lnTo>
                    <a:lnTo>
                      <a:pt x="881" y="2602"/>
                    </a:lnTo>
                    <a:lnTo>
                      <a:pt x="900" y="2600"/>
                    </a:lnTo>
                    <a:lnTo>
                      <a:pt x="919" y="2595"/>
                    </a:lnTo>
                    <a:lnTo>
                      <a:pt x="937" y="2588"/>
                    </a:lnTo>
                    <a:lnTo>
                      <a:pt x="954" y="2580"/>
                    </a:lnTo>
                    <a:lnTo>
                      <a:pt x="912" y="2589"/>
                    </a:lnTo>
                    <a:lnTo>
                      <a:pt x="999" y="2570"/>
                    </a:lnTo>
                    <a:lnTo>
                      <a:pt x="1008" y="2567"/>
                    </a:lnTo>
                    <a:lnTo>
                      <a:pt x="1017" y="2564"/>
                    </a:lnTo>
                    <a:lnTo>
                      <a:pt x="1024" y="2562"/>
                    </a:lnTo>
                    <a:lnTo>
                      <a:pt x="1033" y="2560"/>
                    </a:lnTo>
                    <a:lnTo>
                      <a:pt x="1042" y="2559"/>
                    </a:lnTo>
                    <a:lnTo>
                      <a:pt x="1051" y="2558"/>
                    </a:lnTo>
                    <a:lnTo>
                      <a:pt x="1061" y="2558"/>
                    </a:lnTo>
                    <a:lnTo>
                      <a:pt x="1070" y="2559"/>
                    </a:lnTo>
                    <a:lnTo>
                      <a:pt x="1075" y="2560"/>
                    </a:lnTo>
                    <a:lnTo>
                      <a:pt x="1087" y="2564"/>
                    </a:lnTo>
                    <a:lnTo>
                      <a:pt x="1100" y="2568"/>
                    </a:lnTo>
                    <a:lnTo>
                      <a:pt x="1105" y="2570"/>
                    </a:lnTo>
                    <a:lnTo>
                      <a:pt x="1096" y="2563"/>
                    </a:lnTo>
                    <a:lnTo>
                      <a:pt x="1106" y="2570"/>
                    </a:lnTo>
                    <a:lnTo>
                      <a:pt x="1119" y="2576"/>
                    </a:lnTo>
                    <a:lnTo>
                      <a:pt x="1131" y="2581"/>
                    </a:lnTo>
                    <a:lnTo>
                      <a:pt x="1145" y="2587"/>
                    </a:lnTo>
                    <a:lnTo>
                      <a:pt x="1160" y="2591"/>
                    </a:lnTo>
                    <a:lnTo>
                      <a:pt x="1176" y="2595"/>
                    </a:lnTo>
                    <a:lnTo>
                      <a:pt x="1193" y="2597"/>
                    </a:lnTo>
                    <a:lnTo>
                      <a:pt x="1211" y="2600"/>
                    </a:lnTo>
                    <a:lnTo>
                      <a:pt x="1231" y="2604"/>
                    </a:lnTo>
                    <a:lnTo>
                      <a:pt x="1250" y="2608"/>
                    </a:lnTo>
                    <a:lnTo>
                      <a:pt x="1268" y="2609"/>
                    </a:lnTo>
                    <a:lnTo>
                      <a:pt x="1286" y="2610"/>
                    </a:lnTo>
                    <a:lnTo>
                      <a:pt x="1303" y="2610"/>
                    </a:lnTo>
                    <a:lnTo>
                      <a:pt x="1319" y="2610"/>
                    </a:lnTo>
                    <a:lnTo>
                      <a:pt x="1336" y="2609"/>
                    </a:lnTo>
                    <a:lnTo>
                      <a:pt x="1351" y="2608"/>
                    </a:lnTo>
                    <a:lnTo>
                      <a:pt x="1372" y="2604"/>
                    </a:lnTo>
                    <a:lnTo>
                      <a:pt x="1391" y="2600"/>
                    </a:lnTo>
                    <a:lnTo>
                      <a:pt x="1409" y="2596"/>
                    </a:lnTo>
                    <a:lnTo>
                      <a:pt x="1422" y="2591"/>
                    </a:lnTo>
                    <a:lnTo>
                      <a:pt x="1435" y="2585"/>
                    </a:lnTo>
                    <a:lnTo>
                      <a:pt x="1445" y="2581"/>
                    </a:lnTo>
                    <a:lnTo>
                      <a:pt x="1453" y="2579"/>
                    </a:lnTo>
                    <a:lnTo>
                      <a:pt x="1456" y="2576"/>
                    </a:lnTo>
                    <a:lnTo>
                      <a:pt x="1519" y="2530"/>
                    </a:lnTo>
                    <a:lnTo>
                      <a:pt x="1581" y="2476"/>
                    </a:lnTo>
                    <a:lnTo>
                      <a:pt x="1642" y="2415"/>
                    </a:lnTo>
                    <a:lnTo>
                      <a:pt x="1701" y="2350"/>
                    </a:lnTo>
                    <a:lnTo>
                      <a:pt x="1759" y="2278"/>
                    </a:lnTo>
                    <a:lnTo>
                      <a:pt x="1813" y="2203"/>
                    </a:lnTo>
                    <a:lnTo>
                      <a:pt x="1866" y="2124"/>
                    </a:lnTo>
                    <a:lnTo>
                      <a:pt x="1915" y="2040"/>
                    </a:lnTo>
                    <a:lnTo>
                      <a:pt x="1962" y="1954"/>
                    </a:lnTo>
                    <a:lnTo>
                      <a:pt x="2005" y="1868"/>
                    </a:lnTo>
                    <a:lnTo>
                      <a:pt x="2042" y="1778"/>
                    </a:lnTo>
                    <a:lnTo>
                      <a:pt x="2076" y="1688"/>
                    </a:lnTo>
                    <a:lnTo>
                      <a:pt x="2105" y="1598"/>
                    </a:lnTo>
                    <a:lnTo>
                      <a:pt x="2128" y="1508"/>
                    </a:lnTo>
                    <a:lnTo>
                      <a:pt x="2147" y="1418"/>
                    </a:lnTo>
                    <a:lnTo>
                      <a:pt x="2158" y="1332"/>
                    </a:lnTo>
                    <a:lnTo>
                      <a:pt x="2163" y="1262"/>
                    </a:lnTo>
                    <a:lnTo>
                      <a:pt x="2166" y="1189"/>
                    </a:lnTo>
                    <a:lnTo>
                      <a:pt x="2165" y="1117"/>
                    </a:lnTo>
                    <a:lnTo>
                      <a:pt x="2159" y="1043"/>
                    </a:lnTo>
                    <a:lnTo>
                      <a:pt x="2151" y="969"/>
                    </a:lnTo>
                    <a:lnTo>
                      <a:pt x="2138" y="897"/>
                    </a:lnTo>
                    <a:lnTo>
                      <a:pt x="2120" y="826"/>
                    </a:lnTo>
                    <a:lnTo>
                      <a:pt x="2098" y="756"/>
                    </a:lnTo>
                    <a:lnTo>
                      <a:pt x="2070" y="689"/>
                    </a:lnTo>
                    <a:lnTo>
                      <a:pt x="2037" y="626"/>
                    </a:lnTo>
                    <a:lnTo>
                      <a:pt x="1999" y="566"/>
                    </a:lnTo>
                    <a:lnTo>
                      <a:pt x="1955" y="511"/>
                    </a:lnTo>
                    <a:lnTo>
                      <a:pt x="1906" y="461"/>
                    </a:lnTo>
                    <a:lnTo>
                      <a:pt x="1850" y="416"/>
                    </a:lnTo>
                    <a:lnTo>
                      <a:pt x="1788" y="379"/>
                    </a:lnTo>
                    <a:lnTo>
                      <a:pt x="1719" y="3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55"/>
              <p:cNvSpPr/>
              <p:nvPr/>
            </p:nvSpPr>
            <p:spPr>
              <a:xfrm>
                <a:off x="3000600" y="138960"/>
                <a:ext cx="1348200" cy="848880"/>
              </a:xfrm>
              <a:custGeom>
                <a:avLst/>
                <a:gdLst/>
                <a:ahLst/>
                <a:rect l="l" t="t" r="r" b="b"/>
                <a:pathLst>
                  <a:path w="1953" h="2172">
                    <a:moveTo>
                      <a:pt x="102" y="1337"/>
                    </a:moveTo>
                    <a:lnTo>
                      <a:pt x="67" y="1237"/>
                    </a:lnTo>
                    <a:lnTo>
                      <a:pt x="41" y="1141"/>
                    </a:lnTo>
                    <a:lnTo>
                      <a:pt x="20" y="1049"/>
                    </a:lnTo>
                    <a:lnTo>
                      <a:pt x="8" y="962"/>
                    </a:lnTo>
                    <a:lnTo>
                      <a:pt x="2" y="879"/>
                    </a:lnTo>
                    <a:lnTo>
                      <a:pt x="0" y="801"/>
                    </a:lnTo>
                    <a:lnTo>
                      <a:pt x="2" y="730"/>
                    </a:lnTo>
                    <a:lnTo>
                      <a:pt x="8" y="663"/>
                    </a:lnTo>
                    <a:lnTo>
                      <a:pt x="15" y="603"/>
                    </a:lnTo>
                    <a:lnTo>
                      <a:pt x="25" y="551"/>
                    </a:lnTo>
                    <a:lnTo>
                      <a:pt x="37" y="505"/>
                    </a:lnTo>
                    <a:lnTo>
                      <a:pt x="47" y="467"/>
                    </a:lnTo>
                    <a:lnTo>
                      <a:pt x="57" y="436"/>
                    </a:lnTo>
                    <a:lnTo>
                      <a:pt x="65" y="414"/>
                    </a:lnTo>
                    <a:lnTo>
                      <a:pt x="70" y="401"/>
                    </a:lnTo>
                    <a:lnTo>
                      <a:pt x="72" y="395"/>
                    </a:lnTo>
                    <a:lnTo>
                      <a:pt x="120" y="293"/>
                    </a:lnTo>
                    <a:lnTo>
                      <a:pt x="174" y="210"/>
                    </a:lnTo>
                    <a:lnTo>
                      <a:pt x="233" y="143"/>
                    </a:lnTo>
                    <a:lnTo>
                      <a:pt x="295" y="90"/>
                    </a:lnTo>
                    <a:lnTo>
                      <a:pt x="359" y="52"/>
                    </a:lnTo>
                    <a:lnTo>
                      <a:pt x="426" y="25"/>
                    </a:lnTo>
                    <a:lnTo>
                      <a:pt x="492" y="10"/>
                    </a:lnTo>
                    <a:lnTo>
                      <a:pt x="556" y="2"/>
                    </a:lnTo>
                    <a:lnTo>
                      <a:pt x="616" y="0"/>
                    </a:lnTo>
                    <a:lnTo>
                      <a:pt x="674" y="6"/>
                    </a:lnTo>
                    <a:lnTo>
                      <a:pt x="726" y="13"/>
                    </a:lnTo>
                    <a:lnTo>
                      <a:pt x="771" y="24"/>
                    </a:lnTo>
                    <a:lnTo>
                      <a:pt x="808" y="36"/>
                    </a:lnTo>
                    <a:lnTo>
                      <a:pt x="837" y="45"/>
                    </a:lnTo>
                    <a:lnTo>
                      <a:pt x="854" y="53"/>
                    </a:lnTo>
                    <a:lnTo>
                      <a:pt x="861" y="56"/>
                    </a:lnTo>
                    <a:lnTo>
                      <a:pt x="881" y="60"/>
                    </a:lnTo>
                    <a:lnTo>
                      <a:pt x="901" y="62"/>
                    </a:lnTo>
                    <a:lnTo>
                      <a:pt x="920" y="66"/>
                    </a:lnTo>
                    <a:lnTo>
                      <a:pt x="938" y="70"/>
                    </a:lnTo>
                    <a:lnTo>
                      <a:pt x="956" y="74"/>
                    </a:lnTo>
                    <a:lnTo>
                      <a:pt x="974" y="78"/>
                    </a:lnTo>
                    <a:lnTo>
                      <a:pt x="990" y="81"/>
                    </a:lnTo>
                    <a:lnTo>
                      <a:pt x="1008" y="83"/>
                    </a:lnTo>
                    <a:lnTo>
                      <a:pt x="1026" y="86"/>
                    </a:lnTo>
                    <a:lnTo>
                      <a:pt x="1042" y="89"/>
                    </a:lnTo>
                    <a:lnTo>
                      <a:pt x="1060" y="90"/>
                    </a:lnTo>
                    <a:lnTo>
                      <a:pt x="1079" y="91"/>
                    </a:lnTo>
                    <a:lnTo>
                      <a:pt x="1098" y="91"/>
                    </a:lnTo>
                    <a:lnTo>
                      <a:pt x="1116" y="90"/>
                    </a:lnTo>
                    <a:lnTo>
                      <a:pt x="1137" y="87"/>
                    </a:lnTo>
                    <a:lnTo>
                      <a:pt x="1158" y="85"/>
                    </a:lnTo>
                    <a:lnTo>
                      <a:pt x="1179" y="81"/>
                    </a:lnTo>
                    <a:lnTo>
                      <a:pt x="1201" y="77"/>
                    </a:lnTo>
                    <a:lnTo>
                      <a:pt x="1222" y="73"/>
                    </a:lnTo>
                    <a:lnTo>
                      <a:pt x="1242" y="69"/>
                    </a:lnTo>
                    <a:lnTo>
                      <a:pt x="1265" y="66"/>
                    </a:lnTo>
                    <a:lnTo>
                      <a:pt x="1287" y="64"/>
                    </a:lnTo>
                    <a:lnTo>
                      <a:pt x="1309" y="62"/>
                    </a:lnTo>
                    <a:lnTo>
                      <a:pt x="1333" y="61"/>
                    </a:lnTo>
                    <a:lnTo>
                      <a:pt x="1357" y="62"/>
                    </a:lnTo>
                    <a:lnTo>
                      <a:pt x="1384" y="64"/>
                    </a:lnTo>
                    <a:lnTo>
                      <a:pt x="1410" y="67"/>
                    </a:lnTo>
                    <a:lnTo>
                      <a:pt x="1438" y="71"/>
                    </a:lnTo>
                    <a:lnTo>
                      <a:pt x="1468" y="78"/>
                    </a:lnTo>
                    <a:lnTo>
                      <a:pt x="1501" y="86"/>
                    </a:lnTo>
                    <a:lnTo>
                      <a:pt x="1533" y="96"/>
                    </a:lnTo>
                    <a:lnTo>
                      <a:pt x="1570" y="110"/>
                    </a:lnTo>
                    <a:lnTo>
                      <a:pt x="1630" y="137"/>
                    </a:lnTo>
                    <a:lnTo>
                      <a:pt x="1686" y="170"/>
                    </a:lnTo>
                    <a:lnTo>
                      <a:pt x="1734" y="210"/>
                    </a:lnTo>
                    <a:lnTo>
                      <a:pt x="1777" y="254"/>
                    </a:lnTo>
                    <a:lnTo>
                      <a:pt x="1814" y="305"/>
                    </a:lnTo>
                    <a:lnTo>
                      <a:pt x="1847" y="359"/>
                    </a:lnTo>
                    <a:lnTo>
                      <a:pt x="1875" y="415"/>
                    </a:lnTo>
                    <a:lnTo>
                      <a:pt x="1898" y="474"/>
                    </a:lnTo>
                    <a:lnTo>
                      <a:pt x="1915" y="536"/>
                    </a:lnTo>
                    <a:lnTo>
                      <a:pt x="1930" y="600"/>
                    </a:lnTo>
                    <a:lnTo>
                      <a:pt x="1940" y="663"/>
                    </a:lnTo>
                    <a:lnTo>
                      <a:pt x="1948" y="727"/>
                    </a:lnTo>
                    <a:lnTo>
                      <a:pt x="1952" y="792"/>
                    </a:lnTo>
                    <a:lnTo>
                      <a:pt x="1953" y="854"/>
                    </a:lnTo>
                    <a:lnTo>
                      <a:pt x="1950" y="914"/>
                    </a:lnTo>
                    <a:lnTo>
                      <a:pt x="1947" y="974"/>
                    </a:lnTo>
                    <a:lnTo>
                      <a:pt x="1937" y="1055"/>
                    </a:lnTo>
                    <a:lnTo>
                      <a:pt x="1920" y="1138"/>
                    </a:lnTo>
                    <a:lnTo>
                      <a:pt x="1899" y="1222"/>
                    </a:lnTo>
                    <a:lnTo>
                      <a:pt x="1872" y="1308"/>
                    </a:lnTo>
                    <a:lnTo>
                      <a:pt x="1841" y="1392"/>
                    </a:lnTo>
                    <a:lnTo>
                      <a:pt x="1806" y="1478"/>
                    </a:lnTo>
                    <a:lnTo>
                      <a:pt x="1767" y="1561"/>
                    </a:lnTo>
                    <a:lnTo>
                      <a:pt x="1724" y="1641"/>
                    </a:lnTo>
                    <a:lnTo>
                      <a:pt x="1677" y="1720"/>
                    </a:lnTo>
                    <a:lnTo>
                      <a:pt x="1629" y="1797"/>
                    </a:lnTo>
                    <a:lnTo>
                      <a:pt x="1578" y="1868"/>
                    </a:lnTo>
                    <a:lnTo>
                      <a:pt x="1525" y="1935"/>
                    </a:lnTo>
                    <a:lnTo>
                      <a:pt x="1470" y="1998"/>
                    </a:lnTo>
                    <a:lnTo>
                      <a:pt x="1414" y="2055"/>
                    </a:lnTo>
                    <a:lnTo>
                      <a:pt x="1357" y="2105"/>
                    </a:lnTo>
                    <a:lnTo>
                      <a:pt x="1299" y="2148"/>
                    </a:lnTo>
                    <a:lnTo>
                      <a:pt x="1298" y="2150"/>
                    </a:lnTo>
                    <a:lnTo>
                      <a:pt x="1294" y="2151"/>
                    </a:lnTo>
                    <a:lnTo>
                      <a:pt x="1289" y="2154"/>
                    </a:lnTo>
                    <a:lnTo>
                      <a:pt x="1280" y="2156"/>
                    </a:lnTo>
                    <a:lnTo>
                      <a:pt x="1270" y="2160"/>
                    </a:lnTo>
                    <a:lnTo>
                      <a:pt x="1259" y="2164"/>
                    </a:lnTo>
                    <a:lnTo>
                      <a:pt x="1245" y="2167"/>
                    </a:lnTo>
                    <a:lnTo>
                      <a:pt x="1230" y="2169"/>
                    </a:lnTo>
                    <a:lnTo>
                      <a:pt x="1216" y="2171"/>
                    </a:lnTo>
                    <a:lnTo>
                      <a:pt x="1201" y="2172"/>
                    </a:lnTo>
                    <a:lnTo>
                      <a:pt x="1186" y="2172"/>
                    </a:lnTo>
                    <a:lnTo>
                      <a:pt x="1169" y="2172"/>
                    </a:lnTo>
                    <a:lnTo>
                      <a:pt x="1152" y="2169"/>
                    </a:lnTo>
                    <a:lnTo>
                      <a:pt x="1134" y="2167"/>
                    </a:lnTo>
                    <a:lnTo>
                      <a:pt x="1115" y="2162"/>
                    </a:lnTo>
                    <a:lnTo>
                      <a:pt x="1095" y="2155"/>
                    </a:lnTo>
                    <a:lnTo>
                      <a:pt x="1057" y="2140"/>
                    </a:lnTo>
                    <a:lnTo>
                      <a:pt x="1028" y="2131"/>
                    </a:lnTo>
                    <a:lnTo>
                      <a:pt x="1008" y="2125"/>
                    </a:lnTo>
                    <a:lnTo>
                      <a:pt x="994" y="2121"/>
                    </a:lnTo>
                    <a:lnTo>
                      <a:pt x="984" y="2119"/>
                    </a:lnTo>
                    <a:lnTo>
                      <a:pt x="977" y="2118"/>
                    </a:lnTo>
                    <a:lnTo>
                      <a:pt x="970" y="2118"/>
                    </a:lnTo>
                    <a:lnTo>
                      <a:pt x="963" y="2117"/>
                    </a:lnTo>
                    <a:lnTo>
                      <a:pt x="936" y="2114"/>
                    </a:lnTo>
                    <a:lnTo>
                      <a:pt x="910" y="2114"/>
                    </a:lnTo>
                    <a:lnTo>
                      <a:pt x="885" y="2118"/>
                    </a:lnTo>
                    <a:lnTo>
                      <a:pt x="861" y="2125"/>
                    </a:lnTo>
                    <a:lnTo>
                      <a:pt x="838" y="2133"/>
                    </a:lnTo>
                    <a:lnTo>
                      <a:pt x="818" y="2139"/>
                    </a:lnTo>
                    <a:lnTo>
                      <a:pt x="802" y="2147"/>
                    </a:lnTo>
                    <a:lnTo>
                      <a:pt x="788" y="2152"/>
                    </a:lnTo>
                    <a:lnTo>
                      <a:pt x="766" y="2159"/>
                    </a:lnTo>
                    <a:lnTo>
                      <a:pt x="745" y="2162"/>
                    </a:lnTo>
                    <a:lnTo>
                      <a:pt x="725" y="2163"/>
                    </a:lnTo>
                    <a:lnTo>
                      <a:pt x="703" y="2162"/>
                    </a:lnTo>
                    <a:lnTo>
                      <a:pt x="683" y="2158"/>
                    </a:lnTo>
                    <a:lnTo>
                      <a:pt x="664" y="2152"/>
                    </a:lnTo>
                    <a:lnTo>
                      <a:pt x="645" y="2146"/>
                    </a:lnTo>
                    <a:lnTo>
                      <a:pt x="629" y="2138"/>
                    </a:lnTo>
                    <a:lnTo>
                      <a:pt x="613" y="2130"/>
                    </a:lnTo>
                    <a:lnTo>
                      <a:pt x="597" y="2122"/>
                    </a:lnTo>
                    <a:lnTo>
                      <a:pt x="585" y="2114"/>
                    </a:lnTo>
                    <a:lnTo>
                      <a:pt x="575" y="2108"/>
                    </a:lnTo>
                    <a:lnTo>
                      <a:pt x="566" y="2101"/>
                    </a:lnTo>
                    <a:lnTo>
                      <a:pt x="558" y="2096"/>
                    </a:lnTo>
                    <a:lnTo>
                      <a:pt x="555" y="2093"/>
                    </a:lnTo>
                    <a:lnTo>
                      <a:pt x="553" y="2092"/>
                    </a:lnTo>
                    <a:lnTo>
                      <a:pt x="550" y="2088"/>
                    </a:lnTo>
                    <a:lnTo>
                      <a:pt x="541" y="2076"/>
                    </a:lnTo>
                    <a:lnTo>
                      <a:pt x="526" y="2056"/>
                    </a:lnTo>
                    <a:lnTo>
                      <a:pt x="505" y="2030"/>
                    </a:lnTo>
                    <a:lnTo>
                      <a:pt x="480" y="1998"/>
                    </a:lnTo>
                    <a:lnTo>
                      <a:pt x="453" y="1959"/>
                    </a:lnTo>
                    <a:lnTo>
                      <a:pt x="421" y="1914"/>
                    </a:lnTo>
                    <a:lnTo>
                      <a:pt x="387" y="1865"/>
                    </a:lnTo>
                    <a:lnTo>
                      <a:pt x="352" y="1811"/>
                    </a:lnTo>
                    <a:lnTo>
                      <a:pt x="314" y="1752"/>
                    </a:lnTo>
                    <a:lnTo>
                      <a:pt x="276" y="1690"/>
                    </a:lnTo>
                    <a:lnTo>
                      <a:pt x="240" y="1624"/>
                    </a:lnTo>
                    <a:lnTo>
                      <a:pt x="202" y="1556"/>
                    </a:lnTo>
                    <a:lnTo>
                      <a:pt x="167" y="1485"/>
                    </a:lnTo>
                    <a:lnTo>
                      <a:pt x="134" y="1412"/>
                    </a:lnTo>
                    <a:lnTo>
                      <a:pt x="102" y="1337"/>
                    </a:lnTo>
                    <a:close/>
                  </a:path>
                </a:pathLst>
              </a:custGeom>
              <a:solidFill>
                <a:srgbClr val="ff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56"/>
              <p:cNvSpPr/>
              <p:nvPr/>
            </p:nvSpPr>
            <p:spPr>
              <a:xfrm>
                <a:off x="3476520" y="246240"/>
                <a:ext cx="795600" cy="693360"/>
              </a:xfrm>
              <a:custGeom>
                <a:avLst/>
                <a:gdLst/>
                <a:ahLst/>
                <a:rect l="l" t="t" r="r" b="b"/>
                <a:pathLst>
                  <a:path w="1154" h="1765">
                    <a:moveTo>
                      <a:pt x="949" y="59"/>
                    </a:moveTo>
                    <a:lnTo>
                      <a:pt x="944" y="55"/>
                    </a:lnTo>
                    <a:lnTo>
                      <a:pt x="930" y="46"/>
                    </a:lnTo>
                    <a:lnTo>
                      <a:pt x="910" y="34"/>
                    </a:lnTo>
                    <a:lnTo>
                      <a:pt x="883" y="21"/>
                    </a:lnTo>
                    <a:lnTo>
                      <a:pt x="853" y="9"/>
                    </a:lnTo>
                    <a:lnTo>
                      <a:pt x="820" y="1"/>
                    </a:lnTo>
                    <a:lnTo>
                      <a:pt x="788" y="0"/>
                    </a:lnTo>
                    <a:lnTo>
                      <a:pt x="755" y="8"/>
                    </a:lnTo>
                    <a:lnTo>
                      <a:pt x="727" y="20"/>
                    </a:lnTo>
                    <a:lnTo>
                      <a:pt x="706" y="29"/>
                    </a:lnTo>
                    <a:lnTo>
                      <a:pt x="688" y="38"/>
                    </a:lnTo>
                    <a:lnTo>
                      <a:pt x="673" y="46"/>
                    </a:lnTo>
                    <a:lnTo>
                      <a:pt x="658" y="55"/>
                    </a:lnTo>
                    <a:lnTo>
                      <a:pt x="641" y="66"/>
                    </a:lnTo>
                    <a:lnTo>
                      <a:pt x="622" y="79"/>
                    </a:lnTo>
                    <a:lnTo>
                      <a:pt x="597" y="97"/>
                    </a:lnTo>
                    <a:lnTo>
                      <a:pt x="571" y="113"/>
                    </a:lnTo>
                    <a:lnTo>
                      <a:pt x="547" y="120"/>
                    </a:lnTo>
                    <a:lnTo>
                      <a:pt x="524" y="120"/>
                    </a:lnTo>
                    <a:lnTo>
                      <a:pt x="502" y="118"/>
                    </a:lnTo>
                    <a:lnTo>
                      <a:pt x="479" y="117"/>
                    </a:lnTo>
                    <a:lnTo>
                      <a:pt x="456" y="118"/>
                    </a:lnTo>
                    <a:lnTo>
                      <a:pt x="432" y="128"/>
                    </a:lnTo>
                    <a:lnTo>
                      <a:pt x="406" y="146"/>
                    </a:lnTo>
                    <a:lnTo>
                      <a:pt x="378" y="170"/>
                    </a:lnTo>
                    <a:lnTo>
                      <a:pt x="350" y="196"/>
                    </a:lnTo>
                    <a:lnTo>
                      <a:pt x="324" y="226"/>
                    </a:lnTo>
                    <a:lnTo>
                      <a:pt x="301" y="263"/>
                    </a:lnTo>
                    <a:lnTo>
                      <a:pt x="281" y="309"/>
                    </a:lnTo>
                    <a:lnTo>
                      <a:pt x="266" y="365"/>
                    </a:lnTo>
                    <a:lnTo>
                      <a:pt x="257" y="433"/>
                    </a:lnTo>
                    <a:lnTo>
                      <a:pt x="256" y="518"/>
                    </a:lnTo>
                    <a:lnTo>
                      <a:pt x="255" y="581"/>
                    </a:lnTo>
                    <a:lnTo>
                      <a:pt x="248" y="664"/>
                    </a:lnTo>
                    <a:lnTo>
                      <a:pt x="237" y="761"/>
                    </a:lnTo>
                    <a:lnTo>
                      <a:pt x="219" y="864"/>
                    </a:lnTo>
                    <a:lnTo>
                      <a:pt x="195" y="965"/>
                    </a:lnTo>
                    <a:lnTo>
                      <a:pt x="166" y="1060"/>
                    </a:lnTo>
                    <a:lnTo>
                      <a:pt x="129" y="1140"/>
                    </a:lnTo>
                    <a:lnTo>
                      <a:pt x="85" y="1200"/>
                    </a:lnTo>
                    <a:lnTo>
                      <a:pt x="58" y="1241"/>
                    </a:lnTo>
                    <a:lnTo>
                      <a:pt x="35" y="1302"/>
                    </a:lnTo>
                    <a:lnTo>
                      <a:pt x="17" y="1380"/>
                    </a:lnTo>
                    <a:lnTo>
                      <a:pt x="5" y="1463"/>
                    </a:lnTo>
                    <a:lnTo>
                      <a:pt x="0" y="1547"/>
                    </a:lnTo>
                    <a:lnTo>
                      <a:pt x="4" y="1621"/>
                    </a:lnTo>
                    <a:lnTo>
                      <a:pt x="18" y="1680"/>
                    </a:lnTo>
                    <a:lnTo>
                      <a:pt x="43" y="1715"/>
                    </a:lnTo>
                    <a:lnTo>
                      <a:pt x="71" y="1732"/>
                    </a:lnTo>
                    <a:lnTo>
                      <a:pt x="92" y="1742"/>
                    </a:lnTo>
                    <a:lnTo>
                      <a:pt x="110" y="1746"/>
                    </a:lnTo>
                    <a:lnTo>
                      <a:pt x="126" y="1746"/>
                    </a:lnTo>
                    <a:lnTo>
                      <a:pt x="142" y="1744"/>
                    </a:lnTo>
                    <a:lnTo>
                      <a:pt x="161" y="1736"/>
                    </a:lnTo>
                    <a:lnTo>
                      <a:pt x="184" y="1727"/>
                    </a:lnTo>
                    <a:lnTo>
                      <a:pt x="213" y="1716"/>
                    </a:lnTo>
                    <a:lnTo>
                      <a:pt x="231" y="1711"/>
                    </a:lnTo>
                    <a:lnTo>
                      <a:pt x="248" y="1708"/>
                    </a:lnTo>
                    <a:lnTo>
                      <a:pt x="266" y="1705"/>
                    </a:lnTo>
                    <a:lnTo>
                      <a:pt x="284" y="1703"/>
                    </a:lnTo>
                    <a:lnTo>
                      <a:pt x="302" y="1703"/>
                    </a:lnTo>
                    <a:lnTo>
                      <a:pt x="320" y="1703"/>
                    </a:lnTo>
                    <a:lnTo>
                      <a:pt x="338" y="1704"/>
                    </a:lnTo>
                    <a:lnTo>
                      <a:pt x="355" y="1707"/>
                    </a:lnTo>
                    <a:lnTo>
                      <a:pt x="372" y="1709"/>
                    </a:lnTo>
                    <a:lnTo>
                      <a:pt x="388" y="1712"/>
                    </a:lnTo>
                    <a:lnTo>
                      <a:pt x="403" y="1716"/>
                    </a:lnTo>
                    <a:lnTo>
                      <a:pt x="417" y="1720"/>
                    </a:lnTo>
                    <a:lnTo>
                      <a:pt x="430" y="1725"/>
                    </a:lnTo>
                    <a:lnTo>
                      <a:pt x="442" y="1730"/>
                    </a:lnTo>
                    <a:lnTo>
                      <a:pt x="451" y="1736"/>
                    </a:lnTo>
                    <a:lnTo>
                      <a:pt x="460" y="1741"/>
                    </a:lnTo>
                    <a:lnTo>
                      <a:pt x="476" y="1752"/>
                    </a:lnTo>
                    <a:lnTo>
                      <a:pt x="495" y="1758"/>
                    </a:lnTo>
                    <a:lnTo>
                      <a:pt x="515" y="1762"/>
                    </a:lnTo>
                    <a:lnTo>
                      <a:pt x="537" y="1765"/>
                    </a:lnTo>
                    <a:lnTo>
                      <a:pt x="558" y="1763"/>
                    </a:lnTo>
                    <a:lnTo>
                      <a:pt x="578" y="1759"/>
                    </a:lnTo>
                    <a:lnTo>
                      <a:pt x="596" y="1753"/>
                    </a:lnTo>
                    <a:lnTo>
                      <a:pt x="610" y="1742"/>
                    </a:lnTo>
                    <a:lnTo>
                      <a:pt x="619" y="1733"/>
                    </a:lnTo>
                    <a:lnTo>
                      <a:pt x="631" y="1719"/>
                    </a:lnTo>
                    <a:lnTo>
                      <a:pt x="648" y="1698"/>
                    </a:lnTo>
                    <a:lnTo>
                      <a:pt x="667" y="1674"/>
                    </a:lnTo>
                    <a:lnTo>
                      <a:pt x="688" y="1645"/>
                    </a:lnTo>
                    <a:lnTo>
                      <a:pt x="712" y="1612"/>
                    </a:lnTo>
                    <a:lnTo>
                      <a:pt x="738" y="1579"/>
                    </a:lnTo>
                    <a:lnTo>
                      <a:pt x="765" y="1543"/>
                    </a:lnTo>
                    <a:lnTo>
                      <a:pt x="791" y="1507"/>
                    </a:lnTo>
                    <a:lnTo>
                      <a:pt x="818" y="1471"/>
                    </a:lnTo>
                    <a:lnTo>
                      <a:pt x="844" y="1435"/>
                    </a:lnTo>
                    <a:lnTo>
                      <a:pt x="869" y="1403"/>
                    </a:lnTo>
                    <a:lnTo>
                      <a:pt x="892" y="1371"/>
                    </a:lnTo>
                    <a:lnTo>
                      <a:pt x="913" y="1343"/>
                    </a:lnTo>
                    <a:lnTo>
                      <a:pt x="931" y="1320"/>
                    </a:lnTo>
                    <a:lnTo>
                      <a:pt x="946" y="1301"/>
                    </a:lnTo>
                    <a:lnTo>
                      <a:pt x="963" y="1277"/>
                    </a:lnTo>
                    <a:lnTo>
                      <a:pt x="984" y="1239"/>
                    </a:lnTo>
                    <a:lnTo>
                      <a:pt x="1009" y="1189"/>
                    </a:lnTo>
                    <a:lnTo>
                      <a:pt x="1037" y="1127"/>
                    </a:lnTo>
                    <a:lnTo>
                      <a:pt x="1065" y="1056"/>
                    </a:lnTo>
                    <a:lnTo>
                      <a:pt x="1091" y="977"/>
                    </a:lnTo>
                    <a:lnTo>
                      <a:pt x="1115" y="892"/>
                    </a:lnTo>
                    <a:lnTo>
                      <a:pt x="1134" y="801"/>
                    </a:lnTo>
                    <a:lnTo>
                      <a:pt x="1148" y="706"/>
                    </a:lnTo>
                    <a:lnTo>
                      <a:pt x="1154" y="608"/>
                    </a:lnTo>
                    <a:lnTo>
                      <a:pt x="1152" y="510"/>
                    </a:lnTo>
                    <a:lnTo>
                      <a:pt x="1138" y="412"/>
                    </a:lnTo>
                    <a:lnTo>
                      <a:pt x="1113" y="317"/>
                    </a:lnTo>
                    <a:lnTo>
                      <a:pt x="1073" y="226"/>
                    </a:lnTo>
                    <a:lnTo>
                      <a:pt x="1019" y="140"/>
                    </a:lnTo>
                    <a:lnTo>
                      <a:pt x="949" y="59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Freeform 157"/>
              <p:cNvSpPr/>
              <p:nvPr/>
            </p:nvSpPr>
            <p:spPr>
              <a:xfrm>
                <a:off x="3445560" y="181440"/>
                <a:ext cx="355680" cy="88200"/>
              </a:xfrm>
              <a:custGeom>
                <a:avLst/>
                <a:gdLst/>
                <a:ahLst/>
                <a:rect l="l" t="t" r="r" b="b"/>
                <a:pathLst>
                  <a:path w="519" h="213">
                    <a:moveTo>
                      <a:pt x="301" y="75"/>
                    </a:moveTo>
                    <a:lnTo>
                      <a:pt x="296" y="72"/>
                    </a:lnTo>
                    <a:lnTo>
                      <a:pt x="282" y="66"/>
                    </a:lnTo>
                    <a:lnTo>
                      <a:pt x="262" y="57"/>
                    </a:lnTo>
                    <a:lnTo>
                      <a:pt x="235" y="45"/>
                    </a:lnTo>
                    <a:lnTo>
                      <a:pt x="206" y="33"/>
                    </a:lnTo>
                    <a:lnTo>
                      <a:pt x="175" y="21"/>
                    </a:lnTo>
                    <a:lnTo>
                      <a:pt x="143" y="10"/>
                    </a:lnTo>
                    <a:lnTo>
                      <a:pt x="113" y="4"/>
                    </a:lnTo>
                    <a:lnTo>
                      <a:pt x="87" y="0"/>
                    </a:lnTo>
                    <a:lnTo>
                      <a:pt x="64" y="1"/>
                    </a:lnTo>
                    <a:lnTo>
                      <a:pt x="44" y="4"/>
                    </a:lnTo>
                    <a:lnTo>
                      <a:pt x="29" y="9"/>
                    </a:lnTo>
                    <a:lnTo>
                      <a:pt x="16" y="16"/>
                    </a:lnTo>
                    <a:lnTo>
                      <a:pt x="7" y="21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179" y="188"/>
                    </a:lnTo>
                    <a:lnTo>
                      <a:pt x="184" y="190"/>
                    </a:lnTo>
                    <a:lnTo>
                      <a:pt x="199" y="194"/>
                    </a:lnTo>
                    <a:lnTo>
                      <a:pt x="220" y="199"/>
                    </a:lnTo>
                    <a:lnTo>
                      <a:pt x="247" y="204"/>
                    </a:lnTo>
                    <a:lnTo>
                      <a:pt x="276" y="209"/>
                    </a:lnTo>
                    <a:lnTo>
                      <a:pt x="306" y="213"/>
                    </a:lnTo>
                    <a:lnTo>
                      <a:pt x="335" y="213"/>
                    </a:lnTo>
                    <a:lnTo>
                      <a:pt x="361" y="209"/>
                    </a:lnTo>
                    <a:lnTo>
                      <a:pt x="387" y="203"/>
                    </a:lnTo>
                    <a:lnTo>
                      <a:pt x="412" y="194"/>
                    </a:lnTo>
                    <a:lnTo>
                      <a:pt x="437" y="186"/>
                    </a:lnTo>
                    <a:lnTo>
                      <a:pt x="460" y="178"/>
                    </a:lnTo>
                    <a:lnTo>
                      <a:pt x="480" y="170"/>
                    </a:lnTo>
                    <a:lnTo>
                      <a:pt x="496" y="163"/>
                    </a:lnTo>
                    <a:lnTo>
                      <a:pt x="506" y="159"/>
                    </a:lnTo>
                    <a:lnTo>
                      <a:pt x="510" y="158"/>
                    </a:lnTo>
                    <a:lnTo>
                      <a:pt x="511" y="158"/>
                    </a:lnTo>
                    <a:lnTo>
                      <a:pt x="515" y="157"/>
                    </a:lnTo>
                    <a:lnTo>
                      <a:pt x="518" y="154"/>
                    </a:lnTo>
                    <a:lnTo>
                      <a:pt x="519" y="151"/>
                    </a:lnTo>
                    <a:lnTo>
                      <a:pt x="518" y="147"/>
                    </a:lnTo>
                    <a:lnTo>
                      <a:pt x="510" y="141"/>
                    </a:lnTo>
                    <a:lnTo>
                      <a:pt x="496" y="134"/>
                    </a:lnTo>
                    <a:lnTo>
                      <a:pt x="473" y="126"/>
                    </a:lnTo>
                    <a:lnTo>
                      <a:pt x="448" y="116"/>
                    </a:lnTo>
                    <a:lnTo>
                      <a:pt x="428" y="105"/>
                    </a:lnTo>
                    <a:lnTo>
                      <a:pt x="410" y="95"/>
                    </a:lnTo>
                    <a:lnTo>
                      <a:pt x="394" y="86"/>
                    </a:lnTo>
                    <a:lnTo>
                      <a:pt x="376" y="78"/>
                    </a:lnTo>
                    <a:lnTo>
                      <a:pt x="356" y="74"/>
                    </a:lnTo>
                    <a:lnTo>
                      <a:pt x="331" y="72"/>
                    </a:lnTo>
                    <a:lnTo>
                      <a:pt x="301" y="75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Freeform 158"/>
              <p:cNvSpPr/>
              <p:nvPr/>
            </p:nvSpPr>
            <p:spPr>
              <a:xfrm>
                <a:off x="3054600" y="223920"/>
                <a:ext cx="461520" cy="558720"/>
              </a:xfrm>
              <a:custGeom>
                <a:avLst/>
                <a:gdLst/>
                <a:ahLst/>
                <a:rect l="l" t="t" r="r" b="b"/>
                <a:pathLst>
                  <a:path w="666" h="1421">
                    <a:moveTo>
                      <a:pt x="368" y="19"/>
                    </a:moveTo>
                    <a:lnTo>
                      <a:pt x="364" y="21"/>
                    </a:lnTo>
                    <a:lnTo>
                      <a:pt x="356" y="27"/>
                    </a:lnTo>
                    <a:lnTo>
                      <a:pt x="341" y="37"/>
                    </a:lnTo>
                    <a:lnTo>
                      <a:pt x="320" y="50"/>
                    </a:lnTo>
                    <a:lnTo>
                      <a:pt x="298" y="69"/>
                    </a:lnTo>
                    <a:lnTo>
                      <a:pt x="271" y="91"/>
                    </a:lnTo>
                    <a:lnTo>
                      <a:pt x="242" y="116"/>
                    </a:lnTo>
                    <a:lnTo>
                      <a:pt x="212" y="146"/>
                    </a:lnTo>
                    <a:lnTo>
                      <a:pt x="182" y="179"/>
                    </a:lnTo>
                    <a:lnTo>
                      <a:pt x="150" y="218"/>
                    </a:lnTo>
                    <a:lnTo>
                      <a:pt x="120" y="258"/>
                    </a:lnTo>
                    <a:lnTo>
                      <a:pt x="92" y="303"/>
                    </a:lnTo>
                    <a:lnTo>
                      <a:pt x="67" y="352"/>
                    </a:lnTo>
                    <a:lnTo>
                      <a:pt x="44" y="403"/>
                    </a:lnTo>
                    <a:lnTo>
                      <a:pt x="26" y="460"/>
                    </a:lnTo>
                    <a:lnTo>
                      <a:pt x="12" y="519"/>
                    </a:lnTo>
                    <a:lnTo>
                      <a:pt x="4" y="577"/>
                    </a:lnTo>
                    <a:lnTo>
                      <a:pt x="0" y="635"/>
                    </a:lnTo>
                    <a:lnTo>
                      <a:pt x="0" y="692"/>
                    </a:lnTo>
                    <a:lnTo>
                      <a:pt x="4" y="748"/>
                    </a:lnTo>
                    <a:lnTo>
                      <a:pt x="12" y="802"/>
                    </a:lnTo>
                    <a:lnTo>
                      <a:pt x="22" y="855"/>
                    </a:lnTo>
                    <a:lnTo>
                      <a:pt x="33" y="905"/>
                    </a:lnTo>
                    <a:lnTo>
                      <a:pt x="47" y="952"/>
                    </a:lnTo>
                    <a:lnTo>
                      <a:pt x="62" y="997"/>
                    </a:lnTo>
                    <a:lnTo>
                      <a:pt x="79" y="1038"/>
                    </a:lnTo>
                    <a:lnTo>
                      <a:pt x="94" y="1076"/>
                    </a:lnTo>
                    <a:lnTo>
                      <a:pt x="110" y="1109"/>
                    </a:lnTo>
                    <a:lnTo>
                      <a:pt x="125" y="1138"/>
                    </a:lnTo>
                    <a:lnTo>
                      <a:pt x="138" y="1162"/>
                    </a:lnTo>
                    <a:lnTo>
                      <a:pt x="150" y="1180"/>
                    </a:lnTo>
                    <a:lnTo>
                      <a:pt x="160" y="1194"/>
                    </a:lnTo>
                    <a:lnTo>
                      <a:pt x="179" y="1216"/>
                    </a:lnTo>
                    <a:lnTo>
                      <a:pt x="199" y="1244"/>
                    </a:lnTo>
                    <a:lnTo>
                      <a:pt x="221" y="1273"/>
                    </a:lnTo>
                    <a:lnTo>
                      <a:pt x="241" y="1302"/>
                    </a:lnTo>
                    <a:lnTo>
                      <a:pt x="260" y="1329"/>
                    </a:lnTo>
                    <a:lnTo>
                      <a:pt x="274" y="1350"/>
                    </a:lnTo>
                    <a:lnTo>
                      <a:pt x="284" y="1366"/>
                    </a:lnTo>
                    <a:lnTo>
                      <a:pt x="288" y="1371"/>
                    </a:lnTo>
                    <a:lnTo>
                      <a:pt x="290" y="1374"/>
                    </a:lnTo>
                    <a:lnTo>
                      <a:pt x="296" y="1382"/>
                    </a:lnTo>
                    <a:lnTo>
                      <a:pt x="305" y="1392"/>
                    </a:lnTo>
                    <a:lnTo>
                      <a:pt x="318" y="1404"/>
                    </a:lnTo>
                    <a:lnTo>
                      <a:pt x="330" y="1413"/>
                    </a:lnTo>
                    <a:lnTo>
                      <a:pt x="343" y="1420"/>
                    </a:lnTo>
                    <a:lnTo>
                      <a:pt x="356" y="1421"/>
                    </a:lnTo>
                    <a:lnTo>
                      <a:pt x="366" y="1413"/>
                    </a:lnTo>
                    <a:lnTo>
                      <a:pt x="376" y="1402"/>
                    </a:lnTo>
                    <a:lnTo>
                      <a:pt x="388" y="1391"/>
                    </a:lnTo>
                    <a:lnTo>
                      <a:pt x="401" y="1379"/>
                    </a:lnTo>
                    <a:lnTo>
                      <a:pt x="412" y="1365"/>
                    </a:lnTo>
                    <a:lnTo>
                      <a:pt x="424" y="1346"/>
                    </a:lnTo>
                    <a:lnTo>
                      <a:pt x="433" y="1324"/>
                    </a:lnTo>
                    <a:lnTo>
                      <a:pt x="438" y="1295"/>
                    </a:lnTo>
                    <a:lnTo>
                      <a:pt x="439" y="1259"/>
                    </a:lnTo>
                    <a:lnTo>
                      <a:pt x="436" y="1163"/>
                    </a:lnTo>
                    <a:lnTo>
                      <a:pt x="431" y="1053"/>
                    </a:lnTo>
                    <a:lnTo>
                      <a:pt x="426" y="954"/>
                    </a:lnTo>
                    <a:lnTo>
                      <a:pt x="424" y="889"/>
                    </a:lnTo>
                    <a:lnTo>
                      <a:pt x="430" y="852"/>
                    </a:lnTo>
                    <a:lnTo>
                      <a:pt x="448" y="787"/>
                    </a:lnTo>
                    <a:lnTo>
                      <a:pt x="473" y="701"/>
                    </a:lnTo>
                    <a:lnTo>
                      <a:pt x="503" y="607"/>
                    </a:lnTo>
                    <a:lnTo>
                      <a:pt x="536" y="514"/>
                    </a:lnTo>
                    <a:lnTo>
                      <a:pt x="569" y="432"/>
                    </a:lnTo>
                    <a:lnTo>
                      <a:pt x="596" y="369"/>
                    </a:lnTo>
                    <a:lnTo>
                      <a:pt x="618" y="337"/>
                    </a:lnTo>
                    <a:lnTo>
                      <a:pt x="633" y="323"/>
                    </a:lnTo>
                    <a:lnTo>
                      <a:pt x="645" y="305"/>
                    </a:lnTo>
                    <a:lnTo>
                      <a:pt x="654" y="283"/>
                    </a:lnTo>
                    <a:lnTo>
                      <a:pt x="661" y="260"/>
                    </a:lnTo>
                    <a:lnTo>
                      <a:pt x="664" y="233"/>
                    </a:lnTo>
                    <a:lnTo>
                      <a:pt x="666" y="207"/>
                    </a:lnTo>
                    <a:lnTo>
                      <a:pt x="664" y="178"/>
                    </a:lnTo>
                    <a:lnTo>
                      <a:pt x="662" y="149"/>
                    </a:lnTo>
                    <a:lnTo>
                      <a:pt x="658" y="133"/>
                    </a:lnTo>
                    <a:lnTo>
                      <a:pt x="652" y="119"/>
                    </a:lnTo>
                    <a:lnTo>
                      <a:pt x="642" y="102"/>
                    </a:lnTo>
                    <a:lnTo>
                      <a:pt x="629" y="86"/>
                    </a:lnTo>
                    <a:lnTo>
                      <a:pt x="614" y="71"/>
                    </a:lnTo>
                    <a:lnTo>
                      <a:pt x="598" y="56"/>
                    </a:lnTo>
                    <a:lnTo>
                      <a:pt x="579" y="42"/>
                    </a:lnTo>
                    <a:lnTo>
                      <a:pt x="557" y="31"/>
                    </a:lnTo>
                    <a:lnTo>
                      <a:pt x="536" y="20"/>
                    </a:lnTo>
                    <a:lnTo>
                      <a:pt x="513" y="11"/>
                    </a:lnTo>
                    <a:lnTo>
                      <a:pt x="489" y="4"/>
                    </a:lnTo>
                    <a:lnTo>
                      <a:pt x="464" y="0"/>
                    </a:lnTo>
                    <a:lnTo>
                      <a:pt x="440" y="0"/>
                    </a:lnTo>
                    <a:lnTo>
                      <a:pt x="416" y="3"/>
                    </a:lnTo>
                    <a:lnTo>
                      <a:pt x="392" y="8"/>
                    </a:lnTo>
                    <a:lnTo>
                      <a:pt x="368" y="19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Freeform 159"/>
              <p:cNvSpPr/>
              <p:nvPr/>
            </p:nvSpPr>
            <p:spPr>
              <a:xfrm>
                <a:off x="3439440" y="943200"/>
                <a:ext cx="407880" cy="36360"/>
              </a:xfrm>
              <a:custGeom>
                <a:avLst/>
                <a:gdLst/>
                <a:ahLst/>
                <a:rect l="l" t="t" r="r" b="b"/>
                <a:pathLst>
                  <a:path w="590" h="105">
                    <a:moveTo>
                      <a:pt x="81" y="104"/>
                    </a:moveTo>
                    <a:lnTo>
                      <a:pt x="71" y="101"/>
                    </a:lnTo>
                    <a:lnTo>
                      <a:pt x="59" y="99"/>
                    </a:lnTo>
                    <a:lnTo>
                      <a:pt x="49" y="93"/>
                    </a:lnTo>
                    <a:lnTo>
                      <a:pt x="39" y="88"/>
                    </a:lnTo>
                    <a:lnTo>
                      <a:pt x="29" y="80"/>
                    </a:lnTo>
                    <a:lnTo>
                      <a:pt x="19" y="71"/>
                    </a:lnTo>
                    <a:lnTo>
                      <a:pt x="9" y="59"/>
                    </a:lnTo>
                    <a:lnTo>
                      <a:pt x="0" y="46"/>
                    </a:lnTo>
                    <a:lnTo>
                      <a:pt x="5" y="47"/>
                    </a:lnTo>
                    <a:lnTo>
                      <a:pt x="20" y="50"/>
                    </a:lnTo>
                    <a:lnTo>
                      <a:pt x="42" y="53"/>
                    </a:lnTo>
                    <a:lnTo>
                      <a:pt x="68" y="55"/>
                    </a:lnTo>
                    <a:lnTo>
                      <a:pt x="98" y="55"/>
                    </a:lnTo>
                    <a:lnTo>
                      <a:pt x="130" y="53"/>
                    </a:lnTo>
                    <a:lnTo>
                      <a:pt x="159" y="45"/>
                    </a:lnTo>
                    <a:lnTo>
                      <a:pt x="185" y="32"/>
                    </a:lnTo>
                    <a:lnTo>
                      <a:pt x="198" y="24"/>
                    </a:lnTo>
                    <a:lnTo>
                      <a:pt x="213" y="17"/>
                    </a:lnTo>
                    <a:lnTo>
                      <a:pt x="230" y="12"/>
                    </a:lnTo>
                    <a:lnTo>
                      <a:pt x="247" y="7"/>
                    </a:lnTo>
                    <a:lnTo>
                      <a:pt x="266" y="4"/>
                    </a:lnTo>
                    <a:lnTo>
                      <a:pt x="286" y="1"/>
                    </a:lnTo>
                    <a:lnTo>
                      <a:pt x="306" y="0"/>
                    </a:lnTo>
                    <a:lnTo>
                      <a:pt x="327" y="0"/>
                    </a:lnTo>
                    <a:lnTo>
                      <a:pt x="348" y="1"/>
                    </a:lnTo>
                    <a:lnTo>
                      <a:pt x="368" y="4"/>
                    </a:lnTo>
                    <a:lnTo>
                      <a:pt x="390" y="8"/>
                    </a:lnTo>
                    <a:lnTo>
                      <a:pt x="410" y="12"/>
                    </a:lnTo>
                    <a:lnTo>
                      <a:pt x="429" y="17"/>
                    </a:lnTo>
                    <a:lnTo>
                      <a:pt x="446" y="25"/>
                    </a:lnTo>
                    <a:lnTo>
                      <a:pt x="464" y="33"/>
                    </a:lnTo>
                    <a:lnTo>
                      <a:pt x="479" y="42"/>
                    </a:lnTo>
                    <a:lnTo>
                      <a:pt x="505" y="58"/>
                    </a:lnTo>
                    <a:lnTo>
                      <a:pt x="528" y="66"/>
                    </a:lnTo>
                    <a:lnTo>
                      <a:pt x="547" y="70"/>
                    </a:lnTo>
                    <a:lnTo>
                      <a:pt x="562" y="68"/>
                    </a:lnTo>
                    <a:lnTo>
                      <a:pt x="573" y="66"/>
                    </a:lnTo>
                    <a:lnTo>
                      <a:pt x="582" y="62"/>
                    </a:lnTo>
                    <a:lnTo>
                      <a:pt x="587" y="58"/>
                    </a:lnTo>
                    <a:lnTo>
                      <a:pt x="589" y="57"/>
                    </a:lnTo>
                    <a:lnTo>
                      <a:pt x="589" y="59"/>
                    </a:lnTo>
                    <a:lnTo>
                      <a:pt x="590" y="66"/>
                    </a:lnTo>
                    <a:lnTo>
                      <a:pt x="587" y="75"/>
                    </a:lnTo>
                    <a:lnTo>
                      <a:pt x="580" y="84"/>
                    </a:lnTo>
                    <a:lnTo>
                      <a:pt x="565" y="91"/>
                    </a:lnTo>
                    <a:lnTo>
                      <a:pt x="541" y="93"/>
                    </a:lnTo>
                    <a:lnTo>
                      <a:pt x="504" y="90"/>
                    </a:lnTo>
                    <a:lnTo>
                      <a:pt x="454" y="78"/>
                    </a:lnTo>
                    <a:lnTo>
                      <a:pt x="451" y="76"/>
                    </a:lnTo>
                    <a:lnTo>
                      <a:pt x="446" y="75"/>
                    </a:lnTo>
                    <a:lnTo>
                      <a:pt x="436" y="72"/>
                    </a:lnTo>
                    <a:lnTo>
                      <a:pt x="425" y="68"/>
                    </a:lnTo>
                    <a:lnTo>
                      <a:pt x="410" y="66"/>
                    </a:lnTo>
                    <a:lnTo>
                      <a:pt x="392" y="62"/>
                    </a:lnTo>
                    <a:lnTo>
                      <a:pt x="373" y="58"/>
                    </a:lnTo>
                    <a:lnTo>
                      <a:pt x="354" y="54"/>
                    </a:lnTo>
                    <a:lnTo>
                      <a:pt x="333" y="51"/>
                    </a:lnTo>
                    <a:lnTo>
                      <a:pt x="311" y="49"/>
                    </a:lnTo>
                    <a:lnTo>
                      <a:pt x="289" y="49"/>
                    </a:lnTo>
                    <a:lnTo>
                      <a:pt x="267" y="49"/>
                    </a:lnTo>
                    <a:lnTo>
                      <a:pt x="247" y="51"/>
                    </a:lnTo>
                    <a:lnTo>
                      <a:pt x="227" y="55"/>
                    </a:lnTo>
                    <a:lnTo>
                      <a:pt x="209" y="61"/>
                    </a:lnTo>
                    <a:lnTo>
                      <a:pt x="193" y="70"/>
                    </a:lnTo>
                    <a:lnTo>
                      <a:pt x="190" y="71"/>
                    </a:lnTo>
                    <a:lnTo>
                      <a:pt x="184" y="76"/>
                    </a:lnTo>
                    <a:lnTo>
                      <a:pt x="173" y="83"/>
                    </a:lnTo>
                    <a:lnTo>
                      <a:pt x="159" y="90"/>
                    </a:lnTo>
                    <a:lnTo>
                      <a:pt x="141" y="96"/>
                    </a:lnTo>
                    <a:lnTo>
                      <a:pt x="122" y="101"/>
                    </a:lnTo>
                    <a:lnTo>
                      <a:pt x="102" y="105"/>
                    </a:lnTo>
                    <a:lnTo>
                      <a:pt x="81" y="104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Freeform 160"/>
              <p:cNvSpPr/>
              <p:nvPr/>
            </p:nvSpPr>
            <p:spPr>
              <a:xfrm>
                <a:off x="3095640" y="252000"/>
                <a:ext cx="327240" cy="435240"/>
              </a:xfrm>
              <a:custGeom>
                <a:avLst/>
                <a:gdLst/>
                <a:ahLst/>
                <a:rect l="l" t="t" r="r" b="b"/>
                <a:pathLst>
                  <a:path w="474" h="1109">
                    <a:moveTo>
                      <a:pt x="312" y="8"/>
                    </a:moveTo>
                    <a:lnTo>
                      <a:pt x="309" y="10"/>
                    </a:lnTo>
                    <a:lnTo>
                      <a:pt x="303" y="12"/>
                    </a:lnTo>
                    <a:lnTo>
                      <a:pt x="293" y="18"/>
                    </a:lnTo>
                    <a:lnTo>
                      <a:pt x="279" y="25"/>
                    </a:lnTo>
                    <a:lnTo>
                      <a:pt x="261" y="36"/>
                    </a:lnTo>
                    <a:lnTo>
                      <a:pt x="242" y="48"/>
                    </a:lnTo>
                    <a:lnTo>
                      <a:pt x="222" y="62"/>
                    </a:lnTo>
                    <a:lnTo>
                      <a:pt x="199" y="79"/>
                    </a:lnTo>
                    <a:lnTo>
                      <a:pt x="177" y="100"/>
                    </a:lnTo>
                    <a:lnTo>
                      <a:pt x="153" y="123"/>
                    </a:lnTo>
                    <a:lnTo>
                      <a:pt x="129" y="148"/>
                    </a:lnTo>
                    <a:lnTo>
                      <a:pt x="106" y="176"/>
                    </a:lnTo>
                    <a:lnTo>
                      <a:pt x="85" y="207"/>
                    </a:lnTo>
                    <a:lnTo>
                      <a:pt x="65" y="241"/>
                    </a:lnTo>
                    <a:lnTo>
                      <a:pt x="46" y="278"/>
                    </a:lnTo>
                    <a:lnTo>
                      <a:pt x="31" y="318"/>
                    </a:lnTo>
                    <a:lnTo>
                      <a:pt x="9" y="401"/>
                    </a:lnTo>
                    <a:lnTo>
                      <a:pt x="0" y="485"/>
                    </a:lnTo>
                    <a:lnTo>
                      <a:pt x="0" y="569"/>
                    </a:lnTo>
                    <a:lnTo>
                      <a:pt x="7" y="648"/>
                    </a:lnTo>
                    <a:lnTo>
                      <a:pt x="17" y="721"/>
                    </a:lnTo>
                    <a:lnTo>
                      <a:pt x="28" y="780"/>
                    </a:lnTo>
                    <a:lnTo>
                      <a:pt x="38" y="826"/>
                    </a:lnTo>
                    <a:lnTo>
                      <a:pt x="46" y="853"/>
                    </a:lnTo>
                    <a:lnTo>
                      <a:pt x="60" y="892"/>
                    </a:lnTo>
                    <a:lnTo>
                      <a:pt x="77" y="933"/>
                    </a:lnTo>
                    <a:lnTo>
                      <a:pt x="96" y="971"/>
                    </a:lnTo>
                    <a:lnTo>
                      <a:pt x="115" y="1007"/>
                    </a:lnTo>
                    <a:lnTo>
                      <a:pt x="133" y="1037"/>
                    </a:lnTo>
                    <a:lnTo>
                      <a:pt x="148" y="1061"/>
                    </a:lnTo>
                    <a:lnTo>
                      <a:pt x="158" y="1076"/>
                    </a:lnTo>
                    <a:lnTo>
                      <a:pt x="162" y="1082"/>
                    </a:lnTo>
                    <a:lnTo>
                      <a:pt x="163" y="1086"/>
                    </a:lnTo>
                    <a:lnTo>
                      <a:pt x="167" y="1094"/>
                    </a:lnTo>
                    <a:lnTo>
                      <a:pt x="173" y="1103"/>
                    </a:lnTo>
                    <a:lnTo>
                      <a:pt x="180" y="1108"/>
                    </a:lnTo>
                    <a:lnTo>
                      <a:pt x="191" y="1109"/>
                    </a:lnTo>
                    <a:lnTo>
                      <a:pt x="202" y="1100"/>
                    </a:lnTo>
                    <a:lnTo>
                      <a:pt x="216" y="1079"/>
                    </a:lnTo>
                    <a:lnTo>
                      <a:pt x="230" y="1041"/>
                    </a:lnTo>
                    <a:lnTo>
                      <a:pt x="238" y="983"/>
                    </a:lnTo>
                    <a:lnTo>
                      <a:pt x="238" y="907"/>
                    </a:lnTo>
                    <a:lnTo>
                      <a:pt x="232" y="821"/>
                    </a:lnTo>
                    <a:lnTo>
                      <a:pt x="227" y="727"/>
                    </a:lnTo>
                    <a:lnTo>
                      <a:pt x="225" y="633"/>
                    </a:lnTo>
                    <a:lnTo>
                      <a:pt x="232" y="543"/>
                    </a:lnTo>
                    <a:lnTo>
                      <a:pt x="254" y="463"/>
                    </a:lnTo>
                    <a:lnTo>
                      <a:pt x="293" y="397"/>
                    </a:lnTo>
                    <a:lnTo>
                      <a:pt x="339" y="343"/>
                    </a:lnTo>
                    <a:lnTo>
                      <a:pt x="380" y="295"/>
                    </a:lnTo>
                    <a:lnTo>
                      <a:pt x="411" y="255"/>
                    </a:lnTo>
                    <a:lnTo>
                      <a:pt x="437" y="220"/>
                    </a:lnTo>
                    <a:lnTo>
                      <a:pt x="455" y="190"/>
                    </a:lnTo>
                    <a:lnTo>
                      <a:pt x="468" y="164"/>
                    </a:lnTo>
                    <a:lnTo>
                      <a:pt x="474" y="139"/>
                    </a:lnTo>
                    <a:lnTo>
                      <a:pt x="473" y="116"/>
                    </a:lnTo>
                    <a:lnTo>
                      <a:pt x="468" y="93"/>
                    </a:lnTo>
                    <a:lnTo>
                      <a:pt x="459" y="69"/>
                    </a:lnTo>
                    <a:lnTo>
                      <a:pt x="446" y="46"/>
                    </a:lnTo>
                    <a:lnTo>
                      <a:pt x="430" y="27"/>
                    </a:lnTo>
                    <a:lnTo>
                      <a:pt x="410" y="11"/>
                    </a:lnTo>
                    <a:lnTo>
                      <a:pt x="382" y="2"/>
                    </a:lnTo>
                    <a:lnTo>
                      <a:pt x="351" y="0"/>
                    </a:lnTo>
                    <a:lnTo>
                      <a:pt x="312" y="8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Freeform 161"/>
              <p:cNvSpPr/>
              <p:nvPr/>
            </p:nvSpPr>
            <p:spPr>
              <a:xfrm>
                <a:off x="3522240" y="937080"/>
                <a:ext cx="306360" cy="37800"/>
              </a:xfrm>
              <a:custGeom>
                <a:avLst/>
                <a:gdLst/>
                <a:ahLst/>
                <a:rect l="l" t="t" r="r" b="b"/>
                <a:pathLst>
                  <a:path w="442" h="110">
                    <a:moveTo>
                      <a:pt x="0" y="85"/>
                    </a:moveTo>
                    <a:lnTo>
                      <a:pt x="3" y="85"/>
                    </a:lnTo>
                    <a:lnTo>
                      <a:pt x="9" y="84"/>
                    </a:lnTo>
                    <a:lnTo>
                      <a:pt x="19" y="83"/>
                    </a:lnTo>
                    <a:lnTo>
                      <a:pt x="32" y="79"/>
                    </a:lnTo>
                    <a:lnTo>
                      <a:pt x="46" y="75"/>
                    </a:lnTo>
                    <a:lnTo>
                      <a:pt x="61" y="71"/>
                    </a:lnTo>
                    <a:lnTo>
                      <a:pt x="76" y="64"/>
                    </a:lnTo>
                    <a:lnTo>
                      <a:pt x="88" y="56"/>
                    </a:lnTo>
                    <a:lnTo>
                      <a:pt x="90" y="55"/>
                    </a:lnTo>
                    <a:lnTo>
                      <a:pt x="93" y="51"/>
                    </a:lnTo>
                    <a:lnTo>
                      <a:pt x="100" y="45"/>
                    </a:lnTo>
                    <a:lnTo>
                      <a:pt x="109" y="37"/>
                    </a:lnTo>
                    <a:lnTo>
                      <a:pt x="119" y="29"/>
                    </a:lnTo>
                    <a:lnTo>
                      <a:pt x="131" y="20"/>
                    </a:lnTo>
                    <a:lnTo>
                      <a:pt x="146" y="13"/>
                    </a:lnTo>
                    <a:lnTo>
                      <a:pt x="161" y="6"/>
                    </a:lnTo>
                    <a:lnTo>
                      <a:pt x="179" y="1"/>
                    </a:lnTo>
                    <a:lnTo>
                      <a:pt x="198" y="0"/>
                    </a:lnTo>
                    <a:lnTo>
                      <a:pt x="218" y="1"/>
                    </a:lnTo>
                    <a:lnTo>
                      <a:pt x="240" y="6"/>
                    </a:lnTo>
                    <a:lnTo>
                      <a:pt x="262" y="17"/>
                    </a:lnTo>
                    <a:lnTo>
                      <a:pt x="285" y="31"/>
                    </a:lnTo>
                    <a:lnTo>
                      <a:pt x="309" y="53"/>
                    </a:lnTo>
                    <a:lnTo>
                      <a:pt x="333" y="80"/>
                    </a:lnTo>
                    <a:lnTo>
                      <a:pt x="335" y="81"/>
                    </a:lnTo>
                    <a:lnTo>
                      <a:pt x="343" y="84"/>
                    </a:lnTo>
                    <a:lnTo>
                      <a:pt x="355" y="89"/>
                    </a:lnTo>
                    <a:lnTo>
                      <a:pt x="369" y="95"/>
                    </a:lnTo>
                    <a:lnTo>
                      <a:pt x="387" y="99"/>
                    </a:lnTo>
                    <a:lnTo>
                      <a:pt x="405" y="103"/>
                    </a:lnTo>
                    <a:lnTo>
                      <a:pt x="423" y="104"/>
                    </a:lnTo>
                    <a:lnTo>
                      <a:pt x="442" y="103"/>
                    </a:lnTo>
                    <a:lnTo>
                      <a:pt x="441" y="104"/>
                    </a:lnTo>
                    <a:lnTo>
                      <a:pt x="437" y="107"/>
                    </a:lnTo>
                    <a:lnTo>
                      <a:pt x="429" y="109"/>
                    </a:lnTo>
                    <a:lnTo>
                      <a:pt x="415" y="110"/>
                    </a:lnTo>
                    <a:lnTo>
                      <a:pt x="393" y="110"/>
                    </a:lnTo>
                    <a:lnTo>
                      <a:pt x="363" y="107"/>
                    </a:lnTo>
                    <a:lnTo>
                      <a:pt x="321" y="96"/>
                    </a:lnTo>
                    <a:lnTo>
                      <a:pt x="270" y="80"/>
                    </a:lnTo>
                    <a:lnTo>
                      <a:pt x="267" y="79"/>
                    </a:lnTo>
                    <a:lnTo>
                      <a:pt x="260" y="74"/>
                    </a:lnTo>
                    <a:lnTo>
                      <a:pt x="248" y="68"/>
                    </a:lnTo>
                    <a:lnTo>
                      <a:pt x="231" y="62"/>
                    </a:lnTo>
                    <a:lnTo>
                      <a:pt x="209" y="58"/>
                    </a:lnTo>
                    <a:lnTo>
                      <a:pt x="184" y="58"/>
                    </a:lnTo>
                    <a:lnTo>
                      <a:pt x="154" y="62"/>
                    </a:lnTo>
                    <a:lnTo>
                      <a:pt x="120" y="71"/>
                    </a:lnTo>
                    <a:lnTo>
                      <a:pt x="119" y="72"/>
                    </a:lnTo>
                    <a:lnTo>
                      <a:pt x="112" y="76"/>
                    </a:lnTo>
                    <a:lnTo>
                      <a:pt x="103" y="81"/>
                    </a:lnTo>
                    <a:lnTo>
                      <a:pt x="90" y="87"/>
                    </a:lnTo>
                    <a:lnTo>
                      <a:pt x="73" y="91"/>
                    </a:lnTo>
                    <a:lnTo>
                      <a:pt x="52" y="92"/>
                    </a:lnTo>
                    <a:lnTo>
                      <a:pt x="28" y="91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Freeform 162"/>
              <p:cNvSpPr/>
              <p:nvPr/>
            </p:nvSpPr>
            <p:spPr>
              <a:xfrm>
                <a:off x="3522240" y="194400"/>
                <a:ext cx="327240" cy="69480"/>
              </a:xfrm>
              <a:custGeom>
                <a:avLst/>
                <a:gdLst/>
                <a:ahLst/>
                <a:rect l="l" t="t" r="r" b="b"/>
                <a:pathLst>
                  <a:path w="473" h="165">
                    <a:moveTo>
                      <a:pt x="0" y="0"/>
                    </a:moveTo>
                    <a:lnTo>
                      <a:pt x="4" y="0"/>
                    </a:lnTo>
                    <a:lnTo>
                      <a:pt x="13" y="2"/>
                    </a:lnTo>
                    <a:lnTo>
                      <a:pt x="28" y="4"/>
                    </a:lnTo>
                    <a:lnTo>
                      <a:pt x="48" y="9"/>
                    </a:lnTo>
                    <a:lnTo>
                      <a:pt x="72" y="17"/>
                    </a:lnTo>
                    <a:lnTo>
                      <a:pt x="98" y="28"/>
                    </a:lnTo>
                    <a:lnTo>
                      <a:pt x="129" y="42"/>
                    </a:lnTo>
                    <a:lnTo>
                      <a:pt x="159" y="61"/>
                    </a:lnTo>
                    <a:lnTo>
                      <a:pt x="190" y="78"/>
                    </a:lnTo>
                    <a:lnTo>
                      <a:pt x="221" y="90"/>
                    </a:lnTo>
                    <a:lnTo>
                      <a:pt x="251" y="98"/>
                    </a:lnTo>
                    <a:lnTo>
                      <a:pt x="277" y="100"/>
                    </a:lnTo>
                    <a:lnTo>
                      <a:pt x="300" y="102"/>
                    </a:lnTo>
                    <a:lnTo>
                      <a:pt x="318" y="102"/>
                    </a:lnTo>
                    <a:lnTo>
                      <a:pt x="329" y="100"/>
                    </a:lnTo>
                    <a:lnTo>
                      <a:pt x="333" y="100"/>
                    </a:lnTo>
                    <a:lnTo>
                      <a:pt x="473" y="49"/>
                    </a:lnTo>
                    <a:lnTo>
                      <a:pt x="469" y="53"/>
                    </a:lnTo>
                    <a:lnTo>
                      <a:pt x="457" y="62"/>
                    </a:lnTo>
                    <a:lnTo>
                      <a:pt x="441" y="77"/>
                    </a:lnTo>
                    <a:lnTo>
                      <a:pt x="422" y="94"/>
                    </a:lnTo>
                    <a:lnTo>
                      <a:pt x="401" y="111"/>
                    </a:lnTo>
                    <a:lnTo>
                      <a:pt x="381" y="127"/>
                    </a:lnTo>
                    <a:lnTo>
                      <a:pt x="363" y="141"/>
                    </a:lnTo>
                    <a:lnTo>
                      <a:pt x="350" y="150"/>
                    </a:lnTo>
                    <a:lnTo>
                      <a:pt x="344" y="154"/>
                    </a:lnTo>
                    <a:lnTo>
                      <a:pt x="334" y="157"/>
                    </a:lnTo>
                    <a:lnTo>
                      <a:pt x="323" y="160"/>
                    </a:lnTo>
                    <a:lnTo>
                      <a:pt x="309" y="161"/>
                    </a:lnTo>
                    <a:lnTo>
                      <a:pt x="295" y="164"/>
                    </a:lnTo>
                    <a:lnTo>
                      <a:pt x="279" y="164"/>
                    </a:lnTo>
                    <a:lnTo>
                      <a:pt x="261" y="165"/>
                    </a:lnTo>
                    <a:lnTo>
                      <a:pt x="243" y="164"/>
                    </a:lnTo>
                    <a:lnTo>
                      <a:pt x="224" y="162"/>
                    </a:lnTo>
                    <a:lnTo>
                      <a:pt x="207" y="161"/>
                    </a:lnTo>
                    <a:lnTo>
                      <a:pt x="189" y="157"/>
                    </a:lnTo>
                    <a:lnTo>
                      <a:pt x="172" y="153"/>
                    </a:lnTo>
                    <a:lnTo>
                      <a:pt x="156" y="148"/>
                    </a:lnTo>
                    <a:lnTo>
                      <a:pt x="141" y="141"/>
                    </a:lnTo>
                    <a:lnTo>
                      <a:pt x="127" y="133"/>
                    </a:lnTo>
                    <a:lnTo>
                      <a:pt x="116" y="124"/>
                    </a:lnTo>
                    <a:lnTo>
                      <a:pt x="97" y="103"/>
                    </a:lnTo>
                    <a:lnTo>
                      <a:pt x="81" y="82"/>
                    </a:lnTo>
                    <a:lnTo>
                      <a:pt x="68" y="62"/>
                    </a:lnTo>
                    <a:lnTo>
                      <a:pt x="56" y="42"/>
                    </a:lnTo>
                    <a:lnTo>
                      <a:pt x="43" y="27"/>
                    </a:lnTo>
                    <a:lnTo>
                      <a:pt x="30" y="13"/>
                    </a:lnTo>
                    <a:lnTo>
                      <a:pt x="1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Freeform 163"/>
              <p:cNvSpPr/>
              <p:nvPr/>
            </p:nvSpPr>
            <p:spPr>
              <a:xfrm>
                <a:off x="3822840" y="288720"/>
                <a:ext cx="392760" cy="373680"/>
              </a:xfrm>
              <a:custGeom>
                <a:avLst/>
                <a:gdLst/>
                <a:ahLst/>
                <a:rect l="l" t="t" r="r" b="b"/>
                <a:pathLst>
                  <a:path w="570" h="953">
                    <a:moveTo>
                      <a:pt x="443" y="29"/>
                    </a:moveTo>
                    <a:lnTo>
                      <a:pt x="440" y="26"/>
                    </a:lnTo>
                    <a:lnTo>
                      <a:pt x="432" y="19"/>
                    </a:lnTo>
                    <a:lnTo>
                      <a:pt x="418" y="13"/>
                    </a:lnTo>
                    <a:lnTo>
                      <a:pt x="400" y="5"/>
                    </a:lnTo>
                    <a:lnTo>
                      <a:pt x="377" y="0"/>
                    </a:lnTo>
                    <a:lnTo>
                      <a:pt x="351" y="0"/>
                    </a:lnTo>
                    <a:lnTo>
                      <a:pt x="322" y="5"/>
                    </a:lnTo>
                    <a:lnTo>
                      <a:pt x="289" y="19"/>
                    </a:lnTo>
                    <a:lnTo>
                      <a:pt x="258" y="35"/>
                    </a:lnTo>
                    <a:lnTo>
                      <a:pt x="233" y="44"/>
                    </a:lnTo>
                    <a:lnTo>
                      <a:pt x="210" y="48"/>
                    </a:lnTo>
                    <a:lnTo>
                      <a:pt x="191" y="51"/>
                    </a:lnTo>
                    <a:lnTo>
                      <a:pt x="175" y="52"/>
                    </a:lnTo>
                    <a:lnTo>
                      <a:pt x="160" y="56"/>
                    </a:lnTo>
                    <a:lnTo>
                      <a:pt x="146" y="65"/>
                    </a:lnTo>
                    <a:lnTo>
                      <a:pt x="132" y="80"/>
                    </a:lnTo>
                    <a:lnTo>
                      <a:pt x="104" y="126"/>
                    </a:lnTo>
                    <a:lnTo>
                      <a:pt x="81" y="180"/>
                    </a:lnTo>
                    <a:lnTo>
                      <a:pt x="63" y="241"/>
                    </a:lnTo>
                    <a:lnTo>
                      <a:pt x="47" y="304"/>
                    </a:lnTo>
                    <a:lnTo>
                      <a:pt x="36" y="366"/>
                    </a:lnTo>
                    <a:lnTo>
                      <a:pt x="26" y="425"/>
                    </a:lnTo>
                    <a:lnTo>
                      <a:pt x="17" y="479"/>
                    </a:lnTo>
                    <a:lnTo>
                      <a:pt x="8" y="524"/>
                    </a:lnTo>
                    <a:lnTo>
                      <a:pt x="2" y="569"/>
                    </a:lnTo>
                    <a:lnTo>
                      <a:pt x="0" y="623"/>
                    </a:lnTo>
                    <a:lnTo>
                      <a:pt x="2" y="679"/>
                    </a:lnTo>
                    <a:lnTo>
                      <a:pt x="8" y="736"/>
                    </a:lnTo>
                    <a:lnTo>
                      <a:pt x="18" y="788"/>
                    </a:lnTo>
                    <a:lnTo>
                      <a:pt x="34" y="832"/>
                    </a:lnTo>
                    <a:lnTo>
                      <a:pt x="54" y="864"/>
                    </a:lnTo>
                    <a:lnTo>
                      <a:pt x="79" y="878"/>
                    </a:lnTo>
                    <a:lnTo>
                      <a:pt x="104" y="885"/>
                    </a:lnTo>
                    <a:lnTo>
                      <a:pt x="127" y="893"/>
                    </a:lnTo>
                    <a:lnTo>
                      <a:pt x="146" y="904"/>
                    </a:lnTo>
                    <a:lnTo>
                      <a:pt x="165" y="915"/>
                    </a:lnTo>
                    <a:lnTo>
                      <a:pt x="181" y="927"/>
                    </a:lnTo>
                    <a:lnTo>
                      <a:pt x="197" y="937"/>
                    </a:lnTo>
                    <a:lnTo>
                      <a:pt x="212" y="947"/>
                    </a:lnTo>
                    <a:lnTo>
                      <a:pt x="229" y="952"/>
                    </a:lnTo>
                    <a:lnTo>
                      <a:pt x="238" y="953"/>
                    </a:lnTo>
                    <a:lnTo>
                      <a:pt x="249" y="953"/>
                    </a:lnTo>
                    <a:lnTo>
                      <a:pt x="260" y="950"/>
                    </a:lnTo>
                    <a:lnTo>
                      <a:pt x="274" y="947"/>
                    </a:lnTo>
                    <a:lnTo>
                      <a:pt x="288" y="940"/>
                    </a:lnTo>
                    <a:lnTo>
                      <a:pt x="303" y="933"/>
                    </a:lnTo>
                    <a:lnTo>
                      <a:pt x="320" y="924"/>
                    </a:lnTo>
                    <a:lnTo>
                      <a:pt x="336" y="914"/>
                    </a:lnTo>
                    <a:lnTo>
                      <a:pt x="354" y="902"/>
                    </a:lnTo>
                    <a:lnTo>
                      <a:pt x="370" y="887"/>
                    </a:lnTo>
                    <a:lnTo>
                      <a:pt x="388" y="873"/>
                    </a:lnTo>
                    <a:lnTo>
                      <a:pt x="405" y="857"/>
                    </a:lnTo>
                    <a:lnTo>
                      <a:pt x="423" y="840"/>
                    </a:lnTo>
                    <a:lnTo>
                      <a:pt x="440" y="820"/>
                    </a:lnTo>
                    <a:lnTo>
                      <a:pt x="457" y="800"/>
                    </a:lnTo>
                    <a:lnTo>
                      <a:pt x="473" y="779"/>
                    </a:lnTo>
                    <a:lnTo>
                      <a:pt x="511" y="711"/>
                    </a:lnTo>
                    <a:lnTo>
                      <a:pt x="541" y="623"/>
                    </a:lnTo>
                    <a:lnTo>
                      <a:pt x="561" y="520"/>
                    </a:lnTo>
                    <a:lnTo>
                      <a:pt x="570" y="411"/>
                    </a:lnTo>
                    <a:lnTo>
                      <a:pt x="564" y="300"/>
                    </a:lnTo>
                    <a:lnTo>
                      <a:pt x="543" y="195"/>
                    </a:lnTo>
                    <a:lnTo>
                      <a:pt x="502" y="102"/>
                    </a:lnTo>
                    <a:lnTo>
                      <a:pt x="443" y="29"/>
                    </a:lnTo>
                    <a:close/>
                  </a:path>
                </a:pathLst>
              </a:custGeom>
              <a:solidFill>
                <a:srgbClr val="ff72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Freeform 164"/>
              <p:cNvSpPr/>
              <p:nvPr/>
            </p:nvSpPr>
            <p:spPr>
              <a:xfrm>
                <a:off x="3927960" y="400680"/>
                <a:ext cx="205200" cy="203760"/>
              </a:xfrm>
              <a:custGeom>
                <a:avLst/>
                <a:gdLst/>
                <a:ahLst/>
                <a:rect l="l" t="t" r="r" b="b"/>
                <a:pathLst>
                  <a:path w="297" h="507">
                    <a:moveTo>
                      <a:pt x="231" y="15"/>
                    </a:moveTo>
                    <a:lnTo>
                      <a:pt x="229" y="14"/>
                    </a:lnTo>
                    <a:lnTo>
                      <a:pt x="224" y="11"/>
                    </a:lnTo>
                    <a:lnTo>
                      <a:pt x="218" y="7"/>
                    </a:lnTo>
                    <a:lnTo>
                      <a:pt x="208" y="3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68" y="3"/>
                    </a:lnTo>
                    <a:lnTo>
                      <a:pt x="151" y="11"/>
                    </a:lnTo>
                    <a:lnTo>
                      <a:pt x="136" y="19"/>
                    </a:lnTo>
                    <a:lnTo>
                      <a:pt x="122" y="24"/>
                    </a:lnTo>
                    <a:lnTo>
                      <a:pt x="111" y="27"/>
                    </a:lnTo>
                    <a:lnTo>
                      <a:pt x="102" y="28"/>
                    </a:lnTo>
                    <a:lnTo>
                      <a:pt x="93" y="29"/>
                    </a:lnTo>
                    <a:lnTo>
                      <a:pt x="86" y="31"/>
                    </a:lnTo>
                    <a:lnTo>
                      <a:pt x="78" y="35"/>
                    </a:lnTo>
                    <a:lnTo>
                      <a:pt x="71" y="43"/>
                    </a:lnTo>
                    <a:lnTo>
                      <a:pt x="57" y="66"/>
                    </a:lnTo>
                    <a:lnTo>
                      <a:pt x="44" y="95"/>
                    </a:lnTo>
                    <a:lnTo>
                      <a:pt x="35" y="127"/>
                    </a:lnTo>
                    <a:lnTo>
                      <a:pt x="26" y="158"/>
                    </a:lnTo>
                    <a:lnTo>
                      <a:pt x="20" y="191"/>
                    </a:lnTo>
                    <a:lnTo>
                      <a:pt x="15" y="223"/>
                    </a:lnTo>
                    <a:lnTo>
                      <a:pt x="10" y="252"/>
                    </a:lnTo>
                    <a:lnTo>
                      <a:pt x="5" y="276"/>
                    </a:lnTo>
                    <a:lnTo>
                      <a:pt x="1" y="299"/>
                    </a:lnTo>
                    <a:lnTo>
                      <a:pt x="0" y="328"/>
                    </a:lnTo>
                    <a:lnTo>
                      <a:pt x="1" y="359"/>
                    </a:lnTo>
                    <a:lnTo>
                      <a:pt x="4" y="389"/>
                    </a:lnTo>
                    <a:lnTo>
                      <a:pt x="9" y="418"/>
                    </a:lnTo>
                    <a:lnTo>
                      <a:pt x="16" y="442"/>
                    </a:lnTo>
                    <a:lnTo>
                      <a:pt x="26" y="459"/>
                    </a:lnTo>
                    <a:lnTo>
                      <a:pt x="39" y="467"/>
                    </a:lnTo>
                    <a:lnTo>
                      <a:pt x="53" y="471"/>
                    </a:lnTo>
                    <a:lnTo>
                      <a:pt x="64" y="475"/>
                    </a:lnTo>
                    <a:lnTo>
                      <a:pt x="76" y="481"/>
                    </a:lnTo>
                    <a:lnTo>
                      <a:pt x="84" y="486"/>
                    </a:lnTo>
                    <a:lnTo>
                      <a:pt x="93" y="493"/>
                    </a:lnTo>
                    <a:lnTo>
                      <a:pt x="102" y="500"/>
                    </a:lnTo>
                    <a:lnTo>
                      <a:pt x="110" y="503"/>
                    </a:lnTo>
                    <a:lnTo>
                      <a:pt x="118" y="507"/>
                    </a:lnTo>
                    <a:lnTo>
                      <a:pt x="128" y="507"/>
                    </a:lnTo>
                    <a:lnTo>
                      <a:pt x="142" y="503"/>
                    </a:lnTo>
                    <a:lnTo>
                      <a:pt x="157" y="497"/>
                    </a:lnTo>
                    <a:lnTo>
                      <a:pt x="175" y="485"/>
                    </a:lnTo>
                    <a:lnTo>
                      <a:pt x="194" y="472"/>
                    </a:lnTo>
                    <a:lnTo>
                      <a:pt x="212" y="455"/>
                    </a:lnTo>
                    <a:lnTo>
                      <a:pt x="231" y="435"/>
                    </a:lnTo>
                    <a:lnTo>
                      <a:pt x="248" y="413"/>
                    </a:lnTo>
                    <a:lnTo>
                      <a:pt x="268" y="376"/>
                    </a:lnTo>
                    <a:lnTo>
                      <a:pt x="283" y="328"/>
                    </a:lnTo>
                    <a:lnTo>
                      <a:pt x="294" y="274"/>
                    </a:lnTo>
                    <a:lnTo>
                      <a:pt x="297" y="215"/>
                    </a:lnTo>
                    <a:lnTo>
                      <a:pt x="294" y="157"/>
                    </a:lnTo>
                    <a:lnTo>
                      <a:pt x="282" y="102"/>
                    </a:lnTo>
                    <a:lnTo>
                      <a:pt x="262" y="53"/>
                    </a:lnTo>
                    <a:lnTo>
                      <a:pt x="231" y="15"/>
                    </a:lnTo>
                    <a:close/>
                  </a:path>
                </a:pathLst>
              </a:custGeom>
              <a:solidFill>
                <a:srgbClr val="ffa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Freeform 165"/>
              <p:cNvSpPr/>
              <p:nvPr/>
            </p:nvSpPr>
            <p:spPr>
              <a:xfrm>
                <a:off x="3617640" y="176760"/>
                <a:ext cx="279360" cy="63360"/>
              </a:xfrm>
              <a:custGeom>
                <a:avLst/>
                <a:gdLst/>
                <a:ahLst/>
                <a:rect l="l" t="t" r="r" b="b"/>
                <a:pathLst>
                  <a:path w="406" h="150">
                    <a:moveTo>
                      <a:pt x="29" y="82"/>
                    </a:moveTo>
                    <a:lnTo>
                      <a:pt x="29" y="75"/>
                    </a:lnTo>
                    <a:lnTo>
                      <a:pt x="27" y="61"/>
                    </a:lnTo>
                    <a:lnTo>
                      <a:pt x="23" y="44"/>
                    </a:lnTo>
                    <a:lnTo>
                      <a:pt x="14" y="29"/>
                    </a:lnTo>
                    <a:lnTo>
                      <a:pt x="5" y="17"/>
                    </a:lnTo>
                    <a:lnTo>
                      <a:pt x="0" y="8"/>
                    </a:lnTo>
                    <a:lnTo>
                      <a:pt x="3" y="1"/>
                    </a:lnTo>
                    <a:lnTo>
                      <a:pt x="14" y="0"/>
                    </a:lnTo>
                    <a:lnTo>
                      <a:pt x="25" y="1"/>
                    </a:lnTo>
                    <a:lnTo>
                      <a:pt x="41" y="4"/>
                    </a:lnTo>
                    <a:lnTo>
                      <a:pt x="58" y="7"/>
                    </a:lnTo>
                    <a:lnTo>
                      <a:pt x="77" y="9"/>
                    </a:lnTo>
                    <a:lnTo>
                      <a:pt x="96" y="13"/>
                    </a:lnTo>
                    <a:lnTo>
                      <a:pt x="114" y="17"/>
                    </a:lnTo>
                    <a:lnTo>
                      <a:pt x="130" y="20"/>
                    </a:lnTo>
                    <a:lnTo>
                      <a:pt x="144" y="22"/>
                    </a:lnTo>
                    <a:lnTo>
                      <a:pt x="158" y="24"/>
                    </a:lnTo>
                    <a:lnTo>
                      <a:pt x="174" y="24"/>
                    </a:lnTo>
                    <a:lnTo>
                      <a:pt x="193" y="24"/>
                    </a:lnTo>
                    <a:lnTo>
                      <a:pt x="214" y="22"/>
                    </a:lnTo>
                    <a:lnTo>
                      <a:pt x="235" y="21"/>
                    </a:lnTo>
                    <a:lnTo>
                      <a:pt x="253" y="19"/>
                    </a:lnTo>
                    <a:lnTo>
                      <a:pt x="270" y="16"/>
                    </a:lnTo>
                    <a:lnTo>
                      <a:pt x="284" y="13"/>
                    </a:lnTo>
                    <a:lnTo>
                      <a:pt x="295" y="11"/>
                    </a:lnTo>
                    <a:lnTo>
                      <a:pt x="308" y="8"/>
                    </a:lnTo>
                    <a:lnTo>
                      <a:pt x="319" y="5"/>
                    </a:lnTo>
                    <a:lnTo>
                      <a:pt x="332" y="3"/>
                    </a:lnTo>
                    <a:lnTo>
                      <a:pt x="343" y="3"/>
                    </a:lnTo>
                    <a:lnTo>
                      <a:pt x="355" y="3"/>
                    </a:lnTo>
                    <a:lnTo>
                      <a:pt x="368" y="4"/>
                    </a:lnTo>
                    <a:lnTo>
                      <a:pt x="381" y="8"/>
                    </a:lnTo>
                    <a:lnTo>
                      <a:pt x="400" y="20"/>
                    </a:lnTo>
                    <a:lnTo>
                      <a:pt x="406" y="37"/>
                    </a:lnTo>
                    <a:lnTo>
                      <a:pt x="401" y="53"/>
                    </a:lnTo>
                    <a:lnTo>
                      <a:pt x="387" y="66"/>
                    </a:lnTo>
                    <a:lnTo>
                      <a:pt x="377" y="71"/>
                    </a:lnTo>
                    <a:lnTo>
                      <a:pt x="364" y="76"/>
                    </a:lnTo>
                    <a:lnTo>
                      <a:pt x="352" y="83"/>
                    </a:lnTo>
                    <a:lnTo>
                      <a:pt x="339" y="90"/>
                    </a:lnTo>
                    <a:lnTo>
                      <a:pt x="328" y="96"/>
                    </a:lnTo>
                    <a:lnTo>
                      <a:pt x="319" y="102"/>
                    </a:lnTo>
                    <a:lnTo>
                      <a:pt x="313" y="104"/>
                    </a:lnTo>
                    <a:lnTo>
                      <a:pt x="310" y="105"/>
                    </a:lnTo>
                    <a:lnTo>
                      <a:pt x="250" y="129"/>
                    </a:lnTo>
                    <a:lnTo>
                      <a:pt x="245" y="130"/>
                    </a:lnTo>
                    <a:lnTo>
                      <a:pt x="233" y="132"/>
                    </a:lnTo>
                    <a:lnTo>
                      <a:pt x="216" y="136"/>
                    </a:lnTo>
                    <a:lnTo>
                      <a:pt x="195" y="140"/>
                    </a:lnTo>
                    <a:lnTo>
                      <a:pt x="175" y="144"/>
                    </a:lnTo>
                    <a:lnTo>
                      <a:pt x="156" y="146"/>
                    </a:lnTo>
                    <a:lnTo>
                      <a:pt x="143" y="149"/>
                    </a:lnTo>
                    <a:lnTo>
                      <a:pt x="136" y="150"/>
                    </a:lnTo>
                    <a:lnTo>
                      <a:pt x="133" y="149"/>
                    </a:lnTo>
                    <a:lnTo>
                      <a:pt x="125" y="146"/>
                    </a:lnTo>
                    <a:lnTo>
                      <a:pt x="114" y="141"/>
                    </a:lnTo>
                    <a:lnTo>
                      <a:pt x="101" y="133"/>
                    </a:lnTo>
                    <a:lnTo>
                      <a:pt x="85" y="123"/>
                    </a:lnTo>
                    <a:lnTo>
                      <a:pt x="68" y="111"/>
                    </a:lnTo>
                    <a:lnTo>
                      <a:pt x="49" y="98"/>
                    </a:lnTo>
                    <a:lnTo>
                      <a:pt x="29" y="82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Freeform 166"/>
              <p:cNvSpPr/>
              <p:nvPr/>
            </p:nvSpPr>
            <p:spPr>
              <a:xfrm>
                <a:off x="3010680" y="226080"/>
                <a:ext cx="360000" cy="704880"/>
              </a:xfrm>
              <a:custGeom>
                <a:avLst/>
                <a:gdLst/>
                <a:ahLst/>
                <a:rect l="l" t="t" r="r" b="b"/>
                <a:pathLst>
                  <a:path w="521" h="1794">
                    <a:moveTo>
                      <a:pt x="221" y="0"/>
                    </a:moveTo>
                    <a:lnTo>
                      <a:pt x="217" y="4"/>
                    </a:lnTo>
                    <a:lnTo>
                      <a:pt x="204" y="14"/>
                    </a:lnTo>
                    <a:lnTo>
                      <a:pt x="187" y="33"/>
                    </a:lnTo>
                    <a:lnTo>
                      <a:pt x="164" y="58"/>
                    </a:lnTo>
                    <a:lnTo>
                      <a:pt x="139" y="92"/>
                    </a:lnTo>
                    <a:lnTo>
                      <a:pt x="113" y="134"/>
                    </a:lnTo>
                    <a:lnTo>
                      <a:pt x="85" y="184"/>
                    </a:lnTo>
                    <a:lnTo>
                      <a:pt x="60" y="244"/>
                    </a:lnTo>
                    <a:lnTo>
                      <a:pt x="37" y="312"/>
                    </a:lnTo>
                    <a:lnTo>
                      <a:pt x="18" y="388"/>
                    </a:lnTo>
                    <a:lnTo>
                      <a:pt x="5" y="475"/>
                    </a:lnTo>
                    <a:lnTo>
                      <a:pt x="0" y="570"/>
                    </a:lnTo>
                    <a:lnTo>
                      <a:pt x="4" y="676"/>
                    </a:lnTo>
                    <a:lnTo>
                      <a:pt x="19" y="791"/>
                    </a:lnTo>
                    <a:lnTo>
                      <a:pt x="46" y="918"/>
                    </a:lnTo>
                    <a:lnTo>
                      <a:pt x="85" y="1053"/>
                    </a:lnTo>
                    <a:lnTo>
                      <a:pt x="89" y="1060"/>
                    </a:lnTo>
                    <a:lnTo>
                      <a:pt x="100" y="1080"/>
                    </a:lnTo>
                    <a:lnTo>
                      <a:pt x="116" y="1111"/>
                    </a:lnTo>
                    <a:lnTo>
                      <a:pt x="139" y="1152"/>
                    </a:lnTo>
                    <a:lnTo>
                      <a:pt x="165" y="1201"/>
                    </a:lnTo>
                    <a:lnTo>
                      <a:pt x="196" y="1256"/>
                    </a:lnTo>
                    <a:lnTo>
                      <a:pt x="230" y="1317"/>
                    </a:lnTo>
                    <a:lnTo>
                      <a:pt x="265" y="1380"/>
                    </a:lnTo>
                    <a:lnTo>
                      <a:pt x="301" y="1443"/>
                    </a:lnTo>
                    <a:lnTo>
                      <a:pt x="338" y="1508"/>
                    </a:lnTo>
                    <a:lnTo>
                      <a:pt x="375" y="1570"/>
                    </a:lnTo>
                    <a:lnTo>
                      <a:pt x="410" y="1629"/>
                    </a:lnTo>
                    <a:lnTo>
                      <a:pt x="443" y="1682"/>
                    </a:lnTo>
                    <a:lnTo>
                      <a:pt x="473" y="1728"/>
                    </a:lnTo>
                    <a:lnTo>
                      <a:pt x="499" y="1766"/>
                    </a:lnTo>
                    <a:lnTo>
                      <a:pt x="521" y="1794"/>
                    </a:lnTo>
                    <a:lnTo>
                      <a:pt x="517" y="1787"/>
                    </a:lnTo>
                    <a:lnTo>
                      <a:pt x="507" y="1769"/>
                    </a:lnTo>
                    <a:lnTo>
                      <a:pt x="492" y="1740"/>
                    </a:lnTo>
                    <a:lnTo>
                      <a:pt x="472" y="1703"/>
                    </a:lnTo>
                    <a:lnTo>
                      <a:pt x="448" y="1657"/>
                    </a:lnTo>
                    <a:lnTo>
                      <a:pt x="419" y="1605"/>
                    </a:lnTo>
                    <a:lnTo>
                      <a:pt x="388" y="1549"/>
                    </a:lnTo>
                    <a:lnTo>
                      <a:pt x="357" y="1488"/>
                    </a:lnTo>
                    <a:lnTo>
                      <a:pt x="323" y="1426"/>
                    </a:lnTo>
                    <a:lnTo>
                      <a:pt x="289" y="1363"/>
                    </a:lnTo>
                    <a:lnTo>
                      <a:pt x="255" y="1301"/>
                    </a:lnTo>
                    <a:lnTo>
                      <a:pt x="223" y="1241"/>
                    </a:lnTo>
                    <a:lnTo>
                      <a:pt x="193" y="1184"/>
                    </a:lnTo>
                    <a:lnTo>
                      <a:pt x="164" y="1131"/>
                    </a:lnTo>
                    <a:lnTo>
                      <a:pt x="140" y="1085"/>
                    </a:lnTo>
                    <a:lnTo>
                      <a:pt x="120" y="1047"/>
                    </a:lnTo>
                    <a:lnTo>
                      <a:pt x="118" y="1040"/>
                    </a:lnTo>
                    <a:lnTo>
                      <a:pt x="111" y="1021"/>
                    </a:lnTo>
                    <a:lnTo>
                      <a:pt x="101" y="989"/>
                    </a:lnTo>
                    <a:lnTo>
                      <a:pt x="90" y="945"/>
                    </a:lnTo>
                    <a:lnTo>
                      <a:pt x="77" y="894"/>
                    </a:lnTo>
                    <a:lnTo>
                      <a:pt x="66" y="834"/>
                    </a:lnTo>
                    <a:lnTo>
                      <a:pt x="56" y="765"/>
                    </a:lnTo>
                    <a:lnTo>
                      <a:pt x="48" y="691"/>
                    </a:lnTo>
                    <a:lnTo>
                      <a:pt x="43" y="611"/>
                    </a:lnTo>
                    <a:lnTo>
                      <a:pt x="44" y="528"/>
                    </a:lnTo>
                    <a:lnTo>
                      <a:pt x="52" y="441"/>
                    </a:lnTo>
                    <a:lnTo>
                      <a:pt x="67" y="352"/>
                    </a:lnTo>
                    <a:lnTo>
                      <a:pt x="90" y="262"/>
                    </a:lnTo>
                    <a:lnTo>
                      <a:pt x="123" y="172"/>
                    </a:lnTo>
                    <a:lnTo>
                      <a:pt x="165" y="85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Freeform 167"/>
              <p:cNvSpPr/>
              <p:nvPr/>
            </p:nvSpPr>
            <p:spPr>
              <a:xfrm>
                <a:off x="3567960" y="207360"/>
                <a:ext cx="240120" cy="46800"/>
              </a:xfrm>
              <a:custGeom>
                <a:avLst/>
                <a:gdLst/>
                <a:ahLst/>
                <a:rect l="l" t="t" r="r" b="b"/>
                <a:pathLst>
                  <a:path w="350" h="120">
                    <a:moveTo>
                      <a:pt x="0" y="0"/>
                    </a:moveTo>
                    <a:lnTo>
                      <a:pt x="5" y="4"/>
                    </a:lnTo>
                    <a:lnTo>
                      <a:pt x="16" y="16"/>
                    </a:lnTo>
                    <a:lnTo>
                      <a:pt x="35" y="32"/>
                    </a:lnTo>
                    <a:lnTo>
                      <a:pt x="59" y="50"/>
                    </a:lnTo>
                    <a:lnTo>
                      <a:pt x="85" y="69"/>
                    </a:lnTo>
                    <a:lnTo>
                      <a:pt x="113" y="87"/>
                    </a:lnTo>
                    <a:lnTo>
                      <a:pt x="141" y="102"/>
                    </a:lnTo>
                    <a:lnTo>
                      <a:pt x="166" y="110"/>
                    </a:lnTo>
                    <a:lnTo>
                      <a:pt x="190" y="115"/>
                    </a:lnTo>
                    <a:lnTo>
                      <a:pt x="215" y="118"/>
                    </a:lnTo>
                    <a:lnTo>
                      <a:pt x="240" y="120"/>
                    </a:lnTo>
                    <a:lnTo>
                      <a:pt x="264" y="119"/>
                    </a:lnTo>
                    <a:lnTo>
                      <a:pt x="287" y="116"/>
                    </a:lnTo>
                    <a:lnTo>
                      <a:pt x="306" y="111"/>
                    </a:lnTo>
                    <a:lnTo>
                      <a:pt x="321" y="102"/>
                    </a:lnTo>
                    <a:lnTo>
                      <a:pt x="331" y="90"/>
                    </a:lnTo>
                    <a:lnTo>
                      <a:pt x="350" y="61"/>
                    </a:lnTo>
                    <a:lnTo>
                      <a:pt x="345" y="62"/>
                    </a:lnTo>
                    <a:lnTo>
                      <a:pt x="331" y="68"/>
                    </a:lnTo>
                    <a:lnTo>
                      <a:pt x="311" y="73"/>
                    </a:lnTo>
                    <a:lnTo>
                      <a:pt x="286" y="78"/>
                    </a:lnTo>
                    <a:lnTo>
                      <a:pt x="255" y="82"/>
                    </a:lnTo>
                    <a:lnTo>
                      <a:pt x="225" y="83"/>
                    </a:lnTo>
                    <a:lnTo>
                      <a:pt x="195" y="79"/>
                    </a:lnTo>
                    <a:lnTo>
                      <a:pt x="167" y="70"/>
                    </a:lnTo>
                    <a:lnTo>
                      <a:pt x="163" y="68"/>
                    </a:lnTo>
                    <a:lnTo>
                      <a:pt x="153" y="60"/>
                    </a:lnTo>
                    <a:lnTo>
                      <a:pt x="137" y="49"/>
                    </a:lnTo>
                    <a:lnTo>
                      <a:pt x="116" y="37"/>
                    </a:lnTo>
                    <a:lnTo>
                      <a:pt x="90" y="25"/>
                    </a:lnTo>
                    <a:lnTo>
                      <a:pt x="61" y="14"/>
                    </a:lnTo>
                    <a:lnTo>
                      <a:pt x="3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Freeform 168"/>
              <p:cNvSpPr/>
              <p:nvPr/>
            </p:nvSpPr>
            <p:spPr>
              <a:xfrm>
                <a:off x="3118320" y="280440"/>
                <a:ext cx="194760" cy="356040"/>
              </a:xfrm>
              <a:custGeom>
                <a:avLst/>
                <a:gdLst/>
                <a:ahLst/>
                <a:rect l="l" t="t" r="r" b="b"/>
                <a:pathLst>
                  <a:path w="281" h="918">
                    <a:moveTo>
                      <a:pt x="232" y="13"/>
                    </a:moveTo>
                    <a:lnTo>
                      <a:pt x="227" y="14"/>
                    </a:lnTo>
                    <a:lnTo>
                      <a:pt x="215" y="21"/>
                    </a:lnTo>
                    <a:lnTo>
                      <a:pt x="196" y="31"/>
                    </a:lnTo>
                    <a:lnTo>
                      <a:pt x="173" y="47"/>
                    </a:lnTo>
                    <a:lnTo>
                      <a:pt x="145" y="71"/>
                    </a:lnTo>
                    <a:lnTo>
                      <a:pt x="116" y="101"/>
                    </a:lnTo>
                    <a:lnTo>
                      <a:pt x="87" y="141"/>
                    </a:lnTo>
                    <a:lnTo>
                      <a:pt x="60" y="189"/>
                    </a:lnTo>
                    <a:lnTo>
                      <a:pt x="39" y="236"/>
                    </a:lnTo>
                    <a:lnTo>
                      <a:pt x="22" y="290"/>
                    </a:lnTo>
                    <a:lnTo>
                      <a:pt x="8" y="355"/>
                    </a:lnTo>
                    <a:lnTo>
                      <a:pt x="0" y="431"/>
                    </a:lnTo>
                    <a:lnTo>
                      <a:pt x="0" y="520"/>
                    </a:lnTo>
                    <a:lnTo>
                      <a:pt x="12" y="621"/>
                    </a:lnTo>
                    <a:lnTo>
                      <a:pt x="33" y="737"/>
                    </a:lnTo>
                    <a:lnTo>
                      <a:pt x="70" y="869"/>
                    </a:lnTo>
                    <a:lnTo>
                      <a:pt x="73" y="874"/>
                    </a:lnTo>
                    <a:lnTo>
                      <a:pt x="82" y="885"/>
                    </a:lnTo>
                    <a:lnTo>
                      <a:pt x="95" y="899"/>
                    </a:lnTo>
                    <a:lnTo>
                      <a:pt x="109" y="911"/>
                    </a:lnTo>
                    <a:lnTo>
                      <a:pt x="121" y="918"/>
                    </a:lnTo>
                    <a:lnTo>
                      <a:pt x="131" y="915"/>
                    </a:lnTo>
                    <a:lnTo>
                      <a:pt x="135" y="898"/>
                    </a:lnTo>
                    <a:lnTo>
                      <a:pt x="131" y="862"/>
                    </a:lnTo>
                    <a:lnTo>
                      <a:pt x="126" y="848"/>
                    </a:lnTo>
                    <a:lnTo>
                      <a:pt x="114" y="808"/>
                    </a:lnTo>
                    <a:lnTo>
                      <a:pt x="97" y="748"/>
                    </a:lnTo>
                    <a:lnTo>
                      <a:pt x="84" y="666"/>
                    </a:lnTo>
                    <a:lnTo>
                      <a:pt x="75" y="571"/>
                    </a:lnTo>
                    <a:lnTo>
                      <a:pt x="78" y="462"/>
                    </a:lnTo>
                    <a:lnTo>
                      <a:pt x="96" y="345"/>
                    </a:lnTo>
                    <a:lnTo>
                      <a:pt x="135" y="222"/>
                    </a:lnTo>
                    <a:lnTo>
                      <a:pt x="136" y="218"/>
                    </a:lnTo>
                    <a:lnTo>
                      <a:pt x="143" y="207"/>
                    </a:lnTo>
                    <a:lnTo>
                      <a:pt x="152" y="188"/>
                    </a:lnTo>
                    <a:lnTo>
                      <a:pt x="167" y="166"/>
                    </a:lnTo>
                    <a:lnTo>
                      <a:pt x="186" y="139"/>
                    </a:lnTo>
                    <a:lnTo>
                      <a:pt x="211" y="112"/>
                    </a:lnTo>
                    <a:lnTo>
                      <a:pt x="242" y="83"/>
                    </a:lnTo>
                    <a:lnTo>
                      <a:pt x="280" y="54"/>
                    </a:lnTo>
                    <a:lnTo>
                      <a:pt x="280" y="50"/>
                    </a:lnTo>
                    <a:lnTo>
                      <a:pt x="281" y="41"/>
                    </a:lnTo>
                    <a:lnTo>
                      <a:pt x="281" y="29"/>
                    </a:lnTo>
                    <a:lnTo>
                      <a:pt x="280" y="16"/>
                    </a:lnTo>
                    <a:lnTo>
                      <a:pt x="275" y="5"/>
                    </a:lnTo>
                    <a:lnTo>
                      <a:pt x="266" y="0"/>
                    </a:lnTo>
                    <a:lnTo>
                      <a:pt x="252" y="1"/>
                    </a:lnTo>
                    <a:lnTo>
                      <a:pt x="232" y="13"/>
                    </a:lnTo>
                    <a:close/>
                  </a:path>
                </a:pathLst>
              </a:custGeom>
              <a:solidFill>
                <a:srgbClr val="91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Freeform 169"/>
              <p:cNvSpPr/>
              <p:nvPr/>
            </p:nvSpPr>
            <p:spPr>
              <a:xfrm>
                <a:off x="3528360" y="951480"/>
                <a:ext cx="261000" cy="33120"/>
              </a:xfrm>
              <a:custGeom>
                <a:avLst/>
                <a:gdLst/>
                <a:ahLst/>
                <a:rect l="l" t="t" r="r" b="b"/>
                <a:pathLst>
                  <a:path w="379" h="95">
                    <a:moveTo>
                      <a:pt x="0" y="71"/>
                    </a:moveTo>
                    <a:lnTo>
                      <a:pt x="4" y="70"/>
                    </a:lnTo>
                    <a:lnTo>
                      <a:pt x="15" y="66"/>
                    </a:lnTo>
                    <a:lnTo>
                      <a:pt x="31" y="60"/>
                    </a:lnTo>
                    <a:lnTo>
                      <a:pt x="51" y="54"/>
                    </a:lnTo>
                    <a:lnTo>
                      <a:pt x="73" y="46"/>
                    </a:lnTo>
                    <a:lnTo>
                      <a:pt x="94" y="37"/>
                    </a:lnTo>
                    <a:lnTo>
                      <a:pt x="113" y="29"/>
                    </a:lnTo>
                    <a:lnTo>
                      <a:pt x="128" y="19"/>
                    </a:lnTo>
                    <a:lnTo>
                      <a:pt x="142" y="12"/>
                    </a:lnTo>
                    <a:lnTo>
                      <a:pt x="157" y="5"/>
                    </a:lnTo>
                    <a:lnTo>
                      <a:pt x="175" y="1"/>
                    </a:lnTo>
                    <a:lnTo>
                      <a:pt x="195" y="0"/>
                    </a:lnTo>
                    <a:lnTo>
                      <a:pt x="218" y="2"/>
                    </a:lnTo>
                    <a:lnTo>
                      <a:pt x="243" y="9"/>
                    </a:lnTo>
                    <a:lnTo>
                      <a:pt x="272" y="19"/>
                    </a:lnTo>
                    <a:lnTo>
                      <a:pt x="302" y="37"/>
                    </a:lnTo>
                    <a:lnTo>
                      <a:pt x="379" y="95"/>
                    </a:lnTo>
                    <a:lnTo>
                      <a:pt x="376" y="95"/>
                    </a:lnTo>
                    <a:lnTo>
                      <a:pt x="368" y="95"/>
                    </a:lnTo>
                    <a:lnTo>
                      <a:pt x="355" y="93"/>
                    </a:lnTo>
                    <a:lnTo>
                      <a:pt x="340" y="92"/>
                    </a:lnTo>
                    <a:lnTo>
                      <a:pt x="323" y="89"/>
                    </a:lnTo>
                    <a:lnTo>
                      <a:pt x="306" y="85"/>
                    </a:lnTo>
                    <a:lnTo>
                      <a:pt x="291" y="80"/>
                    </a:lnTo>
                    <a:lnTo>
                      <a:pt x="277" y="72"/>
                    </a:lnTo>
                    <a:lnTo>
                      <a:pt x="273" y="70"/>
                    </a:lnTo>
                    <a:lnTo>
                      <a:pt x="262" y="66"/>
                    </a:lnTo>
                    <a:lnTo>
                      <a:pt x="244" y="59"/>
                    </a:lnTo>
                    <a:lnTo>
                      <a:pt x="220" y="52"/>
                    </a:lnTo>
                    <a:lnTo>
                      <a:pt x="191" y="50"/>
                    </a:lnTo>
                    <a:lnTo>
                      <a:pt x="158" y="51"/>
                    </a:lnTo>
                    <a:lnTo>
                      <a:pt x="121" y="58"/>
                    </a:lnTo>
                    <a:lnTo>
                      <a:pt x="79" y="72"/>
                    </a:lnTo>
                    <a:lnTo>
                      <a:pt x="78" y="73"/>
                    </a:lnTo>
                    <a:lnTo>
                      <a:pt x="73" y="75"/>
                    </a:lnTo>
                    <a:lnTo>
                      <a:pt x="65" y="77"/>
                    </a:lnTo>
                    <a:lnTo>
                      <a:pt x="55" y="80"/>
                    </a:lnTo>
                    <a:lnTo>
                      <a:pt x="43" y="81"/>
                    </a:lnTo>
                    <a:lnTo>
                      <a:pt x="29" y="80"/>
                    </a:lnTo>
                    <a:lnTo>
                      <a:pt x="15" y="77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2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Freeform 170"/>
              <p:cNvSpPr/>
              <p:nvPr/>
            </p:nvSpPr>
            <p:spPr>
              <a:xfrm>
                <a:off x="3965760" y="186120"/>
                <a:ext cx="262800" cy="90720"/>
              </a:xfrm>
              <a:custGeom>
                <a:avLst/>
                <a:gdLst/>
                <a:ahLst/>
                <a:rect l="l" t="t" r="r" b="b"/>
                <a:pathLst>
                  <a:path w="382" h="221">
                    <a:moveTo>
                      <a:pt x="0" y="0"/>
                    </a:moveTo>
                    <a:lnTo>
                      <a:pt x="4" y="0"/>
                    </a:lnTo>
                    <a:lnTo>
                      <a:pt x="13" y="0"/>
                    </a:lnTo>
                    <a:lnTo>
                      <a:pt x="27" y="1"/>
                    </a:lnTo>
                    <a:lnTo>
                      <a:pt x="46" y="2"/>
                    </a:lnTo>
                    <a:lnTo>
                      <a:pt x="68" y="6"/>
                    </a:lnTo>
                    <a:lnTo>
                      <a:pt x="95" y="10"/>
                    </a:lnTo>
                    <a:lnTo>
                      <a:pt x="124" y="17"/>
                    </a:lnTo>
                    <a:lnTo>
                      <a:pt x="154" y="26"/>
                    </a:lnTo>
                    <a:lnTo>
                      <a:pt x="185" y="38"/>
                    </a:lnTo>
                    <a:lnTo>
                      <a:pt x="217" y="52"/>
                    </a:lnTo>
                    <a:lnTo>
                      <a:pt x="250" y="71"/>
                    </a:lnTo>
                    <a:lnTo>
                      <a:pt x="280" y="92"/>
                    </a:lnTo>
                    <a:lnTo>
                      <a:pt x="310" y="117"/>
                    </a:lnTo>
                    <a:lnTo>
                      <a:pt x="337" y="147"/>
                    </a:lnTo>
                    <a:lnTo>
                      <a:pt x="362" y="182"/>
                    </a:lnTo>
                    <a:lnTo>
                      <a:pt x="382" y="221"/>
                    </a:lnTo>
                    <a:lnTo>
                      <a:pt x="381" y="220"/>
                    </a:lnTo>
                    <a:lnTo>
                      <a:pt x="376" y="216"/>
                    </a:lnTo>
                    <a:lnTo>
                      <a:pt x="368" y="208"/>
                    </a:lnTo>
                    <a:lnTo>
                      <a:pt x="358" y="200"/>
                    </a:lnTo>
                    <a:lnTo>
                      <a:pt x="344" y="188"/>
                    </a:lnTo>
                    <a:lnTo>
                      <a:pt x="328" y="175"/>
                    </a:lnTo>
                    <a:lnTo>
                      <a:pt x="308" y="160"/>
                    </a:lnTo>
                    <a:lnTo>
                      <a:pt x="286" y="145"/>
                    </a:lnTo>
                    <a:lnTo>
                      <a:pt x="260" y="128"/>
                    </a:lnTo>
                    <a:lnTo>
                      <a:pt x="232" y="110"/>
                    </a:lnTo>
                    <a:lnTo>
                      <a:pt x="200" y="92"/>
                    </a:lnTo>
                    <a:lnTo>
                      <a:pt x="166" y="74"/>
                    </a:lnTo>
                    <a:lnTo>
                      <a:pt x="129" y="54"/>
                    </a:lnTo>
                    <a:lnTo>
                      <a:pt x="88" y="35"/>
                    </a:lnTo>
                    <a:lnTo>
                      <a:pt x="46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Freeform 171"/>
              <p:cNvSpPr/>
              <p:nvPr/>
            </p:nvSpPr>
            <p:spPr>
              <a:xfrm>
                <a:off x="3615840" y="50400"/>
                <a:ext cx="117720" cy="198000"/>
              </a:xfrm>
              <a:custGeom>
                <a:avLst/>
                <a:gdLst/>
                <a:ahLst/>
                <a:rect l="l" t="t" r="r" b="b"/>
                <a:pathLst>
                  <a:path w="174" h="503">
                    <a:moveTo>
                      <a:pt x="115" y="481"/>
                    </a:moveTo>
                    <a:lnTo>
                      <a:pt x="113" y="468"/>
                    </a:lnTo>
                    <a:lnTo>
                      <a:pt x="108" y="432"/>
                    </a:lnTo>
                    <a:lnTo>
                      <a:pt x="101" y="381"/>
                    </a:lnTo>
                    <a:lnTo>
                      <a:pt x="89" y="318"/>
                    </a:lnTo>
                    <a:lnTo>
                      <a:pt x="73" y="249"/>
                    </a:lnTo>
                    <a:lnTo>
                      <a:pt x="53" y="182"/>
                    </a:lnTo>
                    <a:lnTo>
                      <a:pt x="29" y="120"/>
                    </a:lnTo>
                    <a:lnTo>
                      <a:pt x="0" y="72"/>
                    </a:lnTo>
                    <a:lnTo>
                      <a:pt x="1" y="68"/>
                    </a:lnTo>
                    <a:lnTo>
                      <a:pt x="4" y="58"/>
                    </a:lnTo>
                    <a:lnTo>
                      <a:pt x="9" y="46"/>
                    </a:lnTo>
                    <a:lnTo>
                      <a:pt x="16" y="32"/>
                    </a:lnTo>
                    <a:lnTo>
                      <a:pt x="25" y="18"/>
                    </a:lnTo>
                    <a:lnTo>
                      <a:pt x="38" y="7"/>
                    </a:lnTo>
                    <a:lnTo>
                      <a:pt x="52" y="0"/>
                    </a:lnTo>
                    <a:lnTo>
                      <a:pt x="68" y="2"/>
                    </a:lnTo>
                    <a:lnTo>
                      <a:pt x="113" y="27"/>
                    </a:lnTo>
                    <a:lnTo>
                      <a:pt x="117" y="40"/>
                    </a:lnTo>
                    <a:lnTo>
                      <a:pt x="126" y="75"/>
                    </a:lnTo>
                    <a:lnTo>
                      <a:pt x="137" y="128"/>
                    </a:lnTo>
                    <a:lnTo>
                      <a:pt x="150" y="194"/>
                    </a:lnTo>
                    <a:lnTo>
                      <a:pt x="162" y="266"/>
                    </a:lnTo>
                    <a:lnTo>
                      <a:pt x="171" y="340"/>
                    </a:lnTo>
                    <a:lnTo>
                      <a:pt x="174" y="411"/>
                    </a:lnTo>
                    <a:lnTo>
                      <a:pt x="170" y="473"/>
                    </a:lnTo>
                    <a:lnTo>
                      <a:pt x="169" y="476"/>
                    </a:lnTo>
                    <a:lnTo>
                      <a:pt x="166" y="482"/>
                    </a:lnTo>
                    <a:lnTo>
                      <a:pt x="161" y="490"/>
                    </a:lnTo>
                    <a:lnTo>
                      <a:pt x="156" y="498"/>
                    </a:lnTo>
                    <a:lnTo>
                      <a:pt x="147" y="503"/>
                    </a:lnTo>
                    <a:lnTo>
                      <a:pt x="139" y="503"/>
                    </a:lnTo>
                    <a:lnTo>
                      <a:pt x="127" y="497"/>
                    </a:lnTo>
                    <a:lnTo>
                      <a:pt x="115" y="481"/>
                    </a:lnTo>
                    <a:close/>
                  </a:path>
                </a:pathLst>
              </a:custGeom>
              <a:solidFill>
                <a:srgbClr val="5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Freeform 172"/>
              <p:cNvSpPr/>
              <p:nvPr/>
            </p:nvSpPr>
            <p:spPr>
              <a:xfrm>
                <a:off x="3665160" y="58680"/>
                <a:ext cx="57960" cy="132840"/>
              </a:xfrm>
              <a:custGeom>
                <a:avLst/>
                <a:gdLst/>
                <a:ahLst/>
                <a:rect l="l" t="t" r="r" b="b"/>
                <a:pathLst>
                  <a:path w="84" h="339">
                    <a:moveTo>
                      <a:pt x="0" y="0"/>
                    </a:moveTo>
                    <a:lnTo>
                      <a:pt x="5" y="1"/>
                    </a:lnTo>
                    <a:lnTo>
                      <a:pt x="16" y="4"/>
                    </a:lnTo>
                    <a:lnTo>
                      <a:pt x="29" y="11"/>
                    </a:lnTo>
                    <a:lnTo>
                      <a:pt x="36" y="21"/>
                    </a:lnTo>
                    <a:lnTo>
                      <a:pt x="39" y="30"/>
                    </a:lnTo>
                    <a:lnTo>
                      <a:pt x="44" y="54"/>
                    </a:lnTo>
                    <a:lnTo>
                      <a:pt x="51" y="90"/>
                    </a:lnTo>
                    <a:lnTo>
                      <a:pt x="60" y="133"/>
                    </a:lnTo>
                    <a:lnTo>
                      <a:pt x="69" y="183"/>
                    </a:lnTo>
                    <a:lnTo>
                      <a:pt x="77" y="236"/>
                    </a:lnTo>
                    <a:lnTo>
                      <a:pt x="83" y="289"/>
                    </a:lnTo>
                    <a:lnTo>
                      <a:pt x="84" y="336"/>
                    </a:lnTo>
                    <a:lnTo>
                      <a:pt x="83" y="337"/>
                    </a:lnTo>
                    <a:lnTo>
                      <a:pt x="79" y="339"/>
                    </a:lnTo>
                    <a:lnTo>
                      <a:pt x="74" y="336"/>
                    </a:lnTo>
                    <a:lnTo>
                      <a:pt x="69" y="328"/>
                    </a:lnTo>
                    <a:lnTo>
                      <a:pt x="68" y="316"/>
                    </a:lnTo>
                    <a:lnTo>
                      <a:pt x="63" y="285"/>
                    </a:lnTo>
                    <a:lnTo>
                      <a:pt x="56" y="240"/>
                    </a:lnTo>
                    <a:lnTo>
                      <a:pt x="48" y="186"/>
                    </a:lnTo>
                    <a:lnTo>
                      <a:pt x="38" y="129"/>
                    </a:lnTo>
                    <a:lnTo>
                      <a:pt x="26" y="75"/>
                    </a:ln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28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Freeform 173"/>
              <p:cNvSpPr/>
              <p:nvPr/>
            </p:nvSpPr>
            <p:spPr>
              <a:xfrm>
                <a:off x="3625920" y="73800"/>
                <a:ext cx="88560" cy="181800"/>
              </a:xfrm>
              <a:custGeom>
                <a:avLst/>
                <a:gdLst/>
                <a:ahLst/>
                <a:rect l="l" t="t" r="r" b="b"/>
                <a:pathLst>
                  <a:path w="127" h="450">
                    <a:moveTo>
                      <a:pt x="22" y="0"/>
                    </a:moveTo>
                    <a:lnTo>
                      <a:pt x="25" y="6"/>
                    </a:lnTo>
                    <a:lnTo>
                      <a:pt x="34" y="26"/>
                    </a:lnTo>
                    <a:lnTo>
                      <a:pt x="48" y="59"/>
                    </a:lnTo>
                    <a:lnTo>
                      <a:pt x="66" y="106"/>
                    </a:lnTo>
                    <a:lnTo>
                      <a:pt x="83" y="170"/>
                    </a:lnTo>
                    <a:lnTo>
                      <a:pt x="100" y="247"/>
                    </a:lnTo>
                    <a:lnTo>
                      <a:pt x="116" y="341"/>
                    </a:lnTo>
                    <a:lnTo>
                      <a:pt x="127" y="450"/>
                    </a:lnTo>
                    <a:lnTo>
                      <a:pt x="124" y="449"/>
                    </a:lnTo>
                    <a:lnTo>
                      <a:pt x="116" y="446"/>
                    </a:lnTo>
                    <a:lnTo>
                      <a:pt x="107" y="440"/>
                    </a:lnTo>
                    <a:lnTo>
                      <a:pt x="101" y="429"/>
                    </a:lnTo>
                    <a:lnTo>
                      <a:pt x="100" y="417"/>
                    </a:lnTo>
                    <a:lnTo>
                      <a:pt x="97" y="384"/>
                    </a:lnTo>
                    <a:lnTo>
                      <a:pt x="92" y="335"/>
                    </a:lnTo>
                    <a:lnTo>
                      <a:pt x="84" y="275"/>
                    </a:lnTo>
                    <a:lnTo>
                      <a:pt x="72" y="208"/>
                    </a:lnTo>
                    <a:lnTo>
                      <a:pt x="53" y="139"/>
                    </a:lnTo>
                    <a:lnTo>
                      <a:pt x="30" y="72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5" y="5"/>
                    </a:lnTo>
                    <a:lnTo>
                      <a:pt x="13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Freeform 174"/>
              <p:cNvSpPr/>
              <p:nvPr/>
            </p:nvSpPr>
            <p:spPr>
              <a:xfrm>
                <a:off x="3272040" y="149400"/>
                <a:ext cx="245880" cy="38520"/>
              </a:xfrm>
              <a:custGeom>
                <a:avLst/>
                <a:gdLst/>
                <a:ahLst/>
                <a:rect l="l" t="t" r="r" b="b"/>
                <a:pathLst>
                  <a:path w="356" h="110">
                    <a:moveTo>
                      <a:pt x="4" y="73"/>
                    </a:moveTo>
                    <a:lnTo>
                      <a:pt x="5" y="72"/>
                    </a:lnTo>
                    <a:lnTo>
                      <a:pt x="8" y="68"/>
                    </a:lnTo>
                    <a:lnTo>
                      <a:pt x="14" y="62"/>
                    </a:lnTo>
                    <a:lnTo>
                      <a:pt x="22" y="54"/>
                    </a:lnTo>
                    <a:lnTo>
                      <a:pt x="32" y="46"/>
                    </a:lnTo>
                    <a:lnTo>
                      <a:pt x="44" y="35"/>
                    </a:lnTo>
                    <a:lnTo>
                      <a:pt x="61" y="26"/>
                    </a:lnTo>
                    <a:lnTo>
                      <a:pt x="80" y="18"/>
                    </a:lnTo>
                    <a:lnTo>
                      <a:pt x="101" y="10"/>
                    </a:lnTo>
                    <a:lnTo>
                      <a:pt x="126" y="5"/>
                    </a:lnTo>
                    <a:lnTo>
                      <a:pt x="155" y="1"/>
                    </a:lnTo>
                    <a:lnTo>
                      <a:pt x="188" y="0"/>
                    </a:lnTo>
                    <a:lnTo>
                      <a:pt x="223" y="1"/>
                    </a:lnTo>
                    <a:lnTo>
                      <a:pt x="262" y="8"/>
                    </a:lnTo>
                    <a:lnTo>
                      <a:pt x="306" y="18"/>
                    </a:lnTo>
                    <a:lnTo>
                      <a:pt x="354" y="33"/>
                    </a:lnTo>
                    <a:lnTo>
                      <a:pt x="354" y="34"/>
                    </a:lnTo>
                    <a:lnTo>
                      <a:pt x="356" y="37"/>
                    </a:lnTo>
                    <a:lnTo>
                      <a:pt x="356" y="39"/>
                    </a:lnTo>
                    <a:lnTo>
                      <a:pt x="356" y="43"/>
                    </a:lnTo>
                    <a:lnTo>
                      <a:pt x="352" y="47"/>
                    </a:lnTo>
                    <a:lnTo>
                      <a:pt x="346" y="50"/>
                    </a:lnTo>
                    <a:lnTo>
                      <a:pt x="335" y="52"/>
                    </a:lnTo>
                    <a:lnTo>
                      <a:pt x="322" y="52"/>
                    </a:lnTo>
                    <a:lnTo>
                      <a:pt x="312" y="52"/>
                    </a:lnTo>
                    <a:lnTo>
                      <a:pt x="300" y="51"/>
                    </a:lnTo>
                    <a:lnTo>
                      <a:pt x="286" y="51"/>
                    </a:lnTo>
                    <a:lnTo>
                      <a:pt x="270" y="52"/>
                    </a:lnTo>
                    <a:lnTo>
                      <a:pt x="252" y="52"/>
                    </a:lnTo>
                    <a:lnTo>
                      <a:pt x="235" y="54"/>
                    </a:lnTo>
                    <a:lnTo>
                      <a:pt x="216" y="55"/>
                    </a:lnTo>
                    <a:lnTo>
                      <a:pt x="196" y="58"/>
                    </a:lnTo>
                    <a:lnTo>
                      <a:pt x="175" y="60"/>
                    </a:lnTo>
                    <a:lnTo>
                      <a:pt x="155" y="64"/>
                    </a:lnTo>
                    <a:lnTo>
                      <a:pt x="136" y="68"/>
                    </a:lnTo>
                    <a:lnTo>
                      <a:pt x="118" y="75"/>
                    </a:lnTo>
                    <a:lnTo>
                      <a:pt x="100" y="81"/>
                    </a:lnTo>
                    <a:lnTo>
                      <a:pt x="83" y="88"/>
                    </a:lnTo>
                    <a:lnTo>
                      <a:pt x="68" y="97"/>
                    </a:lnTo>
                    <a:lnTo>
                      <a:pt x="55" y="108"/>
                    </a:lnTo>
                    <a:lnTo>
                      <a:pt x="52" y="109"/>
                    </a:lnTo>
                    <a:lnTo>
                      <a:pt x="43" y="110"/>
                    </a:lnTo>
                    <a:lnTo>
                      <a:pt x="33" y="110"/>
                    </a:lnTo>
                    <a:lnTo>
                      <a:pt x="21" y="110"/>
                    </a:lnTo>
                    <a:lnTo>
                      <a:pt x="10" y="108"/>
                    </a:lnTo>
                    <a:lnTo>
                      <a:pt x="3" y="101"/>
                    </a:lnTo>
                    <a:lnTo>
                      <a:pt x="0" y="90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Freeform 175"/>
              <p:cNvSpPr/>
              <p:nvPr/>
            </p:nvSpPr>
            <p:spPr>
              <a:xfrm>
                <a:off x="3306960" y="150480"/>
                <a:ext cx="161280" cy="28080"/>
              </a:xfrm>
              <a:custGeom>
                <a:avLst/>
                <a:gdLst/>
                <a:ahLst/>
                <a:rect l="l" t="t" r="r" b="b"/>
                <a:pathLst>
                  <a:path w="234" h="86">
                    <a:moveTo>
                      <a:pt x="4" y="57"/>
                    </a:moveTo>
                    <a:lnTo>
                      <a:pt x="6" y="56"/>
                    </a:lnTo>
                    <a:lnTo>
                      <a:pt x="7" y="53"/>
                    </a:lnTo>
                    <a:lnTo>
                      <a:pt x="11" y="48"/>
                    </a:lnTo>
                    <a:lnTo>
                      <a:pt x="16" y="42"/>
                    </a:lnTo>
                    <a:lnTo>
                      <a:pt x="22" y="36"/>
                    </a:lnTo>
                    <a:lnTo>
                      <a:pt x="31" y="28"/>
                    </a:lnTo>
                    <a:lnTo>
                      <a:pt x="41" y="21"/>
                    </a:lnTo>
                    <a:lnTo>
                      <a:pt x="53" y="15"/>
                    </a:lnTo>
                    <a:lnTo>
                      <a:pt x="67" y="9"/>
                    </a:lnTo>
                    <a:lnTo>
                      <a:pt x="84" y="4"/>
                    </a:lnTo>
                    <a:lnTo>
                      <a:pt x="103" y="2"/>
                    </a:lnTo>
                    <a:lnTo>
                      <a:pt x="124" y="0"/>
                    </a:lnTo>
                    <a:lnTo>
                      <a:pt x="147" y="2"/>
                    </a:lnTo>
                    <a:lnTo>
                      <a:pt x="173" y="6"/>
                    </a:lnTo>
                    <a:lnTo>
                      <a:pt x="201" y="13"/>
                    </a:lnTo>
                    <a:lnTo>
                      <a:pt x="232" y="24"/>
                    </a:lnTo>
                    <a:lnTo>
                      <a:pt x="234" y="27"/>
                    </a:lnTo>
                    <a:lnTo>
                      <a:pt x="234" y="32"/>
                    </a:lnTo>
                    <a:lnTo>
                      <a:pt x="227" y="38"/>
                    </a:lnTo>
                    <a:lnTo>
                      <a:pt x="211" y="40"/>
                    </a:lnTo>
                    <a:lnTo>
                      <a:pt x="197" y="38"/>
                    </a:lnTo>
                    <a:lnTo>
                      <a:pt x="177" y="40"/>
                    </a:lnTo>
                    <a:lnTo>
                      <a:pt x="154" y="41"/>
                    </a:lnTo>
                    <a:lnTo>
                      <a:pt x="129" y="44"/>
                    </a:lnTo>
                    <a:lnTo>
                      <a:pt x="103" y="49"/>
                    </a:lnTo>
                    <a:lnTo>
                      <a:pt x="77" y="57"/>
                    </a:lnTo>
                    <a:lnTo>
                      <a:pt x="55" y="69"/>
                    </a:lnTo>
                    <a:lnTo>
                      <a:pt x="37" y="83"/>
                    </a:lnTo>
                    <a:lnTo>
                      <a:pt x="34" y="83"/>
                    </a:lnTo>
                    <a:lnTo>
                      <a:pt x="29" y="85"/>
                    </a:lnTo>
                    <a:lnTo>
                      <a:pt x="22" y="86"/>
                    </a:lnTo>
                    <a:lnTo>
                      <a:pt x="14" y="85"/>
                    </a:lnTo>
                    <a:lnTo>
                      <a:pt x="8" y="83"/>
                    </a:lnTo>
                    <a:lnTo>
                      <a:pt x="3" y="78"/>
                    </a:lnTo>
                    <a:lnTo>
                      <a:pt x="0" y="69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176"/>
              <p:cNvSpPr/>
              <p:nvPr/>
            </p:nvSpPr>
            <p:spPr>
              <a:xfrm>
                <a:off x="3352680" y="158760"/>
                <a:ext cx="74160" cy="1152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2" y="24"/>
                    </a:moveTo>
                    <a:lnTo>
                      <a:pt x="3" y="23"/>
                    </a:lnTo>
                    <a:lnTo>
                      <a:pt x="7" y="17"/>
                    </a:lnTo>
                    <a:lnTo>
                      <a:pt x="14" y="12"/>
                    </a:lnTo>
                    <a:lnTo>
                      <a:pt x="25" y="6"/>
                    </a:lnTo>
                    <a:lnTo>
                      <a:pt x="39" y="2"/>
                    </a:lnTo>
                    <a:lnTo>
                      <a:pt x="58" y="0"/>
                    </a:lnTo>
                    <a:lnTo>
                      <a:pt x="81" y="3"/>
                    </a:lnTo>
                    <a:lnTo>
                      <a:pt x="109" y="11"/>
                    </a:lnTo>
                    <a:lnTo>
                      <a:pt x="109" y="12"/>
                    </a:lnTo>
                    <a:lnTo>
                      <a:pt x="109" y="14"/>
                    </a:lnTo>
                    <a:lnTo>
                      <a:pt x="106" y="16"/>
                    </a:lnTo>
                    <a:lnTo>
                      <a:pt x="99" y="17"/>
                    </a:lnTo>
                    <a:lnTo>
                      <a:pt x="92" y="17"/>
                    </a:lnTo>
                    <a:lnTo>
                      <a:pt x="82" y="17"/>
                    </a:lnTo>
                    <a:lnTo>
                      <a:pt x="72" y="17"/>
                    </a:lnTo>
                    <a:lnTo>
                      <a:pt x="59" y="19"/>
                    </a:lnTo>
                    <a:lnTo>
                      <a:pt x="48" y="21"/>
                    </a:lnTo>
                    <a:lnTo>
                      <a:pt x="36" y="24"/>
                    </a:lnTo>
                    <a:lnTo>
                      <a:pt x="25" y="29"/>
                    </a:lnTo>
                    <a:lnTo>
                      <a:pt x="17" y="36"/>
                    </a:lnTo>
                    <a:lnTo>
                      <a:pt x="13" y="36"/>
                    </a:lnTo>
                    <a:lnTo>
                      <a:pt x="7" y="36"/>
                    </a:lnTo>
                    <a:lnTo>
                      <a:pt x="0" y="33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ffc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177"/>
              <p:cNvSpPr/>
              <p:nvPr/>
            </p:nvSpPr>
            <p:spPr>
              <a:xfrm>
                <a:off x="3520440" y="824040"/>
                <a:ext cx="76320" cy="86040"/>
              </a:xfrm>
              <a:custGeom>
                <a:avLst/>
                <a:gdLst/>
                <a:ahLst/>
                <a:rect l="l" t="t" r="r" b="b"/>
                <a:pathLst>
                  <a:path w="111" h="217">
                    <a:moveTo>
                      <a:pt x="25" y="22"/>
                    </a:moveTo>
                    <a:lnTo>
                      <a:pt x="20" y="46"/>
                    </a:lnTo>
                    <a:lnTo>
                      <a:pt x="9" y="99"/>
                    </a:lnTo>
                    <a:lnTo>
                      <a:pt x="0" y="157"/>
                    </a:lnTo>
                    <a:lnTo>
                      <a:pt x="0" y="195"/>
                    </a:lnTo>
                    <a:lnTo>
                      <a:pt x="5" y="203"/>
                    </a:lnTo>
                    <a:lnTo>
                      <a:pt x="13" y="209"/>
                    </a:lnTo>
                    <a:lnTo>
                      <a:pt x="22" y="213"/>
                    </a:lnTo>
                    <a:lnTo>
                      <a:pt x="32" y="216"/>
                    </a:lnTo>
                    <a:lnTo>
                      <a:pt x="43" y="217"/>
                    </a:lnTo>
                    <a:lnTo>
                      <a:pt x="53" y="217"/>
                    </a:lnTo>
                    <a:lnTo>
                      <a:pt x="62" y="217"/>
                    </a:lnTo>
                    <a:lnTo>
                      <a:pt x="71" y="217"/>
                    </a:lnTo>
                    <a:lnTo>
                      <a:pt x="86" y="211"/>
                    </a:lnTo>
                    <a:lnTo>
                      <a:pt x="97" y="194"/>
                    </a:lnTo>
                    <a:lnTo>
                      <a:pt x="103" y="174"/>
                    </a:lnTo>
                    <a:lnTo>
                      <a:pt x="107" y="155"/>
                    </a:lnTo>
                    <a:lnTo>
                      <a:pt x="107" y="132"/>
                    </a:lnTo>
                    <a:lnTo>
                      <a:pt x="110" y="99"/>
                    </a:lnTo>
                    <a:lnTo>
                      <a:pt x="111" y="70"/>
                    </a:lnTo>
                    <a:lnTo>
                      <a:pt x="111" y="58"/>
                    </a:lnTo>
                    <a:lnTo>
                      <a:pt x="110" y="54"/>
                    </a:lnTo>
                    <a:lnTo>
                      <a:pt x="106" y="44"/>
                    </a:lnTo>
                    <a:lnTo>
                      <a:pt x="100" y="29"/>
                    </a:lnTo>
                    <a:lnTo>
                      <a:pt x="91" y="15"/>
                    </a:lnTo>
                    <a:lnTo>
                      <a:pt x="79" y="4"/>
                    </a:lnTo>
                    <a:lnTo>
                      <a:pt x="64" y="0"/>
                    </a:lnTo>
                    <a:lnTo>
                      <a:pt x="47" y="5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178"/>
              <p:cNvSpPr/>
              <p:nvPr/>
            </p:nvSpPr>
            <p:spPr>
              <a:xfrm>
                <a:off x="3804120" y="851040"/>
                <a:ext cx="68040" cy="77760"/>
              </a:xfrm>
              <a:custGeom>
                <a:avLst/>
                <a:gdLst/>
                <a:ahLst/>
                <a:rect l="l" t="t" r="r" b="b"/>
                <a:pathLst>
                  <a:path w="99" h="198">
                    <a:moveTo>
                      <a:pt x="26" y="21"/>
                    </a:moveTo>
                    <a:lnTo>
                      <a:pt x="20" y="30"/>
                    </a:lnTo>
                    <a:lnTo>
                      <a:pt x="14" y="45"/>
                    </a:lnTo>
                    <a:lnTo>
                      <a:pt x="7" y="65"/>
                    </a:lnTo>
                    <a:lnTo>
                      <a:pt x="2" y="88"/>
                    </a:lnTo>
                    <a:lnTo>
                      <a:pt x="0" y="112"/>
                    </a:lnTo>
                    <a:lnTo>
                      <a:pt x="0" y="136"/>
                    </a:lnTo>
                    <a:lnTo>
                      <a:pt x="4" y="158"/>
                    </a:lnTo>
                    <a:lnTo>
                      <a:pt x="12" y="177"/>
                    </a:lnTo>
                    <a:lnTo>
                      <a:pt x="24" y="190"/>
                    </a:lnTo>
                    <a:lnTo>
                      <a:pt x="36" y="196"/>
                    </a:lnTo>
                    <a:lnTo>
                      <a:pt x="49" y="198"/>
                    </a:lnTo>
                    <a:lnTo>
                      <a:pt x="62" y="195"/>
                    </a:lnTo>
                    <a:lnTo>
                      <a:pt x="74" y="190"/>
                    </a:lnTo>
                    <a:lnTo>
                      <a:pt x="83" y="183"/>
                    </a:lnTo>
                    <a:lnTo>
                      <a:pt x="91" y="175"/>
                    </a:lnTo>
                    <a:lnTo>
                      <a:pt x="96" y="169"/>
                    </a:lnTo>
                    <a:lnTo>
                      <a:pt x="99" y="138"/>
                    </a:lnTo>
                    <a:lnTo>
                      <a:pt x="98" y="90"/>
                    </a:lnTo>
                    <a:lnTo>
                      <a:pt x="94" y="40"/>
                    </a:lnTo>
                    <a:lnTo>
                      <a:pt x="85" y="12"/>
                    </a:lnTo>
                    <a:lnTo>
                      <a:pt x="80" y="7"/>
                    </a:lnTo>
                    <a:lnTo>
                      <a:pt x="75" y="4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57" y="2"/>
                    </a:lnTo>
                    <a:lnTo>
                      <a:pt x="48" y="5"/>
                    </a:lnTo>
                    <a:lnTo>
                      <a:pt x="38" y="12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Freeform 179"/>
              <p:cNvSpPr/>
              <p:nvPr/>
            </p:nvSpPr>
            <p:spPr>
              <a:xfrm>
                <a:off x="4011120" y="421920"/>
                <a:ext cx="68040" cy="51840"/>
              </a:xfrm>
              <a:custGeom>
                <a:avLst/>
                <a:gdLst/>
                <a:ahLst/>
                <a:rect l="l" t="t" r="r" b="b"/>
                <a:pathLst>
                  <a:path w="100" h="132">
                    <a:moveTo>
                      <a:pt x="71" y="6"/>
                    </a:moveTo>
                    <a:lnTo>
                      <a:pt x="69" y="4"/>
                    </a:lnTo>
                    <a:lnTo>
                      <a:pt x="63" y="3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4" y="2"/>
                    </a:lnTo>
                    <a:lnTo>
                      <a:pt x="24" y="4"/>
                    </a:lnTo>
                    <a:lnTo>
                      <a:pt x="15" y="11"/>
                    </a:lnTo>
                    <a:lnTo>
                      <a:pt x="10" y="23"/>
                    </a:lnTo>
                    <a:lnTo>
                      <a:pt x="3" y="48"/>
                    </a:lnTo>
                    <a:lnTo>
                      <a:pt x="0" y="69"/>
                    </a:lnTo>
                    <a:lnTo>
                      <a:pt x="0" y="87"/>
                    </a:lnTo>
                    <a:lnTo>
                      <a:pt x="1" y="100"/>
                    </a:lnTo>
                    <a:lnTo>
                      <a:pt x="3" y="107"/>
                    </a:lnTo>
                    <a:lnTo>
                      <a:pt x="8" y="112"/>
                    </a:lnTo>
                    <a:lnTo>
                      <a:pt x="15" y="119"/>
                    </a:lnTo>
                    <a:lnTo>
                      <a:pt x="22" y="124"/>
                    </a:lnTo>
                    <a:lnTo>
                      <a:pt x="31" y="129"/>
                    </a:lnTo>
                    <a:lnTo>
                      <a:pt x="39" y="132"/>
                    </a:lnTo>
                    <a:lnTo>
                      <a:pt x="48" y="132"/>
                    </a:lnTo>
                    <a:lnTo>
                      <a:pt x="54" y="131"/>
                    </a:lnTo>
                    <a:lnTo>
                      <a:pt x="60" y="127"/>
                    </a:lnTo>
                    <a:lnTo>
                      <a:pt x="68" y="122"/>
                    </a:lnTo>
                    <a:lnTo>
                      <a:pt x="75" y="114"/>
                    </a:lnTo>
                    <a:lnTo>
                      <a:pt x="82" y="106"/>
                    </a:lnTo>
                    <a:lnTo>
                      <a:pt x="88" y="98"/>
                    </a:lnTo>
                    <a:lnTo>
                      <a:pt x="93" y="89"/>
                    </a:lnTo>
                    <a:lnTo>
                      <a:pt x="97" y="79"/>
                    </a:lnTo>
                    <a:lnTo>
                      <a:pt x="98" y="72"/>
                    </a:lnTo>
                    <a:lnTo>
                      <a:pt x="100" y="53"/>
                    </a:lnTo>
                    <a:lnTo>
                      <a:pt x="99" y="32"/>
                    </a:lnTo>
                    <a:lnTo>
                      <a:pt x="90" y="15"/>
                    </a:lnTo>
                    <a:lnTo>
                      <a:pt x="71" y="6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Freeform 180"/>
              <p:cNvSpPr/>
              <p:nvPr/>
            </p:nvSpPr>
            <p:spPr>
              <a:xfrm>
                <a:off x="4065120" y="202680"/>
                <a:ext cx="117720" cy="42480"/>
              </a:xfrm>
              <a:custGeom>
                <a:avLst/>
                <a:gdLst/>
                <a:ahLst/>
                <a:rect l="l" t="t" r="r" b="b"/>
                <a:pathLst>
                  <a:path w="172" h="107">
                    <a:moveTo>
                      <a:pt x="0" y="0"/>
                    </a:moveTo>
                    <a:lnTo>
                      <a:pt x="5" y="2"/>
                    </a:lnTo>
                    <a:lnTo>
                      <a:pt x="19" y="8"/>
                    </a:lnTo>
                    <a:lnTo>
                      <a:pt x="39" y="17"/>
                    </a:lnTo>
                    <a:lnTo>
                      <a:pt x="65" y="29"/>
                    </a:lnTo>
                    <a:lnTo>
                      <a:pt x="93" y="45"/>
                    </a:lnTo>
                    <a:lnTo>
                      <a:pt x="122" y="63"/>
                    </a:lnTo>
                    <a:lnTo>
                      <a:pt x="148" y="83"/>
                    </a:lnTo>
                    <a:lnTo>
                      <a:pt x="172" y="107"/>
                    </a:lnTo>
                    <a:lnTo>
                      <a:pt x="171" y="104"/>
                    </a:lnTo>
                    <a:lnTo>
                      <a:pt x="165" y="95"/>
                    </a:lnTo>
                    <a:lnTo>
                      <a:pt x="153" y="82"/>
                    </a:lnTo>
                    <a:lnTo>
                      <a:pt x="137" y="66"/>
                    </a:lnTo>
                    <a:lnTo>
                      <a:pt x="114" y="49"/>
                    </a:lnTo>
                    <a:lnTo>
                      <a:pt x="84" y="32"/>
                    </a:lnTo>
                    <a:lnTo>
                      <a:pt x="4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0" name="TextBox 323"/>
            <p:cNvSpPr/>
            <p:nvPr/>
          </p:nvSpPr>
          <p:spPr>
            <a:xfrm>
              <a:off x="3038400" y="20952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研究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1" name="组合 321"/>
          <p:cNvGrpSpPr/>
          <p:nvPr/>
        </p:nvGrpSpPr>
        <p:grpSpPr>
          <a:xfrm>
            <a:off x="3348000" y="1060560"/>
            <a:ext cx="1596600" cy="1027080"/>
            <a:chOff x="3348000" y="1060560"/>
            <a:chExt cx="1596600" cy="1027080"/>
          </a:xfrm>
        </p:grpSpPr>
        <p:grpSp>
          <p:nvGrpSpPr>
            <p:cNvPr id="372" name="Group 152"/>
            <p:cNvGrpSpPr/>
            <p:nvPr/>
          </p:nvGrpSpPr>
          <p:grpSpPr>
            <a:xfrm>
              <a:off x="3348000" y="1060560"/>
              <a:ext cx="1596600" cy="1027080"/>
              <a:chOff x="3348000" y="1060560"/>
              <a:chExt cx="1596600" cy="1027080"/>
            </a:xfrm>
          </p:grpSpPr>
          <p:sp>
            <p:nvSpPr>
              <p:cNvPr id="373" name="AutoShape 151"/>
              <p:cNvSpPr/>
              <p:nvPr/>
            </p:nvSpPr>
            <p:spPr>
              <a:xfrm>
                <a:off x="3348000" y="1060560"/>
                <a:ext cx="1596600" cy="10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Freeform 153"/>
              <p:cNvSpPr/>
              <p:nvPr/>
            </p:nvSpPr>
            <p:spPr>
              <a:xfrm>
                <a:off x="4254840" y="2081520"/>
                <a:ext cx="10080" cy="10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4"/>
                    </a:moveTo>
                    <a:lnTo>
                      <a:pt x="18" y="4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Freeform 154"/>
              <p:cNvSpPr/>
              <p:nvPr/>
            </p:nvSpPr>
            <p:spPr>
              <a:xfrm>
                <a:off x="3428640" y="1060560"/>
                <a:ext cx="1495080" cy="1025640"/>
              </a:xfrm>
              <a:custGeom>
                <a:avLst/>
                <a:gdLst/>
                <a:ahLst/>
                <a:rect l="l" t="t" r="r" b="b"/>
                <a:pathLst>
                  <a:path w="2166" h="2610">
                    <a:moveTo>
                      <a:pt x="1719" y="348"/>
                    </a:moveTo>
                    <a:lnTo>
                      <a:pt x="1679" y="335"/>
                    </a:lnTo>
                    <a:lnTo>
                      <a:pt x="1643" y="323"/>
                    </a:lnTo>
                    <a:lnTo>
                      <a:pt x="1609" y="313"/>
                    </a:lnTo>
                    <a:lnTo>
                      <a:pt x="1576" y="306"/>
                    </a:lnTo>
                    <a:lnTo>
                      <a:pt x="1545" y="300"/>
                    </a:lnTo>
                    <a:lnTo>
                      <a:pt x="1514" y="296"/>
                    </a:lnTo>
                    <a:lnTo>
                      <a:pt x="1487" y="294"/>
                    </a:lnTo>
                    <a:lnTo>
                      <a:pt x="1460" y="292"/>
                    </a:lnTo>
                    <a:lnTo>
                      <a:pt x="1434" y="292"/>
                    </a:lnTo>
                    <a:lnTo>
                      <a:pt x="1409" y="292"/>
                    </a:lnTo>
                    <a:lnTo>
                      <a:pt x="1385" y="295"/>
                    </a:lnTo>
                    <a:lnTo>
                      <a:pt x="1362" y="298"/>
                    </a:lnTo>
                    <a:lnTo>
                      <a:pt x="1338" y="300"/>
                    </a:lnTo>
                    <a:lnTo>
                      <a:pt x="1317" y="304"/>
                    </a:lnTo>
                    <a:lnTo>
                      <a:pt x="1294" y="308"/>
                    </a:lnTo>
                    <a:lnTo>
                      <a:pt x="1273" y="312"/>
                    </a:lnTo>
                    <a:lnTo>
                      <a:pt x="1271" y="312"/>
                    </a:lnTo>
                    <a:lnTo>
                      <a:pt x="1269" y="312"/>
                    </a:lnTo>
                    <a:lnTo>
                      <a:pt x="1265" y="313"/>
                    </a:lnTo>
                    <a:lnTo>
                      <a:pt x="1260" y="313"/>
                    </a:lnTo>
                    <a:lnTo>
                      <a:pt x="1254" y="277"/>
                    </a:lnTo>
                    <a:lnTo>
                      <a:pt x="1246" y="237"/>
                    </a:lnTo>
                    <a:lnTo>
                      <a:pt x="1239" y="194"/>
                    </a:lnTo>
                    <a:lnTo>
                      <a:pt x="1232" y="153"/>
                    </a:lnTo>
                    <a:lnTo>
                      <a:pt x="1225" y="116"/>
                    </a:lnTo>
                    <a:lnTo>
                      <a:pt x="1220" y="87"/>
                    </a:lnTo>
                    <a:lnTo>
                      <a:pt x="1216" y="67"/>
                    </a:lnTo>
                    <a:lnTo>
                      <a:pt x="1215" y="59"/>
                    </a:lnTo>
                    <a:lnTo>
                      <a:pt x="1162" y="40"/>
                    </a:lnTo>
                    <a:lnTo>
                      <a:pt x="1106" y="9"/>
                    </a:lnTo>
                    <a:lnTo>
                      <a:pt x="1095" y="7"/>
                    </a:lnTo>
                    <a:lnTo>
                      <a:pt x="1090" y="5"/>
                    </a:lnTo>
                    <a:lnTo>
                      <a:pt x="1085" y="4"/>
                    </a:lnTo>
                    <a:lnTo>
                      <a:pt x="1080" y="3"/>
                    </a:lnTo>
                    <a:lnTo>
                      <a:pt x="1075" y="1"/>
                    </a:lnTo>
                    <a:lnTo>
                      <a:pt x="1068" y="1"/>
                    </a:lnTo>
                    <a:lnTo>
                      <a:pt x="1063" y="0"/>
                    </a:lnTo>
                    <a:lnTo>
                      <a:pt x="1058" y="0"/>
                    </a:lnTo>
                    <a:lnTo>
                      <a:pt x="1053" y="0"/>
                    </a:lnTo>
                    <a:lnTo>
                      <a:pt x="1048" y="0"/>
                    </a:lnTo>
                    <a:lnTo>
                      <a:pt x="1043" y="0"/>
                    </a:lnTo>
                    <a:lnTo>
                      <a:pt x="1038" y="1"/>
                    </a:lnTo>
                    <a:lnTo>
                      <a:pt x="1034" y="1"/>
                    </a:lnTo>
                    <a:lnTo>
                      <a:pt x="1029" y="3"/>
                    </a:lnTo>
                    <a:lnTo>
                      <a:pt x="1024" y="4"/>
                    </a:lnTo>
                    <a:lnTo>
                      <a:pt x="1019" y="5"/>
                    </a:lnTo>
                    <a:lnTo>
                      <a:pt x="1014" y="7"/>
                    </a:lnTo>
                    <a:lnTo>
                      <a:pt x="994" y="14"/>
                    </a:lnTo>
                    <a:lnTo>
                      <a:pt x="974" y="26"/>
                    </a:lnTo>
                    <a:lnTo>
                      <a:pt x="955" y="42"/>
                    </a:lnTo>
                    <a:lnTo>
                      <a:pt x="939" y="61"/>
                    </a:lnTo>
                    <a:lnTo>
                      <a:pt x="924" y="82"/>
                    </a:lnTo>
                    <a:lnTo>
                      <a:pt x="911" y="107"/>
                    </a:lnTo>
                    <a:lnTo>
                      <a:pt x="900" y="133"/>
                    </a:lnTo>
                    <a:lnTo>
                      <a:pt x="891" y="163"/>
                    </a:lnTo>
                    <a:lnTo>
                      <a:pt x="877" y="228"/>
                    </a:lnTo>
                    <a:lnTo>
                      <a:pt x="878" y="230"/>
                    </a:lnTo>
                    <a:lnTo>
                      <a:pt x="883" y="236"/>
                    </a:lnTo>
                    <a:lnTo>
                      <a:pt x="888" y="244"/>
                    </a:lnTo>
                    <a:lnTo>
                      <a:pt x="896" y="253"/>
                    </a:lnTo>
                    <a:lnTo>
                      <a:pt x="872" y="248"/>
                    </a:lnTo>
                    <a:lnTo>
                      <a:pt x="848" y="242"/>
                    </a:lnTo>
                    <a:lnTo>
                      <a:pt x="823" y="237"/>
                    </a:lnTo>
                    <a:lnTo>
                      <a:pt x="796" y="233"/>
                    </a:lnTo>
                    <a:lnTo>
                      <a:pt x="770" y="230"/>
                    </a:lnTo>
                    <a:lnTo>
                      <a:pt x="743" y="229"/>
                    </a:lnTo>
                    <a:lnTo>
                      <a:pt x="716" y="228"/>
                    </a:lnTo>
                    <a:lnTo>
                      <a:pt x="688" y="228"/>
                    </a:lnTo>
                    <a:lnTo>
                      <a:pt x="660" y="229"/>
                    </a:lnTo>
                    <a:lnTo>
                      <a:pt x="633" y="230"/>
                    </a:lnTo>
                    <a:lnTo>
                      <a:pt x="604" y="234"/>
                    </a:lnTo>
                    <a:lnTo>
                      <a:pt x="575" y="240"/>
                    </a:lnTo>
                    <a:lnTo>
                      <a:pt x="547" y="245"/>
                    </a:lnTo>
                    <a:lnTo>
                      <a:pt x="518" y="253"/>
                    </a:lnTo>
                    <a:lnTo>
                      <a:pt x="489" y="262"/>
                    </a:lnTo>
                    <a:lnTo>
                      <a:pt x="461" y="271"/>
                    </a:lnTo>
                    <a:lnTo>
                      <a:pt x="432" y="283"/>
                    </a:lnTo>
                    <a:lnTo>
                      <a:pt x="405" y="298"/>
                    </a:lnTo>
                    <a:lnTo>
                      <a:pt x="377" y="312"/>
                    </a:lnTo>
                    <a:lnTo>
                      <a:pt x="350" y="329"/>
                    </a:lnTo>
                    <a:lnTo>
                      <a:pt x="324" y="349"/>
                    </a:lnTo>
                    <a:lnTo>
                      <a:pt x="297" y="369"/>
                    </a:lnTo>
                    <a:lnTo>
                      <a:pt x="271" y="391"/>
                    </a:lnTo>
                    <a:lnTo>
                      <a:pt x="246" y="416"/>
                    </a:lnTo>
                    <a:lnTo>
                      <a:pt x="222" y="443"/>
                    </a:lnTo>
                    <a:lnTo>
                      <a:pt x="198" y="471"/>
                    </a:lnTo>
                    <a:lnTo>
                      <a:pt x="175" y="503"/>
                    </a:lnTo>
                    <a:lnTo>
                      <a:pt x="154" y="536"/>
                    </a:lnTo>
                    <a:lnTo>
                      <a:pt x="134" y="572"/>
                    </a:lnTo>
                    <a:lnTo>
                      <a:pt x="114" y="610"/>
                    </a:lnTo>
                    <a:lnTo>
                      <a:pt x="95" y="649"/>
                    </a:lnTo>
                    <a:lnTo>
                      <a:pt x="77" y="693"/>
                    </a:lnTo>
                    <a:lnTo>
                      <a:pt x="73" y="701"/>
                    </a:lnTo>
                    <a:lnTo>
                      <a:pt x="67" y="718"/>
                    </a:lnTo>
                    <a:lnTo>
                      <a:pt x="58" y="744"/>
                    </a:lnTo>
                    <a:lnTo>
                      <a:pt x="48" y="778"/>
                    </a:lnTo>
                    <a:lnTo>
                      <a:pt x="37" y="822"/>
                    </a:lnTo>
                    <a:lnTo>
                      <a:pt x="25" y="872"/>
                    </a:lnTo>
                    <a:lnTo>
                      <a:pt x="15" y="931"/>
                    </a:lnTo>
                    <a:lnTo>
                      <a:pt x="6" y="996"/>
                    </a:lnTo>
                    <a:lnTo>
                      <a:pt x="1" y="1068"/>
                    </a:lnTo>
                    <a:lnTo>
                      <a:pt x="0" y="1146"/>
                    </a:lnTo>
                    <a:lnTo>
                      <a:pt x="3" y="1230"/>
                    </a:lnTo>
                    <a:lnTo>
                      <a:pt x="10" y="1320"/>
                    </a:lnTo>
                    <a:lnTo>
                      <a:pt x="25" y="1413"/>
                    </a:lnTo>
                    <a:lnTo>
                      <a:pt x="47" y="1512"/>
                    </a:lnTo>
                    <a:lnTo>
                      <a:pt x="77" y="1615"/>
                    </a:lnTo>
                    <a:lnTo>
                      <a:pt x="116" y="1721"/>
                    </a:lnTo>
                    <a:lnTo>
                      <a:pt x="149" y="1798"/>
                    </a:lnTo>
                    <a:lnTo>
                      <a:pt x="183" y="1873"/>
                    </a:lnTo>
                    <a:lnTo>
                      <a:pt x="219" y="1944"/>
                    </a:lnTo>
                    <a:lnTo>
                      <a:pt x="258" y="2014"/>
                    </a:lnTo>
                    <a:lnTo>
                      <a:pt x="296" y="2081"/>
                    </a:lnTo>
                    <a:lnTo>
                      <a:pt x="335" y="2144"/>
                    </a:lnTo>
                    <a:lnTo>
                      <a:pt x="373" y="2203"/>
                    </a:lnTo>
                    <a:lnTo>
                      <a:pt x="410" y="2259"/>
                    </a:lnTo>
                    <a:lnTo>
                      <a:pt x="445" y="2310"/>
                    </a:lnTo>
                    <a:lnTo>
                      <a:pt x="478" y="2355"/>
                    </a:lnTo>
                    <a:lnTo>
                      <a:pt x="507" y="2396"/>
                    </a:lnTo>
                    <a:lnTo>
                      <a:pt x="533" y="2430"/>
                    </a:lnTo>
                    <a:lnTo>
                      <a:pt x="554" y="2458"/>
                    </a:lnTo>
                    <a:lnTo>
                      <a:pt x="572" y="2479"/>
                    </a:lnTo>
                    <a:lnTo>
                      <a:pt x="583" y="2493"/>
                    </a:lnTo>
                    <a:lnTo>
                      <a:pt x="588" y="2500"/>
                    </a:lnTo>
                    <a:lnTo>
                      <a:pt x="594" y="2505"/>
                    </a:lnTo>
                    <a:lnTo>
                      <a:pt x="600" y="2510"/>
                    </a:lnTo>
                    <a:lnTo>
                      <a:pt x="616" y="2523"/>
                    </a:lnTo>
                    <a:lnTo>
                      <a:pt x="635" y="2537"/>
                    </a:lnTo>
                    <a:lnTo>
                      <a:pt x="657" y="2550"/>
                    </a:lnTo>
                    <a:lnTo>
                      <a:pt x="679" y="2563"/>
                    </a:lnTo>
                    <a:lnTo>
                      <a:pt x="704" y="2575"/>
                    </a:lnTo>
                    <a:lnTo>
                      <a:pt x="731" y="2585"/>
                    </a:lnTo>
                    <a:lnTo>
                      <a:pt x="760" y="2593"/>
                    </a:lnTo>
                    <a:lnTo>
                      <a:pt x="789" y="2600"/>
                    </a:lnTo>
                    <a:lnTo>
                      <a:pt x="806" y="2602"/>
                    </a:lnTo>
                    <a:lnTo>
                      <a:pt x="825" y="2605"/>
                    </a:lnTo>
                    <a:lnTo>
                      <a:pt x="843" y="2605"/>
                    </a:lnTo>
                    <a:lnTo>
                      <a:pt x="862" y="2605"/>
                    </a:lnTo>
                    <a:lnTo>
                      <a:pt x="881" y="2602"/>
                    </a:lnTo>
                    <a:lnTo>
                      <a:pt x="900" y="2600"/>
                    </a:lnTo>
                    <a:lnTo>
                      <a:pt x="919" y="2595"/>
                    </a:lnTo>
                    <a:lnTo>
                      <a:pt x="937" y="2588"/>
                    </a:lnTo>
                    <a:lnTo>
                      <a:pt x="954" y="2580"/>
                    </a:lnTo>
                    <a:lnTo>
                      <a:pt x="912" y="2589"/>
                    </a:lnTo>
                    <a:lnTo>
                      <a:pt x="999" y="2570"/>
                    </a:lnTo>
                    <a:lnTo>
                      <a:pt x="1008" y="2567"/>
                    </a:lnTo>
                    <a:lnTo>
                      <a:pt x="1017" y="2564"/>
                    </a:lnTo>
                    <a:lnTo>
                      <a:pt x="1024" y="2562"/>
                    </a:lnTo>
                    <a:lnTo>
                      <a:pt x="1033" y="2560"/>
                    </a:lnTo>
                    <a:lnTo>
                      <a:pt x="1042" y="2559"/>
                    </a:lnTo>
                    <a:lnTo>
                      <a:pt x="1051" y="2558"/>
                    </a:lnTo>
                    <a:lnTo>
                      <a:pt x="1061" y="2558"/>
                    </a:lnTo>
                    <a:lnTo>
                      <a:pt x="1070" y="2559"/>
                    </a:lnTo>
                    <a:lnTo>
                      <a:pt x="1075" y="2560"/>
                    </a:lnTo>
                    <a:lnTo>
                      <a:pt x="1087" y="2564"/>
                    </a:lnTo>
                    <a:lnTo>
                      <a:pt x="1100" y="2568"/>
                    </a:lnTo>
                    <a:lnTo>
                      <a:pt x="1105" y="2570"/>
                    </a:lnTo>
                    <a:lnTo>
                      <a:pt x="1096" y="2563"/>
                    </a:lnTo>
                    <a:lnTo>
                      <a:pt x="1106" y="2570"/>
                    </a:lnTo>
                    <a:lnTo>
                      <a:pt x="1119" y="2576"/>
                    </a:lnTo>
                    <a:lnTo>
                      <a:pt x="1131" y="2581"/>
                    </a:lnTo>
                    <a:lnTo>
                      <a:pt x="1145" y="2587"/>
                    </a:lnTo>
                    <a:lnTo>
                      <a:pt x="1160" y="2591"/>
                    </a:lnTo>
                    <a:lnTo>
                      <a:pt x="1176" y="2595"/>
                    </a:lnTo>
                    <a:lnTo>
                      <a:pt x="1193" y="2597"/>
                    </a:lnTo>
                    <a:lnTo>
                      <a:pt x="1211" y="2600"/>
                    </a:lnTo>
                    <a:lnTo>
                      <a:pt x="1231" y="2604"/>
                    </a:lnTo>
                    <a:lnTo>
                      <a:pt x="1250" y="2608"/>
                    </a:lnTo>
                    <a:lnTo>
                      <a:pt x="1268" y="2609"/>
                    </a:lnTo>
                    <a:lnTo>
                      <a:pt x="1286" y="2610"/>
                    </a:lnTo>
                    <a:lnTo>
                      <a:pt x="1303" y="2610"/>
                    </a:lnTo>
                    <a:lnTo>
                      <a:pt x="1319" y="2610"/>
                    </a:lnTo>
                    <a:lnTo>
                      <a:pt x="1336" y="2609"/>
                    </a:lnTo>
                    <a:lnTo>
                      <a:pt x="1351" y="2608"/>
                    </a:lnTo>
                    <a:lnTo>
                      <a:pt x="1372" y="2604"/>
                    </a:lnTo>
                    <a:lnTo>
                      <a:pt x="1391" y="2600"/>
                    </a:lnTo>
                    <a:lnTo>
                      <a:pt x="1409" y="2596"/>
                    </a:lnTo>
                    <a:lnTo>
                      <a:pt x="1422" y="2591"/>
                    </a:lnTo>
                    <a:lnTo>
                      <a:pt x="1435" y="2585"/>
                    </a:lnTo>
                    <a:lnTo>
                      <a:pt x="1445" y="2581"/>
                    </a:lnTo>
                    <a:lnTo>
                      <a:pt x="1453" y="2579"/>
                    </a:lnTo>
                    <a:lnTo>
                      <a:pt x="1456" y="2576"/>
                    </a:lnTo>
                    <a:lnTo>
                      <a:pt x="1519" y="2530"/>
                    </a:lnTo>
                    <a:lnTo>
                      <a:pt x="1581" y="2476"/>
                    </a:lnTo>
                    <a:lnTo>
                      <a:pt x="1642" y="2415"/>
                    </a:lnTo>
                    <a:lnTo>
                      <a:pt x="1701" y="2350"/>
                    </a:lnTo>
                    <a:lnTo>
                      <a:pt x="1759" y="2278"/>
                    </a:lnTo>
                    <a:lnTo>
                      <a:pt x="1813" y="2203"/>
                    </a:lnTo>
                    <a:lnTo>
                      <a:pt x="1866" y="2124"/>
                    </a:lnTo>
                    <a:lnTo>
                      <a:pt x="1915" y="2040"/>
                    </a:lnTo>
                    <a:lnTo>
                      <a:pt x="1962" y="1954"/>
                    </a:lnTo>
                    <a:lnTo>
                      <a:pt x="2005" y="1868"/>
                    </a:lnTo>
                    <a:lnTo>
                      <a:pt x="2042" y="1778"/>
                    </a:lnTo>
                    <a:lnTo>
                      <a:pt x="2076" y="1688"/>
                    </a:lnTo>
                    <a:lnTo>
                      <a:pt x="2105" y="1598"/>
                    </a:lnTo>
                    <a:lnTo>
                      <a:pt x="2128" y="1508"/>
                    </a:lnTo>
                    <a:lnTo>
                      <a:pt x="2147" y="1418"/>
                    </a:lnTo>
                    <a:lnTo>
                      <a:pt x="2158" y="1332"/>
                    </a:lnTo>
                    <a:lnTo>
                      <a:pt x="2163" y="1262"/>
                    </a:lnTo>
                    <a:lnTo>
                      <a:pt x="2166" y="1189"/>
                    </a:lnTo>
                    <a:lnTo>
                      <a:pt x="2165" y="1117"/>
                    </a:lnTo>
                    <a:lnTo>
                      <a:pt x="2159" y="1043"/>
                    </a:lnTo>
                    <a:lnTo>
                      <a:pt x="2151" y="969"/>
                    </a:lnTo>
                    <a:lnTo>
                      <a:pt x="2138" y="897"/>
                    </a:lnTo>
                    <a:lnTo>
                      <a:pt x="2120" y="826"/>
                    </a:lnTo>
                    <a:lnTo>
                      <a:pt x="2098" y="756"/>
                    </a:lnTo>
                    <a:lnTo>
                      <a:pt x="2070" y="689"/>
                    </a:lnTo>
                    <a:lnTo>
                      <a:pt x="2037" y="626"/>
                    </a:lnTo>
                    <a:lnTo>
                      <a:pt x="1999" y="566"/>
                    </a:lnTo>
                    <a:lnTo>
                      <a:pt x="1955" y="511"/>
                    </a:lnTo>
                    <a:lnTo>
                      <a:pt x="1906" y="461"/>
                    </a:lnTo>
                    <a:lnTo>
                      <a:pt x="1850" y="416"/>
                    </a:lnTo>
                    <a:lnTo>
                      <a:pt x="1788" y="379"/>
                    </a:lnTo>
                    <a:lnTo>
                      <a:pt x="1719" y="3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Freeform 155"/>
              <p:cNvSpPr/>
              <p:nvPr/>
            </p:nvSpPr>
            <p:spPr>
              <a:xfrm>
                <a:off x="3505320" y="1199520"/>
                <a:ext cx="1348200" cy="853560"/>
              </a:xfrm>
              <a:custGeom>
                <a:avLst/>
                <a:gdLst/>
                <a:ahLst/>
                <a:rect l="l" t="t" r="r" b="b"/>
                <a:pathLst>
                  <a:path w="1953" h="2172">
                    <a:moveTo>
                      <a:pt x="102" y="1337"/>
                    </a:moveTo>
                    <a:lnTo>
                      <a:pt x="67" y="1237"/>
                    </a:lnTo>
                    <a:lnTo>
                      <a:pt x="41" y="1141"/>
                    </a:lnTo>
                    <a:lnTo>
                      <a:pt x="20" y="1049"/>
                    </a:lnTo>
                    <a:lnTo>
                      <a:pt x="8" y="962"/>
                    </a:lnTo>
                    <a:lnTo>
                      <a:pt x="2" y="879"/>
                    </a:lnTo>
                    <a:lnTo>
                      <a:pt x="0" y="801"/>
                    </a:lnTo>
                    <a:lnTo>
                      <a:pt x="2" y="730"/>
                    </a:lnTo>
                    <a:lnTo>
                      <a:pt x="8" y="663"/>
                    </a:lnTo>
                    <a:lnTo>
                      <a:pt x="15" y="603"/>
                    </a:lnTo>
                    <a:lnTo>
                      <a:pt x="25" y="551"/>
                    </a:lnTo>
                    <a:lnTo>
                      <a:pt x="37" y="505"/>
                    </a:lnTo>
                    <a:lnTo>
                      <a:pt x="47" y="467"/>
                    </a:lnTo>
                    <a:lnTo>
                      <a:pt x="57" y="436"/>
                    </a:lnTo>
                    <a:lnTo>
                      <a:pt x="65" y="414"/>
                    </a:lnTo>
                    <a:lnTo>
                      <a:pt x="70" y="401"/>
                    </a:lnTo>
                    <a:lnTo>
                      <a:pt x="72" y="395"/>
                    </a:lnTo>
                    <a:lnTo>
                      <a:pt x="120" y="293"/>
                    </a:lnTo>
                    <a:lnTo>
                      <a:pt x="174" y="210"/>
                    </a:lnTo>
                    <a:lnTo>
                      <a:pt x="233" y="143"/>
                    </a:lnTo>
                    <a:lnTo>
                      <a:pt x="295" y="90"/>
                    </a:lnTo>
                    <a:lnTo>
                      <a:pt x="359" y="52"/>
                    </a:lnTo>
                    <a:lnTo>
                      <a:pt x="426" y="25"/>
                    </a:lnTo>
                    <a:lnTo>
                      <a:pt x="492" y="10"/>
                    </a:lnTo>
                    <a:lnTo>
                      <a:pt x="556" y="2"/>
                    </a:lnTo>
                    <a:lnTo>
                      <a:pt x="616" y="0"/>
                    </a:lnTo>
                    <a:lnTo>
                      <a:pt x="674" y="6"/>
                    </a:lnTo>
                    <a:lnTo>
                      <a:pt x="726" y="13"/>
                    </a:lnTo>
                    <a:lnTo>
                      <a:pt x="771" y="24"/>
                    </a:lnTo>
                    <a:lnTo>
                      <a:pt x="808" y="36"/>
                    </a:lnTo>
                    <a:lnTo>
                      <a:pt x="837" y="45"/>
                    </a:lnTo>
                    <a:lnTo>
                      <a:pt x="854" y="53"/>
                    </a:lnTo>
                    <a:lnTo>
                      <a:pt x="861" y="56"/>
                    </a:lnTo>
                    <a:lnTo>
                      <a:pt x="881" y="60"/>
                    </a:lnTo>
                    <a:lnTo>
                      <a:pt x="901" y="62"/>
                    </a:lnTo>
                    <a:lnTo>
                      <a:pt x="920" y="66"/>
                    </a:lnTo>
                    <a:lnTo>
                      <a:pt x="938" y="70"/>
                    </a:lnTo>
                    <a:lnTo>
                      <a:pt x="956" y="74"/>
                    </a:lnTo>
                    <a:lnTo>
                      <a:pt x="974" y="78"/>
                    </a:lnTo>
                    <a:lnTo>
                      <a:pt x="990" y="81"/>
                    </a:lnTo>
                    <a:lnTo>
                      <a:pt x="1008" y="83"/>
                    </a:lnTo>
                    <a:lnTo>
                      <a:pt x="1026" y="86"/>
                    </a:lnTo>
                    <a:lnTo>
                      <a:pt x="1042" y="89"/>
                    </a:lnTo>
                    <a:lnTo>
                      <a:pt x="1060" y="90"/>
                    </a:lnTo>
                    <a:lnTo>
                      <a:pt x="1079" y="91"/>
                    </a:lnTo>
                    <a:lnTo>
                      <a:pt x="1098" y="91"/>
                    </a:lnTo>
                    <a:lnTo>
                      <a:pt x="1116" y="90"/>
                    </a:lnTo>
                    <a:lnTo>
                      <a:pt x="1137" y="87"/>
                    </a:lnTo>
                    <a:lnTo>
                      <a:pt x="1158" y="85"/>
                    </a:lnTo>
                    <a:lnTo>
                      <a:pt x="1179" y="81"/>
                    </a:lnTo>
                    <a:lnTo>
                      <a:pt x="1201" y="77"/>
                    </a:lnTo>
                    <a:lnTo>
                      <a:pt x="1222" y="73"/>
                    </a:lnTo>
                    <a:lnTo>
                      <a:pt x="1242" y="69"/>
                    </a:lnTo>
                    <a:lnTo>
                      <a:pt x="1265" y="66"/>
                    </a:lnTo>
                    <a:lnTo>
                      <a:pt x="1287" y="64"/>
                    </a:lnTo>
                    <a:lnTo>
                      <a:pt x="1309" y="62"/>
                    </a:lnTo>
                    <a:lnTo>
                      <a:pt x="1333" y="61"/>
                    </a:lnTo>
                    <a:lnTo>
                      <a:pt x="1357" y="62"/>
                    </a:lnTo>
                    <a:lnTo>
                      <a:pt x="1384" y="64"/>
                    </a:lnTo>
                    <a:lnTo>
                      <a:pt x="1410" y="67"/>
                    </a:lnTo>
                    <a:lnTo>
                      <a:pt x="1438" y="71"/>
                    </a:lnTo>
                    <a:lnTo>
                      <a:pt x="1468" y="78"/>
                    </a:lnTo>
                    <a:lnTo>
                      <a:pt x="1501" y="86"/>
                    </a:lnTo>
                    <a:lnTo>
                      <a:pt x="1533" y="96"/>
                    </a:lnTo>
                    <a:lnTo>
                      <a:pt x="1570" y="110"/>
                    </a:lnTo>
                    <a:lnTo>
                      <a:pt x="1630" y="137"/>
                    </a:lnTo>
                    <a:lnTo>
                      <a:pt x="1686" y="170"/>
                    </a:lnTo>
                    <a:lnTo>
                      <a:pt x="1734" y="210"/>
                    </a:lnTo>
                    <a:lnTo>
                      <a:pt x="1777" y="254"/>
                    </a:lnTo>
                    <a:lnTo>
                      <a:pt x="1814" y="305"/>
                    </a:lnTo>
                    <a:lnTo>
                      <a:pt x="1847" y="359"/>
                    </a:lnTo>
                    <a:lnTo>
                      <a:pt x="1875" y="415"/>
                    </a:lnTo>
                    <a:lnTo>
                      <a:pt x="1898" y="474"/>
                    </a:lnTo>
                    <a:lnTo>
                      <a:pt x="1915" y="536"/>
                    </a:lnTo>
                    <a:lnTo>
                      <a:pt x="1930" y="600"/>
                    </a:lnTo>
                    <a:lnTo>
                      <a:pt x="1940" y="663"/>
                    </a:lnTo>
                    <a:lnTo>
                      <a:pt x="1948" y="727"/>
                    </a:lnTo>
                    <a:lnTo>
                      <a:pt x="1952" y="792"/>
                    </a:lnTo>
                    <a:lnTo>
                      <a:pt x="1953" y="854"/>
                    </a:lnTo>
                    <a:lnTo>
                      <a:pt x="1950" y="914"/>
                    </a:lnTo>
                    <a:lnTo>
                      <a:pt x="1947" y="974"/>
                    </a:lnTo>
                    <a:lnTo>
                      <a:pt x="1937" y="1055"/>
                    </a:lnTo>
                    <a:lnTo>
                      <a:pt x="1920" y="1138"/>
                    </a:lnTo>
                    <a:lnTo>
                      <a:pt x="1899" y="1222"/>
                    </a:lnTo>
                    <a:lnTo>
                      <a:pt x="1872" y="1308"/>
                    </a:lnTo>
                    <a:lnTo>
                      <a:pt x="1841" y="1392"/>
                    </a:lnTo>
                    <a:lnTo>
                      <a:pt x="1806" y="1478"/>
                    </a:lnTo>
                    <a:lnTo>
                      <a:pt x="1767" y="1561"/>
                    </a:lnTo>
                    <a:lnTo>
                      <a:pt x="1724" y="1641"/>
                    </a:lnTo>
                    <a:lnTo>
                      <a:pt x="1677" y="1720"/>
                    </a:lnTo>
                    <a:lnTo>
                      <a:pt x="1629" y="1797"/>
                    </a:lnTo>
                    <a:lnTo>
                      <a:pt x="1578" y="1868"/>
                    </a:lnTo>
                    <a:lnTo>
                      <a:pt x="1525" y="1935"/>
                    </a:lnTo>
                    <a:lnTo>
                      <a:pt x="1470" y="1998"/>
                    </a:lnTo>
                    <a:lnTo>
                      <a:pt x="1414" y="2055"/>
                    </a:lnTo>
                    <a:lnTo>
                      <a:pt x="1357" y="2105"/>
                    </a:lnTo>
                    <a:lnTo>
                      <a:pt x="1299" y="2148"/>
                    </a:lnTo>
                    <a:lnTo>
                      <a:pt x="1298" y="2150"/>
                    </a:lnTo>
                    <a:lnTo>
                      <a:pt x="1294" y="2151"/>
                    </a:lnTo>
                    <a:lnTo>
                      <a:pt x="1289" y="2154"/>
                    </a:lnTo>
                    <a:lnTo>
                      <a:pt x="1280" y="2156"/>
                    </a:lnTo>
                    <a:lnTo>
                      <a:pt x="1270" y="2160"/>
                    </a:lnTo>
                    <a:lnTo>
                      <a:pt x="1259" y="2164"/>
                    </a:lnTo>
                    <a:lnTo>
                      <a:pt x="1245" y="2167"/>
                    </a:lnTo>
                    <a:lnTo>
                      <a:pt x="1230" y="2169"/>
                    </a:lnTo>
                    <a:lnTo>
                      <a:pt x="1216" y="2171"/>
                    </a:lnTo>
                    <a:lnTo>
                      <a:pt x="1201" y="2172"/>
                    </a:lnTo>
                    <a:lnTo>
                      <a:pt x="1186" y="2172"/>
                    </a:lnTo>
                    <a:lnTo>
                      <a:pt x="1169" y="2172"/>
                    </a:lnTo>
                    <a:lnTo>
                      <a:pt x="1152" y="2169"/>
                    </a:lnTo>
                    <a:lnTo>
                      <a:pt x="1134" y="2167"/>
                    </a:lnTo>
                    <a:lnTo>
                      <a:pt x="1115" y="2162"/>
                    </a:lnTo>
                    <a:lnTo>
                      <a:pt x="1095" y="2155"/>
                    </a:lnTo>
                    <a:lnTo>
                      <a:pt x="1057" y="2140"/>
                    </a:lnTo>
                    <a:lnTo>
                      <a:pt x="1028" y="2131"/>
                    </a:lnTo>
                    <a:lnTo>
                      <a:pt x="1008" y="2125"/>
                    </a:lnTo>
                    <a:lnTo>
                      <a:pt x="994" y="2121"/>
                    </a:lnTo>
                    <a:lnTo>
                      <a:pt x="984" y="2119"/>
                    </a:lnTo>
                    <a:lnTo>
                      <a:pt x="977" y="2118"/>
                    </a:lnTo>
                    <a:lnTo>
                      <a:pt x="970" y="2118"/>
                    </a:lnTo>
                    <a:lnTo>
                      <a:pt x="963" y="2117"/>
                    </a:lnTo>
                    <a:lnTo>
                      <a:pt x="936" y="2114"/>
                    </a:lnTo>
                    <a:lnTo>
                      <a:pt x="910" y="2114"/>
                    </a:lnTo>
                    <a:lnTo>
                      <a:pt x="885" y="2118"/>
                    </a:lnTo>
                    <a:lnTo>
                      <a:pt x="861" y="2125"/>
                    </a:lnTo>
                    <a:lnTo>
                      <a:pt x="838" y="2133"/>
                    </a:lnTo>
                    <a:lnTo>
                      <a:pt x="818" y="2139"/>
                    </a:lnTo>
                    <a:lnTo>
                      <a:pt x="802" y="2147"/>
                    </a:lnTo>
                    <a:lnTo>
                      <a:pt x="788" y="2152"/>
                    </a:lnTo>
                    <a:lnTo>
                      <a:pt x="766" y="2159"/>
                    </a:lnTo>
                    <a:lnTo>
                      <a:pt x="745" y="2162"/>
                    </a:lnTo>
                    <a:lnTo>
                      <a:pt x="725" y="2163"/>
                    </a:lnTo>
                    <a:lnTo>
                      <a:pt x="703" y="2162"/>
                    </a:lnTo>
                    <a:lnTo>
                      <a:pt x="683" y="2158"/>
                    </a:lnTo>
                    <a:lnTo>
                      <a:pt x="664" y="2152"/>
                    </a:lnTo>
                    <a:lnTo>
                      <a:pt x="645" y="2146"/>
                    </a:lnTo>
                    <a:lnTo>
                      <a:pt x="629" y="2138"/>
                    </a:lnTo>
                    <a:lnTo>
                      <a:pt x="613" y="2130"/>
                    </a:lnTo>
                    <a:lnTo>
                      <a:pt x="597" y="2122"/>
                    </a:lnTo>
                    <a:lnTo>
                      <a:pt x="585" y="2114"/>
                    </a:lnTo>
                    <a:lnTo>
                      <a:pt x="575" y="2108"/>
                    </a:lnTo>
                    <a:lnTo>
                      <a:pt x="566" y="2101"/>
                    </a:lnTo>
                    <a:lnTo>
                      <a:pt x="558" y="2096"/>
                    </a:lnTo>
                    <a:lnTo>
                      <a:pt x="555" y="2093"/>
                    </a:lnTo>
                    <a:lnTo>
                      <a:pt x="553" y="2092"/>
                    </a:lnTo>
                    <a:lnTo>
                      <a:pt x="550" y="2088"/>
                    </a:lnTo>
                    <a:lnTo>
                      <a:pt x="541" y="2076"/>
                    </a:lnTo>
                    <a:lnTo>
                      <a:pt x="526" y="2056"/>
                    </a:lnTo>
                    <a:lnTo>
                      <a:pt x="505" y="2030"/>
                    </a:lnTo>
                    <a:lnTo>
                      <a:pt x="480" y="1998"/>
                    </a:lnTo>
                    <a:lnTo>
                      <a:pt x="453" y="1959"/>
                    </a:lnTo>
                    <a:lnTo>
                      <a:pt x="421" y="1914"/>
                    </a:lnTo>
                    <a:lnTo>
                      <a:pt x="387" y="1865"/>
                    </a:lnTo>
                    <a:lnTo>
                      <a:pt x="352" y="1811"/>
                    </a:lnTo>
                    <a:lnTo>
                      <a:pt x="314" y="1752"/>
                    </a:lnTo>
                    <a:lnTo>
                      <a:pt x="276" y="1690"/>
                    </a:lnTo>
                    <a:lnTo>
                      <a:pt x="240" y="1624"/>
                    </a:lnTo>
                    <a:lnTo>
                      <a:pt x="202" y="1556"/>
                    </a:lnTo>
                    <a:lnTo>
                      <a:pt x="167" y="1485"/>
                    </a:lnTo>
                    <a:lnTo>
                      <a:pt x="134" y="1412"/>
                    </a:lnTo>
                    <a:lnTo>
                      <a:pt x="102" y="1337"/>
                    </a:lnTo>
                    <a:close/>
                  </a:path>
                </a:pathLst>
              </a:custGeom>
              <a:solidFill>
                <a:srgbClr val="ff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Freeform 156"/>
              <p:cNvSpPr/>
              <p:nvPr/>
            </p:nvSpPr>
            <p:spPr>
              <a:xfrm>
                <a:off x="3981240" y="1306800"/>
                <a:ext cx="795600" cy="693360"/>
              </a:xfrm>
              <a:custGeom>
                <a:avLst/>
                <a:gdLst/>
                <a:ahLst/>
                <a:rect l="l" t="t" r="r" b="b"/>
                <a:pathLst>
                  <a:path w="1154" h="1765">
                    <a:moveTo>
                      <a:pt x="949" y="59"/>
                    </a:moveTo>
                    <a:lnTo>
                      <a:pt x="944" y="55"/>
                    </a:lnTo>
                    <a:lnTo>
                      <a:pt x="930" y="46"/>
                    </a:lnTo>
                    <a:lnTo>
                      <a:pt x="910" y="34"/>
                    </a:lnTo>
                    <a:lnTo>
                      <a:pt x="883" y="21"/>
                    </a:lnTo>
                    <a:lnTo>
                      <a:pt x="853" y="9"/>
                    </a:lnTo>
                    <a:lnTo>
                      <a:pt x="820" y="1"/>
                    </a:lnTo>
                    <a:lnTo>
                      <a:pt x="788" y="0"/>
                    </a:lnTo>
                    <a:lnTo>
                      <a:pt x="755" y="8"/>
                    </a:lnTo>
                    <a:lnTo>
                      <a:pt x="727" y="20"/>
                    </a:lnTo>
                    <a:lnTo>
                      <a:pt x="706" y="29"/>
                    </a:lnTo>
                    <a:lnTo>
                      <a:pt x="688" y="38"/>
                    </a:lnTo>
                    <a:lnTo>
                      <a:pt x="673" y="46"/>
                    </a:lnTo>
                    <a:lnTo>
                      <a:pt x="658" y="55"/>
                    </a:lnTo>
                    <a:lnTo>
                      <a:pt x="641" y="66"/>
                    </a:lnTo>
                    <a:lnTo>
                      <a:pt x="622" y="79"/>
                    </a:lnTo>
                    <a:lnTo>
                      <a:pt x="597" y="97"/>
                    </a:lnTo>
                    <a:lnTo>
                      <a:pt x="571" y="113"/>
                    </a:lnTo>
                    <a:lnTo>
                      <a:pt x="547" y="120"/>
                    </a:lnTo>
                    <a:lnTo>
                      <a:pt x="524" y="120"/>
                    </a:lnTo>
                    <a:lnTo>
                      <a:pt x="502" y="118"/>
                    </a:lnTo>
                    <a:lnTo>
                      <a:pt x="479" y="117"/>
                    </a:lnTo>
                    <a:lnTo>
                      <a:pt x="456" y="118"/>
                    </a:lnTo>
                    <a:lnTo>
                      <a:pt x="432" y="128"/>
                    </a:lnTo>
                    <a:lnTo>
                      <a:pt x="406" y="146"/>
                    </a:lnTo>
                    <a:lnTo>
                      <a:pt x="378" y="170"/>
                    </a:lnTo>
                    <a:lnTo>
                      <a:pt x="350" y="196"/>
                    </a:lnTo>
                    <a:lnTo>
                      <a:pt x="324" y="226"/>
                    </a:lnTo>
                    <a:lnTo>
                      <a:pt x="301" y="263"/>
                    </a:lnTo>
                    <a:lnTo>
                      <a:pt x="281" y="309"/>
                    </a:lnTo>
                    <a:lnTo>
                      <a:pt x="266" y="365"/>
                    </a:lnTo>
                    <a:lnTo>
                      <a:pt x="257" y="433"/>
                    </a:lnTo>
                    <a:lnTo>
                      <a:pt x="256" y="518"/>
                    </a:lnTo>
                    <a:lnTo>
                      <a:pt x="255" y="581"/>
                    </a:lnTo>
                    <a:lnTo>
                      <a:pt x="248" y="664"/>
                    </a:lnTo>
                    <a:lnTo>
                      <a:pt x="237" y="761"/>
                    </a:lnTo>
                    <a:lnTo>
                      <a:pt x="219" y="864"/>
                    </a:lnTo>
                    <a:lnTo>
                      <a:pt x="195" y="965"/>
                    </a:lnTo>
                    <a:lnTo>
                      <a:pt x="166" y="1060"/>
                    </a:lnTo>
                    <a:lnTo>
                      <a:pt x="129" y="1140"/>
                    </a:lnTo>
                    <a:lnTo>
                      <a:pt x="85" y="1200"/>
                    </a:lnTo>
                    <a:lnTo>
                      <a:pt x="58" y="1241"/>
                    </a:lnTo>
                    <a:lnTo>
                      <a:pt x="35" y="1302"/>
                    </a:lnTo>
                    <a:lnTo>
                      <a:pt x="17" y="1380"/>
                    </a:lnTo>
                    <a:lnTo>
                      <a:pt x="5" y="1463"/>
                    </a:lnTo>
                    <a:lnTo>
                      <a:pt x="0" y="1547"/>
                    </a:lnTo>
                    <a:lnTo>
                      <a:pt x="4" y="1621"/>
                    </a:lnTo>
                    <a:lnTo>
                      <a:pt x="18" y="1680"/>
                    </a:lnTo>
                    <a:lnTo>
                      <a:pt x="43" y="1715"/>
                    </a:lnTo>
                    <a:lnTo>
                      <a:pt x="71" y="1732"/>
                    </a:lnTo>
                    <a:lnTo>
                      <a:pt x="92" y="1742"/>
                    </a:lnTo>
                    <a:lnTo>
                      <a:pt x="110" y="1746"/>
                    </a:lnTo>
                    <a:lnTo>
                      <a:pt x="126" y="1746"/>
                    </a:lnTo>
                    <a:lnTo>
                      <a:pt x="142" y="1744"/>
                    </a:lnTo>
                    <a:lnTo>
                      <a:pt x="161" y="1736"/>
                    </a:lnTo>
                    <a:lnTo>
                      <a:pt x="184" y="1727"/>
                    </a:lnTo>
                    <a:lnTo>
                      <a:pt x="213" y="1716"/>
                    </a:lnTo>
                    <a:lnTo>
                      <a:pt x="231" y="1711"/>
                    </a:lnTo>
                    <a:lnTo>
                      <a:pt x="248" y="1708"/>
                    </a:lnTo>
                    <a:lnTo>
                      <a:pt x="266" y="1705"/>
                    </a:lnTo>
                    <a:lnTo>
                      <a:pt x="284" y="1703"/>
                    </a:lnTo>
                    <a:lnTo>
                      <a:pt x="302" y="1703"/>
                    </a:lnTo>
                    <a:lnTo>
                      <a:pt x="320" y="1703"/>
                    </a:lnTo>
                    <a:lnTo>
                      <a:pt x="338" y="1704"/>
                    </a:lnTo>
                    <a:lnTo>
                      <a:pt x="355" y="1707"/>
                    </a:lnTo>
                    <a:lnTo>
                      <a:pt x="372" y="1709"/>
                    </a:lnTo>
                    <a:lnTo>
                      <a:pt x="388" y="1712"/>
                    </a:lnTo>
                    <a:lnTo>
                      <a:pt x="403" y="1716"/>
                    </a:lnTo>
                    <a:lnTo>
                      <a:pt x="417" y="1720"/>
                    </a:lnTo>
                    <a:lnTo>
                      <a:pt x="430" y="1725"/>
                    </a:lnTo>
                    <a:lnTo>
                      <a:pt x="442" y="1730"/>
                    </a:lnTo>
                    <a:lnTo>
                      <a:pt x="451" y="1736"/>
                    </a:lnTo>
                    <a:lnTo>
                      <a:pt x="460" y="1741"/>
                    </a:lnTo>
                    <a:lnTo>
                      <a:pt x="476" y="1752"/>
                    </a:lnTo>
                    <a:lnTo>
                      <a:pt x="495" y="1758"/>
                    </a:lnTo>
                    <a:lnTo>
                      <a:pt x="515" y="1762"/>
                    </a:lnTo>
                    <a:lnTo>
                      <a:pt x="537" y="1765"/>
                    </a:lnTo>
                    <a:lnTo>
                      <a:pt x="558" y="1763"/>
                    </a:lnTo>
                    <a:lnTo>
                      <a:pt x="578" y="1759"/>
                    </a:lnTo>
                    <a:lnTo>
                      <a:pt x="596" y="1753"/>
                    </a:lnTo>
                    <a:lnTo>
                      <a:pt x="610" y="1742"/>
                    </a:lnTo>
                    <a:lnTo>
                      <a:pt x="619" y="1733"/>
                    </a:lnTo>
                    <a:lnTo>
                      <a:pt x="631" y="1719"/>
                    </a:lnTo>
                    <a:lnTo>
                      <a:pt x="648" y="1698"/>
                    </a:lnTo>
                    <a:lnTo>
                      <a:pt x="667" y="1674"/>
                    </a:lnTo>
                    <a:lnTo>
                      <a:pt x="688" y="1645"/>
                    </a:lnTo>
                    <a:lnTo>
                      <a:pt x="712" y="1612"/>
                    </a:lnTo>
                    <a:lnTo>
                      <a:pt x="738" y="1579"/>
                    </a:lnTo>
                    <a:lnTo>
                      <a:pt x="765" y="1543"/>
                    </a:lnTo>
                    <a:lnTo>
                      <a:pt x="791" y="1507"/>
                    </a:lnTo>
                    <a:lnTo>
                      <a:pt x="818" y="1471"/>
                    </a:lnTo>
                    <a:lnTo>
                      <a:pt x="844" y="1435"/>
                    </a:lnTo>
                    <a:lnTo>
                      <a:pt x="869" y="1403"/>
                    </a:lnTo>
                    <a:lnTo>
                      <a:pt x="892" y="1371"/>
                    </a:lnTo>
                    <a:lnTo>
                      <a:pt x="913" y="1343"/>
                    </a:lnTo>
                    <a:lnTo>
                      <a:pt x="931" y="1320"/>
                    </a:lnTo>
                    <a:lnTo>
                      <a:pt x="946" y="1301"/>
                    </a:lnTo>
                    <a:lnTo>
                      <a:pt x="963" y="1277"/>
                    </a:lnTo>
                    <a:lnTo>
                      <a:pt x="984" y="1239"/>
                    </a:lnTo>
                    <a:lnTo>
                      <a:pt x="1009" y="1189"/>
                    </a:lnTo>
                    <a:lnTo>
                      <a:pt x="1037" y="1127"/>
                    </a:lnTo>
                    <a:lnTo>
                      <a:pt x="1065" y="1056"/>
                    </a:lnTo>
                    <a:lnTo>
                      <a:pt x="1091" y="977"/>
                    </a:lnTo>
                    <a:lnTo>
                      <a:pt x="1115" y="892"/>
                    </a:lnTo>
                    <a:lnTo>
                      <a:pt x="1134" y="801"/>
                    </a:lnTo>
                    <a:lnTo>
                      <a:pt x="1148" y="706"/>
                    </a:lnTo>
                    <a:lnTo>
                      <a:pt x="1154" y="608"/>
                    </a:lnTo>
                    <a:lnTo>
                      <a:pt x="1152" y="510"/>
                    </a:lnTo>
                    <a:lnTo>
                      <a:pt x="1138" y="412"/>
                    </a:lnTo>
                    <a:lnTo>
                      <a:pt x="1113" y="317"/>
                    </a:lnTo>
                    <a:lnTo>
                      <a:pt x="1073" y="226"/>
                    </a:lnTo>
                    <a:lnTo>
                      <a:pt x="1019" y="140"/>
                    </a:lnTo>
                    <a:lnTo>
                      <a:pt x="949" y="59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Freeform 157"/>
              <p:cNvSpPr/>
              <p:nvPr/>
            </p:nvSpPr>
            <p:spPr>
              <a:xfrm>
                <a:off x="3950280" y="1242000"/>
                <a:ext cx="355680" cy="83520"/>
              </a:xfrm>
              <a:custGeom>
                <a:avLst/>
                <a:gdLst/>
                <a:ahLst/>
                <a:rect l="l" t="t" r="r" b="b"/>
                <a:pathLst>
                  <a:path w="519" h="213">
                    <a:moveTo>
                      <a:pt x="301" y="75"/>
                    </a:moveTo>
                    <a:lnTo>
                      <a:pt x="296" y="72"/>
                    </a:lnTo>
                    <a:lnTo>
                      <a:pt x="282" y="66"/>
                    </a:lnTo>
                    <a:lnTo>
                      <a:pt x="262" y="57"/>
                    </a:lnTo>
                    <a:lnTo>
                      <a:pt x="235" y="45"/>
                    </a:lnTo>
                    <a:lnTo>
                      <a:pt x="206" y="33"/>
                    </a:lnTo>
                    <a:lnTo>
                      <a:pt x="175" y="21"/>
                    </a:lnTo>
                    <a:lnTo>
                      <a:pt x="143" y="10"/>
                    </a:lnTo>
                    <a:lnTo>
                      <a:pt x="113" y="4"/>
                    </a:lnTo>
                    <a:lnTo>
                      <a:pt x="87" y="0"/>
                    </a:lnTo>
                    <a:lnTo>
                      <a:pt x="64" y="1"/>
                    </a:lnTo>
                    <a:lnTo>
                      <a:pt x="44" y="4"/>
                    </a:lnTo>
                    <a:lnTo>
                      <a:pt x="29" y="9"/>
                    </a:lnTo>
                    <a:lnTo>
                      <a:pt x="16" y="16"/>
                    </a:lnTo>
                    <a:lnTo>
                      <a:pt x="7" y="21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179" y="188"/>
                    </a:lnTo>
                    <a:lnTo>
                      <a:pt x="184" y="190"/>
                    </a:lnTo>
                    <a:lnTo>
                      <a:pt x="199" y="194"/>
                    </a:lnTo>
                    <a:lnTo>
                      <a:pt x="220" y="199"/>
                    </a:lnTo>
                    <a:lnTo>
                      <a:pt x="247" y="204"/>
                    </a:lnTo>
                    <a:lnTo>
                      <a:pt x="276" y="209"/>
                    </a:lnTo>
                    <a:lnTo>
                      <a:pt x="306" y="213"/>
                    </a:lnTo>
                    <a:lnTo>
                      <a:pt x="335" y="213"/>
                    </a:lnTo>
                    <a:lnTo>
                      <a:pt x="361" y="209"/>
                    </a:lnTo>
                    <a:lnTo>
                      <a:pt x="387" y="203"/>
                    </a:lnTo>
                    <a:lnTo>
                      <a:pt x="412" y="194"/>
                    </a:lnTo>
                    <a:lnTo>
                      <a:pt x="437" y="186"/>
                    </a:lnTo>
                    <a:lnTo>
                      <a:pt x="460" y="178"/>
                    </a:lnTo>
                    <a:lnTo>
                      <a:pt x="480" y="170"/>
                    </a:lnTo>
                    <a:lnTo>
                      <a:pt x="496" y="163"/>
                    </a:lnTo>
                    <a:lnTo>
                      <a:pt x="506" y="159"/>
                    </a:lnTo>
                    <a:lnTo>
                      <a:pt x="510" y="158"/>
                    </a:lnTo>
                    <a:lnTo>
                      <a:pt x="511" y="158"/>
                    </a:lnTo>
                    <a:lnTo>
                      <a:pt x="515" y="157"/>
                    </a:lnTo>
                    <a:lnTo>
                      <a:pt x="518" y="154"/>
                    </a:lnTo>
                    <a:lnTo>
                      <a:pt x="519" y="151"/>
                    </a:lnTo>
                    <a:lnTo>
                      <a:pt x="518" y="147"/>
                    </a:lnTo>
                    <a:lnTo>
                      <a:pt x="510" y="141"/>
                    </a:lnTo>
                    <a:lnTo>
                      <a:pt x="496" y="134"/>
                    </a:lnTo>
                    <a:lnTo>
                      <a:pt x="473" y="126"/>
                    </a:lnTo>
                    <a:lnTo>
                      <a:pt x="448" y="116"/>
                    </a:lnTo>
                    <a:lnTo>
                      <a:pt x="428" y="105"/>
                    </a:lnTo>
                    <a:lnTo>
                      <a:pt x="410" y="95"/>
                    </a:lnTo>
                    <a:lnTo>
                      <a:pt x="394" y="86"/>
                    </a:lnTo>
                    <a:lnTo>
                      <a:pt x="376" y="78"/>
                    </a:lnTo>
                    <a:lnTo>
                      <a:pt x="356" y="74"/>
                    </a:lnTo>
                    <a:lnTo>
                      <a:pt x="331" y="72"/>
                    </a:lnTo>
                    <a:lnTo>
                      <a:pt x="301" y="75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Freeform 158"/>
              <p:cNvSpPr/>
              <p:nvPr/>
            </p:nvSpPr>
            <p:spPr>
              <a:xfrm>
                <a:off x="3559320" y="1284480"/>
                <a:ext cx="459720" cy="558720"/>
              </a:xfrm>
              <a:custGeom>
                <a:avLst/>
                <a:gdLst/>
                <a:ahLst/>
                <a:rect l="l" t="t" r="r" b="b"/>
                <a:pathLst>
                  <a:path w="666" h="1421">
                    <a:moveTo>
                      <a:pt x="368" y="19"/>
                    </a:moveTo>
                    <a:lnTo>
                      <a:pt x="364" y="21"/>
                    </a:lnTo>
                    <a:lnTo>
                      <a:pt x="356" y="27"/>
                    </a:lnTo>
                    <a:lnTo>
                      <a:pt x="341" y="37"/>
                    </a:lnTo>
                    <a:lnTo>
                      <a:pt x="320" y="50"/>
                    </a:lnTo>
                    <a:lnTo>
                      <a:pt x="298" y="69"/>
                    </a:lnTo>
                    <a:lnTo>
                      <a:pt x="271" y="91"/>
                    </a:lnTo>
                    <a:lnTo>
                      <a:pt x="242" y="116"/>
                    </a:lnTo>
                    <a:lnTo>
                      <a:pt x="212" y="146"/>
                    </a:lnTo>
                    <a:lnTo>
                      <a:pt x="182" y="179"/>
                    </a:lnTo>
                    <a:lnTo>
                      <a:pt x="150" y="218"/>
                    </a:lnTo>
                    <a:lnTo>
                      <a:pt x="120" y="258"/>
                    </a:lnTo>
                    <a:lnTo>
                      <a:pt x="92" y="303"/>
                    </a:lnTo>
                    <a:lnTo>
                      <a:pt x="67" y="352"/>
                    </a:lnTo>
                    <a:lnTo>
                      <a:pt x="44" y="403"/>
                    </a:lnTo>
                    <a:lnTo>
                      <a:pt x="26" y="460"/>
                    </a:lnTo>
                    <a:lnTo>
                      <a:pt x="12" y="519"/>
                    </a:lnTo>
                    <a:lnTo>
                      <a:pt x="4" y="577"/>
                    </a:lnTo>
                    <a:lnTo>
                      <a:pt x="0" y="635"/>
                    </a:lnTo>
                    <a:lnTo>
                      <a:pt x="0" y="692"/>
                    </a:lnTo>
                    <a:lnTo>
                      <a:pt x="4" y="748"/>
                    </a:lnTo>
                    <a:lnTo>
                      <a:pt x="12" y="802"/>
                    </a:lnTo>
                    <a:lnTo>
                      <a:pt x="22" y="855"/>
                    </a:lnTo>
                    <a:lnTo>
                      <a:pt x="33" y="905"/>
                    </a:lnTo>
                    <a:lnTo>
                      <a:pt x="47" y="952"/>
                    </a:lnTo>
                    <a:lnTo>
                      <a:pt x="62" y="997"/>
                    </a:lnTo>
                    <a:lnTo>
                      <a:pt x="79" y="1038"/>
                    </a:lnTo>
                    <a:lnTo>
                      <a:pt x="94" y="1076"/>
                    </a:lnTo>
                    <a:lnTo>
                      <a:pt x="110" y="1109"/>
                    </a:lnTo>
                    <a:lnTo>
                      <a:pt x="125" y="1138"/>
                    </a:lnTo>
                    <a:lnTo>
                      <a:pt x="138" y="1162"/>
                    </a:lnTo>
                    <a:lnTo>
                      <a:pt x="150" y="1180"/>
                    </a:lnTo>
                    <a:lnTo>
                      <a:pt x="160" y="1194"/>
                    </a:lnTo>
                    <a:lnTo>
                      <a:pt x="179" y="1216"/>
                    </a:lnTo>
                    <a:lnTo>
                      <a:pt x="199" y="1244"/>
                    </a:lnTo>
                    <a:lnTo>
                      <a:pt x="221" y="1273"/>
                    </a:lnTo>
                    <a:lnTo>
                      <a:pt x="241" y="1302"/>
                    </a:lnTo>
                    <a:lnTo>
                      <a:pt x="260" y="1329"/>
                    </a:lnTo>
                    <a:lnTo>
                      <a:pt x="274" y="1350"/>
                    </a:lnTo>
                    <a:lnTo>
                      <a:pt x="284" y="1366"/>
                    </a:lnTo>
                    <a:lnTo>
                      <a:pt x="288" y="1371"/>
                    </a:lnTo>
                    <a:lnTo>
                      <a:pt x="290" y="1374"/>
                    </a:lnTo>
                    <a:lnTo>
                      <a:pt x="296" y="1382"/>
                    </a:lnTo>
                    <a:lnTo>
                      <a:pt x="305" y="1392"/>
                    </a:lnTo>
                    <a:lnTo>
                      <a:pt x="318" y="1404"/>
                    </a:lnTo>
                    <a:lnTo>
                      <a:pt x="330" y="1413"/>
                    </a:lnTo>
                    <a:lnTo>
                      <a:pt x="343" y="1420"/>
                    </a:lnTo>
                    <a:lnTo>
                      <a:pt x="356" y="1421"/>
                    </a:lnTo>
                    <a:lnTo>
                      <a:pt x="366" y="1413"/>
                    </a:lnTo>
                    <a:lnTo>
                      <a:pt x="376" y="1402"/>
                    </a:lnTo>
                    <a:lnTo>
                      <a:pt x="388" y="1391"/>
                    </a:lnTo>
                    <a:lnTo>
                      <a:pt x="401" y="1379"/>
                    </a:lnTo>
                    <a:lnTo>
                      <a:pt x="412" y="1365"/>
                    </a:lnTo>
                    <a:lnTo>
                      <a:pt x="424" y="1346"/>
                    </a:lnTo>
                    <a:lnTo>
                      <a:pt x="433" y="1324"/>
                    </a:lnTo>
                    <a:lnTo>
                      <a:pt x="438" y="1295"/>
                    </a:lnTo>
                    <a:lnTo>
                      <a:pt x="439" y="1259"/>
                    </a:lnTo>
                    <a:lnTo>
                      <a:pt x="436" y="1163"/>
                    </a:lnTo>
                    <a:lnTo>
                      <a:pt x="431" y="1053"/>
                    </a:lnTo>
                    <a:lnTo>
                      <a:pt x="426" y="954"/>
                    </a:lnTo>
                    <a:lnTo>
                      <a:pt x="424" y="889"/>
                    </a:lnTo>
                    <a:lnTo>
                      <a:pt x="430" y="852"/>
                    </a:lnTo>
                    <a:lnTo>
                      <a:pt x="448" y="787"/>
                    </a:lnTo>
                    <a:lnTo>
                      <a:pt x="473" y="701"/>
                    </a:lnTo>
                    <a:lnTo>
                      <a:pt x="503" y="607"/>
                    </a:lnTo>
                    <a:lnTo>
                      <a:pt x="536" y="514"/>
                    </a:lnTo>
                    <a:lnTo>
                      <a:pt x="569" y="432"/>
                    </a:lnTo>
                    <a:lnTo>
                      <a:pt x="596" y="369"/>
                    </a:lnTo>
                    <a:lnTo>
                      <a:pt x="618" y="337"/>
                    </a:lnTo>
                    <a:lnTo>
                      <a:pt x="633" y="323"/>
                    </a:lnTo>
                    <a:lnTo>
                      <a:pt x="645" y="305"/>
                    </a:lnTo>
                    <a:lnTo>
                      <a:pt x="654" y="283"/>
                    </a:lnTo>
                    <a:lnTo>
                      <a:pt x="661" y="260"/>
                    </a:lnTo>
                    <a:lnTo>
                      <a:pt x="664" y="233"/>
                    </a:lnTo>
                    <a:lnTo>
                      <a:pt x="666" y="207"/>
                    </a:lnTo>
                    <a:lnTo>
                      <a:pt x="664" y="178"/>
                    </a:lnTo>
                    <a:lnTo>
                      <a:pt x="662" y="149"/>
                    </a:lnTo>
                    <a:lnTo>
                      <a:pt x="658" y="133"/>
                    </a:lnTo>
                    <a:lnTo>
                      <a:pt x="652" y="119"/>
                    </a:lnTo>
                    <a:lnTo>
                      <a:pt x="642" y="102"/>
                    </a:lnTo>
                    <a:lnTo>
                      <a:pt x="629" y="86"/>
                    </a:lnTo>
                    <a:lnTo>
                      <a:pt x="614" y="71"/>
                    </a:lnTo>
                    <a:lnTo>
                      <a:pt x="598" y="56"/>
                    </a:lnTo>
                    <a:lnTo>
                      <a:pt x="579" y="42"/>
                    </a:lnTo>
                    <a:lnTo>
                      <a:pt x="557" y="31"/>
                    </a:lnTo>
                    <a:lnTo>
                      <a:pt x="536" y="20"/>
                    </a:lnTo>
                    <a:lnTo>
                      <a:pt x="513" y="11"/>
                    </a:lnTo>
                    <a:lnTo>
                      <a:pt x="489" y="4"/>
                    </a:lnTo>
                    <a:lnTo>
                      <a:pt x="464" y="0"/>
                    </a:lnTo>
                    <a:lnTo>
                      <a:pt x="440" y="0"/>
                    </a:lnTo>
                    <a:lnTo>
                      <a:pt x="416" y="3"/>
                    </a:lnTo>
                    <a:lnTo>
                      <a:pt x="392" y="8"/>
                    </a:lnTo>
                    <a:lnTo>
                      <a:pt x="368" y="19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Freeform 159"/>
              <p:cNvSpPr/>
              <p:nvPr/>
            </p:nvSpPr>
            <p:spPr>
              <a:xfrm>
                <a:off x="3944160" y="2003760"/>
                <a:ext cx="407880" cy="36360"/>
              </a:xfrm>
              <a:custGeom>
                <a:avLst/>
                <a:gdLst/>
                <a:ahLst/>
                <a:rect l="l" t="t" r="r" b="b"/>
                <a:pathLst>
                  <a:path w="590" h="105">
                    <a:moveTo>
                      <a:pt x="81" y="104"/>
                    </a:moveTo>
                    <a:lnTo>
                      <a:pt x="71" y="101"/>
                    </a:lnTo>
                    <a:lnTo>
                      <a:pt x="59" y="99"/>
                    </a:lnTo>
                    <a:lnTo>
                      <a:pt x="49" y="93"/>
                    </a:lnTo>
                    <a:lnTo>
                      <a:pt x="39" y="88"/>
                    </a:lnTo>
                    <a:lnTo>
                      <a:pt x="29" y="80"/>
                    </a:lnTo>
                    <a:lnTo>
                      <a:pt x="19" y="71"/>
                    </a:lnTo>
                    <a:lnTo>
                      <a:pt x="9" y="59"/>
                    </a:lnTo>
                    <a:lnTo>
                      <a:pt x="0" y="46"/>
                    </a:lnTo>
                    <a:lnTo>
                      <a:pt x="5" y="47"/>
                    </a:lnTo>
                    <a:lnTo>
                      <a:pt x="20" y="50"/>
                    </a:lnTo>
                    <a:lnTo>
                      <a:pt x="42" y="53"/>
                    </a:lnTo>
                    <a:lnTo>
                      <a:pt x="68" y="55"/>
                    </a:lnTo>
                    <a:lnTo>
                      <a:pt x="98" y="55"/>
                    </a:lnTo>
                    <a:lnTo>
                      <a:pt x="130" y="53"/>
                    </a:lnTo>
                    <a:lnTo>
                      <a:pt x="159" y="45"/>
                    </a:lnTo>
                    <a:lnTo>
                      <a:pt x="185" y="32"/>
                    </a:lnTo>
                    <a:lnTo>
                      <a:pt x="198" y="24"/>
                    </a:lnTo>
                    <a:lnTo>
                      <a:pt x="213" y="17"/>
                    </a:lnTo>
                    <a:lnTo>
                      <a:pt x="230" y="12"/>
                    </a:lnTo>
                    <a:lnTo>
                      <a:pt x="247" y="7"/>
                    </a:lnTo>
                    <a:lnTo>
                      <a:pt x="266" y="4"/>
                    </a:lnTo>
                    <a:lnTo>
                      <a:pt x="286" y="1"/>
                    </a:lnTo>
                    <a:lnTo>
                      <a:pt x="306" y="0"/>
                    </a:lnTo>
                    <a:lnTo>
                      <a:pt x="327" y="0"/>
                    </a:lnTo>
                    <a:lnTo>
                      <a:pt x="348" y="1"/>
                    </a:lnTo>
                    <a:lnTo>
                      <a:pt x="368" y="4"/>
                    </a:lnTo>
                    <a:lnTo>
                      <a:pt x="390" y="8"/>
                    </a:lnTo>
                    <a:lnTo>
                      <a:pt x="410" y="12"/>
                    </a:lnTo>
                    <a:lnTo>
                      <a:pt x="429" y="17"/>
                    </a:lnTo>
                    <a:lnTo>
                      <a:pt x="446" y="25"/>
                    </a:lnTo>
                    <a:lnTo>
                      <a:pt x="464" y="33"/>
                    </a:lnTo>
                    <a:lnTo>
                      <a:pt x="479" y="42"/>
                    </a:lnTo>
                    <a:lnTo>
                      <a:pt x="505" y="58"/>
                    </a:lnTo>
                    <a:lnTo>
                      <a:pt x="528" y="66"/>
                    </a:lnTo>
                    <a:lnTo>
                      <a:pt x="547" y="70"/>
                    </a:lnTo>
                    <a:lnTo>
                      <a:pt x="562" y="68"/>
                    </a:lnTo>
                    <a:lnTo>
                      <a:pt x="573" y="66"/>
                    </a:lnTo>
                    <a:lnTo>
                      <a:pt x="582" y="62"/>
                    </a:lnTo>
                    <a:lnTo>
                      <a:pt x="587" y="58"/>
                    </a:lnTo>
                    <a:lnTo>
                      <a:pt x="589" y="57"/>
                    </a:lnTo>
                    <a:lnTo>
                      <a:pt x="589" y="59"/>
                    </a:lnTo>
                    <a:lnTo>
                      <a:pt x="590" y="66"/>
                    </a:lnTo>
                    <a:lnTo>
                      <a:pt x="587" y="75"/>
                    </a:lnTo>
                    <a:lnTo>
                      <a:pt x="580" y="84"/>
                    </a:lnTo>
                    <a:lnTo>
                      <a:pt x="565" y="91"/>
                    </a:lnTo>
                    <a:lnTo>
                      <a:pt x="541" y="93"/>
                    </a:lnTo>
                    <a:lnTo>
                      <a:pt x="504" y="90"/>
                    </a:lnTo>
                    <a:lnTo>
                      <a:pt x="454" y="78"/>
                    </a:lnTo>
                    <a:lnTo>
                      <a:pt x="451" y="76"/>
                    </a:lnTo>
                    <a:lnTo>
                      <a:pt x="446" y="75"/>
                    </a:lnTo>
                    <a:lnTo>
                      <a:pt x="436" y="72"/>
                    </a:lnTo>
                    <a:lnTo>
                      <a:pt x="425" y="68"/>
                    </a:lnTo>
                    <a:lnTo>
                      <a:pt x="410" y="66"/>
                    </a:lnTo>
                    <a:lnTo>
                      <a:pt x="392" y="62"/>
                    </a:lnTo>
                    <a:lnTo>
                      <a:pt x="373" y="58"/>
                    </a:lnTo>
                    <a:lnTo>
                      <a:pt x="354" y="54"/>
                    </a:lnTo>
                    <a:lnTo>
                      <a:pt x="333" y="51"/>
                    </a:lnTo>
                    <a:lnTo>
                      <a:pt x="311" y="49"/>
                    </a:lnTo>
                    <a:lnTo>
                      <a:pt x="289" y="49"/>
                    </a:lnTo>
                    <a:lnTo>
                      <a:pt x="267" y="49"/>
                    </a:lnTo>
                    <a:lnTo>
                      <a:pt x="247" y="51"/>
                    </a:lnTo>
                    <a:lnTo>
                      <a:pt x="227" y="55"/>
                    </a:lnTo>
                    <a:lnTo>
                      <a:pt x="209" y="61"/>
                    </a:lnTo>
                    <a:lnTo>
                      <a:pt x="193" y="70"/>
                    </a:lnTo>
                    <a:lnTo>
                      <a:pt x="190" y="71"/>
                    </a:lnTo>
                    <a:lnTo>
                      <a:pt x="184" y="76"/>
                    </a:lnTo>
                    <a:lnTo>
                      <a:pt x="173" y="83"/>
                    </a:lnTo>
                    <a:lnTo>
                      <a:pt x="159" y="90"/>
                    </a:lnTo>
                    <a:lnTo>
                      <a:pt x="141" y="96"/>
                    </a:lnTo>
                    <a:lnTo>
                      <a:pt x="122" y="101"/>
                    </a:lnTo>
                    <a:lnTo>
                      <a:pt x="102" y="105"/>
                    </a:lnTo>
                    <a:lnTo>
                      <a:pt x="81" y="104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Freeform 160"/>
              <p:cNvSpPr/>
              <p:nvPr/>
            </p:nvSpPr>
            <p:spPr>
              <a:xfrm>
                <a:off x="3600360" y="1312560"/>
                <a:ext cx="327240" cy="435240"/>
              </a:xfrm>
              <a:custGeom>
                <a:avLst/>
                <a:gdLst/>
                <a:ahLst/>
                <a:rect l="l" t="t" r="r" b="b"/>
                <a:pathLst>
                  <a:path w="474" h="1109">
                    <a:moveTo>
                      <a:pt x="312" y="8"/>
                    </a:moveTo>
                    <a:lnTo>
                      <a:pt x="309" y="10"/>
                    </a:lnTo>
                    <a:lnTo>
                      <a:pt x="303" y="12"/>
                    </a:lnTo>
                    <a:lnTo>
                      <a:pt x="293" y="18"/>
                    </a:lnTo>
                    <a:lnTo>
                      <a:pt x="279" y="25"/>
                    </a:lnTo>
                    <a:lnTo>
                      <a:pt x="261" y="36"/>
                    </a:lnTo>
                    <a:lnTo>
                      <a:pt x="242" y="48"/>
                    </a:lnTo>
                    <a:lnTo>
                      <a:pt x="222" y="62"/>
                    </a:lnTo>
                    <a:lnTo>
                      <a:pt x="199" y="79"/>
                    </a:lnTo>
                    <a:lnTo>
                      <a:pt x="177" y="100"/>
                    </a:lnTo>
                    <a:lnTo>
                      <a:pt x="153" y="123"/>
                    </a:lnTo>
                    <a:lnTo>
                      <a:pt x="129" y="148"/>
                    </a:lnTo>
                    <a:lnTo>
                      <a:pt x="106" y="176"/>
                    </a:lnTo>
                    <a:lnTo>
                      <a:pt x="85" y="207"/>
                    </a:lnTo>
                    <a:lnTo>
                      <a:pt x="65" y="241"/>
                    </a:lnTo>
                    <a:lnTo>
                      <a:pt x="46" y="278"/>
                    </a:lnTo>
                    <a:lnTo>
                      <a:pt x="31" y="318"/>
                    </a:lnTo>
                    <a:lnTo>
                      <a:pt x="9" y="401"/>
                    </a:lnTo>
                    <a:lnTo>
                      <a:pt x="0" y="485"/>
                    </a:lnTo>
                    <a:lnTo>
                      <a:pt x="0" y="569"/>
                    </a:lnTo>
                    <a:lnTo>
                      <a:pt x="7" y="648"/>
                    </a:lnTo>
                    <a:lnTo>
                      <a:pt x="17" y="721"/>
                    </a:lnTo>
                    <a:lnTo>
                      <a:pt x="28" y="780"/>
                    </a:lnTo>
                    <a:lnTo>
                      <a:pt x="38" y="826"/>
                    </a:lnTo>
                    <a:lnTo>
                      <a:pt x="46" y="853"/>
                    </a:lnTo>
                    <a:lnTo>
                      <a:pt x="60" y="892"/>
                    </a:lnTo>
                    <a:lnTo>
                      <a:pt x="77" y="933"/>
                    </a:lnTo>
                    <a:lnTo>
                      <a:pt x="96" y="971"/>
                    </a:lnTo>
                    <a:lnTo>
                      <a:pt x="115" y="1007"/>
                    </a:lnTo>
                    <a:lnTo>
                      <a:pt x="133" y="1037"/>
                    </a:lnTo>
                    <a:lnTo>
                      <a:pt x="148" y="1061"/>
                    </a:lnTo>
                    <a:lnTo>
                      <a:pt x="158" y="1076"/>
                    </a:lnTo>
                    <a:lnTo>
                      <a:pt x="162" y="1082"/>
                    </a:lnTo>
                    <a:lnTo>
                      <a:pt x="163" y="1086"/>
                    </a:lnTo>
                    <a:lnTo>
                      <a:pt x="167" y="1094"/>
                    </a:lnTo>
                    <a:lnTo>
                      <a:pt x="173" y="1103"/>
                    </a:lnTo>
                    <a:lnTo>
                      <a:pt x="180" y="1108"/>
                    </a:lnTo>
                    <a:lnTo>
                      <a:pt x="191" y="1109"/>
                    </a:lnTo>
                    <a:lnTo>
                      <a:pt x="202" y="1100"/>
                    </a:lnTo>
                    <a:lnTo>
                      <a:pt x="216" y="1079"/>
                    </a:lnTo>
                    <a:lnTo>
                      <a:pt x="230" y="1041"/>
                    </a:lnTo>
                    <a:lnTo>
                      <a:pt x="238" y="983"/>
                    </a:lnTo>
                    <a:lnTo>
                      <a:pt x="238" y="907"/>
                    </a:lnTo>
                    <a:lnTo>
                      <a:pt x="232" y="821"/>
                    </a:lnTo>
                    <a:lnTo>
                      <a:pt x="227" y="727"/>
                    </a:lnTo>
                    <a:lnTo>
                      <a:pt x="225" y="633"/>
                    </a:lnTo>
                    <a:lnTo>
                      <a:pt x="232" y="543"/>
                    </a:lnTo>
                    <a:lnTo>
                      <a:pt x="254" y="463"/>
                    </a:lnTo>
                    <a:lnTo>
                      <a:pt x="293" y="397"/>
                    </a:lnTo>
                    <a:lnTo>
                      <a:pt x="339" y="343"/>
                    </a:lnTo>
                    <a:lnTo>
                      <a:pt x="380" y="295"/>
                    </a:lnTo>
                    <a:lnTo>
                      <a:pt x="411" y="255"/>
                    </a:lnTo>
                    <a:lnTo>
                      <a:pt x="437" y="220"/>
                    </a:lnTo>
                    <a:lnTo>
                      <a:pt x="455" y="190"/>
                    </a:lnTo>
                    <a:lnTo>
                      <a:pt x="468" y="164"/>
                    </a:lnTo>
                    <a:lnTo>
                      <a:pt x="474" y="139"/>
                    </a:lnTo>
                    <a:lnTo>
                      <a:pt x="473" y="116"/>
                    </a:lnTo>
                    <a:lnTo>
                      <a:pt x="468" y="93"/>
                    </a:lnTo>
                    <a:lnTo>
                      <a:pt x="459" y="69"/>
                    </a:lnTo>
                    <a:lnTo>
                      <a:pt x="446" y="46"/>
                    </a:lnTo>
                    <a:lnTo>
                      <a:pt x="430" y="27"/>
                    </a:lnTo>
                    <a:lnTo>
                      <a:pt x="410" y="11"/>
                    </a:lnTo>
                    <a:lnTo>
                      <a:pt x="382" y="2"/>
                    </a:lnTo>
                    <a:lnTo>
                      <a:pt x="351" y="0"/>
                    </a:lnTo>
                    <a:lnTo>
                      <a:pt x="312" y="8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Freeform 161"/>
              <p:cNvSpPr/>
              <p:nvPr/>
            </p:nvSpPr>
            <p:spPr>
              <a:xfrm>
                <a:off x="4026960" y="1997640"/>
                <a:ext cx="306360" cy="37800"/>
              </a:xfrm>
              <a:custGeom>
                <a:avLst/>
                <a:gdLst/>
                <a:ahLst/>
                <a:rect l="l" t="t" r="r" b="b"/>
                <a:pathLst>
                  <a:path w="442" h="110">
                    <a:moveTo>
                      <a:pt x="0" y="85"/>
                    </a:moveTo>
                    <a:lnTo>
                      <a:pt x="3" y="85"/>
                    </a:lnTo>
                    <a:lnTo>
                      <a:pt x="9" y="84"/>
                    </a:lnTo>
                    <a:lnTo>
                      <a:pt x="19" y="83"/>
                    </a:lnTo>
                    <a:lnTo>
                      <a:pt x="32" y="79"/>
                    </a:lnTo>
                    <a:lnTo>
                      <a:pt x="46" y="75"/>
                    </a:lnTo>
                    <a:lnTo>
                      <a:pt x="61" y="71"/>
                    </a:lnTo>
                    <a:lnTo>
                      <a:pt x="76" y="64"/>
                    </a:lnTo>
                    <a:lnTo>
                      <a:pt x="88" y="56"/>
                    </a:lnTo>
                    <a:lnTo>
                      <a:pt x="90" y="55"/>
                    </a:lnTo>
                    <a:lnTo>
                      <a:pt x="93" y="51"/>
                    </a:lnTo>
                    <a:lnTo>
                      <a:pt x="100" y="45"/>
                    </a:lnTo>
                    <a:lnTo>
                      <a:pt x="109" y="37"/>
                    </a:lnTo>
                    <a:lnTo>
                      <a:pt x="119" y="29"/>
                    </a:lnTo>
                    <a:lnTo>
                      <a:pt x="131" y="20"/>
                    </a:lnTo>
                    <a:lnTo>
                      <a:pt x="146" y="13"/>
                    </a:lnTo>
                    <a:lnTo>
                      <a:pt x="161" y="6"/>
                    </a:lnTo>
                    <a:lnTo>
                      <a:pt x="179" y="1"/>
                    </a:lnTo>
                    <a:lnTo>
                      <a:pt x="198" y="0"/>
                    </a:lnTo>
                    <a:lnTo>
                      <a:pt x="218" y="1"/>
                    </a:lnTo>
                    <a:lnTo>
                      <a:pt x="240" y="6"/>
                    </a:lnTo>
                    <a:lnTo>
                      <a:pt x="262" y="17"/>
                    </a:lnTo>
                    <a:lnTo>
                      <a:pt x="285" y="31"/>
                    </a:lnTo>
                    <a:lnTo>
                      <a:pt x="309" y="53"/>
                    </a:lnTo>
                    <a:lnTo>
                      <a:pt x="333" y="80"/>
                    </a:lnTo>
                    <a:lnTo>
                      <a:pt x="335" y="81"/>
                    </a:lnTo>
                    <a:lnTo>
                      <a:pt x="343" y="84"/>
                    </a:lnTo>
                    <a:lnTo>
                      <a:pt x="355" y="89"/>
                    </a:lnTo>
                    <a:lnTo>
                      <a:pt x="369" y="95"/>
                    </a:lnTo>
                    <a:lnTo>
                      <a:pt x="387" y="99"/>
                    </a:lnTo>
                    <a:lnTo>
                      <a:pt x="405" y="103"/>
                    </a:lnTo>
                    <a:lnTo>
                      <a:pt x="423" y="104"/>
                    </a:lnTo>
                    <a:lnTo>
                      <a:pt x="442" y="103"/>
                    </a:lnTo>
                    <a:lnTo>
                      <a:pt x="441" y="104"/>
                    </a:lnTo>
                    <a:lnTo>
                      <a:pt x="437" y="107"/>
                    </a:lnTo>
                    <a:lnTo>
                      <a:pt x="429" y="109"/>
                    </a:lnTo>
                    <a:lnTo>
                      <a:pt x="415" y="110"/>
                    </a:lnTo>
                    <a:lnTo>
                      <a:pt x="393" y="110"/>
                    </a:lnTo>
                    <a:lnTo>
                      <a:pt x="363" y="107"/>
                    </a:lnTo>
                    <a:lnTo>
                      <a:pt x="321" y="96"/>
                    </a:lnTo>
                    <a:lnTo>
                      <a:pt x="270" y="80"/>
                    </a:lnTo>
                    <a:lnTo>
                      <a:pt x="267" y="79"/>
                    </a:lnTo>
                    <a:lnTo>
                      <a:pt x="260" y="74"/>
                    </a:lnTo>
                    <a:lnTo>
                      <a:pt x="248" y="68"/>
                    </a:lnTo>
                    <a:lnTo>
                      <a:pt x="231" y="62"/>
                    </a:lnTo>
                    <a:lnTo>
                      <a:pt x="209" y="58"/>
                    </a:lnTo>
                    <a:lnTo>
                      <a:pt x="184" y="58"/>
                    </a:lnTo>
                    <a:lnTo>
                      <a:pt x="154" y="62"/>
                    </a:lnTo>
                    <a:lnTo>
                      <a:pt x="120" y="71"/>
                    </a:lnTo>
                    <a:lnTo>
                      <a:pt x="119" y="72"/>
                    </a:lnTo>
                    <a:lnTo>
                      <a:pt x="112" y="76"/>
                    </a:lnTo>
                    <a:lnTo>
                      <a:pt x="103" y="81"/>
                    </a:lnTo>
                    <a:lnTo>
                      <a:pt x="90" y="87"/>
                    </a:lnTo>
                    <a:lnTo>
                      <a:pt x="73" y="91"/>
                    </a:lnTo>
                    <a:lnTo>
                      <a:pt x="52" y="92"/>
                    </a:lnTo>
                    <a:lnTo>
                      <a:pt x="28" y="91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Freeform 162"/>
              <p:cNvSpPr/>
              <p:nvPr/>
            </p:nvSpPr>
            <p:spPr>
              <a:xfrm>
                <a:off x="4026960" y="1254960"/>
                <a:ext cx="327240" cy="69480"/>
              </a:xfrm>
              <a:custGeom>
                <a:avLst/>
                <a:gdLst/>
                <a:ahLst/>
                <a:rect l="l" t="t" r="r" b="b"/>
                <a:pathLst>
                  <a:path w="473" h="165">
                    <a:moveTo>
                      <a:pt x="0" y="0"/>
                    </a:moveTo>
                    <a:lnTo>
                      <a:pt x="4" y="0"/>
                    </a:lnTo>
                    <a:lnTo>
                      <a:pt x="13" y="2"/>
                    </a:lnTo>
                    <a:lnTo>
                      <a:pt x="28" y="4"/>
                    </a:lnTo>
                    <a:lnTo>
                      <a:pt x="48" y="9"/>
                    </a:lnTo>
                    <a:lnTo>
                      <a:pt x="72" y="17"/>
                    </a:lnTo>
                    <a:lnTo>
                      <a:pt x="98" y="28"/>
                    </a:lnTo>
                    <a:lnTo>
                      <a:pt x="129" y="42"/>
                    </a:lnTo>
                    <a:lnTo>
                      <a:pt x="159" y="61"/>
                    </a:lnTo>
                    <a:lnTo>
                      <a:pt x="190" y="78"/>
                    </a:lnTo>
                    <a:lnTo>
                      <a:pt x="221" y="90"/>
                    </a:lnTo>
                    <a:lnTo>
                      <a:pt x="251" y="98"/>
                    </a:lnTo>
                    <a:lnTo>
                      <a:pt x="277" y="100"/>
                    </a:lnTo>
                    <a:lnTo>
                      <a:pt x="300" y="102"/>
                    </a:lnTo>
                    <a:lnTo>
                      <a:pt x="318" y="102"/>
                    </a:lnTo>
                    <a:lnTo>
                      <a:pt x="329" y="100"/>
                    </a:lnTo>
                    <a:lnTo>
                      <a:pt x="333" y="100"/>
                    </a:lnTo>
                    <a:lnTo>
                      <a:pt x="473" y="49"/>
                    </a:lnTo>
                    <a:lnTo>
                      <a:pt x="469" y="53"/>
                    </a:lnTo>
                    <a:lnTo>
                      <a:pt x="457" y="62"/>
                    </a:lnTo>
                    <a:lnTo>
                      <a:pt x="441" y="77"/>
                    </a:lnTo>
                    <a:lnTo>
                      <a:pt x="422" y="94"/>
                    </a:lnTo>
                    <a:lnTo>
                      <a:pt x="401" y="111"/>
                    </a:lnTo>
                    <a:lnTo>
                      <a:pt x="381" y="127"/>
                    </a:lnTo>
                    <a:lnTo>
                      <a:pt x="363" y="141"/>
                    </a:lnTo>
                    <a:lnTo>
                      <a:pt x="350" y="150"/>
                    </a:lnTo>
                    <a:lnTo>
                      <a:pt x="344" y="154"/>
                    </a:lnTo>
                    <a:lnTo>
                      <a:pt x="334" y="157"/>
                    </a:lnTo>
                    <a:lnTo>
                      <a:pt x="323" y="160"/>
                    </a:lnTo>
                    <a:lnTo>
                      <a:pt x="309" y="161"/>
                    </a:lnTo>
                    <a:lnTo>
                      <a:pt x="295" y="164"/>
                    </a:lnTo>
                    <a:lnTo>
                      <a:pt x="279" y="164"/>
                    </a:lnTo>
                    <a:lnTo>
                      <a:pt x="261" y="165"/>
                    </a:lnTo>
                    <a:lnTo>
                      <a:pt x="243" y="164"/>
                    </a:lnTo>
                    <a:lnTo>
                      <a:pt x="224" y="162"/>
                    </a:lnTo>
                    <a:lnTo>
                      <a:pt x="207" y="161"/>
                    </a:lnTo>
                    <a:lnTo>
                      <a:pt x="189" y="157"/>
                    </a:lnTo>
                    <a:lnTo>
                      <a:pt x="172" y="153"/>
                    </a:lnTo>
                    <a:lnTo>
                      <a:pt x="156" y="148"/>
                    </a:lnTo>
                    <a:lnTo>
                      <a:pt x="141" y="141"/>
                    </a:lnTo>
                    <a:lnTo>
                      <a:pt x="127" y="133"/>
                    </a:lnTo>
                    <a:lnTo>
                      <a:pt x="116" y="124"/>
                    </a:lnTo>
                    <a:lnTo>
                      <a:pt x="97" y="103"/>
                    </a:lnTo>
                    <a:lnTo>
                      <a:pt x="81" y="82"/>
                    </a:lnTo>
                    <a:lnTo>
                      <a:pt x="68" y="62"/>
                    </a:lnTo>
                    <a:lnTo>
                      <a:pt x="56" y="42"/>
                    </a:lnTo>
                    <a:lnTo>
                      <a:pt x="43" y="27"/>
                    </a:lnTo>
                    <a:lnTo>
                      <a:pt x="30" y="13"/>
                    </a:lnTo>
                    <a:lnTo>
                      <a:pt x="1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Freeform 163"/>
              <p:cNvSpPr/>
              <p:nvPr/>
            </p:nvSpPr>
            <p:spPr>
              <a:xfrm>
                <a:off x="4327560" y="1349280"/>
                <a:ext cx="392760" cy="373680"/>
              </a:xfrm>
              <a:custGeom>
                <a:avLst/>
                <a:gdLst/>
                <a:ahLst/>
                <a:rect l="l" t="t" r="r" b="b"/>
                <a:pathLst>
                  <a:path w="570" h="953">
                    <a:moveTo>
                      <a:pt x="443" y="29"/>
                    </a:moveTo>
                    <a:lnTo>
                      <a:pt x="440" y="26"/>
                    </a:lnTo>
                    <a:lnTo>
                      <a:pt x="432" y="19"/>
                    </a:lnTo>
                    <a:lnTo>
                      <a:pt x="418" y="13"/>
                    </a:lnTo>
                    <a:lnTo>
                      <a:pt x="400" y="5"/>
                    </a:lnTo>
                    <a:lnTo>
                      <a:pt x="377" y="0"/>
                    </a:lnTo>
                    <a:lnTo>
                      <a:pt x="351" y="0"/>
                    </a:lnTo>
                    <a:lnTo>
                      <a:pt x="322" y="5"/>
                    </a:lnTo>
                    <a:lnTo>
                      <a:pt x="289" y="19"/>
                    </a:lnTo>
                    <a:lnTo>
                      <a:pt x="258" y="35"/>
                    </a:lnTo>
                    <a:lnTo>
                      <a:pt x="233" y="44"/>
                    </a:lnTo>
                    <a:lnTo>
                      <a:pt x="210" y="48"/>
                    </a:lnTo>
                    <a:lnTo>
                      <a:pt x="191" y="51"/>
                    </a:lnTo>
                    <a:lnTo>
                      <a:pt x="175" y="52"/>
                    </a:lnTo>
                    <a:lnTo>
                      <a:pt x="160" y="56"/>
                    </a:lnTo>
                    <a:lnTo>
                      <a:pt x="146" y="65"/>
                    </a:lnTo>
                    <a:lnTo>
                      <a:pt x="132" y="80"/>
                    </a:lnTo>
                    <a:lnTo>
                      <a:pt x="104" y="126"/>
                    </a:lnTo>
                    <a:lnTo>
                      <a:pt x="81" y="180"/>
                    </a:lnTo>
                    <a:lnTo>
                      <a:pt x="63" y="241"/>
                    </a:lnTo>
                    <a:lnTo>
                      <a:pt x="47" y="304"/>
                    </a:lnTo>
                    <a:lnTo>
                      <a:pt x="36" y="366"/>
                    </a:lnTo>
                    <a:lnTo>
                      <a:pt x="26" y="425"/>
                    </a:lnTo>
                    <a:lnTo>
                      <a:pt x="17" y="479"/>
                    </a:lnTo>
                    <a:lnTo>
                      <a:pt x="8" y="524"/>
                    </a:lnTo>
                    <a:lnTo>
                      <a:pt x="2" y="569"/>
                    </a:lnTo>
                    <a:lnTo>
                      <a:pt x="0" y="623"/>
                    </a:lnTo>
                    <a:lnTo>
                      <a:pt x="2" y="679"/>
                    </a:lnTo>
                    <a:lnTo>
                      <a:pt x="8" y="736"/>
                    </a:lnTo>
                    <a:lnTo>
                      <a:pt x="18" y="788"/>
                    </a:lnTo>
                    <a:lnTo>
                      <a:pt x="34" y="832"/>
                    </a:lnTo>
                    <a:lnTo>
                      <a:pt x="54" y="864"/>
                    </a:lnTo>
                    <a:lnTo>
                      <a:pt x="79" y="878"/>
                    </a:lnTo>
                    <a:lnTo>
                      <a:pt x="104" y="885"/>
                    </a:lnTo>
                    <a:lnTo>
                      <a:pt x="127" y="893"/>
                    </a:lnTo>
                    <a:lnTo>
                      <a:pt x="146" y="904"/>
                    </a:lnTo>
                    <a:lnTo>
                      <a:pt x="165" y="915"/>
                    </a:lnTo>
                    <a:lnTo>
                      <a:pt x="181" y="927"/>
                    </a:lnTo>
                    <a:lnTo>
                      <a:pt x="197" y="937"/>
                    </a:lnTo>
                    <a:lnTo>
                      <a:pt x="212" y="947"/>
                    </a:lnTo>
                    <a:lnTo>
                      <a:pt x="229" y="952"/>
                    </a:lnTo>
                    <a:lnTo>
                      <a:pt x="238" y="953"/>
                    </a:lnTo>
                    <a:lnTo>
                      <a:pt x="249" y="953"/>
                    </a:lnTo>
                    <a:lnTo>
                      <a:pt x="260" y="950"/>
                    </a:lnTo>
                    <a:lnTo>
                      <a:pt x="274" y="947"/>
                    </a:lnTo>
                    <a:lnTo>
                      <a:pt x="288" y="940"/>
                    </a:lnTo>
                    <a:lnTo>
                      <a:pt x="303" y="933"/>
                    </a:lnTo>
                    <a:lnTo>
                      <a:pt x="320" y="924"/>
                    </a:lnTo>
                    <a:lnTo>
                      <a:pt x="336" y="914"/>
                    </a:lnTo>
                    <a:lnTo>
                      <a:pt x="354" y="902"/>
                    </a:lnTo>
                    <a:lnTo>
                      <a:pt x="370" y="887"/>
                    </a:lnTo>
                    <a:lnTo>
                      <a:pt x="388" y="873"/>
                    </a:lnTo>
                    <a:lnTo>
                      <a:pt x="405" y="857"/>
                    </a:lnTo>
                    <a:lnTo>
                      <a:pt x="423" y="840"/>
                    </a:lnTo>
                    <a:lnTo>
                      <a:pt x="440" y="820"/>
                    </a:lnTo>
                    <a:lnTo>
                      <a:pt x="457" y="800"/>
                    </a:lnTo>
                    <a:lnTo>
                      <a:pt x="473" y="779"/>
                    </a:lnTo>
                    <a:lnTo>
                      <a:pt x="511" y="711"/>
                    </a:lnTo>
                    <a:lnTo>
                      <a:pt x="541" y="623"/>
                    </a:lnTo>
                    <a:lnTo>
                      <a:pt x="561" y="520"/>
                    </a:lnTo>
                    <a:lnTo>
                      <a:pt x="570" y="411"/>
                    </a:lnTo>
                    <a:lnTo>
                      <a:pt x="564" y="300"/>
                    </a:lnTo>
                    <a:lnTo>
                      <a:pt x="543" y="195"/>
                    </a:lnTo>
                    <a:lnTo>
                      <a:pt x="502" y="102"/>
                    </a:lnTo>
                    <a:lnTo>
                      <a:pt x="443" y="29"/>
                    </a:lnTo>
                    <a:close/>
                  </a:path>
                </a:pathLst>
              </a:custGeom>
              <a:solidFill>
                <a:srgbClr val="ff72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Freeform 164"/>
              <p:cNvSpPr/>
              <p:nvPr/>
            </p:nvSpPr>
            <p:spPr>
              <a:xfrm>
                <a:off x="4432680" y="1461240"/>
                <a:ext cx="205200" cy="199080"/>
              </a:xfrm>
              <a:custGeom>
                <a:avLst/>
                <a:gdLst/>
                <a:ahLst/>
                <a:rect l="l" t="t" r="r" b="b"/>
                <a:pathLst>
                  <a:path w="297" h="507">
                    <a:moveTo>
                      <a:pt x="231" y="15"/>
                    </a:moveTo>
                    <a:lnTo>
                      <a:pt x="229" y="14"/>
                    </a:lnTo>
                    <a:lnTo>
                      <a:pt x="224" y="11"/>
                    </a:lnTo>
                    <a:lnTo>
                      <a:pt x="218" y="7"/>
                    </a:lnTo>
                    <a:lnTo>
                      <a:pt x="208" y="3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68" y="3"/>
                    </a:lnTo>
                    <a:lnTo>
                      <a:pt x="151" y="11"/>
                    </a:lnTo>
                    <a:lnTo>
                      <a:pt x="136" y="19"/>
                    </a:lnTo>
                    <a:lnTo>
                      <a:pt x="122" y="24"/>
                    </a:lnTo>
                    <a:lnTo>
                      <a:pt x="111" y="27"/>
                    </a:lnTo>
                    <a:lnTo>
                      <a:pt x="102" y="28"/>
                    </a:lnTo>
                    <a:lnTo>
                      <a:pt x="93" y="29"/>
                    </a:lnTo>
                    <a:lnTo>
                      <a:pt x="86" y="31"/>
                    </a:lnTo>
                    <a:lnTo>
                      <a:pt x="78" y="35"/>
                    </a:lnTo>
                    <a:lnTo>
                      <a:pt x="71" y="43"/>
                    </a:lnTo>
                    <a:lnTo>
                      <a:pt x="57" y="66"/>
                    </a:lnTo>
                    <a:lnTo>
                      <a:pt x="44" y="95"/>
                    </a:lnTo>
                    <a:lnTo>
                      <a:pt x="35" y="127"/>
                    </a:lnTo>
                    <a:lnTo>
                      <a:pt x="26" y="158"/>
                    </a:lnTo>
                    <a:lnTo>
                      <a:pt x="20" y="191"/>
                    </a:lnTo>
                    <a:lnTo>
                      <a:pt x="15" y="223"/>
                    </a:lnTo>
                    <a:lnTo>
                      <a:pt x="10" y="252"/>
                    </a:lnTo>
                    <a:lnTo>
                      <a:pt x="5" y="276"/>
                    </a:lnTo>
                    <a:lnTo>
                      <a:pt x="1" y="299"/>
                    </a:lnTo>
                    <a:lnTo>
                      <a:pt x="0" y="328"/>
                    </a:lnTo>
                    <a:lnTo>
                      <a:pt x="1" y="359"/>
                    </a:lnTo>
                    <a:lnTo>
                      <a:pt x="4" y="389"/>
                    </a:lnTo>
                    <a:lnTo>
                      <a:pt x="9" y="418"/>
                    </a:lnTo>
                    <a:lnTo>
                      <a:pt x="16" y="442"/>
                    </a:lnTo>
                    <a:lnTo>
                      <a:pt x="26" y="459"/>
                    </a:lnTo>
                    <a:lnTo>
                      <a:pt x="39" y="467"/>
                    </a:lnTo>
                    <a:lnTo>
                      <a:pt x="53" y="471"/>
                    </a:lnTo>
                    <a:lnTo>
                      <a:pt x="64" y="475"/>
                    </a:lnTo>
                    <a:lnTo>
                      <a:pt x="76" y="481"/>
                    </a:lnTo>
                    <a:lnTo>
                      <a:pt x="84" y="486"/>
                    </a:lnTo>
                    <a:lnTo>
                      <a:pt x="93" y="493"/>
                    </a:lnTo>
                    <a:lnTo>
                      <a:pt x="102" y="500"/>
                    </a:lnTo>
                    <a:lnTo>
                      <a:pt x="110" y="503"/>
                    </a:lnTo>
                    <a:lnTo>
                      <a:pt x="118" y="507"/>
                    </a:lnTo>
                    <a:lnTo>
                      <a:pt x="128" y="507"/>
                    </a:lnTo>
                    <a:lnTo>
                      <a:pt x="142" y="503"/>
                    </a:lnTo>
                    <a:lnTo>
                      <a:pt x="157" y="497"/>
                    </a:lnTo>
                    <a:lnTo>
                      <a:pt x="175" y="485"/>
                    </a:lnTo>
                    <a:lnTo>
                      <a:pt x="194" y="472"/>
                    </a:lnTo>
                    <a:lnTo>
                      <a:pt x="212" y="455"/>
                    </a:lnTo>
                    <a:lnTo>
                      <a:pt x="231" y="435"/>
                    </a:lnTo>
                    <a:lnTo>
                      <a:pt x="248" y="413"/>
                    </a:lnTo>
                    <a:lnTo>
                      <a:pt x="268" y="376"/>
                    </a:lnTo>
                    <a:lnTo>
                      <a:pt x="283" y="328"/>
                    </a:lnTo>
                    <a:lnTo>
                      <a:pt x="294" y="274"/>
                    </a:lnTo>
                    <a:lnTo>
                      <a:pt x="297" y="215"/>
                    </a:lnTo>
                    <a:lnTo>
                      <a:pt x="294" y="157"/>
                    </a:lnTo>
                    <a:lnTo>
                      <a:pt x="282" y="102"/>
                    </a:lnTo>
                    <a:lnTo>
                      <a:pt x="262" y="53"/>
                    </a:lnTo>
                    <a:lnTo>
                      <a:pt x="231" y="15"/>
                    </a:lnTo>
                    <a:close/>
                  </a:path>
                </a:pathLst>
              </a:custGeom>
              <a:solidFill>
                <a:srgbClr val="ffa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Freeform 165"/>
              <p:cNvSpPr/>
              <p:nvPr/>
            </p:nvSpPr>
            <p:spPr>
              <a:xfrm>
                <a:off x="4122360" y="1237320"/>
                <a:ext cx="279360" cy="54000"/>
              </a:xfrm>
              <a:custGeom>
                <a:avLst/>
                <a:gdLst/>
                <a:ahLst/>
                <a:rect l="l" t="t" r="r" b="b"/>
                <a:pathLst>
                  <a:path w="406" h="150">
                    <a:moveTo>
                      <a:pt x="29" y="82"/>
                    </a:moveTo>
                    <a:lnTo>
                      <a:pt x="29" y="75"/>
                    </a:lnTo>
                    <a:lnTo>
                      <a:pt x="27" y="61"/>
                    </a:lnTo>
                    <a:lnTo>
                      <a:pt x="23" y="44"/>
                    </a:lnTo>
                    <a:lnTo>
                      <a:pt x="14" y="29"/>
                    </a:lnTo>
                    <a:lnTo>
                      <a:pt x="5" y="17"/>
                    </a:lnTo>
                    <a:lnTo>
                      <a:pt x="0" y="8"/>
                    </a:lnTo>
                    <a:lnTo>
                      <a:pt x="3" y="1"/>
                    </a:lnTo>
                    <a:lnTo>
                      <a:pt x="14" y="0"/>
                    </a:lnTo>
                    <a:lnTo>
                      <a:pt x="25" y="1"/>
                    </a:lnTo>
                    <a:lnTo>
                      <a:pt x="41" y="4"/>
                    </a:lnTo>
                    <a:lnTo>
                      <a:pt x="58" y="7"/>
                    </a:lnTo>
                    <a:lnTo>
                      <a:pt x="77" y="9"/>
                    </a:lnTo>
                    <a:lnTo>
                      <a:pt x="96" y="13"/>
                    </a:lnTo>
                    <a:lnTo>
                      <a:pt x="114" y="17"/>
                    </a:lnTo>
                    <a:lnTo>
                      <a:pt x="130" y="20"/>
                    </a:lnTo>
                    <a:lnTo>
                      <a:pt x="144" y="22"/>
                    </a:lnTo>
                    <a:lnTo>
                      <a:pt x="158" y="24"/>
                    </a:lnTo>
                    <a:lnTo>
                      <a:pt x="174" y="24"/>
                    </a:lnTo>
                    <a:lnTo>
                      <a:pt x="193" y="24"/>
                    </a:lnTo>
                    <a:lnTo>
                      <a:pt x="214" y="22"/>
                    </a:lnTo>
                    <a:lnTo>
                      <a:pt x="235" y="21"/>
                    </a:lnTo>
                    <a:lnTo>
                      <a:pt x="253" y="19"/>
                    </a:lnTo>
                    <a:lnTo>
                      <a:pt x="270" y="16"/>
                    </a:lnTo>
                    <a:lnTo>
                      <a:pt x="284" y="13"/>
                    </a:lnTo>
                    <a:lnTo>
                      <a:pt x="295" y="11"/>
                    </a:lnTo>
                    <a:lnTo>
                      <a:pt x="308" y="8"/>
                    </a:lnTo>
                    <a:lnTo>
                      <a:pt x="319" y="5"/>
                    </a:lnTo>
                    <a:lnTo>
                      <a:pt x="332" y="3"/>
                    </a:lnTo>
                    <a:lnTo>
                      <a:pt x="343" y="3"/>
                    </a:lnTo>
                    <a:lnTo>
                      <a:pt x="355" y="3"/>
                    </a:lnTo>
                    <a:lnTo>
                      <a:pt x="368" y="4"/>
                    </a:lnTo>
                    <a:lnTo>
                      <a:pt x="381" y="8"/>
                    </a:lnTo>
                    <a:lnTo>
                      <a:pt x="400" y="20"/>
                    </a:lnTo>
                    <a:lnTo>
                      <a:pt x="406" y="37"/>
                    </a:lnTo>
                    <a:lnTo>
                      <a:pt x="401" y="53"/>
                    </a:lnTo>
                    <a:lnTo>
                      <a:pt x="387" y="66"/>
                    </a:lnTo>
                    <a:lnTo>
                      <a:pt x="377" y="71"/>
                    </a:lnTo>
                    <a:lnTo>
                      <a:pt x="364" y="76"/>
                    </a:lnTo>
                    <a:lnTo>
                      <a:pt x="352" y="83"/>
                    </a:lnTo>
                    <a:lnTo>
                      <a:pt x="339" y="90"/>
                    </a:lnTo>
                    <a:lnTo>
                      <a:pt x="328" y="96"/>
                    </a:lnTo>
                    <a:lnTo>
                      <a:pt x="319" y="102"/>
                    </a:lnTo>
                    <a:lnTo>
                      <a:pt x="313" y="104"/>
                    </a:lnTo>
                    <a:lnTo>
                      <a:pt x="310" y="105"/>
                    </a:lnTo>
                    <a:lnTo>
                      <a:pt x="250" y="129"/>
                    </a:lnTo>
                    <a:lnTo>
                      <a:pt x="245" y="130"/>
                    </a:lnTo>
                    <a:lnTo>
                      <a:pt x="233" y="132"/>
                    </a:lnTo>
                    <a:lnTo>
                      <a:pt x="216" y="136"/>
                    </a:lnTo>
                    <a:lnTo>
                      <a:pt x="195" y="140"/>
                    </a:lnTo>
                    <a:lnTo>
                      <a:pt x="175" y="144"/>
                    </a:lnTo>
                    <a:lnTo>
                      <a:pt x="156" y="146"/>
                    </a:lnTo>
                    <a:lnTo>
                      <a:pt x="143" y="149"/>
                    </a:lnTo>
                    <a:lnTo>
                      <a:pt x="136" y="150"/>
                    </a:lnTo>
                    <a:lnTo>
                      <a:pt x="133" y="149"/>
                    </a:lnTo>
                    <a:lnTo>
                      <a:pt x="125" y="146"/>
                    </a:lnTo>
                    <a:lnTo>
                      <a:pt x="114" y="141"/>
                    </a:lnTo>
                    <a:lnTo>
                      <a:pt x="101" y="133"/>
                    </a:lnTo>
                    <a:lnTo>
                      <a:pt x="85" y="123"/>
                    </a:lnTo>
                    <a:lnTo>
                      <a:pt x="68" y="111"/>
                    </a:lnTo>
                    <a:lnTo>
                      <a:pt x="49" y="98"/>
                    </a:lnTo>
                    <a:lnTo>
                      <a:pt x="29" y="82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Freeform 166"/>
              <p:cNvSpPr/>
              <p:nvPr/>
            </p:nvSpPr>
            <p:spPr>
              <a:xfrm>
                <a:off x="3515400" y="1286640"/>
                <a:ext cx="360000" cy="704880"/>
              </a:xfrm>
              <a:custGeom>
                <a:avLst/>
                <a:gdLst/>
                <a:ahLst/>
                <a:rect l="l" t="t" r="r" b="b"/>
                <a:pathLst>
                  <a:path w="521" h="1794">
                    <a:moveTo>
                      <a:pt x="221" y="0"/>
                    </a:moveTo>
                    <a:lnTo>
                      <a:pt x="217" y="4"/>
                    </a:lnTo>
                    <a:lnTo>
                      <a:pt x="204" y="14"/>
                    </a:lnTo>
                    <a:lnTo>
                      <a:pt x="187" y="33"/>
                    </a:lnTo>
                    <a:lnTo>
                      <a:pt x="164" y="58"/>
                    </a:lnTo>
                    <a:lnTo>
                      <a:pt x="139" y="92"/>
                    </a:lnTo>
                    <a:lnTo>
                      <a:pt x="113" y="134"/>
                    </a:lnTo>
                    <a:lnTo>
                      <a:pt x="85" y="184"/>
                    </a:lnTo>
                    <a:lnTo>
                      <a:pt x="60" y="244"/>
                    </a:lnTo>
                    <a:lnTo>
                      <a:pt x="37" y="312"/>
                    </a:lnTo>
                    <a:lnTo>
                      <a:pt x="18" y="388"/>
                    </a:lnTo>
                    <a:lnTo>
                      <a:pt x="5" y="475"/>
                    </a:lnTo>
                    <a:lnTo>
                      <a:pt x="0" y="570"/>
                    </a:lnTo>
                    <a:lnTo>
                      <a:pt x="4" y="676"/>
                    </a:lnTo>
                    <a:lnTo>
                      <a:pt x="19" y="791"/>
                    </a:lnTo>
                    <a:lnTo>
                      <a:pt x="46" y="918"/>
                    </a:lnTo>
                    <a:lnTo>
                      <a:pt x="85" y="1053"/>
                    </a:lnTo>
                    <a:lnTo>
                      <a:pt x="89" y="1060"/>
                    </a:lnTo>
                    <a:lnTo>
                      <a:pt x="100" y="1080"/>
                    </a:lnTo>
                    <a:lnTo>
                      <a:pt x="116" y="1111"/>
                    </a:lnTo>
                    <a:lnTo>
                      <a:pt x="139" y="1152"/>
                    </a:lnTo>
                    <a:lnTo>
                      <a:pt x="165" y="1201"/>
                    </a:lnTo>
                    <a:lnTo>
                      <a:pt x="196" y="1256"/>
                    </a:lnTo>
                    <a:lnTo>
                      <a:pt x="230" y="1317"/>
                    </a:lnTo>
                    <a:lnTo>
                      <a:pt x="265" y="1380"/>
                    </a:lnTo>
                    <a:lnTo>
                      <a:pt x="301" y="1443"/>
                    </a:lnTo>
                    <a:lnTo>
                      <a:pt x="338" y="1508"/>
                    </a:lnTo>
                    <a:lnTo>
                      <a:pt x="375" y="1570"/>
                    </a:lnTo>
                    <a:lnTo>
                      <a:pt x="410" y="1629"/>
                    </a:lnTo>
                    <a:lnTo>
                      <a:pt x="443" y="1682"/>
                    </a:lnTo>
                    <a:lnTo>
                      <a:pt x="473" y="1728"/>
                    </a:lnTo>
                    <a:lnTo>
                      <a:pt x="499" y="1766"/>
                    </a:lnTo>
                    <a:lnTo>
                      <a:pt x="521" y="1794"/>
                    </a:lnTo>
                    <a:lnTo>
                      <a:pt x="517" y="1787"/>
                    </a:lnTo>
                    <a:lnTo>
                      <a:pt x="507" y="1769"/>
                    </a:lnTo>
                    <a:lnTo>
                      <a:pt x="492" y="1740"/>
                    </a:lnTo>
                    <a:lnTo>
                      <a:pt x="472" y="1703"/>
                    </a:lnTo>
                    <a:lnTo>
                      <a:pt x="448" y="1657"/>
                    </a:lnTo>
                    <a:lnTo>
                      <a:pt x="419" y="1605"/>
                    </a:lnTo>
                    <a:lnTo>
                      <a:pt x="388" y="1549"/>
                    </a:lnTo>
                    <a:lnTo>
                      <a:pt x="357" y="1488"/>
                    </a:lnTo>
                    <a:lnTo>
                      <a:pt x="323" y="1426"/>
                    </a:lnTo>
                    <a:lnTo>
                      <a:pt x="289" y="1363"/>
                    </a:lnTo>
                    <a:lnTo>
                      <a:pt x="255" y="1301"/>
                    </a:lnTo>
                    <a:lnTo>
                      <a:pt x="223" y="1241"/>
                    </a:lnTo>
                    <a:lnTo>
                      <a:pt x="193" y="1184"/>
                    </a:lnTo>
                    <a:lnTo>
                      <a:pt x="164" y="1131"/>
                    </a:lnTo>
                    <a:lnTo>
                      <a:pt x="140" y="1085"/>
                    </a:lnTo>
                    <a:lnTo>
                      <a:pt x="120" y="1047"/>
                    </a:lnTo>
                    <a:lnTo>
                      <a:pt x="118" y="1040"/>
                    </a:lnTo>
                    <a:lnTo>
                      <a:pt x="111" y="1021"/>
                    </a:lnTo>
                    <a:lnTo>
                      <a:pt x="101" y="989"/>
                    </a:lnTo>
                    <a:lnTo>
                      <a:pt x="90" y="945"/>
                    </a:lnTo>
                    <a:lnTo>
                      <a:pt x="77" y="894"/>
                    </a:lnTo>
                    <a:lnTo>
                      <a:pt x="66" y="834"/>
                    </a:lnTo>
                    <a:lnTo>
                      <a:pt x="56" y="765"/>
                    </a:lnTo>
                    <a:lnTo>
                      <a:pt x="48" y="691"/>
                    </a:lnTo>
                    <a:lnTo>
                      <a:pt x="43" y="611"/>
                    </a:lnTo>
                    <a:lnTo>
                      <a:pt x="44" y="528"/>
                    </a:lnTo>
                    <a:lnTo>
                      <a:pt x="52" y="441"/>
                    </a:lnTo>
                    <a:lnTo>
                      <a:pt x="67" y="352"/>
                    </a:lnTo>
                    <a:lnTo>
                      <a:pt x="90" y="262"/>
                    </a:lnTo>
                    <a:lnTo>
                      <a:pt x="123" y="172"/>
                    </a:lnTo>
                    <a:lnTo>
                      <a:pt x="165" y="85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Freeform 167"/>
              <p:cNvSpPr/>
              <p:nvPr/>
            </p:nvSpPr>
            <p:spPr>
              <a:xfrm>
                <a:off x="4072680" y="1267920"/>
                <a:ext cx="240120" cy="46800"/>
              </a:xfrm>
              <a:custGeom>
                <a:avLst/>
                <a:gdLst/>
                <a:ahLst/>
                <a:rect l="l" t="t" r="r" b="b"/>
                <a:pathLst>
                  <a:path w="350" h="120">
                    <a:moveTo>
                      <a:pt x="0" y="0"/>
                    </a:moveTo>
                    <a:lnTo>
                      <a:pt x="5" y="4"/>
                    </a:lnTo>
                    <a:lnTo>
                      <a:pt x="16" y="16"/>
                    </a:lnTo>
                    <a:lnTo>
                      <a:pt x="35" y="32"/>
                    </a:lnTo>
                    <a:lnTo>
                      <a:pt x="59" y="50"/>
                    </a:lnTo>
                    <a:lnTo>
                      <a:pt x="85" y="69"/>
                    </a:lnTo>
                    <a:lnTo>
                      <a:pt x="113" y="87"/>
                    </a:lnTo>
                    <a:lnTo>
                      <a:pt x="141" y="102"/>
                    </a:lnTo>
                    <a:lnTo>
                      <a:pt x="166" y="110"/>
                    </a:lnTo>
                    <a:lnTo>
                      <a:pt x="190" y="115"/>
                    </a:lnTo>
                    <a:lnTo>
                      <a:pt x="215" y="118"/>
                    </a:lnTo>
                    <a:lnTo>
                      <a:pt x="240" y="120"/>
                    </a:lnTo>
                    <a:lnTo>
                      <a:pt x="264" y="119"/>
                    </a:lnTo>
                    <a:lnTo>
                      <a:pt x="287" y="116"/>
                    </a:lnTo>
                    <a:lnTo>
                      <a:pt x="306" y="111"/>
                    </a:lnTo>
                    <a:lnTo>
                      <a:pt x="321" y="102"/>
                    </a:lnTo>
                    <a:lnTo>
                      <a:pt x="331" y="90"/>
                    </a:lnTo>
                    <a:lnTo>
                      <a:pt x="350" y="61"/>
                    </a:lnTo>
                    <a:lnTo>
                      <a:pt x="345" y="62"/>
                    </a:lnTo>
                    <a:lnTo>
                      <a:pt x="331" y="68"/>
                    </a:lnTo>
                    <a:lnTo>
                      <a:pt x="311" y="73"/>
                    </a:lnTo>
                    <a:lnTo>
                      <a:pt x="286" y="78"/>
                    </a:lnTo>
                    <a:lnTo>
                      <a:pt x="255" y="82"/>
                    </a:lnTo>
                    <a:lnTo>
                      <a:pt x="225" y="83"/>
                    </a:lnTo>
                    <a:lnTo>
                      <a:pt x="195" y="79"/>
                    </a:lnTo>
                    <a:lnTo>
                      <a:pt x="167" y="70"/>
                    </a:lnTo>
                    <a:lnTo>
                      <a:pt x="163" y="68"/>
                    </a:lnTo>
                    <a:lnTo>
                      <a:pt x="153" y="60"/>
                    </a:lnTo>
                    <a:lnTo>
                      <a:pt x="137" y="49"/>
                    </a:lnTo>
                    <a:lnTo>
                      <a:pt x="116" y="37"/>
                    </a:lnTo>
                    <a:lnTo>
                      <a:pt x="90" y="25"/>
                    </a:lnTo>
                    <a:lnTo>
                      <a:pt x="61" y="14"/>
                    </a:lnTo>
                    <a:lnTo>
                      <a:pt x="3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Freeform 168"/>
              <p:cNvSpPr/>
              <p:nvPr/>
            </p:nvSpPr>
            <p:spPr>
              <a:xfrm>
                <a:off x="3623040" y="1341000"/>
                <a:ext cx="194760" cy="360720"/>
              </a:xfrm>
              <a:custGeom>
                <a:avLst/>
                <a:gdLst/>
                <a:ahLst/>
                <a:rect l="l" t="t" r="r" b="b"/>
                <a:pathLst>
                  <a:path w="281" h="918">
                    <a:moveTo>
                      <a:pt x="232" y="13"/>
                    </a:moveTo>
                    <a:lnTo>
                      <a:pt x="227" y="14"/>
                    </a:lnTo>
                    <a:lnTo>
                      <a:pt x="215" y="21"/>
                    </a:lnTo>
                    <a:lnTo>
                      <a:pt x="196" y="31"/>
                    </a:lnTo>
                    <a:lnTo>
                      <a:pt x="173" y="47"/>
                    </a:lnTo>
                    <a:lnTo>
                      <a:pt x="145" y="71"/>
                    </a:lnTo>
                    <a:lnTo>
                      <a:pt x="116" y="101"/>
                    </a:lnTo>
                    <a:lnTo>
                      <a:pt x="87" y="141"/>
                    </a:lnTo>
                    <a:lnTo>
                      <a:pt x="60" y="189"/>
                    </a:lnTo>
                    <a:lnTo>
                      <a:pt x="39" y="236"/>
                    </a:lnTo>
                    <a:lnTo>
                      <a:pt x="22" y="290"/>
                    </a:lnTo>
                    <a:lnTo>
                      <a:pt x="8" y="355"/>
                    </a:lnTo>
                    <a:lnTo>
                      <a:pt x="0" y="431"/>
                    </a:lnTo>
                    <a:lnTo>
                      <a:pt x="0" y="520"/>
                    </a:lnTo>
                    <a:lnTo>
                      <a:pt x="12" y="621"/>
                    </a:lnTo>
                    <a:lnTo>
                      <a:pt x="33" y="737"/>
                    </a:lnTo>
                    <a:lnTo>
                      <a:pt x="70" y="869"/>
                    </a:lnTo>
                    <a:lnTo>
                      <a:pt x="73" y="874"/>
                    </a:lnTo>
                    <a:lnTo>
                      <a:pt x="82" y="885"/>
                    </a:lnTo>
                    <a:lnTo>
                      <a:pt x="95" y="899"/>
                    </a:lnTo>
                    <a:lnTo>
                      <a:pt x="109" y="911"/>
                    </a:lnTo>
                    <a:lnTo>
                      <a:pt x="121" y="918"/>
                    </a:lnTo>
                    <a:lnTo>
                      <a:pt x="131" y="915"/>
                    </a:lnTo>
                    <a:lnTo>
                      <a:pt x="135" y="898"/>
                    </a:lnTo>
                    <a:lnTo>
                      <a:pt x="131" y="862"/>
                    </a:lnTo>
                    <a:lnTo>
                      <a:pt x="126" y="848"/>
                    </a:lnTo>
                    <a:lnTo>
                      <a:pt x="114" y="808"/>
                    </a:lnTo>
                    <a:lnTo>
                      <a:pt x="97" y="748"/>
                    </a:lnTo>
                    <a:lnTo>
                      <a:pt x="84" y="666"/>
                    </a:lnTo>
                    <a:lnTo>
                      <a:pt x="75" y="571"/>
                    </a:lnTo>
                    <a:lnTo>
                      <a:pt x="78" y="462"/>
                    </a:lnTo>
                    <a:lnTo>
                      <a:pt x="96" y="345"/>
                    </a:lnTo>
                    <a:lnTo>
                      <a:pt x="135" y="222"/>
                    </a:lnTo>
                    <a:lnTo>
                      <a:pt x="136" y="218"/>
                    </a:lnTo>
                    <a:lnTo>
                      <a:pt x="143" y="207"/>
                    </a:lnTo>
                    <a:lnTo>
                      <a:pt x="152" y="188"/>
                    </a:lnTo>
                    <a:lnTo>
                      <a:pt x="167" y="166"/>
                    </a:lnTo>
                    <a:lnTo>
                      <a:pt x="186" y="139"/>
                    </a:lnTo>
                    <a:lnTo>
                      <a:pt x="211" y="112"/>
                    </a:lnTo>
                    <a:lnTo>
                      <a:pt x="242" y="83"/>
                    </a:lnTo>
                    <a:lnTo>
                      <a:pt x="280" y="54"/>
                    </a:lnTo>
                    <a:lnTo>
                      <a:pt x="280" y="50"/>
                    </a:lnTo>
                    <a:lnTo>
                      <a:pt x="281" y="41"/>
                    </a:lnTo>
                    <a:lnTo>
                      <a:pt x="281" y="29"/>
                    </a:lnTo>
                    <a:lnTo>
                      <a:pt x="280" y="16"/>
                    </a:lnTo>
                    <a:lnTo>
                      <a:pt x="275" y="5"/>
                    </a:lnTo>
                    <a:lnTo>
                      <a:pt x="266" y="0"/>
                    </a:lnTo>
                    <a:lnTo>
                      <a:pt x="252" y="1"/>
                    </a:lnTo>
                    <a:lnTo>
                      <a:pt x="232" y="13"/>
                    </a:lnTo>
                    <a:close/>
                  </a:path>
                </a:pathLst>
              </a:custGeom>
              <a:solidFill>
                <a:srgbClr val="91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Freeform 169"/>
              <p:cNvSpPr/>
              <p:nvPr/>
            </p:nvSpPr>
            <p:spPr>
              <a:xfrm>
                <a:off x="4033080" y="2012040"/>
                <a:ext cx="261000" cy="33120"/>
              </a:xfrm>
              <a:custGeom>
                <a:avLst/>
                <a:gdLst/>
                <a:ahLst/>
                <a:rect l="l" t="t" r="r" b="b"/>
                <a:pathLst>
                  <a:path w="379" h="95">
                    <a:moveTo>
                      <a:pt x="0" y="71"/>
                    </a:moveTo>
                    <a:lnTo>
                      <a:pt x="4" y="70"/>
                    </a:lnTo>
                    <a:lnTo>
                      <a:pt x="15" y="66"/>
                    </a:lnTo>
                    <a:lnTo>
                      <a:pt x="31" y="60"/>
                    </a:lnTo>
                    <a:lnTo>
                      <a:pt x="51" y="54"/>
                    </a:lnTo>
                    <a:lnTo>
                      <a:pt x="73" y="46"/>
                    </a:lnTo>
                    <a:lnTo>
                      <a:pt x="94" y="37"/>
                    </a:lnTo>
                    <a:lnTo>
                      <a:pt x="113" y="29"/>
                    </a:lnTo>
                    <a:lnTo>
                      <a:pt x="128" y="19"/>
                    </a:lnTo>
                    <a:lnTo>
                      <a:pt x="142" y="12"/>
                    </a:lnTo>
                    <a:lnTo>
                      <a:pt x="157" y="5"/>
                    </a:lnTo>
                    <a:lnTo>
                      <a:pt x="175" y="1"/>
                    </a:lnTo>
                    <a:lnTo>
                      <a:pt x="195" y="0"/>
                    </a:lnTo>
                    <a:lnTo>
                      <a:pt x="218" y="2"/>
                    </a:lnTo>
                    <a:lnTo>
                      <a:pt x="243" y="9"/>
                    </a:lnTo>
                    <a:lnTo>
                      <a:pt x="272" y="19"/>
                    </a:lnTo>
                    <a:lnTo>
                      <a:pt x="302" y="37"/>
                    </a:lnTo>
                    <a:lnTo>
                      <a:pt x="379" y="95"/>
                    </a:lnTo>
                    <a:lnTo>
                      <a:pt x="376" y="95"/>
                    </a:lnTo>
                    <a:lnTo>
                      <a:pt x="368" y="95"/>
                    </a:lnTo>
                    <a:lnTo>
                      <a:pt x="355" y="93"/>
                    </a:lnTo>
                    <a:lnTo>
                      <a:pt x="340" y="92"/>
                    </a:lnTo>
                    <a:lnTo>
                      <a:pt x="323" y="89"/>
                    </a:lnTo>
                    <a:lnTo>
                      <a:pt x="306" y="85"/>
                    </a:lnTo>
                    <a:lnTo>
                      <a:pt x="291" y="80"/>
                    </a:lnTo>
                    <a:lnTo>
                      <a:pt x="277" y="72"/>
                    </a:lnTo>
                    <a:lnTo>
                      <a:pt x="273" y="70"/>
                    </a:lnTo>
                    <a:lnTo>
                      <a:pt x="262" y="66"/>
                    </a:lnTo>
                    <a:lnTo>
                      <a:pt x="244" y="59"/>
                    </a:lnTo>
                    <a:lnTo>
                      <a:pt x="220" y="52"/>
                    </a:lnTo>
                    <a:lnTo>
                      <a:pt x="191" y="50"/>
                    </a:lnTo>
                    <a:lnTo>
                      <a:pt x="158" y="51"/>
                    </a:lnTo>
                    <a:lnTo>
                      <a:pt x="121" y="58"/>
                    </a:lnTo>
                    <a:lnTo>
                      <a:pt x="79" y="72"/>
                    </a:lnTo>
                    <a:lnTo>
                      <a:pt x="78" y="73"/>
                    </a:lnTo>
                    <a:lnTo>
                      <a:pt x="73" y="75"/>
                    </a:lnTo>
                    <a:lnTo>
                      <a:pt x="65" y="77"/>
                    </a:lnTo>
                    <a:lnTo>
                      <a:pt x="55" y="80"/>
                    </a:lnTo>
                    <a:lnTo>
                      <a:pt x="43" y="81"/>
                    </a:lnTo>
                    <a:lnTo>
                      <a:pt x="29" y="80"/>
                    </a:lnTo>
                    <a:lnTo>
                      <a:pt x="15" y="77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2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Freeform 170"/>
              <p:cNvSpPr/>
              <p:nvPr/>
            </p:nvSpPr>
            <p:spPr>
              <a:xfrm>
                <a:off x="4470480" y="1246680"/>
                <a:ext cx="262800" cy="86040"/>
              </a:xfrm>
              <a:custGeom>
                <a:avLst/>
                <a:gdLst/>
                <a:ahLst/>
                <a:rect l="l" t="t" r="r" b="b"/>
                <a:pathLst>
                  <a:path w="382" h="221">
                    <a:moveTo>
                      <a:pt x="0" y="0"/>
                    </a:moveTo>
                    <a:lnTo>
                      <a:pt x="4" y="0"/>
                    </a:lnTo>
                    <a:lnTo>
                      <a:pt x="13" y="0"/>
                    </a:lnTo>
                    <a:lnTo>
                      <a:pt x="27" y="1"/>
                    </a:lnTo>
                    <a:lnTo>
                      <a:pt x="46" y="2"/>
                    </a:lnTo>
                    <a:lnTo>
                      <a:pt x="68" y="6"/>
                    </a:lnTo>
                    <a:lnTo>
                      <a:pt x="95" y="10"/>
                    </a:lnTo>
                    <a:lnTo>
                      <a:pt x="124" y="17"/>
                    </a:lnTo>
                    <a:lnTo>
                      <a:pt x="154" y="26"/>
                    </a:lnTo>
                    <a:lnTo>
                      <a:pt x="185" y="38"/>
                    </a:lnTo>
                    <a:lnTo>
                      <a:pt x="217" y="52"/>
                    </a:lnTo>
                    <a:lnTo>
                      <a:pt x="250" y="71"/>
                    </a:lnTo>
                    <a:lnTo>
                      <a:pt x="280" y="92"/>
                    </a:lnTo>
                    <a:lnTo>
                      <a:pt x="310" y="117"/>
                    </a:lnTo>
                    <a:lnTo>
                      <a:pt x="337" y="147"/>
                    </a:lnTo>
                    <a:lnTo>
                      <a:pt x="362" y="182"/>
                    </a:lnTo>
                    <a:lnTo>
                      <a:pt x="382" y="221"/>
                    </a:lnTo>
                    <a:lnTo>
                      <a:pt x="381" y="220"/>
                    </a:lnTo>
                    <a:lnTo>
                      <a:pt x="376" y="216"/>
                    </a:lnTo>
                    <a:lnTo>
                      <a:pt x="368" y="208"/>
                    </a:lnTo>
                    <a:lnTo>
                      <a:pt x="358" y="200"/>
                    </a:lnTo>
                    <a:lnTo>
                      <a:pt x="344" y="188"/>
                    </a:lnTo>
                    <a:lnTo>
                      <a:pt x="328" y="175"/>
                    </a:lnTo>
                    <a:lnTo>
                      <a:pt x="308" y="160"/>
                    </a:lnTo>
                    <a:lnTo>
                      <a:pt x="286" y="145"/>
                    </a:lnTo>
                    <a:lnTo>
                      <a:pt x="260" y="128"/>
                    </a:lnTo>
                    <a:lnTo>
                      <a:pt x="232" y="110"/>
                    </a:lnTo>
                    <a:lnTo>
                      <a:pt x="200" y="92"/>
                    </a:lnTo>
                    <a:lnTo>
                      <a:pt x="166" y="74"/>
                    </a:lnTo>
                    <a:lnTo>
                      <a:pt x="129" y="54"/>
                    </a:lnTo>
                    <a:lnTo>
                      <a:pt x="88" y="35"/>
                    </a:lnTo>
                    <a:lnTo>
                      <a:pt x="46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Freeform 171"/>
              <p:cNvSpPr/>
              <p:nvPr/>
            </p:nvSpPr>
            <p:spPr>
              <a:xfrm>
                <a:off x="4120560" y="1110960"/>
                <a:ext cx="117720" cy="198000"/>
              </a:xfrm>
              <a:custGeom>
                <a:avLst/>
                <a:gdLst/>
                <a:ahLst/>
                <a:rect l="l" t="t" r="r" b="b"/>
                <a:pathLst>
                  <a:path w="174" h="503">
                    <a:moveTo>
                      <a:pt x="115" y="481"/>
                    </a:moveTo>
                    <a:lnTo>
                      <a:pt x="113" y="468"/>
                    </a:lnTo>
                    <a:lnTo>
                      <a:pt x="108" y="432"/>
                    </a:lnTo>
                    <a:lnTo>
                      <a:pt x="101" y="381"/>
                    </a:lnTo>
                    <a:lnTo>
                      <a:pt x="89" y="318"/>
                    </a:lnTo>
                    <a:lnTo>
                      <a:pt x="73" y="249"/>
                    </a:lnTo>
                    <a:lnTo>
                      <a:pt x="53" y="182"/>
                    </a:lnTo>
                    <a:lnTo>
                      <a:pt x="29" y="120"/>
                    </a:lnTo>
                    <a:lnTo>
                      <a:pt x="0" y="72"/>
                    </a:lnTo>
                    <a:lnTo>
                      <a:pt x="1" y="68"/>
                    </a:lnTo>
                    <a:lnTo>
                      <a:pt x="4" y="58"/>
                    </a:lnTo>
                    <a:lnTo>
                      <a:pt x="9" y="46"/>
                    </a:lnTo>
                    <a:lnTo>
                      <a:pt x="16" y="32"/>
                    </a:lnTo>
                    <a:lnTo>
                      <a:pt x="25" y="18"/>
                    </a:lnTo>
                    <a:lnTo>
                      <a:pt x="38" y="7"/>
                    </a:lnTo>
                    <a:lnTo>
                      <a:pt x="52" y="0"/>
                    </a:lnTo>
                    <a:lnTo>
                      <a:pt x="68" y="2"/>
                    </a:lnTo>
                    <a:lnTo>
                      <a:pt x="113" y="27"/>
                    </a:lnTo>
                    <a:lnTo>
                      <a:pt x="117" y="40"/>
                    </a:lnTo>
                    <a:lnTo>
                      <a:pt x="126" y="75"/>
                    </a:lnTo>
                    <a:lnTo>
                      <a:pt x="137" y="128"/>
                    </a:lnTo>
                    <a:lnTo>
                      <a:pt x="150" y="194"/>
                    </a:lnTo>
                    <a:lnTo>
                      <a:pt x="162" y="266"/>
                    </a:lnTo>
                    <a:lnTo>
                      <a:pt x="171" y="340"/>
                    </a:lnTo>
                    <a:lnTo>
                      <a:pt x="174" y="411"/>
                    </a:lnTo>
                    <a:lnTo>
                      <a:pt x="170" y="473"/>
                    </a:lnTo>
                    <a:lnTo>
                      <a:pt x="169" y="476"/>
                    </a:lnTo>
                    <a:lnTo>
                      <a:pt x="166" y="482"/>
                    </a:lnTo>
                    <a:lnTo>
                      <a:pt x="161" y="490"/>
                    </a:lnTo>
                    <a:lnTo>
                      <a:pt x="156" y="498"/>
                    </a:lnTo>
                    <a:lnTo>
                      <a:pt x="147" y="503"/>
                    </a:lnTo>
                    <a:lnTo>
                      <a:pt x="139" y="503"/>
                    </a:lnTo>
                    <a:lnTo>
                      <a:pt x="127" y="497"/>
                    </a:lnTo>
                    <a:lnTo>
                      <a:pt x="115" y="481"/>
                    </a:lnTo>
                    <a:close/>
                  </a:path>
                </a:pathLst>
              </a:custGeom>
              <a:solidFill>
                <a:srgbClr val="5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Freeform 172"/>
              <p:cNvSpPr/>
              <p:nvPr/>
            </p:nvSpPr>
            <p:spPr>
              <a:xfrm>
                <a:off x="4169880" y="1119240"/>
                <a:ext cx="57960" cy="132840"/>
              </a:xfrm>
              <a:custGeom>
                <a:avLst/>
                <a:gdLst/>
                <a:ahLst/>
                <a:rect l="l" t="t" r="r" b="b"/>
                <a:pathLst>
                  <a:path w="84" h="339">
                    <a:moveTo>
                      <a:pt x="0" y="0"/>
                    </a:moveTo>
                    <a:lnTo>
                      <a:pt x="5" y="1"/>
                    </a:lnTo>
                    <a:lnTo>
                      <a:pt x="16" y="4"/>
                    </a:lnTo>
                    <a:lnTo>
                      <a:pt x="29" y="11"/>
                    </a:lnTo>
                    <a:lnTo>
                      <a:pt x="36" y="21"/>
                    </a:lnTo>
                    <a:lnTo>
                      <a:pt x="39" y="30"/>
                    </a:lnTo>
                    <a:lnTo>
                      <a:pt x="44" y="54"/>
                    </a:lnTo>
                    <a:lnTo>
                      <a:pt x="51" y="90"/>
                    </a:lnTo>
                    <a:lnTo>
                      <a:pt x="60" y="133"/>
                    </a:lnTo>
                    <a:lnTo>
                      <a:pt x="69" y="183"/>
                    </a:lnTo>
                    <a:lnTo>
                      <a:pt x="77" y="236"/>
                    </a:lnTo>
                    <a:lnTo>
                      <a:pt x="83" y="289"/>
                    </a:lnTo>
                    <a:lnTo>
                      <a:pt x="84" y="336"/>
                    </a:lnTo>
                    <a:lnTo>
                      <a:pt x="83" y="337"/>
                    </a:lnTo>
                    <a:lnTo>
                      <a:pt x="79" y="339"/>
                    </a:lnTo>
                    <a:lnTo>
                      <a:pt x="74" y="336"/>
                    </a:lnTo>
                    <a:lnTo>
                      <a:pt x="69" y="328"/>
                    </a:lnTo>
                    <a:lnTo>
                      <a:pt x="68" y="316"/>
                    </a:lnTo>
                    <a:lnTo>
                      <a:pt x="63" y="285"/>
                    </a:lnTo>
                    <a:lnTo>
                      <a:pt x="56" y="240"/>
                    </a:lnTo>
                    <a:lnTo>
                      <a:pt x="48" y="186"/>
                    </a:lnTo>
                    <a:lnTo>
                      <a:pt x="38" y="129"/>
                    </a:lnTo>
                    <a:lnTo>
                      <a:pt x="26" y="75"/>
                    </a:ln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28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173"/>
              <p:cNvSpPr/>
              <p:nvPr/>
            </p:nvSpPr>
            <p:spPr>
              <a:xfrm>
                <a:off x="4130640" y="1134360"/>
                <a:ext cx="88560" cy="176760"/>
              </a:xfrm>
              <a:custGeom>
                <a:avLst/>
                <a:gdLst/>
                <a:ahLst/>
                <a:rect l="l" t="t" r="r" b="b"/>
                <a:pathLst>
                  <a:path w="127" h="450">
                    <a:moveTo>
                      <a:pt x="22" y="0"/>
                    </a:moveTo>
                    <a:lnTo>
                      <a:pt x="25" y="6"/>
                    </a:lnTo>
                    <a:lnTo>
                      <a:pt x="34" y="26"/>
                    </a:lnTo>
                    <a:lnTo>
                      <a:pt x="48" y="59"/>
                    </a:lnTo>
                    <a:lnTo>
                      <a:pt x="66" y="106"/>
                    </a:lnTo>
                    <a:lnTo>
                      <a:pt x="83" y="170"/>
                    </a:lnTo>
                    <a:lnTo>
                      <a:pt x="100" y="247"/>
                    </a:lnTo>
                    <a:lnTo>
                      <a:pt x="116" y="341"/>
                    </a:lnTo>
                    <a:lnTo>
                      <a:pt x="127" y="450"/>
                    </a:lnTo>
                    <a:lnTo>
                      <a:pt x="124" y="449"/>
                    </a:lnTo>
                    <a:lnTo>
                      <a:pt x="116" y="446"/>
                    </a:lnTo>
                    <a:lnTo>
                      <a:pt x="107" y="440"/>
                    </a:lnTo>
                    <a:lnTo>
                      <a:pt x="101" y="429"/>
                    </a:lnTo>
                    <a:lnTo>
                      <a:pt x="100" y="417"/>
                    </a:lnTo>
                    <a:lnTo>
                      <a:pt x="97" y="384"/>
                    </a:lnTo>
                    <a:lnTo>
                      <a:pt x="92" y="335"/>
                    </a:lnTo>
                    <a:lnTo>
                      <a:pt x="84" y="275"/>
                    </a:lnTo>
                    <a:lnTo>
                      <a:pt x="72" y="208"/>
                    </a:lnTo>
                    <a:lnTo>
                      <a:pt x="53" y="139"/>
                    </a:lnTo>
                    <a:lnTo>
                      <a:pt x="30" y="72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5" y="5"/>
                    </a:lnTo>
                    <a:lnTo>
                      <a:pt x="13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174"/>
              <p:cNvSpPr/>
              <p:nvPr/>
            </p:nvSpPr>
            <p:spPr>
              <a:xfrm>
                <a:off x="3776760" y="1209960"/>
                <a:ext cx="245880" cy="42120"/>
              </a:xfrm>
              <a:custGeom>
                <a:avLst/>
                <a:gdLst/>
                <a:ahLst/>
                <a:rect l="l" t="t" r="r" b="b"/>
                <a:pathLst>
                  <a:path w="356" h="110">
                    <a:moveTo>
                      <a:pt x="4" y="73"/>
                    </a:moveTo>
                    <a:lnTo>
                      <a:pt x="5" y="72"/>
                    </a:lnTo>
                    <a:lnTo>
                      <a:pt x="8" y="68"/>
                    </a:lnTo>
                    <a:lnTo>
                      <a:pt x="14" y="62"/>
                    </a:lnTo>
                    <a:lnTo>
                      <a:pt x="22" y="54"/>
                    </a:lnTo>
                    <a:lnTo>
                      <a:pt x="32" y="46"/>
                    </a:lnTo>
                    <a:lnTo>
                      <a:pt x="44" y="35"/>
                    </a:lnTo>
                    <a:lnTo>
                      <a:pt x="61" y="26"/>
                    </a:lnTo>
                    <a:lnTo>
                      <a:pt x="80" y="18"/>
                    </a:lnTo>
                    <a:lnTo>
                      <a:pt x="101" y="10"/>
                    </a:lnTo>
                    <a:lnTo>
                      <a:pt x="126" y="5"/>
                    </a:lnTo>
                    <a:lnTo>
                      <a:pt x="155" y="1"/>
                    </a:lnTo>
                    <a:lnTo>
                      <a:pt x="188" y="0"/>
                    </a:lnTo>
                    <a:lnTo>
                      <a:pt x="223" y="1"/>
                    </a:lnTo>
                    <a:lnTo>
                      <a:pt x="262" y="8"/>
                    </a:lnTo>
                    <a:lnTo>
                      <a:pt x="306" y="18"/>
                    </a:lnTo>
                    <a:lnTo>
                      <a:pt x="354" y="33"/>
                    </a:lnTo>
                    <a:lnTo>
                      <a:pt x="354" y="34"/>
                    </a:lnTo>
                    <a:lnTo>
                      <a:pt x="356" y="37"/>
                    </a:lnTo>
                    <a:lnTo>
                      <a:pt x="356" y="39"/>
                    </a:lnTo>
                    <a:lnTo>
                      <a:pt x="356" y="43"/>
                    </a:lnTo>
                    <a:lnTo>
                      <a:pt x="352" y="47"/>
                    </a:lnTo>
                    <a:lnTo>
                      <a:pt x="346" y="50"/>
                    </a:lnTo>
                    <a:lnTo>
                      <a:pt x="335" y="52"/>
                    </a:lnTo>
                    <a:lnTo>
                      <a:pt x="322" y="52"/>
                    </a:lnTo>
                    <a:lnTo>
                      <a:pt x="312" y="52"/>
                    </a:lnTo>
                    <a:lnTo>
                      <a:pt x="300" y="51"/>
                    </a:lnTo>
                    <a:lnTo>
                      <a:pt x="286" y="51"/>
                    </a:lnTo>
                    <a:lnTo>
                      <a:pt x="270" y="52"/>
                    </a:lnTo>
                    <a:lnTo>
                      <a:pt x="252" y="52"/>
                    </a:lnTo>
                    <a:lnTo>
                      <a:pt x="235" y="54"/>
                    </a:lnTo>
                    <a:lnTo>
                      <a:pt x="216" y="55"/>
                    </a:lnTo>
                    <a:lnTo>
                      <a:pt x="196" y="58"/>
                    </a:lnTo>
                    <a:lnTo>
                      <a:pt x="175" y="60"/>
                    </a:lnTo>
                    <a:lnTo>
                      <a:pt x="155" y="64"/>
                    </a:lnTo>
                    <a:lnTo>
                      <a:pt x="136" y="68"/>
                    </a:lnTo>
                    <a:lnTo>
                      <a:pt x="118" y="75"/>
                    </a:lnTo>
                    <a:lnTo>
                      <a:pt x="100" y="81"/>
                    </a:lnTo>
                    <a:lnTo>
                      <a:pt x="83" y="88"/>
                    </a:lnTo>
                    <a:lnTo>
                      <a:pt x="68" y="97"/>
                    </a:lnTo>
                    <a:lnTo>
                      <a:pt x="55" y="108"/>
                    </a:lnTo>
                    <a:lnTo>
                      <a:pt x="52" y="109"/>
                    </a:lnTo>
                    <a:lnTo>
                      <a:pt x="43" y="110"/>
                    </a:lnTo>
                    <a:lnTo>
                      <a:pt x="33" y="110"/>
                    </a:lnTo>
                    <a:lnTo>
                      <a:pt x="21" y="110"/>
                    </a:lnTo>
                    <a:lnTo>
                      <a:pt x="10" y="108"/>
                    </a:lnTo>
                    <a:lnTo>
                      <a:pt x="3" y="101"/>
                    </a:lnTo>
                    <a:lnTo>
                      <a:pt x="0" y="90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175"/>
              <p:cNvSpPr/>
              <p:nvPr/>
            </p:nvSpPr>
            <p:spPr>
              <a:xfrm>
                <a:off x="3811680" y="1211040"/>
                <a:ext cx="161280" cy="33120"/>
              </a:xfrm>
              <a:custGeom>
                <a:avLst/>
                <a:gdLst/>
                <a:ahLst/>
                <a:rect l="l" t="t" r="r" b="b"/>
                <a:pathLst>
                  <a:path w="234" h="86">
                    <a:moveTo>
                      <a:pt x="4" y="57"/>
                    </a:moveTo>
                    <a:lnTo>
                      <a:pt x="6" y="56"/>
                    </a:lnTo>
                    <a:lnTo>
                      <a:pt x="7" y="53"/>
                    </a:lnTo>
                    <a:lnTo>
                      <a:pt x="11" y="48"/>
                    </a:lnTo>
                    <a:lnTo>
                      <a:pt x="16" y="42"/>
                    </a:lnTo>
                    <a:lnTo>
                      <a:pt x="22" y="36"/>
                    </a:lnTo>
                    <a:lnTo>
                      <a:pt x="31" y="28"/>
                    </a:lnTo>
                    <a:lnTo>
                      <a:pt x="41" y="21"/>
                    </a:lnTo>
                    <a:lnTo>
                      <a:pt x="53" y="15"/>
                    </a:lnTo>
                    <a:lnTo>
                      <a:pt x="67" y="9"/>
                    </a:lnTo>
                    <a:lnTo>
                      <a:pt x="84" y="4"/>
                    </a:lnTo>
                    <a:lnTo>
                      <a:pt x="103" y="2"/>
                    </a:lnTo>
                    <a:lnTo>
                      <a:pt x="124" y="0"/>
                    </a:lnTo>
                    <a:lnTo>
                      <a:pt x="147" y="2"/>
                    </a:lnTo>
                    <a:lnTo>
                      <a:pt x="173" y="6"/>
                    </a:lnTo>
                    <a:lnTo>
                      <a:pt x="201" y="13"/>
                    </a:lnTo>
                    <a:lnTo>
                      <a:pt x="232" y="24"/>
                    </a:lnTo>
                    <a:lnTo>
                      <a:pt x="234" y="27"/>
                    </a:lnTo>
                    <a:lnTo>
                      <a:pt x="234" y="32"/>
                    </a:lnTo>
                    <a:lnTo>
                      <a:pt x="227" y="38"/>
                    </a:lnTo>
                    <a:lnTo>
                      <a:pt x="211" y="40"/>
                    </a:lnTo>
                    <a:lnTo>
                      <a:pt x="197" y="38"/>
                    </a:lnTo>
                    <a:lnTo>
                      <a:pt x="177" y="40"/>
                    </a:lnTo>
                    <a:lnTo>
                      <a:pt x="154" y="41"/>
                    </a:lnTo>
                    <a:lnTo>
                      <a:pt x="129" y="44"/>
                    </a:lnTo>
                    <a:lnTo>
                      <a:pt x="103" y="49"/>
                    </a:lnTo>
                    <a:lnTo>
                      <a:pt x="77" y="57"/>
                    </a:lnTo>
                    <a:lnTo>
                      <a:pt x="55" y="69"/>
                    </a:lnTo>
                    <a:lnTo>
                      <a:pt x="37" y="83"/>
                    </a:lnTo>
                    <a:lnTo>
                      <a:pt x="34" y="83"/>
                    </a:lnTo>
                    <a:lnTo>
                      <a:pt x="29" y="85"/>
                    </a:lnTo>
                    <a:lnTo>
                      <a:pt x="22" y="86"/>
                    </a:lnTo>
                    <a:lnTo>
                      <a:pt x="14" y="85"/>
                    </a:lnTo>
                    <a:lnTo>
                      <a:pt x="8" y="83"/>
                    </a:lnTo>
                    <a:lnTo>
                      <a:pt x="3" y="78"/>
                    </a:lnTo>
                    <a:lnTo>
                      <a:pt x="0" y="69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176"/>
              <p:cNvSpPr/>
              <p:nvPr/>
            </p:nvSpPr>
            <p:spPr>
              <a:xfrm>
                <a:off x="3857400" y="1219320"/>
                <a:ext cx="74160" cy="1404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2" y="24"/>
                    </a:moveTo>
                    <a:lnTo>
                      <a:pt x="3" y="23"/>
                    </a:lnTo>
                    <a:lnTo>
                      <a:pt x="7" y="17"/>
                    </a:lnTo>
                    <a:lnTo>
                      <a:pt x="14" y="12"/>
                    </a:lnTo>
                    <a:lnTo>
                      <a:pt x="25" y="6"/>
                    </a:lnTo>
                    <a:lnTo>
                      <a:pt x="39" y="2"/>
                    </a:lnTo>
                    <a:lnTo>
                      <a:pt x="58" y="0"/>
                    </a:lnTo>
                    <a:lnTo>
                      <a:pt x="81" y="3"/>
                    </a:lnTo>
                    <a:lnTo>
                      <a:pt x="109" y="11"/>
                    </a:lnTo>
                    <a:lnTo>
                      <a:pt x="109" y="12"/>
                    </a:lnTo>
                    <a:lnTo>
                      <a:pt x="109" y="14"/>
                    </a:lnTo>
                    <a:lnTo>
                      <a:pt x="106" y="16"/>
                    </a:lnTo>
                    <a:lnTo>
                      <a:pt x="99" y="17"/>
                    </a:lnTo>
                    <a:lnTo>
                      <a:pt x="92" y="17"/>
                    </a:lnTo>
                    <a:lnTo>
                      <a:pt x="82" y="17"/>
                    </a:lnTo>
                    <a:lnTo>
                      <a:pt x="72" y="17"/>
                    </a:lnTo>
                    <a:lnTo>
                      <a:pt x="59" y="19"/>
                    </a:lnTo>
                    <a:lnTo>
                      <a:pt x="48" y="21"/>
                    </a:lnTo>
                    <a:lnTo>
                      <a:pt x="36" y="24"/>
                    </a:lnTo>
                    <a:lnTo>
                      <a:pt x="25" y="29"/>
                    </a:lnTo>
                    <a:lnTo>
                      <a:pt x="17" y="36"/>
                    </a:lnTo>
                    <a:lnTo>
                      <a:pt x="13" y="36"/>
                    </a:lnTo>
                    <a:lnTo>
                      <a:pt x="7" y="36"/>
                    </a:lnTo>
                    <a:lnTo>
                      <a:pt x="0" y="33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ffc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177"/>
              <p:cNvSpPr/>
              <p:nvPr/>
            </p:nvSpPr>
            <p:spPr>
              <a:xfrm>
                <a:off x="4025160" y="1884600"/>
                <a:ext cx="76320" cy="86040"/>
              </a:xfrm>
              <a:custGeom>
                <a:avLst/>
                <a:gdLst/>
                <a:ahLst/>
                <a:rect l="l" t="t" r="r" b="b"/>
                <a:pathLst>
                  <a:path w="111" h="217">
                    <a:moveTo>
                      <a:pt x="25" y="22"/>
                    </a:moveTo>
                    <a:lnTo>
                      <a:pt x="20" y="46"/>
                    </a:lnTo>
                    <a:lnTo>
                      <a:pt x="9" y="99"/>
                    </a:lnTo>
                    <a:lnTo>
                      <a:pt x="0" y="157"/>
                    </a:lnTo>
                    <a:lnTo>
                      <a:pt x="0" y="195"/>
                    </a:lnTo>
                    <a:lnTo>
                      <a:pt x="5" y="203"/>
                    </a:lnTo>
                    <a:lnTo>
                      <a:pt x="13" y="209"/>
                    </a:lnTo>
                    <a:lnTo>
                      <a:pt x="22" y="213"/>
                    </a:lnTo>
                    <a:lnTo>
                      <a:pt x="32" y="216"/>
                    </a:lnTo>
                    <a:lnTo>
                      <a:pt x="43" y="217"/>
                    </a:lnTo>
                    <a:lnTo>
                      <a:pt x="53" y="217"/>
                    </a:lnTo>
                    <a:lnTo>
                      <a:pt x="62" y="217"/>
                    </a:lnTo>
                    <a:lnTo>
                      <a:pt x="71" y="217"/>
                    </a:lnTo>
                    <a:lnTo>
                      <a:pt x="86" y="211"/>
                    </a:lnTo>
                    <a:lnTo>
                      <a:pt x="97" y="194"/>
                    </a:lnTo>
                    <a:lnTo>
                      <a:pt x="103" y="174"/>
                    </a:lnTo>
                    <a:lnTo>
                      <a:pt x="107" y="155"/>
                    </a:lnTo>
                    <a:lnTo>
                      <a:pt x="107" y="132"/>
                    </a:lnTo>
                    <a:lnTo>
                      <a:pt x="110" y="99"/>
                    </a:lnTo>
                    <a:lnTo>
                      <a:pt x="111" y="70"/>
                    </a:lnTo>
                    <a:lnTo>
                      <a:pt x="111" y="58"/>
                    </a:lnTo>
                    <a:lnTo>
                      <a:pt x="110" y="54"/>
                    </a:lnTo>
                    <a:lnTo>
                      <a:pt x="106" y="44"/>
                    </a:lnTo>
                    <a:lnTo>
                      <a:pt x="100" y="29"/>
                    </a:lnTo>
                    <a:lnTo>
                      <a:pt x="91" y="15"/>
                    </a:lnTo>
                    <a:lnTo>
                      <a:pt x="79" y="4"/>
                    </a:lnTo>
                    <a:lnTo>
                      <a:pt x="64" y="0"/>
                    </a:lnTo>
                    <a:lnTo>
                      <a:pt x="47" y="5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Freeform 178"/>
              <p:cNvSpPr/>
              <p:nvPr/>
            </p:nvSpPr>
            <p:spPr>
              <a:xfrm>
                <a:off x="4308840" y="1911600"/>
                <a:ext cx="68040" cy="82440"/>
              </a:xfrm>
              <a:custGeom>
                <a:avLst/>
                <a:gdLst/>
                <a:ahLst/>
                <a:rect l="l" t="t" r="r" b="b"/>
                <a:pathLst>
                  <a:path w="99" h="198">
                    <a:moveTo>
                      <a:pt x="26" y="21"/>
                    </a:moveTo>
                    <a:lnTo>
                      <a:pt x="20" y="30"/>
                    </a:lnTo>
                    <a:lnTo>
                      <a:pt x="14" y="45"/>
                    </a:lnTo>
                    <a:lnTo>
                      <a:pt x="7" y="65"/>
                    </a:lnTo>
                    <a:lnTo>
                      <a:pt x="2" y="88"/>
                    </a:lnTo>
                    <a:lnTo>
                      <a:pt x="0" y="112"/>
                    </a:lnTo>
                    <a:lnTo>
                      <a:pt x="0" y="136"/>
                    </a:lnTo>
                    <a:lnTo>
                      <a:pt x="4" y="158"/>
                    </a:lnTo>
                    <a:lnTo>
                      <a:pt x="12" y="177"/>
                    </a:lnTo>
                    <a:lnTo>
                      <a:pt x="24" y="190"/>
                    </a:lnTo>
                    <a:lnTo>
                      <a:pt x="36" y="196"/>
                    </a:lnTo>
                    <a:lnTo>
                      <a:pt x="49" y="198"/>
                    </a:lnTo>
                    <a:lnTo>
                      <a:pt x="62" y="195"/>
                    </a:lnTo>
                    <a:lnTo>
                      <a:pt x="74" y="190"/>
                    </a:lnTo>
                    <a:lnTo>
                      <a:pt x="83" y="183"/>
                    </a:lnTo>
                    <a:lnTo>
                      <a:pt x="91" y="175"/>
                    </a:lnTo>
                    <a:lnTo>
                      <a:pt x="96" y="169"/>
                    </a:lnTo>
                    <a:lnTo>
                      <a:pt x="99" y="138"/>
                    </a:lnTo>
                    <a:lnTo>
                      <a:pt x="98" y="90"/>
                    </a:lnTo>
                    <a:lnTo>
                      <a:pt x="94" y="40"/>
                    </a:lnTo>
                    <a:lnTo>
                      <a:pt x="85" y="12"/>
                    </a:lnTo>
                    <a:lnTo>
                      <a:pt x="80" y="7"/>
                    </a:lnTo>
                    <a:lnTo>
                      <a:pt x="75" y="4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57" y="2"/>
                    </a:lnTo>
                    <a:lnTo>
                      <a:pt x="48" y="5"/>
                    </a:lnTo>
                    <a:lnTo>
                      <a:pt x="38" y="12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Freeform 179"/>
              <p:cNvSpPr/>
              <p:nvPr/>
            </p:nvSpPr>
            <p:spPr>
              <a:xfrm>
                <a:off x="4515840" y="1482480"/>
                <a:ext cx="68040" cy="47160"/>
              </a:xfrm>
              <a:custGeom>
                <a:avLst/>
                <a:gdLst/>
                <a:ahLst/>
                <a:rect l="l" t="t" r="r" b="b"/>
                <a:pathLst>
                  <a:path w="100" h="132">
                    <a:moveTo>
                      <a:pt x="71" y="6"/>
                    </a:moveTo>
                    <a:lnTo>
                      <a:pt x="69" y="4"/>
                    </a:lnTo>
                    <a:lnTo>
                      <a:pt x="63" y="3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4" y="2"/>
                    </a:lnTo>
                    <a:lnTo>
                      <a:pt x="24" y="4"/>
                    </a:lnTo>
                    <a:lnTo>
                      <a:pt x="15" y="11"/>
                    </a:lnTo>
                    <a:lnTo>
                      <a:pt x="10" y="23"/>
                    </a:lnTo>
                    <a:lnTo>
                      <a:pt x="3" y="48"/>
                    </a:lnTo>
                    <a:lnTo>
                      <a:pt x="0" y="69"/>
                    </a:lnTo>
                    <a:lnTo>
                      <a:pt x="0" y="87"/>
                    </a:lnTo>
                    <a:lnTo>
                      <a:pt x="1" y="100"/>
                    </a:lnTo>
                    <a:lnTo>
                      <a:pt x="3" y="107"/>
                    </a:lnTo>
                    <a:lnTo>
                      <a:pt x="8" y="112"/>
                    </a:lnTo>
                    <a:lnTo>
                      <a:pt x="15" y="119"/>
                    </a:lnTo>
                    <a:lnTo>
                      <a:pt x="22" y="124"/>
                    </a:lnTo>
                    <a:lnTo>
                      <a:pt x="31" y="129"/>
                    </a:lnTo>
                    <a:lnTo>
                      <a:pt x="39" y="132"/>
                    </a:lnTo>
                    <a:lnTo>
                      <a:pt x="48" y="132"/>
                    </a:lnTo>
                    <a:lnTo>
                      <a:pt x="54" y="131"/>
                    </a:lnTo>
                    <a:lnTo>
                      <a:pt x="60" y="127"/>
                    </a:lnTo>
                    <a:lnTo>
                      <a:pt x="68" y="122"/>
                    </a:lnTo>
                    <a:lnTo>
                      <a:pt x="75" y="114"/>
                    </a:lnTo>
                    <a:lnTo>
                      <a:pt x="82" y="106"/>
                    </a:lnTo>
                    <a:lnTo>
                      <a:pt x="88" y="98"/>
                    </a:lnTo>
                    <a:lnTo>
                      <a:pt x="93" y="89"/>
                    </a:lnTo>
                    <a:lnTo>
                      <a:pt x="97" y="79"/>
                    </a:lnTo>
                    <a:lnTo>
                      <a:pt x="98" y="72"/>
                    </a:lnTo>
                    <a:lnTo>
                      <a:pt x="100" y="53"/>
                    </a:lnTo>
                    <a:lnTo>
                      <a:pt x="99" y="32"/>
                    </a:lnTo>
                    <a:lnTo>
                      <a:pt x="90" y="15"/>
                    </a:lnTo>
                    <a:lnTo>
                      <a:pt x="71" y="6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80"/>
              <p:cNvSpPr/>
              <p:nvPr/>
            </p:nvSpPr>
            <p:spPr>
              <a:xfrm>
                <a:off x="4569840" y="1263240"/>
                <a:ext cx="117720" cy="42480"/>
              </a:xfrm>
              <a:custGeom>
                <a:avLst/>
                <a:gdLst/>
                <a:ahLst/>
                <a:rect l="l" t="t" r="r" b="b"/>
                <a:pathLst>
                  <a:path w="172" h="107">
                    <a:moveTo>
                      <a:pt x="0" y="0"/>
                    </a:moveTo>
                    <a:lnTo>
                      <a:pt x="5" y="2"/>
                    </a:lnTo>
                    <a:lnTo>
                      <a:pt x="19" y="8"/>
                    </a:lnTo>
                    <a:lnTo>
                      <a:pt x="39" y="17"/>
                    </a:lnTo>
                    <a:lnTo>
                      <a:pt x="65" y="29"/>
                    </a:lnTo>
                    <a:lnTo>
                      <a:pt x="93" y="45"/>
                    </a:lnTo>
                    <a:lnTo>
                      <a:pt x="122" y="63"/>
                    </a:lnTo>
                    <a:lnTo>
                      <a:pt x="148" y="83"/>
                    </a:lnTo>
                    <a:lnTo>
                      <a:pt x="172" y="107"/>
                    </a:lnTo>
                    <a:lnTo>
                      <a:pt x="171" y="104"/>
                    </a:lnTo>
                    <a:lnTo>
                      <a:pt x="165" y="95"/>
                    </a:lnTo>
                    <a:lnTo>
                      <a:pt x="153" y="82"/>
                    </a:lnTo>
                    <a:lnTo>
                      <a:pt x="137" y="66"/>
                    </a:lnTo>
                    <a:lnTo>
                      <a:pt x="114" y="49"/>
                    </a:lnTo>
                    <a:lnTo>
                      <a:pt x="84" y="32"/>
                    </a:lnTo>
                    <a:lnTo>
                      <a:pt x="4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2" name="TextBox 323"/>
            <p:cNvSpPr/>
            <p:nvPr/>
          </p:nvSpPr>
          <p:spPr>
            <a:xfrm>
              <a:off x="3543120" y="127008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留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3" name="组合 321"/>
          <p:cNvGrpSpPr/>
          <p:nvPr/>
        </p:nvGrpSpPr>
        <p:grpSpPr>
          <a:xfrm>
            <a:off x="4859280" y="1492200"/>
            <a:ext cx="1596600" cy="1027080"/>
            <a:chOff x="4859280" y="1492200"/>
            <a:chExt cx="1596600" cy="1027080"/>
          </a:xfrm>
        </p:grpSpPr>
        <p:grpSp>
          <p:nvGrpSpPr>
            <p:cNvPr id="404" name="Group 152"/>
            <p:cNvGrpSpPr/>
            <p:nvPr/>
          </p:nvGrpSpPr>
          <p:grpSpPr>
            <a:xfrm>
              <a:off x="4859280" y="1492200"/>
              <a:ext cx="1596600" cy="1027080"/>
              <a:chOff x="4859280" y="1492200"/>
              <a:chExt cx="1596600" cy="1027080"/>
            </a:xfrm>
          </p:grpSpPr>
          <p:sp>
            <p:nvSpPr>
              <p:cNvPr id="405" name="AutoShape 151"/>
              <p:cNvSpPr/>
              <p:nvPr/>
            </p:nvSpPr>
            <p:spPr>
              <a:xfrm>
                <a:off x="4859280" y="1492200"/>
                <a:ext cx="1596600" cy="10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153"/>
              <p:cNvSpPr/>
              <p:nvPr/>
            </p:nvSpPr>
            <p:spPr>
              <a:xfrm>
                <a:off x="5766120" y="2513160"/>
                <a:ext cx="10080" cy="10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4"/>
                    </a:moveTo>
                    <a:lnTo>
                      <a:pt x="18" y="4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154"/>
              <p:cNvSpPr/>
              <p:nvPr/>
            </p:nvSpPr>
            <p:spPr>
              <a:xfrm>
                <a:off x="4939920" y="1492200"/>
                <a:ext cx="1495080" cy="1025640"/>
              </a:xfrm>
              <a:custGeom>
                <a:avLst/>
                <a:gdLst/>
                <a:ahLst/>
                <a:rect l="l" t="t" r="r" b="b"/>
                <a:pathLst>
                  <a:path w="2166" h="2610">
                    <a:moveTo>
                      <a:pt x="1719" y="348"/>
                    </a:moveTo>
                    <a:lnTo>
                      <a:pt x="1679" y="335"/>
                    </a:lnTo>
                    <a:lnTo>
                      <a:pt x="1643" y="323"/>
                    </a:lnTo>
                    <a:lnTo>
                      <a:pt x="1609" y="313"/>
                    </a:lnTo>
                    <a:lnTo>
                      <a:pt x="1576" y="306"/>
                    </a:lnTo>
                    <a:lnTo>
                      <a:pt x="1545" y="300"/>
                    </a:lnTo>
                    <a:lnTo>
                      <a:pt x="1514" y="296"/>
                    </a:lnTo>
                    <a:lnTo>
                      <a:pt x="1487" y="294"/>
                    </a:lnTo>
                    <a:lnTo>
                      <a:pt x="1460" y="292"/>
                    </a:lnTo>
                    <a:lnTo>
                      <a:pt x="1434" y="292"/>
                    </a:lnTo>
                    <a:lnTo>
                      <a:pt x="1409" y="292"/>
                    </a:lnTo>
                    <a:lnTo>
                      <a:pt x="1385" y="295"/>
                    </a:lnTo>
                    <a:lnTo>
                      <a:pt x="1362" y="298"/>
                    </a:lnTo>
                    <a:lnTo>
                      <a:pt x="1338" y="300"/>
                    </a:lnTo>
                    <a:lnTo>
                      <a:pt x="1317" y="304"/>
                    </a:lnTo>
                    <a:lnTo>
                      <a:pt x="1294" y="308"/>
                    </a:lnTo>
                    <a:lnTo>
                      <a:pt x="1273" y="312"/>
                    </a:lnTo>
                    <a:lnTo>
                      <a:pt x="1271" y="312"/>
                    </a:lnTo>
                    <a:lnTo>
                      <a:pt x="1269" y="312"/>
                    </a:lnTo>
                    <a:lnTo>
                      <a:pt x="1265" y="313"/>
                    </a:lnTo>
                    <a:lnTo>
                      <a:pt x="1260" y="313"/>
                    </a:lnTo>
                    <a:lnTo>
                      <a:pt x="1254" y="277"/>
                    </a:lnTo>
                    <a:lnTo>
                      <a:pt x="1246" y="237"/>
                    </a:lnTo>
                    <a:lnTo>
                      <a:pt x="1239" y="194"/>
                    </a:lnTo>
                    <a:lnTo>
                      <a:pt x="1232" y="153"/>
                    </a:lnTo>
                    <a:lnTo>
                      <a:pt x="1225" y="116"/>
                    </a:lnTo>
                    <a:lnTo>
                      <a:pt x="1220" y="87"/>
                    </a:lnTo>
                    <a:lnTo>
                      <a:pt x="1216" y="67"/>
                    </a:lnTo>
                    <a:lnTo>
                      <a:pt x="1215" y="59"/>
                    </a:lnTo>
                    <a:lnTo>
                      <a:pt x="1162" y="40"/>
                    </a:lnTo>
                    <a:lnTo>
                      <a:pt x="1106" y="9"/>
                    </a:lnTo>
                    <a:lnTo>
                      <a:pt x="1095" y="7"/>
                    </a:lnTo>
                    <a:lnTo>
                      <a:pt x="1090" y="5"/>
                    </a:lnTo>
                    <a:lnTo>
                      <a:pt x="1085" y="4"/>
                    </a:lnTo>
                    <a:lnTo>
                      <a:pt x="1080" y="3"/>
                    </a:lnTo>
                    <a:lnTo>
                      <a:pt x="1075" y="1"/>
                    </a:lnTo>
                    <a:lnTo>
                      <a:pt x="1068" y="1"/>
                    </a:lnTo>
                    <a:lnTo>
                      <a:pt x="1063" y="0"/>
                    </a:lnTo>
                    <a:lnTo>
                      <a:pt x="1058" y="0"/>
                    </a:lnTo>
                    <a:lnTo>
                      <a:pt x="1053" y="0"/>
                    </a:lnTo>
                    <a:lnTo>
                      <a:pt x="1048" y="0"/>
                    </a:lnTo>
                    <a:lnTo>
                      <a:pt x="1043" y="0"/>
                    </a:lnTo>
                    <a:lnTo>
                      <a:pt x="1038" y="1"/>
                    </a:lnTo>
                    <a:lnTo>
                      <a:pt x="1034" y="1"/>
                    </a:lnTo>
                    <a:lnTo>
                      <a:pt x="1029" y="3"/>
                    </a:lnTo>
                    <a:lnTo>
                      <a:pt x="1024" y="4"/>
                    </a:lnTo>
                    <a:lnTo>
                      <a:pt x="1019" y="5"/>
                    </a:lnTo>
                    <a:lnTo>
                      <a:pt x="1014" y="7"/>
                    </a:lnTo>
                    <a:lnTo>
                      <a:pt x="994" y="14"/>
                    </a:lnTo>
                    <a:lnTo>
                      <a:pt x="974" y="26"/>
                    </a:lnTo>
                    <a:lnTo>
                      <a:pt x="955" y="42"/>
                    </a:lnTo>
                    <a:lnTo>
                      <a:pt x="939" y="61"/>
                    </a:lnTo>
                    <a:lnTo>
                      <a:pt x="924" y="82"/>
                    </a:lnTo>
                    <a:lnTo>
                      <a:pt x="911" y="107"/>
                    </a:lnTo>
                    <a:lnTo>
                      <a:pt x="900" y="133"/>
                    </a:lnTo>
                    <a:lnTo>
                      <a:pt x="891" y="163"/>
                    </a:lnTo>
                    <a:lnTo>
                      <a:pt x="877" y="228"/>
                    </a:lnTo>
                    <a:lnTo>
                      <a:pt x="878" y="230"/>
                    </a:lnTo>
                    <a:lnTo>
                      <a:pt x="883" y="236"/>
                    </a:lnTo>
                    <a:lnTo>
                      <a:pt x="888" y="244"/>
                    </a:lnTo>
                    <a:lnTo>
                      <a:pt x="896" y="253"/>
                    </a:lnTo>
                    <a:lnTo>
                      <a:pt x="872" y="248"/>
                    </a:lnTo>
                    <a:lnTo>
                      <a:pt x="848" y="242"/>
                    </a:lnTo>
                    <a:lnTo>
                      <a:pt x="823" y="237"/>
                    </a:lnTo>
                    <a:lnTo>
                      <a:pt x="796" y="233"/>
                    </a:lnTo>
                    <a:lnTo>
                      <a:pt x="770" y="230"/>
                    </a:lnTo>
                    <a:lnTo>
                      <a:pt x="743" y="229"/>
                    </a:lnTo>
                    <a:lnTo>
                      <a:pt x="716" y="228"/>
                    </a:lnTo>
                    <a:lnTo>
                      <a:pt x="688" y="228"/>
                    </a:lnTo>
                    <a:lnTo>
                      <a:pt x="660" y="229"/>
                    </a:lnTo>
                    <a:lnTo>
                      <a:pt x="633" y="230"/>
                    </a:lnTo>
                    <a:lnTo>
                      <a:pt x="604" y="234"/>
                    </a:lnTo>
                    <a:lnTo>
                      <a:pt x="575" y="240"/>
                    </a:lnTo>
                    <a:lnTo>
                      <a:pt x="547" y="245"/>
                    </a:lnTo>
                    <a:lnTo>
                      <a:pt x="518" y="253"/>
                    </a:lnTo>
                    <a:lnTo>
                      <a:pt x="489" y="262"/>
                    </a:lnTo>
                    <a:lnTo>
                      <a:pt x="461" y="271"/>
                    </a:lnTo>
                    <a:lnTo>
                      <a:pt x="432" y="283"/>
                    </a:lnTo>
                    <a:lnTo>
                      <a:pt x="405" y="298"/>
                    </a:lnTo>
                    <a:lnTo>
                      <a:pt x="377" y="312"/>
                    </a:lnTo>
                    <a:lnTo>
                      <a:pt x="350" y="329"/>
                    </a:lnTo>
                    <a:lnTo>
                      <a:pt x="324" y="349"/>
                    </a:lnTo>
                    <a:lnTo>
                      <a:pt x="297" y="369"/>
                    </a:lnTo>
                    <a:lnTo>
                      <a:pt x="271" y="391"/>
                    </a:lnTo>
                    <a:lnTo>
                      <a:pt x="246" y="416"/>
                    </a:lnTo>
                    <a:lnTo>
                      <a:pt x="222" y="443"/>
                    </a:lnTo>
                    <a:lnTo>
                      <a:pt x="198" y="471"/>
                    </a:lnTo>
                    <a:lnTo>
                      <a:pt x="175" y="503"/>
                    </a:lnTo>
                    <a:lnTo>
                      <a:pt x="154" y="536"/>
                    </a:lnTo>
                    <a:lnTo>
                      <a:pt x="134" y="572"/>
                    </a:lnTo>
                    <a:lnTo>
                      <a:pt x="114" y="610"/>
                    </a:lnTo>
                    <a:lnTo>
                      <a:pt x="95" y="649"/>
                    </a:lnTo>
                    <a:lnTo>
                      <a:pt x="77" y="693"/>
                    </a:lnTo>
                    <a:lnTo>
                      <a:pt x="73" y="701"/>
                    </a:lnTo>
                    <a:lnTo>
                      <a:pt x="67" y="718"/>
                    </a:lnTo>
                    <a:lnTo>
                      <a:pt x="58" y="744"/>
                    </a:lnTo>
                    <a:lnTo>
                      <a:pt x="48" y="778"/>
                    </a:lnTo>
                    <a:lnTo>
                      <a:pt x="37" y="822"/>
                    </a:lnTo>
                    <a:lnTo>
                      <a:pt x="25" y="872"/>
                    </a:lnTo>
                    <a:lnTo>
                      <a:pt x="15" y="931"/>
                    </a:lnTo>
                    <a:lnTo>
                      <a:pt x="6" y="996"/>
                    </a:lnTo>
                    <a:lnTo>
                      <a:pt x="1" y="1068"/>
                    </a:lnTo>
                    <a:lnTo>
                      <a:pt x="0" y="1146"/>
                    </a:lnTo>
                    <a:lnTo>
                      <a:pt x="3" y="1230"/>
                    </a:lnTo>
                    <a:lnTo>
                      <a:pt x="10" y="1320"/>
                    </a:lnTo>
                    <a:lnTo>
                      <a:pt x="25" y="1413"/>
                    </a:lnTo>
                    <a:lnTo>
                      <a:pt x="47" y="1512"/>
                    </a:lnTo>
                    <a:lnTo>
                      <a:pt x="77" y="1615"/>
                    </a:lnTo>
                    <a:lnTo>
                      <a:pt x="116" y="1721"/>
                    </a:lnTo>
                    <a:lnTo>
                      <a:pt x="149" y="1798"/>
                    </a:lnTo>
                    <a:lnTo>
                      <a:pt x="183" y="1873"/>
                    </a:lnTo>
                    <a:lnTo>
                      <a:pt x="219" y="1944"/>
                    </a:lnTo>
                    <a:lnTo>
                      <a:pt x="258" y="2014"/>
                    </a:lnTo>
                    <a:lnTo>
                      <a:pt x="296" y="2081"/>
                    </a:lnTo>
                    <a:lnTo>
                      <a:pt x="335" y="2144"/>
                    </a:lnTo>
                    <a:lnTo>
                      <a:pt x="373" y="2203"/>
                    </a:lnTo>
                    <a:lnTo>
                      <a:pt x="410" y="2259"/>
                    </a:lnTo>
                    <a:lnTo>
                      <a:pt x="445" y="2310"/>
                    </a:lnTo>
                    <a:lnTo>
                      <a:pt x="478" y="2355"/>
                    </a:lnTo>
                    <a:lnTo>
                      <a:pt x="507" y="2396"/>
                    </a:lnTo>
                    <a:lnTo>
                      <a:pt x="533" y="2430"/>
                    </a:lnTo>
                    <a:lnTo>
                      <a:pt x="554" y="2458"/>
                    </a:lnTo>
                    <a:lnTo>
                      <a:pt x="572" y="2479"/>
                    </a:lnTo>
                    <a:lnTo>
                      <a:pt x="583" y="2493"/>
                    </a:lnTo>
                    <a:lnTo>
                      <a:pt x="588" y="2500"/>
                    </a:lnTo>
                    <a:lnTo>
                      <a:pt x="594" y="2505"/>
                    </a:lnTo>
                    <a:lnTo>
                      <a:pt x="600" y="2510"/>
                    </a:lnTo>
                    <a:lnTo>
                      <a:pt x="616" y="2523"/>
                    </a:lnTo>
                    <a:lnTo>
                      <a:pt x="635" y="2537"/>
                    </a:lnTo>
                    <a:lnTo>
                      <a:pt x="657" y="2550"/>
                    </a:lnTo>
                    <a:lnTo>
                      <a:pt x="679" y="2563"/>
                    </a:lnTo>
                    <a:lnTo>
                      <a:pt x="704" y="2575"/>
                    </a:lnTo>
                    <a:lnTo>
                      <a:pt x="731" y="2585"/>
                    </a:lnTo>
                    <a:lnTo>
                      <a:pt x="760" y="2593"/>
                    </a:lnTo>
                    <a:lnTo>
                      <a:pt x="789" y="2600"/>
                    </a:lnTo>
                    <a:lnTo>
                      <a:pt x="806" y="2602"/>
                    </a:lnTo>
                    <a:lnTo>
                      <a:pt x="825" y="2605"/>
                    </a:lnTo>
                    <a:lnTo>
                      <a:pt x="843" y="2605"/>
                    </a:lnTo>
                    <a:lnTo>
                      <a:pt x="862" y="2605"/>
                    </a:lnTo>
                    <a:lnTo>
                      <a:pt x="881" y="2602"/>
                    </a:lnTo>
                    <a:lnTo>
                      <a:pt x="900" y="2600"/>
                    </a:lnTo>
                    <a:lnTo>
                      <a:pt x="919" y="2595"/>
                    </a:lnTo>
                    <a:lnTo>
                      <a:pt x="937" y="2588"/>
                    </a:lnTo>
                    <a:lnTo>
                      <a:pt x="954" y="2580"/>
                    </a:lnTo>
                    <a:lnTo>
                      <a:pt x="912" y="2589"/>
                    </a:lnTo>
                    <a:lnTo>
                      <a:pt x="999" y="2570"/>
                    </a:lnTo>
                    <a:lnTo>
                      <a:pt x="1008" y="2567"/>
                    </a:lnTo>
                    <a:lnTo>
                      <a:pt x="1017" y="2564"/>
                    </a:lnTo>
                    <a:lnTo>
                      <a:pt x="1024" y="2562"/>
                    </a:lnTo>
                    <a:lnTo>
                      <a:pt x="1033" y="2560"/>
                    </a:lnTo>
                    <a:lnTo>
                      <a:pt x="1042" y="2559"/>
                    </a:lnTo>
                    <a:lnTo>
                      <a:pt x="1051" y="2558"/>
                    </a:lnTo>
                    <a:lnTo>
                      <a:pt x="1061" y="2558"/>
                    </a:lnTo>
                    <a:lnTo>
                      <a:pt x="1070" y="2559"/>
                    </a:lnTo>
                    <a:lnTo>
                      <a:pt x="1075" y="2560"/>
                    </a:lnTo>
                    <a:lnTo>
                      <a:pt x="1087" y="2564"/>
                    </a:lnTo>
                    <a:lnTo>
                      <a:pt x="1100" y="2568"/>
                    </a:lnTo>
                    <a:lnTo>
                      <a:pt x="1105" y="2570"/>
                    </a:lnTo>
                    <a:lnTo>
                      <a:pt x="1096" y="2563"/>
                    </a:lnTo>
                    <a:lnTo>
                      <a:pt x="1106" y="2570"/>
                    </a:lnTo>
                    <a:lnTo>
                      <a:pt x="1119" y="2576"/>
                    </a:lnTo>
                    <a:lnTo>
                      <a:pt x="1131" y="2581"/>
                    </a:lnTo>
                    <a:lnTo>
                      <a:pt x="1145" y="2587"/>
                    </a:lnTo>
                    <a:lnTo>
                      <a:pt x="1160" y="2591"/>
                    </a:lnTo>
                    <a:lnTo>
                      <a:pt x="1176" y="2595"/>
                    </a:lnTo>
                    <a:lnTo>
                      <a:pt x="1193" y="2597"/>
                    </a:lnTo>
                    <a:lnTo>
                      <a:pt x="1211" y="2600"/>
                    </a:lnTo>
                    <a:lnTo>
                      <a:pt x="1231" y="2604"/>
                    </a:lnTo>
                    <a:lnTo>
                      <a:pt x="1250" y="2608"/>
                    </a:lnTo>
                    <a:lnTo>
                      <a:pt x="1268" y="2609"/>
                    </a:lnTo>
                    <a:lnTo>
                      <a:pt x="1286" y="2610"/>
                    </a:lnTo>
                    <a:lnTo>
                      <a:pt x="1303" y="2610"/>
                    </a:lnTo>
                    <a:lnTo>
                      <a:pt x="1319" y="2610"/>
                    </a:lnTo>
                    <a:lnTo>
                      <a:pt x="1336" y="2609"/>
                    </a:lnTo>
                    <a:lnTo>
                      <a:pt x="1351" y="2608"/>
                    </a:lnTo>
                    <a:lnTo>
                      <a:pt x="1372" y="2604"/>
                    </a:lnTo>
                    <a:lnTo>
                      <a:pt x="1391" y="2600"/>
                    </a:lnTo>
                    <a:lnTo>
                      <a:pt x="1409" y="2596"/>
                    </a:lnTo>
                    <a:lnTo>
                      <a:pt x="1422" y="2591"/>
                    </a:lnTo>
                    <a:lnTo>
                      <a:pt x="1435" y="2585"/>
                    </a:lnTo>
                    <a:lnTo>
                      <a:pt x="1445" y="2581"/>
                    </a:lnTo>
                    <a:lnTo>
                      <a:pt x="1453" y="2579"/>
                    </a:lnTo>
                    <a:lnTo>
                      <a:pt x="1456" y="2576"/>
                    </a:lnTo>
                    <a:lnTo>
                      <a:pt x="1519" y="2530"/>
                    </a:lnTo>
                    <a:lnTo>
                      <a:pt x="1581" y="2476"/>
                    </a:lnTo>
                    <a:lnTo>
                      <a:pt x="1642" y="2415"/>
                    </a:lnTo>
                    <a:lnTo>
                      <a:pt x="1701" y="2350"/>
                    </a:lnTo>
                    <a:lnTo>
                      <a:pt x="1759" y="2278"/>
                    </a:lnTo>
                    <a:lnTo>
                      <a:pt x="1813" y="2203"/>
                    </a:lnTo>
                    <a:lnTo>
                      <a:pt x="1866" y="2124"/>
                    </a:lnTo>
                    <a:lnTo>
                      <a:pt x="1915" y="2040"/>
                    </a:lnTo>
                    <a:lnTo>
                      <a:pt x="1962" y="1954"/>
                    </a:lnTo>
                    <a:lnTo>
                      <a:pt x="2005" y="1868"/>
                    </a:lnTo>
                    <a:lnTo>
                      <a:pt x="2042" y="1778"/>
                    </a:lnTo>
                    <a:lnTo>
                      <a:pt x="2076" y="1688"/>
                    </a:lnTo>
                    <a:lnTo>
                      <a:pt x="2105" y="1598"/>
                    </a:lnTo>
                    <a:lnTo>
                      <a:pt x="2128" y="1508"/>
                    </a:lnTo>
                    <a:lnTo>
                      <a:pt x="2147" y="1418"/>
                    </a:lnTo>
                    <a:lnTo>
                      <a:pt x="2158" y="1332"/>
                    </a:lnTo>
                    <a:lnTo>
                      <a:pt x="2163" y="1262"/>
                    </a:lnTo>
                    <a:lnTo>
                      <a:pt x="2166" y="1189"/>
                    </a:lnTo>
                    <a:lnTo>
                      <a:pt x="2165" y="1117"/>
                    </a:lnTo>
                    <a:lnTo>
                      <a:pt x="2159" y="1043"/>
                    </a:lnTo>
                    <a:lnTo>
                      <a:pt x="2151" y="969"/>
                    </a:lnTo>
                    <a:lnTo>
                      <a:pt x="2138" y="897"/>
                    </a:lnTo>
                    <a:lnTo>
                      <a:pt x="2120" y="826"/>
                    </a:lnTo>
                    <a:lnTo>
                      <a:pt x="2098" y="756"/>
                    </a:lnTo>
                    <a:lnTo>
                      <a:pt x="2070" y="689"/>
                    </a:lnTo>
                    <a:lnTo>
                      <a:pt x="2037" y="626"/>
                    </a:lnTo>
                    <a:lnTo>
                      <a:pt x="1999" y="566"/>
                    </a:lnTo>
                    <a:lnTo>
                      <a:pt x="1955" y="511"/>
                    </a:lnTo>
                    <a:lnTo>
                      <a:pt x="1906" y="461"/>
                    </a:lnTo>
                    <a:lnTo>
                      <a:pt x="1850" y="416"/>
                    </a:lnTo>
                    <a:lnTo>
                      <a:pt x="1788" y="379"/>
                    </a:lnTo>
                    <a:lnTo>
                      <a:pt x="1719" y="3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155"/>
              <p:cNvSpPr/>
              <p:nvPr/>
            </p:nvSpPr>
            <p:spPr>
              <a:xfrm>
                <a:off x="5016600" y="1631160"/>
                <a:ext cx="1348200" cy="853560"/>
              </a:xfrm>
              <a:custGeom>
                <a:avLst/>
                <a:gdLst/>
                <a:ahLst/>
                <a:rect l="l" t="t" r="r" b="b"/>
                <a:pathLst>
                  <a:path w="1953" h="2172">
                    <a:moveTo>
                      <a:pt x="102" y="1337"/>
                    </a:moveTo>
                    <a:lnTo>
                      <a:pt x="67" y="1237"/>
                    </a:lnTo>
                    <a:lnTo>
                      <a:pt x="41" y="1141"/>
                    </a:lnTo>
                    <a:lnTo>
                      <a:pt x="20" y="1049"/>
                    </a:lnTo>
                    <a:lnTo>
                      <a:pt x="8" y="962"/>
                    </a:lnTo>
                    <a:lnTo>
                      <a:pt x="2" y="879"/>
                    </a:lnTo>
                    <a:lnTo>
                      <a:pt x="0" y="801"/>
                    </a:lnTo>
                    <a:lnTo>
                      <a:pt x="2" y="730"/>
                    </a:lnTo>
                    <a:lnTo>
                      <a:pt x="8" y="663"/>
                    </a:lnTo>
                    <a:lnTo>
                      <a:pt x="15" y="603"/>
                    </a:lnTo>
                    <a:lnTo>
                      <a:pt x="25" y="551"/>
                    </a:lnTo>
                    <a:lnTo>
                      <a:pt x="37" y="505"/>
                    </a:lnTo>
                    <a:lnTo>
                      <a:pt x="47" y="467"/>
                    </a:lnTo>
                    <a:lnTo>
                      <a:pt x="57" y="436"/>
                    </a:lnTo>
                    <a:lnTo>
                      <a:pt x="65" y="414"/>
                    </a:lnTo>
                    <a:lnTo>
                      <a:pt x="70" y="401"/>
                    </a:lnTo>
                    <a:lnTo>
                      <a:pt x="72" y="395"/>
                    </a:lnTo>
                    <a:lnTo>
                      <a:pt x="120" y="293"/>
                    </a:lnTo>
                    <a:lnTo>
                      <a:pt x="174" y="210"/>
                    </a:lnTo>
                    <a:lnTo>
                      <a:pt x="233" y="143"/>
                    </a:lnTo>
                    <a:lnTo>
                      <a:pt x="295" y="90"/>
                    </a:lnTo>
                    <a:lnTo>
                      <a:pt x="359" y="52"/>
                    </a:lnTo>
                    <a:lnTo>
                      <a:pt x="426" y="25"/>
                    </a:lnTo>
                    <a:lnTo>
                      <a:pt x="492" y="10"/>
                    </a:lnTo>
                    <a:lnTo>
                      <a:pt x="556" y="2"/>
                    </a:lnTo>
                    <a:lnTo>
                      <a:pt x="616" y="0"/>
                    </a:lnTo>
                    <a:lnTo>
                      <a:pt x="674" y="6"/>
                    </a:lnTo>
                    <a:lnTo>
                      <a:pt x="726" y="13"/>
                    </a:lnTo>
                    <a:lnTo>
                      <a:pt x="771" y="24"/>
                    </a:lnTo>
                    <a:lnTo>
                      <a:pt x="808" y="36"/>
                    </a:lnTo>
                    <a:lnTo>
                      <a:pt x="837" y="45"/>
                    </a:lnTo>
                    <a:lnTo>
                      <a:pt x="854" y="53"/>
                    </a:lnTo>
                    <a:lnTo>
                      <a:pt x="861" y="56"/>
                    </a:lnTo>
                    <a:lnTo>
                      <a:pt x="881" y="60"/>
                    </a:lnTo>
                    <a:lnTo>
                      <a:pt x="901" y="62"/>
                    </a:lnTo>
                    <a:lnTo>
                      <a:pt x="920" y="66"/>
                    </a:lnTo>
                    <a:lnTo>
                      <a:pt x="938" y="70"/>
                    </a:lnTo>
                    <a:lnTo>
                      <a:pt x="956" y="74"/>
                    </a:lnTo>
                    <a:lnTo>
                      <a:pt x="974" y="78"/>
                    </a:lnTo>
                    <a:lnTo>
                      <a:pt x="990" y="81"/>
                    </a:lnTo>
                    <a:lnTo>
                      <a:pt x="1008" y="83"/>
                    </a:lnTo>
                    <a:lnTo>
                      <a:pt x="1026" y="86"/>
                    </a:lnTo>
                    <a:lnTo>
                      <a:pt x="1042" y="89"/>
                    </a:lnTo>
                    <a:lnTo>
                      <a:pt x="1060" y="90"/>
                    </a:lnTo>
                    <a:lnTo>
                      <a:pt x="1079" y="91"/>
                    </a:lnTo>
                    <a:lnTo>
                      <a:pt x="1098" y="91"/>
                    </a:lnTo>
                    <a:lnTo>
                      <a:pt x="1116" y="90"/>
                    </a:lnTo>
                    <a:lnTo>
                      <a:pt x="1137" y="87"/>
                    </a:lnTo>
                    <a:lnTo>
                      <a:pt x="1158" y="85"/>
                    </a:lnTo>
                    <a:lnTo>
                      <a:pt x="1179" y="81"/>
                    </a:lnTo>
                    <a:lnTo>
                      <a:pt x="1201" y="77"/>
                    </a:lnTo>
                    <a:lnTo>
                      <a:pt x="1222" y="73"/>
                    </a:lnTo>
                    <a:lnTo>
                      <a:pt x="1242" y="69"/>
                    </a:lnTo>
                    <a:lnTo>
                      <a:pt x="1265" y="66"/>
                    </a:lnTo>
                    <a:lnTo>
                      <a:pt x="1287" y="64"/>
                    </a:lnTo>
                    <a:lnTo>
                      <a:pt x="1309" y="62"/>
                    </a:lnTo>
                    <a:lnTo>
                      <a:pt x="1333" y="61"/>
                    </a:lnTo>
                    <a:lnTo>
                      <a:pt x="1357" y="62"/>
                    </a:lnTo>
                    <a:lnTo>
                      <a:pt x="1384" y="64"/>
                    </a:lnTo>
                    <a:lnTo>
                      <a:pt x="1410" y="67"/>
                    </a:lnTo>
                    <a:lnTo>
                      <a:pt x="1438" y="71"/>
                    </a:lnTo>
                    <a:lnTo>
                      <a:pt x="1468" y="78"/>
                    </a:lnTo>
                    <a:lnTo>
                      <a:pt x="1501" y="86"/>
                    </a:lnTo>
                    <a:lnTo>
                      <a:pt x="1533" y="96"/>
                    </a:lnTo>
                    <a:lnTo>
                      <a:pt x="1570" y="110"/>
                    </a:lnTo>
                    <a:lnTo>
                      <a:pt x="1630" y="137"/>
                    </a:lnTo>
                    <a:lnTo>
                      <a:pt x="1686" y="170"/>
                    </a:lnTo>
                    <a:lnTo>
                      <a:pt x="1734" y="210"/>
                    </a:lnTo>
                    <a:lnTo>
                      <a:pt x="1777" y="254"/>
                    </a:lnTo>
                    <a:lnTo>
                      <a:pt x="1814" y="305"/>
                    </a:lnTo>
                    <a:lnTo>
                      <a:pt x="1847" y="359"/>
                    </a:lnTo>
                    <a:lnTo>
                      <a:pt x="1875" y="415"/>
                    </a:lnTo>
                    <a:lnTo>
                      <a:pt x="1898" y="474"/>
                    </a:lnTo>
                    <a:lnTo>
                      <a:pt x="1915" y="536"/>
                    </a:lnTo>
                    <a:lnTo>
                      <a:pt x="1930" y="600"/>
                    </a:lnTo>
                    <a:lnTo>
                      <a:pt x="1940" y="663"/>
                    </a:lnTo>
                    <a:lnTo>
                      <a:pt x="1948" y="727"/>
                    </a:lnTo>
                    <a:lnTo>
                      <a:pt x="1952" y="792"/>
                    </a:lnTo>
                    <a:lnTo>
                      <a:pt x="1953" y="854"/>
                    </a:lnTo>
                    <a:lnTo>
                      <a:pt x="1950" y="914"/>
                    </a:lnTo>
                    <a:lnTo>
                      <a:pt x="1947" y="974"/>
                    </a:lnTo>
                    <a:lnTo>
                      <a:pt x="1937" y="1055"/>
                    </a:lnTo>
                    <a:lnTo>
                      <a:pt x="1920" y="1138"/>
                    </a:lnTo>
                    <a:lnTo>
                      <a:pt x="1899" y="1222"/>
                    </a:lnTo>
                    <a:lnTo>
                      <a:pt x="1872" y="1308"/>
                    </a:lnTo>
                    <a:lnTo>
                      <a:pt x="1841" y="1392"/>
                    </a:lnTo>
                    <a:lnTo>
                      <a:pt x="1806" y="1478"/>
                    </a:lnTo>
                    <a:lnTo>
                      <a:pt x="1767" y="1561"/>
                    </a:lnTo>
                    <a:lnTo>
                      <a:pt x="1724" y="1641"/>
                    </a:lnTo>
                    <a:lnTo>
                      <a:pt x="1677" y="1720"/>
                    </a:lnTo>
                    <a:lnTo>
                      <a:pt x="1629" y="1797"/>
                    </a:lnTo>
                    <a:lnTo>
                      <a:pt x="1578" y="1868"/>
                    </a:lnTo>
                    <a:lnTo>
                      <a:pt x="1525" y="1935"/>
                    </a:lnTo>
                    <a:lnTo>
                      <a:pt x="1470" y="1998"/>
                    </a:lnTo>
                    <a:lnTo>
                      <a:pt x="1414" y="2055"/>
                    </a:lnTo>
                    <a:lnTo>
                      <a:pt x="1357" y="2105"/>
                    </a:lnTo>
                    <a:lnTo>
                      <a:pt x="1299" y="2148"/>
                    </a:lnTo>
                    <a:lnTo>
                      <a:pt x="1298" y="2150"/>
                    </a:lnTo>
                    <a:lnTo>
                      <a:pt x="1294" y="2151"/>
                    </a:lnTo>
                    <a:lnTo>
                      <a:pt x="1289" y="2154"/>
                    </a:lnTo>
                    <a:lnTo>
                      <a:pt x="1280" y="2156"/>
                    </a:lnTo>
                    <a:lnTo>
                      <a:pt x="1270" y="2160"/>
                    </a:lnTo>
                    <a:lnTo>
                      <a:pt x="1259" y="2164"/>
                    </a:lnTo>
                    <a:lnTo>
                      <a:pt x="1245" y="2167"/>
                    </a:lnTo>
                    <a:lnTo>
                      <a:pt x="1230" y="2169"/>
                    </a:lnTo>
                    <a:lnTo>
                      <a:pt x="1216" y="2171"/>
                    </a:lnTo>
                    <a:lnTo>
                      <a:pt x="1201" y="2172"/>
                    </a:lnTo>
                    <a:lnTo>
                      <a:pt x="1186" y="2172"/>
                    </a:lnTo>
                    <a:lnTo>
                      <a:pt x="1169" y="2172"/>
                    </a:lnTo>
                    <a:lnTo>
                      <a:pt x="1152" y="2169"/>
                    </a:lnTo>
                    <a:lnTo>
                      <a:pt x="1134" y="2167"/>
                    </a:lnTo>
                    <a:lnTo>
                      <a:pt x="1115" y="2162"/>
                    </a:lnTo>
                    <a:lnTo>
                      <a:pt x="1095" y="2155"/>
                    </a:lnTo>
                    <a:lnTo>
                      <a:pt x="1057" y="2140"/>
                    </a:lnTo>
                    <a:lnTo>
                      <a:pt x="1028" y="2131"/>
                    </a:lnTo>
                    <a:lnTo>
                      <a:pt x="1008" y="2125"/>
                    </a:lnTo>
                    <a:lnTo>
                      <a:pt x="994" y="2121"/>
                    </a:lnTo>
                    <a:lnTo>
                      <a:pt x="984" y="2119"/>
                    </a:lnTo>
                    <a:lnTo>
                      <a:pt x="977" y="2118"/>
                    </a:lnTo>
                    <a:lnTo>
                      <a:pt x="970" y="2118"/>
                    </a:lnTo>
                    <a:lnTo>
                      <a:pt x="963" y="2117"/>
                    </a:lnTo>
                    <a:lnTo>
                      <a:pt x="936" y="2114"/>
                    </a:lnTo>
                    <a:lnTo>
                      <a:pt x="910" y="2114"/>
                    </a:lnTo>
                    <a:lnTo>
                      <a:pt x="885" y="2118"/>
                    </a:lnTo>
                    <a:lnTo>
                      <a:pt x="861" y="2125"/>
                    </a:lnTo>
                    <a:lnTo>
                      <a:pt x="838" y="2133"/>
                    </a:lnTo>
                    <a:lnTo>
                      <a:pt x="818" y="2139"/>
                    </a:lnTo>
                    <a:lnTo>
                      <a:pt x="802" y="2147"/>
                    </a:lnTo>
                    <a:lnTo>
                      <a:pt x="788" y="2152"/>
                    </a:lnTo>
                    <a:lnTo>
                      <a:pt x="766" y="2159"/>
                    </a:lnTo>
                    <a:lnTo>
                      <a:pt x="745" y="2162"/>
                    </a:lnTo>
                    <a:lnTo>
                      <a:pt x="725" y="2163"/>
                    </a:lnTo>
                    <a:lnTo>
                      <a:pt x="703" y="2162"/>
                    </a:lnTo>
                    <a:lnTo>
                      <a:pt x="683" y="2158"/>
                    </a:lnTo>
                    <a:lnTo>
                      <a:pt x="664" y="2152"/>
                    </a:lnTo>
                    <a:lnTo>
                      <a:pt x="645" y="2146"/>
                    </a:lnTo>
                    <a:lnTo>
                      <a:pt x="629" y="2138"/>
                    </a:lnTo>
                    <a:lnTo>
                      <a:pt x="613" y="2130"/>
                    </a:lnTo>
                    <a:lnTo>
                      <a:pt x="597" y="2122"/>
                    </a:lnTo>
                    <a:lnTo>
                      <a:pt x="585" y="2114"/>
                    </a:lnTo>
                    <a:lnTo>
                      <a:pt x="575" y="2108"/>
                    </a:lnTo>
                    <a:lnTo>
                      <a:pt x="566" y="2101"/>
                    </a:lnTo>
                    <a:lnTo>
                      <a:pt x="558" y="2096"/>
                    </a:lnTo>
                    <a:lnTo>
                      <a:pt x="555" y="2093"/>
                    </a:lnTo>
                    <a:lnTo>
                      <a:pt x="553" y="2092"/>
                    </a:lnTo>
                    <a:lnTo>
                      <a:pt x="550" y="2088"/>
                    </a:lnTo>
                    <a:lnTo>
                      <a:pt x="541" y="2076"/>
                    </a:lnTo>
                    <a:lnTo>
                      <a:pt x="526" y="2056"/>
                    </a:lnTo>
                    <a:lnTo>
                      <a:pt x="505" y="2030"/>
                    </a:lnTo>
                    <a:lnTo>
                      <a:pt x="480" y="1998"/>
                    </a:lnTo>
                    <a:lnTo>
                      <a:pt x="453" y="1959"/>
                    </a:lnTo>
                    <a:lnTo>
                      <a:pt x="421" y="1914"/>
                    </a:lnTo>
                    <a:lnTo>
                      <a:pt x="387" y="1865"/>
                    </a:lnTo>
                    <a:lnTo>
                      <a:pt x="352" y="1811"/>
                    </a:lnTo>
                    <a:lnTo>
                      <a:pt x="314" y="1752"/>
                    </a:lnTo>
                    <a:lnTo>
                      <a:pt x="276" y="1690"/>
                    </a:lnTo>
                    <a:lnTo>
                      <a:pt x="240" y="1624"/>
                    </a:lnTo>
                    <a:lnTo>
                      <a:pt x="202" y="1556"/>
                    </a:lnTo>
                    <a:lnTo>
                      <a:pt x="167" y="1485"/>
                    </a:lnTo>
                    <a:lnTo>
                      <a:pt x="134" y="1412"/>
                    </a:lnTo>
                    <a:lnTo>
                      <a:pt x="102" y="1337"/>
                    </a:lnTo>
                    <a:close/>
                  </a:path>
                </a:pathLst>
              </a:custGeom>
              <a:solidFill>
                <a:srgbClr val="ff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156"/>
              <p:cNvSpPr/>
              <p:nvPr/>
            </p:nvSpPr>
            <p:spPr>
              <a:xfrm>
                <a:off x="5492520" y="1738440"/>
                <a:ext cx="795600" cy="693360"/>
              </a:xfrm>
              <a:custGeom>
                <a:avLst/>
                <a:gdLst/>
                <a:ahLst/>
                <a:rect l="l" t="t" r="r" b="b"/>
                <a:pathLst>
                  <a:path w="1154" h="1765">
                    <a:moveTo>
                      <a:pt x="949" y="59"/>
                    </a:moveTo>
                    <a:lnTo>
                      <a:pt x="944" y="55"/>
                    </a:lnTo>
                    <a:lnTo>
                      <a:pt x="930" y="46"/>
                    </a:lnTo>
                    <a:lnTo>
                      <a:pt x="910" y="34"/>
                    </a:lnTo>
                    <a:lnTo>
                      <a:pt x="883" y="21"/>
                    </a:lnTo>
                    <a:lnTo>
                      <a:pt x="853" y="9"/>
                    </a:lnTo>
                    <a:lnTo>
                      <a:pt x="820" y="1"/>
                    </a:lnTo>
                    <a:lnTo>
                      <a:pt x="788" y="0"/>
                    </a:lnTo>
                    <a:lnTo>
                      <a:pt x="755" y="8"/>
                    </a:lnTo>
                    <a:lnTo>
                      <a:pt x="727" y="20"/>
                    </a:lnTo>
                    <a:lnTo>
                      <a:pt x="706" y="29"/>
                    </a:lnTo>
                    <a:lnTo>
                      <a:pt x="688" y="38"/>
                    </a:lnTo>
                    <a:lnTo>
                      <a:pt x="673" y="46"/>
                    </a:lnTo>
                    <a:lnTo>
                      <a:pt x="658" y="55"/>
                    </a:lnTo>
                    <a:lnTo>
                      <a:pt x="641" y="66"/>
                    </a:lnTo>
                    <a:lnTo>
                      <a:pt x="622" y="79"/>
                    </a:lnTo>
                    <a:lnTo>
                      <a:pt x="597" y="97"/>
                    </a:lnTo>
                    <a:lnTo>
                      <a:pt x="571" y="113"/>
                    </a:lnTo>
                    <a:lnTo>
                      <a:pt x="547" y="120"/>
                    </a:lnTo>
                    <a:lnTo>
                      <a:pt x="524" y="120"/>
                    </a:lnTo>
                    <a:lnTo>
                      <a:pt x="502" y="118"/>
                    </a:lnTo>
                    <a:lnTo>
                      <a:pt x="479" y="117"/>
                    </a:lnTo>
                    <a:lnTo>
                      <a:pt x="456" y="118"/>
                    </a:lnTo>
                    <a:lnTo>
                      <a:pt x="432" y="128"/>
                    </a:lnTo>
                    <a:lnTo>
                      <a:pt x="406" y="146"/>
                    </a:lnTo>
                    <a:lnTo>
                      <a:pt x="378" y="170"/>
                    </a:lnTo>
                    <a:lnTo>
                      <a:pt x="350" y="196"/>
                    </a:lnTo>
                    <a:lnTo>
                      <a:pt x="324" y="226"/>
                    </a:lnTo>
                    <a:lnTo>
                      <a:pt x="301" y="263"/>
                    </a:lnTo>
                    <a:lnTo>
                      <a:pt x="281" y="309"/>
                    </a:lnTo>
                    <a:lnTo>
                      <a:pt x="266" y="365"/>
                    </a:lnTo>
                    <a:lnTo>
                      <a:pt x="257" y="433"/>
                    </a:lnTo>
                    <a:lnTo>
                      <a:pt x="256" y="518"/>
                    </a:lnTo>
                    <a:lnTo>
                      <a:pt x="255" y="581"/>
                    </a:lnTo>
                    <a:lnTo>
                      <a:pt x="248" y="664"/>
                    </a:lnTo>
                    <a:lnTo>
                      <a:pt x="237" y="761"/>
                    </a:lnTo>
                    <a:lnTo>
                      <a:pt x="219" y="864"/>
                    </a:lnTo>
                    <a:lnTo>
                      <a:pt x="195" y="965"/>
                    </a:lnTo>
                    <a:lnTo>
                      <a:pt x="166" y="1060"/>
                    </a:lnTo>
                    <a:lnTo>
                      <a:pt x="129" y="1140"/>
                    </a:lnTo>
                    <a:lnTo>
                      <a:pt x="85" y="1200"/>
                    </a:lnTo>
                    <a:lnTo>
                      <a:pt x="58" y="1241"/>
                    </a:lnTo>
                    <a:lnTo>
                      <a:pt x="35" y="1302"/>
                    </a:lnTo>
                    <a:lnTo>
                      <a:pt x="17" y="1380"/>
                    </a:lnTo>
                    <a:lnTo>
                      <a:pt x="5" y="1463"/>
                    </a:lnTo>
                    <a:lnTo>
                      <a:pt x="0" y="1547"/>
                    </a:lnTo>
                    <a:lnTo>
                      <a:pt x="4" y="1621"/>
                    </a:lnTo>
                    <a:lnTo>
                      <a:pt x="18" y="1680"/>
                    </a:lnTo>
                    <a:lnTo>
                      <a:pt x="43" y="1715"/>
                    </a:lnTo>
                    <a:lnTo>
                      <a:pt x="71" y="1732"/>
                    </a:lnTo>
                    <a:lnTo>
                      <a:pt x="92" y="1742"/>
                    </a:lnTo>
                    <a:lnTo>
                      <a:pt x="110" y="1746"/>
                    </a:lnTo>
                    <a:lnTo>
                      <a:pt x="126" y="1746"/>
                    </a:lnTo>
                    <a:lnTo>
                      <a:pt x="142" y="1744"/>
                    </a:lnTo>
                    <a:lnTo>
                      <a:pt x="161" y="1736"/>
                    </a:lnTo>
                    <a:lnTo>
                      <a:pt x="184" y="1727"/>
                    </a:lnTo>
                    <a:lnTo>
                      <a:pt x="213" y="1716"/>
                    </a:lnTo>
                    <a:lnTo>
                      <a:pt x="231" y="1711"/>
                    </a:lnTo>
                    <a:lnTo>
                      <a:pt x="248" y="1708"/>
                    </a:lnTo>
                    <a:lnTo>
                      <a:pt x="266" y="1705"/>
                    </a:lnTo>
                    <a:lnTo>
                      <a:pt x="284" y="1703"/>
                    </a:lnTo>
                    <a:lnTo>
                      <a:pt x="302" y="1703"/>
                    </a:lnTo>
                    <a:lnTo>
                      <a:pt x="320" y="1703"/>
                    </a:lnTo>
                    <a:lnTo>
                      <a:pt x="338" y="1704"/>
                    </a:lnTo>
                    <a:lnTo>
                      <a:pt x="355" y="1707"/>
                    </a:lnTo>
                    <a:lnTo>
                      <a:pt x="372" y="1709"/>
                    </a:lnTo>
                    <a:lnTo>
                      <a:pt x="388" y="1712"/>
                    </a:lnTo>
                    <a:lnTo>
                      <a:pt x="403" y="1716"/>
                    </a:lnTo>
                    <a:lnTo>
                      <a:pt x="417" y="1720"/>
                    </a:lnTo>
                    <a:lnTo>
                      <a:pt x="430" y="1725"/>
                    </a:lnTo>
                    <a:lnTo>
                      <a:pt x="442" y="1730"/>
                    </a:lnTo>
                    <a:lnTo>
                      <a:pt x="451" y="1736"/>
                    </a:lnTo>
                    <a:lnTo>
                      <a:pt x="460" y="1741"/>
                    </a:lnTo>
                    <a:lnTo>
                      <a:pt x="476" y="1752"/>
                    </a:lnTo>
                    <a:lnTo>
                      <a:pt x="495" y="1758"/>
                    </a:lnTo>
                    <a:lnTo>
                      <a:pt x="515" y="1762"/>
                    </a:lnTo>
                    <a:lnTo>
                      <a:pt x="537" y="1765"/>
                    </a:lnTo>
                    <a:lnTo>
                      <a:pt x="558" y="1763"/>
                    </a:lnTo>
                    <a:lnTo>
                      <a:pt x="578" y="1759"/>
                    </a:lnTo>
                    <a:lnTo>
                      <a:pt x="596" y="1753"/>
                    </a:lnTo>
                    <a:lnTo>
                      <a:pt x="610" y="1742"/>
                    </a:lnTo>
                    <a:lnTo>
                      <a:pt x="619" y="1733"/>
                    </a:lnTo>
                    <a:lnTo>
                      <a:pt x="631" y="1719"/>
                    </a:lnTo>
                    <a:lnTo>
                      <a:pt x="648" y="1698"/>
                    </a:lnTo>
                    <a:lnTo>
                      <a:pt x="667" y="1674"/>
                    </a:lnTo>
                    <a:lnTo>
                      <a:pt x="688" y="1645"/>
                    </a:lnTo>
                    <a:lnTo>
                      <a:pt x="712" y="1612"/>
                    </a:lnTo>
                    <a:lnTo>
                      <a:pt x="738" y="1579"/>
                    </a:lnTo>
                    <a:lnTo>
                      <a:pt x="765" y="1543"/>
                    </a:lnTo>
                    <a:lnTo>
                      <a:pt x="791" y="1507"/>
                    </a:lnTo>
                    <a:lnTo>
                      <a:pt x="818" y="1471"/>
                    </a:lnTo>
                    <a:lnTo>
                      <a:pt x="844" y="1435"/>
                    </a:lnTo>
                    <a:lnTo>
                      <a:pt x="869" y="1403"/>
                    </a:lnTo>
                    <a:lnTo>
                      <a:pt x="892" y="1371"/>
                    </a:lnTo>
                    <a:lnTo>
                      <a:pt x="913" y="1343"/>
                    </a:lnTo>
                    <a:lnTo>
                      <a:pt x="931" y="1320"/>
                    </a:lnTo>
                    <a:lnTo>
                      <a:pt x="946" y="1301"/>
                    </a:lnTo>
                    <a:lnTo>
                      <a:pt x="963" y="1277"/>
                    </a:lnTo>
                    <a:lnTo>
                      <a:pt x="984" y="1239"/>
                    </a:lnTo>
                    <a:lnTo>
                      <a:pt x="1009" y="1189"/>
                    </a:lnTo>
                    <a:lnTo>
                      <a:pt x="1037" y="1127"/>
                    </a:lnTo>
                    <a:lnTo>
                      <a:pt x="1065" y="1056"/>
                    </a:lnTo>
                    <a:lnTo>
                      <a:pt x="1091" y="977"/>
                    </a:lnTo>
                    <a:lnTo>
                      <a:pt x="1115" y="892"/>
                    </a:lnTo>
                    <a:lnTo>
                      <a:pt x="1134" y="801"/>
                    </a:lnTo>
                    <a:lnTo>
                      <a:pt x="1148" y="706"/>
                    </a:lnTo>
                    <a:lnTo>
                      <a:pt x="1154" y="608"/>
                    </a:lnTo>
                    <a:lnTo>
                      <a:pt x="1152" y="510"/>
                    </a:lnTo>
                    <a:lnTo>
                      <a:pt x="1138" y="412"/>
                    </a:lnTo>
                    <a:lnTo>
                      <a:pt x="1113" y="317"/>
                    </a:lnTo>
                    <a:lnTo>
                      <a:pt x="1073" y="226"/>
                    </a:lnTo>
                    <a:lnTo>
                      <a:pt x="1019" y="140"/>
                    </a:lnTo>
                    <a:lnTo>
                      <a:pt x="949" y="59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157"/>
              <p:cNvSpPr/>
              <p:nvPr/>
            </p:nvSpPr>
            <p:spPr>
              <a:xfrm>
                <a:off x="5461560" y="1673640"/>
                <a:ext cx="355680" cy="83520"/>
              </a:xfrm>
              <a:custGeom>
                <a:avLst/>
                <a:gdLst/>
                <a:ahLst/>
                <a:rect l="l" t="t" r="r" b="b"/>
                <a:pathLst>
                  <a:path w="519" h="213">
                    <a:moveTo>
                      <a:pt x="301" y="75"/>
                    </a:moveTo>
                    <a:lnTo>
                      <a:pt x="296" y="72"/>
                    </a:lnTo>
                    <a:lnTo>
                      <a:pt x="282" y="66"/>
                    </a:lnTo>
                    <a:lnTo>
                      <a:pt x="262" y="57"/>
                    </a:lnTo>
                    <a:lnTo>
                      <a:pt x="235" y="45"/>
                    </a:lnTo>
                    <a:lnTo>
                      <a:pt x="206" y="33"/>
                    </a:lnTo>
                    <a:lnTo>
                      <a:pt x="175" y="21"/>
                    </a:lnTo>
                    <a:lnTo>
                      <a:pt x="143" y="10"/>
                    </a:lnTo>
                    <a:lnTo>
                      <a:pt x="113" y="4"/>
                    </a:lnTo>
                    <a:lnTo>
                      <a:pt x="87" y="0"/>
                    </a:lnTo>
                    <a:lnTo>
                      <a:pt x="64" y="1"/>
                    </a:lnTo>
                    <a:lnTo>
                      <a:pt x="44" y="4"/>
                    </a:lnTo>
                    <a:lnTo>
                      <a:pt x="29" y="9"/>
                    </a:lnTo>
                    <a:lnTo>
                      <a:pt x="16" y="16"/>
                    </a:lnTo>
                    <a:lnTo>
                      <a:pt x="7" y="21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179" y="188"/>
                    </a:lnTo>
                    <a:lnTo>
                      <a:pt x="184" y="190"/>
                    </a:lnTo>
                    <a:lnTo>
                      <a:pt x="199" y="194"/>
                    </a:lnTo>
                    <a:lnTo>
                      <a:pt x="220" y="199"/>
                    </a:lnTo>
                    <a:lnTo>
                      <a:pt x="247" y="204"/>
                    </a:lnTo>
                    <a:lnTo>
                      <a:pt x="276" y="209"/>
                    </a:lnTo>
                    <a:lnTo>
                      <a:pt x="306" y="213"/>
                    </a:lnTo>
                    <a:lnTo>
                      <a:pt x="335" y="213"/>
                    </a:lnTo>
                    <a:lnTo>
                      <a:pt x="361" y="209"/>
                    </a:lnTo>
                    <a:lnTo>
                      <a:pt x="387" y="203"/>
                    </a:lnTo>
                    <a:lnTo>
                      <a:pt x="412" y="194"/>
                    </a:lnTo>
                    <a:lnTo>
                      <a:pt x="437" y="186"/>
                    </a:lnTo>
                    <a:lnTo>
                      <a:pt x="460" y="178"/>
                    </a:lnTo>
                    <a:lnTo>
                      <a:pt x="480" y="170"/>
                    </a:lnTo>
                    <a:lnTo>
                      <a:pt x="496" y="163"/>
                    </a:lnTo>
                    <a:lnTo>
                      <a:pt x="506" y="159"/>
                    </a:lnTo>
                    <a:lnTo>
                      <a:pt x="510" y="158"/>
                    </a:lnTo>
                    <a:lnTo>
                      <a:pt x="511" y="158"/>
                    </a:lnTo>
                    <a:lnTo>
                      <a:pt x="515" y="157"/>
                    </a:lnTo>
                    <a:lnTo>
                      <a:pt x="518" y="154"/>
                    </a:lnTo>
                    <a:lnTo>
                      <a:pt x="519" y="151"/>
                    </a:lnTo>
                    <a:lnTo>
                      <a:pt x="518" y="147"/>
                    </a:lnTo>
                    <a:lnTo>
                      <a:pt x="510" y="141"/>
                    </a:lnTo>
                    <a:lnTo>
                      <a:pt x="496" y="134"/>
                    </a:lnTo>
                    <a:lnTo>
                      <a:pt x="473" y="126"/>
                    </a:lnTo>
                    <a:lnTo>
                      <a:pt x="448" y="116"/>
                    </a:lnTo>
                    <a:lnTo>
                      <a:pt x="428" y="105"/>
                    </a:lnTo>
                    <a:lnTo>
                      <a:pt x="410" y="95"/>
                    </a:lnTo>
                    <a:lnTo>
                      <a:pt x="394" y="86"/>
                    </a:lnTo>
                    <a:lnTo>
                      <a:pt x="376" y="78"/>
                    </a:lnTo>
                    <a:lnTo>
                      <a:pt x="356" y="74"/>
                    </a:lnTo>
                    <a:lnTo>
                      <a:pt x="331" y="72"/>
                    </a:lnTo>
                    <a:lnTo>
                      <a:pt x="301" y="75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158"/>
              <p:cNvSpPr/>
              <p:nvPr/>
            </p:nvSpPr>
            <p:spPr>
              <a:xfrm>
                <a:off x="5070600" y="1716120"/>
                <a:ext cx="461520" cy="558720"/>
              </a:xfrm>
              <a:custGeom>
                <a:avLst/>
                <a:gdLst/>
                <a:ahLst/>
                <a:rect l="l" t="t" r="r" b="b"/>
                <a:pathLst>
                  <a:path w="666" h="1421">
                    <a:moveTo>
                      <a:pt x="368" y="19"/>
                    </a:moveTo>
                    <a:lnTo>
                      <a:pt x="364" y="21"/>
                    </a:lnTo>
                    <a:lnTo>
                      <a:pt x="356" y="27"/>
                    </a:lnTo>
                    <a:lnTo>
                      <a:pt x="341" y="37"/>
                    </a:lnTo>
                    <a:lnTo>
                      <a:pt x="320" y="50"/>
                    </a:lnTo>
                    <a:lnTo>
                      <a:pt x="298" y="69"/>
                    </a:lnTo>
                    <a:lnTo>
                      <a:pt x="271" y="91"/>
                    </a:lnTo>
                    <a:lnTo>
                      <a:pt x="242" y="116"/>
                    </a:lnTo>
                    <a:lnTo>
                      <a:pt x="212" y="146"/>
                    </a:lnTo>
                    <a:lnTo>
                      <a:pt x="182" y="179"/>
                    </a:lnTo>
                    <a:lnTo>
                      <a:pt x="150" y="218"/>
                    </a:lnTo>
                    <a:lnTo>
                      <a:pt x="120" y="258"/>
                    </a:lnTo>
                    <a:lnTo>
                      <a:pt x="92" y="303"/>
                    </a:lnTo>
                    <a:lnTo>
                      <a:pt x="67" y="352"/>
                    </a:lnTo>
                    <a:lnTo>
                      <a:pt x="44" y="403"/>
                    </a:lnTo>
                    <a:lnTo>
                      <a:pt x="26" y="460"/>
                    </a:lnTo>
                    <a:lnTo>
                      <a:pt x="12" y="519"/>
                    </a:lnTo>
                    <a:lnTo>
                      <a:pt x="4" y="577"/>
                    </a:lnTo>
                    <a:lnTo>
                      <a:pt x="0" y="635"/>
                    </a:lnTo>
                    <a:lnTo>
                      <a:pt x="0" y="692"/>
                    </a:lnTo>
                    <a:lnTo>
                      <a:pt x="4" y="748"/>
                    </a:lnTo>
                    <a:lnTo>
                      <a:pt x="12" y="802"/>
                    </a:lnTo>
                    <a:lnTo>
                      <a:pt x="22" y="855"/>
                    </a:lnTo>
                    <a:lnTo>
                      <a:pt x="33" y="905"/>
                    </a:lnTo>
                    <a:lnTo>
                      <a:pt x="47" y="952"/>
                    </a:lnTo>
                    <a:lnTo>
                      <a:pt x="62" y="997"/>
                    </a:lnTo>
                    <a:lnTo>
                      <a:pt x="79" y="1038"/>
                    </a:lnTo>
                    <a:lnTo>
                      <a:pt x="94" y="1076"/>
                    </a:lnTo>
                    <a:lnTo>
                      <a:pt x="110" y="1109"/>
                    </a:lnTo>
                    <a:lnTo>
                      <a:pt x="125" y="1138"/>
                    </a:lnTo>
                    <a:lnTo>
                      <a:pt x="138" y="1162"/>
                    </a:lnTo>
                    <a:lnTo>
                      <a:pt x="150" y="1180"/>
                    </a:lnTo>
                    <a:lnTo>
                      <a:pt x="160" y="1194"/>
                    </a:lnTo>
                    <a:lnTo>
                      <a:pt x="179" y="1216"/>
                    </a:lnTo>
                    <a:lnTo>
                      <a:pt x="199" y="1244"/>
                    </a:lnTo>
                    <a:lnTo>
                      <a:pt x="221" y="1273"/>
                    </a:lnTo>
                    <a:lnTo>
                      <a:pt x="241" y="1302"/>
                    </a:lnTo>
                    <a:lnTo>
                      <a:pt x="260" y="1329"/>
                    </a:lnTo>
                    <a:lnTo>
                      <a:pt x="274" y="1350"/>
                    </a:lnTo>
                    <a:lnTo>
                      <a:pt x="284" y="1366"/>
                    </a:lnTo>
                    <a:lnTo>
                      <a:pt x="288" y="1371"/>
                    </a:lnTo>
                    <a:lnTo>
                      <a:pt x="290" y="1374"/>
                    </a:lnTo>
                    <a:lnTo>
                      <a:pt x="296" y="1382"/>
                    </a:lnTo>
                    <a:lnTo>
                      <a:pt x="305" y="1392"/>
                    </a:lnTo>
                    <a:lnTo>
                      <a:pt x="318" y="1404"/>
                    </a:lnTo>
                    <a:lnTo>
                      <a:pt x="330" y="1413"/>
                    </a:lnTo>
                    <a:lnTo>
                      <a:pt x="343" y="1420"/>
                    </a:lnTo>
                    <a:lnTo>
                      <a:pt x="356" y="1421"/>
                    </a:lnTo>
                    <a:lnTo>
                      <a:pt x="366" y="1413"/>
                    </a:lnTo>
                    <a:lnTo>
                      <a:pt x="376" y="1402"/>
                    </a:lnTo>
                    <a:lnTo>
                      <a:pt x="388" y="1391"/>
                    </a:lnTo>
                    <a:lnTo>
                      <a:pt x="401" y="1379"/>
                    </a:lnTo>
                    <a:lnTo>
                      <a:pt x="412" y="1365"/>
                    </a:lnTo>
                    <a:lnTo>
                      <a:pt x="424" y="1346"/>
                    </a:lnTo>
                    <a:lnTo>
                      <a:pt x="433" y="1324"/>
                    </a:lnTo>
                    <a:lnTo>
                      <a:pt x="438" y="1295"/>
                    </a:lnTo>
                    <a:lnTo>
                      <a:pt x="439" y="1259"/>
                    </a:lnTo>
                    <a:lnTo>
                      <a:pt x="436" y="1163"/>
                    </a:lnTo>
                    <a:lnTo>
                      <a:pt x="431" y="1053"/>
                    </a:lnTo>
                    <a:lnTo>
                      <a:pt x="426" y="954"/>
                    </a:lnTo>
                    <a:lnTo>
                      <a:pt x="424" y="889"/>
                    </a:lnTo>
                    <a:lnTo>
                      <a:pt x="430" y="852"/>
                    </a:lnTo>
                    <a:lnTo>
                      <a:pt x="448" y="787"/>
                    </a:lnTo>
                    <a:lnTo>
                      <a:pt x="473" y="701"/>
                    </a:lnTo>
                    <a:lnTo>
                      <a:pt x="503" y="607"/>
                    </a:lnTo>
                    <a:lnTo>
                      <a:pt x="536" y="514"/>
                    </a:lnTo>
                    <a:lnTo>
                      <a:pt x="569" y="432"/>
                    </a:lnTo>
                    <a:lnTo>
                      <a:pt x="596" y="369"/>
                    </a:lnTo>
                    <a:lnTo>
                      <a:pt x="618" y="337"/>
                    </a:lnTo>
                    <a:lnTo>
                      <a:pt x="633" y="323"/>
                    </a:lnTo>
                    <a:lnTo>
                      <a:pt x="645" y="305"/>
                    </a:lnTo>
                    <a:lnTo>
                      <a:pt x="654" y="283"/>
                    </a:lnTo>
                    <a:lnTo>
                      <a:pt x="661" y="260"/>
                    </a:lnTo>
                    <a:lnTo>
                      <a:pt x="664" y="233"/>
                    </a:lnTo>
                    <a:lnTo>
                      <a:pt x="666" y="207"/>
                    </a:lnTo>
                    <a:lnTo>
                      <a:pt x="664" y="178"/>
                    </a:lnTo>
                    <a:lnTo>
                      <a:pt x="662" y="149"/>
                    </a:lnTo>
                    <a:lnTo>
                      <a:pt x="658" y="133"/>
                    </a:lnTo>
                    <a:lnTo>
                      <a:pt x="652" y="119"/>
                    </a:lnTo>
                    <a:lnTo>
                      <a:pt x="642" y="102"/>
                    </a:lnTo>
                    <a:lnTo>
                      <a:pt x="629" y="86"/>
                    </a:lnTo>
                    <a:lnTo>
                      <a:pt x="614" y="71"/>
                    </a:lnTo>
                    <a:lnTo>
                      <a:pt x="598" y="56"/>
                    </a:lnTo>
                    <a:lnTo>
                      <a:pt x="579" y="42"/>
                    </a:lnTo>
                    <a:lnTo>
                      <a:pt x="557" y="31"/>
                    </a:lnTo>
                    <a:lnTo>
                      <a:pt x="536" y="20"/>
                    </a:lnTo>
                    <a:lnTo>
                      <a:pt x="513" y="11"/>
                    </a:lnTo>
                    <a:lnTo>
                      <a:pt x="489" y="4"/>
                    </a:lnTo>
                    <a:lnTo>
                      <a:pt x="464" y="0"/>
                    </a:lnTo>
                    <a:lnTo>
                      <a:pt x="440" y="0"/>
                    </a:lnTo>
                    <a:lnTo>
                      <a:pt x="416" y="3"/>
                    </a:lnTo>
                    <a:lnTo>
                      <a:pt x="392" y="8"/>
                    </a:lnTo>
                    <a:lnTo>
                      <a:pt x="368" y="19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159"/>
              <p:cNvSpPr/>
              <p:nvPr/>
            </p:nvSpPr>
            <p:spPr>
              <a:xfrm>
                <a:off x="5455440" y="2435400"/>
                <a:ext cx="407880" cy="36360"/>
              </a:xfrm>
              <a:custGeom>
                <a:avLst/>
                <a:gdLst/>
                <a:ahLst/>
                <a:rect l="l" t="t" r="r" b="b"/>
                <a:pathLst>
                  <a:path w="590" h="105">
                    <a:moveTo>
                      <a:pt x="81" y="104"/>
                    </a:moveTo>
                    <a:lnTo>
                      <a:pt x="71" y="101"/>
                    </a:lnTo>
                    <a:lnTo>
                      <a:pt x="59" y="99"/>
                    </a:lnTo>
                    <a:lnTo>
                      <a:pt x="49" y="93"/>
                    </a:lnTo>
                    <a:lnTo>
                      <a:pt x="39" y="88"/>
                    </a:lnTo>
                    <a:lnTo>
                      <a:pt x="29" y="80"/>
                    </a:lnTo>
                    <a:lnTo>
                      <a:pt x="19" y="71"/>
                    </a:lnTo>
                    <a:lnTo>
                      <a:pt x="9" y="59"/>
                    </a:lnTo>
                    <a:lnTo>
                      <a:pt x="0" y="46"/>
                    </a:lnTo>
                    <a:lnTo>
                      <a:pt x="5" y="47"/>
                    </a:lnTo>
                    <a:lnTo>
                      <a:pt x="20" y="50"/>
                    </a:lnTo>
                    <a:lnTo>
                      <a:pt x="42" y="53"/>
                    </a:lnTo>
                    <a:lnTo>
                      <a:pt x="68" y="55"/>
                    </a:lnTo>
                    <a:lnTo>
                      <a:pt x="98" y="55"/>
                    </a:lnTo>
                    <a:lnTo>
                      <a:pt x="130" y="53"/>
                    </a:lnTo>
                    <a:lnTo>
                      <a:pt x="159" y="45"/>
                    </a:lnTo>
                    <a:lnTo>
                      <a:pt x="185" y="32"/>
                    </a:lnTo>
                    <a:lnTo>
                      <a:pt x="198" y="24"/>
                    </a:lnTo>
                    <a:lnTo>
                      <a:pt x="213" y="17"/>
                    </a:lnTo>
                    <a:lnTo>
                      <a:pt x="230" y="12"/>
                    </a:lnTo>
                    <a:lnTo>
                      <a:pt x="247" y="7"/>
                    </a:lnTo>
                    <a:lnTo>
                      <a:pt x="266" y="4"/>
                    </a:lnTo>
                    <a:lnTo>
                      <a:pt x="286" y="1"/>
                    </a:lnTo>
                    <a:lnTo>
                      <a:pt x="306" y="0"/>
                    </a:lnTo>
                    <a:lnTo>
                      <a:pt x="327" y="0"/>
                    </a:lnTo>
                    <a:lnTo>
                      <a:pt x="348" y="1"/>
                    </a:lnTo>
                    <a:lnTo>
                      <a:pt x="368" y="4"/>
                    </a:lnTo>
                    <a:lnTo>
                      <a:pt x="390" y="8"/>
                    </a:lnTo>
                    <a:lnTo>
                      <a:pt x="410" y="12"/>
                    </a:lnTo>
                    <a:lnTo>
                      <a:pt x="429" y="17"/>
                    </a:lnTo>
                    <a:lnTo>
                      <a:pt x="446" y="25"/>
                    </a:lnTo>
                    <a:lnTo>
                      <a:pt x="464" y="33"/>
                    </a:lnTo>
                    <a:lnTo>
                      <a:pt x="479" y="42"/>
                    </a:lnTo>
                    <a:lnTo>
                      <a:pt x="505" y="58"/>
                    </a:lnTo>
                    <a:lnTo>
                      <a:pt x="528" y="66"/>
                    </a:lnTo>
                    <a:lnTo>
                      <a:pt x="547" y="70"/>
                    </a:lnTo>
                    <a:lnTo>
                      <a:pt x="562" y="68"/>
                    </a:lnTo>
                    <a:lnTo>
                      <a:pt x="573" y="66"/>
                    </a:lnTo>
                    <a:lnTo>
                      <a:pt x="582" y="62"/>
                    </a:lnTo>
                    <a:lnTo>
                      <a:pt x="587" y="58"/>
                    </a:lnTo>
                    <a:lnTo>
                      <a:pt x="589" y="57"/>
                    </a:lnTo>
                    <a:lnTo>
                      <a:pt x="589" y="59"/>
                    </a:lnTo>
                    <a:lnTo>
                      <a:pt x="590" y="66"/>
                    </a:lnTo>
                    <a:lnTo>
                      <a:pt x="587" y="75"/>
                    </a:lnTo>
                    <a:lnTo>
                      <a:pt x="580" y="84"/>
                    </a:lnTo>
                    <a:lnTo>
                      <a:pt x="565" y="91"/>
                    </a:lnTo>
                    <a:lnTo>
                      <a:pt x="541" y="93"/>
                    </a:lnTo>
                    <a:lnTo>
                      <a:pt x="504" y="90"/>
                    </a:lnTo>
                    <a:lnTo>
                      <a:pt x="454" y="78"/>
                    </a:lnTo>
                    <a:lnTo>
                      <a:pt x="451" y="76"/>
                    </a:lnTo>
                    <a:lnTo>
                      <a:pt x="446" y="75"/>
                    </a:lnTo>
                    <a:lnTo>
                      <a:pt x="436" y="72"/>
                    </a:lnTo>
                    <a:lnTo>
                      <a:pt x="425" y="68"/>
                    </a:lnTo>
                    <a:lnTo>
                      <a:pt x="410" y="66"/>
                    </a:lnTo>
                    <a:lnTo>
                      <a:pt x="392" y="62"/>
                    </a:lnTo>
                    <a:lnTo>
                      <a:pt x="373" y="58"/>
                    </a:lnTo>
                    <a:lnTo>
                      <a:pt x="354" y="54"/>
                    </a:lnTo>
                    <a:lnTo>
                      <a:pt x="333" y="51"/>
                    </a:lnTo>
                    <a:lnTo>
                      <a:pt x="311" y="49"/>
                    </a:lnTo>
                    <a:lnTo>
                      <a:pt x="289" y="49"/>
                    </a:lnTo>
                    <a:lnTo>
                      <a:pt x="267" y="49"/>
                    </a:lnTo>
                    <a:lnTo>
                      <a:pt x="247" y="51"/>
                    </a:lnTo>
                    <a:lnTo>
                      <a:pt x="227" y="55"/>
                    </a:lnTo>
                    <a:lnTo>
                      <a:pt x="209" y="61"/>
                    </a:lnTo>
                    <a:lnTo>
                      <a:pt x="193" y="70"/>
                    </a:lnTo>
                    <a:lnTo>
                      <a:pt x="190" y="71"/>
                    </a:lnTo>
                    <a:lnTo>
                      <a:pt x="184" y="76"/>
                    </a:lnTo>
                    <a:lnTo>
                      <a:pt x="173" y="83"/>
                    </a:lnTo>
                    <a:lnTo>
                      <a:pt x="159" y="90"/>
                    </a:lnTo>
                    <a:lnTo>
                      <a:pt x="141" y="96"/>
                    </a:lnTo>
                    <a:lnTo>
                      <a:pt x="122" y="101"/>
                    </a:lnTo>
                    <a:lnTo>
                      <a:pt x="102" y="105"/>
                    </a:lnTo>
                    <a:lnTo>
                      <a:pt x="81" y="104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160"/>
              <p:cNvSpPr/>
              <p:nvPr/>
            </p:nvSpPr>
            <p:spPr>
              <a:xfrm>
                <a:off x="5111640" y="1744200"/>
                <a:ext cx="327240" cy="435240"/>
              </a:xfrm>
              <a:custGeom>
                <a:avLst/>
                <a:gdLst/>
                <a:ahLst/>
                <a:rect l="l" t="t" r="r" b="b"/>
                <a:pathLst>
                  <a:path w="474" h="1109">
                    <a:moveTo>
                      <a:pt x="312" y="8"/>
                    </a:moveTo>
                    <a:lnTo>
                      <a:pt x="309" y="10"/>
                    </a:lnTo>
                    <a:lnTo>
                      <a:pt x="303" y="12"/>
                    </a:lnTo>
                    <a:lnTo>
                      <a:pt x="293" y="18"/>
                    </a:lnTo>
                    <a:lnTo>
                      <a:pt x="279" y="25"/>
                    </a:lnTo>
                    <a:lnTo>
                      <a:pt x="261" y="36"/>
                    </a:lnTo>
                    <a:lnTo>
                      <a:pt x="242" y="48"/>
                    </a:lnTo>
                    <a:lnTo>
                      <a:pt x="222" y="62"/>
                    </a:lnTo>
                    <a:lnTo>
                      <a:pt x="199" y="79"/>
                    </a:lnTo>
                    <a:lnTo>
                      <a:pt x="177" y="100"/>
                    </a:lnTo>
                    <a:lnTo>
                      <a:pt x="153" y="123"/>
                    </a:lnTo>
                    <a:lnTo>
                      <a:pt x="129" y="148"/>
                    </a:lnTo>
                    <a:lnTo>
                      <a:pt x="106" y="176"/>
                    </a:lnTo>
                    <a:lnTo>
                      <a:pt x="85" y="207"/>
                    </a:lnTo>
                    <a:lnTo>
                      <a:pt x="65" y="241"/>
                    </a:lnTo>
                    <a:lnTo>
                      <a:pt x="46" y="278"/>
                    </a:lnTo>
                    <a:lnTo>
                      <a:pt x="31" y="318"/>
                    </a:lnTo>
                    <a:lnTo>
                      <a:pt x="9" y="401"/>
                    </a:lnTo>
                    <a:lnTo>
                      <a:pt x="0" y="485"/>
                    </a:lnTo>
                    <a:lnTo>
                      <a:pt x="0" y="569"/>
                    </a:lnTo>
                    <a:lnTo>
                      <a:pt x="7" y="648"/>
                    </a:lnTo>
                    <a:lnTo>
                      <a:pt x="17" y="721"/>
                    </a:lnTo>
                    <a:lnTo>
                      <a:pt x="28" y="780"/>
                    </a:lnTo>
                    <a:lnTo>
                      <a:pt x="38" y="826"/>
                    </a:lnTo>
                    <a:lnTo>
                      <a:pt x="46" y="853"/>
                    </a:lnTo>
                    <a:lnTo>
                      <a:pt x="60" y="892"/>
                    </a:lnTo>
                    <a:lnTo>
                      <a:pt x="77" y="933"/>
                    </a:lnTo>
                    <a:lnTo>
                      <a:pt x="96" y="971"/>
                    </a:lnTo>
                    <a:lnTo>
                      <a:pt x="115" y="1007"/>
                    </a:lnTo>
                    <a:lnTo>
                      <a:pt x="133" y="1037"/>
                    </a:lnTo>
                    <a:lnTo>
                      <a:pt x="148" y="1061"/>
                    </a:lnTo>
                    <a:lnTo>
                      <a:pt x="158" y="1076"/>
                    </a:lnTo>
                    <a:lnTo>
                      <a:pt x="162" y="1082"/>
                    </a:lnTo>
                    <a:lnTo>
                      <a:pt x="163" y="1086"/>
                    </a:lnTo>
                    <a:lnTo>
                      <a:pt x="167" y="1094"/>
                    </a:lnTo>
                    <a:lnTo>
                      <a:pt x="173" y="1103"/>
                    </a:lnTo>
                    <a:lnTo>
                      <a:pt x="180" y="1108"/>
                    </a:lnTo>
                    <a:lnTo>
                      <a:pt x="191" y="1109"/>
                    </a:lnTo>
                    <a:lnTo>
                      <a:pt x="202" y="1100"/>
                    </a:lnTo>
                    <a:lnTo>
                      <a:pt x="216" y="1079"/>
                    </a:lnTo>
                    <a:lnTo>
                      <a:pt x="230" y="1041"/>
                    </a:lnTo>
                    <a:lnTo>
                      <a:pt x="238" y="983"/>
                    </a:lnTo>
                    <a:lnTo>
                      <a:pt x="238" y="907"/>
                    </a:lnTo>
                    <a:lnTo>
                      <a:pt x="232" y="821"/>
                    </a:lnTo>
                    <a:lnTo>
                      <a:pt x="227" y="727"/>
                    </a:lnTo>
                    <a:lnTo>
                      <a:pt x="225" y="633"/>
                    </a:lnTo>
                    <a:lnTo>
                      <a:pt x="232" y="543"/>
                    </a:lnTo>
                    <a:lnTo>
                      <a:pt x="254" y="463"/>
                    </a:lnTo>
                    <a:lnTo>
                      <a:pt x="293" y="397"/>
                    </a:lnTo>
                    <a:lnTo>
                      <a:pt x="339" y="343"/>
                    </a:lnTo>
                    <a:lnTo>
                      <a:pt x="380" y="295"/>
                    </a:lnTo>
                    <a:lnTo>
                      <a:pt x="411" y="255"/>
                    </a:lnTo>
                    <a:lnTo>
                      <a:pt x="437" y="220"/>
                    </a:lnTo>
                    <a:lnTo>
                      <a:pt x="455" y="190"/>
                    </a:lnTo>
                    <a:lnTo>
                      <a:pt x="468" y="164"/>
                    </a:lnTo>
                    <a:lnTo>
                      <a:pt x="474" y="139"/>
                    </a:lnTo>
                    <a:lnTo>
                      <a:pt x="473" y="116"/>
                    </a:lnTo>
                    <a:lnTo>
                      <a:pt x="468" y="93"/>
                    </a:lnTo>
                    <a:lnTo>
                      <a:pt x="459" y="69"/>
                    </a:lnTo>
                    <a:lnTo>
                      <a:pt x="446" y="46"/>
                    </a:lnTo>
                    <a:lnTo>
                      <a:pt x="430" y="27"/>
                    </a:lnTo>
                    <a:lnTo>
                      <a:pt x="410" y="11"/>
                    </a:lnTo>
                    <a:lnTo>
                      <a:pt x="382" y="2"/>
                    </a:lnTo>
                    <a:lnTo>
                      <a:pt x="351" y="0"/>
                    </a:lnTo>
                    <a:lnTo>
                      <a:pt x="312" y="8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161"/>
              <p:cNvSpPr/>
              <p:nvPr/>
            </p:nvSpPr>
            <p:spPr>
              <a:xfrm>
                <a:off x="5538240" y="2429280"/>
                <a:ext cx="306360" cy="37800"/>
              </a:xfrm>
              <a:custGeom>
                <a:avLst/>
                <a:gdLst/>
                <a:ahLst/>
                <a:rect l="l" t="t" r="r" b="b"/>
                <a:pathLst>
                  <a:path w="442" h="110">
                    <a:moveTo>
                      <a:pt x="0" y="85"/>
                    </a:moveTo>
                    <a:lnTo>
                      <a:pt x="3" y="85"/>
                    </a:lnTo>
                    <a:lnTo>
                      <a:pt x="9" y="84"/>
                    </a:lnTo>
                    <a:lnTo>
                      <a:pt x="19" y="83"/>
                    </a:lnTo>
                    <a:lnTo>
                      <a:pt x="32" y="79"/>
                    </a:lnTo>
                    <a:lnTo>
                      <a:pt x="46" y="75"/>
                    </a:lnTo>
                    <a:lnTo>
                      <a:pt x="61" y="71"/>
                    </a:lnTo>
                    <a:lnTo>
                      <a:pt x="76" y="64"/>
                    </a:lnTo>
                    <a:lnTo>
                      <a:pt x="88" y="56"/>
                    </a:lnTo>
                    <a:lnTo>
                      <a:pt x="90" y="55"/>
                    </a:lnTo>
                    <a:lnTo>
                      <a:pt x="93" y="51"/>
                    </a:lnTo>
                    <a:lnTo>
                      <a:pt x="100" y="45"/>
                    </a:lnTo>
                    <a:lnTo>
                      <a:pt x="109" y="37"/>
                    </a:lnTo>
                    <a:lnTo>
                      <a:pt x="119" y="29"/>
                    </a:lnTo>
                    <a:lnTo>
                      <a:pt x="131" y="20"/>
                    </a:lnTo>
                    <a:lnTo>
                      <a:pt x="146" y="13"/>
                    </a:lnTo>
                    <a:lnTo>
                      <a:pt x="161" y="6"/>
                    </a:lnTo>
                    <a:lnTo>
                      <a:pt x="179" y="1"/>
                    </a:lnTo>
                    <a:lnTo>
                      <a:pt x="198" y="0"/>
                    </a:lnTo>
                    <a:lnTo>
                      <a:pt x="218" y="1"/>
                    </a:lnTo>
                    <a:lnTo>
                      <a:pt x="240" y="6"/>
                    </a:lnTo>
                    <a:lnTo>
                      <a:pt x="262" y="17"/>
                    </a:lnTo>
                    <a:lnTo>
                      <a:pt x="285" y="31"/>
                    </a:lnTo>
                    <a:lnTo>
                      <a:pt x="309" y="53"/>
                    </a:lnTo>
                    <a:lnTo>
                      <a:pt x="333" y="80"/>
                    </a:lnTo>
                    <a:lnTo>
                      <a:pt x="335" y="81"/>
                    </a:lnTo>
                    <a:lnTo>
                      <a:pt x="343" y="84"/>
                    </a:lnTo>
                    <a:lnTo>
                      <a:pt x="355" y="89"/>
                    </a:lnTo>
                    <a:lnTo>
                      <a:pt x="369" y="95"/>
                    </a:lnTo>
                    <a:lnTo>
                      <a:pt x="387" y="99"/>
                    </a:lnTo>
                    <a:lnTo>
                      <a:pt x="405" y="103"/>
                    </a:lnTo>
                    <a:lnTo>
                      <a:pt x="423" y="104"/>
                    </a:lnTo>
                    <a:lnTo>
                      <a:pt x="442" y="103"/>
                    </a:lnTo>
                    <a:lnTo>
                      <a:pt x="441" y="104"/>
                    </a:lnTo>
                    <a:lnTo>
                      <a:pt x="437" y="107"/>
                    </a:lnTo>
                    <a:lnTo>
                      <a:pt x="429" y="109"/>
                    </a:lnTo>
                    <a:lnTo>
                      <a:pt x="415" y="110"/>
                    </a:lnTo>
                    <a:lnTo>
                      <a:pt x="393" y="110"/>
                    </a:lnTo>
                    <a:lnTo>
                      <a:pt x="363" y="107"/>
                    </a:lnTo>
                    <a:lnTo>
                      <a:pt x="321" y="96"/>
                    </a:lnTo>
                    <a:lnTo>
                      <a:pt x="270" y="80"/>
                    </a:lnTo>
                    <a:lnTo>
                      <a:pt x="267" y="79"/>
                    </a:lnTo>
                    <a:lnTo>
                      <a:pt x="260" y="74"/>
                    </a:lnTo>
                    <a:lnTo>
                      <a:pt x="248" y="68"/>
                    </a:lnTo>
                    <a:lnTo>
                      <a:pt x="231" y="62"/>
                    </a:lnTo>
                    <a:lnTo>
                      <a:pt x="209" y="58"/>
                    </a:lnTo>
                    <a:lnTo>
                      <a:pt x="184" y="58"/>
                    </a:lnTo>
                    <a:lnTo>
                      <a:pt x="154" y="62"/>
                    </a:lnTo>
                    <a:lnTo>
                      <a:pt x="120" y="71"/>
                    </a:lnTo>
                    <a:lnTo>
                      <a:pt x="119" y="72"/>
                    </a:lnTo>
                    <a:lnTo>
                      <a:pt x="112" y="76"/>
                    </a:lnTo>
                    <a:lnTo>
                      <a:pt x="103" y="81"/>
                    </a:lnTo>
                    <a:lnTo>
                      <a:pt x="90" y="87"/>
                    </a:lnTo>
                    <a:lnTo>
                      <a:pt x="73" y="91"/>
                    </a:lnTo>
                    <a:lnTo>
                      <a:pt x="52" y="92"/>
                    </a:lnTo>
                    <a:lnTo>
                      <a:pt x="28" y="91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162"/>
              <p:cNvSpPr/>
              <p:nvPr/>
            </p:nvSpPr>
            <p:spPr>
              <a:xfrm>
                <a:off x="5538240" y="1686600"/>
                <a:ext cx="327240" cy="69480"/>
              </a:xfrm>
              <a:custGeom>
                <a:avLst/>
                <a:gdLst/>
                <a:ahLst/>
                <a:rect l="l" t="t" r="r" b="b"/>
                <a:pathLst>
                  <a:path w="473" h="165">
                    <a:moveTo>
                      <a:pt x="0" y="0"/>
                    </a:moveTo>
                    <a:lnTo>
                      <a:pt x="4" y="0"/>
                    </a:lnTo>
                    <a:lnTo>
                      <a:pt x="13" y="2"/>
                    </a:lnTo>
                    <a:lnTo>
                      <a:pt x="28" y="4"/>
                    </a:lnTo>
                    <a:lnTo>
                      <a:pt x="48" y="9"/>
                    </a:lnTo>
                    <a:lnTo>
                      <a:pt x="72" y="17"/>
                    </a:lnTo>
                    <a:lnTo>
                      <a:pt x="98" y="28"/>
                    </a:lnTo>
                    <a:lnTo>
                      <a:pt x="129" y="42"/>
                    </a:lnTo>
                    <a:lnTo>
                      <a:pt x="159" y="61"/>
                    </a:lnTo>
                    <a:lnTo>
                      <a:pt x="190" y="78"/>
                    </a:lnTo>
                    <a:lnTo>
                      <a:pt x="221" y="90"/>
                    </a:lnTo>
                    <a:lnTo>
                      <a:pt x="251" y="98"/>
                    </a:lnTo>
                    <a:lnTo>
                      <a:pt x="277" y="100"/>
                    </a:lnTo>
                    <a:lnTo>
                      <a:pt x="300" y="102"/>
                    </a:lnTo>
                    <a:lnTo>
                      <a:pt x="318" y="102"/>
                    </a:lnTo>
                    <a:lnTo>
                      <a:pt x="329" y="100"/>
                    </a:lnTo>
                    <a:lnTo>
                      <a:pt x="333" y="100"/>
                    </a:lnTo>
                    <a:lnTo>
                      <a:pt x="473" y="49"/>
                    </a:lnTo>
                    <a:lnTo>
                      <a:pt x="469" y="53"/>
                    </a:lnTo>
                    <a:lnTo>
                      <a:pt x="457" y="62"/>
                    </a:lnTo>
                    <a:lnTo>
                      <a:pt x="441" y="77"/>
                    </a:lnTo>
                    <a:lnTo>
                      <a:pt x="422" y="94"/>
                    </a:lnTo>
                    <a:lnTo>
                      <a:pt x="401" y="111"/>
                    </a:lnTo>
                    <a:lnTo>
                      <a:pt x="381" y="127"/>
                    </a:lnTo>
                    <a:lnTo>
                      <a:pt x="363" y="141"/>
                    </a:lnTo>
                    <a:lnTo>
                      <a:pt x="350" y="150"/>
                    </a:lnTo>
                    <a:lnTo>
                      <a:pt x="344" y="154"/>
                    </a:lnTo>
                    <a:lnTo>
                      <a:pt x="334" y="157"/>
                    </a:lnTo>
                    <a:lnTo>
                      <a:pt x="323" y="160"/>
                    </a:lnTo>
                    <a:lnTo>
                      <a:pt x="309" y="161"/>
                    </a:lnTo>
                    <a:lnTo>
                      <a:pt x="295" y="164"/>
                    </a:lnTo>
                    <a:lnTo>
                      <a:pt x="279" y="164"/>
                    </a:lnTo>
                    <a:lnTo>
                      <a:pt x="261" y="165"/>
                    </a:lnTo>
                    <a:lnTo>
                      <a:pt x="243" y="164"/>
                    </a:lnTo>
                    <a:lnTo>
                      <a:pt x="224" y="162"/>
                    </a:lnTo>
                    <a:lnTo>
                      <a:pt x="207" y="161"/>
                    </a:lnTo>
                    <a:lnTo>
                      <a:pt x="189" y="157"/>
                    </a:lnTo>
                    <a:lnTo>
                      <a:pt x="172" y="153"/>
                    </a:lnTo>
                    <a:lnTo>
                      <a:pt x="156" y="148"/>
                    </a:lnTo>
                    <a:lnTo>
                      <a:pt x="141" y="141"/>
                    </a:lnTo>
                    <a:lnTo>
                      <a:pt x="127" y="133"/>
                    </a:lnTo>
                    <a:lnTo>
                      <a:pt x="116" y="124"/>
                    </a:lnTo>
                    <a:lnTo>
                      <a:pt x="97" y="103"/>
                    </a:lnTo>
                    <a:lnTo>
                      <a:pt x="81" y="82"/>
                    </a:lnTo>
                    <a:lnTo>
                      <a:pt x="68" y="62"/>
                    </a:lnTo>
                    <a:lnTo>
                      <a:pt x="56" y="42"/>
                    </a:lnTo>
                    <a:lnTo>
                      <a:pt x="43" y="27"/>
                    </a:lnTo>
                    <a:lnTo>
                      <a:pt x="30" y="13"/>
                    </a:lnTo>
                    <a:lnTo>
                      <a:pt x="1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163"/>
              <p:cNvSpPr/>
              <p:nvPr/>
            </p:nvSpPr>
            <p:spPr>
              <a:xfrm>
                <a:off x="5838840" y="1780920"/>
                <a:ext cx="392760" cy="373680"/>
              </a:xfrm>
              <a:custGeom>
                <a:avLst/>
                <a:gdLst/>
                <a:ahLst/>
                <a:rect l="l" t="t" r="r" b="b"/>
                <a:pathLst>
                  <a:path w="570" h="953">
                    <a:moveTo>
                      <a:pt x="443" y="29"/>
                    </a:moveTo>
                    <a:lnTo>
                      <a:pt x="440" y="26"/>
                    </a:lnTo>
                    <a:lnTo>
                      <a:pt x="432" y="19"/>
                    </a:lnTo>
                    <a:lnTo>
                      <a:pt x="418" y="13"/>
                    </a:lnTo>
                    <a:lnTo>
                      <a:pt x="400" y="5"/>
                    </a:lnTo>
                    <a:lnTo>
                      <a:pt x="377" y="0"/>
                    </a:lnTo>
                    <a:lnTo>
                      <a:pt x="351" y="0"/>
                    </a:lnTo>
                    <a:lnTo>
                      <a:pt x="322" y="5"/>
                    </a:lnTo>
                    <a:lnTo>
                      <a:pt x="289" y="19"/>
                    </a:lnTo>
                    <a:lnTo>
                      <a:pt x="258" y="35"/>
                    </a:lnTo>
                    <a:lnTo>
                      <a:pt x="233" y="44"/>
                    </a:lnTo>
                    <a:lnTo>
                      <a:pt x="210" y="48"/>
                    </a:lnTo>
                    <a:lnTo>
                      <a:pt x="191" y="51"/>
                    </a:lnTo>
                    <a:lnTo>
                      <a:pt x="175" y="52"/>
                    </a:lnTo>
                    <a:lnTo>
                      <a:pt x="160" y="56"/>
                    </a:lnTo>
                    <a:lnTo>
                      <a:pt x="146" y="65"/>
                    </a:lnTo>
                    <a:lnTo>
                      <a:pt x="132" y="80"/>
                    </a:lnTo>
                    <a:lnTo>
                      <a:pt x="104" y="126"/>
                    </a:lnTo>
                    <a:lnTo>
                      <a:pt x="81" y="180"/>
                    </a:lnTo>
                    <a:lnTo>
                      <a:pt x="63" y="241"/>
                    </a:lnTo>
                    <a:lnTo>
                      <a:pt x="47" y="304"/>
                    </a:lnTo>
                    <a:lnTo>
                      <a:pt x="36" y="366"/>
                    </a:lnTo>
                    <a:lnTo>
                      <a:pt x="26" y="425"/>
                    </a:lnTo>
                    <a:lnTo>
                      <a:pt x="17" y="479"/>
                    </a:lnTo>
                    <a:lnTo>
                      <a:pt x="8" y="524"/>
                    </a:lnTo>
                    <a:lnTo>
                      <a:pt x="2" y="569"/>
                    </a:lnTo>
                    <a:lnTo>
                      <a:pt x="0" y="623"/>
                    </a:lnTo>
                    <a:lnTo>
                      <a:pt x="2" y="679"/>
                    </a:lnTo>
                    <a:lnTo>
                      <a:pt x="8" y="736"/>
                    </a:lnTo>
                    <a:lnTo>
                      <a:pt x="18" y="788"/>
                    </a:lnTo>
                    <a:lnTo>
                      <a:pt x="34" y="832"/>
                    </a:lnTo>
                    <a:lnTo>
                      <a:pt x="54" y="864"/>
                    </a:lnTo>
                    <a:lnTo>
                      <a:pt x="79" y="878"/>
                    </a:lnTo>
                    <a:lnTo>
                      <a:pt x="104" y="885"/>
                    </a:lnTo>
                    <a:lnTo>
                      <a:pt x="127" y="893"/>
                    </a:lnTo>
                    <a:lnTo>
                      <a:pt x="146" y="904"/>
                    </a:lnTo>
                    <a:lnTo>
                      <a:pt x="165" y="915"/>
                    </a:lnTo>
                    <a:lnTo>
                      <a:pt x="181" y="927"/>
                    </a:lnTo>
                    <a:lnTo>
                      <a:pt x="197" y="937"/>
                    </a:lnTo>
                    <a:lnTo>
                      <a:pt x="212" y="947"/>
                    </a:lnTo>
                    <a:lnTo>
                      <a:pt x="229" y="952"/>
                    </a:lnTo>
                    <a:lnTo>
                      <a:pt x="238" y="953"/>
                    </a:lnTo>
                    <a:lnTo>
                      <a:pt x="249" y="953"/>
                    </a:lnTo>
                    <a:lnTo>
                      <a:pt x="260" y="950"/>
                    </a:lnTo>
                    <a:lnTo>
                      <a:pt x="274" y="947"/>
                    </a:lnTo>
                    <a:lnTo>
                      <a:pt x="288" y="940"/>
                    </a:lnTo>
                    <a:lnTo>
                      <a:pt x="303" y="933"/>
                    </a:lnTo>
                    <a:lnTo>
                      <a:pt x="320" y="924"/>
                    </a:lnTo>
                    <a:lnTo>
                      <a:pt x="336" y="914"/>
                    </a:lnTo>
                    <a:lnTo>
                      <a:pt x="354" y="902"/>
                    </a:lnTo>
                    <a:lnTo>
                      <a:pt x="370" y="887"/>
                    </a:lnTo>
                    <a:lnTo>
                      <a:pt x="388" y="873"/>
                    </a:lnTo>
                    <a:lnTo>
                      <a:pt x="405" y="857"/>
                    </a:lnTo>
                    <a:lnTo>
                      <a:pt x="423" y="840"/>
                    </a:lnTo>
                    <a:lnTo>
                      <a:pt x="440" y="820"/>
                    </a:lnTo>
                    <a:lnTo>
                      <a:pt x="457" y="800"/>
                    </a:lnTo>
                    <a:lnTo>
                      <a:pt x="473" y="779"/>
                    </a:lnTo>
                    <a:lnTo>
                      <a:pt x="511" y="711"/>
                    </a:lnTo>
                    <a:lnTo>
                      <a:pt x="541" y="623"/>
                    </a:lnTo>
                    <a:lnTo>
                      <a:pt x="561" y="520"/>
                    </a:lnTo>
                    <a:lnTo>
                      <a:pt x="570" y="411"/>
                    </a:lnTo>
                    <a:lnTo>
                      <a:pt x="564" y="300"/>
                    </a:lnTo>
                    <a:lnTo>
                      <a:pt x="543" y="195"/>
                    </a:lnTo>
                    <a:lnTo>
                      <a:pt x="502" y="102"/>
                    </a:lnTo>
                    <a:lnTo>
                      <a:pt x="443" y="29"/>
                    </a:lnTo>
                    <a:close/>
                  </a:path>
                </a:pathLst>
              </a:custGeom>
              <a:solidFill>
                <a:srgbClr val="ff72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164"/>
              <p:cNvSpPr/>
              <p:nvPr/>
            </p:nvSpPr>
            <p:spPr>
              <a:xfrm>
                <a:off x="5943960" y="1892880"/>
                <a:ext cx="205200" cy="199080"/>
              </a:xfrm>
              <a:custGeom>
                <a:avLst/>
                <a:gdLst/>
                <a:ahLst/>
                <a:rect l="l" t="t" r="r" b="b"/>
                <a:pathLst>
                  <a:path w="297" h="507">
                    <a:moveTo>
                      <a:pt x="231" y="15"/>
                    </a:moveTo>
                    <a:lnTo>
                      <a:pt x="229" y="14"/>
                    </a:lnTo>
                    <a:lnTo>
                      <a:pt x="224" y="11"/>
                    </a:lnTo>
                    <a:lnTo>
                      <a:pt x="218" y="7"/>
                    </a:lnTo>
                    <a:lnTo>
                      <a:pt x="208" y="3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68" y="3"/>
                    </a:lnTo>
                    <a:lnTo>
                      <a:pt x="151" y="11"/>
                    </a:lnTo>
                    <a:lnTo>
                      <a:pt x="136" y="19"/>
                    </a:lnTo>
                    <a:lnTo>
                      <a:pt x="122" y="24"/>
                    </a:lnTo>
                    <a:lnTo>
                      <a:pt x="111" y="27"/>
                    </a:lnTo>
                    <a:lnTo>
                      <a:pt x="102" y="28"/>
                    </a:lnTo>
                    <a:lnTo>
                      <a:pt x="93" y="29"/>
                    </a:lnTo>
                    <a:lnTo>
                      <a:pt x="86" y="31"/>
                    </a:lnTo>
                    <a:lnTo>
                      <a:pt x="78" y="35"/>
                    </a:lnTo>
                    <a:lnTo>
                      <a:pt x="71" y="43"/>
                    </a:lnTo>
                    <a:lnTo>
                      <a:pt x="57" y="66"/>
                    </a:lnTo>
                    <a:lnTo>
                      <a:pt x="44" y="95"/>
                    </a:lnTo>
                    <a:lnTo>
                      <a:pt x="35" y="127"/>
                    </a:lnTo>
                    <a:lnTo>
                      <a:pt x="26" y="158"/>
                    </a:lnTo>
                    <a:lnTo>
                      <a:pt x="20" y="191"/>
                    </a:lnTo>
                    <a:lnTo>
                      <a:pt x="15" y="223"/>
                    </a:lnTo>
                    <a:lnTo>
                      <a:pt x="10" y="252"/>
                    </a:lnTo>
                    <a:lnTo>
                      <a:pt x="5" y="276"/>
                    </a:lnTo>
                    <a:lnTo>
                      <a:pt x="1" y="299"/>
                    </a:lnTo>
                    <a:lnTo>
                      <a:pt x="0" y="328"/>
                    </a:lnTo>
                    <a:lnTo>
                      <a:pt x="1" y="359"/>
                    </a:lnTo>
                    <a:lnTo>
                      <a:pt x="4" y="389"/>
                    </a:lnTo>
                    <a:lnTo>
                      <a:pt x="9" y="418"/>
                    </a:lnTo>
                    <a:lnTo>
                      <a:pt x="16" y="442"/>
                    </a:lnTo>
                    <a:lnTo>
                      <a:pt x="26" y="459"/>
                    </a:lnTo>
                    <a:lnTo>
                      <a:pt x="39" y="467"/>
                    </a:lnTo>
                    <a:lnTo>
                      <a:pt x="53" y="471"/>
                    </a:lnTo>
                    <a:lnTo>
                      <a:pt x="64" y="475"/>
                    </a:lnTo>
                    <a:lnTo>
                      <a:pt x="76" y="481"/>
                    </a:lnTo>
                    <a:lnTo>
                      <a:pt x="84" y="486"/>
                    </a:lnTo>
                    <a:lnTo>
                      <a:pt x="93" y="493"/>
                    </a:lnTo>
                    <a:lnTo>
                      <a:pt x="102" y="500"/>
                    </a:lnTo>
                    <a:lnTo>
                      <a:pt x="110" y="503"/>
                    </a:lnTo>
                    <a:lnTo>
                      <a:pt x="118" y="507"/>
                    </a:lnTo>
                    <a:lnTo>
                      <a:pt x="128" y="507"/>
                    </a:lnTo>
                    <a:lnTo>
                      <a:pt x="142" y="503"/>
                    </a:lnTo>
                    <a:lnTo>
                      <a:pt x="157" y="497"/>
                    </a:lnTo>
                    <a:lnTo>
                      <a:pt x="175" y="485"/>
                    </a:lnTo>
                    <a:lnTo>
                      <a:pt x="194" y="472"/>
                    </a:lnTo>
                    <a:lnTo>
                      <a:pt x="212" y="455"/>
                    </a:lnTo>
                    <a:lnTo>
                      <a:pt x="231" y="435"/>
                    </a:lnTo>
                    <a:lnTo>
                      <a:pt x="248" y="413"/>
                    </a:lnTo>
                    <a:lnTo>
                      <a:pt x="268" y="376"/>
                    </a:lnTo>
                    <a:lnTo>
                      <a:pt x="283" y="328"/>
                    </a:lnTo>
                    <a:lnTo>
                      <a:pt x="294" y="274"/>
                    </a:lnTo>
                    <a:lnTo>
                      <a:pt x="297" y="215"/>
                    </a:lnTo>
                    <a:lnTo>
                      <a:pt x="294" y="157"/>
                    </a:lnTo>
                    <a:lnTo>
                      <a:pt x="282" y="102"/>
                    </a:lnTo>
                    <a:lnTo>
                      <a:pt x="262" y="53"/>
                    </a:lnTo>
                    <a:lnTo>
                      <a:pt x="231" y="15"/>
                    </a:lnTo>
                    <a:close/>
                  </a:path>
                </a:pathLst>
              </a:custGeom>
              <a:solidFill>
                <a:srgbClr val="ffa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165"/>
              <p:cNvSpPr/>
              <p:nvPr/>
            </p:nvSpPr>
            <p:spPr>
              <a:xfrm>
                <a:off x="5633640" y="1668960"/>
                <a:ext cx="279360" cy="54000"/>
              </a:xfrm>
              <a:custGeom>
                <a:avLst/>
                <a:gdLst/>
                <a:ahLst/>
                <a:rect l="l" t="t" r="r" b="b"/>
                <a:pathLst>
                  <a:path w="406" h="150">
                    <a:moveTo>
                      <a:pt x="29" y="82"/>
                    </a:moveTo>
                    <a:lnTo>
                      <a:pt x="29" y="75"/>
                    </a:lnTo>
                    <a:lnTo>
                      <a:pt x="27" y="61"/>
                    </a:lnTo>
                    <a:lnTo>
                      <a:pt x="23" y="44"/>
                    </a:lnTo>
                    <a:lnTo>
                      <a:pt x="14" y="29"/>
                    </a:lnTo>
                    <a:lnTo>
                      <a:pt x="5" y="17"/>
                    </a:lnTo>
                    <a:lnTo>
                      <a:pt x="0" y="8"/>
                    </a:lnTo>
                    <a:lnTo>
                      <a:pt x="3" y="1"/>
                    </a:lnTo>
                    <a:lnTo>
                      <a:pt x="14" y="0"/>
                    </a:lnTo>
                    <a:lnTo>
                      <a:pt x="25" y="1"/>
                    </a:lnTo>
                    <a:lnTo>
                      <a:pt x="41" y="4"/>
                    </a:lnTo>
                    <a:lnTo>
                      <a:pt x="58" y="7"/>
                    </a:lnTo>
                    <a:lnTo>
                      <a:pt x="77" y="9"/>
                    </a:lnTo>
                    <a:lnTo>
                      <a:pt x="96" y="13"/>
                    </a:lnTo>
                    <a:lnTo>
                      <a:pt x="114" y="17"/>
                    </a:lnTo>
                    <a:lnTo>
                      <a:pt x="130" y="20"/>
                    </a:lnTo>
                    <a:lnTo>
                      <a:pt x="144" y="22"/>
                    </a:lnTo>
                    <a:lnTo>
                      <a:pt x="158" y="24"/>
                    </a:lnTo>
                    <a:lnTo>
                      <a:pt x="174" y="24"/>
                    </a:lnTo>
                    <a:lnTo>
                      <a:pt x="193" y="24"/>
                    </a:lnTo>
                    <a:lnTo>
                      <a:pt x="214" y="22"/>
                    </a:lnTo>
                    <a:lnTo>
                      <a:pt x="235" y="21"/>
                    </a:lnTo>
                    <a:lnTo>
                      <a:pt x="253" y="19"/>
                    </a:lnTo>
                    <a:lnTo>
                      <a:pt x="270" y="16"/>
                    </a:lnTo>
                    <a:lnTo>
                      <a:pt x="284" y="13"/>
                    </a:lnTo>
                    <a:lnTo>
                      <a:pt x="295" y="11"/>
                    </a:lnTo>
                    <a:lnTo>
                      <a:pt x="308" y="8"/>
                    </a:lnTo>
                    <a:lnTo>
                      <a:pt x="319" y="5"/>
                    </a:lnTo>
                    <a:lnTo>
                      <a:pt x="332" y="3"/>
                    </a:lnTo>
                    <a:lnTo>
                      <a:pt x="343" y="3"/>
                    </a:lnTo>
                    <a:lnTo>
                      <a:pt x="355" y="3"/>
                    </a:lnTo>
                    <a:lnTo>
                      <a:pt x="368" y="4"/>
                    </a:lnTo>
                    <a:lnTo>
                      <a:pt x="381" y="8"/>
                    </a:lnTo>
                    <a:lnTo>
                      <a:pt x="400" y="20"/>
                    </a:lnTo>
                    <a:lnTo>
                      <a:pt x="406" y="37"/>
                    </a:lnTo>
                    <a:lnTo>
                      <a:pt x="401" y="53"/>
                    </a:lnTo>
                    <a:lnTo>
                      <a:pt x="387" y="66"/>
                    </a:lnTo>
                    <a:lnTo>
                      <a:pt x="377" y="71"/>
                    </a:lnTo>
                    <a:lnTo>
                      <a:pt x="364" y="76"/>
                    </a:lnTo>
                    <a:lnTo>
                      <a:pt x="352" y="83"/>
                    </a:lnTo>
                    <a:lnTo>
                      <a:pt x="339" y="90"/>
                    </a:lnTo>
                    <a:lnTo>
                      <a:pt x="328" y="96"/>
                    </a:lnTo>
                    <a:lnTo>
                      <a:pt x="319" y="102"/>
                    </a:lnTo>
                    <a:lnTo>
                      <a:pt x="313" y="104"/>
                    </a:lnTo>
                    <a:lnTo>
                      <a:pt x="310" y="105"/>
                    </a:lnTo>
                    <a:lnTo>
                      <a:pt x="250" y="129"/>
                    </a:lnTo>
                    <a:lnTo>
                      <a:pt x="245" y="130"/>
                    </a:lnTo>
                    <a:lnTo>
                      <a:pt x="233" y="132"/>
                    </a:lnTo>
                    <a:lnTo>
                      <a:pt x="216" y="136"/>
                    </a:lnTo>
                    <a:lnTo>
                      <a:pt x="195" y="140"/>
                    </a:lnTo>
                    <a:lnTo>
                      <a:pt x="175" y="144"/>
                    </a:lnTo>
                    <a:lnTo>
                      <a:pt x="156" y="146"/>
                    </a:lnTo>
                    <a:lnTo>
                      <a:pt x="143" y="149"/>
                    </a:lnTo>
                    <a:lnTo>
                      <a:pt x="136" y="150"/>
                    </a:lnTo>
                    <a:lnTo>
                      <a:pt x="133" y="149"/>
                    </a:lnTo>
                    <a:lnTo>
                      <a:pt x="125" y="146"/>
                    </a:lnTo>
                    <a:lnTo>
                      <a:pt x="114" y="141"/>
                    </a:lnTo>
                    <a:lnTo>
                      <a:pt x="101" y="133"/>
                    </a:lnTo>
                    <a:lnTo>
                      <a:pt x="85" y="123"/>
                    </a:lnTo>
                    <a:lnTo>
                      <a:pt x="68" y="111"/>
                    </a:lnTo>
                    <a:lnTo>
                      <a:pt x="49" y="98"/>
                    </a:lnTo>
                    <a:lnTo>
                      <a:pt x="29" y="82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166"/>
              <p:cNvSpPr/>
              <p:nvPr/>
            </p:nvSpPr>
            <p:spPr>
              <a:xfrm>
                <a:off x="5026680" y="1718280"/>
                <a:ext cx="360000" cy="704880"/>
              </a:xfrm>
              <a:custGeom>
                <a:avLst/>
                <a:gdLst/>
                <a:ahLst/>
                <a:rect l="l" t="t" r="r" b="b"/>
                <a:pathLst>
                  <a:path w="521" h="1794">
                    <a:moveTo>
                      <a:pt x="221" y="0"/>
                    </a:moveTo>
                    <a:lnTo>
                      <a:pt x="217" y="4"/>
                    </a:lnTo>
                    <a:lnTo>
                      <a:pt x="204" y="14"/>
                    </a:lnTo>
                    <a:lnTo>
                      <a:pt x="187" y="33"/>
                    </a:lnTo>
                    <a:lnTo>
                      <a:pt x="164" y="58"/>
                    </a:lnTo>
                    <a:lnTo>
                      <a:pt x="139" y="92"/>
                    </a:lnTo>
                    <a:lnTo>
                      <a:pt x="113" y="134"/>
                    </a:lnTo>
                    <a:lnTo>
                      <a:pt x="85" y="184"/>
                    </a:lnTo>
                    <a:lnTo>
                      <a:pt x="60" y="244"/>
                    </a:lnTo>
                    <a:lnTo>
                      <a:pt x="37" y="312"/>
                    </a:lnTo>
                    <a:lnTo>
                      <a:pt x="18" y="388"/>
                    </a:lnTo>
                    <a:lnTo>
                      <a:pt x="5" y="475"/>
                    </a:lnTo>
                    <a:lnTo>
                      <a:pt x="0" y="570"/>
                    </a:lnTo>
                    <a:lnTo>
                      <a:pt x="4" y="676"/>
                    </a:lnTo>
                    <a:lnTo>
                      <a:pt x="19" y="791"/>
                    </a:lnTo>
                    <a:lnTo>
                      <a:pt x="46" y="918"/>
                    </a:lnTo>
                    <a:lnTo>
                      <a:pt x="85" y="1053"/>
                    </a:lnTo>
                    <a:lnTo>
                      <a:pt x="89" y="1060"/>
                    </a:lnTo>
                    <a:lnTo>
                      <a:pt x="100" y="1080"/>
                    </a:lnTo>
                    <a:lnTo>
                      <a:pt x="116" y="1111"/>
                    </a:lnTo>
                    <a:lnTo>
                      <a:pt x="139" y="1152"/>
                    </a:lnTo>
                    <a:lnTo>
                      <a:pt x="165" y="1201"/>
                    </a:lnTo>
                    <a:lnTo>
                      <a:pt x="196" y="1256"/>
                    </a:lnTo>
                    <a:lnTo>
                      <a:pt x="230" y="1317"/>
                    </a:lnTo>
                    <a:lnTo>
                      <a:pt x="265" y="1380"/>
                    </a:lnTo>
                    <a:lnTo>
                      <a:pt x="301" y="1443"/>
                    </a:lnTo>
                    <a:lnTo>
                      <a:pt x="338" y="1508"/>
                    </a:lnTo>
                    <a:lnTo>
                      <a:pt x="375" y="1570"/>
                    </a:lnTo>
                    <a:lnTo>
                      <a:pt x="410" y="1629"/>
                    </a:lnTo>
                    <a:lnTo>
                      <a:pt x="443" y="1682"/>
                    </a:lnTo>
                    <a:lnTo>
                      <a:pt x="473" y="1728"/>
                    </a:lnTo>
                    <a:lnTo>
                      <a:pt x="499" y="1766"/>
                    </a:lnTo>
                    <a:lnTo>
                      <a:pt x="521" y="1794"/>
                    </a:lnTo>
                    <a:lnTo>
                      <a:pt x="517" y="1787"/>
                    </a:lnTo>
                    <a:lnTo>
                      <a:pt x="507" y="1769"/>
                    </a:lnTo>
                    <a:lnTo>
                      <a:pt x="492" y="1740"/>
                    </a:lnTo>
                    <a:lnTo>
                      <a:pt x="472" y="1703"/>
                    </a:lnTo>
                    <a:lnTo>
                      <a:pt x="448" y="1657"/>
                    </a:lnTo>
                    <a:lnTo>
                      <a:pt x="419" y="1605"/>
                    </a:lnTo>
                    <a:lnTo>
                      <a:pt x="388" y="1549"/>
                    </a:lnTo>
                    <a:lnTo>
                      <a:pt x="357" y="1488"/>
                    </a:lnTo>
                    <a:lnTo>
                      <a:pt x="323" y="1426"/>
                    </a:lnTo>
                    <a:lnTo>
                      <a:pt x="289" y="1363"/>
                    </a:lnTo>
                    <a:lnTo>
                      <a:pt x="255" y="1301"/>
                    </a:lnTo>
                    <a:lnTo>
                      <a:pt x="223" y="1241"/>
                    </a:lnTo>
                    <a:lnTo>
                      <a:pt x="193" y="1184"/>
                    </a:lnTo>
                    <a:lnTo>
                      <a:pt x="164" y="1131"/>
                    </a:lnTo>
                    <a:lnTo>
                      <a:pt x="140" y="1085"/>
                    </a:lnTo>
                    <a:lnTo>
                      <a:pt x="120" y="1047"/>
                    </a:lnTo>
                    <a:lnTo>
                      <a:pt x="118" y="1040"/>
                    </a:lnTo>
                    <a:lnTo>
                      <a:pt x="111" y="1021"/>
                    </a:lnTo>
                    <a:lnTo>
                      <a:pt x="101" y="989"/>
                    </a:lnTo>
                    <a:lnTo>
                      <a:pt x="90" y="945"/>
                    </a:lnTo>
                    <a:lnTo>
                      <a:pt x="77" y="894"/>
                    </a:lnTo>
                    <a:lnTo>
                      <a:pt x="66" y="834"/>
                    </a:lnTo>
                    <a:lnTo>
                      <a:pt x="56" y="765"/>
                    </a:lnTo>
                    <a:lnTo>
                      <a:pt x="48" y="691"/>
                    </a:lnTo>
                    <a:lnTo>
                      <a:pt x="43" y="611"/>
                    </a:lnTo>
                    <a:lnTo>
                      <a:pt x="44" y="528"/>
                    </a:lnTo>
                    <a:lnTo>
                      <a:pt x="52" y="441"/>
                    </a:lnTo>
                    <a:lnTo>
                      <a:pt x="67" y="352"/>
                    </a:lnTo>
                    <a:lnTo>
                      <a:pt x="90" y="262"/>
                    </a:lnTo>
                    <a:lnTo>
                      <a:pt x="123" y="172"/>
                    </a:lnTo>
                    <a:lnTo>
                      <a:pt x="165" y="85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167"/>
              <p:cNvSpPr/>
              <p:nvPr/>
            </p:nvSpPr>
            <p:spPr>
              <a:xfrm>
                <a:off x="5583960" y="1699560"/>
                <a:ext cx="240120" cy="46800"/>
              </a:xfrm>
              <a:custGeom>
                <a:avLst/>
                <a:gdLst/>
                <a:ahLst/>
                <a:rect l="l" t="t" r="r" b="b"/>
                <a:pathLst>
                  <a:path w="350" h="120">
                    <a:moveTo>
                      <a:pt x="0" y="0"/>
                    </a:moveTo>
                    <a:lnTo>
                      <a:pt x="5" y="4"/>
                    </a:lnTo>
                    <a:lnTo>
                      <a:pt x="16" y="16"/>
                    </a:lnTo>
                    <a:lnTo>
                      <a:pt x="35" y="32"/>
                    </a:lnTo>
                    <a:lnTo>
                      <a:pt x="59" y="50"/>
                    </a:lnTo>
                    <a:lnTo>
                      <a:pt x="85" y="69"/>
                    </a:lnTo>
                    <a:lnTo>
                      <a:pt x="113" y="87"/>
                    </a:lnTo>
                    <a:lnTo>
                      <a:pt x="141" y="102"/>
                    </a:lnTo>
                    <a:lnTo>
                      <a:pt x="166" y="110"/>
                    </a:lnTo>
                    <a:lnTo>
                      <a:pt x="190" y="115"/>
                    </a:lnTo>
                    <a:lnTo>
                      <a:pt x="215" y="118"/>
                    </a:lnTo>
                    <a:lnTo>
                      <a:pt x="240" y="120"/>
                    </a:lnTo>
                    <a:lnTo>
                      <a:pt x="264" y="119"/>
                    </a:lnTo>
                    <a:lnTo>
                      <a:pt x="287" y="116"/>
                    </a:lnTo>
                    <a:lnTo>
                      <a:pt x="306" y="111"/>
                    </a:lnTo>
                    <a:lnTo>
                      <a:pt x="321" y="102"/>
                    </a:lnTo>
                    <a:lnTo>
                      <a:pt x="331" y="90"/>
                    </a:lnTo>
                    <a:lnTo>
                      <a:pt x="350" y="61"/>
                    </a:lnTo>
                    <a:lnTo>
                      <a:pt x="345" y="62"/>
                    </a:lnTo>
                    <a:lnTo>
                      <a:pt x="331" y="68"/>
                    </a:lnTo>
                    <a:lnTo>
                      <a:pt x="311" y="73"/>
                    </a:lnTo>
                    <a:lnTo>
                      <a:pt x="286" y="78"/>
                    </a:lnTo>
                    <a:lnTo>
                      <a:pt x="255" y="82"/>
                    </a:lnTo>
                    <a:lnTo>
                      <a:pt x="225" y="83"/>
                    </a:lnTo>
                    <a:lnTo>
                      <a:pt x="195" y="79"/>
                    </a:lnTo>
                    <a:lnTo>
                      <a:pt x="167" y="70"/>
                    </a:lnTo>
                    <a:lnTo>
                      <a:pt x="163" y="68"/>
                    </a:lnTo>
                    <a:lnTo>
                      <a:pt x="153" y="60"/>
                    </a:lnTo>
                    <a:lnTo>
                      <a:pt x="137" y="49"/>
                    </a:lnTo>
                    <a:lnTo>
                      <a:pt x="116" y="37"/>
                    </a:lnTo>
                    <a:lnTo>
                      <a:pt x="90" y="25"/>
                    </a:lnTo>
                    <a:lnTo>
                      <a:pt x="61" y="14"/>
                    </a:lnTo>
                    <a:lnTo>
                      <a:pt x="3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168"/>
              <p:cNvSpPr/>
              <p:nvPr/>
            </p:nvSpPr>
            <p:spPr>
              <a:xfrm>
                <a:off x="5134320" y="1772640"/>
                <a:ext cx="194760" cy="360720"/>
              </a:xfrm>
              <a:custGeom>
                <a:avLst/>
                <a:gdLst/>
                <a:ahLst/>
                <a:rect l="l" t="t" r="r" b="b"/>
                <a:pathLst>
                  <a:path w="281" h="918">
                    <a:moveTo>
                      <a:pt x="232" y="13"/>
                    </a:moveTo>
                    <a:lnTo>
                      <a:pt x="227" y="14"/>
                    </a:lnTo>
                    <a:lnTo>
                      <a:pt x="215" y="21"/>
                    </a:lnTo>
                    <a:lnTo>
                      <a:pt x="196" y="31"/>
                    </a:lnTo>
                    <a:lnTo>
                      <a:pt x="173" y="47"/>
                    </a:lnTo>
                    <a:lnTo>
                      <a:pt x="145" y="71"/>
                    </a:lnTo>
                    <a:lnTo>
                      <a:pt x="116" y="101"/>
                    </a:lnTo>
                    <a:lnTo>
                      <a:pt x="87" y="141"/>
                    </a:lnTo>
                    <a:lnTo>
                      <a:pt x="60" y="189"/>
                    </a:lnTo>
                    <a:lnTo>
                      <a:pt x="39" y="236"/>
                    </a:lnTo>
                    <a:lnTo>
                      <a:pt x="22" y="290"/>
                    </a:lnTo>
                    <a:lnTo>
                      <a:pt x="8" y="355"/>
                    </a:lnTo>
                    <a:lnTo>
                      <a:pt x="0" y="431"/>
                    </a:lnTo>
                    <a:lnTo>
                      <a:pt x="0" y="520"/>
                    </a:lnTo>
                    <a:lnTo>
                      <a:pt x="12" y="621"/>
                    </a:lnTo>
                    <a:lnTo>
                      <a:pt x="33" y="737"/>
                    </a:lnTo>
                    <a:lnTo>
                      <a:pt x="70" y="869"/>
                    </a:lnTo>
                    <a:lnTo>
                      <a:pt x="73" y="874"/>
                    </a:lnTo>
                    <a:lnTo>
                      <a:pt x="82" y="885"/>
                    </a:lnTo>
                    <a:lnTo>
                      <a:pt x="95" y="899"/>
                    </a:lnTo>
                    <a:lnTo>
                      <a:pt x="109" y="911"/>
                    </a:lnTo>
                    <a:lnTo>
                      <a:pt x="121" y="918"/>
                    </a:lnTo>
                    <a:lnTo>
                      <a:pt x="131" y="915"/>
                    </a:lnTo>
                    <a:lnTo>
                      <a:pt x="135" y="898"/>
                    </a:lnTo>
                    <a:lnTo>
                      <a:pt x="131" y="862"/>
                    </a:lnTo>
                    <a:lnTo>
                      <a:pt x="126" y="848"/>
                    </a:lnTo>
                    <a:lnTo>
                      <a:pt x="114" y="808"/>
                    </a:lnTo>
                    <a:lnTo>
                      <a:pt x="97" y="748"/>
                    </a:lnTo>
                    <a:lnTo>
                      <a:pt x="84" y="666"/>
                    </a:lnTo>
                    <a:lnTo>
                      <a:pt x="75" y="571"/>
                    </a:lnTo>
                    <a:lnTo>
                      <a:pt x="78" y="462"/>
                    </a:lnTo>
                    <a:lnTo>
                      <a:pt x="96" y="345"/>
                    </a:lnTo>
                    <a:lnTo>
                      <a:pt x="135" y="222"/>
                    </a:lnTo>
                    <a:lnTo>
                      <a:pt x="136" y="218"/>
                    </a:lnTo>
                    <a:lnTo>
                      <a:pt x="143" y="207"/>
                    </a:lnTo>
                    <a:lnTo>
                      <a:pt x="152" y="188"/>
                    </a:lnTo>
                    <a:lnTo>
                      <a:pt x="167" y="166"/>
                    </a:lnTo>
                    <a:lnTo>
                      <a:pt x="186" y="139"/>
                    </a:lnTo>
                    <a:lnTo>
                      <a:pt x="211" y="112"/>
                    </a:lnTo>
                    <a:lnTo>
                      <a:pt x="242" y="83"/>
                    </a:lnTo>
                    <a:lnTo>
                      <a:pt x="280" y="54"/>
                    </a:lnTo>
                    <a:lnTo>
                      <a:pt x="280" y="50"/>
                    </a:lnTo>
                    <a:lnTo>
                      <a:pt x="281" y="41"/>
                    </a:lnTo>
                    <a:lnTo>
                      <a:pt x="281" y="29"/>
                    </a:lnTo>
                    <a:lnTo>
                      <a:pt x="280" y="16"/>
                    </a:lnTo>
                    <a:lnTo>
                      <a:pt x="275" y="5"/>
                    </a:lnTo>
                    <a:lnTo>
                      <a:pt x="266" y="0"/>
                    </a:lnTo>
                    <a:lnTo>
                      <a:pt x="252" y="1"/>
                    </a:lnTo>
                    <a:lnTo>
                      <a:pt x="232" y="13"/>
                    </a:lnTo>
                    <a:close/>
                  </a:path>
                </a:pathLst>
              </a:custGeom>
              <a:solidFill>
                <a:srgbClr val="91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169"/>
              <p:cNvSpPr/>
              <p:nvPr/>
            </p:nvSpPr>
            <p:spPr>
              <a:xfrm>
                <a:off x="5544360" y="2443680"/>
                <a:ext cx="261000" cy="33120"/>
              </a:xfrm>
              <a:custGeom>
                <a:avLst/>
                <a:gdLst/>
                <a:ahLst/>
                <a:rect l="l" t="t" r="r" b="b"/>
                <a:pathLst>
                  <a:path w="379" h="95">
                    <a:moveTo>
                      <a:pt x="0" y="71"/>
                    </a:moveTo>
                    <a:lnTo>
                      <a:pt x="4" y="70"/>
                    </a:lnTo>
                    <a:lnTo>
                      <a:pt x="15" y="66"/>
                    </a:lnTo>
                    <a:lnTo>
                      <a:pt x="31" y="60"/>
                    </a:lnTo>
                    <a:lnTo>
                      <a:pt x="51" y="54"/>
                    </a:lnTo>
                    <a:lnTo>
                      <a:pt x="73" y="46"/>
                    </a:lnTo>
                    <a:lnTo>
                      <a:pt x="94" y="37"/>
                    </a:lnTo>
                    <a:lnTo>
                      <a:pt x="113" y="29"/>
                    </a:lnTo>
                    <a:lnTo>
                      <a:pt x="128" y="19"/>
                    </a:lnTo>
                    <a:lnTo>
                      <a:pt x="142" y="12"/>
                    </a:lnTo>
                    <a:lnTo>
                      <a:pt x="157" y="5"/>
                    </a:lnTo>
                    <a:lnTo>
                      <a:pt x="175" y="1"/>
                    </a:lnTo>
                    <a:lnTo>
                      <a:pt x="195" y="0"/>
                    </a:lnTo>
                    <a:lnTo>
                      <a:pt x="218" y="2"/>
                    </a:lnTo>
                    <a:lnTo>
                      <a:pt x="243" y="9"/>
                    </a:lnTo>
                    <a:lnTo>
                      <a:pt x="272" y="19"/>
                    </a:lnTo>
                    <a:lnTo>
                      <a:pt x="302" y="37"/>
                    </a:lnTo>
                    <a:lnTo>
                      <a:pt x="379" y="95"/>
                    </a:lnTo>
                    <a:lnTo>
                      <a:pt x="376" y="95"/>
                    </a:lnTo>
                    <a:lnTo>
                      <a:pt x="368" y="95"/>
                    </a:lnTo>
                    <a:lnTo>
                      <a:pt x="355" y="93"/>
                    </a:lnTo>
                    <a:lnTo>
                      <a:pt x="340" y="92"/>
                    </a:lnTo>
                    <a:lnTo>
                      <a:pt x="323" y="89"/>
                    </a:lnTo>
                    <a:lnTo>
                      <a:pt x="306" y="85"/>
                    </a:lnTo>
                    <a:lnTo>
                      <a:pt x="291" y="80"/>
                    </a:lnTo>
                    <a:lnTo>
                      <a:pt x="277" y="72"/>
                    </a:lnTo>
                    <a:lnTo>
                      <a:pt x="273" y="70"/>
                    </a:lnTo>
                    <a:lnTo>
                      <a:pt x="262" y="66"/>
                    </a:lnTo>
                    <a:lnTo>
                      <a:pt x="244" y="59"/>
                    </a:lnTo>
                    <a:lnTo>
                      <a:pt x="220" y="52"/>
                    </a:lnTo>
                    <a:lnTo>
                      <a:pt x="191" y="50"/>
                    </a:lnTo>
                    <a:lnTo>
                      <a:pt x="158" y="51"/>
                    </a:lnTo>
                    <a:lnTo>
                      <a:pt x="121" y="58"/>
                    </a:lnTo>
                    <a:lnTo>
                      <a:pt x="79" y="72"/>
                    </a:lnTo>
                    <a:lnTo>
                      <a:pt x="78" y="73"/>
                    </a:lnTo>
                    <a:lnTo>
                      <a:pt x="73" y="75"/>
                    </a:lnTo>
                    <a:lnTo>
                      <a:pt x="65" y="77"/>
                    </a:lnTo>
                    <a:lnTo>
                      <a:pt x="55" y="80"/>
                    </a:lnTo>
                    <a:lnTo>
                      <a:pt x="43" y="81"/>
                    </a:lnTo>
                    <a:lnTo>
                      <a:pt x="29" y="80"/>
                    </a:lnTo>
                    <a:lnTo>
                      <a:pt x="15" y="77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2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170"/>
              <p:cNvSpPr/>
              <p:nvPr/>
            </p:nvSpPr>
            <p:spPr>
              <a:xfrm>
                <a:off x="5981760" y="1678320"/>
                <a:ext cx="262800" cy="86040"/>
              </a:xfrm>
              <a:custGeom>
                <a:avLst/>
                <a:gdLst/>
                <a:ahLst/>
                <a:rect l="l" t="t" r="r" b="b"/>
                <a:pathLst>
                  <a:path w="382" h="221">
                    <a:moveTo>
                      <a:pt x="0" y="0"/>
                    </a:moveTo>
                    <a:lnTo>
                      <a:pt x="4" y="0"/>
                    </a:lnTo>
                    <a:lnTo>
                      <a:pt x="13" y="0"/>
                    </a:lnTo>
                    <a:lnTo>
                      <a:pt x="27" y="1"/>
                    </a:lnTo>
                    <a:lnTo>
                      <a:pt x="46" y="2"/>
                    </a:lnTo>
                    <a:lnTo>
                      <a:pt x="68" y="6"/>
                    </a:lnTo>
                    <a:lnTo>
                      <a:pt x="95" y="10"/>
                    </a:lnTo>
                    <a:lnTo>
                      <a:pt x="124" y="17"/>
                    </a:lnTo>
                    <a:lnTo>
                      <a:pt x="154" y="26"/>
                    </a:lnTo>
                    <a:lnTo>
                      <a:pt x="185" y="38"/>
                    </a:lnTo>
                    <a:lnTo>
                      <a:pt x="217" y="52"/>
                    </a:lnTo>
                    <a:lnTo>
                      <a:pt x="250" y="71"/>
                    </a:lnTo>
                    <a:lnTo>
                      <a:pt x="280" y="92"/>
                    </a:lnTo>
                    <a:lnTo>
                      <a:pt x="310" y="117"/>
                    </a:lnTo>
                    <a:lnTo>
                      <a:pt x="337" y="147"/>
                    </a:lnTo>
                    <a:lnTo>
                      <a:pt x="362" y="182"/>
                    </a:lnTo>
                    <a:lnTo>
                      <a:pt x="382" y="221"/>
                    </a:lnTo>
                    <a:lnTo>
                      <a:pt x="381" y="220"/>
                    </a:lnTo>
                    <a:lnTo>
                      <a:pt x="376" y="216"/>
                    </a:lnTo>
                    <a:lnTo>
                      <a:pt x="368" y="208"/>
                    </a:lnTo>
                    <a:lnTo>
                      <a:pt x="358" y="200"/>
                    </a:lnTo>
                    <a:lnTo>
                      <a:pt x="344" y="188"/>
                    </a:lnTo>
                    <a:lnTo>
                      <a:pt x="328" y="175"/>
                    </a:lnTo>
                    <a:lnTo>
                      <a:pt x="308" y="160"/>
                    </a:lnTo>
                    <a:lnTo>
                      <a:pt x="286" y="145"/>
                    </a:lnTo>
                    <a:lnTo>
                      <a:pt x="260" y="128"/>
                    </a:lnTo>
                    <a:lnTo>
                      <a:pt x="232" y="110"/>
                    </a:lnTo>
                    <a:lnTo>
                      <a:pt x="200" y="92"/>
                    </a:lnTo>
                    <a:lnTo>
                      <a:pt x="166" y="74"/>
                    </a:lnTo>
                    <a:lnTo>
                      <a:pt x="129" y="54"/>
                    </a:lnTo>
                    <a:lnTo>
                      <a:pt x="88" y="35"/>
                    </a:lnTo>
                    <a:lnTo>
                      <a:pt x="46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171"/>
              <p:cNvSpPr/>
              <p:nvPr/>
            </p:nvSpPr>
            <p:spPr>
              <a:xfrm>
                <a:off x="5631840" y="1542600"/>
                <a:ext cx="117720" cy="198000"/>
              </a:xfrm>
              <a:custGeom>
                <a:avLst/>
                <a:gdLst/>
                <a:ahLst/>
                <a:rect l="l" t="t" r="r" b="b"/>
                <a:pathLst>
                  <a:path w="174" h="503">
                    <a:moveTo>
                      <a:pt x="115" y="481"/>
                    </a:moveTo>
                    <a:lnTo>
                      <a:pt x="113" y="468"/>
                    </a:lnTo>
                    <a:lnTo>
                      <a:pt x="108" y="432"/>
                    </a:lnTo>
                    <a:lnTo>
                      <a:pt x="101" y="381"/>
                    </a:lnTo>
                    <a:lnTo>
                      <a:pt x="89" y="318"/>
                    </a:lnTo>
                    <a:lnTo>
                      <a:pt x="73" y="249"/>
                    </a:lnTo>
                    <a:lnTo>
                      <a:pt x="53" y="182"/>
                    </a:lnTo>
                    <a:lnTo>
                      <a:pt x="29" y="120"/>
                    </a:lnTo>
                    <a:lnTo>
                      <a:pt x="0" y="72"/>
                    </a:lnTo>
                    <a:lnTo>
                      <a:pt x="1" y="68"/>
                    </a:lnTo>
                    <a:lnTo>
                      <a:pt x="4" y="58"/>
                    </a:lnTo>
                    <a:lnTo>
                      <a:pt x="9" y="46"/>
                    </a:lnTo>
                    <a:lnTo>
                      <a:pt x="16" y="32"/>
                    </a:lnTo>
                    <a:lnTo>
                      <a:pt x="25" y="18"/>
                    </a:lnTo>
                    <a:lnTo>
                      <a:pt x="38" y="7"/>
                    </a:lnTo>
                    <a:lnTo>
                      <a:pt x="52" y="0"/>
                    </a:lnTo>
                    <a:lnTo>
                      <a:pt x="68" y="2"/>
                    </a:lnTo>
                    <a:lnTo>
                      <a:pt x="113" y="27"/>
                    </a:lnTo>
                    <a:lnTo>
                      <a:pt x="117" y="40"/>
                    </a:lnTo>
                    <a:lnTo>
                      <a:pt x="126" y="75"/>
                    </a:lnTo>
                    <a:lnTo>
                      <a:pt x="137" y="128"/>
                    </a:lnTo>
                    <a:lnTo>
                      <a:pt x="150" y="194"/>
                    </a:lnTo>
                    <a:lnTo>
                      <a:pt x="162" y="266"/>
                    </a:lnTo>
                    <a:lnTo>
                      <a:pt x="171" y="340"/>
                    </a:lnTo>
                    <a:lnTo>
                      <a:pt x="174" y="411"/>
                    </a:lnTo>
                    <a:lnTo>
                      <a:pt x="170" y="473"/>
                    </a:lnTo>
                    <a:lnTo>
                      <a:pt x="169" y="476"/>
                    </a:lnTo>
                    <a:lnTo>
                      <a:pt x="166" y="482"/>
                    </a:lnTo>
                    <a:lnTo>
                      <a:pt x="161" y="490"/>
                    </a:lnTo>
                    <a:lnTo>
                      <a:pt x="156" y="498"/>
                    </a:lnTo>
                    <a:lnTo>
                      <a:pt x="147" y="503"/>
                    </a:lnTo>
                    <a:lnTo>
                      <a:pt x="139" y="503"/>
                    </a:lnTo>
                    <a:lnTo>
                      <a:pt x="127" y="497"/>
                    </a:lnTo>
                    <a:lnTo>
                      <a:pt x="115" y="481"/>
                    </a:lnTo>
                    <a:close/>
                  </a:path>
                </a:pathLst>
              </a:custGeom>
              <a:solidFill>
                <a:srgbClr val="5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172"/>
              <p:cNvSpPr/>
              <p:nvPr/>
            </p:nvSpPr>
            <p:spPr>
              <a:xfrm>
                <a:off x="5681160" y="1550880"/>
                <a:ext cx="57960" cy="132840"/>
              </a:xfrm>
              <a:custGeom>
                <a:avLst/>
                <a:gdLst/>
                <a:ahLst/>
                <a:rect l="l" t="t" r="r" b="b"/>
                <a:pathLst>
                  <a:path w="84" h="339">
                    <a:moveTo>
                      <a:pt x="0" y="0"/>
                    </a:moveTo>
                    <a:lnTo>
                      <a:pt x="5" y="1"/>
                    </a:lnTo>
                    <a:lnTo>
                      <a:pt x="16" y="4"/>
                    </a:lnTo>
                    <a:lnTo>
                      <a:pt x="29" y="11"/>
                    </a:lnTo>
                    <a:lnTo>
                      <a:pt x="36" y="21"/>
                    </a:lnTo>
                    <a:lnTo>
                      <a:pt x="39" y="30"/>
                    </a:lnTo>
                    <a:lnTo>
                      <a:pt x="44" y="54"/>
                    </a:lnTo>
                    <a:lnTo>
                      <a:pt x="51" y="90"/>
                    </a:lnTo>
                    <a:lnTo>
                      <a:pt x="60" y="133"/>
                    </a:lnTo>
                    <a:lnTo>
                      <a:pt x="69" y="183"/>
                    </a:lnTo>
                    <a:lnTo>
                      <a:pt x="77" y="236"/>
                    </a:lnTo>
                    <a:lnTo>
                      <a:pt x="83" y="289"/>
                    </a:lnTo>
                    <a:lnTo>
                      <a:pt x="84" y="336"/>
                    </a:lnTo>
                    <a:lnTo>
                      <a:pt x="83" y="337"/>
                    </a:lnTo>
                    <a:lnTo>
                      <a:pt x="79" y="339"/>
                    </a:lnTo>
                    <a:lnTo>
                      <a:pt x="74" y="336"/>
                    </a:lnTo>
                    <a:lnTo>
                      <a:pt x="69" y="328"/>
                    </a:lnTo>
                    <a:lnTo>
                      <a:pt x="68" y="316"/>
                    </a:lnTo>
                    <a:lnTo>
                      <a:pt x="63" y="285"/>
                    </a:lnTo>
                    <a:lnTo>
                      <a:pt x="56" y="240"/>
                    </a:lnTo>
                    <a:lnTo>
                      <a:pt x="48" y="186"/>
                    </a:lnTo>
                    <a:lnTo>
                      <a:pt x="38" y="129"/>
                    </a:lnTo>
                    <a:lnTo>
                      <a:pt x="26" y="75"/>
                    </a:ln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28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73"/>
              <p:cNvSpPr/>
              <p:nvPr/>
            </p:nvSpPr>
            <p:spPr>
              <a:xfrm>
                <a:off x="5641920" y="1566000"/>
                <a:ext cx="88560" cy="176760"/>
              </a:xfrm>
              <a:custGeom>
                <a:avLst/>
                <a:gdLst/>
                <a:ahLst/>
                <a:rect l="l" t="t" r="r" b="b"/>
                <a:pathLst>
                  <a:path w="127" h="450">
                    <a:moveTo>
                      <a:pt x="22" y="0"/>
                    </a:moveTo>
                    <a:lnTo>
                      <a:pt x="25" y="6"/>
                    </a:lnTo>
                    <a:lnTo>
                      <a:pt x="34" y="26"/>
                    </a:lnTo>
                    <a:lnTo>
                      <a:pt x="48" y="59"/>
                    </a:lnTo>
                    <a:lnTo>
                      <a:pt x="66" y="106"/>
                    </a:lnTo>
                    <a:lnTo>
                      <a:pt x="83" y="170"/>
                    </a:lnTo>
                    <a:lnTo>
                      <a:pt x="100" y="247"/>
                    </a:lnTo>
                    <a:lnTo>
                      <a:pt x="116" y="341"/>
                    </a:lnTo>
                    <a:lnTo>
                      <a:pt x="127" y="450"/>
                    </a:lnTo>
                    <a:lnTo>
                      <a:pt x="124" y="449"/>
                    </a:lnTo>
                    <a:lnTo>
                      <a:pt x="116" y="446"/>
                    </a:lnTo>
                    <a:lnTo>
                      <a:pt x="107" y="440"/>
                    </a:lnTo>
                    <a:lnTo>
                      <a:pt x="101" y="429"/>
                    </a:lnTo>
                    <a:lnTo>
                      <a:pt x="100" y="417"/>
                    </a:lnTo>
                    <a:lnTo>
                      <a:pt x="97" y="384"/>
                    </a:lnTo>
                    <a:lnTo>
                      <a:pt x="92" y="335"/>
                    </a:lnTo>
                    <a:lnTo>
                      <a:pt x="84" y="275"/>
                    </a:lnTo>
                    <a:lnTo>
                      <a:pt x="72" y="208"/>
                    </a:lnTo>
                    <a:lnTo>
                      <a:pt x="53" y="139"/>
                    </a:lnTo>
                    <a:lnTo>
                      <a:pt x="30" y="72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5" y="5"/>
                    </a:lnTo>
                    <a:lnTo>
                      <a:pt x="13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74"/>
              <p:cNvSpPr/>
              <p:nvPr/>
            </p:nvSpPr>
            <p:spPr>
              <a:xfrm>
                <a:off x="5288040" y="1641600"/>
                <a:ext cx="245880" cy="42120"/>
              </a:xfrm>
              <a:custGeom>
                <a:avLst/>
                <a:gdLst/>
                <a:ahLst/>
                <a:rect l="l" t="t" r="r" b="b"/>
                <a:pathLst>
                  <a:path w="356" h="110">
                    <a:moveTo>
                      <a:pt x="4" y="73"/>
                    </a:moveTo>
                    <a:lnTo>
                      <a:pt x="5" y="72"/>
                    </a:lnTo>
                    <a:lnTo>
                      <a:pt x="8" y="68"/>
                    </a:lnTo>
                    <a:lnTo>
                      <a:pt x="14" y="62"/>
                    </a:lnTo>
                    <a:lnTo>
                      <a:pt x="22" y="54"/>
                    </a:lnTo>
                    <a:lnTo>
                      <a:pt x="32" y="46"/>
                    </a:lnTo>
                    <a:lnTo>
                      <a:pt x="44" y="35"/>
                    </a:lnTo>
                    <a:lnTo>
                      <a:pt x="61" y="26"/>
                    </a:lnTo>
                    <a:lnTo>
                      <a:pt x="80" y="18"/>
                    </a:lnTo>
                    <a:lnTo>
                      <a:pt x="101" y="10"/>
                    </a:lnTo>
                    <a:lnTo>
                      <a:pt x="126" y="5"/>
                    </a:lnTo>
                    <a:lnTo>
                      <a:pt x="155" y="1"/>
                    </a:lnTo>
                    <a:lnTo>
                      <a:pt x="188" y="0"/>
                    </a:lnTo>
                    <a:lnTo>
                      <a:pt x="223" y="1"/>
                    </a:lnTo>
                    <a:lnTo>
                      <a:pt x="262" y="8"/>
                    </a:lnTo>
                    <a:lnTo>
                      <a:pt x="306" y="18"/>
                    </a:lnTo>
                    <a:lnTo>
                      <a:pt x="354" y="33"/>
                    </a:lnTo>
                    <a:lnTo>
                      <a:pt x="354" y="34"/>
                    </a:lnTo>
                    <a:lnTo>
                      <a:pt x="356" y="37"/>
                    </a:lnTo>
                    <a:lnTo>
                      <a:pt x="356" y="39"/>
                    </a:lnTo>
                    <a:lnTo>
                      <a:pt x="356" y="43"/>
                    </a:lnTo>
                    <a:lnTo>
                      <a:pt x="352" y="47"/>
                    </a:lnTo>
                    <a:lnTo>
                      <a:pt x="346" y="50"/>
                    </a:lnTo>
                    <a:lnTo>
                      <a:pt x="335" y="52"/>
                    </a:lnTo>
                    <a:lnTo>
                      <a:pt x="322" y="52"/>
                    </a:lnTo>
                    <a:lnTo>
                      <a:pt x="312" y="52"/>
                    </a:lnTo>
                    <a:lnTo>
                      <a:pt x="300" y="51"/>
                    </a:lnTo>
                    <a:lnTo>
                      <a:pt x="286" y="51"/>
                    </a:lnTo>
                    <a:lnTo>
                      <a:pt x="270" y="52"/>
                    </a:lnTo>
                    <a:lnTo>
                      <a:pt x="252" y="52"/>
                    </a:lnTo>
                    <a:lnTo>
                      <a:pt x="235" y="54"/>
                    </a:lnTo>
                    <a:lnTo>
                      <a:pt x="216" y="55"/>
                    </a:lnTo>
                    <a:lnTo>
                      <a:pt x="196" y="58"/>
                    </a:lnTo>
                    <a:lnTo>
                      <a:pt x="175" y="60"/>
                    </a:lnTo>
                    <a:lnTo>
                      <a:pt x="155" y="64"/>
                    </a:lnTo>
                    <a:lnTo>
                      <a:pt x="136" y="68"/>
                    </a:lnTo>
                    <a:lnTo>
                      <a:pt x="118" y="75"/>
                    </a:lnTo>
                    <a:lnTo>
                      <a:pt x="100" y="81"/>
                    </a:lnTo>
                    <a:lnTo>
                      <a:pt x="83" y="88"/>
                    </a:lnTo>
                    <a:lnTo>
                      <a:pt x="68" y="97"/>
                    </a:lnTo>
                    <a:lnTo>
                      <a:pt x="55" y="108"/>
                    </a:lnTo>
                    <a:lnTo>
                      <a:pt x="52" y="109"/>
                    </a:lnTo>
                    <a:lnTo>
                      <a:pt x="43" y="110"/>
                    </a:lnTo>
                    <a:lnTo>
                      <a:pt x="33" y="110"/>
                    </a:lnTo>
                    <a:lnTo>
                      <a:pt x="21" y="110"/>
                    </a:lnTo>
                    <a:lnTo>
                      <a:pt x="10" y="108"/>
                    </a:lnTo>
                    <a:lnTo>
                      <a:pt x="3" y="101"/>
                    </a:lnTo>
                    <a:lnTo>
                      <a:pt x="0" y="90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175"/>
              <p:cNvSpPr/>
              <p:nvPr/>
            </p:nvSpPr>
            <p:spPr>
              <a:xfrm>
                <a:off x="5322960" y="1642680"/>
                <a:ext cx="161280" cy="33120"/>
              </a:xfrm>
              <a:custGeom>
                <a:avLst/>
                <a:gdLst/>
                <a:ahLst/>
                <a:rect l="l" t="t" r="r" b="b"/>
                <a:pathLst>
                  <a:path w="234" h="86">
                    <a:moveTo>
                      <a:pt x="4" y="57"/>
                    </a:moveTo>
                    <a:lnTo>
                      <a:pt x="6" y="56"/>
                    </a:lnTo>
                    <a:lnTo>
                      <a:pt x="7" y="53"/>
                    </a:lnTo>
                    <a:lnTo>
                      <a:pt x="11" y="48"/>
                    </a:lnTo>
                    <a:lnTo>
                      <a:pt x="16" y="42"/>
                    </a:lnTo>
                    <a:lnTo>
                      <a:pt x="22" y="36"/>
                    </a:lnTo>
                    <a:lnTo>
                      <a:pt x="31" y="28"/>
                    </a:lnTo>
                    <a:lnTo>
                      <a:pt x="41" y="21"/>
                    </a:lnTo>
                    <a:lnTo>
                      <a:pt x="53" y="15"/>
                    </a:lnTo>
                    <a:lnTo>
                      <a:pt x="67" y="9"/>
                    </a:lnTo>
                    <a:lnTo>
                      <a:pt x="84" y="4"/>
                    </a:lnTo>
                    <a:lnTo>
                      <a:pt x="103" y="2"/>
                    </a:lnTo>
                    <a:lnTo>
                      <a:pt x="124" y="0"/>
                    </a:lnTo>
                    <a:lnTo>
                      <a:pt x="147" y="2"/>
                    </a:lnTo>
                    <a:lnTo>
                      <a:pt x="173" y="6"/>
                    </a:lnTo>
                    <a:lnTo>
                      <a:pt x="201" y="13"/>
                    </a:lnTo>
                    <a:lnTo>
                      <a:pt x="232" y="24"/>
                    </a:lnTo>
                    <a:lnTo>
                      <a:pt x="234" y="27"/>
                    </a:lnTo>
                    <a:lnTo>
                      <a:pt x="234" y="32"/>
                    </a:lnTo>
                    <a:lnTo>
                      <a:pt x="227" y="38"/>
                    </a:lnTo>
                    <a:lnTo>
                      <a:pt x="211" y="40"/>
                    </a:lnTo>
                    <a:lnTo>
                      <a:pt x="197" y="38"/>
                    </a:lnTo>
                    <a:lnTo>
                      <a:pt x="177" y="40"/>
                    </a:lnTo>
                    <a:lnTo>
                      <a:pt x="154" y="41"/>
                    </a:lnTo>
                    <a:lnTo>
                      <a:pt x="129" y="44"/>
                    </a:lnTo>
                    <a:lnTo>
                      <a:pt x="103" y="49"/>
                    </a:lnTo>
                    <a:lnTo>
                      <a:pt x="77" y="57"/>
                    </a:lnTo>
                    <a:lnTo>
                      <a:pt x="55" y="69"/>
                    </a:lnTo>
                    <a:lnTo>
                      <a:pt x="37" y="83"/>
                    </a:lnTo>
                    <a:lnTo>
                      <a:pt x="34" y="83"/>
                    </a:lnTo>
                    <a:lnTo>
                      <a:pt x="29" y="85"/>
                    </a:lnTo>
                    <a:lnTo>
                      <a:pt x="22" y="86"/>
                    </a:lnTo>
                    <a:lnTo>
                      <a:pt x="14" y="85"/>
                    </a:lnTo>
                    <a:lnTo>
                      <a:pt x="8" y="83"/>
                    </a:lnTo>
                    <a:lnTo>
                      <a:pt x="3" y="78"/>
                    </a:lnTo>
                    <a:lnTo>
                      <a:pt x="0" y="69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Freeform 176"/>
              <p:cNvSpPr/>
              <p:nvPr/>
            </p:nvSpPr>
            <p:spPr>
              <a:xfrm>
                <a:off x="5368680" y="1650960"/>
                <a:ext cx="74160" cy="1404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2" y="24"/>
                    </a:moveTo>
                    <a:lnTo>
                      <a:pt x="3" y="23"/>
                    </a:lnTo>
                    <a:lnTo>
                      <a:pt x="7" y="17"/>
                    </a:lnTo>
                    <a:lnTo>
                      <a:pt x="14" y="12"/>
                    </a:lnTo>
                    <a:lnTo>
                      <a:pt x="25" y="6"/>
                    </a:lnTo>
                    <a:lnTo>
                      <a:pt x="39" y="2"/>
                    </a:lnTo>
                    <a:lnTo>
                      <a:pt x="58" y="0"/>
                    </a:lnTo>
                    <a:lnTo>
                      <a:pt x="81" y="3"/>
                    </a:lnTo>
                    <a:lnTo>
                      <a:pt x="109" y="11"/>
                    </a:lnTo>
                    <a:lnTo>
                      <a:pt x="109" y="12"/>
                    </a:lnTo>
                    <a:lnTo>
                      <a:pt x="109" y="14"/>
                    </a:lnTo>
                    <a:lnTo>
                      <a:pt x="106" y="16"/>
                    </a:lnTo>
                    <a:lnTo>
                      <a:pt x="99" y="17"/>
                    </a:lnTo>
                    <a:lnTo>
                      <a:pt x="92" y="17"/>
                    </a:lnTo>
                    <a:lnTo>
                      <a:pt x="82" y="17"/>
                    </a:lnTo>
                    <a:lnTo>
                      <a:pt x="72" y="17"/>
                    </a:lnTo>
                    <a:lnTo>
                      <a:pt x="59" y="19"/>
                    </a:lnTo>
                    <a:lnTo>
                      <a:pt x="48" y="21"/>
                    </a:lnTo>
                    <a:lnTo>
                      <a:pt x="36" y="24"/>
                    </a:lnTo>
                    <a:lnTo>
                      <a:pt x="25" y="29"/>
                    </a:lnTo>
                    <a:lnTo>
                      <a:pt x="17" y="36"/>
                    </a:lnTo>
                    <a:lnTo>
                      <a:pt x="13" y="36"/>
                    </a:lnTo>
                    <a:lnTo>
                      <a:pt x="7" y="36"/>
                    </a:lnTo>
                    <a:lnTo>
                      <a:pt x="0" y="33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ffc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177"/>
              <p:cNvSpPr/>
              <p:nvPr/>
            </p:nvSpPr>
            <p:spPr>
              <a:xfrm>
                <a:off x="5536440" y="2316240"/>
                <a:ext cx="76320" cy="86040"/>
              </a:xfrm>
              <a:custGeom>
                <a:avLst/>
                <a:gdLst/>
                <a:ahLst/>
                <a:rect l="l" t="t" r="r" b="b"/>
                <a:pathLst>
                  <a:path w="111" h="217">
                    <a:moveTo>
                      <a:pt x="25" y="22"/>
                    </a:moveTo>
                    <a:lnTo>
                      <a:pt x="20" y="46"/>
                    </a:lnTo>
                    <a:lnTo>
                      <a:pt x="9" y="99"/>
                    </a:lnTo>
                    <a:lnTo>
                      <a:pt x="0" y="157"/>
                    </a:lnTo>
                    <a:lnTo>
                      <a:pt x="0" y="195"/>
                    </a:lnTo>
                    <a:lnTo>
                      <a:pt x="5" y="203"/>
                    </a:lnTo>
                    <a:lnTo>
                      <a:pt x="13" y="209"/>
                    </a:lnTo>
                    <a:lnTo>
                      <a:pt x="22" y="213"/>
                    </a:lnTo>
                    <a:lnTo>
                      <a:pt x="32" y="216"/>
                    </a:lnTo>
                    <a:lnTo>
                      <a:pt x="43" y="217"/>
                    </a:lnTo>
                    <a:lnTo>
                      <a:pt x="53" y="217"/>
                    </a:lnTo>
                    <a:lnTo>
                      <a:pt x="62" y="217"/>
                    </a:lnTo>
                    <a:lnTo>
                      <a:pt x="71" y="217"/>
                    </a:lnTo>
                    <a:lnTo>
                      <a:pt x="86" y="211"/>
                    </a:lnTo>
                    <a:lnTo>
                      <a:pt x="97" y="194"/>
                    </a:lnTo>
                    <a:lnTo>
                      <a:pt x="103" y="174"/>
                    </a:lnTo>
                    <a:lnTo>
                      <a:pt x="107" y="155"/>
                    </a:lnTo>
                    <a:lnTo>
                      <a:pt x="107" y="132"/>
                    </a:lnTo>
                    <a:lnTo>
                      <a:pt x="110" y="99"/>
                    </a:lnTo>
                    <a:lnTo>
                      <a:pt x="111" y="70"/>
                    </a:lnTo>
                    <a:lnTo>
                      <a:pt x="111" y="58"/>
                    </a:lnTo>
                    <a:lnTo>
                      <a:pt x="110" y="54"/>
                    </a:lnTo>
                    <a:lnTo>
                      <a:pt x="106" y="44"/>
                    </a:lnTo>
                    <a:lnTo>
                      <a:pt x="100" y="29"/>
                    </a:lnTo>
                    <a:lnTo>
                      <a:pt x="91" y="15"/>
                    </a:lnTo>
                    <a:lnTo>
                      <a:pt x="79" y="4"/>
                    </a:lnTo>
                    <a:lnTo>
                      <a:pt x="64" y="0"/>
                    </a:lnTo>
                    <a:lnTo>
                      <a:pt x="47" y="5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178"/>
              <p:cNvSpPr/>
              <p:nvPr/>
            </p:nvSpPr>
            <p:spPr>
              <a:xfrm>
                <a:off x="5820120" y="2343240"/>
                <a:ext cx="68040" cy="82440"/>
              </a:xfrm>
              <a:custGeom>
                <a:avLst/>
                <a:gdLst/>
                <a:ahLst/>
                <a:rect l="l" t="t" r="r" b="b"/>
                <a:pathLst>
                  <a:path w="99" h="198">
                    <a:moveTo>
                      <a:pt x="26" y="21"/>
                    </a:moveTo>
                    <a:lnTo>
                      <a:pt x="20" y="30"/>
                    </a:lnTo>
                    <a:lnTo>
                      <a:pt x="14" y="45"/>
                    </a:lnTo>
                    <a:lnTo>
                      <a:pt x="7" y="65"/>
                    </a:lnTo>
                    <a:lnTo>
                      <a:pt x="2" y="88"/>
                    </a:lnTo>
                    <a:lnTo>
                      <a:pt x="0" y="112"/>
                    </a:lnTo>
                    <a:lnTo>
                      <a:pt x="0" y="136"/>
                    </a:lnTo>
                    <a:lnTo>
                      <a:pt x="4" y="158"/>
                    </a:lnTo>
                    <a:lnTo>
                      <a:pt x="12" y="177"/>
                    </a:lnTo>
                    <a:lnTo>
                      <a:pt x="24" y="190"/>
                    </a:lnTo>
                    <a:lnTo>
                      <a:pt x="36" y="196"/>
                    </a:lnTo>
                    <a:lnTo>
                      <a:pt x="49" y="198"/>
                    </a:lnTo>
                    <a:lnTo>
                      <a:pt x="62" y="195"/>
                    </a:lnTo>
                    <a:lnTo>
                      <a:pt x="74" y="190"/>
                    </a:lnTo>
                    <a:lnTo>
                      <a:pt x="83" y="183"/>
                    </a:lnTo>
                    <a:lnTo>
                      <a:pt x="91" y="175"/>
                    </a:lnTo>
                    <a:lnTo>
                      <a:pt x="96" y="169"/>
                    </a:lnTo>
                    <a:lnTo>
                      <a:pt x="99" y="138"/>
                    </a:lnTo>
                    <a:lnTo>
                      <a:pt x="98" y="90"/>
                    </a:lnTo>
                    <a:lnTo>
                      <a:pt x="94" y="40"/>
                    </a:lnTo>
                    <a:lnTo>
                      <a:pt x="85" y="12"/>
                    </a:lnTo>
                    <a:lnTo>
                      <a:pt x="80" y="7"/>
                    </a:lnTo>
                    <a:lnTo>
                      <a:pt x="75" y="4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57" y="2"/>
                    </a:lnTo>
                    <a:lnTo>
                      <a:pt x="48" y="5"/>
                    </a:lnTo>
                    <a:lnTo>
                      <a:pt x="38" y="12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179"/>
              <p:cNvSpPr/>
              <p:nvPr/>
            </p:nvSpPr>
            <p:spPr>
              <a:xfrm>
                <a:off x="6027120" y="1914120"/>
                <a:ext cx="68040" cy="47160"/>
              </a:xfrm>
              <a:custGeom>
                <a:avLst/>
                <a:gdLst/>
                <a:ahLst/>
                <a:rect l="l" t="t" r="r" b="b"/>
                <a:pathLst>
                  <a:path w="100" h="132">
                    <a:moveTo>
                      <a:pt x="71" y="6"/>
                    </a:moveTo>
                    <a:lnTo>
                      <a:pt x="69" y="4"/>
                    </a:lnTo>
                    <a:lnTo>
                      <a:pt x="63" y="3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4" y="2"/>
                    </a:lnTo>
                    <a:lnTo>
                      <a:pt x="24" y="4"/>
                    </a:lnTo>
                    <a:lnTo>
                      <a:pt x="15" y="11"/>
                    </a:lnTo>
                    <a:lnTo>
                      <a:pt x="10" y="23"/>
                    </a:lnTo>
                    <a:lnTo>
                      <a:pt x="3" y="48"/>
                    </a:lnTo>
                    <a:lnTo>
                      <a:pt x="0" y="69"/>
                    </a:lnTo>
                    <a:lnTo>
                      <a:pt x="0" y="87"/>
                    </a:lnTo>
                    <a:lnTo>
                      <a:pt x="1" y="100"/>
                    </a:lnTo>
                    <a:lnTo>
                      <a:pt x="3" y="107"/>
                    </a:lnTo>
                    <a:lnTo>
                      <a:pt x="8" y="112"/>
                    </a:lnTo>
                    <a:lnTo>
                      <a:pt x="15" y="119"/>
                    </a:lnTo>
                    <a:lnTo>
                      <a:pt x="22" y="124"/>
                    </a:lnTo>
                    <a:lnTo>
                      <a:pt x="31" y="129"/>
                    </a:lnTo>
                    <a:lnTo>
                      <a:pt x="39" y="132"/>
                    </a:lnTo>
                    <a:lnTo>
                      <a:pt x="48" y="132"/>
                    </a:lnTo>
                    <a:lnTo>
                      <a:pt x="54" y="131"/>
                    </a:lnTo>
                    <a:lnTo>
                      <a:pt x="60" y="127"/>
                    </a:lnTo>
                    <a:lnTo>
                      <a:pt x="68" y="122"/>
                    </a:lnTo>
                    <a:lnTo>
                      <a:pt x="75" y="114"/>
                    </a:lnTo>
                    <a:lnTo>
                      <a:pt x="82" y="106"/>
                    </a:lnTo>
                    <a:lnTo>
                      <a:pt x="88" y="98"/>
                    </a:lnTo>
                    <a:lnTo>
                      <a:pt x="93" y="89"/>
                    </a:lnTo>
                    <a:lnTo>
                      <a:pt x="97" y="79"/>
                    </a:lnTo>
                    <a:lnTo>
                      <a:pt x="98" y="72"/>
                    </a:lnTo>
                    <a:lnTo>
                      <a:pt x="100" y="53"/>
                    </a:lnTo>
                    <a:lnTo>
                      <a:pt x="99" y="32"/>
                    </a:lnTo>
                    <a:lnTo>
                      <a:pt x="90" y="15"/>
                    </a:lnTo>
                    <a:lnTo>
                      <a:pt x="71" y="6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180"/>
              <p:cNvSpPr/>
              <p:nvPr/>
            </p:nvSpPr>
            <p:spPr>
              <a:xfrm>
                <a:off x="6081120" y="1694880"/>
                <a:ext cx="117720" cy="42480"/>
              </a:xfrm>
              <a:custGeom>
                <a:avLst/>
                <a:gdLst/>
                <a:ahLst/>
                <a:rect l="l" t="t" r="r" b="b"/>
                <a:pathLst>
                  <a:path w="172" h="107">
                    <a:moveTo>
                      <a:pt x="0" y="0"/>
                    </a:moveTo>
                    <a:lnTo>
                      <a:pt x="5" y="2"/>
                    </a:lnTo>
                    <a:lnTo>
                      <a:pt x="19" y="8"/>
                    </a:lnTo>
                    <a:lnTo>
                      <a:pt x="39" y="17"/>
                    </a:lnTo>
                    <a:lnTo>
                      <a:pt x="65" y="29"/>
                    </a:lnTo>
                    <a:lnTo>
                      <a:pt x="93" y="45"/>
                    </a:lnTo>
                    <a:lnTo>
                      <a:pt x="122" y="63"/>
                    </a:lnTo>
                    <a:lnTo>
                      <a:pt x="148" y="83"/>
                    </a:lnTo>
                    <a:lnTo>
                      <a:pt x="172" y="107"/>
                    </a:lnTo>
                    <a:lnTo>
                      <a:pt x="171" y="104"/>
                    </a:lnTo>
                    <a:lnTo>
                      <a:pt x="165" y="95"/>
                    </a:lnTo>
                    <a:lnTo>
                      <a:pt x="153" y="82"/>
                    </a:lnTo>
                    <a:lnTo>
                      <a:pt x="137" y="66"/>
                    </a:lnTo>
                    <a:lnTo>
                      <a:pt x="114" y="49"/>
                    </a:lnTo>
                    <a:lnTo>
                      <a:pt x="84" y="32"/>
                    </a:lnTo>
                    <a:lnTo>
                      <a:pt x="4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4" name="TextBox 323"/>
            <p:cNvSpPr/>
            <p:nvPr/>
          </p:nvSpPr>
          <p:spPr>
            <a:xfrm>
              <a:off x="5054400" y="170172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浴室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组合 321"/>
          <p:cNvGrpSpPr/>
          <p:nvPr/>
        </p:nvGrpSpPr>
        <p:grpSpPr>
          <a:xfrm>
            <a:off x="4648320" y="239760"/>
            <a:ext cx="1752120" cy="1027080"/>
            <a:chOff x="4648320" y="239760"/>
            <a:chExt cx="1752120" cy="1027080"/>
          </a:xfrm>
        </p:grpSpPr>
        <p:grpSp>
          <p:nvGrpSpPr>
            <p:cNvPr id="436" name="Group 152"/>
            <p:cNvGrpSpPr/>
            <p:nvPr/>
          </p:nvGrpSpPr>
          <p:grpSpPr>
            <a:xfrm>
              <a:off x="4648320" y="239760"/>
              <a:ext cx="1752120" cy="1027080"/>
              <a:chOff x="4648320" y="239760"/>
              <a:chExt cx="1752120" cy="1027080"/>
            </a:xfrm>
          </p:grpSpPr>
          <p:sp>
            <p:nvSpPr>
              <p:cNvPr id="437" name="AutoShape 151"/>
              <p:cNvSpPr/>
              <p:nvPr/>
            </p:nvSpPr>
            <p:spPr>
              <a:xfrm>
                <a:off x="4648320" y="239760"/>
                <a:ext cx="1752120" cy="10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153"/>
              <p:cNvSpPr/>
              <p:nvPr/>
            </p:nvSpPr>
            <p:spPr>
              <a:xfrm>
                <a:off x="5643360" y="126072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4"/>
                    </a:moveTo>
                    <a:lnTo>
                      <a:pt x="18" y="4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154"/>
              <p:cNvSpPr/>
              <p:nvPr/>
            </p:nvSpPr>
            <p:spPr>
              <a:xfrm>
                <a:off x="4736880" y="239760"/>
                <a:ext cx="1640880" cy="1025640"/>
              </a:xfrm>
              <a:custGeom>
                <a:avLst/>
                <a:gdLst/>
                <a:ahLst/>
                <a:rect l="l" t="t" r="r" b="b"/>
                <a:pathLst>
                  <a:path w="2166" h="2610">
                    <a:moveTo>
                      <a:pt x="1719" y="348"/>
                    </a:moveTo>
                    <a:lnTo>
                      <a:pt x="1679" y="335"/>
                    </a:lnTo>
                    <a:lnTo>
                      <a:pt x="1643" y="323"/>
                    </a:lnTo>
                    <a:lnTo>
                      <a:pt x="1609" y="313"/>
                    </a:lnTo>
                    <a:lnTo>
                      <a:pt x="1576" y="306"/>
                    </a:lnTo>
                    <a:lnTo>
                      <a:pt x="1545" y="300"/>
                    </a:lnTo>
                    <a:lnTo>
                      <a:pt x="1514" y="296"/>
                    </a:lnTo>
                    <a:lnTo>
                      <a:pt x="1487" y="294"/>
                    </a:lnTo>
                    <a:lnTo>
                      <a:pt x="1460" y="292"/>
                    </a:lnTo>
                    <a:lnTo>
                      <a:pt x="1434" y="292"/>
                    </a:lnTo>
                    <a:lnTo>
                      <a:pt x="1409" y="292"/>
                    </a:lnTo>
                    <a:lnTo>
                      <a:pt x="1385" y="295"/>
                    </a:lnTo>
                    <a:lnTo>
                      <a:pt x="1362" y="298"/>
                    </a:lnTo>
                    <a:lnTo>
                      <a:pt x="1338" y="300"/>
                    </a:lnTo>
                    <a:lnTo>
                      <a:pt x="1317" y="304"/>
                    </a:lnTo>
                    <a:lnTo>
                      <a:pt x="1294" y="308"/>
                    </a:lnTo>
                    <a:lnTo>
                      <a:pt x="1273" y="312"/>
                    </a:lnTo>
                    <a:lnTo>
                      <a:pt x="1271" y="312"/>
                    </a:lnTo>
                    <a:lnTo>
                      <a:pt x="1269" y="312"/>
                    </a:lnTo>
                    <a:lnTo>
                      <a:pt x="1265" y="313"/>
                    </a:lnTo>
                    <a:lnTo>
                      <a:pt x="1260" y="313"/>
                    </a:lnTo>
                    <a:lnTo>
                      <a:pt x="1254" y="277"/>
                    </a:lnTo>
                    <a:lnTo>
                      <a:pt x="1246" y="237"/>
                    </a:lnTo>
                    <a:lnTo>
                      <a:pt x="1239" y="194"/>
                    </a:lnTo>
                    <a:lnTo>
                      <a:pt x="1232" y="153"/>
                    </a:lnTo>
                    <a:lnTo>
                      <a:pt x="1225" y="116"/>
                    </a:lnTo>
                    <a:lnTo>
                      <a:pt x="1220" y="87"/>
                    </a:lnTo>
                    <a:lnTo>
                      <a:pt x="1216" y="67"/>
                    </a:lnTo>
                    <a:lnTo>
                      <a:pt x="1215" y="59"/>
                    </a:lnTo>
                    <a:lnTo>
                      <a:pt x="1162" y="40"/>
                    </a:lnTo>
                    <a:lnTo>
                      <a:pt x="1106" y="9"/>
                    </a:lnTo>
                    <a:lnTo>
                      <a:pt x="1095" y="7"/>
                    </a:lnTo>
                    <a:lnTo>
                      <a:pt x="1090" y="5"/>
                    </a:lnTo>
                    <a:lnTo>
                      <a:pt x="1085" y="4"/>
                    </a:lnTo>
                    <a:lnTo>
                      <a:pt x="1080" y="3"/>
                    </a:lnTo>
                    <a:lnTo>
                      <a:pt x="1075" y="1"/>
                    </a:lnTo>
                    <a:lnTo>
                      <a:pt x="1068" y="1"/>
                    </a:lnTo>
                    <a:lnTo>
                      <a:pt x="1063" y="0"/>
                    </a:lnTo>
                    <a:lnTo>
                      <a:pt x="1058" y="0"/>
                    </a:lnTo>
                    <a:lnTo>
                      <a:pt x="1053" y="0"/>
                    </a:lnTo>
                    <a:lnTo>
                      <a:pt x="1048" y="0"/>
                    </a:lnTo>
                    <a:lnTo>
                      <a:pt x="1043" y="0"/>
                    </a:lnTo>
                    <a:lnTo>
                      <a:pt x="1038" y="1"/>
                    </a:lnTo>
                    <a:lnTo>
                      <a:pt x="1034" y="1"/>
                    </a:lnTo>
                    <a:lnTo>
                      <a:pt x="1029" y="3"/>
                    </a:lnTo>
                    <a:lnTo>
                      <a:pt x="1024" y="4"/>
                    </a:lnTo>
                    <a:lnTo>
                      <a:pt x="1019" y="5"/>
                    </a:lnTo>
                    <a:lnTo>
                      <a:pt x="1014" y="7"/>
                    </a:lnTo>
                    <a:lnTo>
                      <a:pt x="994" y="14"/>
                    </a:lnTo>
                    <a:lnTo>
                      <a:pt x="974" y="26"/>
                    </a:lnTo>
                    <a:lnTo>
                      <a:pt x="955" y="42"/>
                    </a:lnTo>
                    <a:lnTo>
                      <a:pt x="939" y="61"/>
                    </a:lnTo>
                    <a:lnTo>
                      <a:pt x="924" y="82"/>
                    </a:lnTo>
                    <a:lnTo>
                      <a:pt x="911" y="107"/>
                    </a:lnTo>
                    <a:lnTo>
                      <a:pt x="900" y="133"/>
                    </a:lnTo>
                    <a:lnTo>
                      <a:pt x="891" y="163"/>
                    </a:lnTo>
                    <a:lnTo>
                      <a:pt x="877" y="228"/>
                    </a:lnTo>
                    <a:lnTo>
                      <a:pt x="878" y="230"/>
                    </a:lnTo>
                    <a:lnTo>
                      <a:pt x="883" y="236"/>
                    </a:lnTo>
                    <a:lnTo>
                      <a:pt x="888" y="244"/>
                    </a:lnTo>
                    <a:lnTo>
                      <a:pt x="896" y="253"/>
                    </a:lnTo>
                    <a:lnTo>
                      <a:pt x="872" y="248"/>
                    </a:lnTo>
                    <a:lnTo>
                      <a:pt x="848" y="242"/>
                    </a:lnTo>
                    <a:lnTo>
                      <a:pt x="823" y="237"/>
                    </a:lnTo>
                    <a:lnTo>
                      <a:pt x="796" y="233"/>
                    </a:lnTo>
                    <a:lnTo>
                      <a:pt x="770" y="230"/>
                    </a:lnTo>
                    <a:lnTo>
                      <a:pt x="743" y="229"/>
                    </a:lnTo>
                    <a:lnTo>
                      <a:pt x="716" y="228"/>
                    </a:lnTo>
                    <a:lnTo>
                      <a:pt x="688" y="228"/>
                    </a:lnTo>
                    <a:lnTo>
                      <a:pt x="660" y="229"/>
                    </a:lnTo>
                    <a:lnTo>
                      <a:pt x="633" y="230"/>
                    </a:lnTo>
                    <a:lnTo>
                      <a:pt x="604" y="234"/>
                    </a:lnTo>
                    <a:lnTo>
                      <a:pt x="575" y="240"/>
                    </a:lnTo>
                    <a:lnTo>
                      <a:pt x="547" y="245"/>
                    </a:lnTo>
                    <a:lnTo>
                      <a:pt x="518" y="253"/>
                    </a:lnTo>
                    <a:lnTo>
                      <a:pt x="489" y="262"/>
                    </a:lnTo>
                    <a:lnTo>
                      <a:pt x="461" y="271"/>
                    </a:lnTo>
                    <a:lnTo>
                      <a:pt x="432" y="283"/>
                    </a:lnTo>
                    <a:lnTo>
                      <a:pt x="405" y="298"/>
                    </a:lnTo>
                    <a:lnTo>
                      <a:pt x="377" y="312"/>
                    </a:lnTo>
                    <a:lnTo>
                      <a:pt x="350" y="329"/>
                    </a:lnTo>
                    <a:lnTo>
                      <a:pt x="324" y="349"/>
                    </a:lnTo>
                    <a:lnTo>
                      <a:pt x="297" y="369"/>
                    </a:lnTo>
                    <a:lnTo>
                      <a:pt x="271" y="391"/>
                    </a:lnTo>
                    <a:lnTo>
                      <a:pt x="246" y="416"/>
                    </a:lnTo>
                    <a:lnTo>
                      <a:pt x="222" y="443"/>
                    </a:lnTo>
                    <a:lnTo>
                      <a:pt x="198" y="471"/>
                    </a:lnTo>
                    <a:lnTo>
                      <a:pt x="175" y="503"/>
                    </a:lnTo>
                    <a:lnTo>
                      <a:pt x="154" y="536"/>
                    </a:lnTo>
                    <a:lnTo>
                      <a:pt x="134" y="572"/>
                    </a:lnTo>
                    <a:lnTo>
                      <a:pt x="114" y="610"/>
                    </a:lnTo>
                    <a:lnTo>
                      <a:pt x="95" y="649"/>
                    </a:lnTo>
                    <a:lnTo>
                      <a:pt x="77" y="693"/>
                    </a:lnTo>
                    <a:lnTo>
                      <a:pt x="73" y="701"/>
                    </a:lnTo>
                    <a:lnTo>
                      <a:pt x="67" y="718"/>
                    </a:lnTo>
                    <a:lnTo>
                      <a:pt x="58" y="744"/>
                    </a:lnTo>
                    <a:lnTo>
                      <a:pt x="48" y="778"/>
                    </a:lnTo>
                    <a:lnTo>
                      <a:pt x="37" y="822"/>
                    </a:lnTo>
                    <a:lnTo>
                      <a:pt x="25" y="872"/>
                    </a:lnTo>
                    <a:lnTo>
                      <a:pt x="15" y="931"/>
                    </a:lnTo>
                    <a:lnTo>
                      <a:pt x="6" y="996"/>
                    </a:lnTo>
                    <a:lnTo>
                      <a:pt x="1" y="1068"/>
                    </a:lnTo>
                    <a:lnTo>
                      <a:pt x="0" y="1146"/>
                    </a:lnTo>
                    <a:lnTo>
                      <a:pt x="3" y="1230"/>
                    </a:lnTo>
                    <a:lnTo>
                      <a:pt x="10" y="1320"/>
                    </a:lnTo>
                    <a:lnTo>
                      <a:pt x="25" y="1413"/>
                    </a:lnTo>
                    <a:lnTo>
                      <a:pt x="47" y="1512"/>
                    </a:lnTo>
                    <a:lnTo>
                      <a:pt x="77" y="1615"/>
                    </a:lnTo>
                    <a:lnTo>
                      <a:pt x="116" y="1721"/>
                    </a:lnTo>
                    <a:lnTo>
                      <a:pt x="149" y="1798"/>
                    </a:lnTo>
                    <a:lnTo>
                      <a:pt x="183" y="1873"/>
                    </a:lnTo>
                    <a:lnTo>
                      <a:pt x="219" y="1944"/>
                    </a:lnTo>
                    <a:lnTo>
                      <a:pt x="258" y="2014"/>
                    </a:lnTo>
                    <a:lnTo>
                      <a:pt x="296" y="2081"/>
                    </a:lnTo>
                    <a:lnTo>
                      <a:pt x="335" y="2144"/>
                    </a:lnTo>
                    <a:lnTo>
                      <a:pt x="373" y="2203"/>
                    </a:lnTo>
                    <a:lnTo>
                      <a:pt x="410" y="2259"/>
                    </a:lnTo>
                    <a:lnTo>
                      <a:pt x="445" y="2310"/>
                    </a:lnTo>
                    <a:lnTo>
                      <a:pt x="478" y="2355"/>
                    </a:lnTo>
                    <a:lnTo>
                      <a:pt x="507" y="2396"/>
                    </a:lnTo>
                    <a:lnTo>
                      <a:pt x="533" y="2430"/>
                    </a:lnTo>
                    <a:lnTo>
                      <a:pt x="554" y="2458"/>
                    </a:lnTo>
                    <a:lnTo>
                      <a:pt x="572" y="2479"/>
                    </a:lnTo>
                    <a:lnTo>
                      <a:pt x="583" y="2493"/>
                    </a:lnTo>
                    <a:lnTo>
                      <a:pt x="588" y="2500"/>
                    </a:lnTo>
                    <a:lnTo>
                      <a:pt x="594" y="2505"/>
                    </a:lnTo>
                    <a:lnTo>
                      <a:pt x="600" y="2510"/>
                    </a:lnTo>
                    <a:lnTo>
                      <a:pt x="616" y="2523"/>
                    </a:lnTo>
                    <a:lnTo>
                      <a:pt x="635" y="2537"/>
                    </a:lnTo>
                    <a:lnTo>
                      <a:pt x="657" y="2550"/>
                    </a:lnTo>
                    <a:lnTo>
                      <a:pt x="679" y="2563"/>
                    </a:lnTo>
                    <a:lnTo>
                      <a:pt x="704" y="2575"/>
                    </a:lnTo>
                    <a:lnTo>
                      <a:pt x="731" y="2585"/>
                    </a:lnTo>
                    <a:lnTo>
                      <a:pt x="760" y="2593"/>
                    </a:lnTo>
                    <a:lnTo>
                      <a:pt x="789" y="2600"/>
                    </a:lnTo>
                    <a:lnTo>
                      <a:pt x="806" y="2602"/>
                    </a:lnTo>
                    <a:lnTo>
                      <a:pt x="825" y="2605"/>
                    </a:lnTo>
                    <a:lnTo>
                      <a:pt x="843" y="2605"/>
                    </a:lnTo>
                    <a:lnTo>
                      <a:pt x="862" y="2605"/>
                    </a:lnTo>
                    <a:lnTo>
                      <a:pt x="881" y="2602"/>
                    </a:lnTo>
                    <a:lnTo>
                      <a:pt x="900" y="2600"/>
                    </a:lnTo>
                    <a:lnTo>
                      <a:pt x="919" y="2595"/>
                    </a:lnTo>
                    <a:lnTo>
                      <a:pt x="937" y="2588"/>
                    </a:lnTo>
                    <a:lnTo>
                      <a:pt x="954" y="2580"/>
                    </a:lnTo>
                    <a:lnTo>
                      <a:pt x="912" y="2589"/>
                    </a:lnTo>
                    <a:lnTo>
                      <a:pt x="999" y="2570"/>
                    </a:lnTo>
                    <a:lnTo>
                      <a:pt x="1008" y="2567"/>
                    </a:lnTo>
                    <a:lnTo>
                      <a:pt x="1017" y="2564"/>
                    </a:lnTo>
                    <a:lnTo>
                      <a:pt x="1024" y="2562"/>
                    </a:lnTo>
                    <a:lnTo>
                      <a:pt x="1033" y="2560"/>
                    </a:lnTo>
                    <a:lnTo>
                      <a:pt x="1042" y="2559"/>
                    </a:lnTo>
                    <a:lnTo>
                      <a:pt x="1051" y="2558"/>
                    </a:lnTo>
                    <a:lnTo>
                      <a:pt x="1061" y="2558"/>
                    </a:lnTo>
                    <a:lnTo>
                      <a:pt x="1070" y="2559"/>
                    </a:lnTo>
                    <a:lnTo>
                      <a:pt x="1075" y="2560"/>
                    </a:lnTo>
                    <a:lnTo>
                      <a:pt x="1087" y="2564"/>
                    </a:lnTo>
                    <a:lnTo>
                      <a:pt x="1100" y="2568"/>
                    </a:lnTo>
                    <a:lnTo>
                      <a:pt x="1105" y="2570"/>
                    </a:lnTo>
                    <a:lnTo>
                      <a:pt x="1096" y="2563"/>
                    </a:lnTo>
                    <a:lnTo>
                      <a:pt x="1106" y="2570"/>
                    </a:lnTo>
                    <a:lnTo>
                      <a:pt x="1119" y="2576"/>
                    </a:lnTo>
                    <a:lnTo>
                      <a:pt x="1131" y="2581"/>
                    </a:lnTo>
                    <a:lnTo>
                      <a:pt x="1145" y="2587"/>
                    </a:lnTo>
                    <a:lnTo>
                      <a:pt x="1160" y="2591"/>
                    </a:lnTo>
                    <a:lnTo>
                      <a:pt x="1176" y="2595"/>
                    </a:lnTo>
                    <a:lnTo>
                      <a:pt x="1193" y="2597"/>
                    </a:lnTo>
                    <a:lnTo>
                      <a:pt x="1211" y="2600"/>
                    </a:lnTo>
                    <a:lnTo>
                      <a:pt x="1231" y="2604"/>
                    </a:lnTo>
                    <a:lnTo>
                      <a:pt x="1250" y="2608"/>
                    </a:lnTo>
                    <a:lnTo>
                      <a:pt x="1268" y="2609"/>
                    </a:lnTo>
                    <a:lnTo>
                      <a:pt x="1286" y="2610"/>
                    </a:lnTo>
                    <a:lnTo>
                      <a:pt x="1303" y="2610"/>
                    </a:lnTo>
                    <a:lnTo>
                      <a:pt x="1319" y="2610"/>
                    </a:lnTo>
                    <a:lnTo>
                      <a:pt x="1336" y="2609"/>
                    </a:lnTo>
                    <a:lnTo>
                      <a:pt x="1351" y="2608"/>
                    </a:lnTo>
                    <a:lnTo>
                      <a:pt x="1372" y="2604"/>
                    </a:lnTo>
                    <a:lnTo>
                      <a:pt x="1391" y="2600"/>
                    </a:lnTo>
                    <a:lnTo>
                      <a:pt x="1409" y="2596"/>
                    </a:lnTo>
                    <a:lnTo>
                      <a:pt x="1422" y="2591"/>
                    </a:lnTo>
                    <a:lnTo>
                      <a:pt x="1435" y="2585"/>
                    </a:lnTo>
                    <a:lnTo>
                      <a:pt x="1445" y="2581"/>
                    </a:lnTo>
                    <a:lnTo>
                      <a:pt x="1453" y="2579"/>
                    </a:lnTo>
                    <a:lnTo>
                      <a:pt x="1456" y="2576"/>
                    </a:lnTo>
                    <a:lnTo>
                      <a:pt x="1519" y="2530"/>
                    </a:lnTo>
                    <a:lnTo>
                      <a:pt x="1581" y="2476"/>
                    </a:lnTo>
                    <a:lnTo>
                      <a:pt x="1642" y="2415"/>
                    </a:lnTo>
                    <a:lnTo>
                      <a:pt x="1701" y="2350"/>
                    </a:lnTo>
                    <a:lnTo>
                      <a:pt x="1759" y="2278"/>
                    </a:lnTo>
                    <a:lnTo>
                      <a:pt x="1813" y="2203"/>
                    </a:lnTo>
                    <a:lnTo>
                      <a:pt x="1866" y="2124"/>
                    </a:lnTo>
                    <a:lnTo>
                      <a:pt x="1915" y="2040"/>
                    </a:lnTo>
                    <a:lnTo>
                      <a:pt x="1962" y="1954"/>
                    </a:lnTo>
                    <a:lnTo>
                      <a:pt x="2005" y="1868"/>
                    </a:lnTo>
                    <a:lnTo>
                      <a:pt x="2042" y="1778"/>
                    </a:lnTo>
                    <a:lnTo>
                      <a:pt x="2076" y="1688"/>
                    </a:lnTo>
                    <a:lnTo>
                      <a:pt x="2105" y="1598"/>
                    </a:lnTo>
                    <a:lnTo>
                      <a:pt x="2128" y="1508"/>
                    </a:lnTo>
                    <a:lnTo>
                      <a:pt x="2147" y="1418"/>
                    </a:lnTo>
                    <a:lnTo>
                      <a:pt x="2158" y="1332"/>
                    </a:lnTo>
                    <a:lnTo>
                      <a:pt x="2163" y="1262"/>
                    </a:lnTo>
                    <a:lnTo>
                      <a:pt x="2166" y="1189"/>
                    </a:lnTo>
                    <a:lnTo>
                      <a:pt x="2165" y="1117"/>
                    </a:lnTo>
                    <a:lnTo>
                      <a:pt x="2159" y="1043"/>
                    </a:lnTo>
                    <a:lnTo>
                      <a:pt x="2151" y="969"/>
                    </a:lnTo>
                    <a:lnTo>
                      <a:pt x="2138" y="897"/>
                    </a:lnTo>
                    <a:lnTo>
                      <a:pt x="2120" y="826"/>
                    </a:lnTo>
                    <a:lnTo>
                      <a:pt x="2098" y="756"/>
                    </a:lnTo>
                    <a:lnTo>
                      <a:pt x="2070" y="689"/>
                    </a:lnTo>
                    <a:lnTo>
                      <a:pt x="2037" y="626"/>
                    </a:lnTo>
                    <a:lnTo>
                      <a:pt x="1999" y="566"/>
                    </a:lnTo>
                    <a:lnTo>
                      <a:pt x="1955" y="511"/>
                    </a:lnTo>
                    <a:lnTo>
                      <a:pt x="1906" y="461"/>
                    </a:lnTo>
                    <a:lnTo>
                      <a:pt x="1850" y="416"/>
                    </a:lnTo>
                    <a:lnTo>
                      <a:pt x="1788" y="379"/>
                    </a:lnTo>
                    <a:lnTo>
                      <a:pt x="1719" y="3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155"/>
              <p:cNvSpPr/>
              <p:nvPr/>
            </p:nvSpPr>
            <p:spPr>
              <a:xfrm>
                <a:off x="4820760" y="378720"/>
                <a:ext cx="1479600" cy="853560"/>
              </a:xfrm>
              <a:custGeom>
                <a:avLst/>
                <a:gdLst/>
                <a:ahLst/>
                <a:rect l="l" t="t" r="r" b="b"/>
                <a:pathLst>
                  <a:path w="1953" h="2172">
                    <a:moveTo>
                      <a:pt x="102" y="1337"/>
                    </a:moveTo>
                    <a:lnTo>
                      <a:pt x="67" y="1237"/>
                    </a:lnTo>
                    <a:lnTo>
                      <a:pt x="41" y="1141"/>
                    </a:lnTo>
                    <a:lnTo>
                      <a:pt x="20" y="1049"/>
                    </a:lnTo>
                    <a:lnTo>
                      <a:pt x="8" y="962"/>
                    </a:lnTo>
                    <a:lnTo>
                      <a:pt x="2" y="879"/>
                    </a:lnTo>
                    <a:lnTo>
                      <a:pt x="0" y="801"/>
                    </a:lnTo>
                    <a:lnTo>
                      <a:pt x="2" y="730"/>
                    </a:lnTo>
                    <a:lnTo>
                      <a:pt x="8" y="663"/>
                    </a:lnTo>
                    <a:lnTo>
                      <a:pt x="15" y="603"/>
                    </a:lnTo>
                    <a:lnTo>
                      <a:pt x="25" y="551"/>
                    </a:lnTo>
                    <a:lnTo>
                      <a:pt x="37" y="505"/>
                    </a:lnTo>
                    <a:lnTo>
                      <a:pt x="47" y="467"/>
                    </a:lnTo>
                    <a:lnTo>
                      <a:pt x="57" y="436"/>
                    </a:lnTo>
                    <a:lnTo>
                      <a:pt x="65" y="414"/>
                    </a:lnTo>
                    <a:lnTo>
                      <a:pt x="70" y="401"/>
                    </a:lnTo>
                    <a:lnTo>
                      <a:pt x="72" y="395"/>
                    </a:lnTo>
                    <a:lnTo>
                      <a:pt x="120" y="293"/>
                    </a:lnTo>
                    <a:lnTo>
                      <a:pt x="174" y="210"/>
                    </a:lnTo>
                    <a:lnTo>
                      <a:pt x="233" y="143"/>
                    </a:lnTo>
                    <a:lnTo>
                      <a:pt x="295" y="90"/>
                    </a:lnTo>
                    <a:lnTo>
                      <a:pt x="359" y="52"/>
                    </a:lnTo>
                    <a:lnTo>
                      <a:pt x="426" y="25"/>
                    </a:lnTo>
                    <a:lnTo>
                      <a:pt x="492" y="10"/>
                    </a:lnTo>
                    <a:lnTo>
                      <a:pt x="556" y="2"/>
                    </a:lnTo>
                    <a:lnTo>
                      <a:pt x="616" y="0"/>
                    </a:lnTo>
                    <a:lnTo>
                      <a:pt x="674" y="6"/>
                    </a:lnTo>
                    <a:lnTo>
                      <a:pt x="726" y="13"/>
                    </a:lnTo>
                    <a:lnTo>
                      <a:pt x="771" y="24"/>
                    </a:lnTo>
                    <a:lnTo>
                      <a:pt x="808" y="36"/>
                    </a:lnTo>
                    <a:lnTo>
                      <a:pt x="837" y="45"/>
                    </a:lnTo>
                    <a:lnTo>
                      <a:pt x="854" y="53"/>
                    </a:lnTo>
                    <a:lnTo>
                      <a:pt x="861" y="56"/>
                    </a:lnTo>
                    <a:lnTo>
                      <a:pt x="881" y="60"/>
                    </a:lnTo>
                    <a:lnTo>
                      <a:pt x="901" y="62"/>
                    </a:lnTo>
                    <a:lnTo>
                      <a:pt x="920" y="66"/>
                    </a:lnTo>
                    <a:lnTo>
                      <a:pt x="938" y="70"/>
                    </a:lnTo>
                    <a:lnTo>
                      <a:pt x="956" y="74"/>
                    </a:lnTo>
                    <a:lnTo>
                      <a:pt x="974" y="78"/>
                    </a:lnTo>
                    <a:lnTo>
                      <a:pt x="990" y="81"/>
                    </a:lnTo>
                    <a:lnTo>
                      <a:pt x="1008" y="83"/>
                    </a:lnTo>
                    <a:lnTo>
                      <a:pt x="1026" y="86"/>
                    </a:lnTo>
                    <a:lnTo>
                      <a:pt x="1042" y="89"/>
                    </a:lnTo>
                    <a:lnTo>
                      <a:pt x="1060" y="90"/>
                    </a:lnTo>
                    <a:lnTo>
                      <a:pt x="1079" y="91"/>
                    </a:lnTo>
                    <a:lnTo>
                      <a:pt x="1098" y="91"/>
                    </a:lnTo>
                    <a:lnTo>
                      <a:pt x="1116" y="90"/>
                    </a:lnTo>
                    <a:lnTo>
                      <a:pt x="1137" y="87"/>
                    </a:lnTo>
                    <a:lnTo>
                      <a:pt x="1158" y="85"/>
                    </a:lnTo>
                    <a:lnTo>
                      <a:pt x="1179" y="81"/>
                    </a:lnTo>
                    <a:lnTo>
                      <a:pt x="1201" y="77"/>
                    </a:lnTo>
                    <a:lnTo>
                      <a:pt x="1222" y="73"/>
                    </a:lnTo>
                    <a:lnTo>
                      <a:pt x="1242" y="69"/>
                    </a:lnTo>
                    <a:lnTo>
                      <a:pt x="1265" y="66"/>
                    </a:lnTo>
                    <a:lnTo>
                      <a:pt x="1287" y="64"/>
                    </a:lnTo>
                    <a:lnTo>
                      <a:pt x="1309" y="62"/>
                    </a:lnTo>
                    <a:lnTo>
                      <a:pt x="1333" y="61"/>
                    </a:lnTo>
                    <a:lnTo>
                      <a:pt x="1357" y="62"/>
                    </a:lnTo>
                    <a:lnTo>
                      <a:pt x="1384" y="64"/>
                    </a:lnTo>
                    <a:lnTo>
                      <a:pt x="1410" y="67"/>
                    </a:lnTo>
                    <a:lnTo>
                      <a:pt x="1438" y="71"/>
                    </a:lnTo>
                    <a:lnTo>
                      <a:pt x="1468" y="78"/>
                    </a:lnTo>
                    <a:lnTo>
                      <a:pt x="1501" y="86"/>
                    </a:lnTo>
                    <a:lnTo>
                      <a:pt x="1533" y="96"/>
                    </a:lnTo>
                    <a:lnTo>
                      <a:pt x="1570" y="110"/>
                    </a:lnTo>
                    <a:lnTo>
                      <a:pt x="1630" y="137"/>
                    </a:lnTo>
                    <a:lnTo>
                      <a:pt x="1686" y="170"/>
                    </a:lnTo>
                    <a:lnTo>
                      <a:pt x="1734" y="210"/>
                    </a:lnTo>
                    <a:lnTo>
                      <a:pt x="1777" y="254"/>
                    </a:lnTo>
                    <a:lnTo>
                      <a:pt x="1814" y="305"/>
                    </a:lnTo>
                    <a:lnTo>
                      <a:pt x="1847" y="359"/>
                    </a:lnTo>
                    <a:lnTo>
                      <a:pt x="1875" y="415"/>
                    </a:lnTo>
                    <a:lnTo>
                      <a:pt x="1898" y="474"/>
                    </a:lnTo>
                    <a:lnTo>
                      <a:pt x="1915" y="536"/>
                    </a:lnTo>
                    <a:lnTo>
                      <a:pt x="1930" y="600"/>
                    </a:lnTo>
                    <a:lnTo>
                      <a:pt x="1940" y="663"/>
                    </a:lnTo>
                    <a:lnTo>
                      <a:pt x="1948" y="727"/>
                    </a:lnTo>
                    <a:lnTo>
                      <a:pt x="1952" y="792"/>
                    </a:lnTo>
                    <a:lnTo>
                      <a:pt x="1953" y="854"/>
                    </a:lnTo>
                    <a:lnTo>
                      <a:pt x="1950" y="914"/>
                    </a:lnTo>
                    <a:lnTo>
                      <a:pt x="1947" y="974"/>
                    </a:lnTo>
                    <a:lnTo>
                      <a:pt x="1937" y="1055"/>
                    </a:lnTo>
                    <a:lnTo>
                      <a:pt x="1920" y="1138"/>
                    </a:lnTo>
                    <a:lnTo>
                      <a:pt x="1899" y="1222"/>
                    </a:lnTo>
                    <a:lnTo>
                      <a:pt x="1872" y="1308"/>
                    </a:lnTo>
                    <a:lnTo>
                      <a:pt x="1841" y="1392"/>
                    </a:lnTo>
                    <a:lnTo>
                      <a:pt x="1806" y="1478"/>
                    </a:lnTo>
                    <a:lnTo>
                      <a:pt x="1767" y="1561"/>
                    </a:lnTo>
                    <a:lnTo>
                      <a:pt x="1724" y="1641"/>
                    </a:lnTo>
                    <a:lnTo>
                      <a:pt x="1677" y="1720"/>
                    </a:lnTo>
                    <a:lnTo>
                      <a:pt x="1629" y="1797"/>
                    </a:lnTo>
                    <a:lnTo>
                      <a:pt x="1578" y="1868"/>
                    </a:lnTo>
                    <a:lnTo>
                      <a:pt x="1525" y="1935"/>
                    </a:lnTo>
                    <a:lnTo>
                      <a:pt x="1470" y="1998"/>
                    </a:lnTo>
                    <a:lnTo>
                      <a:pt x="1414" y="2055"/>
                    </a:lnTo>
                    <a:lnTo>
                      <a:pt x="1357" y="2105"/>
                    </a:lnTo>
                    <a:lnTo>
                      <a:pt x="1299" y="2148"/>
                    </a:lnTo>
                    <a:lnTo>
                      <a:pt x="1298" y="2150"/>
                    </a:lnTo>
                    <a:lnTo>
                      <a:pt x="1294" y="2151"/>
                    </a:lnTo>
                    <a:lnTo>
                      <a:pt x="1289" y="2154"/>
                    </a:lnTo>
                    <a:lnTo>
                      <a:pt x="1280" y="2156"/>
                    </a:lnTo>
                    <a:lnTo>
                      <a:pt x="1270" y="2160"/>
                    </a:lnTo>
                    <a:lnTo>
                      <a:pt x="1259" y="2164"/>
                    </a:lnTo>
                    <a:lnTo>
                      <a:pt x="1245" y="2167"/>
                    </a:lnTo>
                    <a:lnTo>
                      <a:pt x="1230" y="2169"/>
                    </a:lnTo>
                    <a:lnTo>
                      <a:pt x="1216" y="2171"/>
                    </a:lnTo>
                    <a:lnTo>
                      <a:pt x="1201" y="2172"/>
                    </a:lnTo>
                    <a:lnTo>
                      <a:pt x="1186" y="2172"/>
                    </a:lnTo>
                    <a:lnTo>
                      <a:pt x="1169" y="2172"/>
                    </a:lnTo>
                    <a:lnTo>
                      <a:pt x="1152" y="2169"/>
                    </a:lnTo>
                    <a:lnTo>
                      <a:pt x="1134" y="2167"/>
                    </a:lnTo>
                    <a:lnTo>
                      <a:pt x="1115" y="2162"/>
                    </a:lnTo>
                    <a:lnTo>
                      <a:pt x="1095" y="2155"/>
                    </a:lnTo>
                    <a:lnTo>
                      <a:pt x="1057" y="2140"/>
                    </a:lnTo>
                    <a:lnTo>
                      <a:pt x="1028" y="2131"/>
                    </a:lnTo>
                    <a:lnTo>
                      <a:pt x="1008" y="2125"/>
                    </a:lnTo>
                    <a:lnTo>
                      <a:pt x="994" y="2121"/>
                    </a:lnTo>
                    <a:lnTo>
                      <a:pt x="984" y="2119"/>
                    </a:lnTo>
                    <a:lnTo>
                      <a:pt x="977" y="2118"/>
                    </a:lnTo>
                    <a:lnTo>
                      <a:pt x="970" y="2118"/>
                    </a:lnTo>
                    <a:lnTo>
                      <a:pt x="963" y="2117"/>
                    </a:lnTo>
                    <a:lnTo>
                      <a:pt x="936" y="2114"/>
                    </a:lnTo>
                    <a:lnTo>
                      <a:pt x="910" y="2114"/>
                    </a:lnTo>
                    <a:lnTo>
                      <a:pt x="885" y="2118"/>
                    </a:lnTo>
                    <a:lnTo>
                      <a:pt x="861" y="2125"/>
                    </a:lnTo>
                    <a:lnTo>
                      <a:pt x="838" y="2133"/>
                    </a:lnTo>
                    <a:lnTo>
                      <a:pt x="818" y="2139"/>
                    </a:lnTo>
                    <a:lnTo>
                      <a:pt x="802" y="2147"/>
                    </a:lnTo>
                    <a:lnTo>
                      <a:pt x="788" y="2152"/>
                    </a:lnTo>
                    <a:lnTo>
                      <a:pt x="766" y="2159"/>
                    </a:lnTo>
                    <a:lnTo>
                      <a:pt x="745" y="2162"/>
                    </a:lnTo>
                    <a:lnTo>
                      <a:pt x="725" y="2163"/>
                    </a:lnTo>
                    <a:lnTo>
                      <a:pt x="703" y="2162"/>
                    </a:lnTo>
                    <a:lnTo>
                      <a:pt x="683" y="2158"/>
                    </a:lnTo>
                    <a:lnTo>
                      <a:pt x="664" y="2152"/>
                    </a:lnTo>
                    <a:lnTo>
                      <a:pt x="645" y="2146"/>
                    </a:lnTo>
                    <a:lnTo>
                      <a:pt x="629" y="2138"/>
                    </a:lnTo>
                    <a:lnTo>
                      <a:pt x="613" y="2130"/>
                    </a:lnTo>
                    <a:lnTo>
                      <a:pt x="597" y="2122"/>
                    </a:lnTo>
                    <a:lnTo>
                      <a:pt x="585" y="2114"/>
                    </a:lnTo>
                    <a:lnTo>
                      <a:pt x="575" y="2108"/>
                    </a:lnTo>
                    <a:lnTo>
                      <a:pt x="566" y="2101"/>
                    </a:lnTo>
                    <a:lnTo>
                      <a:pt x="558" y="2096"/>
                    </a:lnTo>
                    <a:lnTo>
                      <a:pt x="555" y="2093"/>
                    </a:lnTo>
                    <a:lnTo>
                      <a:pt x="553" y="2092"/>
                    </a:lnTo>
                    <a:lnTo>
                      <a:pt x="550" y="2088"/>
                    </a:lnTo>
                    <a:lnTo>
                      <a:pt x="541" y="2076"/>
                    </a:lnTo>
                    <a:lnTo>
                      <a:pt x="526" y="2056"/>
                    </a:lnTo>
                    <a:lnTo>
                      <a:pt x="505" y="2030"/>
                    </a:lnTo>
                    <a:lnTo>
                      <a:pt x="480" y="1998"/>
                    </a:lnTo>
                    <a:lnTo>
                      <a:pt x="453" y="1959"/>
                    </a:lnTo>
                    <a:lnTo>
                      <a:pt x="421" y="1914"/>
                    </a:lnTo>
                    <a:lnTo>
                      <a:pt x="387" y="1865"/>
                    </a:lnTo>
                    <a:lnTo>
                      <a:pt x="352" y="1811"/>
                    </a:lnTo>
                    <a:lnTo>
                      <a:pt x="314" y="1752"/>
                    </a:lnTo>
                    <a:lnTo>
                      <a:pt x="276" y="1690"/>
                    </a:lnTo>
                    <a:lnTo>
                      <a:pt x="240" y="1624"/>
                    </a:lnTo>
                    <a:lnTo>
                      <a:pt x="202" y="1556"/>
                    </a:lnTo>
                    <a:lnTo>
                      <a:pt x="167" y="1485"/>
                    </a:lnTo>
                    <a:lnTo>
                      <a:pt x="134" y="1412"/>
                    </a:lnTo>
                    <a:lnTo>
                      <a:pt x="102" y="1337"/>
                    </a:lnTo>
                    <a:close/>
                  </a:path>
                </a:pathLst>
              </a:custGeom>
              <a:solidFill>
                <a:srgbClr val="ff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156"/>
              <p:cNvSpPr/>
              <p:nvPr/>
            </p:nvSpPr>
            <p:spPr>
              <a:xfrm>
                <a:off x="5343480" y="486000"/>
                <a:ext cx="873000" cy="693360"/>
              </a:xfrm>
              <a:custGeom>
                <a:avLst/>
                <a:gdLst/>
                <a:ahLst/>
                <a:rect l="l" t="t" r="r" b="b"/>
                <a:pathLst>
                  <a:path w="1154" h="1765">
                    <a:moveTo>
                      <a:pt x="949" y="59"/>
                    </a:moveTo>
                    <a:lnTo>
                      <a:pt x="944" y="55"/>
                    </a:lnTo>
                    <a:lnTo>
                      <a:pt x="930" y="46"/>
                    </a:lnTo>
                    <a:lnTo>
                      <a:pt x="910" y="34"/>
                    </a:lnTo>
                    <a:lnTo>
                      <a:pt x="883" y="21"/>
                    </a:lnTo>
                    <a:lnTo>
                      <a:pt x="853" y="9"/>
                    </a:lnTo>
                    <a:lnTo>
                      <a:pt x="820" y="1"/>
                    </a:lnTo>
                    <a:lnTo>
                      <a:pt x="788" y="0"/>
                    </a:lnTo>
                    <a:lnTo>
                      <a:pt x="755" y="8"/>
                    </a:lnTo>
                    <a:lnTo>
                      <a:pt x="727" y="20"/>
                    </a:lnTo>
                    <a:lnTo>
                      <a:pt x="706" y="29"/>
                    </a:lnTo>
                    <a:lnTo>
                      <a:pt x="688" y="38"/>
                    </a:lnTo>
                    <a:lnTo>
                      <a:pt x="673" y="46"/>
                    </a:lnTo>
                    <a:lnTo>
                      <a:pt x="658" y="55"/>
                    </a:lnTo>
                    <a:lnTo>
                      <a:pt x="641" y="66"/>
                    </a:lnTo>
                    <a:lnTo>
                      <a:pt x="622" y="79"/>
                    </a:lnTo>
                    <a:lnTo>
                      <a:pt x="597" y="97"/>
                    </a:lnTo>
                    <a:lnTo>
                      <a:pt x="571" y="113"/>
                    </a:lnTo>
                    <a:lnTo>
                      <a:pt x="547" y="120"/>
                    </a:lnTo>
                    <a:lnTo>
                      <a:pt x="524" y="120"/>
                    </a:lnTo>
                    <a:lnTo>
                      <a:pt x="502" y="118"/>
                    </a:lnTo>
                    <a:lnTo>
                      <a:pt x="479" y="117"/>
                    </a:lnTo>
                    <a:lnTo>
                      <a:pt x="456" y="118"/>
                    </a:lnTo>
                    <a:lnTo>
                      <a:pt x="432" y="128"/>
                    </a:lnTo>
                    <a:lnTo>
                      <a:pt x="406" y="146"/>
                    </a:lnTo>
                    <a:lnTo>
                      <a:pt x="378" y="170"/>
                    </a:lnTo>
                    <a:lnTo>
                      <a:pt x="350" y="196"/>
                    </a:lnTo>
                    <a:lnTo>
                      <a:pt x="324" y="226"/>
                    </a:lnTo>
                    <a:lnTo>
                      <a:pt x="301" y="263"/>
                    </a:lnTo>
                    <a:lnTo>
                      <a:pt x="281" y="309"/>
                    </a:lnTo>
                    <a:lnTo>
                      <a:pt x="266" y="365"/>
                    </a:lnTo>
                    <a:lnTo>
                      <a:pt x="257" y="433"/>
                    </a:lnTo>
                    <a:lnTo>
                      <a:pt x="256" y="518"/>
                    </a:lnTo>
                    <a:lnTo>
                      <a:pt x="255" y="581"/>
                    </a:lnTo>
                    <a:lnTo>
                      <a:pt x="248" y="664"/>
                    </a:lnTo>
                    <a:lnTo>
                      <a:pt x="237" y="761"/>
                    </a:lnTo>
                    <a:lnTo>
                      <a:pt x="219" y="864"/>
                    </a:lnTo>
                    <a:lnTo>
                      <a:pt x="195" y="965"/>
                    </a:lnTo>
                    <a:lnTo>
                      <a:pt x="166" y="1060"/>
                    </a:lnTo>
                    <a:lnTo>
                      <a:pt x="129" y="1140"/>
                    </a:lnTo>
                    <a:lnTo>
                      <a:pt x="85" y="1200"/>
                    </a:lnTo>
                    <a:lnTo>
                      <a:pt x="58" y="1241"/>
                    </a:lnTo>
                    <a:lnTo>
                      <a:pt x="35" y="1302"/>
                    </a:lnTo>
                    <a:lnTo>
                      <a:pt x="17" y="1380"/>
                    </a:lnTo>
                    <a:lnTo>
                      <a:pt x="5" y="1463"/>
                    </a:lnTo>
                    <a:lnTo>
                      <a:pt x="0" y="1547"/>
                    </a:lnTo>
                    <a:lnTo>
                      <a:pt x="4" y="1621"/>
                    </a:lnTo>
                    <a:lnTo>
                      <a:pt x="18" y="1680"/>
                    </a:lnTo>
                    <a:lnTo>
                      <a:pt x="43" y="1715"/>
                    </a:lnTo>
                    <a:lnTo>
                      <a:pt x="71" y="1732"/>
                    </a:lnTo>
                    <a:lnTo>
                      <a:pt x="92" y="1742"/>
                    </a:lnTo>
                    <a:lnTo>
                      <a:pt x="110" y="1746"/>
                    </a:lnTo>
                    <a:lnTo>
                      <a:pt x="126" y="1746"/>
                    </a:lnTo>
                    <a:lnTo>
                      <a:pt x="142" y="1744"/>
                    </a:lnTo>
                    <a:lnTo>
                      <a:pt x="161" y="1736"/>
                    </a:lnTo>
                    <a:lnTo>
                      <a:pt x="184" y="1727"/>
                    </a:lnTo>
                    <a:lnTo>
                      <a:pt x="213" y="1716"/>
                    </a:lnTo>
                    <a:lnTo>
                      <a:pt x="231" y="1711"/>
                    </a:lnTo>
                    <a:lnTo>
                      <a:pt x="248" y="1708"/>
                    </a:lnTo>
                    <a:lnTo>
                      <a:pt x="266" y="1705"/>
                    </a:lnTo>
                    <a:lnTo>
                      <a:pt x="284" y="1703"/>
                    </a:lnTo>
                    <a:lnTo>
                      <a:pt x="302" y="1703"/>
                    </a:lnTo>
                    <a:lnTo>
                      <a:pt x="320" y="1703"/>
                    </a:lnTo>
                    <a:lnTo>
                      <a:pt x="338" y="1704"/>
                    </a:lnTo>
                    <a:lnTo>
                      <a:pt x="355" y="1707"/>
                    </a:lnTo>
                    <a:lnTo>
                      <a:pt x="372" y="1709"/>
                    </a:lnTo>
                    <a:lnTo>
                      <a:pt x="388" y="1712"/>
                    </a:lnTo>
                    <a:lnTo>
                      <a:pt x="403" y="1716"/>
                    </a:lnTo>
                    <a:lnTo>
                      <a:pt x="417" y="1720"/>
                    </a:lnTo>
                    <a:lnTo>
                      <a:pt x="430" y="1725"/>
                    </a:lnTo>
                    <a:lnTo>
                      <a:pt x="442" y="1730"/>
                    </a:lnTo>
                    <a:lnTo>
                      <a:pt x="451" y="1736"/>
                    </a:lnTo>
                    <a:lnTo>
                      <a:pt x="460" y="1741"/>
                    </a:lnTo>
                    <a:lnTo>
                      <a:pt x="476" y="1752"/>
                    </a:lnTo>
                    <a:lnTo>
                      <a:pt x="495" y="1758"/>
                    </a:lnTo>
                    <a:lnTo>
                      <a:pt x="515" y="1762"/>
                    </a:lnTo>
                    <a:lnTo>
                      <a:pt x="537" y="1765"/>
                    </a:lnTo>
                    <a:lnTo>
                      <a:pt x="558" y="1763"/>
                    </a:lnTo>
                    <a:lnTo>
                      <a:pt x="578" y="1759"/>
                    </a:lnTo>
                    <a:lnTo>
                      <a:pt x="596" y="1753"/>
                    </a:lnTo>
                    <a:lnTo>
                      <a:pt x="610" y="1742"/>
                    </a:lnTo>
                    <a:lnTo>
                      <a:pt x="619" y="1733"/>
                    </a:lnTo>
                    <a:lnTo>
                      <a:pt x="631" y="1719"/>
                    </a:lnTo>
                    <a:lnTo>
                      <a:pt x="648" y="1698"/>
                    </a:lnTo>
                    <a:lnTo>
                      <a:pt x="667" y="1674"/>
                    </a:lnTo>
                    <a:lnTo>
                      <a:pt x="688" y="1645"/>
                    </a:lnTo>
                    <a:lnTo>
                      <a:pt x="712" y="1612"/>
                    </a:lnTo>
                    <a:lnTo>
                      <a:pt x="738" y="1579"/>
                    </a:lnTo>
                    <a:lnTo>
                      <a:pt x="765" y="1543"/>
                    </a:lnTo>
                    <a:lnTo>
                      <a:pt x="791" y="1507"/>
                    </a:lnTo>
                    <a:lnTo>
                      <a:pt x="818" y="1471"/>
                    </a:lnTo>
                    <a:lnTo>
                      <a:pt x="844" y="1435"/>
                    </a:lnTo>
                    <a:lnTo>
                      <a:pt x="869" y="1403"/>
                    </a:lnTo>
                    <a:lnTo>
                      <a:pt x="892" y="1371"/>
                    </a:lnTo>
                    <a:lnTo>
                      <a:pt x="913" y="1343"/>
                    </a:lnTo>
                    <a:lnTo>
                      <a:pt x="931" y="1320"/>
                    </a:lnTo>
                    <a:lnTo>
                      <a:pt x="946" y="1301"/>
                    </a:lnTo>
                    <a:lnTo>
                      <a:pt x="963" y="1277"/>
                    </a:lnTo>
                    <a:lnTo>
                      <a:pt x="984" y="1239"/>
                    </a:lnTo>
                    <a:lnTo>
                      <a:pt x="1009" y="1189"/>
                    </a:lnTo>
                    <a:lnTo>
                      <a:pt x="1037" y="1127"/>
                    </a:lnTo>
                    <a:lnTo>
                      <a:pt x="1065" y="1056"/>
                    </a:lnTo>
                    <a:lnTo>
                      <a:pt x="1091" y="977"/>
                    </a:lnTo>
                    <a:lnTo>
                      <a:pt x="1115" y="892"/>
                    </a:lnTo>
                    <a:lnTo>
                      <a:pt x="1134" y="801"/>
                    </a:lnTo>
                    <a:lnTo>
                      <a:pt x="1148" y="706"/>
                    </a:lnTo>
                    <a:lnTo>
                      <a:pt x="1154" y="608"/>
                    </a:lnTo>
                    <a:lnTo>
                      <a:pt x="1152" y="510"/>
                    </a:lnTo>
                    <a:lnTo>
                      <a:pt x="1138" y="412"/>
                    </a:lnTo>
                    <a:lnTo>
                      <a:pt x="1113" y="317"/>
                    </a:lnTo>
                    <a:lnTo>
                      <a:pt x="1073" y="226"/>
                    </a:lnTo>
                    <a:lnTo>
                      <a:pt x="1019" y="140"/>
                    </a:lnTo>
                    <a:lnTo>
                      <a:pt x="949" y="59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157"/>
              <p:cNvSpPr/>
              <p:nvPr/>
            </p:nvSpPr>
            <p:spPr>
              <a:xfrm>
                <a:off x="5309280" y="421200"/>
                <a:ext cx="390600" cy="83520"/>
              </a:xfrm>
              <a:custGeom>
                <a:avLst/>
                <a:gdLst/>
                <a:ahLst/>
                <a:rect l="l" t="t" r="r" b="b"/>
                <a:pathLst>
                  <a:path w="519" h="213">
                    <a:moveTo>
                      <a:pt x="301" y="75"/>
                    </a:moveTo>
                    <a:lnTo>
                      <a:pt x="296" y="72"/>
                    </a:lnTo>
                    <a:lnTo>
                      <a:pt x="282" y="66"/>
                    </a:lnTo>
                    <a:lnTo>
                      <a:pt x="262" y="57"/>
                    </a:lnTo>
                    <a:lnTo>
                      <a:pt x="235" y="45"/>
                    </a:lnTo>
                    <a:lnTo>
                      <a:pt x="206" y="33"/>
                    </a:lnTo>
                    <a:lnTo>
                      <a:pt x="175" y="21"/>
                    </a:lnTo>
                    <a:lnTo>
                      <a:pt x="143" y="10"/>
                    </a:lnTo>
                    <a:lnTo>
                      <a:pt x="113" y="4"/>
                    </a:lnTo>
                    <a:lnTo>
                      <a:pt x="87" y="0"/>
                    </a:lnTo>
                    <a:lnTo>
                      <a:pt x="64" y="1"/>
                    </a:lnTo>
                    <a:lnTo>
                      <a:pt x="44" y="4"/>
                    </a:lnTo>
                    <a:lnTo>
                      <a:pt x="29" y="9"/>
                    </a:lnTo>
                    <a:lnTo>
                      <a:pt x="16" y="16"/>
                    </a:lnTo>
                    <a:lnTo>
                      <a:pt x="7" y="21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179" y="188"/>
                    </a:lnTo>
                    <a:lnTo>
                      <a:pt x="184" y="190"/>
                    </a:lnTo>
                    <a:lnTo>
                      <a:pt x="199" y="194"/>
                    </a:lnTo>
                    <a:lnTo>
                      <a:pt x="220" y="199"/>
                    </a:lnTo>
                    <a:lnTo>
                      <a:pt x="247" y="204"/>
                    </a:lnTo>
                    <a:lnTo>
                      <a:pt x="276" y="209"/>
                    </a:lnTo>
                    <a:lnTo>
                      <a:pt x="306" y="213"/>
                    </a:lnTo>
                    <a:lnTo>
                      <a:pt x="335" y="213"/>
                    </a:lnTo>
                    <a:lnTo>
                      <a:pt x="361" y="209"/>
                    </a:lnTo>
                    <a:lnTo>
                      <a:pt x="387" y="203"/>
                    </a:lnTo>
                    <a:lnTo>
                      <a:pt x="412" y="194"/>
                    </a:lnTo>
                    <a:lnTo>
                      <a:pt x="437" y="186"/>
                    </a:lnTo>
                    <a:lnTo>
                      <a:pt x="460" y="178"/>
                    </a:lnTo>
                    <a:lnTo>
                      <a:pt x="480" y="170"/>
                    </a:lnTo>
                    <a:lnTo>
                      <a:pt x="496" y="163"/>
                    </a:lnTo>
                    <a:lnTo>
                      <a:pt x="506" y="159"/>
                    </a:lnTo>
                    <a:lnTo>
                      <a:pt x="510" y="158"/>
                    </a:lnTo>
                    <a:lnTo>
                      <a:pt x="511" y="158"/>
                    </a:lnTo>
                    <a:lnTo>
                      <a:pt x="515" y="157"/>
                    </a:lnTo>
                    <a:lnTo>
                      <a:pt x="518" y="154"/>
                    </a:lnTo>
                    <a:lnTo>
                      <a:pt x="519" y="151"/>
                    </a:lnTo>
                    <a:lnTo>
                      <a:pt x="518" y="147"/>
                    </a:lnTo>
                    <a:lnTo>
                      <a:pt x="510" y="141"/>
                    </a:lnTo>
                    <a:lnTo>
                      <a:pt x="496" y="134"/>
                    </a:lnTo>
                    <a:lnTo>
                      <a:pt x="473" y="126"/>
                    </a:lnTo>
                    <a:lnTo>
                      <a:pt x="448" y="116"/>
                    </a:lnTo>
                    <a:lnTo>
                      <a:pt x="428" y="105"/>
                    </a:lnTo>
                    <a:lnTo>
                      <a:pt x="410" y="95"/>
                    </a:lnTo>
                    <a:lnTo>
                      <a:pt x="394" y="86"/>
                    </a:lnTo>
                    <a:lnTo>
                      <a:pt x="376" y="78"/>
                    </a:lnTo>
                    <a:lnTo>
                      <a:pt x="356" y="74"/>
                    </a:lnTo>
                    <a:lnTo>
                      <a:pt x="331" y="72"/>
                    </a:lnTo>
                    <a:lnTo>
                      <a:pt x="301" y="75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158"/>
              <p:cNvSpPr/>
              <p:nvPr/>
            </p:nvSpPr>
            <p:spPr>
              <a:xfrm>
                <a:off x="4880160" y="463680"/>
                <a:ext cx="504360" cy="558720"/>
              </a:xfrm>
              <a:custGeom>
                <a:avLst/>
                <a:gdLst/>
                <a:ahLst/>
                <a:rect l="l" t="t" r="r" b="b"/>
                <a:pathLst>
                  <a:path w="666" h="1421">
                    <a:moveTo>
                      <a:pt x="368" y="19"/>
                    </a:moveTo>
                    <a:lnTo>
                      <a:pt x="364" y="21"/>
                    </a:lnTo>
                    <a:lnTo>
                      <a:pt x="356" y="27"/>
                    </a:lnTo>
                    <a:lnTo>
                      <a:pt x="341" y="37"/>
                    </a:lnTo>
                    <a:lnTo>
                      <a:pt x="320" y="50"/>
                    </a:lnTo>
                    <a:lnTo>
                      <a:pt x="298" y="69"/>
                    </a:lnTo>
                    <a:lnTo>
                      <a:pt x="271" y="91"/>
                    </a:lnTo>
                    <a:lnTo>
                      <a:pt x="242" y="116"/>
                    </a:lnTo>
                    <a:lnTo>
                      <a:pt x="212" y="146"/>
                    </a:lnTo>
                    <a:lnTo>
                      <a:pt x="182" y="179"/>
                    </a:lnTo>
                    <a:lnTo>
                      <a:pt x="150" y="218"/>
                    </a:lnTo>
                    <a:lnTo>
                      <a:pt x="120" y="258"/>
                    </a:lnTo>
                    <a:lnTo>
                      <a:pt x="92" y="303"/>
                    </a:lnTo>
                    <a:lnTo>
                      <a:pt x="67" y="352"/>
                    </a:lnTo>
                    <a:lnTo>
                      <a:pt x="44" y="403"/>
                    </a:lnTo>
                    <a:lnTo>
                      <a:pt x="26" y="460"/>
                    </a:lnTo>
                    <a:lnTo>
                      <a:pt x="12" y="519"/>
                    </a:lnTo>
                    <a:lnTo>
                      <a:pt x="4" y="577"/>
                    </a:lnTo>
                    <a:lnTo>
                      <a:pt x="0" y="635"/>
                    </a:lnTo>
                    <a:lnTo>
                      <a:pt x="0" y="692"/>
                    </a:lnTo>
                    <a:lnTo>
                      <a:pt x="4" y="748"/>
                    </a:lnTo>
                    <a:lnTo>
                      <a:pt x="12" y="802"/>
                    </a:lnTo>
                    <a:lnTo>
                      <a:pt x="22" y="855"/>
                    </a:lnTo>
                    <a:lnTo>
                      <a:pt x="33" y="905"/>
                    </a:lnTo>
                    <a:lnTo>
                      <a:pt x="47" y="952"/>
                    </a:lnTo>
                    <a:lnTo>
                      <a:pt x="62" y="997"/>
                    </a:lnTo>
                    <a:lnTo>
                      <a:pt x="79" y="1038"/>
                    </a:lnTo>
                    <a:lnTo>
                      <a:pt x="94" y="1076"/>
                    </a:lnTo>
                    <a:lnTo>
                      <a:pt x="110" y="1109"/>
                    </a:lnTo>
                    <a:lnTo>
                      <a:pt x="125" y="1138"/>
                    </a:lnTo>
                    <a:lnTo>
                      <a:pt x="138" y="1162"/>
                    </a:lnTo>
                    <a:lnTo>
                      <a:pt x="150" y="1180"/>
                    </a:lnTo>
                    <a:lnTo>
                      <a:pt x="160" y="1194"/>
                    </a:lnTo>
                    <a:lnTo>
                      <a:pt x="179" y="1216"/>
                    </a:lnTo>
                    <a:lnTo>
                      <a:pt x="199" y="1244"/>
                    </a:lnTo>
                    <a:lnTo>
                      <a:pt x="221" y="1273"/>
                    </a:lnTo>
                    <a:lnTo>
                      <a:pt x="241" y="1302"/>
                    </a:lnTo>
                    <a:lnTo>
                      <a:pt x="260" y="1329"/>
                    </a:lnTo>
                    <a:lnTo>
                      <a:pt x="274" y="1350"/>
                    </a:lnTo>
                    <a:lnTo>
                      <a:pt x="284" y="1366"/>
                    </a:lnTo>
                    <a:lnTo>
                      <a:pt x="288" y="1371"/>
                    </a:lnTo>
                    <a:lnTo>
                      <a:pt x="290" y="1374"/>
                    </a:lnTo>
                    <a:lnTo>
                      <a:pt x="296" y="1382"/>
                    </a:lnTo>
                    <a:lnTo>
                      <a:pt x="305" y="1392"/>
                    </a:lnTo>
                    <a:lnTo>
                      <a:pt x="318" y="1404"/>
                    </a:lnTo>
                    <a:lnTo>
                      <a:pt x="330" y="1413"/>
                    </a:lnTo>
                    <a:lnTo>
                      <a:pt x="343" y="1420"/>
                    </a:lnTo>
                    <a:lnTo>
                      <a:pt x="356" y="1421"/>
                    </a:lnTo>
                    <a:lnTo>
                      <a:pt x="366" y="1413"/>
                    </a:lnTo>
                    <a:lnTo>
                      <a:pt x="376" y="1402"/>
                    </a:lnTo>
                    <a:lnTo>
                      <a:pt x="388" y="1391"/>
                    </a:lnTo>
                    <a:lnTo>
                      <a:pt x="401" y="1379"/>
                    </a:lnTo>
                    <a:lnTo>
                      <a:pt x="412" y="1365"/>
                    </a:lnTo>
                    <a:lnTo>
                      <a:pt x="424" y="1346"/>
                    </a:lnTo>
                    <a:lnTo>
                      <a:pt x="433" y="1324"/>
                    </a:lnTo>
                    <a:lnTo>
                      <a:pt x="438" y="1295"/>
                    </a:lnTo>
                    <a:lnTo>
                      <a:pt x="439" y="1259"/>
                    </a:lnTo>
                    <a:lnTo>
                      <a:pt x="436" y="1163"/>
                    </a:lnTo>
                    <a:lnTo>
                      <a:pt x="431" y="1053"/>
                    </a:lnTo>
                    <a:lnTo>
                      <a:pt x="426" y="954"/>
                    </a:lnTo>
                    <a:lnTo>
                      <a:pt x="424" y="889"/>
                    </a:lnTo>
                    <a:lnTo>
                      <a:pt x="430" y="852"/>
                    </a:lnTo>
                    <a:lnTo>
                      <a:pt x="448" y="787"/>
                    </a:lnTo>
                    <a:lnTo>
                      <a:pt x="473" y="701"/>
                    </a:lnTo>
                    <a:lnTo>
                      <a:pt x="503" y="607"/>
                    </a:lnTo>
                    <a:lnTo>
                      <a:pt x="536" y="514"/>
                    </a:lnTo>
                    <a:lnTo>
                      <a:pt x="569" y="432"/>
                    </a:lnTo>
                    <a:lnTo>
                      <a:pt x="596" y="369"/>
                    </a:lnTo>
                    <a:lnTo>
                      <a:pt x="618" y="337"/>
                    </a:lnTo>
                    <a:lnTo>
                      <a:pt x="633" y="323"/>
                    </a:lnTo>
                    <a:lnTo>
                      <a:pt x="645" y="305"/>
                    </a:lnTo>
                    <a:lnTo>
                      <a:pt x="654" y="283"/>
                    </a:lnTo>
                    <a:lnTo>
                      <a:pt x="661" y="260"/>
                    </a:lnTo>
                    <a:lnTo>
                      <a:pt x="664" y="233"/>
                    </a:lnTo>
                    <a:lnTo>
                      <a:pt x="666" y="207"/>
                    </a:lnTo>
                    <a:lnTo>
                      <a:pt x="664" y="178"/>
                    </a:lnTo>
                    <a:lnTo>
                      <a:pt x="662" y="149"/>
                    </a:lnTo>
                    <a:lnTo>
                      <a:pt x="658" y="133"/>
                    </a:lnTo>
                    <a:lnTo>
                      <a:pt x="652" y="119"/>
                    </a:lnTo>
                    <a:lnTo>
                      <a:pt x="642" y="102"/>
                    </a:lnTo>
                    <a:lnTo>
                      <a:pt x="629" y="86"/>
                    </a:lnTo>
                    <a:lnTo>
                      <a:pt x="614" y="71"/>
                    </a:lnTo>
                    <a:lnTo>
                      <a:pt x="598" y="56"/>
                    </a:lnTo>
                    <a:lnTo>
                      <a:pt x="579" y="42"/>
                    </a:lnTo>
                    <a:lnTo>
                      <a:pt x="557" y="31"/>
                    </a:lnTo>
                    <a:lnTo>
                      <a:pt x="536" y="20"/>
                    </a:lnTo>
                    <a:lnTo>
                      <a:pt x="513" y="11"/>
                    </a:lnTo>
                    <a:lnTo>
                      <a:pt x="489" y="4"/>
                    </a:lnTo>
                    <a:lnTo>
                      <a:pt x="464" y="0"/>
                    </a:lnTo>
                    <a:lnTo>
                      <a:pt x="440" y="0"/>
                    </a:lnTo>
                    <a:lnTo>
                      <a:pt x="416" y="3"/>
                    </a:lnTo>
                    <a:lnTo>
                      <a:pt x="392" y="8"/>
                    </a:lnTo>
                    <a:lnTo>
                      <a:pt x="368" y="19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159"/>
              <p:cNvSpPr/>
              <p:nvPr/>
            </p:nvSpPr>
            <p:spPr>
              <a:xfrm>
                <a:off x="5302800" y="1182960"/>
                <a:ext cx="447840" cy="36360"/>
              </a:xfrm>
              <a:custGeom>
                <a:avLst/>
                <a:gdLst/>
                <a:ahLst/>
                <a:rect l="l" t="t" r="r" b="b"/>
                <a:pathLst>
                  <a:path w="590" h="105">
                    <a:moveTo>
                      <a:pt x="81" y="104"/>
                    </a:moveTo>
                    <a:lnTo>
                      <a:pt x="71" y="101"/>
                    </a:lnTo>
                    <a:lnTo>
                      <a:pt x="59" y="99"/>
                    </a:lnTo>
                    <a:lnTo>
                      <a:pt x="49" y="93"/>
                    </a:lnTo>
                    <a:lnTo>
                      <a:pt x="39" y="88"/>
                    </a:lnTo>
                    <a:lnTo>
                      <a:pt x="29" y="80"/>
                    </a:lnTo>
                    <a:lnTo>
                      <a:pt x="19" y="71"/>
                    </a:lnTo>
                    <a:lnTo>
                      <a:pt x="9" y="59"/>
                    </a:lnTo>
                    <a:lnTo>
                      <a:pt x="0" y="46"/>
                    </a:lnTo>
                    <a:lnTo>
                      <a:pt x="5" y="47"/>
                    </a:lnTo>
                    <a:lnTo>
                      <a:pt x="20" y="50"/>
                    </a:lnTo>
                    <a:lnTo>
                      <a:pt x="42" y="53"/>
                    </a:lnTo>
                    <a:lnTo>
                      <a:pt x="68" y="55"/>
                    </a:lnTo>
                    <a:lnTo>
                      <a:pt x="98" y="55"/>
                    </a:lnTo>
                    <a:lnTo>
                      <a:pt x="130" y="53"/>
                    </a:lnTo>
                    <a:lnTo>
                      <a:pt x="159" y="45"/>
                    </a:lnTo>
                    <a:lnTo>
                      <a:pt x="185" y="32"/>
                    </a:lnTo>
                    <a:lnTo>
                      <a:pt x="198" y="24"/>
                    </a:lnTo>
                    <a:lnTo>
                      <a:pt x="213" y="17"/>
                    </a:lnTo>
                    <a:lnTo>
                      <a:pt x="230" y="12"/>
                    </a:lnTo>
                    <a:lnTo>
                      <a:pt x="247" y="7"/>
                    </a:lnTo>
                    <a:lnTo>
                      <a:pt x="266" y="4"/>
                    </a:lnTo>
                    <a:lnTo>
                      <a:pt x="286" y="1"/>
                    </a:lnTo>
                    <a:lnTo>
                      <a:pt x="306" y="0"/>
                    </a:lnTo>
                    <a:lnTo>
                      <a:pt x="327" y="0"/>
                    </a:lnTo>
                    <a:lnTo>
                      <a:pt x="348" y="1"/>
                    </a:lnTo>
                    <a:lnTo>
                      <a:pt x="368" y="4"/>
                    </a:lnTo>
                    <a:lnTo>
                      <a:pt x="390" y="8"/>
                    </a:lnTo>
                    <a:lnTo>
                      <a:pt x="410" y="12"/>
                    </a:lnTo>
                    <a:lnTo>
                      <a:pt x="429" y="17"/>
                    </a:lnTo>
                    <a:lnTo>
                      <a:pt x="446" y="25"/>
                    </a:lnTo>
                    <a:lnTo>
                      <a:pt x="464" y="33"/>
                    </a:lnTo>
                    <a:lnTo>
                      <a:pt x="479" y="42"/>
                    </a:lnTo>
                    <a:lnTo>
                      <a:pt x="505" y="58"/>
                    </a:lnTo>
                    <a:lnTo>
                      <a:pt x="528" y="66"/>
                    </a:lnTo>
                    <a:lnTo>
                      <a:pt x="547" y="70"/>
                    </a:lnTo>
                    <a:lnTo>
                      <a:pt x="562" y="68"/>
                    </a:lnTo>
                    <a:lnTo>
                      <a:pt x="573" y="66"/>
                    </a:lnTo>
                    <a:lnTo>
                      <a:pt x="582" y="62"/>
                    </a:lnTo>
                    <a:lnTo>
                      <a:pt x="587" y="58"/>
                    </a:lnTo>
                    <a:lnTo>
                      <a:pt x="589" y="57"/>
                    </a:lnTo>
                    <a:lnTo>
                      <a:pt x="589" y="59"/>
                    </a:lnTo>
                    <a:lnTo>
                      <a:pt x="590" y="66"/>
                    </a:lnTo>
                    <a:lnTo>
                      <a:pt x="587" y="75"/>
                    </a:lnTo>
                    <a:lnTo>
                      <a:pt x="580" y="84"/>
                    </a:lnTo>
                    <a:lnTo>
                      <a:pt x="565" y="91"/>
                    </a:lnTo>
                    <a:lnTo>
                      <a:pt x="541" y="93"/>
                    </a:lnTo>
                    <a:lnTo>
                      <a:pt x="504" y="90"/>
                    </a:lnTo>
                    <a:lnTo>
                      <a:pt x="454" y="78"/>
                    </a:lnTo>
                    <a:lnTo>
                      <a:pt x="451" y="76"/>
                    </a:lnTo>
                    <a:lnTo>
                      <a:pt x="446" y="75"/>
                    </a:lnTo>
                    <a:lnTo>
                      <a:pt x="436" y="72"/>
                    </a:lnTo>
                    <a:lnTo>
                      <a:pt x="425" y="68"/>
                    </a:lnTo>
                    <a:lnTo>
                      <a:pt x="410" y="66"/>
                    </a:lnTo>
                    <a:lnTo>
                      <a:pt x="392" y="62"/>
                    </a:lnTo>
                    <a:lnTo>
                      <a:pt x="373" y="58"/>
                    </a:lnTo>
                    <a:lnTo>
                      <a:pt x="354" y="54"/>
                    </a:lnTo>
                    <a:lnTo>
                      <a:pt x="333" y="51"/>
                    </a:lnTo>
                    <a:lnTo>
                      <a:pt x="311" y="49"/>
                    </a:lnTo>
                    <a:lnTo>
                      <a:pt x="289" y="49"/>
                    </a:lnTo>
                    <a:lnTo>
                      <a:pt x="267" y="49"/>
                    </a:lnTo>
                    <a:lnTo>
                      <a:pt x="247" y="51"/>
                    </a:lnTo>
                    <a:lnTo>
                      <a:pt x="227" y="55"/>
                    </a:lnTo>
                    <a:lnTo>
                      <a:pt x="209" y="61"/>
                    </a:lnTo>
                    <a:lnTo>
                      <a:pt x="193" y="70"/>
                    </a:lnTo>
                    <a:lnTo>
                      <a:pt x="190" y="71"/>
                    </a:lnTo>
                    <a:lnTo>
                      <a:pt x="184" y="76"/>
                    </a:lnTo>
                    <a:lnTo>
                      <a:pt x="173" y="83"/>
                    </a:lnTo>
                    <a:lnTo>
                      <a:pt x="159" y="90"/>
                    </a:lnTo>
                    <a:lnTo>
                      <a:pt x="141" y="96"/>
                    </a:lnTo>
                    <a:lnTo>
                      <a:pt x="122" y="101"/>
                    </a:lnTo>
                    <a:lnTo>
                      <a:pt x="102" y="105"/>
                    </a:lnTo>
                    <a:lnTo>
                      <a:pt x="81" y="104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160"/>
              <p:cNvSpPr/>
              <p:nvPr/>
            </p:nvSpPr>
            <p:spPr>
              <a:xfrm>
                <a:off x="4925520" y="491760"/>
                <a:ext cx="358920" cy="435240"/>
              </a:xfrm>
              <a:custGeom>
                <a:avLst/>
                <a:gdLst/>
                <a:ahLst/>
                <a:rect l="l" t="t" r="r" b="b"/>
                <a:pathLst>
                  <a:path w="474" h="1109">
                    <a:moveTo>
                      <a:pt x="312" y="8"/>
                    </a:moveTo>
                    <a:lnTo>
                      <a:pt x="309" y="10"/>
                    </a:lnTo>
                    <a:lnTo>
                      <a:pt x="303" y="12"/>
                    </a:lnTo>
                    <a:lnTo>
                      <a:pt x="293" y="18"/>
                    </a:lnTo>
                    <a:lnTo>
                      <a:pt x="279" y="25"/>
                    </a:lnTo>
                    <a:lnTo>
                      <a:pt x="261" y="36"/>
                    </a:lnTo>
                    <a:lnTo>
                      <a:pt x="242" y="48"/>
                    </a:lnTo>
                    <a:lnTo>
                      <a:pt x="222" y="62"/>
                    </a:lnTo>
                    <a:lnTo>
                      <a:pt x="199" y="79"/>
                    </a:lnTo>
                    <a:lnTo>
                      <a:pt x="177" y="100"/>
                    </a:lnTo>
                    <a:lnTo>
                      <a:pt x="153" y="123"/>
                    </a:lnTo>
                    <a:lnTo>
                      <a:pt x="129" y="148"/>
                    </a:lnTo>
                    <a:lnTo>
                      <a:pt x="106" y="176"/>
                    </a:lnTo>
                    <a:lnTo>
                      <a:pt x="85" y="207"/>
                    </a:lnTo>
                    <a:lnTo>
                      <a:pt x="65" y="241"/>
                    </a:lnTo>
                    <a:lnTo>
                      <a:pt x="46" y="278"/>
                    </a:lnTo>
                    <a:lnTo>
                      <a:pt x="31" y="318"/>
                    </a:lnTo>
                    <a:lnTo>
                      <a:pt x="9" y="401"/>
                    </a:lnTo>
                    <a:lnTo>
                      <a:pt x="0" y="485"/>
                    </a:lnTo>
                    <a:lnTo>
                      <a:pt x="0" y="569"/>
                    </a:lnTo>
                    <a:lnTo>
                      <a:pt x="7" y="648"/>
                    </a:lnTo>
                    <a:lnTo>
                      <a:pt x="17" y="721"/>
                    </a:lnTo>
                    <a:lnTo>
                      <a:pt x="28" y="780"/>
                    </a:lnTo>
                    <a:lnTo>
                      <a:pt x="38" y="826"/>
                    </a:lnTo>
                    <a:lnTo>
                      <a:pt x="46" y="853"/>
                    </a:lnTo>
                    <a:lnTo>
                      <a:pt x="60" y="892"/>
                    </a:lnTo>
                    <a:lnTo>
                      <a:pt x="77" y="933"/>
                    </a:lnTo>
                    <a:lnTo>
                      <a:pt x="96" y="971"/>
                    </a:lnTo>
                    <a:lnTo>
                      <a:pt x="115" y="1007"/>
                    </a:lnTo>
                    <a:lnTo>
                      <a:pt x="133" y="1037"/>
                    </a:lnTo>
                    <a:lnTo>
                      <a:pt x="148" y="1061"/>
                    </a:lnTo>
                    <a:lnTo>
                      <a:pt x="158" y="1076"/>
                    </a:lnTo>
                    <a:lnTo>
                      <a:pt x="162" y="1082"/>
                    </a:lnTo>
                    <a:lnTo>
                      <a:pt x="163" y="1086"/>
                    </a:lnTo>
                    <a:lnTo>
                      <a:pt x="167" y="1094"/>
                    </a:lnTo>
                    <a:lnTo>
                      <a:pt x="173" y="1103"/>
                    </a:lnTo>
                    <a:lnTo>
                      <a:pt x="180" y="1108"/>
                    </a:lnTo>
                    <a:lnTo>
                      <a:pt x="191" y="1109"/>
                    </a:lnTo>
                    <a:lnTo>
                      <a:pt x="202" y="1100"/>
                    </a:lnTo>
                    <a:lnTo>
                      <a:pt x="216" y="1079"/>
                    </a:lnTo>
                    <a:lnTo>
                      <a:pt x="230" y="1041"/>
                    </a:lnTo>
                    <a:lnTo>
                      <a:pt x="238" y="983"/>
                    </a:lnTo>
                    <a:lnTo>
                      <a:pt x="238" y="907"/>
                    </a:lnTo>
                    <a:lnTo>
                      <a:pt x="232" y="821"/>
                    </a:lnTo>
                    <a:lnTo>
                      <a:pt x="227" y="727"/>
                    </a:lnTo>
                    <a:lnTo>
                      <a:pt x="225" y="633"/>
                    </a:lnTo>
                    <a:lnTo>
                      <a:pt x="232" y="543"/>
                    </a:lnTo>
                    <a:lnTo>
                      <a:pt x="254" y="463"/>
                    </a:lnTo>
                    <a:lnTo>
                      <a:pt x="293" y="397"/>
                    </a:lnTo>
                    <a:lnTo>
                      <a:pt x="339" y="343"/>
                    </a:lnTo>
                    <a:lnTo>
                      <a:pt x="380" y="295"/>
                    </a:lnTo>
                    <a:lnTo>
                      <a:pt x="411" y="255"/>
                    </a:lnTo>
                    <a:lnTo>
                      <a:pt x="437" y="220"/>
                    </a:lnTo>
                    <a:lnTo>
                      <a:pt x="455" y="190"/>
                    </a:lnTo>
                    <a:lnTo>
                      <a:pt x="468" y="164"/>
                    </a:lnTo>
                    <a:lnTo>
                      <a:pt x="474" y="139"/>
                    </a:lnTo>
                    <a:lnTo>
                      <a:pt x="473" y="116"/>
                    </a:lnTo>
                    <a:lnTo>
                      <a:pt x="468" y="93"/>
                    </a:lnTo>
                    <a:lnTo>
                      <a:pt x="459" y="69"/>
                    </a:lnTo>
                    <a:lnTo>
                      <a:pt x="446" y="46"/>
                    </a:lnTo>
                    <a:lnTo>
                      <a:pt x="430" y="27"/>
                    </a:lnTo>
                    <a:lnTo>
                      <a:pt x="410" y="11"/>
                    </a:lnTo>
                    <a:lnTo>
                      <a:pt x="382" y="2"/>
                    </a:lnTo>
                    <a:lnTo>
                      <a:pt x="351" y="0"/>
                    </a:lnTo>
                    <a:lnTo>
                      <a:pt x="312" y="8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161"/>
              <p:cNvSpPr/>
              <p:nvPr/>
            </p:nvSpPr>
            <p:spPr>
              <a:xfrm>
                <a:off x="5393520" y="1176840"/>
                <a:ext cx="336240" cy="37800"/>
              </a:xfrm>
              <a:custGeom>
                <a:avLst/>
                <a:gdLst/>
                <a:ahLst/>
                <a:rect l="l" t="t" r="r" b="b"/>
                <a:pathLst>
                  <a:path w="442" h="110">
                    <a:moveTo>
                      <a:pt x="0" y="85"/>
                    </a:moveTo>
                    <a:lnTo>
                      <a:pt x="3" y="85"/>
                    </a:lnTo>
                    <a:lnTo>
                      <a:pt x="9" y="84"/>
                    </a:lnTo>
                    <a:lnTo>
                      <a:pt x="19" y="83"/>
                    </a:lnTo>
                    <a:lnTo>
                      <a:pt x="32" y="79"/>
                    </a:lnTo>
                    <a:lnTo>
                      <a:pt x="46" y="75"/>
                    </a:lnTo>
                    <a:lnTo>
                      <a:pt x="61" y="71"/>
                    </a:lnTo>
                    <a:lnTo>
                      <a:pt x="76" y="64"/>
                    </a:lnTo>
                    <a:lnTo>
                      <a:pt x="88" y="56"/>
                    </a:lnTo>
                    <a:lnTo>
                      <a:pt x="90" y="55"/>
                    </a:lnTo>
                    <a:lnTo>
                      <a:pt x="93" y="51"/>
                    </a:lnTo>
                    <a:lnTo>
                      <a:pt x="100" y="45"/>
                    </a:lnTo>
                    <a:lnTo>
                      <a:pt x="109" y="37"/>
                    </a:lnTo>
                    <a:lnTo>
                      <a:pt x="119" y="29"/>
                    </a:lnTo>
                    <a:lnTo>
                      <a:pt x="131" y="20"/>
                    </a:lnTo>
                    <a:lnTo>
                      <a:pt x="146" y="13"/>
                    </a:lnTo>
                    <a:lnTo>
                      <a:pt x="161" y="6"/>
                    </a:lnTo>
                    <a:lnTo>
                      <a:pt x="179" y="1"/>
                    </a:lnTo>
                    <a:lnTo>
                      <a:pt x="198" y="0"/>
                    </a:lnTo>
                    <a:lnTo>
                      <a:pt x="218" y="1"/>
                    </a:lnTo>
                    <a:lnTo>
                      <a:pt x="240" y="6"/>
                    </a:lnTo>
                    <a:lnTo>
                      <a:pt x="262" y="17"/>
                    </a:lnTo>
                    <a:lnTo>
                      <a:pt x="285" y="31"/>
                    </a:lnTo>
                    <a:lnTo>
                      <a:pt x="309" y="53"/>
                    </a:lnTo>
                    <a:lnTo>
                      <a:pt x="333" y="80"/>
                    </a:lnTo>
                    <a:lnTo>
                      <a:pt x="335" y="81"/>
                    </a:lnTo>
                    <a:lnTo>
                      <a:pt x="343" y="84"/>
                    </a:lnTo>
                    <a:lnTo>
                      <a:pt x="355" y="89"/>
                    </a:lnTo>
                    <a:lnTo>
                      <a:pt x="369" y="95"/>
                    </a:lnTo>
                    <a:lnTo>
                      <a:pt x="387" y="99"/>
                    </a:lnTo>
                    <a:lnTo>
                      <a:pt x="405" y="103"/>
                    </a:lnTo>
                    <a:lnTo>
                      <a:pt x="423" y="104"/>
                    </a:lnTo>
                    <a:lnTo>
                      <a:pt x="442" y="103"/>
                    </a:lnTo>
                    <a:lnTo>
                      <a:pt x="441" y="104"/>
                    </a:lnTo>
                    <a:lnTo>
                      <a:pt x="437" y="107"/>
                    </a:lnTo>
                    <a:lnTo>
                      <a:pt x="429" y="109"/>
                    </a:lnTo>
                    <a:lnTo>
                      <a:pt x="415" y="110"/>
                    </a:lnTo>
                    <a:lnTo>
                      <a:pt x="393" y="110"/>
                    </a:lnTo>
                    <a:lnTo>
                      <a:pt x="363" y="107"/>
                    </a:lnTo>
                    <a:lnTo>
                      <a:pt x="321" y="96"/>
                    </a:lnTo>
                    <a:lnTo>
                      <a:pt x="270" y="80"/>
                    </a:lnTo>
                    <a:lnTo>
                      <a:pt x="267" y="79"/>
                    </a:lnTo>
                    <a:lnTo>
                      <a:pt x="260" y="74"/>
                    </a:lnTo>
                    <a:lnTo>
                      <a:pt x="248" y="68"/>
                    </a:lnTo>
                    <a:lnTo>
                      <a:pt x="231" y="62"/>
                    </a:lnTo>
                    <a:lnTo>
                      <a:pt x="209" y="58"/>
                    </a:lnTo>
                    <a:lnTo>
                      <a:pt x="184" y="58"/>
                    </a:lnTo>
                    <a:lnTo>
                      <a:pt x="154" y="62"/>
                    </a:lnTo>
                    <a:lnTo>
                      <a:pt x="120" y="71"/>
                    </a:lnTo>
                    <a:lnTo>
                      <a:pt x="119" y="72"/>
                    </a:lnTo>
                    <a:lnTo>
                      <a:pt x="112" y="76"/>
                    </a:lnTo>
                    <a:lnTo>
                      <a:pt x="103" y="81"/>
                    </a:lnTo>
                    <a:lnTo>
                      <a:pt x="90" y="87"/>
                    </a:lnTo>
                    <a:lnTo>
                      <a:pt x="73" y="91"/>
                    </a:lnTo>
                    <a:lnTo>
                      <a:pt x="52" y="92"/>
                    </a:lnTo>
                    <a:lnTo>
                      <a:pt x="28" y="91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162"/>
              <p:cNvSpPr/>
              <p:nvPr/>
            </p:nvSpPr>
            <p:spPr>
              <a:xfrm>
                <a:off x="5393520" y="434160"/>
                <a:ext cx="358920" cy="69480"/>
              </a:xfrm>
              <a:custGeom>
                <a:avLst/>
                <a:gdLst/>
                <a:ahLst/>
                <a:rect l="l" t="t" r="r" b="b"/>
                <a:pathLst>
                  <a:path w="473" h="165">
                    <a:moveTo>
                      <a:pt x="0" y="0"/>
                    </a:moveTo>
                    <a:lnTo>
                      <a:pt x="4" y="0"/>
                    </a:lnTo>
                    <a:lnTo>
                      <a:pt x="13" y="2"/>
                    </a:lnTo>
                    <a:lnTo>
                      <a:pt x="28" y="4"/>
                    </a:lnTo>
                    <a:lnTo>
                      <a:pt x="48" y="9"/>
                    </a:lnTo>
                    <a:lnTo>
                      <a:pt x="72" y="17"/>
                    </a:lnTo>
                    <a:lnTo>
                      <a:pt x="98" y="28"/>
                    </a:lnTo>
                    <a:lnTo>
                      <a:pt x="129" y="42"/>
                    </a:lnTo>
                    <a:lnTo>
                      <a:pt x="159" y="61"/>
                    </a:lnTo>
                    <a:lnTo>
                      <a:pt x="190" y="78"/>
                    </a:lnTo>
                    <a:lnTo>
                      <a:pt x="221" y="90"/>
                    </a:lnTo>
                    <a:lnTo>
                      <a:pt x="251" y="98"/>
                    </a:lnTo>
                    <a:lnTo>
                      <a:pt x="277" y="100"/>
                    </a:lnTo>
                    <a:lnTo>
                      <a:pt x="300" y="102"/>
                    </a:lnTo>
                    <a:lnTo>
                      <a:pt x="318" y="102"/>
                    </a:lnTo>
                    <a:lnTo>
                      <a:pt x="329" y="100"/>
                    </a:lnTo>
                    <a:lnTo>
                      <a:pt x="333" y="100"/>
                    </a:lnTo>
                    <a:lnTo>
                      <a:pt x="473" y="49"/>
                    </a:lnTo>
                    <a:lnTo>
                      <a:pt x="469" y="53"/>
                    </a:lnTo>
                    <a:lnTo>
                      <a:pt x="457" y="62"/>
                    </a:lnTo>
                    <a:lnTo>
                      <a:pt x="441" y="77"/>
                    </a:lnTo>
                    <a:lnTo>
                      <a:pt x="422" y="94"/>
                    </a:lnTo>
                    <a:lnTo>
                      <a:pt x="401" y="111"/>
                    </a:lnTo>
                    <a:lnTo>
                      <a:pt x="381" y="127"/>
                    </a:lnTo>
                    <a:lnTo>
                      <a:pt x="363" y="141"/>
                    </a:lnTo>
                    <a:lnTo>
                      <a:pt x="350" y="150"/>
                    </a:lnTo>
                    <a:lnTo>
                      <a:pt x="344" y="154"/>
                    </a:lnTo>
                    <a:lnTo>
                      <a:pt x="334" y="157"/>
                    </a:lnTo>
                    <a:lnTo>
                      <a:pt x="323" y="160"/>
                    </a:lnTo>
                    <a:lnTo>
                      <a:pt x="309" y="161"/>
                    </a:lnTo>
                    <a:lnTo>
                      <a:pt x="295" y="164"/>
                    </a:lnTo>
                    <a:lnTo>
                      <a:pt x="279" y="164"/>
                    </a:lnTo>
                    <a:lnTo>
                      <a:pt x="261" y="165"/>
                    </a:lnTo>
                    <a:lnTo>
                      <a:pt x="243" y="164"/>
                    </a:lnTo>
                    <a:lnTo>
                      <a:pt x="224" y="162"/>
                    </a:lnTo>
                    <a:lnTo>
                      <a:pt x="207" y="161"/>
                    </a:lnTo>
                    <a:lnTo>
                      <a:pt x="189" y="157"/>
                    </a:lnTo>
                    <a:lnTo>
                      <a:pt x="172" y="153"/>
                    </a:lnTo>
                    <a:lnTo>
                      <a:pt x="156" y="148"/>
                    </a:lnTo>
                    <a:lnTo>
                      <a:pt x="141" y="141"/>
                    </a:lnTo>
                    <a:lnTo>
                      <a:pt x="127" y="133"/>
                    </a:lnTo>
                    <a:lnTo>
                      <a:pt x="116" y="124"/>
                    </a:lnTo>
                    <a:lnTo>
                      <a:pt x="97" y="103"/>
                    </a:lnTo>
                    <a:lnTo>
                      <a:pt x="81" y="82"/>
                    </a:lnTo>
                    <a:lnTo>
                      <a:pt x="68" y="62"/>
                    </a:lnTo>
                    <a:lnTo>
                      <a:pt x="56" y="42"/>
                    </a:lnTo>
                    <a:lnTo>
                      <a:pt x="43" y="27"/>
                    </a:lnTo>
                    <a:lnTo>
                      <a:pt x="30" y="13"/>
                    </a:lnTo>
                    <a:lnTo>
                      <a:pt x="1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163"/>
              <p:cNvSpPr/>
              <p:nvPr/>
            </p:nvSpPr>
            <p:spPr>
              <a:xfrm>
                <a:off x="5723280" y="528480"/>
                <a:ext cx="431280" cy="373680"/>
              </a:xfrm>
              <a:custGeom>
                <a:avLst/>
                <a:gdLst/>
                <a:ahLst/>
                <a:rect l="l" t="t" r="r" b="b"/>
                <a:pathLst>
                  <a:path w="570" h="953">
                    <a:moveTo>
                      <a:pt x="443" y="29"/>
                    </a:moveTo>
                    <a:lnTo>
                      <a:pt x="440" y="26"/>
                    </a:lnTo>
                    <a:lnTo>
                      <a:pt x="432" y="19"/>
                    </a:lnTo>
                    <a:lnTo>
                      <a:pt x="418" y="13"/>
                    </a:lnTo>
                    <a:lnTo>
                      <a:pt x="400" y="5"/>
                    </a:lnTo>
                    <a:lnTo>
                      <a:pt x="377" y="0"/>
                    </a:lnTo>
                    <a:lnTo>
                      <a:pt x="351" y="0"/>
                    </a:lnTo>
                    <a:lnTo>
                      <a:pt x="322" y="5"/>
                    </a:lnTo>
                    <a:lnTo>
                      <a:pt x="289" y="19"/>
                    </a:lnTo>
                    <a:lnTo>
                      <a:pt x="258" y="35"/>
                    </a:lnTo>
                    <a:lnTo>
                      <a:pt x="233" y="44"/>
                    </a:lnTo>
                    <a:lnTo>
                      <a:pt x="210" y="48"/>
                    </a:lnTo>
                    <a:lnTo>
                      <a:pt x="191" y="51"/>
                    </a:lnTo>
                    <a:lnTo>
                      <a:pt x="175" y="52"/>
                    </a:lnTo>
                    <a:lnTo>
                      <a:pt x="160" y="56"/>
                    </a:lnTo>
                    <a:lnTo>
                      <a:pt x="146" y="65"/>
                    </a:lnTo>
                    <a:lnTo>
                      <a:pt x="132" y="80"/>
                    </a:lnTo>
                    <a:lnTo>
                      <a:pt x="104" y="126"/>
                    </a:lnTo>
                    <a:lnTo>
                      <a:pt x="81" y="180"/>
                    </a:lnTo>
                    <a:lnTo>
                      <a:pt x="63" y="241"/>
                    </a:lnTo>
                    <a:lnTo>
                      <a:pt x="47" y="304"/>
                    </a:lnTo>
                    <a:lnTo>
                      <a:pt x="36" y="366"/>
                    </a:lnTo>
                    <a:lnTo>
                      <a:pt x="26" y="425"/>
                    </a:lnTo>
                    <a:lnTo>
                      <a:pt x="17" y="479"/>
                    </a:lnTo>
                    <a:lnTo>
                      <a:pt x="8" y="524"/>
                    </a:lnTo>
                    <a:lnTo>
                      <a:pt x="2" y="569"/>
                    </a:lnTo>
                    <a:lnTo>
                      <a:pt x="0" y="623"/>
                    </a:lnTo>
                    <a:lnTo>
                      <a:pt x="2" y="679"/>
                    </a:lnTo>
                    <a:lnTo>
                      <a:pt x="8" y="736"/>
                    </a:lnTo>
                    <a:lnTo>
                      <a:pt x="18" y="788"/>
                    </a:lnTo>
                    <a:lnTo>
                      <a:pt x="34" y="832"/>
                    </a:lnTo>
                    <a:lnTo>
                      <a:pt x="54" y="864"/>
                    </a:lnTo>
                    <a:lnTo>
                      <a:pt x="79" y="878"/>
                    </a:lnTo>
                    <a:lnTo>
                      <a:pt x="104" y="885"/>
                    </a:lnTo>
                    <a:lnTo>
                      <a:pt x="127" y="893"/>
                    </a:lnTo>
                    <a:lnTo>
                      <a:pt x="146" y="904"/>
                    </a:lnTo>
                    <a:lnTo>
                      <a:pt x="165" y="915"/>
                    </a:lnTo>
                    <a:lnTo>
                      <a:pt x="181" y="927"/>
                    </a:lnTo>
                    <a:lnTo>
                      <a:pt x="197" y="937"/>
                    </a:lnTo>
                    <a:lnTo>
                      <a:pt x="212" y="947"/>
                    </a:lnTo>
                    <a:lnTo>
                      <a:pt x="229" y="952"/>
                    </a:lnTo>
                    <a:lnTo>
                      <a:pt x="238" y="953"/>
                    </a:lnTo>
                    <a:lnTo>
                      <a:pt x="249" y="953"/>
                    </a:lnTo>
                    <a:lnTo>
                      <a:pt x="260" y="950"/>
                    </a:lnTo>
                    <a:lnTo>
                      <a:pt x="274" y="947"/>
                    </a:lnTo>
                    <a:lnTo>
                      <a:pt x="288" y="940"/>
                    </a:lnTo>
                    <a:lnTo>
                      <a:pt x="303" y="933"/>
                    </a:lnTo>
                    <a:lnTo>
                      <a:pt x="320" y="924"/>
                    </a:lnTo>
                    <a:lnTo>
                      <a:pt x="336" y="914"/>
                    </a:lnTo>
                    <a:lnTo>
                      <a:pt x="354" y="902"/>
                    </a:lnTo>
                    <a:lnTo>
                      <a:pt x="370" y="887"/>
                    </a:lnTo>
                    <a:lnTo>
                      <a:pt x="388" y="873"/>
                    </a:lnTo>
                    <a:lnTo>
                      <a:pt x="405" y="857"/>
                    </a:lnTo>
                    <a:lnTo>
                      <a:pt x="423" y="840"/>
                    </a:lnTo>
                    <a:lnTo>
                      <a:pt x="440" y="820"/>
                    </a:lnTo>
                    <a:lnTo>
                      <a:pt x="457" y="800"/>
                    </a:lnTo>
                    <a:lnTo>
                      <a:pt x="473" y="779"/>
                    </a:lnTo>
                    <a:lnTo>
                      <a:pt x="511" y="711"/>
                    </a:lnTo>
                    <a:lnTo>
                      <a:pt x="541" y="623"/>
                    </a:lnTo>
                    <a:lnTo>
                      <a:pt x="561" y="520"/>
                    </a:lnTo>
                    <a:lnTo>
                      <a:pt x="570" y="411"/>
                    </a:lnTo>
                    <a:lnTo>
                      <a:pt x="564" y="300"/>
                    </a:lnTo>
                    <a:lnTo>
                      <a:pt x="543" y="195"/>
                    </a:lnTo>
                    <a:lnTo>
                      <a:pt x="502" y="102"/>
                    </a:lnTo>
                    <a:lnTo>
                      <a:pt x="443" y="29"/>
                    </a:lnTo>
                    <a:close/>
                  </a:path>
                </a:pathLst>
              </a:custGeom>
              <a:solidFill>
                <a:srgbClr val="ff72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164"/>
              <p:cNvSpPr/>
              <p:nvPr/>
            </p:nvSpPr>
            <p:spPr>
              <a:xfrm>
                <a:off x="5838840" y="640440"/>
                <a:ext cx="225000" cy="199080"/>
              </a:xfrm>
              <a:custGeom>
                <a:avLst/>
                <a:gdLst/>
                <a:ahLst/>
                <a:rect l="l" t="t" r="r" b="b"/>
                <a:pathLst>
                  <a:path w="297" h="507">
                    <a:moveTo>
                      <a:pt x="231" y="15"/>
                    </a:moveTo>
                    <a:lnTo>
                      <a:pt x="229" y="14"/>
                    </a:lnTo>
                    <a:lnTo>
                      <a:pt x="224" y="11"/>
                    </a:lnTo>
                    <a:lnTo>
                      <a:pt x="218" y="7"/>
                    </a:lnTo>
                    <a:lnTo>
                      <a:pt x="208" y="3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68" y="3"/>
                    </a:lnTo>
                    <a:lnTo>
                      <a:pt x="151" y="11"/>
                    </a:lnTo>
                    <a:lnTo>
                      <a:pt x="136" y="19"/>
                    </a:lnTo>
                    <a:lnTo>
                      <a:pt x="122" y="24"/>
                    </a:lnTo>
                    <a:lnTo>
                      <a:pt x="111" y="27"/>
                    </a:lnTo>
                    <a:lnTo>
                      <a:pt x="102" y="28"/>
                    </a:lnTo>
                    <a:lnTo>
                      <a:pt x="93" y="29"/>
                    </a:lnTo>
                    <a:lnTo>
                      <a:pt x="86" y="31"/>
                    </a:lnTo>
                    <a:lnTo>
                      <a:pt x="78" y="35"/>
                    </a:lnTo>
                    <a:lnTo>
                      <a:pt x="71" y="43"/>
                    </a:lnTo>
                    <a:lnTo>
                      <a:pt x="57" y="66"/>
                    </a:lnTo>
                    <a:lnTo>
                      <a:pt x="44" y="95"/>
                    </a:lnTo>
                    <a:lnTo>
                      <a:pt x="35" y="127"/>
                    </a:lnTo>
                    <a:lnTo>
                      <a:pt x="26" y="158"/>
                    </a:lnTo>
                    <a:lnTo>
                      <a:pt x="20" y="191"/>
                    </a:lnTo>
                    <a:lnTo>
                      <a:pt x="15" y="223"/>
                    </a:lnTo>
                    <a:lnTo>
                      <a:pt x="10" y="252"/>
                    </a:lnTo>
                    <a:lnTo>
                      <a:pt x="5" y="276"/>
                    </a:lnTo>
                    <a:lnTo>
                      <a:pt x="1" y="299"/>
                    </a:lnTo>
                    <a:lnTo>
                      <a:pt x="0" y="328"/>
                    </a:lnTo>
                    <a:lnTo>
                      <a:pt x="1" y="359"/>
                    </a:lnTo>
                    <a:lnTo>
                      <a:pt x="4" y="389"/>
                    </a:lnTo>
                    <a:lnTo>
                      <a:pt x="9" y="418"/>
                    </a:lnTo>
                    <a:lnTo>
                      <a:pt x="16" y="442"/>
                    </a:lnTo>
                    <a:lnTo>
                      <a:pt x="26" y="459"/>
                    </a:lnTo>
                    <a:lnTo>
                      <a:pt x="39" y="467"/>
                    </a:lnTo>
                    <a:lnTo>
                      <a:pt x="53" y="471"/>
                    </a:lnTo>
                    <a:lnTo>
                      <a:pt x="64" y="475"/>
                    </a:lnTo>
                    <a:lnTo>
                      <a:pt x="76" y="481"/>
                    </a:lnTo>
                    <a:lnTo>
                      <a:pt x="84" y="486"/>
                    </a:lnTo>
                    <a:lnTo>
                      <a:pt x="93" y="493"/>
                    </a:lnTo>
                    <a:lnTo>
                      <a:pt x="102" y="500"/>
                    </a:lnTo>
                    <a:lnTo>
                      <a:pt x="110" y="503"/>
                    </a:lnTo>
                    <a:lnTo>
                      <a:pt x="118" y="507"/>
                    </a:lnTo>
                    <a:lnTo>
                      <a:pt x="128" y="507"/>
                    </a:lnTo>
                    <a:lnTo>
                      <a:pt x="142" y="503"/>
                    </a:lnTo>
                    <a:lnTo>
                      <a:pt x="157" y="497"/>
                    </a:lnTo>
                    <a:lnTo>
                      <a:pt x="175" y="485"/>
                    </a:lnTo>
                    <a:lnTo>
                      <a:pt x="194" y="472"/>
                    </a:lnTo>
                    <a:lnTo>
                      <a:pt x="212" y="455"/>
                    </a:lnTo>
                    <a:lnTo>
                      <a:pt x="231" y="435"/>
                    </a:lnTo>
                    <a:lnTo>
                      <a:pt x="248" y="413"/>
                    </a:lnTo>
                    <a:lnTo>
                      <a:pt x="268" y="376"/>
                    </a:lnTo>
                    <a:lnTo>
                      <a:pt x="283" y="328"/>
                    </a:lnTo>
                    <a:lnTo>
                      <a:pt x="294" y="274"/>
                    </a:lnTo>
                    <a:lnTo>
                      <a:pt x="297" y="215"/>
                    </a:lnTo>
                    <a:lnTo>
                      <a:pt x="294" y="157"/>
                    </a:lnTo>
                    <a:lnTo>
                      <a:pt x="282" y="102"/>
                    </a:lnTo>
                    <a:lnTo>
                      <a:pt x="262" y="53"/>
                    </a:lnTo>
                    <a:lnTo>
                      <a:pt x="231" y="15"/>
                    </a:lnTo>
                    <a:close/>
                  </a:path>
                </a:pathLst>
              </a:custGeom>
              <a:solidFill>
                <a:srgbClr val="ffa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Freeform 165"/>
              <p:cNvSpPr/>
              <p:nvPr/>
            </p:nvSpPr>
            <p:spPr>
              <a:xfrm>
                <a:off x="5497920" y="416520"/>
                <a:ext cx="306360" cy="54000"/>
              </a:xfrm>
              <a:custGeom>
                <a:avLst/>
                <a:gdLst/>
                <a:ahLst/>
                <a:rect l="l" t="t" r="r" b="b"/>
                <a:pathLst>
                  <a:path w="406" h="150">
                    <a:moveTo>
                      <a:pt x="29" y="82"/>
                    </a:moveTo>
                    <a:lnTo>
                      <a:pt x="29" y="75"/>
                    </a:lnTo>
                    <a:lnTo>
                      <a:pt x="27" y="61"/>
                    </a:lnTo>
                    <a:lnTo>
                      <a:pt x="23" y="44"/>
                    </a:lnTo>
                    <a:lnTo>
                      <a:pt x="14" y="29"/>
                    </a:lnTo>
                    <a:lnTo>
                      <a:pt x="5" y="17"/>
                    </a:lnTo>
                    <a:lnTo>
                      <a:pt x="0" y="8"/>
                    </a:lnTo>
                    <a:lnTo>
                      <a:pt x="3" y="1"/>
                    </a:lnTo>
                    <a:lnTo>
                      <a:pt x="14" y="0"/>
                    </a:lnTo>
                    <a:lnTo>
                      <a:pt x="25" y="1"/>
                    </a:lnTo>
                    <a:lnTo>
                      <a:pt x="41" y="4"/>
                    </a:lnTo>
                    <a:lnTo>
                      <a:pt x="58" y="7"/>
                    </a:lnTo>
                    <a:lnTo>
                      <a:pt x="77" y="9"/>
                    </a:lnTo>
                    <a:lnTo>
                      <a:pt x="96" y="13"/>
                    </a:lnTo>
                    <a:lnTo>
                      <a:pt x="114" y="17"/>
                    </a:lnTo>
                    <a:lnTo>
                      <a:pt x="130" y="20"/>
                    </a:lnTo>
                    <a:lnTo>
                      <a:pt x="144" y="22"/>
                    </a:lnTo>
                    <a:lnTo>
                      <a:pt x="158" y="24"/>
                    </a:lnTo>
                    <a:lnTo>
                      <a:pt x="174" y="24"/>
                    </a:lnTo>
                    <a:lnTo>
                      <a:pt x="193" y="24"/>
                    </a:lnTo>
                    <a:lnTo>
                      <a:pt x="214" y="22"/>
                    </a:lnTo>
                    <a:lnTo>
                      <a:pt x="235" y="21"/>
                    </a:lnTo>
                    <a:lnTo>
                      <a:pt x="253" y="19"/>
                    </a:lnTo>
                    <a:lnTo>
                      <a:pt x="270" y="16"/>
                    </a:lnTo>
                    <a:lnTo>
                      <a:pt x="284" y="13"/>
                    </a:lnTo>
                    <a:lnTo>
                      <a:pt x="295" y="11"/>
                    </a:lnTo>
                    <a:lnTo>
                      <a:pt x="308" y="8"/>
                    </a:lnTo>
                    <a:lnTo>
                      <a:pt x="319" y="5"/>
                    </a:lnTo>
                    <a:lnTo>
                      <a:pt x="332" y="3"/>
                    </a:lnTo>
                    <a:lnTo>
                      <a:pt x="343" y="3"/>
                    </a:lnTo>
                    <a:lnTo>
                      <a:pt x="355" y="3"/>
                    </a:lnTo>
                    <a:lnTo>
                      <a:pt x="368" y="4"/>
                    </a:lnTo>
                    <a:lnTo>
                      <a:pt x="381" y="8"/>
                    </a:lnTo>
                    <a:lnTo>
                      <a:pt x="400" y="20"/>
                    </a:lnTo>
                    <a:lnTo>
                      <a:pt x="406" y="37"/>
                    </a:lnTo>
                    <a:lnTo>
                      <a:pt x="401" y="53"/>
                    </a:lnTo>
                    <a:lnTo>
                      <a:pt x="387" y="66"/>
                    </a:lnTo>
                    <a:lnTo>
                      <a:pt x="377" y="71"/>
                    </a:lnTo>
                    <a:lnTo>
                      <a:pt x="364" y="76"/>
                    </a:lnTo>
                    <a:lnTo>
                      <a:pt x="352" y="83"/>
                    </a:lnTo>
                    <a:lnTo>
                      <a:pt x="339" y="90"/>
                    </a:lnTo>
                    <a:lnTo>
                      <a:pt x="328" y="96"/>
                    </a:lnTo>
                    <a:lnTo>
                      <a:pt x="319" y="102"/>
                    </a:lnTo>
                    <a:lnTo>
                      <a:pt x="313" y="104"/>
                    </a:lnTo>
                    <a:lnTo>
                      <a:pt x="310" y="105"/>
                    </a:lnTo>
                    <a:lnTo>
                      <a:pt x="250" y="129"/>
                    </a:lnTo>
                    <a:lnTo>
                      <a:pt x="245" y="130"/>
                    </a:lnTo>
                    <a:lnTo>
                      <a:pt x="233" y="132"/>
                    </a:lnTo>
                    <a:lnTo>
                      <a:pt x="216" y="136"/>
                    </a:lnTo>
                    <a:lnTo>
                      <a:pt x="195" y="140"/>
                    </a:lnTo>
                    <a:lnTo>
                      <a:pt x="175" y="144"/>
                    </a:lnTo>
                    <a:lnTo>
                      <a:pt x="156" y="146"/>
                    </a:lnTo>
                    <a:lnTo>
                      <a:pt x="143" y="149"/>
                    </a:lnTo>
                    <a:lnTo>
                      <a:pt x="136" y="150"/>
                    </a:lnTo>
                    <a:lnTo>
                      <a:pt x="133" y="149"/>
                    </a:lnTo>
                    <a:lnTo>
                      <a:pt x="125" y="146"/>
                    </a:lnTo>
                    <a:lnTo>
                      <a:pt x="114" y="141"/>
                    </a:lnTo>
                    <a:lnTo>
                      <a:pt x="101" y="133"/>
                    </a:lnTo>
                    <a:lnTo>
                      <a:pt x="85" y="123"/>
                    </a:lnTo>
                    <a:lnTo>
                      <a:pt x="68" y="111"/>
                    </a:lnTo>
                    <a:lnTo>
                      <a:pt x="49" y="98"/>
                    </a:lnTo>
                    <a:lnTo>
                      <a:pt x="29" y="82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Freeform 166"/>
              <p:cNvSpPr/>
              <p:nvPr/>
            </p:nvSpPr>
            <p:spPr>
              <a:xfrm>
                <a:off x="4832280" y="465840"/>
                <a:ext cx="395280" cy="704880"/>
              </a:xfrm>
              <a:custGeom>
                <a:avLst/>
                <a:gdLst/>
                <a:ahLst/>
                <a:rect l="l" t="t" r="r" b="b"/>
                <a:pathLst>
                  <a:path w="521" h="1794">
                    <a:moveTo>
                      <a:pt x="221" y="0"/>
                    </a:moveTo>
                    <a:lnTo>
                      <a:pt x="217" y="4"/>
                    </a:lnTo>
                    <a:lnTo>
                      <a:pt x="204" y="14"/>
                    </a:lnTo>
                    <a:lnTo>
                      <a:pt x="187" y="33"/>
                    </a:lnTo>
                    <a:lnTo>
                      <a:pt x="164" y="58"/>
                    </a:lnTo>
                    <a:lnTo>
                      <a:pt x="139" y="92"/>
                    </a:lnTo>
                    <a:lnTo>
                      <a:pt x="113" y="134"/>
                    </a:lnTo>
                    <a:lnTo>
                      <a:pt x="85" y="184"/>
                    </a:lnTo>
                    <a:lnTo>
                      <a:pt x="60" y="244"/>
                    </a:lnTo>
                    <a:lnTo>
                      <a:pt x="37" y="312"/>
                    </a:lnTo>
                    <a:lnTo>
                      <a:pt x="18" y="388"/>
                    </a:lnTo>
                    <a:lnTo>
                      <a:pt x="5" y="475"/>
                    </a:lnTo>
                    <a:lnTo>
                      <a:pt x="0" y="570"/>
                    </a:lnTo>
                    <a:lnTo>
                      <a:pt x="4" y="676"/>
                    </a:lnTo>
                    <a:lnTo>
                      <a:pt x="19" y="791"/>
                    </a:lnTo>
                    <a:lnTo>
                      <a:pt x="46" y="918"/>
                    </a:lnTo>
                    <a:lnTo>
                      <a:pt x="85" y="1053"/>
                    </a:lnTo>
                    <a:lnTo>
                      <a:pt x="89" y="1060"/>
                    </a:lnTo>
                    <a:lnTo>
                      <a:pt x="100" y="1080"/>
                    </a:lnTo>
                    <a:lnTo>
                      <a:pt x="116" y="1111"/>
                    </a:lnTo>
                    <a:lnTo>
                      <a:pt x="139" y="1152"/>
                    </a:lnTo>
                    <a:lnTo>
                      <a:pt x="165" y="1201"/>
                    </a:lnTo>
                    <a:lnTo>
                      <a:pt x="196" y="1256"/>
                    </a:lnTo>
                    <a:lnTo>
                      <a:pt x="230" y="1317"/>
                    </a:lnTo>
                    <a:lnTo>
                      <a:pt x="265" y="1380"/>
                    </a:lnTo>
                    <a:lnTo>
                      <a:pt x="301" y="1443"/>
                    </a:lnTo>
                    <a:lnTo>
                      <a:pt x="338" y="1508"/>
                    </a:lnTo>
                    <a:lnTo>
                      <a:pt x="375" y="1570"/>
                    </a:lnTo>
                    <a:lnTo>
                      <a:pt x="410" y="1629"/>
                    </a:lnTo>
                    <a:lnTo>
                      <a:pt x="443" y="1682"/>
                    </a:lnTo>
                    <a:lnTo>
                      <a:pt x="473" y="1728"/>
                    </a:lnTo>
                    <a:lnTo>
                      <a:pt x="499" y="1766"/>
                    </a:lnTo>
                    <a:lnTo>
                      <a:pt x="521" y="1794"/>
                    </a:lnTo>
                    <a:lnTo>
                      <a:pt x="517" y="1787"/>
                    </a:lnTo>
                    <a:lnTo>
                      <a:pt x="507" y="1769"/>
                    </a:lnTo>
                    <a:lnTo>
                      <a:pt x="492" y="1740"/>
                    </a:lnTo>
                    <a:lnTo>
                      <a:pt x="472" y="1703"/>
                    </a:lnTo>
                    <a:lnTo>
                      <a:pt x="448" y="1657"/>
                    </a:lnTo>
                    <a:lnTo>
                      <a:pt x="419" y="1605"/>
                    </a:lnTo>
                    <a:lnTo>
                      <a:pt x="388" y="1549"/>
                    </a:lnTo>
                    <a:lnTo>
                      <a:pt x="357" y="1488"/>
                    </a:lnTo>
                    <a:lnTo>
                      <a:pt x="323" y="1426"/>
                    </a:lnTo>
                    <a:lnTo>
                      <a:pt x="289" y="1363"/>
                    </a:lnTo>
                    <a:lnTo>
                      <a:pt x="255" y="1301"/>
                    </a:lnTo>
                    <a:lnTo>
                      <a:pt x="223" y="1241"/>
                    </a:lnTo>
                    <a:lnTo>
                      <a:pt x="193" y="1184"/>
                    </a:lnTo>
                    <a:lnTo>
                      <a:pt x="164" y="1131"/>
                    </a:lnTo>
                    <a:lnTo>
                      <a:pt x="140" y="1085"/>
                    </a:lnTo>
                    <a:lnTo>
                      <a:pt x="120" y="1047"/>
                    </a:lnTo>
                    <a:lnTo>
                      <a:pt x="118" y="1040"/>
                    </a:lnTo>
                    <a:lnTo>
                      <a:pt x="111" y="1021"/>
                    </a:lnTo>
                    <a:lnTo>
                      <a:pt x="101" y="989"/>
                    </a:lnTo>
                    <a:lnTo>
                      <a:pt x="90" y="945"/>
                    </a:lnTo>
                    <a:lnTo>
                      <a:pt x="77" y="894"/>
                    </a:lnTo>
                    <a:lnTo>
                      <a:pt x="66" y="834"/>
                    </a:lnTo>
                    <a:lnTo>
                      <a:pt x="56" y="765"/>
                    </a:lnTo>
                    <a:lnTo>
                      <a:pt x="48" y="691"/>
                    </a:lnTo>
                    <a:lnTo>
                      <a:pt x="43" y="611"/>
                    </a:lnTo>
                    <a:lnTo>
                      <a:pt x="44" y="528"/>
                    </a:lnTo>
                    <a:lnTo>
                      <a:pt x="52" y="441"/>
                    </a:lnTo>
                    <a:lnTo>
                      <a:pt x="67" y="352"/>
                    </a:lnTo>
                    <a:lnTo>
                      <a:pt x="90" y="262"/>
                    </a:lnTo>
                    <a:lnTo>
                      <a:pt x="123" y="172"/>
                    </a:lnTo>
                    <a:lnTo>
                      <a:pt x="165" y="85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167"/>
              <p:cNvSpPr/>
              <p:nvPr/>
            </p:nvSpPr>
            <p:spPr>
              <a:xfrm>
                <a:off x="5443560" y="447120"/>
                <a:ext cx="263520" cy="46800"/>
              </a:xfrm>
              <a:custGeom>
                <a:avLst/>
                <a:gdLst/>
                <a:ahLst/>
                <a:rect l="l" t="t" r="r" b="b"/>
                <a:pathLst>
                  <a:path w="350" h="120">
                    <a:moveTo>
                      <a:pt x="0" y="0"/>
                    </a:moveTo>
                    <a:lnTo>
                      <a:pt x="5" y="4"/>
                    </a:lnTo>
                    <a:lnTo>
                      <a:pt x="16" y="16"/>
                    </a:lnTo>
                    <a:lnTo>
                      <a:pt x="35" y="32"/>
                    </a:lnTo>
                    <a:lnTo>
                      <a:pt x="59" y="50"/>
                    </a:lnTo>
                    <a:lnTo>
                      <a:pt x="85" y="69"/>
                    </a:lnTo>
                    <a:lnTo>
                      <a:pt x="113" y="87"/>
                    </a:lnTo>
                    <a:lnTo>
                      <a:pt x="141" y="102"/>
                    </a:lnTo>
                    <a:lnTo>
                      <a:pt x="166" y="110"/>
                    </a:lnTo>
                    <a:lnTo>
                      <a:pt x="190" y="115"/>
                    </a:lnTo>
                    <a:lnTo>
                      <a:pt x="215" y="118"/>
                    </a:lnTo>
                    <a:lnTo>
                      <a:pt x="240" y="120"/>
                    </a:lnTo>
                    <a:lnTo>
                      <a:pt x="264" y="119"/>
                    </a:lnTo>
                    <a:lnTo>
                      <a:pt x="287" y="116"/>
                    </a:lnTo>
                    <a:lnTo>
                      <a:pt x="306" y="111"/>
                    </a:lnTo>
                    <a:lnTo>
                      <a:pt x="321" y="102"/>
                    </a:lnTo>
                    <a:lnTo>
                      <a:pt x="331" y="90"/>
                    </a:lnTo>
                    <a:lnTo>
                      <a:pt x="350" y="61"/>
                    </a:lnTo>
                    <a:lnTo>
                      <a:pt x="345" y="62"/>
                    </a:lnTo>
                    <a:lnTo>
                      <a:pt x="331" y="68"/>
                    </a:lnTo>
                    <a:lnTo>
                      <a:pt x="311" y="73"/>
                    </a:lnTo>
                    <a:lnTo>
                      <a:pt x="286" y="78"/>
                    </a:lnTo>
                    <a:lnTo>
                      <a:pt x="255" y="82"/>
                    </a:lnTo>
                    <a:lnTo>
                      <a:pt x="225" y="83"/>
                    </a:lnTo>
                    <a:lnTo>
                      <a:pt x="195" y="79"/>
                    </a:lnTo>
                    <a:lnTo>
                      <a:pt x="167" y="70"/>
                    </a:lnTo>
                    <a:lnTo>
                      <a:pt x="163" y="68"/>
                    </a:lnTo>
                    <a:lnTo>
                      <a:pt x="153" y="60"/>
                    </a:lnTo>
                    <a:lnTo>
                      <a:pt x="137" y="49"/>
                    </a:lnTo>
                    <a:lnTo>
                      <a:pt x="116" y="37"/>
                    </a:lnTo>
                    <a:lnTo>
                      <a:pt x="90" y="25"/>
                    </a:lnTo>
                    <a:lnTo>
                      <a:pt x="61" y="14"/>
                    </a:lnTo>
                    <a:lnTo>
                      <a:pt x="3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168"/>
              <p:cNvSpPr/>
              <p:nvPr/>
            </p:nvSpPr>
            <p:spPr>
              <a:xfrm>
                <a:off x="4950000" y="520200"/>
                <a:ext cx="213840" cy="360720"/>
              </a:xfrm>
              <a:custGeom>
                <a:avLst/>
                <a:gdLst/>
                <a:ahLst/>
                <a:rect l="l" t="t" r="r" b="b"/>
                <a:pathLst>
                  <a:path w="281" h="918">
                    <a:moveTo>
                      <a:pt x="232" y="13"/>
                    </a:moveTo>
                    <a:lnTo>
                      <a:pt x="227" y="14"/>
                    </a:lnTo>
                    <a:lnTo>
                      <a:pt x="215" y="21"/>
                    </a:lnTo>
                    <a:lnTo>
                      <a:pt x="196" y="31"/>
                    </a:lnTo>
                    <a:lnTo>
                      <a:pt x="173" y="47"/>
                    </a:lnTo>
                    <a:lnTo>
                      <a:pt x="145" y="71"/>
                    </a:lnTo>
                    <a:lnTo>
                      <a:pt x="116" y="101"/>
                    </a:lnTo>
                    <a:lnTo>
                      <a:pt x="87" y="141"/>
                    </a:lnTo>
                    <a:lnTo>
                      <a:pt x="60" y="189"/>
                    </a:lnTo>
                    <a:lnTo>
                      <a:pt x="39" y="236"/>
                    </a:lnTo>
                    <a:lnTo>
                      <a:pt x="22" y="290"/>
                    </a:lnTo>
                    <a:lnTo>
                      <a:pt x="8" y="355"/>
                    </a:lnTo>
                    <a:lnTo>
                      <a:pt x="0" y="431"/>
                    </a:lnTo>
                    <a:lnTo>
                      <a:pt x="0" y="520"/>
                    </a:lnTo>
                    <a:lnTo>
                      <a:pt x="12" y="621"/>
                    </a:lnTo>
                    <a:lnTo>
                      <a:pt x="33" y="737"/>
                    </a:lnTo>
                    <a:lnTo>
                      <a:pt x="70" y="869"/>
                    </a:lnTo>
                    <a:lnTo>
                      <a:pt x="73" y="874"/>
                    </a:lnTo>
                    <a:lnTo>
                      <a:pt x="82" y="885"/>
                    </a:lnTo>
                    <a:lnTo>
                      <a:pt x="95" y="899"/>
                    </a:lnTo>
                    <a:lnTo>
                      <a:pt x="109" y="911"/>
                    </a:lnTo>
                    <a:lnTo>
                      <a:pt x="121" y="918"/>
                    </a:lnTo>
                    <a:lnTo>
                      <a:pt x="131" y="915"/>
                    </a:lnTo>
                    <a:lnTo>
                      <a:pt x="135" y="898"/>
                    </a:lnTo>
                    <a:lnTo>
                      <a:pt x="131" y="862"/>
                    </a:lnTo>
                    <a:lnTo>
                      <a:pt x="126" y="848"/>
                    </a:lnTo>
                    <a:lnTo>
                      <a:pt x="114" y="808"/>
                    </a:lnTo>
                    <a:lnTo>
                      <a:pt x="97" y="748"/>
                    </a:lnTo>
                    <a:lnTo>
                      <a:pt x="84" y="666"/>
                    </a:lnTo>
                    <a:lnTo>
                      <a:pt x="75" y="571"/>
                    </a:lnTo>
                    <a:lnTo>
                      <a:pt x="78" y="462"/>
                    </a:lnTo>
                    <a:lnTo>
                      <a:pt x="96" y="345"/>
                    </a:lnTo>
                    <a:lnTo>
                      <a:pt x="135" y="222"/>
                    </a:lnTo>
                    <a:lnTo>
                      <a:pt x="136" y="218"/>
                    </a:lnTo>
                    <a:lnTo>
                      <a:pt x="143" y="207"/>
                    </a:lnTo>
                    <a:lnTo>
                      <a:pt x="152" y="188"/>
                    </a:lnTo>
                    <a:lnTo>
                      <a:pt x="167" y="166"/>
                    </a:lnTo>
                    <a:lnTo>
                      <a:pt x="186" y="139"/>
                    </a:lnTo>
                    <a:lnTo>
                      <a:pt x="211" y="112"/>
                    </a:lnTo>
                    <a:lnTo>
                      <a:pt x="242" y="83"/>
                    </a:lnTo>
                    <a:lnTo>
                      <a:pt x="280" y="54"/>
                    </a:lnTo>
                    <a:lnTo>
                      <a:pt x="280" y="50"/>
                    </a:lnTo>
                    <a:lnTo>
                      <a:pt x="281" y="41"/>
                    </a:lnTo>
                    <a:lnTo>
                      <a:pt x="281" y="29"/>
                    </a:lnTo>
                    <a:lnTo>
                      <a:pt x="280" y="16"/>
                    </a:lnTo>
                    <a:lnTo>
                      <a:pt x="275" y="5"/>
                    </a:lnTo>
                    <a:lnTo>
                      <a:pt x="266" y="0"/>
                    </a:lnTo>
                    <a:lnTo>
                      <a:pt x="252" y="1"/>
                    </a:lnTo>
                    <a:lnTo>
                      <a:pt x="232" y="13"/>
                    </a:lnTo>
                    <a:close/>
                  </a:path>
                </a:pathLst>
              </a:custGeom>
              <a:solidFill>
                <a:srgbClr val="91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169"/>
              <p:cNvSpPr/>
              <p:nvPr/>
            </p:nvSpPr>
            <p:spPr>
              <a:xfrm>
                <a:off x="5400000" y="1191240"/>
                <a:ext cx="286200" cy="33120"/>
              </a:xfrm>
              <a:custGeom>
                <a:avLst/>
                <a:gdLst/>
                <a:ahLst/>
                <a:rect l="l" t="t" r="r" b="b"/>
                <a:pathLst>
                  <a:path w="379" h="95">
                    <a:moveTo>
                      <a:pt x="0" y="71"/>
                    </a:moveTo>
                    <a:lnTo>
                      <a:pt x="4" y="70"/>
                    </a:lnTo>
                    <a:lnTo>
                      <a:pt x="15" y="66"/>
                    </a:lnTo>
                    <a:lnTo>
                      <a:pt x="31" y="60"/>
                    </a:lnTo>
                    <a:lnTo>
                      <a:pt x="51" y="54"/>
                    </a:lnTo>
                    <a:lnTo>
                      <a:pt x="73" y="46"/>
                    </a:lnTo>
                    <a:lnTo>
                      <a:pt x="94" y="37"/>
                    </a:lnTo>
                    <a:lnTo>
                      <a:pt x="113" y="29"/>
                    </a:lnTo>
                    <a:lnTo>
                      <a:pt x="128" y="19"/>
                    </a:lnTo>
                    <a:lnTo>
                      <a:pt x="142" y="12"/>
                    </a:lnTo>
                    <a:lnTo>
                      <a:pt x="157" y="5"/>
                    </a:lnTo>
                    <a:lnTo>
                      <a:pt x="175" y="1"/>
                    </a:lnTo>
                    <a:lnTo>
                      <a:pt x="195" y="0"/>
                    </a:lnTo>
                    <a:lnTo>
                      <a:pt x="218" y="2"/>
                    </a:lnTo>
                    <a:lnTo>
                      <a:pt x="243" y="9"/>
                    </a:lnTo>
                    <a:lnTo>
                      <a:pt x="272" y="19"/>
                    </a:lnTo>
                    <a:lnTo>
                      <a:pt x="302" y="37"/>
                    </a:lnTo>
                    <a:lnTo>
                      <a:pt x="379" y="95"/>
                    </a:lnTo>
                    <a:lnTo>
                      <a:pt x="376" y="95"/>
                    </a:lnTo>
                    <a:lnTo>
                      <a:pt x="368" y="95"/>
                    </a:lnTo>
                    <a:lnTo>
                      <a:pt x="355" y="93"/>
                    </a:lnTo>
                    <a:lnTo>
                      <a:pt x="340" y="92"/>
                    </a:lnTo>
                    <a:lnTo>
                      <a:pt x="323" y="89"/>
                    </a:lnTo>
                    <a:lnTo>
                      <a:pt x="306" y="85"/>
                    </a:lnTo>
                    <a:lnTo>
                      <a:pt x="291" y="80"/>
                    </a:lnTo>
                    <a:lnTo>
                      <a:pt x="277" y="72"/>
                    </a:lnTo>
                    <a:lnTo>
                      <a:pt x="273" y="70"/>
                    </a:lnTo>
                    <a:lnTo>
                      <a:pt x="262" y="66"/>
                    </a:lnTo>
                    <a:lnTo>
                      <a:pt x="244" y="59"/>
                    </a:lnTo>
                    <a:lnTo>
                      <a:pt x="220" y="52"/>
                    </a:lnTo>
                    <a:lnTo>
                      <a:pt x="191" y="50"/>
                    </a:lnTo>
                    <a:lnTo>
                      <a:pt x="158" y="51"/>
                    </a:lnTo>
                    <a:lnTo>
                      <a:pt x="121" y="58"/>
                    </a:lnTo>
                    <a:lnTo>
                      <a:pt x="79" y="72"/>
                    </a:lnTo>
                    <a:lnTo>
                      <a:pt x="78" y="73"/>
                    </a:lnTo>
                    <a:lnTo>
                      <a:pt x="73" y="75"/>
                    </a:lnTo>
                    <a:lnTo>
                      <a:pt x="65" y="77"/>
                    </a:lnTo>
                    <a:lnTo>
                      <a:pt x="55" y="80"/>
                    </a:lnTo>
                    <a:lnTo>
                      <a:pt x="43" y="81"/>
                    </a:lnTo>
                    <a:lnTo>
                      <a:pt x="29" y="80"/>
                    </a:lnTo>
                    <a:lnTo>
                      <a:pt x="15" y="77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2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170"/>
              <p:cNvSpPr/>
              <p:nvPr/>
            </p:nvSpPr>
            <p:spPr>
              <a:xfrm>
                <a:off x="5879880" y="425880"/>
                <a:ext cx="288360" cy="86040"/>
              </a:xfrm>
              <a:custGeom>
                <a:avLst/>
                <a:gdLst/>
                <a:ahLst/>
                <a:rect l="l" t="t" r="r" b="b"/>
                <a:pathLst>
                  <a:path w="382" h="221">
                    <a:moveTo>
                      <a:pt x="0" y="0"/>
                    </a:moveTo>
                    <a:lnTo>
                      <a:pt x="4" y="0"/>
                    </a:lnTo>
                    <a:lnTo>
                      <a:pt x="13" y="0"/>
                    </a:lnTo>
                    <a:lnTo>
                      <a:pt x="27" y="1"/>
                    </a:lnTo>
                    <a:lnTo>
                      <a:pt x="46" y="2"/>
                    </a:lnTo>
                    <a:lnTo>
                      <a:pt x="68" y="6"/>
                    </a:lnTo>
                    <a:lnTo>
                      <a:pt x="95" y="10"/>
                    </a:lnTo>
                    <a:lnTo>
                      <a:pt x="124" y="17"/>
                    </a:lnTo>
                    <a:lnTo>
                      <a:pt x="154" y="26"/>
                    </a:lnTo>
                    <a:lnTo>
                      <a:pt x="185" y="38"/>
                    </a:lnTo>
                    <a:lnTo>
                      <a:pt x="217" y="52"/>
                    </a:lnTo>
                    <a:lnTo>
                      <a:pt x="250" y="71"/>
                    </a:lnTo>
                    <a:lnTo>
                      <a:pt x="280" y="92"/>
                    </a:lnTo>
                    <a:lnTo>
                      <a:pt x="310" y="117"/>
                    </a:lnTo>
                    <a:lnTo>
                      <a:pt x="337" y="147"/>
                    </a:lnTo>
                    <a:lnTo>
                      <a:pt x="362" y="182"/>
                    </a:lnTo>
                    <a:lnTo>
                      <a:pt x="382" y="221"/>
                    </a:lnTo>
                    <a:lnTo>
                      <a:pt x="381" y="220"/>
                    </a:lnTo>
                    <a:lnTo>
                      <a:pt x="376" y="216"/>
                    </a:lnTo>
                    <a:lnTo>
                      <a:pt x="368" y="208"/>
                    </a:lnTo>
                    <a:lnTo>
                      <a:pt x="358" y="200"/>
                    </a:lnTo>
                    <a:lnTo>
                      <a:pt x="344" y="188"/>
                    </a:lnTo>
                    <a:lnTo>
                      <a:pt x="328" y="175"/>
                    </a:lnTo>
                    <a:lnTo>
                      <a:pt x="308" y="160"/>
                    </a:lnTo>
                    <a:lnTo>
                      <a:pt x="286" y="145"/>
                    </a:lnTo>
                    <a:lnTo>
                      <a:pt x="260" y="128"/>
                    </a:lnTo>
                    <a:lnTo>
                      <a:pt x="232" y="110"/>
                    </a:lnTo>
                    <a:lnTo>
                      <a:pt x="200" y="92"/>
                    </a:lnTo>
                    <a:lnTo>
                      <a:pt x="166" y="74"/>
                    </a:lnTo>
                    <a:lnTo>
                      <a:pt x="129" y="54"/>
                    </a:lnTo>
                    <a:lnTo>
                      <a:pt x="88" y="35"/>
                    </a:lnTo>
                    <a:lnTo>
                      <a:pt x="46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171"/>
              <p:cNvSpPr/>
              <p:nvPr/>
            </p:nvSpPr>
            <p:spPr>
              <a:xfrm>
                <a:off x="5496120" y="290160"/>
                <a:ext cx="129240" cy="198000"/>
              </a:xfrm>
              <a:custGeom>
                <a:avLst/>
                <a:gdLst/>
                <a:ahLst/>
                <a:rect l="l" t="t" r="r" b="b"/>
                <a:pathLst>
                  <a:path w="174" h="503">
                    <a:moveTo>
                      <a:pt x="115" y="481"/>
                    </a:moveTo>
                    <a:lnTo>
                      <a:pt x="113" y="468"/>
                    </a:lnTo>
                    <a:lnTo>
                      <a:pt x="108" y="432"/>
                    </a:lnTo>
                    <a:lnTo>
                      <a:pt x="101" y="381"/>
                    </a:lnTo>
                    <a:lnTo>
                      <a:pt x="89" y="318"/>
                    </a:lnTo>
                    <a:lnTo>
                      <a:pt x="73" y="249"/>
                    </a:lnTo>
                    <a:lnTo>
                      <a:pt x="53" y="182"/>
                    </a:lnTo>
                    <a:lnTo>
                      <a:pt x="29" y="120"/>
                    </a:lnTo>
                    <a:lnTo>
                      <a:pt x="0" y="72"/>
                    </a:lnTo>
                    <a:lnTo>
                      <a:pt x="1" y="68"/>
                    </a:lnTo>
                    <a:lnTo>
                      <a:pt x="4" y="58"/>
                    </a:lnTo>
                    <a:lnTo>
                      <a:pt x="9" y="46"/>
                    </a:lnTo>
                    <a:lnTo>
                      <a:pt x="16" y="32"/>
                    </a:lnTo>
                    <a:lnTo>
                      <a:pt x="25" y="18"/>
                    </a:lnTo>
                    <a:lnTo>
                      <a:pt x="38" y="7"/>
                    </a:lnTo>
                    <a:lnTo>
                      <a:pt x="52" y="0"/>
                    </a:lnTo>
                    <a:lnTo>
                      <a:pt x="68" y="2"/>
                    </a:lnTo>
                    <a:lnTo>
                      <a:pt x="113" y="27"/>
                    </a:lnTo>
                    <a:lnTo>
                      <a:pt x="117" y="40"/>
                    </a:lnTo>
                    <a:lnTo>
                      <a:pt x="126" y="75"/>
                    </a:lnTo>
                    <a:lnTo>
                      <a:pt x="137" y="128"/>
                    </a:lnTo>
                    <a:lnTo>
                      <a:pt x="150" y="194"/>
                    </a:lnTo>
                    <a:lnTo>
                      <a:pt x="162" y="266"/>
                    </a:lnTo>
                    <a:lnTo>
                      <a:pt x="171" y="340"/>
                    </a:lnTo>
                    <a:lnTo>
                      <a:pt x="174" y="411"/>
                    </a:lnTo>
                    <a:lnTo>
                      <a:pt x="170" y="473"/>
                    </a:lnTo>
                    <a:lnTo>
                      <a:pt x="169" y="476"/>
                    </a:lnTo>
                    <a:lnTo>
                      <a:pt x="166" y="482"/>
                    </a:lnTo>
                    <a:lnTo>
                      <a:pt x="161" y="490"/>
                    </a:lnTo>
                    <a:lnTo>
                      <a:pt x="156" y="498"/>
                    </a:lnTo>
                    <a:lnTo>
                      <a:pt x="147" y="503"/>
                    </a:lnTo>
                    <a:lnTo>
                      <a:pt x="139" y="503"/>
                    </a:lnTo>
                    <a:lnTo>
                      <a:pt x="127" y="497"/>
                    </a:lnTo>
                    <a:lnTo>
                      <a:pt x="115" y="481"/>
                    </a:lnTo>
                    <a:close/>
                  </a:path>
                </a:pathLst>
              </a:custGeom>
              <a:solidFill>
                <a:srgbClr val="5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172"/>
              <p:cNvSpPr/>
              <p:nvPr/>
            </p:nvSpPr>
            <p:spPr>
              <a:xfrm>
                <a:off x="5550120" y="298440"/>
                <a:ext cx="63720" cy="132840"/>
              </a:xfrm>
              <a:custGeom>
                <a:avLst/>
                <a:gdLst/>
                <a:ahLst/>
                <a:rect l="l" t="t" r="r" b="b"/>
                <a:pathLst>
                  <a:path w="84" h="339">
                    <a:moveTo>
                      <a:pt x="0" y="0"/>
                    </a:moveTo>
                    <a:lnTo>
                      <a:pt x="5" y="1"/>
                    </a:lnTo>
                    <a:lnTo>
                      <a:pt x="16" y="4"/>
                    </a:lnTo>
                    <a:lnTo>
                      <a:pt x="29" y="11"/>
                    </a:lnTo>
                    <a:lnTo>
                      <a:pt x="36" y="21"/>
                    </a:lnTo>
                    <a:lnTo>
                      <a:pt x="39" y="30"/>
                    </a:lnTo>
                    <a:lnTo>
                      <a:pt x="44" y="54"/>
                    </a:lnTo>
                    <a:lnTo>
                      <a:pt x="51" y="90"/>
                    </a:lnTo>
                    <a:lnTo>
                      <a:pt x="60" y="133"/>
                    </a:lnTo>
                    <a:lnTo>
                      <a:pt x="69" y="183"/>
                    </a:lnTo>
                    <a:lnTo>
                      <a:pt x="77" y="236"/>
                    </a:lnTo>
                    <a:lnTo>
                      <a:pt x="83" y="289"/>
                    </a:lnTo>
                    <a:lnTo>
                      <a:pt x="84" y="336"/>
                    </a:lnTo>
                    <a:lnTo>
                      <a:pt x="83" y="337"/>
                    </a:lnTo>
                    <a:lnTo>
                      <a:pt x="79" y="339"/>
                    </a:lnTo>
                    <a:lnTo>
                      <a:pt x="74" y="336"/>
                    </a:lnTo>
                    <a:lnTo>
                      <a:pt x="69" y="328"/>
                    </a:lnTo>
                    <a:lnTo>
                      <a:pt x="68" y="316"/>
                    </a:lnTo>
                    <a:lnTo>
                      <a:pt x="63" y="285"/>
                    </a:lnTo>
                    <a:lnTo>
                      <a:pt x="56" y="240"/>
                    </a:lnTo>
                    <a:lnTo>
                      <a:pt x="48" y="186"/>
                    </a:lnTo>
                    <a:lnTo>
                      <a:pt x="38" y="129"/>
                    </a:lnTo>
                    <a:lnTo>
                      <a:pt x="26" y="75"/>
                    </a:ln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28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173"/>
              <p:cNvSpPr/>
              <p:nvPr/>
            </p:nvSpPr>
            <p:spPr>
              <a:xfrm>
                <a:off x="5507280" y="313560"/>
                <a:ext cx="97200" cy="176760"/>
              </a:xfrm>
              <a:custGeom>
                <a:avLst/>
                <a:gdLst/>
                <a:ahLst/>
                <a:rect l="l" t="t" r="r" b="b"/>
                <a:pathLst>
                  <a:path w="127" h="450">
                    <a:moveTo>
                      <a:pt x="22" y="0"/>
                    </a:moveTo>
                    <a:lnTo>
                      <a:pt x="25" y="6"/>
                    </a:lnTo>
                    <a:lnTo>
                      <a:pt x="34" y="26"/>
                    </a:lnTo>
                    <a:lnTo>
                      <a:pt x="48" y="59"/>
                    </a:lnTo>
                    <a:lnTo>
                      <a:pt x="66" y="106"/>
                    </a:lnTo>
                    <a:lnTo>
                      <a:pt x="83" y="170"/>
                    </a:lnTo>
                    <a:lnTo>
                      <a:pt x="100" y="247"/>
                    </a:lnTo>
                    <a:lnTo>
                      <a:pt x="116" y="341"/>
                    </a:lnTo>
                    <a:lnTo>
                      <a:pt x="127" y="450"/>
                    </a:lnTo>
                    <a:lnTo>
                      <a:pt x="124" y="449"/>
                    </a:lnTo>
                    <a:lnTo>
                      <a:pt x="116" y="446"/>
                    </a:lnTo>
                    <a:lnTo>
                      <a:pt x="107" y="440"/>
                    </a:lnTo>
                    <a:lnTo>
                      <a:pt x="101" y="429"/>
                    </a:lnTo>
                    <a:lnTo>
                      <a:pt x="100" y="417"/>
                    </a:lnTo>
                    <a:lnTo>
                      <a:pt x="97" y="384"/>
                    </a:lnTo>
                    <a:lnTo>
                      <a:pt x="92" y="335"/>
                    </a:lnTo>
                    <a:lnTo>
                      <a:pt x="84" y="275"/>
                    </a:lnTo>
                    <a:lnTo>
                      <a:pt x="72" y="208"/>
                    </a:lnTo>
                    <a:lnTo>
                      <a:pt x="53" y="139"/>
                    </a:lnTo>
                    <a:lnTo>
                      <a:pt x="30" y="72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5" y="5"/>
                    </a:lnTo>
                    <a:lnTo>
                      <a:pt x="13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174"/>
              <p:cNvSpPr/>
              <p:nvPr/>
            </p:nvSpPr>
            <p:spPr>
              <a:xfrm>
                <a:off x="5118840" y="389160"/>
                <a:ext cx="270000" cy="42120"/>
              </a:xfrm>
              <a:custGeom>
                <a:avLst/>
                <a:gdLst/>
                <a:ahLst/>
                <a:rect l="l" t="t" r="r" b="b"/>
                <a:pathLst>
                  <a:path w="356" h="110">
                    <a:moveTo>
                      <a:pt x="4" y="73"/>
                    </a:moveTo>
                    <a:lnTo>
                      <a:pt x="5" y="72"/>
                    </a:lnTo>
                    <a:lnTo>
                      <a:pt x="8" y="68"/>
                    </a:lnTo>
                    <a:lnTo>
                      <a:pt x="14" y="62"/>
                    </a:lnTo>
                    <a:lnTo>
                      <a:pt x="22" y="54"/>
                    </a:lnTo>
                    <a:lnTo>
                      <a:pt x="32" y="46"/>
                    </a:lnTo>
                    <a:lnTo>
                      <a:pt x="44" y="35"/>
                    </a:lnTo>
                    <a:lnTo>
                      <a:pt x="61" y="26"/>
                    </a:lnTo>
                    <a:lnTo>
                      <a:pt x="80" y="18"/>
                    </a:lnTo>
                    <a:lnTo>
                      <a:pt x="101" y="10"/>
                    </a:lnTo>
                    <a:lnTo>
                      <a:pt x="126" y="5"/>
                    </a:lnTo>
                    <a:lnTo>
                      <a:pt x="155" y="1"/>
                    </a:lnTo>
                    <a:lnTo>
                      <a:pt x="188" y="0"/>
                    </a:lnTo>
                    <a:lnTo>
                      <a:pt x="223" y="1"/>
                    </a:lnTo>
                    <a:lnTo>
                      <a:pt x="262" y="8"/>
                    </a:lnTo>
                    <a:lnTo>
                      <a:pt x="306" y="18"/>
                    </a:lnTo>
                    <a:lnTo>
                      <a:pt x="354" y="33"/>
                    </a:lnTo>
                    <a:lnTo>
                      <a:pt x="354" y="34"/>
                    </a:lnTo>
                    <a:lnTo>
                      <a:pt x="356" y="37"/>
                    </a:lnTo>
                    <a:lnTo>
                      <a:pt x="356" y="39"/>
                    </a:lnTo>
                    <a:lnTo>
                      <a:pt x="356" y="43"/>
                    </a:lnTo>
                    <a:lnTo>
                      <a:pt x="352" y="47"/>
                    </a:lnTo>
                    <a:lnTo>
                      <a:pt x="346" y="50"/>
                    </a:lnTo>
                    <a:lnTo>
                      <a:pt x="335" y="52"/>
                    </a:lnTo>
                    <a:lnTo>
                      <a:pt x="322" y="52"/>
                    </a:lnTo>
                    <a:lnTo>
                      <a:pt x="312" y="52"/>
                    </a:lnTo>
                    <a:lnTo>
                      <a:pt x="300" y="51"/>
                    </a:lnTo>
                    <a:lnTo>
                      <a:pt x="286" y="51"/>
                    </a:lnTo>
                    <a:lnTo>
                      <a:pt x="270" y="52"/>
                    </a:lnTo>
                    <a:lnTo>
                      <a:pt x="252" y="52"/>
                    </a:lnTo>
                    <a:lnTo>
                      <a:pt x="235" y="54"/>
                    </a:lnTo>
                    <a:lnTo>
                      <a:pt x="216" y="55"/>
                    </a:lnTo>
                    <a:lnTo>
                      <a:pt x="196" y="58"/>
                    </a:lnTo>
                    <a:lnTo>
                      <a:pt x="175" y="60"/>
                    </a:lnTo>
                    <a:lnTo>
                      <a:pt x="155" y="64"/>
                    </a:lnTo>
                    <a:lnTo>
                      <a:pt x="136" y="68"/>
                    </a:lnTo>
                    <a:lnTo>
                      <a:pt x="118" y="75"/>
                    </a:lnTo>
                    <a:lnTo>
                      <a:pt x="100" y="81"/>
                    </a:lnTo>
                    <a:lnTo>
                      <a:pt x="83" y="88"/>
                    </a:lnTo>
                    <a:lnTo>
                      <a:pt x="68" y="97"/>
                    </a:lnTo>
                    <a:lnTo>
                      <a:pt x="55" y="108"/>
                    </a:lnTo>
                    <a:lnTo>
                      <a:pt x="52" y="109"/>
                    </a:lnTo>
                    <a:lnTo>
                      <a:pt x="43" y="110"/>
                    </a:lnTo>
                    <a:lnTo>
                      <a:pt x="33" y="110"/>
                    </a:lnTo>
                    <a:lnTo>
                      <a:pt x="21" y="110"/>
                    </a:lnTo>
                    <a:lnTo>
                      <a:pt x="10" y="108"/>
                    </a:lnTo>
                    <a:lnTo>
                      <a:pt x="3" y="101"/>
                    </a:lnTo>
                    <a:lnTo>
                      <a:pt x="0" y="90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175"/>
              <p:cNvSpPr/>
              <p:nvPr/>
            </p:nvSpPr>
            <p:spPr>
              <a:xfrm>
                <a:off x="5157360" y="390240"/>
                <a:ext cx="177120" cy="33120"/>
              </a:xfrm>
              <a:custGeom>
                <a:avLst/>
                <a:gdLst/>
                <a:ahLst/>
                <a:rect l="l" t="t" r="r" b="b"/>
                <a:pathLst>
                  <a:path w="234" h="86">
                    <a:moveTo>
                      <a:pt x="4" y="57"/>
                    </a:moveTo>
                    <a:lnTo>
                      <a:pt x="6" y="56"/>
                    </a:lnTo>
                    <a:lnTo>
                      <a:pt x="7" y="53"/>
                    </a:lnTo>
                    <a:lnTo>
                      <a:pt x="11" y="48"/>
                    </a:lnTo>
                    <a:lnTo>
                      <a:pt x="16" y="42"/>
                    </a:lnTo>
                    <a:lnTo>
                      <a:pt x="22" y="36"/>
                    </a:lnTo>
                    <a:lnTo>
                      <a:pt x="31" y="28"/>
                    </a:lnTo>
                    <a:lnTo>
                      <a:pt x="41" y="21"/>
                    </a:lnTo>
                    <a:lnTo>
                      <a:pt x="53" y="15"/>
                    </a:lnTo>
                    <a:lnTo>
                      <a:pt x="67" y="9"/>
                    </a:lnTo>
                    <a:lnTo>
                      <a:pt x="84" y="4"/>
                    </a:lnTo>
                    <a:lnTo>
                      <a:pt x="103" y="2"/>
                    </a:lnTo>
                    <a:lnTo>
                      <a:pt x="124" y="0"/>
                    </a:lnTo>
                    <a:lnTo>
                      <a:pt x="147" y="2"/>
                    </a:lnTo>
                    <a:lnTo>
                      <a:pt x="173" y="6"/>
                    </a:lnTo>
                    <a:lnTo>
                      <a:pt x="201" y="13"/>
                    </a:lnTo>
                    <a:lnTo>
                      <a:pt x="232" y="24"/>
                    </a:lnTo>
                    <a:lnTo>
                      <a:pt x="234" y="27"/>
                    </a:lnTo>
                    <a:lnTo>
                      <a:pt x="234" y="32"/>
                    </a:lnTo>
                    <a:lnTo>
                      <a:pt x="227" y="38"/>
                    </a:lnTo>
                    <a:lnTo>
                      <a:pt x="211" y="40"/>
                    </a:lnTo>
                    <a:lnTo>
                      <a:pt x="197" y="38"/>
                    </a:lnTo>
                    <a:lnTo>
                      <a:pt x="177" y="40"/>
                    </a:lnTo>
                    <a:lnTo>
                      <a:pt x="154" y="41"/>
                    </a:lnTo>
                    <a:lnTo>
                      <a:pt x="129" y="44"/>
                    </a:lnTo>
                    <a:lnTo>
                      <a:pt x="103" y="49"/>
                    </a:lnTo>
                    <a:lnTo>
                      <a:pt x="77" y="57"/>
                    </a:lnTo>
                    <a:lnTo>
                      <a:pt x="55" y="69"/>
                    </a:lnTo>
                    <a:lnTo>
                      <a:pt x="37" y="83"/>
                    </a:lnTo>
                    <a:lnTo>
                      <a:pt x="34" y="83"/>
                    </a:lnTo>
                    <a:lnTo>
                      <a:pt x="29" y="85"/>
                    </a:lnTo>
                    <a:lnTo>
                      <a:pt x="22" y="86"/>
                    </a:lnTo>
                    <a:lnTo>
                      <a:pt x="14" y="85"/>
                    </a:lnTo>
                    <a:lnTo>
                      <a:pt x="8" y="83"/>
                    </a:lnTo>
                    <a:lnTo>
                      <a:pt x="3" y="78"/>
                    </a:lnTo>
                    <a:lnTo>
                      <a:pt x="0" y="69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176"/>
              <p:cNvSpPr/>
              <p:nvPr/>
            </p:nvSpPr>
            <p:spPr>
              <a:xfrm>
                <a:off x="5207400" y="398520"/>
                <a:ext cx="81360" cy="1404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2" y="24"/>
                    </a:moveTo>
                    <a:lnTo>
                      <a:pt x="3" y="23"/>
                    </a:lnTo>
                    <a:lnTo>
                      <a:pt x="7" y="17"/>
                    </a:lnTo>
                    <a:lnTo>
                      <a:pt x="14" y="12"/>
                    </a:lnTo>
                    <a:lnTo>
                      <a:pt x="25" y="6"/>
                    </a:lnTo>
                    <a:lnTo>
                      <a:pt x="39" y="2"/>
                    </a:lnTo>
                    <a:lnTo>
                      <a:pt x="58" y="0"/>
                    </a:lnTo>
                    <a:lnTo>
                      <a:pt x="81" y="3"/>
                    </a:lnTo>
                    <a:lnTo>
                      <a:pt x="109" y="11"/>
                    </a:lnTo>
                    <a:lnTo>
                      <a:pt x="109" y="12"/>
                    </a:lnTo>
                    <a:lnTo>
                      <a:pt x="109" y="14"/>
                    </a:lnTo>
                    <a:lnTo>
                      <a:pt x="106" y="16"/>
                    </a:lnTo>
                    <a:lnTo>
                      <a:pt x="99" y="17"/>
                    </a:lnTo>
                    <a:lnTo>
                      <a:pt x="92" y="17"/>
                    </a:lnTo>
                    <a:lnTo>
                      <a:pt x="82" y="17"/>
                    </a:lnTo>
                    <a:lnTo>
                      <a:pt x="72" y="17"/>
                    </a:lnTo>
                    <a:lnTo>
                      <a:pt x="59" y="19"/>
                    </a:lnTo>
                    <a:lnTo>
                      <a:pt x="48" y="21"/>
                    </a:lnTo>
                    <a:lnTo>
                      <a:pt x="36" y="24"/>
                    </a:lnTo>
                    <a:lnTo>
                      <a:pt x="25" y="29"/>
                    </a:lnTo>
                    <a:lnTo>
                      <a:pt x="17" y="36"/>
                    </a:lnTo>
                    <a:lnTo>
                      <a:pt x="13" y="36"/>
                    </a:lnTo>
                    <a:lnTo>
                      <a:pt x="7" y="36"/>
                    </a:lnTo>
                    <a:lnTo>
                      <a:pt x="0" y="33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ffc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177"/>
              <p:cNvSpPr/>
              <p:nvPr/>
            </p:nvSpPr>
            <p:spPr>
              <a:xfrm>
                <a:off x="5391360" y="1063800"/>
                <a:ext cx="83880" cy="86040"/>
              </a:xfrm>
              <a:custGeom>
                <a:avLst/>
                <a:gdLst/>
                <a:ahLst/>
                <a:rect l="l" t="t" r="r" b="b"/>
                <a:pathLst>
                  <a:path w="111" h="217">
                    <a:moveTo>
                      <a:pt x="25" y="22"/>
                    </a:moveTo>
                    <a:lnTo>
                      <a:pt x="20" y="46"/>
                    </a:lnTo>
                    <a:lnTo>
                      <a:pt x="9" y="99"/>
                    </a:lnTo>
                    <a:lnTo>
                      <a:pt x="0" y="157"/>
                    </a:lnTo>
                    <a:lnTo>
                      <a:pt x="0" y="195"/>
                    </a:lnTo>
                    <a:lnTo>
                      <a:pt x="5" y="203"/>
                    </a:lnTo>
                    <a:lnTo>
                      <a:pt x="13" y="209"/>
                    </a:lnTo>
                    <a:lnTo>
                      <a:pt x="22" y="213"/>
                    </a:lnTo>
                    <a:lnTo>
                      <a:pt x="32" y="216"/>
                    </a:lnTo>
                    <a:lnTo>
                      <a:pt x="43" y="217"/>
                    </a:lnTo>
                    <a:lnTo>
                      <a:pt x="53" y="217"/>
                    </a:lnTo>
                    <a:lnTo>
                      <a:pt x="62" y="217"/>
                    </a:lnTo>
                    <a:lnTo>
                      <a:pt x="71" y="217"/>
                    </a:lnTo>
                    <a:lnTo>
                      <a:pt x="86" y="211"/>
                    </a:lnTo>
                    <a:lnTo>
                      <a:pt x="97" y="194"/>
                    </a:lnTo>
                    <a:lnTo>
                      <a:pt x="103" y="174"/>
                    </a:lnTo>
                    <a:lnTo>
                      <a:pt x="107" y="155"/>
                    </a:lnTo>
                    <a:lnTo>
                      <a:pt x="107" y="132"/>
                    </a:lnTo>
                    <a:lnTo>
                      <a:pt x="110" y="99"/>
                    </a:lnTo>
                    <a:lnTo>
                      <a:pt x="111" y="70"/>
                    </a:lnTo>
                    <a:lnTo>
                      <a:pt x="111" y="58"/>
                    </a:lnTo>
                    <a:lnTo>
                      <a:pt x="110" y="54"/>
                    </a:lnTo>
                    <a:lnTo>
                      <a:pt x="106" y="44"/>
                    </a:lnTo>
                    <a:lnTo>
                      <a:pt x="100" y="29"/>
                    </a:lnTo>
                    <a:lnTo>
                      <a:pt x="91" y="15"/>
                    </a:lnTo>
                    <a:lnTo>
                      <a:pt x="79" y="4"/>
                    </a:lnTo>
                    <a:lnTo>
                      <a:pt x="64" y="0"/>
                    </a:lnTo>
                    <a:lnTo>
                      <a:pt x="47" y="5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178"/>
              <p:cNvSpPr/>
              <p:nvPr/>
            </p:nvSpPr>
            <p:spPr>
              <a:xfrm>
                <a:off x="5702760" y="109080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9" h="198">
                    <a:moveTo>
                      <a:pt x="26" y="21"/>
                    </a:moveTo>
                    <a:lnTo>
                      <a:pt x="20" y="30"/>
                    </a:lnTo>
                    <a:lnTo>
                      <a:pt x="14" y="45"/>
                    </a:lnTo>
                    <a:lnTo>
                      <a:pt x="7" y="65"/>
                    </a:lnTo>
                    <a:lnTo>
                      <a:pt x="2" y="88"/>
                    </a:lnTo>
                    <a:lnTo>
                      <a:pt x="0" y="112"/>
                    </a:lnTo>
                    <a:lnTo>
                      <a:pt x="0" y="136"/>
                    </a:lnTo>
                    <a:lnTo>
                      <a:pt x="4" y="158"/>
                    </a:lnTo>
                    <a:lnTo>
                      <a:pt x="12" y="177"/>
                    </a:lnTo>
                    <a:lnTo>
                      <a:pt x="24" y="190"/>
                    </a:lnTo>
                    <a:lnTo>
                      <a:pt x="36" y="196"/>
                    </a:lnTo>
                    <a:lnTo>
                      <a:pt x="49" y="198"/>
                    </a:lnTo>
                    <a:lnTo>
                      <a:pt x="62" y="195"/>
                    </a:lnTo>
                    <a:lnTo>
                      <a:pt x="74" y="190"/>
                    </a:lnTo>
                    <a:lnTo>
                      <a:pt x="83" y="183"/>
                    </a:lnTo>
                    <a:lnTo>
                      <a:pt x="91" y="175"/>
                    </a:lnTo>
                    <a:lnTo>
                      <a:pt x="96" y="169"/>
                    </a:lnTo>
                    <a:lnTo>
                      <a:pt x="99" y="138"/>
                    </a:lnTo>
                    <a:lnTo>
                      <a:pt x="98" y="90"/>
                    </a:lnTo>
                    <a:lnTo>
                      <a:pt x="94" y="40"/>
                    </a:lnTo>
                    <a:lnTo>
                      <a:pt x="85" y="12"/>
                    </a:lnTo>
                    <a:lnTo>
                      <a:pt x="80" y="7"/>
                    </a:lnTo>
                    <a:lnTo>
                      <a:pt x="75" y="4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57" y="2"/>
                    </a:lnTo>
                    <a:lnTo>
                      <a:pt x="48" y="5"/>
                    </a:lnTo>
                    <a:lnTo>
                      <a:pt x="38" y="12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179"/>
              <p:cNvSpPr/>
              <p:nvPr/>
            </p:nvSpPr>
            <p:spPr>
              <a:xfrm>
                <a:off x="5929920" y="661680"/>
                <a:ext cx="74520" cy="47160"/>
              </a:xfrm>
              <a:custGeom>
                <a:avLst/>
                <a:gdLst/>
                <a:ahLst/>
                <a:rect l="l" t="t" r="r" b="b"/>
                <a:pathLst>
                  <a:path w="100" h="132">
                    <a:moveTo>
                      <a:pt x="71" y="6"/>
                    </a:moveTo>
                    <a:lnTo>
                      <a:pt x="69" y="4"/>
                    </a:lnTo>
                    <a:lnTo>
                      <a:pt x="63" y="3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4" y="2"/>
                    </a:lnTo>
                    <a:lnTo>
                      <a:pt x="24" y="4"/>
                    </a:lnTo>
                    <a:lnTo>
                      <a:pt x="15" y="11"/>
                    </a:lnTo>
                    <a:lnTo>
                      <a:pt x="10" y="23"/>
                    </a:lnTo>
                    <a:lnTo>
                      <a:pt x="3" y="48"/>
                    </a:lnTo>
                    <a:lnTo>
                      <a:pt x="0" y="69"/>
                    </a:lnTo>
                    <a:lnTo>
                      <a:pt x="0" y="87"/>
                    </a:lnTo>
                    <a:lnTo>
                      <a:pt x="1" y="100"/>
                    </a:lnTo>
                    <a:lnTo>
                      <a:pt x="3" y="107"/>
                    </a:lnTo>
                    <a:lnTo>
                      <a:pt x="8" y="112"/>
                    </a:lnTo>
                    <a:lnTo>
                      <a:pt x="15" y="119"/>
                    </a:lnTo>
                    <a:lnTo>
                      <a:pt x="22" y="124"/>
                    </a:lnTo>
                    <a:lnTo>
                      <a:pt x="31" y="129"/>
                    </a:lnTo>
                    <a:lnTo>
                      <a:pt x="39" y="132"/>
                    </a:lnTo>
                    <a:lnTo>
                      <a:pt x="48" y="132"/>
                    </a:lnTo>
                    <a:lnTo>
                      <a:pt x="54" y="131"/>
                    </a:lnTo>
                    <a:lnTo>
                      <a:pt x="60" y="127"/>
                    </a:lnTo>
                    <a:lnTo>
                      <a:pt x="68" y="122"/>
                    </a:lnTo>
                    <a:lnTo>
                      <a:pt x="75" y="114"/>
                    </a:lnTo>
                    <a:lnTo>
                      <a:pt x="82" y="106"/>
                    </a:lnTo>
                    <a:lnTo>
                      <a:pt x="88" y="98"/>
                    </a:lnTo>
                    <a:lnTo>
                      <a:pt x="93" y="89"/>
                    </a:lnTo>
                    <a:lnTo>
                      <a:pt x="97" y="79"/>
                    </a:lnTo>
                    <a:lnTo>
                      <a:pt x="98" y="72"/>
                    </a:lnTo>
                    <a:lnTo>
                      <a:pt x="100" y="53"/>
                    </a:lnTo>
                    <a:lnTo>
                      <a:pt x="99" y="32"/>
                    </a:lnTo>
                    <a:lnTo>
                      <a:pt x="90" y="15"/>
                    </a:lnTo>
                    <a:lnTo>
                      <a:pt x="71" y="6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180"/>
              <p:cNvSpPr/>
              <p:nvPr/>
            </p:nvSpPr>
            <p:spPr>
              <a:xfrm>
                <a:off x="5989320" y="442440"/>
                <a:ext cx="129240" cy="42480"/>
              </a:xfrm>
              <a:custGeom>
                <a:avLst/>
                <a:gdLst/>
                <a:ahLst/>
                <a:rect l="l" t="t" r="r" b="b"/>
                <a:pathLst>
                  <a:path w="172" h="107">
                    <a:moveTo>
                      <a:pt x="0" y="0"/>
                    </a:moveTo>
                    <a:lnTo>
                      <a:pt x="5" y="2"/>
                    </a:lnTo>
                    <a:lnTo>
                      <a:pt x="19" y="8"/>
                    </a:lnTo>
                    <a:lnTo>
                      <a:pt x="39" y="17"/>
                    </a:lnTo>
                    <a:lnTo>
                      <a:pt x="65" y="29"/>
                    </a:lnTo>
                    <a:lnTo>
                      <a:pt x="93" y="45"/>
                    </a:lnTo>
                    <a:lnTo>
                      <a:pt x="122" y="63"/>
                    </a:lnTo>
                    <a:lnTo>
                      <a:pt x="148" y="83"/>
                    </a:lnTo>
                    <a:lnTo>
                      <a:pt x="172" y="107"/>
                    </a:lnTo>
                    <a:lnTo>
                      <a:pt x="171" y="104"/>
                    </a:lnTo>
                    <a:lnTo>
                      <a:pt x="165" y="95"/>
                    </a:lnTo>
                    <a:lnTo>
                      <a:pt x="153" y="82"/>
                    </a:lnTo>
                    <a:lnTo>
                      <a:pt x="137" y="66"/>
                    </a:lnTo>
                    <a:lnTo>
                      <a:pt x="114" y="49"/>
                    </a:lnTo>
                    <a:lnTo>
                      <a:pt x="84" y="32"/>
                    </a:lnTo>
                    <a:lnTo>
                      <a:pt x="4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6" name="TextBox 323"/>
            <p:cNvSpPr/>
            <p:nvPr/>
          </p:nvSpPr>
          <p:spPr>
            <a:xfrm>
              <a:off x="4862520" y="449280"/>
              <a:ext cx="13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哨所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7" name="组合 321"/>
          <p:cNvGrpSpPr/>
          <p:nvPr/>
        </p:nvGrpSpPr>
        <p:grpSpPr>
          <a:xfrm>
            <a:off x="6080040" y="2502000"/>
            <a:ext cx="1596600" cy="1025280"/>
            <a:chOff x="6080040" y="2502000"/>
            <a:chExt cx="1596600" cy="1025280"/>
          </a:xfrm>
        </p:grpSpPr>
        <p:grpSp>
          <p:nvGrpSpPr>
            <p:cNvPr id="468" name="Group 152"/>
            <p:cNvGrpSpPr/>
            <p:nvPr/>
          </p:nvGrpSpPr>
          <p:grpSpPr>
            <a:xfrm>
              <a:off x="6080040" y="2502000"/>
              <a:ext cx="1596600" cy="1025280"/>
              <a:chOff x="6080040" y="2502000"/>
              <a:chExt cx="1596600" cy="1025280"/>
            </a:xfrm>
          </p:grpSpPr>
          <p:sp>
            <p:nvSpPr>
              <p:cNvPr id="469" name="AutoShape 151"/>
              <p:cNvSpPr/>
              <p:nvPr/>
            </p:nvSpPr>
            <p:spPr>
              <a:xfrm>
                <a:off x="6080040" y="2502000"/>
                <a:ext cx="1596600" cy="10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153"/>
              <p:cNvSpPr/>
              <p:nvPr/>
            </p:nvSpPr>
            <p:spPr>
              <a:xfrm>
                <a:off x="6986880" y="3521160"/>
                <a:ext cx="10080" cy="10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4"/>
                    </a:moveTo>
                    <a:lnTo>
                      <a:pt x="18" y="4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154"/>
              <p:cNvSpPr/>
              <p:nvPr/>
            </p:nvSpPr>
            <p:spPr>
              <a:xfrm>
                <a:off x="6160680" y="2502000"/>
                <a:ext cx="1495080" cy="1023840"/>
              </a:xfrm>
              <a:custGeom>
                <a:avLst/>
                <a:gdLst/>
                <a:ahLst/>
                <a:rect l="l" t="t" r="r" b="b"/>
                <a:pathLst>
                  <a:path w="2166" h="2610">
                    <a:moveTo>
                      <a:pt x="1719" y="348"/>
                    </a:moveTo>
                    <a:lnTo>
                      <a:pt x="1679" y="335"/>
                    </a:lnTo>
                    <a:lnTo>
                      <a:pt x="1643" y="323"/>
                    </a:lnTo>
                    <a:lnTo>
                      <a:pt x="1609" y="313"/>
                    </a:lnTo>
                    <a:lnTo>
                      <a:pt x="1576" y="306"/>
                    </a:lnTo>
                    <a:lnTo>
                      <a:pt x="1545" y="300"/>
                    </a:lnTo>
                    <a:lnTo>
                      <a:pt x="1514" y="296"/>
                    </a:lnTo>
                    <a:lnTo>
                      <a:pt x="1487" y="294"/>
                    </a:lnTo>
                    <a:lnTo>
                      <a:pt x="1460" y="292"/>
                    </a:lnTo>
                    <a:lnTo>
                      <a:pt x="1434" y="292"/>
                    </a:lnTo>
                    <a:lnTo>
                      <a:pt x="1409" y="292"/>
                    </a:lnTo>
                    <a:lnTo>
                      <a:pt x="1385" y="295"/>
                    </a:lnTo>
                    <a:lnTo>
                      <a:pt x="1362" y="298"/>
                    </a:lnTo>
                    <a:lnTo>
                      <a:pt x="1338" y="300"/>
                    </a:lnTo>
                    <a:lnTo>
                      <a:pt x="1317" y="304"/>
                    </a:lnTo>
                    <a:lnTo>
                      <a:pt x="1294" y="308"/>
                    </a:lnTo>
                    <a:lnTo>
                      <a:pt x="1273" y="312"/>
                    </a:lnTo>
                    <a:lnTo>
                      <a:pt x="1271" y="312"/>
                    </a:lnTo>
                    <a:lnTo>
                      <a:pt x="1269" y="312"/>
                    </a:lnTo>
                    <a:lnTo>
                      <a:pt x="1265" y="313"/>
                    </a:lnTo>
                    <a:lnTo>
                      <a:pt x="1260" y="313"/>
                    </a:lnTo>
                    <a:lnTo>
                      <a:pt x="1254" y="277"/>
                    </a:lnTo>
                    <a:lnTo>
                      <a:pt x="1246" y="237"/>
                    </a:lnTo>
                    <a:lnTo>
                      <a:pt x="1239" y="194"/>
                    </a:lnTo>
                    <a:lnTo>
                      <a:pt x="1232" y="153"/>
                    </a:lnTo>
                    <a:lnTo>
                      <a:pt x="1225" y="116"/>
                    </a:lnTo>
                    <a:lnTo>
                      <a:pt x="1220" y="87"/>
                    </a:lnTo>
                    <a:lnTo>
                      <a:pt x="1216" y="67"/>
                    </a:lnTo>
                    <a:lnTo>
                      <a:pt x="1215" y="59"/>
                    </a:lnTo>
                    <a:lnTo>
                      <a:pt x="1162" y="40"/>
                    </a:lnTo>
                    <a:lnTo>
                      <a:pt x="1106" y="9"/>
                    </a:lnTo>
                    <a:lnTo>
                      <a:pt x="1095" y="7"/>
                    </a:lnTo>
                    <a:lnTo>
                      <a:pt x="1090" y="5"/>
                    </a:lnTo>
                    <a:lnTo>
                      <a:pt x="1085" y="4"/>
                    </a:lnTo>
                    <a:lnTo>
                      <a:pt x="1080" y="3"/>
                    </a:lnTo>
                    <a:lnTo>
                      <a:pt x="1075" y="1"/>
                    </a:lnTo>
                    <a:lnTo>
                      <a:pt x="1068" y="1"/>
                    </a:lnTo>
                    <a:lnTo>
                      <a:pt x="1063" y="0"/>
                    </a:lnTo>
                    <a:lnTo>
                      <a:pt x="1058" y="0"/>
                    </a:lnTo>
                    <a:lnTo>
                      <a:pt x="1053" y="0"/>
                    </a:lnTo>
                    <a:lnTo>
                      <a:pt x="1048" y="0"/>
                    </a:lnTo>
                    <a:lnTo>
                      <a:pt x="1043" y="0"/>
                    </a:lnTo>
                    <a:lnTo>
                      <a:pt x="1038" y="1"/>
                    </a:lnTo>
                    <a:lnTo>
                      <a:pt x="1034" y="1"/>
                    </a:lnTo>
                    <a:lnTo>
                      <a:pt x="1029" y="3"/>
                    </a:lnTo>
                    <a:lnTo>
                      <a:pt x="1024" y="4"/>
                    </a:lnTo>
                    <a:lnTo>
                      <a:pt x="1019" y="5"/>
                    </a:lnTo>
                    <a:lnTo>
                      <a:pt x="1014" y="7"/>
                    </a:lnTo>
                    <a:lnTo>
                      <a:pt x="994" y="14"/>
                    </a:lnTo>
                    <a:lnTo>
                      <a:pt x="974" y="26"/>
                    </a:lnTo>
                    <a:lnTo>
                      <a:pt x="955" y="42"/>
                    </a:lnTo>
                    <a:lnTo>
                      <a:pt x="939" y="61"/>
                    </a:lnTo>
                    <a:lnTo>
                      <a:pt x="924" y="82"/>
                    </a:lnTo>
                    <a:lnTo>
                      <a:pt x="911" y="107"/>
                    </a:lnTo>
                    <a:lnTo>
                      <a:pt x="900" y="133"/>
                    </a:lnTo>
                    <a:lnTo>
                      <a:pt x="891" y="163"/>
                    </a:lnTo>
                    <a:lnTo>
                      <a:pt x="877" y="228"/>
                    </a:lnTo>
                    <a:lnTo>
                      <a:pt x="878" y="230"/>
                    </a:lnTo>
                    <a:lnTo>
                      <a:pt x="883" y="236"/>
                    </a:lnTo>
                    <a:lnTo>
                      <a:pt x="888" y="244"/>
                    </a:lnTo>
                    <a:lnTo>
                      <a:pt x="896" y="253"/>
                    </a:lnTo>
                    <a:lnTo>
                      <a:pt x="872" y="248"/>
                    </a:lnTo>
                    <a:lnTo>
                      <a:pt x="848" y="242"/>
                    </a:lnTo>
                    <a:lnTo>
                      <a:pt x="823" y="237"/>
                    </a:lnTo>
                    <a:lnTo>
                      <a:pt x="796" y="233"/>
                    </a:lnTo>
                    <a:lnTo>
                      <a:pt x="770" y="230"/>
                    </a:lnTo>
                    <a:lnTo>
                      <a:pt x="743" y="229"/>
                    </a:lnTo>
                    <a:lnTo>
                      <a:pt x="716" y="228"/>
                    </a:lnTo>
                    <a:lnTo>
                      <a:pt x="688" y="228"/>
                    </a:lnTo>
                    <a:lnTo>
                      <a:pt x="660" y="229"/>
                    </a:lnTo>
                    <a:lnTo>
                      <a:pt x="633" y="230"/>
                    </a:lnTo>
                    <a:lnTo>
                      <a:pt x="604" y="234"/>
                    </a:lnTo>
                    <a:lnTo>
                      <a:pt x="575" y="240"/>
                    </a:lnTo>
                    <a:lnTo>
                      <a:pt x="547" y="245"/>
                    </a:lnTo>
                    <a:lnTo>
                      <a:pt x="518" y="253"/>
                    </a:lnTo>
                    <a:lnTo>
                      <a:pt x="489" y="262"/>
                    </a:lnTo>
                    <a:lnTo>
                      <a:pt x="461" y="271"/>
                    </a:lnTo>
                    <a:lnTo>
                      <a:pt x="432" y="283"/>
                    </a:lnTo>
                    <a:lnTo>
                      <a:pt x="405" y="298"/>
                    </a:lnTo>
                    <a:lnTo>
                      <a:pt x="377" y="312"/>
                    </a:lnTo>
                    <a:lnTo>
                      <a:pt x="350" y="329"/>
                    </a:lnTo>
                    <a:lnTo>
                      <a:pt x="324" y="349"/>
                    </a:lnTo>
                    <a:lnTo>
                      <a:pt x="297" y="369"/>
                    </a:lnTo>
                    <a:lnTo>
                      <a:pt x="271" y="391"/>
                    </a:lnTo>
                    <a:lnTo>
                      <a:pt x="246" y="416"/>
                    </a:lnTo>
                    <a:lnTo>
                      <a:pt x="222" y="443"/>
                    </a:lnTo>
                    <a:lnTo>
                      <a:pt x="198" y="471"/>
                    </a:lnTo>
                    <a:lnTo>
                      <a:pt x="175" y="503"/>
                    </a:lnTo>
                    <a:lnTo>
                      <a:pt x="154" y="536"/>
                    </a:lnTo>
                    <a:lnTo>
                      <a:pt x="134" y="572"/>
                    </a:lnTo>
                    <a:lnTo>
                      <a:pt x="114" y="610"/>
                    </a:lnTo>
                    <a:lnTo>
                      <a:pt x="95" y="649"/>
                    </a:lnTo>
                    <a:lnTo>
                      <a:pt x="77" y="693"/>
                    </a:lnTo>
                    <a:lnTo>
                      <a:pt x="73" y="701"/>
                    </a:lnTo>
                    <a:lnTo>
                      <a:pt x="67" y="718"/>
                    </a:lnTo>
                    <a:lnTo>
                      <a:pt x="58" y="744"/>
                    </a:lnTo>
                    <a:lnTo>
                      <a:pt x="48" y="778"/>
                    </a:lnTo>
                    <a:lnTo>
                      <a:pt x="37" y="822"/>
                    </a:lnTo>
                    <a:lnTo>
                      <a:pt x="25" y="872"/>
                    </a:lnTo>
                    <a:lnTo>
                      <a:pt x="15" y="931"/>
                    </a:lnTo>
                    <a:lnTo>
                      <a:pt x="6" y="996"/>
                    </a:lnTo>
                    <a:lnTo>
                      <a:pt x="1" y="1068"/>
                    </a:lnTo>
                    <a:lnTo>
                      <a:pt x="0" y="1146"/>
                    </a:lnTo>
                    <a:lnTo>
                      <a:pt x="3" y="1230"/>
                    </a:lnTo>
                    <a:lnTo>
                      <a:pt x="10" y="1320"/>
                    </a:lnTo>
                    <a:lnTo>
                      <a:pt x="25" y="1413"/>
                    </a:lnTo>
                    <a:lnTo>
                      <a:pt x="47" y="1512"/>
                    </a:lnTo>
                    <a:lnTo>
                      <a:pt x="77" y="1615"/>
                    </a:lnTo>
                    <a:lnTo>
                      <a:pt x="116" y="1721"/>
                    </a:lnTo>
                    <a:lnTo>
                      <a:pt x="149" y="1798"/>
                    </a:lnTo>
                    <a:lnTo>
                      <a:pt x="183" y="1873"/>
                    </a:lnTo>
                    <a:lnTo>
                      <a:pt x="219" y="1944"/>
                    </a:lnTo>
                    <a:lnTo>
                      <a:pt x="258" y="2014"/>
                    </a:lnTo>
                    <a:lnTo>
                      <a:pt x="296" y="2081"/>
                    </a:lnTo>
                    <a:lnTo>
                      <a:pt x="335" y="2144"/>
                    </a:lnTo>
                    <a:lnTo>
                      <a:pt x="373" y="2203"/>
                    </a:lnTo>
                    <a:lnTo>
                      <a:pt x="410" y="2259"/>
                    </a:lnTo>
                    <a:lnTo>
                      <a:pt x="445" y="2310"/>
                    </a:lnTo>
                    <a:lnTo>
                      <a:pt x="478" y="2355"/>
                    </a:lnTo>
                    <a:lnTo>
                      <a:pt x="507" y="2396"/>
                    </a:lnTo>
                    <a:lnTo>
                      <a:pt x="533" y="2430"/>
                    </a:lnTo>
                    <a:lnTo>
                      <a:pt x="554" y="2458"/>
                    </a:lnTo>
                    <a:lnTo>
                      <a:pt x="572" y="2479"/>
                    </a:lnTo>
                    <a:lnTo>
                      <a:pt x="583" y="2493"/>
                    </a:lnTo>
                    <a:lnTo>
                      <a:pt x="588" y="2500"/>
                    </a:lnTo>
                    <a:lnTo>
                      <a:pt x="594" y="2505"/>
                    </a:lnTo>
                    <a:lnTo>
                      <a:pt x="600" y="2510"/>
                    </a:lnTo>
                    <a:lnTo>
                      <a:pt x="616" y="2523"/>
                    </a:lnTo>
                    <a:lnTo>
                      <a:pt x="635" y="2537"/>
                    </a:lnTo>
                    <a:lnTo>
                      <a:pt x="657" y="2550"/>
                    </a:lnTo>
                    <a:lnTo>
                      <a:pt x="679" y="2563"/>
                    </a:lnTo>
                    <a:lnTo>
                      <a:pt x="704" y="2575"/>
                    </a:lnTo>
                    <a:lnTo>
                      <a:pt x="731" y="2585"/>
                    </a:lnTo>
                    <a:lnTo>
                      <a:pt x="760" y="2593"/>
                    </a:lnTo>
                    <a:lnTo>
                      <a:pt x="789" y="2600"/>
                    </a:lnTo>
                    <a:lnTo>
                      <a:pt x="806" y="2602"/>
                    </a:lnTo>
                    <a:lnTo>
                      <a:pt x="825" y="2605"/>
                    </a:lnTo>
                    <a:lnTo>
                      <a:pt x="843" y="2605"/>
                    </a:lnTo>
                    <a:lnTo>
                      <a:pt x="862" y="2605"/>
                    </a:lnTo>
                    <a:lnTo>
                      <a:pt x="881" y="2602"/>
                    </a:lnTo>
                    <a:lnTo>
                      <a:pt x="900" y="2600"/>
                    </a:lnTo>
                    <a:lnTo>
                      <a:pt x="919" y="2595"/>
                    </a:lnTo>
                    <a:lnTo>
                      <a:pt x="937" y="2588"/>
                    </a:lnTo>
                    <a:lnTo>
                      <a:pt x="954" y="2580"/>
                    </a:lnTo>
                    <a:lnTo>
                      <a:pt x="912" y="2589"/>
                    </a:lnTo>
                    <a:lnTo>
                      <a:pt x="999" y="2570"/>
                    </a:lnTo>
                    <a:lnTo>
                      <a:pt x="1008" y="2567"/>
                    </a:lnTo>
                    <a:lnTo>
                      <a:pt x="1017" y="2564"/>
                    </a:lnTo>
                    <a:lnTo>
                      <a:pt x="1024" y="2562"/>
                    </a:lnTo>
                    <a:lnTo>
                      <a:pt x="1033" y="2560"/>
                    </a:lnTo>
                    <a:lnTo>
                      <a:pt x="1042" y="2559"/>
                    </a:lnTo>
                    <a:lnTo>
                      <a:pt x="1051" y="2558"/>
                    </a:lnTo>
                    <a:lnTo>
                      <a:pt x="1061" y="2558"/>
                    </a:lnTo>
                    <a:lnTo>
                      <a:pt x="1070" y="2559"/>
                    </a:lnTo>
                    <a:lnTo>
                      <a:pt x="1075" y="2560"/>
                    </a:lnTo>
                    <a:lnTo>
                      <a:pt x="1087" y="2564"/>
                    </a:lnTo>
                    <a:lnTo>
                      <a:pt x="1100" y="2568"/>
                    </a:lnTo>
                    <a:lnTo>
                      <a:pt x="1105" y="2570"/>
                    </a:lnTo>
                    <a:lnTo>
                      <a:pt x="1096" y="2563"/>
                    </a:lnTo>
                    <a:lnTo>
                      <a:pt x="1106" y="2570"/>
                    </a:lnTo>
                    <a:lnTo>
                      <a:pt x="1119" y="2576"/>
                    </a:lnTo>
                    <a:lnTo>
                      <a:pt x="1131" y="2581"/>
                    </a:lnTo>
                    <a:lnTo>
                      <a:pt x="1145" y="2587"/>
                    </a:lnTo>
                    <a:lnTo>
                      <a:pt x="1160" y="2591"/>
                    </a:lnTo>
                    <a:lnTo>
                      <a:pt x="1176" y="2595"/>
                    </a:lnTo>
                    <a:lnTo>
                      <a:pt x="1193" y="2597"/>
                    </a:lnTo>
                    <a:lnTo>
                      <a:pt x="1211" y="2600"/>
                    </a:lnTo>
                    <a:lnTo>
                      <a:pt x="1231" y="2604"/>
                    </a:lnTo>
                    <a:lnTo>
                      <a:pt x="1250" y="2608"/>
                    </a:lnTo>
                    <a:lnTo>
                      <a:pt x="1268" y="2609"/>
                    </a:lnTo>
                    <a:lnTo>
                      <a:pt x="1286" y="2610"/>
                    </a:lnTo>
                    <a:lnTo>
                      <a:pt x="1303" y="2610"/>
                    </a:lnTo>
                    <a:lnTo>
                      <a:pt x="1319" y="2610"/>
                    </a:lnTo>
                    <a:lnTo>
                      <a:pt x="1336" y="2609"/>
                    </a:lnTo>
                    <a:lnTo>
                      <a:pt x="1351" y="2608"/>
                    </a:lnTo>
                    <a:lnTo>
                      <a:pt x="1372" y="2604"/>
                    </a:lnTo>
                    <a:lnTo>
                      <a:pt x="1391" y="2600"/>
                    </a:lnTo>
                    <a:lnTo>
                      <a:pt x="1409" y="2596"/>
                    </a:lnTo>
                    <a:lnTo>
                      <a:pt x="1422" y="2591"/>
                    </a:lnTo>
                    <a:lnTo>
                      <a:pt x="1435" y="2585"/>
                    </a:lnTo>
                    <a:lnTo>
                      <a:pt x="1445" y="2581"/>
                    </a:lnTo>
                    <a:lnTo>
                      <a:pt x="1453" y="2579"/>
                    </a:lnTo>
                    <a:lnTo>
                      <a:pt x="1456" y="2576"/>
                    </a:lnTo>
                    <a:lnTo>
                      <a:pt x="1519" y="2530"/>
                    </a:lnTo>
                    <a:lnTo>
                      <a:pt x="1581" y="2476"/>
                    </a:lnTo>
                    <a:lnTo>
                      <a:pt x="1642" y="2415"/>
                    </a:lnTo>
                    <a:lnTo>
                      <a:pt x="1701" y="2350"/>
                    </a:lnTo>
                    <a:lnTo>
                      <a:pt x="1759" y="2278"/>
                    </a:lnTo>
                    <a:lnTo>
                      <a:pt x="1813" y="2203"/>
                    </a:lnTo>
                    <a:lnTo>
                      <a:pt x="1866" y="2124"/>
                    </a:lnTo>
                    <a:lnTo>
                      <a:pt x="1915" y="2040"/>
                    </a:lnTo>
                    <a:lnTo>
                      <a:pt x="1962" y="1954"/>
                    </a:lnTo>
                    <a:lnTo>
                      <a:pt x="2005" y="1868"/>
                    </a:lnTo>
                    <a:lnTo>
                      <a:pt x="2042" y="1778"/>
                    </a:lnTo>
                    <a:lnTo>
                      <a:pt x="2076" y="1688"/>
                    </a:lnTo>
                    <a:lnTo>
                      <a:pt x="2105" y="1598"/>
                    </a:lnTo>
                    <a:lnTo>
                      <a:pt x="2128" y="1508"/>
                    </a:lnTo>
                    <a:lnTo>
                      <a:pt x="2147" y="1418"/>
                    </a:lnTo>
                    <a:lnTo>
                      <a:pt x="2158" y="1332"/>
                    </a:lnTo>
                    <a:lnTo>
                      <a:pt x="2163" y="1262"/>
                    </a:lnTo>
                    <a:lnTo>
                      <a:pt x="2166" y="1189"/>
                    </a:lnTo>
                    <a:lnTo>
                      <a:pt x="2165" y="1117"/>
                    </a:lnTo>
                    <a:lnTo>
                      <a:pt x="2159" y="1043"/>
                    </a:lnTo>
                    <a:lnTo>
                      <a:pt x="2151" y="969"/>
                    </a:lnTo>
                    <a:lnTo>
                      <a:pt x="2138" y="897"/>
                    </a:lnTo>
                    <a:lnTo>
                      <a:pt x="2120" y="826"/>
                    </a:lnTo>
                    <a:lnTo>
                      <a:pt x="2098" y="756"/>
                    </a:lnTo>
                    <a:lnTo>
                      <a:pt x="2070" y="689"/>
                    </a:lnTo>
                    <a:lnTo>
                      <a:pt x="2037" y="626"/>
                    </a:lnTo>
                    <a:lnTo>
                      <a:pt x="1999" y="566"/>
                    </a:lnTo>
                    <a:lnTo>
                      <a:pt x="1955" y="511"/>
                    </a:lnTo>
                    <a:lnTo>
                      <a:pt x="1906" y="461"/>
                    </a:lnTo>
                    <a:lnTo>
                      <a:pt x="1850" y="416"/>
                    </a:lnTo>
                    <a:lnTo>
                      <a:pt x="1788" y="379"/>
                    </a:lnTo>
                    <a:lnTo>
                      <a:pt x="1719" y="3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Freeform 155"/>
              <p:cNvSpPr/>
              <p:nvPr/>
            </p:nvSpPr>
            <p:spPr>
              <a:xfrm>
                <a:off x="6237360" y="2640600"/>
                <a:ext cx="1348200" cy="847440"/>
              </a:xfrm>
              <a:custGeom>
                <a:avLst/>
                <a:gdLst/>
                <a:ahLst/>
                <a:rect l="l" t="t" r="r" b="b"/>
                <a:pathLst>
                  <a:path w="1953" h="2172">
                    <a:moveTo>
                      <a:pt x="102" y="1337"/>
                    </a:moveTo>
                    <a:lnTo>
                      <a:pt x="67" y="1237"/>
                    </a:lnTo>
                    <a:lnTo>
                      <a:pt x="41" y="1141"/>
                    </a:lnTo>
                    <a:lnTo>
                      <a:pt x="20" y="1049"/>
                    </a:lnTo>
                    <a:lnTo>
                      <a:pt x="8" y="962"/>
                    </a:lnTo>
                    <a:lnTo>
                      <a:pt x="2" y="879"/>
                    </a:lnTo>
                    <a:lnTo>
                      <a:pt x="0" y="801"/>
                    </a:lnTo>
                    <a:lnTo>
                      <a:pt x="2" y="730"/>
                    </a:lnTo>
                    <a:lnTo>
                      <a:pt x="8" y="663"/>
                    </a:lnTo>
                    <a:lnTo>
                      <a:pt x="15" y="603"/>
                    </a:lnTo>
                    <a:lnTo>
                      <a:pt x="25" y="551"/>
                    </a:lnTo>
                    <a:lnTo>
                      <a:pt x="37" y="505"/>
                    </a:lnTo>
                    <a:lnTo>
                      <a:pt x="47" y="467"/>
                    </a:lnTo>
                    <a:lnTo>
                      <a:pt x="57" y="436"/>
                    </a:lnTo>
                    <a:lnTo>
                      <a:pt x="65" y="414"/>
                    </a:lnTo>
                    <a:lnTo>
                      <a:pt x="70" y="401"/>
                    </a:lnTo>
                    <a:lnTo>
                      <a:pt x="72" y="395"/>
                    </a:lnTo>
                    <a:lnTo>
                      <a:pt x="120" y="293"/>
                    </a:lnTo>
                    <a:lnTo>
                      <a:pt x="174" y="210"/>
                    </a:lnTo>
                    <a:lnTo>
                      <a:pt x="233" y="143"/>
                    </a:lnTo>
                    <a:lnTo>
                      <a:pt x="295" y="90"/>
                    </a:lnTo>
                    <a:lnTo>
                      <a:pt x="359" y="52"/>
                    </a:lnTo>
                    <a:lnTo>
                      <a:pt x="426" y="25"/>
                    </a:lnTo>
                    <a:lnTo>
                      <a:pt x="492" y="10"/>
                    </a:lnTo>
                    <a:lnTo>
                      <a:pt x="556" y="2"/>
                    </a:lnTo>
                    <a:lnTo>
                      <a:pt x="616" y="0"/>
                    </a:lnTo>
                    <a:lnTo>
                      <a:pt x="674" y="6"/>
                    </a:lnTo>
                    <a:lnTo>
                      <a:pt x="726" y="13"/>
                    </a:lnTo>
                    <a:lnTo>
                      <a:pt x="771" y="24"/>
                    </a:lnTo>
                    <a:lnTo>
                      <a:pt x="808" y="36"/>
                    </a:lnTo>
                    <a:lnTo>
                      <a:pt x="837" y="45"/>
                    </a:lnTo>
                    <a:lnTo>
                      <a:pt x="854" y="53"/>
                    </a:lnTo>
                    <a:lnTo>
                      <a:pt x="861" y="56"/>
                    </a:lnTo>
                    <a:lnTo>
                      <a:pt x="881" y="60"/>
                    </a:lnTo>
                    <a:lnTo>
                      <a:pt x="901" y="62"/>
                    </a:lnTo>
                    <a:lnTo>
                      <a:pt x="920" y="66"/>
                    </a:lnTo>
                    <a:lnTo>
                      <a:pt x="938" y="70"/>
                    </a:lnTo>
                    <a:lnTo>
                      <a:pt x="956" y="74"/>
                    </a:lnTo>
                    <a:lnTo>
                      <a:pt x="974" y="78"/>
                    </a:lnTo>
                    <a:lnTo>
                      <a:pt x="990" y="81"/>
                    </a:lnTo>
                    <a:lnTo>
                      <a:pt x="1008" y="83"/>
                    </a:lnTo>
                    <a:lnTo>
                      <a:pt x="1026" y="86"/>
                    </a:lnTo>
                    <a:lnTo>
                      <a:pt x="1042" y="89"/>
                    </a:lnTo>
                    <a:lnTo>
                      <a:pt x="1060" y="90"/>
                    </a:lnTo>
                    <a:lnTo>
                      <a:pt x="1079" y="91"/>
                    </a:lnTo>
                    <a:lnTo>
                      <a:pt x="1098" y="91"/>
                    </a:lnTo>
                    <a:lnTo>
                      <a:pt x="1116" y="90"/>
                    </a:lnTo>
                    <a:lnTo>
                      <a:pt x="1137" y="87"/>
                    </a:lnTo>
                    <a:lnTo>
                      <a:pt x="1158" y="85"/>
                    </a:lnTo>
                    <a:lnTo>
                      <a:pt x="1179" y="81"/>
                    </a:lnTo>
                    <a:lnTo>
                      <a:pt x="1201" y="77"/>
                    </a:lnTo>
                    <a:lnTo>
                      <a:pt x="1222" y="73"/>
                    </a:lnTo>
                    <a:lnTo>
                      <a:pt x="1242" y="69"/>
                    </a:lnTo>
                    <a:lnTo>
                      <a:pt x="1265" y="66"/>
                    </a:lnTo>
                    <a:lnTo>
                      <a:pt x="1287" y="64"/>
                    </a:lnTo>
                    <a:lnTo>
                      <a:pt x="1309" y="62"/>
                    </a:lnTo>
                    <a:lnTo>
                      <a:pt x="1333" y="61"/>
                    </a:lnTo>
                    <a:lnTo>
                      <a:pt x="1357" y="62"/>
                    </a:lnTo>
                    <a:lnTo>
                      <a:pt x="1384" y="64"/>
                    </a:lnTo>
                    <a:lnTo>
                      <a:pt x="1410" y="67"/>
                    </a:lnTo>
                    <a:lnTo>
                      <a:pt x="1438" y="71"/>
                    </a:lnTo>
                    <a:lnTo>
                      <a:pt x="1468" y="78"/>
                    </a:lnTo>
                    <a:lnTo>
                      <a:pt x="1501" y="86"/>
                    </a:lnTo>
                    <a:lnTo>
                      <a:pt x="1533" y="96"/>
                    </a:lnTo>
                    <a:lnTo>
                      <a:pt x="1570" y="110"/>
                    </a:lnTo>
                    <a:lnTo>
                      <a:pt x="1630" y="137"/>
                    </a:lnTo>
                    <a:lnTo>
                      <a:pt x="1686" y="170"/>
                    </a:lnTo>
                    <a:lnTo>
                      <a:pt x="1734" y="210"/>
                    </a:lnTo>
                    <a:lnTo>
                      <a:pt x="1777" y="254"/>
                    </a:lnTo>
                    <a:lnTo>
                      <a:pt x="1814" y="305"/>
                    </a:lnTo>
                    <a:lnTo>
                      <a:pt x="1847" y="359"/>
                    </a:lnTo>
                    <a:lnTo>
                      <a:pt x="1875" y="415"/>
                    </a:lnTo>
                    <a:lnTo>
                      <a:pt x="1898" y="474"/>
                    </a:lnTo>
                    <a:lnTo>
                      <a:pt x="1915" y="536"/>
                    </a:lnTo>
                    <a:lnTo>
                      <a:pt x="1930" y="600"/>
                    </a:lnTo>
                    <a:lnTo>
                      <a:pt x="1940" y="663"/>
                    </a:lnTo>
                    <a:lnTo>
                      <a:pt x="1948" y="727"/>
                    </a:lnTo>
                    <a:lnTo>
                      <a:pt x="1952" y="792"/>
                    </a:lnTo>
                    <a:lnTo>
                      <a:pt x="1953" y="854"/>
                    </a:lnTo>
                    <a:lnTo>
                      <a:pt x="1950" y="914"/>
                    </a:lnTo>
                    <a:lnTo>
                      <a:pt x="1947" y="974"/>
                    </a:lnTo>
                    <a:lnTo>
                      <a:pt x="1937" y="1055"/>
                    </a:lnTo>
                    <a:lnTo>
                      <a:pt x="1920" y="1138"/>
                    </a:lnTo>
                    <a:lnTo>
                      <a:pt x="1899" y="1222"/>
                    </a:lnTo>
                    <a:lnTo>
                      <a:pt x="1872" y="1308"/>
                    </a:lnTo>
                    <a:lnTo>
                      <a:pt x="1841" y="1392"/>
                    </a:lnTo>
                    <a:lnTo>
                      <a:pt x="1806" y="1478"/>
                    </a:lnTo>
                    <a:lnTo>
                      <a:pt x="1767" y="1561"/>
                    </a:lnTo>
                    <a:lnTo>
                      <a:pt x="1724" y="1641"/>
                    </a:lnTo>
                    <a:lnTo>
                      <a:pt x="1677" y="1720"/>
                    </a:lnTo>
                    <a:lnTo>
                      <a:pt x="1629" y="1797"/>
                    </a:lnTo>
                    <a:lnTo>
                      <a:pt x="1578" y="1868"/>
                    </a:lnTo>
                    <a:lnTo>
                      <a:pt x="1525" y="1935"/>
                    </a:lnTo>
                    <a:lnTo>
                      <a:pt x="1470" y="1998"/>
                    </a:lnTo>
                    <a:lnTo>
                      <a:pt x="1414" y="2055"/>
                    </a:lnTo>
                    <a:lnTo>
                      <a:pt x="1357" y="2105"/>
                    </a:lnTo>
                    <a:lnTo>
                      <a:pt x="1299" y="2148"/>
                    </a:lnTo>
                    <a:lnTo>
                      <a:pt x="1298" y="2150"/>
                    </a:lnTo>
                    <a:lnTo>
                      <a:pt x="1294" y="2151"/>
                    </a:lnTo>
                    <a:lnTo>
                      <a:pt x="1289" y="2154"/>
                    </a:lnTo>
                    <a:lnTo>
                      <a:pt x="1280" y="2156"/>
                    </a:lnTo>
                    <a:lnTo>
                      <a:pt x="1270" y="2160"/>
                    </a:lnTo>
                    <a:lnTo>
                      <a:pt x="1259" y="2164"/>
                    </a:lnTo>
                    <a:lnTo>
                      <a:pt x="1245" y="2167"/>
                    </a:lnTo>
                    <a:lnTo>
                      <a:pt x="1230" y="2169"/>
                    </a:lnTo>
                    <a:lnTo>
                      <a:pt x="1216" y="2171"/>
                    </a:lnTo>
                    <a:lnTo>
                      <a:pt x="1201" y="2172"/>
                    </a:lnTo>
                    <a:lnTo>
                      <a:pt x="1186" y="2172"/>
                    </a:lnTo>
                    <a:lnTo>
                      <a:pt x="1169" y="2172"/>
                    </a:lnTo>
                    <a:lnTo>
                      <a:pt x="1152" y="2169"/>
                    </a:lnTo>
                    <a:lnTo>
                      <a:pt x="1134" y="2167"/>
                    </a:lnTo>
                    <a:lnTo>
                      <a:pt x="1115" y="2162"/>
                    </a:lnTo>
                    <a:lnTo>
                      <a:pt x="1095" y="2155"/>
                    </a:lnTo>
                    <a:lnTo>
                      <a:pt x="1057" y="2140"/>
                    </a:lnTo>
                    <a:lnTo>
                      <a:pt x="1028" y="2131"/>
                    </a:lnTo>
                    <a:lnTo>
                      <a:pt x="1008" y="2125"/>
                    </a:lnTo>
                    <a:lnTo>
                      <a:pt x="994" y="2121"/>
                    </a:lnTo>
                    <a:lnTo>
                      <a:pt x="984" y="2119"/>
                    </a:lnTo>
                    <a:lnTo>
                      <a:pt x="977" y="2118"/>
                    </a:lnTo>
                    <a:lnTo>
                      <a:pt x="970" y="2118"/>
                    </a:lnTo>
                    <a:lnTo>
                      <a:pt x="963" y="2117"/>
                    </a:lnTo>
                    <a:lnTo>
                      <a:pt x="936" y="2114"/>
                    </a:lnTo>
                    <a:lnTo>
                      <a:pt x="910" y="2114"/>
                    </a:lnTo>
                    <a:lnTo>
                      <a:pt x="885" y="2118"/>
                    </a:lnTo>
                    <a:lnTo>
                      <a:pt x="861" y="2125"/>
                    </a:lnTo>
                    <a:lnTo>
                      <a:pt x="838" y="2133"/>
                    </a:lnTo>
                    <a:lnTo>
                      <a:pt x="818" y="2139"/>
                    </a:lnTo>
                    <a:lnTo>
                      <a:pt x="802" y="2147"/>
                    </a:lnTo>
                    <a:lnTo>
                      <a:pt x="788" y="2152"/>
                    </a:lnTo>
                    <a:lnTo>
                      <a:pt x="766" y="2159"/>
                    </a:lnTo>
                    <a:lnTo>
                      <a:pt x="745" y="2162"/>
                    </a:lnTo>
                    <a:lnTo>
                      <a:pt x="725" y="2163"/>
                    </a:lnTo>
                    <a:lnTo>
                      <a:pt x="703" y="2162"/>
                    </a:lnTo>
                    <a:lnTo>
                      <a:pt x="683" y="2158"/>
                    </a:lnTo>
                    <a:lnTo>
                      <a:pt x="664" y="2152"/>
                    </a:lnTo>
                    <a:lnTo>
                      <a:pt x="645" y="2146"/>
                    </a:lnTo>
                    <a:lnTo>
                      <a:pt x="629" y="2138"/>
                    </a:lnTo>
                    <a:lnTo>
                      <a:pt x="613" y="2130"/>
                    </a:lnTo>
                    <a:lnTo>
                      <a:pt x="597" y="2122"/>
                    </a:lnTo>
                    <a:lnTo>
                      <a:pt x="585" y="2114"/>
                    </a:lnTo>
                    <a:lnTo>
                      <a:pt x="575" y="2108"/>
                    </a:lnTo>
                    <a:lnTo>
                      <a:pt x="566" y="2101"/>
                    </a:lnTo>
                    <a:lnTo>
                      <a:pt x="558" y="2096"/>
                    </a:lnTo>
                    <a:lnTo>
                      <a:pt x="555" y="2093"/>
                    </a:lnTo>
                    <a:lnTo>
                      <a:pt x="553" y="2092"/>
                    </a:lnTo>
                    <a:lnTo>
                      <a:pt x="550" y="2088"/>
                    </a:lnTo>
                    <a:lnTo>
                      <a:pt x="541" y="2076"/>
                    </a:lnTo>
                    <a:lnTo>
                      <a:pt x="526" y="2056"/>
                    </a:lnTo>
                    <a:lnTo>
                      <a:pt x="505" y="2030"/>
                    </a:lnTo>
                    <a:lnTo>
                      <a:pt x="480" y="1998"/>
                    </a:lnTo>
                    <a:lnTo>
                      <a:pt x="453" y="1959"/>
                    </a:lnTo>
                    <a:lnTo>
                      <a:pt x="421" y="1914"/>
                    </a:lnTo>
                    <a:lnTo>
                      <a:pt x="387" y="1865"/>
                    </a:lnTo>
                    <a:lnTo>
                      <a:pt x="352" y="1811"/>
                    </a:lnTo>
                    <a:lnTo>
                      <a:pt x="314" y="1752"/>
                    </a:lnTo>
                    <a:lnTo>
                      <a:pt x="276" y="1690"/>
                    </a:lnTo>
                    <a:lnTo>
                      <a:pt x="240" y="1624"/>
                    </a:lnTo>
                    <a:lnTo>
                      <a:pt x="202" y="1556"/>
                    </a:lnTo>
                    <a:lnTo>
                      <a:pt x="167" y="1485"/>
                    </a:lnTo>
                    <a:lnTo>
                      <a:pt x="134" y="1412"/>
                    </a:lnTo>
                    <a:lnTo>
                      <a:pt x="102" y="1337"/>
                    </a:lnTo>
                    <a:close/>
                  </a:path>
                </a:pathLst>
              </a:custGeom>
              <a:solidFill>
                <a:srgbClr val="ff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Freeform 156"/>
              <p:cNvSpPr/>
              <p:nvPr/>
            </p:nvSpPr>
            <p:spPr>
              <a:xfrm>
                <a:off x="6713280" y="2747520"/>
                <a:ext cx="795600" cy="691920"/>
              </a:xfrm>
              <a:custGeom>
                <a:avLst/>
                <a:gdLst/>
                <a:ahLst/>
                <a:rect l="l" t="t" r="r" b="b"/>
                <a:pathLst>
                  <a:path w="1154" h="1765">
                    <a:moveTo>
                      <a:pt x="949" y="59"/>
                    </a:moveTo>
                    <a:lnTo>
                      <a:pt x="944" y="55"/>
                    </a:lnTo>
                    <a:lnTo>
                      <a:pt x="930" y="46"/>
                    </a:lnTo>
                    <a:lnTo>
                      <a:pt x="910" y="34"/>
                    </a:lnTo>
                    <a:lnTo>
                      <a:pt x="883" y="21"/>
                    </a:lnTo>
                    <a:lnTo>
                      <a:pt x="853" y="9"/>
                    </a:lnTo>
                    <a:lnTo>
                      <a:pt x="820" y="1"/>
                    </a:lnTo>
                    <a:lnTo>
                      <a:pt x="788" y="0"/>
                    </a:lnTo>
                    <a:lnTo>
                      <a:pt x="755" y="8"/>
                    </a:lnTo>
                    <a:lnTo>
                      <a:pt x="727" y="20"/>
                    </a:lnTo>
                    <a:lnTo>
                      <a:pt x="706" y="29"/>
                    </a:lnTo>
                    <a:lnTo>
                      <a:pt x="688" y="38"/>
                    </a:lnTo>
                    <a:lnTo>
                      <a:pt x="673" y="46"/>
                    </a:lnTo>
                    <a:lnTo>
                      <a:pt x="658" y="55"/>
                    </a:lnTo>
                    <a:lnTo>
                      <a:pt x="641" y="66"/>
                    </a:lnTo>
                    <a:lnTo>
                      <a:pt x="622" y="79"/>
                    </a:lnTo>
                    <a:lnTo>
                      <a:pt x="597" y="97"/>
                    </a:lnTo>
                    <a:lnTo>
                      <a:pt x="571" y="113"/>
                    </a:lnTo>
                    <a:lnTo>
                      <a:pt x="547" y="120"/>
                    </a:lnTo>
                    <a:lnTo>
                      <a:pt x="524" y="120"/>
                    </a:lnTo>
                    <a:lnTo>
                      <a:pt x="502" y="118"/>
                    </a:lnTo>
                    <a:lnTo>
                      <a:pt x="479" y="117"/>
                    </a:lnTo>
                    <a:lnTo>
                      <a:pt x="456" y="118"/>
                    </a:lnTo>
                    <a:lnTo>
                      <a:pt x="432" y="128"/>
                    </a:lnTo>
                    <a:lnTo>
                      <a:pt x="406" y="146"/>
                    </a:lnTo>
                    <a:lnTo>
                      <a:pt x="378" y="170"/>
                    </a:lnTo>
                    <a:lnTo>
                      <a:pt x="350" y="196"/>
                    </a:lnTo>
                    <a:lnTo>
                      <a:pt x="324" y="226"/>
                    </a:lnTo>
                    <a:lnTo>
                      <a:pt x="301" y="263"/>
                    </a:lnTo>
                    <a:lnTo>
                      <a:pt x="281" y="309"/>
                    </a:lnTo>
                    <a:lnTo>
                      <a:pt x="266" y="365"/>
                    </a:lnTo>
                    <a:lnTo>
                      <a:pt x="257" y="433"/>
                    </a:lnTo>
                    <a:lnTo>
                      <a:pt x="256" y="518"/>
                    </a:lnTo>
                    <a:lnTo>
                      <a:pt x="255" y="581"/>
                    </a:lnTo>
                    <a:lnTo>
                      <a:pt x="248" y="664"/>
                    </a:lnTo>
                    <a:lnTo>
                      <a:pt x="237" y="761"/>
                    </a:lnTo>
                    <a:lnTo>
                      <a:pt x="219" y="864"/>
                    </a:lnTo>
                    <a:lnTo>
                      <a:pt x="195" y="965"/>
                    </a:lnTo>
                    <a:lnTo>
                      <a:pt x="166" y="1060"/>
                    </a:lnTo>
                    <a:lnTo>
                      <a:pt x="129" y="1140"/>
                    </a:lnTo>
                    <a:lnTo>
                      <a:pt x="85" y="1200"/>
                    </a:lnTo>
                    <a:lnTo>
                      <a:pt x="58" y="1241"/>
                    </a:lnTo>
                    <a:lnTo>
                      <a:pt x="35" y="1302"/>
                    </a:lnTo>
                    <a:lnTo>
                      <a:pt x="17" y="1380"/>
                    </a:lnTo>
                    <a:lnTo>
                      <a:pt x="5" y="1463"/>
                    </a:lnTo>
                    <a:lnTo>
                      <a:pt x="0" y="1547"/>
                    </a:lnTo>
                    <a:lnTo>
                      <a:pt x="4" y="1621"/>
                    </a:lnTo>
                    <a:lnTo>
                      <a:pt x="18" y="1680"/>
                    </a:lnTo>
                    <a:lnTo>
                      <a:pt x="43" y="1715"/>
                    </a:lnTo>
                    <a:lnTo>
                      <a:pt x="71" y="1732"/>
                    </a:lnTo>
                    <a:lnTo>
                      <a:pt x="92" y="1742"/>
                    </a:lnTo>
                    <a:lnTo>
                      <a:pt x="110" y="1746"/>
                    </a:lnTo>
                    <a:lnTo>
                      <a:pt x="126" y="1746"/>
                    </a:lnTo>
                    <a:lnTo>
                      <a:pt x="142" y="1744"/>
                    </a:lnTo>
                    <a:lnTo>
                      <a:pt x="161" y="1736"/>
                    </a:lnTo>
                    <a:lnTo>
                      <a:pt x="184" y="1727"/>
                    </a:lnTo>
                    <a:lnTo>
                      <a:pt x="213" y="1716"/>
                    </a:lnTo>
                    <a:lnTo>
                      <a:pt x="231" y="1711"/>
                    </a:lnTo>
                    <a:lnTo>
                      <a:pt x="248" y="1708"/>
                    </a:lnTo>
                    <a:lnTo>
                      <a:pt x="266" y="1705"/>
                    </a:lnTo>
                    <a:lnTo>
                      <a:pt x="284" y="1703"/>
                    </a:lnTo>
                    <a:lnTo>
                      <a:pt x="302" y="1703"/>
                    </a:lnTo>
                    <a:lnTo>
                      <a:pt x="320" y="1703"/>
                    </a:lnTo>
                    <a:lnTo>
                      <a:pt x="338" y="1704"/>
                    </a:lnTo>
                    <a:lnTo>
                      <a:pt x="355" y="1707"/>
                    </a:lnTo>
                    <a:lnTo>
                      <a:pt x="372" y="1709"/>
                    </a:lnTo>
                    <a:lnTo>
                      <a:pt x="388" y="1712"/>
                    </a:lnTo>
                    <a:lnTo>
                      <a:pt x="403" y="1716"/>
                    </a:lnTo>
                    <a:lnTo>
                      <a:pt x="417" y="1720"/>
                    </a:lnTo>
                    <a:lnTo>
                      <a:pt x="430" y="1725"/>
                    </a:lnTo>
                    <a:lnTo>
                      <a:pt x="442" y="1730"/>
                    </a:lnTo>
                    <a:lnTo>
                      <a:pt x="451" y="1736"/>
                    </a:lnTo>
                    <a:lnTo>
                      <a:pt x="460" y="1741"/>
                    </a:lnTo>
                    <a:lnTo>
                      <a:pt x="476" y="1752"/>
                    </a:lnTo>
                    <a:lnTo>
                      <a:pt x="495" y="1758"/>
                    </a:lnTo>
                    <a:lnTo>
                      <a:pt x="515" y="1762"/>
                    </a:lnTo>
                    <a:lnTo>
                      <a:pt x="537" y="1765"/>
                    </a:lnTo>
                    <a:lnTo>
                      <a:pt x="558" y="1763"/>
                    </a:lnTo>
                    <a:lnTo>
                      <a:pt x="578" y="1759"/>
                    </a:lnTo>
                    <a:lnTo>
                      <a:pt x="596" y="1753"/>
                    </a:lnTo>
                    <a:lnTo>
                      <a:pt x="610" y="1742"/>
                    </a:lnTo>
                    <a:lnTo>
                      <a:pt x="619" y="1733"/>
                    </a:lnTo>
                    <a:lnTo>
                      <a:pt x="631" y="1719"/>
                    </a:lnTo>
                    <a:lnTo>
                      <a:pt x="648" y="1698"/>
                    </a:lnTo>
                    <a:lnTo>
                      <a:pt x="667" y="1674"/>
                    </a:lnTo>
                    <a:lnTo>
                      <a:pt x="688" y="1645"/>
                    </a:lnTo>
                    <a:lnTo>
                      <a:pt x="712" y="1612"/>
                    </a:lnTo>
                    <a:lnTo>
                      <a:pt x="738" y="1579"/>
                    </a:lnTo>
                    <a:lnTo>
                      <a:pt x="765" y="1543"/>
                    </a:lnTo>
                    <a:lnTo>
                      <a:pt x="791" y="1507"/>
                    </a:lnTo>
                    <a:lnTo>
                      <a:pt x="818" y="1471"/>
                    </a:lnTo>
                    <a:lnTo>
                      <a:pt x="844" y="1435"/>
                    </a:lnTo>
                    <a:lnTo>
                      <a:pt x="869" y="1403"/>
                    </a:lnTo>
                    <a:lnTo>
                      <a:pt x="892" y="1371"/>
                    </a:lnTo>
                    <a:lnTo>
                      <a:pt x="913" y="1343"/>
                    </a:lnTo>
                    <a:lnTo>
                      <a:pt x="931" y="1320"/>
                    </a:lnTo>
                    <a:lnTo>
                      <a:pt x="946" y="1301"/>
                    </a:lnTo>
                    <a:lnTo>
                      <a:pt x="963" y="1277"/>
                    </a:lnTo>
                    <a:lnTo>
                      <a:pt x="984" y="1239"/>
                    </a:lnTo>
                    <a:lnTo>
                      <a:pt x="1009" y="1189"/>
                    </a:lnTo>
                    <a:lnTo>
                      <a:pt x="1037" y="1127"/>
                    </a:lnTo>
                    <a:lnTo>
                      <a:pt x="1065" y="1056"/>
                    </a:lnTo>
                    <a:lnTo>
                      <a:pt x="1091" y="977"/>
                    </a:lnTo>
                    <a:lnTo>
                      <a:pt x="1115" y="892"/>
                    </a:lnTo>
                    <a:lnTo>
                      <a:pt x="1134" y="801"/>
                    </a:lnTo>
                    <a:lnTo>
                      <a:pt x="1148" y="706"/>
                    </a:lnTo>
                    <a:lnTo>
                      <a:pt x="1154" y="608"/>
                    </a:lnTo>
                    <a:lnTo>
                      <a:pt x="1152" y="510"/>
                    </a:lnTo>
                    <a:lnTo>
                      <a:pt x="1138" y="412"/>
                    </a:lnTo>
                    <a:lnTo>
                      <a:pt x="1113" y="317"/>
                    </a:lnTo>
                    <a:lnTo>
                      <a:pt x="1073" y="226"/>
                    </a:lnTo>
                    <a:lnTo>
                      <a:pt x="1019" y="140"/>
                    </a:lnTo>
                    <a:lnTo>
                      <a:pt x="949" y="59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Freeform 157"/>
              <p:cNvSpPr/>
              <p:nvPr/>
            </p:nvSpPr>
            <p:spPr>
              <a:xfrm>
                <a:off x="6682320" y="2683080"/>
                <a:ext cx="355680" cy="87840"/>
              </a:xfrm>
              <a:custGeom>
                <a:avLst/>
                <a:gdLst/>
                <a:ahLst/>
                <a:rect l="l" t="t" r="r" b="b"/>
                <a:pathLst>
                  <a:path w="519" h="213">
                    <a:moveTo>
                      <a:pt x="301" y="75"/>
                    </a:moveTo>
                    <a:lnTo>
                      <a:pt x="296" y="72"/>
                    </a:lnTo>
                    <a:lnTo>
                      <a:pt x="282" y="66"/>
                    </a:lnTo>
                    <a:lnTo>
                      <a:pt x="262" y="57"/>
                    </a:lnTo>
                    <a:lnTo>
                      <a:pt x="235" y="45"/>
                    </a:lnTo>
                    <a:lnTo>
                      <a:pt x="206" y="33"/>
                    </a:lnTo>
                    <a:lnTo>
                      <a:pt x="175" y="21"/>
                    </a:lnTo>
                    <a:lnTo>
                      <a:pt x="143" y="10"/>
                    </a:lnTo>
                    <a:lnTo>
                      <a:pt x="113" y="4"/>
                    </a:lnTo>
                    <a:lnTo>
                      <a:pt x="87" y="0"/>
                    </a:lnTo>
                    <a:lnTo>
                      <a:pt x="64" y="1"/>
                    </a:lnTo>
                    <a:lnTo>
                      <a:pt x="44" y="4"/>
                    </a:lnTo>
                    <a:lnTo>
                      <a:pt x="29" y="9"/>
                    </a:lnTo>
                    <a:lnTo>
                      <a:pt x="16" y="16"/>
                    </a:lnTo>
                    <a:lnTo>
                      <a:pt x="7" y="21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179" y="188"/>
                    </a:lnTo>
                    <a:lnTo>
                      <a:pt x="184" y="190"/>
                    </a:lnTo>
                    <a:lnTo>
                      <a:pt x="199" y="194"/>
                    </a:lnTo>
                    <a:lnTo>
                      <a:pt x="220" y="199"/>
                    </a:lnTo>
                    <a:lnTo>
                      <a:pt x="247" y="204"/>
                    </a:lnTo>
                    <a:lnTo>
                      <a:pt x="276" y="209"/>
                    </a:lnTo>
                    <a:lnTo>
                      <a:pt x="306" y="213"/>
                    </a:lnTo>
                    <a:lnTo>
                      <a:pt x="335" y="213"/>
                    </a:lnTo>
                    <a:lnTo>
                      <a:pt x="361" y="209"/>
                    </a:lnTo>
                    <a:lnTo>
                      <a:pt x="387" y="203"/>
                    </a:lnTo>
                    <a:lnTo>
                      <a:pt x="412" y="194"/>
                    </a:lnTo>
                    <a:lnTo>
                      <a:pt x="437" y="186"/>
                    </a:lnTo>
                    <a:lnTo>
                      <a:pt x="460" y="178"/>
                    </a:lnTo>
                    <a:lnTo>
                      <a:pt x="480" y="170"/>
                    </a:lnTo>
                    <a:lnTo>
                      <a:pt x="496" y="163"/>
                    </a:lnTo>
                    <a:lnTo>
                      <a:pt x="506" y="159"/>
                    </a:lnTo>
                    <a:lnTo>
                      <a:pt x="510" y="158"/>
                    </a:lnTo>
                    <a:lnTo>
                      <a:pt x="511" y="158"/>
                    </a:lnTo>
                    <a:lnTo>
                      <a:pt x="515" y="157"/>
                    </a:lnTo>
                    <a:lnTo>
                      <a:pt x="518" y="154"/>
                    </a:lnTo>
                    <a:lnTo>
                      <a:pt x="519" y="151"/>
                    </a:lnTo>
                    <a:lnTo>
                      <a:pt x="518" y="147"/>
                    </a:lnTo>
                    <a:lnTo>
                      <a:pt x="510" y="141"/>
                    </a:lnTo>
                    <a:lnTo>
                      <a:pt x="496" y="134"/>
                    </a:lnTo>
                    <a:lnTo>
                      <a:pt x="473" y="126"/>
                    </a:lnTo>
                    <a:lnTo>
                      <a:pt x="448" y="116"/>
                    </a:lnTo>
                    <a:lnTo>
                      <a:pt x="428" y="105"/>
                    </a:lnTo>
                    <a:lnTo>
                      <a:pt x="410" y="95"/>
                    </a:lnTo>
                    <a:lnTo>
                      <a:pt x="394" y="86"/>
                    </a:lnTo>
                    <a:lnTo>
                      <a:pt x="376" y="78"/>
                    </a:lnTo>
                    <a:lnTo>
                      <a:pt x="356" y="74"/>
                    </a:lnTo>
                    <a:lnTo>
                      <a:pt x="331" y="72"/>
                    </a:lnTo>
                    <a:lnTo>
                      <a:pt x="301" y="75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Freeform 158"/>
              <p:cNvSpPr/>
              <p:nvPr/>
            </p:nvSpPr>
            <p:spPr>
              <a:xfrm>
                <a:off x="6291360" y="2725560"/>
                <a:ext cx="461520" cy="557640"/>
              </a:xfrm>
              <a:custGeom>
                <a:avLst/>
                <a:gdLst/>
                <a:ahLst/>
                <a:rect l="l" t="t" r="r" b="b"/>
                <a:pathLst>
                  <a:path w="666" h="1421">
                    <a:moveTo>
                      <a:pt x="368" y="19"/>
                    </a:moveTo>
                    <a:lnTo>
                      <a:pt x="364" y="21"/>
                    </a:lnTo>
                    <a:lnTo>
                      <a:pt x="356" y="27"/>
                    </a:lnTo>
                    <a:lnTo>
                      <a:pt x="341" y="37"/>
                    </a:lnTo>
                    <a:lnTo>
                      <a:pt x="320" y="50"/>
                    </a:lnTo>
                    <a:lnTo>
                      <a:pt x="298" y="69"/>
                    </a:lnTo>
                    <a:lnTo>
                      <a:pt x="271" y="91"/>
                    </a:lnTo>
                    <a:lnTo>
                      <a:pt x="242" y="116"/>
                    </a:lnTo>
                    <a:lnTo>
                      <a:pt x="212" y="146"/>
                    </a:lnTo>
                    <a:lnTo>
                      <a:pt x="182" y="179"/>
                    </a:lnTo>
                    <a:lnTo>
                      <a:pt x="150" y="218"/>
                    </a:lnTo>
                    <a:lnTo>
                      <a:pt x="120" y="258"/>
                    </a:lnTo>
                    <a:lnTo>
                      <a:pt x="92" y="303"/>
                    </a:lnTo>
                    <a:lnTo>
                      <a:pt x="67" y="352"/>
                    </a:lnTo>
                    <a:lnTo>
                      <a:pt x="44" y="403"/>
                    </a:lnTo>
                    <a:lnTo>
                      <a:pt x="26" y="460"/>
                    </a:lnTo>
                    <a:lnTo>
                      <a:pt x="12" y="519"/>
                    </a:lnTo>
                    <a:lnTo>
                      <a:pt x="4" y="577"/>
                    </a:lnTo>
                    <a:lnTo>
                      <a:pt x="0" y="635"/>
                    </a:lnTo>
                    <a:lnTo>
                      <a:pt x="0" y="692"/>
                    </a:lnTo>
                    <a:lnTo>
                      <a:pt x="4" y="748"/>
                    </a:lnTo>
                    <a:lnTo>
                      <a:pt x="12" y="802"/>
                    </a:lnTo>
                    <a:lnTo>
                      <a:pt x="22" y="855"/>
                    </a:lnTo>
                    <a:lnTo>
                      <a:pt x="33" y="905"/>
                    </a:lnTo>
                    <a:lnTo>
                      <a:pt x="47" y="952"/>
                    </a:lnTo>
                    <a:lnTo>
                      <a:pt x="62" y="997"/>
                    </a:lnTo>
                    <a:lnTo>
                      <a:pt x="79" y="1038"/>
                    </a:lnTo>
                    <a:lnTo>
                      <a:pt x="94" y="1076"/>
                    </a:lnTo>
                    <a:lnTo>
                      <a:pt x="110" y="1109"/>
                    </a:lnTo>
                    <a:lnTo>
                      <a:pt x="125" y="1138"/>
                    </a:lnTo>
                    <a:lnTo>
                      <a:pt x="138" y="1162"/>
                    </a:lnTo>
                    <a:lnTo>
                      <a:pt x="150" y="1180"/>
                    </a:lnTo>
                    <a:lnTo>
                      <a:pt x="160" y="1194"/>
                    </a:lnTo>
                    <a:lnTo>
                      <a:pt x="179" y="1216"/>
                    </a:lnTo>
                    <a:lnTo>
                      <a:pt x="199" y="1244"/>
                    </a:lnTo>
                    <a:lnTo>
                      <a:pt x="221" y="1273"/>
                    </a:lnTo>
                    <a:lnTo>
                      <a:pt x="241" y="1302"/>
                    </a:lnTo>
                    <a:lnTo>
                      <a:pt x="260" y="1329"/>
                    </a:lnTo>
                    <a:lnTo>
                      <a:pt x="274" y="1350"/>
                    </a:lnTo>
                    <a:lnTo>
                      <a:pt x="284" y="1366"/>
                    </a:lnTo>
                    <a:lnTo>
                      <a:pt x="288" y="1371"/>
                    </a:lnTo>
                    <a:lnTo>
                      <a:pt x="290" y="1374"/>
                    </a:lnTo>
                    <a:lnTo>
                      <a:pt x="296" y="1382"/>
                    </a:lnTo>
                    <a:lnTo>
                      <a:pt x="305" y="1392"/>
                    </a:lnTo>
                    <a:lnTo>
                      <a:pt x="318" y="1404"/>
                    </a:lnTo>
                    <a:lnTo>
                      <a:pt x="330" y="1413"/>
                    </a:lnTo>
                    <a:lnTo>
                      <a:pt x="343" y="1420"/>
                    </a:lnTo>
                    <a:lnTo>
                      <a:pt x="356" y="1421"/>
                    </a:lnTo>
                    <a:lnTo>
                      <a:pt x="366" y="1413"/>
                    </a:lnTo>
                    <a:lnTo>
                      <a:pt x="376" y="1402"/>
                    </a:lnTo>
                    <a:lnTo>
                      <a:pt x="388" y="1391"/>
                    </a:lnTo>
                    <a:lnTo>
                      <a:pt x="401" y="1379"/>
                    </a:lnTo>
                    <a:lnTo>
                      <a:pt x="412" y="1365"/>
                    </a:lnTo>
                    <a:lnTo>
                      <a:pt x="424" y="1346"/>
                    </a:lnTo>
                    <a:lnTo>
                      <a:pt x="433" y="1324"/>
                    </a:lnTo>
                    <a:lnTo>
                      <a:pt x="438" y="1295"/>
                    </a:lnTo>
                    <a:lnTo>
                      <a:pt x="439" y="1259"/>
                    </a:lnTo>
                    <a:lnTo>
                      <a:pt x="436" y="1163"/>
                    </a:lnTo>
                    <a:lnTo>
                      <a:pt x="431" y="1053"/>
                    </a:lnTo>
                    <a:lnTo>
                      <a:pt x="426" y="954"/>
                    </a:lnTo>
                    <a:lnTo>
                      <a:pt x="424" y="889"/>
                    </a:lnTo>
                    <a:lnTo>
                      <a:pt x="430" y="852"/>
                    </a:lnTo>
                    <a:lnTo>
                      <a:pt x="448" y="787"/>
                    </a:lnTo>
                    <a:lnTo>
                      <a:pt x="473" y="701"/>
                    </a:lnTo>
                    <a:lnTo>
                      <a:pt x="503" y="607"/>
                    </a:lnTo>
                    <a:lnTo>
                      <a:pt x="536" y="514"/>
                    </a:lnTo>
                    <a:lnTo>
                      <a:pt x="569" y="432"/>
                    </a:lnTo>
                    <a:lnTo>
                      <a:pt x="596" y="369"/>
                    </a:lnTo>
                    <a:lnTo>
                      <a:pt x="618" y="337"/>
                    </a:lnTo>
                    <a:lnTo>
                      <a:pt x="633" y="323"/>
                    </a:lnTo>
                    <a:lnTo>
                      <a:pt x="645" y="305"/>
                    </a:lnTo>
                    <a:lnTo>
                      <a:pt x="654" y="283"/>
                    </a:lnTo>
                    <a:lnTo>
                      <a:pt x="661" y="260"/>
                    </a:lnTo>
                    <a:lnTo>
                      <a:pt x="664" y="233"/>
                    </a:lnTo>
                    <a:lnTo>
                      <a:pt x="666" y="207"/>
                    </a:lnTo>
                    <a:lnTo>
                      <a:pt x="664" y="178"/>
                    </a:lnTo>
                    <a:lnTo>
                      <a:pt x="662" y="149"/>
                    </a:lnTo>
                    <a:lnTo>
                      <a:pt x="658" y="133"/>
                    </a:lnTo>
                    <a:lnTo>
                      <a:pt x="652" y="119"/>
                    </a:lnTo>
                    <a:lnTo>
                      <a:pt x="642" y="102"/>
                    </a:lnTo>
                    <a:lnTo>
                      <a:pt x="629" y="86"/>
                    </a:lnTo>
                    <a:lnTo>
                      <a:pt x="614" y="71"/>
                    </a:lnTo>
                    <a:lnTo>
                      <a:pt x="598" y="56"/>
                    </a:lnTo>
                    <a:lnTo>
                      <a:pt x="579" y="42"/>
                    </a:lnTo>
                    <a:lnTo>
                      <a:pt x="557" y="31"/>
                    </a:lnTo>
                    <a:lnTo>
                      <a:pt x="536" y="20"/>
                    </a:lnTo>
                    <a:lnTo>
                      <a:pt x="513" y="11"/>
                    </a:lnTo>
                    <a:lnTo>
                      <a:pt x="489" y="4"/>
                    </a:lnTo>
                    <a:lnTo>
                      <a:pt x="464" y="0"/>
                    </a:lnTo>
                    <a:lnTo>
                      <a:pt x="440" y="0"/>
                    </a:lnTo>
                    <a:lnTo>
                      <a:pt x="416" y="3"/>
                    </a:lnTo>
                    <a:lnTo>
                      <a:pt x="392" y="8"/>
                    </a:lnTo>
                    <a:lnTo>
                      <a:pt x="368" y="19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Freeform 159"/>
              <p:cNvSpPr/>
              <p:nvPr/>
            </p:nvSpPr>
            <p:spPr>
              <a:xfrm>
                <a:off x="6676200" y="3443400"/>
                <a:ext cx="407880" cy="36360"/>
              </a:xfrm>
              <a:custGeom>
                <a:avLst/>
                <a:gdLst/>
                <a:ahLst/>
                <a:rect l="l" t="t" r="r" b="b"/>
                <a:pathLst>
                  <a:path w="590" h="105">
                    <a:moveTo>
                      <a:pt x="81" y="104"/>
                    </a:moveTo>
                    <a:lnTo>
                      <a:pt x="71" y="101"/>
                    </a:lnTo>
                    <a:lnTo>
                      <a:pt x="59" y="99"/>
                    </a:lnTo>
                    <a:lnTo>
                      <a:pt x="49" y="93"/>
                    </a:lnTo>
                    <a:lnTo>
                      <a:pt x="39" y="88"/>
                    </a:lnTo>
                    <a:lnTo>
                      <a:pt x="29" y="80"/>
                    </a:lnTo>
                    <a:lnTo>
                      <a:pt x="19" y="71"/>
                    </a:lnTo>
                    <a:lnTo>
                      <a:pt x="9" y="59"/>
                    </a:lnTo>
                    <a:lnTo>
                      <a:pt x="0" y="46"/>
                    </a:lnTo>
                    <a:lnTo>
                      <a:pt x="5" y="47"/>
                    </a:lnTo>
                    <a:lnTo>
                      <a:pt x="20" y="50"/>
                    </a:lnTo>
                    <a:lnTo>
                      <a:pt x="42" y="53"/>
                    </a:lnTo>
                    <a:lnTo>
                      <a:pt x="68" y="55"/>
                    </a:lnTo>
                    <a:lnTo>
                      <a:pt x="98" y="55"/>
                    </a:lnTo>
                    <a:lnTo>
                      <a:pt x="130" y="53"/>
                    </a:lnTo>
                    <a:lnTo>
                      <a:pt x="159" y="45"/>
                    </a:lnTo>
                    <a:lnTo>
                      <a:pt x="185" y="32"/>
                    </a:lnTo>
                    <a:lnTo>
                      <a:pt x="198" y="24"/>
                    </a:lnTo>
                    <a:lnTo>
                      <a:pt x="213" y="17"/>
                    </a:lnTo>
                    <a:lnTo>
                      <a:pt x="230" y="12"/>
                    </a:lnTo>
                    <a:lnTo>
                      <a:pt x="247" y="7"/>
                    </a:lnTo>
                    <a:lnTo>
                      <a:pt x="266" y="4"/>
                    </a:lnTo>
                    <a:lnTo>
                      <a:pt x="286" y="1"/>
                    </a:lnTo>
                    <a:lnTo>
                      <a:pt x="306" y="0"/>
                    </a:lnTo>
                    <a:lnTo>
                      <a:pt x="327" y="0"/>
                    </a:lnTo>
                    <a:lnTo>
                      <a:pt x="348" y="1"/>
                    </a:lnTo>
                    <a:lnTo>
                      <a:pt x="368" y="4"/>
                    </a:lnTo>
                    <a:lnTo>
                      <a:pt x="390" y="8"/>
                    </a:lnTo>
                    <a:lnTo>
                      <a:pt x="410" y="12"/>
                    </a:lnTo>
                    <a:lnTo>
                      <a:pt x="429" y="17"/>
                    </a:lnTo>
                    <a:lnTo>
                      <a:pt x="446" y="25"/>
                    </a:lnTo>
                    <a:lnTo>
                      <a:pt x="464" y="33"/>
                    </a:lnTo>
                    <a:lnTo>
                      <a:pt x="479" y="42"/>
                    </a:lnTo>
                    <a:lnTo>
                      <a:pt x="505" y="58"/>
                    </a:lnTo>
                    <a:lnTo>
                      <a:pt x="528" y="66"/>
                    </a:lnTo>
                    <a:lnTo>
                      <a:pt x="547" y="70"/>
                    </a:lnTo>
                    <a:lnTo>
                      <a:pt x="562" y="68"/>
                    </a:lnTo>
                    <a:lnTo>
                      <a:pt x="573" y="66"/>
                    </a:lnTo>
                    <a:lnTo>
                      <a:pt x="582" y="62"/>
                    </a:lnTo>
                    <a:lnTo>
                      <a:pt x="587" y="58"/>
                    </a:lnTo>
                    <a:lnTo>
                      <a:pt x="589" y="57"/>
                    </a:lnTo>
                    <a:lnTo>
                      <a:pt x="589" y="59"/>
                    </a:lnTo>
                    <a:lnTo>
                      <a:pt x="590" y="66"/>
                    </a:lnTo>
                    <a:lnTo>
                      <a:pt x="587" y="75"/>
                    </a:lnTo>
                    <a:lnTo>
                      <a:pt x="580" y="84"/>
                    </a:lnTo>
                    <a:lnTo>
                      <a:pt x="565" y="91"/>
                    </a:lnTo>
                    <a:lnTo>
                      <a:pt x="541" y="93"/>
                    </a:lnTo>
                    <a:lnTo>
                      <a:pt x="504" y="90"/>
                    </a:lnTo>
                    <a:lnTo>
                      <a:pt x="454" y="78"/>
                    </a:lnTo>
                    <a:lnTo>
                      <a:pt x="451" y="76"/>
                    </a:lnTo>
                    <a:lnTo>
                      <a:pt x="446" y="75"/>
                    </a:lnTo>
                    <a:lnTo>
                      <a:pt x="436" y="72"/>
                    </a:lnTo>
                    <a:lnTo>
                      <a:pt x="425" y="68"/>
                    </a:lnTo>
                    <a:lnTo>
                      <a:pt x="410" y="66"/>
                    </a:lnTo>
                    <a:lnTo>
                      <a:pt x="392" y="62"/>
                    </a:lnTo>
                    <a:lnTo>
                      <a:pt x="373" y="58"/>
                    </a:lnTo>
                    <a:lnTo>
                      <a:pt x="354" y="54"/>
                    </a:lnTo>
                    <a:lnTo>
                      <a:pt x="333" y="51"/>
                    </a:lnTo>
                    <a:lnTo>
                      <a:pt x="311" y="49"/>
                    </a:lnTo>
                    <a:lnTo>
                      <a:pt x="289" y="49"/>
                    </a:lnTo>
                    <a:lnTo>
                      <a:pt x="267" y="49"/>
                    </a:lnTo>
                    <a:lnTo>
                      <a:pt x="247" y="51"/>
                    </a:lnTo>
                    <a:lnTo>
                      <a:pt x="227" y="55"/>
                    </a:lnTo>
                    <a:lnTo>
                      <a:pt x="209" y="61"/>
                    </a:lnTo>
                    <a:lnTo>
                      <a:pt x="193" y="70"/>
                    </a:lnTo>
                    <a:lnTo>
                      <a:pt x="190" y="71"/>
                    </a:lnTo>
                    <a:lnTo>
                      <a:pt x="184" y="76"/>
                    </a:lnTo>
                    <a:lnTo>
                      <a:pt x="173" y="83"/>
                    </a:lnTo>
                    <a:lnTo>
                      <a:pt x="159" y="90"/>
                    </a:lnTo>
                    <a:lnTo>
                      <a:pt x="141" y="96"/>
                    </a:lnTo>
                    <a:lnTo>
                      <a:pt x="122" y="101"/>
                    </a:lnTo>
                    <a:lnTo>
                      <a:pt x="102" y="105"/>
                    </a:lnTo>
                    <a:lnTo>
                      <a:pt x="81" y="104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Freeform 160"/>
              <p:cNvSpPr/>
              <p:nvPr/>
            </p:nvSpPr>
            <p:spPr>
              <a:xfrm>
                <a:off x="6332400" y="2753640"/>
                <a:ext cx="327240" cy="434520"/>
              </a:xfrm>
              <a:custGeom>
                <a:avLst/>
                <a:gdLst/>
                <a:ahLst/>
                <a:rect l="l" t="t" r="r" b="b"/>
                <a:pathLst>
                  <a:path w="474" h="1109">
                    <a:moveTo>
                      <a:pt x="312" y="8"/>
                    </a:moveTo>
                    <a:lnTo>
                      <a:pt x="309" y="10"/>
                    </a:lnTo>
                    <a:lnTo>
                      <a:pt x="303" y="12"/>
                    </a:lnTo>
                    <a:lnTo>
                      <a:pt x="293" y="18"/>
                    </a:lnTo>
                    <a:lnTo>
                      <a:pt x="279" y="25"/>
                    </a:lnTo>
                    <a:lnTo>
                      <a:pt x="261" y="36"/>
                    </a:lnTo>
                    <a:lnTo>
                      <a:pt x="242" y="48"/>
                    </a:lnTo>
                    <a:lnTo>
                      <a:pt x="222" y="62"/>
                    </a:lnTo>
                    <a:lnTo>
                      <a:pt x="199" y="79"/>
                    </a:lnTo>
                    <a:lnTo>
                      <a:pt x="177" y="100"/>
                    </a:lnTo>
                    <a:lnTo>
                      <a:pt x="153" y="123"/>
                    </a:lnTo>
                    <a:lnTo>
                      <a:pt x="129" y="148"/>
                    </a:lnTo>
                    <a:lnTo>
                      <a:pt x="106" y="176"/>
                    </a:lnTo>
                    <a:lnTo>
                      <a:pt x="85" y="207"/>
                    </a:lnTo>
                    <a:lnTo>
                      <a:pt x="65" y="241"/>
                    </a:lnTo>
                    <a:lnTo>
                      <a:pt x="46" y="278"/>
                    </a:lnTo>
                    <a:lnTo>
                      <a:pt x="31" y="318"/>
                    </a:lnTo>
                    <a:lnTo>
                      <a:pt x="9" y="401"/>
                    </a:lnTo>
                    <a:lnTo>
                      <a:pt x="0" y="485"/>
                    </a:lnTo>
                    <a:lnTo>
                      <a:pt x="0" y="569"/>
                    </a:lnTo>
                    <a:lnTo>
                      <a:pt x="7" y="648"/>
                    </a:lnTo>
                    <a:lnTo>
                      <a:pt x="17" y="721"/>
                    </a:lnTo>
                    <a:lnTo>
                      <a:pt x="28" y="780"/>
                    </a:lnTo>
                    <a:lnTo>
                      <a:pt x="38" y="826"/>
                    </a:lnTo>
                    <a:lnTo>
                      <a:pt x="46" y="853"/>
                    </a:lnTo>
                    <a:lnTo>
                      <a:pt x="60" y="892"/>
                    </a:lnTo>
                    <a:lnTo>
                      <a:pt x="77" y="933"/>
                    </a:lnTo>
                    <a:lnTo>
                      <a:pt x="96" y="971"/>
                    </a:lnTo>
                    <a:lnTo>
                      <a:pt x="115" y="1007"/>
                    </a:lnTo>
                    <a:lnTo>
                      <a:pt x="133" y="1037"/>
                    </a:lnTo>
                    <a:lnTo>
                      <a:pt x="148" y="1061"/>
                    </a:lnTo>
                    <a:lnTo>
                      <a:pt x="158" y="1076"/>
                    </a:lnTo>
                    <a:lnTo>
                      <a:pt x="162" y="1082"/>
                    </a:lnTo>
                    <a:lnTo>
                      <a:pt x="163" y="1086"/>
                    </a:lnTo>
                    <a:lnTo>
                      <a:pt x="167" y="1094"/>
                    </a:lnTo>
                    <a:lnTo>
                      <a:pt x="173" y="1103"/>
                    </a:lnTo>
                    <a:lnTo>
                      <a:pt x="180" y="1108"/>
                    </a:lnTo>
                    <a:lnTo>
                      <a:pt x="191" y="1109"/>
                    </a:lnTo>
                    <a:lnTo>
                      <a:pt x="202" y="1100"/>
                    </a:lnTo>
                    <a:lnTo>
                      <a:pt x="216" y="1079"/>
                    </a:lnTo>
                    <a:lnTo>
                      <a:pt x="230" y="1041"/>
                    </a:lnTo>
                    <a:lnTo>
                      <a:pt x="238" y="983"/>
                    </a:lnTo>
                    <a:lnTo>
                      <a:pt x="238" y="907"/>
                    </a:lnTo>
                    <a:lnTo>
                      <a:pt x="232" y="821"/>
                    </a:lnTo>
                    <a:lnTo>
                      <a:pt x="227" y="727"/>
                    </a:lnTo>
                    <a:lnTo>
                      <a:pt x="225" y="633"/>
                    </a:lnTo>
                    <a:lnTo>
                      <a:pt x="232" y="543"/>
                    </a:lnTo>
                    <a:lnTo>
                      <a:pt x="254" y="463"/>
                    </a:lnTo>
                    <a:lnTo>
                      <a:pt x="293" y="397"/>
                    </a:lnTo>
                    <a:lnTo>
                      <a:pt x="339" y="343"/>
                    </a:lnTo>
                    <a:lnTo>
                      <a:pt x="380" y="295"/>
                    </a:lnTo>
                    <a:lnTo>
                      <a:pt x="411" y="255"/>
                    </a:lnTo>
                    <a:lnTo>
                      <a:pt x="437" y="220"/>
                    </a:lnTo>
                    <a:lnTo>
                      <a:pt x="455" y="190"/>
                    </a:lnTo>
                    <a:lnTo>
                      <a:pt x="468" y="164"/>
                    </a:lnTo>
                    <a:lnTo>
                      <a:pt x="474" y="139"/>
                    </a:lnTo>
                    <a:lnTo>
                      <a:pt x="473" y="116"/>
                    </a:lnTo>
                    <a:lnTo>
                      <a:pt x="468" y="93"/>
                    </a:lnTo>
                    <a:lnTo>
                      <a:pt x="459" y="69"/>
                    </a:lnTo>
                    <a:lnTo>
                      <a:pt x="446" y="46"/>
                    </a:lnTo>
                    <a:lnTo>
                      <a:pt x="430" y="27"/>
                    </a:lnTo>
                    <a:lnTo>
                      <a:pt x="410" y="11"/>
                    </a:lnTo>
                    <a:lnTo>
                      <a:pt x="382" y="2"/>
                    </a:lnTo>
                    <a:lnTo>
                      <a:pt x="351" y="0"/>
                    </a:lnTo>
                    <a:lnTo>
                      <a:pt x="312" y="8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Freeform 161"/>
              <p:cNvSpPr/>
              <p:nvPr/>
            </p:nvSpPr>
            <p:spPr>
              <a:xfrm>
                <a:off x="6759000" y="3437640"/>
                <a:ext cx="306360" cy="37800"/>
              </a:xfrm>
              <a:custGeom>
                <a:avLst/>
                <a:gdLst/>
                <a:ahLst/>
                <a:rect l="l" t="t" r="r" b="b"/>
                <a:pathLst>
                  <a:path w="442" h="110">
                    <a:moveTo>
                      <a:pt x="0" y="85"/>
                    </a:moveTo>
                    <a:lnTo>
                      <a:pt x="3" y="85"/>
                    </a:lnTo>
                    <a:lnTo>
                      <a:pt x="9" y="84"/>
                    </a:lnTo>
                    <a:lnTo>
                      <a:pt x="19" y="83"/>
                    </a:lnTo>
                    <a:lnTo>
                      <a:pt x="32" y="79"/>
                    </a:lnTo>
                    <a:lnTo>
                      <a:pt x="46" y="75"/>
                    </a:lnTo>
                    <a:lnTo>
                      <a:pt x="61" y="71"/>
                    </a:lnTo>
                    <a:lnTo>
                      <a:pt x="76" y="64"/>
                    </a:lnTo>
                    <a:lnTo>
                      <a:pt x="88" y="56"/>
                    </a:lnTo>
                    <a:lnTo>
                      <a:pt x="90" y="55"/>
                    </a:lnTo>
                    <a:lnTo>
                      <a:pt x="93" y="51"/>
                    </a:lnTo>
                    <a:lnTo>
                      <a:pt x="100" y="45"/>
                    </a:lnTo>
                    <a:lnTo>
                      <a:pt x="109" y="37"/>
                    </a:lnTo>
                    <a:lnTo>
                      <a:pt x="119" y="29"/>
                    </a:lnTo>
                    <a:lnTo>
                      <a:pt x="131" y="20"/>
                    </a:lnTo>
                    <a:lnTo>
                      <a:pt x="146" y="13"/>
                    </a:lnTo>
                    <a:lnTo>
                      <a:pt x="161" y="6"/>
                    </a:lnTo>
                    <a:lnTo>
                      <a:pt x="179" y="1"/>
                    </a:lnTo>
                    <a:lnTo>
                      <a:pt x="198" y="0"/>
                    </a:lnTo>
                    <a:lnTo>
                      <a:pt x="218" y="1"/>
                    </a:lnTo>
                    <a:lnTo>
                      <a:pt x="240" y="6"/>
                    </a:lnTo>
                    <a:lnTo>
                      <a:pt x="262" y="17"/>
                    </a:lnTo>
                    <a:lnTo>
                      <a:pt x="285" y="31"/>
                    </a:lnTo>
                    <a:lnTo>
                      <a:pt x="309" y="53"/>
                    </a:lnTo>
                    <a:lnTo>
                      <a:pt x="333" y="80"/>
                    </a:lnTo>
                    <a:lnTo>
                      <a:pt x="335" y="81"/>
                    </a:lnTo>
                    <a:lnTo>
                      <a:pt x="343" y="84"/>
                    </a:lnTo>
                    <a:lnTo>
                      <a:pt x="355" y="89"/>
                    </a:lnTo>
                    <a:lnTo>
                      <a:pt x="369" y="95"/>
                    </a:lnTo>
                    <a:lnTo>
                      <a:pt x="387" y="99"/>
                    </a:lnTo>
                    <a:lnTo>
                      <a:pt x="405" y="103"/>
                    </a:lnTo>
                    <a:lnTo>
                      <a:pt x="423" y="104"/>
                    </a:lnTo>
                    <a:lnTo>
                      <a:pt x="442" y="103"/>
                    </a:lnTo>
                    <a:lnTo>
                      <a:pt x="441" y="104"/>
                    </a:lnTo>
                    <a:lnTo>
                      <a:pt x="437" y="107"/>
                    </a:lnTo>
                    <a:lnTo>
                      <a:pt x="429" y="109"/>
                    </a:lnTo>
                    <a:lnTo>
                      <a:pt x="415" y="110"/>
                    </a:lnTo>
                    <a:lnTo>
                      <a:pt x="393" y="110"/>
                    </a:lnTo>
                    <a:lnTo>
                      <a:pt x="363" y="107"/>
                    </a:lnTo>
                    <a:lnTo>
                      <a:pt x="321" y="96"/>
                    </a:lnTo>
                    <a:lnTo>
                      <a:pt x="270" y="80"/>
                    </a:lnTo>
                    <a:lnTo>
                      <a:pt x="267" y="79"/>
                    </a:lnTo>
                    <a:lnTo>
                      <a:pt x="260" y="74"/>
                    </a:lnTo>
                    <a:lnTo>
                      <a:pt x="248" y="68"/>
                    </a:lnTo>
                    <a:lnTo>
                      <a:pt x="231" y="62"/>
                    </a:lnTo>
                    <a:lnTo>
                      <a:pt x="209" y="58"/>
                    </a:lnTo>
                    <a:lnTo>
                      <a:pt x="184" y="58"/>
                    </a:lnTo>
                    <a:lnTo>
                      <a:pt x="154" y="62"/>
                    </a:lnTo>
                    <a:lnTo>
                      <a:pt x="120" y="71"/>
                    </a:lnTo>
                    <a:lnTo>
                      <a:pt x="119" y="72"/>
                    </a:lnTo>
                    <a:lnTo>
                      <a:pt x="112" y="76"/>
                    </a:lnTo>
                    <a:lnTo>
                      <a:pt x="103" y="81"/>
                    </a:lnTo>
                    <a:lnTo>
                      <a:pt x="90" y="87"/>
                    </a:lnTo>
                    <a:lnTo>
                      <a:pt x="73" y="91"/>
                    </a:lnTo>
                    <a:lnTo>
                      <a:pt x="52" y="92"/>
                    </a:lnTo>
                    <a:lnTo>
                      <a:pt x="28" y="91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Freeform 162"/>
              <p:cNvSpPr/>
              <p:nvPr/>
            </p:nvSpPr>
            <p:spPr>
              <a:xfrm>
                <a:off x="6759000" y="2696040"/>
                <a:ext cx="327240" cy="69120"/>
              </a:xfrm>
              <a:custGeom>
                <a:avLst/>
                <a:gdLst/>
                <a:ahLst/>
                <a:rect l="l" t="t" r="r" b="b"/>
                <a:pathLst>
                  <a:path w="473" h="165">
                    <a:moveTo>
                      <a:pt x="0" y="0"/>
                    </a:moveTo>
                    <a:lnTo>
                      <a:pt x="4" y="0"/>
                    </a:lnTo>
                    <a:lnTo>
                      <a:pt x="13" y="2"/>
                    </a:lnTo>
                    <a:lnTo>
                      <a:pt x="28" y="4"/>
                    </a:lnTo>
                    <a:lnTo>
                      <a:pt x="48" y="9"/>
                    </a:lnTo>
                    <a:lnTo>
                      <a:pt x="72" y="17"/>
                    </a:lnTo>
                    <a:lnTo>
                      <a:pt x="98" y="28"/>
                    </a:lnTo>
                    <a:lnTo>
                      <a:pt x="129" y="42"/>
                    </a:lnTo>
                    <a:lnTo>
                      <a:pt x="159" y="61"/>
                    </a:lnTo>
                    <a:lnTo>
                      <a:pt x="190" y="78"/>
                    </a:lnTo>
                    <a:lnTo>
                      <a:pt x="221" y="90"/>
                    </a:lnTo>
                    <a:lnTo>
                      <a:pt x="251" y="98"/>
                    </a:lnTo>
                    <a:lnTo>
                      <a:pt x="277" y="100"/>
                    </a:lnTo>
                    <a:lnTo>
                      <a:pt x="300" y="102"/>
                    </a:lnTo>
                    <a:lnTo>
                      <a:pt x="318" y="102"/>
                    </a:lnTo>
                    <a:lnTo>
                      <a:pt x="329" y="100"/>
                    </a:lnTo>
                    <a:lnTo>
                      <a:pt x="333" y="100"/>
                    </a:lnTo>
                    <a:lnTo>
                      <a:pt x="473" y="49"/>
                    </a:lnTo>
                    <a:lnTo>
                      <a:pt x="469" y="53"/>
                    </a:lnTo>
                    <a:lnTo>
                      <a:pt x="457" y="62"/>
                    </a:lnTo>
                    <a:lnTo>
                      <a:pt x="441" y="77"/>
                    </a:lnTo>
                    <a:lnTo>
                      <a:pt x="422" y="94"/>
                    </a:lnTo>
                    <a:lnTo>
                      <a:pt x="401" y="111"/>
                    </a:lnTo>
                    <a:lnTo>
                      <a:pt x="381" y="127"/>
                    </a:lnTo>
                    <a:lnTo>
                      <a:pt x="363" y="141"/>
                    </a:lnTo>
                    <a:lnTo>
                      <a:pt x="350" y="150"/>
                    </a:lnTo>
                    <a:lnTo>
                      <a:pt x="344" y="154"/>
                    </a:lnTo>
                    <a:lnTo>
                      <a:pt x="334" y="157"/>
                    </a:lnTo>
                    <a:lnTo>
                      <a:pt x="323" y="160"/>
                    </a:lnTo>
                    <a:lnTo>
                      <a:pt x="309" y="161"/>
                    </a:lnTo>
                    <a:lnTo>
                      <a:pt x="295" y="164"/>
                    </a:lnTo>
                    <a:lnTo>
                      <a:pt x="279" y="164"/>
                    </a:lnTo>
                    <a:lnTo>
                      <a:pt x="261" y="165"/>
                    </a:lnTo>
                    <a:lnTo>
                      <a:pt x="243" y="164"/>
                    </a:lnTo>
                    <a:lnTo>
                      <a:pt x="224" y="162"/>
                    </a:lnTo>
                    <a:lnTo>
                      <a:pt x="207" y="161"/>
                    </a:lnTo>
                    <a:lnTo>
                      <a:pt x="189" y="157"/>
                    </a:lnTo>
                    <a:lnTo>
                      <a:pt x="172" y="153"/>
                    </a:lnTo>
                    <a:lnTo>
                      <a:pt x="156" y="148"/>
                    </a:lnTo>
                    <a:lnTo>
                      <a:pt x="141" y="141"/>
                    </a:lnTo>
                    <a:lnTo>
                      <a:pt x="127" y="133"/>
                    </a:lnTo>
                    <a:lnTo>
                      <a:pt x="116" y="124"/>
                    </a:lnTo>
                    <a:lnTo>
                      <a:pt x="97" y="103"/>
                    </a:lnTo>
                    <a:lnTo>
                      <a:pt x="81" y="82"/>
                    </a:lnTo>
                    <a:lnTo>
                      <a:pt x="68" y="62"/>
                    </a:lnTo>
                    <a:lnTo>
                      <a:pt x="56" y="42"/>
                    </a:lnTo>
                    <a:lnTo>
                      <a:pt x="43" y="27"/>
                    </a:lnTo>
                    <a:lnTo>
                      <a:pt x="30" y="13"/>
                    </a:lnTo>
                    <a:lnTo>
                      <a:pt x="1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Freeform 163"/>
              <p:cNvSpPr/>
              <p:nvPr/>
            </p:nvSpPr>
            <p:spPr>
              <a:xfrm>
                <a:off x="7059600" y="2790000"/>
                <a:ext cx="392760" cy="372960"/>
              </a:xfrm>
              <a:custGeom>
                <a:avLst/>
                <a:gdLst/>
                <a:ahLst/>
                <a:rect l="l" t="t" r="r" b="b"/>
                <a:pathLst>
                  <a:path w="570" h="953">
                    <a:moveTo>
                      <a:pt x="443" y="29"/>
                    </a:moveTo>
                    <a:lnTo>
                      <a:pt x="440" y="26"/>
                    </a:lnTo>
                    <a:lnTo>
                      <a:pt x="432" y="19"/>
                    </a:lnTo>
                    <a:lnTo>
                      <a:pt x="418" y="13"/>
                    </a:lnTo>
                    <a:lnTo>
                      <a:pt x="400" y="5"/>
                    </a:lnTo>
                    <a:lnTo>
                      <a:pt x="377" y="0"/>
                    </a:lnTo>
                    <a:lnTo>
                      <a:pt x="351" y="0"/>
                    </a:lnTo>
                    <a:lnTo>
                      <a:pt x="322" y="5"/>
                    </a:lnTo>
                    <a:lnTo>
                      <a:pt x="289" y="19"/>
                    </a:lnTo>
                    <a:lnTo>
                      <a:pt x="258" y="35"/>
                    </a:lnTo>
                    <a:lnTo>
                      <a:pt x="233" y="44"/>
                    </a:lnTo>
                    <a:lnTo>
                      <a:pt x="210" y="48"/>
                    </a:lnTo>
                    <a:lnTo>
                      <a:pt x="191" y="51"/>
                    </a:lnTo>
                    <a:lnTo>
                      <a:pt x="175" y="52"/>
                    </a:lnTo>
                    <a:lnTo>
                      <a:pt x="160" y="56"/>
                    </a:lnTo>
                    <a:lnTo>
                      <a:pt x="146" y="65"/>
                    </a:lnTo>
                    <a:lnTo>
                      <a:pt x="132" y="80"/>
                    </a:lnTo>
                    <a:lnTo>
                      <a:pt x="104" y="126"/>
                    </a:lnTo>
                    <a:lnTo>
                      <a:pt x="81" y="180"/>
                    </a:lnTo>
                    <a:lnTo>
                      <a:pt x="63" y="241"/>
                    </a:lnTo>
                    <a:lnTo>
                      <a:pt x="47" y="304"/>
                    </a:lnTo>
                    <a:lnTo>
                      <a:pt x="36" y="366"/>
                    </a:lnTo>
                    <a:lnTo>
                      <a:pt x="26" y="425"/>
                    </a:lnTo>
                    <a:lnTo>
                      <a:pt x="17" y="479"/>
                    </a:lnTo>
                    <a:lnTo>
                      <a:pt x="8" y="524"/>
                    </a:lnTo>
                    <a:lnTo>
                      <a:pt x="2" y="569"/>
                    </a:lnTo>
                    <a:lnTo>
                      <a:pt x="0" y="623"/>
                    </a:lnTo>
                    <a:lnTo>
                      <a:pt x="2" y="679"/>
                    </a:lnTo>
                    <a:lnTo>
                      <a:pt x="8" y="736"/>
                    </a:lnTo>
                    <a:lnTo>
                      <a:pt x="18" y="788"/>
                    </a:lnTo>
                    <a:lnTo>
                      <a:pt x="34" y="832"/>
                    </a:lnTo>
                    <a:lnTo>
                      <a:pt x="54" y="864"/>
                    </a:lnTo>
                    <a:lnTo>
                      <a:pt x="79" y="878"/>
                    </a:lnTo>
                    <a:lnTo>
                      <a:pt x="104" y="885"/>
                    </a:lnTo>
                    <a:lnTo>
                      <a:pt x="127" y="893"/>
                    </a:lnTo>
                    <a:lnTo>
                      <a:pt x="146" y="904"/>
                    </a:lnTo>
                    <a:lnTo>
                      <a:pt x="165" y="915"/>
                    </a:lnTo>
                    <a:lnTo>
                      <a:pt x="181" y="927"/>
                    </a:lnTo>
                    <a:lnTo>
                      <a:pt x="197" y="937"/>
                    </a:lnTo>
                    <a:lnTo>
                      <a:pt x="212" y="947"/>
                    </a:lnTo>
                    <a:lnTo>
                      <a:pt x="229" y="952"/>
                    </a:lnTo>
                    <a:lnTo>
                      <a:pt x="238" y="953"/>
                    </a:lnTo>
                    <a:lnTo>
                      <a:pt x="249" y="953"/>
                    </a:lnTo>
                    <a:lnTo>
                      <a:pt x="260" y="950"/>
                    </a:lnTo>
                    <a:lnTo>
                      <a:pt x="274" y="947"/>
                    </a:lnTo>
                    <a:lnTo>
                      <a:pt x="288" y="940"/>
                    </a:lnTo>
                    <a:lnTo>
                      <a:pt x="303" y="933"/>
                    </a:lnTo>
                    <a:lnTo>
                      <a:pt x="320" y="924"/>
                    </a:lnTo>
                    <a:lnTo>
                      <a:pt x="336" y="914"/>
                    </a:lnTo>
                    <a:lnTo>
                      <a:pt x="354" y="902"/>
                    </a:lnTo>
                    <a:lnTo>
                      <a:pt x="370" y="887"/>
                    </a:lnTo>
                    <a:lnTo>
                      <a:pt x="388" y="873"/>
                    </a:lnTo>
                    <a:lnTo>
                      <a:pt x="405" y="857"/>
                    </a:lnTo>
                    <a:lnTo>
                      <a:pt x="423" y="840"/>
                    </a:lnTo>
                    <a:lnTo>
                      <a:pt x="440" y="820"/>
                    </a:lnTo>
                    <a:lnTo>
                      <a:pt x="457" y="800"/>
                    </a:lnTo>
                    <a:lnTo>
                      <a:pt x="473" y="779"/>
                    </a:lnTo>
                    <a:lnTo>
                      <a:pt x="511" y="711"/>
                    </a:lnTo>
                    <a:lnTo>
                      <a:pt x="541" y="623"/>
                    </a:lnTo>
                    <a:lnTo>
                      <a:pt x="561" y="520"/>
                    </a:lnTo>
                    <a:lnTo>
                      <a:pt x="570" y="411"/>
                    </a:lnTo>
                    <a:lnTo>
                      <a:pt x="564" y="300"/>
                    </a:lnTo>
                    <a:lnTo>
                      <a:pt x="543" y="195"/>
                    </a:lnTo>
                    <a:lnTo>
                      <a:pt x="502" y="102"/>
                    </a:lnTo>
                    <a:lnTo>
                      <a:pt x="443" y="29"/>
                    </a:lnTo>
                    <a:close/>
                  </a:path>
                </a:pathLst>
              </a:custGeom>
              <a:solidFill>
                <a:srgbClr val="ff72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Freeform 164"/>
              <p:cNvSpPr/>
              <p:nvPr/>
            </p:nvSpPr>
            <p:spPr>
              <a:xfrm>
                <a:off x="7164720" y="2901960"/>
                <a:ext cx="205200" cy="203400"/>
              </a:xfrm>
              <a:custGeom>
                <a:avLst/>
                <a:gdLst/>
                <a:ahLst/>
                <a:rect l="l" t="t" r="r" b="b"/>
                <a:pathLst>
                  <a:path w="297" h="507">
                    <a:moveTo>
                      <a:pt x="231" y="15"/>
                    </a:moveTo>
                    <a:lnTo>
                      <a:pt x="229" y="14"/>
                    </a:lnTo>
                    <a:lnTo>
                      <a:pt x="224" y="11"/>
                    </a:lnTo>
                    <a:lnTo>
                      <a:pt x="218" y="7"/>
                    </a:lnTo>
                    <a:lnTo>
                      <a:pt x="208" y="3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68" y="3"/>
                    </a:lnTo>
                    <a:lnTo>
                      <a:pt x="151" y="11"/>
                    </a:lnTo>
                    <a:lnTo>
                      <a:pt x="136" y="19"/>
                    </a:lnTo>
                    <a:lnTo>
                      <a:pt x="122" y="24"/>
                    </a:lnTo>
                    <a:lnTo>
                      <a:pt x="111" y="27"/>
                    </a:lnTo>
                    <a:lnTo>
                      <a:pt x="102" y="28"/>
                    </a:lnTo>
                    <a:lnTo>
                      <a:pt x="93" y="29"/>
                    </a:lnTo>
                    <a:lnTo>
                      <a:pt x="86" y="31"/>
                    </a:lnTo>
                    <a:lnTo>
                      <a:pt x="78" y="35"/>
                    </a:lnTo>
                    <a:lnTo>
                      <a:pt x="71" y="43"/>
                    </a:lnTo>
                    <a:lnTo>
                      <a:pt x="57" y="66"/>
                    </a:lnTo>
                    <a:lnTo>
                      <a:pt x="44" y="95"/>
                    </a:lnTo>
                    <a:lnTo>
                      <a:pt x="35" y="127"/>
                    </a:lnTo>
                    <a:lnTo>
                      <a:pt x="26" y="158"/>
                    </a:lnTo>
                    <a:lnTo>
                      <a:pt x="20" y="191"/>
                    </a:lnTo>
                    <a:lnTo>
                      <a:pt x="15" y="223"/>
                    </a:lnTo>
                    <a:lnTo>
                      <a:pt x="10" y="252"/>
                    </a:lnTo>
                    <a:lnTo>
                      <a:pt x="5" y="276"/>
                    </a:lnTo>
                    <a:lnTo>
                      <a:pt x="1" y="299"/>
                    </a:lnTo>
                    <a:lnTo>
                      <a:pt x="0" y="328"/>
                    </a:lnTo>
                    <a:lnTo>
                      <a:pt x="1" y="359"/>
                    </a:lnTo>
                    <a:lnTo>
                      <a:pt x="4" y="389"/>
                    </a:lnTo>
                    <a:lnTo>
                      <a:pt x="9" y="418"/>
                    </a:lnTo>
                    <a:lnTo>
                      <a:pt x="16" y="442"/>
                    </a:lnTo>
                    <a:lnTo>
                      <a:pt x="26" y="459"/>
                    </a:lnTo>
                    <a:lnTo>
                      <a:pt x="39" y="467"/>
                    </a:lnTo>
                    <a:lnTo>
                      <a:pt x="53" y="471"/>
                    </a:lnTo>
                    <a:lnTo>
                      <a:pt x="64" y="475"/>
                    </a:lnTo>
                    <a:lnTo>
                      <a:pt x="76" y="481"/>
                    </a:lnTo>
                    <a:lnTo>
                      <a:pt x="84" y="486"/>
                    </a:lnTo>
                    <a:lnTo>
                      <a:pt x="93" y="493"/>
                    </a:lnTo>
                    <a:lnTo>
                      <a:pt x="102" y="500"/>
                    </a:lnTo>
                    <a:lnTo>
                      <a:pt x="110" y="503"/>
                    </a:lnTo>
                    <a:lnTo>
                      <a:pt x="118" y="507"/>
                    </a:lnTo>
                    <a:lnTo>
                      <a:pt x="128" y="507"/>
                    </a:lnTo>
                    <a:lnTo>
                      <a:pt x="142" y="503"/>
                    </a:lnTo>
                    <a:lnTo>
                      <a:pt x="157" y="497"/>
                    </a:lnTo>
                    <a:lnTo>
                      <a:pt x="175" y="485"/>
                    </a:lnTo>
                    <a:lnTo>
                      <a:pt x="194" y="472"/>
                    </a:lnTo>
                    <a:lnTo>
                      <a:pt x="212" y="455"/>
                    </a:lnTo>
                    <a:lnTo>
                      <a:pt x="231" y="435"/>
                    </a:lnTo>
                    <a:lnTo>
                      <a:pt x="248" y="413"/>
                    </a:lnTo>
                    <a:lnTo>
                      <a:pt x="268" y="376"/>
                    </a:lnTo>
                    <a:lnTo>
                      <a:pt x="283" y="328"/>
                    </a:lnTo>
                    <a:lnTo>
                      <a:pt x="294" y="274"/>
                    </a:lnTo>
                    <a:lnTo>
                      <a:pt x="297" y="215"/>
                    </a:lnTo>
                    <a:lnTo>
                      <a:pt x="294" y="157"/>
                    </a:lnTo>
                    <a:lnTo>
                      <a:pt x="282" y="102"/>
                    </a:lnTo>
                    <a:lnTo>
                      <a:pt x="262" y="53"/>
                    </a:lnTo>
                    <a:lnTo>
                      <a:pt x="231" y="15"/>
                    </a:lnTo>
                    <a:close/>
                  </a:path>
                </a:pathLst>
              </a:custGeom>
              <a:solidFill>
                <a:srgbClr val="ffa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Freeform 165"/>
              <p:cNvSpPr/>
              <p:nvPr/>
            </p:nvSpPr>
            <p:spPr>
              <a:xfrm>
                <a:off x="6854400" y="2678400"/>
                <a:ext cx="279360" cy="63360"/>
              </a:xfrm>
              <a:custGeom>
                <a:avLst/>
                <a:gdLst/>
                <a:ahLst/>
                <a:rect l="l" t="t" r="r" b="b"/>
                <a:pathLst>
                  <a:path w="406" h="150">
                    <a:moveTo>
                      <a:pt x="29" y="82"/>
                    </a:moveTo>
                    <a:lnTo>
                      <a:pt x="29" y="75"/>
                    </a:lnTo>
                    <a:lnTo>
                      <a:pt x="27" y="61"/>
                    </a:lnTo>
                    <a:lnTo>
                      <a:pt x="23" y="44"/>
                    </a:lnTo>
                    <a:lnTo>
                      <a:pt x="14" y="29"/>
                    </a:lnTo>
                    <a:lnTo>
                      <a:pt x="5" y="17"/>
                    </a:lnTo>
                    <a:lnTo>
                      <a:pt x="0" y="8"/>
                    </a:lnTo>
                    <a:lnTo>
                      <a:pt x="3" y="1"/>
                    </a:lnTo>
                    <a:lnTo>
                      <a:pt x="14" y="0"/>
                    </a:lnTo>
                    <a:lnTo>
                      <a:pt x="25" y="1"/>
                    </a:lnTo>
                    <a:lnTo>
                      <a:pt x="41" y="4"/>
                    </a:lnTo>
                    <a:lnTo>
                      <a:pt x="58" y="7"/>
                    </a:lnTo>
                    <a:lnTo>
                      <a:pt x="77" y="9"/>
                    </a:lnTo>
                    <a:lnTo>
                      <a:pt x="96" y="13"/>
                    </a:lnTo>
                    <a:lnTo>
                      <a:pt x="114" y="17"/>
                    </a:lnTo>
                    <a:lnTo>
                      <a:pt x="130" y="20"/>
                    </a:lnTo>
                    <a:lnTo>
                      <a:pt x="144" y="22"/>
                    </a:lnTo>
                    <a:lnTo>
                      <a:pt x="158" y="24"/>
                    </a:lnTo>
                    <a:lnTo>
                      <a:pt x="174" y="24"/>
                    </a:lnTo>
                    <a:lnTo>
                      <a:pt x="193" y="24"/>
                    </a:lnTo>
                    <a:lnTo>
                      <a:pt x="214" y="22"/>
                    </a:lnTo>
                    <a:lnTo>
                      <a:pt x="235" y="21"/>
                    </a:lnTo>
                    <a:lnTo>
                      <a:pt x="253" y="19"/>
                    </a:lnTo>
                    <a:lnTo>
                      <a:pt x="270" y="16"/>
                    </a:lnTo>
                    <a:lnTo>
                      <a:pt x="284" y="13"/>
                    </a:lnTo>
                    <a:lnTo>
                      <a:pt x="295" y="11"/>
                    </a:lnTo>
                    <a:lnTo>
                      <a:pt x="308" y="8"/>
                    </a:lnTo>
                    <a:lnTo>
                      <a:pt x="319" y="5"/>
                    </a:lnTo>
                    <a:lnTo>
                      <a:pt x="332" y="3"/>
                    </a:lnTo>
                    <a:lnTo>
                      <a:pt x="343" y="3"/>
                    </a:lnTo>
                    <a:lnTo>
                      <a:pt x="355" y="3"/>
                    </a:lnTo>
                    <a:lnTo>
                      <a:pt x="368" y="4"/>
                    </a:lnTo>
                    <a:lnTo>
                      <a:pt x="381" y="8"/>
                    </a:lnTo>
                    <a:lnTo>
                      <a:pt x="400" y="20"/>
                    </a:lnTo>
                    <a:lnTo>
                      <a:pt x="406" y="37"/>
                    </a:lnTo>
                    <a:lnTo>
                      <a:pt x="401" y="53"/>
                    </a:lnTo>
                    <a:lnTo>
                      <a:pt x="387" y="66"/>
                    </a:lnTo>
                    <a:lnTo>
                      <a:pt x="377" y="71"/>
                    </a:lnTo>
                    <a:lnTo>
                      <a:pt x="364" y="76"/>
                    </a:lnTo>
                    <a:lnTo>
                      <a:pt x="352" y="83"/>
                    </a:lnTo>
                    <a:lnTo>
                      <a:pt x="339" y="90"/>
                    </a:lnTo>
                    <a:lnTo>
                      <a:pt x="328" y="96"/>
                    </a:lnTo>
                    <a:lnTo>
                      <a:pt x="319" y="102"/>
                    </a:lnTo>
                    <a:lnTo>
                      <a:pt x="313" y="104"/>
                    </a:lnTo>
                    <a:lnTo>
                      <a:pt x="310" y="105"/>
                    </a:lnTo>
                    <a:lnTo>
                      <a:pt x="250" y="129"/>
                    </a:lnTo>
                    <a:lnTo>
                      <a:pt x="245" y="130"/>
                    </a:lnTo>
                    <a:lnTo>
                      <a:pt x="233" y="132"/>
                    </a:lnTo>
                    <a:lnTo>
                      <a:pt x="216" y="136"/>
                    </a:lnTo>
                    <a:lnTo>
                      <a:pt x="195" y="140"/>
                    </a:lnTo>
                    <a:lnTo>
                      <a:pt x="175" y="144"/>
                    </a:lnTo>
                    <a:lnTo>
                      <a:pt x="156" y="146"/>
                    </a:lnTo>
                    <a:lnTo>
                      <a:pt x="143" y="149"/>
                    </a:lnTo>
                    <a:lnTo>
                      <a:pt x="136" y="150"/>
                    </a:lnTo>
                    <a:lnTo>
                      <a:pt x="133" y="149"/>
                    </a:lnTo>
                    <a:lnTo>
                      <a:pt x="125" y="146"/>
                    </a:lnTo>
                    <a:lnTo>
                      <a:pt x="114" y="141"/>
                    </a:lnTo>
                    <a:lnTo>
                      <a:pt x="101" y="133"/>
                    </a:lnTo>
                    <a:lnTo>
                      <a:pt x="85" y="123"/>
                    </a:lnTo>
                    <a:lnTo>
                      <a:pt x="68" y="111"/>
                    </a:lnTo>
                    <a:lnTo>
                      <a:pt x="49" y="98"/>
                    </a:lnTo>
                    <a:lnTo>
                      <a:pt x="29" y="82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Freeform 166"/>
              <p:cNvSpPr/>
              <p:nvPr/>
            </p:nvSpPr>
            <p:spPr>
              <a:xfrm>
                <a:off x="6247440" y="2727720"/>
                <a:ext cx="360000" cy="703800"/>
              </a:xfrm>
              <a:custGeom>
                <a:avLst/>
                <a:gdLst/>
                <a:ahLst/>
                <a:rect l="l" t="t" r="r" b="b"/>
                <a:pathLst>
                  <a:path w="521" h="1794">
                    <a:moveTo>
                      <a:pt x="221" y="0"/>
                    </a:moveTo>
                    <a:lnTo>
                      <a:pt x="217" y="4"/>
                    </a:lnTo>
                    <a:lnTo>
                      <a:pt x="204" y="14"/>
                    </a:lnTo>
                    <a:lnTo>
                      <a:pt x="187" y="33"/>
                    </a:lnTo>
                    <a:lnTo>
                      <a:pt x="164" y="58"/>
                    </a:lnTo>
                    <a:lnTo>
                      <a:pt x="139" y="92"/>
                    </a:lnTo>
                    <a:lnTo>
                      <a:pt x="113" y="134"/>
                    </a:lnTo>
                    <a:lnTo>
                      <a:pt x="85" y="184"/>
                    </a:lnTo>
                    <a:lnTo>
                      <a:pt x="60" y="244"/>
                    </a:lnTo>
                    <a:lnTo>
                      <a:pt x="37" y="312"/>
                    </a:lnTo>
                    <a:lnTo>
                      <a:pt x="18" y="388"/>
                    </a:lnTo>
                    <a:lnTo>
                      <a:pt x="5" y="475"/>
                    </a:lnTo>
                    <a:lnTo>
                      <a:pt x="0" y="570"/>
                    </a:lnTo>
                    <a:lnTo>
                      <a:pt x="4" y="676"/>
                    </a:lnTo>
                    <a:lnTo>
                      <a:pt x="19" y="791"/>
                    </a:lnTo>
                    <a:lnTo>
                      <a:pt x="46" y="918"/>
                    </a:lnTo>
                    <a:lnTo>
                      <a:pt x="85" y="1053"/>
                    </a:lnTo>
                    <a:lnTo>
                      <a:pt x="89" y="1060"/>
                    </a:lnTo>
                    <a:lnTo>
                      <a:pt x="100" y="1080"/>
                    </a:lnTo>
                    <a:lnTo>
                      <a:pt x="116" y="1111"/>
                    </a:lnTo>
                    <a:lnTo>
                      <a:pt x="139" y="1152"/>
                    </a:lnTo>
                    <a:lnTo>
                      <a:pt x="165" y="1201"/>
                    </a:lnTo>
                    <a:lnTo>
                      <a:pt x="196" y="1256"/>
                    </a:lnTo>
                    <a:lnTo>
                      <a:pt x="230" y="1317"/>
                    </a:lnTo>
                    <a:lnTo>
                      <a:pt x="265" y="1380"/>
                    </a:lnTo>
                    <a:lnTo>
                      <a:pt x="301" y="1443"/>
                    </a:lnTo>
                    <a:lnTo>
                      <a:pt x="338" y="1508"/>
                    </a:lnTo>
                    <a:lnTo>
                      <a:pt x="375" y="1570"/>
                    </a:lnTo>
                    <a:lnTo>
                      <a:pt x="410" y="1629"/>
                    </a:lnTo>
                    <a:lnTo>
                      <a:pt x="443" y="1682"/>
                    </a:lnTo>
                    <a:lnTo>
                      <a:pt x="473" y="1728"/>
                    </a:lnTo>
                    <a:lnTo>
                      <a:pt x="499" y="1766"/>
                    </a:lnTo>
                    <a:lnTo>
                      <a:pt x="521" y="1794"/>
                    </a:lnTo>
                    <a:lnTo>
                      <a:pt x="517" y="1787"/>
                    </a:lnTo>
                    <a:lnTo>
                      <a:pt x="507" y="1769"/>
                    </a:lnTo>
                    <a:lnTo>
                      <a:pt x="492" y="1740"/>
                    </a:lnTo>
                    <a:lnTo>
                      <a:pt x="472" y="1703"/>
                    </a:lnTo>
                    <a:lnTo>
                      <a:pt x="448" y="1657"/>
                    </a:lnTo>
                    <a:lnTo>
                      <a:pt x="419" y="1605"/>
                    </a:lnTo>
                    <a:lnTo>
                      <a:pt x="388" y="1549"/>
                    </a:lnTo>
                    <a:lnTo>
                      <a:pt x="357" y="1488"/>
                    </a:lnTo>
                    <a:lnTo>
                      <a:pt x="323" y="1426"/>
                    </a:lnTo>
                    <a:lnTo>
                      <a:pt x="289" y="1363"/>
                    </a:lnTo>
                    <a:lnTo>
                      <a:pt x="255" y="1301"/>
                    </a:lnTo>
                    <a:lnTo>
                      <a:pt x="223" y="1241"/>
                    </a:lnTo>
                    <a:lnTo>
                      <a:pt x="193" y="1184"/>
                    </a:lnTo>
                    <a:lnTo>
                      <a:pt x="164" y="1131"/>
                    </a:lnTo>
                    <a:lnTo>
                      <a:pt x="140" y="1085"/>
                    </a:lnTo>
                    <a:lnTo>
                      <a:pt x="120" y="1047"/>
                    </a:lnTo>
                    <a:lnTo>
                      <a:pt x="118" y="1040"/>
                    </a:lnTo>
                    <a:lnTo>
                      <a:pt x="111" y="1021"/>
                    </a:lnTo>
                    <a:lnTo>
                      <a:pt x="101" y="989"/>
                    </a:lnTo>
                    <a:lnTo>
                      <a:pt x="90" y="945"/>
                    </a:lnTo>
                    <a:lnTo>
                      <a:pt x="77" y="894"/>
                    </a:lnTo>
                    <a:lnTo>
                      <a:pt x="66" y="834"/>
                    </a:lnTo>
                    <a:lnTo>
                      <a:pt x="56" y="765"/>
                    </a:lnTo>
                    <a:lnTo>
                      <a:pt x="48" y="691"/>
                    </a:lnTo>
                    <a:lnTo>
                      <a:pt x="43" y="611"/>
                    </a:lnTo>
                    <a:lnTo>
                      <a:pt x="44" y="528"/>
                    </a:lnTo>
                    <a:lnTo>
                      <a:pt x="52" y="441"/>
                    </a:lnTo>
                    <a:lnTo>
                      <a:pt x="67" y="352"/>
                    </a:lnTo>
                    <a:lnTo>
                      <a:pt x="90" y="262"/>
                    </a:lnTo>
                    <a:lnTo>
                      <a:pt x="123" y="172"/>
                    </a:lnTo>
                    <a:lnTo>
                      <a:pt x="165" y="85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Freeform 167"/>
              <p:cNvSpPr/>
              <p:nvPr/>
            </p:nvSpPr>
            <p:spPr>
              <a:xfrm>
                <a:off x="6804720" y="2709000"/>
                <a:ext cx="240120" cy="46800"/>
              </a:xfrm>
              <a:custGeom>
                <a:avLst/>
                <a:gdLst/>
                <a:ahLst/>
                <a:rect l="l" t="t" r="r" b="b"/>
                <a:pathLst>
                  <a:path w="350" h="120">
                    <a:moveTo>
                      <a:pt x="0" y="0"/>
                    </a:moveTo>
                    <a:lnTo>
                      <a:pt x="5" y="4"/>
                    </a:lnTo>
                    <a:lnTo>
                      <a:pt x="16" y="16"/>
                    </a:lnTo>
                    <a:lnTo>
                      <a:pt x="35" y="32"/>
                    </a:lnTo>
                    <a:lnTo>
                      <a:pt x="59" y="50"/>
                    </a:lnTo>
                    <a:lnTo>
                      <a:pt x="85" y="69"/>
                    </a:lnTo>
                    <a:lnTo>
                      <a:pt x="113" y="87"/>
                    </a:lnTo>
                    <a:lnTo>
                      <a:pt x="141" y="102"/>
                    </a:lnTo>
                    <a:lnTo>
                      <a:pt x="166" y="110"/>
                    </a:lnTo>
                    <a:lnTo>
                      <a:pt x="190" y="115"/>
                    </a:lnTo>
                    <a:lnTo>
                      <a:pt x="215" y="118"/>
                    </a:lnTo>
                    <a:lnTo>
                      <a:pt x="240" y="120"/>
                    </a:lnTo>
                    <a:lnTo>
                      <a:pt x="264" y="119"/>
                    </a:lnTo>
                    <a:lnTo>
                      <a:pt x="287" y="116"/>
                    </a:lnTo>
                    <a:lnTo>
                      <a:pt x="306" y="111"/>
                    </a:lnTo>
                    <a:lnTo>
                      <a:pt x="321" y="102"/>
                    </a:lnTo>
                    <a:lnTo>
                      <a:pt x="331" y="90"/>
                    </a:lnTo>
                    <a:lnTo>
                      <a:pt x="350" y="61"/>
                    </a:lnTo>
                    <a:lnTo>
                      <a:pt x="345" y="62"/>
                    </a:lnTo>
                    <a:lnTo>
                      <a:pt x="331" y="68"/>
                    </a:lnTo>
                    <a:lnTo>
                      <a:pt x="311" y="73"/>
                    </a:lnTo>
                    <a:lnTo>
                      <a:pt x="286" y="78"/>
                    </a:lnTo>
                    <a:lnTo>
                      <a:pt x="255" y="82"/>
                    </a:lnTo>
                    <a:lnTo>
                      <a:pt x="225" y="83"/>
                    </a:lnTo>
                    <a:lnTo>
                      <a:pt x="195" y="79"/>
                    </a:lnTo>
                    <a:lnTo>
                      <a:pt x="167" y="70"/>
                    </a:lnTo>
                    <a:lnTo>
                      <a:pt x="163" y="68"/>
                    </a:lnTo>
                    <a:lnTo>
                      <a:pt x="153" y="60"/>
                    </a:lnTo>
                    <a:lnTo>
                      <a:pt x="137" y="49"/>
                    </a:lnTo>
                    <a:lnTo>
                      <a:pt x="116" y="37"/>
                    </a:lnTo>
                    <a:lnTo>
                      <a:pt x="90" y="25"/>
                    </a:lnTo>
                    <a:lnTo>
                      <a:pt x="61" y="14"/>
                    </a:lnTo>
                    <a:lnTo>
                      <a:pt x="3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Freeform 168"/>
              <p:cNvSpPr/>
              <p:nvPr/>
            </p:nvSpPr>
            <p:spPr>
              <a:xfrm>
                <a:off x="6355080" y="2781720"/>
                <a:ext cx="194760" cy="355320"/>
              </a:xfrm>
              <a:custGeom>
                <a:avLst/>
                <a:gdLst/>
                <a:ahLst/>
                <a:rect l="l" t="t" r="r" b="b"/>
                <a:pathLst>
                  <a:path w="281" h="918">
                    <a:moveTo>
                      <a:pt x="232" y="13"/>
                    </a:moveTo>
                    <a:lnTo>
                      <a:pt x="227" y="14"/>
                    </a:lnTo>
                    <a:lnTo>
                      <a:pt x="215" y="21"/>
                    </a:lnTo>
                    <a:lnTo>
                      <a:pt x="196" y="31"/>
                    </a:lnTo>
                    <a:lnTo>
                      <a:pt x="173" y="47"/>
                    </a:lnTo>
                    <a:lnTo>
                      <a:pt x="145" y="71"/>
                    </a:lnTo>
                    <a:lnTo>
                      <a:pt x="116" y="101"/>
                    </a:lnTo>
                    <a:lnTo>
                      <a:pt x="87" y="141"/>
                    </a:lnTo>
                    <a:lnTo>
                      <a:pt x="60" y="189"/>
                    </a:lnTo>
                    <a:lnTo>
                      <a:pt x="39" y="236"/>
                    </a:lnTo>
                    <a:lnTo>
                      <a:pt x="22" y="290"/>
                    </a:lnTo>
                    <a:lnTo>
                      <a:pt x="8" y="355"/>
                    </a:lnTo>
                    <a:lnTo>
                      <a:pt x="0" y="431"/>
                    </a:lnTo>
                    <a:lnTo>
                      <a:pt x="0" y="520"/>
                    </a:lnTo>
                    <a:lnTo>
                      <a:pt x="12" y="621"/>
                    </a:lnTo>
                    <a:lnTo>
                      <a:pt x="33" y="737"/>
                    </a:lnTo>
                    <a:lnTo>
                      <a:pt x="70" y="869"/>
                    </a:lnTo>
                    <a:lnTo>
                      <a:pt x="73" y="874"/>
                    </a:lnTo>
                    <a:lnTo>
                      <a:pt x="82" y="885"/>
                    </a:lnTo>
                    <a:lnTo>
                      <a:pt x="95" y="899"/>
                    </a:lnTo>
                    <a:lnTo>
                      <a:pt x="109" y="911"/>
                    </a:lnTo>
                    <a:lnTo>
                      <a:pt x="121" y="918"/>
                    </a:lnTo>
                    <a:lnTo>
                      <a:pt x="131" y="915"/>
                    </a:lnTo>
                    <a:lnTo>
                      <a:pt x="135" y="898"/>
                    </a:lnTo>
                    <a:lnTo>
                      <a:pt x="131" y="862"/>
                    </a:lnTo>
                    <a:lnTo>
                      <a:pt x="126" y="848"/>
                    </a:lnTo>
                    <a:lnTo>
                      <a:pt x="114" y="808"/>
                    </a:lnTo>
                    <a:lnTo>
                      <a:pt x="97" y="748"/>
                    </a:lnTo>
                    <a:lnTo>
                      <a:pt x="84" y="666"/>
                    </a:lnTo>
                    <a:lnTo>
                      <a:pt x="75" y="571"/>
                    </a:lnTo>
                    <a:lnTo>
                      <a:pt x="78" y="462"/>
                    </a:lnTo>
                    <a:lnTo>
                      <a:pt x="96" y="345"/>
                    </a:lnTo>
                    <a:lnTo>
                      <a:pt x="135" y="222"/>
                    </a:lnTo>
                    <a:lnTo>
                      <a:pt x="136" y="218"/>
                    </a:lnTo>
                    <a:lnTo>
                      <a:pt x="143" y="207"/>
                    </a:lnTo>
                    <a:lnTo>
                      <a:pt x="152" y="188"/>
                    </a:lnTo>
                    <a:lnTo>
                      <a:pt x="167" y="166"/>
                    </a:lnTo>
                    <a:lnTo>
                      <a:pt x="186" y="139"/>
                    </a:lnTo>
                    <a:lnTo>
                      <a:pt x="211" y="112"/>
                    </a:lnTo>
                    <a:lnTo>
                      <a:pt x="242" y="83"/>
                    </a:lnTo>
                    <a:lnTo>
                      <a:pt x="280" y="54"/>
                    </a:lnTo>
                    <a:lnTo>
                      <a:pt x="280" y="50"/>
                    </a:lnTo>
                    <a:lnTo>
                      <a:pt x="281" y="41"/>
                    </a:lnTo>
                    <a:lnTo>
                      <a:pt x="281" y="29"/>
                    </a:lnTo>
                    <a:lnTo>
                      <a:pt x="280" y="16"/>
                    </a:lnTo>
                    <a:lnTo>
                      <a:pt x="275" y="5"/>
                    </a:lnTo>
                    <a:lnTo>
                      <a:pt x="266" y="0"/>
                    </a:lnTo>
                    <a:lnTo>
                      <a:pt x="252" y="1"/>
                    </a:lnTo>
                    <a:lnTo>
                      <a:pt x="232" y="13"/>
                    </a:lnTo>
                    <a:close/>
                  </a:path>
                </a:pathLst>
              </a:custGeom>
              <a:solidFill>
                <a:srgbClr val="91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Freeform 169"/>
              <p:cNvSpPr/>
              <p:nvPr/>
            </p:nvSpPr>
            <p:spPr>
              <a:xfrm>
                <a:off x="6765120" y="3451680"/>
                <a:ext cx="261000" cy="32760"/>
              </a:xfrm>
              <a:custGeom>
                <a:avLst/>
                <a:gdLst/>
                <a:ahLst/>
                <a:rect l="l" t="t" r="r" b="b"/>
                <a:pathLst>
                  <a:path w="379" h="95">
                    <a:moveTo>
                      <a:pt x="0" y="71"/>
                    </a:moveTo>
                    <a:lnTo>
                      <a:pt x="4" y="70"/>
                    </a:lnTo>
                    <a:lnTo>
                      <a:pt x="15" y="66"/>
                    </a:lnTo>
                    <a:lnTo>
                      <a:pt x="31" y="60"/>
                    </a:lnTo>
                    <a:lnTo>
                      <a:pt x="51" y="54"/>
                    </a:lnTo>
                    <a:lnTo>
                      <a:pt x="73" y="46"/>
                    </a:lnTo>
                    <a:lnTo>
                      <a:pt x="94" y="37"/>
                    </a:lnTo>
                    <a:lnTo>
                      <a:pt x="113" y="29"/>
                    </a:lnTo>
                    <a:lnTo>
                      <a:pt x="128" y="19"/>
                    </a:lnTo>
                    <a:lnTo>
                      <a:pt x="142" y="12"/>
                    </a:lnTo>
                    <a:lnTo>
                      <a:pt x="157" y="5"/>
                    </a:lnTo>
                    <a:lnTo>
                      <a:pt x="175" y="1"/>
                    </a:lnTo>
                    <a:lnTo>
                      <a:pt x="195" y="0"/>
                    </a:lnTo>
                    <a:lnTo>
                      <a:pt x="218" y="2"/>
                    </a:lnTo>
                    <a:lnTo>
                      <a:pt x="243" y="9"/>
                    </a:lnTo>
                    <a:lnTo>
                      <a:pt x="272" y="19"/>
                    </a:lnTo>
                    <a:lnTo>
                      <a:pt x="302" y="37"/>
                    </a:lnTo>
                    <a:lnTo>
                      <a:pt x="379" y="95"/>
                    </a:lnTo>
                    <a:lnTo>
                      <a:pt x="376" y="95"/>
                    </a:lnTo>
                    <a:lnTo>
                      <a:pt x="368" y="95"/>
                    </a:lnTo>
                    <a:lnTo>
                      <a:pt x="355" y="93"/>
                    </a:lnTo>
                    <a:lnTo>
                      <a:pt x="340" y="92"/>
                    </a:lnTo>
                    <a:lnTo>
                      <a:pt x="323" y="89"/>
                    </a:lnTo>
                    <a:lnTo>
                      <a:pt x="306" y="85"/>
                    </a:lnTo>
                    <a:lnTo>
                      <a:pt x="291" y="80"/>
                    </a:lnTo>
                    <a:lnTo>
                      <a:pt x="277" y="72"/>
                    </a:lnTo>
                    <a:lnTo>
                      <a:pt x="273" y="70"/>
                    </a:lnTo>
                    <a:lnTo>
                      <a:pt x="262" y="66"/>
                    </a:lnTo>
                    <a:lnTo>
                      <a:pt x="244" y="59"/>
                    </a:lnTo>
                    <a:lnTo>
                      <a:pt x="220" y="52"/>
                    </a:lnTo>
                    <a:lnTo>
                      <a:pt x="191" y="50"/>
                    </a:lnTo>
                    <a:lnTo>
                      <a:pt x="158" y="51"/>
                    </a:lnTo>
                    <a:lnTo>
                      <a:pt x="121" y="58"/>
                    </a:lnTo>
                    <a:lnTo>
                      <a:pt x="79" y="72"/>
                    </a:lnTo>
                    <a:lnTo>
                      <a:pt x="78" y="73"/>
                    </a:lnTo>
                    <a:lnTo>
                      <a:pt x="73" y="75"/>
                    </a:lnTo>
                    <a:lnTo>
                      <a:pt x="65" y="77"/>
                    </a:lnTo>
                    <a:lnTo>
                      <a:pt x="55" y="80"/>
                    </a:lnTo>
                    <a:lnTo>
                      <a:pt x="43" y="81"/>
                    </a:lnTo>
                    <a:lnTo>
                      <a:pt x="29" y="80"/>
                    </a:lnTo>
                    <a:lnTo>
                      <a:pt x="15" y="77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2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Freeform 170"/>
              <p:cNvSpPr/>
              <p:nvPr/>
            </p:nvSpPr>
            <p:spPr>
              <a:xfrm>
                <a:off x="7202520" y="2687760"/>
                <a:ext cx="262800" cy="90720"/>
              </a:xfrm>
              <a:custGeom>
                <a:avLst/>
                <a:gdLst/>
                <a:ahLst/>
                <a:rect l="l" t="t" r="r" b="b"/>
                <a:pathLst>
                  <a:path w="382" h="221">
                    <a:moveTo>
                      <a:pt x="0" y="0"/>
                    </a:moveTo>
                    <a:lnTo>
                      <a:pt x="4" y="0"/>
                    </a:lnTo>
                    <a:lnTo>
                      <a:pt x="13" y="0"/>
                    </a:lnTo>
                    <a:lnTo>
                      <a:pt x="27" y="1"/>
                    </a:lnTo>
                    <a:lnTo>
                      <a:pt x="46" y="2"/>
                    </a:lnTo>
                    <a:lnTo>
                      <a:pt x="68" y="6"/>
                    </a:lnTo>
                    <a:lnTo>
                      <a:pt x="95" y="10"/>
                    </a:lnTo>
                    <a:lnTo>
                      <a:pt x="124" y="17"/>
                    </a:lnTo>
                    <a:lnTo>
                      <a:pt x="154" y="26"/>
                    </a:lnTo>
                    <a:lnTo>
                      <a:pt x="185" y="38"/>
                    </a:lnTo>
                    <a:lnTo>
                      <a:pt x="217" y="52"/>
                    </a:lnTo>
                    <a:lnTo>
                      <a:pt x="250" y="71"/>
                    </a:lnTo>
                    <a:lnTo>
                      <a:pt x="280" y="92"/>
                    </a:lnTo>
                    <a:lnTo>
                      <a:pt x="310" y="117"/>
                    </a:lnTo>
                    <a:lnTo>
                      <a:pt x="337" y="147"/>
                    </a:lnTo>
                    <a:lnTo>
                      <a:pt x="362" y="182"/>
                    </a:lnTo>
                    <a:lnTo>
                      <a:pt x="382" y="221"/>
                    </a:lnTo>
                    <a:lnTo>
                      <a:pt x="381" y="220"/>
                    </a:lnTo>
                    <a:lnTo>
                      <a:pt x="376" y="216"/>
                    </a:lnTo>
                    <a:lnTo>
                      <a:pt x="368" y="208"/>
                    </a:lnTo>
                    <a:lnTo>
                      <a:pt x="358" y="200"/>
                    </a:lnTo>
                    <a:lnTo>
                      <a:pt x="344" y="188"/>
                    </a:lnTo>
                    <a:lnTo>
                      <a:pt x="328" y="175"/>
                    </a:lnTo>
                    <a:lnTo>
                      <a:pt x="308" y="160"/>
                    </a:lnTo>
                    <a:lnTo>
                      <a:pt x="286" y="145"/>
                    </a:lnTo>
                    <a:lnTo>
                      <a:pt x="260" y="128"/>
                    </a:lnTo>
                    <a:lnTo>
                      <a:pt x="232" y="110"/>
                    </a:lnTo>
                    <a:lnTo>
                      <a:pt x="200" y="92"/>
                    </a:lnTo>
                    <a:lnTo>
                      <a:pt x="166" y="74"/>
                    </a:lnTo>
                    <a:lnTo>
                      <a:pt x="129" y="54"/>
                    </a:lnTo>
                    <a:lnTo>
                      <a:pt x="88" y="35"/>
                    </a:lnTo>
                    <a:lnTo>
                      <a:pt x="46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Freeform 171"/>
              <p:cNvSpPr/>
              <p:nvPr/>
            </p:nvSpPr>
            <p:spPr>
              <a:xfrm>
                <a:off x="6852600" y="2552400"/>
                <a:ext cx="117720" cy="197640"/>
              </a:xfrm>
              <a:custGeom>
                <a:avLst/>
                <a:gdLst/>
                <a:ahLst/>
                <a:rect l="l" t="t" r="r" b="b"/>
                <a:pathLst>
                  <a:path w="174" h="503">
                    <a:moveTo>
                      <a:pt x="115" y="481"/>
                    </a:moveTo>
                    <a:lnTo>
                      <a:pt x="113" y="468"/>
                    </a:lnTo>
                    <a:lnTo>
                      <a:pt x="108" y="432"/>
                    </a:lnTo>
                    <a:lnTo>
                      <a:pt x="101" y="381"/>
                    </a:lnTo>
                    <a:lnTo>
                      <a:pt x="89" y="318"/>
                    </a:lnTo>
                    <a:lnTo>
                      <a:pt x="73" y="249"/>
                    </a:lnTo>
                    <a:lnTo>
                      <a:pt x="53" y="182"/>
                    </a:lnTo>
                    <a:lnTo>
                      <a:pt x="29" y="120"/>
                    </a:lnTo>
                    <a:lnTo>
                      <a:pt x="0" y="72"/>
                    </a:lnTo>
                    <a:lnTo>
                      <a:pt x="1" y="68"/>
                    </a:lnTo>
                    <a:lnTo>
                      <a:pt x="4" y="58"/>
                    </a:lnTo>
                    <a:lnTo>
                      <a:pt x="9" y="46"/>
                    </a:lnTo>
                    <a:lnTo>
                      <a:pt x="16" y="32"/>
                    </a:lnTo>
                    <a:lnTo>
                      <a:pt x="25" y="18"/>
                    </a:lnTo>
                    <a:lnTo>
                      <a:pt x="38" y="7"/>
                    </a:lnTo>
                    <a:lnTo>
                      <a:pt x="52" y="0"/>
                    </a:lnTo>
                    <a:lnTo>
                      <a:pt x="68" y="2"/>
                    </a:lnTo>
                    <a:lnTo>
                      <a:pt x="113" y="27"/>
                    </a:lnTo>
                    <a:lnTo>
                      <a:pt x="117" y="40"/>
                    </a:lnTo>
                    <a:lnTo>
                      <a:pt x="126" y="75"/>
                    </a:lnTo>
                    <a:lnTo>
                      <a:pt x="137" y="128"/>
                    </a:lnTo>
                    <a:lnTo>
                      <a:pt x="150" y="194"/>
                    </a:lnTo>
                    <a:lnTo>
                      <a:pt x="162" y="266"/>
                    </a:lnTo>
                    <a:lnTo>
                      <a:pt x="171" y="340"/>
                    </a:lnTo>
                    <a:lnTo>
                      <a:pt x="174" y="411"/>
                    </a:lnTo>
                    <a:lnTo>
                      <a:pt x="170" y="473"/>
                    </a:lnTo>
                    <a:lnTo>
                      <a:pt x="169" y="476"/>
                    </a:lnTo>
                    <a:lnTo>
                      <a:pt x="166" y="482"/>
                    </a:lnTo>
                    <a:lnTo>
                      <a:pt x="161" y="490"/>
                    </a:lnTo>
                    <a:lnTo>
                      <a:pt x="156" y="498"/>
                    </a:lnTo>
                    <a:lnTo>
                      <a:pt x="147" y="503"/>
                    </a:lnTo>
                    <a:lnTo>
                      <a:pt x="139" y="503"/>
                    </a:lnTo>
                    <a:lnTo>
                      <a:pt x="127" y="497"/>
                    </a:lnTo>
                    <a:lnTo>
                      <a:pt x="115" y="481"/>
                    </a:lnTo>
                    <a:close/>
                  </a:path>
                </a:pathLst>
              </a:custGeom>
              <a:solidFill>
                <a:srgbClr val="5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Freeform 172"/>
              <p:cNvSpPr/>
              <p:nvPr/>
            </p:nvSpPr>
            <p:spPr>
              <a:xfrm>
                <a:off x="6901920" y="2560680"/>
                <a:ext cx="57960" cy="132840"/>
              </a:xfrm>
              <a:custGeom>
                <a:avLst/>
                <a:gdLst/>
                <a:ahLst/>
                <a:rect l="l" t="t" r="r" b="b"/>
                <a:pathLst>
                  <a:path w="84" h="339">
                    <a:moveTo>
                      <a:pt x="0" y="0"/>
                    </a:moveTo>
                    <a:lnTo>
                      <a:pt x="5" y="1"/>
                    </a:lnTo>
                    <a:lnTo>
                      <a:pt x="16" y="4"/>
                    </a:lnTo>
                    <a:lnTo>
                      <a:pt x="29" y="11"/>
                    </a:lnTo>
                    <a:lnTo>
                      <a:pt x="36" y="21"/>
                    </a:lnTo>
                    <a:lnTo>
                      <a:pt x="39" y="30"/>
                    </a:lnTo>
                    <a:lnTo>
                      <a:pt x="44" y="54"/>
                    </a:lnTo>
                    <a:lnTo>
                      <a:pt x="51" y="90"/>
                    </a:lnTo>
                    <a:lnTo>
                      <a:pt x="60" y="133"/>
                    </a:lnTo>
                    <a:lnTo>
                      <a:pt x="69" y="183"/>
                    </a:lnTo>
                    <a:lnTo>
                      <a:pt x="77" y="236"/>
                    </a:lnTo>
                    <a:lnTo>
                      <a:pt x="83" y="289"/>
                    </a:lnTo>
                    <a:lnTo>
                      <a:pt x="84" y="336"/>
                    </a:lnTo>
                    <a:lnTo>
                      <a:pt x="83" y="337"/>
                    </a:lnTo>
                    <a:lnTo>
                      <a:pt x="79" y="339"/>
                    </a:lnTo>
                    <a:lnTo>
                      <a:pt x="74" y="336"/>
                    </a:lnTo>
                    <a:lnTo>
                      <a:pt x="69" y="328"/>
                    </a:lnTo>
                    <a:lnTo>
                      <a:pt x="68" y="316"/>
                    </a:lnTo>
                    <a:lnTo>
                      <a:pt x="63" y="285"/>
                    </a:lnTo>
                    <a:lnTo>
                      <a:pt x="56" y="240"/>
                    </a:lnTo>
                    <a:lnTo>
                      <a:pt x="48" y="186"/>
                    </a:lnTo>
                    <a:lnTo>
                      <a:pt x="38" y="129"/>
                    </a:lnTo>
                    <a:lnTo>
                      <a:pt x="26" y="75"/>
                    </a:ln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28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Freeform 173"/>
              <p:cNvSpPr/>
              <p:nvPr/>
            </p:nvSpPr>
            <p:spPr>
              <a:xfrm>
                <a:off x="6862680" y="2575800"/>
                <a:ext cx="88560" cy="181440"/>
              </a:xfrm>
              <a:custGeom>
                <a:avLst/>
                <a:gdLst/>
                <a:ahLst/>
                <a:rect l="l" t="t" r="r" b="b"/>
                <a:pathLst>
                  <a:path w="127" h="450">
                    <a:moveTo>
                      <a:pt x="22" y="0"/>
                    </a:moveTo>
                    <a:lnTo>
                      <a:pt x="25" y="6"/>
                    </a:lnTo>
                    <a:lnTo>
                      <a:pt x="34" y="26"/>
                    </a:lnTo>
                    <a:lnTo>
                      <a:pt x="48" y="59"/>
                    </a:lnTo>
                    <a:lnTo>
                      <a:pt x="66" y="106"/>
                    </a:lnTo>
                    <a:lnTo>
                      <a:pt x="83" y="170"/>
                    </a:lnTo>
                    <a:lnTo>
                      <a:pt x="100" y="247"/>
                    </a:lnTo>
                    <a:lnTo>
                      <a:pt x="116" y="341"/>
                    </a:lnTo>
                    <a:lnTo>
                      <a:pt x="127" y="450"/>
                    </a:lnTo>
                    <a:lnTo>
                      <a:pt x="124" y="449"/>
                    </a:lnTo>
                    <a:lnTo>
                      <a:pt x="116" y="446"/>
                    </a:lnTo>
                    <a:lnTo>
                      <a:pt x="107" y="440"/>
                    </a:lnTo>
                    <a:lnTo>
                      <a:pt x="101" y="429"/>
                    </a:lnTo>
                    <a:lnTo>
                      <a:pt x="100" y="417"/>
                    </a:lnTo>
                    <a:lnTo>
                      <a:pt x="97" y="384"/>
                    </a:lnTo>
                    <a:lnTo>
                      <a:pt x="92" y="335"/>
                    </a:lnTo>
                    <a:lnTo>
                      <a:pt x="84" y="275"/>
                    </a:lnTo>
                    <a:lnTo>
                      <a:pt x="72" y="208"/>
                    </a:lnTo>
                    <a:lnTo>
                      <a:pt x="53" y="139"/>
                    </a:lnTo>
                    <a:lnTo>
                      <a:pt x="30" y="72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5" y="5"/>
                    </a:lnTo>
                    <a:lnTo>
                      <a:pt x="13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174"/>
              <p:cNvSpPr/>
              <p:nvPr/>
            </p:nvSpPr>
            <p:spPr>
              <a:xfrm>
                <a:off x="6508800" y="2651400"/>
                <a:ext cx="245880" cy="38520"/>
              </a:xfrm>
              <a:custGeom>
                <a:avLst/>
                <a:gdLst/>
                <a:ahLst/>
                <a:rect l="l" t="t" r="r" b="b"/>
                <a:pathLst>
                  <a:path w="356" h="110">
                    <a:moveTo>
                      <a:pt x="4" y="73"/>
                    </a:moveTo>
                    <a:lnTo>
                      <a:pt x="5" y="72"/>
                    </a:lnTo>
                    <a:lnTo>
                      <a:pt x="8" y="68"/>
                    </a:lnTo>
                    <a:lnTo>
                      <a:pt x="14" y="62"/>
                    </a:lnTo>
                    <a:lnTo>
                      <a:pt x="22" y="54"/>
                    </a:lnTo>
                    <a:lnTo>
                      <a:pt x="32" y="46"/>
                    </a:lnTo>
                    <a:lnTo>
                      <a:pt x="44" y="35"/>
                    </a:lnTo>
                    <a:lnTo>
                      <a:pt x="61" y="26"/>
                    </a:lnTo>
                    <a:lnTo>
                      <a:pt x="80" y="18"/>
                    </a:lnTo>
                    <a:lnTo>
                      <a:pt x="101" y="10"/>
                    </a:lnTo>
                    <a:lnTo>
                      <a:pt x="126" y="5"/>
                    </a:lnTo>
                    <a:lnTo>
                      <a:pt x="155" y="1"/>
                    </a:lnTo>
                    <a:lnTo>
                      <a:pt x="188" y="0"/>
                    </a:lnTo>
                    <a:lnTo>
                      <a:pt x="223" y="1"/>
                    </a:lnTo>
                    <a:lnTo>
                      <a:pt x="262" y="8"/>
                    </a:lnTo>
                    <a:lnTo>
                      <a:pt x="306" y="18"/>
                    </a:lnTo>
                    <a:lnTo>
                      <a:pt x="354" y="33"/>
                    </a:lnTo>
                    <a:lnTo>
                      <a:pt x="354" y="34"/>
                    </a:lnTo>
                    <a:lnTo>
                      <a:pt x="356" y="37"/>
                    </a:lnTo>
                    <a:lnTo>
                      <a:pt x="356" y="39"/>
                    </a:lnTo>
                    <a:lnTo>
                      <a:pt x="356" y="43"/>
                    </a:lnTo>
                    <a:lnTo>
                      <a:pt x="352" y="47"/>
                    </a:lnTo>
                    <a:lnTo>
                      <a:pt x="346" y="50"/>
                    </a:lnTo>
                    <a:lnTo>
                      <a:pt x="335" y="52"/>
                    </a:lnTo>
                    <a:lnTo>
                      <a:pt x="322" y="52"/>
                    </a:lnTo>
                    <a:lnTo>
                      <a:pt x="312" y="52"/>
                    </a:lnTo>
                    <a:lnTo>
                      <a:pt x="300" y="51"/>
                    </a:lnTo>
                    <a:lnTo>
                      <a:pt x="286" y="51"/>
                    </a:lnTo>
                    <a:lnTo>
                      <a:pt x="270" y="52"/>
                    </a:lnTo>
                    <a:lnTo>
                      <a:pt x="252" y="52"/>
                    </a:lnTo>
                    <a:lnTo>
                      <a:pt x="235" y="54"/>
                    </a:lnTo>
                    <a:lnTo>
                      <a:pt x="216" y="55"/>
                    </a:lnTo>
                    <a:lnTo>
                      <a:pt x="196" y="58"/>
                    </a:lnTo>
                    <a:lnTo>
                      <a:pt x="175" y="60"/>
                    </a:lnTo>
                    <a:lnTo>
                      <a:pt x="155" y="64"/>
                    </a:lnTo>
                    <a:lnTo>
                      <a:pt x="136" y="68"/>
                    </a:lnTo>
                    <a:lnTo>
                      <a:pt x="118" y="75"/>
                    </a:lnTo>
                    <a:lnTo>
                      <a:pt x="100" y="81"/>
                    </a:lnTo>
                    <a:lnTo>
                      <a:pt x="83" y="88"/>
                    </a:lnTo>
                    <a:lnTo>
                      <a:pt x="68" y="97"/>
                    </a:lnTo>
                    <a:lnTo>
                      <a:pt x="55" y="108"/>
                    </a:lnTo>
                    <a:lnTo>
                      <a:pt x="52" y="109"/>
                    </a:lnTo>
                    <a:lnTo>
                      <a:pt x="43" y="110"/>
                    </a:lnTo>
                    <a:lnTo>
                      <a:pt x="33" y="110"/>
                    </a:lnTo>
                    <a:lnTo>
                      <a:pt x="21" y="110"/>
                    </a:lnTo>
                    <a:lnTo>
                      <a:pt x="10" y="108"/>
                    </a:lnTo>
                    <a:lnTo>
                      <a:pt x="3" y="101"/>
                    </a:lnTo>
                    <a:lnTo>
                      <a:pt x="0" y="90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175"/>
              <p:cNvSpPr/>
              <p:nvPr/>
            </p:nvSpPr>
            <p:spPr>
              <a:xfrm>
                <a:off x="6543720" y="2652480"/>
                <a:ext cx="161280" cy="28080"/>
              </a:xfrm>
              <a:custGeom>
                <a:avLst/>
                <a:gdLst/>
                <a:ahLst/>
                <a:rect l="l" t="t" r="r" b="b"/>
                <a:pathLst>
                  <a:path w="234" h="86">
                    <a:moveTo>
                      <a:pt x="4" y="57"/>
                    </a:moveTo>
                    <a:lnTo>
                      <a:pt x="6" y="56"/>
                    </a:lnTo>
                    <a:lnTo>
                      <a:pt x="7" y="53"/>
                    </a:lnTo>
                    <a:lnTo>
                      <a:pt x="11" y="48"/>
                    </a:lnTo>
                    <a:lnTo>
                      <a:pt x="16" y="42"/>
                    </a:lnTo>
                    <a:lnTo>
                      <a:pt x="22" y="36"/>
                    </a:lnTo>
                    <a:lnTo>
                      <a:pt x="31" y="28"/>
                    </a:lnTo>
                    <a:lnTo>
                      <a:pt x="41" y="21"/>
                    </a:lnTo>
                    <a:lnTo>
                      <a:pt x="53" y="15"/>
                    </a:lnTo>
                    <a:lnTo>
                      <a:pt x="67" y="9"/>
                    </a:lnTo>
                    <a:lnTo>
                      <a:pt x="84" y="4"/>
                    </a:lnTo>
                    <a:lnTo>
                      <a:pt x="103" y="2"/>
                    </a:lnTo>
                    <a:lnTo>
                      <a:pt x="124" y="0"/>
                    </a:lnTo>
                    <a:lnTo>
                      <a:pt x="147" y="2"/>
                    </a:lnTo>
                    <a:lnTo>
                      <a:pt x="173" y="6"/>
                    </a:lnTo>
                    <a:lnTo>
                      <a:pt x="201" y="13"/>
                    </a:lnTo>
                    <a:lnTo>
                      <a:pt x="232" y="24"/>
                    </a:lnTo>
                    <a:lnTo>
                      <a:pt x="234" y="27"/>
                    </a:lnTo>
                    <a:lnTo>
                      <a:pt x="234" y="32"/>
                    </a:lnTo>
                    <a:lnTo>
                      <a:pt x="227" y="38"/>
                    </a:lnTo>
                    <a:lnTo>
                      <a:pt x="211" y="40"/>
                    </a:lnTo>
                    <a:lnTo>
                      <a:pt x="197" y="38"/>
                    </a:lnTo>
                    <a:lnTo>
                      <a:pt x="177" y="40"/>
                    </a:lnTo>
                    <a:lnTo>
                      <a:pt x="154" y="41"/>
                    </a:lnTo>
                    <a:lnTo>
                      <a:pt x="129" y="44"/>
                    </a:lnTo>
                    <a:lnTo>
                      <a:pt x="103" y="49"/>
                    </a:lnTo>
                    <a:lnTo>
                      <a:pt x="77" y="57"/>
                    </a:lnTo>
                    <a:lnTo>
                      <a:pt x="55" y="69"/>
                    </a:lnTo>
                    <a:lnTo>
                      <a:pt x="37" y="83"/>
                    </a:lnTo>
                    <a:lnTo>
                      <a:pt x="34" y="83"/>
                    </a:lnTo>
                    <a:lnTo>
                      <a:pt x="29" y="85"/>
                    </a:lnTo>
                    <a:lnTo>
                      <a:pt x="22" y="86"/>
                    </a:lnTo>
                    <a:lnTo>
                      <a:pt x="14" y="85"/>
                    </a:lnTo>
                    <a:lnTo>
                      <a:pt x="8" y="83"/>
                    </a:lnTo>
                    <a:lnTo>
                      <a:pt x="3" y="78"/>
                    </a:lnTo>
                    <a:lnTo>
                      <a:pt x="0" y="69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176"/>
              <p:cNvSpPr/>
              <p:nvPr/>
            </p:nvSpPr>
            <p:spPr>
              <a:xfrm>
                <a:off x="6589440" y="2660760"/>
                <a:ext cx="74160" cy="1152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2" y="24"/>
                    </a:moveTo>
                    <a:lnTo>
                      <a:pt x="3" y="23"/>
                    </a:lnTo>
                    <a:lnTo>
                      <a:pt x="7" y="17"/>
                    </a:lnTo>
                    <a:lnTo>
                      <a:pt x="14" y="12"/>
                    </a:lnTo>
                    <a:lnTo>
                      <a:pt x="25" y="6"/>
                    </a:lnTo>
                    <a:lnTo>
                      <a:pt x="39" y="2"/>
                    </a:lnTo>
                    <a:lnTo>
                      <a:pt x="58" y="0"/>
                    </a:lnTo>
                    <a:lnTo>
                      <a:pt x="81" y="3"/>
                    </a:lnTo>
                    <a:lnTo>
                      <a:pt x="109" y="11"/>
                    </a:lnTo>
                    <a:lnTo>
                      <a:pt x="109" y="12"/>
                    </a:lnTo>
                    <a:lnTo>
                      <a:pt x="109" y="14"/>
                    </a:lnTo>
                    <a:lnTo>
                      <a:pt x="106" y="16"/>
                    </a:lnTo>
                    <a:lnTo>
                      <a:pt x="99" y="17"/>
                    </a:lnTo>
                    <a:lnTo>
                      <a:pt x="92" y="17"/>
                    </a:lnTo>
                    <a:lnTo>
                      <a:pt x="82" y="17"/>
                    </a:lnTo>
                    <a:lnTo>
                      <a:pt x="72" y="17"/>
                    </a:lnTo>
                    <a:lnTo>
                      <a:pt x="59" y="19"/>
                    </a:lnTo>
                    <a:lnTo>
                      <a:pt x="48" y="21"/>
                    </a:lnTo>
                    <a:lnTo>
                      <a:pt x="36" y="24"/>
                    </a:lnTo>
                    <a:lnTo>
                      <a:pt x="25" y="29"/>
                    </a:lnTo>
                    <a:lnTo>
                      <a:pt x="17" y="36"/>
                    </a:lnTo>
                    <a:lnTo>
                      <a:pt x="13" y="36"/>
                    </a:lnTo>
                    <a:lnTo>
                      <a:pt x="7" y="36"/>
                    </a:lnTo>
                    <a:lnTo>
                      <a:pt x="0" y="33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ffc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Freeform 177"/>
              <p:cNvSpPr/>
              <p:nvPr/>
            </p:nvSpPr>
            <p:spPr>
              <a:xfrm>
                <a:off x="6757200" y="332460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111" h="217">
                    <a:moveTo>
                      <a:pt x="25" y="22"/>
                    </a:moveTo>
                    <a:lnTo>
                      <a:pt x="20" y="46"/>
                    </a:lnTo>
                    <a:lnTo>
                      <a:pt x="9" y="99"/>
                    </a:lnTo>
                    <a:lnTo>
                      <a:pt x="0" y="157"/>
                    </a:lnTo>
                    <a:lnTo>
                      <a:pt x="0" y="195"/>
                    </a:lnTo>
                    <a:lnTo>
                      <a:pt x="5" y="203"/>
                    </a:lnTo>
                    <a:lnTo>
                      <a:pt x="13" y="209"/>
                    </a:lnTo>
                    <a:lnTo>
                      <a:pt x="22" y="213"/>
                    </a:lnTo>
                    <a:lnTo>
                      <a:pt x="32" y="216"/>
                    </a:lnTo>
                    <a:lnTo>
                      <a:pt x="43" y="217"/>
                    </a:lnTo>
                    <a:lnTo>
                      <a:pt x="53" y="217"/>
                    </a:lnTo>
                    <a:lnTo>
                      <a:pt x="62" y="217"/>
                    </a:lnTo>
                    <a:lnTo>
                      <a:pt x="71" y="217"/>
                    </a:lnTo>
                    <a:lnTo>
                      <a:pt x="86" y="211"/>
                    </a:lnTo>
                    <a:lnTo>
                      <a:pt x="97" y="194"/>
                    </a:lnTo>
                    <a:lnTo>
                      <a:pt x="103" y="174"/>
                    </a:lnTo>
                    <a:lnTo>
                      <a:pt x="107" y="155"/>
                    </a:lnTo>
                    <a:lnTo>
                      <a:pt x="107" y="132"/>
                    </a:lnTo>
                    <a:lnTo>
                      <a:pt x="110" y="99"/>
                    </a:lnTo>
                    <a:lnTo>
                      <a:pt x="111" y="70"/>
                    </a:lnTo>
                    <a:lnTo>
                      <a:pt x="111" y="58"/>
                    </a:lnTo>
                    <a:lnTo>
                      <a:pt x="110" y="54"/>
                    </a:lnTo>
                    <a:lnTo>
                      <a:pt x="106" y="44"/>
                    </a:lnTo>
                    <a:lnTo>
                      <a:pt x="100" y="29"/>
                    </a:lnTo>
                    <a:lnTo>
                      <a:pt x="91" y="15"/>
                    </a:lnTo>
                    <a:lnTo>
                      <a:pt x="79" y="4"/>
                    </a:lnTo>
                    <a:lnTo>
                      <a:pt x="64" y="0"/>
                    </a:lnTo>
                    <a:lnTo>
                      <a:pt x="47" y="5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Freeform 178"/>
              <p:cNvSpPr/>
              <p:nvPr/>
            </p:nvSpPr>
            <p:spPr>
              <a:xfrm>
                <a:off x="7040880" y="3351600"/>
                <a:ext cx="68040" cy="77760"/>
              </a:xfrm>
              <a:custGeom>
                <a:avLst/>
                <a:gdLst/>
                <a:ahLst/>
                <a:rect l="l" t="t" r="r" b="b"/>
                <a:pathLst>
                  <a:path w="99" h="198">
                    <a:moveTo>
                      <a:pt x="26" y="21"/>
                    </a:moveTo>
                    <a:lnTo>
                      <a:pt x="20" y="30"/>
                    </a:lnTo>
                    <a:lnTo>
                      <a:pt x="14" y="45"/>
                    </a:lnTo>
                    <a:lnTo>
                      <a:pt x="7" y="65"/>
                    </a:lnTo>
                    <a:lnTo>
                      <a:pt x="2" y="88"/>
                    </a:lnTo>
                    <a:lnTo>
                      <a:pt x="0" y="112"/>
                    </a:lnTo>
                    <a:lnTo>
                      <a:pt x="0" y="136"/>
                    </a:lnTo>
                    <a:lnTo>
                      <a:pt x="4" y="158"/>
                    </a:lnTo>
                    <a:lnTo>
                      <a:pt x="12" y="177"/>
                    </a:lnTo>
                    <a:lnTo>
                      <a:pt x="24" y="190"/>
                    </a:lnTo>
                    <a:lnTo>
                      <a:pt x="36" y="196"/>
                    </a:lnTo>
                    <a:lnTo>
                      <a:pt x="49" y="198"/>
                    </a:lnTo>
                    <a:lnTo>
                      <a:pt x="62" y="195"/>
                    </a:lnTo>
                    <a:lnTo>
                      <a:pt x="74" y="190"/>
                    </a:lnTo>
                    <a:lnTo>
                      <a:pt x="83" y="183"/>
                    </a:lnTo>
                    <a:lnTo>
                      <a:pt x="91" y="175"/>
                    </a:lnTo>
                    <a:lnTo>
                      <a:pt x="96" y="169"/>
                    </a:lnTo>
                    <a:lnTo>
                      <a:pt x="99" y="138"/>
                    </a:lnTo>
                    <a:lnTo>
                      <a:pt x="98" y="90"/>
                    </a:lnTo>
                    <a:lnTo>
                      <a:pt x="94" y="40"/>
                    </a:lnTo>
                    <a:lnTo>
                      <a:pt x="85" y="12"/>
                    </a:lnTo>
                    <a:lnTo>
                      <a:pt x="80" y="7"/>
                    </a:lnTo>
                    <a:lnTo>
                      <a:pt x="75" y="4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57" y="2"/>
                    </a:lnTo>
                    <a:lnTo>
                      <a:pt x="48" y="5"/>
                    </a:lnTo>
                    <a:lnTo>
                      <a:pt x="38" y="12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Freeform 179"/>
              <p:cNvSpPr/>
              <p:nvPr/>
            </p:nvSpPr>
            <p:spPr>
              <a:xfrm>
                <a:off x="7247880" y="2923200"/>
                <a:ext cx="68040" cy="51480"/>
              </a:xfrm>
              <a:custGeom>
                <a:avLst/>
                <a:gdLst/>
                <a:ahLst/>
                <a:rect l="l" t="t" r="r" b="b"/>
                <a:pathLst>
                  <a:path w="100" h="132">
                    <a:moveTo>
                      <a:pt x="71" y="6"/>
                    </a:moveTo>
                    <a:lnTo>
                      <a:pt x="69" y="4"/>
                    </a:lnTo>
                    <a:lnTo>
                      <a:pt x="63" y="3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4" y="2"/>
                    </a:lnTo>
                    <a:lnTo>
                      <a:pt x="24" y="4"/>
                    </a:lnTo>
                    <a:lnTo>
                      <a:pt x="15" y="11"/>
                    </a:lnTo>
                    <a:lnTo>
                      <a:pt x="10" y="23"/>
                    </a:lnTo>
                    <a:lnTo>
                      <a:pt x="3" y="48"/>
                    </a:lnTo>
                    <a:lnTo>
                      <a:pt x="0" y="69"/>
                    </a:lnTo>
                    <a:lnTo>
                      <a:pt x="0" y="87"/>
                    </a:lnTo>
                    <a:lnTo>
                      <a:pt x="1" y="100"/>
                    </a:lnTo>
                    <a:lnTo>
                      <a:pt x="3" y="107"/>
                    </a:lnTo>
                    <a:lnTo>
                      <a:pt x="8" y="112"/>
                    </a:lnTo>
                    <a:lnTo>
                      <a:pt x="15" y="119"/>
                    </a:lnTo>
                    <a:lnTo>
                      <a:pt x="22" y="124"/>
                    </a:lnTo>
                    <a:lnTo>
                      <a:pt x="31" y="129"/>
                    </a:lnTo>
                    <a:lnTo>
                      <a:pt x="39" y="132"/>
                    </a:lnTo>
                    <a:lnTo>
                      <a:pt x="48" y="132"/>
                    </a:lnTo>
                    <a:lnTo>
                      <a:pt x="54" y="131"/>
                    </a:lnTo>
                    <a:lnTo>
                      <a:pt x="60" y="127"/>
                    </a:lnTo>
                    <a:lnTo>
                      <a:pt x="68" y="122"/>
                    </a:lnTo>
                    <a:lnTo>
                      <a:pt x="75" y="114"/>
                    </a:lnTo>
                    <a:lnTo>
                      <a:pt x="82" y="106"/>
                    </a:lnTo>
                    <a:lnTo>
                      <a:pt x="88" y="98"/>
                    </a:lnTo>
                    <a:lnTo>
                      <a:pt x="93" y="89"/>
                    </a:lnTo>
                    <a:lnTo>
                      <a:pt x="97" y="79"/>
                    </a:lnTo>
                    <a:lnTo>
                      <a:pt x="98" y="72"/>
                    </a:lnTo>
                    <a:lnTo>
                      <a:pt x="100" y="53"/>
                    </a:lnTo>
                    <a:lnTo>
                      <a:pt x="99" y="32"/>
                    </a:lnTo>
                    <a:lnTo>
                      <a:pt x="90" y="15"/>
                    </a:lnTo>
                    <a:lnTo>
                      <a:pt x="71" y="6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Freeform 180"/>
              <p:cNvSpPr/>
              <p:nvPr/>
            </p:nvSpPr>
            <p:spPr>
              <a:xfrm>
                <a:off x="7301880" y="2704320"/>
                <a:ext cx="117720" cy="42120"/>
              </a:xfrm>
              <a:custGeom>
                <a:avLst/>
                <a:gdLst/>
                <a:ahLst/>
                <a:rect l="l" t="t" r="r" b="b"/>
                <a:pathLst>
                  <a:path w="172" h="107">
                    <a:moveTo>
                      <a:pt x="0" y="0"/>
                    </a:moveTo>
                    <a:lnTo>
                      <a:pt x="5" y="2"/>
                    </a:lnTo>
                    <a:lnTo>
                      <a:pt x="19" y="8"/>
                    </a:lnTo>
                    <a:lnTo>
                      <a:pt x="39" y="17"/>
                    </a:lnTo>
                    <a:lnTo>
                      <a:pt x="65" y="29"/>
                    </a:lnTo>
                    <a:lnTo>
                      <a:pt x="93" y="45"/>
                    </a:lnTo>
                    <a:lnTo>
                      <a:pt x="122" y="63"/>
                    </a:lnTo>
                    <a:lnTo>
                      <a:pt x="148" y="83"/>
                    </a:lnTo>
                    <a:lnTo>
                      <a:pt x="172" y="107"/>
                    </a:lnTo>
                    <a:lnTo>
                      <a:pt x="171" y="104"/>
                    </a:lnTo>
                    <a:lnTo>
                      <a:pt x="165" y="95"/>
                    </a:lnTo>
                    <a:lnTo>
                      <a:pt x="153" y="82"/>
                    </a:lnTo>
                    <a:lnTo>
                      <a:pt x="137" y="66"/>
                    </a:lnTo>
                    <a:lnTo>
                      <a:pt x="114" y="49"/>
                    </a:lnTo>
                    <a:lnTo>
                      <a:pt x="84" y="32"/>
                    </a:lnTo>
                    <a:lnTo>
                      <a:pt x="4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8" name="TextBox 323"/>
            <p:cNvSpPr/>
            <p:nvPr/>
          </p:nvSpPr>
          <p:spPr>
            <a:xfrm>
              <a:off x="6275160" y="271116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扑救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9" name="组合 321"/>
          <p:cNvGrpSpPr/>
          <p:nvPr/>
        </p:nvGrpSpPr>
        <p:grpSpPr>
          <a:xfrm>
            <a:off x="6350040" y="1477800"/>
            <a:ext cx="1596600" cy="1027440"/>
            <a:chOff x="6350040" y="1477800"/>
            <a:chExt cx="1596600" cy="1027440"/>
          </a:xfrm>
        </p:grpSpPr>
        <p:grpSp>
          <p:nvGrpSpPr>
            <p:cNvPr id="500" name="Group 152"/>
            <p:cNvGrpSpPr/>
            <p:nvPr/>
          </p:nvGrpSpPr>
          <p:grpSpPr>
            <a:xfrm>
              <a:off x="6350040" y="1477800"/>
              <a:ext cx="1596600" cy="1027440"/>
              <a:chOff x="6350040" y="1477800"/>
              <a:chExt cx="1596600" cy="1027440"/>
            </a:xfrm>
          </p:grpSpPr>
          <p:sp>
            <p:nvSpPr>
              <p:cNvPr id="501" name="AutoShape 151"/>
              <p:cNvSpPr/>
              <p:nvPr/>
            </p:nvSpPr>
            <p:spPr>
              <a:xfrm>
                <a:off x="6350040" y="1477800"/>
                <a:ext cx="159660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Freeform 153"/>
              <p:cNvSpPr/>
              <p:nvPr/>
            </p:nvSpPr>
            <p:spPr>
              <a:xfrm>
                <a:off x="7256880" y="2499120"/>
                <a:ext cx="10080" cy="10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4"/>
                    </a:moveTo>
                    <a:lnTo>
                      <a:pt x="18" y="4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Freeform 154"/>
              <p:cNvSpPr/>
              <p:nvPr/>
            </p:nvSpPr>
            <p:spPr>
              <a:xfrm>
                <a:off x="6430680" y="1477800"/>
                <a:ext cx="1495080" cy="1026000"/>
              </a:xfrm>
              <a:custGeom>
                <a:avLst/>
                <a:gdLst/>
                <a:ahLst/>
                <a:rect l="l" t="t" r="r" b="b"/>
                <a:pathLst>
                  <a:path w="2166" h="2610">
                    <a:moveTo>
                      <a:pt x="1719" y="348"/>
                    </a:moveTo>
                    <a:lnTo>
                      <a:pt x="1679" y="335"/>
                    </a:lnTo>
                    <a:lnTo>
                      <a:pt x="1643" y="323"/>
                    </a:lnTo>
                    <a:lnTo>
                      <a:pt x="1609" y="313"/>
                    </a:lnTo>
                    <a:lnTo>
                      <a:pt x="1576" y="306"/>
                    </a:lnTo>
                    <a:lnTo>
                      <a:pt x="1545" y="300"/>
                    </a:lnTo>
                    <a:lnTo>
                      <a:pt x="1514" y="296"/>
                    </a:lnTo>
                    <a:lnTo>
                      <a:pt x="1487" y="294"/>
                    </a:lnTo>
                    <a:lnTo>
                      <a:pt x="1460" y="292"/>
                    </a:lnTo>
                    <a:lnTo>
                      <a:pt x="1434" y="292"/>
                    </a:lnTo>
                    <a:lnTo>
                      <a:pt x="1409" y="292"/>
                    </a:lnTo>
                    <a:lnTo>
                      <a:pt x="1385" y="295"/>
                    </a:lnTo>
                    <a:lnTo>
                      <a:pt x="1362" y="298"/>
                    </a:lnTo>
                    <a:lnTo>
                      <a:pt x="1338" y="300"/>
                    </a:lnTo>
                    <a:lnTo>
                      <a:pt x="1317" y="304"/>
                    </a:lnTo>
                    <a:lnTo>
                      <a:pt x="1294" y="308"/>
                    </a:lnTo>
                    <a:lnTo>
                      <a:pt x="1273" y="312"/>
                    </a:lnTo>
                    <a:lnTo>
                      <a:pt x="1271" y="312"/>
                    </a:lnTo>
                    <a:lnTo>
                      <a:pt x="1269" y="312"/>
                    </a:lnTo>
                    <a:lnTo>
                      <a:pt x="1265" y="313"/>
                    </a:lnTo>
                    <a:lnTo>
                      <a:pt x="1260" y="313"/>
                    </a:lnTo>
                    <a:lnTo>
                      <a:pt x="1254" y="277"/>
                    </a:lnTo>
                    <a:lnTo>
                      <a:pt x="1246" y="237"/>
                    </a:lnTo>
                    <a:lnTo>
                      <a:pt x="1239" y="194"/>
                    </a:lnTo>
                    <a:lnTo>
                      <a:pt x="1232" y="153"/>
                    </a:lnTo>
                    <a:lnTo>
                      <a:pt x="1225" y="116"/>
                    </a:lnTo>
                    <a:lnTo>
                      <a:pt x="1220" y="87"/>
                    </a:lnTo>
                    <a:lnTo>
                      <a:pt x="1216" y="67"/>
                    </a:lnTo>
                    <a:lnTo>
                      <a:pt x="1215" y="59"/>
                    </a:lnTo>
                    <a:lnTo>
                      <a:pt x="1162" y="40"/>
                    </a:lnTo>
                    <a:lnTo>
                      <a:pt x="1106" y="9"/>
                    </a:lnTo>
                    <a:lnTo>
                      <a:pt x="1095" y="7"/>
                    </a:lnTo>
                    <a:lnTo>
                      <a:pt x="1090" y="5"/>
                    </a:lnTo>
                    <a:lnTo>
                      <a:pt x="1085" y="4"/>
                    </a:lnTo>
                    <a:lnTo>
                      <a:pt x="1080" y="3"/>
                    </a:lnTo>
                    <a:lnTo>
                      <a:pt x="1075" y="1"/>
                    </a:lnTo>
                    <a:lnTo>
                      <a:pt x="1068" y="1"/>
                    </a:lnTo>
                    <a:lnTo>
                      <a:pt x="1063" y="0"/>
                    </a:lnTo>
                    <a:lnTo>
                      <a:pt x="1058" y="0"/>
                    </a:lnTo>
                    <a:lnTo>
                      <a:pt x="1053" y="0"/>
                    </a:lnTo>
                    <a:lnTo>
                      <a:pt x="1048" y="0"/>
                    </a:lnTo>
                    <a:lnTo>
                      <a:pt x="1043" y="0"/>
                    </a:lnTo>
                    <a:lnTo>
                      <a:pt x="1038" y="1"/>
                    </a:lnTo>
                    <a:lnTo>
                      <a:pt x="1034" y="1"/>
                    </a:lnTo>
                    <a:lnTo>
                      <a:pt x="1029" y="3"/>
                    </a:lnTo>
                    <a:lnTo>
                      <a:pt x="1024" y="4"/>
                    </a:lnTo>
                    <a:lnTo>
                      <a:pt x="1019" y="5"/>
                    </a:lnTo>
                    <a:lnTo>
                      <a:pt x="1014" y="7"/>
                    </a:lnTo>
                    <a:lnTo>
                      <a:pt x="994" y="14"/>
                    </a:lnTo>
                    <a:lnTo>
                      <a:pt x="974" y="26"/>
                    </a:lnTo>
                    <a:lnTo>
                      <a:pt x="955" y="42"/>
                    </a:lnTo>
                    <a:lnTo>
                      <a:pt x="939" y="61"/>
                    </a:lnTo>
                    <a:lnTo>
                      <a:pt x="924" y="82"/>
                    </a:lnTo>
                    <a:lnTo>
                      <a:pt x="911" y="107"/>
                    </a:lnTo>
                    <a:lnTo>
                      <a:pt x="900" y="133"/>
                    </a:lnTo>
                    <a:lnTo>
                      <a:pt x="891" y="163"/>
                    </a:lnTo>
                    <a:lnTo>
                      <a:pt x="877" y="228"/>
                    </a:lnTo>
                    <a:lnTo>
                      <a:pt x="878" y="230"/>
                    </a:lnTo>
                    <a:lnTo>
                      <a:pt x="883" y="236"/>
                    </a:lnTo>
                    <a:lnTo>
                      <a:pt x="888" y="244"/>
                    </a:lnTo>
                    <a:lnTo>
                      <a:pt x="896" y="253"/>
                    </a:lnTo>
                    <a:lnTo>
                      <a:pt x="872" y="248"/>
                    </a:lnTo>
                    <a:lnTo>
                      <a:pt x="848" y="242"/>
                    </a:lnTo>
                    <a:lnTo>
                      <a:pt x="823" y="237"/>
                    </a:lnTo>
                    <a:lnTo>
                      <a:pt x="796" y="233"/>
                    </a:lnTo>
                    <a:lnTo>
                      <a:pt x="770" y="230"/>
                    </a:lnTo>
                    <a:lnTo>
                      <a:pt x="743" y="229"/>
                    </a:lnTo>
                    <a:lnTo>
                      <a:pt x="716" y="228"/>
                    </a:lnTo>
                    <a:lnTo>
                      <a:pt x="688" y="228"/>
                    </a:lnTo>
                    <a:lnTo>
                      <a:pt x="660" y="229"/>
                    </a:lnTo>
                    <a:lnTo>
                      <a:pt x="633" y="230"/>
                    </a:lnTo>
                    <a:lnTo>
                      <a:pt x="604" y="234"/>
                    </a:lnTo>
                    <a:lnTo>
                      <a:pt x="575" y="240"/>
                    </a:lnTo>
                    <a:lnTo>
                      <a:pt x="547" y="245"/>
                    </a:lnTo>
                    <a:lnTo>
                      <a:pt x="518" y="253"/>
                    </a:lnTo>
                    <a:lnTo>
                      <a:pt x="489" y="262"/>
                    </a:lnTo>
                    <a:lnTo>
                      <a:pt x="461" y="271"/>
                    </a:lnTo>
                    <a:lnTo>
                      <a:pt x="432" y="283"/>
                    </a:lnTo>
                    <a:lnTo>
                      <a:pt x="405" y="298"/>
                    </a:lnTo>
                    <a:lnTo>
                      <a:pt x="377" y="312"/>
                    </a:lnTo>
                    <a:lnTo>
                      <a:pt x="350" y="329"/>
                    </a:lnTo>
                    <a:lnTo>
                      <a:pt x="324" y="349"/>
                    </a:lnTo>
                    <a:lnTo>
                      <a:pt x="297" y="369"/>
                    </a:lnTo>
                    <a:lnTo>
                      <a:pt x="271" y="391"/>
                    </a:lnTo>
                    <a:lnTo>
                      <a:pt x="246" y="416"/>
                    </a:lnTo>
                    <a:lnTo>
                      <a:pt x="222" y="443"/>
                    </a:lnTo>
                    <a:lnTo>
                      <a:pt x="198" y="471"/>
                    </a:lnTo>
                    <a:lnTo>
                      <a:pt x="175" y="503"/>
                    </a:lnTo>
                    <a:lnTo>
                      <a:pt x="154" y="536"/>
                    </a:lnTo>
                    <a:lnTo>
                      <a:pt x="134" y="572"/>
                    </a:lnTo>
                    <a:lnTo>
                      <a:pt x="114" y="610"/>
                    </a:lnTo>
                    <a:lnTo>
                      <a:pt x="95" y="649"/>
                    </a:lnTo>
                    <a:lnTo>
                      <a:pt x="77" y="693"/>
                    </a:lnTo>
                    <a:lnTo>
                      <a:pt x="73" y="701"/>
                    </a:lnTo>
                    <a:lnTo>
                      <a:pt x="67" y="718"/>
                    </a:lnTo>
                    <a:lnTo>
                      <a:pt x="58" y="744"/>
                    </a:lnTo>
                    <a:lnTo>
                      <a:pt x="48" y="778"/>
                    </a:lnTo>
                    <a:lnTo>
                      <a:pt x="37" y="822"/>
                    </a:lnTo>
                    <a:lnTo>
                      <a:pt x="25" y="872"/>
                    </a:lnTo>
                    <a:lnTo>
                      <a:pt x="15" y="931"/>
                    </a:lnTo>
                    <a:lnTo>
                      <a:pt x="6" y="996"/>
                    </a:lnTo>
                    <a:lnTo>
                      <a:pt x="1" y="1068"/>
                    </a:lnTo>
                    <a:lnTo>
                      <a:pt x="0" y="1146"/>
                    </a:lnTo>
                    <a:lnTo>
                      <a:pt x="3" y="1230"/>
                    </a:lnTo>
                    <a:lnTo>
                      <a:pt x="10" y="1320"/>
                    </a:lnTo>
                    <a:lnTo>
                      <a:pt x="25" y="1413"/>
                    </a:lnTo>
                    <a:lnTo>
                      <a:pt x="47" y="1512"/>
                    </a:lnTo>
                    <a:lnTo>
                      <a:pt x="77" y="1615"/>
                    </a:lnTo>
                    <a:lnTo>
                      <a:pt x="116" y="1721"/>
                    </a:lnTo>
                    <a:lnTo>
                      <a:pt x="149" y="1798"/>
                    </a:lnTo>
                    <a:lnTo>
                      <a:pt x="183" y="1873"/>
                    </a:lnTo>
                    <a:lnTo>
                      <a:pt x="219" y="1944"/>
                    </a:lnTo>
                    <a:lnTo>
                      <a:pt x="258" y="2014"/>
                    </a:lnTo>
                    <a:lnTo>
                      <a:pt x="296" y="2081"/>
                    </a:lnTo>
                    <a:lnTo>
                      <a:pt x="335" y="2144"/>
                    </a:lnTo>
                    <a:lnTo>
                      <a:pt x="373" y="2203"/>
                    </a:lnTo>
                    <a:lnTo>
                      <a:pt x="410" y="2259"/>
                    </a:lnTo>
                    <a:lnTo>
                      <a:pt x="445" y="2310"/>
                    </a:lnTo>
                    <a:lnTo>
                      <a:pt x="478" y="2355"/>
                    </a:lnTo>
                    <a:lnTo>
                      <a:pt x="507" y="2396"/>
                    </a:lnTo>
                    <a:lnTo>
                      <a:pt x="533" y="2430"/>
                    </a:lnTo>
                    <a:lnTo>
                      <a:pt x="554" y="2458"/>
                    </a:lnTo>
                    <a:lnTo>
                      <a:pt x="572" y="2479"/>
                    </a:lnTo>
                    <a:lnTo>
                      <a:pt x="583" y="2493"/>
                    </a:lnTo>
                    <a:lnTo>
                      <a:pt x="588" y="2500"/>
                    </a:lnTo>
                    <a:lnTo>
                      <a:pt x="594" y="2505"/>
                    </a:lnTo>
                    <a:lnTo>
                      <a:pt x="600" y="2510"/>
                    </a:lnTo>
                    <a:lnTo>
                      <a:pt x="616" y="2523"/>
                    </a:lnTo>
                    <a:lnTo>
                      <a:pt x="635" y="2537"/>
                    </a:lnTo>
                    <a:lnTo>
                      <a:pt x="657" y="2550"/>
                    </a:lnTo>
                    <a:lnTo>
                      <a:pt x="679" y="2563"/>
                    </a:lnTo>
                    <a:lnTo>
                      <a:pt x="704" y="2575"/>
                    </a:lnTo>
                    <a:lnTo>
                      <a:pt x="731" y="2585"/>
                    </a:lnTo>
                    <a:lnTo>
                      <a:pt x="760" y="2593"/>
                    </a:lnTo>
                    <a:lnTo>
                      <a:pt x="789" y="2600"/>
                    </a:lnTo>
                    <a:lnTo>
                      <a:pt x="806" y="2602"/>
                    </a:lnTo>
                    <a:lnTo>
                      <a:pt x="825" y="2605"/>
                    </a:lnTo>
                    <a:lnTo>
                      <a:pt x="843" y="2605"/>
                    </a:lnTo>
                    <a:lnTo>
                      <a:pt x="862" y="2605"/>
                    </a:lnTo>
                    <a:lnTo>
                      <a:pt x="881" y="2602"/>
                    </a:lnTo>
                    <a:lnTo>
                      <a:pt x="900" y="2600"/>
                    </a:lnTo>
                    <a:lnTo>
                      <a:pt x="919" y="2595"/>
                    </a:lnTo>
                    <a:lnTo>
                      <a:pt x="937" y="2588"/>
                    </a:lnTo>
                    <a:lnTo>
                      <a:pt x="954" y="2580"/>
                    </a:lnTo>
                    <a:lnTo>
                      <a:pt x="912" y="2589"/>
                    </a:lnTo>
                    <a:lnTo>
                      <a:pt x="999" y="2570"/>
                    </a:lnTo>
                    <a:lnTo>
                      <a:pt x="1008" y="2567"/>
                    </a:lnTo>
                    <a:lnTo>
                      <a:pt x="1017" y="2564"/>
                    </a:lnTo>
                    <a:lnTo>
                      <a:pt x="1024" y="2562"/>
                    </a:lnTo>
                    <a:lnTo>
                      <a:pt x="1033" y="2560"/>
                    </a:lnTo>
                    <a:lnTo>
                      <a:pt x="1042" y="2559"/>
                    </a:lnTo>
                    <a:lnTo>
                      <a:pt x="1051" y="2558"/>
                    </a:lnTo>
                    <a:lnTo>
                      <a:pt x="1061" y="2558"/>
                    </a:lnTo>
                    <a:lnTo>
                      <a:pt x="1070" y="2559"/>
                    </a:lnTo>
                    <a:lnTo>
                      <a:pt x="1075" y="2560"/>
                    </a:lnTo>
                    <a:lnTo>
                      <a:pt x="1087" y="2564"/>
                    </a:lnTo>
                    <a:lnTo>
                      <a:pt x="1100" y="2568"/>
                    </a:lnTo>
                    <a:lnTo>
                      <a:pt x="1105" y="2570"/>
                    </a:lnTo>
                    <a:lnTo>
                      <a:pt x="1096" y="2563"/>
                    </a:lnTo>
                    <a:lnTo>
                      <a:pt x="1106" y="2570"/>
                    </a:lnTo>
                    <a:lnTo>
                      <a:pt x="1119" y="2576"/>
                    </a:lnTo>
                    <a:lnTo>
                      <a:pt x="1131" y="2581"/>
                    </a:lnTo>
                    <a:lnTo>
                      <a:pt x="1145" y="2587"/>
                    </a:lnTo>
                    <a:lnTo>
                      <a:pt x="1160" y="2591"/>
                    </a:lnTo>
                    <a:lnTo>
                      <a:pt x="1176" y="2595"/>
                    </a:lnTo>
                    <a:lnTo>
                      <a:pt x="1193" y="2597"/>
                    </a:lnTo>
                    <a:lnTo>
                      <a:pt x="1211" y="2600"/>
                    </a:lnTo>
                    <a:lnTo>
                      <a:pt x="1231" y="2604"/>
                    </a:lnTo>
                    <a:lnTo>
                      <a:pt x="1250" y="2608"/>
                    </a:lnTo>
                    <a:lnTo>
                      <a:pt x="1268" y="2609"/>
                    </a:lnTo>
                    <a:lnTo>
                      <a:pt x="1286" y="2610"/>
                    </a:lnTo>
                    <a:lnTo>
                      <a:pt x="1303" y="2610"/>
                    </a:lnTo>
                    <a:lnTo>
                      <a:pt x="1319" y="2610"/>
                    </a:lnTo>
                    <a:lnTo>
                      <a:pt x="1336" y="2609"/>
                    </a:lnTo>
                    <a:lnTo>
                      <a:pt x="1351" y="2608"/>
                    </a:lnTo>
                    <a:lnTo>
                      <a:pt x="1372" y="2604"/>
                    </a:lnTo>
                    <a:lnTo>
                      <a:pt x="1391" y="2600"/>
                    </a:lnTo>
                    <a:lnTo>
                      <a:pt x="1409" y="2596"/>
                    </a:lnTo>
                    <a:lnTo>
                      <a:pt x="1422" y="2591"/>
                    </a:lnTo>
                    <a:lnTo>
                      <a:pt x="1435" y="2585"/>
                    </a:lnTo>
                    <a:lnTo>
                      <a:pt x="1445" y="2581"/>
                    </a:lnTo>
                    <a:lnTo>
                      <a:pt x="1453" y="2579"/>
                    </a:lnTo>
                    <a:lnTo>
                      <a:pt x="1456" y="2576"/>
                    </a:lnTo>
                    <a:lnTo>
                      <a:pt x="1519" y="2530"/>
                    </a:lnTo>
                    <a:lnTo>
                      <a:pt x="1581" y="2476"/>
                    </a:lnTo>
                    <a:lnTo>
                      <a:pt x="1642" y="2415"/>
                    </a:lnTo>
                    <a:lnTo>
                      <a:pt x="1701" y="2350"/>
                    </a:lnTo>
                    <a:lnTo>
                      <a:pt x="1759" y="2278"/>
                    </a:lnTo>
                    <a:lnTo>
                      <a:pt x="1813" y="2203"/>
                    </a:lnTo>
                    <a:lnTo>
                      <a:pt x="1866" y="2124"/>
                    </a:lnTo>
                    <a:lnTo>
                      <a:pt x="1915" y="2040"/>
                    </a:lnTo>
                    <a:lnTo>
                      <a:pt x="1962" y="1954"/>
                    </a:lnTo>
                    <a:lnTo>
                      <a:pt x="2005" y="1868"/>
                    </a:lnTo>
                    <a:lnTo>
                      <a:pt x="2042" y="1778"/>
                    </a:lnTo>
                    <a:lnTo>
                      <a:pt x="2076" y="1688"/>
                    </a:lnTo>
                    <a:lnTo>
                      <a:pt x="2105" y="1598"/>
                    </a:lnTo>
                    <a:lnTo>
                      <a:pt x="2128" y="1508"/>
                    </a:lnTo>
                    <a:lnTo>
                      <a:pt x="2147" y="1418"/>
                    </a:lnTo>
                    <a:lnTo>
                      <a:pt x="2158" y="1332"/>
                    </a:lnTo>
                    <a:lnTo>
                      <a:pt x="2163" y="1262"/>
                    </a:lnTo>
                    <a:lnTo>
                      <a:pt x="2166" y="1189"/>
                    </a:lnTo>
                    <a:lnTo>
                      <a:pt x="2165" y="1117"/>
                    </a:lnTo>
                    <a:lnTo>
                      <a:pt x="2159" y="1043"/>
                    </a:lnTo>
                    <a:lnTo>
                      <a:pt x="2151" y="969"/>
                    </a:lnTo>
                    <a:lnTo>
                      <a:pt x="2138" y="897"/>
                    </a:lnTo>
                    <a:lnTo>
                      <a:pt x="2120" y="826"/>
                    </a:lnTo>
                    <a:lnTo>
                      <a:pt x="2098" y="756"/>
                    </a:lnTo>
                    <a:lnTo>
                      <a:pt x="2070" y="689"/>
                    </a:lnTo>
                    <a:lnTo>
                      <a:pt x="2037" y="626"/>
                    </a:lnTo>
                    <a:lnTo>
                      <a:pt x="1999" y="566"/>
                    </a:lnTo>
                    <a:lnTo>
                      <a:pt x="1955" y="511"/>
                    </a:lnTo>
                    <a:lnTo>
                      <a:pt x="1906" y="461"/>
                    </a:lnTo>
                    <a:lnTo>
                      <a:pt x="1850" y="416"/>
                    </a:lnTo>
                    <a:lnTo>
                      <a:pt x="1788" y="379"/>
                    </a:lnTo>
                    <a:lnTo>
                      <a:pt x="1719" y="3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Freeform 155"/>
              <p:cNvSpPr/>
              <p:nvPr/>
            </p:nvSpPr>
            <p:spPr>
              <a:xfrm>
                <a:off x="6507360" y="1616760"/>
                <a:ext cx="1348200" cy="853920"/>
              </a:xfrm>
              <a:custGeom>
                <a:avLst/>
                <a:gdLst/>
                <a:ahLst/>
                <a:rect l="l" t="t" r="r" b="b"/>
                <a:pathLst>
                  <a:path w="1953" h="2172">
                    <a:moveTo>
                      <a:pt x="102" y="1337"/>
                    </a:moveTo>
                    <a:lnTo>
                      <a:pt x="67" y="1237"/>
                    </a:lnTo>
                    <a:lnTo>
                      <a:pt x="41" y="1141"/>
                    </a:lnTo>
                    <a:lnTo>
                      <a:pt x="20" y="1049"/>
                    </a:lnTo>
                    <a:lnTo>
                      <a:pt x="8" y="962"/>
                    </a:lnTo>
                    <a:lnTo>
                      <a:pt x="2" y="879"/>
                    </a:lnTo>
                    <a:lnTo>
                      <a:pt x="0" y="801"/>
                    </a:lnTo>
                    <a:lnTo>
                      <a:pt x="2" y="730"/>
                    </a:lnTo>
                    <a:lnTo>
                      <a:pt x="8" y="663"/>
                    </a:lnTo>
                    <a:lnTo>
                      <a:pt x="15" y="603"/>
                    </a:lnTo>
                    <a:lnTo>
                      <a:pt x="25" y="551"/>
                    </a:lnTo>
                    <a:lnTo>
                      <a:pt x="37" y="505"/>
                    </a:lnTo>
                    <a:lnTo>
                      <a:pt x="47" y="467"/>
                    </a:lnTo>
                    <a:lnTo>
                      <a:pt x="57" y="436"/>
                    </a:lnTo>
                    <a:lnTo>
                      <a:pt x="65" y="414"/>
                    </a:lnTo>
                    <a:lnTo>
                      <a:pt x="70" y="401"/>
                    </a:lnTo>
                    <a:lnTo>
                      <a:pt x="72" y="395"/>
                    </a:lnTo>
                    <a:lnTo>
                      <a:pt x="120" y="293"/>
                    </a:lnTo>
                    <a:lnTo>
                      <a:pt x="174" y="210"/>
                    </a:lnTo>
                    <a:lnTo>
                      <a:pt x="233" y="143"/>
                    </a:lnTo>
                    <a:lnTo>
                      <a:pt x="295" y="90"/>
                    </a:lnTo>
                    <a:lnTo>
                      <a:pt x="359" y="52"/>
                    </a:lnTo>
                    <a:lnTo>
                      <a:pt x="426" y="25"/>
                    </a:lnTo>
                    <a:lnTo>
                      <a:pt x="492" y="10"/>
                    </a:lnTo>
                    <a:lnTo>
                      <a:pt x="556" y="2"/>
                    </a:lnTo>
                    <a:lnTo>
                      <a:pt x="616" y="0"/>
                    </a:lnTo>
                    <a:lnTo>
                      <a:pt x="674" y="6"/>
                    </a:lnTo>
                    <a:lnTo>
                      <a:pt x="726" y="13"/>
                    </a:lnTo>
                    <a:lnTo>
                      <a:pt x="771" y="24"/>
                    </a:lnTo>
                    <a:lnTo>
                      <a:pt x="808" y="36"/>
                    </a:lnTo>
                    <a:lnTo>
                      <a:pt x="837" y="45"/>
                    </a:lnTo>
                    <a:lnTo>
                      <a:pt x="854" y="53"/>
                    </a:lnTo>
                    <a:lnTo>
                      <a:pt x="861" y="56"/>
                    </a:lnTo>
                    <a:lnTo>
                      <a:pt x="881" y="60"/>
                    </a:lnTo>
                    <a:lnTo>
                      <a:pt x="901" y="62"/>
                    </a:lnTo>
                    <a:lnTo>
                      <a:pt x="920" y="66"/>
                    </a:lnTo>
                    <a:lnTo>
                      <a:pt x="938" y="70"/>
                    </a:lnTo>
                    <a:lnTo>
                      <a:pt x="956" y="74"/>
                    </a:lnTo>
                    <a:lnTo>
                      <a:pt x="974" y="78"/>
                    </a:lnTo>
                    <a:lnTo>
                      <a:pt x="990" y="81"/>
                    </a:lnTo>
                    <a:lnTo>
                      <a:pt x="1008" y="83"/>
                    </a:lnTo>
                    <a:lnTo>
                      <a:pt x="1026" y="86"/>
                    </a:lnTo>
                    <a:lnTo>
                      <a:pt x="1042" y="89"/>
                    </a:lnTo>
                    <a:lnTo>
                      <a:pt x="1060" y="90"/>
                    </a:lnTo>
                    <a:lnTo>
                      <a:pt x="1079" y="91"/>
                    </a:lnTo>
                    <a:lnTo>
                      <a:pt x="1098" y="91"/>
                    </a:lnTo>
                    <a:lnTo>
                      <a:pt x="1116" y="90"/>
                    </a:lnTo>
                    <a:lnTo>
                      <a:pt x="1137" y="87"/>
                    </a:lnTo>
                    <a:lnTo>
                      <a:pt x="1158" y="85"/>
                    </a:lnTo>
                    <a:lnTo>
                      <a:pt x="1179" y="81"/>
                    </a:lnTo>
                    <a:lnTo>
                      <a:pt x="1201" y="77"/>
                    </a:lnTo>
                    <a:lnTo>
                      <a:pt x="1222" y="73"/>
                    </a:lnTo>
                    <a:lnTo>
                      <a:pt x="1242" y="69"/>
                    </a:lnTo>
                    <a:lnTo>
                      <a:pt x="1265" y="66"/>
                    </a:lnTo>
                    <a:lnTo>
                      <a:pt x="1287" y="64"/>
                    </a:lnTo>
                    <a:lnTo>
                      <a:pt x="1309" y="62"/>
                    </a:lnTo>
                    <a:lnTo>
                      <a:pt x="1333" y="61"/>
                    </a:lnTo>
                    <a:lnTo>
                      <a:pt x="1357" y="62"/>
                    </a:lnTo>
                    <a:lnTo>
                      <a:pt x="1384" y="64"/>
                    </a:lnTo>
                    <a:lnTo>
                      <a:pt x="1410" y="67"/>
                    </a:lnTo>
                    <a:lnTo>
                      <a:pt x="1438" y="71"/>
                    </a:lnTo>
                    <a:lnTo>
                      <a:pt x="1468" y="78"/>
                    </a:lnTo>
                    <a:lnTo>
                      <a:pt x="1501" y="86"/>
                    </a:lnTo>
                    <a:lnTo>
                      <a:pt x="1533" y="96"/>
                    </a:lnTo>
                    <a:lnTo>
                      <a:pt x="1570" y="110"/>
                    </a:lnTo>
                    <a:lnTo>
                      <a:pt x="1630" y="137"/>
                    </a:lnTo>
                    <a:lnTo>
                      <a:pt x="1686" y="170"/>
                    </a:lnTo>
                    <a:lnTo>
                      <a:pt x="1734" y="210"/>
                    </a:lnTo>
                    <a:lnTo>
                      <a:pt x="1777" y="254"/>
                    </a:lnTo>
                    <a:lnTo>
                      <a:pt x="1814" y="305"/>
                    </a:lnTo>
                    <a:lnTo>
                      <a:pt x="1847" y="359"/>
                    </a:lnTo>
                    <a:lnTo>
                      <a:pt x="1875" y="415"/>
                    </a:lnTo>
                    <a:lnTo>
                      <a:pt x="1898" y="474"/>
                    </a:lnTo>
                    <a:lnTo>
                      <a:pt x="1915" y="536"/>
                    </a:lnTo>
                    <a:lnTo>
                      <a:pt x="1930" y="600"/>
                    </a:lnTo>
                    <a:lnTo>
                      <a:pt x="1940" y="663"/>
                    </a:lnTo>
                    <a:lnTo>
                      <a:pt x="1948" y="727"/>
                    </a:lnTo>
                    <a:lnTo>
                      <a:pt x="1952" y="792"/>
                    </a:lnTo>
                    <a:lnTo>
                      <a:pt x="1953" y="854"/>
                    </a:lnTo>
                    <a:lnTo>
                      <a:pt x="1950" y="914"/>
                    </a:lnTo>
                    <a:lnTo>
                      <a:pt x="1947" y="974"/>
                    </a:lnTo>
                    <a:lnTo>
                      <a:pt x="1937" y="1055"/>
                    </a:lnTo>
                    <a:lnTo>
                      <a:pt x="1920" y="1138"/>
                    </a:lnTo>
                    <a:lnTo>
                      <a:pt x="1899" y="1222"/>
                    </a:lnTo>
                    <a:lnTo>
                      <a:pt x="1872" y="1308"/>
                    </a:lnTo>
                    <a:lnTo>
                      <a:pt x="1841" y="1392"/>
                    </a:lnTo>
                    <a:lnTo>
                      <a:pt x="1806" y="1478"/>
                    </a:lnTo>
                    <a:lnTo>
                      <a:pt x="1767" y="1561"/>
                    </a:lnTo>
                    <a:lnTo>
                      <a:pt x="1724" y="1641"/>
                    </a:lnTo>
                    <a:lnTo>
                      <a:pt x="1677" y="1720"/>
                    </a:lnTo>
                    <a:lnTo>
                      <a:pt x="1629" y="1797"/>
                    </a:lnTo>
                    <a:lnTo>
                      <a:pt x="1578" y="1868"/>
                    </a:lnTo>
                    <a:lnTo>
                      <a:pt x="1525" y="1935"/>
                    </a:lnTo>
                    <a:lnTo>
                      <a:pt x="1470" y="1998"/>
                    </a:lnTo>
                    <a:lnTo>
                      <a:pt x="1414" y="2055"/>
                    </a:lnTo>
                    <a:lnTo>
                      <a:pt x="1357" y="2105"/>
                    </a:lnTo>
                    <a:lnTo>
                      <a:pt x="1299" y="2148"/>
                    </a:lnTo>
                    <a:lnTo>
                      <a:pt x="1298" y="2150"/>
                    </a:lnTo>
                    <a:lnTo>
                      <a:pt x="1294" y="2151"/>
                    </a:lnTo>
                    <a:lnTo>
                      <a:pt x="1289" y="2154"/>
                    </a:lnTo>
                    <a:lnTo>
                      <a:pt x="1280" y="2156"/>
                    </a:lnTo>
                    <a:lnTo>
                      <a:pt x="1270" y="2160"/>
                    </a:lnTo>
                    <a:lnTo>
                      <a:pt x="1259" y="2164"/>
                    </a:lnTo>
                    <a:lnTo>
                      <a:pt x="1245" y="2167"/>
                    </a:lnTo>
                    <a:lnTo>
                      <a:pt x="1230" y="2169"/>
                    </a:lnTo>
                    <a:lnTo>
                      <a:pt x="1216" y="2171"/>
                    </a:lnTo>
                    <a:lnTo>
                      <a:pt x="1201" y="2172"/>
                    </a:lnTo>
                    <a:lnTo>
                      <a:pt x="1186" y="2172"/>
                    </a:lnTo>
                    <a:lnTo>
                      <a:pt x="1169" y="2172"/>
                    </a:lnTo>
                    <a:lnTo>
                      <a:pt x="1152" y="2169"/>
                    </a:lnTo>
                    <a:lnTo>
                      <a:pt x="1134" y="2167"/>
                    </a:lnTo>
                    <a:lnTo>
                      <a:pt x="1115" y="2162"/>
                    </a:lnTo>
                    <a:lnTo>
                      <a:pt x="1095" y="2155"/>
                    </a:lnTo>
                    <a:lnTo>
                      <a:pt x="1057" y="2140"/>
                    </a:lnTo>
                    <a:lnTo>
                      <a:pt x="1028" y="2131"/>
                    </a:lnTo>
                    <a:lnTo>
                      <a:pt x="1008" y="2125"/>
                    </a:lnTo>
                    <a:lnTo>
                      <a:pt x="994" y="2121"/>
                    </a:lnTo>
                    <a:lnTo>
                      <a:pt x="984" y="2119"/>
                    </a:lnTo>
                    <a:lnTo>
                      <a:pt x="977" y="2118"/>
                    </a:lnTo>
                    <a:lnTo>
                      <a:pt x="970" y="2118"/>
                    </a:lnTo>
                    <a:lnTo>
                      <a:pt x="963" y="2117"/>
                    </a:lnTo>
                    <a:lnTo>
                      <a:pt x="936" y="2114"/>
                    </a:lnTo>
                    <a:lnTo>
                      <a:pt x="910" y="2114"/>
                    </a:lnTo>
                    <a:lnTo>
                      <a:pt x="885" y="2118"/>
                    </a:lnTo>
                    <a:lnTo>
                      <a:pt x="861" y="2125"/>
                    </a:lnTo>
                    <a:lnTo>
                      <a:pt x="838" y="2133"/>
                    </a:lnTo>
                    <a:lnTo>
                      <a:pt x="818" y="2139"/>
                    </a:lnTo>
                    <a:lnTo>
                      <a:pt x="802" y="2147"/>
                    </a:lnTo>
                    <a:lnTo>
                      <a:pt x="788" y="2152"/>
                    </a:lnTo>
                    <a:lnTo>
                      <a:pt x="766" y="2159"/>
                    </a:lnTo>
                    <a:lnTo>
                      <a:pt x="745" y="2162"/>
                    </a:lnTo>
                    <a:lnTo>
                      <a:pt x="725" y="2163"/>
                    </a:lnTo>
                    <a:lnTo>
                      <a:pt x="703" y="2162"/>
                    </a:lnTo>
                    <a:lnTo>
                      <a:pt x="683" y="2158"/>
                    </a:lnTo>
                    <a:lnTo>
                      <a:pt x="664" y="2152"/>
                    </a:lnTo>
                    <a:lnTo>
                      <a:pt x="645" y="2146"/>
                    </a:lnTo>
                    <a:lnTo>
                      <a:pt x="629" y="2138"/>
                    </a:lnTo>
                    <a:lnTo>
                      <a:pt x="613" y="2130"/>
                    </a:lnTo>
                    <a:lnTo>
                      <a:pt x="597" y="2122"/>
                    </a:lnTo>
                    <a:lnTo>
                      <a:pt x="585" y="2114"/>
                    </a:lnTo>
                    <a:lnTo>
                      <a:pt x="575" y="2108"/>
                    </a:lnTo>
                    <a:lnTo>
                      <a:pt x="566" y="2101"/>
                    </a:lnTo>
                    <a:lnTo>
                      <a:pt x="558" y="2096"/>
                    </a:lnTo>
                    <a:lnTo>
                      <a:pt x="555" y="2093"/>
                    </a:lnTo>
                    <a:lnTo>
                      <a:pt x="553" y="2092"/>
                    </a:lnTo>
                    <a:lnTo>
                      <a:pt x="550" y="2088"/>
                    </a:lnTo>
                    <a:lnTo>
                      <a:pt x="541" y="2076"/>
                    </a:lnTo>
                    <a:lnTo>
                      <a:pt x="526" y="2056"/>
                    </a:lnTo>
                    <a:lnTo>
                      <a:pt x="505" y="2030"/>
                    </a:lnTo>
                    <a:lnTo>
                      <a:pt x="480" y="1998"/>
                    </a:lnTo>
                    <a:lnTo>
                      <a:pt x="453" y="1959"/>
                    </a:lnTo>
                    <a:lnTo>
                      <a:pt x="421" y="1914"/>
                    </a:lnTo>
                    <a:lnTo>
                      <a:pt x="387" y="1865"/>
                    </a:lnTo>
                    <a:lnTo>
                      <a:pt x="352" y="1811"/>
                    </a:lnTo>
                    <a:lnTo>
                      <a:pt x="314" y="1752"/>
                    </a:lnTo>
                    <a:lnTo>
                      <a:pt x="276" y="1690"/>
                    </a:lnTo>
                    <a:lnTo>
                      <a:pt x="240" y="1624"/>
                    </a:lnTo>
                    <a:lnTo>
                      <a:pt x="202" y="1556"/>
                    </a:lnTo>
                    <a:lnTo>
                      <a:pt x="167" y="1485"/>
                    </a:lnTo>
                    <a:lnTo>
                      <a:pt x="134" y="1412"/>
                    </a:lnTo>
                    <a:lnTo>
                      <a:pt x="102" y="1337"/>
                    </a:lnTo>
                    <a:close/>
                  </a:path>
                </a:pathLst>
              </a:custGeom>
              <a:solidFill>
                <a:srgbClr val="ff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Freeform 156"/>
              <p:cNvSpPr/>
              <p:nvPr/>
            </p:nvSpPr>
            <p:spPr>
              <a:xfrm>
                <a:off x="6983280" y="1724040"/>
                <a:ext cx="795600" cy="693360"/>
              </a:xfrm>
              <a:custGeom>
                <a:avLst/>
                <a:gdLst/>
                <a:ahLst/>
                <a:rect l="l" t="t" r="r" b="b"/>
                <a:pathLst>
                  <a:path w="1154" h="1765">
                    <a:moveTo>
                      <a:pt x="949" y="59"/>
                    </a:moveTo>
                    <a:lnTo>
                      <a:pt x="944" y="55"/>
                    </a:lnTo>
                    <a:lnTo>
                      <a:pt x="930" y="46"/>
                    </a:lnTo>
                    <a:lnTo>
                      <a:pt x="910" y="34"/>
                    </a:lnTo>
                    <a:lnTo>
                      <a:pt x="883" y="21"/>
                    </a:lnTo>
                    <a:lnTo>
                      <a:pt x="853" y="9"/>
                    </a:lnTo>
                    <a:lnTo>
                      <a:pt x="820" y="1"/>
                    </a:lnTo>
                    <a:lnTo>
                      <a:pt x="788" y="0"/>
                    </a:lnTo>
                    <a:lnTo>
                      <a:pt x="755" y="8"/>
                    </a:lnTo>
                    <a:lnTo>
                      <a:pt x="727" y="20"/>
                    </a:lnTo>
                    <a:lnTo>
                      <a:pt x="706" y="29"/>
                    </a:lnTo>
                    <a:lnTo>
                      <a:pt x="688" y="38"/>
                    </a:lnTo>
                    <a:lnTo>
                      <a:pt x="673" y="46"/>
                    </a:lnTo>
                    <a:lnTo>
                      <a:pt x="658" y="55"/>
                    </a:lnTo>
                    <a:lnTo>
                      <a:pt x="641" y="66"/>
                    </a:lnTo>
                    <a:lnTo>
                      <a:pt x="622" y="79"/>
                    </a:lnTo>
                    <a:lnTo>
                      <a:pt x="597" y="97"/>
                    </a:lnTo>
                    <a:lnTo>
                      <a:pt x="571" y="113"/>
                    </a:lnTo>
                    <a:lnTo>
                      <a:pt x="547" y="120"/>
                    </a:lnTo>
                    <a:lnTo>
                      <a:pt x="524" y="120"/>
                    </a:lnTo>
                    <a:lnTo>
                      <a:pt x="502" y="118"/>
                    </a:lnTo>
                    <a:lnTo>
                      <a:pt x="479" y="117"/>
                    </a:lnTo>
                    <a:lnTo>
                      <a:pt x="456" y="118"/>
                    </a:lnTo>
                    <a:lnTo>
                      <a:pt x="432" y="128"/>
                    </a:lnTo>
                    <a:lnTo>
                      <a:pt x="406" y="146"/>
                    </a:lnTo>
                    <a:lnTo>
                      <a:pt x="378" y="170"/>
                    </a:lnTo>
                    <a:lnTo>
                      <a:pt x="350" y="196"/>
                    </a:lnTo>
                    <a:lnTo>
                      <a:pt x="324" y="226"/>
                    </a:lnTo>
                    <a:lnTo>
                      <a:pt x="301" y="263"/>
                    </a:lnTo>
                    <a:lnTo>
                      <a:pt x="281" y="309"/>
                    </a:lnTo>
                    <a:lnTo>
                      <a:pt x="266" y="365"/>
                    </a:lnTo>
                    <a:lnTo>
                      <a:pt x="257" y="433"/>
                    </a:lnTo>
                    <a:lnTo>
                      <a:pt x="256" y="518"/>
                    </a:lnTo>
                    <a:lnTo>
                      <a:pt x="255" y="581"/>
                    </a:lnTo>
                    <a:lnTo>
                      <a:pt x="248" y="664"/>
                    </a:lnTo>
                    <a:lnTo>
                      <a:pt x="237" y="761"/>
                    </a:lnTo>
                    <a:lnTo>
                      <a:pt x="219" y="864"/>
                    </a:lnTo>
                    <a:lnTo>
                      <a:pt x="195" y="965"/>
                    </a:lnTo>
                    <a:lnTo>
                      <a:pt x="166" y="1060"/>
                    </a:lnTo>
                    <a:lnTo>
                      <a:pt x="129" y="1140"/>
                    </a:lnTo>
                    <a:lnTo>
                      <a:pt x="85" y="1200"/>
                    </a:lnTo>
                    <a:lnTo>
                      <a:pt x="58" y="1241"/>
                    </a:lnTo>
                    <a:lnTo>
                      <a:pt x="35" y="1302"/>
                    </a:lnTo>
                    <a:lnTo>
                      <a:pt x="17" y="1380"/>
                    </a:lnTo>
                    <a:lnTo>
                      <a:pt x="5" y="1463"/>
                    </a:lnTo>
                    <a:lnTo>
                      <a:pt x="0" y="1547"/>
                    </a:lnTo>
                    <a:lnTo>
                      <a:pt x="4" y="1621"/>
                    </a:lnTo>
                    <a:lnTo>
                      <a:pt x="18" y="1680"/>
                    </a:lnTo>
                    <a:lnTo>
                      <a:pt x="43" y="1715"/>
                    </a:lnTo>
                    <a:lnTo>
                      <a:pt x="71" y="1732"/>
                    </a:lnTo>
                    <a:lnTo>
                      <a:pt x="92" y="1742"/>
                    </a:lnTo>
                    <a:lnTo>
                      <a:pt x="110" y="1746"/>
                    </a:lnTo>
                    <a:lnTo>
                      <a:pt x="126" y="1746"/>
                    </a:lnTo>
                    <a:lnTo>
                      <a:pt x="142" y="1744"/>
                    </a:lnTo>
                    <a:lnTo>
                      <a:pt x="161" y="1736"/>
                    </a:lnTo>
                    <a:lnTo>
                      <a:pt x="184" y="1727"/>
                    </a:lnTo>
                    <a:lnTo>
                      <a:pt x="213" y="1716"/>
                    </a:lnTo>
                    <a:lnTo>
                      <a:pt x="231" y="1711"/>
                    </a:lnTo>
                    <a:lnTo>
                      <a:pt x="248" y="1708"/>
                    </a:lnTo>
                    <a:lnTo>
                      <a:pt x="266" y="1705"/>
                    </a:lnTo>
                    <a:lnTo>
                      <a:pt x="284" y="1703"/>
                    </a:lnTo>
                    <a:lnTo>
                      <a:pt x="302" y="1703"/>
                    </a:lnTo>
                    <a:lnTo>
                      <a:pt x="320" y="1703"/>
                    </a:lnTo>
                    <a:lnTo>
                      <a:pt x="338" y="1704"/>
                    </a:lnTo>
                    <a:lnTo>
                      <a:pt x="355" y="1707"/>
                    </a:lnTo>
                    <a:lnTo>
                      <a:pt x="372" y="1709"/>
                    </a:lnTo>
                    <a:lnTo>
                      <a:pt x="388" y="1712"/>
                    </a:lnTo>
                    <a:lnTo>
                      <a:pt x="403" y="1716"/>
                    </a:lnTo>
                    <a:lnTo>
                      <a:pt x="417" y="1720"/>
                    </a:lnTo>
                    <a:lnTo>
                      <a:pt x="430" y="1725"/>
                    </a:lnTo>
                    <a:lnTo>
                      <a:pt x="442" y="1730"/>
                    </a:lnTo>
                    <a:lnTo>
                      <a:pt x="451" y="1736"/>
                    </a:lnTo>
                    <a:lnTo>
                      <a:pt x="460" y="1741"/>
                    </a:lnTo>
                    <a:lnTo>
                      <a:pt x="476" y="1752"/>
                    </a:lnTo>
                    <a:lnTo>
                      <a:pt x="495" y="1758"/>
                    </a:lnTo>
                    <a:lnTo>
                      <a:pt x="515" y="1762"/>
                    </a:lnTo>
                    <a:lnTo>
                      <a:pt x="537" y="1765"/>
                    </a:lnTo>
                    <a:lnTo>
                      <a:pt x="558" y="1763"/>
                    </a:lnTo>
                    <a:lnTo>
                      <a:pt x="578" y="1759"/>
                    </a:lnTo>
                    <a:lnTo>
                      <a:pt x="596" y="1753"/>
                    </a:lnTo>
                    <a:lnTo>
                      <a:pt x="610" y="1742"/>
                    </a:lnTo>
                    <a:lnTo>
                      <a:pt x="619" y="1733"/>
                    </a:lnTo>
                    <a:lnTo>
                      <a:pt x="631" y="1719"/>
                    </a:lnTo>
                    <a:lnTo>
                      <a:pt x="648" y="1698"/>
                    </a:lnTo>
                    <a:lnTo>
                      <a:pt x="667" y="1674"/>
                    </a:lnTo>
                    <a:lnTo>
                      <a:pt x="688" y="1645"/>
                    </a:lnTo>
                    <a:lnTo>
                      <a:pt x="712" y="1612"/>
                    </a:lnTo>
                    <a:lnTo>
                      <a:pt x="738" y="1579"/>
                    </a:lnTo>
                    <a:lnTo>
                      <a:pt x="765" y="1543"/>
                    </a:lnTo>
                    <a:lnTo>
                      <a:pt x="791" y="1507"/>
                    </a:lnTo>
                    <a:lnTo>
                      <a:pt x="818" y="1471"/>
                    </a:lnTo>
                    <a:lnTo>
                      <a:pt x="844" y="1435"/>
                    </a:lnTo>
                    <a:lnTo>
                      <a:pt x="869" y="1403"/>
                    </a:lnTo>
                    <a:lnTo>
                      <a:pt x="892" y="1371"/>
                    </a:lnTo>
                    <a:lnTo>
                      <a:pt x="913" y="1343"/>
                    </a:lnTo>
                    <a:lnTo>
                      <a:pt x="931" y="1320"/>
                    </a:lnTo>
                    <a:lnTo>
                      <a:pt x="946" y="1301"/>
                    </a:lnTo>
                    <a:lnTo>
                      <a:pt x="963" y="1277"/>
                    </a:lnTo>
                    <a:lnTo>
                      <a:pt x="984" y="1239"/>
                    </a:lnTo>
                    <a:lnTo>
                      <a:pt x="1009" y="1189"/>
                    </a:lnTo>
                    <a:lnTo>
                      <a:pt x="1037" y="1127"/>
                    </a:lnTo>
                    <a:lnTo>
                      <a:pt x="1065" y="1056"/>
                    </a:lnTo>
                    <a:lnTo>
                      <a:pt x="1091" y="977"/>
                    </a:lnTo>
                    <a:lnTo>
                      <a:pt x="1115" y="892"/>
                    </a:lnTo>
                    <a:lnTo>
                      <a:pt x="1134" y="801"/>
                    </a:lnTo>
                    <a:lnTo>
                      <a:pt x="1148" y="706"/>
                    </a:lnTo>
                    <a:lnTo>
                      <a:pt x="1154" y="608"/>
                    </a:lnTo>
                    <a:lnTo>
                      <a:pt x="1152" y="510"/>
                    </a:lnTo>
                    <a:lnTo>
                      <a:pt x="1138" y="412"/>
                    </a:lnTo>
                    <a:lnTo>
                      <a:pt x="1113" y="317"/>
                    </a:lnTo>
                    <a:lnTo>
                      <a:pt x="1073" y="226"/>
                    </a:lnTo>
                    <a:lnTo>
                      <a:pt x="1019" y="140"/>
                    </a:lnTo>
                    <a:lnTo>
                      <a:pt x="949" y="59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157"/>
              <p:cNvSpPr/>
              <p:nvPr/>
            </p:nvSpPr>
            <p:spPr>
              <a:xfrm>
                <a:off x="6952320" y="1659240"/>
                <a:ext cx="355680" cy="83520"/>
              </a:xfrm>
              <a:custGeom>
                <a:avLst/>
                <a:gdLst/>
                <a:ahLst/>
                <a:rect l="l" t="t" r="r" b="b"/>
                <a:pathLst>
                  <a:path w="519" h="213">
                    <a:moveTo>
                      <a:pt x="301" y="75"/>
                    </a:moveTo>
                    <a:lnTo>
                      <a:pt x="296" y="72"/>
                    </a:lnTo>
                    <a:lnTo>
                      <a:pt x="282" y="66"/>
                    </a:lnTo>
                    <a:lnTo>
                      <a:pt x="262" y="57"/>
                    </a:lnTo>
                    <a:lnTo>
                      <a:pt x="235" y="45"/>
                    </a:lnTo>
                    <a:lnTo>
                      <a:pt x="206" y="33"/>
                    </a:lnTo>
                    <a:lnTo>
                      <a:pt x="175" y="21"/>
                    </a:lnTo>
                    <a:lnTo>
                      <a:pt x="143" y="10"/>
                    </a:lnTo>
                    <a:lnTo>
                      <a:pt x="113" y="4"/>
                    </a:lnTo>
                    <a:lnTo>
                      <a:pt x="87" y="0"/>
                    </a:lnTo>
                    <a:lnTo>
                      <a:pt x="64" y="1"/>
                    </a:lnTo>
                    <a:lnTo>
                      <a:pt x="44" y="4"/>
                    </a:lnTo>
                    <a:lnTo>
                      <a:pt x="29" y="9"/>
                    </a:lnTo>
                    <a:lnTo>
                      <a:pt x="16" y="16"/>
                    </a:lnTo>
                    <a:lnTo>
                      <a:pt x="7" y="21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179" y="188"/>
                    </a:lnTo>
                    <a:lnTo>
                      <a:pt x="184" y="190"/>
                    </a:lnTo>
                    <a:lnTo>
                      <a:pt x="199" y="194"/>
                    </a:lnTo>
                    <a:lnTo>
                      <a:pt x="220" y="199"/>
                    </a:lnTo>
                    <a:lnTo>
                      <a:pt x="247" y="204"/>
                    </a:lnTo>
                    <a:lnTo>
                      <a:pt x="276" y="209"/>
                    </a:lnTo>
                    <a:lnTo>
                      <a:pt x="306" y="213"/>
                    </a:lnTo>
                    <a:lnTo>
                      <a:pt x="335" y="213"/>
                    </a:lnTo>
                    <a:lnTo>
                      <a:pt x="361" y="209"/>
                    </a:lnTo>
                    <a:lnTo>
                      <a:pt x="387" y="203"/>
                    </a:lnTo>
                    <a:lnTo>
                      <a:pt x="412" y="194"/>
                    </a:lnTo>
                    <a:lnTo>
                      <a:pt x="437" y="186"/>
                    </a:lnTo>
                    <a:lnTo>
                      <a:pt x="460" y="178"/>
                    </a:lnTo>
                    <a:lnTo>
                      <a:pt x="480" y="170"/>
                    </a:lnTo>
                    <a:lnTo>
                      <a:pt x="496" y="163"/>
                    </a:lnTo>
                    <a:lnTo>
                      <a:pt x="506" y="159"/>
                    </a:lnTo>
                    <a:lnTo>
                      <a:pt x="510" y="158"/>
                    </a:lnTo>
                    <a:lnTo>
                      <a:pt x="511" y="158"/>
                    </a:lnTo>
                    <a:lnTo>
                      <a:pt x="515" y="157"/>
                    </a:lnTo>
                    <a:lnTo>
                      <a:pt x="518" y="154"/>
                    </a:lnTo>
                    <a:lnTo>
                      <a:pt x="519" y="151"/>
                    </a:lnTo>
                    <a:lnTo>
                      <a:pt x="518" y="147"/>
                    </a:lnTo>
                    <a:lnTo>
                      <a:pt x="510" y="141"/>
                    </a:lnTo>
                    <a:lnTo>
                      <a:pt x="496" y="134"/>
                    </a:lnTo>
                    <a:lnTo>
                      <a:pt x="473" y="126"/>
                    </a:lnTo>
                    <a:lnTo>
                      <a:pt x="448" y="116"/>
                    </a:lnTo>
                    <a:lnTo>
                      <a:pt x="428" y="105"/>
                    </a:lnTo>
                    <a:lnTo>
                      <a:pt x="410" y="95"/>
                    </a:lnTo>
                    <a:lnTo>
                      <a:pt x="394" y="86"/>
                    </a:lnTo>
                    <a:lnTo>
                      <a:pt x="376" y="78"/>
                    </a:lnTo>
                    <a:lnTo>
                      <a:pt x="356" y="74"/>
                    </a:lnTo>
                    <a:lnTo>
                      <a:pt x="331" y="72"/>
                    </a:lnTo>
                    <a:lnTo>
                      <a:pt x="301" y="75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158"/>
              <p:cNvSpPr/>
              <p:nvPr/>
            </p:nvSpPr>
            <p:spPr>
              <a:xfrm>
                <a:off x="6561360" y="1701720"/>
                <a:ext cx="459720" cy="559080"/>
              </a:xfrm>
              <a:custGeom>
                <a:avLst/>
                <a:gdLst/>
                <a:ahLst/>
                <a:rect l="l" t="t" r="r" b="b"/>
                <a:pathLst>
                  <a:path w="666" h="1421">
                    <a:moveTo>
                      <a:pt x="368" y="19"/>
                    </a:moveTo>
                    <a:lnTo>
                      <a:pt x="364" y="21"/>
                    </a:lnTo>
                    <a:lnTo>
                      <a:pt x="356" y="27"/>
                    </a:lnTo>
                    <a:lnTo>
                      <a:pt x="341" y="37"/>
                    </a:lnTo>
                    <a:lnTo>
                      <a:pt x="320" y="50"/>
                    </a:lnTo>
                    <a:lnTo>
                      <a:pt x="298" y="69"/>
                    </a:lnTo>
                    <a:lnTo>
                      <a:pt x="271" y="91"/>
                    </a:lnTo>
                    <a:lnTo>
                      <a:pt x="242" y="116"/>
                    </a:lnTo>
                    <a:lnTo>
                      <a:pt x="212" y="146"/>
                    </a:lnTo>
                    <a:lnTo>
                      <a:pt x="182" y="179"/>
                    </a:lnTo>
                    <a:lnTo>
                      <a:pt x="150" y="218"/>
                    </a:lnTo>
                    <a:lnTo>
                      <a:pt x="120" y="258"/>
                    </a:lnTo>
                    <a:lnTo>
                      <a:pt x="92" y="303"/>
                    </a:lnTo>
                    <a:lnTo>
                      <a:pt x="67" y="352"/>
                    </a:lnTo>
                    <a:lnTo>
                      <a:pt x="44" y="403"/>
                    </a:lnTo>
                    <a:lnTo>
                      <a:pt x="26" y="460"/>
                    </a:lnTo>
                    <a:lnTo>
                      <a:pt x="12" y="519"/>
                    </a:lnTo>
                    <a:lnTo>
                      <a:pt x="4" y="577"/>
                    </a:lnTo>
                    <a:lnTo>
                      <a:pt x="0" y="635"/>
                    </a:lnTo>
                    <a:lnTo>
                      <a:pt x="0" y="692"/>
                    </a:lnTo>
                    <a:lnTo>
                      <a:pt x="4" y="748"/>
                    </a:lnTo>
                    <a:lnTo>
                      <a:pt x="12" y="802"/>
                    </a:lnTo>
                    <a:lnTo>
                      <a:pt x="22" y="855"/>
                    </a:lnTo>
                    <a:lnTo>
                      <a:pt x="33" y="905"/>
                    </a:lnTo>
                    <a:lnTo>
                      <a:pt x="47" y="952"/>
                    </a:lnTo>
                    <a:lnTo>
                      <a:pt x="62" y="997"/>
                    </a:lnTo>
                    <a:lnTo>
                      <a:pt x="79" y="1038"/>
                    </a:lnTo>
                    <a:lnTo>
                      <a:pt x="94" y="1076"/>
                    </a:lnTo>
                    <a:lnTo>
                      <a:pt x="110" y="1109"/>
                    </a:lnTo>
                    <a:lnTo>
                      <a:pt x="125" y="1138"/>
                    </a:lnTo>
                    <a:lnTo>
                      <a:pt x="138" y="1162"/>
                    </a:lnTo>
                    <a:lnTo>
                      <a:pt x="150" y="1180"/>
                    </a:lnTo>
                    <a:lnTo>
                      <a:pt x="160" y="1194"/>
                    </a:lnTo>
                    <a:lnTo>
                      <a:pt x="179" y="1216"/>
                    </a:lnTo>
                    <a:lnTo>
                      <a:pt x="199" y="1244"/>
                    </a:lnTo>
                    <a:lnTo>
                      <a:pt x="221" y="1273"/>
                    </a:lnTo>
                    <a:lnTo>
                      <a:pt x="241" y="1302"/>
                    </a:lnTo>
                    <a:lnTo>
                      <a:pt x="260" y="1329"/>
                    </a:lnTo>
                    <a:lnTo>
                      <a:pt x="274" y="1350"/>
                    </a:lnTo>
                    <a:lnTo>
                      <a:pt x="284" y="1366"/>
                    </a:lnTo>
                    <a:lnTo>
                      <a:pt x="288" y="1371"/>
                    </a:lnTo>
                    <a:lnTo>
                      <a:pt x="290" y="1374"/>
                    </a:lnTo>
                    <a:lnTo>
                      <a:pt x="296" y="1382"/>
                    </a:lnTo>
                    <a:lnTo>
                      <a:pt x="305" y="1392"/>
                    </a:lnTo>
                    <a:lnTo>
                      <a:pt x="318" y="1404"/>
                    </a:lnTo>
                    <a:lnTo>
                      <a:pt x="330" y="1413"/>
                    </a:lnTo>
                    <a:lnTo>
                      <a:pt x="343" y="1420"/>
                    </a:lnTo>
                    <a:lnTo>
                      <a:pt x="356" y="1421"/>
                    </a:lnTo>
                    <a:lnTo>
                      <a:pt x="366" y="1413"/>
                    </a:lnTo>
                    <a:lnTo>
                      <a:pt x="376" y="1402"/>
                    </a:lnTo>
                    <a:lnTo>
                      <a:pt x="388" y="1391"/>
                    </a:lnTo>
                    <a:lnTo>
                      <a:pt x="401" y="1379"/>
                    </a:lnTo>
                    <a:lnTo>
                      <a:pt x="412" y="1365"/>
                    </a:lnTo>
                    <a:lnTo>
                      <a:pt x="424" y="1346"/>
                    </a:lnTo>
                    <a:lnTo>
                      <a:pt x="433" y="1324"/>
                    </a:lnTo>
                    <a:lnTo>
                      <a:pt x="438" y="1295"/>
                    </a:lnTo>
                    <a:lnTo>
                      <a:pt x="439" y="1259"/>
                    </a:lnTo>
                    <a:lnTo>
                      <a:pt x="436" y="1163"/>
                    </a:lnTo>
                    <a:lnTo>
                      <a:pt x="431" y="1053"/>
                    </a:lnTo>
                    <a:lnTo>
                      <a:pt x="426" y="954"/>
                    </a:lnTo>
                    <a:lnTo>
                      <a:pt x="424" y="889"/>
                    </a:lnTo>
                    <a:lnTo>
                      <a:pt x="430" y="852"/>
                    </a:lnTo>
                    <a:lnTo>
                      <a:pt x="448" y="787"/>
                    </a:lnTo>
                    <a:lnTo>
                      <a:pt x="473" y="701"/>
                    </a:lnTo>
                    <a:lnTo>
                      <a:pt x="503" y="607"/>
                    </a:lnTo>
                    <a:lnTo>
                      <a:pt x="536" y="514"/>
                    </a:lnTo>
                    <a:lnTo>
                      <a:pt x="569" y="432"/>
                    </a:lnTo>
                    <a:lnTo>
                      <a:pt x="596" y="369"/>
                    </a:lnTo>
                    <a:lnTo>
                      <a:pt x="618" y="337"/>
                    </a:lnTo>
                    <a:lnTo>
                      <a:pt x="633" y="323"/>
                    </a:lnTo>
                    <a:lnTo>
                      <a:pt x="645" y="305"/>
                    </a:lnTo>
                    <a:lnTo>
                      <a:pt x="654" y="283"/>
                    </a:lnTo>
                    <a:lnTo>
                      <a:pt x="661" y="260"/>
                    </a:lnTo>
                    <a:lnTo>
                      <a:pt x="664" y="233"/>
                    </a:lnTo>
                    <a:lnTo>
                      <a:pt x="666" y="207"/>
                    </a:lnTo>
                    <a:lnTo>
                      <a:pt x="664" y="178"/>
                    </a:lnTo>
                    <a:lnTo>
                      <a:pt x="662" y="149"/>
                    </a:lnTo>
                    <a:lnTo>
                      <a:pt x="658" y="133"/>
                    </a:lnTo>
                    <a:lnTo>
                      <a:pt x="652" y="119"/>
                    </a:lnTo>
                    <a:lnTo>
                      <a:pt x="642" y="102"/>
                    </a:lnTo>
                    <a:lnTo>
                      <a:pt x="629" y="86"/>
                    </a:lnTo>
                    <a:lnTo>
                      <a:pt x="614" y="71"/>
                    </a:lnTo>
                    <a:lnTo>
                      <a:pt x="598" y="56"/>
                    </a:lnTo>
                    <a:lnTo>
                      <a:pt x="579" y="42"/>
                    </a:lnTo>
                    <a:lnTo>
                      <a:pt x="557" y="31"/>
                    </a:lnTo>
                    <a:lnTo>
                      <a:pt x="536" y="20"/>
                    </a:lnTo>
                    <a:lnTo>
                      <a:pt x="513" y="11"/>
                    </a:lnTo>
                    <a:lnTo>
                      <a:pt x="489" y="4"/>
                    </a:lnTo>
                    <a:lnTo>
                      <a:pt x="464" y="0"/>
                    </a:lnTo>
                    <a:lnTo>
                      <a:pt x="440" y="0"/>
                    </a:lnTo>
                    <a:lnTo>
                      <a:pt x="416" y="3"/>
                    </a:lnTo>
                    <a:lnTo>
                      <a:pt x="392" y="8"/>
                    </a:lnTo>
                    <a:lnTo>
                      <a:pt x="368" y="19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159"/>
              <p:cNvSpPr/>
              <p:nvPr/>
            </p:nvSpPr>
            <p:spPr>
              <a:xfrm>
                <a:off x="6946200" y="2421000"/>
                <a:ext cx="407880" cy="36360"/>
              </a:xfrm>
              <a:custGeom>
                <a:avLst/>
                <a:gdLst/>
                <a:ahLst/>
                <a:rect l="l" t="t" r="r" b="b"/>
                <a:pathLst>
                  <a:path w="590" h="105">
                    <a:moveTo>
                      <a:pt x="81" y="104"/>
                    </a:moveTo>
                    <a:lnTo>
                      <a:pt x="71" y="101"/>
                    </a:lnTo>
                    <a:lnTo>
                      <a:pt x="59" y="99"/>
                    </a:lnTo>
                    <a:lnTo>
                      <a:pt x="49" y="93"/>
                    </a:lnTo>
                    <a:lnTo>
                      <a:pt x="39" y="88"/>
                    </a:lnTo>
                    <a:lnTo>
                      <a:pt x="29" y="80"/>
                    </a:lnTo>
                    <a:lnTo>
                      <a:pt x="19" y="71"/>
                    </a:lnTo>
                    <a:lnTo>
                      <a:pt x="9" y="59"/>
                    </a:lnTo>
                    <a:lnTo>
                      <a:pt x="0" y="46"/>
                    </a:lnTo>
                    <a:lnTo>
                      <a:pt x="5" y="47"/>
                    </a:lnTo>
                    <a:lnTo>
                      <a:pt x="20" y="50"/>
                    </a:lnTo>
                    <a:lnTo>
                      <a:pt x="42" y="53"/>
                    </a:lnTo>
                    <a:lnTo>
                      <a:pt x="68" y="55"/>
                    </a:lnTo>
                    <a:lnTo>
                      <a:pt x="98" y="55"/>
                    </a:lnTo>
                    <a:lnTo>
                      <a:pt x="130" y="53"/>
                    </a:lnTo>
                    <a:lnTo>
                      <a:pt x="159" y="45"/>
                    </a:lnTo>
                    <a:lnTo>
                      <a:pt x="185" y="32"/>
                    </a:lnTo>
                    <a:lnTo>
                      <a:pt x="198" y="24"/>
                    </a:lnTo>
                    <a:lnTo>
                      <a:pt x="213" y="17"/>
                    </a:lnTo>
                    <a:lnTo>
                      <a:pt x="230" y="12"/>
                    </a:lnTo>
                    <a:lnTo>
                      <a:pt x="247" y="7"/>
                    </a:lnTo>
                    <a:lnTo>
                      <a:pt x="266" y="4"/>
                    </a:lnTo>
                    <a:lnTo>
                      <a:pt x="286" y="1"/>
                    </a:lnTo>
                    <a:lnTo>
                      <a:pt x="306" y="0"/>
                    </a:lnTo>
                    <a:lnTo>
                      <a:pt x="327" y="0"/>
                    </a:lnTo>
                    <a:lnTo>
                      <a:pt x="348" y="1"/>
                    </a:lnTo>
                    <a:lnTo>
                      <a:pt x="368" y="4"/>
                    </a:lnTo>
                    <a:lnTo>
                      <a:pt x="390" y="8"/>
                    </a:lnTo>
                    <a:lnTo>
                      <a:pt x="410" y="12"/>
                    </a:lnTo>
                    <a:lnTo>
                      <a:pt x="429" y="17"/>
                    </a:lnTo>
                    <a:lnTo>
                      <a:pt x="446" y="25"/>
                    </a:lnTo>
                    <a:lnTo>
                      <a:pt x="464" y="33"/>
                    </a:lnTo>
                    <a:lnTo>
                      <a:pt x="479" y="42"/>
                    </a:lnTo>
                    <a:lnTo>
                      <a:pt x="505" y="58"/>
                    </a:lnTo>
                    <a:lnTo>
                      <a:pt x="528" y="66"/>
                    </a:lnTo>
                    <a:lnTo>
                      <a:pt x="547" y="70"/>
                    </a:lnTo>
                    <a:lnTo>
                      <a:pt x="562" y="68"/>
                    </a:lnTo>
                    <a:lnTo>
                      <a:pt x="573" y="66"/>
                    </a:lnTo>
                    <a:lnTo>
                      <a:pt x="582" y="62"/>
                    </a:lnTo>
                    <a:lnTo>
                      <a:pt x="587" y="58"/>
                    </a:lnTo>
                    <a:lnTo>
                      <a:pt x="589" y="57"/>
                    </a:lnTo>
                    <a:lnTo>
                      <a:pt x="589" y="59"/>
                    </a:lnTo>
                    <a:lnTo>
                      <a:pt x="590" y="66"/>
                    </a:lnTo>
                    <a:lnTo>
                      <a:pt x="587" y="75"/>
                    </a:lnTo>
                    <a:lnTo>
                      <a:pt x="580" y="84"/>
                    </a:lnTo>
                    <a:lnTo>
                      <a:pt x="565" y="91"/>
                    </a:lnTo>
                    <a:lnTo>
                      <a:pt x="541" y="93"/>
                    </a:lnTo>
                    <a:lnTo>
                      <a:pt x="504" y="90"/>
                    </a:lnTo>
                    <a:lnTo>
                      <a:pt x="454" y="78"/>
                    </a:lnTo>
                    <a:lnTo>
                      <a:pt x="451" y="76"/>
                    </a:lnTo>
                    <a:lnTo>
                      <a:pt x="446" y="75"/>
                    </a:lnTo>
                    <a:lnTo>
                      <a:pt x="436" y="72"/>
                    </a:lnTo>
                    <a:lnTo>
                      <a:pt x="425" y="68"/>
                    </a:lnTo>
                    <a:lnTo>
                      <a:pt x="410" y="66"/>
                    </a:lnTo>
                    <a:lnTo>
                      <a:pt x="392" y="62"/>
                    </a:lnTo>
                    <a:lnTo>
                      <a:pt x="373" y="58"/>
                    </a:lnTo>
                    <a:lnTo>
                      <a:pt x="354" y="54"/>
                    </a:lnTo>
                    <a:lnTo>
                      <a:pt x="333" y="51"/>
                    </a:lnTo>
                    <a:lnTo>
                      <a:pt x="311" y="49"/>
                    </a:lnTo>
                    <a:lnTo>
                      <a:pt x="289" y="49"/>
                    </a:lnTo>
                    <a:lnTo>
                      <a:pt x="267" y="49"/>
                    </a:lnTo>
                    <a:lnTo>
                      <a:pt x="247" y="51"/>
                    </a:lnTo>
                    <a:lnTo>
                      <a:pt x="227" y="55"/>
                    </a:lnTo>
                    <a:lnTo>
                      <a:pt x="209" y="61"/>
                    </a:lnTo>
                    <a:lnTo>
                      <a:pt x="193" y="70"/>
                    </a:lnTo>
                    <a:lnTo>
                      <a:pt x="190" y="71"/>
                    </a:lnTo>
                    <a:lnTo>
                      <a:pt x="184" y="76"/>
                    </a:lnTo>
                    <a:lnTo>
                      <a:pt x="173" y="83"/>
                    </a:lnTo>
                    <a:lnTo>
                      <a:pt x="159" y="90"/>
                    </a:lnTo>
                    <a:lnTo>
                      <a:pt x="141" y="96"/>
                    </a:lnTo>
                    <a:lnTo>
                      <a:pt x="122" y="101"/>
                    </a:lnTo>
                    <a:lnTo>
                      <a:pt x="102" y="105"/>
                    </a:lnTo>
                    <a:lnTo>
                      <a:pt x="81" y="104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Freeform 160"/>
              <p:cNvSpPr/>
              <p:nvPr/>
            </p:nvSpPr>
            <p:spPr>
              <a:xfrm>
                <a:off x="6602400" y="1729800"/>
                <a:ext cx="327240" cy="435240"/>
              </a:xfrm>
              <a:custGeom>
                <a:avLst/>
                <a:gdLst/>
                <a:ahLst/>
                <a:rect l="l" t="t" r="r" b="b"/>
                <a:pathLst>
                  <a:path w="474" h="1109">
                    <a:moveTo>
                      <a:pt x="312" y="8"/>
                    </a:moveTo>
                    <a:lnTo>
                      <a:pt x="309" y="10"/>
                    </a:lnTo>
                    <a:lnTo>
                      <a:pt x="303" y="12"/>
                    </a:lnTo>
                    <a:lnTo>
                      <a:pt x="293" y="18"/>
                    </a:lnTo>
                    <a:lnTo>
                      <a:pt x="279" y="25"/>
                    </a:lnTo>
                    <a:lnTo>
                      <a:pt x="261" y="36"/>
                    </a:lnTo>
                    <a:lnTo>
                      <a:pt x="242" y="48"/>
                    </a:lnTo>
                    <a:lnTo>
                      <a:pt x="222" y="62"/>
                    </a:lnTo>
                    <a:lnTo>
                      <a:pt x="199" y="79"/>
                    </a:lnTo>
                    <a:lnTo>
                      <a:pt x="177" y="100"/>
                    </a:lnTo>
                    <a:lnTo>
                      <a:pt x="153" y="123"/>
                    </a:lnTo>
                    <a:lnTo>
                      <a:pt x="129" y="148"/>
                    </a:lnTo>
                    <a:lnTo>
                      <a:pt x="106" y="176"/>
                    </a:lnTo>
                    <a:lnTo>
                      <a:pt x="85" y="207"/>
                    </a:lnTo>
                    <a:lnTo>
                      <a:pt x="65" y="241"/>
                    </a:lnTo>
                    <a:lnTo>
                      <a:pt x="46" y="278"/>
                    </a:lnTo>
                    <a:lnTo>
                      <a:pt x="31" y="318"/>
                    </a:lnTo>
                    <a:lnTo>
                      <a:pt x="9" y="401"/>
                    </a:lnTo>
                    <a:lnTo>
                      <a:pt x="0" y="485"/>
                    </a:lnTo>
                    <a:lnTo>
                      <a:pt x="0" y="569"/>
                    </a:lnTo>
                    <a:lnTo>
                      <a:pt x="7" y="648"/>
                    </a:lnTo>
                    <a:lnTo>
                      <a:pt x="17" y="721"/>
                    </a:lnTo>
                    <a:lnTo>
                      <a:pt x="28" y="780"/>
                    </a:lnTo>
                    <a:lnTo>
                      <a:pt x="38" y="826"/>
                    </a:lnTo>
                    <a:lnTo>
                      <a:pt x="46" y="853"/>
                    </a:lnTo>
                    <a:lnTo>
                      <a:pt x="60" y="892"/>
                    </a:lnTo>
                    <a:lnTo>
                      <a:pt x="77" y="933"/>
                    </a:lnTo>
                    <a:lnTo>
                      <a:pt x="96" y="971"/>
                    </a:lnTo>
                    <a:lnTo>
                      <a:pt x="115" y="1007"/>
                    </a:lnTo>
                    <a:lnTo>
                      <a:pt x="133" y="1037"/>
                    </a:lnTo>
                    <a:lnTo>
                      <a:pt x="148" y="1061"/>
                    </a:lnTo>
                    <a:lnTo>
                      <a:pt x="158" y="1076"/>
                    </a:lnTo>
                    <a:lnTo>
                      <a:pt x="162" y="1082"/>
                    </a:lnTo>
                    <a:lnTo>
                      <a:pt x="163" y="1086"/>
                    </a:lnTo>
                    <a:lnTo>
                      <a:pt x="167" y="1094"/>
                    </a:lnTo>
                    <a:lnTo>
                      <a:pt x="173" y="1103"/>
                    </a:lnTo>
                    <a:lnTo>
                      <a:pt x="180" y="1108"/>
                    </a:lnTo>
                    <a:lnTo>
                      <a:pt x="191" y="1109"/>
                    </a:lnTo>
                    <a:lnTo>
                      <a:pt x="202" y="1100"/>
                    </a:lnTo>
                    <a:lnTo>
                      <a:pt x="216" y="1079"/>
                    </a:lnTo>
                    <a:lnTo>
                      <a:pt x="230" y="1041"/>
                    </a:lnTo>
                    <a:lnTo>
                      <a:pt x="238" y="983"/>
                    </a:lnTo>
                    <a:lnTo>
                      <a:pt x="238" y="907"/>
                    </a:lnTo>
                    <a:lnTo>
                      <a:pt x="232" y="821"/>
                    </a:lnTo>
                    <a:lnTo>
                      <a:pt x="227" y="727"/>
                    </a:lnTo>
                    <a:lnTo>
                      <a:pt x="225" y="633"/>
                    </a:lnTo>
                    <a:lnTo>
                      <a:pt x="232" y="543"/>
                    </a:lnTo>
                    <a:lnTo>
                      <a:pt x="254" y="463"/>
                    </a:lnTo>
                    <a:lnTo>
                      <a:pt x="293" y="397"/>
                    </a:lnTo>
                    <a:lnTo>
                      <a:pt x="339" y="343"/>
                    </a:lnTo>
                    <a:lnTo>
                      <a:pt x="380" y="295"/>
                    </a:lnTo>
                    <a:lnTo>
                      <a:pt x="411" y="255"/>
                    </a:lnTo>
                    <a:lnTo>
                      <a:pt x="437" y="220"/>
                    </a:lnTo>
                    <a:lnTo>
                      <a:pt x="455" y="190"/>
                    </a:lnTo>
                    <a:lnTo>
                      <a:pt x="468" y="164"/>
                    </a:lnTo>
                    <a:lnTo>
                      <a:pt x="474" y="139"/>
                    </a:lnTo>
                    <a:lnTo>
                      <a:pt x="473" y="116"/>
                    </a:lnTo>
                    <a:lnTo>
                      <a:pt x="468" y="93"/>
                    </a:lnTo>
                    <a:lnTo>
                      <a:pt x="459" y="69"/>
                    </a:lnTo>
                    <a:lnTo>
                      <a:pt x="446" y="46"/>
                    </a:lnTo>
                    <a:lnTo>
                      <a:pt x="430" y="27"/>
                    </a:lnTo>
                    <a:lnTo>
                      <a:pt x="410" y="11"/>
                    </a:lnTo>
                    <a:lnTo>
                      <a:pt x="382" y="2"/>
                    </a:lnTo>
                    <a:lnTo>
                      <a:pt x="351" y="0"/>
                    </a:lnTo>
                    <a:lnTo>
                      <a:pt x="312" y="8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161"/>
              <p:cNvSpPr/>
              <p:nvPr/>
            </p:nvSpPr>
            <p:spPr>
              <a:xfrm>
                <a:off x="7029000" y="2415240"/>
                <a:ext cx="306360" cy="37800"/>
              </a:xfrm>
              <a:custGeom>
                <a:avLst/>
                <a:gdLst/>
                <a:ahLst/>
                <a:rect l="l" t="t" r="r" b="b"/>
                <a:pathLst>
                  <a:path w="442" h="110">
                    <a:moveTo>
                      <a:pt x="0" y="85"/>
                    </a:moveTo>
                    <a:lnTo>
                      <a:pt x="3" y="85"/>
                    </a:lnTo>
                    <a:lnTo>
                      <a:pt x="9" y="84"/>
                    </a:lnTo>
                    <a:lnTo>
                      <a:pt x="19" y="83"/>
                    </a:lnTo>
                    <a:lnTo>
                      <a:pt x="32" y="79"/>
                    </a:lnTo>
                    <a:lnTo>
                      <a:pt x="46" y="75"/>
                    </a:lnTo>
                    <a:lnTo>
                      <a:pt x="61" y="71"/>
                    </a:lnTo>
                    <a:lnTo>
                      <a:pt x="76" y="64"/>
                    </a:lnTo>
                    <a:lnTo>
                      <a:pt x="88" y="56"/>
                    </a:lnTo>
                    <a:lnTo>
                      <a:pt x="90" y="55"/>
                    </a:lnTo>
                    <a:lnTo>
                      <a:pt x="93" y="51"/>
                    </a:lnTo>
                    <a:lnTo>
                      <a:pt x="100" y="45"/>
                    </a:lnTo>
                    <a:lnTo>
                      <a:pt x="109" y="37"/>
                    </a:lnTo>
                    <a:lnTo>
                      <a:pt x="119" y="29"/>
                    </a:lnTo>
                    <a:lnTo>
                      <a:pt x="131" y="20"/>
                    </a:lnTo>
                    <a:lnTo>
                      <a:pt x="146" y="13"/>
                    </a:lnTo>
                    <a:lnTo>
                      <a:pt x="161" y="6"/>
                    </a:lnTo>
                    <a:lnTo>
                      <a:pt x="179" y="1"/>
                    </a:lnTo>
                    <a:lnTo>
                      <a:pt x="198" y="0"/>
                    </a:lnTo>
                    <a:lnTo>
                      <a:pt x="218" y="1"/>
                    </a:lnTo>
                    <a:lnTo>
                      <a:pt x="240" y="6"/>
                    </a:lnTo>
                    <a:lnTo>
                      <a:pt x="262" y="17"/>
                    </a:lnTo>
                    <a:lnTo>
                      <a:pt x="285" y="31"/>
                    </a:lnTo>
                    <a:lnTo>
                      <a:pt x="309" y="53"/>
                    </a:lnTo>
                    <a:lnTo>
                      <a:pt x="333" y="80"/>
                    </a:lnTo>
                    <a:lnTo>
                      <a:pt x="335" y="81"/>
                    </a:lnTo>
                    <a:lnTo>
                      <a:pt x="343" y="84"/>
                    </a:lnTo>
                    <a:lnTo>
                      <a:pt x="355" y="89"/>
                    </a:lnTo>
                    <a:lnTo>
                      <a:pt x="369" y="95"/>
                    </a:lnTo>
                    <a:lnTo>
                      <a:pt x="387" y="99"/>
                    </a:lnTo>
                    <a:lnTo>
                      <a:pt x="405" y="103"/>
                    </a:lnTo>
                    <a:lnTo>
                      <a:pt x="423" y="104"/>
                    </a:lnTo>
                    <a:lnTo>
                      <a:pt x="442" y="103"/>
                    </a:lnTo>
                    <a:lnTo>
                      <a:pt x="441" y="104"/>
                    </a:lnTo>
                    <a:lnTo>
                      <a:pt x="437" y="107"/>
                    </a:lnTo>
                    <a:lnTo>
                      <a:pt x="429" y="109"/>
                    </a:lnTo>
                    <a:lnTo>
                      <a:pt x="415" y="110"/>
                    </a:lnTo>
                    <a:lnTo>
                      <a:pt x="393" y="110"/>
                    </a:lnTo>
                    <a:lnTo>
                      <a:pt x="363" y="107"/>
                    </a:lnTo>
                    <a:lnTo>
                      <a:pt x="321" y="96"/>
                    </a:lnTo>
                    <a:lnTo>
                      <a:pt x="270" y="80"/>
                    </a:lnTo>
                    <a:lnTo>
                      <a:pt x="267" y="79"/>
                    </a:lnTo>
                    <a:lnTo>
                      <a:pt x="260" y="74"/>
                    </a:lnTo>
                    <a:lnTo>
                      <a:pt x="248" y="68"/>
                    </a:lnTo>
                    <a:lnTo>
                      <a:pt x="231" y="62"/>
                    </a:lnTo>
                    <a:lnTo>
                      <a:pt x="209" y="58"/>
                    </a:lnTo>
                    <a:lnTo>
                      <a:pt x="184" y="58"/>
                    </a:lnTo>
                    <a:lnTo>
                      <a:pt x="154" y="62"/>
                    </a:lnTo>
                    <a:lnTo>
                      <a:pt x="120" y="71"/>
                    </a:lnTo>
                    <a:lnTo>
                      <a:pt x="119" y="72"/>
                    </a:lnTo>
                    <a:lnTo>
                      <a:pt x="112" y="76"/>
                    </a:lnTo>
                    <a:lnTo>
                      <a:pt x="103" y="81"/>
                    </a:lnTo>
                    <a:lnTo>
                      <a:pt x="90" y="87"/>
                    </a:lnTo>
                    <a:lnTo>
                      <a:pt x="73" y="91"/>
                    </a:lnTo>
                    <a:lnTo>
                      <a:pt x="52" y="92"/>
                    </a:lnTo>
                    <a:lnTo>
                      <a:pt x="28" y="91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162"/>
              <p:cNvSpPr/>
              <p:nvPr/>
            </p:nvSpPr>
            <p:spPr>
              <a:xfrm>
                <a:off x="7029000" y="1672200"/>
                <a:ext cx="327240" cy="69480"/>
              </a:xfrm>
              <a:custGeom>
                <a:avLst/>
                <a:gdLst/>
                <a:ahLst/>
                <a:rect l="l" t="t" r="r" b="b"/>
                <a:pathLst>
                  <a:path w="473" h="165">
                    <a:moveTo>
                      <a:pt x="0" y="0"/>
                    </a:moveTo>
                    <a:lnTo>
                      <a:pt x="4" y="0"/>
                    </a:lnTo>
                    <a:lnTo>
                      <a:pt x="13" y="2"/>
                    </a:lnTo>
                    <a:lnTo>
                      <a:pt x="28" y="4"/>
                    </a:lnTo>
                    <a:lnTo>
                      <a:pt x="48" y="9"/>
                    </a:lnTo>
                    <a:lnTo>
                      <a:pt x="72" y="17"/>
                    </a:lnTo>
                    <a:lnTo>
                      <a:pt x="98" y="28"/>
                    </a:lnTo>
                    <a:lnTo>
                      <a:pt x="129" y="42"/>
                    </a:lnTo>
                    <a:lnTo>
                      <a:pt x="159" y="61"/>
                    </a:lnTo>
                    <a:lnTo>
                      <a:pt x="190" y="78"/>
                    </a:lnTo>
                    <a:lnTo>
                      <a:pt x="221" y="90"/>
                    </a:lnTo>
                    <a:lnTo>
                      <a:pt x="251" y="98"/>
                    </a:lnTo>
                    <a:lnTo>
                      <a:pt x="277" y="100"/>
                    </a:lnTo>
                    <a:lnTo>
                      <a:pt x="300" y="102"/>
                    </a:lnTo>
                    <a:lnTo>
                      <a:pt x="318" y="102"/>
                    </a:lnTo>
                    <a:lnTo>
                      <a:pt x="329" y="100"/>
                    </a:lnTo>
                    <a:lnTo>
                      <a:pt x="333" y="100"/>
                    </a:lnTo>
                    <a:lnTo>
                      <a:pt x="473" y="49"/>
                    </a:lnTo>
                    <a:lnTo>
                      <a:pt x="469" y="53"/>
                    </a:lnTo>
                    <a:lnTo>
                      <a:pt x="457" y="62"/>
                    </a:lnTo>
                    <a:lnTo>
                      <a:pt x="441" y="77"/>
                    </a:lnTo>
                    <a:lnTo>
                      <a:pt x="422" y="94"/>
                    </a:lnTo>
                    <a:lnTo>
                      <a:pt x="401" y="111"/>
                    </a:lnTo>
                    <a:lnTo>
                      <a:pt x="381" y="127"/>
                    </a:lnTo>
                    <a:lnTo>
                      <a:pt x="363" y="141"/>
                    </a:lnTo>
                    <a:lnTo>
                      <a:pt x="350" y="150"/>
                    </a:lnTo>
                    <a:lnTo>
                      <a:pt x="344" y="154"/>
                    </a:lnTo>
                    <a:lnTo>
                      <a:pt x="334" y="157"/>
                    </a:lnTo>
                    <a:lnTo>
                      <a:pt x="323" y="160"/>
                    </a:lnTo>
                    <a:lnTo>
                      <a:pt x="309" y="161"/>
                    </a:lnTo>
                    <a:lnTo>
                      <a:pt x="295" y="164"/>
                    </a:lnTo>
                    <a:lnTo>
                      <a:pt x="279" y="164"/>
                    </a:lnTo>
                    <a:lnTo>
                      <a:pt x="261" y="165"/>
                    </a:lnTo>
                    <a:lnTo>
                      <a:pt x="243" y="164"/>
                    </a:lnTo>
                    <a:lnTo>
                      <a:pt x="224" y="162"/>
                    </a:lnTo>
                    <a:lnTo>
                      <a:pt x="207" y="161"/>
                    </a:lnTo>
                    <a:lnTo>
                      <a:pt x="189" y="157"/>
                    </a:lnTo>
                    <a:lnTo>
                      <a:pt x="172" y="153"/>
                    </a:lnTo>
                    <a:lnTo>
                      <a:pt x="156" y="148"/>
                    </a:lnTo>
                    <a:lnTo>
                      <a:pt x="141" y="141"/>
                    </a:lnTo>
                    <a:lnTo>
                      <a:pt x="127" y="133"/>
                    </a:lnTo>
                    <a:lnTo>
                      <a:pt x="116" y="124"/>
                    </a:lnTo>
                    <a:lnTo>
                      <a:pt x="97" y="103"/>
                    </a:lnTo>
                    <a:lnTo>
                      <a:pt x="81" y="82"/>
                    </a:lnTo>
                    <a:lnTo>
                      <a:pt x="68" y="62"/>
                    </a:lnTo>
                    <a:lnTo>
                      <a:pt x="56" y="42"/>
                    </a:lnTo>
                    <a:lnTo>
                      <a:pt x="43" y="27"/>
                    </a:lnTo>
                    <a:lnTo>
                      <a:pt x="30" y="13"/>
                    </a:lnTo>
                    <a:lnTo>
                      <a:pt x="1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163"/>
              <p:cNvSpPr/>
              <p:nvPr/>
            </p:nvSpPr>
            <p:spPr>
              <a:xfrm>
                <a:off x="7329600" y="1766520"/>
                <a:ext cx="392760" cy="373680"/>
              </a:xfrm>
              <a:custGeom>
                <a:avLst/>
                <a:gdLst/>
                <a:ahLst/>
                <a:rect l="l" t="t" r="r" b="b"/>
                <a:pathLst>
                  <a:path w="570" h="953">
                    <a:moveTo>
                      <a:pt x="443" y="29"/>
                    </a:moveTo>
                    <a:lnTo>
                      <a:pt x="440" y="26"/>
                    </a:lnTo>
                    <a:lnTo>
                      <a:pt x="432" y="19"/>
                    </a:lnTo>
                    <a:lnTo>
                      <a:pt x="418" y="13"/>
                    </a:lnTo>
                    <a:lnTo>
                      <a:pt x="400" y="5"/>
                    </a:lnTo>
                    <a:lnTo>
                      <a:pt x="377" y="0"/>
                    </a:lnTo>
                    <a:lnTo>
                      <a:pt x="351" y="0"/>
                    </a:lnTo>
                    <a:lnTo>
                      <a:pt x="322" y="5"/>
                    </a:lnTo>
                    <a:lnTo>
                      <a:pt x="289" y="19"/>
                    </a:lnTo>
                    <a:lnTo>
                      <a:pt x="258" y="35"/>
                    </a:lnTo>
                    <a:lnTo>
                      <a:pt x="233" y="44"/>
                    </a:lnTo>
                    <a:lnTo>
                      <a:pt x="210" y="48"/>
                    </a:lnTo>
                    <a:lnTo>
                      <a:pt x="191" y="51"/>
                    </a:lnTo>
                    <a:lnTo>
                      <a:pt x="175" y="52"/>
                    </a:lnTo>
                    <a:lnTo>
                      <a:pt x="160" y="56"/>
                    </a:lnTo>
                    <a:lnTo>
                      <a:pt x="146" y="65"/>
                    </a:lnTo>
                    <a:lnTo>
                      <a:pt x="132" y="80"/>
                    </a:lnTo>
                    <a:lnTo>
                      <a:pt x="104" y="126"/>
                    </a:lnTo>
                    <a:lnTo>
                      <a:pt x="81" y="180"/>
                    </a:lnTo>
                    <a:lnTo>
                      <a:pt x="63" y="241"/>
                    </a:lnTo>
                    <a:lnTo>
                      <a:pt x="47" y="304"/>
                    </a:lnTo>
                    <a:lnTo>
                      <a:pt x="36" y="366"/>
                    </a:lnTo>
                    <a:lnTo>
                      <a:pt x="26" y="425"/>
                    </a:lnTo>
                    <a:lnTo>
                      <a:pt x="17" y="479"/>
                    </a:lnTo>
                    <a:lnTo>
                      <a:pt x="8" y="524"/>
                    </a:lnTo>
                    <a:lnTo>
                      <a:pt x="2" y="569"/>
                    </a:lnTo>
                    <a:lnTo>
                      <a:pt x="0" y="623"/>
                    </a:lnTo>
                    <a:lnTo>
                      <a:pt x="2" y="679"/>
                    </a:lnTo>
                    <a:lnTo>
                      <a:pt x="8" y="736"/>
                    </a:lnTo>
                    <a:lnTo>
                      <a:pt x="18" y="788"/>
                    </a:lnTo>
                    <a:lnTo>
                      <a:pt x="34" y="832"/>
                    </a:lnTo>
                    <a:lnTo>
                      <a:pt x="54" y="864"/>
                    </a:lnTo>
                    <a:lnTo>
                      <a:pt x="79" y="878"/>
                    </a:lnTo>
                    <a:lnTo>
                      <a:pt x="104" y="885"/>
                    </a:lnTo>
                    <a:lnTo>
                      <a:pt x="127" y="893"/>
                    </a:lnTo>
                    <a:lnTo>
                      <a:pt x="146" y="904"/>
                    </a:lnTo>
                    <a:lnTo>
                      <a:pt x="165" y="915"/>
                    </a:lnTo>
                    <a:lnTo>
                      <a:pt x="181" y="927"/>
                    </a:lnTo>
                    <a:lnTo>
                      <a:pt x="197" y="937"/>
                    </a:lnTo>
                    <a:lnTo>
                      <a:pt x="212" y="947"/>
                    </a:lnTo>
                    <a:lnTo>
                      <a:pt x="229" y="952"/>
                    </a:lnTo>
                    <a:lnTo>
                      <a:pt x="238" y="953"/>
                    </a:lnTo>
                    <a:lnTo>
                      <a:pt x="249" y="953"/>
                    </a:lnTo>
                    <a:lnTo>
                      <a:pt x="260" y="950"/>
                    </a:lnTo>
                    <a:lnTo>
                      <a:pt x="274" y="947"/>
                    </a:lnTo>
                    <a:lnTo>
                      <a:pt x="288" y="940"/>
                    </a:lnTo>
                    <a:lnTo>
                      <a:pt x="303" y="933"/>
                    </a:lnTo>
                    <a:lnTo>
                      <a:pt x="320" y="924"/>
                    </a:lnTo>
                    <a:lnTo>
                      <a:pt x="336" y="914"/>
                    </a:lnTo>
                    <a:lnTo>
                      <a:pt x="354" y="902"/>
                    </a:lnTo>
                    <a:lnTo>
                      <a:pt x="370" y="887"/>
                    </a:lnTo>
                    <a:lnTo>
                      <a:pt x="388" y="873"/>
                    </a:lnTo>
                    <a:lnTo>
                      <a:pt x="405" y="857"/>
                    </a:lnTo>
                    <a:lnTo>
                      <a:pt x="423" y="840"/>
                    </a:lnTo>
                    <a:lnTo>
                      <a:pt x="440" y="820"/>
                    </a:lnTo>
                    <a:lnTo>
                      <a:pt x="457" y="800"/>
                    </a:lnTo>
                    <a:lnTo>
                      <a:pt x="473" y="779"/>
                    </a:lnTo>
                    <a:lnTo>
                      <a:pt x="511" y="711"/>
                    </a:lnTo>
                    <a:lnTo>
                      <a:pt x="541" y="623"/>
                    </a:lnTo>
                    <a:lnTo>
                      <a:pt x="561" y="520"/>
                    </a:lnTo>
                    <a:lnTo>
                      <a:pt x="570" y="411"/>
                    </a:lnTo>
                    <a:lnTo>
                      <a:pt x="564" y="300"/>
                    </a:lnTo>
                    <a:lnTo>
                      <a:pt x="543" y="195"/>
                    </a:lnTo>
                    <a:lnTo>
                      <a:pt x="502" y="102"/>
                    </a:lnTo>
                    <a:lnTo>
                      <a:pt x="443" y="29"/>
                    </a:lnTo>
                    <a:close/>
                  </a:path>
                </a:pathLst>
              </a:custGeom>
              <a:solidFill>
                <a:srgbClr val="ff72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164"/>
              <p:cNvSpPr/>
              <p:nvPr/>
            </p:nvSpPr>
            <p:spPr>
              <a:xfrm>
                <a:off x="7434720" y="1878480"/>
                <a:ext cx="205200" cy="199080"/>
              </a:xfrm>
              <a:custGeom>
                <a:avLst/>
                <a:gdLst/>
                <a:ahLst/>
                <a:rect l="l" t="t" r="r" b="b"/>
                <a:pathLst>
                  <a:path w="297" h="507">
                    <a:moveTo>
                      <a:pt x="231" y="15"/>
                    </a:moveTo>
                    <a:lnTo>
                      <a:pt x="229" y="14"/>
                    </a:lnTo>
                    <a:lnTo>
                      <a:pt x="224" y="11"/>
                    </a:lnTo>
                    <a:lnTo>
                      <a:pt x="218" y="7"/>
                    </a:lnTo>
                    <a:lnTo>
                      <a:pt x="208" y="3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68" y="3"/>
                    </a:lnTo>
                    <a:lnTo>
                      <a:pt x="151" y="11"/>
                    </a:lnTo>
                    <a:lnTo>
                      <a:pt x="136" y="19"/>
                    </a:lnTo>
                    <a:lnTo>
                      <a:pt x="122" y="24"/>
                    </a:lnTo>
                    <a:lnTo>
                      <a:pt x="111" y="27"/>
                    </a:lnTo>
                    <a:lnTo>
                      <a:pt x="102" y="28"/>
                    </a:lnTo>
                    <a:lnTo>
                      <a:pt x="93" y="29"/>
                    </a:lnTo>
                    <a:lnTo>
                      <a:pt x="86" y="31"/>
                    </a:lnTo>
                    <a:lnTo>
                      <a:pt x="78" y="35"/>
                    </a:lnTo>
                    <a:lnTo>
                      <a:pt x="71" y="43"/>
                    </a:lnTo>
                    <a:lnTo>
                      <a:pt x="57" y="66"/>
                    </a:lnTo>
                    <a:lnTo>
                      <a:pt x="44" y="95"/>
                    </a:lnTo>
                    <a:lnTo>
                      <a:pt x="35" y="127"/>
                    </a:lnTo>
                    <a:lnTo>
                      <a:pt x="26" y="158"/>
                    </a:lnTo>
                    <a:lnTo>
                      <a:pt x="20" y="191"/>
                    </a:lnTo>
                    <a:lnTo>
                      <a:pt x="15" y="223"/>
                    </a:lnTo>
                    <a:lnTo>
                      <a:pt x="10" y="252"/>
                    </a:lnTo>
                    <a:lnTo>
                      <a:pt x="5" y="276"/>
                    </a:lnTo>
                    <a:lnTo>
                      <a:pt x="1" y="299"/>
                    </a:lnTo>
                    <a:lnTo>
                      <a:pt x="0" y="328"/>
                    </a:lnTo>
                    <a:lnTo>
                      <a:pt x="1" y="359"/>
                    </a:lnTo>
                    <a:lnTo>
                      <a:pt x="4" y="389"/>
                    </a:lnTo>
                    <a:lnTo>
                      <a:pt x="9" y="418"/>
                    </a:lnTo>
                    <a:lnTo>
                      <a:pt x="16" y="442"/>
                    </a:lnTo>
                    <a:lnTo>
                      <a:pt x="26" y="459"/>
                    </a:lnTo>
                    <a:lnTo>
                      <a:pt x="39" y="467"/>
                    </a:lnTo>
                    <a:lnTo>
                      <a:pt x="53" y="471"/>
                    </a:lnTo>
                    <a:lnTo>
                      <a:pt x="64" y="475"/>
                    </a:lnTo>
                    <a:lnTo>
                      <a:pt x="76" y="481"/>
                    </a:lnTo>
                    <a:lnTo>
                      <a:pt x="84" y="486"/>
                    </a:lnTo>
                    <a:lnTo>
                      <a:pt x="93" y="493"/>
                    </a:lnTo>
                    <a:lnTo>
                      <a:pt x="102" y="500"/>
                    </a:lnTo>
                    <a:lnTo>
                      <a:pt x="110" y="503"/>
                    </a:lnTo>
                    <a:lnTo>
                      <a:pt x="118" y="507"/>
                    </a:lnTo>
                    <a:lnTo>
                      <a:pt x="128" y="507"/>
                    </a:lnTo>
                    <a:lnTo>
                      <a:pt x="142" y="503"/>
                    </a:lnTo>
                    <a:lnTo>
                      <a:pt x="157" y="497"/>
                    </a:lnTo>
                    <a:lnTo>
                      <a:pt x="175" y="485"/>
                    </a:lnTo>
                    <a:lnTo>
                      <a:pt x="194" y="472"/>
                    </a:lnTo>
                    <a:lnTo>
                      <a:pt x="212" y="455"/>
                    </a:lnTo>
                    <a:lnTo>
                      <a:pt x="231" y="435"/>
                    </a:lnTo>
                    <a:lnTo>
                      <a:pt x="248" y="413"/>
                    </a:lnTo>
                    <a:lnTo>
                      <a:pt x="268" y="376"/>
                    </a:lnTo>
                    <a:lnTo>
                      <a:pt x="283" y="328"/>
                    </a:lnTo>
                    <a:lnTo>
                      <a:pt x="294" y="274"/>
                    </a:lnTo>
                    <a:lnTo>
                      <a:pt x="297" y="215"/>
                    </a:lnTo>
                    <a:lnTo>
                      <a:pt x="294" y="157"/>
                    </a:lnTo>
                    <a:lnTo>
                      <a:pt x="282" y="102"/>
                    </a:lnTo>
                    <a:lnTo>
                      <a:pt x="262" y="53"/>
                    </a:lnTo>
                    <a:lnTo>
                      <a:pt x="231" y="15"/>
                    </a:lnTo>
                    <a:close/>
                  </a:path>
                </a:pathLst>
              </a:custGeom>
              <a:solidFill>
                <a:srgbClr val="ffa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Freeform 165"/>
              <p:cNvSpPr/>
              <p:nvPr/>
            </p:nvSpPr>
            <p:spPr>
              <a:xfrm>
                <a:off x="7124400" y="1654560"/>
                <a:ext cx="279360" cy="54000"/>
              </a:xfrm>
              <a:custGeom>
                <a:avLst/>
                <a:gdLst/>
                <a:ahLst/>
                <a:rect l="l" t="t" r="r" b="b"/>
                <a:pathLst>
                  <a:path w="406" h="150">
                    <a:moveTo>
                      <a:pt x="29" y="82"/>
                    </a:moveTo>
                    <a:lnTo>
                      <a:pt x="29" y="75"/>
                    </a:lnTo>
                    <a:lnTo>
                      <a:pt x="27" y="61"/>
                    </a:lnTo>
                    <a:lnTo>
                      <a:pt x="23" y="44"/>
                    </a:lnTo>
                    <a:lnTo>
                      <a:pt x="14" y="29"/>
                    </a:lnTo>
                    <a:lnTo>
                      <a:pt x="5" y="17"/>
                    </a:lnTo>
                    <a:lnTo>
                      <a:pt x="0" y="8"/>
                    </a:lnTo>
                    <a:lnTo>
                      <a:pt x="3" y="1"/>
                    </a:lnTo>
                    <a:lnTo>
                      <a:pt x="14" y="0"/>
                    </a:lnTo>
                    <a:lnTo>
                      <a:pt x="25" y="1"/>
                    </a:lnTo>
                    <a:lnTo>
                      <a:pt x="41" y="4"/>
                    </a:lnTo>
                    <a:lnTo>
                      <a:pt x="58" y="7"/>
                    </a:lnTo>
                    <a:lnTo>
                      <a:pt x="77" y="9"/>
                    </a:lnTo>
                    <a:lnTo>
                      <a:pt x="96" y="13"/>
                    </a:lnTo>
                    <a:lnTo>
                      <a:pt x="114" y="17"/>
                    </a:lnTo>
                    <a:lnTo>
                      <a:pt x="130" y="20"/>
                    </a:lnTo>
                    <a:lnTo>
                      <a:pt x="144" y="22"/>
                    </a:lnTo>
                    <a:lnTo>
                      <a:pt x="158" y="24"/>
                    </a:lnTo>
                    <a:lnTo>
                      <a:pt x="174" y="24"/>
                    </a:lnTo>
                    <a:lnTo>
                      <a:pt x="193" y="24"/>
                    </a:lnTo>
                    <a:lnTo>
                      <a:pt x="214" y="22"/>
                    </a:lnTo>
                    <a:lnTo>
                      <a:pt x="235" y="21"/>
                    </a:lnTo>
                    <a:lnTo>
                      <a:pt x="253" y="19"/>
                    </a:lnTo>
                    <a:lnTo>
                      <a:pt x="270" y="16"/>
                    </a:lnTo>
                    <a:lnTo>
                      <a:pt x="284" y="13"/>
                    </a:lnTo>
                    <a:lnTo>
                      <a:pt x="295" y="11"/>
                    </a:lnTo>
                    <a:lnTo>
                      <a:pt x="308" y="8"/>
                    </a:lnTo>
                    <a:lnTo>
                      <a:pt x="319" y="5"/>
                    </a:lnTo>
                    <a:lnTo>
                      <a:pt x="332" y="3"/>
                    </a:lnTo>
                    <a:lnTo>
                      <a:pt x="343" y="3"/>
                    </a:lnTo>
                    <a:lnTo>
                      <a:pt x="355" y="3"/>
                    </a:lnTo>
                    <a:lnTo>
                      <a:pt x="368" y="4"/>
                    </a:lnTo>
                    <a:lnTo>
                      <a:pt x="381" y="8"/>
                    </a:lnTo>
                    <a:lnTo>
                      <a:pt x="400" y="20"/>
                    </a:lnTo>
                    <a:lnTo>
                      <a:pt x="406" y="37"/>
                    </a:lnTo>
                    <a:lnTo>
                      <a:pt x="401" y="53"/>
                    </a:lnTo>
                    <a:lnTo>
                      <a:pt x="387" y="66"/>
                    </a:lnTo>
                    <a:lnTo>
                      <a:pt x="377" y="71"/>
                    </a:lnTo>
                    <a:lnTo>
                      <a:pt x="364" y="76"/>
                    </a:lnTo>
                    <a:lnTo>
                      <a:pt x="352" y="83"/>
                    </a:lnTo>
                    <a:lnTo>
                      <a:pt x="339" y="90"/>
                    </a:lnTo>
                    <a:lnTo>
                      <a:pt x="328" y="96"/>
                    </a:lnTo>
                    <a:lnTo>
                      <a:pt x="319" y="102"/>
                    </a:lnTo>
                    <a:lnTo>
                      <a:pt x="313" y="104"/>
                    </a:lnTo>
                    <a:lnTo>
                      <a:pt x="310" y="105"/>
                    </a:lnTo>
                    <a:lnTo>
                      <a:pt x="250" y="129"/>
                    </a:lnTo>
                    <a:lnTo>
                      <a:pt x="245" y="130"/>
                    </a:lnTo>
                    <a:lnTo>
                      <a:pt x="233" y="132"/>
                    </a:lnTo>
                    <a:lnTo>
                      <a:pt x="216" y="136"/>
                    </a:lnTo>
                    <a:lnTo>
                      <a:pt x="195" y="140"/>
                    </a:lnTo>
                    <a:lnTo>
                      <a:pt x="175" y="144"/>
                    </a:lnTo>
                    <a:lnTo>
                      <a:pt x="156" y="146"/>
                    </a:lnTo>
                    <a:lnTo>
                      <a:pt x="143" y="149"/>
                    </a:lnTo>
                    <a:lnTo>
                      <a:pt x="136" y="150"/>
                    </a:lnTo>
                    <a:lnTo>
                      <a:pt x="133" y="149"/>
                    </a:lnTo>
                    <a:lnTo>
                      <a:pt x="125" y="146"/>
                    </a:lnTo>
                    <a:lnTo>
                      <a:pt x="114" y="141"/>
                    </a:lnTo>
                    <a:lnTo>
                      <a:pt x="101" y="133"/>
                    </a:lnTo>
                    <a:lnTo>
                      <a:pt x="85" y="123"/>
                    </a:lnTo>
                    <a:lnTo>
                      <a:pt x="68" y="111"/>
                    </a:lnTo>
                    <a:lnTo>
                      <a:pt x="49" y="98"/>
                    </a:lnTo>
                    <a:lnTo>
                      <a:pt x="29" y="82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Freeform 166"/>
              <p:cNvSpPr/>
              <p:nvPr/>
            </p:nvSpPr>
            <p:spPr>
              <a:xfrm>
                <a:off x="6517440" y="1703880"/>
                <a:ext cx="360000" cy="705240"/>
              </a:xfrm>
              <a:custGeom>
                <a:avLst/>
                <a:gdLst/>
                <a:ahLst/>
                <a:rect l="l" t="t" r="r" b="b"/>
                <a:pathLst>
                  <a:path w="521" h="1794">
                    <a:moveTo>
                      <a:pt x="221" y="0"/>
                    </a:moveTo>
                    <a:lnTo>
                      <a:pt x="217" y="4"/>
                    </a:lnTo>
                    <a:lnTo>
                      <a:pt x="204" y="14"/>
                    </a:lnTo>
                    <a:lnTo>
                      <a:pt x="187" y="33"/>
                    </a:lnTo>
                    <a:lnTo>
                      <a:pt x="164" y="58"/>
                    </a:lnTo>
                    <a:lnTo>
                      <a:pt x="139" y="92"/>
                    </a:lnTo>
                    <a:lnTo>
                      <a:pt x="113" y="134"/>
                    </a:lnTo>
                    <a:lnTo>
                      <a:pt x="85" y="184"/>
                    </a:lnTo>
                    <a:lnTo>
                      <a:pt x="60" y="244"/>
                    </a:lnTo>
                    <a:lnTo>
                      <a:pt x="37" y="312"/>
                    </a:lnTo>
                    <a:lnTo>
                      <a:pt x="18" y="388"/>
                    </a:lnTo>
                    <a:lnTo>
                      <a:pt x="5" y="475"/>
                    </a:lnTo>
                    <a:lnTo>
                      <a:pt x="0" y="570"/>
                    </a:lnTo>
                    <a:lnTo>
                      <a:pt x="4" y="676"/>
                    </a:lnTo>
                    <a:lnTo>
                      <a:pt x="19" y="791"/>
                    </a:lnTo>
                    <a:lnTo>
                      <a:pt x="46" y="918"/>
                    </a:lnTo>
                    <a:lnTo>
                      <a:pt x="85" y="1053"/>
                    </a:lnTo>
                    <a:lnTo>
                      <a:pt x="89" y="1060"/>
                    </a:lnTo>
                    <a:lnTo>
                      <a:pt x="100" y="1080"/>
                    </a:lnTo>
                    <a:lnTo>
                      <a:pt x="116" y="1111"/>
                    </a:lnTo>
                    <a:lnTo>
                      <a:pt x="139" y="1152"/>
                    </a:lnTo>
                    <a:lnTo>
                      <a:pt x="165" y="1201"/>
                    </a:lnTo>
                    <a:lnTo>
                      <a:pt x="196" y="1256"/>
                    </a:lnTo>
                    <a:lnTo>
                      <a:pt x="230" y="1317"/>
                    </a:lnTo>
                    <a:lnTo>
                      <a:pt x="265" y="1380"/>
                    </a:lnTo>
                    <a:lnTo>
                      <a:pt x="301" y="1443"/>
                    </a:lnTo>
                    <a:lnTo>
                      <a:pt x="338" y="1508"/>
                    </a:lnTo>
                    <a:lnTo>
                      <a:pt x="375" y="1570"/>
                    </a:lnTo>
                    <a:lnTo>
                      <a:pt x="410" y="1629"/>
                    </a:lnTo>
                    <a:lnTo>
                      <a:pt x="443" y="1682"/>
                    </a:lnTo>
                    <a:lnTo>
                      <a:pt x="473" y="1728"/>
                    </a:lnTo>
                    <a:lnTo>
                      <a:pt x="499" y="1766"/>
                    </a:lnTo>
                    <a:lnTo>
                      <a:pt x="521" y="1794"/>
                    </a:lnTo>
                    <a:lnTo>
                      <a:pt x="517" y="1787"/>
                    </a:lnTo>
                    <a:lnTo>
                      <a:pt x="507" y="1769"/>
                    </a:lnTo>
                    <a:lnTo>
                      <a:pt x="492" y="1740"/>
                    </a:lnTo>
                    <a:lnTo>
                      <a:pt x="472" y="1703"/>
                    </a:lnTo>
                    <a:lnTo>
                      <a:pt x="448" y="1657"/>
                    </a:lnTo>
                    <a:lnTo>
                      <a:pt x="419" y="1605"/>
                    </a:lnTo>
                    <a:lnTo>
                      <a:pt x="388" y="1549"/>
                    </a:lnTo>
                    <a:lnTo>
                      <a:pt x="357" y="1488"/>
                    </a:lnTo>
                    <a:lnTo>
                      <a:pt x="323" y="1426"/>
                    </a:lnTo>
                    <a:lnTo>
                      <a:pt x="289" y="1363"/>
                    </a:lnTo>
                    <a:lnTo>
                      <a:pt x="255" y="1301"/>
                    </a:lnTo>
                    <a:lnTo>
                      <a:pt x="223" y="1241"/>
                    </a:lnTo>
                    <a:lnTo>
                      <a:pt x="193" y="1184"/>
                    </a:lnTo>
                    <a:lnTo>
                      <a:pt x="164" y="1131"/>
                    </a:lnTo>
                    <a:lnTo>
                      <a:pt x="140" y="1085"/>
                    </a:lnTo>
                    <a:lnTo>
                      <a:pt x="120" y="1047"/>
                    </a:lnTo>
                    <a:lnTo>
                      <a:pt x="118" y="1040"/>
                    </a:lnTo>
                    <a:lnTo>
                      <a:pt x="111" y="1021"/>
                    </a:lnTo>
                    <a:lnTo>
                      <a:pt x="101" y="989"/>
                    </a:lnTo>
                    <a:lnTo>
                      <a:pt x="90" y="945"/>
                    </a:lnTo>
                    <a:lnTo>
                      <a:pt x="77" y="894"/>
                    </a:lnTo>
                    <a:lnTo>
                      <a:pt x="66" y="834"/>
                    </a:lnTo>
                    <a:lnTo>
                      <a:pt x="56" y="765"/>
                    </a:lnTo>
                    <a:lnTo>
                      <a:pt x="48" y="691"/>
                    </a:lnTo>
                    <a:lnTo>
                      <a:pt x="43" y="611"/>
                    </a:lnTo>
                    <a:lnTo>
                      <a:pt x="44" y="528"/>
                    </a:lnTo>
                    <a:lnTo>
                      <a:pt x="52" y="441"/>
                    </a:lnTo>
                    <a:lnTo>
                      <a:pt x="67" y="352"/>
                    </a:lnTo>
                    <a:lnTo>
                      <a:pt x="90" y="262"/>
                    </a:lnTo>
                    <a:lnTo>
                      <a:pt x="123" y="172"/>
                    </a:lnTo>
                    <a:lnTo>
                      <a:pt x="165" y="85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Freeform 167"/>
              <p:cNvSpPr/>
              <p:nvPr/>
            </p:nvSpPr>
            <p:spPr>
              <a:xfrm>
                <a:off x="7074720" y="1685160"/>
                <a:ext cx="240120" cy="46800"/>
              </a:xfrm>
              <a:custGeom>
                <a:avLst/>
                <a:gdLst/>
                <a:ahLst/>
                <a:rect l="l" t="t" r="r" b="b"/>
                <a:pathLst>
                  <a:path w="350" h="120">
                    <a:moveTo>
                      <a:pt x="0" y="0"/>
                    </a:moveTo>
                    <a:lnTo>
                      <a:pt x="5" y="4"/>
                    </a:lnTo>
                    <a:lnTo>
                      <a:pt x="16" y="16"/>
                    </a:lnTo>
                    <a:lnTo>
                      <a:pt x="35" y="32"/>
                    </a:lnTo>
                    <a:lnTo>
                      <a:pt x="59" y="50"/>
                    </a:lnTo>
                    <a:lnTo>
                      <a:pt x="85" y="69"/>
                    </a:lnTo>
                    <a:lnTo>
                      <a:pt x="113" y="87"/>
                    </a:lnTo>
                    <a:lnTo>
                      <a:pt x="141" y="102"/>
                    </a:lnTo>
                    <a:lnTo>
                      <a:pt x="166" y="110"/>
                    </a:lnTo>
                    <a:lnTo>
                      <a:pt x="190" y="115"/>
                    </a:lnTo>
                    <a:lnTo>
                      <a:pt x="215" y="118"/>
                    </a:lnTo>
                    <a:lnTo>
                      <a:pt x="240" y="120"/>
                    </a:lnTo>
                    <a:lnTo>
                      <a:pt x="264" y="119"/>
                    </a:lnTo>
                    <a:lnTo>
                      <a:pt x="287" y="116"/>
                    </a:lnTo>
                    <a:lnTo>
                      <a:pt x="306" y="111"/>
                    </a:lnTo>
                    <a:lnTo>
                      <a:pt x="321" y="102"/>
                    </a:lnTo>
                    <a:lnTo>
                      <a:pt x="331" y="90"/>
                    </a:lnTo>
                    <a:lnTo>
                      <a:pt x="350" y="61"/>
                    </a:lnTo>
                    <a:lnTo>
                      <a:pt x="345" y="62"/>
                    </a:lnTo>
                    <a:lnTo>
                      <a:pt x="331" y="68"/>
                    </a:lnTo>
                    <a:lnTo>
                      <a:pt x="311" y="73"/>
                    </a:lnTo>
                    <a:lnTo>
                      <a:pt x="286" y="78"/>
                    </a:lnTo>
                    <a:lnTo>
                      <a:pt x="255" y="82"/>
                    </a:lnTo>
                    <a:lnTo>
                      <a:pt x="225" y="83"/>
                    </a:lnTo>
                    <a:lnTo>
                      <a:pt x="195" y="79"/>
                    </a:lnTo>
                    <a:lnTo>
                      <a:pt x="167" y="70"/>
                    </a:lnTo>
                    <a:lnTo>
                      <a:pt x="163" y="68"/>
                    </a:lnTo>
                    <a:lnTo>
                      <a:pt x="153" y="60"/>
                    </a:lnTo>
                    <a:lnTo>
                      <a:pt x="137" y="49"/>
                    </a:lnTo>
                    <a:lnTo>
                      <a:pt x="116" y="37"/>
                    </a:lnTo>
                    <a:lnTo>
                      <a:pt x="90" y="25"/>
                    </a:lnTo>
                    <a:lnTo>
                      <a:pt x="61" y="14"/>
                    </a:lnTo>
                    <a:lnTo>
                      <a:pt x="3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Freeform 168"/>
              <p:cNvSpPr/>
              <p:nvPr/>
            </p:nvSpPr>
            <p:spPr>
              <a:xfrm>
                <a:off x="6625080" y="1758240"/>
                <a:ext cx="194760" cy="361080"/>
              </a:xfrm>
              <a:custGeom>
                <a:avLst/>
                <a:gdLst/>
                <a:ahLst/>
                <a:rect l="l" t="t" r="r" b="b"/>
                <a:pathLst>
                  <a:path w="281" h="918">
                    <a:moveTo>
                      <a:pt x="232" y="13"/>
                    </a:moveTo>
                    <a:lnTo>
                      <a:pt x="227" y="14"/>
                    </a:lnTo>
                    <a:lnTo>
                      <a:pt x="215" y="21"/>
                    </a:lnTo>
                    <a:lnTo>
                      <a:pt x="196" y="31"/>
                    </a:lnTo>
                    <a:lnTo>
                      <a:pt x="173" y="47"/>
                    </a:lnTo>
                    <a:lnTo>
                      <a:pt x="145" y="71"/>
                    </a:lnTo>
                    <a:lnTo>
                      <a:pt x="116" y="101"/>
                    </a:lnTo>
                    <a:lnTo>
                      <a:pt x="87" y="141"/>
                    </a:lnTo>
                    <a:lnTo>
                      <a:pt x="60" y="189"/>
                    </a:lnTo>
                    <a:lnTo>
                      <a:pt x="39" y="236"/>
                    </a:lnTo>
                    <a:lnTo>
                      <a:pt x="22" y="290"/>
                    </a:lnTo>
                    <a:lnTo>
                      <a:pt x="8" y="355"/>
                    </a:lnTo>
                    <a:lnTo>
                      <a:pt x="0" y="431"/>
                    </a:lnTo>
                    <a:lnTo>
                      <a:pt x="0" y="520"/>
                    </a:lnTo>
                    <a:lnTo>
                      <a:pt x="12" y="621"/>
                    </a:lnTo>
                    <a:lnTo>
                      <a:pt x="33" y="737"/>
                    </a:lnTo>
                    <a:lnTo>
                      <a:pt x="70" y="869"/>
                    </a:lnTo>
                    <a:lnTo>
                      <a:pt x="73" y="874"/>
                    </a:lnTo>
                    <a:lnTo>
                      <a:pt x="82" y="885"/>
                    </a:lnTo>
                    <a:lnTo>
                      <a:pt x="95" y="899"/>
                    </a:lnTo>
                    <a:lnTo>
                      <a:pt x="109" y="911"/>
                    </a:lnTo>
                    <a:lnTo>
                      <a:pt x="121" y="918"/>
                    </a:lnTo>
                    <a:lnTo>
                      <a:pt x="131" y="915"/>
                    </a:lnTo>
                    <a:lnTo>
                      <a:pt x="135" y="898"/>
                    </a:lnTo>
                    <a:lnTo>
                      <a:pt x="131" y="862"/>
                    </a:lnTo>
                    <a:lnTo>
                      <a:pt x="126" y="848"/>
                    </a:lnTo>
                    <a:lnTo>
                      <a:pt x="114" y="808"/>
                    </a:lnTo>
                    <a:lnTo>
                      <a:pt x="97" y="748"/>
                    </a:lnTo>
                    <a:lnTo>
                      <a:pt x="84" y="666"/>
                    </a:lnTo>
                    <a:lnTo>
                      <a:pt x="75" y="571"/>
                    </a:lnTo>
                    <a:lnTo>
                      <a:pt x="78" y="462"/>
                    </a:lnTo>
                    <a:lnTo>
                      <a:pt x="96" y="345"/>
                    </a:lnTo>
                    <a:lnTo>
                      <a:pt x="135" y="222"/>
                    </a:lnTo>
                    <a:lnTo>
                      <a:pt x="136" y="218"/>
                    </a:lnTo>
                    <a:lnTo>
                      <a:pt x="143" y="207"/>
                    </a:lnTo>
                    <a:lnTo>
                      <a:pt x="152" y="188"/>
                    </a:lnTo>
                    <a:lnTo>
                      <a:pt x="167" y="166"/>
                    </a:lnTo>
                    <a:lnTo>
                      <a:pt x="186" y="139"/>
                    </a:lnTo>
                    <a:lnTo>
                      <a:pt x="211" y="112"/>
                    </a:lnTo>
                    <a:lnTo>
                      <a:pt x="242" y="83"/>
                    </a:lnTo>
                    <a:lnTo>
                      <a:pt x="280" y="54"/>
                    </a:lnTo>
                    <a:lnTo>
                      <a:pt x="280" y="50"/>
                    </a:lnTo>
                    <a:lnTo>
                      <a:pt x="281" y="41"/>
                    </a:lnTo>
                    <a:lnTo>
                      <a:pt x="281" y="29"/>
                    </a:lnTo>
                    <a:lnTo>
                      <a:pt x="280" y="16"/>
                    </a:lnTo>
                    <a:lnTo>
                      <a:pt x="275" y="5"/>
                    </a:lnTo>
                    <a:lnTo>
                      <a:pt x="266" y="0"/>
                    </a:lnTo>
                    <a:lnTo>
                      <a:pt x="252" y="1"/>
                    </a:lnTo>
                    <a:lnTo>
                      <a:pt x="232" y="13"/>
                    </a:lnTo>
                    <a:close/>
                  </a:path>
                </a:pathLst>
              </a:custGeom>
              <a:solidFill>
                <a:srgbClr val="91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Freeform 169"/>
              <p:cNvSpPr/>
              <p:nvPr/>
            </p:nvSpPr>
            <p:spPr>
              <a:xfrm>
                <a:off x="7035120" y="2429280"/>
                <a:ext cx="261000" cy="33120"/>
              </a:xfrm>
              <a:custGeom>
                <a:avLst/>
                <a:gdLst/>
                <a:ahLst/>
                <a:rect l="l" t="t" r="r" b="b"/>
                <a:pathLst>
                  <a:path w="379" h="95">
                    <a:moveTo>
                      <a:pt x="0" y="71"/>
                    </a:moveTo>
                    <a:lnTo>
                      <a:pt x="4" y="70"/>
                    </a:lnTo>
                    <a:lnTo>
                      <a:pt x="15" y="66"/>
                    </a:lnTo>
                    <a:lnTo>
                      <a:pt x="31" y="60"/>
                    </a:lnTo>
                    <a:lnTo>
                      <a:pt x="51" y="54"/>
                    </a:lnTo>
                    <a:lnTo>
                      <a:pt x="73" y="46"/>
                    </a:lnTo>
                    <a:lnTo>
                      <a:pt x="94" y="37"/>
                    </a:lnTo>
                    <a:lnTo>
                      <a:pt x="113" y="29"/>
                    </a:lnTo>
                    <a:lnTo>
                      <a:pt x="128" y="19"/>
                    </a:lnTo>
                    <a:lnTo>
                      <a:pt x="142" y="12"/>
                    </a:lnTo>
                    <a:lnTo>
                      <a:pt x="157" y="5"/>
                    </a:lnTo>
                    <a:lnTo>
                      <a:pt x="175" y="1"/>
                    </a:lnTo>
                    <a:lnTo>
                      <a:pt x="195" y="0"/>
                    </a:lnTo>
                    <a:lnTo>
                      <a:pt x="218" y="2"/>
                    </a:lnTo>
                    <a:lnTo>
                      <a:pt x="243" y="9"/>
                    </a:lnTo>
                    <a:lnTo>
                      <a:pt x="272" y="19"/>
                    </a:lnTo>
                    <a:lnTo>
                      <a:pt x="302" y="37"/>
                    </a:lnTo>
                    <a:lnTo>
                      <a:pt x="379" y="95"/>
                    </a:lnTo>
                    <a:lnTo>
                      <a:pt x="376" y="95"/>
                    </a:lnTo>
                    <a:lnTo>
                      <a:pt x="368" y="95"/>
                    </a:lnTo>
                    <a:lnTo>
                      <a:pt x="355" y="93"/>
                    </a:lnTo>
                    <a:lnTo>
                      <a:pt x="340" y="92"/>
                    </a:lnTo>
                    <a:lnTo>
                      <a:pt x="323" y="89"/>
                    </a:lnTo>
                    <a:lnTo>
                      <a:pt x="306" y="85"/>
                    </a:lnTo>
                    <a:lnTo>
                      <a:pt x="291" y="80"/>
                    </a:lnTo>
                    <a:lnTo>
                      <a:pt x="277" y="72"/>
                    </a:lnTo>
                    <a:lnTo>
                      <a:pt x="273" y="70"/>
                    </a:lnTo>
                    <a:lnTo>
                      <a:pt x="262" y="66"/>
                    </a:lnTo>
                    <a:lnTo>
                      <a:pt x="244" y="59"/>
                    </a:lnTo>
                    <a:lnTo>
                      <a:pt x="220" y="52"/>
                    </a:lnTo>
                    <a:lnTo>
                      <a:pt x="191" y="50"/>
                    </a:lnTo>
                    <a:lnTo>
                      <a:pt x="158" y="51"/>
                    </a:lnTo>
                    <a:lnTo>
                      <a:pt x="121" y="58"/>
                    </a:lnTo>
                    <a:lnTo>
                      <a:pt x="79" y="72"/>
                    </a:lnTo>
                    <a:lnTo>
                      <a:pt x="78" y="73"/>
                    </a:lnTo>
                    <a:lnTo>
                      <a:pt x="73" y="75"/>
                    </a:lnTo>
                    <a:lnTo>
                      <a:pt x="65" y="77"/>
                    </a:lnTo>
                    <a:lnTo>
                      <a:pt x="55" y="80"/>
                    </a:lnTo>
                    <a:lnTo>
                      <a:pt x="43" y="81"/>
                    </a:lnTo>
                    <a:lnTo>
                      <a:pt x="29" y="80"/>
                    </a:lnTo>
                    <a:lnTo>
                      <a:pt x="15" y="77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2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Freeform 170"/>
              <p:cNvSpPr/>
              <p:nvPr/>
            </p:nvSpPr>
            <p:spPr>
              <a:xfrm>
                <a:off x="7472520" y="1663920"/>
                <a:ext cx="262800" cy="86040"/>
              </a:xfrm>
              <a:custGeom>
                <a:avLst/>
                <a:gdLst/>
                <a:ahLst/>
                <a:rect l="l" t="t" r="r" b="b"/>
                <a:pathLst>
                  <a:path w="382" h="221">
                    <a:moveTo>
                      <a:pt x="0" y="0"/>
                    </a:moveTo>
                    <a:lnTo>
                      <a:pt x="4" y="0"/>
                    </a:lnTo>
                    <a:lnTo>
                      <a:pt x="13" y="0"/>
                    </a:lnTo>
                    <a:lnTo>
                      <a:pt x="27" y="1"/>
                    </a:lnTo>
                    <a:lnTo>
                      <a:pt x="46" y="2"/>
                    </a:lnTo>
                    <a:lnTo>
                      <a:pt x="68" y="6"/>
                    </a:lnTo>
                    <a:lnTo>
                      <a:pt x="95" y="10"/>
                    </a:lnTo>
                    <a:lnTo>
                      <a:pt x="124" y="17"/>
                    </a:lnTo>
                    <a:lnTo>
                      <a:pt x="154" y="26"/>
                    </a:lnTo>
                    <a:lnTo>
                      <a:pt x="185" y="38"/>
                    </a:lnTo>
                    <a:lnTo>
                      <a:pt x="217" y="52"/>
                    </a:lnTo>
                    <a:lnTo>
                      <a:pt x="250" y="71"/>
                    </a:lnTo>
                    <a:lnTo>
                      <a:pt x="280" y="92"/>
                    </a:lnTo>
                    <a:lnTo>
                      <a:pt x="310" y="117"/>
                    </a:lnTo>
                    <a:lnTo>
                      <a:pt x="337" y="147"/>
                    </a:lnTo>
                    <a:lnTo>
                      <a:pt x="362" y="182"/>
                    </a:lnTo>
                    <a:lnTo>
                      <a:pt x="382" y="221"/>
                    </a:lnTo>
                    <a:lnTo>
                      <a:pt x="381" y="220"/>
                    </a:lnTo>
                    <a:lnTo>
                      <a:pt x="376" y="216"/>
                    </a:lnTo>
                    <a:lnTo>
                      <a:pt x="368" y="208"/>
                    </a:lnTo>
                    <a:lnTo>
                      <a:pt x="358" y="200"/>
                    </a:lnTo>
                    <a:lnTo>
                      <a:pt x="344" y="188"/>
                    </a:lnTo>
                    <a:lnTo>
                      <a:pt x="328" y="175"/>
                    </a:lnTo>
                    <a:lnTo>
                      <a:pt x="308" y="160"/>
                    </a:lnTo>
                    <a:lnTo>
                      <a:pt x="286" y="145"/>
                    </a:lnTo>
                    <a:lnTo>
                      <a:pt x="260" y="128"/>
                    </a:lnTo>
                    <a:lnTo>
                      <a:pt x="232" y="110"/>
                    </a:lnTo>
                    <a:lnTo>
                      <a:pt x="200" y="92"/>
                    </a:lnTo>
                    <a:lnTo>
                      <a:pt x="166" y="74"/>
                    </a:lnTo>
                    <a:lnTo>
                      <a:pt x="129" y="54"/>
                    </a:lnTo>
                    <a:lnTo>
                      <a:pt x="88" y="35"/>
                    </a:lnTo>
                    <a:lnTo>
                      <a:pt x="46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Freeform 171"/>
              <p:cNvSpPr/>
              <p:nvPr/>
            </p:nvSpPr>
            <p:spPr>
              <a:xfrm>
                <a:off x="7122600" y="1528200"/>
                <a:ext cx="117720" cy="198000"/>
              </a:xfrm>
              <a:custGeom>
                <a:avLst/>
                <a:gdLst/>
                <a:ahLst/>
                <a:rect l="l" t="t" r="r" b="b"/>
                <a:pathLst>
                  <a:path w="174" h="503">
                    <a:moveTo>
                      <a:pt x="115" y="481"/>
                    </a:moveTo>
                    <a:lnTo>
                      <a:pt x="113" y="468"/>
                    </a:lnTo>
                    <a:lnTo>
                      <a:pt x="108" y="432"/>
                    </a:lnTo>
                    <a:lnTo>
                      <a:pt x="101" y="381"/>
                    </a:lnTo>
                    <a:lnTo>
                      <a:pt x="89" y="318"/>
                    </a:lnTo>
                    <a:lnTo>
                      <a:pt x="73" y="249"/>
                    </a:lnTo>
                    <a:lnTo>
                      <a:pt x="53" y="182"/>
                    </a:lnTo>
                    <a:lnTo>
                      <a:pt x="29" y="120"/>
                    </a:lnTo>
                    <a:lnTo>
                      <a:pt x="0" y="72"/>
                    </a:lnTo>
                    <a:lnTo>
                      <a:pt x="1" y="68"/>
                    </a:lnTo>
                    <a:lnTo>
                      <a:pt x="4" y="58"/>
                    </a:lnTo>
                    <a:lnTo>
                      <a:pt x="9" y="46"/>
                    </a:lnTo>
                    <a:lnTo>
                      <a:pt x="16" y="32"/>
                    </a:lnTo>
                    <a:lnTo>
                      <a:pt x="25" y="18"/>
                    </a:lnTo>
                    <a:lnTo>
                      <a:pt x="38" y="7"/>
                    </a:lnTo>
                    <a:lnTo>
                      <a:pt x="52" y="0"/>
                    </a:lnTo>
                    <a:lnTo>
                      <a:pt x="68" y="2"/>
                    </a:lnTo>
                    <a:lnTo>
                      <a:pt x="113" y="27"/>
                    </a:lnTo>
                    <a:lnTo>
                      <a:pt x="117" y="40"/>
                    </a:lnTo>
                    <a:lnTo>
                      <a:pt x="126" y="75"/>
                    </a:lnTo>
                    <a:lnTo>
                      <a:pt x="137" y="128"/>
                    </a:lnTo>
                    <a:lnTo>
                      <a:pt x="150" y="194"/>
                    </a:lnTo>
                    <a:lnTo>
                      <a:pt x="162" y="266"/>
                    </a:lnTo>
                    <a:lnTo>
                      <a:pt x="171" y="340"/>
                    </a:lnTo>
                    <a:lnTo>
                      <a:pt x="174" y="411"/>
                    </a:lnTo>
                    <a:lnTo>
                      <a:pt x="170" y="473"/>
                    </a:lnTo>
                    <a:lnTo>
                      <a:pt x="169" y="476"/>
                    </a:lnTo>
                    <a:lnTo>
                      <a:pt x="166" y="482"/>
                    </a:lnTo>
                    <a:lnTo>
                      <a:pt x="161" y="490"/>
                    </a:lnTo>
                    <a:lnTo>
                      <a:pt x="156" y="498"/>
                    </a:lnTo>
                    <a:lnTo>
                      <a:pt x="147" y="503"/>
                    </a:lnTo>
                    <a:lnTo>
                      <a:pt x="139" y="503"/>
                    </a:lnTo>
                    <a:lnTo>
                      <a:pt x="127" y="497"/>
                    </a:lnTo>
                    <a:lnTo>
                      <a:pt x="115" y="481"/>
                    </a:lnTo>
                    <a:close/>
                  </a:path>
                </a:pathLst>
              </a:custGeom>
              <a:solidFill>
                <a:srgbClr val="5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Freeform 172"/>
              <p:cNvSpPr/>
              <p:nvPr/>
            </p:nvSpPr>
            <p:spPr>
              <a:xfrm>
                <a:off x="7171920" y="1536480"/>
                <a:ext cx="57960" cy="133200"/>
              </a:xfrm>
              <a:custGeom>
                <a:avLst/>
                <a:gdLst/>
                <a:ahLst/>
                <a:rect l="l" t="t" r="r" b="b"/>
                <a:pathLst>
                  <a:path w="84" h="339">
                    <a:moveTo>
                      <a:pt x="0" y="0"/>
                    </a:moveTo>
                    <a:lnTo>
                      <a:pt x="5" y="1"/>
                    </a:lnTo>
                    <a:lnTo>
                      <a:pt x="16" y="4"/>
                    </a:lnTo>
                    <a:lnTo>
                      <a:pt x="29" y="11"/>
                    </a:lnTo>
                    <a:lnTo>
                      <a:pt x="36" y="21"/>
                    </a:lnTo>
                    <a:lnTo>
                      <a:pt x="39" y="30"/>
                    </a:lnTo>
                    <a:lnTo>
                      <a:pt x="44" y="54"/>
                    </a:lnTo>
                    <a:lnTo>
                      <a:pt x="51" y="90"/>
                    </a:lnTo>
                    <a:lnTo>
                      <a:pt x="60" y="133"/>
                    </a:lnTo>
                    <a:lnTo>
                      <a:pt x="69" y="183"/>
                    </a:lnTo>
                    <a:lnTo>
                      <a:pt x="77" y="236"/>
                    </a:lnTo>
                    <a:lnTo>
                      <a:pt x="83" y="289"/>
                    </a:lnTo>
                    <a:lnTo>
                      <a:pt x="84" y="336"/>
                    </a:lnTo>
                    <a:lnTo>
                      <a:pt x="83" y="337"/>
                    </a:lnTo>
                    <a:lnTo>
                      <a:pt x="79" y="339"/>
                    </a:lnTo>
                    <a:lnTo>
                      <a:pt x="74" y="336"/>
                    </a:lnTo>
                    <a:lnTo>
                      <a:pt x="69" y="328"/>
                    </a:lnTo>
                    <a:lnTo>
                      <a:pt x="68" y="316"/>
                    </a:lnTo>
                    <a:lnTo>
                      <a:pt x="63" y="285"/>
                    </a:lnTo>
                    <a:lnTo>
                      <a:pt x="56" y="240"/>
                    </a:lnTo>
                    <a:lnTo>
                      <a:pt x="48" y="186"/>
                    </a:lnTo>
                    <a:lnTo>
                      <a:pt x="38" y="129"/>
                    </a:lnTo>
                    <a:lnTo>
                      <a:pt x="26" y="75"/>
                    </a:ln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28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Freeform 173"/>
              <p:cNvSpPr/>
              <p:nvPr/>
            </p:nvSpPr>
            <p:spPr>
              <a:xfrm>
                <a:off x="7132680" y="1551600"/>
                <a:ext cx="88560" cy="176760"/>
              </a:xfrm>
              <a:custGeom>
                <a:avLst/>
                <a:gdLst/>
                <a:ahLst/>
                <a:rect l="l" t="t" r="r" b="b"/>
                <a:pathLst>
                  <a:path w="127" h="450">
                    <a:moveTo>
                      <a:pt x="22" y="0"/>
                    </a:moveTo>
                    <a:lnTo>
                      <a:pt x="25" y="6"/>
                    </a:lnTo>
                    <a:lnTo>
                      <a:pt x="34" y="26"/>
                    </a:lnTo>
                    <a:lnTo>
                      <a:pt x="48" y="59"/>
                    </a:lnTo>
                    <a:lnTo>
                      <a:pt x="66" y="106"/>
                    </a:lnTo>
                    <a:lnTo>
                      <a:pt x="83" y="170"/>
                    </a:lnTo>
                    <a:lnTo>
                      <a:pt x="100" y="247"/>
                    </a:lnTo>
                    <a:lnTo>
                      <a:pt x="116" y="341"/>
                    </a:lnTo>
                    <a:lnTo>
                      <a:pt x="127" y="450"/>
                    </a:lnTo>
                    <a:lnTo>
                      <a:pt x="124" y="449"/>
                    </a:lnTo>
                    <a:lnTo>
                      <a:pt x="116" y="446"/>
                    </a:lnTo>
                    <a:lnTo>
                      <a:pt x="107" y="440"/>
                    </a:lnTo>
                    <a:lnTo>
                      <a:pt x="101" y="429"/>
                    </a:lnTo>
                    <a:lnTo>
                      <a:pt x="100" y="417"/>
                    </a:lnTo>
                    <a:lnTo>
                      <a:pt x="97" y="384"/>
                    </a:lnTo>
                    <a:lnTo>
                      <a:pt x="92" y="335"/>
                    </a:lnTo>
                    <a:lnTo>
                      <a:pt x="84" y="275"/>
                    </a:lnTo>
                    <a:lnTo>
                      <a:pt x="72" y="208"/>
                    </a:lnTo>
                    <a:lnTo>
                      <a:pt x="53" y="139"/>
                    </a:lnTo>
                    <a:lnTo>
                      <a:pt x="30" y="72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5" y="5"/>
                    </a:lnTo>
                    <a:lnTo>
                      <a:pt x="13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Freeform 174"/>
              <p:cNvSpPr/>
              <p:nvPr/>
            </p:nvSpPr>
            <p:spPr>
              <a:xfrm>
                <a:off x="6778800" y="1627560"/>
                <a:ext cx="245880" cy="42120"/>
              </a:xfrm>
              <a:custGeom>
                <a:avLst/>
                <a:gdLst/>
                <a:ahLst/>
                <a:rect l="l" t="t" r="r" b="b"/>
                <a:pathLst>
                  <a:path w="356" h="110">
                    <a:moveTo>
                      <a:pt x="4" y="73"/>
                    </a:moveTo>
                    <a:lnTo>
                      <a:pt x="5" y="72"/>
                    </a:lnTo>
                    <a:lnTo>
                      <a:pt x="8" y="68"/>
                    </a:lnTo>
                    <a:lnTo>
                      <a:pt x="14" y="62"/>
                    </a:lnTo>
                    <a:lnTo>
                      <a:pt x="22" y="54"/>
                    </a:lnTo>
                    <a:lnTo>
                      <a:pt x="32" y="46"/>
                    </a:lnTo>
                    <a:lnTo>
                      <a:pt x="44" y="35"/>
                    </a:lnTo>
                    <a:lnTo>
                      <a:pt x="61" y="26"/>
                    </a:lnTo>
                    <a:lnTo>
                      <a:pt x="80" y="18"/>
                    </a:lnTo>
                    <a:lnTo>
                      <a:pt x="101" y="10"/>
                    </a:lnTo>
                    <a:lnTo>
                      <a:pt x="126" y="5"/>
                    </a:lnTo>
                    <a:lnTo>
                      <a:pt x="155" y="1"/>
                    </a:lnTo>
                    <a:lnTo>
                      <a:pt x="188" y="0"/>
                    </a:lnTo>
                    <a:lnTo>
                      <a:pt x="223" y="1"/>
                    </a:lnTo>
                    <a:lnTo>
                      <a:pt x="262" y="8"/>
                    </a:lnTo>
                    <a:lnTo>
                      <a:pt x="306" y="18"/>
                    </a:lnTo>
                    <a:lnTo>
                      <a:pt x="354" y="33"/>
                    </a:lnTo>
                    <a:lnTo>
                      <a:pt x="354" y="34"/>
                    </a:lnTo>
                    <a:lnTo>
                      <a:pt x="356" y="37"/>
                    </a:lnTo>
                    <a:lnTo>
                      <a:pt x="356" y="39"/>
                    </a:lnTo>
                    <a:lnTo>
                      <a:pt x="356" y="43"/>
                    </a:lnTo>
                    <a:lnTo>
                      <a:pt x="352" y="47"/>
                    </a:lnTo>
                    <a:lnTo>
                      <a:pt x="346" y="50"/>
                    </a:lnTo>
                    <a:lnTo>
                      <a:pt x="335" y="52"/>
                    </a:lnTo>
                    <a:lnTo>
                      <a:pt x="322" y="52"/>
                    </a:lnTo>
                    <a:lnTo>
                      <a:pt x="312" y="52"/>
                    </a:lnTo>
                    <a:lnTo>
                      <a:pt x="300" y="51"/>
                    </a:lnTo>
                    <a:lnTo>
                      <a:pt x="286" y="51"/>
                    </a:lnTo>
                    <a:lnTo>
                      <a:pt x="270" y="52"/>
                    </a:lnTo>
                    <a:lnTo>
                      <a:pt x="252" y="52"/>
                    </a:lnTo>
                    <a:lnTo>
                      <a:pt x="235" y="54"/>
                    </a:lnTo>
                    <a:lnTo>
                      <a:pt x="216" y="55"/>
                    </a:lnTo>
                    <a:lnTo>
                      <a:pt x="196" y="58"/>
                    </a:lnTo>
                    <a:lnTo>
                      <a:pt x="175" y="60"/>
                    </a:lnTo>
                    <a:lnTo>
                      <a:pt x="155" y="64"/>
                    </a:lnTo>
                    <a:lnTo>
                      <a:pt x="136" y="68"/>
                    </a:lnTo>
                    <a:lnTo>
                      <a:pt x="118" y="75"/>
                    </a:lnTo>
                    <a:lnTo>
                      <a:pt x="100" y="81"/>
                    </a:lnTo>
                    <a:lnTo>
                      <a:pt x="83" y="88"/>
                    </a:lnTo>
                    <a:lnTo>
                      <a:pt x="68" y="97"/>
                    </a:lnTo>
                    <a:lnTo>
                      <a:pt x="55" y="108"/>
                    </a:lnTo>
                    <a:lnTo>
                      <a:pt x="52" y="109"/>
                    </a:lnTo>
                    <a:lnTo>
                      <a:pt x="43" y="110"/>
                    </a:lnTo>
                    <a:lnTo>
                      <a:pt x="33" y="110"/>
                    </a:lnTo>
                    <a:lnTo>
                      <a:pt x="21" y="110"/>
                    </a:lnTo>
                    <a:lnTo>
                      <a:pt x="10" y="108"/>
                    </a:lnTo>
                    <a:lnTo>
                      <a:pt x="3" y="101"/>
                    </a:lnTo>
                    <a:lnTo>
                      <a:pt x="0" y="90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175"/>
              <p:cNvSpPr/>
              <p:nvPr/>
            </p:nvSpPr>
            <p:spPr>
              <a:xfrm>
                <a:off x="6813720" y="1628640"/>
                <a:ext cx="161280" cy="33120"/>
              </a:xfrm>
              <a:custGeom>
                <a:avLst/>
                <a:gdLst/>
                <a:ahLst/>
                <a:rect l="l" t="t" r="r" b="b"/>
                <a:pathLst>
                  <a:path w="234" h="86">
                    <a:moveTo>
                      <a:pt x="4" y="57"/>
                    </a:moveTo>
                    <a:lnTo>
                      <a:pt x="6" y="56"/>
                    </a:lnTo>
                    <a:lnTo>
                      <a:pt x="7" y="53"/>
                    </a:lnTo>
                    <a:lnTo>
                      <a:pt x="11" y="48"/>
                    </a:lnTo>
                    <a:lnTo>
                      <a:pt x="16" y="42"/>
                    </a:lnTo>
                    <a:lnTo>
                      <a:pt x="22" y="36"/>
                    </a:lnTo>
                    <a:lnTo>
                      <a:pt x="31" y="28"/>
                    </a:lnTo>
                    <a:lnTo>
                      <a:pt x="41" y="21"/>
                    </a:lnTo>
                    <a:lnTo>
                      <a:pt x="53" y="15"/>
                    </a:lnTo>
                    <a:lnTo>
                      <a:pt x="67" y="9"/>
                    </a:lnTo>
                    <a:lnTo>
                      <a:pt x="84" y="4"/>
                    </a:lnTo>
                    <a:lnTo>
                      <a:pt x="103" y="2"/>
                    </a:lnTo>
                    <a:lnTo>
                      <a:pt x="124" y="0"/>
                    </a:lnTo>
                    <a:lnTo>
                      <a:pt x="147" y="2"/>
                    </a:lnTo>
                    <a:lnTo>
                      <a:pt x="173" y="6"/>
                    </a:lnTo>
                    <a:lnTo>
                      <a:pt x="201" y="13"/>
                    </a:lnTo>
                    <a:lnTo>
                      <a:pt x="232" y="24"/>
                    </a:lnTo>
                    <a:lnTo>
                      <a:pt x="234" y="27"/>
                    </a:lnTo>
                    <a:lnTo>
                      <a:pt x="234" y="32"/>
                    </a:lnTo>
                    <a:lnTo>
                      <a:pt x="227" y="38"/>
                    </a:lnTo>
                    <a:lnTo>
                      <a:pt x="211" y="40"/>
                    </a:lnTo>
                    <a:lnTo>
                      <a:pt x="197" y="38"/>
                    </a:lnTo>
                    <a:lnTo>
                      <a:pt x="177" y="40"/>
                    </a:lnTo>
                    <a:lnTo>
                      <a:pt x="154" y="41"/>
                    </a:lnTo>
                    <a:lnTo>
                      <a:pt x="129" y="44"/>
                    </a:lnTo>
                    <a:lnTo>
                      <a:pt x="103" y="49"/>
                    </a:lnTo>
                    <a:lnTo>
                      <a:pt x="77" y="57"/>
                    </a:lnTo>
                    <a:lnTo>
                      <a:pt x="55" y="69"/>
                    </a:lnTo>
                    <a:lnTo>
                      <a:pt x="37" y="83"/>
                    </a:lnTo>
                    <a:lnTo>
                      <a:pt x="34" y="83"/>
                    </a:lnTo>
                    <a:lnTo>
                      <a:pt x="29" y="85"/>
                    </a:lnTo>
                    <a:lnTo>
                      <a:pt x="22" y="86"/>
                    </a:lnTo>
                    <a:lnTo>
                      <a:pt x="14" y="85"/>
                    </a:lnTo>
                    <a:lnTo>
                      <a:pt x="8" y="83"/>
                    </a:lnTo>
                    <a:lnTo>
                      <a:pt x="3" y="78"/>
                    </a:lnTo>
                    <a:lnTo>
                      <a:pt x="0" y="69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176"/>
              <p:cNvSpPr/>
              <p:nvPr/>
            </p:nvSpPr>
            <p:spPr>
              <a:xfrm>
                <a:off x="6859440" y="1636920"/>
                <a:ext cx="74160" cy="1404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2" y="24"/>
                    </a:moveTo>
                    <a:lnTo>
                      <a:pt x="3" y="23"/>
                    </a:lnTo>
                    <a:lnTo>
                      <a:pt x="7" y="17"/>
                    </a:lnTo>
                    <a:lnTo>
                      <a:pt x="14" y="12"/>
                    </a:lnTo>
                    <a:lnTo>
                      <a:pt x="25" y="6"/>
                    </a:lnTo>
                    <a:lnTo>
                      <a:pt x="39" y="2"/>
                    </a:lnTo>
                    <a:lnTo>
                      <a:pt x="58" y="0"/>
                    </a:lnTo>
                    <a:lnTo>
                      <a:pt x="81" y="3"/>
                    </a:lnTo>
                    <a:lnTo>
                      <a:pt x="109" y="11"/>
                    </a:lnTo>
                    <a:lnTo>
                      <a:pt x="109" y="12"/>
                    </a:lnTo>
                    <a:lnTo>
                      <a:pt x="109" y="14"/>
                    </a:lnTo>
                    <a:lnTo>
                      <a:pt x="106" y="16"/>
                    </a:lnTo>
                    <a:lnTo>
                      <a:pt x="99" y="17"/>
                    </a:lnTo>
                    <a:lnTo>
                      <a:pt x="92" y="17"/>
                    </a:lnTo>
                    <a:lnTo>
                      <a:pt x="82" y="17"/>
                    </a:lnTo>
                    <a:lnTo>
                      <a:pt x="72" y="17"/>
                    </a:lnTo>
                    <a:lnTo>
                      <a:pt x="59" y="19"/>
                    </a:lnTo>
                    <a:lnTo>
                      <a:pt x="48" y="21"/>
                    </a:lnTo>
                    <a:lnTo>
                      <a:pt x="36" y="24"/>
                    </a:lnTo>
                    <a:lnTo>
                      <a:pt x="25" y="29"/>
                    </a:lnTo>
                    <a:lnTo>
                      <a:pt x="17" y="36"/>
                    </a:lnTo>
                    <a:lnTo>
                      <a:pt x="13" y="36"/>
                    </a:lnTo>
                    <a:lnTo>
                      <a:pt x="7" y="36"/>
                    </a:lnTo>
                    <a:lnTo>
                      <a:pt x="0" y="33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ffc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177"/>
              <p:cNvSpPr/>
              <p:nvPr/>
            </p:nvSpPr>
            <p:spPr>
              <a:xfrm>
                <a:off x="7027200" y="2302200"/>
                <a:ext cx="76320" cy="86040"/>
              </a:xfrm>
              <a:custGeom>
                <a:avLst/>
                <a:gdLst/>
                <a:ahLst/>
                <a:rect l="l" t="t" r="r" b="b"/>
                <a:pathLst>
                  <a:path w="111" h="217">
                    <a:moveTo>
                      <a:pt x="25" y="22"/>
                    </a:moveTo>
                    <a:lnTo>
                      <a:pt x="20" y="46"/>
                    </a:lnTo>
                    <a:lnTo>
                      <a:pt x="9" y="99"/>
                    </a:lnTo>
                    <a:lnTo>
                      <a:pt x="0" y="157"/>
                    </a:lnTo>
                    <a:lnTo>
                      <a:pt x="0" y="195"/>
                    </a:lnTo>
                    <a:lnTo>
                      <a:pt x="5" y="203"/>
                    </a:lnTo>
                    <a:lnTo>
                      <a:pt x="13" y="209"/>
                    </a:lnTo>
                    <a:lnTo>
                      <a:pt x="22" y="213"/>
                    </a:lnTo>
                    <a:lnTo>
                      <a:pt x="32" y="216"/>
                    </a:lnTo>
                    <a:lnTo>
                      <a:pt x="43" y="217"/>
                    </a:lnTo>
                    <a:lnTo>
                      <a:pt x="53" y="217"/>
                    </a:lnTo>
                    <a:lnTo>
                      <a:pt x="62" y="217"/>
                    </a:lnTo>
                    <a:lnTo>
                      <a:pt x="71" y="217"/>
                    </a:lnTo>
                    <a:lnTo>
                      <a:pt x="86" y="211"/>
                    </a:lnTo>
                    <a:lnTo>
                      <a:pt x="97" y="194"/>
                    </a:lnTo>
                    <a:lnTo>
                      <a:pt x="103" y="174"/>
                    </a:lnTo>
                    <a:lnTo>
                      <a:pt x="107" y="155"/>
                    </a:lnTo>
                    <a:lnTo>
                      <a:pt x="107" y="132"/>
                    </a:lnTo>
                    <a:lnTo>
                      <a:pt x="110" y="99"/>
                    </a:lnTo>
                    <a:lnTo>
                      <a:pt x="111" y="70"/>
                    </a:lnTo>
                    <a:lnTo>
                      <a:pt x="111" y="58"/>
                    </a:lnTo>
                    <a:lnTo>
                      <a:pt x="110" y="54"/>
                    </a:lnTo>
                    <a:lnTo>
                      <a:pt x="106" y="44"/>
                    </a:lnTo>
                    <a:lnTo>
                      <a:pt x="100" y="29"/>
                    </a:lnTo>
                    <a:lnTo>
                      <a:pt x="91" y="15"/>
                    </a:lnTo>
                    <a:lnTo>
                      <a:pt x="79" y="4"/>
                    </a:lnTo>
                    <a:lnTo>
                      <a:pt x="64" y="0"/>
                    </a:lnTo>
                    <a:lnTo>
                      <a:pt x="47" y="5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178"/>
              <p:cNvSpPr/>
              <p:nvPr/>
            </p:nvSpPr>
            <p:spPr>
              <a:xfrm>
                <a:off x="7310880" y="2329200"/>
                <a:ext cx="68040" cy="82440"/>
              </a:xfrm>
              <a:custGeom>
                <a:avLst/>
                <a:gdLst/>
                <a:ahLst/>
                <a:rect l="l" t="t" r="r" b="b"/>
                <a:pathLst>
                  <a:path w="99" h="198">
                    <a:moveTo>
                      <a:pt x="26" y="21"/>
                    </a:moveTo>
                    <a:lnTo>
                      <a:pt x="20" y="30"/>
                    </a:lnTo>
                    <a:lnTo>
                      <a:pt x="14" y="45"/>
                    </a:lnTo>
                    <a:lnTo>
                      <a:pt x="7" y="65"/>
                    </a:lnTo>
                    <a:lnTo>
                      <a:pt x="2" y="88"/>
                    </a:lnTo>
                    <a:lnTo>
                      <a:pt x="0" y="112"/>
                    </a:lnTo>
                    <a:lnTo>
                      <a:pt x="0" y="136"/>
                    </a:lnTo>
                    <a:lnTo>
                      <a:pt x="4" y="158"/>
                    </a:lnTo>
                    <a:lnTo>
                      <a:pt x="12" y="177"/>
                    </a:lnTo>
                    <a:lnTo>
                      <a:pt x="24" y="190"/>
                    </a:lnTo>
                    <a:lnTo>
                      <a:pt x="36" y="196"/>
                    </a:lnTo>
                    <a:lnTo>
                      <a:pt x="49" y="198"/>
                    </a:lnTo>
                    <a:lnTo>
                      <a:pt x="62" y="195"/>
                    </a:lnTo>
                    <a:lnTo>
                      <a:pt x="74" y="190"/>
                    </a:lnTo>
                    <a:lnTo>
                      <a:pt x="83" y="183"/>
                    </a:lnTo>
                    <a:lnTo>
                      <a:pt x="91" y="175"/>
                    </a:lnTo>
                    <a:lnTo>
                      <a:pt x="96" y="169"/>
                    </a:lnTo>
                    <a:lnTo>
                      <a:pt x="99" y="138"/>
                    </a:lnTo>
                    <a:lnTo>
                      <a:pt x="98" y="90"/>
                    </a:lnTo>
                    <a:lnTo>
                      <a:pt x="94" y="40"/>
                    </a:lnTo>
                    <a:lnTo>
                      <a:pt x="85" y="12"/>
                    </a:lnTo>
                    <a:lnTo>
                      <a:pt x="80" y="7"/>
                    </a:lnTo>
                    <a:lnTo>
                      <a:pt x="75" y="4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57" y="2"/>
                    </a:lnTo>
                    <a:lnTo>
                      <a:pt x="48" y="5"/>
                    </a:lnTo>
                    <a:lnTo>
                      <a:pt x="38" y="12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Freeform 179"/>
              <p:cNvSpPr/>
              <p:nvPr/>
            </p:nvSpPr>
            <p:spPr>
              <a:xfrm>
                <a:off x="7517880" y="1899720"/>
                <a:ext cx="68040" cy="47160"/>
              </a:xfrm>
              <a:custGeom>
                <a:avLst/>
                <a:gdLst/>
                <a:ahLst/>
                <a:rect l="l" t="t" r="r" b="b"/>
                <a:pathLst>
                  <a:path w="100" h="132">
                    <a:moveTo>
                      <a:pt x="71" y="6"/>
                    </a:moveTo>
                    <a:lnTo>
                      <a:pt x="69" y="4"/>
                    </a:lnTo>
                    <a:lnTo>
                      <a:pt x="63" y="3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4" y="2"/>
                    </a:lnTo>
                    <a:lnTo>
                      <a:pt x="24" y="4"/>
                    </a:lnTo>
                    <a:lnTo>
                      <a:pt x="15" y="11"/>
                    </a:lnTo>
                    <a:lnTo>
                      <a:pt x="10" y="23"/>
                    </a:lnTo>
                    <a:lnTo>
                      <a:pt x="3" y="48"/>
                    </a:lnTo>
                    <a:lnTo>
                      <a:pt x="0" y="69"/>
                    </a:lnTo>
                    <a:lnTo>
                      <a:pt x="0" y="87"/>
                    </a:lnTo>
                    <a:lnTo>
                      <a:pt x="1" y="100"/>
                    </a:lnTo>
                    <a:lnTo>
                      <a:pt x="3" y="107"/>
                    </a:lnTo>
                    <a:lnTo>
                      <a:pt x="8" y="112"/>
                    </a:lnTo>
                    <a:lnTo>
                      <a:pt x="15" y="119"/>
                    </a:lnTo>
                    <a:lnTo>
                      <a:pt x="22" y="124"/>
                    </a:lnTo>
                    <a:lnTo>
                      <a:pt x="31" y="129"/>
                    </a:lnTo>
                    <a:lnTo>
                      <a:pt x="39" y="132"/>
                    </a:lnTo>
                    <a:lnTo>
                      <a:pt x="48" y="132"/>
                    </a:lnTo>
                    <a:lnTo>
                      <a:pt x="54" y="131"/>
                    </a:lnTo>
                    <a:lnTo>
                      <a:pt x="60" y="127"/>
                    </a:lnTo>
                    <a:lnTo>
                      <a:pt x="68" y="122"/>
                    </a:lnTo>
                    <a:lnTo>
                      <a:pt x="75" y="114"/>
                    </a:lnTo>
                    <a:lnTo>
                      <a:pt x="82" y="106"/>
                    </a:lnTo>
                    <a:lnTo>
                      <a:pt x="88" y="98"/>
                    </a:lnTo>
                    <a:lnTo>
                      <a:pt x="93" y="89"/>
                    </a:lnTo>
                    <a:lnTo>
                      <a:pt x="97" y="79"/>
                    </a:lnTo>
                    <a:lnTo>
                      <a:pt x="98" y="72"/>
                    </a:lnTo>
                    <a:lnTo>
                      <a:pt x="100" y="53"/>
                    </a:lnTo>
                    <a:lnTo>
                      <a:pt x="99" y="32"/>
                    </a:lnTo>
                    <a:lnTo>
                      <a:pt x="90" y="15"/>
                    </a:lnTo>
                    <a:lnTo>
                      <a:pt x="71" y="6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Freeform 180"/>
              <p:cNvSpPr/>
              <p:nvPr/>
            </p:nvSpPr>
            <p:spPr>
              <a:xfrm>
                <a:off x="7571880" y="1680480"/>
                <a:ext cx="117720" cy="42480"/>
              </a:xfrm>
              <a:custGeom>
                <a:avLst/>
                <a:gdLst/>
                <a:ahLst/>
                <a:rect l="l" t="t" r="r" b="b"/>
                <a:pathLst>
                  <a:path w="172" h="107">
                    <a:moveTo>
                      <a:pt x="0" y="0"/>
                    </a:moveTo>
                    <a:lnTo>
                      <a:pt x="5" y="2"/>
                    </a:lnTo>
                    <a:lnTo>
                      <a:pt x="19" y="8"/>
                    </a:lnTo>
                    <a:lnTo>
                      <a:pt x="39" y="17"/>
                    </a:lnTo>
                    <a:lnTo>
                      <a:pt x="65" y="29"/>
                    </a:lnTo>
                    <a:lnTo>
                      <a:pt x="93" y="45"/>
                    </a:lnTo>
                    <a:lnTo>
                      <a:pt x="122" y="63"/>
                    </a:lnTo>
                    <a:lnTo>
                      <a:pt x="148" y="83"/>
                    </a:lnTo>
                    <a:lnTo>
                      <a:pt x="172" y="107"/>
                    </a:lnTo>
                    <a:lnTo>
                      <a:pt x="171" y="104"/>
                    </a:lnTo>
                    <a:lnTo>
                      <a:pt x="165" y="95"/>
                    </a:lnTo>
                    <a:lnTo>
                      <a:pt x="153" y="82"/>
                    </a:lnTo>
                    <a:lnTo>
                      <a:pt x="137" y="66"/>
                    </a:lnTo>
                    <a:lnTo>
                      <a:pt x="114" y="49"/>
                    </a:lnTo>
                    <a:lnTo>
                      <a:pt x="84" y="32"/>
                    </a:lnTo>
                    <a:lnTo>
                      <a:pt x="4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0" name="TextBox 323"/>
            <p:cNvSpPr/>
            <p:nvPr/>
          </p:nvSpPr>
          <p:spPr>
            <a:xfrm>
              <a:off x="6545160" y="168732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船舱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1" name="组合 321"/>
          <p:cNvGrpSpPr/>
          <p:nvPr/>
        </p:nvGrpSpPr>
        <p:grpSpPr>
          <a:xfrm>
            <a:off x="5292720" y="3543480"/>
            <a:ext cx="1596600" cy="1027080"/>
            <a:chOff x="5292720" y="3543480"/>
            <a:chExt cx="1596600" cy="1027080"/>
          </a:xfrm>
        </p:grpSpPr>
        <p:grpSp>
          <p:nvGrpSpPr>
            <p:cNvPr id="532" name="Group 152"/>
            <p:cNvGrpSpPr/>
            <p:nvPr/>
          </p:nvGrpSpPr>
          <p:grpSpPr>
            <a:xfrm>
              <a:off x="5292720" y="3543480"/>
              <a:ext cx="1596600" cy="1027080"/>
              <a:chOff x="5292720" y="3543480"/>
              <a:chExt cx="1596600" cy="1027080"/>
            </a:xfrm>
          </p:grpSpPr>
          <p:sp>
            <p:nvSpPr>
              <p:cNvPr id="533" name="AutoShape 151"/>
              <p:cNvSpPr/>
              <p:nvPr/>
            </p:nvSpPr>
            <p:spPr>
              <a:xfrm>
                <a:off x="5292720" y="3543480"/>
                <a:ext cx="1596600" cy="10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Freeform 153"/>
              <p:cNvSpPr/>
              <p:nvPr/>
            </p:nvSpPr>
            <p:spPr>
              <a:xfrm>
                <a:off x="6199560" y="4564440"/>
                <a:ext cx="10080" cy="10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4"/>
                    </a:moveTo>
                    <a:lnTo>
                      <a:pt x="18" y="4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Freeform 154"/>
              <p:cNvSpPr/>
              <p:nvPr/>
            </p:nvSpPr>
            <p:spPr>
              <a:xfrm>
                <a:off x="5373360" y="3543480"/>
                <a:ext cx="1495080" cy="1025640"/>
              </a:xfrm>
              <a:custGeom>
                <a:avLst/>
                <a:gdLst/>
                <a:ahLst/>
                <a:rect l="l" t="t" r="r" b="b"/>
                <a:pathLst>
                  <a:path w="2166" h="2610">
                    <a:moveTo>
                      <a:pt x="1719" y="348"/>
                    </a:moveTo>
                    <a:lnTo>
                      <a:pt x="1679" y="335"/>
                    </a:lnTo>
                    <a:lnTo>
                      <a:pt x="1643" y="323"/>
                    </a:lnTo>
                    <a:lnTo>
                      <a:pt x="1609" y="313"/>
                    </a:lnTo>
                    <a:lnTo>
                      <a:pt x="1576" y="306"/>
                    </a:lnTo>
                    <a:lnTo>
                      <a:pt x="1545" y="300"/>
                    </a:lnTo>
                    <a:lnTo>
                      <a:pt x="1514" y="296"/>
                    </a:lnTo>
                    <a:lnTo>
                      <a:pt x="1487" y="294"/>
                    </a:lnTo>
                    <a:lnTo>
                      <a:pt x="1460" y="292"/>
                    </a:lnTo>
                    <a:lnTo>
                      <a:pt x="1434" y="292"/>
                    </a:lnTo>
                    <a:lnTo>
                      <a:pt x="1409" y="292"/>
                    </a:lnTo>
                    <a:lnTo>
                      <a:pt x="1385" y="295"/>
                    </a:lnTo>
                    <a:lnTo>
                      <a:pt x="1362" y="298"/>
                    </a:lnTo>
                    <a:lnTo>
                      <a:pt x="1338" y="300"/>
                    </a:lnTo>
                    <a:lnTo>
                      <a:pt x="1317" y="304"/>
                    </a:lnTo>
                    <a:lnTo>
                      <a:pt x="1294" y="308"/>
                    </a:lnTo>
                    <a:lnTo>
                      <a:pt x="1273" y="312"/>
                    </a:lnTo>
                    <a:lnTo>
                      <a:pt x="1271" y="312"/>
                    </a:lnTo>
                    <a:lnTo>
                      <a:pt x="1269" y="312"/>
                    </a:lnTo>
                    <a:lnTo>
                      <a:pt x="1265" y="313"/>
                    </a:lnTo>
                    <a:lnTo>
                      <a:pt x="1260" y="313"/>
                    </a:lnTo>
                    <a:lnTo>
                      <a:pt x="1254" y="277"/>
                    </a:lnTo>
                    <a:lnTo>
                      <a:pt x="1246" y="237"/>
                    </a:lnTo>
                    <a:lnTo>
                      <a:pt x="1239" y="194"/>
                    </a:lnTo>
                    <a:lnTo>
                      <a:pt x="1232" y="153"/>
                    </a:lnTo>
                    <a:lnTo>
                      <a:pt x="1225" y="116"/>
                    </a:lnTo>
                    <a:lnTo>
                      <a:pt x="1220" y="87"/>
                    </a:lnTo>
                    <a:lnTo>
                      <a:pt x="1216" y="67"/>
                    </a:lnTo>
                    <a:lnTo>
                      <a:pt x="1215" y="59"/>
                    </a:lnTo>
                    <a:lnTo>
                      <a:pt x="1162" y="40"/>
                    </a:lnTo>
                    <a:lnTo>
                      <a:pt x="1106" y="9"/>
                    </a:lnTo>
                    <a:lnTo>
                      <a:pt x="1095" y="7"/>
                    </a:lnTo>
                    <a:lnTo>
                      <a:pt x="1090" y="5"/>
                    </a:lnTo>
                    <a:lnTo>
                      <a:pt x="1085" y="4"/>
                    </a:lnTo>
                    <a:lnTo>
                      <a:pt x="1080" y="3"/>
                    </a:lnTo>
                    <a:lnTo>
                      <a:pt x="1075" y="1"/>
                    </a:lnTo>
                    <a:lnTo>
                      <a:pt x="1068" y="1"/>
                    </a:lnTo>
                    <a:lnTo>
                      <a:pt x="1063" y="0"/>
                    </a:lnTo>
                    <a:lnTo>
                      <a:pt x="1058" y="0"/>
                    </a:lnTo>
                    <a:lnTo>
                      <a:pt x="1053" y="0"/>
                    </a:lnTo>
                    <a:lnTo>
                      <a:pt x="1048" y="0"/>
                    </a:lnTo>
                    <a:lnTo>
                      <a:pt x="1043" y="0"/>
                    </a:lnTo>
                    <a:lnTo>
                      <a:pt x="1038" y="1"/>
                    </a:lnTo>
                    <a:lnTo>
                      <a:pt x="1034" y="1"/>
                    </a:lnTo>
                    <a:lnTo>
                      <a:pt x="1029" y="3"/>
                    </a:lnTo>
                    <a:lnTo>
                      <a:pt x="1024" y="4"/>
                    </a:lnTo>
                    <a:lnTo>
                      <a:pt x="1019" y="5"/>
                    </a:lnTo>
                    <a:lnTo>
                      <a:pt x="1014" y="7"/>
                    </a:lnTo>
                    <a:lnTo>
                      <a:pt x="994" y="14"/>
                    </a:lnTo>
                    <a:lnTo>
                      <a:pt x="974" y="26"/>
                    </a:lnTo>
                    <a:lnTo>
                      <a:pt x="955" y="42"/>
                    </a:lnTo>
                    <a:lnTo>
                      <a:pt x="939" y="61"/>
                    </a:lnTo>
                    <a:lnTo>
                      <a:pt x="924" y="82"/>
                    </a:lnTo>
                    <a:lnTo>
                      <a:pt x="911" y="107"/>
                    </a:lnTo>
                    <a:lnTo>
                      <a:pt x="900" y="133"/>
                    </a:lnTo>
                    <a:lnTo>
                      <a:pt x="891" y="163"/>
                    </a:lnTo>
                    <a:lnTo>
                      <a:pt x="877" y="228"/>
                    </a:lnTo>
                    <a:lnTo>
                      <a:pt x="878" y="230"/>
                    </a:lnTo>
                    <a:lnTo>
                      <a:pt x="883" y="236"/>
                    </a:lnTo>
                    <a:lnTo>
                      <a:pt x="888" y="244"/>
                    </a:lnTo>
                    <a:lnTo>
                      <a:pt x="896" y="253"/>
                    </a:lnTo>
                    <a:lnTo>
                      <a:pt x="872" y="248"/>
                    </a:lnTo>
                    <a:lnTo>
                      <a:pt x="848" y="242"/>
                    </a:lnTo>
                    <a:lnTo>
                      <a:pt x="823" y="237"/>
                    </a:lnTo>
                    <a:lnTo>
                      <a:pt x="796" y="233"/>
                    </a:lnTo>
                    <a:lnTo>
                      <a:pt x="770" y="230"/>
                    </a:lnTo>
                    <a:lnTo>
                      <a:pt x="743" y="229"/>
                    </a:lnTo>
                    <a:lnTo>
                      <a:pt x="716" y="228"/>
                    </a:lnTo>
                    <a:lnTo>
                      <a:pt x="688" y="228"/>
                    </a:lnTo>
                    <a:lnTo>
                      <a:pt x="660" y="229"/>
                    </a:lnTo>
                    <a:lnTo>
                      <a:pt x="633" y="230"/>
                    </a:lnTo>
                    <a:lnTo>
                      <a:pt x="604" y="234"/>
                    </a:lnTo>
                    <a:lnTo>
                      <a:pt x="575" y="240"/>
                    </a:lnTo>
                    <a:lnTo>
                      <a:pt x="547" y="245"/>
                    </a:lnTo>
                    <a:lnTo>
                      <a:pt x="518" y="253"/>
                    </a:lnTo>
                    <a:lnTo>
                      <a:pt x="489" y="262"/>
                    </a:lnTo>
                    <a:lnTo>
                      <a:pt x="461" y="271"/>
                    </a:lnTo>
                    <a:lnTo>
                      <a:pt x="432" y="283"/>
                    </a:lnTo>
                    <a:lnTo>
                      <a:pt x="405" y="298"/>
                    </a:lnTo>
                    <a:lnTo>
                      <a:pt x="377" y="312"/>
                    </a:lnTo>
                    <a:lnTo>
                      <a:pt x="350" y="329"/>
                    </a:lnTo>
                    <a:lnTo>
                      <a:pt x="324" y="349"/>
                    </a:lnTo>
                    <a:lnTo>
                      <a:pt x="297" y="369"/>
                    </a:lnTo>
                    <a:lnTo>
                      <a:pt x="271" y="391"/>
                    </a:lnTo>
                    <a:lnTo>
                      <a:pt x="246" y="416"/>
                    </a:lnTo>
                    <a:lnTo>
                      <a:pt x="222" y="443"/>
                    </a:lnTo>
                    <a:lnTo>
                      <a:pt x="198" y="471"/>
                    </a:lnTo>
                    <a:lnTo>
                      <a:pt x="175" y="503"/>
                    </a:lnTo>
                    <a:lnTo>
                      <a:pt x="154" y="536"/>
                    </a:lnTo>
                    <a:lnTo>
                      <a:pt x="134" y="572"/>
                    </a:lnTo>
                    <a:lnTo>
                      <a:pt x="114" y="610"/>
                    </a:lnTo>
                    <a:lnTo>
                      <a:pt x="95" y="649"/>
                    </a:lnTo>
                    <a:lnTo>
                      <a:pt x="77" y="693"/>
                    </a:lnTo>
                    <a:lnTo>
                      <a:pt x="73" y="701"/>
                    </a:lnTo>
                    <a:lnTo>
                      <a:pt x="67" y="718"/>
                    </a:lnTo>
                    <a:lnTo>
                      <a:pt x="58" y="744"/>
                    </a:lnTo>
                    <a:lnTo>
                      <a:pt x="48" y="778"/>
                    </a:lnTo>
                    <a:lnTo>
                      <a:pt x="37" y="822"/>
                    </a:lnTo>
                    <a:lnTo>
                      <a:pt x="25" y="872"/>
                    </a:lnTo>
                    <a:lnTo>
                      <a:pt x="15" y="931"/>
                    </a:lnTo>
                    <a:lnTo>
                      <a:pt x="6" y="996"/>
                    </a:lnTo>
                    <a:lnTo>
                      <a:pt x="1" y="1068"/>
                    </a:lnTo>
                    <a:lnTo>
                      <a:pt x="0" y="1146"/>
                    </a:lnTo>
                    <a:lnTo>
                      <a:pt x="3" y="1230"/>
                    </a:lnTo>
                    <a:lnTo>
                      <a:pt x="10" y="1320"/>
                    </a:lnTo>
                    <a:lnTo>
                      <a:pt x="25" y="1413"/>
                    </a:lnTo>
                    <a:lnTo>
                      <a:pt x="47" y="1512"/>
                    </a:lnTo>
                    <a:lnTo>
                      <a:pt x="77" y="1615"/>
                    </a:lnTo>
                    <a:lnTo>
                      <a:pt x="116" y="1721"/>
                    </a:lnTo>
                    <a:lnTo>
                      <a:pt x="149" y="1798"/>
                    </a:lnTo>
                    <a:lnTo>
                      <a:pt x="183" y="1873"/>
                    </a:lnTo>
                    <a:lnTo>
                      <a:pt x="219" y="1944"/>
                    </a:lnTo>
                    <a:lnTo>
                      <a:pt x="258" y="2014"/>
                    </a:lnTo>
                    <a:lnTo>
                      <a:pt x="296" y="2081"/>
                    </a:lnTo>
                    <a:lnTo>
                      <a:pt x="335" y="2144"/>
                    </a:lnTo>
                    <a:lnTo>
                      <a:pt x="373" y="2203"/>
                    </a:lnTo>
                    <a:lnTo>
                      <a:pt x="410" y="2259"/>
                    </a:lnTo>
                    <a:lnTo>
                      <a:pt x="445" y="2310"/>
                    </a:lnTo>
                    <a:lnTo>
                      <a:pt x="478" y="2355"/>
                    </a:lnTo>
                    <a:lnTo>
                      <a:pt x="507" y="2396"/>
                    </a:lnTo>
                    <a:lnTo>
                      <a:pt x="533" y="2430"/>
                    </a:lnTo>
                    <a:lnTo>
                      <a:pt x="554" y="2458"/>
                    </a:lnTo>
                    <a:lnTo>
                      <a:pt x="572" y="2479"/>
                    </a:lnTo>
                    <a:lnTo>
                      <a:pt x="583" y="2493"/>
                    </a:lnTo>
                    <a:lnTo>
                      <a:pt x="588" y="2500"/>
                    </a:lnTo>
                    <a:lnTo>
                      <a:pt x="594" y="2505"/>
                    </a:lnTo>
                    <a:lnTo>
                      <a:pt x="600" y="2510"/>
                    </a:lnTo>
                    <a:lnTo>
                      <a:pt x="616" y="2523"/>
                    </a:lnTo>
                    <a:lnTo>
                      <a:pt x="635" y="2537"/>
                    </a:lnTo>
                    <a:lnTo>
                      <a:pt x="657" y="2550"/>
                    </a:lnTo>
                    <a:lnTo>
                      <a:pt x="679" y="2563"/>
                    </a:lnTo>
                    <a:lnTo>
                      <a:pt x="704" y="2575"/>
                    </a:lnTo>
                    <a:lnTo>
                      <a:pt x="731" y="2585"/>
                    </a:lnTo>
                    <a:lnTo>
                      <a:pt x="760" y="2593"/>
                    </a:lnTo>
                    <a:lnTo>
                      <a:pt x="789" y="2600"/>
                    </a:lnTo>
                    <a:lnTo>
                      <a:pt x="806" y="2602"/>
                    </a:lnTo>
                    <a:lnTo>
                      <a:pt x="825" y="2605"/>
                    </a:lnTo>
                    <a:lnTo>
                      <a:pt x="843" y="2605"/>
                    </a:lnTo>
                    <a:lnTo>
                      <a:pt x="862" y="2605"/>
                    </a:lnTo>
                    <a:lnTo>
                      <a:pt x="881" y="2602"/>
                    </a:lnTo>
                    <a:lnTo>
                      <a:pt x="900" y="2600"/>
                    </a:lnTo>
                    <a:lnTo>
                      <a:pt x="919" y="2595"/>
                    </a:lnTo>
                    <a:lnTo>
                      <a:pt x="937" y="2588"/>
                    </a:lnTo>
                    <a:lnTo>
                      <a:pt x="954" y="2580"/>
                    </a:lnTo>
                    <a:lnTo>
                      <a:pt x="912" y="2589"/>
                    </a:lnTo>
                    <a:lnTo>
                      <a:pt x="999" y="2570"/>
                    </a:lnTo>
                    <a:lnTo>
                      <a:pt x="1008" y="2567"/>
                    </a:lnTo>
                    <a:lnTo>
                      <a:pt x="1017" y="2564"/>
                    </a:lnTo>
                    <a:lnTo>
                      <a:pt x="1024" y="2562"/>
                    </a:lnTo>
                    <a:lnTo>
                      <a:pt x="1033" y="2560"/>
                    </a:lnTo>
                    <a:lnTo>
                      <a:pt x="1042" y="2559"/>
                    </a:lnTo>
                    <a:lnTo>
                      <a:pt x="1051" y="2558"/>
                    </a:lnTo>
                    <a:lnTo>
                      <a:pt x="1061" y="2558"/>
                    </a:lnTo>
                    <a:lnTo>
                      <a:pt x="1070" y="2559"/>
                    </a:lnTo>
                    <a:lnTo>
                      <a:pt x="1075" y="2560"/>
                    </a:lnTo>
                    <a:lnTo>
                      <a:pt x="1087" y="2564"/>
                    </a:lnTo>
                    <a:lnTo>
                      <a:pt x="1100" y="2568"/>
                    </a:lnTo>
                    <a:lnTo>
                      <a:pt x="1105" y="2570"/>
                    </a:lnTo>
                    <a:lnTo>
                      <a:pt x="1096" y="2563"/>
                    </a:lnTo>
                    <a:lnTo>
                      <a:pt x="1106" y="2570"/>
                    </a:lnTo>
                    <a:lnTo>
                      <a:pt x="1119" y="2576"/>
                    </a:lnTo>
                    <a:lnTo>
                      <a:pt x="1131" y="2581"/>
                    </a:lnTo>
                    <a:lnTo>
                      <a:pt x="1145" y="2587"/>
                    </a:lnTo>
                    <a:lnTo>
                      <a:pt x="1160" y="2591"/>
                    </a:lnTo>
                    <a:lnTo>
                      <a:pt x="1176" y="2595"/>
                    </a:lnTo>
                    <a:lnTo>
                      <a:pt x="1193" y="2597"/>
                    </a:lnTo>
                    <a:lnTo>
                      <a:pt x="1211" y="2600"/>
                    </a:lnTo>
                    <a:lnTo>
                      <a:pt x="1231" y="2604"/>
                    </a:lnTo>
                    <a:lnTo>
                      <a:pt x="1250" y="2608"/>
                    </a:lnTo>
                    <a:lnTo>
                      <a:pt x="1268" y="2609"/>
                    </a:lnTo>
                    <a:lnTo>
                      <a:pt x="1286" y="2610"/>
                    </a:lnTo>
                    <a:lnTo>
                      <a:pt x="1303" y="2610"/>
                    </a:lnTo>
                    <a:lnTo>
                      <a:pt x="1319" y="2610"/>
                    </a:lnTo>
                    <a:lnTo>
                      <a:pt x="1336" y="2609"/>
                    </a:lnTo>
                    <a:lnTo>
                      <a:pt x="1351" y="2608"/>
                    </a:lnTo>
                    <a:lnTo>
                      <a:pt x="1372" y="2604"/>
                    </a:lnTo>
                    <a:lnTo>
                      <a:pt x="1391" y="2600"/>
                    </a:lnTo>
                    <a:lnTo>
                      <a:pt x="1409" y="2596"/>
                    </a:lnTo>
                    <a:lnTo>
                      <a:pt x="1422" y="2591"/>
                    </a:lnTo>
                    <a:lnTo>
                      <a:pt x="1435" y="2585"/>
                    </a:lnTo>
                    <a:lnTo>
                      <a:pt x="1445" y="2581"/>
                    </a:lnTo>
                    <a:lnTo>
                      <a:pt x="1453" y="2579"/>
                    </a:lnTo>
                    <a:lnTo>
                      <a:pt x="1456" y="2576"/>
                    </a:lnTo>
                    <a:lnTo>
                      <a:pt x="1519" y="2530"/>
                    </a:lnTo>
                    <a:lnTo>
                      <a:pt x="1581" y="2476"/>
                    </a:lnTo>
                    <a:lnTo>
                      <a:pt x="1642" y="2415"/>
                    </a:lnTo>
                    <a:lnTo>
                      <a:pt x="1701" y="2350"/>
                    </a:lnTo>
                    <a:lnTo>
                      <a:pt x="1759" y="2278"/>
                    </a:lnTo>
                    <a:lnTo>
                      <a:pt x="1813" y="2203"/>
                    </a:lnTo>
                    <a:lnTo>
                      <a:pt x="1866" y="2124"/>
                    </a:lnTo>
                    <a:lnTo>
                      <a:pt x="1915" y="2040"/>
                    </a:lnTo>
                    <a:lnTo>
                      <a:pt x="1962" y="1954"/>
                    </a:lnTo>
                    <a:lnTo>
                      <a:pt x="2005" y="1868"/>
                    </a:lnTo>
                    <a:lnTo>
                      <a:pt x="2042" y="1778"/>
                    </a:lnTo>
                    <a:lnTo>
                      <a:pt x="2076" y="1688"/>
                    </a:lnTo>
                    <a:lnTo>
                      <a:pt x="2105" y="1598"/>
                    </a:lnTo>
                    <a:lnTo>
                      <a:pt x="2128" y="1508"/>
                    </a:lnTo>
                    <a:lnTo>
                      <a:pt x="2147" y="1418"/>
                    </a:lnTo>
                    <a:lnTo>
                      <a:pt x="2158" y="1332"/>
                    </a:lnTo>
                    <a:lnTo>
                      <a:pt x="2163" y="1262"/>
                    </a:lnTo>
                    <a:lnTo>
                      <a:pt x="2166" y="1189"/>
                    </a:lnTo>
                    <a:lnTo>
                      <a:pt x="2165" y="1117"/>
                    </a:lnTo>
                    <a:lnTo>
                      <a:pt x="2159" y="1043"/>
                    </a:lnTo>
                    <a:lnTo>
                      <a:pt x="2151" y="969"/>
                    </a:lnTo>
                    <a:lnTo>
                      <a:pt x="2138" y="897"/>
                    </a:lnTo>
                    <a:lnTo>
                      <a:pt x="2120" y="826"/>
                    </a:lnTo>
                    <a:lnTo>
                      <a:pt x="2098" y="756"/>
                    </a:lnTo>
                    <a:lnTo>
                      <a:pt x="2070" y="689"/>
                    </a:lnTo>
                    <a:lnTo>
                      <a:pt x="2037" y="626"/>
                    </a:lnTo>
                    <a:lnTo>
                      <a:pt x="1999" y="566"/>
                    </a:lnTo>
                    <a:lnTo>
                      <a:pt x="1955" y="511"/>
                    </a:lnTo>
                    <a:lnTo>
                      <a:pt x="1906" y="461"/>
                    </a:lnTo>
                    <a:lnTo>
                      <a:pt x="1850" y="416"/>
                    </a:lnTo>
                    <a:lnTo>
                      <a:pt x="1788" y="379"/>
                    </a:lnTo>
                    <a:lnTo>
                      <a:pt x="1719" y="3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Freeform 155"/>
              <p:cNvSpPr/>
              <p:nvPr/>
            </p:nvSpPr>
            <p:spPr>
              <a:xfrm>
                <a:off x="5450040" y="3682440"/>
                <a:ext cx="1348200" cy="853560"/>
              </a:xfrm>
              <a:custGeom>
                <a:avLst/>
                <a:gdLst/>
                <a:ahLst/>
                <a:rect l="l" t="t" r="r" b="b"/>
                <a:pathLst>
                  <a:path w="1953" h="2172">
                    <a:moveTo>
                      <a:pt x="102" y="1337"/>
                    </a:moveTo>
                    <a:lnTo>
                      <a:pt x="67" y="1237"/>
                    </a:lnTo>
                    <a:lnTo>
                      <a:pt x="41" y="1141"/>
                    </a:lnTo>
                    <a:lnTo>
                      <a:pt x="20" y="1049"/>
                    </a:lnTo>
                    <a:lnTo>
                      <a:pt x="8" y="962"/>
                    </a:lnTo>
                    <a:lnTo>
                      <a:pt x="2" y="879"/>
                    </a:lnTo>
                    <a:lnTo>
                      <a:pt x="0" y="801"/>
                    </a:lnTo>
                    <a:lnTo>
                      <a:pt x="2" y="730"/>
                    </a:lnTo>
                    <a:lnTo>
                      <a:pt x="8" y="663"/>
                    </a:lnTo>
                    <a:lnTo>
                      <a:pt x="15" y="603"/>
                    </a:lnTo>
                    <a:lnTo>
                      <a:pt x="25" y="551"/>
                    </a:lnTo>
                    <a:lnTo>
                      <a:pt x="37" y="505"/>
                    </a:lnTo>
                    <a:lnTo>
                      <a:pt x="47" y="467"/>
                    </a:lnTo>
                    <a:lnTo>
                      <a:pt x="57" y="436"/>
                    </a:lnTo>
                    <a:lnTo>
                      <a:pt x="65" y="414"/>
                    </a:lnTo>
                    <a:lnTo>
                      <a:pt x="70" y="401"/>
                    </a:lnTo>
                    <a:lnTo>
                      <a:pt x="72" y="395"/>
                    </a:lnTo>
                    <a:lnTo>
                      <a:pt x="120" y="293"/>
                    </a:lnTo>
                    <a:lnTo>
                      <a:pt x="174" y="210"/>
                    </a:lnTo>
                    <a:lnTo>
                      <a:pt x="233" y="143"/>
                    </a:lnTo>
                    <a:lnTo>
                      <a:pt x="295" y="90"/>
                    </a:lnTo>
                    <a:lnTo>
                      <a:pt x="359" y="52"/>
                    </a:lnTo>
                    <a:lnTo>
                      <a:pt x="426" y="25"/>
                    </a:lnTo>
                    <a:lnTo>
                      <a:pt x="492" y="10"/>
                    </a:lnTo>
                    <a:lnTo>
                      <a:pt x="556" y="2"/>
                    </a:lnTo>
                    <a:lnTo>
                      <a:pt x="616" y="0"/>
                    </a:lnTo>
                    <a:lnTo>
                      <a:pt x="674" y="6"/>
                    </a:lnTo>
                    <a:lnTo>
                      <a:pt x="726" y="13"/>
                    </a:lnTo>
                    <a:lnTo>
                      <a:pt x="771" y="24"/>
                    </a:lnTo>
                    <a:lnTo>
                      <a:pt x="808" y="36"/>
                    </a:lnTo>
                    <a:lnTo>
                      <a:pt x="837" y="45"/>
                    </a:lnTo>
                    <a:lnTo>
                      <a:pt x="854" y="53"/>
                    </a:lnTo>
                    <a:lnTo>
                      <a:pt x="861" y="56"/>
                    </a:lnTo>
                    <a:lnTo>
                      <a:pt x="881" y="60"/>
                    </a:lnTo>
                    <a:lnTo>
                      <a:pt x="901" y="62"/>
                    </a:lnTo>
                    <a:lnTo>
                      <a:pt x="920" y="66"/>
                    </a:lnTo>
                    <a:lnTo>
                      <a:pt x="938" y="70"/>
                    </a:lnTo>
                    <a:lnTo>
                      <a:pt x="956" y="74"/>
                    </a:lnTo>
                    <a:lnTo>
                      <a:pt x="974" y="78"/>
                    </a:lnTo>
                    <a:lnTo>
                      <a:pt x="990" y="81"/>
                    </a:lnTo>
                    <a:lnTo>
                      <a:pt x="1008" y="83"/>
                    </a:lnTo>
                    <a:lnTo>
                      <a:pt x="1026" y="86"/>
                    </a:lnTo>
                    <a:lnTo>
                      <a:pt x="1042" y="89"/>
                    </a:lnTo>
                    <a:lnTo>
                      <a:pt x="1060" y="90"/>
                    </a:lnTo>
                    <a:lnTo>
                      <a:pt x="1079" y="91"/>
                    </a:lnTo>
                    <a:lnTo>
                      <a:pt x="1098" y="91"/>
                    </a:lnTo>
                    <a:lnTo>
                      <a:pt x="1116" y="90"/>
                    </a:lnTo>
                    <a:lnTo>
                      <a:pt x="1137" y="87"/>
                    </a:lnTo>
                    <a:lnTo>
                      <a:pt x="1158" y="85"/>
                    </a:lnTo>
                    <a:lnTo>
                      <a:pt x="1179" y="81"/>
                    </a:lnTo>
                    <a:lnTo>
                      <a:pt x="1201" y="77"/>
                    </a:lnTo>
                    <a:lnTo>
                      <a:pt x="1222" y="73"/>
                    </a:lnTo>
                    <a:lnTo>
                      <a:pt x="1242" y="69"/>
                    </a:lnTo>
                    <a:lnTo>
                      <a:pt x="1265" y="66"/>
                    </a:lnTo>
                    <a:lnTo>
                      <a:pt x="1287" y="64"/>
                    </a:lnTo>
                    <a:lnTo>
                      <a:pt x="1309" y="62"/>
                    </a:lnTo>
                    <a:lnTo>
                      <a:pt x="1333" y="61"/>
                    </a:lnTo>
                    <a:lnTo>
                      <a:pt x="1357" y="62"/>
                    </a:lnTo>
                    <a:lnTo>
                      <a:pt x="1384" y="64"/>
                    </a:lnTo>
                    <a:lnTo>
                      <a:pt x="1410" y="67"/>
                    </a:lnTo>
                    <a:lnTo>
                      <a:pt x="1438" y="71"/>
                    </a:lnTo>
                    <a:lnTo>
                      <a:pt x="1468" y="78"/>
                    </a:lnTo>
                    <a:lnTo>
                      <a:pt x="1501" y="86"/>
                    </a:lnTo>
                    <a:lnTo>
                      <a:pt x="1533" y="96"/>
                    </a:lnTo>
                    <a:lnTo>
                      <a:pt x="1570" y="110"/>
                    </a:lnTo>
                    <a:lnTo>
                      <a:pt x="1630" y="137"/>
                    </a:lnTo>
                    <a:lnTo>
                      <a:pt x="1686" y="170"/>
                    </a:lnTo>
                    <a:lnTo>
                      <a:pt x="1734" y="210"/>
                    </a:lnTo>
                    <a:lnTo>
                      <a:pt x="1777" y="254"/>
                    </a:lnTo>
                    <a:lnTo>
                      <a:pt x="1814" y="305"/>
                    </a:lnTo>
                    <a:lnTo>
                      <a:pt x="1847" y="359"/>
                    </a:lnTo>
                    <a:lnTo>
                      <a:pt x="1875" y="415"/>
                    </a:lnTo>
                    <a:lnTo>
                      <a:pt x="1898" y="474"/>
                    </a:lnTo>
                    <a:lnTo>
                      <a:pt x="1915" y="536"/>
                    </a:lnTo>
                    <a:lnTo>
                      <a:pt x="1930" y="600"/>
                    </a:lnTo>
                    <a:lnTo>
                      <a:pt x="1940" y="663"/>
                    </a:lnTo>
                    <a:lnTo>
                      <a:pt x="1948" y="727"/>
                    </a:lnTo>
                    <a:lnTo>
                      <a:pt x="1952" y="792"/>
                    </a:lnTo>
                    <a:lnTo>
                      <a:pt x="1953" y="854"/>
                    </a:lnTo>
                    <a:lnTo>
                      <a:pt x="1950" y="914"/>
                    </a:lnTo>
                    <a:lnTo>
                      <a:pt x="1947" y="974"/>
                    </a:lnTo>
                    <a:lnTo>
                      <a:pt x="1937" y="1055"/>
                    </a:lnTo>
                    <a:lnTo>
                      <a:pt x="1920" y="1138"/>
                    </a:lnTo>
                    <a:lnTo>
                      <a:pt x="1899" y="1222"/>
                    </a:lnTo>
                    <a:lnTo>
                      <a:pt x="1872" y="1308"/>
                    </a:lnTo>
                    <a:lnTo>
                      <a:pt x="1841" y="1392"/>
                    </a:lnTo>
                    <a:lnTo>
                      <a:pt x="1806" y="1478"/>
                    </a:lnTo>
                    <a:lnTo>
                      <a:pt x="1767" y="1561"/>
                    </a:lnTo>
                    <a:lnTo>
                      <a:pt x="1724" y="1641"/>
                    </a:lnTo>
                    <a:lnTo>
                      <a:pt x="1677" y="1720"/>
                    </a:lnTo>
                    <a:lnTo>
                      <a:pt x="1629" y="1797"/>
                    </a:lnTo>
                    <a:lnTo>
                      <a:pt x="1578" y="1868"/>
                    </a:lnTo>
                    <a:lnTo>
                      <a:pt x="1525" y="1935"/>
                    </a:lnTo>
                    <a:lnTo>
                      <a:pt x="1470" y="1998"/>
                    </a:lnTo>
                    <a:lnTo>
                      <a:pt x="1414" y="2055"/>
                    </a:lnTo>
                    <a:lnTo>
                      <a:pt x="1357" y="2105"/>
                    </a:lnTo>
                    <a:lnTo>
                      <a:pt x="1299" y="2148"/>
                    </a:lnTo>
                    <a:lnTo>
                      <a:pt x="1298" y="2150"/>
                    </a:lnTo>
                    <a:lnTo>
                      <a:pt x="1294" y="2151"/>
                    </a:lnTo>
                    <a:lnTo>
                      <a:pt x="1289" y="2154"/>
                    </a:lnTo>
                    <a:lnTo>
                      <a:pt x="1280" y="2156"/>
                    </a:lnTo>
                    <a:lnTo>
                      <a:pt x="1270" y="2160"/>
                    </a:lnTo>
                    <a:lnTo>
                      <a:pt x="1259" y="2164"/>
                    </a:lnTo>
                    <a:lnTo>
                      <a:pt x="1245" y="2167"/>
                    </a:lnTo>
                    <a:lnTo>
                      <a:pt x="1230" y="2169"/>
                    </a:lnTo>
                    <a:lnTo>
                      <a:pt x="1216" y="2171"/>
                    </a:lnTo>
                    <a:lnTo>
                      <a:pt x="1201" y="2172"/>
                    </a:lnTo>
                    <a:lnTo>
                      <a:pt x="1186" y="2172"/>
                    </a:lnTo>
                    <a:lnTo>
                      <a:pt x="1169" y="2172"/>
                    </a:lnTo>
                    <a:lnTo>
                      <a:pt x="1152" y="2169"/>
                    </a:lnTo>
                    <a:lnTo>
                      <a:pt x="1134" y="2167"/>
                    </a:lnTo>
                    <a:lnTo>
                      <a:pt x="1115" y="2162"/>
                    </a:lnTo>
                    <a:lnTo>
                      <a:pt x="1095" y="2155"/>
                    </a:lnTo>
                    <a:lnTo>
                      <a:pt x="1057" y="2140"/>
                    </a:lnTo>
                    <a:lnTo>
                      <a:pt x="1028" y="2131"/>
                    </a:lnTo>
                    <a:lnTo>
                      <a:pt x="1008" y="2125"/>
                    </a:lnTo>
                    <a:lnTo>
                      <a:pt x="994" y="2121"/>
                    </a:lnTo>
                    <a:lnTo>
                      <a:pt x="984" y="2119"/>
                    </a:lnTo>
                    <a:lnTo>
                      <a:pt x="977" y="2118"/>
                    </a:lnTo>
                    <a:lnTo>
                      <a:pt x="970" y="2118"/>
                    </a:lnTo>
                    <a:lnTo>
                      <a:pt x="963" y="2117"/>
                    </a:lnTo>
                    <a:lnTo>
                      <a:pt x="936" y="2114"/>
                    </a:lnTo>
                    <a:lnTo>
                      <a:pt x="910" y="2114"/>
                    </a:lnTo>
                    <a:lnTo>
                      <a:pt x="885" y="2118"/>
                    </a:lnTo>
                    <a:lnTo>
                      <a:pt x="861" y="2125"/>
                    </a:lnTo>
                    <a:lnTo>
                      <a:pt x="838" y="2133"/>
                    </a:lnTo>
                    <a:lnTo>
                      <a:pt x="818" y="2139"/>
                    </a:lnTo>
                    <a:lnTo>
                      <a:pt x="802" y="2147"/>
                    </a:lnTo>
                    <a:lnTo>
                      <a:pt x="788" y="2152"/>
                    </a:lnTo>
                    <a:lnTo>
                      <a:pt x="766" y="2159"/>
                    </a:lnTo>
                    <a:lnTo>
                      <a:pt x="745" y="2162"/>
                    </a:lnTo>
                    <a:lnTo>
                      <a:pt x="725" y="2163"/>
                    </a:lnTo>
                    <a:lnTo>
                      <a:pt x="703" y="2162"/>
                    </a:lnTo>
                    <a:lnTo>
                      <a:pt x="683" y="2158"/>
                    </a:lnTo>
                    <a:lnTo>
                      <a:pt x="664" y="2152"/>
                    </a:lnTo>
                    <a:lnTo>
                      <a:pt x="645" y="2146"/>
                    </a:lnTo>
                    <a:lnTo>
                      <a:pt x="629" y="2138"/>
                    </a:lnTo>
                    <a:lnTo>
                      <a:pt x="613" y="2130"/>
                    </a:lnTo>
                    <a:lnTo>
                      <a:pt x="597" y="2122"/>
                    </a:lnTo>
                    <a:lnTo>
                      <a:pt x="585" y="2114"/>
                    </a:lnTo>
                    <a:lnTo>
                      <a:pt x="575" y="2108"/>
                    </a:lnTo>
                    <a:lnTo>
                      <a:pt x="566" y="2101"/>
                    </a:lnTo>
                    <a:lnTo>
                      <a:pt x="558" y="2096"/>
                    </a:lnTo>
                    <a:lnTo>
                      <a:pt x="555" y="2093"/>
                    </a:lnTo>
                    <a:lnTo>
                      <a:pt x="553" y="2092"/>
                    </a:lnTo>
                    <a:lnTo>
                      <a:pt x="550" y="2088"/>
                    </a:lnTo>
                    <a:lnTo>
                      <a:pt x="541" y="2076"/>
                    </a:lnTo>
                    <a:lnTo>
                      <a:pt x="526" y="2056"/>
                    </a:lnTo>
                    <a:lnTo>
                      <a:pt x="505" y="2030"/>
                    </a:lnTo>
                    <a:lnTo>
                      <a:pt x="480" y="1998"/>
                    </a:lnTo>
                    <a:lnTo>
                      <a:pt x="453" y="1959"/>
                    </a:lnTo>
                    <a:lnTo>
                      <a:pt x="421" y="1914"/>
                    </a:lnTo>
                    <a:lnTo>
                      <a:pt x="387" y="1865"/>
                    </a:lnTo>
                    <a:lnTo>
                      <a:pt x="352" y="1811"/>
                    </a:lnTo>
                    <a:lnTo>
                      <a:pt x="314" y="1752"/>
                    </a:lnTo>
                    <a:lnTo>
                      <a:pt x="276" y="1690"/>
                    </a:lnTo>
                    <a:lnTo>
                      <a:pt x="240" y="1624"/>
                    </a:lnTo>
                    <a:lnTo>
                      <a:pt x="202" y="1556"/>
                    </a:lnTo>
                    <a:lnTo>
                      <a:pt x="167" y="1485"/>
                    </a:lnTo>
                    <a:lnTo>
                      <a:pt x="134" y="1412"/>
                    </a:lnTo>
                    <a:lnTo>
                      <a:pt x="102" y="1337"/>
                    </a:lnTo>
                    <a:close/>
                  </a:path>
                </a:pathLst>
              </a:custGeom>
              <a:solidFill>
                <a:srgbClr val="ff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Freeform 156"/>
              <p:cNvSpPr/>
              <p:nvPr/>
            </p:nvSpPr>
            <p:spPr>
              <a:xfrm>
                <a:off x="5925960" y="3789720"/>
                <a:ext cx="795600" cy="693360"/>
              </a:xfrm>
              <a:custGeom>
                <a:avLst/>
                <a:gdLst/>
                <a:ahLst/>
                <a:rect l="l" t="t" r="r" b="b"/>
                <a:pathLst>
                  <a:path w="1154" h="1765">
                    <a:moveTo>
                      <a:pt x="949" y="59"/>
                    </a:moveTo>
                    <a:lnTo>
                      <a:pt x="944" y="55"/>
                    </a:lnTo>
                    <a:lnTo>
                      <a:pt x="930" y="46"/>
                    </a:lnTo>
                    <a:lnTo>
                      <a:pt x="910" y="34"/>
                    </a:lnTo>
                    <a:lnTo>
                      <a:pt x="883" y="21"/>
                    </a:lnTo>
                    <a:lnTo>
                      <a:pt x="853" y="9"/>
                    </a:lnTo>
                    <a:lnTo>
                      <a:pt x="820" y="1"/>
                    </a:lnTo>
                    <a:lnTo>
                      <a:pt x="788" y="0"/>
                    </a:lnTo>
                    <a:lnTo>
                      <a:pt x="755" y="8"/>
                    </a:lnTo>
                    <a:lnTo>
                      <a:pt x="727" y="20"/>
                    </a:lnTo>
                    <a:lnTo>
                      <a:pt x="706" y="29"/>
                    </a:lnTo>
                    <a:lnTo>
                      <a:pt x="688" y="38"/>
                    </a:lnTo>
                    <a:lnTo>
                      <a:pt x="673" y="46"/>
                    </a:lnTo>
                    <a:lnTo>
                      <a:pt x="658" y="55"/>
                    </a:lnTo>
                    <a:lnTo>
                      <a:pt x="641" y="66"/>
                    </a:lnTo>
                    <a:lnTo>
                      <a:pt x="622" y="79"/>
                    </a:lnTo>
                    <a:lnTo>
                      <a:pt x="597" y="97"/>
                    </a:lnTo>
                    <a:lnTo>
                      <a:pt x="571" y="113"/>
                    </a:lnTo>
                    <a:lnTo>
                      <a:pt x="547" y="120"/>
                    </a:lnTo>
                    <a:lnTo>
                      <a:pt x="524" y="120"/>
                    </a:lnTo>
                    <a:lnTo>
                      <a:pt x="502" y="118"/>
                    </a:lnTo>
                    <a:lnTo>
                      <a:pt x="479" y="117"/>
                    </a:lnTo>
                    <a:lnTo>
                      <a:pt x="456" y="118"/>
                    </a:lnTo>
                    <a:lnTo>
                      <a:pt x="432" y="128"/>
                    </a:lnTo>
                    <a:lnTo>
                      <a:pt x="406" y="146"/>
                    </a:lnTo>
                    <a:lnTo>
                      <a:pt x="378" y="170"/>
                    </a:lnTo>
                    <a:lnTo>
                      <a:pt x="350" y="196"/>
                    </a:lnTo>
                    <a:lnTo>
                      <a:pt x="324" y="226"/>
                    </a:lnTo>
                    <a:lnTo>
                      <a:pt x="301" y="263"/>
                    </a:lnTo>
                    <a:lnTo>
                      <a:pt x="281" y="309"/>
                    </a:lnTo>
                    <a:lnTo>
                      <a:pt x="266" y="365"/>
                    </a:lnTo>
                    <a:lnTo>
                      <a:pt x="257" y="433"/>
                    </a:lnTo>
                    <a:lnTo>
                      <a:pt x="256" y="518"/>
                    </a:lnTo>
                    <a:lnTo>
                      <a:pt x="255" y="581"/>
                    </a:lnTo>
                    <a:lnTo>
                      <a:pt x="248" y="664"/>
                    </a:lnTo>
                    <a:lnTo>
                      <a:pt x="237" y="761"/>
                    </a:lnTo>
                    <a:lnTo>
                      <a:pt x="219" y="864"/>
                    </a:lnTo>
                    <a:lnTo>
                      <a:pt x="195" y="965"/>
                    </a:lnTo>
                    <a:lnTo>
                      <a:pt x="166" y="1060"/>
                    </a:lnTo>
                    <a:lnTo>
                      <a:pt x="129" y="1140"/>
                    </a:lnTo>
                    <a:lnTo>
                      <a:pt x="85" y="1200"/>
                    </a:lnTo>
                    <a:lnTo>
                      <a:pt x="58" y="1241"/>
                    </a:lnTo>
                    <a:lnTo>
                      <a:pt x="35" y="1302"/>
                    </a:lnTo>
                    <a:lnTo>
                      <a:pt x="17" y="1380"/>
                    </a:lnTo>
                    <a:lnTo>
                      <a:pt x="5" y="1463"/>
                    </a:lnTo>
                    <a:lnTo>
                      <a:pt x="0" y="1547"/>
                    </a:lnTo>
                    <a:lnTo>
                      <a:pt x="4" y="1621"/>
                    </a:lnTo>
                    <a:lnTo>
                      <a:pt x="18" y="1680"/>
                    </a:lnTo>
                    <a:lnTo>
                      <a:pt x="43" y="1715"/>
                    </a:lnTo>
                    <a:lnTo>
                      <a:pt x="71" y="1732"/>
                    </a:lnTo>
                    <a:lnTo>
                      <a:pt x="92" y="1742"/>
                    </a:lnTo>
                    <a:lnTo>
                      <a:pt x="110" y="1746"/>
                    </a:lnTo>
                    <a:lnTo>
                      <a:pt x="126" y="1746"/>
                    </a:lnTo>
                    <a:lnTo>
                      <a:pt x="142" y="1744"/>
                    </a:lnTo>
                    <a:lnTo>
                      <a:pt x="161" y="1736"/>
                    </a:lnTo>
                    <a:lnTo>
                      <a:pt x="184" y="1727"/>
                    </a:lnTo>
                    <a:lnTo>
                      <a:pt x="213" y="1716"/>
                    </a:lnTo>
                    <a:lnTo>
                      <a:pt x="231" y="1711"/>
                    </a:lnTo>
                    <a:lnTo>
                      <a:pt x="248" y="1708"/>
                    </a:lnTo>
                    <a:lnTo>
                      <a:pt x="266" y="1705"/>
                    </a:lnTo>
                    <a:lnTo>
                      <a:pt x="284" y="1703"/>
                    </a:lnTo>
                    <a:lnTo>
                      <a:pt x="302" y="1703"/>
                    </a:lnTo>
                    <a:lnTo>
                      <a:pt x="320" y="1703"/>
                    </a:lnTo>
                    <a:lnTo>
                      <a:pt x="338" y="1704"/>
                    </a:lnTo>
                    <a:lnTo>
                      <a:pt x="355" y="1707"/>
                    </a:lnTo>
                    <a:lnTo>
                      <a:pt x="372" y="1709"/>
                    </a:lnTo>
                    <a:lnTo>
                      <a:pt x="388" y="1712"/>
                    </a:lnTo>
                    <a:lnTo>
                      <a:pt x="403" y="1716"/>
                    </a:lnTo>
                    <a:lnTo>
                      <a:pt x="417" y="1720"/>
                    </a:lnTo>
                    <a:lnTo>
                      <a:pt x="430" y="1725"/>
                    </a:lnTo>
                    <a:lnTo>
                      <a:pt x="442" y="1730"/>
                    </a:lnTo>
                    <a:lnTo>
                      <a:pt x="451" y="1736"/>
                    </a:lnTo>
                    <a:lnTo>
                      <a:pt x="460" y="1741"/>
                    </a:lnTo>
                    <a:lnTo>
                      <a:pt x="476" y="1752"/>
                    </a:lnTo>
                    <a:lnTo>
                      <a:pt x="495" y="1758"/>
                    </a:lnTo>
                    <a:lnTo>
                      <a:pt x="515" y="1762"/>
                    </a:lnTo>
                    <a:lnTo>
                      <a:pt x="537" y="1765"/>
                    </a:lnTo>
                    <a:lnTo>
                      <a:pt x="558" y="1763"/>
                    </a:lnTo>
                    <a:lnTo>
                      <a:pt x="578" y="1759"/>
                    </a:lnTo>
                    <a:lnTo>
                      <a:pt x="596" y="1753"/>
                    </a:lnTo>
                    <a:lnTo>
                      <a:pt x="610" y="1742"/>
                    </a:lnTo>
                    <a:lnTo>
                      <a:pt x="619" y="1733"/>
                    </a:lnTo>
                    <a:lnTo>
                      <a:pt x="631" y="1719"/>
                    </a:lnTo>
                    <a:lnTo>
                      <a:pt x="648" y="1698"/>
                    </a:lnTo>
                    <a:lnTo>
                      <a:pt x="667" y="1674"/>
                    </a:lnTo>
                    <a:lnTo>
                      <a:pt x="688" y="1645"/>
                    </a:lnTo>
                    <a:lnTo>
                      <a:pt x="712" y="1612"/>
                    </a:lnTo>
                    <a:lnTo>
                      <a:pt x="738" y="1579"/>
                    </a:lnTo>
                    <a:lnTo>
                      <a:pt x="765" y="1543"/>
                    </a:lnTo>
                    <a:lnTo>
                      <a:pt x="791" y="1507"/>
                    </a:lnTo>
                    <a:lnTo>
                      <a:pt x="818" y="1471"/>
                    </a:lnTo>
                    <a:lnTo>
                      <a:pt x="844" y="1435"/>
                    </a:lnTo>
                    <a:lnTo>
                      <a:pt x="869" y="1403"/>
                    </a:lnTo>
                    <a:lnTo>
                      <a:pt x="892" y="1371"/>
                    </a:lnTo>
                    <a:lnTo>
                      <a:pt x="913" y="1343"/>
                    </a:lnTo>
                    <a:lnTo>
                      <a:pt x="931" y="1320"/>
                    </a:lnTo>
                    <a:lnTo>
                      <a:pt x="946" y="1301"/>
                    </a:lnTo>
                    <a:lnTo>
                      <a:pt x="963" y="1277"/>
                    </a:lnTo>
                    <a:lnTo>
                      <a:pt x="984" y="1239"/>
                    </a:lnTo>
                    <a:lnTo>
                      <a:pt x="1009" y="1189"/>
                    </a:lnTo>
                    <a:lnTo>
                      <a:pt x="1037" y="1127"/>
                    </a:lnTo>
                    <a:lnTo>
                      <a:pt x="1065" y="1056"/>
                    </a:lnTo>
                    <a:lnTo>
                      <a:pt x="1091" y="977"/>
                    </a:lnTo>
                    <a:lnTo>
                      <a:pt x="1115" y="892"/>
                    </a:lnTo>
                    <a:lnTo>
                      <a:pt x="1134" y="801"/>
                    </a:lnTo>
                    <a:lnTo>
                      <a:pt x="1148" y="706"/>
                    </a:lnTo>
                    <a:lnTo>
                      <a:pt x="1154" y="608"/>
                    </a:lnTo>
                    <a:lnTo>
                      <a:pt x="1152" y="510"/>
                    </a:lnTo>
                    <a:lnTo>
                      <a:pt x="1138" y="412"/>
                    </a:lnTo>
                    <a:lnTo>
                      <a:pt x="1113" y="317"/>
                    </a:lnTo>
                    <a:lnTo>
                      <a:pt x="1073" y="226"/>
                    </a:lnTo>
                    <a:lnTo>
                      <a:pt x="1019" y="140"/>
                    </a:lnTo>
                    <a:lnTo>
                      <a:pt x="949" y="59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Freeform 157"/>
              <p:cNvSpPr/>
              <p:nvPr/>
            </p:nvSpPr>
            <p:spPr>
              <a:xfrm>
                <a:off x="5895000" y="3724920"/>
                <a:ext cx="355680" cy="83520"/>
              </a:xfrm>
              <a:custGeom>
                <a:avLst/>
                <a:gdLst/>
                <a:ahLst/>
                <a:rect l="l" t="t" r="r" b="b"/>
                <a:pathLst>
                  <a:path w="519" h="213">
                    <a:moveTo>
                      <a:pt x="301" y="75"/>
                    </a:moveTo>
                    <a:lnTo>
                      <a:pt x="296" y="72"/>
                    </a:lnTo>
                    <a:lnTo>
                      <a:pt x="282" y="66"/>
                    </a:lnTo>
                    <a:lnTo>
                      <a:pt x="262" y="57"/>
                    </a:lnTo>
                    <a:lnTo>
                      <a:pt x="235" y="45"/>
                    </a:lnTo>
                    <a:lnTo>
                      <a:pt x="206" y="33"/>
                    </a:lnTo>
                    <a:lnTo>
                      <a:pt x="175" y="21"/>
                    </a:lnTo>
                    <a:lnTo>
                      <a:pt x="143" y="10"/>
                    </a:lnTo>
                    <a:lnTo>
                      <a:pt x="113" y="4"/>
                    </a:lnTo>
                    <a:lnTo>
                      <a:pt x="87" y="0"/>
                    </a:lnTo>
                    <a:lnTo>
                      <a:pt x="64" y="1"/>
                    </a:lnTo>
                    <a:lnTo>
                      <a:pt x="44" y="4"/>
                    </a:lnTo>
                    <a:lnTo>
                      <a:pt x="29" y="9"/>
                    </a:lnTo>
                    <a:lnTo>
                      <a:pt x="16" y="16"/>
                    </a:lnTo>
                    <a:lnTo>
                      <a:pt x="7" y="21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179" y="188"/>
                    </a:lnTo>
                    <a:lnTo>
                      <a:pt x="184" y="190"/>
                    </a:lnTo>
                    <a:lnTo>
                      <a:pt x="199" y="194"/>
                    </a:lnTo>
                    <a:lnTo>
                      <a:pt x="220" y="199"/>
                    </a:lnTo>
                    <a:lnTo>
                      <a:pt x="247" y="204"/>
                    </a:lnTo>
                    <a:lnTo>
                      <a:pt x="276" y="209"/>
                    </a:lnTo>
                    <a:lnTo>
                      <a:pt x="306" y="213"/>
                    </a:lnTo>
                    <a:lnTo>
                      <a:pt x="335" y="213"/>
                    </a:lnTo>
                    <a:lnTo>
                      <a:pt x="361" y="209"/>
                    </a:lnTo>
                    <a:lnTo>
                      <a:pt x="387" y="203"/>
                    </a:lnTo>
                    <a:lnTo>
                      <a:pt x="412" y="194"/>
                    </a:lnTo>
                    <a:lnTo>
                      <a:pt x="437" y="186"/>
                    </a:lnTo>
                    <a:lnTo>
                      <a:pt x="460" y="178"/>
                    </a:lnTo>
                    <a:lnTo>
                      <a:pt x="480" y="170"/>
                    </a:lnTo>
                    <a:lnTo>
                      <a:pt x="496" y="163"/>
                    </a:lnTo>
                    <a:lnTo>
                      <a:pt x="506" y="159"/>
                    </a:lnTo>
                    <a:lnTo>
                      <a:pt x="510" y="158"/>
                    </a:lnTo>
                    <a:lnTo>
                      <a:pt x="511" y="158"/>
                    </a:lnTo>
                    <a:lnTo>
                      <a:pt x="515" y="157"/>
                    </a:lnTo>
                    <a:lnTo>
                      <a:pt x="518" y="154"/>
                    </a:lnTo>
                    <a:lnTo>
                      <a:pt x="519" y="151"/>
                    </a:lnTo>
                    <a:lnTo>
                      <a:pt x="518" y="147"/>
                    </a:lnTo>
                    <a:lnTo>
                      <a:pt x="510" y="141"/>
                    </a:lnTo>
                    <a:lnTo>
                      <a:pt x="496" y="134"/>
                    </a:lnTo>
                    <a:lnTo>
                      <a:pt x="473" y="126"/>
                    </a:lnTo>
                    <a:lnTo>
                      <a:pt x="448" y="116"/>
                    </a:lnTo>
                    <a:lnTo>
                      <a:pt x="428" y="105"/>
                    </a:lnTo>
                    <a:lnTo>
                      <a:pt x="410" y="95"/>
                    </a:lnTo>
                    <a:lnTo>
                      <a:pt x="394" y="86"/>
                    </a:lnTo>
                    <a:lnTo>
                      <a:pt x="376" y="78"/>
                    </a:lnTo>
                    <a:lnTo>
                      <a:pt x="356" y="74"/>
                    </a:lnTo>
                    <a:lnTo>
                      <a:pt x="331" y="72"/>
                    </a:lnTo>
                    <a:lnTo>
                      <a:pt x="301" y="75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Freeform 158"/>
              <p:cNvSpPr/>
              <p:nvPr/>
            </p:nvSpPr>
            <p:spPr>
              <a:xfrm>
                <a:off x="5504040" y="3767400"/>
                <a:ext cx="461520" cy="558720"/>
              </a:xfrm>
              <a:custGeom>
                <a:avLst/>
                <a:gdLst/>
                <a:ahLst/>
                <a:rect l="l" t="t" r="r" b="b"/>
                <a:pathLst>
                  <a:path w="666" h="1421">
                    <a:moveTo>
                      <a:pt x="368" y="19"/>
                    </a:moveTo>
                    <a:lnTo>
                      <a:pt x="364" y="21"/>
                    </a:lnTo>
                    <a:lnTo>
                      <a:pt x="356" y="27"/>
                    </a:lnTo>
                    <a:lnTo>
                      <a:pt x="341" y="37"/>
                    </a:lnTo>
                    <a:lnTo>
                      <a:pt x="320" y="50"/>
                    </a:lnTo>
                    <a:lnTo>
                      <a:pt x="298" y="69"/>
                    </a:lnTo>
                    <a:lnTo>
                      <a:pt x="271" y="91"/>
                    </a:lnTo>
                    <a:lnTo>
                      <a:pt x="242" y="116"/>
                    </a:lnTo>
                    <a:lnTo>
                      <a:pt x="212" y="146"/>
                    </a:lnTo>
                    <a:lnTo>
                      <a:pt x="182" y="179"/>
                    </a:lnTo>
                    <a:lnTo>
                      <a:pt x="150" y="218"/>
                    </a:lnTo>
                    <a:lnTo>
                      <a:pt x="120" y="258"/>
                    </a:lnTo>
                    <a:lnTo>
                      <a:pt x="92" y="303"/>
                    </a:lnTo>
                    <a:lnTo>
                      <a:pt x="67" y="352"/>
                    </a:lnTo>
                    <a:lnTo>
                      <a:pt x="44" y="403"/>
                    </a:lnTo>
                    <a:lnTo>
                      <a:pt x="26" y="460"/>
                    </a:lnTo>
                    <a:lnTo>
                      <a:pt x="12" y="519"/>
                    </a:lnTo>
                    <a:lnTo>
                      <a:pt x="4" y="577"/>
                    </a:lnTo>
                    <a:lnTo>
                      <a:pt x="0" y="635"/>
                    </a:lnTo>
                    <a:lnTo>
                      <a:pt x="0" y="692"/>
                    </a:lnTo>
                    <a:lnTo>
                      <a:pt x="4" y="748"/>
                    </a:lnTo>
                    <a:lnTo>
                      <a:pt x="12" y="802"/>
                    </a:lnTo>
                    <a:lnTo>
                      <a:pt x="22" y="855"/>
                    </a:lnTo>
                    <a:lnTo>
                      <a:pt x="33" y="905"/>
                    </a:lnTo>
                    <a:lnTo>
                      <a:pt x="47" y="952"/>
                    </a:lnTo>
                    <a:lnTo>
                      <a:pt x="62" y="997"/>
                    </a:lnTo>
                    <a:lnTo>
                      <a:pt x="79" y="1038"/>
                    </a:lnTo>
                    <a:lnTo>
                      <a:pt x="94" y="1076"/>
                    </a:lnTo>
                    <a:lnTo>
                      <a:pt x="110" y="1109"/>
                    </a:lnTo>
                    <a:lnTo>
                      <a:pt x="125" y="1138"/>
                    </a:lnTo>
                    <a:lnTo>
                      <a:pt x="138" y="1162"/>
                    </a:lnTo>
                    <a:lnTo>
                      <a:pt x="150" y="1180"/>
                    </a:lnTo>
                    <a:lnTo>
                      <a:pt x="160" y="1194"/>
                    </a:lnTo>
                    <a:lnTo>
                      <a:pt x="179" y="1216"/>
                    </a:lnTo>
                    <a:lnTo>
                      <a:pt x="199" y="1244"/>
                    </a:lnTo>
                    <a:lnTo>
                      <a:pt x="221" y="1273"/>
                    </a:lnTo>
                    <a:lnTo>
                      <a:pt x="241" y="1302"/>
                    </a:lnTo>
                    <a:lnTo>
                      <a:pt x="260" y="1329"/>
                    </a:lnTo>
                    <a:lnTo>
                      <a:pt x="274" y="1350"/>
                    </a:lnTo>
                    <a:lnTo>
                      <a:pt x="284" y="1366"/>
                    </a:lnTo>
                    <a:lnTo>
                      <a:pt x="288" y="1371"/>
                    </a:lnTo>
                    <a:lnTo>
                      <a:pt x="290" y="1374"/>
                    </a:lnTo>
                    <a:lnTo>
                      <a:pt x="296" y="1382"/>
                    </a:lnTo>
                    <a:lnTo>
                      <a:pt x="305" y="1392"/>
                    </a:lnTo>
                    <a:lnTo>
                      <a:pt x="318" y="1404"/>
                    </a:lnTo>
                    <a:lnTo>
                      <a:pt x="330" y="1413"/>
                    </a:lnTo>
                    <a:lnTo>
                      <a:pt x="343" y="1420"/>
                    </a:lnTo>
                    <a:lnTo>
                      <a:pt x="356" y="1421"/>
                    </a:lnTo>
                    <a:lnTo>
                      <a:pt x="366" y="1413"/>
                    </a:lnTo>
                    <a:lnTo>
                      <a:pt x="376" y="1402"/>
                    </a:lnTo>
                    <a:lnTo>
                      <a:pt x="388" y="1391"/>
                    </a:lnTo>
                    <a:lnTo>
                      <a:pt x="401" y="1379"/>
                    </a:lnTo>
                    <a:lnTo>
                      <a:pt x="412" y="1365"/>
                    </a:lnTo>
                    <a:lnTo>
                      <a:pt x="424" y="1346"/>
                    </a:lnTo>
                    <a:lnTo>
                      <a:pt x="433" y="1324"/>
                    </a:lnTo>
                    <a:lnTo>
                      <a:pt x="438" y="1295"/>
                    </a:lnTo>
                    <a:lnTo>
                      <a:pt x="439" y="1259"/>
                    </a:lnTo>
                    <a:lnTo>
                      <a:pt x="436" y="1163"/>
                    </a:lnTo>
                    <a:lnTo>
                      <a:pt x="431" y="1053"/>
                    </a:lnTo>
                    <a:lnTo>
                      <a:pt x="426" y="954"/>
                    </a:lnTo>
                    <a:lnTo>
                      <a:pt x="424" y="889"/>
                    </a:lnTo>
                    <a:lnTo>
                      <a:pt x="430" y="852"/>
                    </a:lnTo>
                    <a:lnTo>
                      <a:pt x="448" y="787"/>
                    </a:lnTo>
                    <a:lnTo>
                      <a:pt x="473" y="701"/>
                    </a:lnTo>
                    <a:lnTo>
                      <a:pt x="503" y="607"/>
                    </a:lnTo>
                    <a:lnTo>
                      <a:pt x="536" y="514"/>
                    </a:lnTo>
                    <a:lnTo>
                      <a:pt x="569" y="432"/>
                    </a:lnTo>
                    <a:lnTo>
                      <a:pt x="596" y="369"/>
                    </a:lnTo>
                    <a:lnTo>
                      <a:pt x="618" y="337"/>
                    </a:lnTo>
                    <a:lnTo>
                      <a:pt x="633" y="323"/>
                    </a:lnTo>
                    <a:lnTo>
                      <a:pt x="645" y="305"/>
                    </a:lnTo>
                    <a:lnTo>
                      <a:pt x="654" y="283"/>
                    </a:lnTo>
                    <a:lnTo>
                      <a:pt x="661" y="260"/>
                    </a:lnTo>
                    <a:lnTo>
                      <a:pt x="664" y="233"/>
                    </a:lnTo>
                    <a:lnTo>
                      <a:pt x="666" y="207"/>
                    </a:lnTo>
                    <a:lnTo>
                      <a:pt x="664" y="178"/>
                    </a:lnTo>
                    <a:lnTo>
                      <a:pt x="662" y="149"/>
                    </a:lnTo>
                    <a:lnTo>
                      <a:pt x="658" y="133"/>
                    </a:lnTo>
                    <a:lnTo>
                      <a:pt x="652" y="119"/>
                    </a:lnTo>
                    <a:lnTo>
                      <a:pt x="642" y="102"/>
                    </a:lnTo>
                    <a:lnTo>
                      <a:pt x="629" y="86"/>
                    </a:lnTo>
                    <a:lnTo>
                      <a:pt x="614" y="71"/>
                    </a:lnTo>
                    <a:lnTo>
                      <a:pt x="598" y="56"/>
                    </a:lnTo>
                    <a:lnTo>
                      <a:pt x="579" y="42"/>
                    </a:lnTo>
                    <a:lnTo>
                      <a:pt x="557" y="31"/>
                    </a:lnTo>
                    <a:lnTo>
                      <a:pt x="536" y="20"/>
                    </a:lnTo>
                    <a:lnTo>
                      <a:pt x="513" y="11"/>
                    </a:lnTo>
                    <a:lnTo>
                      <a:pt x="489" y="4"/>
                    </a:lnTo>
                    <a:lnTo>
                      <a:pt x="464" y="0"/>
                    </a:lnTo>
                    <a:lnTo>
                      <a:pt x="440" y="0"/>
                    </a:lnTo>
                    <a:lnTo>
                      <a:pt x="416" y="3"/>
                    </a:lnTo>
                    <a:lnTo>
                      <a:pt x="392" y="8"/>
                    </a:lnTo>
                    <a:lnTo>
                      <a:pt x="368" y="19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Freeform 159"/>
              <p:cNvSpPr/>
              <p:nvPr/>
            </p:nvSpPr>
            <p:spPr>
              <a:xfrm>
                <a:off x="5888880" y="4486680"/>
                <a:ext cx="407880" cy="36360"/>
              </a:xfrm>
              <a:custGeom>
                <a:avLst/>
                <a:gdLst/>
                <a:ahLst/>
                <a:rect l="l" t="t" r="r" b="b"/>
                <a:pathLst>
                  <a:path w="590" h="105">
                    <a:moveTo>
                      <a:pt x="81" y="104"/>
                    </a:moveTo>
                    <a:lnTo>
                      <a:pt x="71" y="101"/>
                    </a:lnTo>
                    <a:lnTo>
                      <a:pt x="59" y="99"/>
                    </a:lnTo>
                    <a:lnTo>
                      <a:pt x="49" y="93"/>
                    </a:lnTo>
                    <a:lnTo>
                      <a:pt x="39" y="88"/>
                    </a:lnTo>
                    <a:lnTo>
                      <a:pt x="29" y="80"/>
                    </a:lnTo>
                    <a:lnTo>
                      <a:pt x="19" y="71"/>
                    </a:lnTo>
                    <a:lnTo>
                      <a:pt x="9" y="59"/>
                    </a:lnTo>
                    <a:lnTo>
                      <a:pt x="0" y="46"/>
                    </a:lnTo>
                    <a:lnTo>
                      <a:pt x="5" y="47"/>
                    </a:lnTo>
                    <a:lnTo>
                      <a:pt x="20" y="50"/>
                    </a:lnTo>
                    <a:lnTo>
                      <a:pt x="42" y="53"/>
                    </a:lnTo>
                    <a:lnTo>
                      <a:pt x="68" y="55"/>
                    </a:lnTo>
                    <a:lnTo>
                      <a:pt x="98" y="55"/>
                    </a:lnTo>
                    <a:lnTo>
                      <a:pt x="130" y="53"/>
                    </a:lnTo>
                    <a:lnTo>
                      <a:pt x="159" y="45"/>
                    </a:lnTo>
                    <a:lnTo>
                      <a:pt x="185" y="32"/>
                    </a:lnTo>
                    <a:lnTo>
                      <a:pt x="198" y="24"/>
                    </a:lnTo>
                    <a:lnTo>
                      <a:pt x="213" y="17"/>
                    </a:lnTo>
                    <a:lnTo>
                      <a:pt x="230" y="12"/>
                    </a:lnTo>
                    <a:lnTo>
                      <a:pt x="247" y="7"/>
                    </a:lnTo>
                    <a:lnTo>
                      <a:pt x="266" y="4"/>
                    </a:lnTo>
                    <a:lnTo>
                      <a:pt x="286" y="1"/>
                    </a:lnTo>
                    <a:lnTo>
                      <a:pt x="306" y="0"/>
                    </a:lnTo>
                    <a:lnTo>
                      <a:pt x="327" y="0"/>
                    </a:lnTo>
                    <a:lnTo>
                      <a:pt x="348" y="1"/>
                    </a:lnTo>
                    <a:lnTo>
                      <a:pt x="368" y="4"/>
                    </a:lnTo>
                    <a:lnTo>
                      <a:pt x="390" y="8"/>
                    </a:lnTo>
                    <a:lnTo>
                      <a:pt x="410" y="12"/>
                    </a:lnTo>
                    <a:lnTo>
                      <a:pt x="429" y="17"/>
                    </a:lnTo>
                    <a:lnTo>
                      <a:pt x="446" y="25"/>
                    </a:lnTo>
                    <a:lnTo>
                      <a:pt x="464" y="33"/>
                    </a:lnTo>
                    <a:lnTo>
                      <a:pt x="479" y="42"/>
                    </a:lnTo>
                    <a:lnTo>
                      <a:pt x="505" y="58"/>
                    </a:lnTo>
                    <a:lnTo>
                      <a:pt x="528" y="66"/>
                    </a:lnTo>
                    <a:lnTo>
                      <a:pt x="547" y="70"/>
                    </a:lnTo>
                    <a:lnTo>
                      <a:pt x="562" y="68"/>
                    </a:lnTo>
                    <a:lnTo>
                      <a:pt x="573" y="66"/>
                    </a:lnTo>
                    <a:lnTo>
                      <a:pt x="582" y="62"/>
                    </a:lnTo>
                    <a:lnTo>
                      <a:pt x="587" y="58"/>
                    </a:lnTo>
                    <a:lnTo>
                      <a:pt x="589" y="57"/>
                    </a:lnTo>
                    <a:lnTo>
                      <a:pt x="589" y="59"/>
                    </a:lnTo>
                    <a:lnTo>
                      <a:pt x="590" y="66"/>
                    </a:lnTo>
                    <a:lnTo>
                      <a:pt x="587" y="75"/>
                    </a:lnTo>
                    <a:lnTo>
                      <a:pt x="580" y="84"/>
                    </a:lnTo>
                    <a:lnTo>
                      <a:pt x="565" y="91"/>
                    </a:lnTo>
                    <a:lnTo>
                      <a:pt x="541" y="93"/>
                    </a:lnTo>
                    <a:lnTo>
                      <a:pt x="504" y="90"/>
                    </a:lnTo>
                    <a:lnTo>
                      <a:pt x="454" y="78"/>
                    </a:lnTo>
                    <a:lnTo>
                      <a:pt x="451" y="76"/>
                    </a:lnTo>
                    <a:lnTo>
                      <a:pt x="446" y="75"/>
                    </a:lnTo>
                    <a:lnTo>
                      <a:pt x="436" y="72"/>
                    </a:lnTo>
                    <a:lnTo>
                      <a:pt x="425" y="68"/>
                    </a:lnTo>
                    <a:lnTo>
                      <a:pt x="410" y="66"/>
                    </a:lnTo>
                    <a:lnTo>
                      <a:pt x="392" y="62"/>
                    </a:lnTo>
                    <a:lnTo>
                      <a:pt x="373" y="58"/>
                    </a:lnTo>
                    <a:lnTo>
                      <a:pt x="354" y="54"/>
                    </a:lnTo>
                    <a:lnTo>
                      <a:pt x="333" y="51"/>
                    </a:lnTo>
                    <a:lnTo>
                      <a:pt x="311" y="49"/>
                    </a:lnTo>
                    <a:lnTo>
                      <a:pt x="289" y="49"/>
                    </a:lnTo>
                    <a:lnTo>
                      <a:pt x="267" y="49"/>
                    </a:lnTo>
                    <a:lnTo>
                      <a:pt x="247" y="51"/>
                    </a:lnTo>
                    <a:lnTo>
                      <a:pt x="227" y="55"/>
                    </a:lnTo>
                    <a:lnTo>
                      <a:pt x="209" y="61"/>
                    </a:lnTo>
                    <a:lnTo>
                      <a:pt x="193" y="70"/>
                    </a:lnTo>
                    <a:lnTo>
                      <a:pt x="190" y="71"/>
                    </a:lnTo>
                    <a:lnTo>
                      <a:pt x="184" y="76"/>
                    </a:lnTo>
                    <a:lnTo>
                      <a:pt x="173" y="83"/>
                    </a:lnTo>
                    <a:lnTo>
                      <a:pt x="159" y="90"/>
                    </a:lnTo>
                    <a:lnTo>
                      <a:pt x="141" y="96"/>
                    </a:lnTo>
                    <a:lnTo>
                      <a:pt x="122" y="101"/>
                    </a:lnTo>
                    <a:lnTo>
                      <a:pt x="102" y="105"/>
                    </a:lnTo>
                    <a:lnTo>
                      <a:pt x="81" y="104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Freeform 160"/>
              <p:cNvSpPr/>
              <p:nvPr/>
            </p:nvSpPr>
            <p:spPr>
              <a:xfrm>
                <a:off x="5545080" y="3795480"/>
                <a:ext cx="327240" cy="435240"/>
              </a:xfrm>
              <a:custGeom>
                <a:avLst/>
                <a:gdLst/>
                <a:ahLst/>
                <a:rect l="l" t="t" r="r" b="b"/>
                <a:pathLst>
                  <a:path w="474" h="1109">
                    <a:moveTo>
                      <a:pt x="312" y="8"/>
                    </a:moveTo>
                    <a:lnTo>
                      <a:pt x="309" y="10"/>
                    </a:lnTo>
                    <a:lnTo>
                      <a:pt x="303" y="12"/>
                    </a:lnTo>
                    <a:lnTo>
                      <a:pt x="293" y="18"/>
                    </a:lnTo>
                    <a:lnTo>
                      <a:pt x="279" y="25"/>
                    </a:lnTo>
                    <a:lnTo>
                      <a:pt x="261" y="36"/>
                    </a:lnTo>
                    <a:lnTo>
                      <a:pt x="242" y="48"/>
                    </a:lnTo>
                    <a:lnTo>
                      <a:pt x="222" y="62"/>
                    </a:lnTo>
                    <a:lnTo>
                      <a:pt x="199" y="79"/>
                    </a:lnTo>
                    <a:lnTo>
                      <a:pt x="177" y="100"/>
                    </a:lnTo>
                    <a:lnTo>
                      <a:pt x="153" y="123"/>
                    </a:lnTo>
                    <a:lnTo>
                      <a:pt x="129" y="148"/>
                    </a:lnTo>
                    <a:lnTo>
                      <a:pt x="106" y="176"/>
                    </a:lnTo>
                    <a:lnTo>
                      <a:pt x="85" y="207"/>
                    </a:lnTo>
                    <a:lnTo>
                      <a:pt x="65" y="241"/>
                    </a:lnTo>
                    <a:lnTo>
                      <a:pt x="46" y="278"/>
                    </a:lnTo>
                    <a:lnTo>
                      <a:pt x="31" y="318"/>
                    </a:lnTo>
                    <a:lnTo>
                      <a:pt x="9" y="401"/>
                    </a:lnTo>
                    <a:lnTo>
                      <a:pt x="0" y="485"/>
                    </a:lnTo>
                    <a:lnTo>
                      <a:pt x="0" y="569"/>
                    </a:lnTo>
                    <a:lnTo>
                      <a:pt x="7" y="648"/>
                    </a:lnTo>
                    <a:lnTo>
                      <a:pt x="17" y="721"/>
                    </a:lnTo>
                    <a:lnTo>
                      <a:pt x="28" y="780"/>
                    </a:lnTo>
                    <a:lnTo>
                      <a:pt x="38" y="826"/>
                    </a:lnTo>
                    <a:lnTo>
                      <a:pt x="46" y="853"/>
                    </a:lnTo>
                    <a:lnTo>
                      <a:pt x="60" y="892"/>
                    </a:lnTo>
                    <a:lnTo>
                      <a:pt x="77" y="933"/>
                    </a:lnTo>
                    <a:lnTo>
                      <a:pt x="96" y="971"/>
                    </a:lnTo>
                    <a:lnTo>
                      <a:pt x="115" y="1007"/>
                    </a:lnTo>
                    <a:lnTo>
                      <a:pt x="133" y="1037"/>
                    </a:lnTo>
                    <a:lnTo>
                      <a:pt x="148" y="1061"/>
                    </a:lnTo>
                    <a:lnTo>
                      <a:pt x="158" y="1076"/>
                    </a:lnTo>
                    <a:lnTo>
                      <a:pt x="162" y="1082"/>
                    </a:lnTo>
                    <a:lnTo>
                      <a:pt x="163" y="1086"/>
                    </a:lnTo>
                    <a:lnTo>
                      <a:pt x="167" y="1094"/>
                    </a:lnTo>
                    <a:lnTo>
                      <a:pt x="173" y="1103"/>
                    </a:lnTo>
                    <a:lnTo>
                      <a:pt x="180" y="1108"/>
                    </a:lnTo>
                    <a:lnTo>
                      <a:pt x="191" y="1109"/>
                    </a:lnTo>
                    <a:lnTo>
                      <a:pt x="202" y="1100"/>
                    </a:lnTo>
                    <a:lnTo>
                      <a:pt x="216" y="1079"/>
                    </a:lnTo>
                    <a:lnTo>
                      <a:pt x="230" y="1041"/>
                    </a:lnTo>
                    <a:lnTo>
                      <a:pt x="238" y="983"/>
                    </a:lnTo>
                    <a:lnTo>
                      <a:pt x="238" y="907"/>
                    </a:lnTo>
                    <a:lnTo>
                      <a:pt x="232" y="821"/>
                    </a:lnTo>
                    <a:lnTo>
                      <a:pt x="227" y="727"/>
                    </a:lnTo>
                    <a:lnTo>
                      <a:pt x="225" y="633"/>
                    </a:lnTo>
                    <a:lnTo>
                      <a:pt x="232" y="543"/>
                    </a:lnTo>
                    <a:lnTo>
                      <a:pt x="254" y="463"/>
                    </a:lnTo>
                    <a:lnTo>
                      <a:pt x="293" y="397"/>
                    </a:lnTo>
                    <a:lnTo>
                      <a:pt x="339" y="343"/>
                    </a:lnTo>
                    <a:lnTo>
                      <a:pt x="380" y="295"/>
                    </a:lnTo>
                    <a:lnTo>
                      <a:pt x="411" y="255"/>
                    </a:lnTo>
                    <a:lnTo>
                      <a:pt x="437" y="220"/>
                    </a:lnTo>
                    <a:lnTo>
                      <a:pt x="455" y="190"/>
                    </a:lnTo>
                    <a:lnTo>
                      <a:pt x="468" y="164"/>
                    </a:lnTo>
                    <a:lnTo>
                      <a:pt x="474" y="139"/>
                    </a:lnTo>
                    <a:lnTo>
                      <a:pt x="473" y="116"/>
                    </a:lnTo>
                    <a:lnTo>
                      <a:pt x="468" y="93"/>
                    </a:lnTo>
                    <a:lnTo>
                      <a:pt x="459" y="69"/>
                    </a:lnTo>
                    <a:lnTo>
                      <a:pt x="446" y="46"/>
                    </a:lnTo>
                    <a:lnTo>
                      <a:pt x="430" y="27"/>
                    </a:lnTo>
                    <a:lnTo>
                      <a:pt x="410" y="11"/>
                    </a:lnTo>
                    <a:lnTo>
                      <a:pt x="382" y="2"/>
                    </a:lnTo>
                    <a:lnTo>
                      <a:pt x="351" y="0"/>
                    </a:lnTo>
                    <a:lnTo>
                      <a:pt x="312" y="8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Freeform 161"/>
              <p:cNvSpPr/>
              <p:nvPr/>
            </p:nvSpPr>
            <p:spPr>
              <a:xfrm>
                <a:off x="5971680" y="4480560"/>
                <a:ext cx="306360" cy="37800"/>
              </a:xfrm>
              <a:custGeom>
                <a:avLst/>
                <a:gdLst/>
                <a:ahLst/>
                <a:rect l="l" t="t" r="r" b="b"/>
                <a:pathLst>
                  <a:path w="442" h="110">
                    <a:moveTo>
                      <a:pt x="0" y="85"/>
                    </a:moveTo>
                    <a:lnTo>
                      <a:pt x="3" y="85"/>
                    </a:lnTo>
                    <a:lnTo>
                      <a:pt x="9" y="84"/>
                    </a:lnTo>
                    <a:lnTo>
                      <a:pt x="19" y="83"/>
                    </a:lnTo>
                    <a:lnTo>
                      <a:pt x="32" y="79"/>
                    </a:lnTo>
                    <a:lnTo>
                      <a:pt x="46" y="75"/>
                    </a:lnTo>
                    <a:lnTo>
                      <a:pt x="61" y="71"/>
                    </a:lnTo>
                    <a:lnTo>
                      <a:pt x="76" y="64"/>
                    </a:lnTo>
                    <a:lnTo>
                      <a:pt x="88" y="56"/>
                    </a:lnTo>
                    <a:lnTo>
                      <a:pt x="90" y="55"/>
                    </a:lnTo>
                    <a:lnTo>
                      <a:pt x="93" y="51"/>
                    </a:lnTo>
                    <a:lnTo>
                      <a:pt x="100" y="45"/>
                    </a:lnTo>
                    <a:lnTo>
                      <a:pt x="109" y="37"/>
                    </a:lnTo>
                    <a:lnTo>
                      <a:pt x="119" y="29"/>
                    </a:lnTo>
                    <a:lnTo>
                      <a:pt x="131" y="20"/>
                    </a:lnTo>
                    <a:lnTo>
                      <a:pt x="146" y="13"/>
                    </a:lnTo>
                    <a:lnTo>
                      <a:pt x="161" y="6"/>
                    </a:lnTo>
                    <a:lnTo>
                      <a:pt x="179" y="1"/>
                    </a:lnTo>
                    <a:lnTo>
                      <a:pt x="198" y="0"/>
                    </a:lnTo>
                    <a:lnTo>
                      <a:pt x="218" y="1"/>
                    </a:lnTo>
                    <a:lnTo>
                      <a:pt x="240" y="6"/>
                    </a:lnTo>
                    <a:lnTo>
                      <a:pt x="262" y="17"/>
                    </a:lnTo>
                    <a:lnTo>
                      <a:pt x="285" y="31"/>
                    </a:lnTo>
                    <a:lnTo>
                      <a:pt x="309" y="53"/>
                    </a:lnTo>
                    <a:lnTo>
                      <a:pt x="333" y="80"/>
                    </a:lnTo>
                    <a:lnTo>
                      <a:pt x="335" y="81"/>
                    </a:lnTo>
                    <a:lnTo>
                      <a:pt x="343" y="84"/>
                    </a:lnTo>
                    <a:lnTo>
                      <a:pt x="355" y="89"/>
                    </a:lnTo>
                    <a:lnTo>
                      <a:pt x="369" y="95"/>
                    </a:lnTo>
                    <a:lnTo>
                      <a:pt x="387" y="99"/>
                    </a:lnTo>
                    <a:lnTo>
                      <a:pt x="405" y="103"/>
                    </a:lnTo>
                    <a:lnTo>
                      <a:pt x="423" y="104"/>
                    </a:lnTo>
                    <a:lnTo>
                      <a:pt x="442" y="103"/>
                    </a:lnTo>
                    <a:lnTo>
                      <a:pt x="441" y="104"/>
                    </a:lnTo>
                    <a:lnTo>
                      <a:pt x="437" y="107"/>
                    </a:lnTo>
                    <a:lnTo>
                      <a:pt x="429" y="109"/>
                    </a:lnTo>
                    <a:lnTo>
                      <a:pt x="415" y="110"/>
                    </a:lnTo>
                    <a:lnTo>
                      <a:pt x="393" y="110"/>
                    </a:lnTo>
                    <a:lnTo>
                      <a:pt x="363" y="107"/>
                    </a:lnTo>
                    <a:lnTo>
                      <a:pt x="321" y="96"/>
                    </a:lnTo>
                    <a:lnTo>
                      <a:pt x="270" y="80"/>
                    </a:lnTo>
                    <a:lnTo>
                      <a:pt x="267" y="79"/>
                    </a:lnTo>
                    <a:lnTo>
                      <a:pt x="260" y="74"/>
                    </a:lnTo>
                    <a:lnTo>
                      <a:pt x="248" y="68"/>
                    </a:lnTo>
                    <a:lnTo>
                      <a:pt x="231" y="62"/>
                    </a:lnTo>
                    <a:lnTo>
                      <a:pt x="209" y="58"/>
                    </a:lnTo>
                    <a:lnTo>
                      <a:pt x="184" y="58"/>
                    </a:lnTo>
                    <a:lnTo>
                      <a:pt x="154" y="62"/>
                    </a:lnTo>
                    <a:lnTo>
                      <a:pt x="120" y="71"/>
                    </a:lnTo>
                    <a:lnTo>
                      <a:pt x="119" y="72"/>
                    </a:lnTo>
                    <a:lnTo>
                      <a:pt x="112" y="76"/>
                    </a:lnTo>
                    <a:lnTo>
                      <a:pt x="103" y="81"/>
                    </a:lnTo>
                    <a:lnTo>
                      <a:pt x="90" y="87"/>
                    </a:lnTo>
                    <a:lnTo>
                      <a:pt x="73" y="91"/>
                    </a:lnTo>
                    <a:lnTo>
                      <a:pt x="52" y="92"/>
                    </a:lnTo>
                    <a:lnTo>
                      <a:pt x="28" y="91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Freeform 162"/>
              <p:cNvSpPr/>
              <p:nvPr/>
            </p:nvSpPr>
            <p:spPr>
              <a:xfrm>
                <a:off x="5971680" y="3737880"/>
                <a:ext cx="327240" cy="69480"/>
              </a:xfrm>
              <a:custGeom>
                <a:avLst/>
                <a:gdLst/>
                <a:ahLst/>
                <a:rect l="l" t="t" r="r" b="b"/>
                <a:pathLst>
                  <a:path w="473" h="165">
                    <a:moveTo>
                      <a:pt x="0" y="0"/>
                    </a:moveTo>
                    <a:lnTo>
                      <a:pt x="4" y="0"/>
                    </a:lnTo>
                    <a:lnTo>
                      <a:pt x="13" y="2"/>
                    </a:lnTo>
                    <a:lnTo>
                      <a:pt x="28" y="4"/>
                    </a:lnTo>
                    <a:lnTo>
                      <a:pt x="48" y="9"/>
                    </a:lnTo>
                    <a:lnTo>
                      <a:pt x="72" y="17"/>
                    </a:lnTo>
                    <a:lnTo>
                      <a:pt x="98" y="28"/>
                    </a:lnTo>
                    <a:lnTo>
                      <a:pt x="129" y="42"/>
                    </a:lnTo>
                    <a:lnTo>
                      <a:pt x="159" y="61"/>
                    </a:lnTo>
                    <a:lnTo>
                      <a:pt x="190" y="78"/>
                    </a:lnTo>
                    <a:lnTo>
                      <a:pt x="221" y="90"/>
                    </a:lnTo>
                    <a:lnTo>
                      <a:pt x="251" y="98"/>
                    </a:lnTo>
                    <a:lnTo>
                      <a:pt x="277" y="100"/>
                    </a:lnTo>
                    <a:lnTo>
                      <a:pt x="300" y="102"/>
                    </a:lnTo>
                    <a:lnTo>
                      <a:pt x="318" y="102"/>
                    </a:lnTo>
                    <a:lnTo>
                      <a:pt x="329" y="100"/>
                    </a:lnTo>
                    <a:lnTo>
                      <a:pt x="333" y="100"/>
                    </a:lnTo>
                    <a:lnTo>
                      <a:pt x="473" y="49"/>
                    </a:lnTo>
                    <a:lnTo>
                      <a:pt x="469" y="53"/>
                    </a:lnTo>
                    <a:lnTo>
                      <a:pt x="457" y="62"/>
                    </a:lnTo>
                    <a:lnTo>
                      <a:pt x="441" y="77"/>
                    </a:lnTo>
                    <a:lnTo>
                      <a:pt x="422" y="94"/>
                    </a:lnTo>
                    <a:lnTo>
                      <a:pt x="401" y="111"/>
                    </a:lnTo>
                    <a:lnTo>
                      <a:pt x="381" y="127"/>
                    </a:lnTo>
                    <a:lnTo>
                      <a:pt x="363" y="141"/>
                    </a:lnTo>
                    <a:lnTo>
                      <a:pt x="350" y="150"/>
                    </a:lnTo>
                    <a:lnTo>
                      <a:pt x="344" y="154"/>
                    </a:lnTo>
                    <a:lnTo>
                      <a:pt x="334" y="157"/>
                    </a:lnTo>
                    <a:lnTo>
                      <a:pt x="323" y="160"/>
                    </a:lnTo>
                    <a:lnTo>
                      <a:pt x="309" y="161"/>
                    </a:lnTo>
                    <a:lnTo>
                      <a:pt x="295" y="164"/>
                    </a:lnTo>
                    <a:lnTo>
                      <a:pt x="279" y="164"/>
                    </a:lnTo>
                    <a:lnTo>
                      <a:pt x="261" y="165"/>
                    </a:lnTo>
                    <a:lnTo>
                      <a:pt x="243" y="164"/>
                    </a:lnTo>
                    <a:lnTo>
                      <a:pt x="224" y="162"/>
                    </a:lnTo>
                    <a:lnTo>
                      <a:pt x="207" y="161"/>
                    </a:lnTo>
                    <a:lnTo>
                      <a:pt x="189" y="157"/>
                    </a:lnTo>
                    <a:lnTo>
                      <a:pt x="172" y="153"/>
                    </a:lnTo>
                    <a:lnTo>
                      <a:pt x="156" y="148"/>
                    </a:lnTo>
                    <a:lnTo>
                      <a:pt x="141" y="141"/>
                    </a:lnTo>
                    <a:lnTo>
                      <a:pt x="127" y="133"/>
                    </a:lnTo>
                    <a:lnTo>
                      <a:pt x="116" y="124"/>
                    </a:lnTo>
                    <a:lnTo>
                      <a:pt x="97" y="103"/>
                    </a:lnTo>
                    <a:lnTo>
                      <a:pt x="81" y="82"/>
                    </a:lnTo>
                    <a:lnTo>
                      <a:pt x="68" y="62"/>
                    </a:lnTo>
                    <a:lnTo>
                      <a:pt x="56" y="42"/>
                    </a:lnTo>
                    <a:lnTo>
                      <a:pt x="43" y="27"/>
                    </a:lnTo>
                    <a:lnTo>
                      <a:pt x="30" y="13"/>
                    </a:lnTo>
                    <a:lnTo>
                      <a:pt x="1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Freeform 163"/>
              <p:cNvSpPr/>
              <p:nvPr/>
            </p:nvSpPr>
            <p:spPr>
              <a:xfrm>
                <a:off x="6272280" y="3832200"/>
                <a:ext cx="392760" cy="373680"/>
              </a:xfrm>
              <a:custGeom>
                <a:avLst/>
                <a:gdLst/>
                <a:ahLst/>
                <a:rect l="l" t="t" r="r" b="b"/>
                <a:pathLst>
                  <a:path w="570" h="953">
                    <a:moveTo>
                      <a:pt x="443" y="29"/>
                    </a:moveTo>
                    <a:lnTo>
                      <a:pt x="440" y="26"/>
                    </a:lnTo>
                    <a:lnTo>
                      <a:pt x="432" y="19"/>
                    </a:lnTo>
                    <a:lnTo>
                      <a:pt x="418" y="13"/>
                    </a:lnTo>
                    <a:lnTo>
                      <a:pt x="400" y="5"/>
                    </a:lnTo>
                    <a:lnTo>
                      <a:pt x="377" y="0"/>
                    </a:lnTo>
                    <a:lnTo>
                      <a:pt x="351" y="0"/>
                    </a:lnTo>
                    <a:lnTo>
                      <a:pt x="322" y="5"/>
                    </a:lnTo>
                    <a:lnTo>
                      <a:pt x="289" y="19"/>
                    </a:lnTo>
                    <a:lnTo>
                      <a:pt x="258" y="35"/>
                    </a:lnTo>
                    <a:lnTo>
                      <a:pt x="233" y="44"/>
                    </a:lnTo>
                    <a:lnTo>
                      <a:pt x="210" y="48"/>
                    </a:lnTo>
                    <a:lnTo>
                      <a:pt x="191" y="51"/>
                    </a:lnTo>
                    <a:lnTo>
                      <a:pt x="175" y="52"/>
                    </a:lnTo>
                    <a:lnTo>
                      <a:pt x="160" y="56"/>
                    </a:lnTo>
                    <a:lnTo>
                      <a:pt x="146" y="65"/>
                    </a:lnTo>
                    <a:lnTo>
                      <a:pt x="132" y="80"/>
                    </a:lnTo>
                    <a:lnTo>
                      <a:pt x="104" y="126"/>
                    </a:lnTo>
                    <a:lnTo>
                      <a:pt x="81" y="180"/>
                    </a:lnTo>
                    <a:lnTo>
                      <a:pt x="63" y="241"/>
                    </a:lnTo>
                    <a:lnTo>
                      <a:pt x="47" y="304"/>
                    </a:lnTo>
                    <a:lnTo>
                      <a:pt x="36" y="366"/>
                    </a:lnTo>
                    <a:lnTo>
                      <a:pt x="26" y="425"/>
                    </a:lnTo>
                    <a:lnTo>
                      <a:pt x="17" y="479"/>
                    </a:lnTo>
                    <a:lnTo>
                      <a:pt x="8" y="524"/>
                    </a:lnTo>
                    <a:lnTo>
                      <a:pt x="2" y="569"/>
                    </a:lnTo>
                    <a:lnTo>
                      <a:pt x="0" y="623"/>
                    </a:lnTo>
                    <a:lnTo>
                      <a:pt x="2" y="679"/>
                    </a:lnTo>
                    <a:lnTo>
                      <a:pt x="8" y="736"/>
                    </a:lnTo>
                    <a:lnTo>
                      <a:pt x="18" y="788"/>
                    </a:lnTo>
                    <a:lnTo>
                      <a:pt x="34" y="832"/>
                    </a:lnTo>
                    <a:lnTo>
                      <a:pt x="54" y="864"/>
                    </a:lnTo>
                    <a:lnTo>
                      <a:pt x="79" y="878"/>
                    </a:lnTo>
                    <a:lnTo>
                      <a:pt x="104" y="885"/>
                    </a:lnTo>
                    <a:lnTo>
                      <a:pt x="127" y="893"/>
                    </a:lnTo>
                    <a:lnTo>
                      <a:pt x="146" y="904"/>
                    </a:lnTo>
                    <a:lnTo>
                      <a:pt x="165" y="915"/>
                    </a:lnTo>
                    <a:lnTo>
                      <a:pt x="181" y="927"/>
                    </a:lnTo>
                    <a:lnTo>
                      <a:pt x="197" y="937"/>
                    </a:lnTo>
                    <a:lnTo>
                      <a:pt x="212" y="947"/>
                    </a:lnTo>
                    <a:lnTo>
                      <a:pt x="229" y="952"/>
                    </a:lnTo>
                    <a:lnTo>
                      <a:pt x="238" y="953"/>
                    </a:lnTo>
                    <a:lnTo>
                      <a:pt x="249" y="953"/>
                    </a:lnTo>
                    <a:lnTo>
                      <a:pt x="260" y="950"/>
                    </a:lnTo>
                    <a:lnTo>
                      <a:pt x="274" y="947"/>
                    </a:lnTo>
                    <a:lnTo>
                      <a:pt x="288" y="940"/>
                    </a:lnTo>
                    <a:lnTo>
                      <a:pt x="303" y="933"/>
                    </a:lnTo>
                    <a:lnTo>
                      <a:pt x="320" y="924"/>
                    </a:lnTo>
                    <a:lnTo>
                      <a:pt x="336" y="914"/>
                    </a:lnTo>
                    <a:lnTo>
                      <a:pt x="354" y="902"/>
                    </a:lnTo>
                    <a:lnTo>
                      <a:pt x="370" y="887"/>
                    </a:lnTo>
                    <a:lnTo>
                      <a:pt x="388" y="873"/>
                    </a:lnTo>
                    <a:lnTo>
                      <a:pt x="405" y="857"/>
                    </a:lnTo>
                    <a:lnTo>
                      <a:pt x="423" y="840"/>
                    </a:lnTo>
                    <a:lnTo>
                      <a:pt x="440" y="820"/>
                    </a:lnTo>
                    <a:lnTo>
                      <a:pt x="457" y="800"/>
                    </a:lnTo>
                    <a:lnTo>
                      <a:pt x="473" y="779"/>
                    </a:lnTo>
                    <a:lnTo>
                      <a:pt x="511" y="711"/>
                    </a:lnTo>
                    <a:lnTo>
                      <a:pt x="541" y="623"/>
                    </a:lnTo>
                    <a:lnTo>
                      <a:pt x="561" y="520"/>
                    </a:lnTo>
                    <a:lnTo>
                      <a:pt x="570" y="411"/>
                    </a:lnTo>
                    <a:lnTo>
                      <a:pt x="564" y="300"/>
                    </a:lnTo>
                    <a:lnTo>
                      <a:pt x="543" y="195"/>
                    </a:lnTo>
                    <a:lnTo>
                      <a:pt x="502" y="102"/>
                    </a:lnTo>
                    <a:lnTo>
                      <a:pt x="443" y="29"/>
                    </a:lnTo>
                    <a:close/>
                  </a:path>
                </a:pathLst>
              </a:custGeom>
              <a:solidFill>
                <a:srgbClr val="ff72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Freeform 164"/>
              <p:cNvSpPr/>
              <p:nvPr/>
            </p:nvSpPr>
            <p:spPr>
              <a:xfrm>
                <a:off x="6377400" y="3944160"/>
                <a:ext cx="205200" cy="199080"/>
              </a:xfrm>
              <a:custGeom>
                <a:avLst/>
                <a:gdLst/>
                <a:ahLst/>
                <a:rect l="l" t="t" r="r" b="b"/>
                <a:pathLst>
                  <a:path w="297" h="507">
                    <a:moveTo>
                      <a:pt x="231" y="15"/>
                    </a:moveTo>
                    <a:lnTo>
                      <a:pt x="229" y="14"/>
                    </a:lnTo>
                    <a:lnTo>
                      <a:pt x="224" y="11"/>
                    </a:lnTo>
                    <a:lnTo>
                      <a:pt x="218" y="7"/>
                    </a:lnTo>
                    <a:lnTo>
                      <a:pt x="208" y="3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68" y="3"/>
                    </a:lnTo>
                    <a:lnTo>
                      <a:pt x="151" y="11"/>
                    </a:lnTo>
                    <a:lnTo>
                      <a:pt x="136" y="19"/>
                    </a:lnTo>
                    <a:lnTo>
                      <a:pt x="122" y="24"/>
                    </a:lnTo>
                    <a:lnTo>
                      <a:pt x="111" y="27"/>
                    </a:lnTo>
                    <a:lnTo>
                      <a:pt x="102" y="28"/>
                    </a:lnTo>
                    <a:lnTo>
                      <a:pt x="93" y="29"/>
                    </a:lnTo>
                    <a:lnTo>
                      <a:pt x="86" y="31"/>
                    </a:lnTo>
                    <a:lnTo>
                      <a:pt x="78" y="35"/>
                    </a:lnTo>
                    <a:lnTo>
                      <a:pt x="71" y="43"/>
                    </a:lnTo>
                    <a:lnTo>
                      <a:pt x="57" y="66"/>
                    </a:lnTo>
                    <a:lnTo>
                      <a:pt x="44" y="95"/>
                    </a:lnTo>
                    <a:lnTo>
                      <a:pt x="35" y="127"/>
                    </a:lnTo>
                    <a:lnTo>
                      <a:pt x="26" y="158"/>
                    </a:lnTo>
                    <a:lnTo>
                      <a:pt x="20" y="191"/>
                    </a:lnTo>
                    <a:lnTo>
                      <a:pt x="15" y="223"/>
                    </a:lnTo>
                    <a:lnTo>
                      <a:pt x="10" y="252"/>
                    </a:lnTo>
                    <a:lnTo>
                      <a:pt x="5" y="276"/>
                    </a:lnTo>
                    <a:lnTo>
                      <a:pt x="1" y="299"/>
                    </a:lnTo>
                    <a:lnTo>
                      <a:pt x="0" y="328"/>
                    </a:lnTo>
                    <a:lnTo>
                      <a:pt x="1" y="359"/>
                    </a:lnTo>
                    <a:lnTo>
                      <a:pt x="4" y="389"/>
                    </a:lnTo>
                    <a:lnTo>
                      <a:pt x="9" y="418"/>
                    </a:lnTo>
                    <a:lnTo>
                      <a:pt x="16" y="442"/>
                    </a:lnTo>
                    <a:lnTo>
                      <a:pt x="26" y="459"/>
                    </a:lnTo>
                    <a:lnTo>
                      <a:pt x="39" y="467"/>
                    </a:lnTo>
                    <a:lnTo>
                      <a:pt x="53" y="471"/>
                    </a:lnTo>
                    <a:lnTo>
                      <a:pt x="64" y="475"/>
                    </a:lnTo>
                    <a:lnTo>
                      <a:pt x="76" y="481"/>
                    </a:lnTo>
                    <a:lnTo>
                      <a:pt x="84" y="486"/>
                    </a:lnTo>
                    <a:lnTo>
                      <a:pt x="93" y="493"/>
                    </a:lnTo>
                    <a:lnTo>
                      <a:pt x="102" y="500"/>
                    </a:lnTo>
                    <a:lnTo>
                      <a:pt x="110" y="503"/>
                    </a:lnTo>
                    <a:lnTo>
                      <a:pt x="118" y="507"/>
                    </a:lnTo>
                    <a:lnTo>
                      <a:pt x="128" y="507"/>
                    </a:lnTo>
                    <a:lnTo>
                      <a:pt x="142" y="503"/>
                    </a:lnTo>
                    <a:lnTo>
                      <a:pt x="157" y="497"/>
                    </a:lnTo>
                    <a:lnTo>
                      <a:pt x="175" y="485"/>
                    </a:lnTo>
                    <a:lnTo>
                      <a:pt x="194" y="472"/>
                    </a:lnTo>
                    <a:lnTo>
                      <a:pt x="212" y="455"/>
                    </a:lnTo>
                    <a:lnTo>
                      <a:pt x="231" y="435"/>
                    </a:lnTo>
                    <a:lnTo>
                      <a:pt x="248" y="413"/>
                    </a:lnTo>
                    <a:lnTo>
                      <a:pt x="268" y="376"/>
                    </a:lnTo>
                    <a:lnTo>
                      <a:pt x="283" y="328"/>
                    </a:lnTo>
                    <a:lnTo>
                      <a:pt x="294" y="274"/>
                    </a:lnTo>
                    <a:lnTo>
                      <a:pt x="297" y="215"/>
                    </a:lnTo>
                    <a:lnTo>
                      <a:pt x="294" y="157"/>
                    </a:lnTo>
                    <a:lnTo>
                      <a:pt x="282" y="102"/>
                    </a:lnTo>
                    <a:lnTo>
                      <a:pt x="262" y="53"/>
                    </a:lnTo>
                    <a:lnTo>
                      <a:pt x="231" y="15"/>
                    </a:lnTo>
                    <a:close/>
                  </a:path>
                </a:pathLst>
              </a:custGeom>
              <a:solidFill>
                <a:srgbClr val="ffa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Freeform 165"/>
              <p:cNvSpPr/>
              <p:nvPr/>
            </p:nvSpPr>
            <p:spPr>
              <a:xfrm>
                <a:off x="6067080" y="3720240"/>
                <a:ext cx="279360" cy="54000"/>
              </a:xfrm>
              <a:custGeom>
                <a:avLst/>
                <a:gdLst/>
                <a:ahLst/>
                <a:rect l="l" t="t" r="r" b="b"/>
                <a:pathLst>
                  <a:path w="406" h="150">
                    <a:moveTo>
                      <a:pt x="29" y="82"/>
                    </a:moveTo>
                    <a:lnTo>
                      <a:pt x="29" y="75"/>
                    </a:lnTo>
                    <a:lnTo>
                      <a:pt x="27" y="61"/>
                    </a:lnTo>
                    <a:lnTo>
                      <a:pt x="23" y="44"/>
                    </a:lnTo>
                    <a:lnTo>
                      <a:pt x="14" y="29"/>
                    </a:lnTo>
                    <a:lnTo>
                      <a:pt x="5" y="17"/>
                    </a:lnTo>
                    <a:lnTo>
                      <a:pt x="0" y="8"/>
                    </a:lnTo>
                    <a:lnTo>
                      <a:pt x="3" y="1"/>
                    </a:lnTo>
                    <a:lnTo>
                      <a:pt x="14" y="0"/>
                    </a:lnTo>
                    <a:lnTo>
                      <a:pt x="25" y="1"/>
                    </a:lnTo>
                    <a:lnTo>
                      <a:pt x="41" y="4"/>
                    </a:lnTo>
                    <a:lnTo>
                      <a:pt x="58" y="7"/>
                    </a:lnTo>
                    <a:lnTo>
                      <a:pt x="77" y="9"/>
                    </a:lnTo>
                    <a:lnTo>
                      <a:pt x="96" y="13"/>
                    </a:lnTo>
                    <a:lnTo>
                      <a:pt x="114" y="17"/>
                    </a:lnTo>
                    <a:lnTo>
                      <a:pt x="130" y="20"/>
                    </a:lnTo>
                    <a:lnTo>
                      <a:pt x="144" y="22"/>
                    </a:lnTo>
                    <a:lnTo>
                      <a:pt x="158" y="24"/>
                    </a:lnTo>
                    <a:lnTo>
                      <a:pt x="174" y="24"/>
                    </a:lnTo>
                    <a:lnTo>
                      <a:pt x="193" y="24"/>
                    </a:lnTo>
                    <a:lnTo>
                      <a:pt x="214" y="22"/>
                    </a:lnTo>
                    <a:lnTo>
                      <a:pt x="235" y="21"/>
                    </a:lnTo>
                    <a:lnTo>
                      <a:pt x="253" y="19"/>
                    </a:lnTo>
                    <a:lnTo>
                      <a:pt x="270" y="16"/>
                    </a:lnTo>
                    <a:lnTo>
                      <a:pt x="284" y="13"/>
                    </a:lnTo>
                    <a:lnTo>
                      <a:pt x="295" y="11"/>
                    </a:lnTo>
                    <a:lnTo>
                      <a:pt x="308" y="8"/>
                    </a:lnTo>
                    <a:lnTo>
                      <a:pt x="319" y="5"/>
                    </a:lnTo>
                    <a:lnTo>
                      <a:pt x="332" y="3"/>
                    </a:lnTo>
                    <a:lnTo>
                      <a:pt x="343" y="3"/>
                    </a:lnTo>
                    <a:lnTo>
                      <a:pt x="355" y="3"/>
                    </a:lnTo>
                    <a:lnTo>
                      <a:pt x="368" y="4"/>
                    </a:lnTo>
                    <a:lnTo>
                      <a:pt x="381" y="8"/>
                    </a:lnTo>
                    <a:lnTo>
                      <a:pt x="400" y="20"/>
                    </a:lnTo>
                    <a:lnTo>
                      <a:pt x="406" y="37"/>
                    </a:lnTo>
                    <a:lnTo>
                      <a:pt x="401" y="53"/>
                    </a:lnTo>
                    <a:lnTo>
                      <a:pt x="387" y="66"/>
                    </a:lnTo>
                    <a:lnTo>
                      <a:pt x="377" y="71"/>
                    </a:lnTo>
                    <a:lnTo>
                      <a:pt x="364" y="76"/>
                    </a:lnTo>
                    <a:lnTo>
                      <a:pt x="352" y="83"/>
                    </a:lnTo>
                    <a:lnTo>
                      <a:pt x="339" y="90"/>
                    </a:lnTo>
                    <a:lnTo>
                      <a:pt x="328" y="96"/>
                    </a:lnTo>
                    <a:lnTo>
                      <a:pt x="319" y="102"/>
                    </a:lnTo>
                    <a:lnTo>
                      <a:pt x="313" y="104"/>
                    </a:lnTo>
                    <a:lnTo>
                      <a:pt x="310" y="105"/>
                    </a:lnTo>
                    <a:lnTo>
                      <a:pt x="250" y="129"/>
                    </a:lnTo>
                    <a:lnTo>
                      <a:pt x="245" y="130"/>
                    </a:lnTo>
                    <a:lnTo>
                      <a:pt x="233" y="132"/>
                    </a:lnTo>
                    <a:lnTo>
                      <a:pt x="216" y="136"/>
                    </a:lnTo>
                    <a:lnTo>
                      <a:pt x="195" y="140"/>
                    </a:lnTo>
                    <a:lnTo>
                      <a:pt x="175" y="144"/>
                    </a:lnTo>
                    <a:lnTo>
                      <a:pt x="156" y="146"/>
                    </a:lnTo>
                    <a:lnTo>
                      <a:pt x="143" y="149"/>
                    </a:lnTo>
                    <a:lnTo>
                      <a:pt x="136" y="150"/>
                    </a:lnTo>
                    <a:lnTo>
                      <a:pt x="133" y="149"/>
                    </a:lnTo>
                    <a:lnTo>
                      <a:pt x="125" y="146"/>
                    </a:lnTo>
                    <a:lnTo>
                      <a:pt x="114" y="141"/>
                    </a:lnTo>
                    <a:lnTo>
                      <a:pt x="101" y="133"/>
                    </a:lnTo>
                    <a:lnTo>
                      <a:pt x="85" y="123"/>
                    </a:lnTo>
                    <a:lnTo>
                      <a:pt x="68" y="111"/>
                    </a:lnTo>
                    <a:lnTo>
                      <a:pt x="49" y="98"/>
                    </a:lnTo>
                    <a:lnTo>
                      <a:pt x="29" y="82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166"/>
              <p:cNvSpPr/>
              <p:nvPr/>
            </p:nvSpPr>
            <p:spPr>
              <a:xfrm>
                <a:off x="5460120" y="3769560"/>
                <a:ext cx="360000" cy="704880"/>
              </a:xfrm>
              <a:custGeom>
                <a:avLst/>
                <a:gdLst/>
                <a:ahLst/>
                <a:rect l="l" t="t" r="r" b="b"/>
                <a:pathLst>
                  <a:path w="521" h="1794">
                    <a:moveTo>
                      <a:pt x="221" y="0"/>
                    </a:moveTo>
                    <a:lnTo>
                      <a:pt x="217" y="4"/>
                    </a:lnTo>
                    <a:lnTo>
                      <a:pt x="204" y="14"/>
                    </a:lnTo>
                    <a:lnTo>
                      <a:pt x="187" y="33"/>
                    </a:lnTo>
                    <a:lnTo>
                      <a:pt x="164" y="58"/>
                    </a:lnTo>
                    <a:lnTo>
                      <a:pt x="139" y="92"/>
                    </a:lnTo>
                    <a:lnTo>
                      <a:pt x="113" y="134"/>
                    </a:lnTo>
                    <a:lnTo>
                      <a:pt x="85" y="184"/>
                    </a:lnTo>
                    <a:lnTo>
                      <a:pt x="60" y="244"/>
                    </a:lnTo>
                    <a:lnTo>
                      <a:pt x="37" y="312"/>
                    </a:lnTo>
                    <a:lnTo>
                      <a:pt x="18" y="388"/>
                    </a:lnTo>
                    <a:lnTo>
                      <a:pt x="5" y="475"/>
                    </a:lnTo>
                    <a:lnTo>
                      <a:pt x="0" y="570"/>
                    </a:lnTo>
                    <a:lnTo>
                      <a:pt x="4" y="676"/>
                    </a:lnTo>
                    <a:lnTo>
                      <a:pt x="19" y="791"/>
                    </a:lnTo>
                    <a:lnTo>
                      <a:pt x="46" y="918"/>
                    </a:lnTo>
                    <a:lnTo>
                      <a:pt x="85" y="1053"/>
                    </a:lnTo>
                    <a:lnTo>
                      <a:pt x="89" y="1060"/>
                    </a:lnTo>
                    <a:lnTo>
                      <a:pt x="100" y="1080"/>
                    </a:lnTo>
                    <a:lnTo>
                      <a:pt x="116" y="1111"/>
                    </a:lnTo>
                    <a:lnTo>
                      <a:pt x="139" y="1152"/>
                    </a:lnTo>
                    <a:lnTo>
                      <a:pt x="165" y="1201"/>
                    </a:lnTo>
                    <a:lnTo>
                      <a:pt x="196" y="1256"/>
                    </a:lnTo>
                    <a:lnTo>
                      <a:pt x="230" y="1317"/>
                    </a:lnTo>
                    <a:lnTo>
                      <a:pt x="265" y="1380"/>
                    </a:lnTo>
                    <a:lnTo>
                      <a:pt x="301" y="1443"/>
                    </a:lnTo>
                    <a:lnTo>
                      <a:pt x="338" y="1508"/>
                    </a:lnTo>
                    <a:lnTo>
                      <a:pt x="375" y="1570"/>
                    </a:lnTo>
                    <a:lnTo>
                      <a:pt x="410" y="1629"/>
                    </a:lnTo>
                    <a:lnTo>
                      <a:pt x="443" y="1682"/>
                    </a:lnTo>
                    <a:lnTo>
                      <a:pt x="473" y="1728"/>
                    </a:lnTo>
                    <a:lnTo>
                      <a:pt x="499" y="1766"/>
                    </a:lnTo>
                    <a:lnTo>
                      <a:pt x="521" y="1794"/>
                    </a:lnTo>
                    <a:lnTo>
                      <a:pt x="517" y="1787"/>
                    </a:lnTo>
                    <a:lnTo>
                      <a:pt x="507" y="1769"/>
                    </a:lnTo>
                    <a:lnTo>
                      <a:pt x="492" y="1740"/>
                    </a:lnTo>
                    <a:lnTo>
                      <a:pt x="472" y="1703"/>
                    </a:lnTo>
                    <a:lnTo>
                      <a:pt x="448" y="1657"/>
                    </a:lnTo>
                    <a:lnTo>
                      <a:pt x="419" y="1605"/>
                    </a:lnTo>
                    <a:lnTo>
                      <a:pt x="388" y="1549"/>
                    </a:lnTo>
                    <a:lnTo>
                      <a:pt x="357" y="1488"/>
                    </a:lnTo>
                    <a:lnTo>
                      <a:pt x="323" y="1426"/>
                    </a:lnTo>
                    <a:lnTo>
                      <a:pt x="289" y="1363"/>
                    </a:lnTo>
                    <a:lnTo>
                      <a:pt x="255" y="1301"/>
                    </a:lnTo>
                    <a:lnTo>
                      <a:pt x="223" y="1241"/>
                    </a:lnTo>
                    <a:lnTo>
                      <a:pt x="193" y="1184"/>
                    </a:lnTo>
                    <a:lnTo>
                      <a:pt x="164" y="1131"/>
                    </a:lnTo>
                    <a:lnTo>
                      <a:pt x="140" y="1085"/>
                    </a:lnTo>
                    <a:lnTo>
                      <a:pt x="120" y="1047"/>
                    </a:lnTo>
                    <a:lnTo>
                      <a:pt x="118" y="1040"/>
                    </a:lnTo>
                    <a:lnTo>
                      <a:pt x="111" y="1021"/>
                    </a:lnTo>
                    <a:lnTo>
                      <a:pt x="101" y="989"/>
                    </a:lnTo>
                    <a:lnTo>
                      <a:pt x="90" y="945"/>
                    </a:lnTo>
                    <a:lnTo>
                      <a:pt x="77" y="894"/>
                    </a:lnTo>
                    <a:lnTo>
                      <a:pt x="66" y="834"/>
                    </a:lnTo>
                    <a:lnTo>
                      <a:pt x="56" y="765"/>
                    </a:lnTo>
                    <a:lnTo>
                      <a:pt x="48" y="691"/>
                    </a:lnTo>
                    <a:lnTo>
                      <a:pt x="43" y="611"/>
                    </a:lnTo>
                    <a:lnTo>
                      <a:pt x="44" y="528"/>
                    </a:lnTo>
                    <a:lnTo>
                      <a:pt x="52" y="441"/>
                    </a:lnTo>
                    <a:lnTo>
                      <a:pt x="67" y="352"/>
                    </a:lnTo>
                    <a:lnTo>
                      <a:pt x="90" y="262"/>
                    </a:lnTo>
                    <a:lnTo>
                      <a:pt x="123" y="172"/>
                    </a:lnTo>
                    <a:lnTo>
                      <a:pt x="165" y="85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167"/>
              <p:cNvSpPr/>
              <p:nvPr/>
            </p:nvSpPr>
            <p:spPr>
              <a:xfrm>
                <a:off x="6017400" y="3750840"/>
                <a:ext cx="240120" cy="46800"/>
              </a:xfrm>
              <a:custGeom>
                <a:avLst/>
                <a:gdLst/>
                <a:ahLst/>
                <a:rect l="l" t="t" r="r" b="b"/>
                <a:pathLst>
                  <a:path w="350" h="120">
                    <a:moveTo>
                      <a:pt x="0" y="0"/>
                    </a:moveTo>
                    <a:lnTo>
                      <a:pt x="5" y="4"/>
                    </a:lnTo>
                    <a:lnTo>
                      <a:pt x="16" y="16"/>
                    </a:lnTo>
                    <a:lnTo>
                      <a:pt x="35" y="32"/>
                    </a:lnTo>
                    <a:lnTo>
                      <a:pt x="59" y="50"/>
                    </a:lnTo>
                    <a:lnTo>
                      <a:pt x="85" y="69"/>
                    </a:lnTo>
                    <a:lnTo>
                      <a:pt x="113" y="87"/>
                    </a:lnTo>
                    <a:lnTo>
                      <a:pt x="141" y="102"/>
                    </a:lnTo>
                    <a:lnTo>
                      <a:pt x="166" y="110"/>
                    </a:lnTo>
                    <a:lnTo>
                      <a:pt x="190" y="115"/>
                    </a:lnTo>
                    <a:lnTo>
                      <a:pt x="215" y="118"/>
                    </a:lnTo>
                    <a:lnTo>
                      <a:pt x="240" y="120"/>
                    </a:lnTo>
                    <a:lnTo>
                      <a:pt x="264" y="119"/>
                    </a:lnTo>
                    <a:lnTo>
                      <a:pt x="287" y="116"/>
                    </a:lnTo>
                    <a:lnTo>
                      <a:pt x="306" y="111"/>
                    </a:lnTo>
                    <a:lnTo>
                      <a:pt x="321" y="102"/>
                    </a:lnTo>
                    <a:lnTo>
                      <a:pt x="331" y="90"/>
                    </a:lnTo>
                    <a:lnTo>
                      <a:pt x="350" y="61"/>
                    </a:lnTo>
                    <a:lnTo>
                      <a:pt x="345" y="62"/>
                    </a:lnTo>
                    <a:lnTo>
                      <a:pt x="331" y="68"/>
                    </a:lnTo>
                    <a:lnTo>
                      <a:pt x="311" y="73"/>
                    </a:lnTo>
                    <a:lnTo>
                      <a:pt x="286" y="78"/>
                    </a:lnTo>
                    <a:lnTo>
                      <a:pt x="255" y="82"/>
                    </a:lnTo>
                    <a:lnTo>
                      <a:pt x="225" y="83"/>
                    </a:lnTo>
                    <a:lnTo>
                      <a:pt x="195" y="79"/>
                    </a:lnTo>
                    <a:lnTo>
                      <a:pt x="167" y="70"/>
                    </a:lnTo>
                    <a:lnTo>
                      <a:pt x="163" y="68"/>
                    </a:lnTo>
                    <a:lnTo>
                      <a:pt x="153" y="60"/>
                    </a:lnTo>
                    <a:lnTo>
                      <a:pt x="137" y="49"/>
                    </a:lnTo>
                    <a:lnTo>
                      <a:pt x="116" y="37"/>
                    </a:lnTo>
                    <a:lnTo>
                      <a:pt x="90" y="25"/>
                    </a:lnTo>
                    <a:lnTo>
                      <a:pt x="61" y="14"/>
                    </a:lnTo>
                    <a:lnTo>
                      <a:pt x="3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168"/>
              <p:cNvSpPr/>
              <p:nvPr/>
            </p:nvSpPr>
            <p:spPr>
              <a:xfrm>
                <a:off x="5567760" y="3823920"/>
                <a:ext cx="194760" cy="360720"/>
              </a:xfrm>
              <a:custGeom>
                <a:avLst/>
                <a:gdLst/>
                <a:ahLst/>
                <a:rect l="l" t="t" r="r" b="b"/>
                <a:pathLst>
                  <a:path w="281" h="918">
                    <a:moveTo>
                      <a:pt x="232" y="13"/>
                    </a:moveTo>
                    <a:lnTo>
                      <a:pt x="227" y="14"/>
                    </a:lnTo>
                    <a:lnTo>
                      <a:pt x="215" y="21"/>
                    </a:lnTo>
                    <a:lnTo>
                      <a:pt x="196" y="31"/>
                    </a:lnTo>
                    <a:lnTo>
                      <a:pt x="173" y="47"/>
                    </a:lnTo>
                    <a:lnTo>
                      <a:pt x="145" y="71"/>
                    </a:lnTo>
                    <a:lnTo>
                      <a:pt x="116" y="101"/>
                    </a:lnTo>
                    <a:lnTo>
                      <a:pt x="87" y="141"/>
                    </a:lnTo>
                    <a:lnTo>
                      <a:pt x="60" y="189"/>
                    </a:lnTo>
                    <a:lnTo>
                      <a:pt x="39" y="236"/>
                    </a:lnTo>
                    <a:lnTo>
                      <a:pt x="22" y="290"/>
                    </a:lnTo>
                    <a:lnTo>
                      <a:pt x="8" y="355"/>
                    </a:lnTo>
                    <a:lnTo>
                      <a:pt x="0" y="431"/>
                    </a:lnTo>
                    <a:lnTo>
                      <a:pt x="0" y="520"/>
                    </a:lnTo>
                    <a:lnTo>
                      <a:pt x="12" y="621"/>
                    </a:lnTo>
                    <a:lnTo>
                      <a:pt x="33" y="737"/>
                    </a:lnTo>
                    <a:lnTo>
                      <a:pt x="70" y="869"/>
                    </a:lnTo>
                    <a:lnTo>
                      <a:pt x="73" y="874"/>
                    </a:lnTo>
                    <a:lnTo>
                      <a:pt x="82" y="885"/>
                    </a:lnTo>
                    <a:lnTo>
                      <a:pt x="95" y="899"/>
                    </a:lnTo>
                    <a:lnTo>
                      <a:pt x="109" y="911"/>
                    </a:lnTo>
                    <a:lnTo>
                      <a:pt x="121" y="918"/>
                    </a:lnTo>
                    <a:lnTo>
                      <a:pt x="131" y="915"/>
                    </a:lnTo>
                    <a:lnTo>
                      <a:pt x="135" y="898"/>
                    </a:lnTo>
                    <a:lnTo>
                      <a:pt x="131" y="862"/>
                    </a:lnTo>
                    <a:lnTo>
                      <a:pt x="126" y="848"/>
                    </a:lnTo>
                    <a:lnTo>
                      <a:pt x="114" y="808"/>
                    </a:lnTo>
                    <a:lnTo>
                      <a:pt x="97" y="748"/>
                    </a:lnTo>
                    <a:lnTo>
                      <a:pt x="84" y="666"/>
                    </a:lnTo>
                    <a:lnTo>
                      <a:pt x="75" y="571"/>
                    </a:lnTo>
                    <a:lnTo>
                      <a:pt x="78" y="462"/>
                    </a:lnTo>
                    <a:lnTo>
                      <a:pt x="96" y="345"/>
                    </a:lnTo>
                    <a:lnTo>
                      <a:pt x="135" y="222"/>
                    </a:lnTo>
                    <a:lnTo>
                      <a:pt x="136" y="218"/>
                    </a:lnTo>
                    <a:lnTo>
                      <a:pt x="143" y="207"/>
                    </a:lnTo>
                    <a:lnTo>
                      <a:pt x="152" y="188"/>
                    </a:lnTo>
                    <a:lnTo>
                      <a:pt x="167" y="166"/>
                    </a:lnTo>
                    <a:lnTo>
                      <a:pt x="186" y="139"/>
                    </a:lnTo>
                    <a:lnTo>
                      <a:pt x="211" y="112"/>
                    </a:lnTo>
                    <a:lnTo>
                      <a:pt x="242" y="83"/>
                    </a:lnTo>
                    <a:lnTo>
                      <a:pt x="280" y="54"/>
                    </a:lnTo>
                    <a:lnTo>
                      <a:pt x="280" y="50"/>
                    </a:lnTo>
                    <a:lnTo>
                      <a:pt x="281" y="41"/>
                    </a:lnTo>
                    <a:lnTo>
                      <a:pt x="281" y="29"/>
                    </a:lnTo>
                    <a:lnTo>
                      <a:pt x="280" y="16"/>
                    </a:lnTo>
                    <a:lnTo>
                      <a:pt x="275" y="5"/>
                    </a:lnTo>
                    <a:lnTo>
                      <a:pt x="266" y="0"/>
                    </a:lnTo>
                    <a:lnTo>
                      <a:pt x="252" y="1"/>
                    </a:lnTo>
                    <a:lnTo>
                      <a:pt x="232" y="13"/>
                    </a:lnTo>
                    <a:close/>
                  </a:path>
                </a:pathLst>
              </a:custGeom>
              <a:solidFill>
                <a:srgbClr val="91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Freeform 169"/>
              <p:cNvSpPr/>
              <p:nvPr/>
            </p:nvSpPr>
            <p:spPr>
              <a:xfrm>
                <a:off x="5977800" y="4494960"/>
                <a:ext cx="261000" cy="33120"/>
              </a:xfrm>
              <a:custGeom>
                <a:avLst/>
                <a:gdLst/>
                <a:ahLst/>
                <a:rect l="l" t="t" r="r" b="b"/>
                <a:pathLst>
                  <a:path w="379" h="95">
                    <a:moveTo>
                      <a:pt x="0" y="71"/>
                    </a:moveTo>
                    <a:lnTo>
                      <a:pt x="4" y="70"/>
                    </a:lnTo>
                    <a:lnTo>
                      <a:pt x="15" y="66"/>
                    </a:lnTo>
                    <a:lnTo>
                      <a:pt x="31" y="60"/>
                    </a:lnTo>
                    <a:lnTo>
                      <a:pt x="51" y="54"/>
                    </a:lnTo>
                    <a:lnTo>
                      <a:pt x="73" y="46"/>
                    </a:lnTo>
                    <a:lnTo>
                      <a:pt x="94" y="37"/>
                    </a:lnTo>
                    <a:lnTo>
                      <a:pt x="113" y="29"/>
                    </a:lnTo>
                    <a:lnTo>
                      <a:pt x="128" y="19"/>
                    </a:lnTo>
                    <a:lnTo>
                      <a:pt x="142" y="12"/>
                    </a:lnTo>
                    <a:lnTo>
                      <a:pt x="157" y="5"/>
                    </a:lnTo>
                    <a:lnTo>
                      <a:pt x="175" y="1"/>
                    </a:lnTo>
                    <a:lnTo>
                      <a:pt x="195" y="0"/>
                    </a:lnTo>
                    <a:lnTo>
                      <a:pt x="218" y="2"/>
                    </a:lnTo>
                    <a:lnTo>
                      <a:pt x="243" y="9"/>
                    </a:lnTo>
                    <a:lnTo>
                      <a:pt x="272" y="19"/>
                    </a:lnTo>
                    <a:lnTo>
                      <a:pt x="302" y="37"/>
                    </a:lnTo>
                    <a:lnTo>
                      <a:pt x="379" y="95"/>
                    </a:lnTo>
                    <a:lnTo>
                      <a:pt x="376" y="95"/>
                    </a:lnTo>
                    <a:lnTo>
                      <a:pt x="368" y="95"/>
                    </a:lnTo>
                    <a:lnTo>
                      <a:pt x="355" y="93"/>
                    </a:lnTo>
                    <a:lnTo>
                      <a:pt x="340" y="92"/>
                    </a:lnTo>
                    <a:lnTo>
                      <a:pt x="323" y="89"/>
                    </a:lnTo>
                    <a:lnTo>
                      <a:pt x="306" y="85"/>
                    </a:lnTo>
                    <a:lnTo>
                      <a:pt x="291" y="80"/>
                    </a:lnTo>
                    <a:lnTo>
                      <a:pt x="277" y="72"/>
                    </a:lnTo>
                    <a:lnTo>
                      <a:pt x="273" y="70"/>
                    </a:lnTo>
                    <a:lnTo>
                      <a:pt x="262" y="66"/>
                    </a:lnTo>
                    <a:lnTo>
                      <a:pt x="244" y="59"/>
                    </a:lnTo>
                    <a:lnTo>
                      <a:pt x="220" y="52"/>
                    </a:lnTo>
                    <a:lnTo>
                      <a:pt x="191" y="50"/>
                    </a:lnTo>
                    <a:lnTo>
                      <a:pt x="158" y="51"/>
                    </a:lnTo>
                    <a:lnTo>
                      <a:pt x="121" y="58"/>
                    </a:lnTo>
                    <a:lnTo>
                      <a:pt x="79" y="72"/>
                    </a:lnTo>
                    <a:lnTo>
                      <a:pt x="78" y="73"/>
                    </a:lnTo>
                    <a:lnTo>
                      <a:pt x="73" y="75"/>
                    </a:lnTo>
                    <a:lnTo>
                      <a:pt x="65" y="77"/>
                    </a:lnTo>
                    <a:lnTo>
                      <a:pt x="55" y="80"/>
                    </a:lnTo>
                    <a:lnTo>
                      <a:pt x="43" y="81"/>
                    </a:lnTo>
                    <a:lnTo>
                      <a:pt x="29" y="80"/>
                    </a:lnTo>
                    <a:lnTo>
                      <a:pt x="15" y="77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2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Freeform 170"/>
              <p:cNvSpPr/>
              <p:nvPr/>
            </p:nvSpPr>
            <p:spPr>
              <a:xfrm>
                <a:off x="6415200" y="3729600"/>
                <a:ext cx="262800" cy="86040"/>
              </a:xfrm>
              <a:custGeom>
                <a:avLst/>
                <a:gdLst/>
                <a:ahLst/>
                <a:rect l="l" t="t" r="r" b="b"/>
                <a:pathLst>
                  <a:path w="382" h="221">
                    <a:moveTo>
                      <a:pt x="0" y="0"/>
                    </a:moveTo>
                    <a:lnTo>
                      <a:pt x="4" y="0"/>
                    </a:lnTo>
                    <a:lnTo>
                      <a:pt x="13" y="0"/>
                    </a:lnTo>
                    <a:lnTo>
                      <a:pt x="27" y="1"/>
                    </a:lnTo>
                    <a:lnTo>
                      <a:pt x="46" y="2"/>
                    </a:lnTo>
                    <a:lnTo>
                      <a:pt x="68" y="6"/>
                    </a:lnTo>
                    <a:lnTo>
                      <a:pt x="95" y="10"/>
                    </a:lnTo>
                    <a:lnTo>
                      <a:pt x="124" y="17"/>
                    </a:lnTo>
                    <a:lnTo>
                      <a:pt x="154" y="26"/>
                    </a:lnTo>
                    <a:lnTo>
                      <a:pt x="185" y="38"/>
                    </a:lnTo>
                    <a:lnTo>
                      <a:pt x="217" y="52"/>
                    </a:lnTo>
                    <a:lnTo>
                      <a:pt x="250" y="71"/>
                    </a:lnTo>
                    <a:lnTo>
                      <a:pt x="280" y="92"/>
                    </a:lnTo>
                    <a:lnTo>
                      <a:pt x="310" y="117"/>
                    </a:lnTo>
                    <a:lnTo>
                      <a:pt x="337" y="147"/>
                    </a:lnTo>
                    <a:lnTo>
                      <a:pt x="362" y="182"/>
                    </a:lnTo>
                    <a:lnTo>
                      <a:pt x="382" y="221"/>
                    </a:lnTo>
                    <a:lnTo>
                      <a:pt x="381" y="220"/>
                    </a:lnTo>
                    <a:lnTo>
                      <a:pt x="376" y="216"/>
                    </a:lnTo>
                    <a:lnTo>
                      <a:pt x="368" y="208"/>
                    </a:lnTo>
                    <a:lnTo>
                      <a:pt x="358" y="200"/>
                    </a:lnTo>
                    <a:lnTo>
                      <a:pt x="344" y="188"/>
                    </a:lnTo>
                    <a:lnTo>
                      <a:pt x="328" y="175"/>
                    </a:lnTo>
                    <a:lnTo>
                      <a:pt x="308" y="160"/>
                    </a:lnTo>
                    <a:lnTo>
                      <a:pt x="286" y="145"/>
                    </a:lnTo>
                    <a:lnTo>
                      <a:pt x="260" y="128"/>
                    </a:lnTo>
                    <a:lnTo>
                      <a:pt x="232" y="110"/>
                    </a:lnTo>
                    <a:lnTo>
                      <a:pt x="200" y="92"/>
                    </a:lnTo>
                    <a:lnTo>
                      <a:pt x="166" y="74"/>
                    </a:lnTo>
                    <a:lnTo>
                      <a:pt x="129" y="54"/>
                    </a:lnTo>
                    <a:lnTo>
                      <a:pt x="88" y="35"/>
                    </a:lnTo>
                    <a:lnTo>
                      <a:pt x="46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Freeform 171"/>
              <p:cNvSpPr/>
              <p:nvPr/>
            </p:nvSpPr>
            <p:spPr>
              <a:xfrm>
                <a:off x="6065280" y="3593880"/>
                <a:ext cx="117720" cy="198000"/>
              </a:xfrm>
              <a:custGeom>
                <a:avLst/>
                <a:gdLst/>
                <a:ahLst/>
                <a:rect l="l" t="t" r="r" b="b"/>
                <a:pathLst>
                  <a:path w="174" h="503">
                    <a:moveTo>
                      <a:pt x="115" y="481"/>
                    </a:moveTo>
                    <a:lnTo>
                      <a:pt x="113" y="468"/>
                    </a:lnTo>
                    <a:lnTo>
                      <a:pt x="108" y="432"/>
                    </a:lnTo>
                    <a:lnTo>
                      <a:pt x="101" y="381"/>
                    </a:lnTo>
                    <a:lnTo>
                      <a:pt x="89" y="318"/>
                    </a:lnTo>
                    <a:lnTo>
                      <a:pt x="73" y="249"/>
                    </a:lnTo>
                    <a:lnTo>
                      <a:pt x="53" y="182"/>
                    </a:lnTo>
                    <a:lnTo>
                      <a:pt x="29" y="120"/>
                    </a:lnTo>
                    <a:lnTo>
                      <a:pt x="0" y="72"/>
                    </a:lnTo>
                    <a:lnTo>
                      <a:pt x="1" y="68"/>
                    </a:lnTo>
                    <a:lnTo>
                      <a:pt x="4" y="58"/>
                    </a:lnTo>
                    <a:lnTo>
                      <a:pt x="9" y="46"/>
                    </a:lnTo>
                    <a:lnTo>
                      <a:pt x="16" y="32"/>
                    </a:lnTo>
                    <a:lnTo>
                      <a:pt x="25" y="18"/>
                    </a:lnTo>
                    <a:lnTo>
                      <a:pt x="38" y="7"/>
                    </a:lnTo>
                    <a:lnTo>
                      <a:pt x="52" y="0"/>
                    </a:lnTo>
                    <a:lnTo>
                      <a:pt x="68" y="2"/>
                    </a:lnTo>
                    <a:lnTo>
                      <a:pt x="113" y="27"/>
                    </a:lnTo>
                    <a:lnTo>
                      <a:pt x="117" y="40"/>
                    </a:lnTo>
                    <a:lnTo>
                      <a:pt x="126" y="75"/>
                    </a:lnTo>
                    <a:lnTo>
                      <a:pt x="137" y="128"/>
                    </a:lnTo>
                    <a:lnTo>
                      <a:pt x="150" y="194"/>
                    </a:lnTo>
                    <a:lnTo>
                      <a:pt x="162" y="266"/>
                    </a:lnTo>
                    <a:lnTo>
                      <a:pt x="171" y="340"/>
                    </a:lnTo>
                    <a:lnTo>
                      <a:pt x="174" y="411"/>
                    </a:lnTo>
                    <a:lnTo>
                      <a:pt x="170" y="473"/>
                    </a:lnTo>
                    <a:lnTo>
                      <a:pt x="169" y="476"/>
                    </a:lnTo>
                    <a:lnTo>
                      <a:pt x="166" y="482"/>
                    </a:lnTo>
                    <a:lnTo>
                      <a:pt x="161" y="490"/>
                    </a:lnTo>
                    <a:lnTo>
                      <a:pt x="156" y="498"/>
                    </a:lnTo>
                    <a:lnTo>
                      <a:pt x="147" y="503"/>
                    </a:lnTo>
                    <a:lnTo>
                      <a:pt x="139" y="503"/>
                    </a:lnTo>
                    <a:lnTo>
                      <a:pt x="127" y="497"/>
                    </a:lnTo>
                    <a:lnTo>
                      <a:pt x="115" y="481"/>
                    </a:lnTo>
                    <a:close/>
                  </a:path>
                </a:pathLst>
              </a:custGeom>
              <a:solidFill>
                <a:srgbClr val="5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Freeform 172"/>
              <p:cNvSpPr/>
              <p:nvPr/>
            </p:nvSpPr>
            <p:spPr>
              <a:xfrm>
                <a:off x="6114600" y="3602160"/>
                <a:ext cx="57960" cy="132840"/>
              </a:xfrm>
              <a:custGeom>
                <a:avLst/>
                <a:gdLst/>
                <a:ahLst/>
                <a:rect l="l" t="t" r="r" b="b"/>
                <a:pathLst>
                  <a:path w="84" h="339">
                    <a:moveTo>
                      <a:pt x="0" y="0"/>
                    </a:moveTo>
                    <a:lnTo>
                      <a:pt x="5" y="1"/>
                    </a:lnTo>
                    <a:lnTo>
                      <a:pt x="16" y="4"/>
                    </a:lnTo>
                    <a:lnTo>
                      <a:pt x="29" y="11"/>
                    </a:lnTo>
                    <a:lnTo>
                      <a:pt x="36" y="21"/>
                    </a:lnTo>
                    <a:lnTo>
                      <a:pt x="39" y="30"/>
                    </a:lnTo>
                    <a:lnTo>
                      <a:pt x="44" y="54"/>
                    </a:lnTo>
                    <a:lnTo>
                      <a:pt x="51" y="90"/>
                    </a:lnTo>
                    <a:lnTo>
                      <a:pt x="60" y="133"/>
                    </a:lnTo>
                    <a:lnTo>
                      <a:pt x="69" y="183"/>
                    </a:lnTo>
                    <a:lnTo>
                      <a:pt x="77" y="236"/>
                    </a:lnTo>
                    <a:lnTo>
                      <a:pt x="83" y="289"/>
                    </a:lnTo>
                    <a:lnTo>
                      <a:pt x="84" y="336"/>
                    </a:lnTo>
                    <a:lnTo>
                      <a:pt x="83" y="337"/>
                    </a:lnTo>
                    <a:lnTo>
                      <a:pt x="79" y="339"/>
                    </a:lnTo>
                    <a:lnTo>
                      <a:pt x="74" y="336"/>
                    </a:lnTo>
                    <a:lnTo>
                      <a:pt x="69" y="328"/>
                    </a:lnTo>
                    <a:lnTo>
                      <a:pt x="68" y="316"/>
                    </a:lnTo>
                    <a:lnTo>
                      <a:pt x="63" y="285"/>
                    </a:lnTo>
                    <a:lnTo>
                      <a:pt x="56" y="240"/>
                    </a:lnTo>
                    <a:lnTo>
                      <a:pt x="48" y="186"/>
                    </a:lnTo>
                    <a:lnTo>
                      <a:pt x="38" y="129"/>
                    </a:lnTo>
                    <a:lnTo>
                      <a:pt x="26" y="75"/>
                    </a:ln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28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Freeform 173"/>
              <p:cNvSpPr/>
              <p:nvPr/>
            </p:nvSpPr>
            <p:spPr>
              <a:xfrm>
                <a:off x="6075360" y="3617280"/>
                <a:ext cx="88560" cy="176760"/>
              </a:xfrm>
              <a:custGeom>
                <a:avLst/>
                <a:gdLst/>
                <a:ahLst/>
                <a:rect l="l" t="t" r="r" b="b"/>
                <a:pathLst>
                  <a:path w="127" h="450">
                    <a:moveTo>
                      <a:pt x="22" y="0"/>
                    </a:moveTo>
                    <a:lnTo>
                      <a:pt x="25" y="6"/>
                    </a:lnTo>
                    <a:lnTo>
                      <a:pt x="34" y="26"/>
                    </a:lnTo>
                    <a:lnTo>
                      <a:pt x="48" y="59"/>
                    </a:lnTo>
                    <a:lnTo>
                      <a:pt x="66" y="106"/>
                    </a:lnTo>
                    <a:lnTo>
                      <a:pt x="83" y="170"/>
                    </a:lnTo>
                    <a:lnTo>
                      <a:pt x="100" y="247"/>
                    </a:lnTo>
                    <a:lnTo>
                      <a:pt x="116" y="341"/>
                    </a:lnTo>
                    <a:lnTo>
                      <a:pt x="127" y="450"/>
                    </a:lnTo>
                    <a:lnTo>
                      <a:pt x="124" y="449"/>
                    </a:lnTo>
                    <a:lnTo>
                      <a:pt x="116" y="446"/>
                    </a:lnTo>
                    <a:lnTo>
                      <a:pt x="107" y="440"/>
                    </a:lnTo>
                    <a:lnTo>
                      <a:pt x="101" y="429"/>
                    </a:lnTo>
                    <a:lnTo>
                      <a:pt x="100" y="417"/>
                    </a:lnTo>
                    <a:lnTo>
                      <a:pt x="97" y="384"/>
                    </a:lnTo>
                    <a:lnTo>
                      <a:pt x="92" y="335"/>
                    </a:lnTo>
                    <a:lnTo>
                      <a:pt x="84" y="275"/>
                    </a:lnTo>
                    <a:lnTo>
                      <a:pt x="72" y="208"/>
                    </a:lnTo>
                    <a:lnTo>
                      <a:pt x="53" y="139"/>
                    </a:lnTo>
                    <a:lnTo>
                      <a:pt x="30" y="72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5" y="5"/>
                    </a:lnTo>
                    <a:lnTo>
                      <a:pt x="13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Freeform 174"/>
              <p:cNvSpPr/>
              <p:nvPr/>
            </p:nvSpPr>
            <p:spPr>
              <a:xfrm>
                <a:off x="5721480" y="3692880"/>
                <a:ext cx="245880" cy="42120"/>
              </a:xfrm>
              <a:custGeom>
                <a:avLst/>
                <a:gdLst/>
                <a:ahLst/>
                <a:rect l="l" t="t" r="r" b="b"/>
                <a:pathLst>
                  <a:path w="356" h="110">
                    <a:moveTo>
                      <a:pt x="4" y="73"/>
                    </a:moveTo>
                    <a:lnTo>
                      <a:pt x="5" y="72"/>
                    </a:lnTo>
                    <a:lnTo>
                      <a:pt x="8" y="68"/>
                    </a:lnTo>
                    <a:lnTo>
                      <a:pt x="14" y="62"/>
                    </a:lnTo>
                    <a:lnTo>
                      <a:pt x="22" y="54"/>
                    </a:lnTo>
                    <a:lnTo>
                      <a:pt x="32" y="46"/>
                    </a:lnTo>
                    <a:lnTo>
                      <a:pt x="44" y="35"/>
                    </a:lnTo>
                    <a:lnTo>
                      <a:pt x="61" y="26"/>
                    </a:lnTo>
                    <a:lnTo>
                      <a:pt x="80" y="18"/>
                    </a:lnTo>
                    <a:lnTo>
                      <a:pt x="101" y="10"/>
                    </a:lnTo>
                    <a:lnTo>
                      <a:pt x="126" y="5"/>
                    </a:lnTo>
                    <a:lnTo>
                      <a:pt x="155" y="1"/>
                    </a:lnTo>
                    <a:lnTo>
                      <a:pt x="188" y="0"/>
                    </a:lnTo>
                    <a:lnTo>
                      <a:pt x="223" y="1"/>
                    </a:lnTo>
                    <a:lnTo>
                      <a:pt x="262" y="8"/>
                    </a:lnTo>
                    <a:lnTo>
                      <a:pt x="306" y="18"/>
                    </a:lnTo>
                    <a:lnTo>
                      <a:pt x="354" y="33"/>
                    </a:lnTo>
                    <a:lnTo>
                      <a:pt x="354" y="34"/>
                    </a:lnTo>
                    <a:lnTo>
                      <a:pt x="356" y="37"/>
                    </a:lnTo>
                    <a:lnTo>
                      <a:pt x="356" y="39"/>
                    </a:lnTo>
                    <a:lnTo>
                      <a:pt x="356" y="43"/>
                    </a:lnTo>
                    <a:lnTo>
                      <a:pt x="352" y="47"/>
                    </a:lnTo>
                    <a:lnTo>
                      <a:pt x="346" y="50"/>
                    </a:lnTo>
                    <a:lnTo>
                      <a:pt x="335" y="52"/>
                    </a:lnTo>
                    <a:lnTo>
                      <a:pt x="322" y="52"/>
                    </a:lnTo>
                    <a:lnTo>
                      <a:pt x="312" y="52"/>
                    </a:lnTo>
                    <a:lnTo>
                      <a:pt x="300" y="51"/>
                    </a:lnTo>
                    <a:lnTo>
                      <a:pt x="286" y="51"/>
                    </a:lnTo>
                    <a:lnTo>
                      <a:pt x="270" y="52"/>
                    </a:lnTo>
                    <a:lnTo>
                      <a:pt x="252" y="52"/>
                    </a:lnTo>
                    <a:lnTo>
                      <a:pt x="235" y="54"/>
                    </a:lnTo>
                    <a:lnTo>
                      <a:pt x="216" y="55"/>
                    </a:lnTo>
                    <a:lnTo>
                      <a:pt x="196" y="58"/>
                    </a:lnTo>
                    <a:lnTo>
                      <a:pt x="175" y="60"/>
                    </a:lnTo>
                    <a:lnTo>
                      <a:pt x="155" y="64"/>
                    </a:lnTo>
                    <a:lnTo>
                      <a:pt x="136" y="68"/>
                    </a:lnTo>
                    <a:lnTo>
                      <a:pt x="118" y="75"/>
                    </a:lnTo>
                    <a:lnTo>
                      <a:pt x="100" y="81"/>
                    </a:lnTo>
                    <a:lnTo>
                      <a:pt x="83" y="88"/>
                    </a:lnTo>
                    <a:lnTo>
                      <a:pt x="68" y="97"/>
                    </a:lnTo>
                    <a:lnTo>
                      <a:pt x="55" y="108"/>
                    </a:lnTo>
                    <a:lnTo>
                      <a:pt x="52" y="109"/>
                    </a:lnTo>
                    <a:lnTo>
                      <a:pt x="43" y="110"/>
                    </a:lnTo>
                    <a:lnTo>
                      <a:pt x="33" y="110"/>
                    </a:lnTo>
                    <a:lnTo>
                      <a:pt x="21" y="110"/>
                    </a:lnTo>
                    <a:lnTo>
                      <a:pt x="10" y="108"/>
                    </a:lnTo>
                    <a:lnTo>
                      <a:pt x="3" y="101"/>
                    </a:lnTo>
                    <a:lnTo>
                      <a:pt x="0" y="90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Freeform 175"/>
              <p:cNvSpPr/>
              <p:nvPr/>
            </p:nvSpPr>
            <p:spPr>
              <a:xfrm>
                <a:off x="5756400" y="3693960"/>
                <a:ext cx="161280" cy="33120"/>
              </a:xfrm>
              <a:custGeom>
                <a:avLst/>
                <a:gdLst/>
                <a:ahLst/>
                <a:rect l="l" t="t" r="r" b="b"/>
                <a:pathLst>
                  <a:path w="234" h="86">
                    <a:moveTo>
                      <a:pt x="4" y="57"/>
                    </a:moveTo>
                    <a:lnTo>
                      <a:pt x="6" y="56"/>
                    </a:lnTo>
                    <a:lnTo>
                      <a:pt x="7" y="53"/>
                    </a:lnTo>
                    <a:lnTo>
                      <a:pt x="11" y="48"/>
                    </a:lnTo>
                    <a:lnTo>
                      <a:pt x="16" y="42"/>
                    </a:lnTo>
                    <a:lnTo>
                      <a:pt x="22" y="36"/>
                    </a:lnTo>
                    <a:lnTo>
                      <a:pt x="31" y="28"/>
                    </a:lnTo>
                    <a:lnTo>
                      <a:pt x="41" y="21"/>
                    </a:lnTo>
                    <a:lnTo>
                      <a:pt x="53" y="15"/>
                    </a:lnTo>
                    <a:lnTo>
                      <a:pt x="67" y="9"/>
                    </a:lnTo>
                    <a:lnTo>
                      <a:pt x="84" y="4"/>
                    </a:lnTo>
                    <a:lnTo>
                      <a:pt x="103" y="2"/>
                    </a:lnTo>
                    <a:lnTo>
                      <a:pt x="124" y="0"/>
                    </a:lnTo>
                    <a:lnTo>
                      <a:pt x="147" y="2"/>
                    </a:lnTo>
                    <a:lnTo>
                      <a:pt x="173" y="6"/>
                    </a:lnTo>
                    <a:lnTo>
                      <a:pt x="201" y="13"/>
                    </a:lnTo>
                    <a:lnTo>
                      <a:pt x="232" y="24"/>
                    </a:lnTo>
                    <a:lnTo>
                      <a:pt x="234" y="27"/>
                    </a:lnTo>
                    <a:lnTo>
                      <a:pt x="234" y="32"/>
                    </a:lnTo>
                    <a:lnTo>
                      <a:pt x="227" y="38"/>
                    </a:lnTo>
                    <a:lnTo>
                      <a:pt x="211" y="40"/>
                    </a:lnTo>
                    <a:lnTo>
                      <a:pt x="197" y="38"/>
                    </a:lnTo>
                    <a:lnTo>
                      <a:pt x="177" y="40"/>
                    </a:lnTo>
                    <a:lnTo>
                      <a:pt x="154" y="41"/>
                    </a:lnTo>
                    <a:lnTo>
                      <a:pt x="129" y="44"/>
                    </a:lnTo>
                    <a:lnTo>
                      <a:pt x="103" y="49"/>
                    </a:lnTo>
                    <a:lnTo>
                      <a:pt x="77" y="57"/>
                    </a:lnTo>
                    <a:lnTo>
                      <a:pt x="55" y="69"/>
                    </a:lnTo>
                    <a:lnTo>
                      <a:pt x="37" y="83"/>
                    </a:lnTo>
                    <a:lnTo>
                      <a:pt x="34" y="83"/>
                    </a:lnTo>
                    <a:lnTo>
                      <a:pt x="29" y="85"/>
                    </a:lnTo>
                    <a:lnTo>
                      <a:pt x="22" y="86"/>
                    </a:lnTo>
                    <a:lnTo>
                      <a:pt x="14" y="85"/>
                    </a:lnTo>
                    <a:lnTo>
                      <a:pt x="8" y="83"/>
                    </a:lnTo>
                    <a:lnTo>
                      <a:pt x="3" y="78"/>
                    </a:lnTo>
                    <a:lnTo>
                      <a:pt x="0" y="69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Freeform 176"/>
              <p:cNvSpPr/>
              <p:nvPr/>
            </p:nvSpPr>
            <p:spPr>
              <a:xfrm>
                <a:off x="5802120" y="3702240"/>
                <a:ext cx="74160" cy="1404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2" y="24"/>
                    </a:moveTo>
                    <a:lnTo>
                      <a:pt x="3" y="23"/>
                    </a:lnTo>
                    <a:lnTo>
                      <a:pt x="7" y="17"/>
                    </a:lnTo>
                    <a:lnTo>
                      <a:pt x="14" y="12"/>
                    </a:lnTo>
                    <a:lnTo>
                      <a:pt x="25" y="6"/>
                    </a:lnTo>
                    <a:lnTo>
                      <a:pt x="39" y="2"/>
                    </a:lnTo>
                    <a:lnTo>
                      <a:pt x="58" y="0"/>
                    </a:lnTo>
                    <a:lnTo>
                      <a:pt x="81" y="3"/>
                    </a:lnTo>
                    <a:lnTo>
                      <a:pt x="109" y="11"/>
                    </a:lnTo>
                    <a:lnTo>
                      <a:pt x="109" y="12"/>
                    </a:lnTo>
                    <a:lnTo>
                      <a:pt x="109" y="14"/>
                    </a:lnTo>
                    <a:lnTo>
                      <a:pt x="106" y="16"/>
                    </a:lnTo>
                    <a:lnTo>
                      <a:pt x="99" y="17"/>
                    </a:lnTo>
                    <a:lnTo>
                      <a:pt x="92" y="17"/>
                    </a:lnTo>
                    <a:lnTo>
                      <a:pt x="82" y="17"/>
                    </a:lnTo>
                    <a:lnTo>
                      <a:pt x="72" y="17"/>
                    </a:lnTo>
                    <a:lnTo>
                      <a:pt x="59" y="19"/>
                    </a:lnTo>
                    <a:lnTo>
                      <a:pt x="48" y="21"/>
                    </a:lnTo>
                    <a:lnTo>
                      <a:pt x="36" y="24"/>
                    </a:lnTo>
                    <a:lnTo>
                      <a:pt x="25" y="29"/>
                    </a:lnTo>
                    <a:lnTo>
                      <a:pt x="17" y="36"/>
                    </a:lnTo>
                    <a:lnTo>
                      <a:pt x="13" y="36"/>
                    </a:lnTo>
                    <a:lnTo>
                      <a:pt x="7" y="36"/>
                    </a:lnTo>
                    <a:lnTo>
                      <a:pt x="0" y="33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ffc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Freeform 177"/>
              <p:cNvSpPr/>
              <p:nvPr/>
            </p:nvSpPr>
            <p:spPr>
              <a:xfrm>
                <a:off x="5969880" y="4367520"/>
                <a:ext cx="76320" cy="86040"/>
              </a:xfrm>
              <a:custGeom>
                <a:avLst/>
                <a:gdLst/>
                <a:ahLst/>
                <a:rect l="l" t="t" r="r" b="b"/>
                <a:pathLst>
                  <a:path w="111" h="217">
                    <a:moveTo>
                      <a:pt x="25" y="22"/>
                    </a:moveTo>
                    <a:lnTo>
                      <a:pt x="20" y="46"/>
                    </a:lnTo>
                    <a:lnTo>
                      <a:pt x="9" y="99"/>
                    </a:lnTo>
                    <a:lnTo>
                      <a:pt x="0" y="157"/>
                    </a:lnTo>
                    <a:lnTo>
                      <a:pt x="0" y="195"/>
                    </a:lnTo>
                    <a:lnTo>
                      <a:pt x="5" y="203"/>
                    </a:lnTo>
                    <a:lnTo>
                      <a:pt x="13" y="209"/>
                    </a:lnTo>
                    <a:lnTo>
                      <a:pt x="22" y="213"/>
                    </a:lnTo>
                    <a:lnTo>
                      <a:pt x="32" y="216"/>
                    </a:lnTo>
                    <a:lnTo>
                      <a:pt x="43" y="217"/>
                    </a:lnTo>
                    <a:lnTo>
                      <a:pt x="53" y="217"/>
                    </a:lnTo>
                    <a:lnTo>
                      <a:pt x="62" y="217"/>
                    </a:lnTo>
                    <a:lnTo>
                      <a:pt x="71" y="217"/>
                    </a:lnTo>
                    <a:lnTo>
                      <a:pt x="86" y="211"/>
                    </a:lnTo>
                    <a:lnTo>
                      <a:pt x="97" y="194"/>
                    </a:lnTo>
                    <a:lnTo>
                      <a:pt x="103" y="174"/>
                    </a:lnTo>
                    <a:lnTo>
                      <a:pt x="107" y="155"/>
                    </a:lnTo>
                    <a:lnTo>
                      <a:pt x="107" y="132"/>
                    </a:lnTo>
                    <a:lnTo>
                      <a:pt x="110" y="99"/>
                    </a:lnTo>
                    <a:lnTo>
                      <a:pt x="111" y="70"/>
                    </a:lnTo>
                    <a:lnTo>
                      <a:pt x="111" y="58"/>
                    </a:lnTo>
                    <a:lnTo>
                      <a:pt x="110" y="54"/>
                    </a:lnTo>
                    <a:lnTo>
                      <a:pt x="106" y="44"/>
                    </a:lnTo>
                    <a:lnTo>
                      <a:pt x="100" y="29"/>
                    </a:lnTo>
                    <a:lnTo>
                      <a:pt x="91" y="15"/>
                    </a:lnTo>
                    <a:lnTo>
                      <a:pt x="79" y="4"/>
                    </a:lnTo>
                    <a:lnTo>
                      <a:pt x="64" y="0"/>
                    </a:lnTo>
                    <a:lnTo>
                      <a:pt x="47" y="5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Freeform 178"/>
              <p:cNvSpPr/>
              <p:nvPr/>
            </p:nvSpPr>
            <p:spPr>
              <a:xfrm>
                <a:off x="6253560" y="4394520"/>
                <a:ext cx="68040" cy="82440"/>
              </a:xfrm>
              <a:custGeom>
                <a:avLst/>
                <a:gdLst/>
                <a:ahLst/>
                <a:rect l="l" t="t" r="r" b="b"/>
                <a:pathLst>
                  <a:path w="99" h="198">
                    <a:moveTo>
                      <a:pt x="26" y="21"/>
                    </a:moveTo>
                    <a:lnTo>
                      <a:pt x="20" y="30"/>
                    </a:lnTo>
                    <a:lnTo>
                      <a:pt x="14" y="45"/>
                    </a:lnTo>
                    <a:lnTo>
                      <a:pt x="7" y="65"/>
                    </a:lnTo>
                    <a:lnTo>
                      <a:pt x="2" y="88"/>
                    </a:lnTo>
                    <a:lnTo>
                      <a:pt x="0" y="112"/>
                    </a:lnTo>
                    <a:lnTo>
                      <a:pt x="0" y="136"/>
                    </a:lnTo>
                    <a:lnTo>
                      <a:pt x="4" y="158"/>
                    </a:lnTo>
                    <a:lnTo>
                      <a:pt x="12" y="177"/>
                    </a:lnTo>
                    <a:lnTo>
                      <a:pt x="24" y="190"/>
                    </a:lnTo>
                    <a:lnTo>
                      <a:pt x="36" y="196"/>
                    </a:lnTo>
                    <a:lnTo>
                      <a:pt x="49" y="198"/>
                    </a:lnTo>
                    <a:lnTo>
                      <a:pt x="62" y="195"/>
                    </a:lnTo>
                    <a:lnTo>
                      <a:pt x="74" y="190"/>
                    </a:lnTo>
                    <a:lnTo>
                      <a:pt x="83" y="183"/>
                    </a:lnTo>
                    <a:lnTo>
                      <a:pt x="91" y="175"/>
                    </a:lnTo>
                    <a:lnTo>
                      <a:pt x="96" y="169"/>
                    </a:lnTo>
                    <a:lnTo>
                      <a:pt x="99" y="138"/>
                    </a:lnTo>
                    <a:lnTo>
                      <a:pt x="98" y="90"/>
                    </a:lnTo>
                    <a:lnTo>
                      <a:pt x="94" y="40"/>
                    </a:lnTo>
                    <a:lnTo>
                      <a:pt x="85" y="12"/>
                    </a:lnTo>
                    <a:lnTo>
                      <a:pt x="80" y="7"/>
                    </a:lnTo>
                    <a:lnTo>
                      <a:pt x="75" y="4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57" y="2"/>
                    </a:lnTo>
                    <a:lnTo>
                      <a:pt x="48" y="5"/>
                    </a:lnTo>
                    <a:lnTo>
                      <a:pt x="38" y="12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Freeform 179"/>
              <p:cNvSpPr/>
              <p:nvPr/>
            </p:nvSpPr>
            <p:spPr>
              <a:xfrm>
                <a:off x="6460560" y="3965400"/>
                <a:ext cx="68040" cy="47160"/>
              </a:xfrm>
              <a:custGeom>
                <a:avLst/>
                <a:gdLst/>
                <a:ahLst/>
                <a:rect l="l" t="t" r="r" b="b"/>
                <a:pathLst>
                  <a:path w="100" h="132">
                    <a:moveTo>
                      <a:pt x="71" y="6"/>
                    </a:moveTo>
                    <a:lnTo>
                      <a:pt x="69" y="4"/>
                    </a:lnTo>
                    <a:lnTo>
                      <a:pt x="63" y="3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4" y="2"/>
                    </a:lnTo>
                    <a:lnTo>
                      <a:pt x="24" y="4"/>
                    </a:lnTo>
                    <a:lnTo>
                      <a:pt x="15" y="11"/>
                    </a:lnTo>
                    <a:lnTo>
                      <a:pt x="10" y="23"/>
                    </a:lnTo>
                    <a:lnTo>
                      <a:pt x="3" y="48"/>
                    </a:lnTo>
                    <a:lnTo>
                      <a:pt x="0" y="69"/>
                    </a:lnTo>
                    <a:lnTo>
                      <a:pt x="0" y="87"/>
                    </a:lnTo>
                    <a:lnTo>
                      <a:pt x="1" y="100"/>
                    </a:lnTo>
                    <a:lnTo>
                      <a:pt x="3" y="107"/>
                    </a:lnTo>
                    <a:lnTo>
                      <a:pt x="8" y="112"/>
                    </a:lnTo>
                    <a:lnTo>
                      <a:pt x="15" y="119"/>
                    </a:lnTo>
                    <a:lnTo>
                      <a:pt x="22" y="124"/>
                    </a:lnTo>
                    <a:lnTo>
                      <a:pt x="31" y="129"/>
                    </a:lnTo>
                    <a:lnTo>
                      <a:pt x="39" y="132"/>
                    </a:lnTo>
                    <a:lnTo>
                      <a:pt x="48" y="132"/>
                    </a:lnTo>
                    <a:lnTo>
                      <a:pt x="54" y="131"/>
                    </a:lnTo>
                    <a:lnTo>
                      <a:pt x="60" y="127"/>
                    </a:lnTo>
                    <a:lnTo>
                      <a:pt x="68" y="122"/>
                    </a:lnTo>
                    <a:lnTo>
                      <a:pt x="75" y="114"/>
                    </a:lnTo>
                    <a:lnTo>
                      <a:pt x="82" y="106"/>
                    </a:lnTo>
                    <a:lnTo>
                      <a:pt x="88" y="98"/>
                    </a:lnTo>
                    <a:lnTo>
                      <a:pt x="93" y="89"/>
                    </a:lnTo>
                    <a:lnTo>
                      <a:pt x="97" y="79"/>
                    </a:lnTo>
                    <a:lnTo>
                      <a:pt x="98" y="72"/>
                    </a:lnTo>
                    <a:lnTo>
                      <a:pt x="100" y="53"/>
                    </a:lnTo>
                    <a:lnTo>
                      <a:pt x="99" y="32"/>
                    </a:lnTo>
                    <a:lnTo>
                      <a:pt x="90" y="15"/>
                    </a:lnTo>
                    <a:lnTo>
                      <a:pt x="71" y="6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Freeform 180"/>
              <p:cNvSpPr/>
              <p:nvPr/>
            </p:nvSpPr>
            <p:spPr>
              <a:xfrm>
                <a:off x="6514560" y="3746160"/>
                <a:ext cx="117720" cy="42480"/>
              </a:xfrm>
              <a:custGeom>
                <a:avLst/>
                <a:gdLst/>
                <a:ahLst/>
                <a:rect l="l" t="t" r="r" b="b"/>
                <a:pathLst>
                  <a:path w="172" h="107">
                    <a:moveTo>
                      <a:pt x="0" y="0"/>
                    </a:moveTo>
                    <a:lnTo>
                      <a:pt x="5" y="2"/>
                    </a:lnTo>
                    <a:lnTo>
                      <a:pt x="19" y="8"/>
                    </a:lnTo>
                    <a:lnTo>
                      <a:pt x="39" y="17"/>
                    </a:lnTo>
                    <a:lnTo>
                      <a:pt x="65" y="29"/>
                    </a:lnTo>
                    <a:lnTo>
                      <a:pt x="93" y="45"/>
                    </a:lnTo>
                    <a:lnTo>
                      <a:pt x="122" y="63"/>
                    </a:lnTo>
                    <a:lnTo>
                      <a:pt x="148" y="83"/>
                    </a:lnTo>
                    <a:lnTo>
                      <a:pt x="172" y="107"/>
                    </a:lnTo>
                    <a:lnTo>
                      <a:pt x="171" y="104"/>
                    </a:lnTo>
                    <a:lnTo>
                      <a:pt x="165" y="95"/>
                    </a:lnTo>
                    <a:lnTo>
                      <a:pt x="153" y="82"/>
                    </a:lnTo>
                    <a:lnTo>
                      <a:pt x="137" y="66"/>
                    </a:lnTo>
                    <a:lnTo>
                      <a:pt x="114" y="49"/>
                    </a:lnTo>
                    <a:lnTo>
                      <a:pt x="84" y="32"/>
                    </a:lnTo>
                    <a:lnTo>
                      <a:pt x="4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2" name="TextBox 323"/>
            <p:cNvSpPr/>
            <p:nvPr/>
          </p:nvSpPr>
          <p:spPr>
            <a:xfrm>
              <a:off x="5487840" y="375300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话题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3" name="组合 321"/>
          <p:cNvGrpSpPr/>
          <p:nvPr/>
        </p:nvGrpSpPr>
        <p:grpSpPr>
          <a:xfrm>
            <a:off x="6012000" y="303120"/>
            <a:ext cx="1596600" cy="1028880"/>
            <a:chOff x="6012000" y="303120"/>
            <a:chExt cx="1596600" cy="1028880"/>
          </a:xfrm>
        </p:grpSpPr>
        <p:grpSp>
          <p:nvGrpSpPr>
            <p:cNvPr id="564" name="Group 152"/>
            <p:cNvGrpSpPr/>
            <p:nvPr/>
          </p:nvGrpSpPr>
          <p:grpSpPr>
            <a:xfrm>
              <a:off x="6012000" y="303120"/>
              <a:ext cx="1596600" cy="1028880"/>
              <a:chOff x="6012000" y="303120"/>
              <a:chExt cx="1596600" cy="1028880"/>
            </a:xfrm>
          </p:grpSpPr>
          <p:sp>
            <p:nvSpPr>
              <p:cNvPr id="565" name="AutoShape 151"/>
              <p:cNvSpPr/>
              <p:nvPr/>
            </p:nvSpPr>
            <p:spPr>
              <a:xfrm>
                <a:off x="6012000" y="303120"/>
                <a:ext cx="1596600" cy="10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Freeform 153"/>
              <p:cNvSpPr/>
              <p:nvPr/>
            </p:nvSpPr>
            <p:spPr>
              <a:xfrm>
                <a:off x="6918840" y="1325880"/>
                <a:ext cx="10080" cy="10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4"/>
                    </a:moveTo>
                    <a:lnTo>
                      <a:pt x="18" y="4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Freeform 154"/>
              <p:cNvSpPr/>
              <p:nvPr/>
            </p:nvSpPr>
            <p:spPr>
              <a:xfrm>
                <a:off x="6092640" y="303120"/>
                <a:ext cx="1495080" cy="1027440"/>
              </a:xfrm>
              <a:custGeom>
                <a:avLst/>
                <a:gdLst/>
                <a:ahLst/>
                <a:rect l="l" t="t" r="r" b="b"/>
                <a:pathLst>
                  <a:path w="2166" h="2610">
                    <a:moveTo>
                      <a:pt x="1719" y="348"/>
                    </a:moveTo>
                    <a:lnTo>
                      <a:pt x="1679" y="335"/>
                    </a:lnTo>
                    <a:lnTo>
                      <a:pt x="1643" y="323"/>
                    </a:lnTo>
                    <a:lnTo>
                      <a:pt x="1609" y="313"/>
                    </a:lnTo>
                    <a:lnTo>
                      <a:pt x="1576" y="306"/>
                    </a:lnTo>
                    <a:lnTo>
                      <a:pt x="1545" y="300"/>
                    </a:lnTo>
                    <a:lnTo>
                      <a:pt x="1514" y="296"/>
                    </a:lnTo>
                    <a:lnTo>
                      <a:pt x="1487" y="294"/>
                    </a:lnTo>
                    <a:lnTo>
                      <a:pt x="1460" y="292"/>
                    </a:lnTo>
                    <a:lnTo>
                      <a:pt x="1434" y="292"/>
                    </a:lnTo>
                    <a:lnTo>
                      <a:pt x="1409" y="292"/>
                    </a:lnTo>
                    <a:lnTo>
                      <a:pt x="1385" y="295"/>
                    </a:lnTo>
                    <a:lnTo>
                      <a:pt x="1362" y="298"/>
                    </a:lnTo>
                    <a:lnTo>
                      <a:pt x="1338" y="300"/>
                    </a:lnTo>
                    <a:lnTo>
                      <a:pt x="1317" y="304"/>
                    </a:lnTo>
                    <a:lnTo>
                      <a:pt x="1294" y="308"/>
                    </a:lnTo>
                    <a:lnTo>
                      <a:pt x="1273" y="312"/>
                    </a:lnTo>
                    <a:lnTo>
                      <a:pt x="1271" y="312"/>
                    </a:lnTo>
                    <a:lnTo>
                      <a:pt x="1269" y="312"/>
                    </a:lnTo>
                    <a:lnTo>
                      <a:pt x="1265" y="313"/>
                    </a:lnTo>
                    <a:lnTo>
                      <a:pt x="1260" y="313"/>
                    </a:lnTo>
                    <a:lnTo>
                      <a:pt x="1254" y="277"/>
                    </a:lnTo>
                    <a:lnTo>
                      <a:pt x="1246" y="237"/>
                    </a:lnTo>
                    <a:lnTo>
                      <a:pt x="1239" y="194"/>
                    </a:lnTo>
                    <a:lnTo>
                      <a:pt x="1232" y="153"/>
                    </a:lnTo>
                    <a:lnTo>
                      <a:pt x="1225" y="116"/>
                    </a:lnTo>
                    <a:lnTo>
                      <a:pt x="1220" y="87"/>
                    </a:lnTo>
                    <a:lnTo>
                      <a:pt x="1216" y="67"/>
                    </a:lnTo>
                    <a:lnTo>
                      <a:pt x="1215" y="59"/>
                    </a:lnTo>
                    <a:lnTo>
                      <a:pt x="1162" y="40"/>
                    </a:lnTo>
                    <a:lnTo>
                      <a:pt x="1106" y="9"/>
                    </a:lnTo>
                    <a:lnTo>
                      <a:pt x="1095" y="7"/>
                    </a:lnTo>
                    <a:lnTo>
                      <a:pt x="1090" y="5"/>
                    </a:lnTo>
                    <a:lnTo>
                      <a:pt x="1085" y="4"/>
                    </a:lnTo>
                    <a:lnTo>
                      <a:pt x="1080" y="3"/>
                    </a:lnTo>
                    <a:lnTo>
                      <a:pt x="1075" y="1"/>
                    </a:lnTo>
                    <a:lnTo>
                      <a:pt x="1068" y="1"/>
                    </a:lnTo>
                    <a:lnTo>
                      <a:pt x="1063" y="0"/>
                    </a:lnTo>
                    <a:lnTo>
                      <a:pt x="1058" y="0"/>
                    </a:lnTo>
                    <a:lnTo>
                      <a:pt x="1053" y="0"/>
                    </a:lnTo>
                    <a:lnTo>
                      <a:pt x="1048" y="0"/>
                    </a:lnTo>
                    <a:lnTo>
                      <a:pt x="1043" y="0"/>
                    </a:lnTo>
                    <a:lnTo>
                      <a:pt x="1038" y="1"/>
                    </a:lnTo>
                    <a:lnTo>
                      <a:pt x="1034" y="1"/>
                    </a:lnTo>
                    <a:lnTo>
                      <a:pt x="1029" y="3"/>
                    </a:lnTo>
                    <a:lnTo>
                      <a:pt x="1024" y="4"/>
                    </a:lnTo>
                    <a:lnTo>
                      <a:pt x="1019" y="5"/>
                    </a:lnTo>
                    <a:lnTo>
                      <a:pt x="1014" y="7"/>
                    </a:lnTo>
                    <a:lnTo>
                      <a:pt x="994" y="14"/>
                    </a:lnTo>
                    <a:lnTo>
                      <a:pt x="974" y="26"/>
                    </a:lnTo>
                    <a:lnTo>
                      <a:pt x="955" y="42"/>
                    </a:lnTo>
                    <a:lnTo>
                      <a:pt x="939" y="61"/>
                    </a:lnTo>
                    <a:lnTo>
                      <a:pt x="924" y="82"/>
                    </a:lnTo>
                    <a:lnTo>
                      <a:pt x="911" y="107"/>
                    </a:lnTo>
                    <a:lnTo>
                      <a:pt x="900" y="133"/>
                    </a:lnTo>
                    <a:lnTo>
                      <a:pt x="891" y="163"/>
                    </a:lnTo>
                    <a:lnTo>
                      <a:pt x="877" y="228"/>
                    </a:lnTo>
                    <a:lnTo>
                      <a:pt x="878" y="230"/>
                    </a:lnTo>
                    <a:lnTo>
                      <a:pt x="883" y="236"/>
                    </a:lnTo>
                    <a:lnTo>
                      <a:pt x="888" y="244"/>
                    </a:lnTo>
                    <a:lnTo>
                      <a:pt x="896" y="253"/>
                    </a:lnTo>
                    <a:lnTo>
                      <a:pt x="872" y="248"/>
                    </a:lnTo>
                    <a:lnTo>
                      <a:pt x="848" y="242"/>
                    </a:lnTo>
                    <a:lnTo>
                      <a:pt x="823" y="237"/>
                    </a:lnTo>
                    <a:lnTo>
                      <a:pt x="796" y="233"/>
                    </a:lnTo>
                    <a:lnTo>
                      <a:pt x="770" y="230"/>
                    </a:lnTo>
                    <a:lnTo>
                      <a:pt x="743" y="229"/>
                    </a:lnTo>
                    <a:lnTo>
                      <a:pt x="716" y="228"/>
                    </a:lnTo>
                    <a:lnTo>
                      <a:pt x="688" y="228"/>
                    </a:lnTo>
                    <a:lnTo>
                      <a:pt x="660" y="229"/>
                    </a:lnTo>
                    <a:lnTo>
                      <a:pt x="633" y="230"/>
                    </a:lnTo>
                    <a:lnTo>
                      <a:pt x="604" y="234"/>
                    </a:lnTo>
                    <a:lnTo>
                      <a:pt x="575" y="240"/>
                    </a:lnTo>
                    <a:lnTo>
                      <a:pt x="547" y="245"/>
                    </a:lnTo>
                    <a:lnTo>
                      <a:pt x="518" y="253"/>
                    </a:lnTo>
                    <a:lnTo>
                      <a:pt x="489" y="262"/>
                    </a:lnTo>
                    <a:lnTo>
                      <a:pt x="461" y="271"/>
                    </a:lnTo>
                    <a:lnTo>
                      <a:pt x="432" y="283"/>
                    </a:lnTo>
                    <a:lnTo>
                      <a:pt x="405" y="298"/>
                    </a:lnTo>
                    <a:lnTo>
                      <a:pt x="377" y="312"/>
                    </a:lnTo>
                    <a:lnTo>
                      <a:pt x="350" y="329"/>
                    </a:lnTo>
                    <a:lnTo>
                      <a:pt x="324" y="349"/>
                    </a:lnTo>
                    <a:lnTo>
                      <a:pt x="297" y="369"/>
                    </a:lnTo>
                    <a:lnTo>
                      <a:pt x="271" y="391"/>
                    </a:lnTo>
                    <a:lnTo>
                      <a:pt x="246" y="416"/>
                    </a:lnTo>
                    <a:lnTo>
                      <a:pt x="222" y="443"/>
                    </a:lnTo>
                    <a:lnTo>
                      <a:pt x="198" y="471"/>
                    </a:lnTo>
                    <a:lnTo>
                      <a:pt x="175" y="503"/>
                    </a:lnTo>
                    <a:lnTo>
                      <a:pt x="154" y="536"/>
                    </a:lnTo>
                    <a:lnTo>
                      <a:pt x="134" y="572"/>
                    </a:lnTo>
                    <a:lnTo>
                      <a:pt x="114" y="610"/>
                    </a:lnTo>
                    <a:lnTo>
                      <a:pt x="95" y="649"/>
                    </a:lnTo>
                    <a:lnTo>
                      <a:pt x="77" y="693"/>
                    </a:lnTo>
                    <a:lnTo>
                      <a:pt x="73" y="701"/>
                    </a:lnTo>
                    <a:lnTo>
                      <a:pt x="67" y="718"/>
                    </a:lnTo>
                    <a:lnTo>
                      <a:pt x="58" y="744"/>
                    </a:lnTo>
                    <a:lnTo>
                      <a:pt x="48" y="778"/>
                    </a:lnTo>
                    <a:lnTo>
                      <a:pt x="37" y="822"/>
                    </a:lnTo>
                    <a:lnTo>
                      <a:pt x="25" y="872"/>
                    </a:lnTo>
                    <a:lnTo>
                      <a:pt x="15" y="931"/>
                    </a:lnTo>
                    <a:lnTo>
                      <a:pt x="6" y="996"/>
                    </a:lnTo>
                    <a:lnTo>
                      <a:pt x="1" y="1068"/>
                    </a:lnTo>
                    <a:lnTo>
                      <a:pt x="0" y="1146"/>
                    </a:lnTo>
                    <a:lnTo>
                      <a:pt x="3" y="1230"/>
                    </a:lnTo>
                    <a:lnTo>
                      <a:pt x="10" y="1320"/>
                    </a:lnTo>
                    <a:lnTo>
                      <a:pt x="25" y="1413"/>
                    </a:lnTo>
                    <a:lnTo>
                      <a:pt x="47" y="1512"/>
                    </a:lnTo>
                    <a:lnTo>
                      <a:pt x="77" y="1615"/>
                    </a:lnTo>
                    <a:lnTo>
                      <a:pt x="116" y="1721"/>
                    </a:lnTo>
                    <a:lnTo>
                      <a:pt x="149" y="1798"/>
                    </a:lnTo>
                    <a:lnTo>
                      <a:pt x="183" y="1873"/>
                    </a:lnTo>
                    <a:lnTo>
                      <a:pt x="219" y="1944"/>
                    </a:lnTo>
                    <a:lnTo>
                      <a:pt x="258" y="2014"/>
                    </a:lnTo>
                    <a:lnTo>
                      <a:pt x="296" y="2081"/>
                    </a:lnTo>
                    <a:lnTo>
                      <a:pt x="335" y="2144"/>
                    </a:lnTo>
                    <a:lnTo>
                      <a:pt x="373" y="2203"/>
                    </a:lnTo>
                    <a:lnTo>
                      <a:pt x="410" y="2259"/>
                    </a:lnTo>
                    <a:lnTo>
                      <a:pt x="445" y="2310"/>
                    </a:lnTo>
                    <a:lnTo>
                      <a:pt x="478" y="2355"/>
                    </a:lnTo>
                    <a:lnTo>
                      <a:pt x="507" y="2396"/>
                    </a:lnTo>
                    <a:lnTo>
                      <a:pt x="533" y="2430"/>
                    </a:lnTo>
                    <a:lnTo>
                      <a:pt x="554" y="2458"/>
                    </a:lnTo>
                    <a:lnTo>
                      <a:pt x="572" y="2479"/>
                    </a:lnTo>
                    <a:lnTo>
                      <a:pt x="583" y="2493"/>
                    </a:lnTo>
                    <a:lnTo>
                      <a:pt x="588" y="2500"/>
                    </a:lnTo>
                    <a:lnTo>
                      <a:pt x="594" y="2505"/>
                    </a:lnTo>
                    <a:lnTo>
                      <a:pt x="600" y="2510"/>
                    </a:lnTo>
                    <a:lnTo>
                      <a:pt x="616" y="2523"/>
                    </a:lnTo>
                    <a:lnTo>
                      <a:pt x="635" y="2537"/>
                    </a:lnTo>
                    <a:lnTo>
                      <a:pt x="657" y="2550"/>
                    </a:lnTo>
                    <a:lnTo>
                      <a:pt x="679" y="2563"/>
                    </a:lnTo>
                    <a:lnTo>
                      <a:pt x="704" y="2575"/>
                    </a:lnTo>
                    <a:lnTo>
                      <a:pt x="731" y="2585"/>
                    </a:lnTo>
                    <a:lnTo>
                      <a:pt x="760" y="2593"/>
                    </a:lnTo>
                    <a:lnTo>
                      <a:pt x="789" y="2600"/>
                    </a:lnTo>
                    <a:lnTo>
                      <a:pt x="806" y="2602"/>
                    </a:lnTo>
                    <a:lnTo>
                      <a:pt x="825" y="2605"/>
                    </a:lnTo>
                    <a:lnTo>
                      <a:pt x="843" y="2605"/>
                    </a:lnTo>
                    <a:lnTo>
                      <a:pt x="862" y="2605"/>
                    </a:lnTo>
                    <a:lnTo>
                      <a:pt x="881" y="2602"/>
                    </a:lnTo>
                    <a:lnTo>
                      <a:pt x="900" y="2600"/>
                    </a:lnTo>
                    <a:lnTo>
                      <a:pt x="919" y="2595"/>
                    </a:lnTo>
                    <a:lnTo>
                      <a:pt x="937" y="2588"/>
                    </a:lnTo>
                    <a:lnTo>
                      <a:pt x="954" y="2580"/>
                    </a:lnTo>
                    <a:lnTo>
                      <a:pt x="912" y="2589"/>
                    </a:lnTo>
                    <a:lnTo>
                      <a:pt x="999" y="2570"/>
                    </a:lnTo>
                    <a:lnTo>
                      <a:pt x="1008" y="2567"/>
                    </a:lnTo>
                    <a:lnTo>
                      <a:pt x="1017" y="2564"/>
                    </a:lnTo>
                    <a:lnTo>
                      <a:pt x="1024" y="2562"/>
                    </a:lnTo>
                    <a:lnTo>
                      <a:pt x="1033" y="2560"/>
                    </a:lnTo>
                    <a:lnTo>
                      <a:pt x="1042" y="2559"/>
                    </a:lnTo>
                    <a:lnTo>
                      <a:pt x="1051" y="2558"/>
                    </a:lnTo>
                    <a:lnTo>
                      <a:pt x="1061" y="2558"/>
                    </a:lnTo>
                    <a:lnTo>
                      <a:pt x="1070" y="2559"/>
                    </a:lnTo>
                    <a:lnTo>
                      <a:pt x="1075" y="2560"/>
                    </a:lnTo>
                    <a:lnTo>
                      <a:pt x="1087" y="2564"/>
                    </a:lnTo>
                    <a:lnTo>
                      <a:pt x="1100" y="2568"/>
                    </a:lnTo>
                    <a:lnTo>
                      <a:pt x="1105" y="2570"/>
                    </a:lnTo>
                    <a:lnTo>
                      <a:pt x="1096" y="2563"/>
                    </a:lnTo>
                    <a:lnTo>
                      <a:pt x="1106" y="2570"/>
                    </a:lnTo>
                    <a:lnTo>
                      <a:pt x="1119" y="2576"/>
                    </a:lnTo>
                    <a:lnTo>
                      <a:pt x="1131" y="2581"/>
                    </a:lnTo>
                    <a:lnTo>
                      <a:pt x="1145" y="2587"/>
                    </a:lnTo>
                    <a:lnTo>
                      <a:pt x="1160" y="2591"/>
                    </a:lnTo>
                    <a:lnTo>
                      <a:pt x="1176" y="2595"/>
                    </a:lnTo>
                    <a:lnTo>
                      <a:pt x="1193" y="2597"/>
                    </a:lnTo>
                    <a:lnTo>
                      <a:pt x="1211" y="2600"/>
                    </a:lnTo>
                    <a:lnTo>
                      <a:pt x="1231" y="2604"/>
                    </a:lnTo>
                    <a:lnTo>
                      <a:pt x="1250" y="2608"/>
                    </a:lnTo>
                    <a:lnTo>
                      <a:pt x="1268" y="2609"/>
                    </a:lnTo>
                    <a:lnTo>
                      <a:pt x="1286" y="2610"/>
                    </a:lnTo>
                    <a:lnTo>
                      <a:pt x="1303" y="2610"/>
                    </a:lnTo>
                    <a:lnTo>
                      <a:pt x="1319" y="2610"/>
                    </a:lnTo>
                    <a:lnTo>
                      <a:pt x="1336" y="2609"/>
                    </a:lnTo>
                    <a:lnTo>
                      <a:pt x="1351" y="2608"/>
                    </a:lnTo>
                    <a:lnTo>
                      <a:pt x="1372" y="2604"/>
                    </a:lnTo>
                    <a:lnTo>
                      <a:pt x="1391" y="2600"/>
                    </a:lnTo>
                    <a:lnTo>
                      <a:pt x="1409" y="2596"/>
                    </a:lnTo>
                    <a:lnTo>
                      <a:pt x="1422" y="2591"/>
                    </a:lnTo>
                    <a:lnTo>
                      <a:pt x="1435" y="2585"/>
                    </a:lnTo>
                    <a:lnTo>
                      <a:pt x="1445" y="2581"/>
                    </a:lnTo>
                    <a:lnTo>
                      <a:pt x="1453" y="2579"/>
                    </a:lnTo>
                    <a:lnTo>
                      <a:pt x="1456" y="2576"/>
                    </a:lnTo>
                    <a:lnTo>
                      <a:pt x="1519" y="2530"/>
                    </a:lnTo>
                    <a:lnTo>
                      <a:pt x="1581" y="2476"/>
                    </a:lnTo>
                    <a:lnTo>
                      <a:pt x="1642" y="2415"/>
                    </a:lnTo>
                    <a:lnTo>
                      <a:pt x="1701" y="2350"/>
                    </a:lnTo>
                    <a:lnTo>
                      <a:pt x="1759" y="2278"/>
                    </a:lnTo>
                    <a:lnTo>
                      <a:pt x="1813" y="2203"/>
                    </a:lnTo>
                    <a:lnTo>
                      <a:pt x="1866" y="2124"/>
                    </a:lnTo>
                    <a:lnTo>
                      <a:pt x="1915" y="2040"/>
                    </a:lnTo>
                    <a:lnTo>
                      <a:pt x="1962" y="1954"/>
                    </a:lnTo>
                    <a:lnTo>
                      <a:pt x="2005" y="1868"/>
                    </a:lnTo>
                    <a:lnTo>
                      <a:pt x="2042" y="1778"/>
                    </a:lnTo>
                    <a:lnTo>
                      <a:pt x="2076" y="1688"/>
                    </a:lnTo>
                    <a:lnTo>
                      <a:pt x="2105" y="1598"/>
                    </a:lnTo>
                    <a:lnTo>
                      <a:pt x="2128" y="1508"/>
                    </a:lnTo>
                    <a:lnTo>
                      <a:pt x="2147" y="1418"/>
                    </a:lnTo>
                    <a:lnTo>
                      <a:pt x="2158" y="1332"/>
                    </a:lnTo>
                    <a:lnTo>
                      <a:pt x="2163" y="1262"/>
                    </a:lnTo>
                    <a:lnTo>
                      <a:pt x="2166" y="1189"/>
                    </a:lnTo>
                    <a:lnTo>
                      <a:pt x="2165" y="1117"/>
                    </a:lnTo>
                    <a:lnTo>
                      <a:pt x="2159" y="1043"/>
                    </a:lnTo>
                    <a:lnTo>
                      <a:pt x="2151" y="969"/>
                    </a:lnTo>
                    <a:lnTo>
                      <a:pt x="2138" y="897"/>
                    </a:lnTo>
                    <a:lnTo>
                      <a:pt x="2120" y="826"/>
                    </a:lnTo>
                    <a:lnTo>
                      <a:pt x="2098" y="756"/>
                    </a:lnTo>
                    <a:lnTo>
                      <a:pt x="2070" y="689"/>
                    </a:lnTo>
                    <a:lnTo>
                      <a:pt x="2037" y="626"/>
                    </a:lnTo>
                    <a:lnTo>
                      <a:pt x="1999" y="566"/>
                    </a:lnTo>
                    <a:lnTo>
                      <a:pt x="1955" y="511"/>
                    </a:lnTo>
                    <a:lnTo>
                      <a:pt x="1906" y="461"/>
                    </a:lnTo>
                    <a:lnTo>
                      <a:pt x="1850" y="416"/>
                    </a:lnTo>
                    <a:lnTo>
                      <a:pt x="1788" y="379"/>
                    </a:lnTo>
                    <a:lnTo>
                      <a:pt x="1719" y="3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Freeform 155"/>
              <p:cNvSpPr/>
              <p:nvPr/>
            </p:nvSpPr>
            <p:spPr>
              <a:xfrm>
                <a:off x="6169320" y="442080"/>
                <a:ext cx="1348200" cy="855360"/>
              </a:xfrm>
              <a:custGeom>
                <a:avLst/>
                <a:gdLst/>
                <a:ahLst/>
                <a:rect l="l" t="t" r="r" b="b"/>
                <a:pathLst>
                  <a:path w="1953" h="2172">
                    <a:moveTo>
                      <a:pt x="102" y="1337"/>
                    </a:moveTo>
                    <a:lnTo>
                      <a:pt x="67" y="1237"/>
                    </a:lnTo>
                    <a:lnTo>
                      <a:pt x="41" y="1141"/>
                    </a:lnTo>
                    <a:lnTo>
                      <a:pt x="20" y="1049"/>
                    </a:lnTo>
                    <a:lnTo>
                      <a:pt x="8" y="962"/>
                    </a:lnTo>
                    <a:lnTo>
                      <a:pt x="2" y="879"/>
                    </a:lnTo>
                    <a:lnTo>
                      <a:pt x="0" y="801"/>
                    </a:lnTo>
                    <a:lnTo>
                      <a:pt x="2" y="730"/>
                    </a:lnTo>
                    <a:lnTo>
                      <a:pt x="8" y="663"/>
                    </a:lnTo>
                    <a:lnTo>
                      <a:pt x="15" y="603"/>
                    </a:lnTo>
                    <a:lnTo>
                      <a:pt x="25" y="551"/>
                    </a:lnTo>
                    <a:lnTo>
                      <a:pt x="37" y="505"/>
                    </a:lnTo>
                    <a:lnTo>
                      <a:pt x="47" y="467"/>
                    </a:lnTo>
                    <a:lnTo>
                      <a:pt x="57" y="436"/>
                    </a:lnTo>
                    <a:lnTo>
                      <a:pt x="65" y="414"/>
                    </a:lnTo>
                    <a:lnTo>
                      <a:pt x="70" y="401"/>
                    </a:lnTo>
                    <a:lnTo>
                      <a:pt x="72" y="395"/>
                    </a:lnTo>
                    <a:lnTo>
                      <a:pt x="120" y="293"/>
                    </a:lnTo>
                    <a:lnTo>
                      <a:pt x="174" y="210"/>
                    </a:lnTo>
                    <a:lnTo>
                      <a:pt x="233" y="143"/>
                    </a:lnTo>
                    <a:lnTo>
                      <a:pt x="295" y="90"/>
                    </a:lnTo>
                    <a:lnTo>
                      <a:pt x="359" y="52"/>
                    </a:lnTo>
                    <a:lnTo>
                      <a:pt x="426" y="25"/>
                    </a:lnTo>
                    <a:lnTo>
                      <a:pt x="492" y="10"/>
                    </a:lnTo>
                    <a:lnTo>
                      <a:pt x="556" y="2"/>
                    </a:lnTo>
                    <a:lnTo>
                      <a:pt x="616" y="0"/>
                    </a:lnTo>
                    <a:lnTo>
                      <a:pt x="674" y="6"/>
                    </a:lnTo>
                    <a:lnTo>
                      <a:pt x="726" y="13"/>
                    </a:lnTo>
                    <a:lnTo>
                      <a:pt x="771" y="24"/>
                    </a:lnTo>
                    <a:lnTo>
                      <a:pt x="808" y="36"/>
                    </a:lnTo>
                    <a:lnTo>
                      <a:pt x="837" y="45"/>
                    </a:lnTo>
                    <a:lnTo>
                      <a:pt x="854" y="53"/>
                    </a:lnTo>
                    <a:lnTo>
                      <a:pt x="861" y="56"/>
                    </a:lnTo>
                    <a:lnTo>
                      <a:pt x="881" y="60"/>
                    </a:lnTo>
                    <a:lnTo>
                      <a:pt x="901" y="62"/>
                    </a:lnTo>
                    <a:lnTo>
                      <a:pt x="920" y="66"/>
                    </a:lnTo>
                    <a:lnTo>
                      <a:pt x="938" y="70"/>
                    </a:lnTo>
                    <a:lnTo>
                      <a:pt x="956" y="74"/>
                    </a:lnTo>
                    <a:lnTo>
                      <a:pt x="974" y="78"/>
                    </a:lnTo>
                    <a:lnTo>
                      <a:pt x="990" y="81"/>
                    </a:lnTo>
                    <a:lnTo>
                      <a:pt x="1008" y="83"/>
                    </a:lnTo>
                    <a:lnTo>
                      <a:pt x="1026" y="86"/>
                    </a:lnTo>
                    <a:lnTo>
                      <a:pt x="1042" y="89"/>
                    </a:lnTo>
                    <a:lnTo>
                      <a:pt x="1060" y="90"/>
                    </a:lnTo>
                    <a:lnTo>
                      <a:pt x="1079" y="91"/>
                    </a:lnTo>
                    <a:lnTo>
                      <a:pt x="1098" y="91"/>
                    </a:lnTo>
                    <a:lnTo>
                      <a:pt x="1116" y="90"/>
                    </a:lnTo>
                    <a:lnTo>
                      <a:pt x="1137" y="87"/>
                    </a:lnTo>
                    <a:lnTo>
                      <a:pt x="1158" y="85"/>
                    </a:lnTo>
                    <a:lnTo>
                      <a:pt x="1179" y="81"/>
                    </a:lnTo>
                    <a:lnTo>
                      <a:pt x="1201" y="77"/>
                    </a:lnTo>
                    <a:lnTo>
                      <a:pt x="1222" y="73"/>
                    </a:lnTo>
                    <a:lnTo>
                      <a:pt x="1242" y="69"/>
                    </a:lnTo>
                    <a:lnTo>
                      <a:pt x="1265" y="66"/>
                    </a:lnTo>
                    <a:lnTo>
                      <a:pt x="1287" y="64"/>
                    </a:lnTo>
                    <a:lnTo>
                      <a:pt x="1309" y="62"/>
                    </a:lnTo>
                    <a:lnTo>
                      <a:pt x="1333" y="61"/>
                    </a:lnTo>
                    <a:lnTo>
                      <a:pt x="1357" y="62"/>
                    </a:lnTo>
                    <a:lnTo>
                      <a:pt x="1384" y="64"/>
                    </a:lnTo>
                    <a:lnTo>
                      <a:pt x="1410" y="67"/>
                    </a:lnTo>
                    <a:lnTo>
                      <a:pt x="1438" y="71"/>
                    </a:lnTo>
                    <a:lnTo>
                      <a:pt x="1468" y="78"/>
                    </a:lnTo>
                    <a:lnTo>
                      <a:pt x="1501" y="86"/>
                    </a:lnTo>
                    <a:lnTo>
                      <a:pt x="1533" y="96"/>
                    </a:lnTo>
                    <a:lnTo>
                      <a:pt x="1570" y="110"/>
                    </a:lnTo>
                    <a:lnTo>
                      <a:pt x="1630" y="137"/>
                    </a:lnTo>
                    <a:lnTo>
                      <a:pt x="1686" y="170"/>
                    </a:lnTo>
                    <a:lnTo>
                      <a:pt x="1734" y="210"/>
                    </a:lnTo>
                    <a:lnTo>
                      <a:pt x="1777" y="254"/>
                    </a:lnTo>
                    <a:lnTo>
                      <a:pt x="1814" y="305"/>
                    </a:lnTo>
                    <a:lnTo>
                      <a:pt x="1847" y="359"/>
                    </a:lnTo>
                    <a:lnTo>
                      <a:pt x="1875" y="415"/>
                    </a:lnTo>
                    <a:lnTo>
                      <a:pt x="1898" y="474"/>
                    </a:lnTo>
                    <a:lnTo>
                      <a:pt x="1915" y="536"/>
                    </a:lnTo>
                    <a:lnTo>
                      <a:pt x="1930" y="600"/>
                    </a:lnTo>
                    <a:lnTo>
                      <a:pt x="1940" y="663"/>
                    </a:lnTo>
                    <a:lnTo>
                      <a:pt x="1948" y="727"/>
                    </a:lnTo>
                    <a:lnTo>
                      <a:pt x="1952" y="792"/>
                    </a:lnTo>
                    <a:lnTo>
                      <a:pt x="1953" y="854"/>
                    </a:lnTo>
                    <a:lnTo>
                      <a:pt x="1950" y="914"/>
                    </a:lnTo>
                    <a:lnTo>
                      <a:pt x="1947" y="974"/>
                    </a:lnTo>
                    <a:lnTo>
                      <a:pt x="1937" y="1055"/>
                    </a:lnTo>
                    <a:lnTo>
                      <a:pt x="1920" y="1138"/>
                    </a:lnTo>
                    <a:lnTo>
                      <a:pt x="1899" y="1222"/>
                    </a:lnTo>
                    <a:lnTo>
                      <a:pt x="1872" y="1308"/>
                    </a:lnTo>
                    <a:lnTo>
                      <a:pt x="1841" y="1392"/>
                    </a:lnTo>
                    <a:lnTo>
                      <a:pt x="1806" y="1478"/>
                    </a:lnTo>
                    <a:lnTo>
                      <a:pt x="1767" y="1561"/>
                    </a:lnTo>
                    <a:lnTo>
                      <a:pt x="1724" y="1641"/>
                    </a:lnTo>
                    <a:lnTo>
                      <a:pt x="1677" y="1720"/>
                    </a:lnTo>
                    <a:lnTo>
                      <a:pt x="1629" y="1797"/>
                    </a:lnTo>
                    <a:lnTo>
                      <a:pt x="1578" y="1868"/>
                    </a:lnTo>
                    <a:lnTo>
                      <a:pt x="1525" y="1935"/>
                    </a:lnTo>
                    <a:lnTo>
                      <a:pt x="1470" y="1998"/>
                    </a:lnTo>
                    <a:lnTo>
                      <a:pt x="1414" y="2055"/>
                    </a:lnTo>
                    <a:lnTo>
                      <a:pt x="1357" y="2105"/>
                    </a:lnTo>
                    <a:lnTo>
                      <a:pt x="1299" y="2148"/>
                    </a:lnTo>
                    <a:lnTo>
                      <a:pt x="1298" y="2150"/>
                    </a:lnTo>
                    <a:lnTo>
                      <a:pt x="1294" y="2151"/>
                    </a:lnTo>
                    <a:lnTo>
                      <a:pt x="1289" y="2154"/>
                    </a:lnTo>
                    <a:lnTo>
                      <a:pt x="1280" y="2156"/>
                    </a:lnTo>
                    <a:lnTo>
                      <a:pt x="1270" y="2160"/>
                    </a:lnTo>
                    <a:lnTo>
                      <a:pt x="1259" y="2164"/>
                    </a:lnTo>
                    <a:lnTo>
                      <a:pt x="1245" y="2167"/>
                    </a:lnTo>
                    <a:lnTo>
                      <a:pt x="1230" y="2169"/>
                    </a:lnTo>
                    <a:lnTo>
                      <a:pt x="1216" y="2171"/>
                    </a:lnTo>
                    <a:lnTo>
                      <a:pt x="1201" y="2172"/>
                    </a:lnTo>
                    <a:lnTo>
                      <a:pt x="1186" y="2172"/>
                    </a:lnTo>
                    <a:lnTo>
                      <a:pt x="1169" y="2172"/>
                    </a:lnTo>
                    <a:lnTo>
                      <a:pt x="1152" y="2169"/>
                    </a:lnTo>
                    <a:lnTo>
                      <a:pt x="1134" y="2167"/>
                    </a:lnTo>
                    <a:lnTo>
                      <a:pt x="1115" y="2162"/>
                    </a:lnTo>
                    <a:lnTo>
                      <a:pt x="1095" y="2155"/>
                    </a:lnTo>
                    <a:lnTo>
                      <a:pt x="1057" y="2140"/>
                    </a:lnTo>
                    <a:lnTo>
                      <a:pt x="1028" y="2131"/>
                    </a:lnTo>
                    <a:lnTo>
                      <a:pt x="1008" y="2125"/>
                    </a:lnTo>
                    <a:lnTo>
                      <a:pt x="994" y="2121"/>
                    </a:lnTo>
                    <a:lnTo>
                      <a:pt x="984" y="2119"/>
                    </a:lnTo>
                    <a:lnTo>
                      <a:pt x="977" y="2118"/>
                    </a:lnTo>
                    <a:lnTo>
                      <a:pt x="970" y="2118"/>
                    </a:lnTo>
                    <a:lnTo>
                      <a:pt x="963" y="2117"/>
                    </a:lnTo>
                    <a:lnTo>
                      <a:pt x="936" y="2114"/>
                    </a:lnTo>
                    <a:lnTo>
                      <a:pt x="910" y="2114"/>
                    </a:lnTo>
                    <a:lnTo>
                      <a:pt x="885" y="2118"/>
                    </a:lnTo>
                    <a:lnTo>
                      <a:pt x="861" y="2125"/>
                    </a:lnTo>
                    <a:lnTo>
                      <a:pt x="838" y="2133"/>
                    </a:lnTo>
                    <a:lnTo>
                      <a:pt x="818" y="2139"/>
                    </a:lnTo>
                    <a:lnTo>
                      <a:pt x="802" y="2147"/>
                    </a:lnTo>
                    <a:lnTo>
                      <a:pt x="788" y="2152"/>
                    </a:lnTo>
                    <a:lnTo>
                      <a:pt x="766" y="2159"/>
                    </a:lnTo>
                    <a:lnTo>
                      <a:pt x="745" y="2162"/>
                    </a:lnTo>
                    <a:lnTo>
                      <a:pt x="725" y="2163"/>
                    </a:lnTo>
                    <a:lnTo>
                      <a:pt x="703" y="2162"/>
                    </a:lnTo>
                    <a:lnTo>
                      <a:pt x="683" y="2158"/>
                    </a:lnTo>
                    <a:lnTo>
                      <a:pt x="664" y="2152"/>
                    </a:lnTo>
                    <a:lnTo>
                      <a:pt x="645" y="2146"/>
                    </a:lnTo>
                    <a:lnTo>
                      <a:pt x="629" y="2138"/>
                    </a:lnTo>
                    <a:lnTo>
                      <a:pt x="613" y="2130"/>
                    </a:lnTo>
                    <a:lnTo>
                      <a:pt x="597" y="2122"/>
                    </a:lnTo>
                    <a:lnTo>
                      <a:pt x="585" y="2114"/>
                    </a:lnTo>
                    <a:lnTo>
                      <a:pt x="575" y="2108"/>
                    </a:lnTo>
                    <a:lnTo>
                      <a:pt x="566" y="2101"/>
                    </a:lnTo>
                    <a:lnTo>
                      <a:pt x="558" y="2096"/>
                    </a:lnTo>
                    <a:lnTo>
                      <a:pt x="555" y="2093"/>
                    </a:lnTo>
                    <a:lnTo>
                      <a:pt x="553" y="2092"/>
                    </a:lnTo>
                    <a:lnTo>
                      <a:pt x="550" y="2088"/>
                    </a:lnTo>
                    <a:lnTo>
                      <a:pt x="541" y="2076"/>
                    </a:lnTo>
                    <a:lnTo>
                      <a:pt x="526" y="2056"/>
                    </a:lnTo>
                    <a:lnTo>
                      <a:pt x="505" y="2030"/>
                    </a:lnTo>
                    <a:lnTo>
                      <a:pt x="480" y="1998"/>
                    </a:lnTo>
                    <a:lnTo>
                      <a:pt x="453" y="1959"/>
                    </a:lnTo>
                    <a:lnTo>
                      <a:pt x="421" y="1914"/>
                    </a:lnTo>
                    <a:lnTo>
                      <a:pt x="387" y="1865"/>
                    </a:lnTo>
                    <a:lnTo>
                      <a:pt x="352" y="1811"/>
                    </a:lnTo>
                    <a:lnTo>
                      <a:pt x="314" y="1752"/>
                    </a:lnTo>
                    <a:lnTo>
                      <a:pt x="276" y="1690"/>
                    </a:lnTo>
                    <a:lnTo>
                      <a:pt x="240" y="1624"/>
                    </a:lnTo>
                    <a:lnTo>
                      <a:pt x="202" y="1556"/>
                    </a:lnTo>
                    <a:lnTo>
                      <a:pt x="167" y="1485"/>
                    </a:lnTo>
                    <a:lnTo>
                      <a:pt x="134" y="1412"/>
                    </a:lnTo>
                    <a:lnTo>
                      <a:pt x="102" y="1337"/>
                    </a:lnTo>
                    <a:close/>
                  </a:path>
                </a:pathLst>
              </a:custGeom>
              <a:solidFill>
                <a:srgbClr val="ff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Freeform 156"/>
              <p:cNvSpPr/>
              <p:nvPr/>
            </p:nvSpPr>
            <p:spPr>
              <a:xfrm>
                <a:off x="6645240" y="549720"/>
                <a:ext cx="795600" cy="694440"/>
              </a:xfrm>
              <a:custGeom>
                <a:avLst/>
                <a:gdLst/>
                <a:ahLst/>
                <a:rect l="l" t="t" r="r" b="b"/>
                <a:pathLst>
                  <a:path w="1154" h="1765">
                    <a:moveTo>
                      <a:pt x="949" y="59"/>
                    </a:moveTo>
                    <a:lnTo>
                      <a:pt x="944" y="55"/>
                    </a:lnTo>
                    <a:lnTo>
                      <a:pt x="930" y="46"/>
                    </a:lnTo>
                    <a:lnTo>
                      <a:pt x="910" y="34"/>
                    </a:lnTo>
                    <a:lnTo>
                      <a:pt x="883" y="21"/>
                    </a:lnTo>
                    <a:lnTo>
                      <a:pt x="853" y="9"/>
                    </a:lnTo>
                    <a:lnTo>
                      <a:pt x="820" y="1"/>
                    </a:lnTo>
                    <a:lnTo>
                      <a:pt x="788" y="0"/>
                    </a:lnTo>
                    <a:lnTo>
                      <a:pt x="755" y="8"/>
                    </a:lnTo>
                    <a:lnTo>
                      <a:pt x="727" y="20"/>
                    </a:lnTo>
                    <a:lnTo>
                      <a:pt x="706" y="29"/>
                    </a:lnTo>
                    <a:lnTo>
                      <a:pt x="688" y="38"/>
                    </a:lnTo>
                    <a:lnTo>
                      <a:pt x="673" y="46"/>
                    </a:lnTo>
                    <a:lnTo>
                      <a:pt x="658" y="55"/>
                    </a:lnTo>
                    <a:lnTo>
                      <a:pt x="641" y="66"/>
                    </a:lnTo>
                    <a:lnTo>
                      <a:pt x="622" y="79"/>
                    </a:lnTo>
                    <a:lnTo>
                      <a:pt x="597" y="97"/>
                    </a:lnTo>
                    <a:lnTo>
                      <a:pt x="571" y="113"/>
                    </a:lnTo>
                    <a:lnTo>
                      <a:pt x="547" y="120"/>
                    </a:lnTo>
                    <a:lnTo>
                      <a:pt x="524" y="120"/>
                    </a:lnTo>
                    <a:lnTo>
                      <a:pt x="502" y="118"/>
                    </a:lnTo>
                    <a:lnTo>
                      <a:pt x="479" y="117"/>
                    </a:lnTo>
                    <a:lnTo>
                      <a:pt x="456" y="118"/>
                    </a:lnTo>
                    <a:lnTo>
                      <a:pt x="432" y="128"/>
                    </a:lnTo>
                    <a:lnTo>
                      <a:pt x="406" y="146"/>
                    </a:lnTo>
                    <a:lnTo>
                      <a:pt x="378" y="170"/>
                    </a:lnTo>
                    <a:lnTo>
                      <a:pt x="350" y="196"/>
                    </a:lnTo>
                    <a:lnTo>
                      <a:pt x="324" y="226"/>
                    </a:lnTo>
                    <a:lnTo>
                      <a:pt x="301" y="263"/>
                    </a:lnTo>
                    <a:lnTo>
                      <a:pt x="281" y="309"/>
                    </a:lnTo>
                    <a:lnTo>
                      <a:pt x="266" y="365"/>
                    </a:lnTo>
                    <a:lnTo>
                      <a:pt x="257" y="433"/>
                    </a:lnTo>
                    <a:lnTo>
                      <a:pt x="256" y="518"/>
                    </a:lnTo>
                    <a:lnTo>
                      <a:pt x="255" y="581"/>
                    </a:lnTo>
                    <a:lnTo>
                      <a:pt x="248" y="664"/>
                    </a:lnTo>
                    <a:lnTo>
                      <a:pt x="237" y="761"/>
                    </a:lnTo>
                    <a:lnTo>
                      <a:pt x="219" y="864"/>
                    </a:lnTo>
                    <a:lnTo>
                      <a:pt x="195" y="965"/>
                    </a:lnTo>
                    <a:lnTo>
                      <a:pt x="166" y="1060"/>
                    </a:lnTo>
                    <a:lnTo>
                      <a:pt x="129" y="1140"/>
                    </a:lnTo>
                    <a:lnTo>
                      <a:pt x="85" y="1200"/>
                    </a:lnTo>
                    <a:lnTo>
                      <a:pt x="58" y="1241"/>
                    </a:lnTo>
                    <a:lnTo>
                      <a:pt x="35" y="1302"/>
                    </a:lnTo>
                    <a:lnTo>
                      <a:pt x="17" y="1380"/>
                    </a:lnTo>
                    <a:lnTo>
                      <a:pt x="5" y="1463"/>
                    </a:lnTo>
                    <a:lnTo>
                      <a:pt x="0" y="1547"/>
                    </a:lnTo>
                    <a:lnTo>
                      <a:pt x="4" y="1621"/>
                    </a:lnTo>
                    <a:lnTo>
                      <a:pt x="18" y="1680"/>
                    </a:lnTo>
                    <a:lnTo>
                      <a:pt x="43" y="1715"/>
                    </a:lnTo>
                    <a:lnTo>
                      <a:pt x="71" y="1732"/>
                    </a:lnTo>
                    <a:lnTo>
                      <a:pt x="92" y="1742"/>
                    </a:lnTo>
                    <a:lnTo>
                      <a:pt x="110" y="1746"/>
                    </a:lnTo>
                    <a:lnTo>
                      <a:pt x="126" y="1746"/>
                    </a:lnTo>
                    <a:lnTo>
                      <a:pt x="142" y="1744"/>
                    </a:lnTo>
                    <a:lnTo>
                      <a:pt x="161" y="1736"/>
                    </a:lnTo>
                    <a:lnTo>
                      <a:pt x="184" y="1727"/>
                    </a:lnTo>
                    <a:lnTo>
                      <a:pt x="213" y="1716"/>
                    </a:lnTo>
                    <a:lnTo>
                      <a:pt x="231" y="1711"/>
                    </a:lnTo>
                    <a:lnTo>
                      <a:pt x="248" y="1708"/>
                    </a:lnTo>
                    <a:lnTo>
                      <a:pt x="266" y="1705"/>
                    </a:lnTo>
                    <a:lnTo>
                      <a:pt x="284" y="1703"/>
                    </a:lnTo>
                    <a:lnTo>
                      <a:pt x="302" y="1703"/>
                    </a:lnTo>
                    <a:lnTo>
                      <a:pt x="320" y="1703"/>
                    </a:lnTo>
                    <a:lnTo>
                      <a:pt x="338" y="1704"/>
                    </a:lnTo>
                    <a:lnTo>
                      <a:pt x="355" y="1707"/>
                    </a:lnTo>
                    <a:lnTo>
                      <a:pt x="372" y="1709"/>
                    </a:lnTo>
                    <a:lnTo>
                      <a:pt x="388" y="1712"/>
                    </a:lnTo>
                    <a:lnTo>
                      <a:pt x="403" y="1716"/>
                    </a:lnTo>
                    <a:lnTo>
                      <a:pt x="417" y="1720"/>
                    </a:lnTo>
                    <a:lnTo>
                      <a:pt x="430" y="1725"/>
                    </a:lnTo>
                    <a:lnTo>
                      <a:pt x="442" y="1730"/>
                    </a:lnTo>
                    <a:lnTo>
                      <a:pt x="451" y="1736"/>
                    </a:lnTo>
                    <a:lnTo>
                      <a:pt x="460" y="1741"/>
                    </a:lnTo>
                    <a:lnTo>
                      <a:pt x="476" y="1752"/>
                    </a:lnTo>
                    <a:lnTo>
                      <a:pt x="495" y="1758"/>
                    </a:lnTo>
                    <a:lnTo>
                      <a:pt x="515" y="1762"/>
                    </a:lnTo>
                    <a:lnTo>
                      <a:pt x="537" y="1765"/>
                    </a:lnTo>
                    <a:lnTo>
                      <a:pt x="558" y="1763"/>
                    </a:lnTo>
                    <a:lnTo>
                      <a:pt x="578" y="1759"/>
                    </a:lnTo>
                    <a:lnTo>
                      <a:pt x="596" y="1753"/>
                    </a:lnTo>
                    <a:lnTo>
                      <a:pt x="610" y="1742"/>
                    </a:lnTo>
                    <a:lnTo>
                      <a:pt x="619" y="1733"/>
                    </a:lnTo>
                    <a:lnTo>
                      <a:pt x="631" y="1719"/>
                    </a:lnTo>
                    <a:lnTo>
                      <a:pt x="648" y="1698"/>
                    </a:lnTo>
                    <a:lnTo>
                      <a:pt x="667" y="1674"/>
                    </a:lnTo>
                    <a:lnTo>
                      <a:pt x="688" y="1645"/>
                    </a:lnTo>
                    <a:lnTo>
                      <a:pt x="712" y="1612"/>
                    </a:lnTo>
                    <a:lnTo>
                      <a:pt x="738" y="1579"/>
                    </a:lnTo>
                    <a:lnTo>
                      <a:pt x="765" y="1543"/>
                    </a:lnTo>
                    <a:lnTo>
                      <a:pt x="791" y="1507"/>
                    </a:lnTo>
                    <a:lnTo>
                      <a:pt x="818" y="1471"/>
                    </a:lnTo>
                    <a:lnTo>
                      <a:pt x="844" y="1435"/>
                    </a:lnTo>
                    <a:lnTo>
                      <a:pt x="869" y="1403"/>
                    </a:lnTo>
                    <a:lnTo>
                      <a:pt x="892" y="1371"/>
                    </a:lnTo>
                    <a:lnTo>
                      <a:pt x="913" y="1343"/>
                    </a:lnTo>
                    <a:lnTo>
                      <a:pt x="931" y="1320"/>
                    </a:lnTo>
                    <a:lnTo>
                      <a:pt x="946" y="1301"/>
                    </a:lnTo>
                    <a:lnTo>
                      <a:pt x="963" y="1277"/>
                    </a:lnTo>
                    <a:lnTo>
                      <a:pt x="984" y="1239"/>
                    </a:lnTo>
                    <a:lnTo>
                      <a:pt x="1009" y="1189"/>
                    </a:lnTo>
                    <a:lnTo>
                      <a:pt x="1037" y="1127"/>
                    </a:lnTo>
                    <a:lnTo>
                      <a:pt x="1065" y="1056"/>
                    </a:lnTo>
                    <a:lnTo>
                      <a:pt x="1091" y="977"/>
                    </a:lnTo>
                    <a:lnTo>
                      <a:pt x="1115" y="892"/>
                    </a:lnTo>
                    <a:lnTo>
                      <a:pt x="1134" y="801"/>
                    </a:lnTo>
                    <a:lnTo>
                      <a:pt x="1148" y="706"/>
                    </a:lnTo>
                    <a:lnTo>
                      <a:pt x="1154" y="608"/>
                    </a:lnTo>
                    <a:lnTo>
                      <a:pt x="1152" y="510"/>
                    </a:lnTo>
                    <a:lnTo>
                      <a:pt x="1138" y="412"/>
                    </a:lnTo>
                    <a:lnTo>
                      <a:pt x="1113" y="317"/>
                    </a:lnTo>
                    <a:lnTo>
                      <a:pt x="1073" y="226"/>
                    </a:lnTo>
                    <a:lnTo>
                      <a:pt x="1019" y="140"/>
                    </a:lnTo>
                    <a:lnTo>
                      <a:pt x="949" y="59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Freeform 157"/>
              <p:cNvSpPr/>
              <p:nvPr/>
            </p:nvSpPr>
            <p:spPr>
              <a:xfrm>
                <a:off x="6614280" y="484920"/>
                <a:ext cx="355680" cy="83520"/>
              </a:xfrm>
              <a:custGeom>
                <a:avLst/>
                <a:gdLst/>
                <a:ahLst/>
                <a:rect l="l" t="t" r="r" b="b"/>
                <a:pathLst>
                  <a:path w="519" h="213">
                    <a:moveTo>
                      <a:pt x="301" y="75"/>
                    </a:moveTo>
                    <a:lnTo>
                      <a:pt x="296" y="72"/>
                    </a:lnTo>
                    <a:lnTo>
                      <a:pt x="282" y="66"/>
                    </a:lnTo>
                    <a:lnTo>
                      <a:pt x="262" y="57"/>
                    </a:lnTo>
                    <a:lnTo>
                      <a:pt x="235" y="45"/>
                    </a:lnTo>
                    <a:lnTo>
                      <a:pt x="206" y="33"/>
                    </a:lnTo>
                    <a:lnTo>
                      <a:pt x="175" y="21"/>
                    </a:lnTo>
                    <a:lnTo>
                      <a:pt x="143" y="10"/>
                    </a:lnTo>
                    <a:lnTo>
                      <a:pt x="113" y="4"/>
                    </a:lnTo>
                    <a:lnTo>
                      <a:pt x="87" y="0"/>
                    </a:lnTo>
                    <a:lnTo>
                      <a:pt x="64" y="1"/>
                    </a:lnTo>
                    <a:lnTo>
                      <a:pt x="44" y="4"/>
                    </a:lnTo>
                    <a:lnTo>
                      <a:pt x="29" y="9"/>
                    </a:lnTo>
                    <a:lnTo>
                      <a:pt x="16" y="16"/>
                    </a:lnTo>
                    <a:lnTo>
                      <a:pt x="7" y="21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179" y="188"/>
                    </a:lnTo>
                    <a:lnTo>
                      <a:pt x="184" y="190"/>
                    </a:lnTo>
                    <a:lnTo>
                      <a:pt x="199" y="194"/>
                    </a:lnTo>
                    <a:lnTo>
                      <a:pt x="220" y="199"/>
                    </a:lnTo>
                    <a:lnTo>
                      <a:pt x="247" y="204"/>
                    </a:lnTo>
                    <a:lnTo>
                      <a:pt x="276" y="209"/>
                    </a:lnTo>
                    <a:lnTo>
                      <a:pt x="306" y="213"/>
                    </a:lnTo>
                    <a:lnTo>
                      <a:pt x="335" y="213"/>
                    </a:lnTo>
                    <a:lnTo>
                      <a:pt x="361" y="209"/>
                    </a:lnTo>
                    <a:lnTo>
                      <a:pt x="387" y="203"/>
                    </a:lnTo>
                    <a:lnTo>
                      <a:pt x="412" y="194"/>
                    </a:lnTo>
                    <a:lnTo>
                      <a:pt x="437" y="186"/>
                    </a:lnTo>
                    <a:lnTo>
                      <a:pt x="460" y="178"/>
                    </a:lnTo>
                    <a:lnTo>
                      <a:pt x="480" y="170"/>
                    </a:lnTo>
                    <a:lnTo>
                      <a:pt x="496" y="163"/>
                    </a:lnTo>
                    <a:lnTo>
                      <a:pt x="506" y="159"/>
                    </a:lnTo>
                    <a:lnTo>
                      <a:pt x="510" y="158"/>
                    </a:lnTo>
                    <a:lnTo>
                      <a:pt x="511" y="158"/>
                    </a:lnTo>
                    <a:lnTo>
                      <a:pt x="515" y="157"/>
                    </a:lnTo>
                    <a:lnTo>
                      <a:pt x="518" y="154"/>
                    </a:lnTo>
                    <a:lnTo>
                      <a:pt x="519" y="151"/>
                    </a:lnTo>
                    <a:lnTo>
                      <a:pt x="518" y="147"/>
                    </a:lnTo>
                    <a:lnTo>
                      <a:pt x="510" y="141"/>
                    </a:lnTo>
                    <a:lnTo>
                      <a:pt x="496" y="134"/>
                    </a:lnTo>
                    <a:lnTo>
                      <a:pt x="473" y="126"/>
                    </a:lnTo>
                    <a:lnTo>
                      <a:pt x="448" y="116"/>
                    </a:lnTo>
                    <a:lnTo>
                      <a:pt x="428" y="105"/>
                    </a:lnTo>
                    <a:lnTo>
                      <a:pt x="410" y="95"/>
                    </a:lnTo>
                    <a:lnTo>
                      <a:pt x="394" y="86"/>
                    </a:lnTo>
                    <a:lnTo>
                      <a:pt x="376" y="78"/>
                    </a:lnTo>
                    <a:lnTo>
                      <a:pt x="356" y="74"/>
                    </a:lnTo>
                    <a:lnTo>
                      <a:pt x="331" y="72"/>
                    </a:lnTo>
                    <a:lnTo>
                      <a:pt x="301" y="75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Freeform 158"/>
              <p:cNvSpPr/>
              <p:nvPr/>
            </p:nvSpPr>
            <p:spPr>
              <a:xfrm>
                <a:off x="6223320" y="527400"/>
                <a:ext cx="461520" cy="559800"/>
              </a:xfrm>
              <a:custGeom>
                <a:avLst/>
                <a:gdLst/>
                <a:ahLst/>
                <a:rect l="l" t="t" r="r" b="b"/>
                <a:pathLst>
                  <a:path w="666" h="1421">
                    <a:moveTo>
                      <a:pt x="368" y="19"/>
                    </a:moveTo>
                    <a:lnTo>
                      <a:pt x="364" y="21"/>
                    </a:lnTo>
                    <a:lnTo>
                      <a:pt x="356" y="27"/>
                    </a:lnTo>
                    <a:lnTo>
                      <a:pt x="341" y="37"/>
                    </a:lnTo>
                    <a:lnTo>
                      <a:pt x="320" y="50"/>
                    </a:lnTo>
                    <a:lnTo>
                      <a:pt x="298" y="69"/>
                    </a:lnTo>
                    <a:lnTo>
                      <a:pt x="271" y="91"/>
                    </a:lnTo>
                    <a:lnTo>
                      <a:pt x="242" y="116"/>
                    </a:lnTo>
                    <a:lnTo>
                      <a:pt x="212" y="146"/>
                    </a:lnTo>
                    <a:lnTo>
                      <a:pt x="182" y="179"/>
                    </a:lnTo>
                    <a:lnTo>
                      <a:pt x="150" y="218"/>
                    </a:lnTo>
                    <a:lnTo>
                      <a:pt x="120" y="258"/>
                    </a:lnTo>
                    <a:lnTo>
                      <a:pt x="92" y="303"/>
                    </a:lnTo>
                    <a:lnTo>
                      <a:pt x="67" y="352"/>
                    </a:lnTo>
                    <a:lnTo>
                      <a:pt x="44" y="403"/>
                    </a:lnTo>
                    <a:lnTo>
                      <a:pt x="26" y="460"/>
                    </a:lnTo>
                    <a:lnTo>
                      <a:pt x="12" y="519"/>
                    </a:lnTo>
                    <a:lnTo>
                      <a:pt x="4" y="577"/>
                    </a:lnTo>
                    <a:lnTo>
                      <a:pt x="0" y="635"/>
                    </a:lnTo>
                    <a:lnTo>
                      <a:pt x="0" y="692"/>
                    </a:lnTo>
                    <a:lnTo>
                      <a:pt x="4" y="748"/>
                    </a:lnTo>
                    <a:lnTo>
                      <a:pt x="12" y="802"/>
                    </a:lnTo>
                    <a:lnTo>
                      <a:pt x="22" y="855"/>
                    </a:lnTo>
                    <a:lnTo>
                      <a:pt x="33" y="905"/>
                    </a:lnTo>
                    <a:lnTo>
                      <a:pt x="47" y="952"/>
                    </a:lnTo>
                    <a:lnTo>
                      <a:pt x="62" y="997"/>
                    </a:lnTo>
                    <a:lnTo>
                      <a:pt x="79" y="1038"/>
                    </a:lnTo>
                    <a:lnTo>
                      <a:pt x="94" y="1076"/>
                    </a:lnTo>
                    <a:lnTo>
                      <a:pt x="110" y="1109"/>
                    </a:lnTo>
                    <a:lnTo>
                      <a:pt x="125" y="1138"/>
                    </a:lnTo>
                    <a:lnTo>
                      <a:pt x="138" y="1162"/>
                    </a:lnTo>
                    <a:lnTo>
                      <a:pt x="150" y="1180"/>
                    </a:lnTo>
                    <a:lnTo>
                      <a:pt x="160" y="1194"/>
                    </a:lnTo>
                    <a:lnTo>
                      <a:pt x="179" y="1216"/>
                    </a:lnTo>
                    <a:lnTo>
                      <a:pt x="199" y="1244"/>
                    </a:lnTo>
                    <a:lnTo>
                      <a:pt x="221" y="1273"/>
                    </a:lnTo>
                    <a:lnTo>
                      <a:pt x="241" y="1302"/>
                    </a:lnTo>
                    <a:lnTo>
                      <a:pt x="260" y="1329"/>
                    </a:lnTo>
                    <a:lnTo>
                      <a:pt x="274" y="1350"/>
                    </a:lnTo>
                    <a:lnTo>
                      <a:pt x="284" y="1366"/>
                    </a:lnTo>
                    <a:lnTo>
                      <a:pt x="288" y="1371"/>
                    </a:lnTo>
                    <a:lnTo>
                      <a:pt x="290" y="1374"/>
                    </a:lnTo>
                    <a:lnTo>
                      <a:pt x="296" y="1382"/>
                    </a:lnTo>
                    <a:lnTo>
                      <a:pt x="305" y="1392"/>
                    </a:lnTo>
                    <a:lnTo>
                      <a:pt x="318" y="1404"/>
                    </a:lnTo>
                    <a:lnTo>
                      <a:pt x="330" y="1413"/>
                    </a:lnTo>
                    <a:lnTo>
                      <a:pt x="343" y="1420"/>
                    </a:lnTo>
                    <a:lnTo>
                      <a:pt x="356" y="1421"/>
                    </a:lnTo>
                    <a:lnTo>
                      <a:pt x="366" y="1413"/>
                    </a:lnTo>
                    <a:lnTo>
                      <a:pt x="376" y="1402"/>
                    </a:lnTo>
                    <a:lnTo>
                      <a:pt x="388" y="1391"/>
                    </a:lnTo>
                    <a:lnTo>
                      <a:pt x="401" y="1379"/>
                    </a:lnTo>
                    <a:lnTo>
                      <a:pt x="412" y="1365"/>
                    </a:lnTo>
                    <a:lnTo>
                      <a:pt x="424" y="1346"/>
                    </a:lnTo>
                    <a:lnTo>
                      <a:pt x="433" y="1324"/>
                    </a:lnTo>
                    <a:lnTo>
                      <a:pt x="438" y="1295"/>
                    </a:lnTo>
                    <a:lnTo>
                      <a:pt x="439" y="1259"/>
                    </a:lnTo>
                    <a:lnTo>
                      <a:pt x="436" y="1163"/>
                    </a:lnTo>
                    <a:lnTo>
                      <a:pt x="431" y="1053"/>
                    </a:lnTo>
                    <a:lnTo>
                      <a:pt x="426" y="954"/>
                    </a:lnTo>
                    <a:lnTo>
                      <a:pt x="424" y="889"/>
                    </a:lnTo>
                    <a:lnTo>
                      <a:pt x="430" y="852"/>
                    </a:lnTo>
                    <a:lnTo>
                      <a:pt x="448" y="787"/>
                    </a:lnTo>
                    <a:lnTo>
                      <a:pt x="473" y="701"/>
                    </a:lnTo>
                    <a:lnTo>
                      <a:pt x="503" y="607"/>
                    </a:lnTo>
                    <a:lnTo>
                      <a:pt x="536" y="514"/>
                    </a:lnTo>
                    <a:lnTo>
                      <a:pt x="569" y="432"/>
                    </a:lnTo>
                    <a:lnTo>
                      <a:pt x="596" y="369"/>
                    </a:lnTo>
                    <a:lnTo>
                      <a:pt x="618" y="337"/>
                    </a:lnTo>
                    <a:lnTo>
                      <a:pt x="633" y="323"/>
                    </a:lnTo>
                    <a:lnTo>
                      <a:pt x="645" y="305"/>
                    </a:lnTo>
                    <a:lnTo>
                      <a:pt x="654" y="283"/>
                    </a:lnTo>
                    <a:lnTo>
                      <a:pt x="661" y="260"/>
                    </a:lnTo>
                    <a:lnTo>
                      <a:pt x="664" y="233"/>
                    </a:lnTo>
                    <a:lnTo>
                      <a:pt x="666" y="207"/>
                    </a:lnTo>
                    <a:lnTo>
                      <a:pt x="664" y="178"/>
                    </a:lnTo>
                    <a:lnTo>
                      <a:pt x="662" y="149"/>
                    </a:lnTo>
                    <a:lnTo>
                      <a:pt x="658" y="133"/>
                    </a:lnTo>
                    <a:lnTo>
                      <a:pt x="652" y="119"/>
                    </a:lnTo>
                    <a:lnTo>
                      <a:pt x="642" y="102"/>
                    </a:lnTo>
                    <a:lnTo>
                      <a:pt x="629" y="86"/>
                    </a:lnTo>
                    <a:lnTo>
                      <a:pt x="614" y="71"/>
                    </a:lnTo>
                    <a:lnTo>
                      <a:pt x="598" y="56"/>
                    </a:lnTo>
                    <a:lnTo>
                      <a:pt x="579" y="42"/>
                    </a:lnTo>
                    <a:lnTo>
                      <a:pt x="557" y="31"/>
                    </a:lnTo>
                    <a:lnTo>
                      <a:pt x="536" y="20"/>
                    </a:lnTo>
                    <a:lnTo>
                      <a:pt x="513" y="11"/>
                    </a:lnTo>
                    <a:lnTo>
                      <a:pt x="489" y="4"/>
                    </a:lnTo>
                    <a:lnTo>
                      <a:pt x="464" y="0"/>
                    </a:lnTo>
                    <a:lnTo>
                      <a:pt x="440" y="0"/>
                    </a:lnTo>
                    <a:lnTo>
                      <a:pt x="416" y="3"/>
                    </a:lnTo>
                    <a:lnTo>
                      <a:pt x="392" y="8"/>
                    </a:lnTo>
                    <a:lnTo>
                      <a:pt x="368" y="19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Freeform 159"/>
              <p:cNvSpPr/>
              <p:nvPr/>
            </p:nvSpPr>
            <p:spPr>
              <a:xfrm>
                <a:off x="6608160" y="1247760"/>
                <a:ext cx="407880" cy="36360"/>
              </a:xfrm>
              <a:custGeom>
                <a:avLst/>
                <a:gdLst/>
                <a:ahLst/>
                <a:rect l="l" t="t" r="r" b="b"/>
                <a:pathLst>
                  <a:path w="590" h="105">
                    <a:moveTo>
                      <a:pt x="81" y="104"/>
                    </a:moveTo>
                    <a:lnTo>
                      <a:pt x="71" y="101"/>
                    </a:lnTo>
                    <a:lnTo>
                      <a:pt x="59" y="99"/>
                    </a:lnTo>
                    <a:lnTo>
                      <a:pt x="49" y="93"/>
                    </a:lnTo>
                    <a:lnTo>
                      <a:pt x="39" y="88"/>
                    </a:lnTo>
                    <a:lnTo>
                      <a:pt x="29" y="80"/>
                    </a:lnTo>
                    <a:lnTo>
                      <a:pt x="19" y="71"/>
                    </a:lnTo>
                    <a:lnTo>
                      <a:pt x="9" y="59"/>
                    </a:lnTo>
                    <a:lnTo>
                      <a:pt x="0" y="46"/>
                    </a:lnTo>
                    <a:lnTo>
                      <a:pt x="5" y="47"/>
                    </a:lnTo>
                    <a:lnTo>
                      <a:pt x="20" y="50"/>
                    </a:lnTo>
                    <a:lnTo>
                      <a:pt x="42" y="53"/>
                    </a:lnTo>
                    <a:lnTo>
                      <a:pt x="68" y="55"/>
                    </a:lnTo>
                    <a:lnTo>
                      <a:pt x="98" y="55"/>
                    </a:lnTo>
                    <a:lnTo>
                      <a:pt x="130" y="53"/>
                    </a:lnTo>
                    <a:lnTo>
                      <a:pt x="159" y="45"/>
                    </a:lnTo>
                    <a:lnTo>
                      <a:pt x="185" y="32"/>
                    </a:lnTo>
                    <a:lnTo>
                      <a:pt x="198" y="24"/>
                    </a:lnTo>
                    <a:lnTo>
                      <a:pt x="213" y="17"/>
                    </a:lnTo>
                    <a:lnTo>
                      <a:pt x="230" y="12"/>
                    </a:lnTo>
                    <a:lnTo>
                      <a:pt x="247" y="7"/>
                    </a:lnTo>
                    <a:lnTo>
                      <a:pt x="266" y="4"/>
                    </a:lnTo>
                    <a:lnTo>
                      <a:pt x="286" y="1"/>
                    </a:lnTo>
                    <a:lnTo>
                      <a:pt x="306" y="0"/>
                    </a:lnTo>
                    <a:lnTo>
                      <a:pt x="327" y="0"/>
                    </a:lnTo>
                    <a:lnTo>
                      <a:pt x="348" y="1"/>
                    </a:lnTo>
                    <a:lnTo>
                      <a:pt x="368" y="4"/>
                    </a:lnTo>
                    <a:lnTo>
                      <a:pt x="390" y="8"/>
                    </a:lnTo>
                    <a:lnTo>
                      <a:pt x="410" y="12"/>
                    </a:lnTo>
                    <a:lnTo>
                      <a:pt x="429" y="17"/>
                    </a:lnTo>
                    <a:lnTo>
                      <a:pt x="446" y="25"/>
                    </a:lnTo>
                    <a:lnTo>
                      <a:pt x="464" y="33"/>
                    </a:lnTo>
                    <a:lnTo>
                      <a:pt x="479" y="42"/>
                    </a:lnTo>
                    <a:lnTo>
                      <a:pt x="505" y="58"/>
                    </a:lnTo>
                    <a:lnTo>
                      <a:pt x="528" y="66"/>
                    </a:lnTo>
                    <a:lnTo>
                      <a:pt x="547" y="70"/>
                    </a:lnTo>
                    <a:lnTo>
                      <a:pt x="562" y="68"/>
                    </a:lnTo>
                    <a:lnTo>
                      <a:pt x="573" y="66"/>
                    </a:lnTo>
                    <a:lnTo>
                      <a:pt x="582" y="62"/>
                    </a:lnTo>
                    <a:lnTo>
                      <a:pt x="587" y="58"/>
                    </a:lnTo>
                    <a:lnTo>
                      <a:pt x="589" y="57"/>
                    </a:lnTo>
                    <a:lnTo>
                      <a:pt x="589" y="59"/>
                    </a:lnTo>
                    <a:lnTo>
                      <a:pt x="590" y="66"/>
                    </a:lnTo>
                    <a:lnTo>
                      <a:pt x="587" y="75"/>
                    </a:lnTo>
                    <a:lnTo>
                      <a:pt x="580" y="84"/>
                    </a:lnTo>
                    <a:lnTo>
                      <a:pt x="565" y="91"/>
                    </a:lnTo>
                    <a:lnTo>
                      <a:pt x="541" y="93"/>
                    </a:lnTo>
                    <a:lnTo>
                      <a:pt x="504" y="90"/>
                    </a:lnTo>
                    <a:lnTo>
                      <a:pt x="454" y="78"/>
                    </a:lnTo>
                    <a:lnTo>
                      <a:pt x="451" y="76"/>
                    </a:lnTo>
                    <a:lnTo>
                      <a:pt x="446" y="75"/>
                    </a:lnTo>
                    <a:lnTo>
                      <a:pt x="436" y="72"/>
                    </a:lnTo>
                    <a:lnTo>
                      <a:pt x="425" y="68"/>
                    </a:lnTo>
                    <a:lnTo>
                      <a:pt x="410" y="66"/>
                    </a:lnTo>
                    <a:lnTo>
                      <a:pt x="392" y="62"/>
                    </a:lnTo>
                    <a:lnTo>
                      <a:pt x="373" y="58"/>
                    </a:lnTo>
                    <a:lnTo>
                      <a:pt x="354" y="54"/>
                    </a:lnTo>
                    <a:lnTo>
                      <a:pt x="333" y="51"/>
                    </a:lnTo>
                    <a:lnTo>
                      <a:pt x="311" y="49"/>
                    </a:lnTo>
                    <a:lnTo>
                      <a:pt x="289" y="49"/>
                    </a:lnTo>
                    <a:lnTo>
                      <a:pt x="267" y="49"/>
                    </a:lnTo>
                    <a:lnTo>
                      <a:pt x="247" y="51"/>
                    </a:lnTo>
                    <a:lnTo>
                      <a:pt x="227" y="55"/>
                    </a:lnTo>
                    <a:lnTo>
                      <a:pt x="209" y="61"/>
                    </a:lnTo>
                    <a:lnTo>
                      <a:pt x="193" y="70"/>
                    </a:lnTo>
                    <a:lnTo>
                      <a:pt x="190" y="71"/>
                    </a:lnTo>
                    <a:lnTo>
                      <a:pt x="184" y="76"/>
                    </a:lnTo>
                    <a:lnTo>
                      <a:pt x="173" y="83"/>
                    </a:lnTo>
                    <a:lnTo>
                      <a:pt x="159" y="90"/>
                    </a:lnTo>
                    <a:lnTo>
                      <a:pt x="141" y="96"/>
                    </a:lnTo>
                    <a:lnTo>
                      <a:pt x="122" y="101"/>
                    </a:lnTo>
                    <a:lnTo>
                      <a:pt x="102" y="105"/>
                    </a:lnTo>
                    <a:lnTo>
                      <a:pt x="81" y="104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Freeform 160"/>
              <p:cNvSpPr/>
              <p:nvPr/>
            </p:nvSpPr>
            <p:spPr>
              <a:xfrm>
                <a:off x="6264360" y="5554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474" h="1109">
                    <a:moveTo>
                      <a:pt x="312" y="8"/>
                    </a:moveTo>
                    <a:lnTo>
                      <a:pt x="309" y="10"/>
                    </a:lnTo>
                    <a:lnTo>
                      <a:pt x="303" y="12"/>
                    </a:lnTo>
                    <a:lnTo>
                      <a:pt x="293" y="18"/>
                    </a:lnTo>
                    <a:lnTo>
                      <a:pt x="279" y="25"/>
                    </a:lnTo>
                    <a:lnTo>
                      <a:pt x="261" y="36"/>
                    </a:lnTo>
                    <a:lnTo>
                      <a:pt x="242" y="48"/>
                    </a:lnTo>
                    <a:lnTo>
                      <a:pt x="222" y="62"/>
                    </a:lnTo>
                    <a:lnTo>
                      <a:pt x="199" y="79"/>
                    </a:lnTo>
                    <a:lnTo>
                      <a:pt x="177" y="100"/>
                    </a:lnTo>
                    <a:lnTo>
                      <a:pt x="153" y="123"/>
                    </a:lnTo>
                    <a:lnTo>
                      <a:pt x="129" y="148"/>
                    </a:lnTo>
                    <a:lnTo>
                      <a:pt x="106" y="176"/>
                    </a:lnTo>
                    <a:lnTo>
                      <a:pt x="85" y="207"/>
                    </a:lnTo>
                    <a:lnTo>
                      <a:pt x="65" y="241"/>
                    </a:lnTo>
                    <a:lnTo>
                      <a:pt x="46" y="278"/>
                    </a:lnTo>
                    <a:lnTo>
                      <a:pt x="31" y="318"/>
                    </a:lnTo>
                    <a:lnTo>
                      <a:pt x="9" y="401"/>
                    </a:lnTo>
                    <a:lnTo>
                      <a:pt x="0" y="485"/>
                    </a:lnTo>
                    <a:lnTo>
                      <a:pt x="0" y="569"/>
                    </a:lnTo>
                    <a:lnTo>
                      <a:pt x="7" y="648"/>
                    </a:lnTo>
                    <a:lnTo>
                      <a:pt x="17" y="721"/>
                    </a:lnTo>
                    <a:lnTo>
                      <a:pt x="28" y="780"/>
                    </a:lnTo>
                    <a:lnTo>
                      <a:pt x="38" y="826"/>
                    </a:lnTo>
                    <a:lnTo>
                      <a:pt x="46" y="853"/>
                    </a:lnTo>
                    <a:lnTo>
                      <a:pt x="60" y="892"/>
                    </a:lnTo>
                    <a:lnTo>
                      <a:pt x="77" y="933"/>
                    </a:lnTo>
                    <a:lnTo>
                      <a:pt x="96" y="971"/>
                    </a:lnTo>
                    <a:lnTo>
                      <a:pt x="115" y="1007"/>
                    </a:lnTo>
                    <a:lnTo>
                      <a:pt x="133" y="1037"/>
                    </a:lnTo>
                    <a:lnTo>
                      <a:pt x="148" y="1061"/>
                    </a:lnTo>
                    <a:lnTo>
                      <a:pt x="158" y="1076"/>
                    </a:lnTo>
                    <a:lnTo>
                      <a:pt x="162" y="1082"/>
                    </a:lnTo>
                    <a:lnTo>
                      <a:pt x="163" y="1086"/>
                    </a:lnTo>
                    <a:lnTo>
                      <a:pt x="167" y="1094"/>
                    </a:lnTo>
                    <a:lnTo>
                      <a:pt x="173" y="1103"/>
                    </a:lnTo>
                    <a:lnTo>
                      <a:pt x="180" y="1108"/>
                    </a:lnTo>
                    <a:lnTo>
                      <a:pt x="191" y="1109"/>
                    </a:lnTo>
                    <a:lnTo>
                      <a:pt x="202" y="1100"/>
                    </a:lnTo>
                    <a:lnTo>
                      <a:pt x="216" y="1079"/>
                    </a:lnTo>
                    <a:lnTo>
                      <a:pt x="230" y="1041"/>
                    </a:lnTo>
                    <a:lnTo>
                      <a:pt x="238" y="983"/>
                    </a:lnTo>
                    <a:lnTo>
                      <a:pt x="238" y="907"/>
                    </a:lnTo>
                    <a:lnTo>
                      <a:pt x="232" y="821"/>
                    </a:lnTo>
                    <a:lnTo>
                      <a:pt x="227" y="727"/>
                    </a:lnTo>
                    <a:lnTo>
                      <a:pt x="225" y="633"/>
                    </a:lnTo>
                    <a:lnTo>
                      <a:pt x="232" y="543"/>
                    </a:lnTo>
                    <a:lnTo>
                      <a:pt x="254" y="463"/>
                    </a:lnTo>
                    <a:lnTo>
                      <a:pt x="293" y="397"/>
                    </a:lnTo>
                    <a:lnTo>
                      <a:pt x="339" y="343"/>
                    </a:lnTo>
                    <a:lnTo>
                      <a:pt x="380" y="295"/>
                    </a:lnTo>
                    <a:lnTo>
                      <a:pt x="411" y="255"/>
                    </a:lnTo>
                    <a:lnTo>
                      <a:pt x="437" y="220"/>
                    </a:lnTo>
                    <a:lnTo>
                      <a:pt x="455" y="190"/>
                    </a:lnTo>
                    <a:lnTo>
                      <a:pt x="468" y="164"/>
                    </a:lnTo>
                    <a:lnTo>
                      <a:pt x="474" y="139"/>
                    </a:lnTo>
                    <a:lnTo>
                      <a:pt x="473" y="116"/>
                    </a:lnTo>
                    <a:lnTo>
                      <a:pt x="468" y="93"/>
                    </a:lnTo>
                    <a:lnTo>
                      <a:pt x="459" y="69"/>
                    </a:lnTo>
                    <a:lnTo>
                      <a:pt x="446" y="46"/>
                    </a:lnTo>
                    <a:lnTo>
                      <a:pt x="430" y="27"/>
                    </a:lnTo>
                    <a:lnTo>
                      <a:pt x="410" y="11"/>
                    </a:lnTo>
                    <a:lnTo>
                      <a:pt x="382" y="2"/>
                    </a:lnTo>
                    <a:lnTo>
                      <a:pt x="351" y="0"/>
                    </a:lnTo>
                    <a:lnTo>
                      <a:pt x="312" y="8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Freeform 161"/>
              <p:cNvSpPr/>
              <p:nvPr/>
            </p:nvSpPr>
            <p:spPr>
              <a:xfrm>
                <a:off x="6690960" y="1242000"/>
                <a:ext cx="306360" cy="37800"/>
              </a:xfrm>
              <a:custGeom>
                <a:avLst/>
                <a:gdLst/>
                <a:ahLst/>
                <a:rect l="l" t="t" r="r" b="b"/>
                <a:pathLst>
                  <a:path w="442" h="110">
                    <a:moveTo>
                      <a:pt x="0" y="85"/>
                    </a:moveTo>
                    <a:lnTo>
                      <a:pt x="3" y="85"/>
                    </a:lnTo>
                    <a:lnTo>
                      <a:pt x="9" y="84"/>
                    </a:lnTo>
                    <a:lnTo>
                      <a:pt x="19" y="83"/>
                    </a:lnTo>
                    <a:lnTo>
                      <a:pt x="32" y="79"/>
                    </a:lnTo>
                    <a:lnTo>
                      <a:pt x="46" y="75"/>
                    </a:lnTo>
                    <a:lnTo>
                      <a:pt x="61" y="71"/>
                    </a:lnTo>
                    <a:lnTo>
                      <a:pt x="76" y="64"/>
                    </a:lnTo>
                    <a:lnTo>
                      <a:pt x="88" y="56"/>
                    </a:lnTo>
                    <a:lnTo>
                      <a:pt x="90" y="55"/>
                    </a:lnTo>
                    <a:lnTo>
                      <a:pt x="93" y="51"/>
                    </a:lnTo>
                    <a:lnTo>
                      <a:pt x="100" y="45"/>
                    </a:lnTo>
                    <a:lnTo>
                      <a:pt x="109" y="37"/>
                    </a:lnTo>
                    <a:lnTo>
                      <a:pt x="119" y="29"/>
                    </a:lnTo>
                    <a:lnTo>
                      <a:pt x="131" y="20"/>
                    </a:lnTo>
                    <a:lnTo>
                      <a:pt x="146" y="13"/>
                    </a:lnTo>
                    <a:lnTo>
                      <a:pt x="161" y="6"/>
                    </a:lnTo>
                    <a:lnTo>
                      <a:pt x="179" y="1"/>
                    </a:lnTo>
                    <a:lnTo>
                      <a:pt x="198" y="0"/>
                    </a:lnTo>
                    <a:lnTo>
                      <a:pt x="218" y="1"/>
                    </a:lnTo>
                    <a:lnTo>
                      <a:pt x="240" y="6"/>
                    </a:lnTo>
                    <a:lnTo>
                      <a:pt x="262" y="17"/>
                    </a:lnTo>
                    <a:lnTo>
                      <a:pt x="285" y="31"/>
                    </a:lnTo>
                    <a:lnTo>
                      <a:pt x="309" y="53"/>
                    </a:lnTo>
                    <a:lnTo>
                      <a:pt x="333" y="80"/>
                    </a:lnTo>
                    <a:lnTo>
                      <a:pt x="335" y="81"/>
                    </a:lnTo>
                    <a:lnTo>
                      <a:pt x="343" y="84"/>
                    </a:lnTo>
                    <a:lnTo>
                      <a:pt x="355" y="89"/>
                    </a:lnTo>
                    <a:lnTo>
                      <a:pt x="369" y="95"/>
                    </a:lnTo>
                    <a:lnTo>
                      <a:pt x="387" y="99"/>
                    </a:lnTo>
                    <a:lnTo>
                      <a:pt x="405" y="103"/>
                    </a:lnTo>
                    <a:lnTo>
                      <a:pt x="423" y="104"/>
                    </a:lnTo>
                    <a:lnTo>
                      <a:pt x="442" y="103"/>
                    </a:lnTo>
                    <a:lnTo>
                      <a:pt x="441" y="104"/>
                    </a:lnTo>
                    <a:lnTo>
                      <a:pt x="437" y="107"/>
                    </a:lnTo>
                    <a:lnTo>
                      <a:pt x="429" y="109"/>
                    </a:lnTo>
                    <a:lnTo>
                      <a:pt x="415" y="110"/>
                    </a:lnTo>
                    <a:lnTo>
                      <a:pt x="393" y="110"/>
                    </a:lnTo>
                    <a:lnTo>
                      <a:pt x="363" y="107"/>
                    </a:lnTo>
                    <a:lnTo>
                      <a:pt x="321" y="96"/>
                    </a:lnTo>
                    <a:lnTo>
                      <a:pt x="270" y="80"/>
                    </a:lnTo>
                    <a:lnTo>
                      <a:pt x="267" y="79"/>
                    </a:lnTo>
                    <a:lnTo>
                      <a:pt x="260" y="74"/>
                    </a:lnTo>
                    <a:lnTo>
                      <a:pt x="248" y="68"/>
                    </a:lnTo>
                    <a:lnTo>
                      <a:pt x="231" y="62"/>
                    </a:lnTo>
                    <a:lnTo>
                      <a:pt x="209" y="58"/>
                    </a:lnTo>
                    <a:lnTo>
                      <a:pt x="184" y="58"/>
                    </a:lnTo>
                    <a:lnTo>
                      <a:pt x="154" y="62"/>
                    </a:lnTo>
                    <a:lnTo>
                      <a:pt x="120" y="71"/>
                    </a:lnTo>
                    <a:lnTo>
                      <a:pt x="119" y="72"/>
                    </a:lnTo>
                    <a:lnTo>
                      <a:pt x="112" y="76"/>
                    </a:lnTo>
                    <a:lnTo>
                      <a:pt x="103" y="81"/>
                    </a:lnTo>
                    <a:lnTo>
                      <a:pt x="90" y="87"/>
                    </a:lnTo>
                    <a:lnTo>
                      <a:pt x="73" y="91"/>
                    </a:lnTo>
                    <a:lnTo>
                      <a:pt x="52" y="92"/>
                    </a:lnTo>
                    <a:lnTo>
                      <a:pt x="28" y="91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Freeform 162"/>
              <p:cNvSpPr/>
              <p:nvPr/>
            </p:nvSpPr>
            <p:spPr>
              <a:xfrm>
                <a:off x="6690960" y="497520"/>
                <a:ext cx="327240" cy="69480"/>
              </a:xfrm>
              <a:custGeom>
                <a:avLst/>
                <a:gdLst/>
                <a:ahLst/>
                <a:rect l="l" t="t" r="r" b="b"/>
                <a:pathLst>
                  <a:path w="473" h="165">
                    <a:moveTo>
                      <a:pt x="0" y="0"/>
                    </a:moveTo>
                    <a:lnTo>
                      <a:pt x="4" y="0"/>
                    </a:lnTo>
                    <a:lnTo>
                      <a:pt x="13" y="2"/>
                    </a:lnTo>
                    <a:lnTo>
                      <a:pt x="28" y="4"/>
                    </a:lnTo>
                    <a:lnTo>
                      <a:pt x="48" y="9"/>
                    </a:lnTo>
                    <a:lnTo>
                      <a:pt x="72" y="17"/>
                    </a:lnTo>
                    <a:lnTo>
                      <a:pt x="98" y="28"/>
                    </a:lnTo>
                    <a:lnTo>
                      <a:pt x="129" y="42"/>
                    </a:lnTo>
                    <a:lnTo>
                      <a:pt x="159" y="61"/>
                    </a:lnTo>
                    <a:lnTo>
                      <a:pt x="190" y="78"/>
                    </a:lnTo>
                    <a:lnTo>
                      <a:pt x="221" y="90"/>
                    </a:lnTo>
                    <a:lnTo>
                      <a:pt x="251" y="98"/>
                    </a:lnTo>
                    <a:lnTo>
                      <a:pt x="277" y="100"/>
                    </a:lnTo>
                    <a:lnTo>
                      <a:pt x="300" y="102"/>
                    </a:lnTo>
                    <a:lnTo>
                      <a:pt x="318" y="102"/>
                    </a:lnTo>
                    <a:lnTo>
                      <a:pt x="329" y="100"/>
                    </a:lnTo>
                    <a:lnTo>
                      <a:pt x="333" y="100"/>
                    </a:lnTo>
                    <a:lnTo>
                      <a:pt x="473" y="49"/>
                    </a:lnTo>
                    <a:lnTo>
                      <a:pt x="469" y="53"/>
                    </a:lnTo>
                    <a:lnTo>
                      <a:pt x="457" y="62"/>
                    </a:lnTo>
                    <a:lnTo>
                      <a:pt x="441" y="77"/>
                    </a:lnTo>
                    <a:lnTo>
                      <a:pt x="422" y="94"/>
                    </a:lnTo>
                    <a:lnTo>
                      <a:pt x="401" y="111"/>
                    </a:lnTo>
                    <a:lnTo>
                      <a:pt x="381" y="127"/>
                    </a:lnTo>
                    <a:lnTo>
                      <a:pt x="363" y="141"/>
                    </a:lnTo>
                    <a:lnTo>
                      <a:pt x="350" y="150"/>
                    </a:lnTo>
                    <a:lnTo>
                      <a:pt x="344" y="154"/>
                    </a:lnTo>
                    <a:lnTo>
                      <a:pt x="334" y="157"/>
                    </a:lnTo>
                    <a:lnTo>
                      <a:pt x="323" y="160"/>
                    </a:lnTo>
                    <a:lnTo>
                      <a:pt x="309" y="161"/>
                    </a:lnTo>
                    <a:lnTo>
                      <a:pt x="295" y="164"/>
                    </a:lnTo>
                    <a:lnTo>
                      <a:pt x="279" y="164"/>
                    </a:lnTo>
                    <a:lnTo>
                      <a:pt x="261" y="165"/>
                    </a:lnTo>
                    <a:lnTo>
                      <a:pt x="243" y="164"/>
                    </a:lnTo>
                    <a:lnTo>
                      <a:pt x="224" y="162"/>
                    </a:lnTo>
                    <a:lnTo>
                      <a:pt x="207" y="161"/>
                    </a:lnTo>
                    <a:lnTo>
                      <a:pt x="189" y="157"/>
                    </a:lnTo>
                    <a:lnTo>
                      <a:pt x="172" y="153"/>
                    </a:lnTo>
                    <a:lnTo>
                      <a:pt x="156" y="148"/>
                    </a:lnTo>
                    <a:lnTo>
                      <a:pt x="141" y="141"/>
                    </a:lnTo>
                    <a:lnTo>
                      <a:pt x="127" y="133"/>
                    </a:lnTo>
                    <a:lnTo>
                      <a:pt x="116" y="124"/>
                    </a:lnTo>
                    <a:lnTo>
                      <a:pt x="97" y="103"/>
                    </a:lnTo>
                    <a:lnTo>
                      <a:pt x="81" y="82"/>
                    </a:lnTo>
                    <a:lnTo>
                      <a:pt x="68" y="62"/>
                    </a:lnTo>
                    <a:lnTo>
                      <a:pt x="56" y="42"/>
                    </a:lnTo>
                    <a:lnTo>
                      <a:pt x="43" y="27"/>
                    </a:lnTo>
                    <a:lnTo>
                      <a:pt x="30" y="13"/>
                    </a:lnTo>
                    <a:lnTo>
                      <a:pt x="1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Freeform 163"/>
              <p:cNvSpPr/>
              <p:nvPr/>
            </p:nvSpPr>
            <p:spPr>
              <a:xfrm>
                <a:off x="6991560" y="592200"/>
                <a:ext cx="392760" cy="374400"/>
              </a:xfrm>
              <a:custGeom>
                <a:avLst/>
                <a:gdLst/>
                <a:ahLst/>
                <a:rect l="l" t="t" r="r" b="b"/>
                <a:pathLst>
                  <a:path w="570" h="953">
                    <a:moveTo>
                      <a:pt x="443" y="29"/>
                    </a:moveTo>
                    <a:lnTo>
                      <a:pt x="440" y="26"/>
                    </a:lnTo>
                    <a:lnTo>
                      <a:pt x="432" y="19"/>
                    </a:lnTo>
                    <a:lnTo>
                      <a:pt x="418" y="13"/>
                    </a:lnTo>
                    <a:lnTo>
                      <a:pt x="400" y="5"/>
                    </a:lnTo>
                    <a:lnTo>
                      <a:pt x="377" y="0"/>
                    </a:lnTo>
                    <a:lnTo>
                      <a:pt x="351" y="0"/>
                    </a:lnTo>
                    <a:lnTo>
                      <a:pt x="322" y="5"/>
                    </a:lnTo>
                    <a:lnTo>
                      <a:pt x="289" y="19"/>
                    </a:lnTo>
                    <a:lnTo>
                      <a:pt x="258" y="35"/>
                    </a:lnTo>
                    <a:lnTo>
                      <a:pt x="233" y="44"/>
                    </a:lnTo>
                    <a:lnTo>
                      <a:pt x="210" y="48"/>
                    </a:lnTo>
                    <a:lnTo>
                      <a:pt x="191" y="51"/>
                    </a:lnTo>
                    <a:lnTo>
                      <a:pt x="175" y="52"/>
                    </a:lnTo>
                    <a:lnTo>
                      <a:pt x="160" y="56"/>
                    </a:lnTo>
                    <a:lnTo>
                      <a:pt x="146" y="65"/>
                    </a:lnTo>
                    <a:lnTo>
                      <a:pt x="132" y="80"/>
                    </a:lnTo>
                    <a:lnTo>
                      <a:pt x="104" y="126"/>
                    </a:lnTo>
                    <a:lnTo>
                      <a:pt x="81" y="180"/>
                    </a:lnTo>
                    <a:lnTo>
                      <a:pt x="63" y="241"/>
                    </a:lnTo>
                    <a:lnTo>
                      <a:pt x="47" y="304"/>
                    </a:lnTo>
                    <a:lnTo>
                      <a:pt x="36" y="366"/>
                    </a:lnTo>
                    <a:lnTo>
                      <a:pt x="26" y="425"/>
                    </a:lnTo>
                    <a:lnTo>
                      <a:pt x="17" y="479"/>
                    </a:lnTo>
                    <a:lnTo>
                      <a:pt x="8" y="524"/>
                    </a:lnTo>
                    <a:lnTo>
                      <a:pt x="2" y="569"/>
                    </a:lnTo>
                    <a:lnTo>
                      <a:pt x="0" y="623"/>
                    </a:lnTo>
                    <a:lnTo>
                      <a:pt x="2" y="679"/>
                    </a:lnTo>
                    <a:lnTo>
                      <a:pt x="8" y="736"/>
                    </a:lnTo>
                    <a:lnTo>
                      <a:pt x="18" y="788"/>
                    </a:lnTo>
                    <a:lnTo>
                      <a:pt x="34" y="832"/>
                    </a:lnTo>
                    <a:lnTo>
                      <a:pt x="54" y="864"/>
                    </a:lnTo>
                    <a:lnTo>
                      <a:pt x="79" y="878"/>
                    </a:lnTo>
                    <a:lnTo>
                      <a:pt x="104" y="885"/>
                    </a:lnTo>
                    <a:lnTo>
                      <a:pt x="127" y="893"/>
                    </a:lnTo>
                    <a:lnTo>
                      <a:pt x="146" y="904"/>
                    </a:lnTo>
                    <a:lnTo>
                      <a:pt x="165" y="915"/>
                    </a:lnTo>
                    <a:lnTo>
                      <a:pt x="181" y="927"/>
                    </a:lnTo>
                    <a:lnTo>
                      <a:pt x="197" y="937"/>
                    </a:lnTo>
                    <a:lnTo>
                      <a:pt x="212" y="947"/>
                    </a:lnTo>
                    <a:lnTo>
                      <a:pt x="229" y="952"/>
                    </a:lnTo>
                    <a:lnTo>
                      <a:pt x="238" y="953"/>
                    </a:lnTo>
                    <a:lnTo>
                      <a:pt x="249" y="953"/>
                    </a:lnTo>
                    <a:lnTo>
                      <a:pt x="260" y="950"/>
                    </a:lnTo>
                    <a:lnTo>
                      <a:pt x="274" y="947"/>
                    </a:lnTo>
                    <a:lnTo>
                      <a:pt x="288" y="940"/>
                    </a:lnTo>
                    <a:lnTo>
                      <a:pt x="303" y="933"/>
                    </a:lnTo>
                    <a:lnTo>
                      <a:pt x="320" y="924"/>
                    </a:lnTo>
                    <a:lnTo>
                      <a:pt x="336" y="914"/>
                    </a:lnTo>
                    <a:lnTo>
                      <a:pt x="354" y="902"/>
                    </a:lnTo>
                    <a:lnTo>
                      <a:pt x="370" y="887"/>
                    </a:lnTo>
                    <a:lnTo>
                      <a:pt x="388" y="873"/>
                    </a:lnTo>
                    <a:lnTo>
                      <a:pt x="405" y="857"/>
                    </a:lnTo>
                    <a:lnTo>
                      <a:pt x="423" y="840"/>
                    </a:lnTo>
                    <a:lnTo>
                      <a:pt x="440" y="820"/>
                    </a:lnTo>
                    <a:lnTo>
                      <a:pt x="457" y="800"/>
                    </a:lnTo>
                    <a:lnTo>
                      <a:pt x="473" y="779"/>
                    </a:lnTo>
                    <a:lnTo>
                      <a:pt x="511" y="711"/>
                    </a:lnTo>
                    <a:lnTo>
                      <a:pt x="541" y="623"/>
                    </a:lnTo>
                    <a:lnTo>
                      <a:pt x="561" y="520"/>
                    </a:lnTo>
                    <a:lnTo>
                      <a:pt x="570" y="411"/>
                    </a:lnTo>
                    <a:lnTo>
                      <a:pt x="564" y="300"/>
                    </a:lnTo>
                    <a:lnTo>
                      <a:pt x="543" y="195"/>
                    </a:lnTo>
                    <a:lnTo>
                      <a:pt x="502" y="102"/>
                    </a:lnTo>
                    <a:lnTo>
                      <a:pt x="443" y="29"/>
                    </a:lnTo>
                    <a:close/>
                  </a:path>
                </a:pathLst>
              </a:custGeom>
              <a:solidFill>
                <a:srgbClr val="ff72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Freeform 164"/>
              <p:cNvSpPr/>
              <p:nvPr/>
            </p:nvSpPr>
            <p:spPr>
              <a:xfrm>
                <a:off x="7096680" y="704520"/>
                <a:ext cx="205200" cy="199440"/>
              </a:xfrm>
              <a:custGeom>
                <a:avLst/>
                <a:gdLst/>
                <a:ahLst/>
                <a:rect l="l" t="t" r="r" b="b"/>
                <a:pathLst>
                  <a:path w="297" h="507">
                    <a:moveTo>
                      <a:pt x="231" y="15"/>
                    </a:moveTo>
                    <a:lnTo>
                      <a:pt x="229" y="14"/>
                    </a:lnTo>
                    <a:lnTo>
                      <a:pt x="224" y="11"/>
                    </a:lnTo>
                    <a:lnTo>
                      <a:pt x="218" y="7"/>
                    </a:lnTo>
                    <a:lnTo>
                      <a:pt x="208" y="3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68" y="3"/>
                    </a:lnTo>
                    <a:lnTo>
                      <a:pt x="151" y="11"/>
                    </a:lnTo>
                    <a:lnTo>
                      <a:pt x="136" y="19"/>
                    </a:lnTo>
                    <a:lnTo>
                      <a:pt x="122" y="24"/>
                    </a:lnTo>
                    <a:lnTo>
                      <a:pt x="111" y="27"/>
                    </a:lnTo>
                    <a:lnTo>
                      <a:pt x="102" y="28"/>
                    </a:lnTo>
                    <a:lnTo>
                      <a:pt x="93" y="29"/>
                    </a:lnTo>
                    <a:lnTo>
                      <a:pt x="86" y="31"/>
                    </a:lnTo>
                    <a:lnTo>
                      <a:pt x="78" y="35"/>
                    </a:lnTo>
                    <a:lnTo>
                      <a:pt x="71" y="43"/>
                    </a:lnTo>
                    <a:lnTo>
                      <a:pt x="57" y="66"/>
                    </a:lnTo>
                    <a:lnTo>
                      <a:pt x="44" y="95"/>
                    </a:lnTo>
                    <a:lnTo>
                      <a:pt x="35" y="127"/>
                    </a:lnTo>
                    <a:lnTo>
                      <a:pt x="26" y="158"/>
                    </a:lnTo>
                    <a:lnTo>
                      <a:pt x="20" y="191"/>
                    </a:lnTo>
                    <a:lnTo>
                      <a:pt x="15" y="223"/>
                    </a:lnTo>
                    <a:lnTo>
                      <a:pt x="10" y="252"/>
                    </a:lnTo>
                    <a:lnTo>
                      <a:pt x="5" y="276"/>
                    </a:lnTo>
                    <a:lnTo>
                      <a:pt x="1" y="299"/>
                    </a:lnTo>
                    <a:lnTo>
                      <a:pt x="0" y="328"/>
                    </a:lnTo>
                    <a:lnTo>
                      <a:pt x="1" y="359"/>
                    </a:lnTo>
                    <a:lnTo>
                      <a:pt x="4" y="389"/>
                    </a:lnTo>
                    <a:lnTo>
                      <a:pt x="9" y="418"/>
                    </a:lnTo>
                    <a:lnTo>
                      <a:pt x="16" y="442"/>
                    </a:lnTo>
                    <a:lnTo>
                      <a:pt x="26" y="459"/>
                    </a:lnTo>
                    <a:lnTo>
                      <a:pt x="39" y="467"/>
                    </a:lnTo>
                    <a:lnTo>
                      <a:pt x="53" y="471"/>
                    </a:lnTo>
                    <a:lnTo>
                      <a:pt x="64" y="475"/>
                    </a:lnTo>
                    <a:lnTo>
                      <a:pt x="76" y="481"/>
                    </a:lnTo>
                    <a:lnTo>
                      <a:pt x="84" y="486"/>
                    </a:lnTo>
                    <a:lnTo>
                      <a:pt x="93" y="493"/>
                    </a:lnTo>
                    <a:lnTo>
                      <a:pt x="102" y="500"/>
                    </a:lnTo>
                    <a:lnTo>
                      <a:pt x="110" y="503"/>
                    </a:lnTo>
                    <a:lnTo>
                      <a:pt x="118" y="507"/>
                    </a:lnTo>
                    <a:lnTo>
                      <a:pt x="128" y="507"/>
                    </a:lnTo>
                    <a:lnTo>
                      <a:pt x="142" y="503"/>
                    </a:lnTo>
                    <a:lnTo>
                      <a:pt x="157" y="497"/>
                    </a:lnTo>
                    <a:lnTo>
                      <a:pt x="175" y="485"/>
                    </a:lnTo>
                    <a:lnTo>
                      <a:pt x="194" y="472"/>
                    </a:lnTo>
                    <a:lnTo>
                      <a:pt x="212" y="455"/>
                    </a:lnTo>
                    <a:lnTo>
                      <a:pt x="231" y="435"/>
                    </a:lnTo>
                    <a:lnTo>
                      <a:pt x="248" y="413"/>
                    </a:lnTo>
                    <a:lnTo>
                      <a:pt x="268" y="376"/>
                    </a:lnTo>
                    <a:lnTo>
                      <a:pt x="283" y="328"/>
                    </a:lnTo>
                    <a:lnTo>
                      <a:pt x="294" y="274"/>
                    </a:lnTo>
                    <a:lnTo>
                      <a:pt x="297" y="215"/>
                    </a:lnTo>
                    <a:lnTo>
                      <a:pt x="294" y="157"/>
                    </a:lnTo>
                    <a:lnTo>
                      <a:pt x="282" y="102"/>
                    </a:lnTo>
                    <a:lnTo>
                      <a:pt x="262" y="53"/>
                    </a:lnTo>
                    <a:lnTo>
                      <a:pt x="231" y="15"/>
                    </a:lnTo>
                    <a:close/>
                  </a:path>
                </a:pathLst>
              </a:custGeom>
              <a:solidFill>
                <a:srgbClr val="ffa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Freeform 165"/>
              <p:cNvSpPr/>
              <p:nvPr/>
            </p:nvSpPr>
            <p:spPr>
              <a:xfrm>
                <a:off x="6786360" y="479880"/>
                <a:ext cx="279360" cy="54360"/>
              </a:xfrm>
              <a:custGeom>
                <a:avLst/>
                <a:gdLst/>
                <a:ahLst/>
                <a:rect l="l" t="t" r="r" b="b"/>
                <a:pathLst>
                  <a:path w="406" h="150">
                    <a:moveTo>
                      <a:pt x="29" y="82"/>
                    </a:moveTo>
                    <a:lnTo>
                      <a:pt x="29" y="75"/>
                    </a:lnTo>
                    <a:lnTo>
                      <a:pt x="27" y="61"/>
                    </a:lnTo>
                    <a:lnTo>
                      <a:pt x="23" y="44"/>
                    </a:lnTo>
                    <a:lnTo>
                      <a:pt x="14" y="29"/>
                    </a:lnTo>
                    <a:lnTo>
                      <a:pt x="5" y="17"/>
                    </a:lnTo>
                    <a:lnTo>
                      <a:pt x="0" y="8"/>
                    </a:lnTo>
                    <a:lnTo>
                      <a:pt x="3" y="1"/>
                    </a:lnTo>
                    <a:lnTo>
                      <a:pt x="14" y="0"/>
                    </a:lnTo>
                    <a:lnTo>
                      <a:pt x="25" y="1"/>
                    </a:lnTo>
                    <a:lnTo>
                      <a:pt x="41" y="4"/>
                    </a:lnTo>
                    <a:lnTo>
                      <a:pt x="58" y="7"/>
                    </a:lnTo>
                    <a:lnTo>
                      <a:pt x="77" y="9"/>
                    </a:lnTo>
                    <a:lnTo>
                      <a:pt x="96" y="13"/>
                    </a:lnTo>
                    <a:lnTo>
                      <a:pt x="114" y="17"/>
                    </a:lnTo>
                    <a:lnTo>
                      <a:pt x="130" y="20"/>
                    </a:lnTo>
                    <a:lnTo>
                      <a:pt x="144" y="22"/>
                    </a:lnTo>
                    <a:lnTo>
                      <a:pt x="158" y="24"/>
                    </a:lnTo>
                    <a:lnTo>
                      <a:pt x="174" y="24"/>
                    </a:lnTo>
                    <a:lnTo>
                      <a:pt x="193" y="24"/>
                    </a:lnTo>
                    <a:lnTo>
                      <a:pt x="214" y="22"/>
                    </a:lnTo>
                    <a:lnTo>
                      <a:pt x="235" y="21"/>
                    </a:lnTo>
                    <a:lnTo>
                      <a:pt x="253" y="19"/>
                    </a:lnTo>
                    <a:lnTo>
                      <a:pt x="270" y="16"/>
                    </a:lnTo>
                    <a:lnTo>
                      <a:pt x="284" y="13"/>
                    </a:lnTo>
                    <a:lnTo>
                      <a:pt x="295" y="11"/>
                    </a:lnTo>
                    <a:lnTo>
                      <a:pt x="308" y="8"/>
                    </a:lnTo>
                    <a:lnTo>
                      <a:pt x="319" y="5"/>
                    </a:lnTo>
                    <a:lnTo>
                      <a:pt x="332" y="3"/>
                    </a:lnTo>
                    <a:lnTo>
                      <a:pt x="343" y="3"/>
                    </a:lnTo>
                    <a:lnTo>
                      <a:pt x="355" y="3"/>
                    </a:lnTo>
                    <a:lnTo>
                      <a:pt x="368" y="4"/>
                    </a:lnTo>
                    <a:lnTo>
                      <a:pt x="381" y="8"/>
                    </a:lnTo>
                    <a:lnTo>
                      <a:pt x="400" y="20"/>
                    </a:lnTo>
                    <a:lnTo>
                      <a:pt x="406" y="37"/>
                    </a:lnTo>
                    <a:lnTo>
                      <a:pt x="401" y="53"/>
                    </a:lnTo>
                    <a:lnTo>
                      <a:pt x="387" y="66"/>
                    </a:lnTo>
                    <a:lnTo>
                      <a:pt x="377" y="71"/>
                    </a:lnTo>
                    <a:lnTo>
                      <a:pt x="364" y="76"/>
                    </a:lnTo>
                    <a:lnTo>
                      <a:pt x="352" y="83"/>
                    </a:lnTo>
                    <a:lnTo>
                      <a:pt x="339" y="90"/>
                    </a:lnTo>
                    <a:lnTo>
                      <a:pt x="328" y="96"/>
                    </a:lnTo>
                    <a:lnTo>
                      <a:pt x="319" y="102"/>
                    </a:lnTo>
                    <a:lnTo>
                      <a:pt x="313" y="104"/>
                    </a:lnTo>
                    <a:lnTo>
                      <a:pt x="310" y="105"/>
                    </a:lnTo>
                    <a:lnTo>
                      <a:pt x="250" y="129"/>
                    </a:lnTo>
                    <a:lnTo>
                      <a:pt x="245" y="130"/>
                    </a:lnTo>
                    <a:lnTo>
                      <a:pt x="233" y="132"/>
                    </a:lnTo>
                    <a:lnTo>
                      <a:pt x="216" y="136"/>
                    </a:lnTo>
                    <a:lnTo>
                      <a:pt x="195" y="140"/>
                    </a:lnTo>
                    <a:lnTo>
                      <a:pt x="175" y="144"/>
                    </a:lnTo>
                    <a:lnTo>
                      <a:pt x="156" y="146"/>
                    </a:lnTo>
                    <a:lnTo>
                      <a:pt x="143" y="149"/>
                    </a:lnTo>
                    <a:lnTo>
                      <a:pt x="136" y="150"/>
                    </a:lnTo>
                    <a:lnTo>
                      <a:pt x="133" y="149"/>
                    </a:lnTo>
                    <a:lnTo>
                      <a:pt x="125" y="146"/>
                    </a:lnTo>
                    <a:lnTo>
                      <a:pt x="114" y="141"/>
                    </a:lnTo>
                    <a:lnTo>
                      <a:pt x="101" y="133"/>
                    </a:lnTo>
                    <a:lnTo>
                      <a:pt x="85" y="123"/>
                    </a:lnTo>
                    <a:lnTo>
                      <a:pt x="68" y="111"/>
                    </a:lnTo>
                    <a:lnTo>
                      <a:pt x="49" y="98"/>
                    </a:lnTo>
                    <a:lnTo>
                      <a:pt x="29" y="82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Freeform 166"/>
              <p:cNvSpPr/>
              <p:nvPr/>
            </p:nvSpPr>
            <p:spPr>
              <a:xfrm>
                <a:off x="6179400" y="529560"/>
                <a:ext cx="360000" cy="706320"/>
              </a:xfrm>
              <a:custGeom>
                <a:avLst/>
                <a:gdLst/>
                <a:ahLst/>
                <a:rect l="l" t="t" r="r" b="b"/>
                <a:pathLst>
                  <a:path w="521" h="1794">
                    <a:moveTo>
                      <a:pt x="221" y="0"/>
                    </a:moveTo>
                    <a:lnTo>
                      <a:pt x="217" y="4"/>
                    </a:lnTo>
                    <a:lnTo>
                      <a:pt x="204" y="14"/>
                    </a:lnTo>
                    <a:lnTo>
                      <a:pt x="187" y="33"/>
                    </a:lnTo>
                    <a:lnTo>
                      <a:pt x="164" y="58"/>
                    </a:lnTo>
                    <a:lnTo>
                      <a:pt x="139" y="92"/>
                    </a:lnTo>
                    <a:lnTo>
                      <a:pt x="113" y="134"/>
                    </a:lnTo>
                    <a:lnTo>
                      <a:pt x="85" y="184"/>
                    </a:lnTo>
                    <a:lnTo>
                      <a:pt x="60" y="244"/>
                    </a:lnTo>
                    <a:lnTo>
                      <a:pt x="37" y="312"/>
                    </a:lnTo>
                    <a:lnTo>
                      <a:pt x="18" y="388"/>
                    </a:lnTo>
                    <a:lnTo>
                      <a:pt x="5" y="475"/>
                    </a:lnTo>
                    <a:lnTo>
                      <a:pt x="0" y="570"/>
                    </a:lnTo>
                    <a:lnTo>
                      <a:pt x="4" y="676"/>
                    </a:lnTo>
                    <a:lnTo>
                      <a:pt x="19" y="791"/>
                    </a:lnTo>
                    <a:lnTo>
                      <a:pt x="46" y="918"/>
                    </a:lnTo>
                    <a:lnTo>
                      <a:pt x="85" y="1053"/>
                    </a:lnTo>
                    <a:lnTo>
                      <a:pt x="89" y="1060"/>
                    </a:lnTo>
                    <a:lnTo>
                      <a:pt x="100" y="1080"/>
                    </a:lnTo>
                    <a:lnTo>
                      <a:pt x="116" y="1111"/>
                    </a:lnTo>
                    <a:lnTo>
                      <a:pt x="139" y="1152"/>
                    </a:lnTo>
                    <a:lnTo>
                      <a:pt x="165" y="1201"/>
                    </a:lnTo>
                    <a:lnTo>
                      <a:pt x="196" y="1256"/>
                    </a:lnTo>
                    <a:lnTo>
                      <a:pt x="230" y="1317"/>
                    </a:lnTo>
                    <a:lnTo>
                      <a:pt x="265" y="1380"/>
                    </a:lnTo>
                    <a:lnTo>
                      <a:pt x="301" y="1443"/>
                    </a:lnTo>
                    <a:lnTo>
                      <a:pt x="338" y="1508"/>
                    </a:lnTo>
                    <a:lnTo>
                      <a:pt x="375" y="1570"/>
                    </a:lnTo>
                    <a:lnTo>
                      <a:pt x="410" y="1629"/>
                    </a:lnTo>
                    <a:lnTo>
                      <a:pt x="443" y="1682"/>
                    </a:lnTo>
                    <a:lnTo>
                      <a:pt x="473" y="1728"/>
                    </a:lnTo>
                    <a:lnTo>
                      <a:pt x="499" y="1766"/>
                    </a:lnTo>
                    <a:lnTo>
                      <a:pt x="521" y="1794"/>
                    </a:lnTo>
                    <a:lnTo>
                      <a:pt x="517" y="1787"/>
                    </a:lnTo>
                    <a:lnTo>
                      <a:pt x="507" y="1769"/>
                    </a:lnTo>
                    <a:lnTo>
                      <a:pt x="492" y="1740"/>
                    </a:lnTo>
                    <a:lnTo>
                      <a:pt x="472" y="1703"/>
                    </a:lnTo>
                    <a:lnTo>
                      <a:pt x="448" y="1657"/>
                    </a:lnTo>
                    <a:lnTo>
                      <a:pt x="419" y="1605"/>
                    </a:lnTo>
                    <a:lnTo>
                      <a:pt x="388" y="1549"/>
                    </a:lnTo>
                    <a:lnTo>
                      <a:pt x="357" y="1488"/>
                    </a:lnTo>
                    <a:lnTo>
                      <a:pt x="323" y="1426"/>
                    </a:lnTo>
                    <a:lnTo>
                      <a:pt x="289" y="1363"/>
                    </a:lnTo>
                    <a:lnTo>
                      <a:pt x="255" y="1301"/>
                    </a:lnTo>
                    <a:lnTo>
                      <a:pt x="223" y="1241"/>
                    </a:lnTo>
                    <a:lnTo>
                      <a:pt x="193" y="1184"/>
                    </a:lnTo>
                    <a:lnTo>
                      <a:pt x="164" y="1131"/>
                    </a:lnTo>
                    <a:lnTo>
                      <a:pt x="140" y="1085"/>
                    </a:lnTo>
                    <a:lnTo>
                      <a:pt x="120" y="1047"/>
                    </a:lnTo>
                    <a:lnTo>
                      <a:pt x="118" y="1040"/>
                    </a:lnTo>
                    <a:lnTo>
                      <a:pt x="111" y="1021"/>
                    </a:lnTo>
                    <a:lnTo>
                      <a:pt x="101" y="989"/>
                    </a:lnTo>
                    <a:lnTo>
                      <a:pt x="90" y="945"/>
                    </a:lnTo>
                    <a:lnTo>
                      <a:pt x="77" y="894"/>
                    </a:lnTo>
                    <a:lnTo>
                      <a:pt x="66" y="834"/>
                    </a:lnTo>
                    <a:lnTo>
                      <a:pt x="56" y="765"/>
                    </a:lnTo>
                    <a:lnTo>
                      <a:pt x="48" y="691"/>
                    </a:lnTo>
                    <a:lnTo>
                      <a:pt x="43" y="611"/>
                    </a:lnTo>
                    <a:lnTo>
                      <a:pt x="44" y="528"/>
                    </a:lnTo>
                    <a:lnTo>
                      <a:pt x="52" y="441"/>
                    </a:lnTo>
                    <a:lnTo>
                      <a:pt x="67" y="352"/>
                    </a:lnTo>
                    <a:lnTo>
                      <a:pt x="90" y="262"/>
                    </a:lnTo>
                    <a:lnTo>
                      <a:pt x="123" y="172"/>
                    </a:lnTo>
                    <a:lnTo>
                      <a:pt x="165" y="85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Freeform 167"/>
              <p:cNvSpPr/>
              <p:nvPr/>
            </p:nvSpPr>
            <p:spPr>
              <a:xfrm>
                <a:off x="6736680" y="510840"/>
                <a:ext cx="240120" cy="46800"/>
              </a:xfrm>
              <a:custGeom>
                <a:avLst/>
                <a:gdLst/>
                <a:ahLst/>
                <a:rect l="l" t="t" r="r" b="b"/>
                <a:pathLst>
                  <a:path w="350" h="120">
                    <a:moveTo>
                      <a:pt x="0" y="0"/>
                    </a:moveTo>
                    <a:lnTo>
                      <a:pt x="5" y="4"/>
                    </a:lnTo>
                    <a:lnTo>
                      <a:pt x="16" y="16"/>
                    </a:lnTo>
                    <a:lnTo>
                      <a:pt x="35" y="32"/>
                    </a:lnTo>
                    <a:lnTo>
                      <a:pt x="59" y="50"/>
                    </a:lnTo>
                    <a:lnTo>
                      <a:pt x="85" y="69"/>
                    </a:lnTo>
                    <a:lnTo>
                      <a:pt x="113" y="87"/>
                    </a:lnTo>
                    <a:lnTo>
                      <a:pt x="141" y="102"/>
                    </a:lnTo>
                    <a:lnTo>
                      <a:pt x="166" y="110"/>
                    </a:lnTo>
                    <a:lnTo>
                      <a:pt x="190" y="115"/>
                    </a:lnTo>
                    <a:lnTo>
                      <a:pt x="215" y="118"/>
                    </a:lnTo>
                    <a:lnTo>
                      <a:pt x="240" y="120"/>
                    </a:lnTo>
                    <a:lnTo>
                      <a:pt x="264" y="119"/>
                    </a:lnTo>
                    <a:lnTo>
                      <a:pt x="287" y="116"/>
                    </a:lnTo>
                    <a:lnTo>
                      <a:pt x="306" y="111"/>
                    </a:lnTo>
                    <a:lnTo>
                      <a:pt x="321" y="102"/>
                    </a:lnTo>
                    <a:lnTo>
                      <a:pt x="331" y="90"/>
                    </a:lnTo>
                    <a:lnTo>
                      <a:pt x="350" y="61"/>
                    </a:lnTo>
                    <a:lnTo>
                      <a:pt x="345" y="62"/>
                    </a:lnTo>
                    <a:lnTo>
                      <a:pt x="331" y="68"/>
                    </a:lnTo>
                    <a:lnTo>
                      <a:pt x="311" y="73"/>
                    </a:lnTo>
                    <a:lnTo>
                      <a:pt x="286" y="78"/>
                    </a:lnTo>
                    <a:lnTo>
                      <a:pt x="255" y="82"/>
                    </a:lnTo>
                    <a:lnTo>
                      <a:pt x="225" y="83"/>
                    </a:lnTo>
                    <a:lnTo>
                      <a:pt x="195" y="79"/>
                    </a:lnTo>
                    <a:lnTo>
                      <a:pt x="167" y="70"/>
                    </a:lnTo>
                    <a:lnTo>
                      <a:pt x="163" y="68"/>
                    </a:lnTo>
                    <a:lnTo>
                      <a:pt x="153" y="60"/>
                    </a:lnTo>
                    <a:lnTo>
                      <a:pt x="137" y="49"/>
                    </a:lnTo>
                    <a:lnTo>
                      <a:pt x="116" y="37"/>
                    </a:lnTo>
                    <a:lnTo>
                      <a:pt x="90" y="25"/>
                    </a:lnTo>
                    <a:lnTo>
                      <a:pt x="61" y="14"/>
                    </a:lnTo>
                    <a:lnTo>
                      <a:pt x="3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Freeform 168"/>
              <p:cNvSpPr/>
              <p:nvPr/>
            </p:nvSpPr>
            <p:spPr>
              <a:xfrm>
                <a:off x="6287040" y="583920"/>
                <a:ext cx="194760" cy="361440"/>
              </a:xfrm>
              <a:custGeom>
                <a:avLst/>
                <a:gdLst/>
                <a:ahLst/>
                <a:rect l="l" t="t" r="r" b="b"/>
                <a:pathLst>
                  <a:path w="281" h="918">
                    <a:moveTo>
                      <a:pt x="232" y="13"/>
                    </a:moveTo>
                    <a:lnTo>
                      <a:pt x="227" y="14"/>
                    </a:lnTo>
                    <a:lnTo>
                      <a:pt x="215" y="21"/>
                    </a:lnTo>
                    <a:lnTo>
                      <a:pt x="196" y="31"/>
                    </a:lnTo>
                    <a:lnTo>
                      <a:pt x="173" y="47"/>
                    </a:lnTo>
                    <a:lnTo>
                      <a:pt x="145" y="71"/>
                    </a:lnTo>
                    <a:lnTo>
                      <a:pt x="116" y="101"/>
                    </a:lnTo>
                    <a:lnTo>
                      <a:pt x="87" y="141"/>
                    </a:lnTo>
                    <a:lnTo>
                      <a:pt x="60" y="189"/>
                    </a:lnTo>
                    <a:lnTo>
                      <a:pt x="39" y="236"/>
                    </a:lnTo>
                    <a:lnTo>
                      <a:pt x="22" y="290"/>
                    </a:lnTo>
                    <a:lnTo>
                      <a:pt x="8" y="355"/>
                    </a:lnTo>
                    <a:lnTo>
                      <a:pt x="0" y="431"/>
                    </a:lnTo>
                    <a:lnTo>
                      <a:pt x="0" y="520"/>
                    </a:lnTo>
                    <a:lnTo>
                      <a:pt x="12" y="621"/>
                    </a:lnTo>
                    <a:lnTo>
                      <a:pt x="33" y="737"/>
                    </a:lnTo>
                    <a:lnTo>
                      <a:pt x="70" y="869"/>
                    </a:lnTo>
                    <a:lnTo>
                      <a:pt x="73" y="874"/>
                    </a:lnTo>
                    <a:lnTo>
                      <a:pt x="82" y="885"/>
                    </a:lnTo>
                    <a:lnTo>
                      <a:pt x="95" y="899"/>
                    </a:lnTo>
                    <a:lnTo>
                      <a:pt x="109" y="911"/>
                    </a:lnTo>
                    <a:lnTo>
                      <a:pt x="121" y="918"/>
                    </a:lnTo>
                    <a:lnTo>
                      <a:pt x="131" y="915"/>
                    </a:lnTo>
                    <a:lnTo>
                      <a:pt x="135" y="898"/>
                    </a:lnTo>
                    <a:lnTo>
                      <a:pt x="131" y="862"/>
                    </a:lnTo>
                    <a:lnTo>
                      <a:pt x="126" y="848"/>
                    </a:lnTo>
                    <a:lnTo>
                      <a:pt x="114" y="808"/>
                    </a:lnTo>
                    <a:lnTo>
                      <a:pt x="97" y="748"/>
                    </a:lnTo>
                    <a:lnTo>
                      <a:pt x="84" y="666"/>
                    </a:lnTo>
                    <a:lnTo>
                      <a:pt x="75" y="571"/>
                    </a:lnTo>
                    <a:lnTo>
                      <a:pt x="78" y="462"/>
                    </a:lnTo>
                    <a:lnTo>
                      <a:pt x="96" y="345"/>
                    </a:lnTo>
                    <a:lnTo>
                      <a:pt x="135" y="222"/>
                    </a:lnTo>
                    <a:lnTo>
                      <a:pt x="136" y="218"/>
                    </a:lnTo>
                    <a:lnTo>
                      <a:pt x="143" y="207"/>
                    </a:lnTo>
                    <a:lnTo>
                      <a:pt x="152" y="188"/>
                    </a:lnTo>
                    <a:lnTo>
                      <a:pt x="167" y="166"/>
                    </a:lnTo>
                    <a:lnTo>
                      <a:pt x="186" y="139"/>
                    </a:lnTo>
                    <a:lnTo>
                      <a:pt x="211" y="112"/>
                    </a:lnTo>
                    <a:lnTo>
                      <a:pt x="242" y="83"/>
                    </a:lnTo>
                    <a:lnTo>
                      <a:pt x="280" y="54"/>
                    </a:lnTo>
                    <a:lnTo>
                      <a:pt x="280" y="50"/>
                    </a:lnTo>
                    <a:lnTo>
                      <a:pt x="281" y="41"/>
                    </a:lnTo>
                    <a:lnTo>
                      <a:pt x="281" y="29"/>
                    </a:lnTo>
                    <a:lnTo>
                      <a:pt x="280" y="16"/>
                    </a:lnTo>
                    <a:lnTo>
                      <a:pt x="275" y="5"/>
                    </a:lnTo>
                    <a:lnTo>
                      <a:pt x="266" y="0"/>
                    </a:lnTo>
                    <a:lnTo>
                      <a:pt x="252" y="1"/>
                    </a:lnTo>
                    <a:lnTo>
                      <a:pt x="232" y="13"/>
                    </a:lnTo>
                    <a:close/>
                  </a:path>
                </a:pathLst>
              </a:custGeom>
              <a:solidFill>
                <a:srgbClr val="91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Freeform 169"/>
              <p:cNvSpPr/>
              <p:nvPr/>
            </p:nvSpPr>
            <p:spPr>
              <a:xfrm>
                <a:off x="6697080" y="1256040"/>
                <a:ext cx="261000" cy="33120"/>
              </a:xfrm>
              <a:custGeom>
                <a:avLst/>
                <a:gdLst/>
                <a:ahLst/>
                <a:rect l="l" t="t" r="r" b="b"/>
                <a:pathLst>
                  <a:path w="379" h="95">
                    <a:moveTo>
                      <a:pt x="0" y="71"/>
                    </a:moveTo>
                    <a:lnTo>
                      <a:pt x="4" y="70"/>
                    </a:lnTo>
                    <a:lnTo>
                      <a:pt x="15" y="66"/>
                    </a:lnTo>
                    <a:lnTo>
                      <a:pt x="31" y="60"/>
                    </a:lnTo>
                    <a:lnTo>
                      <a:pt x="51" y="54"/>
                    </a:lnTo>
                    <a:lnTo>
                      <a:pt x="73" y="46"/>
                    </a:lnTo>
                    <a:lnTo>
                      <a:pt x="94" y="37"/>
                    </a:lnTo>
                    <a:lnTo>
                      <a:pt x="113" y="29"/>
                    </a:lnTo>
                    <a:lnTo>
                      <a:pt x="128" y="19"/>
                    </a:lnTo>
                    <a:lnTo>
                      <a:pt x="142" y="12"/>
                    </a:lnTo>
                    <a:lnTo>
                      <a:pt x="157" y="5"/>
                    </a:lnTo>
                    <a:lnTo>
                      <a:pt x="175" y="1"/>
                    </a:lnTo>
                    <a:lnTo>
                      <a:pt x="195" y="0"/>
                    </a:lnTo>
                    <a:lnTo>
                      <a:pt x="218" y="2"/>
                    </a:lnTo>
                    <a:lnTo>
                      <a:pt x="243" y="9"/>
                    </a:lnTo>
                    <a:lnTo>
                      <a:pt x="272" y="19"/>
                    </a:lnTo>
                    <a:lnTo>
                      <a:pt x="302" y="37"/>
                    </a:lnTo>
                    <a:lnTo>
                      <a:pt x="379" y="95"/>
                    </a:lnTo>
                    <a:lnTo>
                      <a:pt x="376" y="95"/>
                    </a:lnTo>
                    <a:lnTo>
                      <a:pt x="368" y="95"/>
                    </a:lnTo>
                    <a:lnTo>
                      <a:pt x="355" y="93"/>
                    </a:lnTo>
                    <a:lnTo>
                      <a:pt x="340" y="92"/>
                    </a:lnTo>
                    <a:lnTo>
                      <a:pt x="323" y="89"/>
                    </a:lnTo>
                    <a:lnTo>
                      <a:pt x="306" y="85"/>
                    </a:lnTo>
                    <a:lnTo>
                      <a:pt x="291" y="80"/>
                    </a:lnTo>
                    <a:lnTo>
                      <a:pt x="277" y="72"/>
                    </a:lnTo>
                    <a:lnTo>
                      <a:pt x="273" y="70"/>
                    </a:lnTo>
                    <a:lnTo>
                      <a:pt x="262" y="66"/>
                    </a:lnTo>
                    <a:lnTo>
                      <a:pt x="244" y="59"/>
                    </a:lnTo>
                    <a:lnTo>
                      <a:pt x="220" y="52"/>
                    </a:lnTo>
                    <a:lnTo>
                      <a:pt x="191" y="50"/>
                    </a:lnTo>
                    <a:lnTo>
                      <a:pt x="158" y="51"/>
                    </a:lnTo>
                    <a:lnTo>
                      <a:pt x="121" y="58"/>
                    </a:lnTo>
                    <a:lnTo>
                      <a:pt x="79" y="72"/>
                    </a:lnTo>
                    <a:lnTo>
                      <a:pt x="78" y="73"/>
                    </a:lnTo>
                    <a:lnTo>
                      <a:pt x="73" y="75"/>
                    </a:lnTo>
                    <a:lnTo>
                      <a:pt x="65" y="77"/>
                    </a:lnTo>
                    <a:lnTo>
                      <a:pt x="55" y="80"/>
                    </a:lnTo>
                    <a:lnTo>
                      <a:pt x="43" y="81"/>
                    </a:lnTo>
                    <a:lnTo>
                      <a:pt x="29" y="80"/>
                    </a:lnTo>
                    <a:lnTo>
                      <a:pt x="15" y="77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2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Freeform 170"/>
              <p:cNvSpPr/>
              <p:nvPr/>
            </p:nvSpPr>
            <p:spPr>
              <a:xfrm>
                <a:off x="7134480" y="489240"/>
                <a:ext cx="262800" cy="86040"/>
              </a:xfrm>
              <a:custGeom>
                <a:avLst/>
                <a:gdLst/>
                <a:ahLst/>
                <a:rect l="l" t="t" r="r" b="b"/>
                <a:pathLst>
                  <a:path w="382" h="221">
                    <a:moveTo>
                      <a:pt x="0" y="0"/>
                    </a:moveTo>
                    <a:lnTo>
                      <a:pt x="4" y="0"/>
                    </a:lnTo>
                    <a:lnTo>
                      <a:pt x="13" y="0"/>
                    </a:lnTo>
                    <a:lnTo>
                      <a:pt x="27" y="1"/>
                    </a:lnTo>
                    <a:lnTo>
                      <a:pt x="46" y="2"/>
                    </a:lnTo>
                    <a:lnTo>
                      <a:pt x="68" y="6"/>
                    </a:lnTo>
                    <a:lnTo>
                      <a:pt x="95" y="10"/>
                    </a:lnTo>
                    <a:lnTo>
                      <a:pt x="124" y="17"/>
                    </a:lnTo>
                    <a:lnTo>
                      <a:pt x="154" y="26"/>
                    </a:lnTo>
                    <a:lnTo>
                      <a:pt x="185" y="38"/>
                    </a:lnTo>
                    <a:lnTo>
                      <a:pt x="217" y="52"/>
                    </a:lnTo>
                    <a:lnTo>
                      <a:pt x="250" y="71"/>
                    </a:lnTo>
                    <a:lnTo>
                      <a:pt x="280" y="92"/>
                    </a:lnTo>
                    <a:lnTo>
                      <a:pt x="310" y="117"/>
                    </a:lnTo>
                    <a:lnTo>
                      <a:pt x="337" y="147"/>
                    </a:lnTo>
                    <a:lnTo>
                      <a:pt x="362" y="182"/>
                    </a:lnTo>
                    <a:lnTo>
                      <a:pt x="382" y="221"/>
                    </a:lnTo>
                    <a:lnTo>
                      <a:pt x="381" y="220"/>
                    </a:lnTo>
                    <a:lnTo>
                      <a:pt x="376" y="216"/>
                    </a:lnTo>
                    <a:lnTo>
                      <a:pt x="368" y="208"/>
                    </a:lnTo>
                    <a:lnTo>
                      <a:pt x="358" y="200"/>
                    </a:lnTo>
                    <a:lnTo>
                      <a:pt x="344" y="188"/>
                    </a:lnTo>
                    <a:lnTo>
                      <a:pt x="328" y="175"/>
                    </a:lnTo>
                    <a:lnTo>
                      <a:pt x="308" y="160"/>
                    </a:lnTo>
                    <a:lnTo>
                      <a:pt x="286" y="145"/>
                    </a:lnTo>
                    <a:lnTo>
                      <a:pt x="260" y="128"/>
                    </a:lnTo>
                    <a:lnTo>
                      <a:pt x="232" y="110"/>
                    </a:lnTo>
                    <a:lnTo>
                      <a:pt x="200" y="92"/>
                    </a:lnTo>
                    <a:lnTo>
                      <a:pt x="166" y="74"/>
                    </a:lnTo>
                    <a:lnTo>
                      <a:pt x="129" y="54"/>
                    </a:lnTo>
                    <a:lnTo>
                      <a:pt x="88" y="35"/>
                    </a:lnTo>
                    <a:lnTo>
                      <a:pt x="46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Freeform 171"/>
              <p:cNvSpPr/>
              <p:nvPr/>
            </p:nvSpPr>
            <p:spPr>
              <a:xfrm>
                <a:off x="6784560" y="353520"/>
                <a:ext cx="117720" cy="198360"/>
              </a:xfrm>
              <a:custGeom>
                <a:avLst/>
                <a:gdLst/>
                <a:ahLst/>
                <a:rect l="l" t="t" r="r" b="b"/>
                <a:pathLst>
                  <a:path w="174" h="503">
                    <a:moveTo>
                      <a:pt x="115" y="481"/>
                    </a:moveTo>
                    <a:lnTo>
                      <a:pt x="113" y="468"/>
                    </a:lnTo>
                    <a:lnTo>
                      <a:pt x="108" y="432"/>
                    </a:lnTo>
                    <a:lnTo>
                      <a:pt x="101" y="381"/>
                    </a:lnTo>
                    <a:lnTo>
                      <a:pt x="89" y="318"/>
                    </a:lnTo>
                    <a:lnTo>
                      <a:pt x="73" y="249"/>
                    </a:lnTo>
                    <a:lnTo>
                      <a:pt x="53" y="182"/>
                    </a:lnTo>
                    <a:lnTo>
                      <a:pt x="29" y="120"/>
                    </a:lnTo>
                    <a:lnTo>
                      <a:pt x="0" y="72"/>
                    </a:lnTo>
                    <a:lnTo>
                      <a:pt x="1" y="68"/>
                    </a:lnTo>
                    <a:lnTo>
                      <a:pt x="4" y="58"/>
                    </a:lnTo>
                    <a:lnTo>
                      <a:pt x="9" y="46"/>
                    </a:lnTo>
                    <a:lnTo>
                      <a:pt x="16" y="32"/>
                    </a:lnTo>
                    <a:lnTo>
                      <a:pt x="25" y="18"/>
                    </a:lnTo>
                    <a:lnTo>
                      <a:pt x="38" y="7"/>
                    </a:lnTo>
                    <a:lnTo>
                      <a:pt x="52" y="0"/>
                    </a:lnTo>
                    <a:lnTo>
                      <a:pt x="68" y="2"/>
                    </a:lnTo>
                    <a:lnTo>
                      <a:pt x="113" y="27"/>
                    </a:lnTo>
                    <a:lnTo>
                      <a:pt x="117" y="40"/>
                    </a:lnTo>
                    <a:lnTo>
                      <a:pt x="126" y="75"/>
                    </a:lnTo>
                    <a:lnTo>
                      <a:pt x="137" y="128"/>
                    </a:lnTo>
                    <a:lnTo>
                      <a:pt x="150" y="194"/>
                    </a:lnTo>
                    <a:lnTo>
                      <a:pt x="162" y="266"/>
                    </a:lnTo>
                    <a:lnTo>
                      <a:pt x="171" y="340"/>
                    </a:lnTo>
                    <a:lnTo>
                      <a:pt x="174" y="411"/>
                    </a:lnTo>
                    <a:lnTo>
                      <a:pt x="170" y="473"/>
                    </a:lnTo>
                    <a:lnTo>
                      <a:pt x="169" y="476"/>
                    </a:lnTo>
                    <a:lnTo>
                      <a:pt x="166" y="482"/>
                    </a:lnTo>
                    <a:lnTo>
                      <a:pt x="161" y="490"/>
                    </a:lnTo>
                    <a:lnTo>
                      <a:pt x="156" y="498"/>
                    </a:lnTo>
                    <a:lnTo>
                      <a:pt x="147" y="503"/>
                    </a:lnTo>
                    <a:lnTo>
                      <a:pt x="139" y="503"/>
                    </a:lnTo>
                    <a:lnTo>
                      <a:pt x="127" y="497"/>
                    </a:lnTo>
                    <a:lnTo>
                      <a:pt x="115" y="481"/>
                    </a:lnTo>
                    <a:close/>
                  </a:path>
                </a:pathLst>
              </a:custGeom>
              <a:solidFill>
                <a:srgbClr val="5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Freeform 172"/>
              <p:cNvSpPr/>
              <p:nvPr/>
            </p:nvSpPr>
            <p:spPr>
              <a:xfrm>
                <a:off x="6833880" y="361800"/>
                <a:ext cx="57960" cy="133200"/>
              </a:xfrm>
              <a:custGeom>
                <a:avLst/>
                <a:gdLst/>
                <a:ahLst/>
                <a:rect l="l" t="t" r="r" b="b"/>
                <a:pathLst>
                  <a:path w="84" h="339">
                    <a:moveTo>
                      <a:pt x="0" y="0"/>
                    </a:moveTo>
                    <a:lnTo>
                      <a:pt x="5" y="1"/>
                    </a:lnTo>
                    <a:lnTo>
                      <a:pt x="16" y="4"/>
                    </a:lnTo>
                    <a:lnTo>
                      <a:pt x="29" y="11"/>
                    </a:lnTo>
                    <a:lnTo>
                      <a:pt x="36" y="21"/>
                    </a:lnTo>
                    <a:lnTo>
                      <a:pt x="39" y="30"/>
                    </a:lnTo>
                    <a:lnTo>
                      <a:pt x="44" y="54"/>
                    </a:lnTo>
                    <a:lnTo>
                      <a:pt x="51" y="90"/>
                    </a:lnTo>
                    <a:lnTo>
                      <a:pt x="60" y="133"/>
                    </a:lnTo>
                    <a:lnTo>
                      <a:pt x="69" y="183"/>
                    </a:lnTo>
                    <a:lnTo>
                      <a:pt x="77" y="236"/>
                    </a:lnTo>
                    <a:lnTo>
                      <a:pt x="83" y="289"/>
                    </a:lnTo>
                    <a:lnTo>
                      <a:pt x="84" y="336"/>
                    </a:lnTo>
                    <a:lnTo>
                      <a:pt x="83" y="337"/>
                    </a:lnTo>
                    <a:lnTo>
                      <a:pt x="79" y="339"/>
                    </a:lnTo>
                    <a:lnTo>
                      <a:pt x="74" y="336"/>
                    </a:lnTo>
                    <a:lnTo>
                      <a:pt x="69" y="328"/>
                    </a:lnTo>
                    <a:lnTo>
                      <a:pt x="68" y="316"/>
                    </a:lnTo>
                    <a:lnTo>
                      <a:pt x="63" y="285"/>
                    </a:lnTo>
                    <a:lnTo>
                      <a:pt x="56" y="240"/>
                    </a:lnTo>
                    <a:lnTo>
                      <a:pt x="48" y="186"/>
                    </a:lnTo>
                    <a:lnTo>
                      <a:pt x="38" y="129"/>
                    </a:lnTo>
                    <a:lnTo>
                      <a:pt x="26" y="75"/>
                    </a:ln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28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Freeform 173"/>
              <p:cNvSpPr/>
              <p:nvPr/>
            </p:nvSpPr>
            <p:spPr>
              <a:xfrm>
                <a:off x="6794640" y="377280"/>
                <a:ext cx="88560" cy="177120"/>
              </a:xfrm>
              <a:custGeom>
                <a:avLst/>
                <a:gdLst/>
                <a:ahLst/>
                <a:rect l="l" t="t" r="r" b="b"/>
                <a:pathLst>
                  <a:path w="127" h="450">
                    <a:moveTo>
                      <a:pt x="22" y="0"/>
                    </a:moveTo>
                    <a:lnTo>
                      <a:pt x="25" y="6"/>
                    </a:lnTo>
                    <a:lnTo>
                      <a:pt x="34" y="26"/>
                    </a:lnTo>
                    <a:lnTo>
                      <a:pt x="48" y="59"/>
                    </a:lnTo>
                    <a:lnTo>
                      <a:pt x="66" y="106"/>
                    </a:lnTo>
                    <a:lnTo>
                      <a:pt x="83" y="170"/>
                    </a:lnTo>
                    <a:lnTo>
                      <a:pt x="100" y="247"/>
                    </a:lnTo>
                    <a:lnTo>
                      <a:pt x="116" y="341"/>
                    </a:lnTo>
                    <a:lnTo>
                      <a:pt x="127" y="450"/>
                    </a:lnTo>
                    <a:lnTo>
                      <a:pt x="124" y="449"/>
                    </a:lnTo>
                    <a:lnTo>
                      <a:pt x="116" y="446"/>
                    </a:lnTo>
                    <a:lnTo>
                      <a:pt x="107" y="440"/>
                    </a:lnTo>
                    <a:lnTo>
                      <a:pt x="101" y="429"/>
                    </a:lnTo>
                    <a:lnTo>
                      <a:pt x="100" y="417"/>
                    </a:lnTo>
                    <a:lnTo>
                      <a:pt x="97" y="384"/>
                    </a:lnTo>
                    <a:lnTo>
                      <a:pt x="92" y="335"/>
                    </a:lnTo>
                    <a:lnTo>
                      <a:pt x="84" y="275"/>
                    </a:lnTo>
                    <a:lnTo>
                      <a:pt x="72" y="208"/>
                    </a:lnTo>
                    <a:lnTo>
                      <a:pt x="53" y="139"/>
                    </a:lnTo>
                    <a:lnTo>
                      <a:pt x="30" y="72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5" y="5"/>
                    </a:lnTo>
                    <a:lnTo>
                      <a:pt x="13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Freeform 174"/>
              <p:cNvSpPr/>
              <p:nvPr/>
            </p:nvSpPr>
            <p:spPr>
              <a:xfrm>
                <a:off x="6440760" y="452880"/>
                <a:ext cx="245880" cy="42120"/>
              </a:xfrm>
              <a:custGeom>
                <a:avLst/>
                <a:gdLst/>
                <a:ahLst/>
                <a:rect l="l" t="t" r="r" b="b"/>
                <a:pathLst>
                  <a:path w="356" h="110">
                    <a:moveTo>
                      <a:pt x="4" y="73"/>
                    </a:moveTo>
                    <a:lnTo>
                      <a:pt x="5" y="72"/>
                    </a:lnTo>
                    <a:lnTo>
                      <a:pt x="8" y="68"/>
                    </a:lnTo>
                    <a:lnTo>
                      <a:pt x="14" y="62"/>
                    </a:lnTo>
                    <a:lnTo>
                      <a:pt x="22" y="54"/>
                    </a:lnTo>
                    <a:lnTo>
                      <a:pt x="32" y="46"/>
                    </a:lnTo>
                    <a:lnTo>
                      <a:pt x="44" y="35"/>
                    </a:lnTo>
                    <a:lnTo>
                      <a:pt x="61" y="26"/>
                    </a:lnTo>
                    <a:lnTo>
                      <a:pt x="80" y="18"/>
                    </a:lnTo>
                    <a:lnTo>
                      <a:pt x="101" y="10"/>
                    </a:lnTo>
                    <a:lnTo>
                      <a:pt x="126" y="5"/>
                    </a:lnTo>
                    <a:lnTo>
                      <a:pt x="155" y="1"/>
                    </a:lnTo>
                    <a:lnTo>
                      <a:pt x="188" y="0"/>
                    </a:lnTo>
                    <a:lnTo>
                      <a:pt x="223" y="1"/>
                    </a:lnTo>
                    <a:lnTo>
                      <a:pt x="262" y="8"/>
                    </a:lnTo>
                    <a:lnTo>
                      <a:pt x="306" y="18"/>
                    </a:lnTo>
                    <a:lnTo>
                      <a:pt x="354" y="33"/>
                    </a:lnTo>
                    <a:lnTo>
                      <a:pt x="354" y="34"/>
                    </a:lnTo>
                    <a:lnTo>
                      <a:pt x="356" y="37"/>
                    </a:lnTo>
                    <a:lnTo>
                      <a:pt x="356" y="39"/>
                    </a:lnTo>
                    <a:lnTo>
                      <a:pt x="356" y="43"/>
                    </a:lnTo>
                    <a:lnTo>
                      <a:pt x="352" y="47"/>
                    </a:lnTo>
                    <a:lnTo>
                      <a:pt x="346" y="50"/>
                    </a:lnTo>
                    <a:lnTo>
                      <a:pt x="335" y="52"/>
                    </a:lnTo>
                    <a:lnTo>
                      <a:pt x="322" y="52"/>
                    </a:lnTo>
                    <a:lnTo>
                      <a:pt x="312" y="52"/>
                    </a:lnTo>
                    <a:lnTo>
                      <a:pt x="300" y="51"/>
                    </a:lnTo>
                    <a:lnTo>
                      <a:pt x="286" y="51"/>
                    </a:lnTo>
                    <a:lnTo>
                      <a:pt x="270" y="52"/>
                    </a:lnTo>
                    <a:lnTo>
                      <a:pt x="252" y="52"/>
                    </a:lnTo>
                    <a:lnTo>
                      <a:pt x="235" y="54"/>
                    </a:lnTo>
                    <a:lnTo>
                      <a:pt x="216" y="55"/>
                    </a:lnTo>
                    <a:lnTo>
                      <a:pt x="196" y="58"/>
                    </a:lnTo>
                    <a:lnTo>
                      <a:pt x="175" y="60"/>
                    </a:lnTo>
                    <a:lnTo>
                      <a:pt x="155" y="64"/>
                    </a:lnTo>
                    <a:lnTo>
                      <a:pt x="136" y="68"/>
                    </a:lnTo>
                    <a:lnTo>
                      <a:pt x="118" y="75"/>
                    </a:lnTo>
                    <a:lnTo>
                      <a:pt x="100" y="81"/>
                    </a:lnTo>
                    <a:lnTo>
                      <a:pt x="83" y="88"/>
                    </a:lnTo>
                    <a:lnTo>
                      <a:pt x="68" y="97"/>
                    </a:lnTo>
                    <a:lnTo>
                      <a:pt x="55" y="108"/>
                    </a:lnTo>
                    <a:lnTo>
                      <a:pt x="52" y="109"/>
                    </a:lnTo>
                    <a:lnTo>
                      <a:pt x="43" y="110"/>
                    </a:lnTo>
                    <a:lnTo>
                      <a:pt x="33" y="110"/>
                    </a:lnTo>
                    <a:lnTo>
                      <a:pt x="21" y="110"/>
                    </a:lnTo>
                    <a:lnTo>
                      <a:pt x="10" y="108"/>
                    </a:lnTo>
                    <a:lnTo>
                      <a:pt x="3" y="101"/>
                    </a:lnTo>
                    <a:lnTo>
                      <a:pt x="0" y="90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Freeform 175"/>
              <p:cNvSpPr/>
              <p:nvPr/>
            </p:nvSpPr>
            <p:spPr>
              <a:xfrm>
                <a:off x="6475680" y="453960"/>
                <a:ext cx="161280" cy="33120"/>
              </a:xfrm>
              <a:custGeom>
                <a:avLst/>
                <a:gdLst/>
                <a:ahLst/>
                <a:rect l="l" t="t" r="r" b="b"/>
                <a:pathLst>
                  <a:path w="234" h="86">
                    <a:moveTo>
                      <a:pt x="4" y="57"/>
                    </a:moveTo>
                    <a:lnTo>
                      <a:pt x="6" y="56"/>
                    </a:lnTo>
                    <a:lnTo>
                      <a:pt x="7" y="53"/>
                    </a:lnTo>
                    <a:lnTo>
                      <a:pt x="11" y="48"/>
                    </a:lnTo>
                    <a:lnTo>
                      <a:pt x="16" y="42"/>
                    </a:lnTo>
                    <a:lnTo>
                      <a:pt x="22" y="36"/>
                    </a:lnTo>
                    <a:lnTo>
                      <a:pt x="31" y="28"/>
                    </a:lnTo>
                    <a:lnTo>
                      <a:pt x="41" y="21"/>
                    </a:lnTo>
                    <a:lnTo>
                      <a:pt x="53" y="15"/>
                    </a:lnTo>
                    <a:lnTo>
                      <a:pt x="67" y="9"/>
                    </a:lnTo>
                    <a:lnTo>
                      <a:pt x="84" y="4"/>
                    </a:lnTo>
                    <a:lnTo>
                      <a:pt x="103" y="2"/>
                    </a:lnTo>
                    <a:lnTo>
                      <a:pt x="124" y="0"/>
                    </a:lnTo>
                    <a:lnTo>
                      <a:pt x="147" y="2"/>
                    </a:lnTo>
                    <a:lnTo>
                      <a:pt x="173" y="6"/>
                    </a:lnTo>
                    <a:lnTo>
                      <a:pt x="201" y="13"/>
                    </a:lnTo>
                    <a:lnTo>
                      <a:pt x="232" y="24"/>
                    </a:lnTo>
                    <a:lnTo>
                      <a:pt x="234" y="27"/>
                    </a:lnTo>
                    <a:lnTo>
                      <a:pt x="234" y="32"/>
                    </a:lnTo>
                    <a:lnTo>
                      <a:pt x="227" y="38"/>
                    </a:lnTo>
                    <a:lnTo>
                      <a:pt x="211" y="40"/>
                    </a:lnTo>
                    <a:lnTo>
                      <a:pt x="197" y="38"/>
                    </a:lnTo>
                    <a:lnTo>
                      <a:pt x="177" y="40"/>
                    </a:lnTo>
                    <a:lnTo>
                      <a:pt x="154" y="41"/>
                    </a:lnTo>
                    <a:lnTo>
                      <a:pt x="129" y="44"/>
                    </a:lnTo>
                    <a:lnTo>
                      <a:pt x="103" y="49"/>
                    </a:lnTo>
                    <a:lnTo>
                      <a:pt x="77" y="57"/>
                    </a:lnTo>
                    <a:lnTo>
                      <a:pt x="55" y="69"/>
                    </a:lnTo>
                    <a:lnTo>
                      <a:pt x="37" y="83"/>
                    </a:lnTo>
                    <a:lnTo>
                      <a:pt x="34" y="83"/>
                    </a:lnTo>
                    <a:lnTo>
                      <a:pt x="29" y="85"/>
                    </a:lnTo>
                    <a:lnTo>
                      <a:pt x="22" y="86"/>
                    </a:lnTo>
                    <a:lnTo>
                      <a:pt x="14" y="85"/>
                    </a:lnTo>
                    <a:lnTo>
                      <a:pt x="8" y="83"/>
                    </a:lnTo>
                    <a:lnTo>
                      <a:pt x="3" y="78"/>
                    </a:lnTo>
                    <a:lnTo>
                      <a:pt x="0" y="69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Freeform 176"/>
              <p:cNvSpPr/>
              <p:nvPr/>
            </p:nvSpPr>
            <p:spPr>
              <a:xfrm>
                <a:off x="6521400" y="462240"/>
                <a:ext cx="74160" cy="1404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2" y="24"/>
                    </a:moveTo>
                    <a:lnTo>
                      <a:pt x="3" y="23"/>
                    </a:lnTo>
                    <a:lnTo>
                      <a:pt x="7" y="17"/>
                    </a:lnTo>
                    <a:lnTo>
                      <a:pt x="14" y="12"/>
                    </a:lnTo>
                    <a:lnTo>
                      <a:pt x="25" y="6"/>
                    </a:lnTo>
                    <a:lnTo>
                      <a:pt x="39" y="2"/>
                    </a:lnTo>
                    <a:lnTo>
                      <a:pt x="58" y="0"/>
                    </a:lnTo>
                    <a:lnTo>
                      <a:pt x="81" y="3"/>
                    </a:lnTo>
                    <a:lnTo>
                      <a:pt x="109" y="11"/>
                    </a:lnTo>
                    <a:lnTo>
                      <a:pt x="109" y="12"/>
                    </a:lnTo>
                    <a:lnTo>
                      <a:pt x="109" y="14"/>
                    </a:lnTo>
                    <a:lnTo>
                      <a:pt x="106" y="16"/>
                    </a:lnTo>
                    <a:lnTo>
                      <a:pt x="99" y="17"/>
                    </a:lnTo>
                    <a:lnTo>
                      <a:pt x="92" y="17"/>
                    </a:lnTo>
                    <a:lnTo>
                      <a:pt x="82" y="17"/>
                    </a:lnTo>
                    <a:lnTo>
                      <a:pt x="72" y="17"/>
                    </a:lnTo>
                    <a:lnTo>
                      <a:pt x="59" y="19"/>
                    </a:lnTo>
                    <a:lnTo>
                      <a:pt x="48" y="21"/>
                    </a:lnTo>
                    <a:lnTo>
                      <a:pt x="36" y="24"/>
                    </a:lnTo>
                    <a:lnTo>
                      <a:pt x="25" y="29"/>
                    </a:lnTo>
                    <a:lnTo>
                      <a:pt x="17" y="36"/>
                    </a:lnTo>
                    <a:lnTo>
                      <a:pt x="13" y="36"/>
                    </a:lnTo>
                    <a:lnTo>
                      <a:pt x="7" y="36"/>
                    </a:lnTo>
                    <a:lnTo>
                      <a:pt x="0" y="33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ffc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Freeform 177"/>
              <p:cNvSpPr/>
              <p:nvPr/>
            </p:nvSpPr>
            <p:spPr>
              <a:xfrm>
                <a:off x="6689160" y="1128600"/>
                <a:ext cx="76320" cy="86040"/>
              </a:xfrm>
              <a:custGeom>
                <a:avLst/>
                <a:gdLst/>
                <a:ahLst/>
                <a:rect l="l" t="t" r="r" b="b"/>
                <a:pathLst>
                  <a:path w="111" h="217">
                    <a:moveTo>
                      <a:pt x="25" y="22"/>
                    </a:moveTo>
                    <a:lnTo>
                      <a:pt x="20" y="46"/>
                    </a:lnTo>
                    <a:lnTo>
                      <a:pt x="9" y="99"/>
                    </a:lnTo>
                    <a:lnTo>
                      <a:pt x="0" y="157"/>
                    </a:lnTo>
                    <a:lnTo>
                      <a:pt x="0" y="195"/>
                    </a:lnTo>
                    <a:lnTo>
                      <a:pt x="5" y="203"/>
                    </a:lnTo>
                    <a:lnTo>
                      <a:pt x="13" y="209"/>
                    </a:lnTo>
                    <a:lnTo>
                      <a:pt x="22" y="213"/>
                    </a:lnTo>
                    <a:lnTo>
                      <a:pt x="32" y="216"/>
                    </a:lnTo>
                    <a:lnTo>
                      <a:pt x="43" y="217"/>
                    </a:lnTo>
                    <a:lnTo>
                      <a:pt x="53" y="217"/>
                    </a:lnTo>
                    <a:lnTo>
                      <a:pt x="62" y="217"/>
                    </a:lnTo>
                    <a:lnTo>
                      <a:pt x="71" y="217"/>
                    </a:lnTo>
                    <a:lnTo>
                      <a:pt x="86" y="211"/>
                    </a:lnTo>
                    <a:lnTo>
                      <a:pt x="97" y="194"/>
                    </a:lnTo>
                    <a:lnTo>
                      <a:pt x="103" y="174"/>
                    </a:lnTo>
                    <a:lnTo>
                      <a:pt x="107" y="155"/>
                    </a:lnTo>
                    <a:lnTo>
                      <a:pt x="107" y="132"/>
                    </a:lnTo>
                    <a:lnTo>
                      <a:pt x="110" y="99"/>
                    </a:lnTo>
                    <a:lnTo>
                      <a:pt x="111" y="70"/>
                    </a:lnTo>
                    <a:lnTo>
                      <a:pt x="111" y="58"/>
                    </a:lnTo>
                    <a:lnTo>
                      <a:pt x="110" y="54"/>
                    </a:lnTo>
                    <a:lnTo>
                      <a:pt x="106" y="44"/>
                    </a:lnTo>
                    <a:lnTo>
                      <a:pt x="100" y="29"/>
                    </a:lnTo>
                    <a:lnTo>
                      <a:pt x="91" y="15"/>
                    </a:lnTo>
                    <a:lnTo>
                      <a:pt x="79" y="4"/>
                    </a:lnTo>
                    <a:lnTo>
                      <a:pt x="64" y="0"/>
                    </a:lnTo>
                    <a:lnTo>
                      <a:pt x="47" y="5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Freeform 178"/>
              <p:cNvSpPr/>
              <p:nvPr/>
            </p:nvSpPr>
            <p:spPr>
              <a:xfrm>
                <a:off x="6972840" y="1155600"/>
                <a:ext cx="68040" cy="82440"/>
              </a:xfrm>
              <a:custGeom>
                <a:avLst/>
                <a:gdLst/>
                <a:ahLst/>
                <a:rect l="l" t="t" r="r" b="b"/>
                <a:pathLst>
                  <a:path w="99" h="198">
                    <a:moveTo>
                      <a:pt x="26" y="21"/>
                    </a:moveTo>
                    <a:lnTo>
                      <a:pt x="20" y="30"/>
                    </a:lnTo>
                    <a:lnTo>
                      <a:pt x="14" y="45"/>
                    </a:lnTo>
                    <a:lnTo>
                      <a:pt x="7" y="65"/>
                    </a:lnTo>
                    <a:lnTo>
                      <a:pt x="2" y="88"/>
                    </a:lnTo>
                    <a:lnTo>
                      <a:pt x="0" y="112"/>
                    </a:lnTo>
                    <a:lnTo>
                      <a:pt x="0" y="136"/>
                    </a:lnTo>
                    <a:lnTo>
                      <a:pt x="4" y="158"/>
                    </a:lnTo>
                    <a:lnTo>
                      <a:pt x="12" y="177"/>
                    </a:lnTo>
                    <a:lnTo>
                      <a:pt x="24" y="190"/>
                    </a:lnTo>
                    <a:lnTo>
                      <a:pt x="36" y="196"/>
                    </a:lnTo>
                    <a:lnTo>
                      <a:pt x="49" y="198"/>
                    </a:lnTo>
                    <a:lnTo>
                      <a:pt x="62" y="195"/>
                    </a:lnTo>
                    <a:lnTo>
                      <a:pt x="74" y="190"/>
                    </a:lnTo>
                    <a:lnTo>
                      <a:pt x="83" y="183"/>
                    </a:lnTo>
                    <a:lnTo>
                      <a:pt x="91" y="175"/>
                    </a:lnTo>
                    <a:lnTo>
                      <a:pt x="96" y="169"/>
                    </a:lnTo>
                    <a:lnTo>
                      <a:pt x="99" y="138"/>
                    </a:lnTo>
                    <a:lnTo>
                      <a:pt x="98" y="90"/>
                    </a:lnTo>
                    <a:lnTo>
                      <a:pt x="94" y="40"/>
                    </a:lnTo>
                    <a:lnTo>
                      <a:pt x="85" y="12"/>
                    </a:lnTo>
                    <a:lnTo>
                      <a:pt x="80" y="7"/>
                    </a:lnTo>
                    <a:lnTo>
                      <a:pt x="75" y="4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57" y="2"/>
                    </a:lnTo>
                    <a:lnTo>
                      <a:pt x="48" y="5"/>
                    </a:lnTo>
                    <a:lnTo>
                      <a:pt x="38" y="12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Freeform 179"/>
              <p:cNvSpPr/>
              <p:nvPr/>
            </p:nvSpPr>
            <p:spPr>
              <a:xfrm>
                <a:off x="7179840" y="725760"/>
                <a:ext cx="68040" cy="47160"/>
              </a:xfrm>
              <a:custGeom>
                <a:avLst/>
                <a:gdLst/>
                <a:ahLst/>
                <a:rect l="l" t="t" r="r" b="b"/>
                <a:pathLst>
                  <a:path w="100" h="132">
                    <a:moveTo>
                      <a:pt x="71" y="6"/>
                    </a:moveTo>
                    <a:lnTo>
                      <a:pt x="69" y="4"/>
                    </a:lnTo>
                    <a:lnTo>
                      <a:pt x="63" y="3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4" y="2"/>
                    </a:lnTo>
                    <a:lnTo>
                      <a:pt x="24" y="4"/>
                    </a:lnTo>
                    <a:lnTo>
                      <a:pt x="15" y="11"/>
                    </a:lnTo>
                    <a:lnTo>
                      <a:pt x="10" y="23"/>
                    </a:lnTo>
                    <a:lnTo>
                      <a:pt x="3" y="48"/>
                    </a:lnTo>
                    <a:lnTo>
                      <a:pt x="0" y="69"/>
                    </a:lnTo>
                    <a:lnTo>
                      <a:pt x="0" y="87"/>
                    </a:lnTo>
                    <a:lnTo>
                      <a:pt x="1" y="100"/>
                    </a:lnTo>
                    <a:lnTo>
                      <a:pt x="3" y="107"/>
                    </a:lnTo>
                    <a:lnTo>
                      <a:pt x="8" y="112"/>
                    </a:lnTo>
                    <a:lnTo>
                      <a:pt x="15" y="119"/>
                    </a:lnTo>
                    <a:lnTo>
                      <a:pt x="22" y="124"/>
                    </a:lnTo>
                    <a:lnTo>
                      <a:pt x="31" y="129"/>
                    </a:lnTo>
                    <a:lnTo>
                      <a:pt x="39" y="132"/>
                    </a:lnTo>
                    <a:lnTo>
                      <a:pt x="48" y="132"/>
                    </a:lnTo>
                    <a:lnTo>
                      <a:pt x="54" y="131"/>
                    </a:lnTo>
                    <a:lnTo>
                      <a:pt x="60" y="127"/>
                    </a:lnTo>
                    <a:lnTo>
                      <a:pt x="68" y="122"/>
                    </a:lnTo>
                    <a:lnTo>
                      <a:pt x="75" y="114"/>
                    </a:lnTo>
                    <a:lnTo>
                      <a:pt x="82" y="106"/>
                    </a:lnTo>
                    <a:lnTo>
                      <a:pt x="88" y="98"/>
                    </a:lnTo>
                    <a:lnTo>
                      <a:pt x="93" y="89"/>
                    </a:lnTo>
                    <a:lnTo>
                      <a:pt x="97" y="79"/>
                    </a:lnTo>
                    <a:lnTo>
                      <a:pt x="98" y="72"/>
                    </a:lnTo>
                    <a:lnTo>
                      <a:pt x="100" y="53"/>
                    </a:lnTo>
                    <a:lnTo>
                      <a:pt x="99" y="32"/>
                    </a:lnTo>
                    <a:lnTo>
                      <a:pt x="90" y="15"/>
                    </a:lnTo>
                    <a:lnTo>
                      <a:pt x="71" y="6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Freeform 180"/>
              <p:cNvSpPr/>
              <p:nvPr/>
            </p:nvSpPr>
            <p:spPr>
              <a:xfrm>
                <a:off x="7233840" y="506160"/>
                <a:ext cx="117720" cy="42480"/>
              </a:xfrm>
              <a:custGeom>
                <a:avLst/>
                <a:gdLst/>
                <a:ahLst/>
                <a:rect l="l" t="t" r="r" b="b"/>
                <a:pathLst>
                  <a:path w="172" h="107">
                    <a:moveTo>
                      <a:pt x="0" y="0"/>
                    </a:moveTo>
                    <a:lnTo>
                      <a:pt x="5" y="2"/>
                    </a:lnTo>
                    <a:lnTo>
                      <a:pt x="19" y="8"/>
                    </a:lnTo>
                    <a:lnTo>
                      <a:pt x="39" y="17"/>
                    </a:lnTo>
                    <a:lnTo>
                      <a:pt x="65" y="29"/>
                    </a:lnTo>
                    <a:lnTo>
                      <a:pt x="93" y="45"/>
                    </a:lnTo>
                    <a:lnTo>
                      <a:pt x="122" y="63"/>
                    </a:lnTo>
                    <a:lnTo>
                      <a:pt x="148" y="83"/>
                    </a:lnTo>
                    <a:lnTo>
                      <a:pt x="172" y="107"/>
                    </a:lnTo>
                    <a:lnTo>
                      <a:pt x="171" y="104"/>
                    </a:lnTo>
                    <a:lnTo>
                      <a:pt x="165" y="95"/>
                    </a:lnTo>
                    <a:lnTo>
                      <a:pt x="153" y="82"/>
                    </a:lnTo>
                    <a:lnTo>
                      <a:pt x="137" y="66"/>
                    </a:lnTo>
                    <a:lnTo>
                      <a:pt x="114" y="49"/>
                    </a:lnTo>
                    <a:lnTo>
                      <a:pt x="84" y="32"/>
                    </a:lnTo>
                    <a:lnTo>
                      <a:pt x="4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4" name="TextBox 323"/>
            <p:cNvSpPr/>
            <p:nvPr/>
          </p:nvSpPr>
          <p:spPr>
            <a:xfrm>
              <a:off x="6207120" y="51264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诊所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5" name="组合 321"/>
          <p:cNvGrpSpPr/>
          <p:nvPr/>
        </p:nvGrpSpPr>
        <p:grpSpPr>
          <a:xfrm>
            <a:off x="3276720" y="3219480"/>
            <a:ext cx="1942560" cy="1025640"/>
            <a:chOff x="3276720" y="3219480"/>
            <a:chExt cx="1942560" cy="1025640"/>
          </a:xfrm>
        </p:grpSpPr>
        <p:grpSp>
          <p:nvGrpSpPr>
            <p:cNvPr id="596" name="Group 152"/>
            <p:cNvGrpSpPr/>
            <p:nvPr/>
          </p:nvGrpSpPr>
          <p:grpSpPr>
            <a:xfrm>
              <a:off x="3276720" y="3219480"/>
              <a:ext cx="1942560" cy="1025640"/>
              <a:chOff x="3276720" y="3219480"/>
              <a:chExt cx="1942560" cy="1025640"/>
            </a:xfrm>
          </p:grpSpPr>
          <p:sp>
            <p:nvSpPr>
              <p:cNvPr id="597" name="AutoShape 151"/>
              <p:cNvSpPr/>
              <p:nvPr/>
            </p:nvSpPr>
            <p:spPr>
              <a:xfrm>
                <a:off x="3276720" y="3219480"/>
                <a:ext cx="1942560" cy="10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Freeform 153"/>
              <p:cNvSpPr/>
              <p:nvPr/>
            </p:nvSpPr>
            <p:spPr>
              <a:xfrm>
                <a:off x="4379760" y="4239000"/>
                <a:ext cx="15120" cy="10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4"/>
                    </a:moveTo>
                    <a:lnTo>
                      <a:pt x="18" y="4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Freeform 154"/>
              <p:cNvSpPr/>
              <p:nvPr/>
            </p:nvSpPr>
            <p:spPr>
              <a:xfrm>
                <a:off x="3374640" y="3219480"/>
                <a:ext cx="1819080" cy="1024200"/>
              </a:xfrm>
              <a:custGeom>
                <a:avLst/>
                <a:gdLst/>
                <a:ahLst/>
                <a:rect l="l" t="t" r="r" b="b"/>
                <a:pathLst>
                  <a:path w="2166" h="2610">
                    <a:moveTo>
                      <a:pt x="1719" y="348"/>
                    </a:moveTo>
                    <a:lnTo>
                      <a:pt x="1679" y="335"/>
                    </a:lnTo>
                    <a:lnTo>
                      <a:pt x="1643" y="323"/>
                    </a:lnTo>
                    <a:lnTo>
                      <a:pt x="1609" y="313"/>
                    </a:lnTo>
                    <a:lnTo>
                      <a:pt x="1576" y="306"/>
                    </a:lnTo>
                    <a:lnTo>
                      <a:pt x="1545" y="300"/>
                    </a:lnTo>
                    <a:lnTo>
                      <a:pt x="1514" y="296"/>
                    </a:lnTo>
                    <a:lnTo>
                      <a:pt x="1487" y="294"/>
                    </a:lnTo>
                    <a:lnTo>
                      <a:pt x="1460" y="292"/>
                    </a:lnTo>
                    <a:lnTo>
                      <a:pt x="1434" y="292"/>
                    </a:lnTo>
                    <a:lnTo>
                      <a:pt x="1409" y="292"/>
                    </a:lnTo>
                    <a:lnTo>
                      <a:pt x="1385" y="295"/>
                    </a:lnTo>
                    <a:lnTo>
                      <a:pt x="1362" y="298"/>
                    </a:lnTo>
                    <a:lnTo>
                      <a:pt x="1338" y="300"/>
                    </a:lnTo>
                    <a:lnTo>
                      <a:pt x="1317" y="304"/>
                    </a:lnTo>
                    <a:lnTo>
                      <a:pt x="1294" y="308"/>
                    </a:lnTo>
                    <a:lnTo>
                      <a:pt x="1273" y="312"/>
                    </a:lnTo>
                    <a:lnTo>
                      <a:pt x="1271" y="312"/>
                    </a:lnTo>
                    <a:lnTo>
                      <a:pt x="1269" y="312"/>
                    </a:lnTo>
                    <a:lnTo>
                      <a:pt x="1265" y="313"/>
                    </a:lnTo>
                    <a:lnTo>
                      <a:pt x="1260" y="313"/>
                    </a:lnTo>
                    <a:lnTo>
                      <a:pt x="1254" y="277"/>
                    </a:lnTo>
                    <a:lnTo>
                      <a:pt x="1246" y="237"/>
                    </a:lnTo>
                    <a:lnTo>
                      <a:pt x="1239" y="194"/>
                    </a:lnTo>
                    <a:lnTo>
                      <a:pt x="1232" y="153"/>
                    </a:lnTo>
                    <a:lnTo>
                      <a:pt x="1225" y="116"/>
                    </a:lnTo>
                    <a:lnTo>
                      <a:pt x="1220" y="87"/>
                    </a:lnTo>
                    <a:lnTo>
                      <a:pt x="1216" y="67"/>
                    </a:lnTo>
                    <a:lnTo>
                      <a:pt x="1215" y="59"/>
                    </a:lnTo>
                    <a:lnTo>
                      <a:pt x="1162" y="40"/>
                    </a:lnTo>
                    <a:lnTo>
                      <a:pt x="1106" y="9"/>
                    </a:lnTo>
                    <a:lnTo>
                      <a:pt x="1095" y="7"/>
                    </a:lnTo>
                    <a:lnTo>
                      <a:pt x="1090" y="5"/>
                    </a:lnTo>
                    <a:lnTo>
                      <a:pt x="1085" y="4"/>
                    </a:lnTo>
                    <a:lnTo>
                      <a:pt x="1080" y="3"/>
                    </a:lnTo>
                    <a:lnTo>
                      <a:pt x="1075" y="1"/>
                    </a:lnTo>
                    <a:lnTo>
                      <a:pt x="1068" y="1"/>
                    </a:lnTo>
                    <a:lnTo>
                      <a:pt x="1063" y="0"/>
                    </a:lnTo>
                    <a:lnTo>
                      <a:pt x="1058" y="0"/>
                    </a:lnTo>
                    <a:lnTo>
                      <a:pt x="1053" y="0"/>
                    </a:lnTo>
                    <a:lnTo>
                      <a:pt x="1048" y="0"/>
                    </a:lnTo>
                    <a:lnTo>
                      <a:pt x="1043" y="0"/>
                    </a:lnTo>
                    <a:lnTo>
                      <a:pt x="1038" y="1"/>
                    </a:lnTo>
                    <a:lnTo>
                      <a:pt x="1034" y="1"/>
                    </a:lnTo>
                    <a:lnTo>
                      <a:pt x="1029" y="3"/>
                    </a:lnTo>
                    <a:lnTo>
                      <a:pt x="1024" y="4"/>
                    </a:lnTo>
                    <a:lnTo>
                      <a:pt x="1019" y="5"/>
                    </a:lnTo>
                    <a:lnTo>
                      <a:pt x="1014" y="7"/>
                    </a:lnTo>
                    <a:lnTo>
                      <a:pt x="994" y="14"/>
                    </a:lnTo>
                    <a:lnTo>
                      <a:pt x="974" y="26"/>
                    </a:lnTo>
                    <a:lnTo>
                      <a:pt x="955" y="42"/>
                    </a:lnTo>
                    <a:lnTo>
                      <a:pt x="939" y="61"/>
                    </a:lnTo>
                    <a:lnTo>
                      <a:pt x="924" y="82"/>
                    </a:lnTo>
                    <a:lnTo>
                      <a:pt x="911" y="107"/>
                    </a:lnTo>
                    <a:lnTo>
                      <a:pt x="900" y="133"/>
                    </a:lnTo>
                    <a:lnTo>
                      <a:pt x="891" y="163"/>
                    </a:lnTo>
                    <a:lnTo>
                      <a:pt x="877" y="228"/>
                    </a:lnTo>
                    <a:lnTo>
                      <a:pt x="878" y="230"/>
                    </a:lnTo>
                    <a:lnTo>
                      <a:pt x="883" y="236"/>
                    </a:lnTo>
                    <a:lnTo>
                      <a:pt x="888" y="244"/>
                    </a:lnTo>
                    <a:lnTo>
                      <a:pt x="896" y="253"/>
                    </a:lnTo>
                    <a:lnTo>
                      <a:pt x="872" y="248"/>
                    </a:lnTo>
                    <a:lnTo>
                      <a:pt x="848" y="242"/>
                    </a:lnTo>
                    <a:lnTo>
                      <a:pt x="823" y="237"/>
                    </a:lnTo>
                    <a:lnTo>
                      <a:pt x="796" y="233"/>
                    </a:lnTo>
                    <a:lnTo>
                      <a:pt x="770" y="230"/>
                    </a:lnTo>
                    <a:lnTo>
                      <a:pt x="743" y="229"/>
                    </a:lnTo>
                    <a:lnTo>
                      <a:pt x="716" y="228"/>
                    </a:lnTo>
                    <a:lnTo>
                      <a:pt x="688" y="228"/>
                    </a:lnTo>
                    <a:lnTo>
                      <a:pt x="660" y="229"/>
                    </a:lnTo>
                    <a:lnTo>
                      <a:pt x="633" y="230"/>
                    </a:lnTo>
                    <a:lnTo>
                      <a:pt x="604" y="234"/>
                    </a:lnTo>
                    <a:lnTo>
                      <a:pt x="575" y="240"/>
                    </a:lnTo>
                    <a:lnTo>
                      <a:pt x="547" y="245"/>
                    </a:lnTo>
                    <a:lnTo>
                      <a:pt x="518" y="253"/>
                    </a:lnTo>
                    <a:lnTo>
                      <a:pt x="489" y="262"/>
                    </a:lnTo>
                    <a:lnTo>
                      <a:pt x="461" y="271"/>
                    </a:lnTo>
                    <a:lnTo>
                      <a:pt x="432" y="283"/>
                    </a:lnTo>
                    <a:lnTo>
                      <a:pt x="405" y="298"/>
                    </a:lnTo>
                    <a:lnTo>
                      <a:pt x="377" y="312"/>
                    </a:lnTo>
                    <a:lnTo>
                      <a:pt x="350" y="329"/>
                    </a:lnTo>
                    <a:lnTo>
                      <a:pt x="324" y="349"/>
                    </a:lnTo>
                    <a:lnTo>
                      <a:pt x="297" y="369"/>
                    </a:lnTo>
                    <a:lnTo>
                      <a:pt x="271" y="391"/>
                    </a:lnTo>
                    <a:lnTo>
                      <a:pt x="246" y="416"/>
                    </a:lnTo>
                    <a:lnTo>
                      <a:pt x="222" y="443"/>
                    </a:lnTo>
                    <a:lnTo>
                      <a:pt x="198" y="471"/>
                    </a:lnTo>
                    <a:lnTo>
                      <a:pt x="175" y="503"/>
                    </a:lnTo>
                    <a:lnTo>
                      <a:pt x="154" y="536"/>
                    </a:lnTo>
                    <a:lnTo>
                      <a:pt x="134" y="572"/>
                    </a:lnTo>
                    <a:lnTo>
                      <a:pt x="114" y="610"/>
                    </a:lnTo>
                    <a:lnTo>
                      <a:pt x="95" y="649"/>
                    </a:lnTo>
                    <a:lnTo>
                      <a:pt x="77" y="693"/>
                    </a:lnTo>
                    <a:lnTo>
                      <a:pt x="73" y="701"/>
                    </a:lnTo>
                    <a:lnTo>
                      <a:pt x="67" y="718"/>
                    </a:lnTo>
                    <a:lnTo>
                      <a:pt x="58" y="744"/>
                    </a:lnTo>
                    <a:lnTo>
                      <a:pt x="48" y="778"/>
                    </a:lnTo>
                    <a:lnTo>
                      <a:pt x="37" y="822"/>
                    </a:lnTo>
                    <a:lnTo>
                      <a:pt x="25" y="872"/>
                    </a:lnTo>
                    <a:lnTo>
                      <a:pt x="15" y="931"/>
                    </a:lnTo>
                    <a:lnTo>
                      <a:pt x="6" y="996"/>
                    </a:lnTo>
                    <a:lnTo>
                      <a:pt x="1" y="1068"/>
                    </a:lnTo>
                    <a:lnTo>
                      <a:pt x="0" y="1146"/>
                    </a:lnTo>
                    <a:lnTo>
                      <a:pt x="3" y="1230"/>
                    </a:lnTo>
                    <a:lnTo>
                      <a:pt x="10" y="1320"/>
                    </a:lnTo>
                    <a:lnTo>
                      <a:pt x="25" y="1413"/>
                    </a:lnTo>
                    <a:lnTo>
                      <a:pt x="47" y="1512"/>
                    </a:lnTo>
                    <a:lnTo>
                      <a:pt x="77" y="1615"/>
                    </a:lnTo>
                    <a:lnTo>
                      <a:pt x="116" y="1721"/>
                    </a:lnTo>
                    <a:lnTo>
                      <a:pt x="149" y="1798"/>
                    </a:lnTo>
                    <a:lnTo>
                      <a:pt x="183" y="1873"/>
                    </a:lnTo>
                    <a:lnTo>
                      <a:pt x="219" y="1944"/>
                    </a:lnTo>
                    <a:lnTo>
                      <a:pt x="258" y="2014"/>
                    </a:lnTo>
                    <a:lnTo>
                      <a:pt x="296" y="2081"/>
                    </a:lnTo>
                    <a:lnTo>
                      <a:pt x="335" y="2144"/>
                    </a:lnTo>
                    <a:lnTo>
                      <a:pt x="373" y="2203"/>
                    </a:lnTo>
                    <a:lnTo>
                      <a:pt x="410" y="2259"/>
                    </a:lnTo>
                    <a:lnTo>
                      <a:pt x="445" y="2310"/>
                    </a:lnTo>
                    <a:lnTo>
                      <a:pt x="478" y="2355"/>
                    </a:lnTo>
                    <a:lnTo>
                      <a:pt x="507" y="2396"/>
                    </a:lnTo>
                    <a:lnTo>
                      <a:pt x="533" y="2430"/>
                    </a:lnTo>
                    <a:lnTo>
                      <a:pt x="554" y="2458"/>
                    </a:lnTo>
                    <a:lnTo>
                      <a:pt x="572" y="2479"/>
                    </a:lnTo>
                    <a:lnTo>
                      <a:pt x="583" y="2493"/>
                    </a:lnTo>
                    <a:lnTo>
                      <a:pt x="588" y="2500"/>
                    </a:lnTo>
                    <a:lnTo>
                      <a:pt x="594" y="2505"/>
                    </a:lnTo>
                    <a:lnTo>
                      <a:pt x="600" y="2510"/>
                    </a:lnTo>
                    <a:lnTo>
                      <a:pt x="616" y="2523"/>
                    </a:lnTo>
                    <a:lnTo>
                      <a:pt x="635" y="2537"/>
                    </a:lnTo>
                    <a:lnTo>
                      <a:pt x="657" y="2550"/>
                    </a:lnTo>
                    <a:lnTo>
                      <a:pt x="679" y="2563"/>
                    </a:lnTo>
                    <a:lnTo>
                      <a:pt x="704" y="2575"/>
                    </a:lnTo>
                    <a:lnTo>
                      <a:pt x="731" y="2585"/>
                    </a:lnTo>
                    <a:lnTo>
                      <a:pt x="760" y="2593"/>
                    </a:lnTo>
                    <a:lnTo>
                      <a:pt x="789" y="2600"/>
                    </a:lnTo>
                    <a:lnTo>
                      <a:pt x="806" y="2602"/>
                    </a:lnTo>
                    <a:lnTo>
                      <a:pt x="825" y="2605"/>
                    </a:lnTo>
                    <a:lnTo>
                      <a:pt x="843" y="2605"/>
                    </a:lnTo>
                    <a:lnTo>
                      <a:pt x="862" y="2605"/>
                    </a:lnTo>
                    <a:lnTo>
                      <a:pt x="881" y="2602"/>
                    </a:lnTo>
                    <a:lnTo>
                      <a:pt x="900" y="2600"/>
                    </a:lnTo>
                    <a:lnTo>
                      <a:pt x="919" y="2595"/>
                    </a:lnTo>
                    <a:lnTo>
                      <a:pt x="937" y="2588"/>
                    </a:lnTo>
                    <a:lnTo>
                      <a:pt x="954" y="2580"/>
                    </a:lnTo>
                    <a:lnTo>
                      <a:pt x="912" y="2589"/>
                    </a:lnTo>
                    <a:lnTo>
                      <a:pt x="999" y="2570"/>
                    </a:lnTo>
                    <a:lnTo>
                      <a:pt x="1008" y="2567"/>
                    </a:lnTo>
                    <a:lnTo>
                      <a:pt x="1017" y="2564"/>
                    </a:lnTo>
                    <a:lnTo>
                      <a:pt x="1024" y="2562"/>
                    </a:lnTo>
                    <a:lnTo>
                      <a:pt x="1033" y="2560"/>
                    </a:lnTo>
                    <a:lnTo>
                      <a:pt x="1042" y="2559"/>
                    </a:lnTo>
                    <a:lnTo>
                      <a:pt x="1051" y="2558"/>
                    </a:lnTo>
                    <a:lnTo>
                      <a:pt x="1061" y="2558"/>
                    </a:lnTo>
                    <a:lnTo>
                      <a:pt x="1070" y="2559"/>
                    </a:lnTo>
                    <a:lnTo>
                      <a:pt x="1075" y="2560"/>
                    </a:lnTo>
                    <a:lnTo>
                      <a:pt x="1087" y="2564"/>
                    </a:lnTo>
                    <a:lnTo>
                      <a:pt x="1100" y="2568"/>
                    </a:lnTo>
                    <a:lnTo>
                      <a:pt x="1105" y="2570"/>
                    </a:lnTo>
                    <a:lnTo>
                      <a:pt x="1096" y="2563"/>
                    </a:lnTo>
                    <a:lnTo>
                      <a:pt x="1106" y="2570"/>
                    </a:lnTo>
                    <a:lnTo>
                      <a:pt x="1119" y="2576"/>
                    </a:lnTo>
                    <a:lnTo>
                      <a:pt x="1131" y="2581"/>
                    </a:lnTo>
                    <a:lnTo>
                      <a:pt x="1145" y="2587"/>
                    </a:lnTo>
                    <a:lnTo>
                      <a:pt x="1160" y="2591"/>
                    </a:lnTo>
                    <a:lnTo>
                      <a:pt x="1176" y="2595"/>
                    </a:lnTo>
                    <a:lnTo>
                      <a:pt x="1193" y="2597"/>
                    </a:lnTo>
                    <a:lnTo>
                      <a:pt x="1211" y="2600"/>
                    </a:lnTo>
                    <a:lnTo>
                      <a:pt x="1231" y="2604"/>
                    </a:lnTo>
                    <a:lnTo>
                      <a:pt x="1250" y="2608"/>
                    </a:lnTo>
                    <a:lnTo>
                      <a:pt x="1268" y="2609"/>
                    </a:lnTo>
                    <a:lnTo>
                      <a:pt x="1286" y="2610"/>
                    </a:lnTo>
                    <a:lnTo>
                      <a:pt x="1303" y="2610"/>
                    </a:lnTo>
                    <a:lnTo>
                      <a:pt x="1319" y="2610"/>
                    </a:lnTo>
                    <a:lnTo>
                      <a:pt x="1336" y="2609"/>
                    </a:lnTo>
                    <a:lnTo>
                      <a:pt x="1351" y="2608"/>
                    </a:lnTo>
                    <a:lnTo>
                      <a:pt x="1372" y="2604"/>
                    </a:lnTo>
                    <a:lnTo>
                      <a:pt x="1391" y="2600"/>
                    </a:lnTo>
                    <a:lnTo>
                      <a:pt x="1409" y="2596"/>
                    </a:lnTo>
                    <a:lnTo>
                      <a:pt x="1422" y="2591"/>
                    </a:lnTo>
                    <a:lnTo>
                      <a:pt x="1435" y="2585"/>
                    </a:lnTo>
                    <a:lnTo>
                      <a:pt x="1445" y="2581"/>
                    </a:lnTo>
                    <a:lnTo>
                      <a:pt x="1453" y="2579"/>
                    </a:lnTo>
                    <a:lnTo>
                      <a:pt x="1456" y="2576"/>
                    </a:lnTo>
                    <a:lnTo>
                      <a:pt x="1519" y="2530"/>
                    </a:lnTo>
                    <a:lnTo>
                      <a:pt x="1581" y="2476"/>
                    </a:lnTo>
                    <a:lnTo>
                      <a:pt x="1642" y="2415"/>
                    </a:lnTo>
                    <a:lnTo>
                      <a:pt x="1701" y="2350"/>
                    </a:lnTo>
                    <a:lnTo>
                      <a:pt x="1759" y="2278"/>
                    </a:lnTo>
                    <a:lnTo>
                      <a:pt x="1813" y="2203"/>
                    </a:lnTo>
                    <a:lnTo>
                      <a:pt x="1866" y="2124"/>
                    </a:lnTo>
                    <a:lnTo>
                      <a:pt x="1915" y="2040"/>
                    </a:lnTo>
                    <a:lnTo>
                      <a:pt x="1962" y="1954"/>
                    </a:lnTo>
                    <a:lnTo>
                      <a:pt x="2005" y="1868"/>
                    </a:lnTo>
                    <a:lnTo>
                      <a:pt x="2042" y="1778"/>
                    </a:lnTo>
                    <a:lnTo>
                      <a:pt x="2076" y="1688"/>
                    </a:lnTo>
                    <a:lnTo>
                      <a:pt x="2105" y="1598"/>
                    </a:lnTo>
                    <a:lnTo>
                      <a:pt x="2128" y="1508"/>
                    </a:lnTo>
                    <a:lnTo>
                      <a:pt x="2147" y="1418"/>
                    </a:lnTo>
                    <a:lnTo>
                      <a:pt x="2158" y="1332"/>
                    </a:lnTo>
                    <a:lnTo>
                      <a:pt x="2163" y="1262"/>
                    </a:lnTo>
                    <a:lnTo>
                      <a:pt x="2166" y="1189"/>
                    </a:lnTo>
                    <a:lnTo>
                      <a:pt x="2165" y="1117"/>
                    </a:lnTo>
                    <a:lnTo>
                      <a:pt x="2159" y="1043"/>
                    </a:lnTo>
                    <a:lnTo>
                      <a:pt x="2151" y="969"/>
                    </a:lnTo>
                    <a:lnTo>
                      <a:pt x="2138" y="897"/>
                    </a:lnTo>
                    <a:lnTo>
                      <a:pt x="2120" y="826"/>
                    </a:lnTo>
                    <a:lnTo>
                      <a:pt x="2098" y="756"/>
                    </a:lnTo>
                    <a:lnTo>
                      <a:pt x="2070" y="689"/>
                    </a:lnTo>
                    <a:lnTo>
                      <a:pt x="2037" y="626"/>
                    </a:lnTo>
                    <a:lnTo>
                      <a:pt x="1999" y="566"/>
                    </a:lnTo>
                    <a:lnTo>
                      <a:pt x="1955" y="511"/>
                    </a:lnTo>
                    <a:lnTo>
                      <a:pt x="1906" y="461"/>
                    </a:lnTo>
                    <a:lnTo>
                      <a:pt x="1850" y="416"/>
                    </a:lnTo>
                    <a:lnTo>
                      <a:pt x="1788" y="379"/>
                    </a:lnTo>
                    <a:lnTo>
                      <a:pt x="1719" y="3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Freeform 155"/>
              <p:cNvSpPr/>
              <p:nvPr/>
            </p:nvSpPr>
            <p:spPr>
              <a:xfrm>
                <a:off x="3467880" y="3358080"/>
                <a:ext cx="1640160" cy="847800"/>
              </a:xfrm>
              <a:custGeom>
                <a:avLst/>
                <a:gdLst/>
                <a:ahLst/>
                <a:rect l="l" t="t" r="r" b="b"/>
                <a:pathLst>
                  <a:path w="1953" h="2172">
                    <a:moveTo>
                      <a:pt x="102" y="1337"/>
                    </a:moveTo>
                    <a:lnTo>
                      <a:pt x="67" y="1237"/>
                    </a:lnTo>
                    <a:lnTo>
                      <a:pt x="41" y="1141"/>
                    </a:lnTo>
                    <a:lnTo>
                      <a:pt x="20" y="1049"/>
                    </a:lnTo>
                    <a:lnTo>
                      <a:pt x="8" y="962"/>
                    </a:lnTo>
                    <a:lnTo>
                      <a:pt x="2" y="879"/>
                    </a:lnTo>
                    <a:lnTo>
                      <a:pt x="0" y="801"/>
                    </a:lnTo>
                    <a:lnTo>
                      <a:pt x="2" y="730"/>
                    </a:lnTo>
                    <a:lnTo>
                      <a:pt x="8" y="663"/>
                    </a:lnTo>
                    <a:lnTo>
                      <a:pt x="15" y="603"/>
                    </a:lnTo>
                    <a:lnTo>
                      <a:pt x="25" y="551"/>
                    </a:lnTo>
                    <a:lnTo>
                      <a:pt x="37" y="505"/>
                    </a:lnTo>
                    <a:lnTo>
                      <a:pt x="47" y="467"/>
                    </a:lnTo>
                    <a:lnTo>
                      <a:pt x="57" y="436"/>
                    </a:lnTo>
                    <a:lnTo>
                      <a:pt x="65" y="414"/>
                    </a:lnTo>
                    <a:lnTo>
                      <a:pt x="70" y="401"/>
                    </a:lnTo>
                    <a:lnTo>
                      <a:pt x="72" y="395"/>
                    </a:lnTo>
                    <a:lnTo>
                      <a:pt x="120" y="293"/>
                    </a:lnTo>
                    <a:lnTo>
                      <a:pt x="174" y="210"/>
                    </a:lnTo>
                    <a:lnTo>
                      <a:pt x="233" y="143"/>
                    </a:lnTo>
                    <a:lnTo>
                      <a:pt x="295" y="90"/>
                    </a:lnTo>
                    <a:lnTo>
                      <a:pt x="359" y="52"/>
                    </a:lnTo>
                    <a:lnTo>
                      <a:pt x="426" y="25"/>
                    </a:lnTo>
                    <a:lnTo>
                      <a:pt x="492" y="10"/>
                    </a:lnTo>
                    <a:lnTo>
                      <a:pt x="556" y="2"/>
                    </a:lnTo>
                    <a:lnTo>
                      <a:pt x="616" y="0"/>
                    </a:lnTo>
                    <a:lnTo>
                      <a:pt x="674" y="6"/>
                    </a:lnTo>
                    <a:lnTo>
                      <a:pt x="726" y="13"/>
                    </a:lnTo>
                    <a:lnTo>
                      <a:pt x="771" y="24"/>
                    </a:lnTo>
                    <a:lnTo>
                      <a:pt x="808" y="36"/>
                    </a:lnTo>
                    <a:lnTo>
                      <a:pt x="837" y="45"/>
                    </a:lnTo>
                    <a:lnTo>
                      <a:pt x="854" y="53"/>
                    </a:lnTo>
                    <a:lnTo>
                      <a:pt x="861" y="56"/>
                    </a:lnTo>
                    <a:lnTo>
                      <a:pt x="881" y="60"/>
                    </a:lnTo>
                    <a:lnTo>
                      <a:pt x="901" y="62"/>
                    </a:lnTo>
                    <a:lnTo>
                      <a:pt x="920" y="66"/>
                    </a:lnTo>
                    <a:lnTo>
                      <a:pt x="938" y="70"/>
                    </a:lnTo>
                    <a:lnTo>
                      <a:pt x="956" y="74"/>
                    </a:lnTo>
                    <a:lnTo>
                      <a:pt x="974" y="78"/>
                    </a:lnTo>
                    <a:lnTo>
                      <a:pt x="990" y="81"/>
                    </a:lnTo>
                    <a:lnTo>
                      <a:pt x="1008" y="83"/>
                    </a:lnTo>
                    <a:lnTo>
                      <a:pt x="1026" y="86"/>
                    </a:lnTo>
                    <a:lnTo>
                      <a:pt x="1042" y="89"/>
                    </a:lnTo>
                    <a:lnTo>
                      <a:pt x="1060" y="90"/>
                    </a:lnTo>
                    <a:lnTo>
                      <a:pt x="1079" y="91"/>
                    </a:lnTo>
                    <a:lnTo>
                      <a:pt x="1098" y="91"/>
                    </a:lnTo>
                    <a:lnTo>
                      <a:pt x="1116" y="90"/>
                    </a:lnTo>
                    <a:lnTo>
                      <a:pt x="1137" y="87"/>
                    </a:lnTo>
                    <a:lnTo>
                      <a:pt x="1158" y="85"/>
                    </a:lnTo>
                    <a:lnTo>
                      <a:pt x="1179" y="81"/>
                    </a:lnTo>
                    <a:lnTo>
                      <a:pt x="1201" y="77"/>
                    </a:lnTo>
                    <a:lnTo>
                      <a:pt x="1222" y="73"/>
                    </a:lnTo>
                    <a:lnTo>
                      <a:pt x="1242" y="69"/>
                    </a:lnTo>
                    <a:lnTo>
                      <a:pt x="1265" y="66"/>
                    </a:lnTo>
                    <a:lnTo>
                      <a:pt x="1287" y="64"/>
                    </a:lnTo>
                    <a:lnTo>
                      <a:pt x="1309" y="62"/>
                    </a:lnTo>
                    <a:lnTo>
                      <a:pt x="1333" y="61"/>
                    </a:lnTo>
                    <a:lnTo>
                      <a:pt x="1357" y="62"/>
                    </a:lnTo>
                    <a:lnTo>
                      <a:pt x="1384" y="64"/>
                    </a:lnTo>
                    <a:lnTo>
                      <a:pt x="1410" y="67"/>
                    </a:lnTo>
                    <a:lnTo>
                      <a:pt x="1438" y="71"/>
                    </a:lnTo>
                    <a:lnTo>
                      <a:pt x="1468" y="78"/>
                    </a:lnTo>
                    <a:lnTo>
                      <a:pt x="1501" y="86"/>
                    </a:lnTo>
                    <a:lnTo>
                      <a:pt x="1533" y="96"/>
                    </a:lnTo>
                    <a:lnTo>
                      <a:pt x="1570" y="110"/>
                    </a:lnTo>
                    <a:lnTo>
                      <a:pt x="1630" y="137"/>
                    </a:lnTo>
                    <a:lnTo>
                      <a:pt x="1686" y="170"/>
                    </a:lnTo>
                    <a:lnTo>
                      <a:pt x="1734" y="210"/>
                    </a:lnTo>
                    <a:lnTo>
                      <a:pt x="1777" y="254"/>
                    </a:lnTo>
                    <a:lnTo>
                      <a:pt x="1814" y="305"/>
                    </a:lnTo>
                    <a:lnTo>
                      <a:pt x="1847" y="359"/>
                    </a:lnTo>
                    <a:lnTo>
                      <a:pt x="1875" y="415"/>
                    </a:lnTo>
                    <a:lnTo>
                      <a:pt x="1898" y="474"/>
                    </a:lnTo>
                    <a:lnTo>
                      <a:pt x="1915" y="536"/>
                    </a:lnTo>
                    <a:lnTo>
                      <a:pt x="1930" y="600"/>
                    </a:lnTo>
                    <a:lnTo>
                      <a:pt x="1940" y="663"/>
                    </a:lnTo>
                    <a:lnTo>
                      <a:pt x="1948" y="727"/>
                    </a:lnTo>
                    <a:lnTo>
                      <a:pt x="1952" y="792"/>
                    </a:lnTo>
                    <a:lnTo>
                      <a:pt x="1953" y="854"/>
                    </a:lnTo>
                    <a:lnTo>
                      <a:pt x="1950" y="914"/>
                    </a:lnTo>
                    <a:lnTo>
                      <a:pt x="1947" y="974"/>
                    </a:lnTo>
                    <a:lnTo>
                      <a:pt x="1937" y="1055"/>
                    </a:lnTo>
                    <a:lnTo>
                      <a:pt x="1920" y="1138"/>
                    </a:lnTo>
                    <a:lnTo>
                      <a:pt x="1899" y="1222"/>
                    </a:lnTo>
                    <a:lnTo>
                      <a:pt x="1872" y="1308"/>
                    </a:lnTo>
                    <a:lnTo>
                      <a:pt x="1841" y="1392"/>
                    </a:lnTo>
                    <a:lnTo>
                      <a:pt x="1806" y="1478"/>
                    </a:lnTo>
                    <a:lnTo>
                      <a:pt x="1767" y="1561"/>
                    </a:lnTo>
                    <a:lnTo>
                      <a:pt x="1724" y="1641"/>
                    </a:lnTo>
                    <a:lnTo>
                      <a:pt x="1677" y="1720"/>
                    </a:lnTo>
                    <a:lnTo>
                      <a:pt x="1629" y="1797"/>
                    </a:lnTo>
                    <a:lnTo>
                      <a:pt x="1578" y="1868"/>
                    </a:lnTo>
                    <a:lnTo>
                      <a:pt x="1525" y="1935"/>
                    </a:lnTo>
                    <a:lnTo>
                      <a:pt x="1470" y="1998"/>
                    </a:lnTo>
                    <a:lnTo>
                      <a:pt x="1414" y="2055"/>
                    </a:lnTo>
                    <a:lnTo>
                      <a:pt x="1357" y="2105"/>
                    </a:lnTo>
                    <a:lnTo>
                      <a:pt x="1299" y="2148"/>
                    </a:lnTo>
                    <a:lnTo>
                      <a:pt x="1298" y="2150"/>
                    </a:lnTo>
                    <a:lnTo>
                      <a:pt x="1294" y="2151"/>
                    </a:lnTo>
                    <a:lnTo>
                      <a:pt x="1289" y="2154"/>
                    </a:lnTo>
                    <a:lnTo>
                      <a:pt x="1280" y="2156"/>
                    </a:lnTo>
                    <a:lnTo>
                      <a:pt x="1270" y="2160"/>
                    </a:lnTo>
                    <a:lnTo>
                      <a:pt x="1259" y="2164"/>
                    </a:lnTo>
                    <a:lnTo>
                      <a:pt x="1245" y="2167"/>
                    </a:lnTo>
                    <a:lnTo>
                      <a:pt x="1230" y="2169"/>
                    </a:lnTo>
                    <a:lnTo>
                      <a:pt x="1216" y="2171"/>
                    </a:lnTo>
                    <a:lnTo>
                      <a:pt x="1201" y="2172"/>
                    </a:lnTo>
                    <a:lnTo>
                      <a:pt x="1186" y="2172"/>
                    </a:lnTo>
                    <a:lnTo>
                      <a:pt x="1169" y="2172"/>
                    </a:lnTo>
                    <a:lnTo>
                      <a:pt x="1152" y="2169"/>
                    </a:lnTo>
                    <a:lnTo>
                      <a:pt x="1134" y="2167"/>
                    </a:lnTo>
                    <a:lnTo>
                      <a:pt x="1115" y="2162"/>
                    </a:lnTo>
                    <a:lnTo>
                      <a:pt x="1095" y="2155"/>
                    </a:lnTo>
                    <a:lnTo>
                      <a:pt x="1057" y="2140"/>
                    </a:lnTo>
                    <a:lnTo>
                      <a:pt x="1028" y="2131"/>
                    </a:lnTo>
                    <a:lnTo>
                      <a:pt x="1008" y="2125"/>
                    </a:lnTo>
                    <a:lnTo>
                      <a:pt x="994" y="2121"/>
                    </a:lnTo>
                    <a:lnTo>
                      <a:pt x="984" y="2119"/>
                    </a:lnTo>
                    <a:lnTo>
                      <a:pt x="977" y="2118"/>
                    </a:lnTo>
                    <a:lnTo>
                      <a:pt x="970" y="2118"/>
                    </a:lnTo>
                    <a:lnTo>
                      <a:pt x="963" y="2117"/>
                    </a:lnTo>
                    <a:lnTo>
                      <a:pt x="936" y="2114"/>
                    </a:lnTo>
                    <a:lnTo>
                      <a:pt x="910" y="2114"/>
                    </a:lnTo>
                    <a:lnTo>
                      <a:pt x="885" y="2118"/>
                    </a:lnTo>
                    <a:lnTo>
                      <a:pt x="861" y="2125"/>
                    </a:lnTo>
                    <a:lnTo>
                      <a:pt x="838" y="2133"/>
                    </a:lnTo>
                    <a:lnTo>
                      <a:pt x="818" y="2139"/>
                    </a:lnTo>
                    <a:lnTo>
                      <a:pt x="802" y="2147"/>
                    </a:lnTo>
                    <a:lnTo>
                      <a:pt x="788" y="2152"/>
                    </a:lnTo>
                    <a:lnTo>
                      <a:pt x="766" y="2159"/>
                    </a:lnTo>
                    <a:lnTo>
                      <a:pt x="745" y="2162"/>
                    </a:lnTo>
                    <a:lnTo>
                      <a:pt x="725" y="2163"/>
                    </a:lnTo>
                    <a:lnTo>
                      <a:pt x="703" y="2162"/>
                    </a:lnTo>
                    <a:lnTo>
                      <a:pt x="683" y="2158"/>
                    </a:lnTo>
                    <a:lnTo>
                      <a:pt x="664" y="2152"/>
                    </a:lnTo>
                    <a:lnTo>
                      <a:pt x="645" y="2146"/>
                    </a:lnTo>
                    <a:lnTo>
                      <a:pt x="629" y="2138"/>
                    </a:lnTo>
                    <a:lnTo>
                      <a:pt x="613" y="2130"/>
                    </a:lnTo>
                    <a:lnTo>
                      <a:pt x="597" y="2122"/>
                    </a:lnTo>
                    <a:lnTo>
                      <a:pt x="585" y="2114"/>
                    </a:lnTo>
                    <a:lnTo>
                      <a:pt x="575" y="2108"/>
                    </a:lnTo>
                    <a:lnTo>
                      <a:pt x="566" y="2101"/>
                    </a:lnTo>
                    <a:lnTo>
                      <a:pt x="558" y="2096"/>
                    </a:lnTo>
                    <a:lnTo>
                      <a:pt x="555" y="2093"/>
                    </a:lnTo>
                    <a:lnTo>
                      <a:pt x="553" y="2092"/>
                    </a:lnTo>
                    <a:lnTo>
                      <a:pt x="550" y="2088"/>
                    </a:lnTo>
                    <a:lnTo>
                      <a:pt x="541" y="2076"/>
                    </a:lnTo>
                    <a:lnTo>
                      <a:pt x="526" y="2056"/>
                    </a:lnTo>
                    <a:lnTo>
                      <a:pt x="505" y="2030"/>
                    </a:lnTo>
                    <a:lnTo>
                      <a:pt x="480" y="1998"/>
                    </a:lnTo>
                    <a:lnTo>
                      <a:pt x="453" y="1959"/>
                    </a:lnTo>
                    <a:lnTo>
                      <a:pt x="421" y="1914"/>
                    </a:lnTo>
                    <a:lnTo>
                      <a:pt x="387" y="1865"/>
                    </a:lnTo>
                    <a:lnTo>
                      <a:pt x="352" y="1811"/>
                    </a:lnTo>
                    <a:lnTo>
                      <a:pt x="314" y="1752"/>
                    </a:lnTo>
                    <a:lnTo>
                      <a:pt x="276" y="1690"/>
                    </a:lnTo>
                    <a:lnTo>
                      <a:pt x="240" y="1624"/>
                    </a:lnTo>
                    <a:lnTo>
                      <a:pt x="202" y="1556"/>
                    </a:lnTo>
                    <a:lnTo>
                      <a:pt x="167" y="1485"/>
                    </a:lnTo>
                    <a:lnTo>
                      <a:pt x="134" y="1412"/>
                    </a:lnTo>
                    <a:lnTo>
                      <a:pt x="102" y="1337"/>
                    </a:lnTo>
                    <a:close/>
                  </a:path>
                </a:pathLst>
              </a:custGeom>
              <a:solidFill>
                <a:srgbClr val="ff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Freeform 156"/>
              <p:cNvSpPr/>
              <p:nvPr/>
            </p:nvSpPr>
            <p:spPr>
              <a:xfrm>
                <a:off x="4047480" y="3465360"/>
                <a:ext cx="967680" cy="692280"/>
              </a:xfrm>
              <a:custGeom>
                <a:avLst/>
                <a:gdLst/>
                <a:ahLst/>
                <a:rect l="l" t="t" r="r" b="b"/>
                <a:pathLst>
                  <a:path w="1154" h="1765">
                    <a:moveTo>
                      <a:pt x="949" y="59"/>
                    </a:moveTo>
                    <a:lnTo>
                      <a:pt x="944" y="55"/>
                    </a:lnTo>
                    <a:lnTo>
                      <a:pt x="930" y="46"/>
                    </a:lnTo>
                    <a:lnTo>
                      <a:pt x="910" y="34"/>
                    </a:lnTo>
                    <a:lnTo>
                      <a:pt x="883" y="21"/>
                    </a:lnTo>
                    <a:lnTo>
                      <a:pt x="853" y="9"/>
                    </a:lnTo>
                    <a:lnTo>
                      <a:pt x="820" y="1"/>
                    </a:lnTo>
                    <a:lnTo>
                      <a:pt x="788" y="0"/>
                    </a:lnTo>
                    <a:lnTo>
                      <a:pt x="755" y="8"/>
                    </a:lnTo>
                    <a:lnTo>
                      <a:pt x="727" y="20"/>
                    </a:lnTo>
                    <a:lnTo>
                      <a:pt x="706" y="29"/>
                    </a:lnTo>
                    <a:lnTo>
                      <a:pt x="688" y="38"/>
                    </a:lnTo>
                    <a:lnTo>
                      <a:pt x="673" y="46"/>
                    </a:lnTo>
                    <a:lnTo>
                      <a:pt x="658" y="55"/>
                    </a:lnTo>
                    <a:lnTo>
                      <a:pt x="641" y="66"/>
                    </a:lnTo>
                    <a:lnTo>
                      <a:pt x="622" y="79"/>
                    </a:lnTo>
                    <a:lnTo>
                      <a:pt x="597" y="97"/>
                    </a:lnTo>
                    <a:lnTo>
                      <a:pt x="571" y="113"/>
                    </a:lnTo>
                    <a:lnTo>
                      <a:pt x="547" y="120"/>
                    </a:lnTo>
                    <a:lnTo>
                      <a:pt x="524" y="120"/>
                    </a:lnTo>
                    <a:lnTo>
                      <a:pt x="502" y="118"/>
                    </a:lnTo>
                    <a:lnTo>
                      <a:pt x="479" y="117"/>
                    </a:lnTo>
                    <a:lnTo>
                      <a:pt x="456" y="118"/>
                    </a:lnTo>
                    <a:lnTo>
                      <a:pt x="432" y="128"/>
                    </a:lnTo>
                    <a:lnTo>
                      <a:pt x="406" y="146"/>
                    </a:lnTo>
                    <a:lnTo>
                      <a:pt x="378" y="170"/>
                    </a:lnTo>
                    <a:lnTo>
                      <a:pt x="350" y="196"/>
                    </a:lnTo>
                    <a:lnTo>
                      <a:pt x="324" y="226"/>
                    </a:lnTo>
                    <a:lnTo>
                      <a:pt x="301" y="263"/>
                    </a:lnTo>
                    <a:lnTo>
                      <a:pt x="281" y="309"/>
                    </a:lnTo>
                    <a:lnTo>
                      <a:pt x="266" y="365"/>
                    </a:lnTo>
                    <a:lnTo>
                      <a:pt x="257" y="433"/>
                    </a:lnTo>
                    <a:lnTo>
                      <a:pt x="256" y="518"/>
                    </a:lnTo>
                    <a:lnTo>
                      <a:pt x="255" y="581"/>
                    </a:lnTo>
                    <a:lnTo>
                      <a:pt x="248" y="664"/>
                    </a:lnTo>
                    <a:lnTo>
                      <a:pt x="237" y="761"/>
                    </a:lnTo>
                    <a:lnTo>
                      <a:pt x="219" y="864"/>
                    </a:lnTo>
                    <a:lnTo>
                      <a:pt x="195" y="965"/>
                    </a:lnTo>
                    <a:lnTo>
                      <a:pt x="166" y="1060"/>
                    </a:lnTo>
                    <a:lnTo>
                      <a:pt x="129" y="1140"/>
                    </a:lnTo>
                    <a:lnTo>
                      <a:pt x="85" y="1200"/>
                    </a:lnTo>
                    <a:lnTo>
                      <a:pt x="58" y="1241"/>
                    </a:lnTo>
                    <a:lnTo>
                      <a:pt x="35" y="1302"/>
                    </a:lnTo>
                    <a:lnTo>
                      <a:pt x="17" y="1380"/>
                    </a:lnTo>
                    <a:lnTo>
                      <a:pt x="5" y="1463"/>
                    </a:lnTo>
                    <a:lnTo>
                      <a:pt x="0" y="1547"/>
                    </a:lnTo>
                    <a:lnTo>
                      <a:pt x="4" y="1621"/>
                    </a:lnTo>
                    <a:lnTo>
                      <a:pt x="18" y="1680"/>
                    </a:lnTo>
                    <a:lnTo>
                      <a:pt x="43" y="1715"/>
                    </a:lnTo>
                    <a:lnTo>
                      <a:pt x="71" y="1732"/>
                    </a:lnTo>
                    <a:lnTo>
                      <a:pt x="92" y="1742"/>
                    </a:lnTo>
                    <a:lnTo>
                      <a:pt x="110" y="1746"/>
                    </a:lnTo>
                    <a:lnTo>
                      <a:pt x="126" y="1746"/>
                    </a:lnTo>
                    <a:lnTo>
                      <a:pt x="142" y="1744"/>
                    </a:lnTo>
                    <a:lnTo>
                      <a:pt x="161" y="1736"/>
                    </a:lnTo>
                    <a:lnTo>
                      <a:pt x="184" y="1727"/>
                    </a:lnTo>
                    <a:lnTo>
                      <a:pt x="213" y="1716"/>
                    </a:lnTo>
                    <a:lnTo>
                      <a:pt x="231" y="1711"/>
                    </a:lnTo>
                    <a:lnTo>
                      <a:pt x="248" y="1708"/>
                    </a:lnTo>
                    <a:lnTo>
                      <a:pt x="266" y="1705"/>
                    </a:lnTo>
                    <a:lnTo>
                      <a:pt x="284" y="1703"/>
                    </a:lnTo>
                    <a:lnTo>
                      <a:pt x="302" y="1703"/>
                    </a:lnTo>
                    <a:lnTo>
                      <a:pt x="320" y="1703"/>
                    </a:lnTo>
                    <a:lnTo>
                      <a:pt x="338" y="1704"/>
                    </a:lnTo>
                    <a:lnTo>
                      <a:pt x="355" y="1707"/>
                    </a:lnTo>
                    <a:lnTo>
                      <a:pt x="372" y="1709"/>
                    </a:lnTo>
                    <a:lnTo>
                      <a:pt x="388" y="1712"/>
                    </a:lnTo>
                    <a:lnTo>
                      <a:pt x="403" y="1716"/>
                    </a:lnTo>
                    <a:lnTo>
                      <a:pt x="417" y="1720"/>
                    </a:lnTo>
                    <a:lnTo>
                      <a:pt x="430" y="1725"/>
                    </a:lnTo>
                    <a:lnTo>
                      <a:pt x="442" y="1730"/>
                    </a:lnTo>
                    <a:lnTo>
                      <a:pt x="451" y="1736"/>
                    </a:lnTo>
                    <a:lnTo>
                      <a:pt x="460" y="1741"/>
                    </a:lnTo>
                    <a:lnTo>
                      <a:pt x="476" y="1752"/>
                    </a:lnTo>
                    <a:lnTo>
                      <a:pt x="495" y="1758"/>
                    </a:lnTo>
                    <a:lnTo>
                      <a:pt x="515" y="1762"/>
                    </a:lnTo>
                    <a:lnTo>
                      <a:pt x="537" y="1765"/>
                    </a:lnTo>
                    <a:lnTo>
                      <a:pt x="558" y="1763"/>
                    </a:lnTo>
                    <a:lnTo>
                      <a:pt x="578" y="1759"/>
                    </a:lnTo>
                    <a:lnTo>
                      <a:pt x="596" y="1753"/>
                    </a:lnTo>
                    <a:lnTo>
                      <a:pt x="610" y="1742"/>
                    </a:lnTo>
                    <a:lnTo>
                      <a:pt x="619" y="1733"/>
                    </a:lnTo>
                    <a:lnTo>
                      <a:pt x="631" y="1719"/>
                    </a:lnTo>
                    <a:lnTo>
                      <a:pt x="648" y="1698"/>
                    </a:lnTo>
                    <a:lnTo>
                      <a:pt x="667" y="1674"/>
                    </a:lnTo>
                    <a:lnTo>
                      <a:pt x="688" y="1645"/>
                    </a:lnTo>
                    <a:lnTo>
                      <a:pt x="712" y="1612"/>
                    </a:lnTo>
                    <a:lnTo>
                      <a:pt x="738" y="1579"/>
                    </a:lnTo>
                    <a:lnTo>
                      <a:pt x="765" y="1543"/>
                    </a:lnTo>
                    <a:lnTo>
                      <a:pt x="791" y="1507"/>
                    </a:lnTo>
                    <a:lnTo>
                      <a:pt x="818" y="1471"/>
                    </a:lnTo>
                    <a:lnTo>
                      <a:pt x="844" y="1435"/>
                    </a:lnTo>
                    <a:lnTo>
                      <a:pt x="869" y="1403"/>
                    </a:lnTo>
                    <a:lnTo>
                      <a:pt x="892" y="1371"/>
                    </a:lnTo>
                    <a:lnTo>
                      <a:pt x="913" y="1343"/>
                    </a:lnTo>
                    <a:lnTo>
                      <a:pt x="931" y="1320"/>
                    </a:lnTo>
                    <a:lnTo>
                      <a:pt x="946" y="1301"/>
                    </a:lnTo>
                    <a:lnTo>
                      <a:pt x="963" y="1277"/>
                    </a:lnTo>
                    <a:lnTo>
                      <a:pt x="984" y="1239"/>
                    </a:lnTo>
                    <a:lnTo>
                      <a:pt x="1009" y="1189"/>
                    </a:lnTo>
                    <a:lnTo>
                      <a:pt x="1037" y="1127"/>
                    </a:lnTo>
                    <a:lnTo>
                      <a:pt x="1065" y="1056"/>
                    </a:lnTo>
                    <a:lnTo>
                      <a:pt x="1091" y="977"/>
                    </a:lnTo>
                    <a:lnTo>
                      <a:pt x="1115" y="892"/>
                    </a:lnTo>
                    <a:lnTo>
                      <a:pt x="1134" y="801"/>
                    </a:lnTo>
                    <a:lnTo>
                      <a:pt x="1148" y="706"/>
                    </a:lnTo>
                    <a:lnTo>
                      <a:pt x="1154" y="608"/>
                    </a:lnTo>
                    <a:lnTo>
                      <a:pt x="1152" y="510"/>
                    </a:lnTo>
                    <a:lnTo>
                      <a:pt x="1138" y="412"/>
                    </a:lnTo>
                    <a:lnTo>
                      <a:pt x="1113" y="317"/>
                    </a:lnTo>
                    <a:lnTo>
                      <a:pt x="1073" y="226"/>
                    </a:lnTo>
                    <a:lnTo>
                      <a:pt x="1019" y="140"/>
                    </a:lnTo>
                    <a:lnTo>
                      <a:pt x="949" y="59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157"/>
              <p:cNvSpPr/>
              <p:nvPr/>
            </p:nvSpPr>
            <p:spPr>
              <a:xfrm>
                <a:off x="4009680" y="3400560"/>
                <a:ext cx="435960" cy="87840"/>
              </a:xfrm>
              <a:custGeom>
                <a:avLst/>
                <a:gdLst/>
                <a:ahLst/>
                <a:rect l="l" t="t" r="r" b="b"/>
                <a:pathLst>
                  <a:path w="519" h="213">
                    <a:moveTo>
                      <a:pt x="301" y="75"/>
                    </a:moveTo>
                    <a:lnTo>
                      <a:pt x="296" y="72"/>
                    </a:lnTo>
                    <a:lnTo>
                      <a:pt x="282" y="66"/>
                    </a:lnTo>
                    <a:lnTo>
                      <a:pt x="262" y="57"/>
                    </a:lnTo>
                    <a:lnTo>
                      <a:pt x="235" y="45"/>
                    </a:lnTo>
                    <a:lnTo>
                      <a:pt x="206" y="33"/>
                    </a:lnTo>
                    <a:lnTo>
                      <a:pt x="175" y="21"/>
                    </a:lnTo>
                    <a:lnTo>
                      <a:pt x="143" y="10"/>
                    </a:lnTo>
                    <a:lnTo>
                      <a:pt x="113" y="4"/>
                    </a:lnTo>
                    <a:lnTo>
                      <a:pt x="87" y="0"/>
                    </a:lnTo>
                    <a:lnTo>
                      <a:pt x="64" y="1"/>
                    </a:lnTo>
                    <a:lnTo>
                      <a:pt x="44" y="4"/>
                    </a:lnTo>
                    <a:lnTo>
                      <a:pt x="29" y="9"/>
                    </a:lnTo>
                    <a:lnTo>
                      <a:pt x="16" y="16"/>
                    </a:lnTo>
                    <a:lnTo>
                      <a:pt x="7" y="21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179" y="188"/>
                    </a:lnTo>
                    <a:lnTo>
                      <a:pt x="184" y="190"/>
                    </a:lnTo>
                    <a:lnTo>
                      <a:pt x="199" y="194"/>
                    </a:lnTo>
                    <a:lnTo>
                      <a:pt x="220" y="199"/>
                    </a:lnTo>
                    <a:lnTo>
                      <a:pt x="247" y="204"/>
                    </a:lnTo>
                    <a:lnTo>
                      <a:pt x="276" y="209"/>
                    </a:lnTo>
                    <a:lnTo>
                      <a:pt x="306" y="213"/>
                    </a:lnTo>
                    <a:lnTo>
                      <a:pt x="335" y="213"/>
                    </a:lnTo>
                    <a:lnTo>
                      <a:pt x="361" y="209"/>
                    </a:lnTo>
                    <a:lnTo>
                      <a:pt x="387" y="203"/>
                    </a:lnTo>
                    <a:lnTo>
                      <a:pt x="412" y="194"/>
                    </a:lnTo>
                    <a:lnTo>
                      <a:pt x="437" y="186"/>
                    </a:lnTo>
                    <a:lnTo>
                      <a:pt x="460" y="178"/>
                    </a:lnTo>
                    <a:lnTo>
                      <a:pt x="480" y="170"/>
                    </a:lnTo>
                    <a:lnTo>
                      <a:pt x="496" y="163"/>
                    </a:lnTo>
                    <a:lnTo>
                      <a:pt x="506" y="159"/>
                    </a:lnTo>
                    <a:lnTo>
                      <a:pt x="510" y="158"/>
                    </a:lnTo>
                    <a:lnTo>
                      <a:pt x="511" y="158"/>
                    </a:lnTo>
                    <a:lnTo>
                      <a:pt x="515" y="157"/>
                    </a:lnTo>
                    <a:lnTo>
                      <a:pt x="518" y="154"/>
                    </a:lnTo>
                    <a:lnTo>
                      <a:pt x="519" y="151"/>
                    </a:lnTo>
                    <a:lnTo>
                      <a:pt x="518" y="147"/>
                    </a:lnTo>
                    <a:lnTo>
                      <a:pt x="510" y="141"/>
                    </a:lnTo>
                    <a:lnTo>
                      <a:pt x="496" y="134"/>
                    </a:lnTo>
                    <a:lnTo>
                      <a:pt x="473" y="126"/>
                    </a:lnTo>
                    <a:lnTo>
                      <a:pt x="448" y="116"/>
                    </a:lnTo>
                    <a:lnTo>
                      <a:pt x="428" y="105"/>
                    </a:lnTo>
                    <a:lnTo>
                      <a:pt x="410" y="95"/>
                    </a:lnTo>
                    <a:lnTo>
                      <a:pt x="394" y="86"/>
                    </a:lnTo>
                    <a:lnTo>
                      <a:pt x="376" y="78"/>
                    </a:lnTo>
                    <a:lnTo>
                      <a:pt x="356" y="74"/>
                    </a:lnTo>
                    <a:lnTo>
                      <a:pt x="331" y="72"/>
                    </a:lnTo>
                    <a:lnTo>
                      <a:pt x="301" y="75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158"/>
              <p:cNvSpPr/>
              <p:nvPr/>
            </p:nvSpPr>
            <p:spPr>
              <a:xfrm>
                <a:off x="3533760" y="3443040"/>
                <a:ext cx="559080" cy="558000"/>
              </a:xfrm>
              <a:custGeom>
                <a:avLst/>
                <a:gdLst/>
                <a:ahLst/>
                <a:rect l="l" t="t" r="r" b="b"/>
                <a:pathLst>
                  <a:path w="666" h="1421">
                    <a:moveTo>
                      <a:pt x="368" y="19"/>
                    </a:moveTo>
                    <a:lnTo>
                      <a:pt x="364" y="21"/>
                    </a:lnTo>
                    <a:lnTo>
                      <a:pt x="356" y="27"/>
                    </a:lnTo>
                    <a:lnTo>
                      <a:pt x="341" y="37"/>
                    </a:lnTo>
                    <a:lnTo>
                      <a:pt x="320" y="50"/>
                    </a:lnTo>
                    <a:lnTo>
                      <a:pt x="298" y="69"/>
                    </a:lnTo>
                    <a:lnTo>
                      <a:pt x="271" y="91"/>
                    </a:lnTo>
                    <a:lnTo>
                      <a:pt x="242" y="116"/>
                    </a:lnTo>
                    <a:lnTo>
                      <a:pt x="212" y="146"/>
                    </a:lnTo>
                    <a:lnTo>
                      <a:pt x="182" y="179"/>
                    </a:lnTo>
                    <a:lnTo>
                      <a:pt x="150" y="218"/>
                    </a:lnTo>
                    <a:lnTo>
                      <a:pt x="120" y="258"/>
                    </a:lnTo>
                    <a:lnTo>
                      <a:pt x="92" y="303"/>
                    </a:lnTo>
                    <a:lnTo>
                      <a:pt x="67" y="352"/>
                    </a:lnTo>
                    <a:lnTo>
                      <a:pt x="44" y="403"/>
                    </a:lnTo>
                    <a:lnTo>
                      <a:pt x="26" y="460"/>
                    </a:lnTo>
                    <a:lnTo>
                      <a:pt x="12" y="519"/>
                    </a:lnTo>
                    <a:lnTo>
                      <a:pt x="4" y="577"/>
                    </a:lnTo>
                    <a:lnTo>
                      <a:pt x="0" y="635"/>
                    </a:lnTo>
                    <a:lnTo>
                      <a:pt x="0" y="692"/>
                    </a:lnTo>
                    <a:lnTo>
                      <a:pt x="4" y="748"/>
                    </a:lnTo>
                    <a:lnTo>
                      <a:pt x="12" y="802"/>
                    </a:lnTo>
                    <a:lnTo>
                      <a:pt x="22" y="855"/>
                    </a:lnTo>
                    <a:lnTo>
                      <a:pt x="33" y="905"/>
                    </a:lnTo>
                    <a:lnTo>
                      <a:pt x="47" y="952"/>
                    </a:lnTo>
                    <a:lnTo>
                      <a:pt x="62" y="997"/>
                    </a:lnTo>
                    <a:lnTo>
                      <a:pt x="79" y="1038"/>
                    </a:lnTo>
                    <a:lnTo>
                      <a:pt x="94" y="1076"/>
                    </a:lnTo>
                    <a:lnTo>
                      <a:pt x="110" y="1109"/>
                    </a:lnTo>
                    <a:lnTo>
                      <a:pt x="125" y="1138"/>
                    </a:lnTo>
                    <a:lnTo>
                      <a:pt x="138" y="1162"/>
                    </a:lnTo>
                    <a:lnTo>
                      <a:pt x="150" y="1180"/>
                    </a:lnTo>
                    <a:lnTo>
                      <a:pt x="160" y="1194"/>
                    </a:lnTo>
                    <a:lnTo>
                      <a:pt x="179" y="1216"/>
                    </a:lnTo>
                    <a:lnTo>
                      <a:pt x="199" y="1244"/>
                    </a:lnTo>
                    <a:lnTo>
                      <a:pt x="221" y="1273"/>
                    </a:lnTo>
                    <a:lnTo>
                      <a:pt x="241" y="1302"/>
                    </a:lnTo>
                    <a:lnTo>
                      <a:pt x="260" y="1329"/>
                    </a:lnTo>
                    <a:lnTo>
                      <a:pt x="274" y="1350"/>
                    </a:lnTo>
                    <a:lnTo>
                      <a:pt x="284" y="1366"/>
                    </a:lnTo>
                    <a:lnTo>
                      <a:pt x="288" y="1371"/>
                    </a:lnTo>
                    <a:lnTo>
                      <a:pt x="290" y="1374"/>
                    </a:lnTo>
                    <a:lnTo>
                      <a:pt x="296" y="1382"/>
                    </a:lnTo>
                    <a:lnTo>
                      <a:pt x="305" y="1392"/>
                    </a:lnTo>
                    <a:lnTo>
                      <a:pt x="318" y="1404"/>
                    </a:lnTo>
                    <a:lnTo>
                      <a:pt x="330" y="1413"/>
                    </a:lnTo>
                    <a:lnTo>
                      <a:pt x="343" y="1420"/>
                    </a:lnTo>
                    <a:lnTo>
                      <a:pt x="356" y="1421"/>
                    </a:lnTo>
                    <a:lnTo>
                      <a:pt x="366" y="1413"/>
                    </a:lnTo>
                    <a:lnTo>
                      <a:pt x="376" y="1402"/>
                    </a:lnTo>
                    <a:lnTo>
                      <a:pt x="388" y="1391"/>
                    </a:lnTo>
                    <a:lnTo>
                      <a:pt x="401" y="1379"/>
                    </a:lnTo>
                    <a:lnTo>
                      <a:pt x="412" y="1365"/>
                    </a:lnTo>
                    <a:lnTo>
                      <a:pt x="424" y="1346"/>
                    </a:lnTo>
                    <a:lnTo>
                      <a:pt x="433" y="1324"/>
                    </a:lnTo>
                    <a:lnTo>
                      <a:pt x="438" y="1295"/>
                    </a:lnTo>
                    <a:lnTo>
                      <a:pt x="439" y="1259"/>
                    </a:lnTo>
                    <a:lnTo>
                      <a:pt x="436" y="1163"/>
                    </a:lnTo>
                    <a:lnTo>
                      <a:pt x="431" y="1053"/>
                    </a:lnTo>
                    <a:lnTo>
                      <a:pt x="426" y="954"/>
                    </a:lnTo>
                    <a:lnTo>
                      <a:pt x="424" y="889"/>
                    </a:lnTo>
                    <a:lnTo>
                      <a:pt x="430" y="852"/>
                    </a:lnTo>
                    <a:lnTo>
                      <a:pt x="448" y="787"/>
                    </a:lnTo>
                    <a:lnTo>
                      <a:pt x="473" y="701"/>
                    </a:lnTo>
                    <a:lnTo>
                      <a:pt x="503" y="607"/>
                    </a:lnTo>
                    <a:lnTo>
                      <a:pt x="536" y="514"/>
                    </a:lnTo>
                    <a:lnTo>
                      <a:pt x="569" y="432"/>
                    </a:lnTo>
                    <a:lnTo>
                      <a:pt x="596" y="369"/>
                    </a:lnTo>
                    <a:lnTo>
                      <a:pt x="618" y="337"/>
                    </a:lnTo>
                    <a:lnTo>
                      <a:pt x="633" y="323"/>
                    </a:lnTo>
                    <a:lnTo>
                      <a:pt x="645" y="305"/>
                    </a:lnTo>
                    <a:lnTo>
                      <a:pt x="654" y="283"/>
                    </a:lnTo>
                    <a:lnTo>
                      <a:pt x="661" y="260"/>
                    </a:lnTo>
                    <a:lnTo>
                      <a:pt x="664" y="233"/>
                    </a:lnTo>
                    <a:lnTo>
                      <a:pt x="666" y="207"/>
                    </a:lnTo>
                    <a:lnTo>
                      <a:pt x="664" y="178"/>
                    </a:lnTo>
                    <a:lnTo>
                      <a:pt x="662" y="149"/>
                    </a:lnTo>
                    <a:lnTo>
                      <a:pt x="658" y="133"/>
                    </a:lnTo>
                    <a:lnTo>
                      <a:pt x="652" y="119"/>
                    </a:lnTo>
                    <a:lnTo>
                      <a:pt x="642" y="102"/>
                    </a:lnTo>
                    <a:lnTo>
                      <a:pt x="629" y="86"/>
                    </a:lnTo>
                    <a:lnTo>
                      <a:pt x="614" y="71"/>
                    </a:lnTo>
                    <a:lnTo>
                      <a:pt x="598" y="56"/>
                    </a:lnTo>
                    <a:lnTo>
                      <a:pt x="579" y="42"/>
                    </a:lnTo>
                    <a:lnTo>
                      <a:pt x="557" y="31"/>
                    </a:lnTo>
                    <a:lnTo>
                      <a:pt x="536" y="20"/>
                    </a:lnTo>
                    <a:lnTo>
                      <a:pt x="513" y="11"/>
                    </a:lnTo>
                    <a:lnTo>
                      <a:pt x="489" y="4"/>
                    </a:lnTo>
                    <a:lnTo>
                      <a:pt x="464" y="0"/>
                    </a:lnTo>
                    <a:lnTo>
                      <a:pt x="440" y="0"/>
                    </a:lnTo>
                    <a:lnTo>
                      <a:pt x="416" y="3"/>
                    </a:lnTo>
                    <a:lnTo>
                      <a:pt x="392" y="8"/>
                    </a:lnTo>
                    <a:lnTo>
                      <a:pt x="368" y="19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159"/>
              <p:cNvSpPr/>
              <p:nvPr/>
            </p:nvSpPr>
            <p:spPr>
              <a:xfrm>
                <a:off x="4002120" y="4161240"/>
                <a:ext cx="496440" cy="36360"/>
              </a:xfrm>
              <a:custGeom>
                <a:avLst/>
                <a:gdLst/>
                <a:ahLst/>
                <a:rect l="l" t="t" r="r" b="b"/>
                <a:pathLst>
                  <a:path w="590" h="105">
                    <a:moveTo>
                      <a:pt x="81" y="104"/>
                    </a:moveTo>
                    <a:lnTo>
                      <a:pt x="71" y="101"/>
                    </a:lnTo>
                    <a:lnTo>
                      <a:pt x="59" y="99"/>
                    </a:lnTo>
                    <a:lnTo>
                      <a:pt x="49" y="93"/>
                    </a:lnTo>
                    <a:lnTo>
                      <a:pt x="39" y="88"/>
                    </a:lnTo>
                    <a:lnTo>
                      <a:pt x="29" y="80"/>
                    </a:lnTo>
                    <a:lnTo>
                      <a:pt x="19" y="71"/>
                    </a:lnTo>
                    <a:lnTo>
                      <a:pt x="9" y="59"/>
                    </a:lnTo>
                    <a:lnTo>
                      <a:pt x="0" y="46"/>
                    </a:lnTo>
                    <a:lnTo>
                      <a:pt x="5" y="47"/>
                    </a:lnTo>
                    <a:lnTo>
                      <a:pt x="20" y="50"/>
                    </a:lnTo>
                    <a:lnTo>
                      <a:pt x="42" y="53"/>
                    </a:lnTo>
                    <a:lnTo>
                      <a:pt x="68" y="55"/>
                    </a:lnTo>
                    <a:lnTo>
                      <a:pt x="98" y="55"/>
                    </a:lnTo>
                    <a:lnTo>
                      <a:pt x="130" y="53"/>
                    </a:lnTo>
                    <a:lnTo>
                      <a:pt x="159" y="45"/>
                    </a:lnTo>
                    <a:lnTo>
                      <a:pt x="185" y="32"/>
                    </a:lnTo>
                    <a:lnTo>
                      <a:pt x="198" y="24"/>
                    </a:lnTo>
                    <a:lnTo>
                      <a:pt x="213" y="17"/>
                    </a:lnTo>
                    <a:lnTo>
                      <a:pt x="230" y="12"/>
                    </a:lnTo>
                    <a:lnTo>
                      <a:pt x="247" y="7"/>
                    </a:lnTo>
                    <a:lnTo>
                      <a:pt x="266" y="4"/>
                    </a:lnTo>
                    <a:lnTo>
                      <a:pt x="286" y="1"/>
                    </a:lnTo>
                    <a:lnTo>
                      <a:pt x="306" y="0"/>
                    </a:lnTo>
                    <a:lnTo>
                      <a:pt x="327" y="0"/>
                    </a:lnTo>
                    <a:lnTo>
                      <a:pt x="348" y="1"/>
                    </a:lnTo>
                    <a:lnTo>
                      <a:pt x="368" y="4"/>
                    </a:lnTo>
                    <a:lnTo>
                      <a:pt x="390" y="8"/>
                    </a:lnTo>
                    <a:lnTo>
                      <a:pt x="410" y="12"/>
                    </a:lnTo>
                    <a:lnTo>
                      <a:pt x="429" y="17"/>
                    </a:lnTo>
                    <a:lnTo>
                      <a:pt x="446" y="25"/>
                    </a:lnTo>
                    <a:lnTo>
                      <a:pt x="464" y="33"/>
                    </a:lnTo>
                    <a:lnTo>
                      <a:pt x="479" y="42"/>
                    </a:lnTo>
                    <a:lnTo>
                      <a:pt x="505" y="58"/>
                    </a:lnTo>
                    <a:lnTo>
                      <a:pt x="528" y="66"/>
                    </a:lnTo>
                    <a:lnTo>
                      <a:pt x="547" y="70"/>
                    </a:lnTo>
                    <a:lnTo>
                      <a:pt x="562" y="68"/>
                    </a:lnTo>
                    <a:lnTo>
                      <a:pt x="573" y="66"/>
                    </a:lnTo>
                    <a:lnTo>
                      <a:pt x="582" y="62"/>
                    </a:lnTo>
                    <a:lnTo>
                      <a:pt x="587" y="58"/>
                    </a:lnTo>
                    <a:lnTo>
                      <a:pt x="589" y="57"/>
                    </a:lnTo>
                    <a:lnTo>
                      <a:pt x="589" y="59"/>
                    </a:lnTo>
                    <a:lnTo>
                      <a:pt x="590" y="66"/>
                    </a:lnTo>
                    <a:lnTo>
                      <a:pt x="587" y="75"/>
                    </a:lnTo>
                    <a:lnTo>
                      <a:pt x="580" y="84"/>
                    </a:lnTo>
                    <a:lnTo>
                      <a:pt x="565" y="91"/>
                    </a:lnTo>
                    <a:lnTo>
                      <a:pt x="541" y="93"/>
                    </a:lnTo>
                    <a:lnTo>
                      <a:pt x="504" y="90"/>
                    </a:lnTo>
                    <a:lnTo>
                      <a:pt x="454" y="78"/>
                    </a:lnTo>
                    <a:lnTo>
                      <a:pt x="451" y="76"/>
                    </a:lnTo>
                    <a:lnTo>
                      <a:pt x="446" y="75"/>
                    </a:lnTo>
                    <a:lnTo>
                      <a:pt x="436" y="72"/>
                    </a:lnTo>
                    <a:lnTo>
                      <a:pt x="425" y="68"/>
                    </a:lnTo>
                    <a:lnTo>
                      <a:pt x="410" y="66"/>
                    </a:lnTo>
                    <a:lnTo>
                      <a:pt x="392" y="62"/>
                    </a:lnTo>
                    <a:lnTo>
                      <a:pt x="373" y="58"/>
                    </a:lnTo>
                    <a:lnTo>
                      <a:pt x="354" y="54"/>
                    </a:lnTo>
                    <a:lnTo>
                      <a:pt x="333" y="51"/>
                    </a:lnTo>
                    <a:lnTo>
                      <a:pt x="311" y="49"/>
                    </a:lnTo>
                    <a:lnTo>
                      <a:pt x="289" y="49"/>
                    </a:lnTo>
                    <a:lnTo>
                      <a:pt x="267" y="49"/>
                    </a:lnTo>
                    <a:lnTo>
                      <a:pt x="247" y="51"/>
                    </a:lnTo>
                    <a:lnTo>
                      <a:pt x="227" y="55"/>
                    </a:lnTo>
                    <a:lnTo>
                      <a:pt x="209" y="61"/>
                    </a:lnTo>
                    <a:lnTo>
                      <a:pt x="193" y="70"/>
                    </a:lnTo>
                    <a:lnTo>
                      <a:pt x="190" y="71"/>
                    </a:lnTo>
                    <a:lnTo>
                      <a:pt x="184" y="76"/>
                    </a:lnTo>
                    <a:lnTo>
                      <a:pt x="173" y="83"/>
                    </a:lnTo>
                    <a:lnTo>
                      <a:pt x="159" y="90"/>
                    </a:lnTo>
                    <a:lnTo>
                      <a:pt x="141" y="96"/>
                    </a:lnTo>
                    <a:lnTo>
                      <a:pt x="122" y="101"/>
                    </a:lnTo>
                    <a:lnTo>
                      <a:pt x="102" y="105"/>
                    </a:lnTo>
                    <a:lnTo>
                      <a:pt x="81" y="104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Freeform 160"/>
              <p:cNvSpPr/>
              <p:nvPr/>
            </p:nvSpPr>
            <p:spPr>
              <a:xfrm>
                <a:off x="3583800" y="3471120"/>
                <a:ext cx="398160" cy="434520"/>
              </a:xfrm>
              <a:custGeom>
                <a:avLst/>
                <a:gdLst/>
                <a:ahLst/>
                <a:rect l="l" t="t" r="r" b="b"/>
                <a:pathLst>
                  <a:path w="474" h="1109">
                    <a:moveTo>
                      <a:pt x="312" y="8"/>
                    </a:moveTo>
                    <a:lnTo>
                      <a:pt x="309" y="10"/>
                    </a:lnTo>
                    <a:lnTo>
                      <a:pt x="303" y="12"/>
                    </a:lnTo>
                    <a:lnTo>
                      <a:pt x="293" y="18"/>
                    </a:lnTo>
                    <a:lnTo>
                      <a:pt x="279" y="25"/>
                    </a:lnTo>
                    <a:lnTo>
                      <a:pt x="261" y="36"/>
                    </a:lnTo>
                    <a:lnTo>
                      <a:pt x="242" y="48"/>
                    </a:lnTo>
                    <a:lnTo>
                      <a:pt x="222" y="62"/>
                    </a:lnTo>
                    <a:lnTo>
                      <a:pt x="199" y="79"/>
                    </a:lnTo>
                    <a:lnTo>
                      <a:pt x="177" y="100"/>
                    </a:lnTo>
                    <a:lnTo>
                      <a:pt x="153" y="123"/>
                    </a:lnTo>
                    <a:lnTo>
                      <a:pt x="129" y="148"/>
                    </a:lnTo>
                    <a:lnTo>
                      <a:pt x="106" y="176"/>
                    </a:lnTo>
                    <a:lnTo>
                      <a:pt x="85" y="207"/>
                    </a:lnTo>
                    <a:lnTo>
                      <a:pt x="65" y="241"/>
                    </a:lnTo>
                    <a:lnTo>
                      <a:pt x="46" y="278"/>
                    </a:lnTo>
                    <a:lnTo>
                      <a:pt x="31" y="318"/>
                    </a:lnTo>
                    <a:lnTo>
                      <a:pt x="9" y="401"/>
                    </a:lnTo>
                    <a:lnTo>
                      <a:pt x="0" y="485"/>
                    </a:lnTo>
                    <a:lnTo>
                      <a:pt x="0" y="569"/>
                    </a:lnTo>
                    <a:lnTo>
                      <a:pt x="7" y="648"/>
                    </a:lnTo>
                    <a:lnTo>
                      <a:pt x="17" y="721"/>
                    </a:lnTo>
                    <a:lnTo>
                      <a:pt x="28" y="780"/>
                    </a:lnTo>
                    <a:lnTo>
                      <a:pt x="38" y="826"/>
                    </a:lnTo>
                    <a:lnTo>
                      <a:pt x="46" y="853"/>
                    </a:lnTo>
                    <a:lnTo>
                      <a:pt x="60" y="892"/>
                    </a:lnTo>
                    <a:lnTo>
                      <a:pt x="77" y="933"/>
                    </a:lnTo>
                    <a:lnTo>
                      <a:pt x="96" y="971"/>
                    </a:lnTo>
                    <a:lnTo>
                      <a:pt x="115" y="1007"/>
                    </a:lnTo>
                    <a:lnTo>
                      <a:pt x="133" y="1037"/>
                    </a:lnTo>
                    <a:lnTo>
                      <a:pt x="148" y="1061"/>
                    </a:lnTo>
                    <a:lnTo>
                      <a:pt x="158" y="1076"/>
                    </a:lnTo>
                    <a:lnTo>
                      <a:pt x="162" y="1082"/>
                    </a:lnTo>
                    <a:lnTo>
                      <a:pt x="163" y="1086"/>
                    </a:lnTo>
                    <a:lnTo>
                      <a:pt x="167" y="1094"/>
                    </a:lnTo>
                    <a:lnTo>
                      <a:pt x="173" y="1103"/>
                    </a:lnTo>
                    <a:lnTo>
                      <a:pt x="180" y="1108"/>
                    </a:lnTo>
                    <a:lnTo>
                      <a:pt x="191" y="1109"/>
                    </a:lnTo>
                    <a:lnTo>
                      <a:pt x="202" y="1100"/>
                    </a:lnTo>
                    <a:lnTo>
                      <a:pt x="216" y="1079"/>
                    </a:lnTo>
                    <a:lnTo>
                      <a:pt x="230" y="1041"/>
                    </a:lnTo>
                    <a:lnTo>
                      <a:pt x="238" y="983"/>
                    </a:lnTo>
                    <a:lnTo>
                      <a:pt x="238" y="907"/>
                    </a:lnTo>
                    <a:lnTo>
                      <a:pt x="232" y="821"/>
                    </a:lnTo>
                    <a:lnTo>
                      <a:pt x="227" y="727"/>
                    </a:lnTo>
                    <a:lnTo>
                      <a:pt x="225" y="633"/>
                    </a:lnTo>
                    <a:lnTo>
                      <a:pt x="232" y="543"/>
                    </a:lnTo>
                    <a:lnTo>
                      <a:pt x="254" y="463"/>
                    </a:lnTo>
                    <a:lnTo>
                      <a:pt x="293" y="397"/>
                    </a:lnTo>
                    <a:lnTo>
                      <a:pt x="339" y="343"/>
                    </a:lnTo>
                    <a:lnTo>
                      <a:pt x="380" y="295"/>
                    </a:lnTo>
                    <a:lnTo>
                      <a:pt x="411" y="255"/>
                    </a:lnTo>
                    <a:lnTo>
                      <a:pt x="437" y="220"/>
                    </a:lnTo>
                    <a:lnTo>
                      <a:pt x="455" y="190"/>
                    </a:lnTo>
                    <a:lnTo>
                      <a:pt x="468" y="164"/>
                    </a:lnTo>
                    <a:lnTo>
                      <a:pt x="474" y="139"/>
                    </a:lnTo>
                    <a:lnTo>
                      <a:pt x="473" y="116"/>
                    </a:lnTo>
                    <a:lnTo>
                      <a:pt x="468" y="93"/>
                    </a:lnTo>
                    <a:lnTo>
                      <a:pt x="459" y="69"/>
                    </a:lnTo>
                    <a:lnTo>
                      <a:pt x="446" y="46"/>
                    </a:lnTo>
                    <a:lnTo>
                      <a:pt x="430" y="27"/>
                    </a:lnTo>
                    <a:lnTo>
                      <a:pt x="410" y="11"/>
                    </a:lnTo>
                    <a:lnTo>
                      <a:pt x="382" y="2"/>
                    </a:lnTo>
                    <a:lnTo>
                      <a:pt x="351" y="0"/>
                    </a:lnTo>
                    <a:lnTo>
                      <a:pt x="312" y="8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161"/>
              <p:cNvSpPr/>
              <p:nvPr/>
            </p:nvSpPr>
            <p:spPr>
              <a:xfrm>
                <a:off x="4102920" y="4155480"/>
                <a:ext cx="370080" cy="37800"/>
              </a:xfrm>
              <a:custGeom>
                <a:avLst/>
                <a:gdLst/>
                <a:ahLst/>
                <a:rect l="l" t="t" r="r" b="b"/>
                <a:pathLst>
                  <a:path w="442" h="110">
                    <a:moveTo>
                      <a:pt x="0" y="85"/>
                    </a:moveTo>
                    <a:lnTo>
                      <a:pt x="3" y="85"/>
                    </a:lnTo>
                    <a:lnTo>
                      <a:pt x="9" y="84"/>
                    </a:lnTo>
                    <a:lnTo>
                      <a:pt x="19" y="83"/>
                    </a:lnTo>
                    <a:lnTo>
                      <a:pt x="32" y="79"/>
                    </a:lnTo>
                    <a:lnTo>
                      <a:pt x="46" y="75"/>
                    </a:lnTo>
                    <a:lnTo>
                      <a:pt x="61" y="71"/>
                    </a:lnTo>
                    <a:lnTo>
                      <a:pt x="76" y="64"/>
                    </a:lnTo>
                    <a:lnTo>
                      <a:pt x="88" y="56"/>
                    </a:lnTo>
                    <a:lnTo>
                      <a:pt x="90" y="55"/>
                    </a:lnTo>
                    <a:lnTo>
                      <a:pt x="93" y="51"/>
                    </a:lnTo>
                    <a:lnTo>
                      <a:pt x="100" y="45"/>
                    </a:lnTo>
                    <a:lnTo>
                      <a:pt x="109" y="37"/>
                    </a:lnTo>
                    <a:lnTo>
                      <a:pt x="119" y="29"/>
                    </a:lnTo>
                    <a:lnTo>
                      <a:pt x="131" y="20"/>
                    </a:lnTo>
                    <a:lnTo>
                      <a:pt x="146" y="13"/>
                    </a:lnTo>
                    <a:lnTo>
                      <a:pt x="161" y="6"/>
                    </a:lnTo>
                    <a:lnTo>
                      <a:pt x="179" y="1"/>
                    </a:lnTo>
                    <a:lnTo>
                      <a:pt x="198" y="0"/>
                    </a:lnTo>
                    <a:lnTo>
                      <a:pt x="218" y="1"/>
                    </a:lnTo>
                    <a:lnTo>
                      <a:pt x="240" y="6"/>
                    </a:lnTo>
                    <a:lnTo>
                      <a:pt x="262" y="17"/>
                    </a:lnTo>
                    <a:lnTo>
                      <a:pt x="285" y="31"/>
                    </a:lnTo>
                    <a:lnTo>
                      <a:pt x="309" y="53"/>
                    </a:lnTo>
                    <a:lnTo>
                      <a:pt x="333" y="80"/>
                    </a:lnTo>
                    <a:lnTo>
                      <a:pt x="335" y="81"/>
                    </a:lnTo>
                    <a:lnTo>
                      <a:pt x="343" y="84"/>
                    </a:lnTo>
                    <a:lnTo>
                      <a:pt x="355" y="89"/>
                    </a:lnTo>
                    <a:lnTo>
                      <a:pt x="369" y="95"/>
                    </a:lnTo>
                    <a:lnTo>
                      <a:pt x="387" y="99"/>
                    </a:lnTo>
                    <a:lnTo>
                      <a:pt x="405" y="103"/>
                    </a:lnTo>
                    <a:lnTo>
                      <a:pt x="423" y="104"/>
                    </a:lnTo>
                    <a:lnTo>
                      <a:pt x="442" y="103"/>
                    </a:lnTo>
                    <a:lnTo>
                      <a:pt x="441" y="104"/>
                    </a:lnTo>
                    <a:lnTo>
                      <a:pt x="437" y="107"/>
                    </a:lnTo>
                    <a:lnTo>
                      <a:pt x="429" y="109"/>
                    </a:lnTo>
                    <a:lnTo>
                      <a:pt x="415" y="110"/>
                    </a:lnTo>
                    <a:lnTo>
                      <a:pt x="393" y="110"/>
                    </a:lnTo>
                    <a:lnTo>
                      <a:pt x="363" y="107"/>
                    </a:lnTo>
                    <a:lnTo>
                      <a:pt x="321" y="96"/>
                    </a:lnTo>
                    <a:lnTo>
                      <a:pt x="270" y="80"/>
                    </a:lnTo>
                    <a:lnTo>
                      <a:pt x="267" y="79"/>
                    </a:lnTo>
                    <a:lnTo>
                      <a:pt x="260" y="74"/>
                    </a:lnTo>
                    <a:lnTo>
                      <a:pt x="248" y="68"/>
                    </a:lnTo>
                    <a:lnTo>
                      <a:pt x="231" y="62"/>
                    </a:lnTo>
                    <a:lnTo>
                      <a:pt x="209" y="58"/>
                    </a:lnTo>
                    <a:lnTo>
                      <a:pt x="184" y="58"/>
                    </a:lnTo>
                    <a:lnTo>
                      <a:pt x="154" y="62"/>
                    </a:lnTo>
                    <a:lnTo>
                      <a:pt x="120" y="71"/>
                    </a:lnTo>
                    <a:lnTo>
                      <a:pt x="119" y="72"/>
                    </a:lnTo>
                    <a:lnTo>
                      <a:pt x="112" y="76"/>
                    </a:lnTo>
                    <a:lnTo>
                      <a:pt x="103" y="81"/>
                    </a:lnTo>
                    <a:lnTo>
                      <a:pt x="90" y="87"/>
                    </a:lnTo>
                    <a:lnTo>
                      <a:pt x="73" y="91"/>
                    </a:lnTo>
                    <a:lnTo>
                      <a:pt x="52" y="92"/>
                    </a:lnTo>
                    <a:lnTo>
                      <a:pt x="28" y="91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162"/>
              <p:cNvSpPr/>
              <p:nvPr/>
            </p:nvSpPr>
            <p:spPr>
              <a:xfrm>
                <a:off x="4102920" y="3413520"/>
                <a:ext cx="398160" cy="69120"/>
              </a:xfrm>
              <a:custGeom>
                <a:avLst/>
                <a:gdLst/>
                <a:ahLst/>
                <a:rect l="l" t="t" r="r" b="b"/>
                <a:pathLst>
                  <a:path w="473" h="165">
                    <a:moveTo>
                      <a:pt x="0" y="0"/>
                    </a:moveTo>
                    <a:lnTo>
                      <a:pt x="4" y="0"/>
                    </a:lnTo>
                    <a:lnTo>
                      <a:pt x="13" y="2"/>
                    </a:lnTo>
                    <a:lnTo>
                      <a:pt x="28" y="4"/>
                    </a:lnTo>
                    <a:lnTo>
                      <a:pt x="48" y="9"/>
                    </a:lnTo>
                    <a:lnTo>
                      <a:pt x="72" y="17"/>
                    </a:lnTo>
                    <a:lnTo>
                      <a:pt x="98" y="28"/>
                    </a:lnTo>
                    <a:lnTo>
                      <a:pt x="129" y="42"/>
                    </a:lnTo>
                    <a:lnTo>
                      <a:pt x="159" y="61"/>
                    </a:lnTo>
                    <a:lnTo>
                      <a:pt x="190" y="78"/>
                    </a:lnTo>
                    <a:lnTo>
                      <a:pt x="221" y="90"/>
                    </a:lnTo>
                    <a:lnTo>
                      <a:pt x="251" y="98"/>
                    </a:lnTo>
                    <a:lnTo>
                      <a:pt x="277" y="100"/>
                    </a:lnTo>
                    <a:lnTo>
                      <a:pt x="300" y="102"/>
                    </a:lnTo>
                    <a:lnTo>
                      <a:pt x="318" y="102"/>
                    </a:lnTo>
                    <a:lnTo>
                      <a:pt x="329" y="100"/>
                    </a:lnTo>
                    <a:lnTo>
                      <a:pt x="333" y="100"/>
                    </a:lnTo>
                    <a:lnTo>
                      <a:pt x="473" y="49"/>
                    </a:lnTo>
                    <a:lnTo>
                      <a:pt x="469" y="53"/>
                    </a:lnTo>
                    <a:lnTo>
                      <a:pt x="457" y="62"/>
                    </a:lnTo>
                    <a:lnTo>
                      <a:pt x="441" y="77"/>
                    </a:lnTo>
                    <a:lnTo>
                      <a:pt x="422" y="94"/>
                    </a:lnTo>
                    <a:lnTo>
                      <a:pt x="401" y="111"/>
                    </a:lnTo>
                    <a:lnTo>
                      <a:pt x="381" y="127"/>
                    </a:lnTo>
                    <a:lnTo>
                      <a:pt x="363" y="141"/>
                    </a:lnTo>
                    <a:lnTo>
                      <a:pt x="350" y="150"/>
                    </a:lnTo>
                    <a:lnTo>
                      <a:pt x="344" y="154"/>
                    </a:lnTo>
                    <a:lnTo>
                      <a:pt x="334" y="157"/>
                    </a:lnTo>
                    <a:lnTo>
                      <a:pt x="323" y="160"/>
                    </a:lnTo>
                    <a:lnTo>
                      <a:pt x="309" y="161"/>
                    </a:lnTo>
                    <a:lnTo>
                      <a:pt x="295" y="164"/>
                    </a:lnTo>
                    <a:lnTo>
                      <a:pt x="279" y="164"/>
                    </a:lnTo>
                    <a:lnTo>
                      <a:pt x="261" y="165"/>
                    </a:lnTo>
                    <a:lnTo>
                      <a:pt x="243" y="164"/>
                    </a:lnTo>
                    <a:lnTo>
                      <a:pt x="224" y="162"/>
                    </a:lnTo>
                    <a:lnTo>
                      <a:pt x="207" y="161"/>
                    </a:lnTo>
                    <a:lnTo>
                      <a:pt x="189" y="157"/>
                    </a:lnTo>
                    <a:lnTo>
                      <a:pt x="172" y="153"/>
                    </a:lnTo>
                    <a:lnTo>
                      <a:pt x="156" y="148"/>
                    </a:lnTo>
                    <a:lnTo>
                      <a:pt x="141" y="141"/>
                    </a:lnTo>
                    <a:lnTo>
                      <a:pt x="127" y="133"/>
                    </a:lnTo>
                    <a:lnTo>
                      <a:pt x="116" y="124"/>
                    </a:lnTo>
                    <a:lnTo>
                      <a:pt x="97" y="103"/>
                    </a:lnTo>
                    <a:lnTo>
                      <a:pt x="81" y="82"/>
                    </a:lnTo>
                    <a:lnTo>
                      <a:pt x="68" y="62"/>
                    </a:lnTo>
                    <a:lnTo>
                      <a:pt x="56" y="42"/>
                    </a:lnTo>
                    <a:lnTo>
                      <a:pt x="43" y="27"/>
                    </a:lnTo>
                    <a:lnTo>
                      <a:pt x="30" y="13"/>
                    </a:lnTo>
                    <a:lnTo>
                      <a:pt x="1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163"/>
              <p:cNvSpPr/>
              <p:nvPr/>
            </p:nvSpPr>
            <p:spPr>
              <a:xfrm>
                <a:off x="4468320" y="3507840"/>
                <a:ext cx="475920" cy="373320"/>
              </a:xfrm>
              <a:custGeom>
                <a:avLst/>
                <a:gdLst/>
                <a:ahLst/>
                <a:rect l="l" t="t" r="r" b="b"/>
                <a:pathLst>
                  <a:path w="570" h="953">
                    <a:moveTo>
                      <a:pt x="443" y="29"/>
                    </a:moveTo>
                    <a:lnTo>
                      <a:pt x="440" y="26"/>
                    </a:lnTo>
                    <a:lnTo>
                      <a:pt x="432" y="19"/>
                    </a:lnTo>
                    <a:lnTo>
                      <a:pt x="418" y="13"/>
                    </a:lnTo>
                    <a:lnTo>
                      <a:pt x="400" y="5"/>
                    </a:lnTo>
                    <a:lnTo>
                      <a:pt x="377" y="0"/>
                    </a:lnTo>
                    <a:lnTo>
                      <a:pt x="351" y="0"/>
                    </a:lnTo>
                    <a:lnTo>
                      <a:pt x="322" y="5"/>
                    </a:lnTo>
                    <a:lnTo>
                      <a:pt x="289" y="19"/>
                    </a:lnTo>
                    <a:lnTo>
                      <a:pt x="258" y="35"/>
                    </a:lnTo>
                    <a:lnTo>
                      <a:pt x="233" y="44"/>
                    </a:lnTo>
                    <a:lnTo>
                      <a:pt x="210" y="48"/>
                    </a:lnTo>
                    <a:lnTo>
                      <a:pt x="191" y="51"/>
                    </a:lnTo>
                    <a:lnTo>
                      <a:pt x="175" y="52"/>
                    </a:lnTo>
                    <a:lnTo>
                      <a:pt x="160" y="56"/>
                    </a:lnTo>
                    <a:lnTo>
                      <a:pt x="146" y="65"/>
                    </a:lnTo>
                    <a:lnTo>
                      <a:pt x="132" y="80"/>
                    </a:lnTo>
                    <a:lnTo>
                      <a:pt x="104" y="126"/>
                    </a:lnTo>
                    <a:lnTo>
                      <a:pt x="81" y="180"/>
                    </a:lnTo>
                    <a:lnTo>
                      <a:pt x="63" y="241"/>
                    </a:lnTo>
                    <a:lnTo>
                      <a:pt x="47" y="304"/>
                    </a:lnTo>
                    <a:lnTo>
                      <a:pt x="36" y="366"/>
                    </a:lnTo>
                    <a:lnTo>
                      <a:pt x="26" y="425"/>
                    </a:lnTo>
                    <a:lnTo>
                      <a:pt x="17" y="479"/>
                    </a:lnTo>
                    <a:lnTo>
                      <a:pt x="8" y="524"/>
                    </a:lnTo>
                    <a:lnTo>
                      <a:pt x="2" y="569"/>
                    </a:lnTo>
                    <a:lnTo>
                      <a:pt x="0" y="623"/>
                    </a:lnTo>
                    <a:lnTo>
                      <a:pt x="2" y="679"/>
                    </a:lnTo>
                    <a:lnTo>
                      <a:pt x="8" y="736"/>
                    </a:lnTo>
                    <a:lnTo>
                      <a:pt x="18" y="788"/>
                    </a:lnTo>
                    <a:lnTo>
                      <a:pt x="34" y="832"/>
                    </a:lnTo>
                    <a:lnTo>
                      <a:pt x="54" y="864"/>
                    </a:lnTo>
                    <a:lnTo>
                      <a:pt x="79" y="878"/>
                    </a:lnTo>
                    <a:lnTo>
                      <a:pt x="104" y="885"/>
                    </a:lnTo>
                    <a:lnTo>
                      <a:pt x="127" y="893"/>
                    </a:lnTo>
                    <a:lnTo>
                      <a:pt x="146" y="904"/>
                    </a:lnTo>
                    <a:lnTo>
                      <a:pt x="165" y="915"/>
                    </a:lnTo>
                    <a:lnTo>
                      <a:pt x="181" y="927"/>
                    </a:lnTo>
                    <a:lnTo>
                      <a:pt x="197" y="937"/>
                    </a:lnTo>
                    <a:lnTo>
                      <a:pt x="212" y="947"/>
                    </a:lnTo>
                    <a:lnTo>
                      <a:pt x="229" y="952"/>
                    </a:lnTo>
                    <a:lnTo>
                      <a:pt x="238" y="953"/>
                    </a:lnTo>
                    <a:lnTo>
                      <a:pt x="249" y="953"/>
                    </a:lnTo>
                    <a:lnTo>
                      <a:pt x="260" y="950"/>
                    </a:lnTo>
                    <a:lnTo>
                      <a:pt x="274" y="947"/>
                    </a:lnTo>
                    <a:lnTo>
                      <a:pt x="288" y="940"/>
                    </a:lnTo>
                    <a:lnTo>
                      <a:pt x="303" y="933"/>
                    </a:lnTo>
                    <a:lnTo>
                      <a:pt x="320" y="924"/>
                    </a:lnTo>
                    <a:lnTo>
                      <a:pt x="336" y="914"/>
                    </a:lnTo>
                    <a:lnTo>
                      <a:pt x="354" y="902"/>
                    </a:lnTo>
                    <a:lnTo>
                      <a:pt x="370" y="887"/>
                    </a:lnTo>
                    <a:lnTo>
                      <a:pt x="388" y="873"/>
                    </a:lnTo>
                    <a:lnTo>
                      <a:pt x="405" y="857"/>
                    </a:lnTo>
                    <a:lnTo>
                      <a:pt x="423" y="840"/>
                    </a:lnTo>
                    <a:lnTo>
                      <a:pt x="440" y="820"/>
                    </a:lnTo>
                    <a:lnTo>
                      <a:pt x="457" y="800"/>
                    </a:lnTo>
                    <a:lnTo>
                      <a:pt x="473" y="779"/>
                    </a:lnTo>
                    <a:lnTo>
                      <a:pt x="511" y="711"/>
                    </a:lnTo>
                    <a:lnTo>
                      <a:pt x="541" y="623"/>
                    </a:lnTo>
                    <a:lnTo>
                      <a:pt x="561" y="520"/>
                    </a:lnTo>
                    <a:lnTo>
                      <a:pt x="570" y="411"/>
                    </a:lnTo>
                    <a:lnTo>
                      <a:pt x="564" y="300"/>
                    </a:lnTo>
                    <a:lnTo>
                      <a:pt x="543" y="195"/>
                    </a:lnTo>
                    <a:lnTo>
                      <a:pt x="502" y="102"/>
                    </a:lnTo>
                    <a:lnTo>
                      <a:pt x="443" y="29"/>
                    </a:lnTo>
                    <a:close/>
                  </a:path>
                </a:pathLst>
              </a:custGeom>
              <a:solidFill>
                <a:srgbClr val="ff72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Freeform 164"/>
              <p:cNvSpPr/>
              <p:nvPr/>
            </p:nvSpPr>
            <p:spPr>
              <a:xfrm>
                <a:off x="4596480" y="3619440"/>
                <a:ext cx="249480" cy="203400"/>
              </a:xfrm>
              <a:custGeom>
                <a:avLst/>
                <a:gdLst/>
                <a:ahLst/>
                <a:rect l="l" t="t" r="r" b="b"/>
                <a:pathLst>
                  <a:path w="297" h="507">
                    <a:moveTo>
                      <a:pt x="231" y="15"/>
                    </a:moveTo>
                    <a:lnTo>
                      <a:pt x="229" y="14"/>
                    </a:lnTo>
                    <a:lnTo>
                      <a:pt x="224" y="11"/>
                    </a:lnTo>
                    <a:lnTo>
                      <a:pt x="218" y="7"/>
                    </a:lnTo>
                    <a:lnTo>
                      <a:pt x="208" y="3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68" y="3"/>
                    </a:lnTo>
                    <a:lnTo>
                      <a:pt x="151" y="11"/>
                    </a:lnTo>
                    <a:lnTo>
                      <a:pt x="136" y="19"/>
                    </a:lnTo>
                    <a:lnTo>
                      <a:pt x="122" y="24"/>
                    </a:lnTo>
                    <a:lnTo>
                      <a:pt x="111" y="27"/>
                    </a:lnTo>
                    <a:lnTo>
                      <a:pt x="102" y="28"/>
                    </a:lnTo>
                    <a:lnTo>
                      <a:pt x="93" y="29"/>
                    </a:lnTo>
                    <a:lnTo>
                      <a:pt x="86" y="31"/>
                    </a:lnTo>
                    <a:lnTo>
                      <a:pt x="78" y="35"/>
                    </a:lnTo>
                    <a:lnTo>
                      <a:pt x="71" y="43"/>
                    </a:lnTo>
                    <a:lnTo>
                      <a:pt x="57" y="66"/>
                    </a:lnTo>
                    <a:lnTo>
                      <a:pt x="44" y="95"/>
                    </a:lnTo>
                    <a:lnTo>
                      <a:pt x="35" y="127"/>
                    </a:lnTo>
                    <a:lnTo>
                      <a:pt x="26" y="158"/>
                    </a:lnTo>
                    <a:lnTo>
                      <a:pt x="20" y="191"/>
                    </a:lnTo>
                    <a:lnTo>
                      <a:pt x="15" y="223"/>
                    </a:lnTo>
                    <a:lnTo>
                      <a:pt x="10" y="252"/>
                    </a:lnTo>
                    <a:lnTo>
                      <a:pt x="5" y="276"/>
                    </a:lnTo>
                    <a:lnTo>
                      <a:pt x="1" y="299"/>
                    </a:lnTo>
                    <a:lnTo>
                      <a:pt x="0" y="328"/>
                    </a:lnTo>
                    <a:lnTo>
                      <a:pt x="1" y="359"/>
                    </a:lnTo>
                    <a:lnTo>
                      <a:pt x="4" y="389"/>
                    </a:lnTo>
                    <a:lnTo>
                      <a:pt x="9" y="418"/>
                    </a:lnTo>
                    <a:lnTo>
                      <a:pt x="16" y="442"/>
                    </a:lnTo>
                    <a:lnTo>
                      <a:pt x="26" y="459"/>
                    </a:lnTo>
                    <a:lnTo>
                      <a:pt x="39" y="467"/>
                    </a:lnTo>
                    <a:lnTo>
                      <a:pt x="53" y="471"/>
                    </a:lnTo>
                    <a:lnTo>
                      <a:pt x="64" y="475"/>
                    </a:lnTo>
                    <a:lnTo>
                      <a:pt x="76" y="481"/>
                    </a:lnTo>
                    <a:lnTo>
                      <a:pt x="84" y="486"/>
                    </a:lnTo>
                    <a:lnTo>
                      <a:pt x="93" y="493"/>
                    </a:lnTo>
                    <a:lnTo>
                      <a:pt x="102" y="500"/>
                    </a:lnTo>
                    <a:lnTo>
                      <a:pt x="110" y="503"/>
                    </a:lnTo>
                    <a:lnTo>
                      <a:pt x="118" y="507"/>
                    </a:lnTo>
                    <a:lnTo>
                      <a:pt x="128" y="507"/>
                    </a:lnTo>
                    <a:lnTo>
                      <a:pt x="142" y="503"/>
                    </a:lnTo>
                    <a:lnTo>
                      <a:pt x="157" y="497"/>
                    </a:lnTo>
                    <a:lnTo>
                      <a:pt x="175" y="485"/>
                    </a:lnTo>
                    <a:lnTo>
                      <a:pt x="194" y="472"/>
                    </a:lnTo>
                    <a:lnTo>
                      <a:pt x="212" y="455"/>
                    </a:lnTo>
                    <a:lnTo>
                      <a:pt x="231" y="435"/>
                    </a:lnTo>
                    <a:lnTo>
                      <a:pt x="248" y="413"/>
                    </a:lnTo>
                    <a:lnTo>
                      <a:pt x="268" y="376"/>
                    </a:lnTo>
                    <a:lnTo>
                      <a:pt x="283" y="328"/>
                    </a:lnTo>
                    <a:lnTo>
                      <a:pt x="294" y="274"/>
                    </a:lnTo>
                    <a:lnTo>
                      <a:pt x="297" y="215"/>
                    </a:lnTo>
                    <a:lnTo>
                      <a:pt x="294" y="157"/>
                    </a:lnTo>
                    <a:lnTo>
                      <a:pt x="282" y="102"/>
                    </a:lnTo>
                    <a:lnTo>
                      <a:pt x="262" y="53"/>
                    </a:lnTo>
                    <a:lnTo>
                      <a:pt x="231" y="15"/>
                    </a:lnTo>
                    <a:close/>
                  </a:path>
                </a:pathLst>
              </a:custGeom>
              <a:solidFill>
                <a:srgbClr val="ffa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Freeform 165"/>
              <p:cNvSpPr/>
              <p:nvPr/>
            </p:nvSpPr>
            <p:spPr>
              <a:xfrm>
                <a:off x="4218840" y="3395880"/>
                <a:ext cx="335160" cy="63360"/>
              </a:xfrm>
              <a:custGeom>
                <a:avLst/>
                <a:gdLst/>
                <a:ahLst/>
                <a:rect l="l" t="t" r="r" b="b"/>
                <a:pathLst>
                  <a:path w="406" h="150">
                    <a:moveTo>
                      <a:pt x="29" y="82"/>
                    </a:moveTo>
                    <a:lnTo>
                      <a:pt x="29" y="75"/>
                    </a:lnTo>
                    <a:lnTo>
                      <a:pt x="27" y="61"/>
                    </a:lnTo>
                    <a:lnTo>
                      <a:pt x="23" y="44"/>
                    </a:lnTo>
                    <a:lnTo>
                      <a:pt x="14" y="29"/>
                    </a:lnTo>
                    <a:lnTo>
                      <a:pt x="5" y="17"/>
                    </a:lnTo>
                    <a:lnTo>
                      <a:pt x="0" y="8"/>
                    </a:lnTo>
                    <a:lnTo>
                      <a:pt x="3" y="1"/>
                    </a:lnTo>
                    <a:lnTo>
                      <a:pt x="14" y="0"/>
                    </a:lnTo>
                    <a:lnTo>
                      <a:pt x="25" y="1"/>
                    </a:lnTo>
                    <a:lnTo>
                      <a:pt x="41" y="4"/>
                    </a:lnTo>
                    <a:lnTo>
                      <a:pt x="58" y="7"/>
                    </a:lnTo>
                    <a:lnTo>
                      <a:pt x="77" y="9"/>
                    </a:lnTo>
                    <a:lnTo>
                      <a:pt x="96" y="13"/>
                    </a:lnTo>
                    <a:lnTo>
                      <a:pt x="114" y="17"/>
                    </a:lnTo>
                    <a:lnTo>
                      <a:pt x="130" y="20"/>
                    </a:lnTo>
                    <a:lnTo>
                      <a:pt x="144" y="22"/>
                    </a:lnTo>
                    <a:lnTo>
                      <a:pt x="158" y="24"/>
                    </a:lnTo>
                    <a:lnTo>
                      <a:pt x="174" y="24"/>
                    </a:lnTo>
                    <a:lnTo>
                      <a:pt x="193" y="24"/>
                    </a:lnTo>
                    <a:lnTo>
                      <a:pt x="214" y="22"/>
                    </a:lnTo>
                    <a:lnTo>
                      <a:pt x="235" y="21"/>
                    </a:lnTo>
                    <a:lnTo>
                      <a:pt x="253" y="19"/>
                    </a:lnTo>
                    <a:lnTo>
                      <a:pt x="270" y="16"/>
                    </a:lnTo>
                    <a:lnTo>
                      <a:pt x="284" y="13"/>
                    </a:lnTo>
                    <a:lnTo>
                      <a:pt x="295" y="11"/>
                    </a:lnTo>
                    <a:lnTo>
                      <a:pt x="308" y="8"/>
                    </a:lnTo>
                    <a:lnTo>
                      <a:pt x="319" y="5"/>
                    </a:lnTo>
                    <a:lnTo>
                      <a:pt x="332" y="3"/>
                    </a:lnTo>
                    <a:lnTo>
                      <a:pt x="343" y="3"/>
                    </a:lnTo>
                    <a:lnTo>
                      <a:pt x="355" y="3"/>
                    </a:lnTo>
                    <a:lnTo>
                      <a:pt x="368" y="4"/>
                    </a:lnTo>
                    <a:lnTo>
                      <a:pt x="381" y="8"/>
                    </a:lnTo>
                    <a:lnTo>
                      <a:pt x="400" y="20"/>
                    </a:lnTo>
                    <a:lnTo>
                      <a:pt x="406" y="37"/>
                    </a:lnTo>
                    <a:lnTo>
                      <a:pt x="401" y="53"/>
                    </a:lnTo>
                    <a:lnTo>
                      <a:pt x="387" y="66"/>
                    </a:lnTo>
                    <a:lnTo>
                      <a:pt x="377" y="71"/>
                    </a:lnTo>
                    <a:lnTo>
                      <a:pt x="364" y="76"/>
                    </a:lnTo>
                    <a:lnTo>
                      <a:pt x="352" y="83"/>
                    </a:lnTo>
                    <a:lnTo>
                      <a:pt x="339" y="90"/>
                    </a:lnTo>
                    <a:lnTo>
                      <a:pt x="328" y="96"/>
                    </a:lnTo>
                    <a:lnTo>
                      <a:pt x="319" y="102"/>
                    </a:lnTo>
                    <a:lnTo>
                      <a:pt x="313" y="104"/>
                    </a:lnTo>
                    <a:lnTo>
                      <a:pt x="310" y="105"/>
                    </a:lnTo>
                    <a:lnTo>
                      <a:pt x="250" y="129"/>
                    </a:lnTo>
                    <a:lnTo>
                      <a:pt x="245" y="130"/>
                    </a:lnTo>
                    <a:lnTo>
                      <a:pt x="233" y="132"/>
                    </a:lnTo>
                    <a:lnTo>
                      <a:pt x="216" y="136"/>
                    </a:lnTo>
                    <a:lnTo>
                      <a:pt x="195" y="140"/>
                    </a:lnTo>
                    <a:lnTo>
                      <a:pt x="175" y="144"/>
                    </a:lnTo>
                    <a:lnTo>
                      <a:pt x="156" y="146"/>
                    </a:lnTo>
                    <a:lnTo>
                      <a:pt x="143" y="149"/>
                    </a:lnTo>
                    <a:lnTo>
                      <a:pt x="136" y="150"/>
                    </a:lnTo>
                    <a:lnTo>
                      <a:pt x="133" y="149"/>
                    </a:lnTo>
                    <a:lnTo>
                      <a:pt x="125" y="146"/>
                    </a:lnTo>
                    <a:lnTo>
                      <a:pt x="114" y="141"/>
                    </a:lnTo>
                    <a:lnTo>
                      <a:pt x="101" y="133"/>
                    </a:lnTo>
                    <a:lnTo>
                      <a:pt x="85" y="123"/>
                    </a:lnTo>
                    <a:lnTo>
                      <a:pt x="68" y="111"/>
                    </a:lnTo>
                    <a:lnTo>
                      <a:pt x="49" y="98"/>
                    </a:lnTo>
                    <a:lnTo>
                      <a:pt x="29" y="82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166"/>
              <p:cNvSpPr/>
              <p:nvPr/>
            </p:nvSpPr>
            <p:spPr>
              <a:xfrm>
                <a:off x="3480480" y="3445200"/>
                <a:ext cx="435960" cy="704160"/>
              </a:xfrm>
              <a:custGeom>
                <a:avLst/>
                <a:gdLst/>
                <a:ahLst/>
                <a:rect l="l" t="t" r="r" b="b"/>
                <a:pathLst>
                  <a:path w="521" h="1794">
                    <a:moveTo>
                      <a:pt x="221" y="0"/>
                    </a:moveTo>
                    <a:lnTo>
                      <a:pt x="217" y="4"/>
                    </a:lnTo>
                    <a:lnTo>
                      <a:pt x="204" y="14"/>
                    </a:lnTo>
                    <a:lnTo>
                      <a:pt x="187" y="33"/>
                    </a:lnTo>
                    <a:lnTo>
                      <a:pt x="164" y="58"/>
                    </a:lnTo>
                    <a:lnTo>
                      <a:pt x="139" y="92"/>
                    </a:lnTo>
                    <a:lnTo>
                      <a:pt x="113" y="134"/>
                    </a:lnTo>
                    <a:lnTo>
                      <a:pt x="85" y="184"/>
                    </a:lnTo>
                    <a:lnTo>
                      <a:pt x="60" y="244"/>
                    </a:lnTo>
                    <a:lnTo>
                      <a:pt x="37" y="312"/>
                    </a:lnTo>
                    <a:lnTo>
                      <a:pt x="18" y="388"/>
                    </a:lnTo>
                    <a:lnTo>
                      <a:pt x="5" y="475"/>
                    </a:lnTo>
                    <a:lnTo>
                      <a:pt x="0" y="570"/>
                    </a:lnTo>
                    <a:lnTo>
                      <a:pt x="4" y="676"/>
                    </a:lnTo>
                    <a:lnTo>
                      <a:pt x="19" y="791"/>
                    </a:lnTo>
                    <a:lnTo>
                      <a:pt x="46" y="918"/>
                    </a:lnTo>
                    <a:lnTo>
                      <a:pt x="85" y="1053"/>
                    </a:lnTo>
                    <a:lnTo>
                      <a:pt x="89" y="1060"/>
                    </a:lnTo>
                    <a:lnTo>
                      <a:pt x="100" y="1080"/>
                    </a:lnTo>
                    <a:lnTo>
                      <a:pt x="116" y="1111"/>
                    </a:lnTo>
                    <a:lnTo>
                      <a:pt x="139" y="1152"/>
                    </a:lnTo>
                    <a:lnTo>
                      <a:pt x="165" y="1201"/>
                    </a:lnTo>
                    <a:lnTo>
                      <a:pt x="196" y="1256"/>
                    </a:lnTo>
                    <a:lnTo>
                      <a:pt x="230" y="1317"/>
                    </a:lnTo>
                    <a:lnTo>
                      <a:pt x="265" y="1380"/>
                    </a:lnTo>
                    <a:lnTo>
                      <a:pt x="301" y="1443"/>
                    </a:lnTo>
                    <a:lnTo>
                      <a:pt x="338" y="1508"/>
                    </a:lnTo>
                    <a:lnTo>
                      <a:pt x="375" y="1570"/>
                    </a:lnTo>
                    <a:lnTo>
                      <a:pt x="410" y="1629"/>
                    </a:lnTo>
                    <a:lnTo>
                      <a:pt x="443" y="1682"/>
                    </a:lnTo>
                    <a:lnTo>
                      <a:pt x="473" y="1728"/>
                    </a:lnTo>
                    <a:lnTo>
                      <a:pt x="499" y="1766"/>
                    </a:lnTo>
                    <a:lnTo>
                      <a:pt x="521" y="1794"/>
                    </a:lnTo>
                    <a:lnTo>
                      <a:pt x="517" y="1787"/>
                    </a:lnTo>
                    <a:lnTo>
                      <a:pt x="507" y="1769"/>
                    </a:lnTo>
                    <a:lnTo>
                      <a:pt x="492" y="1740"/>
                    </a:lnTo>
                    <a:lnTo>
                      <a:pt x="472" y="1703"/>
                    </a:lnTo>
                    <a:lnTo>
                      <a:pt x="448" y="1657"/>
                    </a:lnTo>
                    <a:lnTo>
                      <a:pt x="419" y="1605"/>
                    </a:lnTo>
                    <a:lnTo>
                      <a:pt x="388" y="1549"/>
                    </a:lnTo>
                    <a:lnTo>
                      <a:pt x="357" y="1488"/>
                    </a:lnTo>
                    <a:lnTo>
                      <a:pt x="323" y="1426"/>
                    </a:lnTo>
                    <a:lnTo>
                      <a:pt x="289" y="1363"/>
                    </a:lnTo>
                    <a:lnTo>
                      <a:pt x="255" y="1301"/>
                    </a:lnTo>
                    <a:lnTo>
                      <a:pt x="223" y="1241"/>
                    </a:lnTo>
                    <a:lnTo>
                      <a:pt x="193" y="1184"/>
                    </a:lnTo>
                    <a:lnTo>
                      <a:pt x="164" y="1131"/>
                    </a:lnTo>
                    <a:lnTo>
                      <a:pt x="140" y="1085"/>
                    </a:lnTo>
                    <a:lnTo>
                      <a:pt x="120" y="1047"/>
                    </a:lnTo>
                    <a:lnTo>
                      <a:pt x="118" y="1040"/>
                    </a:lnTo>
                    <a:lnTo>
                      <a:pt x="111" y="1021"/>
                    </a:lnTo>
                    <a:lnTo>
                      <a:pt x="101" y="989"/>
                    </a:lnTo>
                    <a:lnTo>
                      <a:pt x="90" y="945"/>
                    </a:lnTo>
                    <a:lnTo>
                      <a:pt x="77" y="894"/>
                    </a:lnTo>
                    <a:lnTo>
                      <a:pt x="66" y="834"/>
                    </a:lnTo>
                    <a:lnTo>
                      <a:pt x="56" y="765"/>
                    </a:lnTo>
                    <a:lnTo>
                      <a:pt x="48" y="691"/>
                    </a:lnTo>
                    <a:lnTo>
                      <a:pt x="43" y="611"/>
                    </a:lnTo>
                    <a:lnTo>
                      <a:pt x="44" y="528"/>
                    </a:lnTo>
                    <a:lnTo>
                      <a:pt x="52" y="441"/>
                    </a:lnTo>
                    <a:lnTo>
                      <a:pt x="67" y="352"/>
                    </a:lnTo>
                    <a:lnTo>
                      <a:pt x="90" y="262"/>
                    </a:lnTo>
                    <a:lnTo>
                      <a:pt x="123" y="172"/>
                    </a:lnTo>
                    <a:lnTo>
                      <a:pt x="165" y="85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167"/>
              <p:cNvSpPr/>
              <p:nvPr/>
            </p:nvSpPr>
            <p:spPr>
              <a:xfrm>
                <a:off x="4158360" y="3426480"/>
                <a:ext cx="294480" cy="46800"/>
              </a:xfrm>
              <a:custGeom>
                <a:avLst/>
                <a:gdLst/>
                <a:ahLst/>
                <a:rect l="l" t="t" r="r" b="b"/>
                <a:pathLst>
                  <a:path w="350" h="120">
                    <a:moveTo>
                      <a:pt x="0" y="0"/>
                    </a:moveTo>
                    <a:lnTo>
                      <a:pt x="5" y="4"/>
                    </a:lnTo>
                    <a:lnTo>
                      <a:pt x="16" y="16"/>
                    </a:lnTo>
                    <a:lnTo>
                      <a:pt x="35" y="32"/>
                    </a:lnTo>
                    <a:lnTo>
                      <a:pt x="59" y="50"/>
                    </a:lnTo>
                    <a:lnTo>
                      <a:pt x="85" y="69"/>
                    </a:lnTo>
                    <a:lnTo>
                      <a:pt x="113" y="87"/>
                    </a:lnTo>
                    <a:lnTo>
                      <a:pt x="141" y="102"/>
                    </a:lnTo>
                    <a:lnTo>
                      <a:pt x="166" y="110"/>
                    </a:lnTo>
                    <a:lnTo>
                      <a:pt x="190" y="115"/>
                    </a:lnTo>
                    <a:lnTo>
                      <a:pt x="215" y="118"/>
                    </a:lnTo>
                    <a:lnTo>
                      <a:pt x="240" y="120"/>
                    </a:lnTo>
                    <a:lnTo>
                      <a:pt x="264" y="119"/>
                    </a:lnTo>
                    <a:lnTo>
                      <a:pt x="287" y="116"/>
                    </a:lnTo>
                    <a:lnTo>
                      <a:pt x="306" y="111"/>
                    </a:lnTo>
                    <a:lnTo>
                      <a:pt x="321" y="102"/>
                    </a:lnTo>
                    <a:lnTo>
                      <a:pt x="331" y="90"/>
                    </a:lnTo>
                    <a:lnTo>
                      <a:pt x="350" y="61"/>
                    </a:lnTo>
                    <a:lnTo>
                      <a:pt x="345" y="62"/>
                    </a:lnTo>
                    <a:lnTo>
                      <a:pt x="331" y="68"/>
                    </a:lnTo>
                    <a:lnTo>
                      <a:pt x="311" y="73"/>
                    </a:lnTo>
                    <a:lnTo>
                      <a:pt x="286" y="78"/>
                    </a:lnTo>
                    <a:lnTo>
                      <a:pt x="255" y="82"/>
                    </a:lnTo>
                    <a:lnTo>
                      <a:pt x="225" y="83"/>
                    </a:lnTo>
                    <a:lnTo>
                      <a:pt x="195" y="79"/>
                    </a:lnTo>
                    <a:lnTo>
                      <a:pt x="167" y="70"/>
                    </a:lnTo>
                    <a:lnTo>
                      <a:pt x="163" y="68"/>
                    </a:lnTo>
                    <a:lnTo>
                      <a:pt x="153" y="60"/>
                    </a:lnTo>
                    <a:lnTo>
                      <a:pt x="137" y="49"/>
                    </a:lnTo>
                    <a:lnTo>
                      <a:pt x="116" y="37"/>
                    </a:lnTo>
                    <a:lnTo>
                      <a:pt x="90" y="25"/>
                    </a:lnTo>
                    <a:lnTo>
                      <a:pt x="61" y="14"/>
                    </a:lnTo>
                    <a:lnTo>
                      <a:pt x="3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168"/>
              <p:cNvSpPr/>
              <p:nvPr/>
            </p:nvSpPr>
            <p:spPr>
              <a:xfrm>
                <a:off x="3611520" y="3499560"/>
                <a:ext cx="236880" cy="355680"/>
              </a:xfrm>
              <a:custGeom>
                <a:avLst/>
                <a:gdLst/>
                <a:ahLst/>
                <a:rect l="l" t="t" r="r" b="b"/>
                <a:pathLst>
                  <a:path w="281" h="918">
                    <a:moveTo>
                      <a:pt x="232" y="13"/>
                    </a:moveTo>
                    <a:lnTo>
                      <a:pt x="227" y="14"/>
                    </a:lnTo>
                    <a:lnTo>
                      <a:pt x="215" y="21"/>
                    </a:lnTo>
                    <a:lnTo>
                      <a:pt x="196" y="31"/>
                    </a:lnTo>
                    <a:lnTo>
                      <a:pt x="173" y="47"/>
                    </a:lnTo>
                    <a:lnTo>
                      <a:pt x="145" y="71"/>
                    </a:lnTo>
                    <a:lnTo>
                      <a:pt x="116" y="101"/>
                    </a:lnTo>
                    <a:lnTo>
                      <a:pt x="87" y="141"/>
                    </a:lnTo>
                    <a:lnTo>
                      <a:pt x="60" y="189"/>
                    </a:lnTo>
                    <a:lnTo>
                      <a:pt x="39" y="236"/>
                    </a:lnTo>
                    <a:lnTo>
                      <a:pt x="22" y="290"/>
                    </a:lnTo>
                    <a:lnTo>
                      <a:pt x="8" y="355"/>
                    </a:lnTo>
                    <a:lnTo>
                      <a:pt x="0" y="431"/>
                    </a:lnTo>
                    <a:lnTo>
                      <a:pt x="0" y="520"/>
                    </a:lnTo>
                    <a:lnTo>
                      <a:pt x="12" y="621"/>
                    </a:lnTo>
                    <a:lnTo>
                      <a:pt x="33" y="737"/>
                    </a:lnTo>
                    <a:lnTo>
                      <a:pt x="70" y="869"/>
                    </a:lnTo>
                    <a:lnTo>
                      <a:pt x="73" y="874"/>
                    </a:lnTo>
                    <a:lnTo>
                      <a:pt x="82" y="885"/>
                    </a:lnTo>
                    <a:lnTo>
                      <a:pt x="95" y="899"/>
                    </a:lnTo>
                    <a:lnTo>
                      <a:pt x="109" y="911"/>
                    </a:lnTo>
                    <a:lnTo>
                      <a:pt x="121" y="918"/>
                    </a:lnTo>
                    <a:lnTo>
                      <a:pt x="131" y="915"/>
                    </a:lnTo>
                    <a:lnTo>
                      <a:pt x="135" y="898"/>
                    </a:lnTo>
                    <a:lnTo>
                      <a:pt x="131" y="862"/>
                    </a:lnTo>
                    <a:lnTo>
                      <a:pt x="126" y="848"/>
                    </a:lnTo>
                    <a:lnTo>
                      <a:pt x="114" y="808"/>
                    </a:lnTo>
                    <a:lnTo>
                      <a:pt x="97" y="748"/>
                    </a:lnTo>
                    <a:lnTo>
                      <a:pt x="84" y="666"/>
                    </a:lnTo>
                    <a:lnTo>
                      <a:pt x="75" y="571"/>
                    </a:lnTo>
                    <a:lnTo>
                      <a:pt x="78" y="462"/>
                    </a:lnTo>
                    <a:lnTo>
                      <a:pt x="96" y="345"/>
                    </a:lnTo>
                    <a:lnTo>
                      <a:pt x="135" y="222"/>
                    </a:lnTo>
                    <a:lnTo>
                      <a:pt x="136" y="218"/>
                    </a:lnTo>
                    <a:lnTo>
                      <a:pt x="143" y="207"/>
                    </a:lnTo>
                    <a:lnTo>
                      <a:pt x="152" y="188"/>
                    </a:lnTo>
                    <a:lnTo>
                      <a:pt x="167" y="166"/>
                    </a:lnTo>
                    <a:lnTo>
                      <a:pt x="186" y="139"/>
                    </a:lnTo>
                    <a:lnTo>
                      <a:pt x="211" y="112"/>
                    </a:lnTo>
                    <a:lnTo>
                      <a:pt x="242" y="83"/>
                    </a:lnTo>
                    <a:lnTo>
                      <a:pt x="280" y="54"/>
                    </a:lnTo>
                    <a:lnTo>
                      <a:pt x="280" y="50"/>
                    </a:lnTo>
                    <a:lnTo>
                      <a:pt x="281" y="41"/>
                    </a:lnTo>
                    <a:lnTo>
                      <a:pt x="281" y="29"/>
                    </a:lnTo>
                    <a:lnTo>
                      <a:pt x="280" y="16"/>
                    </a:lnTo>
                    <a:lnTo>
                      <a:pt x="275" y="5"/>
                    </a:lnTo>
                    <a:lnTo>
                      <a:pt x="266" y="0"/>
                    </a:lnTo>
                    <a:lnTo>
                      <a:pt x="252" y="1"/>
                    </a:lnTo>
                    <a:lnTo>
                      <a:pt x="232" y="13"/>
                    </a:lnTo>
                    <a:close/>
                  </a:path>
                </a:pathLst>
              </a:custGeom>
              <a:solidFill>
                <a:srgbClr val="91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169"/>
              <p:cNvSpPr/>
              <p:nvPr/>
            </p:nvSpPr>
            <p:spPr>
              <a:xfrm>
                <a:off x="4110120" y="4169520"/>
                <a:ext cx="319680" cy="32760"/>
              </a:xfrm>
              <a:custGeom>
                <a:avLst/>
                <a:gdLst/>
                <a:ahLst/>
                <a:rect l="l" t="t" r="r" b="b"/>
                <a:pathLst>
                  <a:path w="379" h="95">
                    <a:moveTo>
                      <a:pt x="0" y="71"/>
                    </a:moveTo>
                    <a:lnTo>
                      <a:pt x="4" y="70"/>
                    </a:lnTo>
                    <a:lnTo>
                      <a:pt x="15" y="66"/>
                    </a:lnTo>
                    <a:lnTo>
                      <a:pt x="31" y="60"/>
                    </a:lnTo>
                    <a:lnTo>
                      <a:pt x="51" y="54"/>
                    </a:lnTo>
                    <a:lnTo>
                      <a:pt x="73" y="46"/>
                    </a:lnTo>
                    <a:lnTo>
                      <a:pt x="94" y="37"/>
                    </a:lnTo>
                    <a:lnTo>
                      <a:pt x="113" y="29"/>
                    </a:lnTo>
                    <a:lnTo>
                      <a:pt x="128" y="19"/>
                    </a:lnTo>
                    <a:lnTo>
                      <a:pt x="142" y="12"/>
                    </a:lnTo>
                    <a:lnTo>
                      <a:pt x="157" y="5"/>
                    </a:lnTo>
                    <a:lnTo>
                      <a:pt x="175" y="1"/>
                    </a:lnTo>
                    <a:lnTo>
                      <a:pt x="195" y="0"/>
                    </a:lnTo>
                    <a:lnTo>
                      <a:pt x="218" y="2"/>
                    </a:lnTo>
                    <a:lnTo>
                      <a:pt x="243" y="9"/>
                    </a:lnTo>
                    <a:lnTo>
                      <a:pt x="272" y="19"/>
                    </a:lnTo>
                    <a:lnTo>
                      <a:pt x="302" y="37"/>
                    </a:lnTo>
                    <a:lnTo>
                      <a:pt x="379" y="95"/>
                    </a:lnTo>
                    <a:lnTo>
                      <a:pt x="376" y="95"/>
                    </a:lnTo>
                    <a:lnTo>
                      <a:pt x="368" y="95"/>
                    </a:lnTo>
                    <a:lnTo>
                      <a:pt x="355" y="93"/>
                    </a:lnTo>
                    <a:lnTo>
                      <a:pt x="340" y="92"/>
                    </a:lnTo>
                    <a:lnTo>
                      <a:pt x="323" y="89"/>
                    </a:lnTo>
                    <a:lnTo>
                      <a:pt x="306" y="85"/>
                    </a:lnTo>
                    <a:lnTo>
                      <a:pt x="291" y="80"/>
                    </a:lnTo>
                    <a:lnTo>
                      <a:pt x="277" y="72"/>
                    </a:lnTo>
                    <a:lnTo>
                      <a:pt x="273" y="70"/>
                    </a:lnTo>
                    <a:lnTo>
                      <a:pt x="262" y="66"/>
                    </a:lnTo>
                    <a:lnTo>
                      <a:pt x="244" y="59"/>
                    </a:lnTo>
                    <a:lnTo>
                      <a:pt x="220" y="52"/>
                    </a:lnTo>
                    <a:lnTo>
                      <a:pt x="191" y="50"/>
                    </a:lnTo>
                    <a:lnTo>
                      <a:pt x="158" y="51"/>
                    </a:lnTo>
                    <a:lnTo>
                      <a:pt x="121" y="58"/>
                    </a:lnTo>
                    <a:lnTo>
                      <a:pt x="79" y="72"/>
                    </a:lnTo>
                    <a:lnTo>
                      <a:pt x="78" y="73"/>
                    </a:lnTo>
                    <a:lnTo>
                      <a:pt x="73" y="75"/>
                    </a:lnTo>
                    <a:lnTo>
                      <a:pt x="65" y="77"/>
                    </a:lnTo>
                    <a:lnTo>
                      <a:pt x="55" y="80"/>
                    </a:lnTo>
                    <a:lnTo>
                      <a:pt x="43" y="81"/>
                    </a:lnTo>
                    <a:lnTo>
                      <a:pt x="29" y="80"/>
                    </a:lnTo>
                    <a:lnTo>
                      <a:pt x="15" y="77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2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170"/>
              <p:cNvSpPr/>
              <p:nvPr/>
            </p:nvSpPr>
            <p:spPr>
              <a:xfrm>
                <a:off x="4642200" y="3405240"/>
                <a:ext cx="319680" cy="90720"/>
              </a:xfrm>
              <a:custGeom>
                <a:avLst/>
                <a:gdLst/>
                <a:ahLst/>
                <a:rect l="l" t="t" r="r" b="b"/>
                <a:pathLst>
                  <a:path w="382" h="221">
                    <a:moveTo>
                      <a:pt x="0" y="0"/>
                    </a:moveTo>
                    <a:lnTo>
                      <a:pt x="4" y="0"/>
                    </a:lnTo>
                    <a:lnTo>
                      <a:pt x="13" y="0"/>
                    </a:lnTo>
                    <a:lnTo>
                      <a:pt x="27" y="1"/>
                    </a:lnTo>
                    <a:lnTo>
                      <a:pt x="46" y="2"/>
                    </a:lnTo>
                    <a:lnTo>
                      <a:pt x="68" y="6"/>
                    </a:lnTo>
                    <a:lnTo>
                      <a:pt x="95" y="10"/>
                    </a:lnTo>
                    <a:lnTo>
                      <a:pt x="124" y="17"/>
                    </a:lnTo>
                    <a:lnTo>
                      <a:pt x="154" y="26"/>
                    </a:lnTo>
                    <a:lnTo>
                      <a:pt x="185" y="38"/>
                    </a:lnTo>
                    <a:lnTo>
                      <a:pt x="217" y="52"/>
                    </a:lnTo>
                    <a:lnTo>
                      <a:pt x="250" y="71"/>
                    </a:lnTo>
                    <a:lnTo>
                      <a:pt x="280" y="92"/>
                    </a:lnTo>
                    <a:lnTo>
                      <a:pt x="310" y="117"/>
                    </a:lnTo>
                    <a:lnTo>
                      <a:pt x="337" y="147"/>
                    </a:lnTo>
                    <a:lnTo>
                      <a:pt x="362" y="182"/>
                    </a:lnTo>
                    <a:lnTo>
                      <a:pt x="382" y="221"/>
                    </a:lnTo>
                    <a:lnTo>
                      <a:pt x="381" y="220"/>
                    </a:lnTo>
                    <a:lnTo>
                      <a:pt x="376" y="216"/>
                    </a:lnTo>
                    <a:lnTo>
                      <a:pt x="368" y="208"/>
                    </a:lnTo>
                    <a:lnTo>
                      <a:pt x="358" y="200"/>
                    </a:lnTo>
                    <a:lnTo>
                      <a:pt x="344" y="188"/>
                    </a:lnTo>
                    <a:lnTo>
                      <a:pt x="328" y="175"/>
                    </a:lnTo>
                    <a:lnTo>
                      <a:pt x="308" y="160"/>
                    </a:lnTo>
                    <a:lnTo>
                      <a:pt x="286" y="145"/>
                    </a:lnTo>
                    <a:lnTo>
                      <a:pt x="260" y="128"/>
                    </a:lnTo>
                    <a:lnTo>
                      <a:pt x="232" y="110"/>
                    </a:lnTo>
                    <a:lnTo>
                      <a:pt x="200" y="92"/>
                    </a:lnTo>
                    <a:lnTo>
                      <a:pt x="166" y="74"/>
                    </a:lnTo>
                    <a:lnTo>
                      <a:pt x="129" y="54"/>
                    </a:lnTo>
                    <a:lnTo>
                      <a:pt x="88" y="35"/>
                    </a:lnTo>
                    <a:lnTo>
                      <a:pt x="46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171"/>
              <p:cNvSpPr/>
              <p:nvPr/>
            </p:nvSpPr>
            <p:spPr>
              <a:xfrm>
                <a:off x="4216320" y="3269880"/>
                <a:ext cx="145440" cy="197640"/>
              </a:xfrm>
              <a:custGeom>
                <a:avLst/>
                <a:gdLst/>
                <a:ahLst/>
                <a:rect l="l" t="t" r="r" b="b"/>
                <a:pathLst>
                  <a:path w="174" h="503">
                    <a:moveTo>
                      <a:pt x="115" y="481"/>
                    </a:moveTo>
                    <a:lnTo>
                      <a:pt x="113" y="468"/>
                    </a:lnTo>
                    <a:lnTo>
                      <a:pt x="108" y="432"/>
                    </a:lnTo>
                    <a:lnTo>
                      <a:pt x="101" y="381"/>
                    </a:lnTo>
                    <a:lnTo>
                      <a:pt x="89" y="318"/>
                    </a:lnTo>
                    <a:lnTo>
                      <a:pt x="73" y="249"/>
                    </a:lnTo>
                    <a:lnTo>
                      <a:pt x="53" y="182"/>
                    </a:lnTo>
                    <a:lnTo>
                      <a:pt x="29" y="120"/>
                    </a:lnTo>
                    <a:lnTo>
                      <a:pt x="0" y="72"/>
                    </a:lnTo>
                    <a:lnTo>
                      <a:pt x="1" y="68"/>
                    </a:lnTo>
                    <a:lnTo>
                      <a:pt x="4" y="58"/>
                    </a:lnTo>
                    <a:lnTo>
                      <a:pt x="9" y="46"/>
                    </a:lnTo>
                    <a:lnTo>
                      <a:pt x="16" y="32"/>
                    </a:lnTo>
                    <a:lnTo>
                      <a:pt x="25" y="18"/>
                    </a:lnTo>
                    <a:lnTo>
                      <a:pt x="38" y="7"/>
                    </a:lnTo>
                    <a:lnTo>
                      <a:pt x="52" y="0"/>
                    </a:lnTo>
                    <a:lnTo>
                      <a:pt x="68" y="2"/>
                    </a:lnTo>
                    <a:lnTo>
                      <a:pt x="113" y="27"/>
                    </a:lnTo>
                    <a:lnTo>
                      <a:pt x="117" y="40"/>
                    </a:lnTo>
                    <a:lnTo>
                      <a:pt x="126" y="75"/>
                    </a:lnTo>
                    <a:lnTo>
                      <a:pt x="137" y="128"/>
                    </a:lnTo>
                    <a:lnTo>
                      <a:pt x="150" y="194"/>
                    </a:lnTo>
                    <a:lnTo>
                      <a:pt x="162" y="266"/>
                    </a:lnTo>
                    <a:lnTo>
                      <a:pt x="171" y="340"/>
                    </a:lnTo>
                    <a:lnTo>
                      <a:pt x="174" y="411"/>
                    </a:lnTo>
                    <a:lnTo>
                      <a:pt x="170" y="473"/>
                    </a:lnTo>
                    <a:lnTo>
                      <a:pt x="169" y="476"/>
                    </a:lnTo>
                    <a:lnTo>
                      <a:pt x="166" y="482"/>
                    </a:lnTo>
                    <a:lnTo>
                      <a:pt x="161" y="490"/>
                    </a:lnTo>
                    <a:lnTo>
                      <a:pt x="156" y="498"/>
                    </a:lnTo>
                    <a:lnTo>
                      <a:pt x="147" y="503"/>
                    </a:lnTo>
                    <a:lnTo>
                      <a:pt x="139" y="503"/>
                    </a:lnTo>
                    <a:lnTo>
                      <a:pt x="127" y="497"/>
                    </a:lnTo>
                    <a:lnTo>
                      <a:pt x="115" y="481"/>
                    </a:lnTo>
                    <a:close/>
                  </a:path>
                </a:pathLst>
              </a:custGeom>
              <a:solidFill>
                <a:srgbClr val="5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172"/>
              <p:cNvSpPr/>
              <p:nvPr/>
            </p:nvSpPr>
            <p:spPr>
              <a:xfrm>
                <a:off x="4276440" y="3278160"/>
                <a:ext cx="70560" cy="132840"/>
              </a:xfrm>
              <a:custGeom>
                <a:avLst/>
                <a:gdLst/>
                <a:ahLst/>
                <a:rect l="l" t="t" r="r" b="b"/>
                <a:pathLst>
                  <a:path w="84" h="339">
                    <a:moveTo>
                      <a:pt x="0" y="0"/>
                    </a:moveTo>
                    <a:lnTo>
                      <a:pt x="5" y="1"/>
                    </a:lnTo>
                    <a:lnTo>
                      <a:pt x="16" y="4"/>
                    </a:lnTo>
                    <a:lnTo>
                      <a:pt x="29" y="11"/>
                    </a:lnTo>
                    <a:lnTo>
                      <a:pt x="36" y="21"/>
                    </a:lnTo>
                    <a:lnTo>
                      <a:pt x="39" y="30"/>
                    </a:lnTo>
                    <a:lnTo>
                      <a:pt x="44" y="54"/>
                    </a:lnTo>
                    <a:lnTo>
                      <a:pt x="51" y="90"/>
                    </a:lnTo>
                    <a:lnTo>
                      <a:pt x="60" y="133"/>
                    </a:lnTo>
                    <a:lnTo>
                      <a:pt x="69" y="183"/>
                    </a:lnTo>
                    <a:lnTo>
                      <a:pt x="77" y="236"/>
                    </a:lnTo>
                    <a:lnTo>
                      <a:pt x="83" y="289"/>
                    </a:lnTo>
                    <a:lnTo>
                      <a:pt x="84" y="336"/>
                    </a:lnTo>
                    <a:lnTo>
                      <a:pt x="83" y="337"/>
                    </a:lnTo>
                    <a:lnTo>
                      <a:pt x="79" y="339"/>
                    </a:lnTo>
                    <a:lnTo>
                      <a:pt x="74" y="336"/>
                    </a:lnTo>
                    <a:lnTo>
                      <a:pt x="69" y="328"/>
                    </a:lnTo>
                    <a:lnTo>
                      <a:pt x="68" y="316"/>
                    </a:lnTo>
                    <a:lnTo>
                      <a:pt x="63" y="285"/>
                    </a:lnTo>
                    <a:lnTo>
                      <a:pt x="56" y="240"/>
                    </a:lnTo>
                    <a:lnTo>
                      <a:pt x="48" y="186"/>
                    </a:lnTo>
                    <a:lnTo>
                      <a:pt x="38" y="129"/>
                    </a:lnTo>
                    <a:lnTo>
                      <a:pt x="26" y="75"/>
                    </a:ln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28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173"/>
              <p:cNvSpPr/>
              <p:nvPr/>
            </p:nvSpPr>
            <p:spPr>
              <a:xfrm>
                <a:off x="4228920" y="3293280"/>
                <a:ext cx="107640" cy="181440"/>
              </a:xfrm>
              <a:custGeom>
                <a:avLst/>
                <a:gdLst/>
                <a:ahLst/>
                <a:rect l="l" t="t" r="r" b="b"/>
                <a:pathLst>
                  <a:path w="127" h="450">
                    <a:moveTo>
                      <a:pt x="22" y="0"/>
                    </a:moveTo>
                    <a:lnTo>
                      <a:pt x="25" y="6"/>
                    </a:lnTo>
                    <a:lnTo>
                      <a:pt x="34" y="26"/>
                    </a:lnTo>
                    <a:lnTo>
                      <a:pt x="48" y="59"/>
                    </a:lnTo>
                    <a:lnTo>
                      <a:pt x="66" y="106"/>
                    </a:lnTo>
                    <a:lnTo>
                      <a:pt x="83" y="170"/>
                    </a:lnTo>
                    <a:lnTo>
                      <a:pt x="100" y="247"/>
                    </a:lnTo>
                    <a:lnTo>
                      <a:pt x="116" y="341"/>
                    </a:lnTo>
                    <a:lnTo>
                      <a:pt x="127" y="450"/>
                    </a:lnTo>
                    <a:lnTo>
                      <a:pt x="124" y="449"/>
                    </a:lnTo>
                    <a:lnTo>
                      <a:pt x="116" y="446"/>
                    </a:lnTo>
                    <a:lnTo>
                      <a:pt x="107" y="440"/>
                    </a:lnTo>
                    <a:lnTo>
                      <a:pt x="101" y="429"/>
                    </a:lnTo>
                    <a:lnTo>
                      <a:pt x="100" y="417"/>
                    </a:lnTo>
                    <a:lnTo>
                      <a:pt x="97" y="384"/>
                    </a:lnTo>
                    <a:lnTo>
                      <a:pt x="92" y="335"/>
                    </a:lnTo>
                    <a:lnTo>
                      <a:pt x="84" y="275"/>
                    </a:lnTo>
                    <a:lnTo>
                      <a:pt x="72" y="208"/>
                    </a:lnTo>
                    <a:lnTo>
                      <a:pt x="53" y="139"/>
                    </a:lnTo>
                    <a:lnTo>
                      <a:pt x="30" y="72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5" y="5"/>
                    </a:lnTo>
                    <a:lnTo>
                      <a:pt x="13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174"/>
              <p:cNvSpPr/>
              <p:nvPr/>
            </p:nvSpPr>
            <p:spPr>
              <a:xfrm>
                <a:off x="3798360" y="3368880"/>
                <a:ext cx="299160" cy="38520"/>
              </a:xfrm>
              <a:custGeom>
                <a:avLst/>
                <a:gdLst/>
                <a:ahLst/>
                <a:rect l="l" t="t" r="r" b="b"/>
                <a:pathLst>
                  <a:path w="356" h="110">
                    <a:moveTo>
                      <a:pt x="4" y="73"/>
                    </a:moveTo>
                    <a:lnTo>
                      <a:pt x="5" y="72"/>
                    </a:lnTo>
                    <a:lnTo>
                      <a:pt x="8" y="68"/>
                    </a:lnTo>
                    <a:lnTo>
                      <a:pt x="14" y="62"/>
                    </a:lnTo>
                    <a:lnTo>
                      <a:pt x="22" y="54"/>
                    </a:lnTo>
                    <a:lnTo>
                      <a:pt x="32" y="46"/>
                    </a:lnTo>
                    <a:lnTo>
                      <a:pt x="44" y="35"/>
                    </a:lnTo>
                    <a:lnTo>
                      <a:pt x="61" y="26"/>
                    </a:lnTo>
                    <a:lnTo>
                      <a:pt x="80" y="18"/>
                    </a:lnTo>
                    <a:lnTo>
                      <a:pt x="101" y="10"/>
                    </a:lnTo>
                    <a:lnTo>
                      <a:pt x="126" y="5"/>
                    </a:lnTo>
                    <a:lnTo>
                      <a:pt x="155" y="1"/>
                    </a:lnTo>
                    <a:lnTo>
                      <a:pt x="188" y="0"/>
                    </a:lnTo>
                    <a:lnTo>
                      <a:pt x="223" y="1"/>
                    </a:lnTo>
                    <a:lnTo>
                      <a:pt x="262" y="8"/>
                    </a:lnTo>
                    <a:lnTo>
                      <a:pt x="306" y="18"/>
                    </a:lnTo>
                    <a:lnTo>
                      <a:pt x="354" y="33"/>
                    </a:lnTo>
                    <a:lnTo>
                      <a:pt x="354" y="34"/>
                    </a:lnTo>
                    <a:lnTo>
                      <a:pt x="356" y="37"/>
                    </a:lnTo>
                    <a:lnTo>
                      <a:pt x="356" y="39"/>
                    </a:lnTo>
                    <a:lnTo>
                      <a:pt x="356" y="43"/>
                    </a:lnTo>
                    <a:lnTo>
                      <a:pt x="352" y="47"/>
                    </a:lnTo>
                    <a:lnTo>
                      <a:pt x="346" y="50"/>
                    </a:lnTo>
                    <a:lnTo>
                      <a:pt x="335" y="52"/>
                    </a:lnTo>
                    <a:lnTo>
                      <a:pt x="322" y="52"/>
                    </a:lnTo>
                    <a:lnTo>
                      <a:pt x="312" y="52"/>
                    </a:lnTo>
                    <a:lnTo>
                      <a:pt x="300" y="51"/>
                    </a:lnTo>
                    <a:lnTo>
                      <a:pt x="286" y="51"/>
                    </a:lnTo>
                    <a:lnTo>
                      <a:pt x="270" y="52"/>
                    </a:lnTo>
                    <a:lnTo>
                      <a:pt x="252" y="52"/>
                    </a:lnTo>
                    <a:lnTo>
                      <a:pt x="235" y="54"/>
                    </a:lnTo>
                    <a:lnTo>
                      <a:pt x="216" y="55"/>
                    </a:lnTo>
                    <a:lnTo>
                      <a:pt x="196" y="58"/>
                    </a:lnTo>
                    <a:lnTo>
                      <a:pt x="175" y="60"/>
                    </a:lnTo>
                    <a:lnTo>
                      <a:pt x="155" y="64"/>
                    </a:lnTo>
                    <a:lnTo>
                      <a:pt x="136" y="68"/>
                    </a:lnTo>
                    <a:lnTo>
                      <a:pt x="118" y="75"/>
                    </a:lnTo>
                    <a:lnTo>
                      <a:pt x="100" y="81"/>
                    </a:lnTo>
                    <a:lnTo>
                      <a:pt x="83" y="88"/>
                    </a:lnTo>
                    <a:lnTo>
                      <a:pt x="68" y="97"/>
                    </a:lnTo>
                    <a:lnTo>
                      <a:pt x="55" y="108"/>
                    </a:lnTo>
                    <a:lnTo>
                      <a:pt x="52" y="109"/>
                    </a:lnTo>
                    <a:lnTo>
                      <a:pt x="43" y="110"/>
                    </a:lnTo>
                    <a:lnTo>
                      <a:pt x="33" y="110"/>
                    </a:lnTo>
                    <a:lnTo>
                      <a:pt x="21" y="110"/>
                    </a:lnTo>
                    <a:lnTo>
                      <a:pt x="10" y="108"/>
                    </a:lnTo>
                    <a:lnTo>
                      <a:pt x="3" y="101"/>
                    </a:lnTo>
                    <a:lnTo>
                      <a:pt x="0" y="90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175"/>
              <p:cNvSpPr/>
              <p:nvPr/>
            </p:nvSpPr>
            <p:spPr>
              <a:xfrm>
                <a:off x="3841200" y="3369960"/>
                <a:ext cx="196200" cy="28080"/>
              </a:xfrm>
              <a:custGeom>
                <a:avLst/>
                <a:gdLst/>
                <a:ahLst/>
                <a:rect l="l" t="t" r="r" b="b"/>
                <a:pathLst>
                  <a:path w="234" h="86">
                    <a:moveTo>
                      <a:pt x="4" y="57"/>
                    </a:moveTo>
                    <a:lnTo>
                      <a:pt x="6" y="56"/>
                    </a:lnTo>
                    <a:lnTo>
                      <a:pt x="7" y="53"/>
                    </a:lnTo>
                    <a:lnTo>
                      <a:pt x="11" y="48"/>
                    </a:lnTo>
                    <a:lnTo>
                      <a:pt x="16" y="42"/>
                    </a:lnTo>
                    <a:lnTo>
                      <a:pt x="22" y="36"/>
                    </a:lnTo>
                    <a:lnTo>
                      <a:pt x="31" y="28"/>
                    </a:lnTo>
                    <a:lnTo>
                      <a:pt x="41" y="21"/>
                    </a:lnTo>
                    <a:lnTo>
                      <a:pt x="53" y="15"/>
                    </a:lnTo>
                    <a:lnTo>
                      <a:pt x="67" y="9"/>
                    </a:lnTo>
                    <a:lnTo>
                      <a:pt x="84" y="4"/>
                    </a:lnTo>
                    <a:lnTo>
                      <a:pt x="103" y="2"/>
                    </a:lnTo>
                    <a:lnTo>
                      <a:pt x="124" y="0"/>
                    </a:lnTo>
                    <a:lnTo>
                      <a:pt x="147" y="2"/>
                    </a:lnTo>
                    <a:lnTo>
                      <a:pt x="173" y="6"/>
                    </a:lnTo>
                    <a:lnTo>
                      <a:pt x="201" y="13"/>
                    </a:lnTo>
                    <a:lnTo>
                      <a:pt x="232" y="24"/>
                    </a:lnTo>
                    <a:lnTo>
                      <a:pt x="234" y="27"/>
                    </a:lnTo>
                    <a:lnTo>
                      <a:pt x="234" y="32"/>
                    </a:lnTo>
                    <a:lnTo>
                      <a:pt x="227" y="38"/>
                    </a:lnTo>
                    <a:lnTo>
                      <a:pt x="211" y="40"/>
                    </a:lnTo>
                    <a:lnTo>
                      <a:pt x="197" y="38"/>
                    </a:lnTo>
                    <a:lnTo>
                      <a:pt x="177" y="40"/>
                    </a:lnTo>
                    <a:lnTo>
                      <a:pt x="154" y="41"/>
                    </a:lnTo>
                    <a:lnTo>
                      <a:pt x="129" y="44"/>
                    </a:lnTo>
                    <a:lnTo>
                      <a:pt x="103" y="49"/>
                    </a:lnTo>
                    <a:lnTo>
                      <a:pt x="77" y="57"/>
                    </a:lnTo>
                    <a:lnTo>
                      <a:pt x="55" y="69"/>
                    </a:lnTo>
                    <a:lnTo>
                      <a:pt x="37" y="83"/>
                    </a:lnTo>
                    <a:lnTo>
                      <a:pt x="34" y="83"/>
                    </a:lnTo>
                    <a:lnTo>
                      <a:pt x="29" y="85"/>
                    </a:lnTo>
                    <a:lnTo>
                      <a:pt x="22" y="86"/>
                    </a:lnTo>
                    <a:lnTo>
                      <a:pt x="14" y="85"/>
                    </a:lnTo>
                    <a:lnTo>
                      <a:pt x="8" y="83"/>
                    </a:lnTo>
                    <a:lnTo>
                      <a:pt x="3" y="78"/>
                    </a:lnTo>
                    <a:lnTo>
                      <a:pt x="0" y="69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176"/>
              <p:cNvSpPr/>
              <p:nvPr/>
            </p:nvSpPr>
            <p:spPr>
              <a:xfrm>
                <a:off x="3896640" y="3378240"/>
                <a:ext cx="90000" cy="1152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2" y="24"/>
                    </a:moveTo>
                    <a:lnTo>
                      <a:pt x="3" y="23"/>
                    </a:lnTo>
                    <a:lnTo>
                      <a:pt x="7" y="17"/>
                    </a:lnTo>
                    <a:lnTo>
                      <a:pt x="14" y="12"/>
                    </a:lnTo>
                    <a:lnTo>
                      <a:pt x="25" y="6"/>
                    </a:lnTo>
                    <a:lnTo>
                      <a:pt x="39" y="2"/>
                    </a:lnTo>
                    <a:lnTo>
                      <a:pt x="58" y="0"/>
                    </a:lnTo>
                    <a:lnTo>
                      <a:pt x="81" y="3"/>
                    </a:lnTo>
                    <a:lnTo>
                      <a:pt x="109" y="11"/>
                    </a:lnTo>
                    <a:lnTo>
                      <a:pt x="109" y="12"/>
                    </a:lnTo>
                    <a:lnTo>
                      <a:pt x="109" y="14"/>
                    </a:lnTo>
                    <a:lnTo>
                      <a:pt x="106" y="16"/>
                    </a:lnTo>
                    <a:lnTo>
                      <a:pt x="99" y="17"/>
                    </a:lnTo>
                    <a:lnTo>
                      <a:pt x="92" y="17"/>
                    </a:lnTo>
                    <a:lnTo>
                      <a:pt x="82" y="17"/>
                    </a:lnTo>
                    <a:lnTo>
                      <a:pt x="72" y="17"/>
                    </a:lnTo>
                    <a:lnTo>
                      <a:pt x="59" y="19"/>
                    </a:lnTo>
                    <a:lnTo>
                      <a:pt x="48" y="21"/>
                    </a:lnTo>
                    <a:lnTo>
                      <a:pt x="36" y="24"/>
                    </a:lnTo>
                    <a:lnTo>
                      <a:pt x="25" y="29"/>
                    </a:lnTo>
                    <a:lnTo>
                      <a:pt x="17" y="36"/>
                    </a:lnTo>
                    <a:lnTo>
                      <a:pt x="13" y="36"/>
                    </a:lnTo>
                    <a:lnTo>
                      <a:pt x="7" y="36"/>
                    </a:lnTo>
                    <a:lnTo>
                      <a:pt x="0" y="33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ffc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177"/>
              <p:cNvSpPr/>
              <p:nvPr/>
            </p:nvSpPr>
            <p:spPr>
              <a:xfrm>
                <a:off x="4100400" y="4042440"/>
                <a:ext cx="92880" cy="85680"/>
              </a:xfrm>
              <a:custGeom>
                <a:avLst/>
                <a:gdLst/>
                <a:ahLst/>
                <a:rect l="l" t="t" r="r" b="b"/>
                <a:pathLst>
                  <a:path w="111" h="217">
                    <a:moveTo>
                      <a:pt x="25" y="22"/>
                    </a:moveTo>
                    <a:lnTo>
                      <a:pt x="20" y="46"/>
                    </a:lnTo>
                    <a:lnTo>
                      <a:pt x="9" y="99"/>
                    </a:lnTo>
                    <a:lnTo>
                      <a:pt x="0" y="157"/>
                    </a:lnTo>
                    <a:lnTo>
                      <a:pt x="0" y="195"/>
                    </a:lnTo>
                    <a:lnTo>
                      <a:pt x="5" y="203"/>
                    </a:lnTo>
                    <a:lnTo>
                      <a:pt x="13" y="209"/>
                    </a:lnTo>
                    <a:lnTo>
                      <a:pt x="22" y="213"/>
                    </a:lnTo>
                    <a:lnTo>
                      <a:pt x="32" y="216"/>
                    </a:lnTo>
                    <a:lnTo>
                      <a:pt x="43" y="217"/>
                    </a:lnTo>
                    <a:lnTo>
                      <a:pt x="53" y="217"/>
                    </a:lnTo>
                    <a:lnTo>
                      <a:pt x="62" y="217"/>
                    </a:lnTo>
                    <a:lnTo>
                      <a:pt x="71" y="217"/>
                    </a:lnTo>
                    <a:lnTo>
                      <a:pt x="86" y="211"/>
                    </a:lnTo>
                    <a:lnTo>
                      <a:pt x="97" y="194"/>
                    </a:lnTo>
                    <a:lnTo>
                      <a:pt x="103" y="174"/>
                    </a:lnTo>
                    <a:lnTo>
                      <a:pt x="107" y="155"/>
                    </a:lnTo>
                    <a:lnTo>
                      <a:pt x="107" y="132"/>
                    </a:lnTo>
                    <a:lnTo>
                      <a:pt x="110" y="99"/>
                    </a:lnTo>
                    <a:lnTo>
                      <a:pt x="111" y="70"/>
                    </a:lnTo>
                    <a:lnTo>
                      <a:pt x="111" y="58"/>
                    </a:lnTo>
                    <a:lnTo>
                      <a:pt x="110" y="54"/>
                    </a:lnTo>
                    <a:lnTo>
                      <a:pt x="106" y="44"/>
                    </a:lnTo>
                    <a:lnTo>
                      <a:pt x="100" y="29"/>
                    </a:lnTo>
                    <a:lnTo>
                      <a:pt x="91" y="15"/>
                    </a:lnTo>
                    <a:lnTo>
                      <a:pt x="79" y="4"/>
                    </a:lnTo>
                    <a:lnTo>
                      <a:pt x="64" y="0"/>
                    </a:lnTo>
                    <a:lnTo>
                      <a:pt x="47" y="5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178"/>
              <p:cNvSpPr/>
              <p:nvPr/>
            </p:nvSpPr>
            <p:spPr>
              <a:xfrm>
                <a:off x="4445640" y="406944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99" h="198">
                    <a:moveTo>
                      <a:pt x="26" y="21"/>
                    </a:moveTo>
                    <a:lnTo>
                      <a:pt x="20" y="30"/>
                    </a:lnTo>
                    <a:lnTo>
                      <a:pt x="14" y="45"/>
                    </a:lnTo>
                    <a:lnTo>
                      <a:pt x="7" y="65"/>
                    </a:lnTo>
                    <a:lnTo>
                      <a:pt x="2" y="88"/>
                    </a:lnTo>
                    <a:lnTo>
                      <a:pt x="0" y="112"/>
                    </a:lnTo>
                    <a:lnTo>
                      <a:pt x="0" y="136"/>
                    </a:lnTo>
                    <a:lnTo>
                      <a:pt x="4" y="158"/>
                    </a:lnTo>
                    <a:lnTo>
                      <a:pt x="12" y="177"/>
                    </a:lnTo>
                    <a:lnTo>
                      <a:pt x="24" y="190"/>
                    </a:lnTo>
                    <a:lnTo>
                      <a:pt x="36" y="196"/>
                    </a:lnTo>
                    <a:lnTo>
                      <a:pt x="49" y="198"/>
                    </a:lnTo>
                    <a:lnTo>
                      <a:pt x="62" y="195"/>
                    </a:lnTo>
                    <a:lnTo>
                      <a:pt x="74" y="190"/>
                    </a:lnTo>
                    <a:lnTo>
                      <a:pt x="83" y="183"/>
                    </a:lnTo>
                    <a:lnTo>
                      <a:pt x="91" y="175"/>
                    </a:lnTo>
                    <a:lnTo>
                      <a:pt x="96" y="169"/>
                    </a:lnTo>
                    <a:lnTo>
                      <a:pt x="99" y="138"/>
                    </a:lnTo>
                    <a:lnTo>
                      <a:pt x="98" y="90"/>
                    </a:lnTo>
                    <a:lnTo>
                      <a:pt x="94" y="40"/>
                    </a:lnTo>
                    <a:lnTo>
                      <a:pt x="85" y="12"/>
                    </a:lnTo>
                    <a:lnTo>
                      <a:pt x="80" y="7"/>
                    </a:lnTo>
                    <a:lnTo>
                      <a:pt x="75" y="4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57" y="2"/>
                    </a:lnTo>
                    <a:lnTo>
                      <a:pt x="48" y="5"/>
                    </a:lnTo>
                    <a:lnTo>
                      <a:pt x="38" y="12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179"/>
              <p:cNvSpPr/>
              <p:nvPr/>
            </p:nvSpPr>
            <p:spPr>
              <a:xfrm>
                <a:off x="4697640" y="3640680"/>
                <a:ext cx="82800" cy="51480"/>
              </a:xfrm>
              <a:custGeom>
                <a:avLst/>
                <a:gdLst/>
                <a:ahLst/>
                <a:rect l="l" t="t" r="r" b="b"/>
                <a:pathLst>
                  <a:path w="100" h="132">
                    <a:moveTo>
                      <a:pt x="71" y="6"/>
                    </a:moveTo>
                    <a:lnTo>
                      <a:pt x="69" y="4"/>
                    </a:lnTo>
                    <a:lnTo>
                      <a:pt x="63" y="3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4" y="2"/>
                    </a:lnTo>
                    <a:lnTo>
                      <a:pt x="24" y="4"/>
                    </a:lnTo>
                    <a:lnTo>
                      <a:pt x="15" y="11"/>
                    </a:lnTo>
                    <a:lnTo>
                      <a:pt x="10" y="23"/>
                    </a:lnTo>
                    <a:lnTo>
                      <a:pt x="3" y="48"/>
                    </a:lnTo>
                    <a:lnTo>
                      <a:pt x="0" y="69"/>
                    </a:lnTo>
                    <a:lnTo>
                      <a:pt x="0" y="87"/>
                    </a:lnTo>
                    <a:lnTo>
                      <a:pt x="1" y="100"/>
                    </a:lnTo>
                    <a:lnTo>
                      <a:pt x="3" y="107"/>
                    </a:lnTo>
                    <a:lnTo>
                      <a:pt x="8" y="112"/>
                    </a:lnTo>
                    <a:lnTo>
                      <a:pt x="15" y="119"/>
                    </a:lnTo>
                    <a:lnTo>
                      <a:pt x="22" y="124"/>
                    </a:lnTo>
                    <a:lnTo>
                      <a:pt x="31" y="129"/>
                    </a:lnTo>
                    <a:lnTo>
                      <a:pt x="39" y="132"/>
                    </a:lnTo>
                    <a:lnTo>
                      <a:pt x="48" y="132"/>
                    </a:lnTo>
                    <a:lnTo>
                      <a:pt x="54" y="131"/>
                    </a:lnTo>
                    <a:lnTo>
                      <a:pt x="60" y="127"/>
                    </a:lnTo>
                    <a:lnTo>
                      <a:pt x="68" y="122"/>
                    </a:lnTo>
                    <a:lnTo>
                      <a:pt x="75" y="114"/>
                    </a:lnTo>
                    <a:lnTo>
                      <a:pt x="82" y="106"/>
                    </a:lnTo>
                    <a:lnTo>
                      <a:pt x="88" y="98"/>
                    </a:lnTo>
                    <a:lnTo>
                      <a:pt x="93" y="89"/>
                    </a:lnTo>
                    <a:lnTo>
                      <a:pt x="97" y="79"/>
                    </a:lnTo>
                    <a:lnTo>
                      <a:pt x="98" y="72"/>
                    </a:lnTo>
                    <a:lnTo>
                      <a:pt x="100" y="53"/>
                    </a:lnTo>
                    <a:lnTo>
                      <a:pt x="99" y="32"/>
                    </a:lnTo>
                    <a:lnTo>
                      <a:pt x="90" y="15"/>
                    </a:lnTo>
                    <a:lnTo>
                      <a:pt x="71" y="6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180"/>
              <p:cNvSpPr/>
              <p:nvPr/>
            </p:nvSpPr>
            <p:spPr>
              <a:xfrm>
                <a:off x="4763160" y="3421800"/>
                <a:ext cx="143280" cy="42120"/>
              </a:xfrm>
              <a:custGeom>
                <a:avLst/>
                <a:gdLst/>
                <a:ahLst/>
                <a:rect l="l" t="t" r="r" b="b"/>
                <a:pathLst>
                  <a:path w="172" h="107">
                    <a:moveTo>
                      <a:pt x="0" y="0"/>
                    </a:moveTo>
                    <a:lnTo>
                      <a:pt x="5" y="2"/>
                    </a:lnTo>
                    <a:lnTo>
                      <a:pt x="19" y="8"/>
                    </a:lnTo>
                    <a:lnTo>
                      <a:pt x="39" y="17"/>
                    </a:lnTo>
                    <a:lnTo>
                      <a:pt x="65" y="29"/>
                    </a:lnTo>
                    <a:lnTo>
                      <a:pt x="93" y="45"/>
                    </a:lnTo>
                    <a:lnTo>
                      <a:pt x="122" y="63"/>
                    </a:lnTo>
                    <a:lnTo>
                      <a:pt x="148" y="83"/>
                    </a:lnTo>
                    <a:lnTo>
                      <a:pt x="172" y="107"/>
                    </a:lnTo>
                    <a:lnTo>
                      <a:pt x="171" y="104"/>
                    </a:lnTo>
                    <a:lnTo>
                      <a:pt x="165" y="95"/>
                    </a:lnTo>
                    <a:lnTo>
                      <a:pt x="153" y="82"/>
                    </a:lnTo>
                    <a:lnTo>
                      <a:pt x="137" y="66"/>
                    </a:lnTo>
                    <a:lnTo>
                      <a:pt x="114" y="49"/>
                    </a:lnTo>
                    <a:lnTo>
                      <a:pt x="84" y="32"/>
                    </a:lnTo>
                    <a:lnTo>
                      <a:pt x="4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6" name="TextBox 323"/>
            <p:cNvSpPr/>
            <p:nvPr/>
          </p:nvSpPr>
          <p:spPr>
            <a:xfrm>
              <a:off x="3514680" y="3429000"/>
              <a:ext cx="14828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7" name="组合 321"/>
          <p:cNvGrpSpPr/>
          <p:nvPr/>
        </p:nvGrpSpPr>
        <p:grpSpPr>
          <a:xfrm>
            <a:off x="1619280" y="2679840"/>
            <a:ext cx="1885680" cy="1028520"/>
            <a:chOff x="1619280" y="2679840"/>
            <a:chExt cx="1885680" cy="1028520"/>
          </a:xfrm>
        </p:grpSpPr>
        <p:grpSp>
          <p:nvGrpSpPr>
            <p:cNvPr id="628" name="Group 152"/>
            <p:cNvGrpSpPr/>
            <p:nvPr/>
          </p:nvGrpSpPr>
          <p:grpSpPr>
            <a:xfrm>
              <a:off x="1619280" y="2679840"/>
              <a:ext cx="1885680" cy="1028520"/>
              <a:chOff x="1619280" y="2679840"/>
              <a:chExt cx="1885680" cy="1028520"/>
            </a:xfrm>
          </p:grpSpPr>
          <p:sp>
            <p:nvSpPr>
              <p:cNvPr id="629" name="AutoShape 151"/>
              <p:cNvSpPr/>
              <p:nvPr/>
            </p:nvSpPr>
            <p:spPr>
              <a:xfrm>
                <a:off x="1619280" y="2679840"/>
                <a:ext cx="1885680" cy="102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153"/>
              <p:cNvSpPr/>
              <p:nvPr/>
            </p:nvSpPr>
            <p:spPr>
              <a:xfrm>
                <a:off x="2690280" y="370224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4"/>
                    </a:moveTo>
                    <a:lnTo>
                      <a:pt x="18" y="4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154"/>
              <p:cNvSpPr/>
              <p:nvPr/>
            </p:nvSpPr>
            <p:spPr>
              <a:xfrm>
                <a:off x="1714680" y="2679840"/>
                <a:ext cx="1765800" cy="1027080"/>
              </a:xfrm>
              <a:custGeom>
                <a:avLst/>
                <a:gdLst/>
                <a:ahLst/>
                <a:rect l="l" t="t" r="r" b="b"/>
                <a:pathLst>
                  <a:path w="2166" h="2610">
                    <a:moveTo>
                      <a:pt x="1719" y="348"/>
                    </a:moveTo>
                    <a:lnTo>
                      <a:pt x="1679" y="335"/>
                    </a:lnTo>
                    <a:lnTo>
                      <a:pt x="1643" y="323"/>
                    </a:lnTo>
                    <a:lnTo>
                      <a:pt x="1609" y="313"/>
                    </a:lnTo>
                    <a:lnTo>
                      <a:pt x="1576" y="306"/>
                    </a:lnTo>
                    <a:lnTo>
                      <a:pt x="1545" y="300"/>
                    </a:lnTo>
                    <a:lnTo>
                      <a:pt x="1514" y="296"/>
                    </a:lnTo>
                    <a:lnTo>
                      <a:pt x="1487" y="294"/>
                    </a:lnTo>
                    <a:lnTo>
                      <a:pt x="1460" y="292"/>
                    </a:lnTo>
                    <a:lnTo>
                      <a:pt x="1434" y="292"/>
                    </a:lnTo>
                    <a:lnTo>
                      <a:pt x="1409" y="292"/>
                    </a:lnTo>
                    <a:lnTo>
                      <a:pt x="1385" y="295"/>
                    </a:lnTo>
                    <a:lnTo>
                      <a:pt x="1362" y="298"/>
                    </a:lnTo>
                    <a:lnTo>
                      <a:pt x="1338" y="300"/>
                    </a:lnTo>
                    <a:lnTo>
                      <a:pt x="1317" y="304"/>
                    </a:lnTo>
                    <a:lnTo>
                      <a:pt x="1294" y="308"/>
                    </a:lnTo>
                    <a:lnTo>
                      <a:pt x="1273" y="312"/>
                    </a:lnTo>
                    <a:lnTo>
                      <a:pt x="1271" y="312"/>
                    </a:lnTo>
                    <a:lnTo>
                      <a:pt x="1269" y="312"/>
                    </a:lnTo>
                    <a:lnTo>
                      <a:pt x="1265" y="313"/>
                    </a:lnTo>
                    <a:lnTo>
                      <a:pt x="1260" y="313"/>
                    </a:lnTo>
                    <a:lnTo>
                      <a:pt x="1254" y="277"/>
                    </a:lnTo>
                    <a:lnTo>
                      <a:pt x="1246" y="237"/>
                    </a:lnTo>
                    <a:lnTo>
                      <a:pt x="1239" y="194"/>
                    </a:lnTo>
                    <a:lnTo>
                      <a:pt x="1232" y="153"/>
                    </a:lnTo>
                    <a:lnTo>
                      <a:pt x="1225" y="116"/>
                    </a:lnTo>
                    <a:lnTo>
                      <a:pt x="1220" y="87"/>
                    </a:lnTo>
                    <a:lnTo>
                      <a:pt x="1216" y="67"/>
                    </a:lnTo>
                    <a:lnTo>
                      <a:pt x="1215" y="59"/>
                    </a:lnTo>
                    <a:lnTo>
                      <a:pt x="1162" y="40"/>
                    </a:lnTo>
                    <a:lnTo>
                      <a:pt x="1106" y="9"/>
                    </a:lnTo>
                    <a:lnTo>
                      <a:pt x="1095" y="7"/>
                    </a:lnTo>
                    <a:lnTo>
                      <a:pt x="1090" y="5"/>
                    </a:lnTo>
                    <a:lnTo>
                      <a:pt x="1085" y="4"/>
                    </a:lnTo>
                    <a:lnTo>
                      <a:pt x="1080" y="3"/>
                    </a:lnTo>
                    <a:lnTo>
                      <a:pt x="1075" y="1"/>
                    </a:lnTo>
                    <a:lnTo>
                      <a:pt x="1068" y="1"/>
                    </a:lnTo>
                    <a:lnTo>
                      <a:pt x="1063" y="0"/>
                    </a:lnTo>
                    <a:lnTo>
                      <a:pt x="1058" y="0"/>
                    </a:lnTo>
                    <a:lnTo>
                      <a:pt x="1053" y="0"/>
                    </a:lnTo>
                    <a:lnTo>
                      <a:pt x="1048" y="0"/>
                    </a:lnTo>
                    <a:lnTo>
                      <a:pt x="1043" y="0"/>
                    </a:lnTo>
                    <a:lnTo>
                      <a:pt x="1038" y="1"/>
                    </a:lnTo>
                    <a:lnTo>
                      <a:pt x="1034" y="1"/>
                    </a:lnTo>
                    <a:lnTo>
                      <a:pt x="1029" y="3"/>
                    </a:lnTo>
                    <a:lnTo>
                      <a:pt x="1024" y="4"/>
                    </a:lnTo>
                    <a:lnTo>
                      <a:pt x="1019" y="5"/>
                    </a:lnTo>
                    <a:lnTo>
                      <a:pt x="1014" y="7"/>
                    </a:lnTo>
                    <a:lnTo>
                      <a:pt x="994" y="14"/>
                    </a:lnTo>
                    <a:lnTo>
                      <a:pt x="974" y="26"/>
                    </a:lnTo>
                    <a:lnTo>
                      <a:pt x="955" y="42"/>
                    </a:lnTo>
                    <a:lnTo>
                      <a:pt x="939" y="61"/>
                    </a:lnTo>
                    <a:lnTo>
                      <a:pt x="924" y="82"/>
                    </a:lnTo>
                    <a:lnTo>
                      <a:pt x="911" y="107"/>
                    </a:lnTo>
                    <a:lnTo>
                      <a:pt x="900" y="133"/>
                    </a:lnTo>
                    <a:lnTo>
                      <a:pt x="891" y="163"/>
                    </a:lnTo>
                    <a:lnTo>
                      <a:pt x="877" y="228"/>
                    </a:lnTo>
                    <a:lnTo>
                      <a:pt x="878" y="230"/>
                    </a:lnTo>
                    <a:lnTo>
                      <a:pt x="883" y="236"/>
                    </a:lnTo>
                    <a:lnTo>
                      <a:pt x="888" y="244"/>
                    </a:lnTo>
                    <a:lnTo>
                      <a:pt x="896" y="253"/>
                    </a:lnTo>
                    <a:lnTo>
                      <a:pt x="872" y="248"/>
                    </a:lnTo>
                    <a:lnTo>
                      <a:pt x="848" y="242"/>
                    </a:lnTo>
                    <a:lnTo>
                      <a:pt x="823" y="237"/>
                    </a:lnTo>
                    <a:lnTo>
                      <a:pt x="796" y="233"/>
                    </a:lnTo>
                    <a:lnTo>
                      <a:pt x="770" y="230"/>
                    </a:lnTo>
                    <a:lnTo>
                      <a:pt x="743" y="229"/>
                    </a:lnTo>
                    <a:lnTo>
                      <a:pt x="716" y="228"/>
                    </a:lnTo>
                    <a:lnTo>
                      <a:pt x="688" y="228"/>
                    </a:lnTo>
                    <a:lnTo>
                      <a:pt x="660" y="229"/>
                    </a:lnTo>
                    <a:lnTo>
                      <a:pt x="633" y="230"/>
                    </a:lnTo>
                    <a:lnTo>
                      <a:pt x="604" y="234"/>
                    </a:lnTo>
                    <a:lnTo>
                      <a:pt x="575" y="240"/>
                    </a:lnTo>
                    <a:lnTo>
                      <a:pt x="547" y="245"/>
                    </a:lnTo>
                    <a:lnTo>
                      <a:pt x="518" y="253"/>
                    </a:lnTo>
                    <a:lnTo>
                      <a:pt x="489" y="262"/>
                    </a:lnTo>
                    <a:lnTo>
                      <a:pt x="461" y="271"/>
                    </a:lnTo>
                    <a:lnTo>
                      <a:pt x="432" y="283"/>
                    </a:lnTo>
                    <a:lnTo>
                      <a:pt x="405" y="298"/>
                    </a:lnTo>
                    <a:lnTo>
                      <a:pt x="377" y="312"/>
                    </a:lnTo>
                    <a:lnTo>
                      <a:pt x="350" y="329"/>
                    </a:lnTo>
                    <a:lnTo>
                      <a:pt x="324" y="349"/>
                    </a:lnTo>
                    <a:lnTo>
                      <a:pt x="297" y="369"/>
                    </a:lnTo>
                    <a:lnTo>
                      <a:pt x="271" y="391"/>
                    </a:lnTo>
                    <a:lnTo>
                      <a:pt x="246" y="416"/>
                    </a:lnTo>
                    <a:lnTo>
                      <a:pt x="222" y="443"/>
                    </a:lnTo>
                    <a:lnTo>
                      <a:pt x="198" y="471"/>
                    </a:lnTo>
                    <a:lnTo>
                      <a:pt x="175" y="503"/>
                    </a:lnTo>
                    <a:lnTo>
                      <a:pt x="154" y="536"/>
                    </a:lnTo>
                    <a:lnTo>
                      <a:pt x="134" y="572"/>
                    </a:lnTo>
                    <a:lnTo>
                      <a:pt x="114" y="610"/>
                    </a:lnTo>
                    <a:lnTo>
                      <a:pt x="95" y="649"/>
                    </a:lnTo>
                    <a:lnTo>
                      <a:pt x="77" y="693"/>
                    </a:lnTo>
                    <a:lnTo>
                      <a:pt x="73" y="701"/>
                    </a:lnTo>
                    <a:lnTo>
                      <a:pt x="67" y="718"/>
                    </a:lnTo>
                    <a:lnTo>
                      <a:pt x="58" y="744"/>
                    </a:lnTo>
                    <a:lnTo>
                      <a:pt x="48" y="778"/>
                    </a:lnTo>
                    <a:lnTo>
                      <a:pt x="37" y="822"/>
                    </a:lnTo>
                    <a:lnTo>
                      <a:pt x="25" y="872"/>
                    </a:lnTo>
                    <a:lnTo>
                      <a:pt x="15" y="931"/>
                    </a:lnTo>
                    <a:lnTo>
                      <a:pt x="6" y="996"/>
                    </a:lnTo>
                    <a:lnTo>
                      <a:pt x="1" y="1068"/>
                    </a:lnTo>
                    <a:lnTo>
                      <a:pt x="0" y="1146"/>
                    </a:lnTo>
                    <a:lnTo>
                      <a:pt x="3" y="1230"/>
                    </a:lnTo>
                    <a:lnTo>
                      <a:pt x="10" y="1320"/>
                    </a:lnTo>
                    <a:lnTo>
                      <a:pt x="25" y="1413"/>
                    </a:lnTo>
                    <a:lnTo>
                      <a:pt x="47" y="1512"/>
                    </a:lnTo>
                    <a:lnTo>
                      <a:pt x="77" y="1615"/>
                    </a:lnTo>
                    <a:lnTo>
                      <a:pt x="116" y="1721"/>
                    </a:lnTo>
                    <a:lnTo>
                      <a:pt x="149" y="1798"/>
                    </a:lnTo>
                    <a:lnTo>
                      <a:pt x="183" y="1873"/>
                    </a:lnTo>
                    <a:lnTo>
                      <a:pt x="219" y="1944"/>
                    </a:lnTo>
                    <a:lnTo>
                      <a:pt x="258" y="2014"/>
                    </a:lnTo>
                    <a:lnTo>
                      <a:pt x="296" y="2081"/>
                    </a:lnTo>
                    <a:lnTo>
                      <a:pt x="335" y="2144"/>
                    </a:lnTo>
                    <a:lnTo>
                      <a:pt x="373" y="2203"/>
                    </a:lnTo>
                    <a:lnTo>
                      <a:pt x="410" y="2259"/>
                    </a:lnTo>
                    <a:lnTo>
                      <a:pt x="445" y="2310"/>
                    </a:lnTo>
                    <a:lnTo>
                      <a:pt x="478" y="2355"/>
                    </a:lnTo>
                    <a:lnTo>
                      <a:pt x="507" y="2396"/>
                    </a:lnTo>
                    <a:lnTo>
                      <a:pt x="533" y="2430"/>
                    </a:lnTo>
                    <a:lnTo>
                      <a:pt x="554" y="2458"/>
                    </a:lnTo>
                    <a:lnTo>
                      <a:pt x="572" y="2479"/>
                    </a:lnTo>
                    <a:lnTo>
                      <a:pt x="583" y="2493"/>
                    </a:lnTo>
                    <a:lnTo>
                      <a:pt x="588" y="2500"/>
                    </a:lnTo>
                    <a:lnTo>
                      <a:pt x="594" y="2505"/>
                    </a:lnTo>
                    <a:lnTo>
                      <a:pt x="600" y="2510"/>
                    </a:lnTo>
                    <a:lnTo>
                      <a:pt x="616" y="2523"/>
                    </a:lnTo>
                    <a:lnTo>
                      <a:pt x="635" y="2537"/>
                    </a:lnTo>
                    <a:lnTo>
                      <a:pt x="657" y="2550"/>
                    </a:lnTo>
                    <a:lnTo>
                      <a:pt x="679" y="2563"/>
                    </a:lnTo>
                    <a:lnTo>
                      <a:pt x="704" y="2575"/>
                    </a:lnTo>
                    <a:lnTo>
                      <a:pt x="731" y="2585"/>
                    </a:lnTo>
                    <a:lnTo>
                      <a:pt x="760" y="2593"/>
                    </a:lnTo>
                    <a:lnTo>
                      <a:pt x="789" y="2600"/>
                    </a:lnTo>
                    <a:lnTo>
                      <a:pt x="806" y="2602"/>
                    </a:lnTo>
                    <a:lnTo>
                      <a:pt x="825" y="2605"/>
                    </a:lnTo>
                    <a:lnTo>
                      <a:pt x="843" y="2605"/>
                    </a:lnTo>
                    <a:lnTo>
                      <a:pt x="862" y="2605"/>
                    </a:lnTo>
                    <a:lnTo>
                      <a:pt x="881" y="2602"/>
                    </a:lnTo>
                    <a:lnTo>
                      <a:pt x="900" y="2600"/>
                    </a:lnTo>
                    <a:lnTo>
                      <a:pt x="919" y="2595"/>
                    </a:lnTo>
                    <a:lnTo>
                      <a:pt x="937" y="2588"/>
                    </a:lnTo>
                    <a:lnTo>
                      <a:pt x="954" y="2580"/>
                    </a:lnTo>
                    <a:lnTo>
                      <a:pt x="912" y="2589"/>
                    </a:lnTo>
                    <a:lnTo>
                      <a:pt x="999" y="2570"/>
                    </a:lnTo>
                    <a:lnTo>
                      <a:pt x="1008" y="2567"/>
                    </a:lnTo>
                    <a:lnTo>
                      <a:pt x="1017" y="2564"/>
                    </a:lnTo>
                    <a:lnTo>
                      <a:pt x="1024" y="2562"/>
                    </a:lnTo>
                    <a:lnTo>
                      <a:pt x="1033" y="2560"/>
                    </a:lnTo>
                    <a:lnTo>
                      <a:pt x="1042" y="2559"/>
                    </a:lnTo>
                    <a:lnTo>
                      <a:pt x="1051" y="2558"/>
                    </a:lnTo>
                    <a:lnTo>
                      <a:pt x="1061" y="2558"/>
                    </a:lnTo>
                    <a:lnTo>
                      <a:pt x="1070" y="2559"/>
                    </a:lnTo>
                    <a:lnTo>
                      <a:pt x="1075" y="2560"/>
                    </a:lnTo>
                    <a:lnTo>
                      <a:pt x="1087" y="2564"/>
                    </a:lnTo>
                    <a:lnTo>
                      <a:pt x="1100" y="2568"/>
                    </a:lnTo>
                    <a:lnTo>
                      <a:pt x="1105" y="2570"/>
                    </a:lnTo>
                    <a:lnTo>
                      <a:pt x="1096" y="2563"/>
                    </a:lnTo>
                    <a:lnTo>
                      <a:pt x="1106" y="2570"/>
                    </a:lnTo>
                    <a:lnTo>
                      <a:pt x="1119" y="2576"/>
                    </a:lnTo>
                    <a:lnTo>
                      <a:pt x="1131" y="2581"/>
                    </a:lnTo>
                    <a:lnTo>
                      <a:pt x="1145" y="2587"/>
                    </a:lnTo>
                    <a:lnTo>
                      <a:pt x="1160" y="2591"/>
                    </a:lnTo>
                    <a:lnTo>
                      <a:pt x="1176" y="2595"/>
                    </a:lnTo>
                    <a:lnTo>
                      <a:pt x="1193" y="2597"/>
                    </a:lnTo>
                    <a:lnTo>
                      <a:pt x="1211" y="2600"/>
                    </a:lnTo>
                    <a:lnTo>
                      <a:pt x="1231" y="2604"/>
                    </a:lnTo>
                    <a:lnTo>
                      <a:pt x="1250" y="2608"/>
                    </a:lnTo>
                    <a:lnTo>
                      <a:pt x="1268" y="2609"/>
                    </a:lnTo>
                    <a:lnTo>
                      <a:pt x="1286" y="2610"/>
                    </a:lnTo>
                    <a:lnTo>
                      <a:pt x="1303" y="2610"/>
                    </a:lnTo>
                    <a:lnTo>
                      <a:pt x="1319" y="2610"/>
                    </a:lnTo>
                    <a:lnTo>
                      <a:pt x="1336" y="2609"/>
                    </a:lnTo>
                    <a:lnTo>
                      <a:pt x="1351" y="2608"/>
                    </a:lnTo>
                    <a:lnTo>
                      <a:pt x="1372" y="2604"/>
                    </a:lnTo>
                    <a:lnTo>
                      <a:pt x="1391" y="2600"/>
                    </a:lnTo>
                    <a:lnTo>
                      <a:pt x="1409" y="2596"/>
                    </a:lnTo>
                    <a:lnTo>
                      <a:pt x="1422" y="2591"/>
                    </a:lnTo>
                    <a:lnTo>
                      <a:pt x="1435" y="2585"/>
                    </a:lnTo>
                    <a:lnTo>
                      <a:pt x="1445" y="2581"/>
                    </a:lnTo>
                    <a:lnTo>
                      <a:pt x="1453" y="2579"/>
                    </a:lnTo>
                    <a:lnTo>
                      <a:pt x="1456" y="2576"/>
                    </a:lnTo>
                    <a:lnTo>
                      <a:pt x="1519" y="2530"/>
                    </a:lnTo>
                    <a:lnTo>
                      <a:pt x="1581" y="2476"/>
                    </a:lnTo>
                    <a:lnTo>
                      <a:pt x="1642" y="2415"/>
                    </a:lnTo>
                    <a:lnTo>
                      <a:pt x="1701" y="2350"/>
                    </a:lnTo>
                    <a:lnTo>
                      <a:pt x="1759" y="2278"/>
                    </a:lnTo>
                    <a:lnTo>
                      <a:pt x="1813" y="2203"/>
                    </a:lnTo>
                    <a:lnTo>
                      <a:pt x="1866" y="2124"/>
                    </a:lnTo>
                    <a:lnTo>
                      <a:pt x="1915" y="2040"/>
                    </a:lnTo>
                    <a:lnTo>
                      <a:pt x="1962" y="1954"/>
                    </a:lnTo>
                    <a:lnTo>
                      <a:pt x="2005" y="1868"/>
                    </a:lnTo>
                    <a:lnTo>
                      <a:pt x="2042" y="1778"/>
                    </a:lnTo>
                    <a:lnTo>
                      <a:pt x="2076" y="1688"/>
                    </a:lnTo>
                    <a:lnTo>
                      <a:pt x="2105" y="1598"/>
                    </a:lnTo>
                    <a:lnTo>
                      <a:pt x="2128" y="1508"/>
                    </a:lnTo>
                    <a:lnTo>
                      <a:pt x="2147" y="1418"/>
                    </a:lnTo>
                    <a:lnTo>
                      <a:pt x="2158" y="1332"/>
                    </a:lnTo>
                    <a:lnTo>
                      <a:pt x="2163" y="1262"/>
                    </a:lnTo>
                    <a:lnTo>
                      <a:pt x="2166" y="1189"/>
                    </a:lnTo>
                    <a:lnTo>
                      <a:pt x="2165" y="1117"/>
                    </a:lnTo>
                    <a:lnTo>
                      <a:pt x="2159" y="1043"/>
                    </a:lnTo>
                    <a:lnTo>
                      <a:pt x="2151" y="969"/>
                    </a:lnTo>
                    <a:lnTo>
                      <a:pt x="2138" y="897"/>
                    </a:lnTo>
                    <a:lnTo>
                      <a:pt x="2120" y="826"/>
                    </a:lnTo>
                    <a:lnTo>
                      <a:pt x="2098" y="756"/>
                    </a:lnTo>
                    <a:lnTo>
                      <a:pt x="2070" y="689"/>
                    </a:lnTo>
                    <a:lnTo>
                      <a:pt x="2037" y="626"/>
                    </a:lnTo>
                    <a:lnTo>
                      <a:pt x="1999" y="566"/>
                    </a:lnTo>
                    <a:lnTo>
                      <a:pt x="1955" y="511"/>
                    </a:lnTo>
                    <a:lnTo>
                      <a:pt x="1906" y="461"/>
                    </a:lnTo>
                    <a:lnTo>
                      <a:pt x="1850" y="416"/>
                    </a:lnTo>
                    <a:lnTo>
                      <a:pt x="1788" y="379"/>
                    </a:lnTo>
                    <a:lnTo>
                      <a:pt x="1719" y="3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155"/>
              <p:cNvSpPr/>
              <p:nvPr/>
            </p:nvSpPr>
            <p:spPr>
              <a:xfrm>
                <a:off x="1805040" y="2818800"/>
                <a:ext cx="1592280" cy="855000"/>
              </a:xfrm>
              <a:custGeom>
                <a:avLst/>
                <a:gdLst/>
                <a:ahLst/>
                <a:rect l="l" t="t" r="r" b="b"/>
                <a:pathLst>
                  <a:path w="1953" h="2172">
                    <a:moveTo>
                      <a:pt x="102" y="1337"/>
                    </a:moveTo>
                    <a:lnTo>
                      <a:pt x="67" y="1237"/>
                    </a:lnTo>
                    <a:lnTo>
                      <a:pt x="41" y="1141"/>
                    </a:lnTo>
                    <a:lnTo>
                      <a:pt x="20" y="1049"/>
                    </a:lnTo>
                    <a:lnTo>
                      <a:pt x="8" y="962"/>
                    </a:lnTo>
                    <a:lnTo>
                      <a:pt x="2" y="879"/>
                    </a:lnTo>
                    <a:lnTo>
                      <a:pt x="0" y="801"/>
                    </a:lnTo>
                    <a:lnTo>
                      <a:pt x="2" y="730"/>
                    </a:lnTo>
                    <a:lnTo>
                      <a:pt x="8" y="663"/>
                    </a:lnTo>
                    <a:lnTo>
                      <a:pt x="15" y="603"/>
                    </a:lnTo>
                    <a:lnTo>
                      <a:pt x="25" y="551"/>
                    </a:lnTo>
                    <a:lnTo>
                      <a:pt x="37" y="505"/>
                    </a:lnTo>
                    <a:lnTo>
                      <a:pt x="47" y="467"/>
                    </a:lnTo>
                    <a:lnTo>
                      <a:pt x="57" y="436"/>
                    </a:lnTo>
                    <a:lnTo>
                      <a:pt x="65" y="414"/>
                    </a:lnTo>
                    <a:lnTo>
                      <a:pt x="70" y="401"/>
                    </a:lnTo>
                    <a:lnTo>
                      <a:pt x="72" y="395"/>
                    </a:lnTo>
                    <a:lnTo>
                      <a:pt x="120" y="293"/>
                    </a:lnTo>
                    <a:lnTo>
                      <a:pt x="174" y="210"/>
                    </a:lnTo>
                    <a:lnTo>
                      <a:pt x="233" y="143"/>
                    </a:lnTo>
                    <a:lnTo>
                      <a:pt x="295" y="90"/>
                    </a:lnTo>
                    <a:lnTo>
                      <a:pt x="359" y="52"/>
                    </a:lnTo>
                    <a:lnTo>
                      <a:pt x="426" y="25"/>
                    </a:lnTo>
                    <a:lnTo>
                      <a:pt x="492" y="10"/>
                    </a:lnTo>
                    <a:lnTo>
                      <a:pt x="556" y="2"/>
                    </a:lnTo>
                    <a:lnTo>
                      <a:pt x="616" y="0"/>
                    </a:lnTo>
                    <a:lnTo>
                      <a:pt x="674" y="6"/>
                    </a:lnTo>
                    <a:lnTo>
                      <a:pt x="726" y="13"/>
                    </a:lnTo>
                    <a:lnTo>
                      <a:pt x="771" y="24"/>
                    </a:lnTo>
                    <a:lnTo>
                      <a:pt x="808" y="36"/>
                    </a:lnTo>
                    <a:lnTo>
                      <a:pt x="837" y="45"/>
                    </a:lnTo>
                    <a:lnTo>
                      <a:pt x="854" y="53"/>
                    </a:lnTo>
                    <a:lnTo>
                      <a:pt x="861" y="56"/>
                    </a:lnTo>
                    <a:lnTo>
                      <a:pt x="881" y="60"/>
                    </a:lnTo>
                    <a:lnTo>
                      <a:pt x="901" y="62"/>
                    </a:lnTo>
                    <a:lnTo>
                      <a:pt x="920" y="66"/>
                    </a:lnTo>
                    <a:lnTo>
                      <a:pt x="938" y="70"/>
                    </a:lnTo>
                    <a:lnTo>
                      <a:pt x="956" y="74"/>
                    </a:lnTo>
                    <a:lnTo>
                      <a:pt x="974" y="78"/>
                    </a:lnTo>
                    <a:lnTo>
                      <a:pt x="990" y="81"/>
                    </a:lnTo>
                    <a:lnTo>
                      <a:pt x="1008" y="83"/>
                    </a:lnTo>
                    <a:lnTo>
                      <a:pt x="1026" y="86"/>
                    </a:lnTo>
                    <a:lnTo>
                      <a:pt x="1042" y="89"/>
                    </a:lnTo>
                    <a:lnTo>
                      <a:pt x="1060" y="90"/>
                    </a:lnTo>
                    <a:lnTo>
                      <a:pt x="1079" y="91"/>
                    </a:lnTo>
                    <a:lnTo>
                      <a:pt x="1098" y="91"/>
                    </a:lnTo>
                    <a:lnTo>
                      <a:pt x="1116" y="90"/>
                    </a:lnTo>
                    <a:lnTo>
                      <a:pt x="1137" y="87"/>
                    </a:lnTo>
                    <a:lnTo>
                      <a:pt x="1158" y="85"/>
                    </a:lnTo>
                    <a:lnTo>
                      <a:pt x="1179" y="81"/>
                    </a:lnTo>
                    <a:lnTo>
                      <a:pt x="1201" y="77"/>
                    </a:lnTo>
                    <a:lnTo>
                      <a:pt x="1222" y="73"/>
                    </a:lnTo>
                    <a:lnTo>
                      <a:pt x="1242" y="69"/>
                    </a:lnTo>
                    <a:lnTo>
                      <a:pt x="1265" y="66"/>
                    </a:lnTo>
                    <a:lnTo>
                      <a:pt x="1287" y="64"/>
                    </a:lnTo>
                    <a:lnTo>
                      <a:pt x="1309" y="62"/>
                    </a:lnTo>
                    <a:lnTo>
                      <a:pt x="1333" y="61"/>
                    </a:lnTo>
                    <a:lnTo>
                      <a:pt x="1357" y="62"/>
                    </a:lnTo>
                    <a:lnTo>
                      <a:pt x="1384" y="64"/>
                    </a:lnTo>
                    <a:lnTo>
                      <a:pt x="1410" y="67"/>
                    </a:lnTo>
                    <a:lnTo>
                      <a:pt x="1438" y="71"/>
                    </a:lnTo>
                    <a:lnTo>
                      <a:pt x="1468" y="78"/>
                    </a:lnTo>
                    <a:lnTo>
                      <a:pt x="1501" y="86"/>
                    </a:lnTo>
                    <a:lnTo>
                      <a:pt x="1533" y="96"/>
                    </a:lnTo>
                    <a:lnTo>
                      <a:pt x="1570" y="110"/>
                    </a:lnTo>
                    <a:lnTo>
                      <a:pt x="1630" y="137"/>
                    </a:lnTo>
                    <a:lnTo>
                      <a:pt x="1686" y="170"/>
                    </a:lnTo>
                    <a:lnTo>
                      <a:pt x="1734" y="210"/>
                    </a:lnTo>
                    <a:lnTo>
                      <a:pt x="1777" y="254"/>
                    </a:lnTo>
                    <a:lnTo>
                      <a:pt x="1814" y="305"/>
                    </a:lnTo>
                    <a:lnTo>
                      <a:pt x="1847" y="359"/>
                    </a:lnTo>
                    <a:lnTo>
                      <a:pt x="1875" y="415"/>
                    </a:lnTo>
                    <a:lnTo>
                      <a:pt x="1898" y="474"/>
                    </a:lnTo>
                    <a:lnTo>
                      <a:pt x="1915" y="536"/>
                    </a:lnTo>
                    <a:lnTo>
                      <a:pt x="1930" y="600"/>
                    </a:lnTo>
                    <a:lnTo>
                      <a:pt x="1940" y="663"/>
                    </a:lnTo>
                    <a:lnTo>
                      <a:pt x="1948" y="727"/>
                    </a:lnTo>
                    <a:lnTo>
                      <a:pt x="1952" y="792"/>
                    </a:lnTo>
                    <a:lnTo>
                      <a:pt x="1953" y="854"/>
                    </a:lnTo>
                    <a:lnTo>
                      <a:pt x="1950" y="914"/>
                    </a:lnTo>
                    <a:lnTo>
                      <a:pt x="1947" y="974"/>
                    </a:lnTo>
                    <a:lnTo>
                      <a:pt x="1937" y="1055"/>
                    </a:lnTo>
                    <a:lnTo>
                      <a:pt x="1920" y="1138"/>
                    </a:lnTo>
                    <a:lnTo>
                      <a:pt x="1899" y="1222"/>
                    </a:lnTo>
                    <a:lnTo>
                      <a:pt x="1872" y="1308"/>
                    </a:lnTo>
                    <a:lnTo>
                      <a:pt x="1841" y="1392"/>
                    </a:lnTo>
                    <a:lnTo>
                      <a:pt x="1806" y="1478"/>
                    </a:lnTo>
                    <a:lnTo>
                      <a:pt x="1767" y="1561"/>
                    </a:lnTo>
                    <a:lnTo>
                      <a:pt x="1724" y="1641"/>
                    </a:lnTo>
                    <a:lnTo>
                      <a:pt x="1677" y="1720"/>
                    </a:lnTo>
                    <a:lnTo>
                      <a:pt x="1629" y="1797"/>
                    </a:lnTo>
                    <a:lnTo>
                      <a:pt x="1578" y="1868"/>
                    </a:lnTo>
                    <a:lnTo>
                      <a:pt x="1525" y="1935"/>
                    </a:lnTo>
                    <a:lnTo>
                      <a:pt x="1470" y="1998"/>
                    </a:lnTo>
                    <a:lnTo>
                      <a:pt x="1414" y="2055"/>
                    </a:lnTo>
                    <a:lnTo>
                      <a:pt x="1357" y="2105"/>
                    </a:lnTo>
                    <a:lnTo>
                      <a:pt x="1299" y="2148"/>
                    </a:lnTo>
                    <a:lnTo>
                      <a:pt x="1298" y="2150"/>
                    </a:lnTo>
                    <a:lnTo>
                      <a:pt x="1294" y="2151"/>
                    </a:lnTo>
                    <a:lnTo>
                      <a:pt x="1289" y="2154"/>
                    </a:lnTo>
                    <a:lnTo>
                      <a:pt x="1280" y="2156"/>
                    </a:lnTo>
                    <a:lnTo>
                      <a:pt x="1270" y="2160"/>
                    </a:lnTo>
                    <a:lnTo>
                      <a:pt x="1259" y="2164"/>
                    </a:lnTo>
                    <a:lnTo>
                      <a:pt x="1245" y="2167"/>
                    </a:lnTo>
                    <a:lnTo>
                      <a:pt x="1230" y="2169"/>
                    </a:lnTo>
                    <a:lnTo>
                      <a:pt x="1216" y="2171"/>
                    </a:lnTo>
                    <a:lnTo>
                      <a:pt x="1201" y="2172"/>
                    </a:lnTo>
                    <a:lnTo>
                      <a:pt x="1186" y="2172"/>
                    </a:lnTo>
                    <a:lnTo>
                      <a:pt x="1169" y="2172"/>
                    </a:lnTo>
                    <a:lnTo>
                      <a:pt x="1152" y="2169"/>
                    </a:lnTo>
                    <a:lnTo>
                      <a:pt x="1134" y="2167"/>
                    </a:lnTo>
                    <a:lnTo>
                      <a:pt x="1115" y="2162"/>
                    </a:lnTo>
                    <a:lnTo>
                      <a:pt x="1095" y="2155"/>
                    </a:lnTo>
                    <a:lnTo>
                      <a:pt x="1057" y="2140"/>
                    </a:lnTo>
                    <a:lnTo>
                      <a:pt x="1028" y="2131"/>
                    </a:lnTo>
                    <a:lnTo>
                      <a:pt x="1008" y="2125"/>
                    </a:lnTo>
                    <a:lnTo>
                      <a:pt x="994" y="2121"/>
                    </a:lnTo>
                    <a:lnTo>
                      <a:pt x="984" y="2119"/>
                    </a:lnTo>
                    <a:lnTo>
                      <a:pt x="977" y="2118"/>
                    </a:lnTo>
                    <a:lnTo>
                      <a:pt x="970" y="2118"/>
                    </a:lnTo>
                    <a:lnTo>
                      <a:pt x="963" y="2117"/>
                    </a:lnTo>
                    <a:lnTo>
                      <a:pt x="936" y="2114"/>
                    </a:lnTo>
                    <a:lnTo>
                      <a:pt x="910" y="2114"/>
                    </a:lnTo>
                    <a:lnTo>
                      <a:pt x="885" y="2118"/>
                    </a:lnTo>
                    <a:lnTo>
                      <a:pt x="861" y="2125"/>
                    </a:lnTo>
                    <a:lnTo>
                      <a:pt x="838" y="2133"/>
                    </a:lnTo>
                    <a:lnTo>
                      <a:pt x="818" y="2139"/>
                    </a:lnTo>
                    <a:lnTo>
                      <a:pt x="802" y="2147"/>
                    </a:lnTo>
                    <a:lnTo>
                      <a:pt x="788" y="2152"/>
                    </a:lnTo>
                    <a:lnTo>
                      <a:pt x="766" y="2159"/>
                    </a:lnTo>
                    <a:lnTo>
                      <a:pt x="745" y="2162"/>
                    </a:lnTo>
                    <a:lnTo>
                      <a:pt x="725" y="2163"/>
                    </a:lnTo>
                    <a:lnTo>
                      <a:pt x="703" y="2162"/>
                    </a:lnTo>
                    <a:lnTo>
                      <a:pt x="683" y="2158"/>
                    </a:lnTo>
                    <a:lnTo>
                      <a:pt x="664" y="2152"/>
                    </a:lnTo>
                    <a:lnTo>
                      <a:pt x="645" y="2146"/>
                    </a:lnTo>
                    <a:lnTo>
                      <a:pt x="629" y="2138"/>
                    </a:lnTo>
                    <a:lnTo>
                      <a:pt x="613" y="2130"/>
                    </a:lnTo>
                    <a:lnTo>
                      <a:pt x="597" y="2122"/>
                    </a:lnTo>
                    <a:lnTo>
                      <a:pt x="585" y="2114"/>
                    </a:lnTo>
                    <a:lnTo>
                      <a:pt x="575" y="2108"/>
                    </a:lnTo>
                    <a:lnTo>
                      <a:pt x="566" y="2101"/>
                    </a:lnTo>
                    <a:lnTo>
                      <a:pt x="558" y="2096"/>
                    </a:lnTo>
                    <a:lnTo>
                      <a:pt x="555" y="2093"/>
                    </a:lnTo>
                    <a:lnTo>
                      <a:pt x="553" y="2092"/>
                    </a:lnTo>
                    <a:lnTo>
                      <a:pt x="550" y="2088"/>
                    </a:lnTo>
                    <a:lnTo>
                      <a:pt x="541" y="2076"/>
                    </a:lnTo>
                    <a:lnTo>
                      <a:pt x="526" y="2056"/>
                    </a:lnTo>
                    <a:lnTo>
                      <a:pt x="505" y="2030"/>
                    </a:lnTo>
                    <a:lnTo>
                      <a:pt x="480" y="1998"/>
                    </a:lnTo>
                    <a:lnTo>
                      <a:pt x="453" y="1959"/>
                    </a:lnTo>
                    <a:lnTo>
                      <a:pt x="421" y="1914"/>
                    </a:lnTo>
                    <a:lnTo>
                      <a:pt x="387" y="1865"/>
                    </a:lnTo>
                    <a:lnTo>
                      <a:pt x="352" y="1811"/>
                    </a:lnTo>
                    <a:lnTo>
                      <a:pt x="314" y="1752"/>
                    </a:lnTo>
                    <a:lnTo>
                      <a:pt x="276" y="1690"/>
                    </a:lnTo>
                    <a:lnTo>
                      <a:pt x="240" y="1624"/>
                    </a:lnTo>
                    <a:lnTo>
                      <a:pt x="202" y="1556"/>
                    </a:lnTo>
                    <a:lnTo>
                      <a:pt x="167" y="1485"/>
                    </a:lnTo>
                    <a:lnTo>
                      <a:pt x="134" y="1412"/>
                    </a:lnTo>
                    <a:lnTo>
                      <a:pt x="102" y="1337"/>
                    </a:lnTo>
                    <a:close/>
                  </a:path>
                </a:pathLst>
              </a:custGeom>
              <a:solidFill>
                <a:srgbClr val="ff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156"/>
              <p:cNvSpPr/>
              <p:nvPr/>
            </p:nvSpPr>
            <p:spPr>
              <a:xfrm>
                <a:off x="2367360" y="2926440"/>
                <a:ext cx="939240" cy="694080"/>
              </a:xfrm>
              <a:custGeom>
                <a:avLst/>
                <a:gdLst/>
                <a:ahLst/>
                <a:rect l="l" t="t" r="r" b="b"/>
                <a:pathLst>
                  <a:path w="1154" h="1765">
                    <a:moveTo>
                      <a:pt x="949" y="59"/>
                    </a:moveTo>
                    <a:lnTo>
                      <a:pt x="944" y="55"/>
                    </a:lnTo>
                    <a:lnTo>
                      <a:pt x="930" y="46"/>
                    </a:lnTo>
                    <a:lnTo>
                      <a:pt x="910" y="34"/>
                    </a:lnTo>
                    <a:lnTo>
                      <a:pt x="883" y="21"/>
                    </a:lnTo>
                    <a:lnTo>
                      <a:pt x="853" y="9"/>
                    </a:lnTo>
                    <a:lnTo>
                      <a:pt x="820" y="1"/>
                    </a:lnTo>
                    <a:lnTo>
                      <a:pt x="788" y="0"/>
                    </a:lnTo>
                    <a:lnTo>
                      <a:pt x="755" y="8"/>
                    </a:lnTo>
                    <a:lnTo>
                      <a:pt x="727" y="20"/>
                    </a:lnTo>
                    <a:lnTo>
                      <a:pt x="706" y="29"/>
                    </a:lnTo>
                    <a:lnTo>
                      <a:pt x="688" y="38"/>
                    </a:lnTo>
                    <a:lnTo>
                      <a:pt x="673" y="46"/>
                    </a:lnTo>
                    <a:lnTo>
                      <a:pt x="658" y="55"/>
                    </a:lnTo>
                    <a:lnTo>
                      <a:pt x="641" y="66"/>
                    </a:lnTo>
                    <a:lnTo>
                      <a:pt x="622" y="79"/>
                    </a:lnTo>
                    <a:lnTo>
                      <a:pt x="597" y="97"/>
                    </a:lnTo>
                    <a:lnTo>
                      <a:pt x="571" y="113"/>
                    </a:lnTo>
                    <a:lnTo>
                      <a:pt x="547" y="120"/>
                    </a:lnTo>
                    <a:lnTo>
                      <a:pt x="524" y="120"/>
                    </a:lnTo>
                    <a:lnTo>
                      <a:pt x="502" y="118"/>
                    </a:lnTo>
                    <a:lnTo>
                      <a:pt x="479" y="117"/>
                    </a:lnTo>
                    <a:lnTo>
                      <a:pt x="456" y="118"/>
                    </a:lnTo>
                    <a:lnTo>
                      <a:pt x="432" y="128"/>
                    </a:lnTo>
                    <a:lnTo>
                      <a:pt x="406" y="146"/>
                    </a:lnTo>
                    <a:lnTo>
                      <a:pt x="378" y="170"/>
                    </a:lnTo>
                    <a:lnTo>
                      <a:pt x="350" y="196"/>
                    </a:lnTo>
                    <a:lnTo>
                      <a:pt x="324" y="226"/>
                    </a:lnTo>
                    <a:lnTo>
                      <a:pt x="301" y="263"/>
                    </a:lnTo>
                    <a:lnTo>
                      <a:pt x="281" y="309"/>
                    </a:lnTo>
                    <a:lnTo>
                      <a:pt x="266" y="365"/>
                    </a:lnTo>
                    <a:lnTo>
                      <a:pt x="257" y="433"/>
                    </a:lnTo>
                    <a:lnTo>
                      <a:pt x="256" y="518"/>
                    </a:lnTo>
                    <a:lnTo>
                      <a:pt x="255" y="581"/>
                    </a:lnTo>
                    <a:lnTo>
                      <a:pt x="248" y="664"/>
                    </a:lnTo>
                    <a:lnTo>
                      <a:pt x="237" y="761"/>
                    </a:lnTo>
                    <a:lnTo>
                      <a:pt x="219" y="864"/>
                    </a:lnTo>
                    <a:lnTo>
                      <a:pt x="195" y="965"/>
                    </a:lnTo>
                    <a:lnTo>
                      <a:pt x="166" y="1060"/>
                    </a:lnTo>
                    <a:lnTo>
                      <a:pt x="129" y="1140"/>
                    </a:lnTo>
                    <a:lnTo>
                      <a:pt x="85" y="1200"/>
                    </a:lnTo>
                    <a:lnTo>
                      <a:pt x="58" y="1241"/>
                    </a:lnTo>
                    <a:lnTo>
                      <a:pt x="35" y="1302"/>
                    </a:lnTo>
                    <a:lnTo>
                      <a:pt x="17" y="1380"/>
                    </a:lnTo>
                    <a:lnTo>
                      <a:pt x="5" y="1463"/>
                    </a:lnTo>
                    <a:lnTo>
                      <a:pt x="0" y="1547"/>
                    </a:lnTo>
                    <a:lnTo>
                      <a:pt x="4" y="1621"/>
                    </a:lnTo>
                    <a:lnTo>
                      <a:pt x="18" y="1680"/>
                    </a:lnTo>
                    <a:lnTo>
                      <a:pt x="43" y="1715"/>
                    </a:lnTo>
                    <a:lnTo>
                      <a:pt x="71" y="1732"/>
                    </a:lnTo>
                    <a:lnTo>
                      <a:pt x="92" y="1742"/>
                    </a:lnTo>
                    <a:lnTo>
                      <a:pt x="110" y="1746"/>
                    </a:lnTo>
                    <a:lnTo>
                      <a:pt x="126" y="1746"/>
                    </a:lnTo>
                    <a:lnTo>
                      <a:pt x="142" y="1744"/>
                    </a:lnTo>
                    <a:lnTo>
                      <a:pt x="161" y="1736"/>
                    </a:lnTo>
                    <a:lnTo>
                      <a:pt x="184" y="1727"/>
                    </a:lnTo>
                    <a:lnTo>
                      <a:pt x="213" y="1716"/>
                    </a:lnTo>
                    <a:lnTo>
                      <a:pt x="231" y="1711"/>
                    </a:lnTo>
                    <a:lnTo>
                      <a:pt x="248" y="1708"/>
                    </a:lnTo>
                    <a:lnTo>
                      <a:pt x="266" y="1705"/>
                    </a:lnTo>
                    <a:lnTo>
                      <a:pt x="284" y="1703"/>
                    </a:lnTo>
                    <a:lnTo>
                      <a:pt x="302" y="1703"/>
                    </a:lnTo>
                    <a:lnTo>
                      <a:pt x="320" y="1703"/>
                    </a:lnTo>
                    <a:lnTo>
                      <a:pt x="338" y="1704"/>
                    </a:lnTo>
                    <a:lnTo>
                      <a:pt x="355" y="1707"/>
                    </a:lnTo>
                    <a:lnTo>
                      <a:pt x="372" y="1709"/>
                    </a:lnTo>
                    <a:lnTo>
                      <a:pt x="388" y="1712"/>
                    </a:lnTo>
                    <a:lnTo>
                      <a:pt x="403" y="1716"/>
                    </a:lnTo>
                    <a:lnTo>
                      <a:pt x="417" y="1720"/>
                    </a:lnTo>
                    <a:lnTo>
                      <a:pt x="430" y="1725"/>
                    </a:lnTo>
                    <a:lnTo>
                      <a:pt x="442" y="1730"/>
                    </a:lnTo>
                    <a:lnTo>
                      <a:pt x="451" y="1736"/>
                    </a:lnTo>
                    <a:lnTo>
                      <a:pt x="460" y="1741"/>
                    </a:lnTo>
                    <a:lnTo>
                      <a:pt x="476" y="1752"/>
                    </a:lnTo>
                    <a:lnTo>
                      <a:pt x="495" y="1758"/>
                    </a:lnTo>
                    <a:lnTo>
                      <a:pt x="515" y="1762"/>
                    </a:lnTo>
                    <a:lnTo>
                      <a:pt x="537" y="1765"/>
                    </a:lnTo>
                    <a:lnTo>
                      <a:pt x="558" y="1763"/>
                    </a:lnTo>
                    <a:lnTo>
                      <a:pt x="578" y="1759"/>
                    </a:lnTo>
                    <a:lnTo>
                      <a:pt x="596" y="1753"/>
                    </a:lnTo>
                    <a:lnTo>
                      <a:pt x="610" y="1742"/>
                    </a:lnTo>
                    <a:lnTo>
                      <a:pt x="619" y="1733"/>
                    </a:lnTo>
                    <a:lnTo>
                      <a:pt x="631" y="1719"/>
                    </a:lnTo>
                    <a:lnTo>
                      <a:pt x="648" y="1698"/>
                    </a:lnTo>
                    <a:lnTo>
                      <a:pt x="667" y="1674"/>
                    </a:lnTo>
                    <a:lnTo>
                      <a:pt x="688" y="1645"/>
                    </a:lnTo>
                    <a:lnTo>
                      <a:pt x="712" y="1612"/>
                    </a:lnTo>
                    <a:lnTo>
                      <a:pt x="738" y="1579"/>
                    </a:lnTo>
                    <a:lnTo>
                      <a:pt x="765" y="1543"/>
                    </a:lnTo>
                    <a:lnTo>
                      <a:pt x="791" y="1507"/>
                    </a:lnTo>
                    <a:lnTo>
                      <a:pt x="818" y="1471"/>
                    </a:lnTo>
                    <a:lnTo>
                      <a:pt x="844" y="1435"/>
                    </a:lnTo>
                    <a:lnTo>
                      <a:pt x="869" y="1403"/>
                    </a:lnTo>
                    <a:lnTo>
                      <a:pt x="892" y="1371"/>
                    </a:lnTo>
                    <a:lnTo>
                      <a:pt x="913" y="1343"/>
                    </a:lnTo>
                    <a:lnTo>
                      <a:pt x="931" y="1320"/>
                    </a:lnTo>
                    <a:lnTo>
                      <a:pt x="946" y="1301"/>
                    </a:lnTo>
                    <a:lnTo>
                      <a:pt x="963" y="1277"/>
                    </a:lnTo>
                    <a:lnTo>
                      <a:pt x="984" y="1239"/>
                    </a:lnTo>
                    <a:lnTo>
                      <a:pt x="1009" y="1189"/>
                    </a:lnTo>
                    <a:lnTo>
                      <a:pt x="1037" y="1127"/>
                    </a:lnTo>
                    <a:lnTo>
                      <a:pt x="1065" y="1056"/>
                    </a:lnTo>
                    <a:lnTo>
                      <a:pt x="1091" y="977"/>
                    </a:lnTo>
                    <a:lnTo>
                      <a:pt x="1115" y="892"/>
                    </a:lnTo>
                    <a:lnTo>
                      <a:pt x="1134" y="801"/>
                    </a:lnTo>
                    <a:lnTo>
                      <a:pt x="1148" y="706"/>
                    </a:lnTo>
                    <a:lnTo>
                      <a:pt x="1154" y="608"/>
                    </a:lnTo>
                    <a:lnTo>
                      <a:pt x="1152" y="510"/>
                    </a:lnTo>
                    <a:lnTo>
                      <a:pt x="1138" y="412"/>
                    </a:lnTo>
                    <a:lnTo>
                      <a:pt x="1113" y="317"/>
                    </a:lnTo>
                    <a:lnTo>
                      <a:pt x="1073" y="226"/>
                    </a:lnTo>
                    <a:lnTo>
                      <a:pt x="1019" y="140"/>
                    </a:lnTo>
                    <a:lnTo>
                      <a:pt x="949" y="59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Freeform 157"/>
              <p:cNvSpPr/>
              <p:nvPr/>
            </p:nvSpPr>
            <p:spPr>
              <a:xfrm>
                <a:off x="2330640" y="2861640"/>
                <a:ext cx="420120" cy="83520"/>
              </a:xfrm>
              <a:custGeom>
                <a:avLst/>
                <a:gdLst/>
                <a:ahLst/>
                <a:rect l="l" t="t" r="r" b="b"/>
                <a:pathLst>
                  <a:path w="519" h="213">
                    <a:moveTo>
                      <a:pt x="301" y="75"/>
                    </a:moveTo>
                    <a:lnTo>
                      <a:pt x="296" y="72"/>
                    </a:lnTo>
                    <a:lnTo>
                      <a:pt x="282" y="66"/>
                    </a:lnTo>
                    <a:lnTo>
                      <a:pt x="262" y="57"/>
                    </a:lnTo>
                    <a:lnTo>
                      <a:pt x="235" y="45"/>
                    </a:lnTo>
                    <a:lnTo>
                      <a:pt x="206" y="33"/>
                    </a:lnTo>
                    <a:lnTo>
                      <a:pt x="175" y="21"/>
                    </a:lnTo>
                    <a:lnTo>
                      <a:pt x="143" y="10"/>
                    </a:lnTo>
                    <a:lnTo>
                      <a:pt x="113" y="4"/>
                    </a:lnTo>
                    <a:lnTo>
                      <a:pt x="87" y="0"/>
                    </a:lnTo>
                    <a:lnTo>
                      <a:pt x="64" y="1"/>
                    </a:lnTo>
                    <a:lnTo>
                      <a:pt x="44" y="4"/>
                    </a:lnTo>
                    <a:lnTo>
                      <a:pt x="29" y="9"/>
                    </a:lnTo>
                    <a:lnTo>
                      <a:pt x="16" y="16"/>
                    </a:lnTo>
                    <a:lnTo>
                      <a:pt x="7" y="21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179" y="188"/>
                    </a:lnTo>
                    <a:lnTo>
                      <a:pt x="184" y="190"/>
                    </a:lnTo>
                    <a:lnTo>
                      <a:pt x="199" y="194"/>
                    </a:lnTo>
                    <a:lnTo>
                      <a:pt x="220" y="199"/>
                    </a:lnTo>
                    <a:lnTo>
                      <a:pt x="247" y="204"/>
                    </a:lnTo>
                    <a:lnTo>
                      <a:pt x="276" y="209"/>
                    </a:lnTo>
                    <a:lnTo>
                      <a:pt x="306" y="213"/>
                    </a:lnTo>
                    <a:lnTo>
                      <a:pt x="335" y="213"/>
                    </a:lnTo>
                    <a:lnTo>
                      <a:pt x="361" y="209"/>
                    </a:lnTo>
                    <a:lnTo>
                      <a:pt x="387" y="203"/>
                    </a:lnTo>
                    <a:lnTo>
                      <a:pt x="412" y="194"/>
                    </a:lnTo>
                    <a:lnTo>
                      <a:pt x="437" y="186"/>
                    </a:lnTo>
                    <a:lnTo>
                      <a:pt x="460" y="178"/>
                    </a:lnTo>
                    <a:lnTo>
                      <a:pt x="480" y="170"/>
                    </a:lnTo>
                    <a:lnTo>
                      <a:pt x="496" y="163"/>
                    </a:lnTo>
                    <a:lnTo>
                      <a:pt x="506" y="159"/>
                    </a:lnTo>
                    <a:lnTo>
                      <a:pt x="510" y="158"/>
                    </a:lnTo>
                    <a:lnTo>
                      <a:pt x="511" y="158"/>
                    </a:lnTo>
                    <a:lnTo>
                      <a:pt x="515" y="157"/>
                    </a:lnTo>
                    <a:lnTo>
                      <a:pt x="518" y="154"/>
                    </a:lnTo>
                    <a:lnTo>
                      <a:pt x="519" y="151"/>
                    </a:lnTo>
                    <a:lnTo>
                      <a:pt x="518" y="147"/>
                    </a:lnTo>
                    <a:lnTo>
                      <a:pt x="510" y="141"/>
                    </a:lnTo>
                    <a:lnTo>
                      <a:pt x="496" y="134"/>
                    </a:lnTo>
                    <a:lnTo>
                      <a:pt x="473" y="126"/>
                    </a:lnTo>
                    <a:lnTo>
                      <a:pt x="448" y="116"/>
                    </a:lnTo>
                    <a:lnTo>
                      <a:pt x="428" y="105"/>
                    </a:lnTo>
                    <a:lnTo>
                      <a:pt x="410" y="95"/>
                    </a:lnTo>
                    <a:lnTo>
                      <a:pt x="394" y="86"/>
                    </a:lnTo>
                    <a:lnTo>
                      <a:pt x="376" y="78"/>
                    </a:lnTo>
                    <a:lnTo>
                      <a:pt x="356" y="74"/>
                    </a:lnTo>
                    <a:lnTo>
                      <a:pt x="331" y="72"/>
                    </a:lnTo>
                    <a:lnTo>
                      <a:pt x="301" y="75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Freeform 158"/>
              <p:cNvSpPr/>
              <p:nvPr/>
            </p:nvSpPr>
            <p:spPr>
              <a:xfrm>
                <a:off x="1868760" y="2904120"/>
                <a:ext cx="545040" cy="559440"/>
              </a:xfrm>
              <a:custGeom>
                <a:avLst/>
                <a:gdLst/>
                <a:ahLst/>
                <a:rect l="l" t="t" r="r" b="b"/>
                <a:pathLst>
                  <a:path w="666" h="1421">
                    <a:moveTo>
                      <a:pt x="368" y="19"/>
                    </a:moveTo>
                    <a:lnTo>
                      <a:pt x="364" y="21"/>
                    </a:lnTo>
                    <a:lnTo>
                      <a:pt x="356" y="27"/>
                    </a:lnTo>
                    <a:lnTo>
                      <a:pt x="341" y="37"/>
                    </a:lnTo>
                    <a:lnTo>
                      <a:pt x="320" y="50"/>
                    </a:lnTo>
                    <a:lnTo>
                      <a:pt x="298" y="69"/>
                    </a:lnTo>
                    <a:lnTo>
                      <a:pt x="271" y="91"/>
                    </a:lnTo>
                    <a:lnTo>
                      <a:pt x="242" y="116"/>
                    </a:lnTo>
                    <a:lnTo>
                      <a:pt x="212" y="146"/>
                    </a:lnTo>
                    <a:lnTo>
                      <a:pt x="182" y="179"/>
                    </a:lnTo>
                    <a:lnTo>
                      <a:pt x="150" y="218"/>
                    </a:lnTo>
                    <a:lnTo>
                      <a:pt x="120" y="258"/>
                    </a:lnTo>
                    <a:lnTo>
                      <a:pt x="92" y="303"/>
                    </a:lnTo>
                    <a:lnTo>
                      <a:pt x="67" y="352"/>
                    </a:lnTo>
                    <a:lnTo>
                      <a:pt x="44" y="403"/>
                    </a:lnTo>
                    <a:lnTo>
                      <a:pt x="26" y="460"/>
                    </a:lnTo>
                    <a:lnTo>
                      <a:pt x="12" y="519"/>
                    </a:lnTo>
                    <a:lnTo>
                      <a:pt x="4" y="577"/>
                    </a:lnTo>
                    <a:lnTo>
                      <a:pt x="0" y="635"/>
                    </a:lnTo>
                    <a:lnTo>
                      <a:pt x="0" y="692"/>
                    </a:lnTo>
                    <a:lnTo>
                      <a:pt x="4" y="748"/>
                    </a:lnTo>
                    <a:lnTo>
                      <a:pt x="12" y="802"/>
                    </a:lnTo>
                    <a:lnTo>
                      <a:pt x="22" y="855"/>
                    </a:lnTo>
                    <a:lnTo>
                      <a:pt x="33" y="905"/>
                    </a:lnTo>
                    <a:lnTo>
                      <a:pt x="47" y="952"/>
                    </a:lnTo>
                    <a:lnTo>
                      <a:pt x="62" y="997"/>
                    </a:lnTo>
                    <a:lnTo>
                      <a:pt x="79" y="1038"/>
                    </a:lnTo>
                    <a:lnTo>
                      <a:pt x="94" y="1076"/>
                    </a:lnTo>
                    <a:lnTo>
                      <a:pt x="110" y="1109"/>
                    </a:lnTo>
                    <a:lnTo>
                      <a:pt x="125" y="1138"/>
                    </a:lnTo>
                    <a:lnTo>
                      <a:pt x="138" y="1162"/>
                    </a:lnTo>
                    <a:lnTo>
                      <a:pt x="150" y="1180"/>
                    </a:lnTo>
                    <a:lnTo>
                      <a:pt x="160" y="1194"/>
                    </a:lnTo>
                    <a:lnTo>
                      <a:pt x="179" y="1216"/>
                    </a:lnTo>
                    <a:lnTo>
                      <a:pt x="199" y="1244"/>
                    </a:lnTo>
                    <a:lnTo>
                      <a:pt x="221" y="1273"/>
                    </a:lnTo>
                    <a:lnTo>
                      <a:pt x="241" y="1302"/>
                    </a:lnTo>
                    <a:lnTo>
                      <a:pt x="260" y="1329"/>
                    </a:lnTo>
                    <a:lnTo>
                      <a:pt x="274" y="1350"/>
                    </a:lnTo>
                    <a:lnTo>
                      <a:pt x="284" y="1366"/>
                    </a:lnTo>
                    <a:lnTo>
                      <a:pt x="288" y="1371"/>
                    </a:lnTo>
                    <a:lnTo>
                      <a:pt x="290" y="1374"/>
                    </a:lnTo>
                    <a:lnTo>
                      <a:pt x="296" y="1382"/>
                    </a:lnTo>
                    <a:lnTo>
                      <a:pt x="305" y="1392"/>
                    </a:lnTo>
                    <a:lnTo>
                      <a:pt x="318" y="1404"/>
                    </a:lnTo>
                    <a:lnTo>
                      <a:pt x="330" y="1413"/>
                    </a:lnTo>
                    <a:lnTo>
                      <a:pt x="343" y="1420"/>
                    </a:lnTo>
                    <a:lnTo>
                      <a:pt x="356" y="1421"/>
                    </a:lnTo>
                    <a:lnTo>
                      <a:pt x="366" y="1413"/>
                    </a:lnTo>
                    <a:lnTo>
                      <a:pt x="376" y="1402"/>
                    </a:lnTo>
                    <a:lnTo>
                      <a:pt x="388" y="1391"/>
                    </a:lnTo>
                    <a:lnTo>
                      <a:pt x="401" y="1379"/>
                    </a:lnTo>
                    <a:lnTo>
                      <a:pt x="412" y="1365"/>
                    </a:lnTo>
                    <a:lnTo>
                      <a:pt x="424" y="1346"/>
                    </a:lnTo>
                    <a:lnTo>
                      <a:pt x="433" y="1324"/>
                    </a:lnTo>
                    <a:lnTo>
                      <a:pt x="438" y="1295"/>
                    </a:lnTo>
                    <a:lnTo>
                      <a:pt x="439" y="1259"/>
                    </a:lnTo>
                    <a:lnTo>
                      <a:pt x="436" y="1163"/>
                    </a:lnTo>
                    <a:lnTo>
                      <a:pt x="431" y="1053"/>
                    </a:lnTo>
                    <a:lnTo>
                      <a:pt x="426" y="954"/>
                    </a:lnTo>
                    <a:lnTo>
                      <a:pt x="424" y="889"/>
                    </a:lnTo>
                    <a:lnTo>
                      <a:pt x="430" y="852"/>
                    </a:lnTo>
                    <a:lnTo>
                      <a:pt x="448" y="787"/>
                    </a:lnTo>
                    <a:lnTo>
                      <a:pt x="473" y="701"/>
                    </a:lnTo>
                    <a:lnTo>
                      <a:pt x="503" y="607"/>
                    </a:lnTo>
                    <a:lnTo>
                      <a:pt x="536" y="514"/>
                    </a:lnTo>
                    <a:lnTo>
                      <a:pt x="569" y="432"/>
                    </a:lnTo>
                    <a:lnTo>
                      <a:pt x="596" y="369"/>
                    </a:lnTo>
                    <a:lnTo>
                      <a:pt x="618" y="337"/>
                    </a:lnTo>
                    <a:lnTo>
                      <a:pt x="633" y="323"/>
                    </a:lnTo>
                    <a:lnTo>
                      <a:pt x="645" y="305"/>
                    </a:lnTo>
                    <a:lnTo>
                      <a:pt x="654" y="283"/>
                    </a:lnTo>
                    <a:lnTo>
                      <a:pt x="661" y="260"/>
                    </a:lnTo>
                    <a:lnTo>
                      <a:pt x="664" y="233"/>
                    </a:lnTo>
                    <a:lnTo>
                      <a:pt x="666" y="207"/>
                    </a:lnTo>
                    <a:lnTo>
                      <a:pt x="664" y="178"/>
                    </a:lnTo>
                    <a:lnTo>
                      <a:pt x="662" y="149"/>
                    </a:lnTo>
                    <a:lnTo>
                      <a:pt x="658" y="133"/>
                    </a:lnTo>
                    <a:lnTo>
                      <a:pt x="652" y="119"/>
                    </a:lnTo>
                    <a:lnTo>
                      <a:pt x="642" y="102"/>
                    </a:lnTo>
                    <a:lnTo>
                      <a:pt x="629" y="86"/>
                    </a:lnTo>
                    <a:lnTo>
                      <a:pt x="614" y="71"/>
                    </a:lnTo>
                    <a:lnTo>
                      <a:pt x="598" y="56"/>
                    </a:lnTo>
                    <a:lnTo>
                      <a:pt x="579" y="42"/>
                    </a:lnTo>
                    <a:lnTo>
                      <a:pt x="557" y="31"/>
                    </a:lnTo>
                    <a:lnTo>
                      <a:pt x="536" y="20"/>
                    </a:lnTo>
                    <a:lnTo>
                      <a:pt x="513" y="11"/>
                    </a:lnTo>
                    <a:lnTo>
                      <a:pt x="489" y="4"/>
                    </a:lnTo>
                    <a:lnTo>
                      <a:pt x="464" y="0"/>
                    </a:lnTo>
                    <a:lnTo>
                      <a:pt x="440" y="0"/>
                    </a:lnTo>
                    <a:lnTo>
                      <a:pt x="416" y="3"/>
                    </a:lnTo>
                    <a:lnTo>
                      <a:pt x="392" y="8"/>
                    </a:lnTo>
                    <a:lnTo>
                      <a:pt x="368" y="19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Freeform 159"/>
              <p:cNvSpPr/>
              <p:nvPr/>
            </p:nvSpPr>
            <p:spPr>
              <a:xfrm>
                <a:off x="2323440" y="3624120"/>
                <a:ext cx="481680" cy="36360"/>
              </a:xfrm>
              <a:custGeom>
                <a:avLst/>
                <a:gdLst/>
                <a:ahLst/>
                <a:rect l="l" t="t" r="r" b="b"/>
                <a:pathLst>
                  <a:path w="590" h="105">
                    <a:moveTo>
                      <a:pt x="81" y="104"/>
                    </a:moveTo>
                    <a:lnTo>
                      <a:pt x="71" y="101"/>
                    </a:lnTo>
                    <a:lnTo>
                      <a:pt x="59" y="99"/>
                    </a:lnTo>
                    <a:lnTo>
                      <a:pt x="49" y="93"/>
                    </a:lnTo>
                    <a:lnTo>
                      <a:pt x="39" y="88"/>
                    </a:lnTo>
                    <a:lnTo>
                      <a:pt x="29" y="80"/>
                    </a:lnTo>
                    <a:lnTo>
                      <a:pt x="19" y="71"/>
                    </a:lnTo>
                    <a:lnTo>
                      <a:pt x="9" y="59"/>
                    </a:lnTo>
                    <a:lnTo>
                      <a:pt x="0" y="46"/>
                    </a:lnTo>
                    <a:lnTo>
                      <a:pt x="5" y="47"/>
                    </a:lnTo>
                    <a:lnTo>
                      <a:pt x="20" y="50"/>
                    </a:lnTo>
                    <a:lnTo>
                      <a:pt x="42" y="53"/>
                    </a:lnTo>
                    <a:lnTo>
                      <a:pt x="68" y="55"/>
                    </a:lnTo>
                    <a:lnTo>
                      <a:pt x="98" y="55"/>
                    </a:lnTo>
                    <a:lnTo>
                      <a:pt x="130" y="53"/>
                    </a:lnTo>
                    <a:lnTo>
                      <a:pt x="159" y="45"/>
                    </a:lnTo>
                    <a:lnTo>
                      <a:pt x="185" y="32"/>
                    </a:lnTo>
                    <a:lnTo>
                      <a:pt x="198" y="24"/>
                    </a:lnTo>
                    <a:lnTo>
                      <a:pt x="213" y="17"/>
                    </a:lnTo>
                    <a:lnTo>
                      <a:pt x="230" y="12"/>
                    </a:lnTo>
                    <a:lnTo>
                      <a:pt x="247" y="7"/>
                    </a:lnTo>
                    <a:lnTo>
                      <a:pt x="266" y="4"/>
                    </a:lnTo>
                    <a:lnTo>
                      <a:pt x="286" y="1"/>
                    </a:lnTo>
                    <a:lnTo>
                      <a:pt x="306" y="0"/>
                    </a:lnTo>
                    <a:lnTo>
                      <a:pt x="327" y="0"/>
                    </a:lnTo>
                    <a:lnTo>
                      <a:pt x="348" y="1"/>
                    </a:lnTo>
                    <a:lnTo>
                      <a:pt x="368" y="4"/>
                    </a:lnTo>
                    <a:lnTo>
                      <a:pt x="390" y="8"/>
                    </a:lnTo>
                    <a:lnTo>
                      <a:pt x="410" y="12"/>
                    </a:lnTo>
                    <a:lnTo>
                      <a:pt x="429" y="17"/>
                    </a:lnTo>
                    <a:lnTo>
                      <a:pt x="446" y="25"/>
                    </a:lnTo>
                    <a:lnTo>
                      <a:pt x="464" y="33"/>
                    </a:lnTo>
                    <a:lnTo>
                      <a:pt x="479" y="42"/>
                    </a:lnTo>
                    <a:lnTo>
                      <a:pt x="505" y="58"/>
                    </a:lnTo>
                    <a:lnTo>
                      <a:pt x="528" y="66"/>
                    </a:lnTo>
                    <a:lnTo>
                      <a:pt x="547" y="70"/>
                    </a:lnTo>
                    <a:lnTo>
                      <a:pt x="562" y="68"/>
                    </a:lnTo>
                    <a:lnTo>
                      <a:pt x="573" y="66"/>
                    </a:lnTo>
                    <a:lnTo>
                      <a:pt x="582" y="62"/>
                    </a:lnTo>
                    <a:lnTo>
                      <a:pt x="587" y="58"/>
                    </a:lnTo>
                    <a:lnTo>
                      <a:pt x="589" y="57"/>
                    </a:lnTo>
                    <a:lnTo>
                      <a:pt x="589" y="59"/>
                    </a:lnTo>
                    <a:lnTo>
                      <a:pt x="590" y="66"/>
                    </a:lnTo>
                    <a:lnTo>
                      <a:pt x="587" y="75"/>
                    </a:lnTo>
                    <a:lnTo>
                      <a:pt x="580" y="84"/>
                    </a:lnTo>
                    <a:lnTo>
                      <a:pt x="565" y="91"/>
                    </a:lnTo>
                    <a:lnTo>
                      <a:pt x="541" y="93"/>
                    </a:lnTo>
                    <a:lnTo>
                      <a:pt x="504" y="90"/>
                    </a:lnTo>
                    <a:lnTo>
                      <a:pt x="454" y="78"/>
                    </a:lnTo>
                    <a:lnTo>
                      <a:pt x="451" y="76"/>
                    </a:lnTo>
                    <a:lnTo>
                      <a:pt x="446" y="75"/>
                    </a:lnTo>
                    <a:lnTo>
                      <a:pt x="436" y="72"/>
                    </a:lnTo>
                    <a:lnTo>
                      <a:pt x="425" y="68"/>
                    </a:lnTo>
                    <a:lnTo>
                      <a:pt x="410" y="66"/>
                    </a:lnTo>
                    <a:lnTo>
                      <a:pt x="392" y="62"/>
                    </a:lnTo>
                    <a:lnTo>
                      <a:pt x="373" y="58"/>
                    </a:lnTo>
                    <a:lnTo>
                      <a:pt x="354" y="54"/>
                    </a:lnTo>
                    <a:lnTo>
                      <a:pt x="333" y="51"/>
                    </a:lnTo>
                    <a:lnTo>
                      <a:pt x="311" y="49"/>
                    </a:lnTo>
                    <a:lnTo>
                      <a:pt x="289" y="49"/>
                    </a:lnTo>
                    <a:lnTo>
                      <a:pt x="267" y="49"/>
                    </a:lnTo>
                    <a:lnTo>
                      <a:pt x="247" y="51"/>
                    </a:lnTo>
                    <a:lnTo>
                      <a:pt x="227" y="55"/>
                    </a:lnTo>
                    <a:lnTo>
                      <a:pt x="209" y="61"/>
                    </a:lnTo>
                    <a:lnTo>
                      <a:pt x="193" y="70"/>
                    </a:lnTo>
                    <a:lnTo>
                      <a:pt x="190" y="71"/>
                    </a:lnTo>
                    <a:lnTo>
                      <a:pt x="184" y="76"/>
                    </a:lnTo>
                    <a:lnTo>
                      <a:pt x="173" y="83"/>
                    </a:lnTo>
                    <a:lnTo>
                      <a:pt x="159" y="90"/>
                    </a:lnTo>
                    <a:lnTo>
                      <a:pt x="141" y="96"/>
                    </a:lnTo>
                    <a:lnTo>
                      <a:pt x="122" y="101"/>
                    </a:lnTo>
                    <a:lnTo>
                      <a:pt x="102" y="105"/>
                    </a:lnTo>
                    <a:lnTo>
                      <a:pt x="81" y="104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160"/>
              <p:cNvSpPr/>
              <p:nvPr/>
            </p:nvSpPr>
            <p:spPr>
              <a:xfrm>
                <a:off x="1917360" y="2932200"/>
                <a:ext cx="386280" cy="435960"/>
              </a:xfrm>
              <a:custGeom>
                <a:avLst/>
                <a:gdLst/>
                <a:ahLst/>
                <a:rect l="l" t="t" r="r" b="b"/>
                <a:pathLst>
                  <a:path w="474" h="1109">
                    <a:moveTo>
                      <a:pt x="312" y="8"/>
                    </a:moveTo>
                    <a:lnTo>
                      <a:pt x="309" y="10"/>
                    </a:lnTo>
                    <a:lnTo>
                      <a:pt x="303" y="12"/>
                    </a:lnTo>
                    <a:lnTo>
                      <a:pt x="293" y="18"/>
                    </a:lnTo>
                    <a:lnTo>
                      <a:pt x="279" y="25"/>
                    </a:lnTo>
                    <a:lnTo>
                      <a:pt x="261" y="36"/>
                    </a:lnTo>
                    <a:lnTo>
                      <a:pt x="242" y="48"/>
                    </a:lnTo>
                    <a:lnTo>
                      <a:pt x="222" y="62"/>
                    </a:lnTo>
                    <a:lnTo>
                      <a:pt x="199" y="79"/>
                    </a:lnTo>
                    <a:lnTo>
                      <a:pt x="177" y="100"/>
                    </a:lnTo>
                    <a:lnTo>
                      <a:pt x="153" y="123"/>
                    </a:lnTo>
                    <a:lnTo>
                      <a:pt x="129" y="148"/>
                    </a:lnTo>
                    <a:lnTo>
                      <a:pt x="106" y="176"/>
                    </a:lnTo>
                    <a:lnTo>
                      <a:pt x="85" y="207"/>
                    </a:lnTo>
                    <a:lnTo>
                      <a:pt x="65" y="241"/>
                    </a:lnTo>
                    <a:lnTo>
                      <a:pt x="46" y="278"/>
                    </a:lnTo>
                    <a:lnTo>
                      <a:pt x="31" y="318"/>
                    </a:lnTo>
                    <a:lnTo>
                      <a:pt x="9" y="401"/>
                    </a:lnTo>
                    <a:lnTo>
                      <a:pt x="0" y="485"/>
                    </a:lnTo>
                    <a:lnTo>
                      <a:pt x="0" y="569"/>
                    </a:lnTo>
                    <a:lnTo>
                      <a:pt x="7" y="648"/>
                    </a:lnTo>
                    <a:lnTo>
                      <a:pt x="17" y="721"/>
                    </a:lnTo>
                    <a:lnTo>
                      <a:pt x="28" y="780"/>
                    </a:lnTo>
                    <a:lnTo>
                      <a:pt x="38" y="826"/>
                    </a:lnTo>
                    <a:lnTo>
                      <a:pt x="46" y="853"/>
                    </a:lnTo>
                    <a:lnTo>
                      <a:pt x="60" y="892"/>
                    </a:lnTo>
                    <a:lnTo>
                      <a:pt x="77" y="933"/>
                    </a:lnTo>
                    <a:lnTo>
                      <a:pt x="96" y="971"/>
                    </a:lnTo>
                    <a:lnTo>
                      <a:pt x="115" y="1007"/>
                    </a:lnTo>
                    <a:lnTo>
                      <a:pt x="133" y="1037"/>
                    </a:lnTo>
                    <a:lnTo>
                      <a:pt x="148" y="1061"/>
                    </a:lnTo>
                    <a:lnTo>
                      <a:pt x="158" y="1076"/>
                    </a:lnTo>
                    <a:lnTo>
                      <a:pt x="162" y="1082"/>
                    </a:lnTo>
                    <a:lnTo>
                      <a:pt x="163" y="1086"/>
                    </a:lnTo>
                    <a:lnTo>
                      <a:pt x="167" y="1094"/>
                    </a:lnTo>
                    <a:lnTo>
                      <a:pt x="173" y="1103"/>
                    </a:lnTo>
                    <a:lnTo>
                      <a:pt x="180" y="1108"/>
                    </a:lnTo>
                    <a:lnTo>
                      <a:pt x="191" y="1109"/>
                    </a:lnTo>
                    <a:lnTo>
                      <a:pt x="202" y="1100"/>
                    </a:lnTo>
                    <a:lnTo>
                      <a:pt x="216" y="1079"/>
                    </a:lnTo>
                    <a:lnTo>
                      <a:pt x="230" y="1041"/>
                    </a:lnTo>
                    <a:lnTo>
                      <a:pt x="238" y="983"/>
                    </a:lnTo>
                    <a:lnTo>
                      <a:pt x="238" y="907"/>
                    </a:lnTo>
                    <a:lnTo>
                      <a:pt x="232" y="821"/>
                    </a:lnTo>
                    <a:lnTo>
                      <a:pt x="227" y="727"/>
                    </a:lnTo>
                    <a:lnTo>
                      <a:pt x="225" y="633"/>
                    </a:lnTo>
                    <a:lnTo>
                      <a:pt x="232" y="543"/>
                    </a:lnTo>
                    <a:lnTo>
                      <a:pt x="254" y="463"/>
                    </a:lnTo>
                    <a:lnTo>
                      <a:pt x="293" y="397"/>
                    </a:lnTo>
                    <a:lnTo>
                      <a:pt x="339" y="343"/>
                    </a:lnTo>
                    <a:lnTo>
                      <a:pt x="380" y="295"/>
                    </a:lnTo>
                    <a:lnTo>
                      <a:pt x="411" y="255"/>
                    </a:lnTo>
                    <a:lnTo>
                      <a:pt x="437" y="220"/>
                    </a:lnTo>
                    <a:lnTo>
                      <a:pt x="455" y="190"/>
                    </a:lnTo>
                    <a:lnTo>
                      <a:pt x="468" y="164"/>
                    </a:lnTo>
                    <a:lnTo>
                      <a:pt x="474" y="139"/>
                    </a:lnTo>
                    <a:lnTo>
                      <a:pt x="473" y="116"/>
                    </a:lnTo>
                    <a:lnTo>
                      <a:pt x="468" y="93"/>
                    </a:lnTo>
                    <a:lnTo>
                      <a:pt x="459" y="69"/>
                    </a:lnTo>
                    <a:lnTo>
                      <a:pt x="446" y="46"/>
                    </a:lnTo>
                    <a:lnTo>
                      <a:pt x="430" y="27"/>
                    </a:lnTo>
                    <a:lnTo>
                      <a:pt x="410" y="11"/>
                    </a:lnTo>
                    <a:lnTo>
                      <a:pt x="382" y="2"/>
                    </a:lnTo>
                    <a:lnTo>
                      <a:pt x="351" y="0"/>
                    </a:lnTo>
                    <a:lnTo>
                      <a:pt x="312" y="8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161"/>
              <p:cNvSpPr/>
              <p:nvPr/>
            </p:nvSpPr>
            <p:spPr>
              <a:xfrm>
                <a:off x="2421000" y="3618360"/>
                <a:ext cx="362160" cy="37800"/>
              </a:xfrm>
              <a:custGeom>
                <a:avLst/>
                <a:gdLst/>
                <a:ahLst/>
                <a:rect l="l" t="t" r="r" b="b"/>
                <a:pathLst>
                  <a:path w="442" h="110">
                    <a:moveTo>
                      <a:pt x="0" y="85"/>
                    </a:moveTo>
                    <a:lnTo>
                      <a:pt x="3" y="85"/>
                    </a:lnTo>
                    <a:lnTo>
                      <a:pt x="9" y="84"/>
                    </a:lnTo>
                    <a:lnTo>
                      <a:pt x="19" y="83"/>
                    </a:lnTo>
                    <a:lnTo>
                      <a:pt x="32" y="79"/>
                    </a:lnTo>
                    <a:lnTo>
                      <a:pt x="46" y="75"/>
                    </a:lnTo>
                    <a:lnTo>
                      <a:pt x="61" y="71"/>
                    </a:lnTo>
                    <a:lnTo>
                      <a:pt x="76" y="64"/>
                    </a:lnTo>
                    <a:lnTo>
                      <a:pt x="88" y="56"/>
                    </a:lnTo>
                    <a:lnTo>
                      <a:pt x="90" y="55"/>
                    </a:lnTo>
                    <a:lnTo>
                      <a:pt x="93" y="51"/>
                    </a:lnTo>
                    <a:lnTo>
                      <a:pt x="100" y="45"/>
                    </a:lnTo>
                    <a:lnTo>
                      <a:pt x="109" y="37"/>
                    </a:lnTo>
                    <a:lnTo>
                      <a:pt x="119" y="29"/>
                    </a:lnTo>
                    <a:lnTo>
                      <a:pt x="131" y="20"/>
                    </a:lnTo>
                    <a:lnTo>
                      <a:pt x="146" y="13"/>
                    </a:lnTo>
                    <a:lnTo>
                      <a:pt x="161" y="6"/>
                    </a:lnTo>
                    <a:lnTo>
                      <a:pt x="179" y="1"/>
                    </a:lnTo>
                    <a:lnTo>
                      <a:pt x="198" y="0"/>
                    </a:lnTo>
                    <a:lnTo>
                      <a:pt x="218" y="1"/>
                    </a:lnTo>
                    <a:lnTo>
                      <a:pt x="240" y="6"/>
                    </a:lnTo>
                    <a:lnTo>
                      <a:pt x="262" y="17"/>
                    </a:lnTo>
                    <a:lnTo>
                      <a:pt x="285" y="31"/>
                    </a:lnTo>
                    <a:lnTo>
                      <a:pt x="309" y="53"/>
                    </a:lnTo>
                    <a:lnTo>
                      <a:pt x="333" y="80"/>
                    </a:lnTo>
                    <a:lnTo>
                      <a:pt x="335" y="81"/>
                    </a:lnTo>
                    <a:lnTo>
                      <a:pt x="343" y="84"/>
                    </a:lnTo>
                    <a:lnTo>
                      <a:pt x="355" y="89"/>
                    </a:lnTo>
                    <a:lnTo>
                      <a:pt x="369" y="95"/>
                    </a:lnTo>
                    <a:lnTo>
                      <a:pt x="387" y="99"/>
                    </a:lnTo>
                    <a:lnTo>
                      <a:pt x="405" y="103"/>
                    </a:lnTo>
                    <a:lnTo>
                      <a:pt x="423" y="104"/>
                    </a:lnTo>
                    <a:lnTo>
                      <a:pt x="442" y="103"/>
                    </a:lnTo>
                    <a:lnTo>
                      <a:pt x="441" y="104"/>
                    </a:lnTo>
                    <a:lnTo>
                      <a:pt x="437" y="107"/>
                    </a:lnTo>
                    <a:lnTo>
                      <a:pt x="429" y="109"/>
                    </a:lnTo>
                    <a:lnTo>
                      <a:pt x="415" y="110"/>
                    </a:lnTo>
                    <a:lnTo>
                      <a:pt x="393" y="110"/>
                    </a:lnTo>
                    <a:lnTo>
                      <a:pt x="363" y="107"/>
                    </a:lnTo>
                    <a:lnTo>
                      <a:pt x="321" y="96"/>
                    </a:lnTo>
                    <a:lnTo>
                      <a:pt x="270" y="80"/>
                    </a:lnTo>
                    <a:lnTo>
                      <a:pt x="267" y="79"/>
                    </a:lnTo>
                    <a:lnTo>
                      <a:pt x="260" y="74"/>
                    </a:lnTo>
                    <a:lnTo>
                      <a:pt x="248" y="68"/>
                    </a:lnTo>
                    <a:lnTo>
                      <a:pt x="231" y="62"/>
                    </a:lnTo>
                    <a:lnTo>
                      <a:pt x="209" y="58"/>
                    </a:lnTo>
                    <a:lnTo>
                      <a:pt x="184" y="58"/>
                    </a:lnTo>
                    <a:lnTo>
                      <a:pt x="154" y="62"/>
                    </a:lnTo>
                    <a:lnTo>
                      <a:pt x="120" y="71"/>
                    </a:lnTo>
                    <a:lnTo>
                      <a:pt x="119" y="72"/>
                    </a:lnTo>
                    <a:lnTo>
                      <a:pt x="112" y="76"/>
                    </a:lnTo>
                    <a:lnTo>
                      <a:pt x="103" y="81"/>
                    </a:lnTo>
                    <a:lnTo>
                      <a:pt x="90" y="87"/>
                    </a:lnTo>
                    <a:lnTo>
                      <a:pt x="73" y="91"/>
                    </a:lnTo>
                    <a:lnTo>
                      <a:pt x="52" y="92"/>
                    </a:lnTo>
                    <a:lnTo>
                      <a:pt x="28" y="91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162"/>
              <p:cNvSpPr/>
              <p:nvPr/>
            </p:nvSpPr>
            <p:spPr>
              <a:xfrm>
                <a:off x="2421000" y="2874240"/>
                <a:ext cx="386280" cy="69480"/>
              </a:xfrm>
              <a:custGeom>
                <a:avLst/>
                <a:gdLst/>
                <a:ahLst/>
                <a:rect l="l" t="t" r="r" b="b"/>
                <a:pathLst>
                  <a:path w="473" h="165">
                    <a:moveTo>
                      <a:pt x="0" y="0"/>
                    </a:moveTo>
                    <a:lnTo>
                      <a:pt x="4" y="0"/>
                    </a:lnTo>
                    <a:lnTo>
                      <a:pt x="13" y="2"/>
                    </a:lnTo>
                    <a:lnTo>
                      <a:pt x="28" y="4"/>
                    </a:lnTo>
                    <a:lnTo>
                      <a:pt x="48" y="9"/>
                    </a:lnTo>
                    <a:lnTo>
                      <a:pt x="72" y="17"/>
                    </a:lnTo>
                    <a:lnTo>
                      <a:pt x="98" y="28"/>
                    </a:lnTo>
                    <a:lnTo>
                      <a:pt x="129" y="42"/>
                    </a:lnTo>
                    <a:lnTo>
                      <a:pt x="159" y="61"/>
                    </a:lnTo>
                    <a:lnTo>
                      <a:pt x="190" y="78"/>
                    </a:lnTo>
                    <a:lnTo>
                      <a:pt x="221" y="90"/>
                    </a:lnTo>
                    <a:lnTo>
                      <a:pt x="251" y="98"/>
                    </a:lnTo>
                    <a:lnTo>
                      <a:pt x="277" y="100"/>
                    </a:lnTo>
                    <a:lnTo>
                      <a:pt x="300" y="102"/>
                    </a:lnTo>
                    <a:lnTo>
                      <a:pt x="318" y="102"/>
                    </a:lnTo>
                    <a:lnTo>
                      <a:pt x="329" y="100"/>
                    </a:lnTo>
                    <a:lnTo>
                      <a:pt x="333" y="100"/>
                    </a:lnTo>
                    <a:lnTo>
                      <a:pt x="473" y="49"/>
                    </a:lnTo>
                    <a:lnTo>
                      <a:pt x="469" y="53"/>
                    </a:lnTo>
                    <a:lnTo>
                      <a:pt x="457" y="62"/>
                    </a:lnTo>
                    <a:lnTo>
                      <a:pt x="441" y="77"/>
                    </a:lnTo>
                    <a:lnTo>
                      <a:pt x="422" y="94"/>
                    </a:lnTo>
                    <a:lnTo>
                      <a:pt x="401" y="111"/>
                    </a:lnTo>
                    <a:lnTo>
                      <a:pt x="381" y="127"/>
                    </a:lnTo>
                    <a:lnTo>
                      <a:pt x="363" y="141"/>
                    </a:lnTo>
                    <a:lnTo>
                      <a:pt x="350" y="150"/>
                    </a:lnTo>
                    <a:lnTo>
                      <a:pt x="344" y="154"/>
                    </a:lnTo>
                    <a:lnTo>
                      <a:pt x="334" y="157"/>
                    </a:lnTo>
                    <a:lnTo>
                      <a:pt x="323" y="160"/>
                    </a:lnTo>
                    <a:lnTo>
                      <a:pt x="309" y="161"/>
                    </a:lnTo>
                    <a:lnTo>
                      <a:pt x="295" y="164"/>
                    </a:lnTo>
                    <a:lnTo>
                      <a:pt x="279" y="164"/>
                    </a:lnTo>
                    <a:lnTo>
                      <a:pt x="261" y="165"/>
                    </a:lnTo>
                    <a:lnTo>
                      <a:pt x="243" y="164"/>
                    </a:lnTo>
                    <a:lnTo>
                      <a:pt x="224" y="162"/>
                    </a:lnTo>
                    <a:lnTo>
                      <a:pt x="207" y="161"/>
                    </a:lnTo>
                    <a:lnTo>
                      <a:pt x="189" y="157"/>
                    </a:lnTo>
                    <a:lnTo>
                      <a:pt x="172" y="153"/>
                    </a:lnTo>
                    <a:lnTo>
                      <a:pt x="156" y="148"/>
                    </a:lnTo>
                    <a:lnTo>
                      <a:pt x="141" y="141"/>
                    </a:lnTo>
                    <a:lnTo>
                      <a:pt x="127" y="133"/>
                    </a:lnTo>
                    <a:lnTo>
                      <a:pt x="116" y="124"/>
                    </a:lnTo>
                    <a:lnTo>
                      <a:pt x="97" y="103"/>
                    </a:lnTo>
                    <a:lnTo>
                      <a:pt x="81" y="82"/>
                    </a:lnTo>
                    <a:lnTo>
                      <a:pt x="68" y="62"/>
                    </a:lnTo>
                    <a:lnTo>
                      <a:pt x="56" y="42"/>
                    </a:lnTo>
                    <a:lnTo>
                      <a:pt x="43" y="27"/>
                    </a:lnTo>
                    <a:lnTo>
                      <a:pt x="30" y="13"/>
                    </a:lnTo>
                    <a:lnTo>
                      <a:pt x="1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63"/>
              <p:cNvSpPr/>
              <p:nvPr/>
            </p:nvSpPr>
            <p:spPr>
              <a:xfrm>
                <a:off x="2775960" y="2968920"/>
                <a:ext cx="464040" cy="374040"/>
              </a:xfrm>
              <a:custGeom>
                <a:avLst/>
                <a:gdLst/>
                <a:ahLst/>
                <a:rect l="l" t="t" r="r" b="b"/>
                <a:pathLst>
                  <a:path w="570" h="953">
                    <a:moveTo>
                      <a:pt x="443" y="29"/>
                    </a:moveTo>
                    <a:lnTo>
                      <a:pt x="440" y="26"/>
                    </a:lnTo>
                    <a:lnTo>
                      <a:pt x="432" y="19"/>
                    </a:lnTo>
                    <a:lnTo>
                      <a:pt x="418" y="13"/>
                    </a:lnTo>
                    <a:lnTo>
                      <a:pt x="400" y="5"/>
                    </a:lnTo>
                    <a:lnTo>
                      <a:pt x="377" y="0"/>
                    </a:lnTo>
                    <a:lnTo>
                      <a:pt x="351" y="0"/>
                    </a:lnTo>
                    <a:lnTo>
                      <a:pt x="322" y="5"/>
                    </a:lnTo>
                    <a:lnTo>
                      <a:pt x="289" y="19"/>
                    </a:lnTo>
                    <a:lnTo>
                      <a:pt x="258" y="35"/>
                    </a:lnTo>
                    <a:lnTo>
                      <a:pt x="233" y="44"/>
                    </a:lnTo>
                    <a:lnTo>
                      <a:pt x="210" y="48"/>
                    </a:lnTo>
                    <a:lnTo>
                      <a:pt x="191" y="51"/>
                    </a:lnTo>
                    <a:lnTo>
                      <a:pt x="175" y="52"/>
                    </a:lnTo>
                    <a:lnTo>
                      <a:pt x="160" y="56"/>
                    </a:lnTo>
                    <a:lnTo>
                      <a:pt x="146" y="65"/>
                    </a:lnTo>
                    <a:lnTo>
                      <a:pt x="132" y="80"/>
                    </a:lnTo>
                    <a:lnTo>
                      <a:pt x="104" y="126"/>
                    </a:lnTo>
                    <a:lnTo>
                      <a:pt x="81" y="180"/>
                    </a:lnTo>
                    <a:lnTo>
                      <a:pt x="63" y="241"/>
                    </a:lnTo>
                    <a:lnTo>
                      <a:pt x="47" y="304"/>
                    </a:lnTo>
                    <a:lnTo>
                      <a:pt x="36" y="366"/>
                    </a:lnTo>
                    <a:lnTo>
                      <a:pt x="26" y="425"/>
                    </a:lnTo>
                    <a:lnTo>
                      <a:pt x="17" y="479"/>
                    </a:lnTo>
                    <a:lnTo>
                      <a:pt x="8" y="524"/>
                    </a:lnTo>
                    <a:lnTo>
                      <a:pt x="2" y="569"/>
                    </a:lnTo>
                    <a:lnTo>
                      <a:pt x="0" y="623"/>
                    </a:lnTo>
                    <a:lnTo>
                      <a:pt x="2" y="679"/>
                    </a:lnTo>
                    <a:lnTo>
                      <a:pt x="8" y="736"/>
                    </a:lnTo>
                    <a:lnTo>
                      <a:pt x="18" y="788"/>
                    </a:lnTo>
                    <a:lnTo>
                      <a:pt x="34" y="832"/>
                    </a:lnTo>
                    <a:lnTo>
                      <a:pt x="54" y="864"/>
                    </a:lnTo>
                    <a:lnTo>
                      <a:pt x="79" y="878"/>
                    </a:lnTo>
                    <a:lnTo>
                      <a:pt x="104" y="885"/>
                    </a:lnTo>
                    <a:lnTo>
                      <a:pt x="127" y="893"/>
                    </a:lnTo>
                    <a:lnTo>
                      <a:pt x="146" y="904"/>
                    </a:lnTo>
                    <a:lnTo>
                      <a:pt x="165" y="915"/>
                    </a:lnTo>
                    <a:lnTo>
                      <a:pt x="181" y="927"/>
                    </a:lnTo>
                    <a:lnTo>
                      <a:pt x="197" y="937"/>
                    </a:lnTo>
                    <a:lnTo>
                      <a:pt x="212" y="947"/>
                    </a:lnTo>
                    <a:lnTo>
                      <a:pt x="229" y="952"/>
                    </a:lnTo>
                    <a:lnTo>
                      <a:pt x="238" y="953"/>
                    </a:lnTo>
                    <a:lnTo>
                      <a:pt x="249" y="953"/>
                    </a:lnTo>
                    <a:lnTo>
                      <a:pt x="260" y="950"/>
                    </a:lnTo>
                    <a:lnTo>
                      <a:pt x="274" y="947"/>
                    </a:lnTo>
                    <a:lnTo>
                      <a:pt x="288" y="940"/>
                    </a:lnTo>
                    <a:lnTo>
                      <a:pt x="303" y="933"/>
                    </a:lnTo>
                    <a:lnTo>
                      <a:pt x="320" y="924"/>
                    </a:lnTo>
                    <a:lnTo>
                      <a:pt x="336" y="914"/>
                    </a:lnTo>
                    <a:lnTo>
                      <a:pt x="354" y="902"/>
                    </a:lnTo>
                    <a:lnTo>
                      <a:pt x="370" y="887"/>
                    </a:lnTo>
                    <a:lnTo>
                      <a:pt x="388" y="873"/>
                    </a:lnTo>
                    <a:lnTo>
                      <a:pt x="405" y="857"/>
                    </a:lnTo>
                    <a:lnTo>
                      <a:pt x="423" y="840"/>
                    </a:lnTo>
                    <a:lnTo>
                      <a:pt x="440" y="820"/>
                    </a:lnTo>
                    <a:lnTo>
                      <a:pt x="457" y="800"/>
                    </a:lnTo>
                    <a:lnTo>
                      <a:pt x="473" y="779"/>
                    </a:lnTo>
                    <a:lnTo>
                      <a:pt x="511" y="711"/>
                    </a:lnTo>
                    <a:lnTo>
                      <a:pt x="541" y="623"/>
                    </a:lnTo>
                    <a:lnTo>
                      <a:pt x="561" y="520"/>
                    </a:lnTo>
                    <a:lnTo>
                      <a:pt x="570" y="411"/>
                    </a:lnTo>
                    <a:lnTo>
                      <a:pt x="564" y="300"/>
                    </a:lnTo>
                    <a:lnTo>
                      <a:pt x="543" y="195"/>
                    </a:lnTo>
                    <a:lnTo>
                      <a:pt x="502" y="102"/>
                    </a:lnTo>
                    <a:lnTo>
                      <a:pt x="443" y="29"/>
                    </a:lnTo>
                    <a:close/>
                  </a:path>
                </a:pathLst>
              </a:custGeom>
              <a:solidFill>
                <a:srgbClr val="ff72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Freeform 164"/>
              <p:cNvSpPr/>
              <p:nvPr/>
            </p:nvSpPr>
            <p:spPr>
              <a:xfrm>
                <a:off x="2900520" y="3081240"/>
                <a:ext cx="242280" cy="199440"/>
              </a:xfrm>
              <a:custGeom>
                <a:avLst/>
                <a:gdLst/>
                <a:ahLst/>
                <a:rect l="l" t="t" r="r" b="b"/>
                <a:pathLst>
                  <a:path w="297" h="507">
                    <a:moveTo>
                      <a:pt x="231" y="15"/>
                    </a:moveTo>
                    <a:lnTo>
                      <a:pt x="229" y="14"/>
                    </a:lnTo>
                    <a:lnTo>
                      <a:pt x="224" y="11"/>
                    </a:lnTo>
                    <a:lnTo>
                      <a:pt x="218" y="7"/>
                    </a:lnTo>
                    <a:lnTo>
                      <a:pt x="208" y="3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68" y="3"/>
                    </a:lnTo>
                    <a:lnTo>
                      <a:pt x="151" y="11"/>
                    </a:lnTo>
                    <a:lnTo>
                      <a:pt x="136" y="19"/>
                    </a:lnTo>
                    <a:lnTo>
                      <a:pt x="122" y="24"/>
                    </a:lnTo>
                    <a:lnTo>
                      <a:pt x="111" y="27"/>
                    </a:lnTo>
                    <a:lnTo>
                      <a:pt x="102" y="28"/>
                    </a:lnTo>
                    <a:lnTo>
                      <a:pt x="93" y="29"/>
                    </a:lnTo>
                    <a:lnTo>
                      <a:pt x="86" y="31"/>
                    </a:lnTo>
                    <a:lnTo>
                      <a:pt x="78" y="35"/>
                    </a:lnTo>
                    <a:lnTo>
                      <a:pt x="71" y="43"/>
                    </a:lnTo>
                    <a:lnTo>
                      <a:pt x="57" y="66"/>
                    </a:lnTo>
                    <a:lnTo>
                      <a:pt x="44" y="95"/>
                    </a:lnTo>
                    <a:lnTo>
                      <a:pt x="35" y="127"/>
                    </a:lnTo>
                    <a:lnTo>
                      <a:pt x="26" y="158"/>
                    </a:lnTo>
                    <a:lnTo>
                      <a:pt x="20" y="191"/>
                    </a:lnTo>
                    <a:lnTo>
                      <a:pt x="15" y="223"/>
                    </a:lnTo>
                    <a:lnTo>
                      <a:pt x="10" y="252"/>
                    </a:lnTo>
                    <a:lnTo>
                      <a:pt x="5" y="276"/>
                    </a:lnTo>
                    <a:lnTo>
                      <a:pt x="1" y="299"/>
                    </a:lnTo>
                    <a:lnTo>
                      <a:pt x="0" y="328"/>
                    </a:lnTo>
                    <a:lnTo>
                      <a:pt x="1" y="359"/>
                    </a:lnTo>
                    <a:lnTo>
                      <a:pt x="4" y="389"/>
                    </a:lnTo>
                    <a:lnTo>
                      <a:pt x="9" y="418"/>
                    </a:lnTo>
                    <a:lnTo>
                      <a:pt x="16" y="442"/>
                    </a:lnTo>
                    <a:lnTo>
                      <a:pt x="26" y="459"/>
                    </a:lnTo>
                    <a:lnTo>
                      <a:pt x="39" y="467"/>
                    </a:lnTo>
                    <a:lnTo>
                      <a:pt x="53" y="471"/>
                    </a:lnTo>
                    <a:lnTo>
                      <a:pt x="64" y="475"/>
                    </a:lnTo>
                    <a:lnTo>
                      <a:pt x="76" y="481"/>
                    </a:lnTo>
                    <a:lnTo>
                      <a:pt x="84" y="486"/>
                    </a:lnTo>
                    <a:lnTo>
                      <a:pt x="93" y="493"/>
                    </a:lnTo>
                    <a:lnTo>
                      <a:pt x="102" y="500"/>
                    </a:lnTo>
                    <a:lnTo>
                      <a:pt x="110" y="503"/>
                    </a:lnTo>
                    <a:lnTo>
                      <a:pt x="118" y="507"/>
                    </a:lnTo>
                    <a:lnTo>
                      <a:pt x="128" y="507"/>
                    </a:lnTo>
                    <a:lnTo>
                      <a:pt x="142" y="503"/>
                    </a:lnTo>
                    <a:lnTo>
                      <a:pt x="157" y="497"/>
                    </a:lnTo>
                    <a:lnTo>
                      <a:pt x="175" y="485"/>
                    </a:lnTo>
                    <a:lnTo>
                      <a:pt x="194" y="472"/>
                    </a:lnTo>
                    <a:lnTo>
                      <a:pt x="212" y="455"/>
                    </a:lnTo>
                    <a:lnTo>
                      <a:pt x="231" y="435"/>
                    </a:lnTo>
                    <a:lnTo>
                      <a:pt x="248" y="413"/>
                    </a:lnTo>
                    <a:lnTo>
                      <a:pt x="268" y="376"/>
                    </a:lnTo>
                    <a:lnTo>
                      <a:pt x="283" y="328"/>
                    </a:lnTo>
                    <a:lnTo>
                      <a:pt x="294" y="274"/>
                    </a:lnTo>
                    <a:lnTo>
                      <a:pt x="297" y="215"/>
                    </a:lnTo>
                    <a:lnTo>
                      <a:pt x="294" y="157"/>
                    </a:lnTo>
                    <a:lnTo>
                      <a:pt x="282" y="102"/>
                    </a:lnTo>
                    <a:lnTo>
                      <a:pt x="262" y="53"/>
                    </a:lnTo>
                    <a:lnTo>
                      <a:pt x="231" y="15"/>
                    </a:lnTo>
                    <a:close/>
                  </a:path>
                </a:pathLst>
              </a:custGeom>
              <a:solidFill>
                <a:srgbClr val="ffa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165"/>
              <p:cNvSpPr/>
              <p:nvPr/>
            </p:nvSpPr>
            <p:spPr>
              <a:xfrm>
                <a:off x="2533680" y="2856600"/>
                <a:ext cx="329760" cy="54360"/>
              </a:xfrm>
              <a:custGeom>
                <a:avLst/>
                <a:gdLst/>
                <a:ahLst/>
                <a:rect l="l" t="t" r="r" b="b"/>
                <a:pathLst>
                  <a:path w="406" h="150">
                    <a:moveTo>
                      <a:pt x="29" y="82"/>
                    </a:moveTo>
                    <a:lnTo>
                      <a:pt x="29" y="75"/>
                    </a:lnTo>
                    <a:lnTo>
                      <a:pt x="27" y="61"/>
                    </a:lnTo>
                    <a:lnTo>
                      <a:pt x="23" y="44"/>
                    </a:lnTo>
                    <a:lnTo>
                      <a:pt x="14" y="29"/>
                    </a:lnTo>
                    <a:lnTo>
                      <a:pt x="5" y="17"/>
                    </a:lnTo>
                    <a:lnTo>
                      <a:pt x="0" y="8"/>
                    </a:lnTo>
                    <a:lnTo>
                      <a:pt x="3" y="1"/>
                    </a:lnTo>
                    <a:lnTo>
                      <a:pt x="14" y="0"/>
                    </a:lnTo>
                    <a:lnTo>
                      <a:pt x="25" y="1"/>
                    </a:lnTo>
                    <a:lnTo>
                      <a:pt x="41" y="4"/>
                    </a:lnTo>
                    <a:lnTo>
                      <a:pt x="58" y="7"/>
                    </a:lnTo>
                    <a:lnTo>
                      <a:pt x="77" y="9"/>
                    </a:lnTo>
                    <a:lnTo>
                      <a:pt x="96" y="13"/>
                    </a:lnTo>
                    <a:lnTo>
                      <a:pt x="114" y="17"/>
                    </a:lnTo>
                    <a:lnTo>
                      <a:pt x="130" y="20"/>
                    </a:lnTo>
                    <a:lnTo>
                      <a:pt x="144" y="22"/>
                    </a:lnTo>
                    <a:lnTo>
                      <a:pt x="158" y="24"/>
                    </a:lnTo>
                    <a:lnTo>
                      <a:pt x="174" y="24"/>
                    </a:lnTo>
                    <a:lnTo>
                      <a:pt x="193" y="24"/>
                    </a:lnTo>
                    <a:lnTo>
                      <a:pt x="214" y="22"/>
                    </a:lnTo>
                    <a:lnTo>
                      <a:pt x="235" y="21"/>
                    </a:lnTo>
                    <a:lnTo>
                      <a:pt x="253" y="19"/>
                    </a:lnTo>
                    <a:lnTo>
                      <a:pt x="270" y="16"/>
                    </a:lnTo>
                    <a:lnTo>
                      <a:pt x="284" y="13"/>
                    </a:lnTo>
                    <a:lnTo>
                      <a:pt x="295" y="11"/>
                    </a:lnTo>
                    <a:lnTo>
                      <a:pt x="308" y="8"/>
                    </a:lnTo>
                    <a:lnTo>
                      <a:pt x="319" y="5"/>
                    </a:lnTo>
                    <a:lnTo>
                      <a:pt x="332" y="3"/>
                    </a:lnTo>
                    <a:lnTo>
                      <a:pt x="343" y="3"/>
                    </a:lnTo>
                    <a:lnTo>
                      <a:pt x="355" y="3"/>
                    </a:lnTo>
                    <a:lnTo>
                      <a:pt x="368" y="4"/>
                    </a:lnTo>
                    <a:lnTo>
                      <a:pt x="381" y="8"/>
                    </a:lnTo>
                    <a:lnTo>
                      <a:pt x="400" y="20"/>
                    </a:lnTo>
                    <a:lnTo>
                      <a:pt x="406" y="37"/>
                    </a:lnTo>
                    <a:lnTo>
                      <a:pt x="401" y="53"/>
                    </a:lnTo>
                    <a:lnTo>
                      <a:pt x="387" y="66"/>
                    </a:lnTo>
                    <a:lnTo>
                      <a:pt x="377" y="71"/>
                    </a:lnTo>
                    <a:lnTo>
                      <a:pt x="364" y="76"/>
                    </a:lnTo>
                    <a:lnTo>
                      <a:pt x="352" y="83"/>
                    </a:lnTo>
                    <a:lnTo>
                      <a:pt x="339" y="90"/>
                    </a:lnTo>
                    <a:lnTo>
                      <a:pt x="328" y="96"/>
                    </a:lnTo>
                    <a:lnTo>
                      <a:pt x="319" y="102"/>
                    </a:lnTo>
                    <a:lnTo>
                      <a:pt x="313" y="104"/>
                    </a:lnTo>
                    <a:lnTo>
                      <a:pt x="310" y="105"/>
                    </a:lnTo>
                    <a:lnTo>
                      <a:pt x="250" y="129"/>
                    </a:lnTo>
                    <a:lnTo>
                      <a:pt x="245" y="130"/>
                    </a:lnTo>
                    <a:lnTo>
                      <a:pt x="233" y="132"/>
                    </a:lnTo>
                    <a:lnTo>
                      <a:pt x="216" y="136"/>
                    </a:lnTo>
                    <a:lnTo>
                      <a:pt x="195" y="140"/>
                    </a:lnTo>
                    <a:lnTo>
                      <a:pt x="175" y="144"/>
                    </a:lnTo>
                    <a:lnTo>
                      <a:pt x="156" y="146"/>
                    </a:lnTo>
                    <a:lnTo>
                      <a:pt x="143" y="149"/>
                    </a:lnTo>
                    <a:lnTo>
                      <a:pt x="136" y="150"/>
                    </a:lnTo>
                    <a:lnTo>
                      <a:pt x="133" y="149"/>
                    </a:lnTo>
                    <a:lnTo>
                      <a:pt x="125" y="146"/>
                    </a:lnTo>
                    <a:lnTo>
                      <a:pt x="114" y="141"/>
                    </a:lnTo>
                    <a:lnTo>
                      <a:pt x="101" y="133"/>
                    </a:lnTo>
                    <a:lnTo>
                      <a:pt x="85" y="123"/>
                    </a:lnTo>
                    <a:lnTo>
                      <a:pt x="68" y="111"/>
                    </a:lnTo>
                    <a:lnTo>
                      <a:pt x="49" y="98"/>
                    </a:lnTo>
                    <a:lnTo>
                      <a:pt x="29" y="82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166"/>
              <p:cNvSpPr/>
              <p:nvPr/>
            </p:nvSpPr>
            <p:spPr>
              <a:xfrm>
                <a:off x="1817280" y="2906280"/>
                <a:ext cx="425160" cy="705960"/>
              </a:xfrm>
              <a:custGeom>
                <a:avLst/>
                <a:gdLst/>
                <a:ahLst/>
                <a:rect l="l" t="t" r="r" b="b"/>
                <a:pathLst>
                  <a:path w="521" h="1794">
                    <a:moveTo>
                      <a:pt x="221" y="0"/>
                    </a:moveTo>
                    <a:lnTo>
                      <a:pt x="217" y="4"/>
                    </a:lnTo>
                    <a:lnTo>
                      <a:pt x="204" y="14"/>
                    </a:lnTo>
                    <a:lnTo>
                      <a:pt x="187" y="33"/>
                    </a:lnTo>
                    <a:lnTo>
                      <a:pt x="164" y="58"/>
                    </a:lnTo>
                    <a:lnTo>
                      <a:pt x="139" y="92"/>
                    </a:lnTo>
                    <a:lnTo>
                      <a:pt x="113" y="134"/>
                    </a:lnTo>
                    <a:lnTo>
                      <a:pt x="85" y="184"/>
                    </a:lnTo>
                    <a:lnTo>
                      <a:pt x="60" y="244"/>
                    </a:lnTo>
                    <a:lnTo>
                      <a:pt x="37" y="312"/>
                    </a:lnTo>
                    <a:lnTo>
                      <a:pt x="18" y="388"/>
                    </a:lnTo>
                    <a:lnTo>
                      <a:pt x="5" y="475"/>
                    </a:lnTo>
                    <a:lnTo>
                      <a:pt x="0" y="570"/>
                    </a:lnTo>
                    <a:lnTo>
                      <a:pt x="4" y="676"/>
                    </a:lnTo>
                    <a:lnTo>
                      <a:pt x="19" y="791"/>
                    </a:lnTo>
                    <a:lnTo>
                      <a:pt x="46" y="918"/>
                    </a:lnTo>
                    <a:lnTo>
                      <a:pt x="85" y="1053"/>
                    </a:lnTo>
                    <a:lnTo>
                      <a:pt x="89" y="1060"/>
                    </a:lnTo>
                    <a:lnTo>
                      <a:pt x="100" y="1080"/>
                    </a:lnTo>
                    <a:lnTo>
                      <a:pt x="116" y="1111"/>
                    </a:lnTo>
                    <a:lnTo>
                      <a:pt x="139" y="1152"/>
                    </a:lnTo>
                    <a:lnTo>
                      <a:pt x="165" y="1201"/>
                    </a:lnTo>
                    <a:lnTo>
                      <a:pt x="196" y="1256"/>
                    </a:lnTo>
                    <a:lnTo>
                      <a:pt x="230" y="1317"/>
                    </a:lnTo>
                    <a:lnTo>
                      <a:pt x="265" y="1380"/>
                    </a:lnTo>
                    <a:lnTo>
                      <a:pt x="301" y="1443"/>
                    </a:lnTo>
                    <a:lnTo>
                      <a:pt x="338" y="1508"/>
                    </a:lnTo>
                    <a:lnTo>
                      <a:pt x="375" y="1570"/>
                    </a:lnTo>
                    <a:lnTo>
                      <a:pt x="410" y="1629"/>
                    </a:lnTo>
                    <a:lnTo>
                      <a:pt x="443" y="1682"/>
                    </a:lnTo>
                    <a:lnTo>
                      <a:pt x="473" y="1728"/>
                    </a:lnTo>
                    <a:lnTo>
                      <a:pt x="499" y="1766"/>
                    </a:lnTo>
                    <a:lnTo>
                      <a:pt x="521" y="1794"/>
                    </a:lnTo>
                    <a:lnTo>
                      <a:pt x="517" y="1787"/>
                    </a:lnTo>
                    <a:lnTo>
                      <a:pt x="507" y="1769"/>
                    </a:lnTo>
                    <a:lnTo>
                      <a:pt x="492" y="1740"/>
                    </a:lnTo>
                    <a:lnTo>
                      <a:pt x="472" y="1703"/>
                    </a:lnTo>
                    <a:lnTo>
                      <a:pt x="448" y="1657"/>
                    </a:lnTo>
                    <a:lnTo>
                      <a:pt x="419" y="1605"/>
                    </a:lnTo>
                    <a:lnTo>
                      <a:pt x="388" y="1549"/>
                    </a:lnTo>
                    <a:lnTo>
                      <a:pt x="357" y="1488"/>
                    </a:lnTo>
                    <a:lnTo>
                      <a:pt x="323" y="1426"/>
                    </a:lnTo>
                    <a:lnTo>
                      <a:pt x="289" y="1363"/>
                    </a:lnTo>
                    <a:lnTo>
                      <a:pt x="255" y="1301"/>
                    </a:lnTo>
                    <a:lnTo>
                      <a:pt x="223" y="1241"/>
                    </a:lnTo>
                    <a:lnTo>
                      <a:pt x="193" y="1184"/>
                    </a:lnTo>
                    <a:lnTo>
                      <a:pt x="164" y="1131"/>
                    </a:lnTo>
                    <a:lnTo>
                      <a:pt x="140" y="1085"/>
                    </a:lnTo>
                    <a:lnTo>
                      <a:pt x="120" y="1047"/>
                    </a:lnTo>
                    <a:lnTo>
                      <a:pt x="118" y="1040"/>
                    </a:lnTo>
                    <a:lnTo>
                      <a:pt x="111" y="1021"/>
                    </a:lnTo>
                    <a:lnTo>
                      <a:pt x="101" y="989"/>
                    </a:lnTo>
                    <a:lnTo>
                      <a:pt x="90" y="945"/>
                    </a:lnTo>
                    <a:lnTo>
                      <a:pt x="77" y="894"/>
                    </a:lnTo>
                    <a:lnTo>
                      <a:pt x="66" y="834"/>
                    </a:lnTo>
                    <a:lnTo>
                      <a:pt x="56" y="765"/>
                    </a:lnTo>
                    <a:lnTo>
                      <a:pt x="48" y="691"/>
                    </a:lnTo>
                    <a:lnTo>
                      <a:pt x="43" y="611"/>
                    </a:lnTo>
                    <a:lnTo>
                      <a:pt x="44" y="528"/>
                    </a:lnTo>
                    <a:lnTo>
                      <a:pt x="52" y="441"/>
                    </a:lnTo>
                    <a:lnTo>
                      <a:pt x="67" y="352"/>
                    </a:lnTo>
                    <a:lnTo>
                      <a:pt x="90" y="262"/>
                    </a:lnTo>
                    <a:lnTo>
                      <a:pt x="123" y="172"/>
                    </a:lnTo>
                    <a:lnTo>
                      <a:pt x="165" y="85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67"/>
              <p:cNvSpPr/>
              <p:nvPr/>
            </p:nvSpPr>
            <p:spPr>
              <a:xfrm>
                <a:off x="2475000" y="2887560"/>
                <a:ext cx="283680" cy="46800"/>
              </a:xfrm>
              <a:custGeom>
                <a:avLst/>
                <a:gdLst/>
                <a:ahLst/>
                <a:rect l="l" t="t" r="r" b="b"/>
                <a:pathLst>
                  <a:path w="350" h="120">
                    <a:moveTo>
                      <a:pt x="0" y="0"/>
                    </a:moveTo>
                    <a:lnTo>
                      <a:pt x="5" y="4"/>
                    </a:lnTo>
                    <a:lnTo>
                      <a:pt x="16" y="16"/>
                    </a:lnTo>
                    <a:lnTo>
                      <a:pt x="35" y="32"/>
                    </a:lnTo>
                    <a:lnTo>
                      <a:pt x="59" y="50"/>
                    </a:lnTo>
                    <a:lnTo>
                      <a:pt x="85" y="69"/>
                    </a:lnTo>
                    <a:lnTo>
                      <a:pt x="113" y="87"/>
                    </a:lnTo>
                    <a:lnTo>
                      <a:pt x="141" y="102"/>
                    </a:lnTo>
                    <a:lnTo>
                      <a:pt x="166" y="110"/>
                    </a:lnTo>
                    <a:lnTo>
                      <a:pt x="190" y="115"/>
                    </a:lnTo>
                    <a:lnTo>
                      <a:pt x="215" y="118"/>
                    </a:lnTo>
                    <a:lnTo>
                      <a:pt x="240" y="120"/>
                    </a:lnTo>
                    <a:lnTo>
                      <a:pt x="264" y="119"/>
                    </a:lnTo>
                    <a:lnTo>
                      <a:pt x="287" y="116"/>
                    </a:lnTo>
                    <a:lnTo>
                      <a:pt x="306" y="111"/>
                    </a:lnTo>
                    <a:lnTo>
                      <a:pt x="321" y="102"/>
                    </a:lnTo>
                    <a:lnTo>
                      <a:pt x="331" y="90"/>
                    </a:lnTo>
                    <a:lnTo>
                      <a:pt x="350" y="61"/>
                    </a:lnTo>
                    <a:lnTo>
                      <a:pt x="345" y="62"/>
                    </a:lnTo>
                    <a:lnTo>
                      <a:pt x="331" y="68"/>
                    </a:lnTo>
                    <a:lnTo>
                      <a:pt x="311" y="73"/>
                    </a:lnTo>
                    <a:lnTo>
                      <a:pt x="286" y="78"/>
                    </a:lnTo>
                    <a:lnTo>
                      <a:pt x="255" y="82"/>
                    </a:lnTo>
                    <a:lnTo>
                      <a:pt x="225" y="83"/>
                    </a:lnTo>
                    <a:lnTo>
                      <a:pt x="195" y="79"/>
                    </a:lnTo>
                    <a:lnTo>
                      <a:pt x="167" y="70"/>
                    </a:lnTo>
                    <a:lnTo>
                      <a:pt x="163" y="68"/>
                    </a:lnTo>
                    <a:lnTo>
                      <a:pt x="153" y="60"/>
                    </a:lnTo>
                    <a:lnTo>
                      <a:pt x="137" y="49"/>
                    </a:lnTo>
                    <a:lnTo>
                      <a:pt x="116" y="37"/>
                    </a:lnTo>
                    <a:lnTo>
                      <a:pt x="90" y="25"/>
                    </a:lnTo>
                    <a:lnTo>
                      <a:pt x="61" y="14"/>
                    </a:lnTo>
                    <a:lnTo>
                      <a:pt x="3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168"/>
              <p:cNvSpPr/>
              <p:nvPr/>
            </p:nvSpPr>
            <p:spPr>
              <a:xfrm>
                <a:off x="1944000" y="2960640"/>
                <a:ext cx="230040" cy="361440"/>
              </a:xfrm>
              <a:custGeom>
                <a:avLst/>
                <a:gdLst/>
                <a:ahLst/>
                <a:rect l="l" t="t" r="r" b="b"/>
                <a:pathLst>
                  <a:path w="281" h="918">
                    <a:moveTo>
                      <a:pt x="232" y="13"/>
                    </a:moveTo>
                    <a:lnTo>
                      <a:pt x="227" y="14"/>
                    </a:lnTo>
                    <a:lnTo>
                      <a:pt x="215" y="21"/>
                    </a:lnTo>
                    <a:lnTo>
                      <a:pt x="196" y="31"/>
                    </a:lnTo>
                    <a:lnTo>
                      <a:pt x="173" y="47"/>
                    </a:lnTo>
                    <a:lnTo>
                      <a:pt x="145" y="71"/>
                    </a:lnTo>
                    <a:lnTo>
                      <a:pt x="116" y="101"/>
                    </a:lnTo>
                    <a:lnTo>
                      <a:pt x="87" y="141"/>
                    </a:lnTo>
                    <a:lnTo>
                      <a:pt x="60" y="189"/>
                    </a:lnTo>
                    <a:lnTo>
                      <a:pt x="39" y="236"/>
                    </a:lnTo>
                    <a:lnTo>
                      <a:pt x="22" y="290"/>
                    </a:lnTo>
                    <a:lnTo>
                      <a:pt x="8" y="355"/>
                    </a:lnTo>
                    <a:lnTo>
                      <a:pt x="0" y="431"/>
                    </a:lnTo>
                    <a:lnTo>
                      <a:pt x="0" y="520"/>
                    </a:lnTo>
                    <a:lnTo>
                      <a:pt x="12" y="621"/>
                    </a:lnTo>
                    <a:lnTo>
                      <a:pt x="33" y="737"/>
                    </a:lnTo>
                    <a:lnTo>
                      <a:pt x="70" y="869"/>
                    </a:lnTo>
                    <a:lnTo>
                      <a:pt x="73" y="874"/>
                    </a:lnTo>
                    <a:lnTo>
                      <a:pt x="82" y="885"/>
                    </a:lnTo>
                    <a:lnTo>
                      <a:pt x="95" y="899"/>
                    </a:lnTo>
                    <a:lnTo>
                      <a:pt x="109" y="911"/>
                    </a:lnTo>
                    <a:lnTo>
                      <a:pt x="121" y="918"/>
                    </a:lnTo>
                    <a:lnTo>
                      <a:pt x="131" y="915"/>
                    </a:lnTo>
                    <a:lnTo>
                      <a:pt x="135" y="898"/>
                    </a:lnTo>
                    <a:lnTo>
                      <a:pt x="131" y="862"/>
                    </a:lnTo>
                    <a:lnTo>
                      <a:pt x="126" y="848"/>
                    </a:lnTo>
                    <a:lnTo>
                      <a:pt x="114" y="808"/>
                    </a:lnTo>
                    <a:lnTo>
                      <a:pt x="97" y="748"/>
                    </a:lnTo>
                    <a:lnTo>
                      <a:pt x="84" y="666"/>
                    </a:lnTo>
                    <a:lnTo>
                      <a:pt x="75" y="571"/>
                    </a:lnTo>
                    <a:lnTo>
                      <a:pt x="78" y="462"/>
                    </a:lnTo>
                    <a:lnTo>
                      <a:pt x="96" y="345"/>
                    </a:lnTo>
                    <a:lnTo>
                      <a:pt x="135" y="222"/>
                    </a:lnTo>
                    <a:lnTo>
                      <a:pt x="136" y="218"/>
                    </a:lnTo>
                    <a:lnTo>
                      <a:pt x="143" y="207"/>
                    </a:lnTo>
                    <a:lnTo>
                      <a:pt x="152" y="188"/>
                    </a:lnTo>
                    <a:lnTo>
                      <a:pt x="167" y="166"/>
                    </a:lnTo>
                    <a:lnTo>
                      <a:pt x="186" y="139"/>
                    </a:lnTo>
                    <a:lnTo>
                      <a:pt x="211" y="112"/>
                    </a:lnTo>
                    <a:lnTo>
                      <a:pt x="242" y="83"/>
                    </a:lnTo>
                    <a:lnTo>
                      <a:pt x="280" y="54"/>
                    </a:lnTo>
                    <a:lnTo>
                      <a:pt x="280" y="50"/>
                    </a:lnTo>
                    <a:lnTo>
                      <a:pt x="281" y="41"/>
                    </a:lnTo>
                    <a:lnTo>
                      <a:pt x="281" y="29"/>
                    </a:lnTo>
                    <a:lnTo>
                      <a:pt x="280" y="16"/>
                    </a:lnTo>
                    <a:lnTo>
                      <a:pt x="275" y="5"/>
                    </a:lnTo>
                    <a:lnTo>
                      <a:pt x="266" y="0"/>
                    </a:lnTo>
                    <a:lnTo>
                      <a:pt x="252" y="1"/>
                    </a:lnTo>
                    <a:lnTo>
                      <a:pt x="232" y="13"/>
                    </a:lnTo>
                    <a:close/>
                  </a:path>
                </a:pathLst>
              </a:custGeom>
              <a:solidFill>
                <a:srgbClr val="91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169"/>
              <p:cNvSpPr/>
              <p:nvPr/>
            </p:nvSpPr>
            <p:spPr>
              <a:xfrm>
                <a:off x="2428200" y="3632400"/>
                <a:ext cx="308160" cy="33120"/>
              </a:xfrm>
              <a:custGeom>
                <a:avLst/>
                <a:gdLst/>
                <a:ahLst/>
                <a:rect l="l" t="t" r="r" b="b"/>
                <a:pathLst>
                  <a:path w="379" h="95">
                    <a:moveTo>
                      <a:pt x="0" y="71"/>
                    </a:moveTo>
                    <a:lnTo>
                      <a:pt x="4" y="70"/>
                    </a:lnTo>
                    <a:lnTo>
                      <a:pt x="15" y="66"/>
                    </a:lnTo>
                    <a:lnTo>
                      <a:pt x="31" y="60"/>
                    </a:lnTo>
                    <a:lnTo>
                      <a:pt x="51" y="54"/>
                    </a:lnTo>
                    <a:lnTo>
                      <a:pt x="73" y="46"/>
                    </a:lnTo>
                    <a:lnTo>
                      <a:pt x="94" y="37"/>
                    </a:lnTo>
                    <a:lnTo>
                      <a:pt x="113" y="29"/>
                    </a:lnTo>
                    <a:lnTo>
                      <a:pt x="128" y="19"/>
                    </a:lnTo>
                    <a:lnTo>
                      <a:pt x="142" y="12"/>
                    </a:lnTo>
                    <a:lnTo>
                      <a:pt x="157" y="5"/>
                    </a:lnTo>
                    <a:lnTo>
                      <a:pt x="175" y="1"/>
                    </a:lnTo>
                    <a:lnTo>
                      <a:pt x="195" y="0"/>
                    </a:lnTo>
                    <a:lnTo>
                      <a:pt x="218" y="2"/>
                    </a:lnTo>
                    <a:lnTo>
                      <a:pt x="243" y="9"/>
                    </a:lnTo>
                    <a:lnTo>
                      <a:pt x="272" y="19"/>
                    </a:lnTo>
                    <a:lnTo>
                      <a:pt x="302" y="37"/>
                    </a:lnTo>
                    <a:lnTo>
                      <a:pt x="379" y="95"/>
                    </a:lnTo>
                    <a:lnTo>
                      <a:pt x="376" y="95"/>
                    </a:lnTo>
                    <a:lnTo>
                      <a:pt x="368" y="95"/>
                    </a:lnTo>
                    <a:lnTo>
                      <a:pt x="355" y="93"/>
                    </a:lnTo>
                    <a:lnTo>
                      <a:pt x="340" y="92"/>
                    </a:lnTo>
                    <a:lnTo>
                      <a:pt x="323" y="89"/>
                    </a:lnTo>
                    <a:lnTo>
                      <a:pt x="306" y="85"/>
                    </a:lnTo>
                    <a:lnTo>
                      <a:pt x="291" y="80"/>
                    </a:lnTo>
                    <a:lnTo>
                      <a:pt x="277" y="72"/>
                    </a:lnTo>
                    <a:lnTo>
                      <a:pt x="273" y="70"/>
                    </a:lnTo>
                    <a:lnTo>
                      <a:pt x="262" y="66"/>
                    </a:lnTo>
                    <a:lnTo>
                      <a:pt x="244" y="59"/>
                    </a:lnTo>
                    <a:lnTo>
                      <a:pt x="220" y="52"/>
                    </a:lnTo>
                    <a:lnTo>
                      <a:pt x="191" y="50"/>
                    </a:lnTo>
                    <a:lnTo>
                      <a:pt x="158" y="51"/>
                    </a:lnTo>
                    <a:lnTo>
                      <a:pt x="121" y="58"/>
                    </a:lnTo>
                    <a:lnTo>
                      <a:pt x="79" y="72"/>
                    </a:lnTo>
                    <a:lnTo>
                      <a:pt x="78" y="73"/>
                    </a:lnTo>
                    <a:lnTo>
                      <a:pt x="73" y="75"/>
                    </a:lnTo>
                    <a:lnTo>
                      <a:pt x="65" y="77"/>
                    </a:lnTo>
                    <a:lnTo>
                      <a:pt x="55" y="80"/>
                    </a:lnTo>
                    <a:lnTo>
                      <a:pt x="43" y="81"/>
                    </a:lnTo>
                    <a:lnTo>
                      <a:pt x="29" y="80"/>
                    </a:lnTo>
                    <a:lnTo>
                      <a:pt x="15" y="77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2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170"/>
              <p:cNvSpPr/>
              <p:nvPr/>
            </p:nvSpPr>
            <p:spPr>
              <a:xfrm>
                <a:off x="2944800" y="2865960"/>
                <a:ext cx="310320" cy="86040"/>
              </a:xfrm>
              <a:custGeom>
                <a:avLst/>
                <a:gdLst/>
                <a:ahLst/>
                <a:rect l="l" t="t" r="r" b="b"/>
                <a:pathLst>
                  <a:path w="382" h="221">
                    <a:moveTo>
                      <a:pt x="0" y="0"/>
                    </a:moveTo>
                    <a:lnTo>
                      <a:pt x="4" y="0"/>
                    </a:lnTo>
                    <a:lnTo>
                      <a:pt x="13" y="0"/>
                    </a:lnTo>
                    <a:lnTo>
                      <a:pt x="27" y="1"/>
                    </a:lnTo>
                    <a:lnTo>
                      <a:pt x="46" y="2"/>
                    </a:lnTo>
                    <a:lnTo>
                      <a:pt x="68" y="6"/>
                    </a:lnTo>
                    <a:lnTo>
                      <a:pt x="95" y="10"/>
                    </a:lnTo>
                    <a:lnTo>
                      <a:pt x="124" y="17"/>
                    </a:lnTo>
                    <a:lnTo>
                      <a:pt x="154" y="26"/>
                    </a:lnTo>
                    <a:lnTo>
                      <a:pt x="185" y="38"/>
                    </a:lnTo>
                    <a:lnTo>
                      <a:pt x="217" y="52"/>
                    </a:lnTo>
                    <a:lnTo>
                      <a:pt x="250" y="71"/>
                    </a:lnTo>
                    <a:lnTo>
                      <a:pt x="280" y="92"/>
                    </a:lnTo>
                    <a:lnTo>
                      <a:pt x="310" y="117"/>
                    </a:lnTo>
                    <a:lnTo>
                      <a:pt x="337" y="147"/>
                    </a:lnTo>
                    <a:lnTo>
                      <a:pt x="362" y="182"/>
                    </a:lnTo>
                    <a:lnTo>
                      <a:pt x="382" y="221"/>
                    </a:lnTo>
                    <a:lnTo>
                      <a:pt x="381" y="220"/>
                    </a:lnTo>
                    <a:lnTo>
                      <a:pt x="376" y="216"/>
                    </a:lnTo>
                    <a:lnTo>
                      <a:pt x="368" y="208"/>
                    </a:lnTo>
                    <a:lnTo>
                      <a:pt x="358" y="200"/>
                    </a:lnTo>
                    <a:lnTo>
                      <a:pt x="344" y="188"/>
                    </a:lnTo>
                    <a:lnTo>
                      <a:pt x="328" y="175"/>
                    </a:lnTo>
                    <a:lnTo>
                      <a:pt x="308" y="160"/>
                    </a:lnTo>
                    <a:lnTo>
                      <a:pt x="286" y="145"/>
                    </a:lnTo>
                    <a:lnTo>
                      <a:pt x="260" y="128"/>
                    </a:lnTo>
                    <a:lnTo>
                      <a:pt x="232" y="110"/>
                    </a:lnTo>
                    <a:lnTo>
                      <a:pt x="200" y="92"/>
                    </a:lnTo>
                    <a:lnTo>
                      <a:pt x="166" y="74"/>
                    </a:lnTo>
                    <a:lnTo>
                      <a:pt x="129" y="54"/>
                    </a:lnTo>
                    <a:lnTo>
                      <a:pt x="88" y="35"/>
                    </a:lnTo>
                    <a:lnTo>
                      <a:pt x="46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71"/>
              <p:cNvSpPr/>
              <p:nvPr/>
            </p:nvSpPr>
            <p:spPr>
              <a:xfrm>
                <a:off x="2531520" y="2730240"/>
                <a:ext cx="138960" cy="198360"/>
              </a:xfrm>
              <a:custGeom>
                <a:avLst/>
                <a:gdLst/>
                <a:ahLst/>
                <a:rect l="l" t="t" r="r" b="b"/>
                <a:pathLst>
                  <a:path w="174" h="503">
                    <a:moveTo>
                      <a:pt x="115" y="481"/>
                    </a:moveTo>
                    <a:lnTo>
                      <a:pt x="113" y="468"/>
                    </a:lnTo>
                    <a:lnTo>
                      <a:pt x="108" y="432"/>
                    </a:lnTo>
                    <a:lnTo>
                      <a:pt x="101" y="381"/>
                    </a:lnTo>
                    <a:lnTo>
                      <a:pt x="89" y="318"/>
                    </a:lnTo>
                    <a:lnTo>
                      <a:pt x="73" y="249"/>
                    </a:lnTo>
                    <a:lnTo>
                      <a:pt x="53" y="182"/>
                    </a:lnTo>
                    <a:lnTo>
                      <a:pt x="29" y="120"/>
                    </a:lnTo>
                    <a:lnTo>
                      <a:pt x="0" y="72"/>
                    </a:lnTo>
                    <a:lnTo>
                      <a:pt x="1" y="68"/>
                    </a:lnTo>
                    <a:lnTo>
                      <a:pt x="4" y="58"/>
                    </a:lnTo>
                    <a:lnTo>
                      <a:pt x="9" y="46"/>
                    </a:lnTo>
                    <a:lnTo>
                      <a:pt x="16" y="32"/>
                    </a:lnTo>
                    <a:lnTo>
                      <a:pt x="25" y="18"/>
                    </a:lnTo>
                    <a:lnTo>
                      <a:pt x="38" y="7"/>
                    </a:lnTo>
                    <a:lnTo>
                      <a:pt x="52" y="0"/>
                    </a:lnTo>
                    <a:lnTo>
                      <a:pt x="68" y="2"/>
                    </a:lnTo>
                    <a:lnTo>
                      <a:pt x="113" y="27"/>
                    </a:lnTo>
                    <a:lnTo>
                      <a:pt x="117" y="40"/>
                    </a:lnTo>
                    <a:lnTo>
                      <a:pt x="126" y="75"/>
                    </a:lnTo>
                    <a:lnTo>
                      <a:pt x="137" y="128"/>
                    </a:lnTo>
                    <a:lnTo>
                      <a:pt x="150" y="194"/>
                    </a:lnTo>
                    <a:lnTo>
                      <a:pt x="162" y="266"/>
                    </a:lnTo>
                    <a:lnTo>
                      <a:pt x="171" y="340"/>
                    </a:lnTo>
                    <a:lnTo>
                      <a:pt x="174" y="411"/>
                    </a:lnTo>
                    <a:lnTo>
                      <a:pt x="170" y="473"/>
                    </a:lnTo>
                    <a:lnTo>
                      <a:pt x="169" y="476"/>
                    </a:lnTo>
                    <a:lnTo>
                      <a:pt x="166" y="482"/>
                    </a:lnTo>
                    <a:lnTo>
                      <a:pt x="161" y="490"/>
                    </a:lnTo>
                    <a:lnTo>
                      <a:pt x="156" y="498"/>
                    </a:lnTo>
                    <a:lnTo>
                      <a:pt x="147" y="503"/>
                    </a:lnTo>
                    <a:lnTo>
                      <a:pt x="139" y="503"/>
                    </a:lnTo>
                    <a:lnTo>
                      <a:pt x="127" y="497"/>
                    </a:lnTo>
                    <a:lnTo>
                      <a:pt x="115" y="481"/>
                    </a:lnTo>
                    <a:close/>
                  </a:path>
                </a:pathLst>
              </a:custGeom>
              <a:solidFill>
                <a:srgbClr val="5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172"/>
              <p:cNvSpPr/>
              <p:nvPr/>
            </p:nvSpPr>
            <p:spPr>
              <a:xfrm>
                <a:off x="2589840" y="2738520"/>
                <a:ext cx="68760" cy="133200"/>
              </a:xfrm>
              <a:custGeom>
                <a:avLst/>
                <a:gdLst/>
                <a:ahLst/>
                <a:rect l="l" t="t" r="r" b="b"/>
                <a:pathLst>
                  <a:path w="84" h="339">
                    <a:moveTo>
                      <a:pt x="0" y="0"/>
                    </a:moveTo>
                    <a:lnTo>
                      <a:pt x="5" y="1"/>
                    </a:lnTo>
                    <a:lnTo>
                      <a:pt x="16" y="4"/>
                    </a:lnTo>
                    <a:lnTo>
                      <a:pt x="29" y="11"/>
                    </a:lnTo>
                    <a:lnTo>
                      <a:pt x="36" y="21"/>
                    </a:lnTo>
                    <a:lnTo>
                      <a:pt x="39" y="30"/>
                    </a:lnTo>
                    <a:lnTo>
                      <a:pt x="44" y="54"/>
                    </a:lnTo>
                    <a:lnTo>
                      <a:pt x="51" y="90"/>
                    </a:lnTo>
                    <a:lnTo>
                      <a:pt x="60" y="133"/>
                    </a:lnTo>
                    <a:lnTo>
                      <a:pt x="69" y="183"/>
                    </a:lnTo>
                    <a:lnTo>
                      <a:pt x="77" y="236"/>
                    </a:lnTo>
                    <a:lnTo>
                      <a:pt x="83" y="289"/>
                    </a:lnTo>
                    <a:lnTo>
                      <a:pt x="84" y="336"/>
                    </a:lnTo>
                    <a:lnTo>
                      <a:pt x="83" y="337"/>
                    </a:lnTo>
                    <a:lnTo>
                      <a:pt x="79" y="339"/>
                    </a:lnTo>
                    <a:lnTo>
                      <a:pt x="74" y="336"/>
                    </a:lnTo>
                    <a:lnTo>
                      <a:pt x="69" y="328"/>
                    </a:lnTo>
                    <a:lnTo>
                      <a:pt x="68" y="316"/>
                    </a:lnTo>
                    <a:lnTo>
                      <a:pt x="63" y="285"/>
                    </a:lnTo>
                    <a:lnTo>
                      <a:pt x="56" y="240"/>
                    </a:lnTo>
                    <a:lnTo>
                      <a:pt x="48" y="186"/>
                    </a:lnTo>
                    <a:lnTo>
                      <a:pt x="38" y="129"/>
                    </a:lnTo>
                    <a:lnTo>
                      <a:pt x="26" y="75"/>
                    </a:ln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28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173"/>
              <p:cNvSpPr/>
              <p:nvPr/>
            </p:nvSpPr>
            <p:spPr>
              <a:xfrm>
                <a:off x="2543760" y="2754000"/>
                <a:ext cx="104760" cy="177120"/>
              </a:xfrm>
              <a:custGeom>
                <a:avLst/>
                <a:gdLst/>
                <a:ahLst/>
                <a:rect l="l" t="t" r="r" b="b"/>
                <a:pathLst>
                  <a:path w="127" h="450">
                    <a:moveTo>
                      <a:pt x="22" y="0"/>
                    </a:moveTo>
                    <a:lnTo>
                      <a:pt x="25" y="6"/>
                    </a:lnTo>
                    <a:lnTo>
                      <a:pt x="34" y="26"/>
                    </a:lnTo>
                    <a:lnTo>
                      <a:pt x="48" y="59"/>
                    </a:lnTo>
                    <a:lnTo>
                      <a:pt x="66" y="106"/>
                    </a:lnTo>
                    <a:lnTo>
                      <a:pt x="83" y="170"/>
                    </a:lnTo>
                    <a:lnTo>
                      <a:pt x="100" y="247"/>
                    </a:lnTo>
                    <a:lnTo>
                      <a:pt x="116" y="341"/>
                    </a:lnTo>
                    <a:lnTo>
                      <a:pt x="127" y="450"/>
                    </a:lnTo>
                    <a:lnTo>
                      <a:pt x="124" y="449"/>
                    </a:lnTo>
                    <a:lnTo>
                      <a:pt x="116" y="446"/>
                    </a:lnTo>
                    <a:lnTo>
                      <a:pt x="107" y="440"/>
                    </a:lnTo>
                    <a:lnTo>
                      <a:pt x="101" y="429"/>
                    </a:lnTo>
                    <a:lnTo>
                      <a:pt x="100" y="417"/>
                    </a:lnTo>
                    <a:lnTo>
                      <a:pt x="97" y="384"/>
                    </a:lnTo>
                    <a:lnTo>
                      <a:pt x="92" y="335"/>
                    </a:lnTo>
                    <a:lnTo>
                      <a:pt x="84" y="275"/>
                    </a:lnTo>
                    <a:lnTo>
                      <a:pt x="72" y="208"/>
                    </a:lnTo>
                    <a:lnTo>
                      <a:pt x="53" y="139"/>
                    </a:lnTo>
                    <a:lnTo>
                      <a:pt x="30" y="72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5" y="5"/>
                    </a:lnTo>
                    <a:lnTo>
                      <a:pt x="13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174"/>
              <p:cNvSpPr/>
              <p:nvPr/>
            </p:nvSpPr>
            <p:spPr>
              <a:xfrm>
                <a:off x="2125440" y="2829600"/>
                <a:ext cx="290520" cy="42120"/>
              </a:xfrm>
              <a:custGeom>
                <a:avLst/>
                <a:gdLst/>
                <a:ahLst/>
                <a:rect l="l" t="t" r="r" b="b"/>
                <a:pathLst>
                  <a:path w="356" h="110">
                    <a:moveTo>
                      <a:pt x="4" y="73"/>
                    </a:moveTo>
                    <a:lnTo>
                      <a:pt x="5" y="72"/>
                    </a:lnTo>
                    <a:lnTo>
                      <a:pt x="8" y="68"/>
                    </a:lnTo>
                    <a:lnTo>
                      <a:pt x="14" y="62"/>
                    </a:lnTo>
                    <a:lnTo>
                      <a:pt x="22" y="54"/>
                    </a:lnTo>
                    <a:lnTo>
                      <a:pt x="32" y="46"/>
                    </a:lnTo>
                    <a:lnTo>
                      <a:pt x="44" y="35"/>
                    </a:lnTo>
                    <a:lnTo>
                      <a:pt x="61" y="26"/>
                    </a:lnTo>
                    <a:lnTo>
                      <a:pt x="80" y="18"/>
                    </a:lnTo>
                    <a:lnTo>
                      <a:pt x="101" y="10"/>
                    </a:lnTo>
                    <a:lnTo>
                      <a:pt x="126" y="5"/>
                    </a:lnTo>
                    <a:lnTo>
                      <a:pt x="155" y="1"/>
                    </a:lnTo>
                    <a:lnTo>
                      <a:pt x="188" y="0"/>
                    </a:lnTo>
                    <a:lnTo>
                      <a:pt x="223" y="1"/>
                    </a:lnTo>
                    <a:lnTo>
                      <a:pt x="262" y="8"/>
                    </a:lnTo>
                    <a:lnTo>
                      <a:pt x="306" y="18"/>
                    </a:lnTo>
                    <a:lnTo>
                      <a:pt x="354" y="33"/>
                    </a:lnTo>
                    <a:lnTo>
                      <a:pt x="354" y="34"/>
                    </a:lnTo>
                    <a:lnTo>
                      <a:pt x="356" y="37"/>
                    </a:lnTo>
                    <a:lnTo>
                      <a:pt x="356" y="39"/>
                    </a:lnTo>
                    <a:lnTo>
                      <a:pt x="356" y="43"/>
                    </a:lnTo>
                    <a:lnTo>
                      <a:pt x="352" y="47"/>
                    </a:lnTo>
                    <a:lnTo>
                      <a:pt x="346" y="50"/>
                    </a:lnTo>
                    <a:lnTo>
                      <a:pt x="335" y="52"/>
                    </a:lnTo>
                    <a:lnTo>
                      <a:pt x="322" y="52"/>
                    </a:lnTo>
                    <a:lnTo>
                      <a:pt x="312" y="52"/>
                    </a:lnTo>
                    <a:lnTo>
                      <a:pt x="300" y="51"/>
                    </a:lnTo>
                    <a:lnTo>
                      <a:pt x="286" y="51"/>
                    </a:lnTo>
                    <a:lnTo>
                      <a:pt x="270" y="52"/>
                    </a:lnTo>
                    <a:lnTo>
                      <a:pt x="252" y="52"/>
                    </a:lnTo>
                    <a:lnTo>
                      <a:pt x="235" y="54"/>
                    </a:lnTo>
                    <a:lnTo>
                      <a:pt x="216" y="55"/>
                    </a:lnTo>
                    <a:lnTo>
                      <a:pt x="196" y="58"/>
                    </a:lnTo>
                    <a:lnTo>
                      <a:pt x="175" y="60"/>
                    </a:lnTo>
                    <a:lnTo>
                      <a:pt x="155" y="64"/>
                    </a:lnTo>
                    <a:lnTo>
                      <a:pt x="136" y="68"/>
                    </a:lnTo>
                    <a:lnTo>
                      <a:pt x="118" y="75"/>
                    </a:lnTo>
                    <a:lnTo>
                      <a:pt x="100" y="81"/>
                    </a:lnTo>
                    <a:lnTo>
                      <a:pt x="83" y="88"/>
                    </a:lnTo>
                    <a:lnTo>
                      <a:pt x="68" y="97"/>
                    </a:lnTo>
                    <a:lnTo>
                      <a:pt x="55" y="108"/>
                    </a:lnTo>
                    <a:lnTo>
                      <a:pt x="52" y="109"/>
                    </a:lnTo>
                    <a:lnTo>
                      <a:pt x="43" y="110"/>
                    </a:lnTo>
                    <a:lnTo>
                      <a:pt x="33" y="110"/>
                    </a:lnTo>
                    <a:lnTo>
                      <a:pt x="21" y="110"/>
                    </a:lnTo>
                    <a:lnTo>
                      <a:pt x="10" y="108"/>
                    </a:lnTo>
                    <a:lnTo>
                      <a:pt x="3" y="101"/>
                    </a:lnTo>
                    <a:lnTo>
                      <a:pt x="0" y="90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175"/>
              <p:cNvSpPr/>
              <p:nvPr/>
            </p:nvSpPr>
            <p:spPr>
              <a:xfrm>
                <a:off x="2167200" y="2830680"/>
                <a:ext cx="190800" cy="33120"/>
              </a:xfrm>
              <a:custGeom>
                <a:avLst/>
                <a:gdLst/>
                <a:ahLst/>
                <a:rect l="l" t="t" r="r" b="b"/>
                <a:pathLst>
                  <a:path w="234" h="86">
                    <a:moveTo>
                      <a:pt x="4" y="57"/>
                    </a:moveTo>
                    <a:lnTo>
                      <a:pt x="6" y="56"/>
                    </a:lnTo>
                    <a:lnTo>
                      <a:pt x="7" y="53"/>
                    </a:lnTo>
                    <a:lnTo>
                      <a:pt x="11" y="48"/>
                    </a:lnTo>
                    <a:lnTo>
                      <a:pt x="16" y="42"/>
                    </a:lnTo>
                    <a:lnTo>
                      <a:pt x="22" y="36"/>
                    </a:lnTo>
                    <a:lnTo>
                      <a:pt x="31" y="28"/>
                    </a:lnTo>
                    <a:lnTo>
                      <a:pt x="41" y="21"/>
                    </a:lnTo>
                    <a:lnTo>
                      <a:pt x="53" y="15"/>
                    </a:lnTo>
                    <a:lnTo>
                      <a:pt x="67" y="9"/>
                    </a:lnTo>
                    <a:lnTo>
                      <a:pt x="84" y="4"/>
                    </a:lnTo>
                    <a:lnTo>
                      <a:pt x="103" y="2"/>
                    </a:lnTo>
                    <a:lnTo>
                      <a:pt x="124" y="0"/>
                    </a:lnTo>
                    <a:lnTo>
                      <a:pt x="147" y="2"/>
                    </a:lnTo>
                    <a:lnTo>
                      <a:pt x="173" y="6"/>
                    </a:lnTo>
                    <a:lnTo>
                      <a:pt x="201" y="13"/>
                    </a:lnTo>
                    <a:lnTo>
                      <a:pt x="232" y="24"/>
                    </a:lnTo>
                    <a:lnTo>
                      <a:pt x="234" y="27"/>
                    </a:lnTo>
                    <a:lnTo>
                      <a:pt x="234" y="32"/>
                    </a:lnTo>
                    <a:lnTo>
                      <a:pt x="227" y="38"/>
                    </a:lnTo>
                    <a:lnTo>
                      <a:pt x="211" y="40"/>
                    </a:lnTo>
                    <a:lnTo>
                      <a:pt x="197" y="38"/>
                    </a:lnTo>
                    <a:lnTo>
                      <a:pt x="177" y="40"/>
                    </a:lnTo>
                    <a:lnTo>
                      <a:pt x="154" y="41"/>
                    </a:lnTo>
                    <a:lnTo>
                      <a:pt x="129" y="44"/>
                    </a:lnTo>
                    <a:lnTo>
                      <a:pt x="103" y="49"/>
                    </a:lnTo>
                    <a:lnTo>
                      <a:pt x="77" y="57"/>
                    </a:lnTo>
                    <a:lnTo>
                      <a:pt x="55" y="69"/>
                    </a:lnTo>
                    <a:lnTo>
                      <a:pt x="37" y="83"/>
                    </a:lnTo>
                    <a:lnTo>
                      <a:pt x="34" y="83"/>
                    </a:lnTo>
                    <a:lnTo>
                      <a:pt x="29" y="85"/>
                    </a:lnTo>
                    <a:lnTo>
                      <a:pt x="22" y="86"/>
                    </a:lnTo>
                    <a:lnTo>
                      <a:pt x="14" y="85"/>
                    </a:lnTo>
                    <a:lnTo>
                      <a:pt x="8" y="83"/>
                    </a:lnTo>
                    <a:lnTo>
                      <a:pt x="3" y="78"/>
                    </a:lnTo>
                    <a:lnTo>
                      <a:pt x="0" y="69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76"/>
              <p:cNvSpPr/>
              <p:nvPr/>
            </p:nvSpPr>
            <p:spPr>
              <a:xfrm>
                <a:off x="2220840" y="2838960"/>
                <a:ext cx="87480" cy="1404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2" y="24"/>
                    </a:moveTo>
                    <a:lnTo>
                      <a:pt x="3" y="23"/>
                    </a:lnTo>
                    <a:lnTo>
                      <a:pt x="7" y="17"/>
                    </a:lnTo>
                    <a:lnTo>
                      <a:pt x="14" y="12"/>
                    </a:lnTo>
                    <a:lnTo>
                      <a:pt x="25" y="6"/>
                    </a:lnTo>
                    <a:lnTo>
                      <a:pt x="39" y="2"/>
                    </a:lnTo>
                    <a:lnTo>
                      <a:pt x="58" y="0"/>
                    </a:lnTo>
                    <a:lnTo>
                      <a:pt x="81" y="3"/>
                    </a:lnTo>
                    <a:lnTo>
                      <a:pt x="109" y="11"/>
                    </a:lnTo>
                    <a:lnTo>
                      <a:pt x="109" y="12"/>
                    </a:lnTo>
                    <a:lnTo>
                      <a:pt x="109" y="14"/>
                    </a:lnTo>
                    <a:lnTo>
                      <a:pt x="106" y="16"/>
                    </a:lnTo>
                    <a:lnTo>
                      <a:pt x="99" y="17"/>
                    </a:lnTo>
                    <a:lnTo>
                      <a:pt x="92" y="17"/>
                    </a:lnTo>
                    <a:lnTo>
                      <a:pt x="82" y="17"/>
                    </a:lnTo>
                    <a:lnTo>
                      <a:pt x="72" y="17"/>
                    </a:lnTo>
                    <a:lnTo>
                      <a:pt x="59" y="19"/>
                    </a:lnTo>
                    <a:lnTo>
                      <a:pt x="48" y="21"/>
                    </a:lnTo>
                    <a:lnTo>
                      <a:pt x="36" y="24"/>
                    </a:lnTo>
                    <a:lnTo>
                      <a:pt x="25" y="29"/>
                    </a:lnTo>
                    <a:lnTo>
                      <a:pt x="17" y="36"/>
                    </a:lnTo>
                    <a:lnTo>
                      <a:pt x="13" y="36"/>
                    </a:lnTo>
                    <a:lnTo>
                      <a:pt x="7" y="36"/>
                    </a:lnTo>
                    <a:lnTo>
                      <a:pt x="0" y="33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ffc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177"/>
              <p:cNvSpPr/>
              <p:nvPr/>
            </p:nvSpPr>
            <p:spPr>
              <a:xfrm>
                <a:off x="2418840" y="3504960"/>
                <a:ext cx="90360" cy="86040"/>
              </a:xfrm>
              <a:custGeom>
                <a:avLst/>
                <a:gdLst/>
                <a:ahLst/>
                <a:rect l="l" t="t" r="r" b="b"/>
                <a:pathLst>
                  <a:path w="111" h="217">
                    <a:moveTo>
                      <a:pt x="25" y="22"/>
                    </a:moveTo>
                    <a:lnTo>
                      <a:pt x="20" y="46"/>
                    </a:lnTo>
                    <a:lnTo>
                      <a:pt x="9" y="99"/>
                    </a:lnTo>
                    <a:lnTo>
                      <a:pt x="0" y="157"/>
                    </a:lnTo>
                    <a:lnTo>
                      <a:pt x="0" y="195"/>
                    </a:lnTo>
                    <a:lnTo>
                      <a:pt x="5" y="203"/>
                    </a:lnTo>
                    <a:lnTo>
                      <a:pt x="13" y="209"/>
                    </a:lnTo>
                    <a:lnTo>
                      <a:pt x="22" y="213"/>
                    </a:lnTo>
                    <a:lnTo>
                      <a:pt x="32" y="216"/>
                    </a:lnTo>
                    <a:lnTo>
                      <a:pt x="43" y="217"/>
                    </a:lnTo>
                    <a:lnTo>
                      <a:pt x="53" y="217"/>
                    </a:lnTo>
                    <a:lnTo>
                      <a:pt x="62" y="217"/>
                    </a:lnTo>
                    <a:lnTo>
                      <a:pt x="71" y="217"/>
                    </a:lnTo>
                    <a:lnTo>
                      <a:pt x="86" y="211"/>
                    </a:lnTo>
                    <a:lnTo>
                      <a:pt x="97" y="194"/>
                    </a:lnTo>
                    <a:lnTo>
                      <a:pt x="103" y="174"/>
                    </a:lnTo>
                    <a:lnTo>
                      <a:pt x="107" y="155"/>
                    </a:lnTo>
                    <a:lnTo>
                      <a:pt x="107" y="132"/>
                    </a:lnTo>
                    <a:lnTo>
                      <a:pt x="110" y="99"/>
                    </a:lnTo>
                    <a:lnTo>
                      <a:pt x="111" y="70"/>
                    </a:lnTo>
                    <a:lnTo>
                      <a:pt x="111" y="58"/>
                    </a:lnTo>
                    <a:lnTo>
                      <a:pt x="110" y="54"/>
                    </a:lnTo>
                    <a:lnTo>
                      <a:pt x="106" y="44"/>
                    </a:lnTo>
                    <a:lnTo>
                      <a:pt x="100" y="29"/>
                    </a:lnTo>
                    <a:lnTo>
                      <a:pt x="91" y="15"/>
                    </a:lnTo>
                    <a:lnTo>
                      <a:pt x="79" y="4"/>
                    </a:lnTo>
                    <a:lnTo>
                      <a:pt x="64" y="0"/>
                    </a:lnTo>
                    <a:lnTo>
                      <a:pt x="47" y="5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78"/>
              <p:cNvSpPr/>
              <p:nvPr/>
            </p:nvSpPr>
            <p:spPr>
              <a:xfrm>
                <a:off x="2754000" y="3531960"/>
                <a:ext cx="80280" cy="82440"/>
              </a:xfrm>
              <a:custGeom>
                <a:avLst/>
                <a:gdLst/>
                <a:ahLst/>
                <a:rect l="l" t="t" r="r" b="b"/>
                <a:pathLst>
                  <a:path w="99" h="198">
                    <a:moveTo>
                      <a:pt x="26" y="21"/>
                    </a:moveTo>
                    <a:lnTo>
                      <a:pt x="20" y="30"/>
                    </a:lnTo>
                    <a:lnTo>
                      <a:pt x="14" y="45"/>
                    </a:lnTo>
                    <a:lnTo>
                      <a:pt x="7" y="65"/>
                    </a:lnTo>
                    <a:lnTo>
                      <a:pt x="2" y="88"/>
                    </a:lnTo>
                    <a:lnTo>
                      <a:pt x="0" y="112"/>
                    </a:lnTo>
                    <a:lnTo>
                      <a:pt x="0" y="136"/>
                    </a:lnTo>
                    <a:lnTo>
                      <a:pt x="4" y="158"/>
                    </a:lnTo>
                    <a:lnTo>
                      <a:pt x="12" y="177"/>
                    </a:lnTo>
                    <a:lnTo>
                      <a:pt x="24" y="190"/>
                    </a:lnTo>
                    <a:lnTo>
                      <a:pt x="36" y="196"/>
                    </a:lnTo>
                    <a:lnTo>
                      <a:pt x="49" y="198"/>
                    </a:lnTo>
                    <a:lnTo>
                      <a:pt x="62" y="195"/>
                    </a:lnTo>
                    <a:lnTo>
                      <a:pt x="74" y="190"/>
                    </a:lnTo>
                    <a:lnTo>
                      <a:pt x="83" y="183"/>
                    </a:lnTo>
                    <a:lnTo>
                      <a:pt x="91" y="175"/>
                    </a:lnTo>
                    <a:lnTo>
                      <a:pt x="96" y="169"/>
                    </a:lnTo>
                    <a:lnTo>
                      <a:pt x="99" y="138"/>
                    </a:lnTo>
                    <a:lnTo>
                      <a:pt x="98" y="90"/>
                    </a:lnTo>
                    <a:lnTo>
                      <a:pt x="94" y="40"/>
                    </a:lnTo>
                    <a:lnTo>
                      <a:pt x="85" y="12"/>
                    </a:lnTo>
                    <a:lnTo>
                      <a:pt x="80" y="7"/>
                    </a:lnTo>
                    <a:lnTo>
                      <a:pt x="75" y="4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57" y="2"/>
                    </a:lnTo>
                    <a:lnTo>
                      <a:pt x="48" y="5"/>
                    </a:lnTo>
                    <a:lnTo>
                      <a:pt x="38" y="12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79"/>
              <p:cNvSpPr/>
              <p:nvPr/>
            </p:nvSpPr>
            <p:spPr>
              <a:xfrm>
                <a:off x="2998440" y="3102120"/>
                <a:ext cx="80280" cy="47160"/>
              </a:xfrm>
              <a:custGeom>
                <a:avLst/>
                <a:gdLst/>
                <a:ahLst/>
                <a:rect l="l" t="t" r="r" b="b"/>
                <a:pathLst>
                  <a:path w="100" h="132">
                    <a:moveTo>
                      <a:pt x="71" y="6"/>
                    </a:moveTo>
                    <a:lnTo>
                      <a:pt x="69" y="4"/>
                    </a:lnTo>
                    <a:lnTo>
                      <a:pt x="63" y="3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4" y="2"/>
                    </a:lnTo>
                    <a:lnTo>
                      <a:pt x="24" y="4"/>
                    </a:lnTo>
                    <a:lnTo>
                      <a:pt x="15" y="11"/>
                    </a:lnTo>
                    <a:lnTo>
                      <a:pt x="10" y="23"/>
                    </a:lnTo>
                    <a:lnTo>
                      <a:pt x="3" y="48"/>
                    </a:lnTo>
                    <a:lnTo>
                      <a:pt x="0" y="69"/>
                    </a:lnTo>
                    <a:lnTo>
                      <a:pt x="0" y="87"/>
                    </a:lnTo>
                    <a:lnTo>
                      <a:pt x="1" y="100"/>
                    </a:lnTo>
                    <a:lnTo>
                      <a:pt x="3" y="107"/>
                    </a:lnTo>
                    <a:lnTo>
                      <a:pt x="8" y="112"/>
                    </a:lnTo>
                    <a:lnTo>
                      <a:pt x="15" y="119"/>
                    </a:lnTo>
                    <a:lnTo>
                      <a:pt x="22" y="124"/>
                    </a:lnTo>
                    <a:lnTo>
                      <a:pt x="31" y="129"/>
                    </a:lnTo>
                    <a:lnTo>
                      <a:pt x="39" y="132"/>
                    </a:lnTo>
                    <a:lnTo>
                      <a:pt x="48" y="132"/>
                    </a:lnTo>
                    <a:lnTo>
                      <a:pt x="54" y="131"/>
                    </a:lnTo>
                    <a:lnTo>
                      <a:pt x="60" y="127"/>
                    </a:lnTo>
                    <a:lnTo>
                      <a:pt x="68" y="122"/>
                    </a:lnTo>
                    <a:lnTo>
                      <a:pt x="75" y="114"/>
                    </a:lnTo>
                    <a:lnTo>
                      <a:pt x="82" y="106"/>
                    </a:lnTo>
                    <a:lnTo>
                      <a:pt x="88" y="98"/>
                    </a:lnTo>
                    <a:lnTo>
                      <a:pt x="93" y="89"/>
                    </a:lnTo>
                    <a:lnTo>
                      <a:pt x="97" y="79"/>
                    </a:lnTo>
                    <a:lnTo>
                      <a:pt x="98" y="72"/>
                    </a:lnTo>
                    <a:lnTo>
                      <a:pt x="100" y="53"/>
                    </a:lnTo>
                    <a:lnTo>
                      <a:pt x="99" y="32"/>
                    </a:lnTo>
                    <a:lnTo>
                      <a:pt x="90" y="15"/>
                    </a:lnTo>
                    <a:lnTo>
                      <a:pt x="71" y="6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80"/>
              <p:cNvSpPr/>
              <p:nvPr/>
            </p:nvSpPr>
            <p:spPr>
              <a:xfrm>
                <a:off x="3062160" y="2882520"/>
                <a:ext cx="138960" cy="42480"/>
              </a:xfrm>
              <a:custGeom>
                <a:avLst/>
                <a:gdLst/>
                <a:ahLst/>
                <a:rect l="l" t="t" r="r" b="b"/>
                <a:pathLst>
                  <a:path w="172" h="107">
                    <a:moveTo>
                      <a:pt x="0" y="0"/>
                    </a:moveTo>
                    <a:lnTo>
                      <a:pt x="5" y="2"/>
                    </a:lnTo>
                    <a:lnTo>
                      <a:pt x="19" y="8"/>
                    </a:lnTo>
                    <a:lnTo>
                      <a:pt x="39" y="17"/>
                    </a:lnTo>
                    <a:lnTo>
                      <a:pt x="65" y="29"/>
                    </a:lnTo>
                    <a:lnTo>
                      <a:pt x="93" y="45"/>
                    </a:lnTo>
                    <a:lnTo>
                      <a:pt x="122" y="63"/>
                    </a:lnTo>
                    <a:lnTo>
                      <a:pt x="148" y="83"/>
                    </a:lnTo>
                    <a:lnTo>
                      <a:pt x="172" y="107"/>
                    </a:lnTo>
                    <a:lnTo>
                      <a:pt x="171" y="104"/>
                    </a:lnTo>
                    <a:lnTo>
                      <a:pt x="165" y="95"/>
                    </a:lnTo>
                    <a:lnTo>
                      <a:pt x="153" y="82"/>
                    </a:lnTo>
                    <a:lnTo>
                      <a:pt x="137" y="66"/>
                    </a:lnTo>
                    <a:lnTo>
                      <a:pt x="114" y="49"/>
                    </a:lnTo>
                    <a:lnTo>
                      <a:pt x="84" y="32"/>
                    </a:lnTo>
                    <a:lnTo>
                      <a:pt x="4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8" name="TextBox 323"/>
            <p:cNvSpPr/>
            <p:nvPr/>
          </p:nvSpPr>
          <p:spPr>
            <a:xfrm>
              <a:off x="1849320" y="288936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秘密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9" name="组合 321"/>
          <p:cNvGrpSpPr/>
          <p:nvPr/>
        </p:nvGrpSpPr>
        <p:grpSpPr>
          <a:xfrm>
            <a:off x="6732720" y="3489480"/>
            <a:ext cx="1596600" cy="1056600"/>
            <a:chOff x="6732720" y="3489480"/>
            <a:chExt cx="1596600" cy="1056600"/>
          </a:xfrm>
        </p:grpSpPr>
        <p:grpSp>
          <p:nvGrpSpPr>
            <p:cNvPr id="660" name="Group 152"/>
            <p:cNvGrpSpPr/>
            <p:nvPr/>
          </p:nvGrpSpPr>
          <p:grpSpPr>
            <a:xfrm>
              <a:off x="6732720" y="3489480"/>
              <a:ext cx="1596600" cy="1056600"/>
              <a:chOff x="6732720" y="3489480"/>
              <a:chExt cx="1596600" cy="1056600"/>
            </a:xfrm>
          </p:grpSpPr>
          <p:sp>
            <p:nvSpPr>
              <p:cNvPr id="661" name="AutoShape 151"/>
              <p:cNvSpPr/>
              <p:nvPr/>
            </p:nvSpPr>
            <p:spPr>
              <a:xfrm>
                <a:off x="6732720" y="3489480"/>
                <a:ext cx="1596600" cy="102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Freeform 153"/>
              <p:cNvSpPr/>
              <p:nvPr/>
            </p:nvSpPr>
            <p:spPr>
              <a:xfrm>
                <a:off x="7637400" y="4541400"/>
                <a:ext cx="12600" cy="10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4"/>
                    </a:moveTo>
                    <a:lnTo>
                      <a:pt x="18" y="4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154"/>
              <p:cNvSpPr/>
              <p:nvPr/>
            </p:nvSpPr>
            <p:spPr>
              <a:xfrm>
                <a:off x="6811560" y="3519000"/>
                <a:ext cx="1495080" cy="1027080"/>
              </a:xfrm>
              <a:custGeom>
                <a:avLst/>
                <a:gdLst/>
                <a:ahLst/>
                <a:rect l="l" t="t" r="r" b="b"/>
                <a:pathLst>
                  <a:path w="2166" h="2610">
                    <a:moveTo>
                      <a:pt x="1719" y="348"/>
                    </a:moveTo>
                    <a:lnTo>
                      <a:pt x="1679" y="335"/>
                    </a:lnTo>
                    <a:lnTo>
                      <a:pt x="1643" y="323"/>
                    </a:lnTo>
                    <a:lnTo>
                      <a:pt x="1609" y="313"/>
                    </a:lnTo>
                    <a:lnTo>
                      <a:pt x="1576" y="306"/>
                    </a:lnTo>
                    <a:lnTo>
                      <a:pt x="1545" y="300"/>
                    </a:lnTo>
                    <a:lnTo>
                      <a:pt x="1514" y="296"/>
                    </a:lnTo>
                    <a:lnTo>
                      <a:pt x="1487" y="294"/>
                    </a:lnTo>
                    <a:lnTo>
                      <a:pt x="1460" y="292"/>
                    </a:lnTo>
                    <a:lnTo>
                      <a:pt x="1434" y="292"/>
                    </a:lnTo>
                    <a:lnTo>
                      <a:pt x="1409" y="292"/>
                    </a:lnTo>
                    <a:lnTo>
                      <a:pt x="1385" y="295"/>
                    </a:lnTo>
                    <a:lnTo>
                      <a:pt x="1362" y="298"/>
                    </a:lnTo>
                    <a:lnTo>
                      <a:pt x="1338" y="300"/>
                    </a:lnTo>
                    <a:lnTo>
                      <a:pt x="1317" y="304"/>
                    </a:lnTo>
                    <a:lnTo>
                      <a:pt x="1294" y="308"/>
                    </a:lnTo>
                    <a:lnTo>
                      <a:pt x="1273" y="312"/>
                    </a:lnTo>
                    <a:lnTo>
                      <a:pt x="1271" y="312"/>
                    </a:lnTo>
                    <a:lnTo>
                      <a:pt x="1269" y="312"/>
                    </a:lnTo>
                    <a:lnTo>
                      <a:pt x="1265" y="313"/>
                    </a:lnTo>
                    <a:lnTo>
                      <a:pt x="1260" y="313"/>
                    </a:lnTo>
                    <a:lnTo>
                      <a:pt x="1254" y="277"/>
                    </a:lnTo>
                    <a:lnTo>
                      <a:pt x="1246" y="237"/>
                    </a:lnTo>
                    <a:lnTo>
                      <a:pt x="1239" y="194"/>
                    </a:lnTo>
                    <a:lnTo>
                      <a:pt x="1232" y="153"/>
                    </a:lnTo>
                    <a:lnTo>
                      <a:pt x="1225" y="116"/>
                    </a:lnTo>
                    <a:lnTo>
                      <a:pt x="1220" y="87"/>
                    </a:lnTo>
                    <a:lnTo>
                      <a:pt x="1216" y="67"/>
                    </a:lnTo>
                    <a:lnTo>
                      <a:pt x="1215" y="59"/>
                    </a:lnTo>
                    <a:lnTo>
                      <a:pt x="1162" y="40"/>
                    </a:lnTo>
                    <a:lnTo>
                      <a:pt x="1106" y="9"/>
                    </a:lnTo>
                    <a:lnTo>
                      <a:pt x="1095" y="7"/>
                    </a:lnTo>
                    <a:lnTo>
                      <a:pt x="1090" y="5"/>
                    </a:lnTo>
                    <a:lnTo>
                      <a:pt x="1085" y="4"/>
                    </a:lnTo>
                    <a:lnTo>
                      <a:pt x="1080" y="3"/>
                    </a:lnTo>
                    <a:lnTo>
                      <a:pt x="1075" y="1"/>
                    </a:lnTo>
                    <a:lnTo>
                      <a:pt x="1068" y="1"/>
                    </a:lnTo>
                    <a:lnTo>
                      <a:pt x="1063" y="0"/>
                    </a:lnTo>
                    <a:lnTo>
                      <a:pt x="1058" y="0"/>
                    </a:lnTo>
                    <a:lnTo>
                      <a:pt x="1053" y="0"/>
                    </a:lnTo>
                    <a:lnTo>
                      <a:pt x="1048" y="0"/>
                    </a:lnTo>
                    <a:lnTo>
                      <a:pt x="1043" y="0"/>
                    </a:lnTo>
                    <a:lnTo>
                      <a:pt x="1038" y="1"/>
                    </a:lnTo>
                    <a:lnTo>
                      <a:pt x="1034" y="1"/>
                    </a:lnTo>
                    <a:lnTo>
                      <a:pt x="1029" y="3"/>
                    </a:lnTo>
                    <a:lnTo>
                      <a:pt x="1024" y="4"/>
                    </a:lnTo>
                    <a:lnTo>
                      <a:pt x="1019" y="5"/>
                    </a:lnTo>
                    <a:lnTo>
                      <a:pt x="1014" y="7"/>
                    </a:lnTo>
                    <a:lnTo>
                      <a:pt x="994" y="14"/>
                    </a:lnTo>
                    <a:lnTo>
                      <a:pt x="974" y="26"/>
                    </a:lnTo>
                    <a:lnTo>
                      <a:pt x="955" y="42"/>
                    </a:lnTo>
                    <a:lnTo>
                      <a:pt x="939" y="61"/>
                    </a:lnTo>
                    <a:lnTo>
                      <a:pt x="924" y="82"/>
                    </a:lnTo>
                    <a:lnTo>
                      <a:pt x="911" y="107"/>
                    </a:lnTo>
                    <a:lnTo>
                      <a:pt x="900" y="133"/>
                    </a:lnTo>
                    <a:lnTo>
                      <a:pt x="891" y="163"/>
                    </a:lnTo>
                    <a:lnTo>
                      <a:pt x="877" y="228"/>
                    </a:lnTo>
                    <a:lnTo>
                      <a:pt x="878" y="230"/>
                    </a:lnTo>
                    <a:lnTo>
                      <a:pt x="883" y="236"/>
                    </a:lnTo>
                    <a:lnTo>
                      <a:pt x="888" y="244"/>
                    </a:lnTo>
                    <a:lnTo>
                      <a:pt x="896" y="253"/>
                    </a:lnTo>
                    <a:lnTo>
                      <a:pt x="872" y="248"/>
                    </a:lnTo>
                    <a:lnTo>
                      <a:pt x="848" y="242"/>
                    </a:lnTo>
                    <a:lnTo>
                      <a:pt x="823" y="237"/>
                    </a:lnTo>
                    <a:lnTo>
                      <a:pt x="796" y="233"/>
                    </a:lnTo>
                    <a:lnTo>
                      <a:pt x="770" y="230"/>
                    </a:lnTo>
                    <a:lnTo>
                      <a:pt x="743" y="229"/>
                    </a:lnTo>
                    <a:lnTo>
                      <a:pt x="716" y="228"/>
                    </a:lnTo>
                    <a:lnTo>
                      <a:pt x="688" y="228"/>
                    </a:lnTo>
                    <a:lnTo>
                      <a:pt x="660" y="229"/>
                    </a:lnTo>
                    <a:lnTo>
                      <a:pt x="633" y="230"/>
                    </a:lnTo>
                    <a:lnTo>
                      <a:pt x="604" y="234"/>
                    </a:lnTo>
                    <a:lnTo>
                      <a:pt x="575" y="240"/>
                    </a:lnTo>
                    <a:lnTo>
                      <a:pt x="547" y="245"/>
                    </a:lnTo>
                    <a:lnTo>
                      <a:pt x="518" y="253"/>
                    </a:lnTo>
                    <a:lnTo>
                      <a:pt x="489" y="262"/>
                    </a:lnTo>
                    <a:lnTo>
                      <a:pt x="461" y="271"/>
                    </a:lnTo>
                    <a:lnTo>
                      <a:pt x="432" y="283"/>
                    </a:lnTo>
                    <a:lnTo>
                      <a:pt x="405" y="298"/>
                    </a:lnTo>
                    <a:lnTo>
                      <a:pt x="377" y="312"/>
                    </a:lnTo>
                    <a:lnTo>
                      <a:pt x="350" y="329"/>
                    </a:lnTo>
                    <a:lnTo>
                      <a:pt x="324" y="349"/>
                    </a:lnTo>
                    <a:lnTo>
                      <a:pt x="297" y="369"/>
                    </a:lnTo>
                    <a:lnTo>
                      <a:pt x="271" y="391"/>
                    </a:lnTo>
                    <a:lnTo>
                      <a:pt x="246" y="416"/>
                    </a:lnTo>
                    <a:lnTo>
                      <a:pt x="222" y="443"/>
                    </a:lnTo>
                    <a:lnTo>
                      <a:pt x="198" y="471"/>
                    </a:lnTo>
                    <a:lnTo>
                      <a:pt x="175" y="503"/>
                    </a:lnTo>
                    <a:lnTo>
                      <a:pt x="154" y="536"/>
                    </a:lnTo>
                    <a:lnTo>
                      <a:pt x="134" y="572"/>
                    </a:lnTo>
                    <a:lnTo>
                      <a:pt x="114" y="610"/>
                    </a:lnTo>
                    <a:lnTo>
                      <a:pt x="95" y="649"/>
                    </a:lnTo>
                    <a:lnTo>
                      <a:pt x="77" y="693"/>
                    </a:lnTo>
                    <a:lnTo>
                      <a:pt x="73" y="701"/>
                    </a:lnTo>
                    <a:lnTo>
                      <a:pt x="67" y="718"/>
                    </a:lnTo>
                    <a:lnTo>
                      <a:pt x="58" y="744"/>
                    </a:lnTo>
                    <a:lnTo>
                      <a:pt x="48" y="778"/>
                    </a:lnTo>
                    <a:lnTo>
                      <a:pt x="37" y="822"/>
                    </a:lnTo>
                    <a:lnTo>
                      <a:pt x="25" y="872"/>
                    </a:lnTo>
                    <a:lnTo>
                      <a:pt x="15" y="931"/>
                    </a:lnTo>
                    <a:lnTo>
                      <a:pt x="6" y="996"/>
                    </a:lnTo>
                    <a:lnTo>
                      <a:pt x="1" y="1068"/>
                    </a:lnTo>
                    <a:lnTo>
                      <a:pt x="0" y="1146"/>
                    </a:lnTo>
                    <a:lnTo>
                      <a:pt x="3" y="1230"/>
                    </a:lnTo>
                    <a:lnTo>
                      <a:pt x="10" y="1320"/>
                    </a:lnTo>
                    <a:lnTo>
                      <a:pt x="25" y="1413"/>
                    </a:lnTo>
                    <a:lnTo>
                      <a:pt x="47" y="1512"/>
                    </a:lnTo>
                    <a:lnTo>
                      <a:pt x="77" y="1615"/>
                    </a:lnTo>
                    <a:lnTo>
                      <a:pt x="116" y="1721"/>
                    </a:lnTo>
                    <a:lnTo>
                      <a:pt x="149" y="1798"/>
                    </a:lnTo>
                    <a:lnTo>
                      <a:pt x="183" y="1873"/>
                    </a:lnTo>
                    <a:lnTo>
                      <a:pt x="219" y="1944"/>
                    </a:lnTo>
                    <a:lnTo>
                      <a:pt x="258" y="2014"/>
                    </a:lnTo>
                    <a:lnTo>
                      <a:pt x="296" y="2081"/>
                    </a:lnTo>
                    <a:lnTo>
                      <a:pt x="335" y="2144"/>
                    </a:lnTo>
                    <a:lnTo>
                      <a:pt x="373" y="2203"/>
                    </a:lnTo>
                    <a:lnTo>
                      <a:pt x="410" y="2259"/>
                    </a:lnTo>
                    <a:lnTo>
                      <a:pt x="445" y="2310"/>
                    </a:lnTo>
                    <a:lnTo>
                      <a:pt x="478" y="2355"/>
                    </a:lnTo>
                    <a:lnTo>
                      <a:pt x="507" y="2396"/>
                    </a:lnTo>
                    <a:lnTo>
                      <a:pt x="533" y="2430"/>
                    </a:lnTo>
                    <a:lnTo>
                      <a:pt x="554" y="2458"/>
                    </a:lnTo>
                    <a:lnTo>
                      <a:pt x="572" y="2479"/>
                    </a:lnTo>
                    <a:lnTo>
                      <a:pt x="583" y="2493"/>
                    </a:lnTo>
                    <a:lnTo>
                      <a:pt x="588" y="2500"/>
                    </a:lnTo>
                    <a:lnTo>
                      <a:pt x="594" y="2505"/>
                    </a:lnTo>
                    <a:lnTo>
                      <a:pt x="600" y="2510"/>
                    </a:lnTo>
                    <a:lnTo>
                      <a:pt x="616" y="2523"/>
                    </a:lnTo>
                    <a:lnTo>
                      <a:pt x="635" y="2537"/>
                    </a:lnTo>
                    <a:lnTo>
                      <a:pt x="657" y="2550"/>
                    </a:lnTo>
                    <a:lnTo>
                      <a:pt x="679" y="2563"/>
                    </a:lnTo>
                    <a:lnTo>
                      <a:pt x="704" y="2575"/>
                    </a:lnTo>
                    <a:lnTo>
                      <a:pt x="731" y="2585"/>
                    </a:lnTo>
                    <a:lnTo>
                      <a:pt x="760" y="2593"/>
                    </a:lnTo>
                    <a:lnTo>
                      <a:pt x="789" y="2600"/>
                    </a:lnTo>
                    <a:lnTo>
                      <a:pt x="806" y="2602"/>
                    </a:lnTo>
                    <a:lnTo>
                      <a:pt x="825" y="2605"/>
                    </a:lnTo>
                    <a:lnTo>
                      <a:pt x="843" y="2605"/>
                    </a:lnTo>
                    <a:lnTo>
                      <a:pt x="862" y="2605"/>
                    </a:lnTo>
                    <a:lnTo>
                      <a:pt x="881" y="2602"/>
                    </a:lnTo>
                    <a:lnTo>
                      <a:pt x="900" y="2600"/>
                    </a:lnTo>
                    <a:lnTo>
                      <a:pt x="919" y="2595"/>
                    </a:lnTo>
                    <a:lnTo>
                      <a:pt x="937" y="2588"/>
                    </a:lnTo>
                    <a:lnTo>
                      <a:pt x="954" y="2580"/>
                    </a:lnTo>
                    <a:lnTo>
                      <a:pt x="912" y="2589"/>
                    </a:lnTo>
                    <a:lnTo>
                      <a:pt x="999" y="2570"/>
                    </a:lnTo>
                    <a:lnTo>
                      <a:pt x="1008" y="2567"/>
                    </a:lnTo>
                    <a:lnTo>
                      <a:pt x="1017" y="2564"/>
                    </a:lnTo>
                    <a:lnTo>
                      <a:pt x="1024" y="2562"/>
                    </a:lnTo>
                    <a:lnTo>
                      <a:pt x="1033" y="2560"/>
                    </a:lnTo>
                    <a:lnTo>
                      <a:pt x="1042" y="2559"/>
                    </a:lnTo>
                    <a:lnTo>
                      <a:pt x="1051" y="2558"/>
                    </a:lnTo>
                    <a:lnTo>
                      <a:pt x="1061" y="2558"/>
                    </a:lnTo>
                    <a:lnTo>
                      <a:pt x="1070" y="2559"/>
                    </a:lnTo>
                    <a:lnTo>
                      <a:pt x="1075" y="2560"/>
                    </a:lnTo>
                    <a:lnTo>
                      <a:pt x="1087" y="2564"/>
                    </a:lnTo>
                    <a:lnTo>
                      <a:pt x="1100" y="2568"/>
                    </a:lnTo>
                    <a:lnTo>
                      <a:pt x="1105" y="2570"/>
                    </a:lnTo>
                    <a:lnTo>
                      <a:pt x="1096" y="2563"/>
                    </a:lnTo>
                    <a:lnTo>
                      <a:pt x="1106" y="2570"/>
                    </a:lnTo>
                    <a:lnTo>
                      <a:pt x="1119" y="2576"/>
                    </a:lnTo>
                    <a:lnTo>
                      <a:pt x="1131" y="2581"/>
                    </a:lnTo>
                    <a:lnTo>
                      <a:pt x="1145" y="2587"/>
                    </a:lnTo>
                    <a:lnTo>
                      <a:pt x="1160" y="2591"/>
                    </a:lnTo>
                    <a:lnTo>
                      <a:pt x="1176" y="2595"/>
                    </a:lnTo>
                    <a:lnTo>
                      <a:pt x="1193" y="2597"/>
                    </a:lnTo>
                    <a:lnTo>
                      <a:pt x="1211" y="2600"/>
                    </a:lnTo>
                    <a:lnTo>
                      <a:pt x="1231" y="2604"/>
                    </a:lnTo>
                    <a:lnTo>
                      <a:pt x="1250" y="2608"/>
                    </a:lnTo>
                    <a:lnTo>
                      <a:pt x="1268" y="2609"/>
                    </a:lnTo>
                    <a:lnTo>
                      <a:pt x="1286" y="2610"/>
                    </a:lnTo>
                    <a:lnTo>
                      <a:pt x="1303" y="2610"/>
                    </a:lnTo>
                    <a:lnTo>
                      <a:pt x="1319" y="2610"/>
                    </a:lnTo>
                    <a:lnTo>
                      <a:pt x="1336" y="2609"/>
                    </a:lnTo>
                    <a:lnTo>
                      <a:pt x="1351" y="2608"/>
                    </a:lnTo>
                    <a:lnTo>
                      <a:pt x="1372" y="2604"/>
                    </a:lnTo>
                    <a:lnTo>
                      <a:pt x="1391" y="2600"/>
                    </a:lnTo>
                    <a:lnTo>
                      <a:pt x="1409" y="2596"/>
                    </a:lnTo>
                    <a:lnTo>
                      <a:pt x="1422" y="2591"/>
                    </a:lnTo>
                    <a:lnTo>
                      <a:pt x="1435" y="2585"/>
                    </a:lnTo>
                    <a:lnTo>
                      <a:pt x="1445" y="2581"/>
                    </a:lnTo>
                    <a:lnTo>
                      <a:pt x="1453" y="2579"/>
                    </a:lnTo>
                    <a:lnTo>
                      <a:pt x="1456" y="2576"/>
                    </a:lnTo>
                    <a:lnTo>
                      <a:pt x="1519" y="2530"/>
                    </a:lnTo>
                    <a:lnTo>
                      <a:pt x="1581" y="2476"/>
                    </a:lnTo>
                    <a:lnTo>
                      <a:pt x="1642" y="2415"/>
                    </a:lnTo>
                    <a:lnTo>
                      <a:pt x="1701" y="2350"/>
                    </a:lnTo>
                    <a:lnTo>
                      <a:pt x="1759" y="2278"/>
                    </a:lnTo>
                    <a:lnTo>
                      <a:pt x="1813" y="2203"/>
                    </a:lnTo>
                    <a:lnTo>
                      <a:pt x="1866" y="2124"/>
                    </a:lnTo>
                    <a:lnTo>
                      <a:pt x="1915" y="2040"/>
                    </a:lnTo>
                    <a:lnTo>
                      <a:pt x="1962" y="1954"/>
                    </a:lnTo>
                    <a:lnTo>
                      <a:pt x="2005" y="1868"/>
                    </a:lnTo>
                    <a:lnTo>
                      <a:pt x="2042" y="1778"/>
                    </a:lnTo>
                    <a:lnTo>
                      <a:pt x="2076" y="1688"/>
                    </a:lnTo>
                    <a:lnTo>
                      <a:pt x="2105" y="1598"/>
                    </a:lnTo>
                    <a:lnTo>
                      <a:pt x="2128" y="1508"/>
                    </a:lnTo>
                    <a:lnTo>
                      <a:pt x="2147" y="1418"/>
                    </a:lnTo>
                    <a:lnTo>
                      <a:pt x="2158" y="1332"/>
                    </a:lnTo>
                    <a:lnTo>
                      <a:pt x="2163" y="1262"/>
                    </a:lnTo>
                    <a:lnTo>
                      <a:pt x="2166" y="1189"/>
                    </a:lnTo>
                    <a:lnTo>
                      <a:pt x="2165" y="1117"/>
                    </a:lnTo>
                    <a:lnTo>
                      <a:pt x="2159" y="1043"/>
                    </a:lnTo>
                    <a:lnTo>
                      <a:pt x="2151" y="969"/>
                    </a:lnTo>
                    <a:lnTo>
                      <a:pt x="2138" y="897"/>
                    </a:lnTo>
                    <a:lnTo>
                      <a:pt x="2120" y="826"/>
                    </a:lnTo>
                    <a:lnTo>
                      <a:pt x="2098" y="756"/>
                    </a:lnTo>
                    <a:lnTo>
                      <a:pt x="2070" y="689"/>
                    </a:lnTo>
                    <a:lnTo>
                      <a:pt x="2037" y="626"/>
                    </a:lnTo>
                    <a:lnTo>
                      <a:pt x="1999" y="566"/>
                    </a:lnTo>
                    <a:lnTo>
                      <a:pt x="1955" y="511"/>
                    </a:lnTo>
                    <a:lnTo>
                      <a:pt x="1906" y="461"/>
                    </a:lnTo>
                    <a:lnTo>
                      <a:pt x="1850" y="416"/>
                    </a:lnTo>
                    <a:lnTo>
                      <a:pt x="1788" y="379"/>
                    </a:lnTo>
                    <a:lnTo>
                      <a:pt x="1719" y="3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155"/>
              <p:cNvSpPr/>
              <p:nvPr/>
            </p:nvSpPr>
            <p:spPr>
              <a:xfrm>
                <a:off x="6887880" y="3658320"/>
                <a:ext cx="1348200" cy="849960"/>
              </a:xfrm>
              <a:custGeom>
                <a:avLst/>
                <a:gdLst/>
                <a:ahLst/>
                <a:rect l="l" t="t" r="r" b="b"/>
                <a:pathLst>
                  <a:path w="1953" h="2172">
                    <a:moveTo>
                      <a:pt x="102" y="1337"/>
                    </a:moveTo>
                    <a:lnTo>
                      <a:pt x="67" y="1237"/>
                    </a:lnTo>
                    <a:lnTo>
                      <a:pt x="41" y="1141"/>
                    </a:lnTo>
                    <a:lnTo>
                      <a:pt x="20" y="1049"/>
                    </a:lnTo>
                    <a:lnTo>
                      <a:pt x="8" y="962"/>
                    </a:lnTo>
                    <a:lnTo>
                      <a:pt x="2" y="879"/>
                    </a:lnTo>
                    <a:lnTo>
                      <a:pt x="0" y="801"/>
                    </a:lnTo>
                    <a:lnTo>
                      <a:pt x="2" y="730"/>
                    </a:lnTo>
                    <a:lnTo>
                      <a:pt x="8" y="663"/>
                    </a:lnTo>
                    <a:lnTo>
                      <a:pt x="15" y="603"/>
                    </a:lnTo>
                    <a:lnTo>
                      <a:pt x="25" y="551"/>
                    </a:lnTo>
                    <a:lnTo>
                      <a:pt x="37" y="505"/>
                    </a:lnTo>
                    <a:lnTo>
                      <a:pt x="47" y="467"/>
                    </a:lnTo>
                    <a:lnTo>
                      <a:pt x="57" y="436"/>
                    </a:lnTo>
                    <a:lnTo>
                      <a:pt x="65" y="414"/>
                    </a:lnTo>
                    <a:lnTo>
                      <a:pt x="70" y="401"/>
                    </a:lnTo>
                    <a:lnTo>
                      <a:pt x="72" y="395"/>
                    </a:lnTo>
                    <a:lnTo>
                      <a:pt x="120" y="293"/>
                    </a:lnTo>
                    <a:lnTo>
                      <a:pt x="174" y="210"/>
                    </a:lnTo>
                    <a:lnTo>
                      <a:pt x="233" y="143"/>
                    </a:lnTo>
                    <a:lnTo>
                      <a:pt x="295" y="90"/>
                    </a:lnTo>
                    <a:lnTo>
                      <a:pt x="359" y="52"/>
                    </a:lnTo>
                    <a:lnTo>
                      <a:pt x="426" y="25"/>
                    </a:lnTo>
                    <a:lnTo>
                      <a:pt x="492" y="10"/>
                    </a:lnTo>
                    <a:lnTo>
                      <a:pt x="556" y="2"/>
                    </a:lnTo>
                    <a:lnTo>
                      <a:pt x="616" y="0"/>
                    </a:lnTo>
                    <a:lnTo>
                      <a:pt x="674" y="6"/>
                    </a:lnTo>
                    <a:lnTo>
                      <a:pt x="726" y="13"/>
                    </a:lnTo>
                    <a:lnTo>
                      <a:pt x="771" y="24"/>
                    </a:lnTo>
                    <a:lnTo>
                      <a:pt x="808" y="36"/>
                    </a:lnTo>
                    <a:lnTo>
                      <a:pt x="837" y="45"/>
                    </a:lnTo>
                    <a:lnTo>
                      <a:pt x="854" y="53"/>
                    </a:lnTo>
                    <a:lnTo>
                      <a:pt x="861" y="56"/>
                    </a:lnTo>
                    <a:lnTo>
                      <a:pt x="881" y="60"/>
                    </a:lnTo>
                    <a:lnTo>
                      <a:pt x="901" y="62"/>
                    </a:lnTo>
                    <a:lnTo>
                      <a:pt x="920" y="66"/>
                    </a:lnTo>
                    <a:lnTo>
                      <a:pt x="938" y="70"/>
                    </a:lnTo>
                    <a:lnTo>
                      <a:pt x="956" y="74"/>
                    </a:lnTo>
                    <a:lnTo>
                      <a:pt x="974" y="78"/>
                    </a:lnTo>
                    <a:lnTo>
                      <a:pt x="990" y="81"/>
                    </a:lnTo>
                    <a:lnTo>
                      <a:pt x="1008" y="83"/>
                    </a:lnTo>
                    <a:lnTo>
                      <a:pt x="1026" y="86"/>
                    </a:lnTo>
                    <a:lnTo>
                      <a:pt x="1042" y="89"/>
                    </a:lnTo>
                    <a:lnTo>
                      <a:pt x="1060" y="90"/>
                    </a:lnTo>
                    <a:lnTo>
                      <a:pt x="1079" y="91"/>
                    </a:lnTo>
                    <a:lnTo>
                      <a:pt x="1098" y="91"/>
                    </a:lnTo>
                    <a:lnTo>
                      <a:pt x="1116" y="90"/>
                    </a:lnTo>
                    <a:lnTo>
                      <a:pt x="1137" y="87"/>
                    </a:lnTo>
                    <a:lnTo>
                      <a:pt x="1158" y="85"/>
                    </a:lnTo>
                    <a:lnTo>
                      <a:pt x="1179" y="81"/>
                    </a:lnTo>
                    <a:lnTo>
                      <a:pt x="1201" y="77"/>
                    </a:lnTo>
                    <a:lnTo>
                      <a:pt x="1222" y="73"/>
                    </a:lnTo>
                    <a:lnTo>
                      <a:pt x="1242" y="69"/>
                    </a:lnTo>
                    <a:lnTo>
                      <a:pt x="1265" y="66"/>
                    </a:lnTo>
                    <a:lnTo>
                      <a:pt x="1287" y="64"/>
                    </a:lnTo>
                    <a:lnTo>
                      <a:pt x="1309" y="62"/>
                    </a:lnTo>
                    <a:lnTo>
                      <a:pt x="1333" y="61"/>
                    </a:lnTo>
                    <a:lnTo>
                      <a:pt x="1357" y="62"/>
                    </a:lnTo>
                    <a:lnTo>
                      <a:pt x="1384" y="64"/>
                    </a:lnTo>
                    <a:lnTo>
                      <a:pt x="1410" y="67"/>
                    </a:lnTo>
                    <a:lnTo>
                      <a:pt x="1438" y="71"/>
                    </a:lnTo>
                    <a:lnTo>
                      <a:pt x="1468" y="78"/>
                    </a:lnTo>
                    <a:lnTo>
                      <a:pt x="1501" y="86"/>
                    </a:lnTo>
                    <a:lnTo>
                      <a:pt x="1533" y="96"/>
                    </a:lnTo>
                    <a:lnTo>
                      <a:pt x="1570" y="110"/>
                    </a:lnTo>
                    <a:lnTo>
                      <a:pt x="1630" y="137"/>
                    </a:lnTo>
                    <a:lnTo>
                      <a:pt x="1686" y="170"/>
                    </a:lnTo>
                    <a:lnTo>
                      <a:pt x="1734" y="210"/>
                    </a:lnTo>
                    <a:lnTo>
                      <a:pt x="1777" y="254"/>
                    </a:lnTo>
                    <a:lnTo>
                      <a:pt x="1814" y="305"/>
                    </a:lnTo>
                    <a:lnTo>
                      <a:pt x="1847" y="359"/>
                    </a:lnTo>
                    <a:lnTo>
                      <a:pt x="1875" y="415"/>
                    </a:lnTo>
                    <a:lnTo>
                      <a:pt x="1898" y="474"/>
                    </a:lnTo>
                    <a:lnTo>
                      <a:pt x="1915" y="536"/>
                    </a:lnTo>
                    <a:lnTo>
                      <a:pt x="1930" y="600"/>
                    </a:lnTo>
                    <a:lnTo>
                      <a:pt x="1940" y="663"/>
                    </a:lnTo>
                    <a:lnTo>
                      <a:pt x="1948" y="727"/>
                    </a:lnTo>
                    <a:lnTo>
                      <a:pt x="1952" y="792"/>
                    </a:lnTo>
                    <a:lnTo>
                      <a:pt x="1953" y="854"/>
                    </a:lnTo>
                    <a:lnTo>
                      <a:pt x="1950" y="914"/>
                    </a:lnTo>
                    <a:lnTo>
                      <a:pt x="1947" y="974"/>
                    </a:lnTo>
                    <a:lnTo>
                      <a:pt x="1937" y="1055"/>
                    </a:lnTo>
                    <a:lnTo>
                      <a:pt x="1920" y="1138"/>
                    </a:lnTo>
                    <a:lnTo>
                      <a:pt x="1899" y="1222"/>
                    </a:lnTo>
                    <a:lnTo>
                      <a:pt x="1872" y="1308"/>
                    </a:lnTo>
                    <a:lnTo>
                      <a:pt x="1841" y="1392"/>
                    </a:lnTo>
                    <a:lnTo>
                      <a:pt x="1806" y="1478"/>
                    </a:lnTo>
                    <a:lnTo>
                      <a:pt x="1767" y="1561"/>
                    </a:lnTo>
                    <a:lnTo>
                      <a:pt x="1724" y="1641"/>
                    </a:lnTo>
                    <a:lnTo>
                      <a:pt x="1677" y="1720"/>
                    </a:lnTo>
                    <a:lnTo>
                      <a:pt x="1629" y="1797"/>
                    </a:lnTo>
                    <a:lnTo>
                      <a:pt x="1578" y="1868"/>
                    </a:lnTo>
                    <a:lnTo>
                      <a:pt x="1525" y="1935"/>
                    </a:lnTo>
                    <a:lnTo>
                      <a:pt x="1470" y="1998"/>
                    </a:lnTo>
                    <a:lnTo>
                      <a:pt x="1414" y="2055"/>
                    </a:lnTo>
                    <a:lnTo>
                      <a:pt x="1357" y="2105"/>
                    </a:lnTo>
                    <a:lnTo>
                      <a:pt x="1299" y="2148"/>
                    </a:lnTo>
                    <a:lnTo>
                      <a:pt x="1298" y="2150"/>
                    </a:lnTo>
                    <a:lnTo>
                      <a:pt x="1294" y="2151"/>
                    </a:lnTo>
                    <a:lnTo>
                      <a:pt x="1289" y="2154"/>
                    </a:lnTo>
                    <a:lnTo>
                      <a:pt x="1280" y="2156"/>
                    </a:lnTo>
                    <a:lnTo>
                      <a:pt x="1270" y="2160"/>
                    </a:lnTo>
                    <a:lnTo>
                      <a:pt x="1259" y="2164"/>
                    </a:lnTo>
                    <a:lnTo>
                      <a:pt x="1245" y="2167"/>
                    </a:lnTo>
                    <a:lnTo>
                      <a:pt x="1230" y="2169"/>
                    </a:lnTo>
                    <a:lnTo>
                      <a:pt x="1216" y="2171"/>
                    </a:lnTo>
                    <a:lnTo>
                      <a:pt x="1201" y="2172"/>
                    </a:lnTo>
                    <a:lnTo>
                      <a:pt x="1186" y="2172"/>
                    </a:lnTo>
                    <a:lnTo>
                      <a:pt x="1169" y="2172"/>
                    </a:lnTo>
                    <a:lnTo>
                      <a:pt x="1152" y="2169"/>
                    </a:lnTo>
                    <a:lnTo>
                      <a:pt x="1134" y="2167"/>
                    </a:lnTo>
                    <a:lnTo>
                      <a:pt x="1115" y="2162"/>
                    </a:lnTo>
                    <a:lnTo>
                      <a:pt x="1095" y="2155"/>
                    </a:lnTo>
                    <a:lnTo>
                      <a:pt x="1057" y="2140"/>
                    </a:lnTo>
                    <a:lnTo>
                      <a:pt x="1028" y="2131"/>
                    </a:lnTo>
                    <a:lnTo>
                      <a:pt x="1008" y="2125"/>
                    </a:lnTo>
                    <a:lnTo>
                      <a:pt x="994" y="2121"/>
                    </a:lnTo>
                    <a:lnTo>
                      <a:pt x="984" y="2119"/>
                    </a:lnTo>
                    <a:lnTo>
                      <a:pt x="977" y="2118"/>
                    </a:lnTo>
                    <a:lnTo>
                      <a:pt x="970" y="2118"/>
                    </a:lnTo>
                    <a:lnTo>
                      <a:pt x="963" y="2117"/>
                    </a:lnTo>
                    <a:lnTo>
                      <a:pt x="936" y="2114"/>
                    </a:lnTo>
                    <a:lnTo>
                      <a:pt x="910" y="2114"/>
                    </a:lnTo>
                    <a:lnTo>
                      <a:pt x="885" y="2118"/>
                    </a:lnTo>
                    <a:lnTo>
                      <a:pt x="861" y="2125"/>
                    </a:lnTo>
                    <a:lnTo>
                      <a:pt x="838" y="2133"/>
                    </a:lnTo>
                    <a:lnTo>
                      <a:pt x="818" y="2139"/>
                    </a:lnTo>
                    <a:lnTo>
                      <a:pt x="802" y="2147"/>
                    </a:lnTo>
                    <a:lnTo>
                      <a:pt x="788" y="2152"/>
                    </a:lnTo>
                    <a:lnTo>
                      <a:pt x="766" y="2159"/>
                    </a:lnTo>
                    <a:lnTo>
                      <a:pt x="745" y="2162"/>
                    </a:lnTo>
                    <a:lnTo>
                      <a:pt x="725" y="2163"/>
                    </a:lnTo>
                    <a:lnTo>
                      <a:pt x="703" y="2162"/>
                    </a:lnTo>
                    <a:lnTo>
                      <a:pt x="683" y="2158"/>
                    </a:lnTo>
                    <a:lnTo>
                      <a:pt x="664" y="2152"/>
                    </a:lnTo>
                    <a:lnTo>
                      <a:pt x="645" y="2146"/>
                    </a:lnTo>
                    <a:lnTo>
                      <a:pt x="629" y="2138"/>
                    </a:lnTo>
                    <a:lnTo>
                      <a:pt x="613" y="2130"/>
                    </a:lnTo>
                    <a:lnTo>
                      <a:pt x="597" y="2122"/>
                    </a:lnTo>
                    <a:lnTo>
                      <a:pt x="585" y="2114"/>
                    </a:lnTo>
                    <a:lnTo>
                      <a:pt x="575" y="2108"/>
                    </a:lnTo>
                    <a:lnTo>
                      <a:pt x="566" y="2101"/>
                    </a:lnTo>
                    <a:lnTo>
                      <a:pt x="558" y="2096"/>
                    </a:lnTo>
                    <a:lnTo>
                      <a:pt x="555" y="2093"/>
                    </a:lnTo>
                    <a:lnTo>
                      <a:pt x="553" y="2092"/>
                    </a:lnTo>
                    <a:lnTo>
                      <a:pt x="550" y="2088"/>
                    </a:lnTo>
                    <a:lnTo>
                      <a:pt x="541" y="2076"/>
                    </a:lnTo>
                    <a:lnTo>
                      <a:pt x="526" y="2056"/>
                    </a:lnTo>
                    <a:lnTo>
                      <a:pt x="505" y="2030"/>
                    </a:lnTo>
                    <a:lnTo>
                      <a:pt x="480" y="1998"/>
                    </a:lnTo>
                    <a:lnTo>
                      <a:pt x="453" y="1959"/>
                    </a:lnTo>
                    <a:lnTo>
                      <a:pt x="421" y="1914"/>
                    </a:lnTo>
                    <a:lnTo>
                      <a:pt x="387" y="1865"/>
                    </a:lnTo>
                    <a:lnTo>
                      <a:pt x="352" y="1811"/>
                    </a:lnTo>
                    <a:lnTo>
                      <a:pt x="314" y="1752"/>
                    </a:lnTo>
                    <a:lnTo>
                      <a:pt x="276" y="1690"/>
                    </a:lnTo>
                    <a:lnTo>
                      <a:pt x="240" y="1624"/>
                    </a:lnTo>
                    <a:lnTo>
                      <a:pt x="202" y="1556"/>
                    </a:lnTo>
                    <a:lnTo>
                      <a:pt x="167" y="1485"/>
                    </a:lnTo>
                    <a:lnTo>
                      <a:pt x="134" y="1412"/>
                    </a:lnTo>
                    <a:lnTo>
                      <a:pt x="102" y="1337"/>
                    </a:lnTo>
                    <a:close/>
                  </a:path>
                </a:pathLst>
              </a:custGeom>
              <a:solidFill>
                <a:srgbClr val="ff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156"/>
              <p:cNvSpPr/>
              <p:nvPr/>
            </p:nvSpPr>
            <p:spPr>
              <a:xfrm>
                <a:off x="7364160" y="3765600"/>
                <a:ext cx="795600" cy="694080"/>
              </a:xfrm>
              <a:custGeom>
                <a:avLst/>
                <a:gdLst/>
                <a:ahLst/>
                <a:rect l="l" t="t" r="r" b="b"/>
                <a:pathLst>
                  <a:path w="1154" h="1765">
                    <a:moveTo>
                      <a:pt x="949" y="59"/>
                    </a:moveTo>
                    <a:lnTo>
                      <a:pt x="944" y="55"/>
                    </a:lnTo>
                    <a:lnTo>
                      <a:pt x="930" y="46"/>
                    </a:lnTo>
                    <a:lnTo>
                      <a:pt x="910" y="34"/>
                    </a:lnTo>
                    <a:lnTo>
                      <a:pt x="883" y="21"/>
                    </a:lnTo>
                    <a:lnTo>
                      <a:pt x="853" y="9"/>
                    </a:lnTo>
                    <a:lnTo>
                      <a:pt x="820" y="1"/>
                    </a:lnTo>
                    <a:lnTo>
                      <a:pt x="788" y="0"/>
                    </a:lnTo>
                    <a:lnTo>
                      <a:pt x="755" y="8"/>
                    </a:lnTo>
                    <a:lnTo>
                      <a:pt x="727" y="20"/>
                    </a:lnTo>
                    <a:lnTo>
                      <a:pt x="706" y="29"/>
                    </a:lnTo>
                    <a:lnTo>
                      <a:pt x="688" y="38"/>
                    </a:lnTo>
                    <a:lnTo>
                      <a:pt x="673" y="46"/>
                    </a:lnTo>
                    <a:lnTo>
                      <a:pt x="658" y="55"/>
                    </a:lnTo>
                    <a:lnTo>
                      <a:pt x="641" y="66"/>
                    </a:lnTo>
                    <a:lnTo>
                      <a:pt x="622" y="79"/>
                    </a:lnTo>
                    <a:lnTo>
                      <a:pt x="597" y="97"/>
                    </a:lnTo>
                    <a:lnTo>
                      <a:pt x="571" y="113"/>
                    </a:lnTo>
                    <a:lnTo>
                      <a:pt x="547" y="120"/>
                    </a:lnTo>
                    <a:lnTo>
                      <a:pt x="524" y="120"/>
                    </a:lnTo>
                    <a:lnTo>
                      <a:pt x="502" y="118"/>
                    </a:lnTo>
                    <a:lnTo>
                      <a:pt x="479" y="117"/>
                    </a:lnTo>
                    <a:lnTo>
                      <a:pt x="456" y="118"/>
                    </a:lnTo>
                    <a:lnTo>
                      <a:pt x="432" y="128"/>
                    </a:lnTo>
                    <a:lnTo>
                      <a:pt x="406" y="146"/>
                    </a:lnTo>
                    <a:lnTo>
                      <a:pt x="378" y="170"/>
                    </a:lnTo>
                    <a:lnTo>
                      <a:pt x="350" y="196"/>
                    </a:lnTo>
                    <a:lnTo>
                      <a:pt x="324" y="226"/>
                    </a:lnTo>
                    <a:lnTo>
                      <a:pt x="301" y="263"/>
                    </a:lnTo>
                    <a:lnTo>
                      <a:pt x="281" y="309"/>
                    </a:lnTo>
                    <a:lnTo>
                      <a:pt x="266" y="365"/>
                    </a:lnTo>
                    <a:lnTo>
                      <a:pt x="257" y="433"/>
                    </a:lnTo>
                    <a:lnTo>
                      <a:pt x="256" y="518"/>
                    </a:lnTo>
                    <a:lnTo>
                      <a:pt x="255" y="581"/>
                    </a:lnTo>
                    <a:lnTo>
                      <a:pt x="248" y="664"/>
                    </a:lnTo>
                    <a:lnTo>
                      <a:pt x="237" y="761"/>
                    </a:lnTo>
                    <a:lnTo>
                      <a:pt x="219" y="864"/>
                    </a:lnTo>
                    <a:lnTo>
                      <a:pt x="195" y="965"/>
                    </a:lnTo>
                    <a:lnTo>
                      <a:pt x="166" y="1060"/>
                    </a:lnTo>
                    <a:lnTo>
                      <a:pt x="129" y="1140"/>
                    </a:lnTo>
                    <a:lnTo>
                      <a:pt x="85" y="1200"/>
                    </a:lnTo>
                    <a:lnTo>
                      <a:pt x="58" y="1241"/>
                    </a:lnTo>
                    <a:lnTo>
                      <a:pt x="35" y="1302"/>
                    </a:lnTo>
                    <a:lnTo>
                      <a:pt x="17" y="1380"/>
                    </a:lnTo>
                    <a:lnTo>
                      <a:pt x="5" y="1463"/>
                    </a:lnTo>
                    <a:lnTo>
                      <a:pt x="0" y="1547"/>
                    </a:lnTo>
                    <a:lnTo>
                      <a:pt x="4" y="1621"/>
                    </a:lnTo>
                    <a:lnTo>
                      <a:pt x="18" y="1680"/>
                    </a:lnTo>
                    <a:lnTo>
                      <a:pt x="43" y="1715"/>
                    </a:lnTo>
                    <a:lnTo>
                      <a:pt x="71" y="1732"/>
                    </a:lnTo>
                    <a:lnTo>
                      <a:pt x="92" y="1742"/>
                    </a:lnTo>
                    <a:lnTo>
                      <a:pt x="110" y="1746"/>
                    </a:lnTo>
                    <a:lnTo>
                      <a:pt x="126" y="1746"/>
                    </a:lnTo>
                    <a:lnTo>
                      <a:pt x="142" y="1744"/>
                    </a:lnTo>
                    <a:lnTo>
                      <a:pt x="161" y="1736"/>
                    </a:lnTo>
                    <a:lnTo>
                      <a:pt x="184" y="1727"/>
                    </a:lnTo>
                    <a:lnTo>
                      <a:pt x="213" y="1716"/>
                    </a:lnTo>
                    <a:lnTo>
                      <a:pt x="231" y="1711"/>
                    </a:lnTo>
                    <a:lnTo>
                      <a:pt x="248" y="1708"/>
                    </a:lnTo>
                    <a:lnTo>
                      <a:pt x="266" y="1705"/>
                    </a:lnTo>
                    <a:lnTo>
                      <a:pt x="284" y="1703"/>
                    </a:lnTo>
                    <a:lnTo>
                      <a:pt x="302" y="1703"/>
                    </a:lnTo>
                    <a:lnTo>
                      <a:pt x="320" y="1703"/>
                    </a:lnTo>
                    <a:lnTo>
                      <a:pt x="338" y="1704"/>
                    </a:lnTo>
                    <a:lnTo>
                      <a:pt x="355" y="1707"/>
                    </a:lnTo>
                    <a:lnTo>
                      <a:pt x="372" y="1709"/>
                    </a:lnTo>
                    <a:lnTo>
                      <a:pt x="388" y="1712"/>
                    </a:lnTo>
                    <a:lnTo>
                      <a:pt x="403" y="1716"/>
                    </a:lnTo>
                    <a:lnTo>
                      <a:pt x="417" y="1720"/>
                    </a:lnTo>
                    <a:lnTo>
                      <a:pt x="430" y="1725"/>
                    </a:lnTo>
                    <a:lnTo>
                      <a:pt x="442" y="1730"/>
                    </a:lnTo>
                    <a:lnTo>
                      <a:pt x="451" y="1736"/>
                    </a:lnTo>
                    <a:lnTo>
                      <a:pt x="460" y="1741"/>
                    </a:lnTo>
                    <a:lnTo>
                      <a:pt x="476" y="1752"/>
                    </a:lnTo>
                    <a:lnTo>
                      <a:pt x="495" y="1758"/>
                    </a:lnTo>
                    <a:lnTo>
                      <a:pt x="515" y="1762"/>
                    </a:lnTo>
                    <a:lnTo>
                      <a:pt x="537" y="1765"/>
                    </a:lnTo>
                    <a:lnTo>
                      <a:pt x="558" y="1763"/>
                    </a:lnTo>
                    <a:lnTo>
                      <a:pt x="578" y="1759"/>
                    </a:lnTo>
                    <a:lnTo>
                      <a:pt x="596" y="1753"/>
                    </a:lnTo>
                    <a:lnTo>
                      <a:pt x="610" y="1742"/>
                    </a:lnTo>
                    <a:lnTo>
                      <a:pt x="619" y="1733"/>
                    </a:lnTo>
                    <a:lnTo>
                      <a:pt x="631" y="1719"/>
                    </a:lnTo>
                    <a:lnTo>
                      <a:pt x="648" y="1698"/>
                    </a:lnTo>
                    <a:lnTo>
                      <a:pt x="667" y="1674"/>
                    </a:lnTo>
                    <a:lnTo>
                      <a:pt x="688" y="1645"/>
                    </a:lnTo>
                    <a:lnTo>
                      <a:pt x="712" y="1612"/>
                    </a:lnTo>
                    <a:lnTo>
                      <a:pt x="738" y="1579"/>
                    </a:lnTo>
                    <a:lnTo>
                      <a:pt x="765" y="1543"/>
                    </a:lnTo>
                    <a:lnTo>
                      <a:pt x="791" y="1507"/>
                    </a:lnTo>
                    <a:lnTo>
                      <a:pt x="818" y="1471"/>
                    </a:lnTo>
                    <a:lnTo>
                      <a:pt x="844" y="1435"/>
                    </a:lnTo>
                    <a:lnTo>
                      <a:pt x="869" y="1403"/>
                    </a:lnTo>
                    <a:lnTo>
                      <a:pt x="892" y="1371"/>
                    </a:lnTo>
                    <a:lnTo>
                      <a:pt x="913" y="1343"/>
                    </a:lnTo>
                    <a:lnTo>
                      <a:pt x="931" y="1320"/>
                    </a:lnTo>
                    <a:lnTo>
                      <a:pt x="946" y="1301"/>
                    </a:lnTo>
                    <a:lnTo>
                      <a:pt x="963" y="1277"/>
                    </a:lnTo>
                    <a:lnTo>
                      <a:pt x="984" y="1239"/>
                    </a:lnTo>
                    <a:lnTo>
                      <a:pt x="1009" y="1189"/>
                    </a:lnTo>
                    <a:lnTo>
                      <a:pt x="1037" y="1127"/>
                    </a:lnTo>
                    <a:lnTo>
                      <a:pt x="1065" y="1056"/>
                    </a:lnTo>
                    <a:lnTo>
                      <a:pt x="1091" y="977"/>
                    </a:lnTo>
                    <a:lnTo>
                      <a:pt x="1115" y="892"/>
                    </a:lnTo>
                    <a:lnTo>
                      <a:pt x="1134" y="801"/>
                    </a:lnTo>
                    <a:lnTo>
                      <a:pt x="1148" y="706"/>
                    </a:lnTo>
                    <a:lnTo>
                      <a:pt x="1154" y="608"/>
                    </a:lnTo>
                    <a:lnTo>
                      <a:pt x="1152" y="510"/>
                    </a:lnTo>
                    <a:lnTo>
                      <a:pt x="1138" y="412"/>
                    </a:lnTo>
                    <a:lnTo>
                      <a:pt x="1113" y="317"/>
                    </a:lnTo>
                    <a:lnTo>
                      <a:pt x="1073" y="226"/>
                    </a:lnTo>
                    <a:lnTo>
                      <a:pt x="1019" y="140"/>
                    </a:lnTo>
                    <a:lnTo>
                      <a:pt x="949" y="59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157"/>
              <p:cNvSpPr/>
              <p:nvPr/>
            </p:nvSpPr>
            <p:spPr>
              <a:xfrm>
                <a:off x="7333200" y="3700800"/>
                <a:ext cx="358200" cy="88200"/>
              </a:xfrm>
              <a:custGeom>
                <a:avLst/>
                <a:gdLst/>
                <a:ahLst/>
                <a:rect l="l" t="t" r="r" b="b"/>
                <a:pathLst>
                  <a:path w="519" h="213">
                    <a:moveTo>
                      <a:pt x="301" y="75"/>
                    </a:moveTo>
                    <a:lnTo>
                      <a:pt x="296" y="72"/>
                    </a:lnTo>
                    <a:lnTo>
                      <a:pt x="282" y="66"/>
                    </a:lnTo>
                    <a:lnTo>
                      <a:pt x="262" y="57"/>
                    </a:lnTo>
                    <a:lnTo>
                      <a:pt x="235" y="45"/>
                    </a:lnTo>
                    <a:lnTo>
                      <a:pt x="206" y="33"/>
                    </a:lnTo>
                    <a:lnTo>
                      <a:pt x="175" y="21"/>
                    </a:lnTo>
                    <a:lnTo>
                      <a:pt x="143" y="10"/>
                    </a:lnTo>
                    <a:lnTo>
                      <a:pt x="113" y="4"/>
                    </a:lnTo>
                    <a:lnTo>
                      <a:pt x="87" y="0"/>
                    </a:lnTo>
                    <a:lnTo>
                      <a:pt x="64" y="1"/>
                    </a:lnTo>
                    <a:lnTo>
                      <a:pt x="44" y="4"/>
                    </a:lnTo>
                    <a:lnTo>
                      <a:pt x="29" y="9"/>
                    </a:lnTo>
                    <a:lnTo>
                      <a:pt x="16" y="16"/>
                    </a:lnTo>
                    <a:lnTo>
                      <a:pt x="7" y="21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179" y="188"/>
                    </a:lnTo>
                    <a:lnTo>
                      <a:pt x="184" y="190"/>
                    </a:lnTo>
                    <a:lnTo>
                      <a:pt x="199" y="194"/>
                    </a:lnTo>
                    <a:lnTo>
                      <a:pt x="220" y="199"/>
                    </a:lnTo>
                    <a:lnTo>
                      <a:pt x="247" y="204"/>
                    </a:lnTo>
                    <a:lnTo>
                      <a:pt x="276" y="209"/>
                    </a:lnTo>
                    <a:lnTo>
                      <a:pt x="306" y="213"/>
                    </a:lnTo>
                    <a:lnTo>
                      <a:pt x="335" y="213"/>
                    </a:lnTo>
                    <a:lnTo>
                      <a:pt x="361" y="209"/>
                    </a:lnTo>
                    <a:lnTo>
                      <a:pt x="387" y="203"/>
                    </a:lnTo>
                    <a:lnTo>
                      <a:pt x="412" y="194"/>
                    </a:lnTo>
                    <a:lnTo>
                      <a:pt x="437" y="186"/>
                    </a:lnTo>
                    <a:lnTo>
                      <a:pt x="460" y="178"/>
                    </a:lnTo>
                    <a:lnTo>
                      <a:pt x="480" y="170"/>
                    </a:lnTo>
                    <a:lnTo>
                      <a:pt x="496" y="163"/>
                    </a:lnTo>
                    <a:lnTo>
                      <a:pt x="506" y="159"/>
                    </a:lnTo>
                    <a:lnTo>
                      <a:pt x="510" y="158"/>
                    </a:lnTo>
                    <a:lnTo>
                      <a:pt x="511" y="158"/>
                    </a:lnTo>
                    <a:lnTo>
                      <a:pt x="515" y="157"/>
                    </a:lnTo>
                    <a:lnTo>
                      <a:pt x="518" y="154"/>
                    </a:lnTo>
                    <a:lnTo>
                      <a:pt x="519" y="151"/>
                    </a:lnTo>
                    <a:lnTo>
                      <a:pt x="518" y="147"/>
                    </a:lnTo>
                    <a:lnTo>
                      <a:pt x="510" y="141"/>
                    </a:lnTo>
                    <a:lnTo>
                      <a:pt x="496" y="134"/>
                    </a:lnTo>
                    <a:lnTo>
                      <a:pt x="473" y="126"/>
                    </a:lnTo>
                    <a:lnTo>
                      <a:pt x="448" y="116"/>
                    </a:lnTo>
                    <a:lnTo>
                      <a:pt x="428" y="105"/>
                    </a:lnTo>
                    <a:lnTo>
                      <a:pt x="410" y="95"/>
                    </a:lnTo>
                    <a:lnTo>
                      <a:pt x="394" y="86"/>
                    </a:lnTo>
                    <a:lnTo>
                      <a:pt x="376" y="78"/>
                    </a:lnTo>
                    <a:lnTo>
                      <a:pt x="356" y="74"/>
                    </a:lnTo>
                    <a:lnTo>
                      <a:pt x="331" y="72"/>
                    </a:lnTo>
                    <a:lnTo>
                      <a:pt x="301" y="75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158"/>
              <p:cNvSpPr/>
              <p:nvPr/>
            </p:nvSpPr>
            <p:spPr>
              <a:xfrm>
                <a:off x="6941880" y="3743280"/>
                <a:ext cx="457200" cy="559440"/>
              </a:xfrm>
              <a:custGeom>
                <a:avLst/>
                <a:gdLst/>
                <a:ahLst/>
                <a:rect l="l" t="t" r="r" b="b"/>
                <a:pathLst>
                  <a:path w="666" h="1421">
                    <a:moveTo>
                      <a:pt x="368" y="19"/>
                    </a:moveTo>
                    <a:lnTo>
                      <a:pt x="364" y="21"/>
                    </a:lnTo>
                    <a:lnTo>
                      <a:pt x="356" y="27"/>
                    </a:lnTo>
                    <a:lnTo>
                      <a:pt x="341" y="37"/>
                    </a:lnTo>
                    <a:lnTo>
                      <a:pt x="320" y="50"/>
                    </a:lnTo>
                    <a:lnTo>
                      <a:pt x="298" y="69"/>
                    </a:lnTo>
                    <a:lnTo>
                      <a:pt x="271" y="91"/>
                    </a:lnTo>
                    <a:lnTo>
                      <a:pt x="242" y="116"/>
                    </a:lnTo>
                    <a:lnTo>
                      <a:pt x="212" y="146"/>
                    </a:lnTo>
                    <a:lnTo>
                      <a:pt x="182" y="179"/>
                    </a:lnTo>
                    <a:lnTo>
                      <a:pt x="150" y="218"/>
                    </a:lnTo>
                    <a:lnTo>
                      <a:pt x="120" y="258"/>
                    </a:lnTo>
                    <a:lnTo>
                      <a:pt x="92" y="303"/>
                    </a:lnTo>
                    <a:lnTo>
                      <a:pt x="67" y="352"/>
                    </a:lnTo>
                    <a:lnTo>
                      <a:pt x="44" y="403"/>
                    </a:lnTo>
                    <a:lnTo>
                      <a:pt x="26" y="460"/>
                    </a:lnTo>
                    <a:lnTo>
                      <a:pt x="12" y="519"/>
                    </a:lnTo>
                    <a:lnTo>
                      <a:pt x="4" y="577"/>
                    </a:lnTo>
                    <a:lnTo>
                      <a:pt x="0" y="635"/>
                    </a:lnTo>
                    <a:lnTo>
                      <a:pt x="0" y="692"/>
                    </a:lnTo>
                    <a:lnTo>
                      <a:pt x="4" y="748"/>
                    </a:lnTo>
                    <a:lnTo>
                      <a:pt x="12" y="802"/>
                    </a:lnTo>
                    <a:lnTo>
                      <a:pt x="22" y="855"/>
                    </a:lnTo>
                    <a:lnTo>
                      <a:pt x="33" y="905"/>
                    </a:lnTo>
                    <a:lnTo>
                      <a:pt x="47" y="952"/>
                    </a:lnTo>
                    <a:lnTo>
                      <a:pt x="62" y="997"/>
                    </a:lnTo>
                    <a:lnTo>
                      <a:pt x="79" y="1038"/>
                    </a:lnTo>
                    <a:lnTo>
                      <a:pt x="94" y="1076"/>
                    </a:lnTo>
                    <a:lnTo>
                      <a:pt x="110" y="1109"/>
                    </a:lnTo>
                    <a:lnTo>
                      <a:pt x="125" y="1138"/>
                    </a:lnTo>
                    <a:lnTo>
                      <a:pt x="138" y="1162"/>
                    </a:lnTo>
                    <a:lnTo>
                      <a:pt x="150" y="1180"/>
                    </a:lnTo>
                    <a:lnTo>
                      <a:pt x="160" y="1194"/>
                    </a:lnTo>
                    <a:lnTo>
                      <a:pt x="179" y="1216"/>
                    </a:lnTo>
                    <a:lnTo>
                      <a:pt x="199" y="1244"/>
                    </a:lnTo>
                    <a:lnTo>
                      <a:pt x="221" y="1273"/>
                    </a:lnTo>
                    <a:lnTo>
                      <a:pt x="241" y="1302"/>
                    </a:lnTo>
                    <a:lnTo>
                      <a:pt x="260" y="1329"/>
                    </a:lnTo>
                    <a:lnTo>
                      <a:pt x="274" y="1350"/>
                    </a:lnTo>
                    <a:lnTo>
                      <a:pt x="284" y="1366"/>
                    </a:lnTo>
                    <a:lnTo>
                      <a:pt x="288" y="1371"/>
                    </a:lnTo>
                    <a:lnTo>
                      <a:pt x="290" y="1374"/>
                    </a:lnTo>
                    <a:lnTo>
                      <a:pt x="296" y="1382"/>
                    </a:lnTo>
                    <a:lnTo>
                      <a:pt x="305" y="1392"/>
                    </a:lnTo>
                    <a:lnTo>
                      <a:pt x="318" y="1404"/>
                    </a:lnTo>
                    <a:lnTo>
                      <a:pt x="330" y="1413"/>
                    </a:lnTo>
                    <a:lnTo>
                      <a:pt x="343" y="1420"/>
                    </a:lnTo>
                    <a:lnTo>
                      <a:pt x="356" y="1421"/>
                    </a:lnTo>
                    <a:lnTo>
                      <a:pt x="366" y="1413"/>
                    </a:lnTo>
                    <a:lnTo>
                      <a:pt x="376" y="1402"/>
                    </a:lnTo>
                    <a:lnTo>
                      <a:pt x="388" y="1391"/>
                    </a:lnTo>
                    <a:lnTo>
                      <a:pt x="401" y="1379"/>
                    </a:lnTo>
                    <a:lnTo>
                      <a:pt x="412" y="1365"/>
                    </a:lnTo>
                    <a:lnTo>
                      <a:pt x="424" y="1346"/>
                    </a:lnTo>
                    <a:lnTo>
                      <a:pt x="433" y="1324"/>
                    </a:lnTo>
                    <a:lnTo>
                      <a:pt x="438" y="1295"/>
                    </a:lnTo>
                    <a:lnTo>
                      <a:pt x="439" y="1259"/>
                    </a:lnTo>
                    <a:lnTo>
                      <a:pt x="436" y="1163"/>
                    </a:lnTo>
                    <a:lnTo>
                      <a:pt x="431" y="1053"/>
                    </a:lnTo>
                    <a:lnTo>
                      <a:pt x="426" y="954"/>
                    </a:lnTo>
                    <a:lnTo>
                      <a:pt x="424" y="889"/>
                    </a:lnTo>
                    <a:lnTo>
                      <a:pt x="430" y="852"/>
                    </a:lnTo>
                    <a:lnTo>
                      <a:pt x="448" y="787"/>
                    </a:lnTo>
                    <a:lnTo>
                      <a:pt x="473" y="701"/>
                    </a:lnTo>
                    <a:lnTo>
                      <a:pt x="503" y="607"/>
                    </a:lnTo>
                    <a:lnTo>
                      <a:pt x="536" y="514"/>
                    </a:lnTo>
                    <a:lnTo>
                      <a:pt x="569" y="432"/>
                    </a:lnTo>
                    <a:lnTo>
                      <a:pt x="596" y="369"/>
                    </a:lnTo>
                    <a:lnTo>
                      <a:pt x="618" y="337"/>
                    </a:lnTo>
                    <a:lnTo>
                      <a:pt x="633" y="323"/>
                    </a:lnTo>
                    <a:lnTo>
                      <a:pt x="645" y="305"/>
                    </a:lnTo>
                    <a:lnTo>
                      <a:pt x="654" y="283"/>
                    </a:lnTo>
                    <a:lnTo>
                      <a:pt x="661" y="260"/>
                    </a:lnTo>
                    <a:lnTo>
                      <a:pt x="664" y="233"/>
                    </a:lnTo>
                    <a:lnTo>
                      <a:pt x="666" y="207"/>
                    </a:lnTo>
                    <a:lnTo>
                      <a:pt x="664" y="178"/>
                    </a:lnTo>
                    <a:lnTo>
                      <a:pt x="662" y="149"/>
                    </a:lnTo>
                    <a:lnTo>
                      <a:pt x="658" y="133"/>
                    </a:lnTo>
                    <a:lnTo>
                      <a:pt x="652" y="119"/>
                    </a:lnTo>
                    <a:lnTo>
                      <a:pt x="642" y="102"/>
                    </a:lnTo>
                    <a:lnTo>
                      <a:pt x="629" y="86"/>
                    </a:lnTo>
                    <a:lnTo>
                      <a:pt x="614" y="71"/>
                    </a:lnTo>
                    <a:lnTo>
                      <a:pt x="598" y="56"/>
                    </a:lnTo>
                    <a:lnTo>
                      <a:pt x="579" y="42"/>
                    </a:lnTo>
                    <a:lnTo>
                      <a:pt x="557" y="31"/>
                    </a:lnTo>
                    <a:lnTo>
                      <a:pt x="536" y="20"/>
                    </a:lnTo>
                    <a:lnTo>
                      <a:pt x="513" y="11"/>
                    </a:lnTo>
                    <a:lnTo>
                      <a:pt x="489" y="4"/>
                    </a:lnTo>
                    <a:lnTo>
                      <a:pt x="464" y="0"/>
                    </a:lnTo>
                    <a:lnTo>
                      <a:pt x="440" y="0"/>
                    </a:lnTo>
                    <a:lnTo>
                      <a:pt x="416" y="3"/>
                    </a:lnTo>
                    <a:lnTo>
                      <a:pt x="392" y="8"/>
                    </a:lnTo>
                    <a:lnTo>
                      <a:pt x="368" y="19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159"/>
              <p:cNvSpPr/>
              <p:nvPr/>
            </p:nvSpPr>
            <p:spPr>
              <a:xfrm>
                <a:off x="7327080" y="4463640"/>
                <a:ext cx="409680" cy="36360"/>
              </a:xfrm>
              <a:custGeom>
                <a:avLst/>
                <a:gdLst/>
                <a:ahLst/>
                <a:rect l="l" t="t" r="r" b="b"/>
                <a:pathLst>
                  <a:path w="590" h="105">
                    <a:moveTo>
                      <a:pt x="81" y="104"/>
                    </a:moveTo>
                    <a:lnTo>
                      <a:pt x="71" y="101"/>
                    </a:lnTo>
                    <a:lnTo>
                      <a:pt x="59" y="99"/>
                    </a:lnTo>
                    <a:lnTo>
                      <a:pt x="49" y="93"/>
                    </a:lnTo>
                    <a:lnTo>
                      <a:pt x="39" y="88"/>
                    </a:lnTo>
                    <a:lnTo>
                      <a:pt x="29" y="80"/>
                    </a:lnTo>
                    <a:lnTo>
                      <a:pt x="19" y="71"/>
                    </a:lnTo>
                    <a:lnTo>
                      <a:pt x="9" y="59"/>
                    </a:lnTo>
                    <a:lnTo>
                      <a:pt x="0" y="46"/>
                    </a:lnTo>
                    <a:lnTo>
                      <a:pt x="5" y="47"/>
                    </a:lnTo>
                    <a:lnTo>
                      <a:pt x="20" y="50"/>
                    </a:lnTo>
                    <a:lnTo>
                      <a:pt x="42" y="53"/>
                    </a:lnTo>
                    <a:lnTo>
                      <a:pt x="68" y="55"/>
                    </a:lnTo>
                    <a:lnTo>
                      <a:pt x="98" y="55"/>
                    </a:lnTo>
                    <a:lnTo>
                      <a:pt x="130" y="53"/>
                    </a:lnTo>
                    <a:lnTo>
                      <a:pt x="159" y="45"/>
                    </a:lnTo>
                    <a:lnTo>
                      <a:pt x="185" y="32"/>
                    </a:lnTo>
                    <a:lnTo>
                      <a:pt x="198" y="24"/>
                    </a:lnTo>
                    <a:lnTo>
                      <a:pt x="213" y="17"/>
                    </a:lnTo>
                    <a:lnTo>
                      <a:pt x="230" y="12"/>
                    </a:lnTo>
                    <a:lnTo>
                      <a:pt x="247" y="7"/>
                    </a:lnTo>
                    <a:lnTo>
                      <a:pt x="266" y="4"/>
                    </a:lnTo>
                    <a:lnTo>
                      <a:pt x="286" y="1"/>
                    </a:lnTo>
                    <a:lnTo>
                      <a:pt x="306" y="0"/>
                    </a:lnTo>
                    <a:lnTo>
                      <a:pt x="327" y="0"/>
                    </a:lnTo>
                    <a:lnTo>
                      <a:pt x="348" y="1"/>
                    </a:lnTo>
                    <a:lnTo>
                      <a:pt x="368" y="4"/>
                    </a:lnTo>
                    <a:lnTo>
                      <a:pt x="390" y="8"/>
                    </a:lnTo>
                    <a:lnTo>
                      <a:pt x="410" y="12"/>
                    </a:lnTo>
                    <a:lnTo>
                      <a:pt x="429" y="17"/>
                    </a:lnTo>
                    <a:lnTo>
                      <a:pt x="446" y="25"/>
                    </a:lnTo>
                    <a:lnTo>
                      <a:pt x="464" y="33"/>
                    </a:lnTo>
                    <a:lnTo>
                      <a:pt x="479" y="42"/>
                    </a:lnTo>
                    <a:lnTo>
                      <a:pt x="505" y="58"/>
                    </a:lnTo>
                    <a:lnTo>
                      <a:pt x="528" y="66"/>
                    </a:lnTo>
                    <a:lnTo>
                      <a:pt x="547" y="70"/>
                    </a:lnTo>
                    <a:lnTo>
                      <a:pt x="562" y="68"/>
                    </a:lnTo>
                    <a:lnTo>
                      <a:pt x="573" y="66"/>
                    </a:lnTo>
                    <a:lnTo>
                      <a:pt x="582" y="62"/>
                    </a:lnTo>
                    <a:lnTo>
                      <a:pt x="587" y="58"/>
                    </a:lnTo>
                    <a:lnTo>
                      <a:pt x="589" y="57"/>
                    </a:lnTo>
                    <a:lnTo>
                      <a:pt x="589" y="59"/>
                    </a:lnTo>
                    <a:lnTo>
                      <a:pt x="590" y="66"/>
                    </a:lnTo>
                    <a:lnTo>
                      <a:pt x="587" y="75"/>
                    </a:lnTo>
                    <a:lnTo>
                      <a:pt x="580" y="84"/>
                    </a:lnTo>
                    <a:lnTo>
                      <a:pt x="565" y="91"/>
                    </a:lnTo>
                    <a:lnTo>
                      <a:pt x="541" y="93"/>
                    </a:lnTo>
                    <a:lnTo>
                      <a:pt x="504" y="90"/>
                    </a:lnTo>
                    <a:lnTo>
                      <a:pt x="454" y="78"/>
                    </a:lnTo>
                    <a:lnTo>
                      <a:pt x="451" y="76"/>
                    </a:lnTo>
                    <a:lnTo>
                      <a:pt x="446" y="75"/>
                    </a:lnTo>
                    <a:lnTo>
                      <a:pt x="436" y="72"/>
                    </a:lnTo>
                    <a:lnTo>
                      <a:pt x="425" y="68"/>
                    </a:lnTo>
                    <a:lnTo>
                      <a:pt x="410" y="66"/>
                    </a:lnTo>
                    <a:lnTo>
                      <a:pt x="392" y="62"/>
                    </a:lnTo>
                    <a:lnTo>
                      <a:pt x="373" y="58"/>
                    </a:lnTo>
                    <a:lnTo>
                      <a:pt x="354" y="54"/>
                    </a:lnTo>
                    <a:lnTo>
                      <a:pt x="333" y="51"/>
                    </a:lnTo>
                    <a:lnTo>
                      <a:pt x="311" y="49"/>
                    </a:lnTo>
                    <a:lnTo>
                      <a:pt x="289" y="49"/>
                    </a:lnTo>
                    <a:lnTo>
                      <a:pt x="267" y="49"/>
                    </a:lnTo>
                    <a:lnTo>
                      <a:pt x="247" y="51"/>
                    </a:lnTo>
                    <a:lnTo>
                      <a:pt x="227" y="55"/>
                    </a:lnTo>
                    <a:lnTo>
                      <a:pt x="209" y="61"/>
                    </a:lnTo>
                    <a:lnTo>
                      <a:pt x="193" y="70"/>
                    </a:lnTo>
                    <a:lnTo>
                      <a:pt x="190" y="71"/>
                    </a:lnTo>
                    <a:lnTo>
                      <a:pt x="184" y="76"/>
                    </a:lnTo>
                    <a:lnTo>
                      <a:pt x="173" y="83"/>
                    </a:lnTo>
                    <a:lnTo>
                      <a:pt x="159" y="90"/>
                    </a:lnTo>
                    <a:lnTo>
                      <a:pt x="141" y="96"/>
                    </a:lnTo>
                    <a:lnTo>
                      <a:pt x="122" y="101"/>
                    </a:lnTo>
                    <a:lnTo>
                      <a:pt x="102" y="105"/>
                    </a:lnTo>
                    <a:lnTo>
                      <a:pt x="81" y="104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160"/>
              <p:cNvSpPr/>
              <p:nvPr/>
            </p:nvSpPr>
            <p:spPr>
              <a:xfrm>
                <a:off x="6983280" y="377172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474" h="1109">
                    <a:moveTo>
                      <a:pt x="312" y="8"/>
                    </a:moveTo>
                    <a:lnTo>
                      <a:pt x="309" y="10"/>
                    </a:lnTo>
                    <a:lnTo>
                      <a:pt x="303" y="12"/>
                    </a:lnTo>
                    <a:lnTo>
                      <a:pt x="293" y="18"/>
                    </a:lnTo>
                    <a:lnTo>
                      <a:pt x="279" y="25"/>
                    </a:lnTo>
                    <a:lnTo>
                      <a:pt x="261" y="36"/>
                    </a:lnTo>
                    <a:lnTo>
                      <a:pt x="242" y="48"/>
                    </a:lnTo>
                    <a:lnTo>
                      <a:pt x="222" y="62"/>
                    </a:lnTo>
                    <a:lnTo>
                      <a:pt x="199" y="79"/>
                    </a:lnTo>
                    <a:lnTo>
                      <a:pt x="177" y="100"/>
                    </a:lnTo>
                    <a:lnTo>
                      <a:pt x="153" y="123"/>
                    </a:lnTo>
                    <a:lnTo>
                      <a:pt x="129" y="148"/>
                    </a:lnTo>
                    <a:lnTo>
                      <a:pt x="106" y="176"/>
                    </a:lnTo>
                    <a:lnTo>
                      <a:pt x="85" y="207"/>
                    </a:lnTo>
                    <a:lnTo>
                      <a:pt x="65" y="241"/>
                    </a:lnTo>
                    <a:lnTo>
                      <a:pt x="46" y="278"/>
                    </a:lnTo>
                    <a:lnTo>
                      <a:pt x="31" y="318"/>
                    </a:lnTo>
                    <a:lnTo>
                      <a:pt x="9" y="401"/>
                    </a:lnTo>
                    <a:lnTo>
                      <a:pt x="0" y="485"/>
                    </a:lnTo>
                    <a:lnTo>
                      <a:pt x="0" y="569"/>
                    </a:lnTo>
                    <a:lnTo>
                      <a:pt x="7" y="648"/>
                    </a:lnTo>
                    <a:lnTo>
                      <a:pt x="17" y="721"/>
                    </a:lnTo>
                    <a:lnTo>
                      <a:pt x="28" y="780"/>
                    </a:lnTo>
                    <a:lnTo>
                      <a:pt x="38" y="826"/>
                    </a:lnTo>
                    <a:lnTo>
                      <a:pt x="46" y="853"/>
                    </a:lnTo>
                    <a:lnTo>
                      <a:pt x="60" y="892"/>
                    </a:lnTo>
                    <a:lnTo>
                      <a:pt x="77" y="933"/>
                    </a:lnTo>
                    <a:lnTo>
                      <a:pt x="96" y="971"/>
                    </a:lnTo>
                    <a:lnTo>
                      <a:pt x="115" y="1007"/>
                    </a:lnTo>
                    <a:lnTo>
                      <a:pt x="133" y="1037"/>
                    </a:lnTo>
                    <a:lnTo>
                      <a:pt x="148" y="1061"/>
                    </a:lnTo>
                    <a:lnTo>
                      <a:pt x="158" y="1076"/>
                    </a:lnTo>
                    <a:lnTo>
                      <a:pt x="162" y="1082"/>
                    </a:lnTo>
                    <a:lnTo>
                      <a:pt x="163" y="1086"/>
                    </a:lnTo>
                    <a:lnTo>
                      <a:pt x="167" y="1094"/>
                    </a:lnTo>
                    <a:lnTo>
                      <a:pt x="173" y="1103"/>
                    </a:lnTo>
                    <a:lnTo>
                      <a:pt x="180" y="1108"/>
                    </a:lnTo>
                    <a:lnTo>
                      <a:pt x="191" y="1109"/>
                    </a:lnTo>
                    <a:lnTo>
                      <a:pt x="202" y="1100"/>
                    </a:lnTo>
                    <a:lnTo>
                      <a:pt x="216" y="1079"/>
                    </a:lnTo>
                    <a:lnTo>
                      <a:pt x="230" y="1041"/>
                    </a:lnTo>
                    <a:lnTo>
                      <a:pt x="238" y="983"/>
                    </a:lnTo>
                    <a:lnTo>
                      <a:pt x="238" y="907"/>
                    </a:lnTo>
                    <a:lnTo>
                      <a:pt x="232" y="821"/>
                    </a:lnTo>
                    <a:lnTo>
                      <a:pt x="227" y="727"/>
                    </a:lnTo>
                    <a:lnTo>
                      <a:pt x="225" y="633"/>
                    </a:lnTo>
                    <a:lnTo>
                      <a:pt x="232" y="543"/>
                    </a:lnTo>
                    <a:lnTo>
                      <a:pt x="254" y="463"/>
                    </a:lnTo>
                    <a:lnTo>
                      <a:pt x="293" y="397"/>
                    </a:lnTo>
                    <a:lnTo>
                      <a:pt x="339" y="343"/>
                    </a:lnTo>
                    <a:lnTo>
                      <a:pt x="380" y="295"/>
                    </a:lnTo>
                    <a:lnTo>
                      <a:pt x="411" y="255"/>
                    </a:lnTo>
                    <a:lnTo>
                      <a:pt x="437" y="220"/>
                    </a:lnTo>
                    <a:lnTo>
                      <a:pt x="455" y="190"/>
                    </a:lnTo>
                    <a:lnTo>
                      <a:pt x="468" y="164"/>
                    </a:lnTo>
                    <a:lnTo>
                      <a:pt x="474" y="139"/>
                    </a:lnTo>
                    <a:lnTo>
                      <a:pt x="473" y="116"/>
                    </a:lnTo>
                    <a:lnTo>
                      <a:pt x="468" y="93"/>
                    </a:lnTo>
                    <a:lnTo>
                      <a:pt x="459" y="69"/>
                    </a:lnTo>
                    <a:lnTo>
                      <a:pt x="446" y="46"/>
                    </a:lnTo>
                    <a:lnTo>
                      <a:pt x="430" y="27"/>
                    </a:lnTo>
                    <a:lnTo>
                      <a:pt x="410" y="11"/>
                    </a:lnTo>
                    <a:lnTo>
                      <a:pt x="382" y="2"/>
                    </a:lnTo>
                    <a:lnTo>
                      <a:pt x="351" y="0"/>
                    </a:lnTo>
                    <a:lnTo>
                      <a:pt x="312" y="8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161"/>
              <p:cNvSpPr/>
              <p:nvPr/>
            </p:nvSpPr>
            <p:spPr>
              <a:xfrm>
                <a:off x="7409880" y="4457880"/>
                <a:ext cx="306360" cy="37800"/>
              </a:xfrm>
              <a:custGeom>
                <a:avLst/>
                <a:gdLst/>
                <a:ahLst/>
                <a:rect l="l" t="t" r="r" b="b"/>
                <a:pathLst>
                  <a:path w="442" h="110">
                    <a:moveTo>
                      <a:pt x="0" y="85"/>
                    </a:moveTo>
                    <a:lnTo>
                      <a:pt x="3" y="85"/>
                    </a:lnTo>
                    <a:lnTo>
                      <a:pt x="9" y="84"/>
                    </a:lnTo>
                    <a:lnTo>
                      <a:pt x="19" y="83"/>
                    </a:lnTo>
                    <a:lnTo>
                      <a:pt x="32" y="79"/>
                    </a:lnTo>
                    <a:lnTo>
                      <a:pt x="46" y="75"/>
                    </a:lnTo>
                    <a:lnTo>
                      <a:pt x="61" y="71"/>
                    </a:lnTo>
                    <a:lnTo>
                      <a:pt x="76" y="64"/>
                    </a:lnTo>
                    <a:lnTo>
                      <a:pt x="88" y="56"/>
                    </a:lnTo>
                    <a:lnTo>
                      <a:pt x="90" y="55"/>
                    </a:lnTo>
                    <a:lnTo>
                      <a:pt x="93" y="51"/>
                    </a:lnTo>
                    <a:lnTo>
                      <a:pt x="100" y="45"/>
                    </a:lnTo>
                    <a:lnTo>
                      <a:pt x="109" y="37"/>
                    </a:lnTo>
                    <a:lnTo>
                      <a:pt x="119" y="29"/>
                    </a:lnTo>
                    <a:lnTo>
                      <a:pt x="131" y="20"/>
                    </a:lnTo>
                    <a:lnTo>
                      <a:pt x="146" y="13"/>
                    </a:lnTo>
                    <a:lnTo>
                      <a:pt x="161" y="6"/>
                    </a:lnTo>
                    <a:lnTo>
                      <a:pt x="179" y="1"/>
                    </a:lnTo>
                    <a:lnTo>
                      <a:pt x="198" y="0"/>
                    </a:lnTo>
                    <a:lnTo>
                      <a:pt x="218" y="1"/>
                    </a:lnTo>
                    <a:lnTo>
                      <a:pt x="240" y="6"/>
                    </a:lnTo>
                    <a:lnTo>
                      <a:pt x="262" y="17"/>
                    </a:lnTo>
                    <a:lnTo>
                      <a:pt x="285" y="31"/>
                    </a:lnTo>
                    <a:lnTo>
                      <a:pt x="309" y="53"/>
                    </a:lnTo>
                    <a:lnTo>
                      <a:pt x="333" y="80"/>
                    </a:lnTo>
                    <a:lnTo>
                      <a:pt x="335" y="81"/>
                    </a:lnTo>
                    <a:lnTo>
                      <a:pt x="343" y="84"/>
                    </a:lnTo>
                    <a:lnTo>
                      <a:pt x="355" y="89"/>
                    </a:lnTo>
                    <a:lnTo>
                      <a:pt x="369" y="95"/>
                    </a:lnTo>
                    <a:lnTo>
                      <a:pt x="387" y="99"/>
                    </a:lnTo>
                    <a:lnTo>
                      <a:pt x="405" y="103"/>
                    </a:lnTo>
                    <a:lnTo>
                      <a:pt x="423" y="104"/>
                    </a:lnTo>
                    <a:lnTo>
                      <a:pt x="442" y="103"/>
                    </a:lnTo>
                    <a:lnTo>
                      <a:pt x="441" y="104"/>
                    </a:lnTo>
                    <a:lnTo>
                      <a:pt x="437" y="107"/>
                    </a:lnTo>
                    <a:lnTo>
                      <a:pt x="429" y="109"/>
                    </a:lnTo>
                    <a:lnTo>
                      <a:pt x="415" y="110"/>
                    </a:lnTo>
                    <a:lnTo>
                      <a:pt x="393" y="110"/>
                    </a:lnTo>
                    <a:lnTo>
                      <a:pt x="363" y="107"/>
                    </a:lnTo>
                    <a:lnTo>
                      <a:pt x="321" y="96"/>
                    </a:lnTo>
                    <a:lnTo>
                      <a:pt x="270" y="80"/>
                    </a:lnTo>
                    <a:lnTo>
                      <a:pt x="267" y="79"/>
                    </a:lnTo>
                    <a:lnTo>
                      <a:pt x="260" y="74"/>
                    </a:lnTo>
                    <a:lnTo>
                      <a:pt x="248" y="68"/>
                    </a:lnTo>
                    <a:lnTo>
                      <a:pt x="231" y="62"/>
                    </a:lnTo>
                    <a:lnTo>
                      <a:pt x="209" y="58"/>
                    </a:lnTo>
                    <a:lnTo>
                      <a:pt x="184" y="58"/>
                    </a:lnTo>
                    <a:lnTo>
                      <a:pt x="154" y="62"/>
                    </a:lnTo>
                    <a:lnTo>
                      <a:pt x="120" y="71"/>
                    </a:lnTo>
                    <a:lnTo>
                      <a:pt x="119" y="72"/>
                    </a:lnTo>
                    <a:lnTo>
                      <a:pt x="112" y="76"/>
                    </a:lnTo>
                    <a:lnTo>
                      <a:pt x="103" y="81"/>
                    </a:lnTo>
                    <a:lnTo>
                      <a:pt x="90" y="87"/>
                    </a:lnTo>
                    <a:lnTo>
                      <a:pt x="73" y="91"/>
                    </a:lnTo>
                    <a:lnTo>
                      <a:pt x="52" y="92"/>
                    </a:lnTo>
                    <a:lnTo>
                      <a:pt x="28" y="91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162"/>
              <p:cNvSpPr/>
              <p:nvPr/>
            </p:nvSpPr>
            <p:spPr>
              <a:xfrm>
                <a:off x="7409880" y="3713760"/>
                <a:ext cx="327240" cy="64800"/>
              </a:xfrm>
              <a:custGeom>
                <a:avLst/>
                <a:gdLst/>
                <a:ahLst/>
                <a:rect l="l" t="t" r="r" b="b"/>
                <a:pathLst>
                  <a:path w="473" h="165">
                    <a:moveTo>
                      <a:pt x="0" y="0"/>
                    </a:moveTo>
                    <a:lnTo>
                      <a:pt x="4" y="0"/>
                    </a:lnTo>
                    <a:lnTo>
                      <a:pt x="13" y="2"/>
                    </a:lnTo>
                    <a:lnTo>
                      <a:pt x="28" y="4"/>
                    </a:lnTo>
                    <a:lnTo>
                      <a:pt x="48" y="9"/>
                    </a:lnTo>
                    <a:lnTo>
                      <a:pt x="72" y="17"/>
                    </a:lnTo>
                    <a:lnTo>
                      <a:pt x="98" y="28"/>
                    </a:lnTo>
                    <a:lnTo>
                      <a:pt x="129" y="42"/>
                    </a:lnTo>
                    <a:lnTo>
                      <a:pt x="159" y="61"/>
                    </a:lnTo>
                    <a:lnTo>
                      <a:pt x="190" y="78"/>
                    </a:lnTo>
                    <a:lnTo>
                      <a:pt x="221" y="90"/>
                    </a:lnTo>
                    <a:lnTo>
                      <a:pt x="251" y="98"/>
                    </a:lnTo>
                    <a:lnTo>
                      <a:pt x="277" y="100"/>
                    </a:lnTo>
                    <a:lnTo>
                      <a:pt x="300" y="102"/>
                    </a:lnTo>
                    <a:lnTo>
                      <a:pt x="318" y="102"/>
                    </a:lnTo>
                    <a:lnTo>
                      <a:pt x="329" y="100"/>
                    </a:lnTo>
                    <a:lnTo>
                      <a:pt x="333" y="100"/>
                    </a:lnTo>
                    <a:lnTo>
                      <a:pt x="473" y="49"/>
                    </a:lnTo>
                    <a:lnTo>
                      <a:pt x="469" y="53"/>
                    </a:lnTo>
                    <a:lnTo>
                      <a:pt x="457" y="62"/>
                    </a:lnTo>
                    <a:lnTo>
                      <a:pt x="441" y="77"/>
                    </a:lnTo>
                    <a:lnTo>
                      <a:pt x="422" y="94"/>
                    </a:lnTo>
                    <a:lnTo>
                      <a:pt x="401" y="111"/>
                    </a:lnTo>
                    <a:lnTo>
                      <a:pt x="381" y="127"/>
                    </a:lnTo>
                    <a:lnTo>
                      <a:pt x="363" y="141"/>
                    </a:lnTo>
                    <a:lnTo>
                      <a:pt x="350" y="150"/>
                    </a:lnTo>
                    <a:lnTo>
                      <a:pt x="344" y="154"/>
                    </a:lnTo>
                    <a:lnTo>
                      <a:pt x="334" y="157"/>
                    </a:lnTo>
                    <a:lnTo>
                      <a:pt x="323" y="160"/>
                    </a:lnTo>
                    <a:lnTo>
                      <a:pt x="309" y="161"/>
                    </a:lnTo>
                    <a:lnTo>
                      <a:pt x="295" y="164"/>
                    </a:lnTo>
                    <a:lnTo>
                      <a:pt x="279" y="164"/>
                    </a:lnTo>
                    <a:lnTo>
                      <a:pt x="261" y="165"/>
                    </a:lnTo>
                    <a:lnTo>
                      <a:pt x="243" y="164"/>
                    </a:lnTo>
                    <a:lnTo>
                      <a:pt x="224" y="162"/>
                    </a:lnTo>
                    <a:lnTo>
                      <a:pt x="207" y="161"/>
                    </a:lnTo>
                    <a:lnTo>
                      <a:pt x="189" y="157"/>
                    </a:lnTo>
                    <a:lnTo>
                      <a:pt x="172" y="153"/>
                    </a:lnTo>
                    <a:lnTo>
                      <a:pt x="156" y="148"/>
                    </a:lnTo>
                    <a:lnTo>
                      <a:pt x="141" y="141"/>
                    </a:lnTo>
                    <a:lnTo>
                      <a:pt x="127" y="133"/>
                    </a:lnTo>
                    <a:lnTo>
                      <a:pt x="116" y="124"/>
                    </a:lnTo>
                    <a:lnTo>
                      <a:pt x="97" y="103"/>
                    </a:lnTo>
                    <a:lnTo>
                      <a:pt x="81" y="82"/>
                    </a:lnTo>
                    <a:lnTo>
                      <a:pt x="68" y="62"/>
                    </a:lnTo>
                    <a:lnTo>
                      <a:pt x="56" y="42"/>
                    </a:lnTo>
                    <a:lnTo>
                      <a:pt x="43" y="27"/>
                    </a:lnTo>
                    <a:lnTo>
                      <a:pt x="30" y="13"/>
                    </a:lnTo>
                    <a:lnTo>
                      <a:pt x="17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163"/>
              <p:cNvSpPr/>
              <p:nvPr/>
            </p:nvSpPr>
            <p:spPr>
              <a:xfrm>
                <a:off x="7710480" y="3808440"/>
                <a:ext cx="392760" cy="374400"/>
              </a:xfrm>
              <a:custGeom>
                <a:avLst/>
                <a:gdLst/>
                <a:ahLst/>
                <a:rect l="l" t="t" r="r" b="b"/>
                <a:pathLst>
                  <a:path w="570" h="953">
                    <a:moveTo>
                      <a:pt x="443" y="29"/>
                    </a:moveTo>
                    <a:lnTo>
                      <a:pt x="440" y="26"/>
                    </a:lnTo>
                    <a:lnTo>
                      <a:pt x="432" y="19"/>
                    </a:lnTo>
                    <a:lnTo>
                      <a:pt x="418" y="13"/>
                    </a:lnTo>
                    <a:lnTo>
                      <a:pt x="400" y="5"/>
                    </a:lnTo>
                    <a:lnTo>
                      <a:pt x="377" y="0"/>
                    </a:lnTo>
                    <a:lnTo>
                      <a:pt x="351" y="0"/>
                    </a:lnTo>
                    <a:lnTo>
                      <a:pt x="322" y="5"/>
                    </a:lnTo>
                    <a:lnTo>
                      <a:pt x="289" y="19"/>
                    </a:lnTo>
                    <a:lnTo>
                      <a:pt x="258" y="35"/>
                    </a:lnTo>
                    <a:lnTo>
                      <a:pt x="233" y="44"/>
                    </a:lnTo>
                    <a:lnTo>
                      <a:pt x="210" y="48"/>
                    </a:lnTo>
                    <a:lnTo>
                      <a:pt x="191" y="51"/>
                    </a:lnTo>
                    <a:lnTo>
                      <a:pt x="175" y="52"/>
                    </a:lnTo>
                    <a:lnTo>
                      <a:pt x="160" y="56"/>
                    </a:lnTo>
                    <a:lnTo>
                      <a:pt x="146" y="65"/>
                    </a:lnTo>
                    <a:lnTo>
                      <a:pt x="132" y="80"/>
                    </a:lnTo>
                    <a:lnTo>
                      <a:pt x="104" y="126"/>
                    </a:lnTo>
                    <a:lnTo>
                      <a:pt x="81" y="180"/>
                    </a:lnTo>
                    <a:lnTo>
                      <a:pt x="63" y="241"/>
                    </a:lnTo>
                    <a:lnTo>
                      <a:pt x="47" y="304"/>
                    </a:lnTo>
                    <a:lnTo>
                      <a:pt x="36" y="366"/>
                    </a:lnTo>
                    <a:lnTo>
                      <a:pt x="26" y="425"/>
                    </a:lnTo>
                    <a:lnTo>
                      <a:pt x="17" y="479"/>
                    </a:lnTo>
                    <a:lnTo>
                      <a:pt x="8" y="524"/>
                    </a:lnTo>
                    <a:lnTo>
                      <a:pt x="2" y="569"/>
                    </a:lnTo>
                    <a:lnTo>
                      <a:pt x="0" y="623"/>
                    </a:lnTo>
                    <a:lnTo>
                      <a:pt x="2" y="679"/>
                    </a:lnTo>
                    <a:lnTo>
                      <a:pt x="8" y="736"/>
                    </a:lnTo>
                    <a:lnTo>
                      <a:pt x="18" y="788"/>
                    </a:lnTo>
                    <a:lnTo>
                      <a:pt x="34" y="832"/>
                    </a:lnTo>
                    <a:lnTo>
                      <a:pt x="54" y="864"/>
                    </a:lnTo>
                    <a:lnTo>
                      <a:pt x="79" y="878"/>
                    </a:lnTo>
                    <a:lnTo>
                      <a:pt x="104" y="885"/>
                    </a:lnTo>
                    <a:lnTo>
                      <a:pt x="127" y="893"/>
                    </a:lnTo>
                    <a:lnTo>
                      <a:pt x="146" y="904"/>
                    </a:lnTo>
                    <a:lnTo>
                      <a:pt x="165" y="915"/>
                    </a:lnTo>
                    <a:lnTo>
                      <a:pt x="181" y="927"/>
                    </a:lnTo>
                    <a:lnTo>
                      <a:pt x="197" y="937"/>
                    </a:lnTo>
                    <a:lnTo>
                      <a:pt x="212" y="947"/>
                    </a:lnTo>
                    <a:lnTo>
                      <a:pt x="229" y="952"/>
                    </a:lnTo>
                    <a:lnTo>
                      <a:pt x="238" y="953"/>
                    </a:lnTo>
                    <a:lnTo>
                      <a:pt x="249" y="953"/>
                    </a:lnTo>
                    <a:lnTo>
                      <a:pt x="260" y="950"/>
                    </a:lnTo>
                    <a:lnTo>
                      <a:pt x="274" y="947"/>
                    </a:lnTo>
                    <a:lnTo>
                      <a:pt x="288" y="940"/>
                    </a:lnTo>
                    <a:lnTo>
                      <a:pt x="303" y="933"/>
                    </a:lnTo>
                    <a:lnTo>
                      <a:pt x="320" y="924"/>
                    </a:lnTo>
                    <a:lnTo>
                      <a:pt x="336" y="914"/>
                    </a:lnTo>
                    <a:lnTo>
                      <a:pt x="354" y="902"/>
                    </a:lnTo>
                    <a:lnTo>
                      <a:pt x="370" y="887"/>
                    </a:lnTo>
                    <a:lnTo>
                      <a:pt x="388" y="873"/>
                    </a:lnTo>
                    <a:lnTo>
                      <a:pt x="405" y="857"/>
                    </a:lnTo>
                    <a:lnTo>
                      <a:pt x="423" y="840"/>
                    </a:lnTo>
                    <a:lnTo>
                      <a:pt x="440" y="820"/>
                    </a:lnTo>
                    <a:lnTo>
                      <a:pt x="457" y="800"/>
                    </a:lnTo>
                    <a:lnTo>
                      <a:pt x="473" y="779"/>
                    </a:lnTo>
                    <a:lnTo>
                      <a:pt x="511" y="711"/>
                    </a:lnTo>
                    <a:lnTo>
                      <a:pt x="541" y="623"/>
                    </a:lnTo>
                    <a:lnTo>
                      <a:pt x="561" y="520"/>
                    </a:lnTo>
                    <a:lnTo>
                      <a:pt x="570" y="411"/>
                    </a:lnTo>
                    <a:lnTo>
                      <a:pt x="564" y="300"/>
                    </a:lnTo>
                    <a:lnTo>
                      <a:pt x="543" y="195"/>
                    </a:lnTo>
                    <a:lnTo>
                      <a:pt x="502" y="102"/>
                    </a:lnTo>
                    <a:lnTo>
                      <a:pt x="443" y="29"/>
                    </a:lnTo>
                    <a:close/>
                  </a:path>
                </a:pathLst>
              </a:custGeom>
              <a:solidFill>
                <a:srgbClr val="ff72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164"/>
              <p:cNvSpPr/>
              <p:nvPr/>
            </p:nvSpPr>
            <p:spPr>
              <a:xfrm>
                <a:off x="7815600" y="3920400"/>
                <a:ext cx="207000" cy="199440"/>
              </a:xfrm>
              <a:custGeom>
                <a:avLst/>
                <a:gdLst/>
                <a:ahLst/>
                <a:rect l="l" t="t" r="r" b="b"/>
                <a:pathLst>
                  <a:path w="297" h="507">
                    <a:moveTo>
                      <a:pt x="231" y="15"/>
                    </a:moveTo>
                    <a:lnTo>
                      <a:pt x="229" y="14"/>
                    </a:lnTo>
                    <a:lnTo>
                      <a:pt x="224" y="11"/>
                    </a:lnTo>
                    <a:lnTo>
                      <a:pt x="218" y="7"/>
                    </a:lnTo>
                    <a:lnTo>
                      <a:pt x="208" y="3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68" y="3"/>
                    </a:lnTo>
                    <a:lnTo>
                      <a:pt x="151" y="11"/>
                    </a:lnTo>
                    <a:lnTo>
                      <a:pt x="136" y="19"/>
                    </a:lnTo>
                    <a:lnTo>
                      <a:pt x="122" y="24"/>
                    </a:lnTo>
                    <a:lnTo>
                      <a:pt x="111" y="27"/>
                    </a:lnTo>
                    <a:lnTo>
                      <a:pt x="102" y="28"/>
                    </a:lnTo>
                    <a:lnTo>
                      <a:pt x="93" y="29"/>
                    </a:lnTo>
                    <a:lnTo>
                      <a:pt x="86" y="31"/>
                    </a:lnTo>
                    <a:lnTo>
                      <a:pt x="78" y="35"/>
                    </a:lnTo>
                    <a:lnTo>
                      <a:pt x="71" y="43"/>
                    </a:lnTo>
                    <a:lnTo>
                      <a:pt x="57" y="66"/>
                    </a:lnTo>
                    <a:lnTo>
                      <a:pt x="44" y="95"/>
                    </a:lnTo>
                    <a:lnTo>
                      <a:pt x="35" y="127"/>
                    </a:lnTo>
                    <a:lnTo>
                      <a:pt x="26" y="158"/>
                    </a:lnTo>
                    <a:lnTo>
                      <a:pt x="20" y="191"/>
                    </a:lnTo>
                    <a:lnTo>
                      <a:pt x="15" y="223"/>
                    </a:lnTo>
                    <a:lnTo>
                      <a:pt x="10" y="252"/>
                    </a:lnTo>
                    <a:lnTo>
                      <a:pt x="5" y="276"/>
                    </a:lnTo>
                    <a:lnTo>
                      <a:pt x="1" y="299"/>
                    </a:lnTo>
                    <a:lnTo>
                      <a:pt x="0" y="328"/>
                    </a:lnTo>
                    <a:lnTo>
                      <a:pt x="1" y="359"/>
                    </a:lnTo>
                    <a:lnTo>
                      <a:pt x="4" y="389"/>
                    </a:lnTo>
                    <a:lnTo>
                      <a:pt x="9" y="418"/>
                    </a:lnTo>
                    <a:lnTo>
                      <a:pt x="16" y="442"/>
                    </a:lnTo>
                    <a:lnTo>
                      <a:pt x="26" y="459"/>
                    </a:lnTo>
                    <a:lnTo>
                      <a:pt x="39" y="467"/>
                    </a:lnTo>
                    <a:lnTo>
                      <a:pt x="53" y="471"/>
                    </a:lnTo>
                    <a:lnTo>
                      <a:pt x="64" y="475"/>
                    </a:lnTo>
                    <a:lnTo>
                      <a:pt x="76" y="481"/>
                    </a:lnTo>
                    <a:lnTo>
                      <a:pt x="84" y="486"/>
                    </a:lnTo>
                    <a:lnTo>
                      <a:pt x="93" y="493"/>
                    </a:lnTo>
                    <a:lnTo>
                      <a:pt x="102" y="500"/>
                    </a:lnTo>
                    <a:lnTo>
                      <a:pt x="110" y="503"/>
                    </a:lnTo>
                    <a:lnTo>
                      <a:pt x="118" y="507"/>
                    </a:lnTo>
                    <a:lnTo>
                      <a:pt x="128" y="507"/>
                    </a:lnTo>
                    <a:lnTo>
                      <a:pt x="142" y="503"/>
                    </a:lnTo>
                    <a:lnTo>
                      <a:pt x="157" y="497"/>
                    </a:lnTo>
                    <a:lnTo>
                      <a:pt x="175" y="485"/>
                    </a:lnTo>
                    <a:lnTo>
                      <a:pt x="194" y="472"/>
                    </a:lnTo>
                    <a:lnTo>
                      <a:pt x="212" y="455"/>
                    </a:lnTo>
                    <a:lnTo>
                      <a:pt x="231" y="435"/>
                    </a:lnTo>
                    <a:lnTo>
                      <a:pt x="248" y="413"/>
                    </a:lnTo>
                    <a:lnTo>
                      <a:pt x="268" y="376"/>
                    </a:lnTo>
                    <a:lnTo>
                      <a:pt x="283" y="328"/>
                    </a:lnTo>
                    <a:lnTo>
                      <a:pt x="294" y="274"/>
                    </a:lnTo>
                    <a:lnTo>
                      <a:pt x="297" y="215"/>
                    </a:lnTo>
                    <a:lnTo>
                      <a:pt x="294" y="157"/>
                    </a:lnTo>
                    <a:lnTo>
                      <a:pt x="282" y="102"/>
                    </a:lnTo>
                    <a:lnTo>
                      <a:pt x="262" y="53"/>
                    </a:lnTo>
                    <a:lnTo>
                      <a:pt x="231" y="15"/>
                    </a:lnTo>
                    <a:close/>
                  </a:path>
                </a:pathLst>
              </a:custGeom>
              <a:solidFill>
                <a:srgbClr val="ffa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165"/>
              <p:cNvSpPr/>
              <p:nvPr/>
            </p:nvSpPr>
            <p:spPr>
              <a:xfrm>
                <a:off x="7505280" y="3696120"/>
                <a:ext cx="279360" cy="59040"/>
              </a:xfrm>
              <a:custGeom>
                <a:avLst/>
                <a:gdLst/>
                <a:ahLst/>
                <a:rect l="l" t="t" r="r" b="b"/>
                <a:pathLst>
                  <a:path w="406" h="150">
                    <a:moveTo>
                      <a:pt x="29" y="82"/>
                    </a:moveTo>
                    <a:lnTo>
                      <a:pt x="29" y="75"/>
                    </a:lnTo>
                    <a:lnTo>
                      <a:pt x="27" y="61"/>
                    </a:lnTo>
                    <a:lnTo>
                      <a:pt x="23" y="44"/>
                    </a:lnTo>
                    <a:lnTo>
                      <a:pt x="14" y="29"/>
                    </a:lnTo>
                    <a:lnTo>
                      <a:pt x="5" y="17"/>
                    </a:lnTo>
                    <a:lnTo>
                      <a:pt x="0" y="8"/>
                    </a:lnTo>
                    <a:lnTo>
                      <a:pt x="3" y="1"/>
                    </a:lnTo>
                    <a:lnTo>
                      <a:pt x="14" y="0"/>
                    </a:lnTo>
                    <a:lnTo>
                      <a:pt x="25" y="1"/>
                    </a:lnTo>
                    <a:lnTo>
                      <a:pt x="41" y="4"/>
                    </a:lnTo>
                    <a:lnTo>
                      <a:pt x="58" y="7"/>
                    </a:lnTo>
                    <a:lnTo>
                      <a:pt x="77" y="9"/>
                    </a:lnTo>
                    <a:lnTo>
                      <a:pt x="96" y="13"/>
                    </a:lnTo>
                    <a:lnTo>
                      <a:pt x="114" y="17"/>
                    </a:lnTo>
                    <a:lnTo>
                      <a:pt x="130" y="20"/>
                    </a:lnTo>
                    <a:lnTo>
                      <a:pt x="144" y="22"/>
                    </a:lnTo>
                    <a:lnTo>
                      <a:pt x="158" y="24"/>
                    </a:lnTo>
                    <a:lnTo>
                      <a:pt x="174" y="24"/>
                    </a:lnTo>
                    <a:lnTo>
                      <a:pt x="193" y="24"/>
                    </a:lnTo>
                    <a:lnTo>
                      <a:pt x="214" y="22"/>
                    </a:lnTo>
                    <a:lnTo>
                      <a:pt x="235" y="21"/>
                    </a:lnTo>
                    <a:lnTo>
                      <a:pt x="253" y="19"/>
                    </a:lnTo>
                    <a:lnTo>
                      <a:pt x="270" y="16"/>
                    </a:lnTo>
                    <a:lnTo>
                      <a:pt x="284" y="13"/>
                    </a:lnTo>
                    <a:lnTo>
                      <a:pt x="295" y="11"/>
                    </a:lnTo>
                    <a:lnTo>
                      <a:pt x="308" y="8"/>
                    </a:lnTo>
                    <a:lnTo>
                      <a:pt x="319" y="5"/>
                    </a:lnTo>
                    <a:lnTo>
                      <a:pt x="332" y="3"/>
                    </a:lnTo>
                    <a:lnTo>
                      <a:pt x="343" y="3"/>
                    </a:lnTo>
                    <a:lnTo>
                      <a:pt x="355" y="3"/>
                    </a:lnTo>
                    <a:lnTo>
                      <a:pt x="368" y="4"/>
                    </a:lnTo>
                    <a:lnTo>
                      <a:pt x="381" y="8"/>
                    </a:lnTo>
                    <a:lnTo>
                      <a:pt x="400" y="20"/>
                    </a:lnTo>
                    <a:lnTo>
                      <a:pt x="406" y="37"/>
                    </a:lnTo>
                    <a:lnTo>
                      <a:pt x="401" y="53"/>
                    </a:lnTo>
                    <a:lnTo>
                      <a:pt x="387" y="66"/>
                    </a:lnTo>
                    <a:lnTo>
                      <a:pt x="377" y="71"/>
                    </a:lnTo>
                    <a:lnTo>
                      <a:pt x="364" y="76"/>
                    </a:lnTo>
                    <a:lnTo>
                      <a:pt x="352" y="83"/>
                    </a:lnTo>
                    <a:lnTo>
                      <a:pt x="339" y="90"/>
                    </a:lnTo>
                    <a:lnTo>
                      <a:pt x="328" y="96"/>
                    </a:lnTo>
                    <a:lnTo>
                      <a:pt x="319" y="102"/>
                    </a:lnTo>
                    <a:lnTo>
                      <a:pt x="313" y="104"/>
                    </a:lnTo>
                    <a:lnTo>
                      <a:pt x="310" y="105"/>
                    </a:lnTo>
                    <a:lnTo>
                      <a:pt x="250" y="129"/>
                    </a:lnTo>
                    <a:lnTo>
                      <a:pt x="245" y="130"/>
                    </a:lnTo>
                    <a:lnTo>
                      <a:pt x="233" y="132"/>
                    </a:lnTo>
                    <a:lnTo>
                      <a:pt x="216" y="136"/>
                    </a:lnTo>
                    <a:lnTo>
                      <a:pt x="195" y="140"/>
                    </a:lnTo>
                    <a:lnTo>
                      <a:pt x="175" y="144"/>
                    </a:lnTo>
                    <a:lnTo>
                      <a:pt x="156" y="146"/>
                    </a:lnTo>
                    <a:lnTo>
                      <a:pt x="143" y="149"/>
                    </a:lnTo>
                    <a:lnTo>
                      <a:pt x="136" y="150"/>
                    </a:lnTo>
                    <a:lnTo>
                      <a:pt x="133" y="149"/>
                    </a:lnTo>
                    <a:lnTo>
                      <a:pt x="125" y="146"/>
                    </a:lnTo>
                    <a:lnTo>
                      <a:pt x="114" y="141"/>
                    </a:lnTo>
                    <a:lnTo>
                      <a:pt x="101" y="133"/>
                    </a:lnTo>
                    <a:lnTo>
                      <a:pt x="85" y="123"/>
                    </a:lnTo>
                    <a:lnTo>
                      <a:pt x="68" y="111"/>
                    </a:lnTo>
                    <a:lnTo>
                      <a:pt x="49" y="98"/>
                    </a:lnTo>
                    <a:lnTo>
                      <a:pt x="29" y="82"/>
                    </a:lnTo>
                    <a:close/>
                  </a:path>
                </a:pathLst>
              </a:custGeom>
              <a:solidFill>
                <a:srgbClr val="d81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166"/>
              <p:cNvSpPr/>
              <p:nvPr/>
            </p:nvSpPr>
            <p:spPr>
              <a:xfrm>
                <a:off x="6898320" y="3745440"/>
                <a:ext cx="360000" cy="705960"/>
              </a:xfrm>
              <a:custGeom>
                <a:avLst/>
                <a:gdLst/>
                <a:ahLst/>
                <a:rect l="l" t="t" r="r" b="b"/>
                <a:pathLst>
                  <a:path w="521" h="1794">
                    <a:moveTo>
                      <a:pt x="221" y="0"/>
                    </a:moveTo>
                    <a:lnTo>
                      <a:pt x="217" y="4"/>
                    </a:lnTo>
                    <a:lnTo>
                      <a:pt x="204" y="14"/>
                    </a:lnTo>
                    <a:lnTo>
                      <a:pt x="187" y="33"/>
                    </a:lnTo>
                    <a:lnTo>
                      <a:pt x="164" y="58"/>
                    </a:lnTo>
                    <a:lnTo>
                      <a:pt x="139" y="92"/>
                    </a:lnTo>
                    <a:lnTo>
                      <a:pt x="113" y="134"/>
                    </a:lnTo>
                    <a:lnTo>
                      <a:pt x="85" y="184"/>
                    </a:lnTo>
                    <a:lnTo>
                      <a:pt x="60" y="244"/>
                    </a:lnTo>
                    <a:lnTo>
                      <a:pt x="37" y="312"/>
                    </a:lnTo>
                    <a:lnTo>
                      <a:pt x="18" y="388"/>
                    </a:lnTo>
                    <a:lnTo>
                      <a:pt x="5" y="475"/>
                    </a:lnTo>
                    <a:lnTo>
                      <a:pt x="0" y="570"/>
                    </a:lnTo>
                    <a:lnTo>
                      <a:pt x="4" y="676"/>
                    </a:lnTo>
                    <a:lnTo>
                      <a:pt x="19" y="791"/>
                    </a:lnTo>
                    <a:lnTo>
                      <a:pt x="46" y="918"/>
                    </a:lnTo>
                    <a:lnTo>
                      <a:pt x="85" y="1053"/>
                    </a:lnTo>
                    <a:lnTo>
                      <a:pt x="89" y="1060"/>
                    </a:lnTo>
                    <a:lnTo>
                      <a:pt x="100" y="1080"/>
                    </a:lnTo>
                    <a:lnTo>
                      <a:pt x="116" y="1111"/>
                    </a:lnTo>
                    <a:lnTo>
                      <a:pt x="139" y="1152"/>
                    </a:lnTo>
                    <a:lnTo>
                      <a:pt x="165" y="1201"/>
                    </a:lnTo>
                    <a:lnTo>
                      <a:pt x="196" y="1256"/>
                    </a:lnTo>
                    <a:lnTo>
                      <a:pt x="230" y="1317"/>
                    </a:lnTo>
                    <a:lnTo>
                      <a:pt x="265" y="1380"/>
                    </a:lnTo>
                    <a:lnTo>
                      <a:pt x="301" y="1443"/>
                    </a:lnTo>
                    <a:lnTo>
                      <a:pt x="338" y="1508"/>
                    </a:lnTo>
                    <a:lnTo>
                      <a:pt x="375" y="1570"/>
                    </a:lnTo>
                    <a:lnTo>
                      <a:pt x="410" y="1629"/>
                    </a:lnTo>
                    <a:lnTo>
                      <a:pt x="443" y="1682"/>
                    </a:lnTo>
                    <a:lnTo>
                      <a:pt x="473" y="1728"/>
                    </a:lnTo>
                    <a:lnTo>
                      <a:pt x="499" y="1766"/>
                    </a:lnTo>
                    <a:lnTo>
                      <a:pt x="521" y="1794"/>
                    </a:lnTo>
                    <a:lnTo>
                      <a:pt x="517" y="1787"/>
                    </a:lnTo>
                    <a:lnTo>
                      <a:pt x="507" y="1769"/>
                    </a:lnTo>
                    <a:lnTo>
                      <a:pt x="492" y="1740"/>
                    </a:lnTo>
                    <a:lnTo>
                      <a:pt x="472" y="1703"/>
                    </a:lnTo>
                    <a:lnTo>
                      <a:pt x="448" y="1657"/>
                    </a:lnTo>
                    <a:lnTo>
                      <a:pt x="419" y="1605"/>
                    </a:lnTo>
                    <a:lnTo>
                      <a:pt x="388" y="1549"/>
                    </a:lnTo>
                    <a:lnTo>
                      <a:pt x="357" y="1488"/>
                    </a:lnTo>
                    <a:lnTo>
                      <a:pt x="323" y="1426"/>
                    </a:lnTo>
                    <a:lnTo>
                      <a:pt x="289" y="1363"/>
                    </a:lnTo>
                    <a:lnTo>
                      <a:pt x="255" y="1301"/>
                    </a:lnTo>
                    <a:lnTo>
                      <a:pt x="223" y="1241"/>
                    </a:lnTo>
                    <a:lnTo>
                      <a:pt x="193" y="1184"/>
                    </a:lnTo>
                    <a:lnTo>
                      <a:pt x="164" y="1131"/>
                    </a:lnTo>
                    <a:lnTo>
                      <a:pt x="140" y="1085"/>
                    </a:lnTo>
                    <a:lnTo>
                      <a:pt x="120" y="1047"/>
                    </a:lnTo>
                    <a:lnTo>
                      <a:pt x="118" y="1040"/>
                    </a:lnTo>
                    <a:lnTo>
                      <a:pt x="111" y="1021"/>
                    </a:lnTo>
                    <a:lnTo>
                      <a:pt x="101" y="989"/>
                    </a:lnTo>
                    <a:lnTo>
                      <a:pt x="90" y="945"/>
                    </a:lnTo>
                    <a:lnTo>
                      <a:pt x="77" y="894"/>
                    </a:lnTo>
                    <a:lnTo>
                      <a:pt x="66" y="834"/>
                    </a:lnTo>
                    <a:lnTo>
                      <a:pt x="56" y="765"/>
                    </a:lnTo>
                    <a:lnTo>
                      <a:pt x="48" y="691"/>
                    </a:lnTo>
                    <a:lnTo>
                      <a:pt x="43" y="611"/>
                    </a:lnTo>
                    <a:lnTo>
                      <a:pt x="44" y="528"/>
                    </a:lnTo>
                    <a:lnTo>
                      <a:pt x="52" y="441"/>
                    </a:lnTo>
                    <a:lnTo>
                      <a:pt x="67" y="352"/>
                    </a:lnTo>
                    <a:lnTo>
                      <a:pt x="90" y="262"/>
                    </a:lnTo>
                    <a:lnTo>
                      <a:pt x="123" y="172"/>
                    </a:lnTo>
                    <a:lnTo>
                      <a:pt x="165" y="85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167"/>
              <p:cNvSpPr/>
              <p:nvPr/>
            </p:nvSpPr>
            <p:spPr>
              <a:xfrm>
                <a:off x="7455240" y="3726720"/>
                <a:ext cx="242280" cy="46800"/>
              </a:xfrm>
              <a:custGeom>
                <a:avLst/>
                <a:gdLst/>
                <a:ahLst/>
                <a:rect l="l" t="t" r="r" b="b"/>
                <a:pathLst>
                  <a:path w="350" h="120">
                    <a:moveTo>
                      <a:pt x="0" y="0"/>
                    </a:moveTo>
                    <a:lnTo>
                      <a:pt x="5" y="4"/>
                    </a:lnTo>
                    <a:lnTo>
                      <a:pt x="16" y="16"/>
                    </a:lnTo>
                    <a:lnTo>
                      <a:pt x="35" y="32"/>
                    </a:lnTo>
                    <a:lnTo>
                      <a:pt x="59" y="50"/>
                    </a:lnTo>
                    <a:lnTo>
                      <a:pt x="85" y="69"/>
                    </a:lnTo>
                    <a:lnTo>
                      <a:pt x="113" y="87"/>
                    </a:lnTo>
                    <a:lnTo>
                      <a:pt x="141" y="102"/>
                    </a:lnTo>
                    <a:lnTo>
                      <a:pt x="166" y="110"/>
                    </a:lnTo>
                    <a:lnTo>
                      <a:pt x="190" y="115"/>
                    </a:lnTo>
                    <a:lnTo>
                      <a:pt x="215" y="118"/>
                    </a:lnTo>
                    <a:lnTo>
                      <a:pt x="240" y="120"/>
                    </a:lnTo>
                    <a:lnTo>
                      <a:pt x="264" y="119"/>
                    </a:lnTo>
                    <a:lnTo>
                      <a:pt x="287" y="116"/>
                    </a:lnTo>
                    <a:lnTo>
                      <a:pt x="306" y="111"/>
                    </a:lnTo>
                    <a:lnTo>
                      <a:pt x="321" y="102"/>
                    </a:lnTo>
                    <a:lnTo>
                      <a:pt x="331" y="90"/>
                    </a:lnTo>
                    <a:lnTo>
                      <a:pt x="350" y="61"/>
                    </a:lnTo>
                    <a:lnTo>
                      <a:pt x="345" y="62"/>
                    </a:lnTo>
                    <a:lnTo>
                      <a:pt x="331" y="68"/>
                    </a:lnTo>
                    <a:lnTo>
                      <a:pt x="311" y="73"/>
                    </a:lnTo>
                    <a:lnTo>
                      <a:pt x="286" y="78"/>
                    </a:lnTo>
                    <a:lnTo>
                      <a:pt x="255" y="82"/>
                    </a:lnTo>
                    <a:lnTo>
                      <a:pt x="225" y="83"/>
                    </a:lnTo>
                    <a:lnTo>
                      <a:pt x="195" y="79"/>
                    </a:lnTo>
                    <a:lnTo>
                      <a:pt x="167" y="70"/>
                    </a:lnTo>
                    <a:lnTo>
                      <a:pt x="163" y="68"/>
                    </a:lnTo>
                    <a:lnTo>
                      <a:pt x="153" y="60"/>
                    </a:lnTo>
                    <a:lnTo>
                      <a:pt x="137" y="49"/>
                    </a:lnTo>
                    <a:lnTo>
                      <a:pt x="116" y="37"/>
                    </a:lnTo>
                    <a:lnTo>
                      <a:pt x="90" y="25"/>
                    </a:lnTo>
                    <a:lnTo>
                      <a:pt x="61" y="14"/>
                    </a:lnTo>
                    <a:lnTo>
                      <a:pt x="3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168"/>
              <p:cNvSpPr/>
              <p:nvPr/>
            </p:nvSpPr>
            <p:spPr>
              <a:xfrm>
                <a:off x="7005960" y="3799800"/>
                <a:ext cx="194760" cy="361440"/>
              </a:xfrm>
              <a:custGeom>
                <a:avLst/>
                <a:gdLst/>
                <a:ahLst/>
                <a:rect l="l" t="t" r="r" b="b"/>
                <a:pathLst>
                  <a:path w="281" h="918">
                    <a:moveTo>
                      <a:pt x="232" y="13"/>
                    </a:moveTo>
                    <a:lnTo>
                      <a:pt x="227" y="14"/>
                    </a:lnTo>
                    <a:lnTo>
                      <a:pt x="215" y="21"/>
                    </a:lnTo>
                    <a:lnTo>
                      <a:pt x="196" y="31"/>
                    </a:lnTo>
                    <a:lnTo>
                      <a:pt x="173" y="47"/>
                    </a:lnTo>
                    <a:lnTo>
                      <a:pt x="145" y="71"/>
                    </a:lnTo>
                    <a:lnTo>
                      <a:pt x="116" y="101"/>
                    </a:lnTo>
                    <a:lnTo>
                      <a:pt x="87" y="141"/>
                    </a:lnTo>
                    <a:lnTo>
                      <a:pt x="60" y="189"/>
                    </a:lnTo>
                    <a:lnTo>
                      <a:pt x="39" y="236"/>
                    </a:lnTo>
                    <a:lnTo>
                      <a:pt x="22" y="290"/>
                    </a:lnTo>
                    <a:lnTo>
                      <a:pt x="8" y="355"/>
                    </a:lnTo>
                    <a:lnTo>
                      <a:pt x="0" y="431"/>
                    </a:lnTo>
                    <a:lnTo>
                      <a:pt x="0" y="520"/>
                    </a:lnTo>
                    <a:lnTo>
                      <a:pt x="12" y="621"/>
                    </a:lnTo>
                    <a:lnTo>
                      <a:pt x="33" y="737"/>
                    </a:lnTo>
                    <a:lnTo>
                      <a:pt x="70" y="869"/>
                    </a:lnTo>
                    <a:lnTo>
                      <a:pt x="73" y="874"/>
                    </a:lnTo>
                    <a:lnTo>
                      <a:pt x="82" y="885"/>
                    </a:lnTo>
                    <a:lnTo>
                      <a:pt x="95" y="899"/>
                    </a:lnTo>
                    <a:lnTo>
                      <a:pt x="109" y="911"/>
                    </a:lnTo>
                    <a:lnTo>
                      <a:pt x="121" y="918"/>
                    </a:lnTo>
                    <a:lnTo>
                      <a:pt x="131" y="915"/>
                    </a:lnTo>
                    <a:lnTo>
                      <a:pt x="135" y="898"/>
                    </a:lnTo>
                    <a:lnTo>
                      <a:pt x="131" y="862"/>
                    </a:lnTo>
                    <a:lnTo>
                      <a:pt x="126" y="848"/>
                    </a:lnTo>
                    <a:lnTo>
                      <a:pt x="114" y="808"/>
                    </a:lnTo>
                    <a:lnTo>
                      <a:pt x="97" y="748"/>
                    </a:lnTo>
                    <a:lnTo>
                      <a:pt x="84" y="666"/>
                    </a:lnTo>
                    <a:lnTo>
                      <a:pt x="75" y="571"/>
                    </a:lnTo>
                    <a:lnTo>
                      <a:pt x="78" y="462"/>
                    </a:lnTo>
                    <a:lnTo>
                      <a:pt x="96" y="345"/>
                    </a:lnTo>
                    <a:lnTo>
                      <a:pt x="135" y="222"/>
                    </a:lnTo>
                    <a:lnTo>
                      <a:pt x="136" y="218"/>
                    </a:lnTo>
                    <a:lnTo>
                      <a:pt x="143" y="207"/>
                    </a:lnTo>
                    <a:lnTo>
                      <a:pt x="152" y="188"/>
                    </a:lnTo>
                    <a:lnTo>
                      <a:pt x="167" y="166"/>
                    </a:lnTo>
                    <a:lnTo>
                      <a:pt x="186" y="139"/>
                    </a:lnTo>
                    <a:lnTo>
                      <a:pt x="211" y="112"/>
                    </a:lnTo>
                    <a:lnTo>
                      <a:pt x="242" y="83"/>
                    </a:lnTo>
                    <a:lnTo>
                      <a:pt x="280" y="54"/>
                    </a:lnTo>
                    <a:lnTo>
                      <a:pt x="280" y="50"/>
                    </a:lnTo>
                    <a:lnTo>
                      <a:pt x="281" y="41"/>
                    </a:lnTo>
                    <a:lnTo>
                      <a:pt x="281" y="29"/>
                    </a:lnTo>
                    <a:lnTo>
                      <a:pt x="280" y="16"/>
                    </a:lnTo>
                    <a:lnTo>
                      <a:pt x="275" y="5"/>
                    </a:lnTo>
                    <a:lnTo>
                      <a:pt x="266" y="0"/>
                    </a:lnTo>
                    <a:lnTo>
                      <a:pt x="252" y="1"/>
                    </a:lnTo>
                    <a:lnTo>
                      <a:pt x="232" y="13"/>
                    </a:lnTo>
                    <a:close/>
                  </a:path>
                </a:pathLst>
              </a:custGeom>
              <a:solidFill>
                <a:srgbClr val="91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169"/>
              <p:cNvSpPr/>
              <p:nvPr/>
            </p:nvSpPr>
            <p:spPr>
              <a:xfrm>
                <a:off x="7416000" y="4471920"/>
                <a:ext cx="261000" cy="33120"/>
              </a:xfrm>
              <a:custGeom>
                <a:avLst/>
                <a:gdLst/>
                <a:ahLst/>
                <a:rect l="l" t="t" r="r" b="b"/>
                <a:pathLst>
                  <a:path w="379" h="95">
                    <a:moveTo>
                      <a:pt x="0" y="71"/>
                    </a:moveTo>
                    <a:lnTo>
                      <a:pt x="4" y="70"/>
                    </a:lnTo>
                    <a:lnTo>
                      <a:pt x="15" y="66"/>
                    </a:lnTo>
                    <a:lnTo>
                      <a:pt x="31" y="60"/>
                    </a:lnTo>
                    <a:lnTo>
                      <a:pt x="51" y="54"/>
                    </a:lnTo>
                    <a:lnTo>
                      <a:pt x="73" y="46"/>
                    </a:lnTo>
                    <a:lnTo>
                      <a:pt x="94" y="37"/>
                    </a:lnTo>
                    <a:lnTo>
                      <a:pt x="113" y="29"/>
                    </a:lnTo>
                    <a:lnTo>
                      <a:pt x="128" y="19"/>
                    </a:lnTo>
                    <a:lnTo>
                      <a:pt x="142" y="12"/>
                    </a:lnTo>
                    <a:lnTo>
                      <a:pt x="157" y="5"/>
                    </a:lnTo>
                    <a:lnTo>
                      <a:pt x="175" y="1"/>
                    </a:lnTo>
                    <a:lnTo>
                      <a:pt x="195" y="0"/>
                    </a:lnTo>
                    <a:lnTo>
                      <a:pt x="218" y="2"/>
                    </a:lnTo>
                    <a:lnTo>
                      <a:pt x="243" y="9"/>
                    </a:lnTo>
                    <a:lnTo>
                      <a:pt x="272" y="19"/>
                    </a:lnTo>
                    <a:lnTo>
                      <a:pt x="302" y="37"/>
                    </a:lnTo>
                    <a:lnTo>
                      <a:pt x="379" y="95"/>
                    </a:lnTo>
                    <a:lnTo>
                      <a:pt x="376" y="95"/>
                    </a:lnTo>
                    <a:lnTo>
                      <a:pt x="368" y="95"/>
                    </a:lnTo>
                    <a:lnTo>
                      <a:pt x="355" y="93"/>
                    </a:lnTo>
                    <a:lnTo>
                      <a:pt x="340" y="92"/>
                    </a:lnTo>
                    <a:lnTo>
                      <a:pt x="323" y="89"/>
                    </a:lnTo>
                    <a:lnTo>
                      <a:pt x="306" y="85"/>
                    </a:lnTo>
                    <a:lnTo>
                      <a:pt x="291" y="80"/>
                    </a:lnTo>
                    <a:lnTo>
                      <a:pt x="277" y="72"/>
                    </a:lnTo>
                    <a:lnTo>
                      <a:pt x="273" y="70"/>
                    </a:lnTo>
                    <a:lnTo>
                      <a:pt x="262" y="66"/>
                    </a:lnTo>
                    <a:lnTo>
                      <a:pt x="244" y="59"/>
                    </a:lnTo>
                    <a:lnTo>
                      <a:pt x="220" y="52"/>
                    </a:lnTo>
                    <a:lnTo>
                      <a:pt x="191" y="50"/>
                    </a:lnTo>
                    <a:lnTo>
                      <a:pt x="158" y="51"/>
                    </a:lnTo>
                    <a:lnTo>
                      <a:pt x="121" y="58"/>
                    </a:lnTo>
                    <a:lnTo>
                      <a:pt x="79" y="72"/>
                    </a:lnTo>
                    <a:lnTo>
                      <a:pt x="78" y="73"/>
                    </a:lnTo>
                    <a:lnTo>
                      <a:pt x="73" y="75"/>
                    </a:lnTo>
                    <a:lnTo>
                      <a:pt x="65" y="77"/>
                    </a:lnTo>
                    <a:lnTo>
                      <a:pt x="55" y="80"/>
                    </a:lnTo>
                    <a:lnTo>
                      <a:pt x="43" y="81"/>
                    </a:lnTo>
                    <a:lnTo>
                      <a:pt x="29" y="80"/>
                    </a:lnTo>
                    <a:lnTo>
                      <a:pt x="15" y="77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2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170"/>
              <p:cNvSpPr/>
              <p:nvPr/>
            </p:nvSpPr>
            <p:spPr>
              <a:xfrm>
                <a:off x="7853040" y="3705480"/>
                <a:ext cx="262800" cy="90720"/>
              </a:xfrm>
              <a:custGeom>
                <a:avLst/>
                <a:gdLst/>
                <a:ahLst/>
                <a:rect l="l" t="t" r="r" b="b"/>
                <a:pathLst>
                  <a:path w="382" h="221">
                    <a:moveTo>
                      <a:pt x="0" y="0"/>
                    </a:moveTo>
                    <a:lnTo>
                      <a:pt x="4" y="0"/>
                    </a:lnTo>
                    <a:lnTo>
                      <a:pt x="13" y="0"/>
                    </a:lnTo>
                    <a:lnTo>
                      <a:pt x="27" y="1"/>
                    </a:lnTo>
                    <a:lnTo>
                      <a:pt x="46" y="2"/>
                    </a:lnTo>
                    <a:lnTo>
                      <a:pt x="68" y="6"/>
                    </a:lnTo>
                    <a:lnTo>
                      <a:pt x="95" y="10"/>
                    </a:lnTo>
                    <a:lnTo>
                      <a:pt x="124" y="17"/>
                    </a:lnTo>
                    <a:lnTo>
                      <a:pt x="154" y="26"/>
                    </a:lnTo>
                    <a:lnTo>
                      <a:pt x="185" y="38"/>
                    </a:lnTo>
                    <a:lnTo>
                      <a:pt x="217" y="52"/>
                    </a:lnTo>
                    <a:lnTo>
                      <a:pt x="250" y="71"/>
                    </a:lnTo>
                    <a:lnTo>
                      <a:pt x="280" y="92"/>
                    </a:lnTo>
                    <a:lnTo>
                      <a:pt x="310" y="117"/>
                    </a:lnTo>
                    <a:lnTo>
                      <a:pt x="337" y="147"/>
                    </a:lnTo>
                    <a:lnTo>
                      <a:pt x="362" y="182"/>
                    </a:lnTo>
                    <a:lnTo>
                      <a:pt x="382" y="221"/>
                    </a:lnTo>
                    <a:lnTo>
                      <a:pt x="381" y="220"/>
                    </a:lnTo>
                    <a:lnTo>
                      <a:pt x="376" y="216"/>
                    </a:lnTo>
                    <a:lnTo>
                      <a:pt x="368" y="208"/>
                    </a:lnTo>
                    <a:lnTo>
                      <a:pt x="358" y="200"/>
                    </a:lnTo>
                    <a:lnTo>
                      <a:pt x="344" y="188"/>
                    </a:lnTo>
                    <a:lnTo>
                      <a:pt x="328" y="175"/>
                    </a:lnTo>
                    <a:lnTo>
                      <a:pt x="308" y="160"/>
                    </a:lnTo>
                    <a:lnTo>
                      <a:pt x="286" y="145"/>
                    </a:lnTo>
                    <a:lnTo>
                      <a:pt x="260" y="128"/>
                    </a:lnTo>
                    <a:lnTo>
                      <a:pt x="232" y="110"/>
                    </a:lnTo>
                    <a:lnTo>
                      <a:pt x="200" y="92"/>
                    </a:lnTo>
                    <a:lnTo>
                      <a:pt x="166" y="74"/>
                    </a:lnTo>
                    <a:lnTo>
                      <a:pt x="129" y="54"/>
                    </a:lnTo>
                    <a:lnTo>
                      <a:pt x="88" y="35"/>
                    </a:lnTo>
                    <a:lnTo>
                      <a:pt x="46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171"/>
              <p:cNvSpPr/>
              <p:nvPr/>
            </p:nvSpPr>
            <p:spPr>
              <a:xfrm>
                <a:off x="7503120" y="3569760"/>
                <a:ext cx="119520" cy="203040"/>
              </a:xfrm>
              <a:custGeom>
                <a:avLst/>
                <a:gdLst/>
                <a:ahLst/>
                <a:rect l="l" t="t" r="r" b="b"/>
                <a:pathLst>
                  <a:path w="174" h="503">
                    <a:moveTo>
                      <a:pt x="115" y="481"/>
                    </a:moveTo>
                    <a:lnTo>
                      <a:pt x="113" y="468"/>
                    </a:lnTo>
                    <a:lnTo>
                      <a:pt x="108" y="432"/>
                    </a:lnTo>
                    <a:lnTo>
                      <a:pt x="101" y="381"/>
                    </a:lnTo>
                    <a:lnTo>
                      <a:pt x="89" y="318"/>
                    </a:lnTo>
                    <a:lnTo>
                      <a:pt x="73" y="249"/>
                    </a:lnTo>
                    <a:lnTo>
                      <a:pt x="53" y="182"/>
                    </a:lnTo>
                    <a:lnTo>
                      <a:pt x="29" y="120"/>
                    </a:lnTo>
                    <a:lnTo>
                      <a:pt x="0" y="72"/>
                    </a:lnTo>
                    <a:lnTo>
                      <a:pt x="1" y="68"/>
                    </a:lnTo>
                    <a:lnTo>
                      <a:pt x="4" y="58"/>
                    </a:lnTo>
                    <a:lnTo>
                      <a:pt x="9" y="46"/>
                    </a:lnTo>
                    <a:lnTo>
                      <a:pt x="16" y="32"/>
                    </a:lnTo>
                    <a:lnTo>
                      <a:pt x="25" y="18"/>
                    </a:lnTo>
                    <a:lnTo>
                      <a:pt x="38" y="7"/>
                    </a:lnTo>
                    <a:lnTo>
                      <a:pt x="52" y="0"/>
                    </a:lnTo>
                    <a:lnTo>
                      <a:pt x="68" y="2"/>
                    </a:lnTo>
                    <a:lnTo>
                      <a:pt x="113" y="27"/>
                    </a:lnTo>
                    <a:lnTo>
                      <a:pt x="117" y="40"/>
                    </a:lnTo>
                    <a:lnTo>
                      <a:pt x="126" y="75"/>
                    </a:lnTo>
                    <a:lnTo>
                      <a:pt x="137" y="128"/>
                    </a:lnTo>
                    <a:lnTo>
                      <a:pt x="150" y="194"/>
                    </a:lnTo>
                    <a:lnTo>
                      <a:pt x="162" y="266"/>
                    </a:lnTo>
                    <a:lnTo>
                      <a:pt x="171" y="340"/>
                    </a:lnTo>
                    <a:lnTo>
                      <a:pt x="174" y="411"/>
                    </a:lnTo>
                    <a:lnTo>
                      <a:pt x="170" y="473"/>
                    </a:lnTo>
                    <a:lnTo>
                      <a:pt x="169" y="476"/>
                    </a:lnTo>
                    <a:lnTo>
                      <a:pt x="166" y="482"/>
                    </a:lnTo>
                    <a:lnTo>
                      <a:pt x="161" y="490"/>
                    </a:lnTo>
                    <a:lnTo>
                      <a:pt x="156" y="498"/>
                    </a:lnTo>
                    <a:lnTo>
                      <a:pt x="147" y="503"/>
                    </a:lnTo>
                    <a:lnTo>
                      <a:pt x="139" y="503"/>
                    </a:lnTo>
                    <a:lnTo>
                      <a:pt x="127" y="497"/>
                    </a:lnTo>
                    <a:lnTo>
                      <a:pt x="115" y="481"/>
                    </a:lnTo>
                    <a:close/>
                  </a:path>
                </a:pathLst>
              </a:custGeom>
              <a:solidFill>
                <a:srgbClr val="5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172"/>
              <p:cNvSpPr/>
              <p:nvPr/>
            </p:nvSpPr>
            <p:spPr>
              <a:xfrm>
                <a:off x="7552440" y="3578040"/>
                <a:ext cx="57960" cy="133200"/>
              </a:xfrm>
              <a:custGeom>
                <a:avLst/>
                <a:gdLst/>
                <a:ahLst/>
                <a:rect l="l" t="t" r="r" b="b"/>
                <a:pathLst>
                  <a:path w="84" h="339">
                    <a:moveTo>
                      <a:pt x="0" y="0"/>
                    </a:moveTo>
                    <a:lnTo>
                      <a:pt x="5" y="1"/>
                    </a:lnTo>
                    <a:lnTo>
                      <a:pt x="16" y="4"/>
                    </a:lnTo>
                    <a:lnTo>
                      <a:pt x="29" y="11"/>
                    </a:lnTo>
                    <a:lnTo>
                      <a:pt x="36" y="21"/>
                    </a:lnTo>
                    <a:lnTo>
                      <a:pt x="39" y="30"/>
                    </a:lnTo>
                    <a:lnTo>
                      <a:pt x="44" y="54"/>
                    </a:lnTo>
                    <a:lnTo>
                      <a:pt x="51" y="90"/>
                    </a:lnTo>
                    <a:lnTo>
                      <a:pt x="60" y="133"/>
                    </a:lnTo>
                    <a:lnTo>
                      <a:pt x="69" y="183"/>
                    </a:lnTo>
                    <a:lnTo>
                      <a:pt x="77" y="236"/>
                    </a:lnTo>
                    <a:lnTo>
                      <a:pt x="83" y="289"/>
                    </a:lnTo>
                    <a:lnTo>
                      <a:pt x="84" y="336"/>
                    </a:lnTo>
                    <a:lnTo>
                      <a:pt x="83" y="337"/>
                    </a:lnTo>
                    <a:lnTo>
                      <a:pt x="79" y="339"/>
                    </a:lnTo>
                    <a:lnTo>
                      <a:pt x="74" y="336"/>
                    </a:lnTo>
                    <a:lnTo>
                      <a:pt x="69" y="328"/>
                    </a:lnTo>
                    <a:lnTo>
                      <a:pt x="68" y="316"/>
                    </a:lnTo>
                    <a:lnTo>
                      <a:pt x="63" y="285"/>
                    </a:lnTo>
                    <a:lnTo>
                      <a:pt x="56" y="240"/>
                    </a:lnTo>
                    <a:lnTo>
                      <a:pt x="48" y="186"/>
                    </a:lnTo>
                    <a:lnTo>
                      <a:pt x="38" y="129"/>
                    </a:lnTo>
                    <a:lnTo>
                      <a:pt x="26" y="75"/>
                    </a:ln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28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173"/>
              <p:cNvSpPr/>
              <p:nvPr/>
            </p:nvSpPr>
            <p:spPr>
              <a:xfrm>
                <a:off x="7513560" y="3593160"/>
                <a:ext cx="88560" cy="177120"/>
              </a:xfrm>
              <a:custGeom>
                <a:avLst/>
                <a:gdLst/>
                <a:ahLst/>
                <a:rect l="l" t="t" r="r" b="b"/>
                <a:pathLst>
                  <a:path w="127" h="450">
                    <a:moveTo>
                      <a:pt x="22" y="0"/>
                    </a:moveTo>
                    <a:lnTo>
                      <a:pt x="25" y="6"/>
                    </a:lnTo>
                    <a:lnTo>
                      <a:pt x="34" y="26"/>
                    </a:lnTo>
                    <a:lnTo>
                      <a:pt x="48" y="59"/>
                    </a:lnTo>
                    <a:lnTo>
                      <a:pt x="66" y="106"/>
                    </a:lnTo>
                    <a:lnTo>
                      <a:pt x="83" y="170"/>
                    </a:lnTo>
                    <a:lnTo>
                      <a:pt x="100" y="247"/>
                    </a:lnTo>
                    <a:lnTo>
                      <a:pt x="116" y="341"/>
                    </a:lnTo>
                    <a:lnTo>
                      <a:pt x="127" y="450"/>
                    </a:lnTo>
                    <a:lnTo>
                      <a:pt x="124" y="449"/>
                    </a:lnTo>
                    <a:lnTo>
                      <a:pt x="116" y="446"/>
                    </a:lnTo>
                    <a:lnTo>
                      <a:pt x="107" y="440"/>
                    </a:lnTo>
                    <a:lnTo>
                      <a:pt x="101" y="429"/>
                    </a:lnTo>
                    <a:lnTo>
                      <a:pt x="100" y="417"/>
                    </a:lnTo>
                    <a:lnTo>
                      <a:pt x="97" y="384"/>
                    </a:lnTo>
                    <a:lnTo>
                      <a:pt x="92" y="335"/>
                    </a:lnTo>
                    <a:lnTo>
                      <a:pt x="84" y="275"/>
                    </a:lnTo>
                    <a:lnTo>
                      <a:pt x="72" y="208"/>
                    </a:lnTo>
                    <a:lnTo>
                      <a:pt x="53" y="139"/>
                    </a:lnTo>
                    <a:lnTo>
                      <a:pt x="30" y="72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5" y="5"/>
                    </a:lnTo>
                    <a:lnTo>
                      <a:pt x="13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174"/>
              <p:cNvSpPr/>
              <p:nvPr/>
            </p:nvSpPr>
            <p:spPr>
              <a:xfrm>
                <a:off x="7159320" y="3669120"/>
                <a:ext cx="245880" cy="38520"/>
              </a:xfrm>
              <a:custGeom>
                <a:avLst/>
                <a:gdLst/>
                <a:ahLst/>
                <a:rect l="l" t="t" r="r" b="b"/>
                <a:pathLst>
                  <a:path w="356" h="110">
                    <a:moveTo>
                      <a:pt x="4" y="73"/>
                    </a:moveTo>
                    <a:lnTo>
                      <a:pt x="5" y="72"/>
                    </a:lnTo>
                    <a:lnTo>
                      <a:pt x="8" y="68"/>
                    </a:lnTo>
                    <a:lnTo>
                      <a:pt x="14" y="62"/>
                    </a:lnTo>
                    <a:lnTo>
                      <a:pt x="22" y="54"/>
                    </a:lnTo>
                    <a:lnTo>
                      <a:pt x="32" y="46"/>
                    </a:lnTo>
                    <a:lnTo>
                      <a:pt x="44" y="35"/>
                    </a:lnTo>
                    <a:lnTo>
                      <a:pt x="61" y="26"/>
                    </a:lnTo>
                    <a:lnTo>
                      <a:pt x="80" y="18"/>
                    </a:lnTo>
                    <a:lnTo>
                      <a:pt x="101" y="10"/>
                    </a:lnTo>
                    <a:lnTo>
                      <a:pt x="126" y="5"/>
                    </a:lnTo>
                    <a:lnTo>
                      <a:pt x="155" y="1"/>
                    </a:lnTo>
                    <a:lnTo>
                      <a:pt x="188" y="0"/>
                    </a:lnTo>
                    <a:lnTo>
                      <a:pt x="223" y="1"/>
                    </a:lnTo>
                    <a:lnTo>
                      <a:pt x="262" y="8"/>
                    </a:lnTo>
                    <a:lnTo>
                      <a:pt x="306" y="18"/>
                    </a:lnTo>
                    <a:lnTo>
                      <a:pt x="354" y="33"/>
                    </a:lnTo>
                    <a:lnTo>
                      <a:pt x="354" y="34"/>
                    </a:lnTo>
                    <a:lnTo>
                      <a:pt x="356" y="37"/>
                    </a:lnTo>
                    <a:lnTo>
                      <a:pt x="356" y="39"/>
                    </a:lnTo>
                    <a:lnTo>
                      <a:pt x="356" y="43"/>
                    </a:lnTo>
                    <a:lnTo>
                      <a:pt x="352" y="47"/>
                    </a:lnTo>
                    <a:lnTo>
                      <a:pt x="346" y="50"/>
                    </a:lnTo>
                    <a:lnTo>
                      <a:pt x="335" y="52"/>
                    </a:lnTo>
                    <a:lnTo>
                      <a:pt x="322" y="52"/>
                    </a:lnTo>
                    <a:lnTo>
                      <a:pt x="312" y="52"/>
                    </a:lnTo>
                    <a:lnTo>
                      <a:pt x="300" y="51"/>
                    </a:lnTo>
                    <a:lnTo>
                      <a:pt x="286" y="51"/>
                    </a:lnTo>
                    <a:lnTo>
                      <a:pt x="270" y="52"/>
                    </a:lnTo>
                    <a:lnTo>
                      <a:pt x="252" y="52"/>
                    </a:lnTo>
                    <a:lnTo>
                      <a:pt x="235" y="54"/>
                    </a:lnTo>
                    <a:lnTo>
                      <a:pt x="216" y="55"/>
                    </a:lnTo>
                    <a:lnTo>
                      <a:pt x="196" y="58"/>
                    </a:lnTo>
                    <a:lnTo>
                      <a:pt x="175" y="60"/>
                    </a:lnTo>
                    <a:lnTo>
                      <a:pt x="155" y="64"/>
                    </a:lnTo>
                    <a:lnTo>
                      <a:pt x="136" y="68"/>
                    </a:lnTo>
                    <a:lnTo>
                      <a:pt x="118" y="75"/>
                    </a:lnTo>
                    <a:lnTo>
                      <a:pt x="100" y="81"/>
                    </a:lnTo>
                    <a:lnTo>
                      <a:pt x="83" y="88"/>
                    </a:lnTo>
                    <a:lnTo>
                      <a:pt x="68" y="97"/>
                    </a:lnTo>
                    <a:lnTo>
                      <a:pt x="55" y="108"/>
                    </a:lnTo>
                    <a:lnTo>
                      <a:pt x="52" y="109"/>
                    </a:lnTo>
                    <a:lnTo>
                      <a:pt x="43" y="110"/>
                    </a:lnTo>
                    <a:lnTo>
                      <a:pt x="33" y="110"/>
                    </a:lnTo>
                    <a:lnTo>
                      <a:pt x="21" y="110"/>
                    </a:lnTo>
                    <a:lnTo>
                      <a:pt x="10" y="108"/>
                    </a:lnTo>
                    <a:lnTo>
                      <a:pt x="3" y="101"/>
                    </a:lnTo>
                    <a:lnTo>
                      <a:pt x="0" y="90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ff4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 175"/>
              <p:cNvSpPr/>
              <p:nvPr/>
            </p:nvSpPr>
            <p:spPr>
              <a:xfrm>
                <a:off x="7194600" y="3670200"/>
                <a:ext cx="161280" cy="28080"/>
              </a:xfrm>
              <a:custGeom>
                <a:avLst/>
                <a:gdLst/>
                <a:ahLst/>
                <a:rect l="l" t="t" r="r" b="b"/>
                <a:pathLst>
                  <a:path w="234" h="86">
                    <a:moveTo>
                      <a:pt x="4" y="57"/>
                    </a:moveTo>
                    <a:lnTo>
                      <a:pt x="6" y="56"/>
                    </a:lnTo>
                    <a:lnTo>
                      <a:pt x="7" y="53"/>
                    </a:lnTo>
                    <a:lnTo>
                      <a:pt x="11" y="48"/>
                    </a:lnTo>
                    <a:lnTo>
                      <a:pt x="16" y="42"/>
                    </a:lnTo>
                    <a:lnTo>
                      <a:pt x="22" y="36"/>
                    </a:lnTo>
                    <a:lnTo>
                      <a:pt x="31" y="28"/>
                    </a:lnTo>
                    <a:lnTo>
                      <a:pt x="41" y="21"/>
                    </a:lnTo>
                    <a:lnTo>
                      <a:pt x="53" y="15"/>
                    </a:lnTo>
                    <a:lnTo>
                      <a:pt x="67" y="9"/>
                    </a:lnTo>
                    <a:lnTo>
                      <a:pt x="84" y="4"/>
                    </a:lnTo>
                    <a:lnTo>
                      <a:pt x="103" y="2"/>
                    </a:lnTo>
                    <a:lnTo>
                      <a:pt x="124" y="0"/>
                    </a:lnTo>
                    <a:lnTo>
                      <a:pt x="147" y="2"/>
                    </a:lnTo>
                    <a:lnTo>
                      <a:pt x="173" y="6"/>
                    </a:lnTo>
                    <a:lnTo>
                      <a:pt x="201" y="13"/>
                    </a:lnTo>
                    <a:lnTo>
                      <a:pt x="232" y="24"/>
                    </a:lnTo>
                    <a:lnTo>
                      <a:pt x="234" y="27"/>
                    </a:lnTo>
                    <a:lnTo>
                      <a:pt x="234" y="32"/>
                    </a:lnTo>
                    <a:lnTo>
                      <a:pt x="227" y="38"/>
                    </a:lnTo>
                    <a:lnTo>
                      <a:pt x="211" y="40"/>
                    </a:lnTo>
                    <a:lnTo>
                      <a:pt x="197" y="38"/>
                    </a:lnTo>
                    <a:lnTo>
                      <a:pt x="177" y="40"/>
                    </a:lnTo>
                    <a:lnTo>
                      <a:pt x="154" y="41"/>
                    </a:lnTo>
                    <a:lnTo>
                      <a:pt x="129" y="44"/>
                    </a:lnTo>
                    <a:lnTo>
                      <a:pt x="103" y="49"/>
                    </a:lnTo>
                    <a:lnTo>
                      <a:pt x="77" y="57"/>
                    </a:lnTo>
                    <a:lnTo>
                      <a:pt x="55" y="69"/>
                    </a:lnTo>
                    <a:lnTo>
                      <a:pt x="37" y="83"/>
                    </a:lnTo>
                    <a:lnTo>
                      <a:pt x="34" y="83"/>
                    </a:lnTo>
                    <a:lnTo>
                      <a:pt x="29" y="85"/>
                    </a:lnTo>
                    <a:lnTo>
                      <a:pt x="22" y="86"/>
                    </a:lnTo>
                    <a:lnTo>
                      <a:pt x="14" y="85"/>
                    </a:lnTo>
                    <a:lnTo>
                      <a:pt x="8" y="83"/>
                    </a:lnTo>
                    <a:lnTo>
                      <a:pt x="3" y="78"/>
                    </a:lnTo>
                    <a:lnTo>
                      <a:pt x="0" y="69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Freeform 176"/>
              <p:cNvSpPr/>
              <p:nvPr/>
            </p:nvSpPr>
            <p:spPr>
              <a:xfrm>
                <a:off x="7240320" y="3678480"/>
                <a:ext cx="74160" cy="936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2" y="24"/>
                    </a:moveTo>
                    <a:lnTo>
                      <a:pt x="3" y="23"/>
                    </a:lnTo>
                    <a:lnTo>
                      <a:pt x="7" y="17"/>
                    </a:lnTo>
                    <a:lnTo>
                      <a:pt x="14" y="12"/>
                    </a:lnTo>
                    <a:lnTo>
                      <a:pt x="25" y="6"/>
                    </a:lnTo>
                    <a:lnTo>
                      <a:pt x="39" y="2"/>
                    </a:lnTo>
                    <a:lnTo>
                      <a:pt x="58" y="0"/>
                    </a:lnTo>
                    <a:lnTo>
                      <a:pt x="81" y="3"/>
                    </a:lnTo>
                    <a:lnTo>
                      <a:pt x="109" y="11"/>
                    </a:lnTo>
                    <a:lnTo>
                      <a:pt x="109" y="12"/>
                    </a:lnTo>
                    <a:lnTo>
                      <a:pt x="109" y="14"/>
                    </a:lnTo>
                    <a:lnTo>
                      <a:pt x="106" y="16"/>
                    </a:lnTo>
                    <a:lnTo>
                      <a:pt x="99" y="17"/>
                    </a:lnTo>
                    <a:lnTo>
                      <a:pt x="92" y="17"/>
                    </a:lnTo>
                    <a:lnTo>
                      <a:pt x="82" y="17"/>
                    </a:lnTo>
                    <a:lnTo>
                      <a:pt x="72" y="17"/>
                    </a:lnTo>
                    <a:lnTo>
                      <a:pt x="59" y="19"/>
                    </a:lnTo>
                    <a:lnTo>
                      <a:pt x="48" y="21"/>
                    </a:lnTo>
                    <a:lnTo>
                      <a:pt x="36" y="24"/>
                    </a:lnTo>
                    <a:lnTo>
                      <a:pt x="25" y="29"/>
                    </a:lnTo>
                    <a:lnTo>
                      <a:pt x="17" y="36"/>
                    </a:lnTo>
                    <a:lnTo>
                      <a:pt x="13" y="36"/>
                    </a:lnTo>
                    <a:lnTo>
                      <a:pt x="7" y="36"/>
                    </a:lnTo>
                    <a:lnTo>
                      <a:pt x="0" y="33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ffc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177"/>
              <p:cNvSpPr/>
              <p:nvPr/>
            </p:nvSpPr>
            <p:spPr>
              <a:xfrm>
                <a:off x="7408080" y="4344480"/>
                <a:ext cx="78120" cy="86040"/>
              </a:xfrm>
              <a:custGeom>
                <a:avLst/>
                <a:gdLst/>
                <a:ahLst/>
                <a:rect l="l" t="t" r="r" b="b"/>
                <a:pathLst>
                  <a:path w="111" h="217">
                    <a:moveTo>
                      <a:pt x="25" y="22"/>
                    </a:moveTo>
                    <a:lnTo>
                      <a:pt x="20" y="46"/>
                    </a:lnTo>
                    <a:lnTo>
                      <a:pt x="9" y="99"/>
                    </a:lnTo>
                    <a:lnTo>
                      <a:pt x="0" y="157"/>
                    </a:lnTo>
                    <a:lnTo>
                      <a:pt x="0" y="195"/>
                    </a:lnTo>
                    <a:lnTo>
                      <a:pt x="5" y="203"/>
                    </a:lnTo>
                    <a:lnTo>
                      <a:pt x="13" y="209"/>
                    </a:lnTo>
                    <a:lnTo>
                      <a:pt x="22" y="213"/>
                    </a:lnTo>
                    <a:lnTo>
                      <a:pt x="32" y="216"/>
                    </a:lnTo>
                    <a:lnTo>
                      <a:pt x="43" y="217"/>
                    </a:lnTo>
                    <a:lnTo>
                      <a:pt x="53" y="217"/>
                    </a:lnTo>
                    <a:lnTo>
                      <a:pt x="62" y="217"/>
                    </a:lnTo>
                    <a:lnTo>
                      <a:pt x="71" y="217"/>
                    </a:lnTo>
                    <a:lnTo>
                      <a:pt x="86" y="211"/>
                    </a:lnTo>
                    <a:lnTo>
                      <a:pt x="97" y="194"/>
                    </a:lnTo>
                    <a:lnTo>
                      <a:pt x="103" y="174"/>
                    </a:lnTo>
                    <a:lnTo>
                      <a:pt x="107" y="155"/>
                    </a:lnTo>
                    <a:lnTo>
                      <a:pt x="107" y="132"/>
                    </a:lnTo>
                    <a:lnTo>
                      <a:pt x="110" y="99"/>
                    </a:lnTo>
                    <a:lnTo>
                      <a:pt x="111" y="70"/>
                    </a:lnTo>
                    <a:lnTo>
                      <a:pt x="111" y="58"/>
                    </a:lnTo>
                    <a:lnTo>
                      <a:pt x="110" y="54"/>
                    </a:lnTo>
                    <a:lnTo>
                      <a:pt x="106" y="44"/>
                    </a:lnTo>
                    <a:lnTo>
                      <a:pt x="100" y="29"/>
                    </a:lnTo>
                    <a:lnTo>
                      <a:pt x="91" y="15"/>
                    </a:lnTo>
                    <a:lnTo>
                      <a:pt x="79" y="4"/>
                    </a:lnTo>
                    <a:lnTo>
                      <a:pt x="64" y="0"/>
                    </a:lnTo>
                    <a:lnTo>
                      <a:pt x="47" y="5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178"/>
              <p:cNvSpPr/>
              <p:nvPr/>
            </p:nvSpPr>
            <p:spPr>
              <a:xfrm>
                <a:off x="7691760" y="4371480"/>
                <a:ext cx="68040" cy="82440"/>
              </a:xfrm>
              <a:custGeom>
                <a:avLst/>
                <a:gdLst/>
                <a:ahLst/>
                <a:rect l="l" t="t" r="r" b="b"/>
                <a:pathLst>
                  <a:path w="99" h="198">
                    <a:moveTo>
                      <a:pt x="26" y="21"/>
                    </a:moveTo>
                    <a:lnTo>
                      <a:pt x="20" y="30"/>
                    </a:lnTo>
                    <a:lnTo>
                      <a:pt x="14" y="45"/>
                    </a:lnTo>
                    <a:lnTo>
                      <a:pt x="7" y="65"/>
                    </a:lnTo>
                    <a:lnTo>
                      <a:pt x="2" y="88"/>
                    </a:lnTo>
                    <a:lnTo>
                      <a:pt x="0" y="112"/>
                    </a:lnTo>
                    <a:lnTo>
                      <a:pt x="0" y="136"/>
                    </a:lnTo>
                    <a:lnTo>
                      <a:pt x="4" y="158"/>
                    </a:lnTo>
                    <a:lnTo>
                      <a:pt x="12" y="177"/>
                    </a:lnTo>
                    <a:lnTo>
                      <a:pt x="24" y="190"/>
                    </a:lnTo>
                    <a:lnTo>
                      <a:pt x="36" y="196"/>
                    </a:lnTo>
                    <a:lnTo>
                      <a:pt x="49" y="198"/>
                    </a:lnTo>
                    <a:lnTo>
                      <a:pt x="62" y="195"/>
                    </a:lnTo>
                    <a:lnTo>
                      <a:pt x="74" y="190"/>
                    </a:lnTo>
                    <a:lnTo>
                      <a:pt x="83" y="183"/>
                    </a:lnTo>
                    <a:lnTo>
                      <a:pt x="91" y="175"/>
                    </a:lnTo>
                    <a:lnTo>
                      <a:pt x="96" y="169"/>
                    </a:lnTo>
                    <a:lnTo>
                      <a:pt x="99" y="138"/>
                    </a:lnTo>
                    <a:lnTo>
                      <a:pt x="98" y="90"/>
                    </a:lnTo>
                    <a:lnTo>
                      <a:pt x="94" y="40"/>
                    </a:lnTo>
                    <a:lnTo>
                      <a:pt x="85" y="12"/>
                    </a:lnTo>
                    <a:lnTo>
                      <a:pt x="80" y="7"/>
                    </a:lnTo>
                    <a:lnTo>
                      <a:pt x="75" y="4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57" y="2"/>
                    </a:lnTo>
                    <a:lnTo>
                      <a:pt x="48" y="5"/>
                    </a:lnTo>
                    <a:lnTo>
                      <a:pt x="38" y="12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ff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179"/>
              <p:cNvSpPr/>
              <p:nvPr/>
            </p:nvSpPr>
            <p:spPr>
              <a:xfrm>
                <a:off x="7898760" y="3941640"/>
                <a:ext cx="68040" cy="47160"/>
              </a:xfrm>
              <a:custGeom>
                <a:avLst/>
                <a:gdLst/>
                <a:ahLst/>
                <a:rect l="l" t="t" r="r" b="b"/>
                <a:pathLst>
                  <a:path w="100" h="132">
                    <a:moveTo>
                      <a:pt x="71" y="6"/>
                    </a:moveTo>
                    <a:lnTo>
                      <a:pt x="69" y="4"/>
                    </a:lnTo>
                    <a:lnTo>
                      <a:pt x="63" y="3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4" y="2"/>
                    </a:lnTo>
                    <a:lnTo>
                      <a:pt x="24" y="4"/>
                    </a:lnTo>
                    <a:lnTo>
                      <a:pt x="15" y="11"/>
                    </a:lnTo>
                    <a:lnTo>
                      <a:pt x="10" y="23"/>
                    </a:lnTo>
                    <a:lnTo>
                      <a:pt x="3" y="48"/>
                    </a:lnTo>
                    <a:lnTo>
                      <a:pt x="0" y="69"/>
                    </a:lnTo>
                    <a:lnTo>
                      <a:pt x="0" y="87"/>
                    </a:lnTo>
                    <a:lnTo>
                      <a:pt x="1" y="100"/>
                    </a:lnTo>
                    <a:lnTo>
                      <a:pt x="3" y="107"/>
                    </a:lnTo>
                    <a:lnTo>
                      <a:pt x="8" y="112"/>
                    </a:lnTo>
                    <a:lnTo>
                      <a:pt x="15" y="119"/>
                    </a:lnTo>
                    <a:lnTo>
                      <a:pt x="22" y="124"/>
                    </a:lnTo>
                    <a:lnTo>
                      <a:pt x="31" y="129"/>
                    </a:lnTo>
                    <a:lnTo>
                      <a:pt x="39" y="132"/>
                    </a:lnTo>
                    <a:lnTo>
                      <a:pt x="48" y="132"/>
                    </a:lnTo>
                    <a:lnTo>
                      <a:pt x="54" y="131"/>
                    </a:lnTo>
                    <a:lnTo>
                      <a:pt x="60" y="127"/>
                    </a:lnTo>
                    <a:lnTo>
                      <a:pt x="68" y="122"/>
                    </a:lnTo>
                    <a:lnTo>
                      <a:pt x="75" y="114"/>
                    </a:lnTo>
                    <a:lnTo>
                      <a:pt x="82" y="106"/>
                    </a:lnTo>
                    <a:lnTo>
                      <a:pt x="88" y="98"/>
                    </a:lnTo>
                    <a:lnTo>
                      <a:pt x="93" y="89"/>
                    </a:lnTo>
                    <a:lnTo>
                      <a:pt x="97" y="79"/>
                    </a:lnTo>
                    <a:lnTo>
                      <a:pt x="98" y="72"/>
                    </a:lnTo>
                    <a:lnTo>
                      <a:pt x="100" y="53"/>
                    </a:lnTo>
                    <a:lnTo>
                      <a:pt x="99" y="32"/>
                    </a:lnTo>
                    <a:lnTo>
                      <a:pt x="90" y="15"/>
                    </a:lnTo>
                    <a:lnTo>
                      <a:pt x="71" y="6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180"/>
              <p:cNvSpPr/>
              <p:nvPr/>
            </p:nvSpPr>
            <p:spPr>
              <a:xfrm>
                <a:off x="7952760" y="3722040"/>
                <a:ext cx="117720" cy="42480"/>
              </a:xfrm>
              <a:custGeom>
                <a:avLst/>
                <a:gdLst/>
                <a:ahLst/>
                <a:rect l="l" t="t" r="r" b="b"/>
                <a:pathLst>
                  <a:path w="172" h="107">
                    <a:moveTo>
                      <a:pt x="0" y="0"/>
                    </a:moveTo>
                    <a:lnTo>
                      <a:pt x="5" y="2"/>
                    </a:lnTo>
                    <a:lnTo>
                      <a:pt x="19" y="8"/>
                    </a:lnTo>
                    <a:lnTo>
                      <a:pt x="39" y="17"/>
                    </a:lnTo>
                    <a:lnTo>
                      <a:pt x="65" y="29"/>
                    </a:lnTo>
                    <a:lnTo>
                      <a:pt x="93" y="45"/>
                    </a:lnTo>
                    <a:lnTo>
                      <a:pt x="122" y="63"/>
                    </a:lnTo>
                    <a:lnTo>
                      <a:pt x="148" y="83"/>
                    </a:lnTo>
                    <a:lnTo>
                      <a:pt x="172" y="107"/>
                    </a:lnTo>
                    <a:lnTo>
                      <a:pt x="171" y="104"/>
                    </a:lnTo>
                    <a:lnTo>
                      <a:pt x="165" y="95"/>
                    </a:lnTo>
                    <a:lnTo>
                      <a:pt x="153" y="82"/>
                    </a:lnTo>
                    <a:lnTo>
                      <a:pt x="137" y="66"/>
                    </a:lnTo>
                    <a:lnTo>
                      <a:pt x="114" y="49"/>
                    </a:lnTo>
                    <a:lnTo>
                      <a:pt x="84" y="32"/>
                    </a:lnTo>
                    <a:lnTo>
                      <a:pt x="4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0" name="TextBox 323"/>
            <p:cNvSpPr/>
            <p:nvPr/>
          </p:nvSpPr>
          <p:spPr>
            <a:xfrm>
              <a:off x="6926400" y="372888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特别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1" name="矩形 54756"/>
          <p:cNvSpPr/>
          <p:nvPr/>
        </p:nvSpPr>
        <p:spPr>
          <a:xfrm>
            <a:off x="3708360" y="33638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题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文本框 36"/>
          <p:cNvSpPr/>
          <p:nvPr/>
        </p:nvSpPr>
        <p:spPr>
          <a:xfrm rot="16248600">
            <a:off x="5912640" y="129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文本框 31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文本框 32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文本框 51"/>
          <p:cNvSpPr/>
          <p:nvPr/>
        </p:nvSpPr>
        <p:spPr>
          <a:xfrm rot="16248600">
            <a:off x="5896800" y="341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文本框 43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文本框 45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文本框 49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文本框 47"/>
          <p:cNvSpPr/>
          <p:nvPr/>
        </p:nvSpPr>
        <p:spPr>
          <a:xfrm rot="18142800">
            <a:off x="6719760" y="3373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66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文本框 67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文本框 68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文本框 36"/>
          <p:cNvSpPr/>
          <p:nvPr/>
        </p:nvSpPr>
        <p:spPr>
          <a:xfrm rot="2809800">
            <a:off x="3863880" y="171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文本框 37"/>
          <p:cNvSpPr/>
          <p:nvPr/>
        </p:nvSpPr>
        <p:spPr>
          <a:xfrm rot="4009800">
            <a:off x="3863520" y="2260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32"/>
          <p:cNvSpPr/>
          <p:nvPr/>
        </p:nvSpPr>
        <p:spPr>
          <a:xfrm rot="5400000">
            <a:off x="1190880" y="32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文本框 47"/>
          <p:cNvSpPr/>
          <p:nvPr/>
        </p:nvSpPr>
        <p:spPr>
          <a:xfrm rot="5220000">
            <a:off x="751680" y="288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文本框 50"/>
          <p:cNvSpPr/>
          <p:nvPr/>
        </p:nvSpPr>
        <p:spPr>
          <a:xfrm rot="4020000">
            <a:off x="3751560" y="334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46"/>
          <p:cNvSpPr/>
          <p:nvPr/>
        </p:nvSpPr>
        <p:spPr>
          <a:xfrm rot="2809800">
            <a:off x="2651040" y="17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文本框 50"/>
          <p:cNvSpPr/>
          <p:nvPr/>
        </p:nvSpPr>
        <p:spPr>
          <a:xfrm rot="2809800">
            <a:off x="3125160" y="238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文本框 51"/>
          <p:cNvSpPr/>
          <p:nvPr/>
        </p:nvSpPr>
        <p:spPr>
          <a:xfrm rot="2809800">
            <a:off x="3495240" y="260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文本框 32"/>
          <p:cNvSpPr/>
          <p:nvPr/>
        </p:nvSpPr>
        <p:spPr>
          <a:xfrm rot="5400000">
            <a:off x="4800960" y="366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1" name="组合 10"/>
          <p:cNvGrpSpPr/>
          <p:nvPr/>
        </p:nvGrpSpPr>
        <p:grpSpPr>
          <a:xfrm>
            <a:off x="179280" y="369720"/>
            <a:ext cx="4264200" cy="925560"/>
            <a:chOff x="179280" y="369720"/>
            <a:chExt cx="4264200" cy="925560"/>
          </a:xfrm>
        </p:grpSpPr>
        <p:pic>
          <p:nvPicPr>
            <p:cNvPr id="852" name="Text Box 15" descr=""/>
            <p:cNvPicPr/>
            <p:nvPr/>
          </p:nvPicPr>
          <p:blipFill>
            <a:blip r:embed="rId2"/>
            <a:stretch/>
          </p:blipFill>
          <p:spPr>
            <a:xfrm>
              <a:off x="906480" y="369720"/>
              <a:ext cx="35370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图片 12" descr=""/>
            <p:cNvPicPr/>
            <p:nvPr/>
          </p:nvPicPr>
          <p:blipFill>
            <a:blip r:embed="rId3"/>
            <a:stretch/>
          </p:blipFill>
          <p:spPr>
            <a:xfrm>
              <a:off x="179280" y="444960"/>
              <a:ext cx="1041120" cy="78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4" name="矩形 4"/>
          <p:cNvSpPr/>
          <p:nvPr/>
        </p:nvSpPr>
        <p:spPr>
          <a:xfrm>
            <a:off x="282600" y="2219400"/>
            <a:ext cx="85723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象有一对大耳朵，像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扇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  ）子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似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 ）的耷拉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象只要把他的大耳朵一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扇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   ），就能把他们赶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文本框 2"/>
          <p:cNvSpPr/>
          <p:nvPr/>
        </p:nvSpPr>
        <p:spPr>
          <a:xfrm>
            <a:off x="6080040" y="2284560"/>
            <a:ext cx="9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文本框 7"/>
          <p:cNvSpPr/>
          <p:nvPr/>
        </p:nvSpPr>
        <p:spPr>
          <a:xfrm>
            <a:off x="5851440" y="1555920"/>
            <a:ext cx="6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文本框 10"/>
          <p:cNvSpPr/>
          <p:nvPr/>
        </p:nvSpPr>
        <p:spPr>
          <a:xfrm>
            <a:off x="4740120" y="2792520"/>
            <a:ext cx="8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ā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12"/>
          <p:cNvSpPr/>
          <p:nvPr/>
        </p:nvSpPr>
        <p:spPr>
          <a:xfrm>
            <a:off x="4371840" y="2247840"/>
            <a:ext cx="12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à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文本框 13"/>
          <p:cNvSpPr/>
          <p:nvPr/>
        </p:nvSpPr>
        <p:spPr>
          <a:xfrm>
            <a:off x="1768320" y="1554120"/>
            <a:ext cx="8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ā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文本框 14"/>
          <p:cNvSpPr/>
          <p:nvPr/>
        </p:nvSpPr>
        <p:spPr>
          <a:xfrm>
            <a:off x="3263760" y="1554120"/>
            <a:ext cx="12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à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文本框 16"/>
          <p:cNvSpPr/>
          <p:nvPr/>
        </p:nvSpPr>
        <p:spPr>
          <a:xfrm>
            <a:off x="4448160" y="155412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863" name="文本框 8"/>
          <p:cNvSpPr/>
          <p:nvPr/>
        </p:nvSpPr>
        <p:spPr>
          <a:xfrm>
            <a:off x="324000" y="3435480"/>
            <a:ext cx="8496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图片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6" descr=""/>
          <p:cNvPicPr/>
          <p:nvPr/>
        </p:nvPicPr>
        <p:blipFill>
          <a:blip r:embed="rId3"/>
          <a:stretch/>
        </p:blipFill>
        <p:spPr>
          <a:xfrm>
            <a:off x="142920" y="3147840"/>
            <a:ext cx="1474920" cy="1573560"/>
          </a:xfrm>
          <a:prstGeom prst="rect">
            <a:avLst/>
          </a:prstGeom>
          <a:ln w="0">
            <a:noFill/>
          </a:ln>
        </p:spPr>
      </p:pic>
      <p:grpSp>
        <p:nvGrpSpPr>
          <p:cNvPr id="866" name="组合 1"/>
          <p:cNvGrpSpPr/>
          <p:nvPr/>
        </p:nvGrpSpPr>
        <p:grpSpPr>
          <a:xfrm>
            <a:off x="2782800" y="237960"/>
            <a:ext cx="3248280" cy="766440"/>
            <a:chOff x="2782800" y="237960"/>
            <a:chExt cx="3248280" cy="766440"/>
          </a:xfrm>
        </p:grpSpPr>
        <p:grpSp>
          <p:nvGrpSpPr>
            <p:cNvPr id="867" name="组合 6"/>
            <p:cNvGrpSpPr/>
            <p:nvPr/>
          </p:nvGrpSpPr>
          <p:grpSpPr>
            <a:xfrm>
              <a:off x="2782800" y="237960"/>
              <a:ext cx="2419920" cy="766440"/>
              <a:chOff x="2782800" y="237960"/>
              <a:chExt cx="2419920" cy="766440"/>
            </a:xfrm>
          </p:grpSpPr>
          <p:sp>
            <p:nvSpPr>
              <p:cNvPr id="868" name="TextBox 5"/>
              <p:cNvSpPr/>
              <p:nvPr/>
            </p:nvSpPr>
            <p:spPr>
              <a:xfrm rot="554400">
                <a:off x="3679560" y="285840"/>
                <a:ext cx="649080" cy="64260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5648000"/>
              </a:gradFill>
              <a:ln w="9360">
                <a:solidFill>
                  <a:srgbClr val="46aac5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TextBox 5"/>
              <p:cNvSpPr/>
              <p:nvPr/>
            </p:nvSpPr>
            <p:spPr>
              <a:xfrm rot="20879400">
                <a:off x="2842560" y="303120"/>
                <a:ext cx="630000" cy="642600"/>
              </a:xfrm>
              <a:prstGeom prst="rect">
                <a:avLst/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920000"/>
              </a:gradFill>
              <a:ln w="9360">
                <a:solidFill>
                  <a:srgbClr val="be4b4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大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TextBox 5"/>
              <p:cNvSpPr/>
              <p:nvPr/>
            </p:nvSpPr>
            <p:spPr>
              <a:xfrm rot="21170400">
                <a:off x="4534920" y="302760"/>
                <a:ext cx="630000" cy="642600"/>
              </a:xfrm>
              <a:prstGeom prst="rect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6632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过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1" name="TextBox 5"/>
            <p:cNvSpPr/>
            <p:nvPr/>
          </p:nvSpPr>
          <p:spPr>
            <a:xfrm rot="533400">
              <a:off x="5355000" y="295200"/>
              <a:ext cx="630000" cy="64260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5666000"/>
            </a:gradFill>
            <a:ln w="9360">
              <a:solidFill>
                <a:srgbClr val="7d60a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河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2" name="TextBox 7"/>
          <p:cNvSpPr/>
          <p:nvPr/>
        </p:nvSpPr>
        <p:spPr>
          <a:xfrm>
            <a:off x="638280" y="1133640"/>
            <a:ext cx="95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Box 7"/>
          <p:cNvSpPr/>
          <p:nvPr/>
        </p:nvSpPr>
        <p:spPr>
          <a:xfrm>
            <a:off x="1527120" y="1133640"/>
            <a:ext cx="95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Box 7"/>
          <p:cNvSpPr/>
          <p:nvPr/>
        </p:nvSpPr>
        <p:spPr>
          <a:xfrm>
            <a:off x="2414520" y="1133640"/>
            <a:ext cx="95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TextBox 7"/>
          <p:cNvSpPr/>
          <p:nvPr/>
        </p:nvSpPr>
        <p:spPr>
          <a:xfrm>
            <a:off x="3303720" y="1133640"/>
            <a:ext cx="95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竖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TextBox 7"/>
          <p:cNvSpPr/>
          <p:nvPr/>
        </p:nvSpPr>
        <p:spPr>
          <a:xfrm>
            <a:off x="4191120" y="1131840"/>
            <a:ext cx="95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TextBox 7"/>
          <p:cNvSpPr/>
          <p:nvPr/>
        </p:nvSpPr>
        <p:spPr>
          <a:xfrm>
            <a:off x="5081760" y="1133640"/>
            <a:ext cx="95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舞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TextBox 7"/>
          <p:cNvSpPr/>
          <p:nvPr/>
        </p:nvSpPr>
        <p:spPr>
          <a:xfrm>
            <a:off x="5969160" y="1133640"/>
            <a:ext cx="95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痛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Box 7"/>
          <p:cNvSpPr/>
          <p:nvPr/>
        </p:nvSpPr>
        <p:spPr>
          <a:xfrm>
            <a:off x="6856560" y="1133640"/>
            <a:ext cx="95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TextBox 7"/>
          <p:cNvSpPr/>
          <p:nvPr/>
        </p:nvSpPr>
        <p:spPr>
          <a:xfrm>
            <a:off x="7745400" y="1131840"/>
            <a:ext cx="95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4.81481E-006 L 0.04948 0.00124 E">
                                      <p:cBhvr>
                                        <p:cTn id="231" dur="20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48 0.00124 L 0.12031 0.00124 E">
                                      <p:cBhvr>
                                        <p:cTn id="242" dur="20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031 0.00124 L 0.22274 0.00124 E">
                                      <p:cBhvr>
                                        <p:cTn id="253" dur="20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274 0.00124 L 0.30104 0.00124 E">
                                      <p:cBhvr>
                                        <p:cTn id="264" dur="20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104 0.00124 L 0.38247 0.00124 E">
                                      <p:cBhvr>
                                        <p:cTn id="275" dur="20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247 0.00124 L 0.49045 0.00124 E">
                                      <p:cBhvr>
                                        <p:cTn id="286" dur="20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045 0.00124 L 0.56927 0.00124 E">
                                      <p:cBhvr>
                                        <p:cTn id="297" dur="20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927 0.00124 L 0.65573 0.00124 E">
                                      <p:cBhvr>
                                        <p:cTn id="308" dur="20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573 0.00124 L 0.77396 -0.02685 E">
                                      <p:cBhvr>
                                        <p:cTn id="319" dur="20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组合 7"/>
          <p:cNvGrpSpPr/>
          <p:nvPr/>
        </p:nvGrpSpPr>
        <p:grpSpPr>
          <a:xfrm>
            <a:off x="1800360" y="1689120"/>
            <a:ext cx="836640" cy="882720"/>
            <a:chOff x="1800360" y="1689120"/>
            <a:chExt cx="836640" cy="882720"/>
          </a:xfrm>
        </p:grpSpPr>
        <p:grpSp>
          <p:nvGrpSpPr>
            <p:cNvPr id="882" name="组合 7"/>
            <p:cNvGrpSpPr/>
            <p:nvPr/>
          </p:nvGrpSpPr>
          <p:grpSpPr>
            <a:xfrm>
              <a:off x="1800360" y="1720800"/>
              <a:ext cx="836640" cy="851040"/>
              <a:chOff x="1800360" y="1720800"/>
              <a:chExt cx="836640" cy="851040"/>
            </a:xfrm>
          </p:grpSpPr>
          <p:sp>
            <p:nvSpPr>
              <p:cNvPr id="883" name="矩形 1"/>
              <p:cNvSpPr/>
              <p:nvPr/>
            </p:nvSpPr>
            <p:spPr>
              <a:xfrm>
                <a:off x="1800360" y="1720800"/>
                <a:ext cx="83664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直接连接符 4"/>
              <p:cNvSpPr/>
              <p:nvPr/>
            </p:nvSpPr>
            <p:spPr>
              <a:xfrm>
                <a:off x="1800360" y="213300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直接连接符 6"/>
              <p:cNvSpPr/>
              <p:nvPr/>
            </p:nvSpPr>
            <p:spPr>
              <a:xfrm>
                <a:off x="2219040" y="173412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6" name="文本框 64"/>
            <p:cNvSpPr/>
            <p:nvPr/>
          </p:nvSpPr>
          <p:spPr>
            <a:xfrm>
              <a:off x="1825560" y="168912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扇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7" name="组合 11"/>
          <p:cNvGrpSpPr/>
          <p:nvPr/>
        </p:nvGrpSpPr>
        <p:grpSpPr>
          <a:xfrm>
            <a:off x="6416640" y="1698480"/>
            <a:ext cx="836640" cy="882720"/>
            <a:chOff x="6416640" y="1698480"/>
            <a:chExt cx="836640" cy="882720"/>
          </a:xfrm>
        </p:grpSpPr>
        <p:grpSp>
          <p:nvGrpSpPr>
            <p:cNvPr id="888" name="组合 7"/>
            <p:cNvGrpSpPr/>
            <p:nvPr/>
          </p:nvGrpSpPr>
          <p:grpSpPr>
            <a:xfrm>
              <a:off x="6416640" y="1730160"/>
              <a:ext cx="836640" cy="851040"/>
              <a:chOff x="6416640" y="1730160"/>
              <a:chExt cx="836640" cy="851040"/>
            </a:xfrm>
          </p:grpSpPr>
          <p:sp>
            <p:nvSpPr>
              <p:cNvPr id="889" name="矩形 1"/>
              <p:cNvSpPr/>
              <p:nvPr/>
            </p:nvSpPr>
            <p:spPr>
              <a:xfrm>
                <a:off x="6416640" y="1730160"/>
                <a:ext cx="83664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直接连接符 4"/>
              <p:cNvSpPr/>
              <p:nvPr/>
            </p:nvSpPr>
            <p:spPr>
              <a:xfrm>
                <a:off x="6416640" y="214236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直接连接符 6"/>
              <p:cNvSpPr/>
              <p:nvPr/>
            </p:nvSpPr>
            <p:spPr>
              <a:xfrm>
                <a:off x="6835320" y="174348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2" name="文本框 64"/>
            <p:cNvSpPr/>
            <p:nvPr/>
          </p:nvSpPr>
          <p:spPr>
            <a:xfrm>
              <a:off x="6441840" y="169848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遇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3" name="组合 17"/>
          <p:cNvGrpSpPr/>
          <p:nvPr/>
        </p:nvGrpSpPr>
        <p:grpSpPr>
          <a:xfrm>
            <a:off x="3965400" y="1712880"/>
            <a:ext cx="836640" cy="882720"/>
            <a:chOff x="3965400" y="1712880"/>
            <a:chExt cx="836640" cy="882720"/>
          </a:xfrm>
        </p:grpSpPr>
        <p:grpSp>
          <p:nvGrpSpPr>
            <p:cNvPr id="894" name="组合 7"/>
            <p:cNvGrpSpPr/>
            <p:nvPr/>
          </p:nvGrpSpPr>
          <p:grpSpPr>
            <a:xfrm>
              <a:off x="3965400" y="1744560"/>
              <a:ext cx="836640" cy="851040"/>
              <a:chOff x="3965400" y="1744560"/>
              <a:chExt cx="836640" cy="851040"/>
            </a:xfrm>
          </p:grpSpPr>
          <p:sp>
            <p:nvSpPr>
              <p:cNvPr id="895" name="矩形 1"/>
              <p:cNvSpPr/>
              <p:nvPr/>
            </p:nvSpPr>
            <p:spPr>
              <a:xfrm>
                <a:off x="3965400" y="1744560"/>
                <a:ext cx="83664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直接连接符 4"/>
              <p:cNvSpPr/>
              <p:nvPr/>
            </p:nvSpPr>
            <p:spPr>
              <a:xfrm>
                <a:off x="3965400" y="215676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直接连接符 6"/>
              <p:cNvSpPr/>
              <p:nvPr/>
            </p:nvSpPr>
            <p:spPr>
              <a:xfrm>
                <a:off x="4384080" y="175788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8" name="文本框 64"/>
            <p:cNvSpPr/>
            <p:nvPr/>
          </p:nvSpPr>
          <p:spPr>
            <a:xfrm>
              <a:off x="3990600" y="171288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痛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9" name="组合 1"/>
          <p:cNvGrpSpPr/>
          <p:nvPr/>
        </p:nvGrpSpPr>
        <p:grpSpPr>
          <a:xfrm>
            <a:off x="181080" y="366840"/>
            <a:ext cx="2765160" cy="925560"/>
            <a:chOff x="181080" y="366840"/>
            <a:chExt cx="2765160" cy="925560"/>
          </a:xfrm>
        </p:grpSpPr>
        <p:pic>
          <p:nvPicPr>
            <p:cNvPr id="900" name="Text Box 15" descr=""/>
            <p:cNvPicPr/>
            <p:nvPr/>
          </p:nvPicPr>
          <p:blipFill>
            <a:blip r:embed="rId2"/>
            <a:stretch/>
          </p:blipFill>
          <p:spPr>
            <a:xfrm>
              <a:off x="892440" y="366840"/>
              <a:ext cx="20538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图片 51" descr=""/>
            <p:cNvPicPr/>
            <p:nvPr/>
          </p:nvPicPr>
          <p:blipFill>
            <a:blip r:embed="rId3"/>
            <a:stretch/>
          </p:blipFill>
          <p:spPr>
            <a:xfrm>
              <a:off x="181080" y="434880"/>
              <a:ext cx="1002600" cy="79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2" name="文本框 1"/>
          <p:cNvSpPr/>
          <p:nvPr/>
        </p:nvSpPr>
        <p:spPr>
          <a:xfrm>
            <a:off x="2535120" y="1116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左上包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文本框 3"/>
          <p:cNvSpPr/>
          <p:nvPr/>
        </p:nvSpPr>
        <p:spPr>
          <a:xfrm>
            <a:off x="6256440" y="111600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左下包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文本框 5"/>
          <p:cNvSpPr/>
          <p:nvPr/>
        </p:nvSpPr>
        <p:spPr>
          <a:xfrm>
            <a:off x="1355760" y="2840040"/>
            <a:ext cx="21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扇动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ān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扇风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ān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扇子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àn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文本框 6"/>
          <p:cNvSpPr/>
          <p:nvPr/>
        </p:nvSpPr>
        <p:spPr>
          <a:xfrm>
            <a:off x="3965400" y="284004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心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痛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痛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文本框 7"/>
          <p:cNvSpPr/>
          <p:nvPr/>
        </p:nvSpPr>
        <p:spPr>
          <a:xfrm>
            <a:off x="6251400" y="2840040"/>
            <a:ext cx="165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遇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相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机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文本框 4"/>
          <p:cNvSpPr/>
          <p:nvPr/>
        </p:nvSpPr>
        <p:spPr>
          <a:xfrm>
            <a:off x="3303720" y="406440"/>
            <a:ext cx="40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一看二写三评四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文本框 36"/>
          <p:cNvSpPr/>
          <p:nvPr/>
        </p:nvSpPr>
        <p:spPr>
          <a:xfrm rot="16248600">
            <a:off x="5912640" y="129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26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文本框 31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文本框 32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文本框 51"/>
          <p:cNvSpPr/>
          <p:nvPr/>
        </p:nvSpPr>
        <p:spPr>
          <a:xfrm rot="16248600">
            <a:off x="5896800" y="341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文本框 43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文本框 44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文本框 45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文本框 49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文本框 47"/>
          <p:cNvSpPr/>
          <p:nvPr/>
        </p:nvSpPr>
        <p:spPr>
          <a:xfrm rot="18142800">
            <a:off x="6719760" y="3373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文本框 67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文本框 68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文本框 36"/>
          <p:cNvSpPr/>
          <p:nvPr/>
        </p:nvSpPr>
        <p:spPr>
          <a:xfrm rot="2809800">
            <a:off x="3863880" y="171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文本框 37"/>
          <p:cNvSpPr/>
          <p:nvPr/>
        </p:nvSpPr>
        <p:spPr>
          <a:xfrm rot="4009800">
            <a:off x="3863520" y="2260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文本框 32"/>
          <p:cNvSpPr/>
          <p:nvPr/>
        </p:nvSpPr>
        <p:spPr>
          <a:xfrm rot="5400000">
            <a:off x="1190880" y="32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47"/>
          <p:cNvSpPr/>
          <p:nvPr/>
        </p:nvSpPr>
        <p:spPr>
          <a:xfrm rot="5220000">
            <a:off x="751680" y="288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文本框 50"/>
          <p:cNvSpPr/>
          <p:nvPr/>
        </p:nvSpPr>
        <p:spPr>
          <a:xfrm rot="4020000">
            <a:off x="3751560" y="334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文本框 51"/>
          <p:cNvSpPr/>
          <p:nvPr/>
        </p:nvSpPr>
        <p:spPr>
          <a:xfrm rot="4020000">
            <a:off x="4122000" y="3563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文本框 45"/>
          <p:cNvSpPr/>
          <p:nvPr/>
        </p:nvSpPr>
        <p:spPr>
          <a:xfrm rot="2809800">
            <a:off x="2280600" y="151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文本框 46"/>
          <p:cNvSpPr/>
          <p:nvPr/>
        </p:nvSpPr>
        <p:spPr>
          <a:xfrm rot="2809800">
            <a:off x="2651040" y="17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文本框 50"/>
          <p:cNvSpPr/>
          <p:nvPr/>
        </p:nvSpPr>
        <p:spPr>
          <a:xfrm rot="2809800">
            <a:off x="3125160" y="238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文本框 51"/>
          <p:cNvSpPr/>
          <p:nvPr/>
        </p:nvSpPr>
        <p:spPr>
          <a:xfrm rot="2809800">
            <a:off x="3495240" y="260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文本框 32"/>
          <p:cNvSpPr/>
          <p:nvPr/>
        </p:nvSpPr>
        <p:spPr>
          <a:xfrm rot="5400000">
            <a:off x="4800960" y="366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ext Box 6"/>
          <p:cNvSpPr/>
          <p:nvPr/>
        </p:nvSpPr>
        <p:spPr>
          <a:xfrm>
            <a:off x="727200" y="1995480"/>
            <a:ext cx="8135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象有一对大耳朵，像扇子似的耷拉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椭圆 1"/>
          <p:cNvSpPr/>
          <p:nvPr/>
        </p:nvSpPr>
        <p:spPr>
          <a:xfrm>
            <a:off x="6837480" y="2066760"/>
            <a:ext cx="874440" cy="5414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直接连接符 4"/>
          <p:cNvSpPr/>
          <p:nvPr/>
        </p:nvSpPr>
        <p:spPr>
          <a:xfrm>
            <a:off x="5138640" y="2641680"/>
            <a:ext cx="1698840" cy="0"/>
          </a:xfrm>
          <a:prstGeom prst="line">
            <a:avLst/>
          </a:prstGeom>
          <a:ln w="381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文本框 9"/>
          <p:cNvSpPr/>
          <p:nvPr/>
        </p:nvSpPr>
        <p:spPr>
          <a:xfrm>
            <a:off x="6659640" y="2666880"/>
            <a:ext cx="13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下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9" name="图片 12" descr=""/>
          <p:cNvPicPr/>
          <p:nvPr/>
        </p:nvPicPr>
        <p:blipFill>
          <a:blip r:embed="rId2"/>
          <a:stretch/>
        </p:blipFill>
        <p:spPr>
          <a:xfrm>
            <a:off x="179280" y="369720"/>
            <a:ext cx="1049400" cy="925560"/>
          </a:xfrm>
          <a:prstGeom prst="rect">
            <a:avLst/>
          </a:prstGeom>
          <a:ln w="0">
            <a:noFill/>
          </a:ln>
        </p:spPr>
      </p:pic>
      <p:sp>
        <p:nvSpPr>
          <p:cNvPr id="1010" name="矩形 4"/>
          <p:cNvSpPr/>
          <p:nvPr/>
        </p:nvSpPr>
        <p:spPr>
          <a:xfrm>
            <a:off x="826920" y="1203480"/>
            <a:ext cx="77756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齐读课文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然段，说说大象耳朵有什么特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: 圆角 15"/>
          <p:cNvSpPr/>
          <p:nvPr/>
        </p:nvSpPr>
        <p:spPr>
          <a:xfrm>
            <a:off x="2341440" y="2114640"/>
            <a:ext cx="2028960" cy="4921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2" name="图片 5" descr=""/>
          <p:cNvPicPr/>
          <p:nvPr/>
        </p:nvPicPr>
        <p:blipFill>
          <a:blip r:embed="rId3"/>
          <a:stretch/>
        </p:blipFill>
        <p:spPr>
          <a:xfrm rot="13050600">
            <a:off x="4374720" y="2650680"/>
            <a:ext cx="1498680" cy="1913040"/>
          </a:xfrm>
          <a:prstGeom prst="rect">
            <a:avLst/>
          </a:prstGeom>
          <a:ln w="0">
            <a:noFill/>
          </a:ln>
        </p:spPr>
      </p:pic>
      <p:grpSp>
        <p:nvGrpSpPr>
          <p:cNvPr id="1013" name="组合 6"/>
          <p:cNvGrpSpPr/>
          <p:nvPr/>
        </p:nvGrpSpPr>
        <p:grpSpPr>
          <a:xfrm>
            <a:off x="704880" y="2809800"/>
            <a:ext cx="2820960" cy="2116080"/>
            <a:chOff x="704880" y="2809800"/>
            <a:chExt cx="2820960" cy="2116080"/>
          </a:xfrm>
        </p:grpSpPr>
        <p:pic>
          <p:nvPicPr>
            <p:cNvPr id="1014" name="图片 3" descr=""/>
            <p:cNvPicPr/>
            <p:nvPr/>
          </p:nvPicPr>
          <p:blipFill>
            <a:blip r:embed="rId4"/>
            <a:stretch/>
          </p:blipFill>
          <p:spPr>
            <a:xfrm>
              <a:off x="704880" y="2809800"/>
              <a:ext cx="2820960" cy="21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椭圆 18"/>
            <p:cNvSpPr/>
            <p:nvPr/>
          </p:nvSpPr>
          <p:spPr>
            <a:xfrm>
              <a:off x="2116080" y="2825640"/>
              <a:ext cx="874800" cy="938160"/>
            </a:xfrm>
            <a:prstGeom prst="ellipse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6" name="图片 2" descr="IMG_20180406_173120"/>
          <p:cNvPicPr/>
          <p:nvPr/>
        </p:nvPicPr>
        <p:blipFill>
          <a:blip r:embed="rId5"/>
          <a:stretch/>
        </p:blipFill>
        <p:spPr>
          <a:xfrm>
            <a:off x="7737480" y="2771640"/>
            <a:ext cx="1376280" cy="1922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5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0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组合 3"/>
          <p:cNvGrpSpPr/>
          <p:nvPr/>
        </p:nvGrpSpPr>
        <p:grpSpPr>
          <a:xfrm>
            <a:off x="6305400" y="200160"/>
            <a:ext cx="2386080" cy="1269720"/>
            <a:chOff x="6305400" y="200160"/>
            <a:chExt cx="2386080" cy="1269720"/>
          </a:xfrm>
        </p:grpSpPr>
        <p:sp>
          <p:nvSpPr>
            <p:cNvPr id="1018" name="思想气泡: 云 2"/>
            <p:cNvSpPr/>
            <p:nvPr/>
          </p:nvSpPr>
          <p:spPr>
            <a:xfrm>
              <a:off x="6305400" y="200160"/>
              <a:ext cx="2386080" cy="1269720"/>
            </a:xfrm>
            <a:prstGeom prst="cloudCallout">
              <a:avLst>
                <a:gd name="adj1" fmla="val -56824"/>
                <a:gd name="adj2" fmla="val 32064"/>
              </a:avLst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Text Box 6"/>
            <p:cNvSpPr/>
            <p:nvPr/>
          </p:nvSpPr>
          <p:spPr>
            <a:xfrm>
              <a:off x="6491160" y="386640"/>
              <a:ext cx="201420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我会阅读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0" name="文本框 8"/>
          <p:cNvSpPr/>
          <p:nvPr/>
        </p:nvSpPr>
        <p:spPr>
          <a:xfrm>
            <a:off x="896760" y="1695600"/>
            <a:ext cx="609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大象遇到了哪些朋友？都说了什么？请将朋友名字画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圈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说的话语画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横线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文本框 9"/>
          <p:cNvSpPr/>
          <p:nvPr/>
        </p:nvSpPr>
        <p:spPr>
          <a:xfrm>
            <a:off x="434880" y="200160"/>
            <a:ext cx="55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小声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读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-7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自然段，思考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文本框 8"/>
          <p:cNvSpPr/>
          <p:nvPr/>
        </p:nvSpPr>
        <p:spPr>
          <a:xfrm>
            <a:off x="255600" y="95400"/>
            <a:ext cx="822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小兔子说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咦，大象啊，你的耳朵怎么耷拉下来了？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大象说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生来就是这样啊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小兔子说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你看，我的耳朵是竖着的，你的耳朵一定是有病了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后来，大象又遇到了小羊。小羊也说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大象啊，你的耳朵怎么是耷拉着的呢？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小鹿、小马，还有小老鼠，见到了大象，都要说他的耳朵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椭圆 7"/>
          <p:cNvSpPr/>
          <p:nvPr/>
        </p:nvSpPr>
        <p:spPr>
          <a:xfrm>
            <a:off x="987480" y="95400"/>
            <a:ext cx="1209600" cy="539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椭圆 1"/>
          <p:cNvSpPr/>
          <p:nvPr/>
        </p:nvSpPr>
        <p:spPr>
          <a:xfrm>
            <a:off x="4629240" y="2530440"/>
            <a:ext cx="874800" cy="539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椭圆 2"/>
          <p:cNvSpPr/>
          <p:nvPr/>
        </p:nvSpPr>
        <p:spPr>
          <a:xfrm>
            <a:off x="4137120" y="3546360"/>
            <a:ext cx="1366920" cy="5400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椭圆 4"/>
          <p:cNvSpPr/>
          <p:nvPr/>
        </p:nvSpPr>
        <p:spPr>
          <a:xfrm>
            <a:off x="896760" y="3544920"/>
            <a:ext cx="874800" cy="539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椭圆 5"/>
          <p:cNvSpPr/>
          <p:nvPr/>
        </p:nvSpPr>
        <p:spPr>
          <a:xfrm>
            <a:off x="2128680" y="3484440"/>
            <a:ext cx="874800" cy="5400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组合 12"/>
          <p:cNvGrpSpPr/>
          <p:nvPr/>
        </p:nvGrpSpPr>
        <p:grpSpPr>
          <a:xfrm>
            <a:off x="1954080" y="693720"/>
            <a:ext cx="4975200" cy="1801800"/>
            <a:chOff x="1954080" y="693720"/>
            <a:chExt cx="4975200" cy="1801800"/>
          </a:xfrm>
        </p:grpSpPr>
        <p:sp>
          <p:nvSpPr>
            <p:cNvPr id="1029" name="思想气泡: 云 8"/>
            <p:cNvSpPr/>
            <p:nvPr/>
          </p:nvSpPr>
          <p:spPr>
            <a:xfrm>
              <a:off x="1954080" y="693720"/>
              <a:ext cx="4975200" cy="1801800"/>
            </a:xfrm>
            <a:prstGeom prst="cloudCallout">
              <a:avLst>
                <a:gd name="adj1" fmla="val -56824"/>
                <a:gd name="adj2" fmla="val 32064"/>
              </a:avLst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Text Box 6"/>
            <p:cNvSpPr/>
            <p:nvPr/>
          </p:nvSpPr>
          <p:spPr>
            <a:xfrm>
              <a:off x="2137680" y="908640"/>
              <a:ext cx="446472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咦，大象啊，你的耳朵怎么耷拉下来了？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1" name="图片 6" descr=""/>
          <p:cNvPicPr/>
          <p:nvPr/>
        </p:nvPicPr>
        <p:blipFill>
          <a:blip r:embed="rId2"/>
          <a:stretch/>
        </p:blipFill>
        <p:spPr>
          <a:xfrm>
            <a:off x="517680" y="905040"/>
            <a:ext cx="1114200" cy="202716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16" descr=""/>
          <p:cNvPicPr/>
          <p:nvPr/>
        </p:nvPicPr>
        <p:blipFill>
          <a:blip r:embed="rId3"/>
          <a:stretch/>
        </p:blipFill>
        <p:spPr>
          <a:xfrm>
            <a:off x="6562800" y="3067200"/>
            <a:ext cx="2421000" cy="1533240"/>
          </a:xfrm>
          <a:prstGeom prst="rect">
            <a:avLst/>
          </a:prstGeom>
          <a:ln w="0">
            <a:noFill/>
          </a:ln>
        </p:spPr>
      </p:pic>
      <p:grpSp>
        <p:nvGrpSpPr>
          <p:cNvPr id="1033" name="组合 19"/>
          <p:cNvGrpSpPr/>
          <p:nvPr/>
        </p:nvGrpSpPr>
        <p:grpSpPr>
          <a:xfrm>
            <a:off x="2232000" y="2881440"/>
            <a:ext cx="4618080" cy="1353960"/>
            <a:chOff x="2232000" y="2881440"/>
            <a:chExt cx="4618080" cy="1353960"/>
          </a:xfrm>
        </p:grpSpPr>
        <p:sp>
          <p:nvSpPr>
            <p:cNvPr id="1034" name="思想气泡: 云 17"/>
            <p:cNvSpPr/>
            <p:nvPr/>
          </p:nvSpPr>
          <p:spPr>
            <a:xfrm>
              <a:off x="2232000" y="2881440"/>
              <a:ext cx="4521240" cy="1353960"/>
            </a:xfrm>
            <a:prstGeom prst="cloudCallout">
              <a:avLst>
                <a:gd name="adj1" fmla="val 59532"/>
                <a:gd name="adj2" fmla="val 28740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Text Box 6"/>
            <p:cNvSpPr/>
            <p:nvPr/>
          </p:nvSpPr>
          <p:spPr>
            <a:xfrm>
              <a:off x="2785680" y="3173400"/>
              <a:ext cx="406440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我生来就是这样啊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6" name="文本框 1"/>
          <p:cNvSpPr/>
          <p:nvPr/>
        </p:nvSpPr>
        <p:spPr>
          <a:xfrm>
            <a:off x="3244680" y="3297240"/>
            <a:ext cx="12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生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组合 1"/>
          <p:cNvGrpSpPr/>
          <p:nvPr/>
        </p:nvGrpSpPr>
        <p:grpSpPr>
          <a:xfrm>
            <a:off x="2152800" y="843120"/>
            <a:ext cx="6019560" cy="2903400"/>
            <a:chOff x="2152800" y="843120"/>
            <a:chExt cx="6019560" cy="2903400"/>
          </a:xfrm>
        </p:grpSpPr>
        <p:sp>
          <p:nvSpPr>
            <p:cNvPr id="1038" name="思想气泡: 云 2"/>
            <p:cNvSpPr/>
            <p:nvPr/>
          </p:nvSpPr>
          <p:spPr>
            <a:xfrm>
              <a:off x="2152800" y="843120"/>
              <a:ext cx="6019560" cy="2903400"/>
            </a:xfrm>
            <a:prstGeom prst="cloudCallout">
              <a:avLst>
                <a:gd name="adj1" fmla="val -56824"/>
                <a:gd name="adj2" fmla="val 32064"/>
              </a:avLst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Text Box 6"/>
            <p:cNvSpPr/>
            <p:nvPr/>
          </p:nvSpPr>
          <p:spPr>
            <a:xfrm>
              <a:off x="2484000" y="1530000"/>
              <a:ext cx="554436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你看，我的耳朵是竖着的，你的耳朵一定是有病了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40" name="图片 4" descr=""/>
          <p:cNvPicPr/>
          <p:nvPr/>
        </p:nvPicPr>
        <p:blipFill>
          <a:blip r:embed="rId2"/>
          <a:stretch/>
        </p:blipFill>
        <p:spPr>
          <a:xfrm>
            <a:off x="638280" y="1995480"/>
            <a:ext cx="1349280" cy="2452680"/>
          </a:xfrm>
          <a:prstGeom prst="rect">
            <a:avLst/>
          </a:prstGeom>
          <a:ln w="0">
            <a:noFill/>
          </a:ln>
        </p:spPr>
      </p:pic>
      <p:sp>
        <p:nvSpPr>
          <p:cNvPr id="1041" name="椭圆 5"/>
          <p:cNvSpPr/>
          <p:nvPr/>
        </p:nvSpPr>
        <p:spPr>
          <a:xfrm>
            <a:off x="5400720" y="2185920"/>
            <a:ext cx="961920" cy="6541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文本框 3"/>
          <p:cNvSpPr/>
          <p:nvPr/>
        </p:nvSpPr>
        <p:spPr>
          <a:xfrm>
            <a:off x="2949480" y="174780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组合 4"/>
          <p:cNvGrpSpPr/>
          <p:nvPr/>
        </p:nvGrpSpPr>
        <p:grpSpPr>
          <a:xfrm>
            <a:off x="2916360" y="484200"/>
            <a:ext cx="5040360" cy="2290680"/>
            <a:chOff x="2916360" y="484200"/>
            <a:chExt cx="5040360" cy="2290680"/>
          </a:xfrm>
        </p:grpSpPr>
        <p:sp>
          <p:nvSpPr>
            <p:cNvPr id="1044" name="思想气泡: 云 2"/>
            <p:cNvSpPr/>
            <p:nvPr/>
          </p:nvSpPr>
          <p:spPr>
            <a:xfrm>
              <a:off x="2916360" y="484200"/>
              <a:ext cx="5040360" cy="2290680"/>
            </a:xfrm>
            <a:prstGeom prst="cloudCallout">
              <a:avLst>
                <a:gd name="adj1" fmla="val -60069"/>
                <a:gd name="adj2" fmla="val 21041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Text Box 6"/>
            <p:cNvSpPr/>
            <p:nvPr/>
          </p:nvSpPr>
          <p:spPr>
            <a:xfrm>
              <a:off x="3096360" y="873360"/>
              <a:ext cx="453636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大象啊，你的耳朵怎么是耷拉着的呢？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46" name="图片 1" descr=""/>
          <p:cNvPicPr/>
          <p:nvPr/>
        </p:nvPicPr>
        <p:blipFill>
          <a:blip r:embed="rId2"/>
          <a:stretch/>
        </p:blipFill>
        <p:spPr>
          <a:xfrm>
            <a:off x="1227240" y="1238400"/>
            <a:ext cx="1689120" cy="2016000"/>
          </a:xfrm>
          <a:prstGeom prst="rect">
            <a:avLst/>
          </a:prstGeom>
          <a:ln w="0">
            <a:noFill/>
          </a:ln>
        </p:spPr>
      </p:pic>
      <p:sp>
        <p:nvSpPr>
          <p:cNvPr id="1047" name="Text Box 6"/>
          <p:cNvSpPr/>
          <p:nvPr/>
        </p:nvSpPr>
        <p:spPr>
          <a:xfrm>
            <a:off x="1271520" y="3321000"/>
            <a:ext cx="6605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小鹿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小马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，还有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小老鼠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，见到了大象，都要说他的耳朵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直接连接符 96257"/>
          <p:cNvSpPr/>
          <p:nvPr/>
        </p:nvSpPr>
        <p:spPr>
          <a:xfrm flipV="1">
            <a:off x="1752480" y="4400280"/>
            <a:ext cx="0" cy="39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直接连接符 96258"/>
          <p:cNvSpPr/>
          <p:nvPr/>
        </p:nvSpPr>
        <p:spPr>
          <a:xfrm>
            <a:off x="1752480" y="44006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直接连接符 96259"/>
          <p:cNvSpPr/>
          <p:nvPr/>
        </p:nvSpPr>
        <p:spPr>
          <a:xfrm flipV="1">
            <a:off x="2666880" y="4000320"/>
            <a:ext cx="0" cy="39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直接连接符 96260"/>
          <p:cNvSpPr/>
          <p:nvPr/>
        </p:nvSpPr>
        <p:spPr>
          <a:xfrm flipV="1">
            <a:off x="3733920" y="3600360"/>
            <a:ext cx="0" cy="40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直接连接符 96261"/>
          <p:cNvSpPr/>
          <p:nvPr/>
        </p:nvSpPr>
        <p:spPr>
          <a:xfrm flipV="1">
            <a:off x="4724280" y="3200040"/>
            <a:ext cx="0" cy="39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直接连接符 96262"/>
          <p:cNvSpPr/>
          <p:nvPr/>
        </p:nvSpPr>
        <p:spPr>
          <a:xfrm flipV="1">
            <a:off x="5791320" y="2800080"/>
            <a:ext cx="0" cy="39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直接连接符 96263"/>
          <p:cNvSpPr/>
          <p:nvPr/>
        </p:nvSpPr>
        <p:spPr>
          <a:xfrm>
            <a:off x="2666880" y="400068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96264"/>
          <p:cNvSpPr/>
          <p:nvPr/>
        </p:nvSpPr>
        <p:spPr>
          <a:xfrm>
            <a:off x="3733920" y="360036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直接连接符 96265"/>
          <p:cNvSpPr/>
          <p:nvPr/>
        </p:nvSpPr>
        <p:spPr>
          <a:xfrm>
            <a:off x="4724280" y="320040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直接连接符 96266"/>
          <p:cNvSpPr/>
          <p:nvPr/>
        </p:nvSpPr>
        <p:spPr>
          <a:xfrm>
            <a:off x="5791320" y="2800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直接连接符 96267"/>
          <p:cNvSpPr/>
          <p:nvPr/>
        </p:nvSpPr>
        <p:spPr>
          <a:xfrm flipV="1">
            <a:off x="6705720" y="2400120"/>
            <a:ext cx="0" cy="39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直接连接符 96268"/>
          <p:cNvSpPr/>
          <p:nvPr/>
        </p:nvSpPr>
        <p:spPr>
          <a:xfrm>
            <a:off x="6705720" y="24004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直角三角形 96269"/>
          <p:cNvSpPr/>
          <p:nvPr/>
        </p:nvSpPr>
        <p:spPr>
          <a:xfrm>
            <a:off x="8534520" y="1371600"/>
            <a:ext cx="457200" cy="343080"/>
          </a:xfrm>
          <a:prstGeom prst="rtTriangl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直接连接符 96270"/>
          <p:cNvSpPr/>
          <p:nvPr/>
        </p:nvSpPr>
        <p:spPr>
          <a:xfrm flipV="1">
            <a:off x="7620120" y="2000160"/>
            <a:ext cx="0" cy="40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直接连接符 96271"/>
          <p:cNvSpPr/>
          <p:nvPr/>
        </p:nvSpPr>
        <p:spPr>
          <a:xfrm>
            <a:off x="7620120" y="200016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直接连接符 96272"/>
          <p:cNvSpPr/>
          <p:nvPr/>
        </p:nvSpPr>
        <p:spPr>
          <a:xfrm flipV="1">
            <a:off x="8534520" y="137160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96273"/>
          <p:cNvSpPr/>
          <p:nvPr/>
        </p:nvSpPr>
        <p:spPr>
          <a:xfrm>
            <a:off x="1763640" y="386856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96276"/>
          <p:cNvSpPr/>
          <p:nvPr/>
        </p:nvSpPr>
        <p:spPr>
          <a:xfrm>
            <a:off x="4859280" y="2427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文本框 96277"/>
          <p:cNvSpPr/>
          <p:nvPr/>
        </p:nvSpPr>
        <p:spPr>
          <a:xfrm>
            <a:off x="5848200" y="20667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文本框 96278"/>
          <p:cNvSpPr/>
          <p:nvPr/>
        </p:nvSpPr>
        <p:spPr>
          <a:xfrm>
            <a:off x="7677000" y="1276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竞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文本框 96279"/>
          <p:cNvSpPr/>
          <p:nvPr/>
        </p:nvSpPr>
        <p:spPr>
          <a:xfrm>
            <a:off x="6762600" y="1635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文本框 1" descr=""/>
          <p:cNvPicPr/>
          <p:nvPr/>
        </p:nvPicPr>
        <p:blipFill>
          <a:blip r:embed="rId2"/>
          <a:stretch/>
        </p:blipFill>
        <p:spPr>
          <a:xfrm>
            <a:off x="3181320" y="425520"/>
            <a:ext cx="3732120" cy="1082520"/>
          </a:xfrm>
          <a:prstGeom prst="rect">
            <a:avLst/>
          </a:prstGeom>
          <a:ln w="0">
            <a:noFill/>
          </a:ln>
        </p:spPr>
      </p:pic>
      <p:sp>
        <p:nvSpPr>
          <p:cNvPr id="714" name="文本框 96276"/>
          <p:cNvSpPr/>
          <p:nvPr/>
        </p:nvSpPr>
        <p:spPr>
          <a:xfrm>
            <a:off x="3887640" y="29178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"/>
          <p:cNvSpPr/>
          <p:nvPr/>
        </p:nvSpPr>
        <p:spPr>
          <a:xfrm>
            <a:off x="2556000" y="32194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Group 4"/>
          <p:cNvGrpSpPr/>
          <p:nvPr/>
        </p:nvGrpSpPr>
        <p:grpSpPr>
          <a:xfrm>
            <a:off x="293760" y="1703520"/>
            <a:ext cx="1607760" cy="1569960"/>
            <a:chOff x="293760" y="1703520"/>
            <a:chExt cx="1607760" cy="1569960"/>
          </a:xfrm>
        </p:grpSpPr>
        <p:sp>
          <p:nvSpPr>
            <p:cNvPr id="1049" name="Freeform 5"/>
            <p:cNvSpPr/>
            <p:nvPr/>
          </p:nvSpPr>
          <p:spPr>
            <a:xfrm>
              <a:off x="1272960" y="3141000"/>
              <a:ext cx="299160" cy="132480"/>
            </a:xfrm>
            <a:custGeom>
              <a:avLst/>
              <a:gdLst/>
              <a:ahLst/>
              <a:rect l="l" t="t" r="r" b="b"/>
              <a:pathLst>
                <a:path w="279" h="124">
                  <a:moveTo>
                    <a:pt x="3" y="0"/>
                  </a:moveTo>
                  <a:cubicBezTo>
                    <a:pt x="3" y="16"/>
                    <a:pt x="0" y="64"/>
                    <a:pt x="1" y="83"/>
                  </a:cubicBezTo>
                  <a:cubicBezTo>
                    <a:pt x="3" y="117"/>
                    <a:pt x="43" y="115"/>
                    <a:pt x="143" y="120"/>
                  </a:cubicBezTo>
                  <a:cubicBezTo>
                    <a:pt x="243" y="124"/>
                    <a:pt x="279" y="112"/>
                    <a:pt x="279" y="90"/>
                  </a:cubicBezTo>
                  <a:cubicBezTo>
                    <a:pt x="279" y="75"/>
                    <a:pt x="279" y="17"/>
                    <a:pt x="279" y="17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6"/>
            <p:cNvSpPr/>
            <p:nvPr/>
          </p:nvSpPr>
          <p:spPr>
            <a:xfrm>
              <a:off x="1275480" y="3222360"/>
              <a:ext cx="296280" cy="50760"/>
            </a:xfrm>
            <a:custGeom>
              <a:avLst/>
              <a:gdLst/>
              <a:ahLst/>
              <a:rect l="l" t="t" r="r" b="b"/>
              <a:pathLst>
                <a:path w="277" h="48">
                  <a:moveTo>
                    <a:pt x="141" y="44"/>
                  </a:moveTo>
                  <a:cubicBezTo>
                    <a:pt x="239" y="48"/>
                    <a:pt x="276" y="37"/>
                    <a:pt x="277" y="16"/>
                  </a:cubicBezTo>
                  <a:cubicBezTo>
                    <a:pt x="270" y="9"/>
                    <a:pt x="260" y="4"/>
                    <a:pt x="249" y="4"/>
                  </a:cubicBezTo>
                  <a:cubicBezTo>
                    <a:pt x="231" y="4"/>
                    <a:pt x="216" y="15"/>
                    <a:pt x="211" y="29"/>
                  </a:cubicBezTo>
                  <a:cubicBezTo>
                    <a:pt x="204" y="17"/>
                    <a:pt x="191" y="9"/>
                    <a:pt x="175" y="9"/>
                  </a:cubicBezTo>
                  <a:cubicBezTo>
                    <a:pt x="160" y="9"/>
                    <a:pt x="146" y="18"/>
                    <a:pt x="140" y="30"/>
                  </a:cubicBezTo>
                  <a:cubicBezTo>
                    <a:pt x="133" y="17"/>
                    <a:pt x="119" y="8"/>
                    <a:pt x="103" y="8"/>
                  </a:cubicBezTo>
                  <a:cubicBezTo>
                    <a:pt x="88" y="8"/>
                    <a:pt x="75" y="15"/>
                    <a:pt x="68" y="26"/>
                  </a:cubicBezTo>
                  <a:cubicBezTo>
                    <a:pt x="63" y="11"/>
                    <a:pt x="48" y="0"/>
                    <a:pt x="29" y="0"/>
                  </a:cubicBezTo>
                  <a:cubicBezTo>
                    <a:pt x="18" y="0"/>
                    <a:pt x="7" y="4"/>
                    <a:pt x="0" y="12"/>
                  </a:cubicBezTo>
                  <a:cubicBezTo>
                    <a:pt x="5" y="41"/>
                    <a:pt x="46" y="39"/>
                    <a:pt x="141" y="4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Freeform 7"/>
            <p:cNvSpPr/>
            <p:nvPr/>
          </p:nvSpPr>
          <p:spPr>
            <a:xfrm>
              <a:off x="745560" y="3141000"/>
              <a:ext cx="297720" cy="132480"/>
            </a:xfrm>
            <a:custGeom>
              <a:avLst/>
              <a:gdLst/>
              <a:ahLst/>
              <a:rect l="l" t="t" r="r" b="b"/>
              <a:pathLst>
                <a:path w="279" h="124">
                  <a:moveTo>
                    <a:pt x="3" y="0"/>
                  </a:moveTo>
                  <a:cubicBezTo>
                    <a:pt x="3" y="16"/>
                    <a:pt x="0" y="64"/>
                    <a:pt x="1" y="83"/>
                  </a:cubicBezTo>
                  <a:cubicBezTo>
                    <a:pt x="3" y="117"/>
                    <a:pt x="43" y="115"/>
                    <a:pt x="143" y="120"/>
                  </a:cubicBezTo>
                  <a:cubicBezTo>
                    <a:pt x="243" y="124"/>
                    <a:pt x="279" y="112"/>
                    <a:pt x="279" y="90"/>
                  </a:cubicBezTo>
                  <a:cubicBezTo>
                    <a:pt x="279" y="75"/>
                    <a:pt x="279" y="17"/>
                    <a:pt x="279" y="17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Freeform 8"/>
            <p:cNvSpPr/>
            <p:nvPr/>
          </p:nvSpPr>
          <p:spPr>
            <a:xfrm>
              <a:off x="471600" y="2631600"/>
              <a:ext cx="272520" cy="281160"/>
            </a:xfrm>
            <a:custGeom>
              <a:avLst/>
              <a:gdLst/>
              <a:ahLst/>
              <a:rect l="l" t="t" r="r" b="b"/>
              <a:pathLst>
                <a:path w="254" h="262">
                  <a:moveTo>
                    <a:pt x="180" y="0"/>
                  </a:moveTo>
                  <a:cubicBezTo>
                    <a:pt x="180" y="0"/>
                    <a:pt x="71" y="62"/>
                    <a:pt x="54" y="71"/>
                  </a:cubicBezTo>
                  <a:cubicBezTo>
                    <a:pt x="0" y="99"/>
                    <a:pt x="71" y="262"/>
                    <a:pt x="133" y="235"/>
                  </a:cubicBezTo>
                  <a:cubicBezTo>
                    <a:pt x="254" y="172"/>
                    <a:pt x="254" y="172"/>
                    <a:pt x="254" y="172"/>
                  </a:cubicBezTo>
                  <a:lnTo>
                    <a:pt x="180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9"/>
            <p:cNvSpPr/>
            <p:nvPr/>
          </p:nvSpPr>
          <p:spPr>
            <a:xfrm>
              <a:off x="501120" y="2712960"/>
              <a:ext cx="114480" cy="179280"/>
            </a:xfrm>
            <a:custGeom>
              <a:avLst/>
              <a:gdLst/>
              <a:ahLst/>
              <a:rect l="l" t="t" r="r" b="b"/>
              <a:pathLst>
                <a:path w="107" h="167">
                  <a:moveTo>
                    <a:pt x="73" y="123"/>
                  </a:moveTo>
                  <a:cubicBezTo>
                    <a:pt x="77" y="116"/>
                    <a:pt x="77" y="108"/>
                    <a:pt x="74" y="101"/>
                  </a:cubicBezTo>
                  <a:cubicBezTo>
                    <a:pt x="70" y="91"/>
                    <a:pt x="60" y="86"/>
                    <a:pt x="49" y="88"/>
                  </a:cubicBezTo>
                  <a:cubicBezTo>
                    <a:pt x="55" y="79"/>
                    <a:pt x="57" y="68"/>
                    <a:pt x="52" y="59"/>
                  </a:cubicBezTo>
                  <a:cubicBezTo>
                    <a:pt x="48" y="50"/>
                    <a:pt x="40" y="46"/>
                    <a:pt x="31" y="46"/>
                  </a:cubicBezTo>
                  <a:cubicBezTo>
                    <a:pt x="38" y="39"/>
                    <a:pt x="42" y="29"/>
                    <a:pt x="40" y="19"/>
                  </a:cubicBezTo>
                  <a:cubicBezTo>
                    <a:pt x="38" y="9"/>
                    <a:pt x="30" y="2"/>
                    <a:pt x="21" y="0"/>
                  </a:cubicBezTo>
                  <a:cubicBezTo>
                    <a:pt x="0" y="18"/>
                    <a:pt x="7" y="63"/>
                    <a:pt x="25" y="101"/>
                  </a:cubicBezTo>
                  <a:cubicBezTo>
                    <a:pt x="25" y="101"/>
                    <a:pt x="25" y="101"/>
                    <a:pt x="25" y="101"/>
                  </a:cubicBezTo>
                  <a:cubicBezTo>
                    <a:pt x="25" y="101"/>
                    <a:pt x="25" y="101"/>
                    <a:pt x="25" y="102"/>
                  </a:cubicBezTo>
                  <a:cubicBezTo>
                    <a:pt x="43" y="138"/>
                    <a:pt x="72" y="167"/>
                    <a:pt x="100" y="161"/>
                  </a:cubicBezTo>
                  <a:cubicBezTo>
                    <a:pt x="105" y="153"/>
                    <a:pt x="107" y="144"/>
                    <a:pt x="103" y="135"/>
                  </a:cubicBezTo>
                  <a:cubicBezTo>
                    <a:pt x="98" y="124"/>
                    <a:pt x="86" y="120"/>
                    <a:pt x="73" y="123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10"/>
            <p:cNvSpPr/>
            <p:nvPr/>
          </p:nvSpPr>
          <p:spPr>
            <a:xfrm>
              <a:off x="646200" y="2576880"/>
              <a:ext cx="138600" cy="255600"/>
            </a:xfrm>
            <a:custGeom>
              <a:avLst/>
              <a:gdLst/>
              <a:ahLst/>
              <a:rect l="l" t="t" r="r" b="b"/>
              <a:pathLst>
                <a:path w="130" h="240">
                  <a:moveTo>
                    <a:pt x="114" y="0"/>
                  </a:moveTo>
                  <a:cubicBezTo>
                    <a:pt x="114" y="0"/>
                    <a:pt x="25" y="45"/>
                    <a:pt x="13" y="53"/>
                  </a:cubicBezTo>
                  <a:cubicBezTo>
                    <a:pt x="0" y="61"/>
                    <a:pt x="67" y="221"/>
                    <a:pt x="87" y="240"/>
                  </a:cubicBezTo>
                  <a:cubicBezTo>
                    <a:pt x="130" y="229"/>
                    <a:pt x="130" y="229"/>
                    <a:pt x="130" y="229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11"/>
            <p:cNvSpPr/>
            <p:nvPr/>
          </p:nvSpPr>
          <p:spPr>
            <a:xfrm>
              <a:off x="1553040" y="2575440"/>
              <a:ext cx="237960" cy="234000"/>
            </a:xfrm>
            <a:custGeom>
              <a:avLst/>
              <a:gdLst/>
              <a:ahLst/>
              <a:rect l="l" t="t" r="r" b="b"/>
              <a:pathLst>
                <a:path w="222" h="219">
                  <a:moveTo>
                    <a:pt x="21" y="0"/>
                  </a:moveTo>
                  <a:cubicBezTo>
                    <a:pt x="21" y="0"/>
                    <a:pt x="144" y="28"/>
                    <a:pt x="162" y="32"/>
                  </a:cubicBezTo>
                  <a:cubicBezTo>
                    <a:pt x="222" y="43"/>
                    <a:pt x="200" y="219"/>
                    <a:pt x="133" y="212"/>
                  </a:cubicBezTo>
                  <a:cubicBezTo>
                    <a:pt x="0" y="186"/>
                    <a:pt x="0" y="186"/>
                    <a:pt x="0" y="186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12"/>
            <p:cNvSpPr/>
            <p:nvPr/>
          </p:nvSpPr>
          <p:spPr>
            <a:xfrm>
              <a:off x="1692000" y="2611440"/>
              <a:ext cx="75960" cy="190800"/>
            </a:xfrm>
            <a:custGeom>
              <a:avLst/>
              <a:gdLst/>
              <a:ahLst/>
              <a:rect l="l" t="t" r="r" b="b"/>
              <a:pathLst>
                <a:path w="72" h="178">
                  <a:moveTo>
                    <a:pt x="25" y="133"/>
                  </a:moveTo>
                  <a:cubicBezTo>
                    <a:pt x="20" y="127"/>
                    <a:pt x="18" y="120"/>
                    <a:pt x="18" y="113"/>
                  </a:cubicBezTo>
                  <a:cubicBezTo>
                    <a:pt x="20" y="102"/>
                    <a:pt x="28" y="94"/>
                    <a:pt x="39" y="93"/>
                  </a:cubicBezTo>
                  <a:cubicBezTo>
                    <a:pt x="31" y="86"/>
                    <a:pt x="26" y="76"/>
                    <a:pt x="27" y="66"/>
                  </a:cubicBezTo>
                  <a:cubicBezTo>
                    <a:pt x="29" y="57"/>
                    <a:pt x="36" y="50"/>
                    <a:pt x="44" y="47"/>
                  </a:cubicBezTo>
                  <a:cubicBezTo>
                    <a:pt x="35" y="43"/>
                    <a:pt x="29" y="35"/>
                    <a:pt x="28" y="25"/>
                  </a:cubicBezTo>
                  <a:cubicBezTo>
                    <a:pt x="27" y="15"/>
                    <a:pt x="32" y="5"/>
                    <a:pt x="41" y="0"/>
                  </a:cubicBezTo>
                  <a:cubicBezTo>
                    <a:pt x="65" y="12"/>
                    <a:pt x="72" y="57"/>
                    <a:pt x="66" y="99"/>
                  </a:cubicBezTo>
                  <a:cubicBezTo>
                    <a:pt x="65" y="99"/>
                    <a:pt x="65" y="99"/>
                    <a:pt x="65" y="99"/>
                  </a:cubicBezTo>
                  <a:cubicBezTo>
                    <a:pt x="65" y="99"/>
                    <a:pt x="65" y="99"/>
                    <a:pt x="66" y="99"/>
                  </a:cubicBezTo>
                  <a:cubicBezTo>
                    <a:pt x="59" y="139"/>
                    <a:pt x="40" y="175"/>
                    <a:pt x="11" y="178"/>
                  </a:cubicBezTo>
                  <a:cubicBezTo>
                    <a:pt x="4" y="172"/>
                    <a:pt x="0" y="163"/>
                    <a:pt x="1" y="154"/>
                  </a:cubicBezTo>
                  <a:cubicBezTo>
                    <a:pt x="2" y="142"/>
                    <a:pt x="13" y="134"/>
                    <a:pt x="25" y="133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13"/>
            <p:cNvSpPr/>
            <p:nvPr/>
          </p:nvSpPr>
          <p:spPr>
            <a:xfrm>
              <a:off x="1459800" y="2550240"/>
              <a:ext cx="136080" cy="241920"/>
            </a:xfrm>
            <a:custGeom>
              <a:avLst/>
              <a:gdLst/>
              <a:ahLst/>
              <a:rect l="l" t="t" r="r" b="b"/>
              <a:pathLst>
                <a:path w="127" h="225">
                  <a:moveTo>
                    <a:pt x="0" y="0"/>
                  </a:moveTo>
                  <a:cubicBezTo>
                    <a:pt x="0" y="0"/>
                    <a:pt x="98" y="18"/>
                    <a:pt x="113" y="22"/>
                  </a:cubicBezTo>
                  <a:cubicBezTo>
                    <a:pt x="127" y="27"/>
                    <a:pt x="108" y="199"/>
                    <a:pt x="96" y="223"/>
                  </a:cubicBezTo>
                  <a:cubicBezTo>
                    <a:pt x="51" y="225"/>
                    <a:pt x="51" y="225"/>
                    <a:pt x="51" y="22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14"/>
            <p:cNvSpPr/>
            <p:nvPr/>
          </p:nvSpPr>
          <p:spPr>
            <a:xfrm>
              <a:off x="745560" y="2482560"/>
              <a:ext cx="784440" cy="477360"/>
            </a:xfrm>
            <a:custGeom>
              <a:avLst/>
              <a:gdLst/>
              <a:ahLst/>
              <a:rect l="l" t="t" r="r" b="b"/>
              <a:pathLst>
                <a:path w="733" h="446">
                  <a:moveTo>
                    <a:pt x="22" y="88"/>
                  </a:moveTo>
                  <a:cubicBezTo>
                    <a:pt x="22" y="88"/>
                    <a:pt x="0" y="328"/>
                    <a:pt x="10" y="387"/>
                  </a:cubicBezTo>
                  <a:cubicBezTo>
                    <a:pt x="10" y="387"/>
                    <a:pt x="544" y="446"/>
                    <a:pt x="733" y="365"/>
                  </a:cubicBezTo>
                  <a:cubicBezTo>
                    <a:pt x="733" y="365"/>
                    <a:pt x="705" y="120"/>
                    <a:pt x="679" y="60"/>
                  </a:cubicBezTo>
                  <a:cubicBezTo>
                    <a:pt x="653" y="0"/>
                    <a:pt x="22" y="88"/>
                    <a:pt x="22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15"/>
            <p:cNvSpPr/>
            <p:nvPr/>
          </p:nvSpPr>
          <p:spPr>
            <a:xfrm>
              <a:off x="753480" y="2766600"/>
              <a:ext cx="766080" cy="65880"/>
            </a:xfrm>
            <a:custGeom>
              <a:avLst/>
              <a:gdLst/>
              <a:ahLst/>
              <a:rect l="l" t="t" r="r" b="b"/>
              <a:pathLst>
                <a:path w="716" h="61">
                  <a:moveTo>
                    <a:pt x="0" y="20"/>
                  </a:moveTo>
                  <a:cubicBezTo>
                    <a:pt x="0" y="29"/>
                    <a:pt x="0" y="39"/>
                    <a:pt x="0" y="47"/>
                  </a:cubicBezTo>
                  <a:cubicBezTo>
                    <a:pt x="36" y="51"/>
                    <a:pt x="150" y="61"/>
                    <a:pt x="295" y="61"/>
                  </a:cubicBezTo>
                  <a:cubicBezTo>
                    <a:pt x="421" y="61"/>
                    <a:pt x="572" y="53"/>
                    <a:pt x="716" y="27"/>
                  </a:cubicBezTo>
                  <a:cubicBezTo>
                    <a:pt x="715" y="19"/>
                    <a:pt x="713" y="10"/>
                    <a:pt x="712" y="0"/>
                  </a:cubicBezTo>
                  <a:cubicBezTo>
                    <a:pt x="403" y="56"/>
                    <a:pt x="63" y="26"/>
                    <a:pt x="0" y="20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16"/>
            <p:cNvSpPr/>
            <p:nvPr/>
          </p:nvSpPr>
          <p:spPr>
            <a:xfrm>
              <a:off x="756000" y="2707920"/>
              <a:ext cx="756000" cy="64800"/>
            </a:xfrm>
            <a:custGeom>
              <a:avLst/>
              <a:gdLst/>
              <a:ahLst/>
              <a:rect l="l" t="t" r="r" b="b"/>
              <a:pathLst>
                <a:path w="706" h="60">
                  <a:moveTo>
                    <a:pt x="1" y="19"/>
                  </a:moveTo>
                  <a:cubicBezTo>
                    <a:pt x="1" y="28"/>
                    <a:pt x="0" y="37"/>
                    <a:pt x="0" y="46"/>
                  </a:cubicBezTo>
                  <a:cubicBezTo>
                    <a:pt x="39" y="50"/>
                    <a:pt x="150" y="60"/>
                    <a:pt x="293" y="60"/>
                  </a:cubicBezTo>
                  <a:cubicBezTo>
                    <a:pt x="417" y="60"/>
                    <a:pt x="564" y="52"/>
                    <a:pt x="706" y="27"/>
                  </a:cubicBezTo>
                  <a:cubicBezTo>
                    <a:pt x="705" y="18"/>
                    <a:pt x="703" y="9"/>
                    <a:pt x="702" y="0"/>
                  </a:cubicBezTo>
                  <a:cubicBezTo>
                    <a:pt x="399" y="53"/>
                    <a:pt x="70" y="26"/>
                    <a:pt x="1" y="19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Freeform 17"/>
            <p:cNvSpPr/>
            <p:nvPr/>
          </p:nvSpPr>
          <p:spPr>
            <a:xfrm>
              <a:off x="758160" y="2649600"/>
              <a:ext cx="744840" cy="62280"/>
            </a:xfrm>
            <a:custGeom>
              <a:avLst/>
              <a:gdLst/>
              <a:ahLst/>
              <a:rect l="l" t="t" r="r" b="b"/>
              <a:pathLst>
                <a:path w="695" h="58">
                  <a:moveTo>
                    <a:pt x="695" y="27"/>
                  </a:moveTo>
                  <a:cubicBezTo>
                    <a:pt x="693" y="18"/>
                    <a:pt x="692" y="9"/>
                    <a:pt x="690" y="0"/>
                  </a:cubicBezTo>
                  <a:cubicBezTo>
                    <a:pt x="395" y="51"/>
                    <a:pt x="77" y="25"/>
                    <a:pt x="2" y="18"/>
                  </a:cubicBezTo>
                  <a:cubicBezTo>
                    <a:pt x="1" y="27"/>
                    <a:pt x="1" y="36"/>
                    <a:pt x="0" y="45"/>
                  </a:cubicBezTo>
                  <a:cubicBezTo>
                    <a:pt x="42" y="49"/>
                    <a:pt x="151" y="58"/>
                    <a:pt x="290" y="58"/>
                  </a:cubicBezTo>
                  <a:cubicBezTo>
                    <a:pt x="411" y="58"/>
                    <a:pt x="555" y="51"/>
                    <a:pt x="695" y="27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18"/>
            <p:cNvSpPr/>
            <p:nvPr/>
          </p:nvSpPr>
          <p:spPr>
            <a:xfrm>
              <a:off x="763560" y="2590920"/>
              <a:ext cx="728280" cy="61200"/>
            </a:xfrm>
            <a:custGeom>
              <a:avLst/>
              <a:gdLst/>
              <a:ahLst/>
              <a:rect l="l" t="t" r="r" b="b"/>
              <a:pathLst>
                <a:path w="681" h="56">
                  <a:moveTo>
                    <a:pt x="681" y="26"/>
                  </a:moveTo>
                  <a:cubicBezTo>
                    <a:pt x="679" y="17"/>
                    <a:pt x="677" y="8"/>
                    <a:pt x="675" y="0"/>
                  </a:cubicBezTo>
                  <a:cubicBezTo>
                    <a:pt x="388" y="47"/>
                    <a:pt x="84" y="23"/>
                    <a:pt x="2" y="16"/>
                  </a:cubicBezTo>
                  <a:cubicBezTo>
                    <a:pt x="2" y="24"/>
                    <a:pt x="1" y="33"/>
                    <a:pt x="0" y="43"/>
                  </a:cubicBezTo>
                  <a:cubicBezTo>
                    <a:pt x="44" y="47"/>
                    <a:pt x="152" y="56"/>
                    <a:pt x="286" y="56"/>
                  </a:cubicBezTo>
                  <a:cubicBezTo>
                    <a:pt x="405" y="56"/>
                    <a:pt x="545" y="49"/>
                    <a:pt x="681" y="26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19"/>
            <p:cNvSpPr/>
            <p:nvPr/>
          </p:nvSpPr>
          <p:spPr>
            <a:xfrm>
              <a:off x="745560" y="2482560"/>
              <a:ext cx="784440" cy="477360"/>
            </a:xfrm>
            <a:custGeom>
              <a:avLst/>
              <a:gdLst/>
              <a:ahLst/>
              <a:rect l="l" t="t" r="r" b="b"/>
              <a:pathLst>
                <a:path w="733" h="446">
                  <a:moveTo>
                    <a:pt x="22" y="88"/>
                  </a:moveTo>
                  <a:cubicBezTo>
                    <a:pt x="22" y="88"/>
                    <a:pt x="0" y="328"/>
                    <a:pt x="10" y="387"/>
                  </a:cubicBezTo>
                  <a:cubicBezTo>
                    <a:pt x="10" y="387"/>
                    <a:pt x="544" y="446"/>
                    <a:pt x="733" y="365"/>
                  </a:cubicBezTo>
                  <a:cubicBezTo>
                    <a:pt x="733" y="365"/>
                    <a:pt x="705" y="120"/>
                    <a:pt x="679" y="60"/>
                  </a:cubicBezTo>
                  <a:cubicBezTo>
                    <a:pt x="653" y="0"/>
                    <a:pt x="22" y="88"/>
                    <a:pt x="22" y="88"/>
                  </a:cubicBezTo>
                  <a:close/>
                </a:path>
              </a:pathLst>
            </a:custGeom>
            <a:noFill/>
            <a:ln cap="rnd" w="648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Freeform 20"/>
            <p:cNvSpPr/>
            <p:nvPr/>
          </p:nvSpPr>
          <p:spPr>
            <a:xfrm>
              <a:off x="722880" y="2556360"/>
              <a:ext cx="851760" cy="639000"/>
            </a:xfrm>
            <a:custGeom>
              <a:avLst/>
              <a:gdLst/>
              <a:ahLst/>
              <a:rect l="l" t="t" r="r" b="b"/>
              <a:pathLst>
                <a:path w="796" h="598">
                  <a:moveTo>
                    <a:pt x="754" y="248"/>
                  </a:moveTo>
                  <a:cubicBezTo>
                    <a:pt x="739" y="254"/>
                    <a:pt x="710" y="262"/>
                    <a:pt x="673" y="269"/>
                  </a:cubicBezTo>
                  <a:cubicBezTo>
                    <a:pt x="663" y="0"/>
                    <a:pt x="663" y="0"/>
                    <a:pt x="663" y="0"/>
                  </a:cubicBezTo>
                  <a:cubicBezTo>
                    <a:pt x="602" y="2"/>
                    <a:pt x="602" y="2"/>
                    <a:pt x="602" y="2"/>
                  </a:cubicBezTo>
                  <a:cubicBezTo>
                    <a:pt x="612" y="278"/>
                    <a:pt x="612" y="278"/>
                    <a:pt x="612" y="278"/>
                  </a:cubicBezTo>
                  <a:cubicBezTo>
                    <a:pt x="500" y="294"/>
                    <a:pt x="342" y="305"/>
                    <a:pt x="191" y="293"/>
                  </a:cubicBezTo>
                  <a:cubicBezTo>
                    <a:pt x="191" y="1"/>
                    <a:pt x="191" y="1"/>
                    <a:pt x="191" y="1"/>
                  </a:cubicBezTo>
                  <a:cubicBezTo>
                    <a:pt x="130" y="1"/>
                    <a:pt x="130" y="1"/>
                    <a:pt x="130" y="1"/>
                  </a:cubicBezTo>
                  <a:cubicBezTo>
                    <a:pt x="130" y="287"/>
                    <a:pt x="130" y="287"/>
                    <a:pt x="130" y="287"/>
                  </a:cubicBezTo>
                  <a:cubicBezTo>
                    <a:pt x="94" y="283"/>
                    <a:pt x="58" y="277"/>
                    <a:pt x="24" y="269"/>
                  </a:cubicBezTo>
                  <a:cubicBezTo>
                    <a:pt x="24" y="269"/>
                    <a:pt x="0" y="562"/>
                    <a:pt x="22" y="575"/>
                  </a:cubicBezTo>
                  <a:cubicBezTo>
                    <a:pt x="43" y="589"/>
                    <a:pt x="296" y="598"/>
                    <a:pt x="304" y="578"/>
                  </a:cubicBezTo>
                  <a:cubicBezTo>
                    <a:pt x="311" y="560"/>
                    <a:pt x="309" y="493"/>
                    <a:pt x="309" y="493"/>
                  </a:cubicBezTo>
                  <a:cubicBezTo>
                    <a:pt x="333" y="503"/>
                    <a:pt x="490" y="492"/>
                    <a:pt x="508" y="492"/>
                  </a:cubicBezTo>
                  <a:cubicBezTo>
                    <a:pt x="519" y="492"/>
                    <a:pt x="506" y="578"/>
                    <a:pt x="516" y="580"/>
                  </a:cubicBezTo>
                  <a:cubicBezTo>
                    <a:pt x="551" y="590"/>
                    <a:pt x="796" y="597"/>
                    <a:pt x="796" y="570"/>
                  </a:cubicBezTo>
                  <a:cubicBezTo>
                    <a:pt x="796" y="543"/>
                    <a:pt x="773" y="324"/>
                    <a:pt x="754" y="248"/>
                  </a:cubicBez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Freeform 21"/>
            <p:cNvSpPr/>
            <p:nvPr/>
          </p:nvSpPr>
          <p:spPr>
            <a:xfrm>
              <a:off x="1428120" y="1752840"/>
              <a:ext cx="473400" cy="823680"/>
            </a:xfrm>
            <a:custGeom>
              <a:avLst/>
              <a:gdLst/>
              <a:ahLst/>
              <a:rect l="l" t="t" r="r" b="b"/>
              <a:pathLst>
                <a:path w="442" h="769">
                  <a:moveTo>
                    <a:pt x="0" y="226"/>
                  </a:moveTo>
                  <a:cubicBezTo>
                    <a:pt x="86" y="171"/>
                    <a:pt x="388" y="0"/>
                    <a:pt x="418" y="422"/>
                  </a:cubicBezTo>
                  <a:cubicBezTo>
                    <a:pt x="442" y="769"/>
                    <a:pt x="199" y="746"/>
                    <a:pt x="64" y="704"/>
                  </a:cubicBezTo>
                  <a:lnTo>
                    <a:pt x="0" y="226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Freeform 22"/>
            <p:cNvSpPr/>
            <p:nvPr/>
          </p:nvSpPr>
          <p:spPr>
            <a:xfrm>
              <a:off x="1458720" y="1866600"/>
              <a:ext cx="362880" cy="637560"/>
            </a:xfrm>
            <a:custGeom>
              <a:avLst/>
              <a:gdLst/>
              <a:ahLst/>
              <a:rect l="l" t="t" r="r" b="b"/>
              <a:pathLst>
                <a:path w="340" h="596">
                  <a:moveTo>
                    <a:pt x="0" y="175"/>
                  </a:moveTo>
                  <a:cubicBezTo>
                    <a:pt x="66" y="132"/>
                    <a:pt x="298" y="0"/>
                    <a:pt x="321" y="327"/>
                  </a:cubicBezTo>
                  <a:cubicBezTo>
                    <a:pt x="340" y="596"/>
                    <a:pt x="153" y="579"/>
                    <a:pt x="49" y="546"/>
                  </a:cubicBezTo>
                  <a:lnTo>
                    <a:pt x="0" y="175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Freeform 23"/>
            <p:cNvSpPr/>
            <p:nvPr/>
          </p:nvSpPr>
          <p:spPr>
            <a:xfrm>
              <a:off x="293760" y="1703520"/>
              <a:ext cx="502920" cy="818640"/>
            </a:xfrm>
            <a:custGeom>
              <a:avLst/>
              <a:gdLst/>
              <a:ahLst/>
              <a:rect l="l" t="t" r="r" b="b"/>
              <a:pathLst>
                <a:path w="469" h="764">
                  <a:moveTo>
                    <a:pt x="469" y="246"/>
                  </a:moveTo>
                  <a:cubicBezTo>
                    <a:pt x="386" y="186"/>
                    <a:pt x="94" y="0"/>
                    <a:pt x="42" y="419"/>
                  </a:cubicBezTo>
                  <a:cubicBezTo>
                    <a:pt x="0" y="764"/>
                    <a:pt x="243" y="755"/>
                    <a:pt x="381" y="719"/>
                  </a:cubicBezTo>
                  <a:lnTo>
                    <a:pt x="469" y="246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Freeform 24"/>
            <p:cNvSpPr/>
            <p:nvPr/>
          </p:nvSpPr>
          <p:spPr>
            <a:xfrm>
              <a:off x="377640" y="1819440"/>
              <a:ext cx="385560" cy="636480"/>
            </a:xfrm>
            <a:custGeom>
              <a:avLst/>
              <a:gdLst/>
              <a:ahLst/>
              <a:rect l="l" t="t" r="r" b="b"/>
              <a:pathLst>
                <a:path w="360" h="594">
                  <a:moveTo>
                    <a:pt x="360" y="191"/>
                  </a:moveTo>
                  <a:cubicBezTo>
                    <a:pt x="296" y="145"/>
                    <a:pt x="72" y="0"/>
                    <a:pt x="32" y="326"/>
                  </a:cubicBezTo>
                  <a:cubicBezTo>
                    <a:pt x="0" y="594"/>
                    <a:pt x="187" y="586"/>
                    <a:pt x="292" y="558"/>
                  </a:cubicBezTo>
                  <a:lnTo>
                    <a:pt x="360" y="191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Freeform 25"/>
            <p:cNvSpPr/>
            <p:nvPr/>
          </p:nvSpPr>
          <p:spPr>
            <a:xfrm>
              <a:off x="569880" y="1898280"/>
              <a:ext cx="1047960" cy="822240"/>
            </a:xfrm>
            <a:custGeom>
              <a:avLst/>
              <a:gdLst/>
              <a:ahLst/>
              <a:rect l="l" t="t" r="r" b="b"/>
              <a:pathLst>
                <a:path w="979" h="768">
                  <a:moveTo>
                    <a:pt x="475" y="14"/>
                  </a:moveTo>
                  <a:cubicBezTo>
                    <a:pt x="673" y="28"/>
                    <a:pt x="979" y="0"/>
                    <a:pt x="948" y="389"/>
                  </a:cubicBezTo>
                  <a:cubicBezTo>
                    <a:pt x="919" y="768"/>
                    <a:pt x="688" y="667"/>
                    <a:pt x="477" y="649"/>
                  </a:cubicBezTo>
                  <a:cubicBezTo>
                    <a:pt x="265" y="631"/>
                    <a:pt x="0" y="693"/>
                    <a:pt x="48" y="351"/>
                  </a:cubicBezTo>
                  <a:cubicBezTo>
                    <a:pt x="88" y="61"/>
                    <a:pt x="207" y="10"/>
                    <a:pt x="475" y="14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Oval 26"/>
            <p:cNvSpPr/>
            <p:nvPr/>
          </p:nvSpPr>
          <p:spPr>
            <a:xfrm>
              <a:off x="1355760" y="2259720"/>
              <a:ext cx="141120" cy="14112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Freeform 27"/>
            <p:cNvSpPr/>
            <p:nvPr/>
          </p:nvSpPr>
          <p:spPr>
            <a:xfrm>
              <a:off x="1202760" y="2369520"/>
              <a:ext cx="150120" cy="118080"/>
            </a:xfrm>
            <a:custGeom>
              <a:avLst/>
              <a:gdLst/>
              <a:ahLst/>
              <a:rect l="l" t="t" r="r" b="b"/>
              <a:pathLst>
                <a:path w="140" h="110">
                  <a:moveTo>
                    <a:pt x="13" y="50"/>
                  </a:moveTo>
                  <a:cubicBezTo>
                    <a:pt x="21" y="47"/>
                    <a:pt x="88" y="69"/>
                    <a:pt x="140" y="0"/>
                  </a:cubicBezTo>
                  <a:cubicBezTo>
                    <a:pt x="137" y="22"/>
                    <a:pt x="103" y="110"/>
                    <a:pt x="0" y="96"/>
                  </a:cubicBezTo>
                  <a:lnTo>
                    <a:pt x="13" y="50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Freeform 28"/>
            <p:cNvSpPr/>
            <p:nvPr/>
          </p:nvSpPr>
          <p:spPr>
            <a:xfrm>
              <a:off x="683280" y="2184480"/>
              <a:ext cx="592200" cy="618480"/>
            </a:xfrm>
            <a:custGeom>
              <a:avLst/>
              <a:gdLst/>
              <a:ahLst/>
              <a:rect l="l" t="t" r="r" b="b"/>
              <a:pathLst>
                <a:path w="553" h="578">
                  <a:moveTo>
                    <a:pt x="293" y="198"/>
                  </a:moveTo>
                  <a:cubicBezTo>
                    <a:pt x="263" y="0"/>
                    <a:pt x="553" y="11"/>
                    <a:pt x="544" y="187"/>
                  </a:cubicBezTo>
                  <a:cubicBezTo>
                    <a:pt x="525" y="357"/>
                    <a:pt x="379" y="559"/>
                    <a:pt x="123" y="573"/>
                  </a:cubicBezTo>
                  <a:cubicBezTo>
                    <a:pt x="39" y="578"/>
                    <a:pt x="0" y="544"/>
                    <a:pt x="40" y="522"/>
                  </a:cubicBezTo>
                  <a:cubicBezTo>
                    <a:pt x="75" y="510"/>
                    <a:pt x="32" y="487"/>
                    <a:pt x="33" y="473"/>
                  </a:cubicBezTo>
                  <a:cubicBezTo>
                    <a:pt x="34" y="459"/>
                    <a:pt x="53" y="436"/>
                    <a:pt x="99" y="470"/>
                  </a:cubicBezTo>
                  <a:cubicBezTo>
                    <a:pt x="146" y="505"/>
                    <a:pt x="272" y="447"/>
                    <a:pt x="292" y="351"/>
                  </a:cubicBezTo>
                  <a:cubicBezTo>
                    <a:pt x="313" y="255"/>
                    <a:pt x="293" y="198"/>
                    <a:pt x="293" y="198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Freeform 29"/>
            <p:cNvSpPr/>
            <p:nvPr/>
          </p:nvSpPr>
          <p:spPr>
            <a:xfrm>
              <a:off x="847440" y="2168280"/>
              <a:ext cx="46800" cy="71280"/>
            </a:xfrm>
            <a:custGeom>
              <a:avLst/>
              <a:gdLst/>
              <a:ahLst/>
              <a:rect l="l" t="t" r="r" b="b"/>
              <a:pathLst>
                <a:path w="44" h="66">
                  <a:moveTo>
                    <a:pt x="43" y="34"/>
                  </a:moveTo>
                  <a:cubicBezTo>
                    <a:pt x="41" y="52"/>
                    <a:pt x="31" y="66"/>
                    <a:pt x="20" y="65"/>
                  </a:cubicBezTo>
                  <a:cubicBezTo>
                    <a:pt x="8" y="64"/>
                    <a:pt x="0" y="49"/>
                    <a:pt x="1" y="32"/>
                  </a:cubicBezTo>
                  <a:cubicBezTo>
                    <a:pt x="2" y="14"/>
                    <a:pt x="13" y="0"/>
                    <a:pt x="24" y="1"/>
                  </a:cubicBezTo>
                  <a:cubicBezTo>
                    <a:pt x="36" y="2"/>
                    <a:pt x="44" y="17"/>
                    <a:pt x="43" y="3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Freeform 30"/>
            <p:cNvSpPr/>
            <p:nvPr/>
          </p:nvSpPr>
          <p:spPr>
            <a:xfrm>
              <a:off x="856440" y="2184480"/>
              <a:ext cx="11520" cy="115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6"/>
                  </a:moveTo>
                  <a:cubicBezTo>
                    <a:pt x="11" y="9"/>
                    <a:pt x="8" y="11"/>
                    <a:pt x="5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9" y="0"/>
                    <a:pt x="11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reeform 31"/>
            <p:cNvSpPr/>
            <p:nvPr/>
          </p:nvSpPr>
          <p:spPr>
            <a:xfrm>
              <a:off x="1329840" y="2202480"/>
              <a:ext cx="47160" cy="69840"/>
            </a:xfrm>
            <a:custGeom>
              <a:avLst/>
              <a:gdLst/>
              <a:ahLst/>
              <a:rect l="l" t="t" r="r" b="b"/>
              <a:pathLst>
                <a:path w="44" h="65">
                  <a:moveTo>
                    <a:pt x="43" y="34"/>
                  </a:moveTo>
                  <a:cubicBezTo>
                    <a:pt x="42" y="51"/>
                    <a:pt x="31" y="65"/>
                    <a:pt x="20" y="64"/>
                  </a:cubicBezTo>
                  <a:cubicBezTo>
                    <a:pt x="9" y="63"/>
                    <a:pt x="0" y="48"/>
                    <a:pt x="2" y="31"/>
                  </a:cubicBezTo>
                  <a:cubicBezTo>
                    <a:pt x="3" y="13"/>
                    <a:pt x="13" y="0"/>
                    <a:pt x="24" y="0"/>
                  </a:cubicBezTo>
                  <a:cubicBezTo>
                    <a:pt x="36" y="1"/>
                    <a:pt x="44" y="16"/>
                    <a:pt x="43" y="3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Freeform 32"/>
            <p:cNvSpPr/>
            <p:nvPr/>
          </p:nvSpPr>
          <p:spPr>
            <a:xfrm>
              <a:off x="1338840" y="2217960"/>
              <a:ext cx="12600" cy="115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1" y="6"/>
                  </a:moveTo>
                  <a:cubicBezTo>
                    <a:pt x="11" y="9"/>
                    <a:pt x="8" y="11"/>
                    <a:pt x="5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1" y="2"/>
                    <a:pt x="3" y="0"/>
                    <a:pt x="6" y="0"/>
                  </a:cubicBezTo>
                  <a:cubicBezTo>
                    <a:pt x="9" y="0"/>
                    <a:pt x="12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Freeform 33"/>
            <p:cNvSpPr/>
            <p:nvPr/>
          </p:nvSpPr>
          <p:spPr>
            <a:xfrm>
              <a:off x="1329840" y="2360520"/>
              <a:ext cx="38160" cy="316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8" y="8"/>
                    <a:pt x="33" y="29"/>
                    <a:pt x="34" y="30"/>
                  </a:cubicBezTo>
                  <a:cubicBezTo>
                    <a:pt x="34" y="30"/>
                    <a:pt x="34" y="30"/>
                    <a:pt x="35" y="30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36" y="30"/>
                    <a:pt x="36" y="29"/>
                    <a:pt x="36" y="29"/>
                  </a:cubicBezTo>
                  <a:cubicBezTo>
                    <a:pt x="32" y="1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Oval 34"/>
            <p:cNvSpPr/>
            <p:nvPr/>
          </p:nvSpPr>
          <p:spPr>
            <a:xfrm>
              <a:off x="865440" y="2877120"/>
              <a:ext cx="52200" cy="53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Oval 35"/>
            <p:cNvSpPr/>
            <p:nvPr/>
          </p:nvSpPr>
          <p:spPr>
            <a:xfrm>
              <a:off x="1387440" y="2859480"/>
              <a:ext cx="53280" cy="5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Freeform 36"/>
            <p:cNvSpPr/>
            <p:nvPr/>
          </p:nvSpPr>
          <p:spPr>
            <a:xfrm>
              <a:off x="747000" y="3222360"/>
              <a:ext cx="296280" cy="50760"/>
            </a:xfrm>
            <a:custGeom>
              <a:avLst/>
              <a:gdLst/>
              <a:ahLst/>
              <a:rect l="l" t="t" r="r" b="b"/>
              <a:pathLst>
                <a:path w="277" h="48">
                  <a:moveTo>
                    <a:pt x="141" y="44"/>
                  </a:moveTo>
                  <a:cubicBezTo>
                    <a:pt x="239" y="48"/>
                    <a:pt x="275" y="37"/>
                    <a:pt x="277" y="16"/>
                  </a:cubicBezTo>
                  <a:cubicBezTo>
                    <a:pt x="270" y="9"/>
                    <a:pt x="259" y="4"/>
                    <a:pt x="248" y="4"/>
                  </a:cubicBezTo>
                  <a:cubicBezTo>
                    <a:pt x="231" y="4"/>
                    <a:pt x="216" y="15"/>
                    <a:pt x="210" y="29"/>
                  </a:cubicBezTo>
                  <a:cubicBezTo>
                    <a:pt x="203" y="17"/>
                    <a:pt x="190" y="9"/>
                    <a:pt x="175" y="9"/>
                  </a:cubicBezTo>
                  <a:cubicBezTo>
                    <a:pt x="159" y="9"/>
                    <a:pt x="146" y="18"/>
                    <a:pt x="139" y="30"/>
                  </a:cubicBezTo>
                  <a:cubicBezTo>
                    <a:pt x="133" y="17"/>
                    <a:pt x="119" y="8"/>
                    <a:pt x="102" y="8"/>
                  </a:cubicBezTo>
                  <a:cubicBezTo>
                    <a:pt x="87" y="8"/>
                    <a:pt x="75" y="15"/>
                    <a:pt x="68" y="26"/>
                  </a:cubicBezTo>
                  <a:cubicBezTo>
                    <a:pt x="62" y="11"/>
                    <a:pt x="47" y="0"/>
                    <a:pt x="29" y="0"/>
                  </a:cubicBezTo>
                  <a:cubicBezTo>
                    <a:pt x="18" y="0"/>
                    <a:pt x="7" y="4"/>
                    <a:pt x="0" y="12"/>
                  </a:cubicBezTo>
                  <a:cubicBezTo>
                    <a:pt x="5" y="41"/>
                    <a:pt x="46" y="39"/>
                    <a:pt x="141" y="4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Oval 37"/>
            <p:cNvSpPr/>
            <p:nvPr/>
          </p:nvSpPr>
          <p:spPr>
            <a:xfrm>
              <a:off x="725400" y="2223000"/>
              <a:ext cx="141120" cy="14220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Freeform 38"/>
            <p:cNvSpPr/>
            <p:nvPr/>
          </p:nvSpPr>
          <p:spPr>
            <a:xfrm>
              <a:off x="984960" y="1730160"/>
              <a:ext cx="446760" cy="268200"/>
            </a:xfrm>
            <a:custGeom>
              <a:avLst/>
              <a:gdLst/>
              <a:ahLst/>
              <a:rect l="l" t="t" r="r" b="b"/>
              <a:pathLst>
                <a:path w="417" h="250">
                  <a:moveTo>
                    <a:pt x="289" y="109"/>
                  </a:moveTo>
                  <a:cubicBezTo>
                    <a:pt x="295" y="96"/>
                    <a:pt x="313" y="91"/>
                    <a:pt x="307" y="79"/>
                  </a:cubicBezTo>
                  <a:cubicBezTo>
                    <a:pt x="301" y="65"/>
                    <a:pt x="282" y="85"/>
                    <a:pt x="269" y="102"/>
                  </a:cubicBezTo>
                  <a:cubicBezTo>
                    <a:pt x="245" y="94"/>
                    <a:pt x="219" y="83"/>
                    <a:pt x="194" y="68"/>
                  </a:cubicBezTo>
                  <a:cubicBezTo>
                    <a:pt x="79" y="0"/>
                    <a:pt x="61" y="85"/>
                    <a:pt x="24" y="168"/>
                  </a:cubicBezTo>
                  <a:cubicBezTo>
                    <a:pt x="0" y="250"/>
                    <a:pt x="303" y="184"/>
                    <a:pt x="389" y="210"/>
                  </a:cubicBezTo>
                  <a:cubicBezTo>
                    <a:pt x="417" y="140"/>
                    <a:pt x="364" y="132"/>
                    <a:pt x="289" y="109"/>
                  </a:cubicBez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83" name="图片 2" descr=""/>
          <p:cNvPicPr/>
          <p:nvPr/>
        </p:nvPicPr>
        <p:blipFill>
          <a:blip r:embed="rId2"/>
          <a:stretch/>
        </p:blipFill>
        <p:spPr>
          <a:xfrm>
            <a:off x="2948040" y="149400"/>
            <a:ext cx="1722240" cy="1625400"/>
          </a:xfrm>
          <a:prstGeom prst="rect">
            <a:avLst/>
          </a:prstGeom>
          <a:ln w="0">
            <a:noFill/>
          </a:ln>
        </p:spPr>
      </p:pic>
      <p:pic>
        <p:nvPicPr>
          <p:cNvPr id="1084" name="图片 4" descr=""/>
          <p:cNvPicPr/>
          <p:nvPr/>
        </p:nvPicPr>
        <p:blipFill>
          <a:blip r:embed="rId3"/>
          <a:stretch/>
        </p:blipFill>
        <p:spPr>
          <a:xfrm>
            <a:off x="4603680" y="1295280"/>
            <a:ext cx="2546280" cy="2184480"/>
          </a:xfrm>
          <a:prstGeom prst="rect">
            <a:avLst/>
          </a:prstGeom>
          <a:ln w="0">
            <a:noFill/>
          </a:ln>
        </p:spPr>
      </p:pic>
      <p:pic>
        <p:nvPicPr>
          <p:cNvPr id="1085" name="图片 5" descr=""/>
          <p:cNvPicPr/>
          <p:nvPr/>
        </p:nvPicPr>
        <p:blipFill>
          <a:blip r:embed="rId4"/>
          <a:srcRect l="0" t="0" r="2298" b="15520"/>
          <a:stretch/>
        </p:blipFill>
        <p:spPr>
          <a:xfrm flipH="1">
            <a:off x="3044520" y="3718080"/>
            <a:ext cx="16254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1086" name="直接箭头连接符 6"/>
          <p:cNvCxnSpPr/>
          <p:nvPr/>
        </p:nvCxnSpPr>
        <p:spPr>
          <a:xfrm flipH="1">
            <a:off x="1877760" y="1383840"/>
            <a:ext cx="1305360" cy="63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7" name="直接箭头连接符 7"/>
          <p:cNvCxnSpPr/>
          <p:nvPr/>
        </p:nvCxnSpPr>
        <p:spPr>
          <a:xfrm flipH="1">
            <a:off x="1999800" y="2451240"/>
            <a:ext cx="3293280" cy="86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8" name="直接箭头连接符 8"/>
          <p:cNvCxnSpPr/>
          <p:nvPr/>
        </p:nvCxnSpPr>
        <p:spPr>
          <a:xfrm flipH="1" flipV="1">
            <a:off x="1855080" y="2958480"/>
            <a:ext cx="1189800" cy="113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89" name="文本框 10"/>
          <p:cNvSpPr/>
          <p:nvPr/>
        </p:nvSpPr>
        <p:spPr>
          <a:xfrm>
            <a:off x="5472000" y="2968560"/>
            <a:ext cx="35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思想气泡: 云 2"/>
          <p:cNvSpPr/>
          <p:nvPr/>
        </p:nvSpPr>
        <p:spPr>
          <a:xfrm>
            <a:off x="5025960" y="149400"/>
            <a:ext cx="4149720" cy="849240"/>
          </a:xfrm>
          <a:prstGeom prst="cloudCallout">
            <a:avLst>
              <a:gd name="adj1" fmla="val -60069"/>
              <a:gd name="adj2" fmla="val 21041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4</a:t>
            </a: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人小组情境演示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文本框 36"/>
          <p:cNvSpPr/>
          <p:nvPr/>
        </p:nvSpPr>
        <p:spPr>
          <a:xfrm rot="16248600">
            <a:off x="5912640" y="129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文本框 17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文本框 22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文本框 23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文本框 51"/>
          <p:cNvSpPr/>
          <p:nvPr/>
        </p:nvSpPr>
        <p:spPr>
          <a:xfrm rot="16248600">
            <a:off x="5896800" y="341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文本框 34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文本框 35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文本框 36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文本框 40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文本框 47"/>
          <p:cNvSpPr/>
          <p:nvPr/>
        </p:nvSpPr>
        <p:spPr>
          <a:xfrm rot="18142800">
            <a:off x="6719760" y="3373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文本框 57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文本框 58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文本框 59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文本框 36"/>
          <p:cNvSpPr/>
          <p:nvPr/>
        </p:nvSpPr>
        <p:spPr>
          <a:xfrm rot="2809800">
            <a:off x="3863880" y="171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文本框 37"/>
          <p:cNvSpPr/>
          <p:nvPr/>
        </p:nvSpPr>
        <p:spPr>
          <a:xfrm rot="4009800">
            <a:off x="3863520" y="2260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文本框 32"/>
          <p:cNvSpPr/>
          <p:nvPr/>
        </p:nvSpPr>
        <p:spPr>
          <a:xfrm rot="5400000">
            <a:off x="1190880" y="32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文本框 47"/>
          <p:cNvSpPr/>
          <p:nvPr/>
        </p:nvSpPr>
        <p:spPr>
          <a:xfrm rot="5220000">
            <a:off x="751680" y="288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文本框 50"/>
          <p:cNvSpPr/>
          <p:nvPr/>
        </p:nvSpPr>
        <p:spPr>
          <a:xfrm rot="4020000">
            <a:off x="3751560" y="334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文本框 51"/>
          <p:cNvSpPr/>
          <p:nvPr/>
        </p:nvSpPr>
        <p:spPr>
          <a:xfrm rot="4020000">
            <a:off x="4122000" y="3563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文本框 45"/>
          <p:cNvSpPr/>
          <p:nvPr/>
        </p:nvSpPr>
        <p:spPr>
          <a:xfrm rot="2809800">
            <a:off x="2280600" y="151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文本框 46"/>
          <p:cNvSpPr/>
          <p:nvPr/>
        </p:nvSpPr>
        <p:spPr>
          <a:xfrm rot="2809800">
            <a:off x="2651040" y="17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文本框 50"/>
          <p:cNvSpPr/>
          <p:nvPr/>
        </p:nvSpPr>
        <p:spPr>
          <a:xfrm rot="2809800">
            <a:off x="3125160" y="238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文本框 51"/>
          <p:cNvSpPr/>
          <p:nvPr/>
        </p:nvSpPr>
        <p:spPr>
          <a:xfrm rot="2809800">
            <a:off x="3495240" y="260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文本框 32"/>
          <p:cNvSpPr/>
          <p:nvPr/>
        </p:nvSpPr>
        <p:spPr>
          <a:xfrm rot="5400000">
            <a:off x="4800960" y="366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矩形 4"/>
          <p:cNvSpPr/>
          <p:nvPr/>
        </p:nvSpPr>
        <p:spPr>
          <a:xfrm>
            <a:off x="701640" y="1243080"/>
            <a:ext cx="722808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听朋友们都这样说，大象又会怎么想？还会怎么做呢？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默读第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8--11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自然段，寻找答案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1" name="图片 8" descr=""/>
          <p:cNvPicPr/>
          <p:nvPr/>
        </p:nvPicPr>
        <p:blipFill>
          <a:blip r:embed="rId2"/>
          <a:srcRect l="19846" t="20548" r="19208" b="10947"/>
          <a:stretch/>
        </p:blipFill>
        <p:spPr>
          <a:xfrm>
            <a:off x="4746600" y="307800"/>
            <a:ext cx="12412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7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文本框 36"/>
          <p:cNvSpPr/>
          <p:nvPr/>
        </p:nvSpPr>
        <p:spPr>
          <a:xfrm rot="16248600">
            <a:off x="5912640" y="129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文本框 20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文本框 25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文本框 26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文本框 51"/>
          <p:cNvSpPr/>
          <p:nvPr/>
        </p:nvSpPr>
        <p:spPr>
          <a:xfrm rot="16248600">
            <a:off x="5896800" y="341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文本框 37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文本框 38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文本框 39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文本框 43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文本框 47"/>
          <p:cNvSpPr/>
          <p:nvPr/>
        </p:nvSpPr>
        <p:spPr>
          <a:xfrm rot="18142800">
            <a:off x="6719760" y="3373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文本框 60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文本框 61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文本框 62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文本框 36"/>
          <p:cNvSpPr/>
          <p:nvPr/>
        </p:nvSpPr>
        <p:spPr>
          <a:xfrm rot="2809800">
            <a:off x="3863880" y="171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文本框 37"/>
          <p:cNvSpPr/>
          <p:nvPr/>
        </p:nvSpPr>
        <p:spPr>
          <a:xfrm rot="4009800">
            <a:off x="3863520" y="2260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文本框 32"/>
          <p:cNvSpPr/>
          <p:nvPr/>
        </p:nvSpPr>
        <p:spPr>
          <a:xfrm rot="5400000">
            <a:off x="1190880" y="32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文本框 47"/>
          <p:cNvSpPr/>
          <p:nvPr/>
        </p:nvSpPr>
        <p:spPr>
          <a:xfrm rot="5220000">
            <a:off x="751680" y="288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文本框 51"/>
          <p:cNvSpPr/>
          <p:nvPr/>
        </p:nvSpPr>
        <p:spPr>
          <a:xfrm rot="4020000">
            <a:off x="4122000" y="3563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文本框 45"/>
          <p:cNvSpPr/>
          <p:nvPr/>
        </p:nvSpPr>
        <p:spPr>
          <a:xfrm rot="2809800">
            <a:off x="2280600" y="151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文本框 46"/>
          <p:cNvSpPr/>
          <p:nvPr/>
        </p:nvSpPr>
        <p:spPr>
          <a:xfrm rot="2809800">
            <a:off x="2651040" y="17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文本框 50"/>
          <p:cNvSpPr/>
          <p:nvPr/>
        </p:nvSpPr>
        <p:spPr>
          <a:xfrm rot="2809800">
            <a:off x="3125160" y="238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文本框 51"/>
          <p:cNvSpPr/>
          <p:nvPr/>
        </p:nvSpPr>
        <p:spPr>
          <a:xfrm rot="2809800">
            <a:off x="3495240" y="260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文本框 32"/>
          <p:cNvSpPr/>
          <p:nvPr/>
        </p:nvSpPr>
        <p:spPr>
          <a:xfrm rot="5400000">
            <a:off x="4800960" y="366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Text Box 6"/>
          <p:cNvSpPr/>
          <p:nvPr/>
        </p:nvSpPr>
        <p:spPr>
          <a:xfrm>
            <a:off x="826920" y="1452600"/>
            <a:ext cx="77774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象也不安起来，他自言自语地说：“他们都这么说，是不是我的耳朵真的有毛病啦？我得让我的耳朵竖起来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椭圆 7"/>
          <p:cNvSpPr/>
          <p:nvPr/>
        </p:nvSpPr>
        <p:spPr>
          <a:xfrm>
            <a:off x="2941560" y="1542960"/>
            <a:ext cx="874800" cy="5400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矩形: 圆角 12"/>
          <p:cNvSpPr/>
          <p:nvPr/>
        </p:nvSpPr>
        <p:spPr>
          <a:xfrm>
            <a:off x="1301760" y="2203560"/>
            <a:ext cx="2514600" cy="4921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直接连接符 13"/>
          <p:cNvSpPr/>
          <p:nvPr/>
        </p:nvSpPr>
        <p:spPr>
          <a:xfrm flipV="1">
            <a:off x="4211640" y="2695320"/>
            <a:ext cx="4105440" cy="11160"/>
          </a:xfrm>
          <a:prstGeom prst="line">
            <a:avLst/>
          </a:prstGeom>
          <a:ln w="381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矩形 4"/>
          <p:cNvSpPr/>
          <p:nvPr/>
        </p:nvSpPr>
        <p:spPr>
          <a:xfrm>
            <a:off x="684360" y="700200"/>
            <a:ext cx="77752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象为什么“不安”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直接连接符 17"/>
          <p:cNvSpPr/>
          <p:nvPr/>
        </p:nvSpPr>
        <p:spPr>
          <a:xfrm>
            <a:off x="873000" y="3362400"/>
            <a:ext cx="1609920" cy="1440"/>
          </a:xfrm>
          <a:prstGeom prst="line">
            <a:avLst/>
          </a:prstGeom>
          <a:ln w="381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 Box 6"/>
          <p:cNvSpPr/>
          <p:nvPr/>
        </p:nvSpPr>
        <p:spPr>
          <a:xfrm>
            <a:off x="816120" y="3610080"/>
            <a:ext cx="1941480" cy="727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开始怀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文本框 2"/>
          <p:cNvSpPr/>
          <p:nvPr/>
        </p:nvSpPr>
        <p:spPr>
          <a:xfrm>
            <a:off x="6943680" y="2197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真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3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8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3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文本框 36"/>
          <p:cNvSpPr/>
          <p:nvPr/>
        </p:nvSpPr>
        <p:spPr>
          <a:xfrm rot="16248600">
            <a:off x="5912640" y="129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文本框 16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文本框 21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文本框 22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文本框 51"/>
          <p:cNvSpPr/>
          <p:nvPr/>
        </p:nvSpPr>
        <p:spPr>
          <a:xfrm rot="16248600">
            <a:off x="5896800" y="341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文本框 33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文本框 34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文本框 35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文本框 39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文本框 47"/>
          <p:cNvSpPr/>
          <p:nvPr/>
        </p:nvSpPr>
        <p:spPr>
          <a:xfrm rot="18142800">
            <a:off x="6719760" y="3373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文本框 56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文本框 57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文本框 58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文本框 36"/>
          <p:cNvSpPr/>
          <p:nvPr/>
        </p:nvSpPr>
        <p:spPr>
          <a:xfrm rot="2809800">
            <a:off x="3863880" y="171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文本框 37"/>
          <p:cNvSpPr/>
          <p:nvPr/>
        </p:nvSpPr>
        <p:spPr>
          <a:xfrm rot="4009800">
            <a:off x="3863520" y="2260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文本框 32"/>
          <p:cNvSpPr/>
          <p:nvPr/>
        </p:nvSpPr>
        <p:spPr>
          <a:xfrm rot="5400000">
            <a:off x="1190880" y="32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文本框 47"/>
          <p:cNvSpPr/>
          <p:nvPr/>
        </p:nvSpPr>
        <p:spPr>
          <a:xfrm rot="5220000">
            <a:off x="751680" y="288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文本框 50"/>
          <p:cNvSpPr/>
          <p:nvPr/>
        </p:nvSpPr>
        <p:spPr>
          <a:xfrm rot="4020000">
            <a:off x="3751560" y="334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文本框 51"/>
          <p:cNvSpPr/>
          <p:nvPr/>
        </p:nvSpPr>
        <p:spPr>
          <a:xfrm rot="4020000">
            <a:off x="4122000" y="3563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文本框 45"/>
          <p:cNvSpPr/>
          <p:nvPr/>
        </p:nvSpPr>
        <p:spPr>
          <a:xfrm rot="2809800">
            <a:off x="2280600" y="151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文本框 46"/>
          <p:cNvSpPr/>
          <p:nvPr/>
        </p:nvSpPr>
        <p:spPr>
          <a:xfrm rot="2809800">
            <a:off x="2651040" y="17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文本框 50"/>
          <p:cNvSpPr/>
          <p:nvPr/>
        </p:nvSpPr>
        <p:spPr>
          <a:xfrm rot="2809800">
            <a:off x="3125160" y="238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文本框 51"/>
          <p:cNvSpPr/>
          <p:nvPr/>
        </p:nvSpPr>
        <p:spPr>
          <a:xfrm rot="2809800">
            <a:off x="3495240" y="260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文本框 32"/>
          <p:cNvSpPr/>
          <p:nvPr/>
        </p:nvSpPr>
        <p:spPr>
          <a:xfrm rot="5400000">
            <a:off x="4800960" y="366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Text Box 6"/>
          <p:cNvSpPr/>
          <p:nvPr/>
        </p:nvSpPr>
        <p:spPr>
          <a:xfrm>
            <a:off x="731880" y="1508040"/>
            <a:ext cx="6912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每天，大象站着睡觉的时候，就用两根竹竿把耳朵撑起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矩形: 圆角 2"/>
          <p:cNvSpPr/>
          <p:nvPr/>
        </p:nvSpPr>
        <p:spPr>
          <a:xfrm>
            <a:off x="814320" y="2279520"/>
            <a:ext cx="4502160" cy="4921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2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Text Box 6"/>
          <p:cNvSpPr/>
          <p:nvPr/>
        </p:nvSpPr>
        <p:spPr>
          <a:xfrm>
            <a:off x="900000" y="1347840"/>
            <a:ext cx="74311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可是，大象的耳朵眼儿里，经常有小虫子飞进去，还在里面跳舞，吵得他又头痛，又心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矩形: 圆角 2"/>
          <p:cNvSpPr/>
          <p:nvPr/>
        </p:nvSpPr>
        <p:spPr>
          <a:xfrm>
            <a:off x="971640" y="2728800"/>
            <a:ext cx="2898720" cy="4921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矩形: 圆角 4"/>
          <p:cNvSpPr/>
          <p:nvPr/>
        </p:nvSpPr>
        <p:spPr>
          <a:xfrm>
            <a:off x="4226040" y="2095560"/>
            <a:ext cx="2106360" cy="4921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Text Box 6"/>
          <p:cNvSpPr/>
          <p:nvPr/>
        </p:nvSpPr>
        <p:spPr>
          <a:xfrm>
            <a:off x="5076720" y="3333600"/>
            <a:ext cx="1584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拟 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箭头: 右 6"/>
          <p:cNvSpPr/>
          <p:nvPr/>
        </p:nvSpPr>
        <p:spPr>
          <a:xfrm flipH="1" rot="16200000">
            <a:off x="5544720" y="2844000"/>
            <a:ext cx="646200" cy="289080"/>
          </a:xfrm>
          <a:prstGeom prst="rightArrow">
            <a:avLst>
              <a:gd name="adj1" fmla="val 50000"/>
              <a:gd name="adj2" fmla="val 4997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08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6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2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文本框 36"/>
          <p:cNvSpPr/>
          <p:nvPr/>
        </p:nvSpPr>
        <p:spPr>
          <a:xfrm rot="16248600">
            <a:off x="5912640" y="129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文本框 17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文本框 22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文本框 23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文本框 51"/>
          <p:cNvSpPr/>
          <p:nvPr/>
        </p:nvSpPr>
        <p:spPr>
          <a:xfrm rot="16248600">
            <a:off x="5896800" y="341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文本框 34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文本框 35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文本框 36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文本框 40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文本框 47"/>
          <p:cNvSpPr/>
          <p:nvPr/>
        </p:nvSpPr>
        <p:spPr>
          <a:xfrm rot="18142800">
            <a:off x="6719760" y="3373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文本框 57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文本框 58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文本框 59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文本框 36"/>
          <p:cNvSpPr/>
          <p:nvPr/>
        </p:nvSpPr>
        <p:spPr>
          <a:xfrm rot="2809800">
            <a:off x="3863880" y="171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文本框 37"/>
          <p:cNvSpPr/>
          <p:nvPr/>
        </p:nvSpPr>
        <p:spPr>
          <a:xfrm rot="4009800">
            <a:off x="3863520" y="2260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文本框 32"/>
          <p:cNvSpPr/>
          <p:nvPr/>
        </p:nvSpPr>
        <p:spPr>
          <a:xfrm rot="5400000">
            <a:off x="1190880" y="32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文本框 47"/>
          <p:cNvSpPr/>
          <p:nvPr/>
        </p:nvSpPr>
        <p:spPr>
          <a:xfrm rot="5220000">
            <a:off x="751680" y="288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文本框 50"/>
          <p:cNvSpPr/>
          <p:nvPr/>
        </p:nvSpPr>
        <p:spPr>
          <a:xfrm rot="4020000">
            <a:off x="3751560" y="334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文本框 51"/>
          <p:cNvSpPr/>
          <p:nvPr/>
        </p:nvSpPr>
        <p:spPr>
          <a:xfrm rot="4020000">
            <a:off x="4122000" y="3563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文本框 45"/>
          <p:cNvSpPr/>
          <p:nvPr/>
        </p:nvSpPr>
        <p:spPr>
          <a:xfrm rot="2809800">
            <a:off x="2280600" y="151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文本框 46"/>
          <p:cNvSpPr/>
          <p:nvPr/>
        </p:nvSpPr>
        <p:spPr>
          <a:xfrm rot="2809800">
            <a:off x="2651040" y="17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文本框 50"/>
          <p:cNvSpPr/>
          <p:nvPr/>
        </p:nvSpPr>
        <p:spPr>
          <a:xfrm rot="2809800">
            <a:off x="3125160" y="238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文本框 51"/>
          <p:cNvSpPr/>
          <p:nvPr/>
        </p:nvSpPr>
        <p:spPr>
          <a:xfrm rot="2809800">
            <a:off x="3495240" y="260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文本框 32"/>
          <p:cNvSpPr/>
          <p:nvPr/>
        </p:nvSpPr>
        <p:spPr>
          <a:xfrm rot="5400000">
            <a:off x="4800960" y="366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Text Box 6"/>
          <p:cNvSpPr/>
          <p:nvPr/>
        </p:nvSpPr>
        <p:spPr>
          <a:xfrm>
            <a:off x="503280" y="2359080"/>
            <a:ext cx="8137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最后，大象还是把他的耳朵放了下来。这样，虫子飞不进去了。有虫子来的话，大象只要把他的大耳朵一扇，就能把他们赶跑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矩形: 圆角 2"/>
          <p:cNvSpPr/>
          <p:nvPr/>
        </p:nvSpPr>
        <p:spPr>
          <a:xfrm>
            <a:off x="4260960" y="2489040"/>
            <a:ext cx="3671640" cy="4921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矩形 4"/>
          <p:cNvSpPr/>
          <p:nvPr/>
        </p:nvSpPr>
        <p:spPr>
          <a:xfrm>
            <a:off x="503280" y="700200"/>
            <a:ext cx="8209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象最后是怎么做的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6" name="图片 8" descr=""/>
          <p:cNvPicPr/>
          <p:nvPr/>
        </p:nvPicPr>
        <p:blipFill>
          <a:blip r:embed="rId2"/>
          <a:srcRect l="19846" t="20548" r="19208" b="10947"/>
          <a:stretch/>
        </p:blipFill>
        <p:spPr>
          <a:xfrm>
            <a:off x="3019320" y="1352520"/>
            <a:ext cx="1241640" cy="838080"/>
          </a:xfrm>
          <a:prstGeom prst="rect">
            <a:avLst/>
          </a:prstGeom>
          <a:ln w="0">
            <a:noFill/>
          </a:ln>
        </p:spPr>
      </p:pic>
      <p:sp>
        <p:nvSpPr>
          <p:cNvPr id="1507" name="直接连接符 4"/>
          <p:cNvSpPr/>
          <p:nvPr/>
        </p:nvSpPr>
        <p:spPr>
          <a:xfrm>
            <a:off x="5076720" y="3651120"/>
            <a:ext cx="3311640" cy="0"/>
          </a:xfrm>
          <a:prstGeom prst="line">
            <a:avLst/>
          </a:prstGeom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直接连接符 9"/>
          <p:cNvSpPr/>
          <p:nvPr/>
        </p:nvSpPr>
        <p:spPr>
          <a:xfrm>
            <a:off x="611280" y="4300560"/>
            <a:ext cx="7777080" cy="0"/>
          </a:xfrm>
          <a:prstGeom prst="line">
            <a:avLst/>
          </a:prstGeom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9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6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9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Text Box 6"/>
          <p:cNvSpPr/>
          <p:nvPr/>
        </p:nvSpPr>
        <p:spPr>
          <a:xfrm>
            <a:off x="755640" y="843120"/>
            <a:ext cx="7632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象说：“我还是让耳朵耷拉着吧。人家是人家，我是我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矩形: 圆角 2"/>
          <p:cNvSpPr/>
          <p:nvPr/>
        </p:nvSpPr>
        <p:spPr>
          <a:xfrm>
            <a:off x="843120" y="1585800"/>
            <a:ext cx="3728880" cy="4939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箭头: 右 3"/>
          <p:cNvSpPr/>
          <p:nvPr/>
        </p:nvSpPr>
        <p:spPr>
          <a:xfrm flipH="1" rot="16200000">
            <a:off x="2331000" y="2301840"/>
            <a:ext cx="460440" cy="289080"/>
          </a:xfrm>
          <a:prstGeom prst="rightArrow">
            <a:avLst>
              <a:gd name="adj1" fmla="val 50000"/>
              <a:gd name="adj2" fmla="val 49973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08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Text Box 6"/>
          <p:cNvSpPr/>
          <p:nvPr/>
        </p:nvSpPr>
        <p:spPr>
          <a:xfrm>
            <a:off x="1154160" y="2787480"/>
            <a:ext cx="6835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大象认识到每个人的具体情况各不相同，不能盲目模仿和照搬别人的做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9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矩形 4"/>
          <p:cNvSpPr/>
          <p:nvPr/>
        </p:nvSpPr>
        <p:spPr>
          <a:xfrm>
            <a:off x="816120" y="1781280"/>
            <a:ext cx="70088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人家是人家，我是我。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请你结合生活实际，说说你是怎么理解这句话的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文本框 6"/>
          <p:cNvSpPr/>
          <p:nvPr/>
        </p:nvSpPr>
        <p:spPr>
          <a:xfrm>
            <a:off x="892080" y="485640"/>
            <a:ext cx="51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运用发言卡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人小组交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文本框 36"/>
          <p:cNvSpPr/>
          <p:nvPr/>
        </p:nvSpPr>
        <p:spPr>
          <a:xfrm rot="16248600">
            <a:off x="5912640" y="129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文本框 11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文本框 16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文本框 17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文本框 51"/>
          <p:cNvSpPr/>
          <p:nvPr/>
        </p:nvSpPr>
        <p:spPr>
          <a:xfrm rot="16248600">
            <a:off x="5896800" y="341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文本框 28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文本框 29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文本框 30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文本框 34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文本框 47"/>
          <p:cNvSpPr/>
          <p:nvPr/>
        </p:nvSpPr>
        <p:spPr>
          <a:xfrm rot="18142800">
            <a:off x="6719760" y="3373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文本框 51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文本框 52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文本框 53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文本框 36"/>
          <p:cNvSpPr/>
          <p:nvPr/>
        </p:nvSpPr>
        <p:spPr>
          <a:xfrm rot="2809800">
            <a:off x="3863880" y="171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文本框 37"/>
          <p:cNvSpPr/>
          <p:nvPr/>
        </p:nvSpPr>
        <p:spPr>
          <a:xfrm rot="4009800">
            <a:off x="3863520" y="2260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文本框 32"/>
          <p:cNvSpPr/>
          <p:nvPr/>
        </p:nvSpPr>
        <p:spPr>
          <a:xfrm rot="5400000">
            <a:off x="1190880" y="32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文本框 47"/>
          <p:cNvSpPr/>
          <p:nvPr/>
        </p:nvSpPr>
        <p:spPr>
          <a:xfrm rot="5220000">
            <a:off x="751680" y="288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文本框 50"/>
          <p:cNvSpPr/>
          <p:nvPr/>
        </p:nvSpPr>
        <p:spPr>
          <a:xfrm rot="4020000">
            <a:off x="3751560" y="334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文本框 51"/>
          <p:cNvSpPr/>
          <p:nvPr/>
        </p:nvSpPr>
        <p:spPr>
          <a:xfrm rot="4020000">
            <a:off x="4122000" y="3563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文本框 45"/>
          <p:cNvSpPr/>
          <p:nvPr/>
        </p:nvSpPr>
        <p:spPr>
          <a:xfrm rot="2809800">
            <a:off x="2280600" y="151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文本框 46"/>
          <p:cNvSpPr/>
          <p:nvPr/>
        </p:nvSpPr>
        <p:spPr>
          <a:xfrm rot="2809800">
            <a:off x="2651040" y="17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文本框 50"/>
          <p:cNvSpPr/>
          <p:nvPr/>
        </p:nvSpPr>
        <p:spPr>
          <a:xfrm rot="2809800">
            <a:off x="3125160" y="238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文本框 51"/>
          <p:cNvSpPr/>
          <p:nvPr/>
        </p:nvSpPr>
        <p:spPr>
          <a:xfrm rot="2809800">
            <a:off x="3495240" y="260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文本框 32"/>
          <p:cNvSpPr/>
          <p:nvPr/>
        </p:nvSpPr>
        <p:spPr>
          <a:xfrm rot="5400000">
            <a:off x="4800960" y="366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任意多边形: 形状 3"/>
          <p:cNvSpPr/>
          <p:nvPr/>
        </p:nvSpPr>
        <p:spPr>
          <a:xfrm>
            <a:off x="558720" y="304920"/>
            <a:ext cx="7682040" cy="3909960"/>
          </a:xfrm>
          <a:custGeom>
            <a:avLst/>
            <a:gdLst/>
            <a:ahLst/>
            <a:rect l="l" t="t" r="r" b="b"/>
            <a:pathLst>
              <a:path w="7681871" h="4320540">
                <a:moveTo>
                  <a:pt x="358140" y="198120"/>
                </a:moveTo>
                <a:lnTo>
                  <a:pt x="358140" y="198120"/>
                </a:lnTo>
                <a:cubicBezTo>
                  <a:pt x="437309" y="206917"/>
                  <a:pt x="425864" y="204045"/>
                  <a:pt x="510540" y="220980"/>
                </a:cubicBezTo>
                <a:cubicBezTo>
                  <a:pt x="533503" y="225573"/>
                  <a:pt x="556059" y="232150"/>
                  <a:pt x="579120" y="236220"/>
                </a:cubicBezTo>
                <a:cubicBezTo>
                  <a:pt x="599287" y="239779"/>
                  <a:pt x="619742" y="241447"/>
                  <a:pt x="640080" y="243840"/>
                </a:cubicBezTo>
                <a:cubicBezTo>
                  <a:pt x="736206" y="255149"/>
                  <a:pt x="708585" y="251455"/>
                  <a:pt x="830580" y="259080"/>
                </a:cubicBezTo>
                <a:cubicBezTo>
                  <a:pt x="986056" y="297949"/>
                  <a:pt x="922947" y="284987"/>
                  <a:pt x="1264920" y="259080"/>
                </a:cubicBezTo>
                <a:cubicBezTo>
                  <a:pt x="1393732" y="249322"/>
                  <a:pt x="1326438" y="231359"/>
                  <a:pt x="1409700" y="205740"/>
                </a:cubicBezTo>
                <a:cubicBezTo>
                  <a:pt x="1426866" y="200458"/>
                  <a:pt x="1445260" y="200660"/>
                  <a:pt x="1463040" y="198120"/>
                </a:cubicBezTo>
                <a:cubicBezTo>
                  <a:pt x="1540366" y="153934"/>
                  <a:pt x="1520696" y="161914"/>
                  <a:pt x="1630680" y="121920"/>
                </a:cubicBezTo>
                <a:cubicBezTo>
                  <a:pt x="1657086" y="112318"/>
                  <a:pt x="1719401" y="98261"/>
                  <a:pt x="1744980" y="91440"/>
                </a:cubicBezTo>
                <a:cubicBezTo>
                  <a:pt x="1762847" y="86675"/>
                  <a:pt x="1780145" y="79608"/>
                  <a:pt x="1798320" y="76200"/>
                </a:cubicBezTo>
                <a:cubicBezTo>
                  <a:pt x="1820927" y="71961"/>
                  <a:pt x="1844101" y="71620"/>
                  <a:pt x="1866900" y="68580"/>
                </a:cubicBezTo>
                <a:cubicBezTo>
                  <a:pt x="1882215" y="66538"/>
                  <a:pt x="1897380" y="63500"/>
                  <a:pt x="1912620" y="60960"/>
                </a:cubicBezTo>
                <a:lnTo>
                  <a:pt x="2964180" y="68580"/>
                </a:lnTo>
                <a:cubicBezTo>
                  <a:pt x="2981212" y="69053"/>
                  <a:pt x="2994330" y="84520"/>
                  <a:pt x="3009900" y="91440"/>
                </a:cubicBezTo>
                <a:cubicBezTo>
                  <a:pt x="3034167" y="102225"/>
                  <a:pt x="3050325" y="101049"/>
                  <a:pt x="3078480" y="106680"/>
                </a:cubicBezTo>
                <a:cubicBezTo>
                  <a:pt x="3088749" y="108734"/>
                  <a:pt x="3098929" y="111291"/>
                  <a:pt x="3108960" y="114300"/>
                </a:cubicBezTo>
                <a:cubicBezTo>
                  <a:pt x="3124347" y="118916"/>
                  <a:pt x="3138834" y="126899"/>
                  <a:pt x="3154680" y="129540"/>
                </a:cubicBezTo>
                <a:cubicBezTo>
                  <a:pt x="3184849" y="134568"/>
                  <a:pt x="3215686" y="134117"/>
                  <a:pt x="3246120" y="137160"/>
                </a:cubicBezTo>
                <a:cubicBezTo>
                  <a:pt x="3415061" y="154054"/>
                  <a:pt x="3152271" y="135104"/>
                  <a:pt x="3429000" y="152400"/>
                </a:cubicBezTo>
                <a:lnTo>
                  <a:pt x="3825240" y="129540"/>
                </a:lnTo>
                <a:cubicBezTo>
                  <a:pt x="3855766" y="127632"/>
                  <a:pt x="3886425" y="126402"/>
                  <a:pt x="3916680" y="121920"/>
                </a:cubicBezTo>
                <a:cubicBezTo>
                  <a:pt x="3955115" y="116226"/>
                  <a:pt x="3992498" y="104430"/>
                  <a:pt x="4030980" y="99060"/>
                </a:cubicBezTo>
                <a:cubicBezTo>
                  <a:pt x="4101821" y="89175"/>
                  <a:pt x="4244340" y="76200"/>
                  <a:pt x="4244340" y="76200"/>
                </a:cubicBezTo>
                <a:cubicBezTo>
                  <a:pt x="4269740" y="68580"/>
                  <a:pt x="4294435" y="58002"/>
                  <a:pt x="4320540" y="53340"/>
                </a:cubicBezTo>
                <a:cubicBezTo>
                  <a:pt x="4365825" y="45253"/>
                  <a:pt x="4411980" y="43180"/>
                  <a:pt x="4457700" y="38100"/>
                </a:cubicBezTo>
                <a:cubicBezTo>
                  <a:pt x="4480560" y="35560"/>
                  <a:pt x="4503726" y="34991"/>
                  <a:pt x="4526280" y="30480"/>
                </a:cubicBezTo>
                <a:cubicBezTo>
                  <a:pt x="4551680" y="25400"/>
                  <a:pt x="4576864" y="19082"/>
                  <a:pt x="4602480" y="15240"/>
                </a:cubicBezTo>
                <a:cubicBezTo>
                  <a:pt x="4629138" y="11241"/>
                  <a:pt x="4749067" y="1754"/>
                  <a:pt x="4770120" y="0"/>
                </a:cubicBezTo>
                <a:cubicBezTo>
                  <a:pt x="4912360" y="2540"/>
                  <a:pt x="5054694" y="1857"/>
                  <a:pt x="5196840" y="7620"/>
                </a:cubicBezTo>
                <a:cubicBezTo>
                  <a:pt x="5339943" y="13421"/>
                  <a:pt x="5314748" y="-15644"/>
                  <a:pt x="5349240" y="53340"/>
                </a:cubicBezTo>
                <a:cubicBezTo>
                  <a:pt x="5365939" y="136836"/>
                  <a:pt x="5345059" y="49810"/>
                  <a:pt x="5372100" y="121920"/>
                </a:cubicBezTo>
                <a:cubicBezTo>
                  <a:pt x="5386256" y="159671"/>
                  <a:pt x="5370168" y="153458"/>
                  <a:pt x="5402580" y="190500"/>
                </a:cubicBezTo>
                <a:cubicBezTo>
                  <a:pt x="5410943" y="200058"/>
                  <a:pt x="5421701" y="207680"/>
                  <a:pt x="5433060" y="213360"/>
                </a:cubicBezTo>
                <a:cubicBezTo>
                  <a:pt x="5486036" y="239848"/>
                  <a:pt x="5542271" y="231725"/>
                  <a:pt x="5600700" y="236220"/>
                </a:cubicBezTo>
                <a:cubicBezTo>
                  <a:pt x="5626151" y="238178"/>
                  <a:pt x="5651500" y="241300"/>
                  <a:pt x="5676900" y="243840"/>
                </a:cubicBezTo>
                <a:cubicBezTo>
                  <a:pt x="5712460" y="251460"/>
                  <a:pt x="5747494" y="262189"/>
                  <a:pt x="5783580" y="266700"/>
                </a:cubicBezTo>
                <a:cubicBezTo>
                  <a:pt x="5849304" y="274915"/>
                  <a:pt x="5981700" y="281940"/>
                  <a:pt x="5981700" y="281940"/>
                </a:cubicBezTo>
                <a:lnTo>
                  <a:pt x="7056120" y="266700"/>
                </a:lnTo>
                <a:cubicBezTo>
                  <a:pt x="7079116" y="266240"/>
                  <a:pt x="7101901" y="262120"/>
                  <a:pt x="7124700" y="259080"/>
                </a:cubicBezTo>
                <a:cubicBezTo>
                  <a:pt x="7140015" y="257038"/>
                  <a:pt x="7155180" y="254000"/>
                  <a:pt x="7170420" y="251460"/>
                </a:cubicBezTo>
                <a:cubicBezTo>
                  <a:pt x="7296247" y="254195"/>
                  <a:pt x="7499978" y="148557"/>
                  <a:pt x="7528560" y="281940"/>
                </a:cubicBezTo>
                <a:cubicBezTo>
                  <a:pt x="7534510" y="309708"/>
                  <a:pt x="7539371" y="337709"/>
                  <a:pt x="7543800" y="365760"/>
                </a:cubicBezTo>
                <a:cubicBezTo>
                  <a:pt x="7546994" y="385988"/>
                  <a:pt x="7548880" y="406400"/>
                  <a:pt x="7551420" y="426720"/>
                </a:cubicBezTo>
                <a:cubicBezTo>
                  <a:pt x="7553960" y="508000"/>
                  <a:pt x="7552640" y="589493"/>
                  <a:pt x="7559040" y="670560"/>
                </a:cubicBezTo>
                <a:cubicBezTo>
                  <a:pt x="7560304" y="686575"/>
                  <a:pt x="7570384" y="700695"/>
                  <a:pt x="7574280" y="716280"/>
                </a:cubicBezTo>
                <a:cubicBezTo>
                  <a:pt x="7620770" y="902242"/>
                  <a:pt x="7564738" y="735296"/>
                  <a:pt x="7604760" y="815340"/>
                </a:cubicBezTo>
                <a:cubicBezTo>
                  <a:pt x="7615661" y="837142"/>
                  <a:pt x="7614147" y="860507"/>
                  <a:pt x="7620000" y="883920"/>
                </a:cubicBezTo>
                <a:cubicBezTo>
                  <a:pt x="7626432" y="909647"/>
                  <a:pt x="7635240" y="934720"/>
                  <a:pt x="7642860" y="960120"/>
                </a:cubicBezTo>
                <a:cubicBezTo>
                  <a:pt x="7645400" y="985520"/>
                  <a:pt x="7645474" y="1011289"/>
                  <a:pt x="7650480" y="1036320"/>
                </a:cubicBezTo>
                <a:cubicBezTo>
                  <a:pt x="7653163" y="1049733"/>
                  <a:pt x="7665402" y="1060745"/>
                  <a:pt x="7665720" y="1074420"/>
                </a:cubicBezTo>
                <a:cubicBezTo>
                  <a:pt x="7667965" y="1170947"/>
                  <a:pt x="7662484" y="1267526"/>
                  <a:pt x="7658100" y="1363980"/>
                </a:cubicBezTo>
                <a:cubicBezTo>
                  <a:pt x="7657398" y="1379414"/>
                  <a:pt x="7654920" y="1394901"/>
                  <a:pt x="7650480" y="1409700"/>
                </a:cubicBezTo>
                <a:cubicBezTo>
                  <a:pt x="7647216" y="1420580"/>
                  <a:pt x="7639122" y="1429505"/>
                  <a:pt x="7635240" y="1440180"/>
                </a:cubicBezTo>
                <a:cubicBezTo>
                  <a:pt x="7602564" y="1530040"/>
                  <a:pt x="7640220" y="1459819"/>
                  <a:pt x="7597140" y="1531620"/>
                </a:cubicBezTo>
                <a:cubicBezTo>
                  <a:pt x="7592060" y="1549400"/>
                  <a:pt x="7587928" y="1567479"/>
                  <a:pt x="7581900" y="1584960"/>
                </a:cubicBezTo>
                <a:cubicBezTo>
                  <a:pt x="7562517" y="1641172"/>
                  <a:pt x="7534310" y="1694663"/>
                  <a:pt x="7520940" y="1752600"/>
                </a:cubicBezTo>
                <a:cubicBezTo>
                  <a:pt x="7488782" y="1891949"/>
                  <a:pt x="7504325" y="1818353"/>
                  <a:pt x="7475220" y="1973580"/>
                </a:cubicBezTo>
                <a:cubicBezTo>
                  <a:pt x="7460567" y="2178716"/>
                  <a:pt x="7459698" y="2073674"/>
                  <a:pt x="7520940" y="2400300"/>
                </a:cubicBezTo>
                <a:cubicBezTo>
                  <a:pt x="7523900" y="2416089"/>
                  <a:pt x="7529273" y="2431516"/>
                  <a:pt x="7536180" y="2446020"/>
                </a:cubicBezTo>
                <a:cubicBezTo>
                  <a:pt x="7554745" y="2485006"/>
                  <a:pt x="7580532" y="2520462"/>
                  <a:pt x="7597140" y="2560320"/>
                </a:cubicBezTo>
                <a:cubicBezTo>
                  <a:pt x="7609840" y="2590800"/>
                  <a:pt x="7625103" y="2620335"/>
                  <a:pt x="7635240" y="2651760"/>
                </a:cubicBezTo>
                <a:cubicBezTo>
                  <a:pt x="7650560" y="2699253"/>
                  <a:pt x="7673340" y="2796540"/>
                  <a:pt x="7673340" y="2796540"/>
                </a:cubicBezTo>
                <a:cubicBezTo>
                  <a:pt x="7682576" y="2916607"/>
                  <a:pt x="7689391" y="2936452"/>
                  <a:pt x="7665720" y="3078480"/>
                </a:cubicBezTo>
                <a:cubicBezTo>
                  <a:pt x="7662919" y="3095287"/>
                  <a:pt x="7649413" y="3108472"/>
                  <a:pt x="7642860" y="3124200"/>
                </a:cubicBezTo>
                <a:cubicBezTo>
                  <a:pt x="7636681" y="3139029"/>
                  <a:pt x="7633586" y="3155005"/>
                  <a:pt x="7627620" y="3169920"/>
                </a:cubicBezTo>
                <a:cubicBezTo>
                  <a:pt x="7623401" y="3180467"/>
                  <a:pt x="7617949" y="3190500"/>
                  <a:pt x="7612380" y="3200400"/>
                </a:cubicBezTo>
                <a:cubicBezTo>
                  <a:pt x="7595080" y="3231155"/>
                  <a:pt x="7578316" y="3262283"/>
                  <a:pt x="7559040" y="3291840"/>
                </a:cubicBezTo>
                <a:cubicBezTo>
                  <a:pt x="7516025" y="3357797"/>
                  <a:pt x="7443134" y="3445846"/>
                  <a:pt x="7391400" y="3497580"/>
                </a:cubicBezTo>
                <a:cubicBezTo>
                  <a:pt x="7360920" y="3528060"/>
                  <a:pt x="7335826" y="3565110"/>
                  <a:pt x="7299960" y="3589020"/>
                </a:cubicBezTo>
                <a:cubicBezTo>
                  <a:pt x="7167980" y="3677006"/>
                  <a:pt x="7250435" y="3618824"/>
                  <a:pt x="7139940" y="3703320"/>
                </a:cubicBezTo>
                <a:cubicBezTo>
                  <a:pt x="7097017" y="3736143"/>
                  <a:pt x="7080235" y="3743252"/>
                  <a:pt x="7048500" y="3779520"/>
                </a:cubicBezTo>
                <a:cubicBezTo>
                  <a:pt x="7040137" y="3789078"/>
                  <a:pt x="7033260" y="3799840"/>
                  <a:pt x="7025640" y="3810000"/>
                </a:cubicBezTo>
                <a:cubicBezTo>
                  <a:pt x="7023100" y="3820160"/>
                  <a:pt x="7019319" y="3830088"/>
                  <a:pt x="7018020" y="3840480"/>
                </a:cubicBezTo>
                <a:cubicBezTo>
                  <a:pt x="7008383" y="3917574"/>
                  <a:pt x="7022153" y="3916034"/>
                  <a:pt x="6995160" y="3970020"/>
                </a:cubicBezTo>
                <a:cubicBezTo>
                  <a:pt x="6991064" y="3978211"/>
                  <a:pt x="6985641" y="3985729"/>
                  <a:pt x="6979920" y="3992880"/>
                </a:cubicBezTo>
                <a:cubicBezTo>
                  <a:pt x="6955135" y="4023862"/>
                  <a:pt x="6936732" y="4062312"/>
                  <a:pt x="6903720" y="4084320"/>
                </a:cubicBezTo>
                <a:cubicBezTo>
                  <a:pt x="6896100" y="4089400"/>
                  <a:pt x="6888089" y="4093937"/>
                  <a:pt x="6880860" y="4099560"/>
                </a:cubicBezTo>
                <a:cubicBezTo>
                  <a:pt x="6864448" y="4112325"/>
                  <a:pt x="6826002" y="4147181"/>
                  <a:pt x="6804660" y="4160520"/>
                </a:cubicBezTo>
                <a:cubicBezTo>
                  <a:pt x="6795027" y="4166540"/>
                  <a:pt x="6783813" y="4169740"/>
                  <a:pt x="6774180" y="4175760"/>
                </a:cubicBezTo>
                <a:cubicBezTo>
                  <a:pt x="6763410" y="4182491"/>
                  <a:pt x="6755617" y="4194230"/>
                  <a:pt x="6743700" y="4198620"/>
                </a:cubicBezTo>
                <a:cubicBezTo>
                  <a:pt x="6666630" y="4227014"/>
                  <a:pt x="6609480" y="4232165"/>
                  <a:pt x="6530340" y="4244340"/>
                </a:cubicBezTo>
                <a:lnTo>
                  <a:pt x="5905500" y="4229100"/>
                </a:lnTo>
                <a:cubicBezTo>
                  <a:pt x="5872121" y="4227695"/>
                  <a:pt x="5839568" y="4218181"/>
                  <a:pt x="5806440" y="4213860"/>
                </a:cubicBezTo>
                <a:cubicBezTo>
                  <a:pt x="5781128" y="4210558"/>
                  <a:pt x="5755640" y="4208780"/>
                  <a:pt x="5730240" y="4206240"/>
                </a:cubicBezTo>
                <a:cubicBezTo>
                  <a:pt x="5707380" y="4198620"/>
                  <a:pt x="5684691" y="4190466"/>
                  <a:pt x="5661660" y="4183380"/>
                </a:cubicBezTo>
                <a:cubicBezTo>
                  <a:pt x="5651650" y="4180300"/>
                  <a:pt x="5641115" y="4179072"/>
                  <a:pt x="5631180" y="4175760"/>
                </a:cubicBezTo>
                <a:cubicBezTo>
                  <a:pt x="5610203" y="4168768"/>
                  <a:pt x="5591622" y="4158250"/>
                  <a:pt x="5570220" y="4152900"/>
                </a:cubicBezTo>
                <a:cubicBezTo>
                  <a:pt x="5557655" y="4149759"/>
                  <a:pt x="5544820" y="4147820"/>
                  <a:pt x="5532120" y="4145280"/>
                </a:cubicBezTo>
                <a:cubicBezTo>
                  <a:pt x="5524500" y="4140200"/>
                  <a:pt x="5517451" y="4134136"/>
                  <a:pt x="5509260" y="4130040"/>
                </a:cubicBezTo>
                <a:cubicBezTo>
                  <a:pt x="5502076" y="4126448"/>
                  <a:pt x="5494432" y="4122420"/>
                  <a:pt x="5486400" y="4122420"/>
                </a:cubicBezTo>
                <a:cubicBezTo>
                  <a:pt x="5417773" y="4122420"/>
                  <a:pt x="5349240" y="4127500"/>
                  <a:pt x="5280660" y="4130040"/>
                </a:cubicBezTo>
                <a:cubicBezTo>
                  <a:pt x="5232400" y="4137660"/>
                  <a:pt x="5182231" y="4137450"/>
                  <a:pt x="5135880" y="4152900"/>
                </a:cubicBezTo>
                <a:cubicBezTo>
                  <a:pt x="4852960" y="4247207"/>
                  <a:pt x="5116296" y="4162246"/>
                  <a:pt x="4914900" y="4221480"/>
                </a:cubicBezTo>
                <a:cubicBezTo>
                  <a:pt x="4899488" y="4226013"/>
                  <a:pt x="4884602" y="4232222"/>
                  <a:pt x="4869180" y="4236720"/>
                </a:cubicBezTo>
                <a:cubicBezTo>
                  <a:pt x="4823627" y="4250006"/>
                  <a:pt x="4777373" y="4260865"/>
                  <a:pt x="4732020" y="4274820"/>
                </a:cubicBezTo>
                <a:cubicBezTo>
                  <a:pt x="4711278" y="4281202"/>
                  <a:pt x="4691455" y="4290264"/>
                  <a:pt x="4671060" y="4297680"/>
                </a:cubicBezTo>
                <a:cubicBezTo>
                  <a:pt x="4663511" y="4300425"/>
                  <a:pt x="4656054" y="4303617"/>
                  <a:pt x="4648200" y="4305300"/>
                </a:cubicBezTo>
                <a:cubicBezTo>
                  <a:pt x="4620432" y="4311250"/>
                  <a:pt x="4592320" y="4315460"/>
                  <a:pt x="4564380" y="4320540"/>
                </a:cubicBezTo>
                <a:lnTo>
                  <a:pt x="4053840" y="4305300"/>
                </a:lnTo>
                <a:cubicBezTo>
                  <a:pt x="4027473" y="4304201"/>
                  <a:pt x="3962235" y="4280850"/>
                  <a:pt x="3947160" y="4274820"/>
                </a:cubicBezTo>
                <a:cubicBezTo>
                  <a:pt x="3931340" y="4268492"/>
                  <a:pt x="3917394" y="4257943"/>
                  <a:pt x="3901440" y="4251960"/>
                </a:cubicBezTo>
                <a:cubicBezTo>
                  <a:pt x="3851228" y="4233131"/>
                  <a:pt x="3808370" y="4225351"/>
                  <a:pt x="3756660" y="4213860"/>
                </a:cubicBezTo>
                <a:cubicBezTo>
                  <a:pt x="3585675" y="4116155"/>
                  <a:pt x="3834591" y="4251411"/>
                  <a:pt x="3634740" y="4168140"/>
                </a:cubicBezTo>
                <a:cubicBezTo>
                  <a:pt x="3624793" y="4163995"/>
                  <a:pt x="3621236" y="4150627"/>
                  <a:pt x="3611880" y="4145280"/>
                </a:cubicBezTo>
                <a:cubicBezTo>
                  <a:pt x="3602787" y="4140084"/>
                  <a:pt x="3591560" y="4140200"/>
                  <a:pt x="3581400" y="4137660"/>
                </a:cubicBezTo>
                <a:lnTo>
                  <a:pt x="2766060" y="4160520"/>
                </a:lnTo>
                <a:cubicBezTo>
                  <a:pt x="2732961" y="4161623"/>
                  <a:pt x="2699785" y="4163456"/>
                  <a:pt x="2667000" y="4168140"/>
                </a:cubicBezTo>
                <a:cubicBezTo>
                  <a:pt x="2622607" y="4174482"/>
                  <a:pt x="2550708" y="4194769"/>
                  <a:pt x="2499360" y="4198620"/>
                </a:cubicBezTo>
                <a:cubicBezTo>
                  <a:pt x="2415621" y="4204900"/>
                  <a:pt x="2331660" y="4207877"/>
                  <a:pt x="2247900" y="4213860"/>
                </a:cubicBezTo>
                <a:lnTo>
                  <a:pt x="2141220" y="4221480"/>
                </a:lnTo>
                <a:cubicBezTo>
                  <a:pt x="2128520" y="4224020"/>
                  <a:pt x="2115921" y="4227131"/>
                  <a:pt x="2103120" y="4229100"/>
                </a:cubicBezTo>
                <a:cubicBezTo>
                  <a:pt x="1896252" y="4260926"/>
                  <a:pt x="1661310" y="4231642"/>
                  <a:pt x="1470660" y="4229100"/>
                </a:cubicBezTo>
                <a:cubicBezTo>
                  <a:pt x="1281971" y="4202144"/>
                  <a:pt x="1362623" y="4220417"/>
                  <a:pt x="1226820" y="4183380"/>
                </a:cubicBezTo>
                <a:cubicBezTo>
                  <a:pt x="1193166" y="4158140"/>
                  <a:pt x="1179108" y="4152394"/>
                  <a:pt x="1158240" y="4107180"/>
                </a:cubicBezTo>
                <a:cubicBezTo>
                  <a:pt x="1157657" y="4105916"/>
                  <a:pt x="1148138" y="4024502"/>
                  <a:pt x="1135380" y="4023360"/>
                </a:cubicBezTo>
                <a:cubicBezTo>
                  <a:pt x="970919" y="4008632"/>
                  <a:pt x="805180" y="4018280"/>
                  <a:pt x="640080" y="4015740"/>
                </a:cubicBezTo>
                <a:cubicBezTo>
                  <a:pt x="624840" y="4013200"/>
                  <a:pt x="609266" y="4012185"/>
                  <a:pt x="594360" y="4008120"/>
                </a:cubicBezTo>
                <a:cubicBezTo>
                  <a:pt x="581164" y="4004521"/>
                  <a:pt x="569787" y="3994909"/>
                  <a:pt x="556260" y="3992880"/>
                </a:cubicBezTo>
                <a:cubicBezTo>
                  <a:pt x="518498" y="3987216"/>
                  <a:pt x="480060" y="3987800"/>
                  <a:pt x="441960" y="3985260"/>
                </a:cubicBezTo>
                <a:cubicBezTo>
                  <a:pt x="414020" y="3977640"/>
                  <a:pt x="386236" y="3969424"/>
                  <a:pt x="358140" y="3962400"/>
                </a:cubicBezTo>
                <a:cubicBezTo>
                  <a:pt x="335422" y="3956720"/>
                  <a:pt x="311487" y="3955382"/>
                  <a:pt x="289560" y="3947160"/>
                </a:cubicBezTo>
                <a:cubicBezTo>
                  <a:pt x="270386" y="3939970"/>
                  <a:pt x="254341" y="3926218"/>
                  <a:pt x="236220" y="3916680"/>
                </a:cubicBezTo>
                <a:cubicBezTo>
                  <a:pt x="206064" y="3900808"/>
                  <a:pt x="175260" y="3886200"/>
                  <a:pt x="144780" y="3870960"/>
                </a:cubicBezTo>
                <a:cubicBezTo>
                  <a:pt x="129540" y="3863340"/>
                  <a:pt x="112691" y="3858323"/>
                  <a:pt x="99060" y="3848100"/>
                </a:cubicBezTo>
                <a:lnTo>
                  <a:pt x="38100" y="3802380"/>
                </a:lnTo>
                <a:cubicBezTo>
                  <a:pt x="11699" y="3736377"/>
                  <a:pt x="29880" y="3791162"/>
                  <a:pt x="15240" y="3703320"/>
                </a:cubicBezTo>
                <a:cubicBezTo>
                  <a:pt x="13518" y="3692990"/>
                  <a:pt x="9342" y="3683170"/>
                  <a:pt x="7620" y="3672840"/>
                </a:cubicBezTo>
                <a:cubicBezTo>
                  <a:pt x="4253" y="3652640"/>
                  <a:pt x="2540" y="3632200"/>
                  <a:pt x="0" y="3611880"/>
                </a:cubicBezTo>
                <a:cubicBezTo>
                  <a:pt x="2540" y="3510280"/>
                  <a:pt x="3107" y="3408612"/>
                  <a:pt x="7620" y="3307080"/>
                </a:cubicBezTo>
                <a:cubicBezTo>
                  <a:pt x="9269" y="3269968"/>
                  <a:pt x="19569" y="3265796"/>
                  <a:pt x="30480" y="3230880"/>
                </a:cubicBezTo>
                <a:cubicBezTo>
                  <a:pt x="120769" y="2941954"/>
                  <a:pt x="9123" y="3279710"/>
                  <a:pt x="68580" y="3101340"/>
                </a:cubicBezTo>
                <a:cubicBezTo>
                  <a:pt x="71120" y="3063240"/>
                  <a:pt x="73479" y="3025128"/>
                  <a:pt x="76200" y="2987040"/>
                </a:cubicBezTo>
                <a:cubicBezTo>
                  <a:pt x="78560" y="2954007"/>
                  <a:pt x="83820" y="2921098"/>
                  <a:pt x="83820" y="2887980"/>
                </a:cubicBezTo>
                <a:cubicBezTo>
                  <a:pt x="83820" y="2664446"/>
                  <a:pt x="80626" y="2440911"/>
                  <a:pt x="76200" y="2217420"/>
                </a:cubicBezTo>
                <a:cubicBezTo>
                  <a:pt x="74336" y="2123308"/>
                  <a:pt x="75663" y="2139608"/>
                  <a:pt x="53340" y="2072640"/>
                </a:cubicBezTo>
                <a:cubicBezTo>
                  <a:pt x="55880" y="1945640"/>
                  <a:pt x="56170" y="1818575"/>
                  <a:pt x="60960" y="1691640"/>
                </a:cubicBezTo>
                <a:cubicBezTo>
                  <a:pt x="61263" y="1683614"/>
                  <a:pt x="66632" y="1676572"/>
                  <a:pt x="68580" y="1668780"/>
                </a:cubicBezTo>
                <a:cubicBezTo>
                  <a:pt x="74260" y="1646062"/>
                  <a:pt x="79970" y="1623299"/>
                  <a:pt x="83820" y="1600200"/>
                </a:cubicBezTo>
                <a:cubicBezTo>
                  <a:pt x="99350" y="1507019"/>
                  <a:pt x="77867" y="1558767"/>
                  <a:pt x="106680" y="1501140"/>
                </a:cubicBezTo>
                <a:cubicBezTo>
                  <a:pt x="109220" y="1488440"/>
                  <a:pt x="110892" y="1475535"/>
                  <a:pt x="114300" y="1463040"/>
                </a:cubicBezTo>
                <a:cubicBezTo>
                  <a:pt x="122646" y="1432437"/>
                  <a:pt x="142483" y="1384127"/>
                  <a:pt x="152400" y="1356360"/>
                </a:cubicBezTo>
                <a:cubicBezTo>
                  <a:pt x="168031" y="1312594"/>
                  <a:pt x="170063" y="1291765"/>
                  <a:pt x="198120" y="1249680"/>
                </a:cubicBezTo>
                <a:cubicBezTo>
                  <a:pt x="206090" y="1237725"/>
                  <a:pt x="220630" y="1231155"/>
                  <a:pt x="228600" y="1219200"/>
                </a:cubicBezTo>
                <a:cubicBezTo>
                  <a:pt x="241202" y="1200297"/>
                  <a:pt x="248920" y="1178560"/>
                  <a:pt x="259080" y="1158240"/>
                </a:cubicBezTo>
                <a:lnTo>
                  <a:pt x="274320" y="1127760"/>
                </a:lnTo>
                <a:cubicBezTo>
                  <a:pt x="279400" y="1117600"/>
                  <a:pt x="283716" y="1107020"/>
                  <a:pt x="289560" y="1097280"/>
                </a:cubicBezTo>
                <a:cubicBezTo>
                  <a:pt x="328210" y="1032864"/>
                  <a:pt x="295597" y="1084256"/>
                  <a:pt x="335280" y="1028700"/>
                </a:cubicBezTo>
                <a:cubicBezTo>
                  <a:pt x="340603" y="1021248"/>
                  <a:pt x="345025" y="1013166"/>
                  <a:pt x="350520" y="1005840"/>
                </a:cubicBezTo>
                <a:cubicBezTo>
                  <a:pt x="360278" y="992829"/>
                  <a:pt x="372476" y="981591"/>
                  <a:pt x="381000" y="967740"/>
                </a:cubicBezTo>
                <a:cubicBezTo>
                  <a:pt x="392907" y="948392"/>
                  <a:pt x="401320" y="927100"/>
                  <a:pt x="411480" y="906780"/>
                </a:cubicBezTo>
                <a:cubicBezTo>
                  <a:pt x="416560" y="896620"/>
                  <a:pt x="420419" y="885751"/>
                  <a:pt x="426720" y="876300"/>
                </a:cubicBezTo>
                <a:lnTo>
                  <a:pt x="441960" y="853440"/>
                </a:lnTo>
                <a:cubicBezTo>
                  <a:pt x="444500" y="830580"/>
                  <a:pt x="444408" y="807272"/>
                  <a:pt x="449580" y="784860"/>
                </a:cubicBezTo>
                <a:cubicBezTo>
                  <a:pt x="452134" y="773792"/>
                  <a:pt x="460120" y="764721"/>
                  <a:pt x="464820" y="754380"/>
                </a:cubicBezTo>
                <a:cubicBezTo>
                  <a:pt x="472825" y="736770"/>
                  <a:pt x="480060" y="718820"/>
                  <a:pt x="487680" y="701040"/>
                </a:cubicBezTo>
                <a:cubicBezTo>
                  <a:pt x="492882" y="675032"/>
                  <a:pt x="499670" y="643218"/>
                  <a:pt x="502920" y="617220"/>
                </a:cubicBezTo>
                <a:cubicBezTo>
                  <a:pt x="515913" y="513275"/>
                  <a:pt x="502572" y="572892"/>
                  <a:pt x="518160" y="510540"/>
                </a:cubicBezTo>
                <a:cubicBezTo>
                  <a:pt x="513214" y="401732"/>
                  <a:pt x="527793" y="386367"/>
                  <a:pt x="502920" y="320040"/>
                </a:cubicBezTo>
                <a:cubicBezTo>
                  <a:pt x="498117" y="307233"/>
                  <a:pt x="495524" y="293146"/>
                  <a:pt x="487680" y="281940"/>
                </a:cubicBezTo>
                <a:cubicBezTo>
                  <a:pt x="479258" y="269908"/>
                  <a:pt x="446089" y="237209"/>
                  <a:pt x="426720" y="228600"/>
                </a:cubicBezTo>
                <a:lnTo>
                  <a:pt x="358140" y="198120"/>
                </a:lnTo>
                <a:close/>
              </a:path>
            </a:pathLst>
          </a:custGeom>
          <a:noFill/>
          <a:ln w="4428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矩形 4"/>
          <p:cNvSpPr/>
          <p:nvPr/>
        </p:nvSpPr>
        <p:spPr>
          <a:xfrm>
            <a:off x="814320" y="709560"/>
            <a:ext cx="72741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这个故事告诉我们：每个人都有自己的特点，要正确对待别人的看法，要有自己的判断，不要为了迎合别人而盲目地改变自己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直接连接符 96257"/>
          <p:cNvSpPr/>
          <p:nvPr/>
        </p:nvSpPr>
        <p:spPr>
          <a:xfrm flipV="1">
            <a:off x="1752480" y="4400280"/>
            <a:ext cx="0" cy="39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直接连接符 96258"/>
          <p:cNvSpPr/>
          <p:nvPr/>
        </p:nvSpPr>
        <p:spPr>
          <a:xfrm>
            <a:off x="1752480" y="44006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直接连接符 96259"/>
          <p:cNvSpPr/>
          <p:nvPr/>
        </p:nvSpPr>
        <p:spPr>
          <a:xfrm flipV="1">
            <a:off x="2666880" y="4000320"/>
            <a:ext cx="0" cy="39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直接连接符 96260"/>
          <p:cNvSpPr/>
          <p:nvPr/>
        </p:nvSpPr>
        <p:spPr>
          <a:xfrm flipV="1">
            <a:off x="3733920" y="3600360"/>
            <a:ext cx="0" cy="40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直接连接符 96261"/>
          <p:cNvSpPr/>
          <p:nvPr/>
        </p:nvSpPr>
        <p:spPr>
          <a:xfrm flipV="1">
            <a:off x="4724280" y="3200040"/>
            <a:ext cx="0" cy="39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直接连接符 96262"/>
          <p:cNvSpPr/>
          <p:nvPr/>
        </p:nvSpPr>
        <p:spPr>
          <a:xfrm flipV="1">
            <a:off x="5791320" y="2800080"/>
            <a:ext cx="0" cy="39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直接连接符 96263"/>
          <p:cNvSpPr/>
          <p:nvPr/>
        </p:nvSpPr>
        <p:spPr>
          <a:xfrm>
            <a:off x="2666880" y="400068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直接连接符 96264"/>
          <p:cNvSpPr/>
          <p:nvPr/>
        </p:nvSpPr>
        <p:spPr>
          <a:xfrm>
            <a:off x="3733920" y="360036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直接连接符 96265"/>
          <p:cNvSpPr/>
          <p:nvPr/>
        </p:nvSpPr>
        <p:spPr>
          <a:xfrm>
            <a:off x="4724280" y="320040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直接连接符 96266"/>
          <p:cNvSpPr/>
          <p:nvPr/>
        </p:nvSpPr>
        <p:spPr>
          <a:xfrm>
            <a:off x="5791320" y="2800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直接连接符 96267"/>
          <p:cNvSpPr/>
          <p:nvPr/>
        </p:nvSpPr>
        <p:spPr>
          <a:xfrm flipV="1">
            <a:off x="6705720" y="2400120"/>
            <a:ext cx="0" cy="39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直接连接符 96268"/>
          <p:cNvSpPr/>
          <p:nvPr/>
        </p:nvSpPr>
        <p:spPr>
          <a:xfrm>
            <a:off x="6705720" y="24004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直角三角形 96269"/>
          <p:cNvSpPr/>
          <p:nvPr/>
        </p:nvSpPr>
        <p:spPr>
          <a:xfrm>
            <a:off x="8534520" y="1371600"/>
            <a:ext cx="457200" cy="343080"/>
          </a:xfrm>
          <a:prstGeom prst="rtTriangl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直接连接符 96270"/>
          <p:cNvSpPr/>
          <p:nvPr/>
        </p:nvSpPr>
        <p:spPr>
          <a:xfrm flipV="1">
            <a:off x="7620120" y="2000160"/>
            <a:ext cx="0" cy="40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直接连接符 96271"/>
          <p:cNvSpPr/>
          <p:nvPr/>
        </p:nvSpPr>
        <p:spPr>
          <a:xfrm>
            <a:off x="7620120" y="200016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直接连接符 96272"/>
          <p:cNvSpPr/>
          <p:nvPr/>
        </p:nvSpPr>
        <p:spPr>
          <a:xfrm flipV="1">
            <a:off x="8534520" y="137160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文本框 96273"/>
          <p:cNvSpPr/>
          <p:nvPr/>
        </p:nvSpPr>
        <p:spPr>
          <a:xfrm>
            <a:off x="1763640" y="386856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文本框 96276"/>
          <p:cNvSpPr/>
          <p:nvPr/>
        </p:nvSpPr>
        <p:spPr>
          <a:xfrm>
            <a:off x="4859280" y="2427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文本框 96277"/>
          <p:cNvSpPr/>
          <p:nvPr/>
        </p:nvSpPr>
        <p:spPr>
          <a:xfrm>
            <a:off x="5848200" y="20667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文本框 96278"/>
          <p:cNvSpPr/>
          <p:nvPr/>
        </p:nvSpPr>
        <p:spPr>
          <a:xfrm>
            <a:off x="7677000" y="1276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文本框 96279"/>
          <p:cNvSpPr/>
          <p:nvPr/>
        </p:nvSpPr>
        <p:spPr>
          <a:xfrm>
            <a:off x="6762600" y="1635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文本框 1" descr=""/>
          <p:cNvPicPr/>
          <p:nvPr/>
        </p:nvPicPr>
        <p:blipFill>
          <a:blip r:embed="rId2"/>
          <a:stretch/>
        </p:blipFill>
        <p:spPr>
          <a:xfrm>
            <a:off x="3181320" y="425520"/>
            <a:ext cx="3732120" cy="1082520"/>
          </a:xfrm>
          <a:prstGeom prst="rect">
            <a:avLst/>
          </a:prstGeom>
          <a:ln w="0">
            <a:noFill/>
          </a:ln>
        </p:spPr>
      </p:pic>
      <p:sp>
        <p:nvSpPr>
          <p:cNvPr id="738" name="文本框 96276"/>
          <p:cNvSpPr/>
          <p:nvPr/>
        </p:nvSpPr>
        <p:spPr>
          <a:xfrm>
            <a:off x="3887640" y="29178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/>
          <p:nvPr/>
        </p:nvSpPr>
        <p:spPr>
          <a:xfrm>
            <a:off x="2556000" y="32194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会观察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9" name="Picture 23" descr=""/>
          <p:cNvPicPr/>
          <p:nvPr/>
        </p:nvPicPr>
        <p:blipFill>
          <a:blip r:embed="rId2"/>
          <a:stretch/>
        </p:blipFill>
        <p:spPr>
          <a:xfrm>
            <a:off x="2122560" y="2062080"/>
            <a:ext cx="1884240" cy="1222560"/>
          </a:xfrm>
          <a:prstGeom prst="rect">
            <a:avLst/>
          </a:prstGeom>
          <a:ln w="0">
            <a:noFill/>
          </a:ln>
        </p:spPr>
      </p:pic>
      <p:sp>
        <p:nvSpPr>
          <p:cNvPr id="1620" name=""/>
          <p:cNvSpPr/>
          <p:nvPr/>
        </p:nvSpPr>
        <p:spPr>
          <a:xfrm>
            <a:off x="2232000" y="1779480"/>
            <a:ext cx="19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"/>
              </a:rPr>
              <a:t>慢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1" name="Picture 23" descr=""/>
          <p:cNvPicPr/>
          <p:nvPr/>
        </p:nvPicPr>
        <p:blipFill>
          <a:blip r:embed="rId3"/>
          <a:stretch/>
        </p:blipFill>
        <p:spPr>
          <a:xfrm>
            <a:off x="4500720" y="1995480"/>
            <a:ext cx="1884240" cy="1252440"/>
          </a:xfrm>
          <a:prstGeom prst="rect">
            <a:avLst/>
          </a:prstGeom>
          <a:ln w="0">
            <a:noFill/>
          </a:ln>
        </p:spPr>
      </p:pic>
      <p:sp>
        <p:nvSpPr>
          <p:cNvPr id="1622" name=""/>
          <p:cNvSpPr/>
          <p:nvPr/>
        </p:nvSpPr>
        <p:spPr>
          <a:xfrm>
            <a:off x="4888800" y="17794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"/>
              </a:rPr>
              <a:t>跟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会观察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4" name="Picture 23" descr=""/>
          <p:cNvPicPr/>
          <p:nvPr/>
        </p:nvPicPr>
        <p:blipFill>
          <a:blip r:embed="rId2"/>
          <a:stretch/>
        </p:blipFill>
        <p:spPr>
          <a:xfrm>
            <a:off x="2122560" y="2062080"/>
            <a:ext cx="1884240" cy="1222560"/>
          </a:xfrm>
          <a:prstGeom prst="rect">
            <a:avLst/>
          </a:prstGeom>
          <a:ln w="0">
            <a:noFill/>
          </a:ln>
        </p:spPr>
      </p:pic>
      <p:sp>
        <p:nvSpPr>
          <p:cNvPr id="1625" name=""/>
          <p:cNvSpPr/>
          <p:nvPr/>
        </p:nvSpPr>
        <p:spPr>
          <a:xfrm>
            <a:off x="2232000" y="1779480"/>
            <a:ext cx="19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"/>
              </a:rPr>
              <a:t>兔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6" name="Picture 23" descr=""/>
          <p:cNvPicPr/>
          <p:nvPr/>
        </p:nvPicPr>
        <p:blipFill>
          <a:blip r:embed="rId3"/>
          <a:stretch/>
        </p:blipFill>
        <p:spPr>
          <a:xfrm>
            <a:off x="4500720" y="1995480"/>
            <a:ext cx="1884240" cy="1252440"/>
          </a:xfrm>
          <a:prstGeom prst="rect">
            <a:avLst/>
          </a:prstGeom>
          <a:ln w="0">
            <a:noFill/>
          </a:ln>
        </p:spPr>
      </p:pic>
      <p:sp>
        <p:nvSpPr>
          <p:cNvPr id="1627" name=""/>
          <p:cNvSpPr/>
          <p:nvPr/>
        </p:nvSpPr>
        <p:spPr>
          <a:xfrm>
            <a:off x="4888800" y="17794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"/>
              </a:rPr>
              <a:t>安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8" name="Picture 23" descr=""/>
          <p:cNvPicPr/>
          <p:nvPr/>
        </p:nvPicPr>
        <p:blipFill>
          <a:blip r:embed="rId4"/>
          <a:stretch/>
        </p:blipFill>
        <p:spPr>
          <a:xfrm>
            <a:off x="6804000" y="1995480"/>
            <a:ext cx="1884240" cy="1252440"/>
          </a:xfrm>
          <a:prstGeom prst="rect">
            <a:avLst/>
          </a:prstGeom>
          <a:ln w="0">
            <a:noFill/>
          </a:ln>
        </p:spPr>
      </p:pic>
      <p:sp>
        <p:nvSpPr>
          <p:cNvPr id="1629" name=""/>
          <p:cNvSpPr/>
          <p:nvPr/>
        </p:nvSpPr>
        <p:spPr>
          <a:xfrm>
            <a:off x="7265520" y="17794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"/>
              </a:rPr>
              <a:t>最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矩形 1"/>
          <p:cNvSpPr/>
          <p:nvPr/>
        </p:nvSpPr>
        <p:spPr>
          <a:xfrm>
            <a:off x="969840" y="733320"/>
            <a:ext cx="720432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邯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(h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á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n)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郸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(d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ā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n)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学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据说，赵国的首都邯郸的人走路的姿态很好看，动作非常优雅、轻快。燕国有一个少年听到这个传说，非常羡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(xi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à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n)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慕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(m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ù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邯郸人，就走了很远的路去赵国，想学习邯郸人走路的方法。刚开始，他整天站在街头，仔细研究每个人走路的姿态，再慢慢模仿他们，可是都没有成功。后来，他想可能是受到过去走路习惯的影响吧，所以，他决定要彻底忘掉以前走路的方法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1" name="组合 3"/>
          <p:cNvGrpSpPr/>
          <p:nvPr/>
        </p:nvGrpSpPr>
        <p:grpSpPr>
          <a:xfrm>
            <a:off x="568440" y="233280"/>
            <a:ext cx="1944720" cy="500040"/>
            <a:chOff x="568440" y="233280"/>
            <a:chExt cx="1944720" cy="500040"/>
          </a:xfrm>
        </p:grpSpPr>
        <p:sp>
          <p:nvSpPr>
            <p:cNvPr id="1632" name="圆角矩形 7"/>
            <p:cNvSpPr/>
            <p:nvPr/>
          </p:nvSpPr>
          <p:spPr>
            <a:xfrm>
              <a:off x="1180080" y="336600"/>
              <a:ext cx="1333080" cy="336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33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68440" y="233280"/>
              <a:ext cx="8150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4" name="文本框 16"/>
            <p:cNvSpPr/>
            <p:nvPr/>
          </p:nvSpPr>
          <p:spPr>
            <a:xfrm>
              <a:off x="1374480" y="351000"/>
              <a:ext cx="11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矩形 1"/>
          <p:cNvSpPr/>
          <p:nvPr/>
        </p:nvSpPr>
        <p:spPr>
          <a:xfrm>
            <a:off x="665280" y="912960"/>
            <a:ext cx="7761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从那时起，他更专心研究邯郸人走路的姿势，不过，再怎么努力他还是学不会，最后他只好放弃。可是，因为他把以前走路的方法忘得一干二净，已经不知道该怎么走路了，只好一路爬着回去。别人看到他的样子，都忍不住笑他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6" name="图片 30" descr=""/>
          <p:cNvPicPr/>
          <p:nvPr/>
        </p:nvPicPr>
        <p:blipFill>
          <a:blip r:embed="rId2"/>
          <a:stretch/>
        </p:blipFill>
        <p:spPr>
          <a:xfrm>
            <a:off x="663480" y="2438280"/>
            <a:ext cx="3025800" cy="2136960"/>
          </a:xfrm>
          <a:prstGeom prst="rect">
            <a:avLst/>
          </a:prstGeom>
          <a:ln w="0">
            <a:noFill/>
          </a:ln>
        </p:spPr>
      </p:pic>
      <p:pic>
        <p:nvPicPr>
          <p:cNvPr id="1637" name="图片 1" descr=""/>
          <p:cNvPicPr/>
          <p:nvPr/>
        </p:nvPicPr>
        <p:blipFill>
          <a:blip r:embed="rId3"/>
          <a:stretch/>
        </p:blipFill>
        <p:spPr>
          <a:xfrm>
            <a:off x="5924520" y="4753080"/>
            <a:ext cx="2038320" cy="33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矩形 4"/>
          <p:cNvSpPr/>
          <p:nvPr/>
        </p:nvSpPr>
        <p:spPr>
          <a:xfrm>
            <a:off x="857160" y="1073160"/>
            <a:ext cx="5821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冰波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本名赵冰波，杭州人。国家一级作家。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州作家协会副主席。 主要作品有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童话集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窗下的树皮小屋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毒蜘蛛之死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冰波童话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爱的故事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蛤蟆小姐减肥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，中篇童话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怪蜗牛奇遇记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长颈鹿拉拉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红蜻蜓，红蜻蜓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，长篇童话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怪蛋之谜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狼蝙蝠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文本框 2"/>
          <p:cNvSpPr/>
          <p:nvPr/>
        </p:nvSpPr>
        <p:spPr>
          <a:xfrm>
            <a:off x="3886200" y="34920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8ed5"/>
                </a:solidFill>
                <a:latin typeface="Calibri"/>
              </a:rPr>
              <a:t>我爱阅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0" name="图片 2" descr="08af64b191252d2e85d8a02859dd3b34"/>
          <p:cNvPicPr/>
          <p:nvPr/>
        </p:nvPicPr>
        <p:blipFill>
          <a:blip r:embed="rId2"/>
          <a:stretch/>
        </p:blipFill>
        <p:spPr>
          <a:xfrm>
            <a:off x="5818320" y="200160"/>
            <a:ext cx="269712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TextBox 1"/>
          <p:cNvSpPr/>
          <p:nvPr/>
        </p:nvSpPr>
        <p:spPr>
          <a:xfrm>
            <a:off x="1784520" y="2155680"/>
            <a:ext cx="53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跟家人或朋友分享这个故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2" name="组合 27"/>
          <p:cNvGrpSpPr/>
          <p:nvPr/>
        </p:nvGrpSpPr>
        <p:grpSpPr>
          <a:xfrm>
            <a:off x="3012840" y="866520"/>
            <a:ext cx="2597040" cy="646560"/>
            <a:chOff x="3012840" y="866520"/>
            <a:chExt cx="2597040" cy="646560"/>
          </a:xfrm>
        </p:grpSpPr>
        <p:sp>
          <p:nvSpPr>
            <p:cNvPr id="1643" name="矩形: 圆角 28"/>
            <p:cNvSpPr/>
            <p:nvPr/>
          </p:nvSpPr>
          <p:spPr>
            <a:xfrm rot="671400">
              <a:off x="3058920" y="918720"/>
              <a:ext cx="590400" cy="533520"/>
            </a:xfrm>
            <a:prstGeom prst="roundRect">
              <a:avLst>
                <a:gd name="adj" fmla="val 16667"/>
              </a:avLst>
            </a:prstGeom>
            <a:solidFill>
              <a:srgbClr val="f2dcdb"/>
            </a:solidFill>
            <a:ln w="9360">
              <a:solidFill>
                <a:srgbClr val="ff9999">
                  <a:alpha val="3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课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矩形: 圆角 29"/>
            <p:cNvSpPr/>
            <p:nvPr/>
          </p:nvSpPr>
          <p:spPr>
            <a:xfrm rot="21203400">
              <a:off x="3713040" y="915480"/>
              <a:ext cx="590400" cy="5335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后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矩形: 圆角 30"/>
            <p:cNvSpPr/>
            <p:nvPr/>
          </p:nvSpPr>
          <p:spPr>
            <a:xfrm rot="497400">
              <a:off x="4351320" y="937440"/>
              <a:ext cx="592200" cy="535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作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矩形: 圆角 30"/>
            <p:cNvSpPr/>
            <p:nvPr/>
          </p:nvSpPr>
          <p:spPr>
            <a:xfrm rot="21330600">
              <a:off x="4997520" y="939600"/>
              <a:ext cx="592200" cy="532080"/>
            </a:xfrm>
            <a:prstGeom prst="roundRect">
              <a:avLst>
                <a:gd name="adj" fmla="val 16667"/>
              </a:avLst>
            </a:prstGeom>
            <a:solidFill>
              <a:srgbClr val="ccff66">
                <a:alpha val="70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业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7" name="矩形 1" descr=""/>
          <p:cNvPicPr/>
          <p:nvPr/>
        </p:nvPicPr>
        <p:blipFill>
          <a:blip r:embed="rId2"/>
          <a:stretch/>
        </p:blipFill>
        <p:spPr>
          <a:xfrm>
            <a:off x="3562200" y="1971720"/>
            <a:ext cx="2152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组合 3"/>
          <p:cNvGrpSpPr/>
          <p:nvPr/>
        </p:nvGrpSpPr>
        <p:grpSpPr>
          <a:xfrm>
            <a:off x="826920" y="1276200"/>
            <a:ext cx="7239240" cy="2857680"/>
            <a:chOff x="826920" y="1276200"/>
            <a:chExt cx="7239240" cy="2857680"/>
          </a:xfrm>
        </p:grpSpPr>
        <p:sp>
          <p:nvSpPr>
            <p:cNvPr id="741" name="任意多边形: 形状 2"/>
            <p:cNvSpPr/>
            <p:nvPr/>
          </p:nvSpPr>
          <p:spPr>
            <a:xfrm>
              <a:off x="1115640" y="1276200"/>
              <a:ext cx="6950520" cy="2857680"/>
            </a:xfrm>
            <a:custGeom>
              <a:avLst/>
              <a:gdLst/>
              <a:ahLst/>
              <a:rect l="l" t="t" r="r" b="b"/>
              <a:pathLst>
                <a:path w="6950665" h="2857939">
                  <a:moveTo>
                    <a:pt x="315918" y="518777"/>
                  </a:moveTo>
                  <a:lnTo>
                    <a:pt x="315918" y="518777"/>
                  </a:lnTo>
                  <a:cubicBezTo>
                    <a:pt x="325369" y="495149"/>
                    <a:pt x="331040" y="469631"/>
                    <a:pt x="344272" y="447893"/>
                  </a:cubicBezTo>
                  <a:cubicBezTo>
                    <a:pt x="352804" y="433876"/>
                    <a:pt x="412068" y="352543"/>
                    <a:pt x="443509" y="327391"/>
                  </a:cubicBezTo>
                  <a:cubicBezTo>
                    <a:pt x="464094" y="310923"/>
                    <a:pt x="503482" y="287421"/>
                    <a:pt x="528569" y="277772"/>
                  </a:cubicBezTo>
                  <a:cubicBezTo>
                    <a:pt x="544624" y="271597"/>
                    <a:pt x="561747" y="268654"/>
                    <a:pt x="578188" y="263595"/>
                  </a:cubicBezTo>
                  <a:cubicBezTo>
                    <a:pt x="592471" y="259200"/>
                    <a:pt x="606279" y="253269"/>
                    <a:pt x="620718" y="249419"/>
                  </a:cubicBezTo>
                  <a:cubicBezTo>
                    <a:pt x="641767" y="243806"/>
                    <a:pt x="663741" y="241802"/>
                    <a:pt x="684514" y="235242"/>
                  </a:cubicBezTo>
                  <a:cubicBezTo>
                    <a:pt x="708781" y="227579"/>
                    <a:pt x="730601" y="212610"/>
                    <a:pt x="755397" y="206888"/>
                  </a:cubicBezTo>
                  <a:cubicBezTo>
                    <a:pt x="789341" y="199055"/>
                    <a:pt x="903045" y="189600"/>
                    <a:pt x="946783" y="185623"/>
                  </a:cubicBezTo>
                  <a:cubicBezTo>
                    <a:pt x="968048" y="180897"/>
                    <a:pt x="988796" y="171625"/>
                    <a:pt x="1010579" y="171446"/>
                  </a:cubicBezTo>
                  <a:cubicBezTo>
                    <a:pt x="1725659" y="165585"/>
                    <a:pt x="1554109" y="146355"/>
                    <a:pt x="1868272" y="185623"/>
                  </a:cubicBezTo>
                  <a:cubicBezTo>
                    <a:pt x="1877723" y="190349"/>
                    <a:pt x="1886504" y="196764"/>
                    <a:pt x="1896625" y="199800"/>
                  </a:cubicBezTo>
                  <a:cubicBezTo>
                    <a:pt x="1923866" y="207972"/>
                    <a:pt x="1937301" y="202418"/>
                    <a:pt x="1960420" y="213977"/>
                  </a:cubicBezTo>
                  <a:cubicBezTo>
                    <a:pt x="1968040" y="217787"/>
                    <a:pt x="1974066" y="224343"/>
                    <a:pt x="1981686" y="228153"/>
                  </a:cubicBezTo>
                  <a:cubicBezTo>
                    <a:pt x="2061191" y="267905"/>
                    <a:pt x="1928081" y="190435"/>
                    <a:pt x="2031304" y="249419"/>
                  </a:cubicBezTo>
                  <a:cubicBezTo>
                    <a:pt x="2038701" y="253646"/>
                    <a:pt x="2044592" y="260604"/>
                    <a:pt x="2052569" y="263595"/>
                  </a:cubicBezTo>
                  <a:cubicBezTo>
                    <a:pt x="2060500" y="266569"/>
                    <a:pt x="2125757" y="276975"/>
                    <a:pt x="2130541" y="277772"/>
                  </a:cubicBezTo>
                  <a:cubicBezTo>
                    <a:pt x="2175434" y="275409"/>
                    <a:pt x="2220449" y="274754"/>
                    <a:pt x="2265220" y="270684"/>
                  </a:cubicBezTo>
                  <a:cubicBezTo>
                    <a:pt x="2272661" y="270007"/>
                    <a:pt x="2279490" y="266219"/>
                    <a:pt x="2286486" y="263595"/>
                  </a:cubicBezTo>
                  <a:cubicBezTo>
                    <a:pt x="2339929" y="243554"/>
                    <a:pt x="2303744" y="256721"/>
                    <a:pt x="2350281" y="235242"/>
                  </a:cubicBezTo>
                  <a:cubicBezTo>
                    <a:pt x="2425104" y="200708"/>
                    <a:pt x="2394083" y="209744"/>
                    <a:pt x="2463695" y="199800"/>
                  </a:cubicBezTo>
                  <a:cubicBezTo>
                    <a:pt x="2480235" y="192712"/>
                    <a:pt x="2496932" y="185981"/>
                    <a:pt x="2513314" y="178535"/>
                  </a:cubicBezTo>
                  <a:cubicBezTo>
                    <a:pt x="2552965" y="160512"/>
                    <a:pt x="2540124" y="161365"/>
                    <a:pt x="2591286" y="143093"/>
                  </a:cubicBezTo>
                  <a:cubicBezTo>
                    <a:pt x="2607485" y="137308"/>
                    <a:pt x="2624658" y="134567"/>
                    <a:pt x="2640904" y="128916"/>
                  </a:cubicBezTo>
                  <a:cubicBezTo>
                    <a:pt x="2787069" y="78076"/>
                    <a:pt x="2707269" y="93107"/>
                    <a:pt x="2803937" y="79298"/>
                  </a:cubicBezTo>
                  <a:cubicBezTo>
                    <a:pt x="2818114" y="72209"/>
                    <a:pt x="2831038" y="61662"/>
                    <a:pt x="2846467" y="58032"/>
                  </a:cubicBezTo>
                  <a:cubicBezTo>
                    <a:pt x="2871871" y="52054"/>
                    <a:pt x="2898485" y="53676"/>
                    <a:pt x="2924439" y="50944"/>
                  </a:cubicBezTo>
                  <a:cubicBezTo>
                    <a:pt x="2943384" y="48950"/>
                    <a:pt x="2962244" y="46219"/>
                    <a:pt x="2981146" y="43856"/>
                  </a:cubicBezTo>
                  <a:cubicBezTo>
                    <a:pt x="3192748" y="-40786"/>
                    <a:pt x="3027190" y="20192"/>
                    <a:pt x="3590746" y="36767"/>
                  </a:cubicBezTo>
                  <a:cubicBezTo>
                    <a:pt x="3640568" y="38232"/>
                    <a:pt x="3739602" y="50944"/>
                    <a:pt x="3739602" y="50944"/>
                  </a:cubicBezTo>
                  <a:cubicBezTo>
                    <a:pt x="3753779" y="55670"/>
                    <a:pt x="3767763" y="61016"/>
                    <a:pt x="3782132" y="65121"/>
                  </a:cubicBezTo>
                  <a:cubicBezTo>
                    <a:pt x="3800866" y="70474"/>
                    <a:pt x="3820242" y="73486"/>
                    <a:pt x="3838839" y="79298"/>
                  </a:cubicBezTo>
                  <a:cubicBezTo>
                    <a:pt x="3858108" y="85320"/>
                    <a:pt x="3876277" y="94542"/>
                    <a:pt x="3895546" y="100563"/>
                  </a:cubicBezTo>
                  <a:cubicBezTo>
                    <a:pt x="3914143" y="106374"/>
                    <a:pt x="3933656" y="108927"/>
                    <a:pt x="3952253" y="114739"/>
                  </a:cubicBezTo>
                  <a:cubicBezTo>
                    <a:pt x="4083906" y="155881"/>
                    <a:pt x="3957610" y="123168"/>
                    <a:pt x="4037314" y="143093"/>
                  </a:cubicBezTo>
                  <a:cubicBezTo>
                    <a:pt x="4044402" y="150181"/>
                    <a:pt x="4050422" y="158531"/>
                    <a:pt x="4058579" y="164358"/>
                  </a:cubicBezTo>
                  <a:cubicBezTo>
                    <a:pt x="4067177" y="170500"/>
                    <a:pt x="4077758" y="173292"/>
                    <a:pt x="4086932" y="178535"/>
                  </a:cubicBezTo>
                  <a:cubicBezTo>
                    <a:pt x="4125405" y="200520"/>
                    <a:pt x="4090475" y="186805"/>
                    <a:pt x="4129462" y="199800"/>
                  </a:cubicBezTo>
                  <a:cubicBezTo>
                    <a:pt x="4138913" y="213977"/>
                    <a:pt x="4152428" y="226166"/>
                    <a:pt x="4157816" y="242330"/>
                  </a:cubicBezTo>
                  <a:cubicBezTo>
                    <a:pt x="4160179" y="249418"/>
                    <a:pt x="4160237" y="257761"/>
                    <a:pt x="4164904" y="263595"/>
                  </a:cubicBezTo>
                  <a:cubicBezTo>
                    <a:pt x="4177142" y="278893"/>
                    <a:pt x="4197496" y="280604"/>
                    <a:pt x="4214523" y="284860"/>
                  </a:cubicBezTo>
                  <a:cubicBezTo>
                    <a:pt x="4226359" y="284452"/>
                    <a:pt x="4419072" y="283028"/>
                    <a:pt x="4483881" y="270684"/>
                  </a:cubicBezTo>
                  <a:cubicBezTo>
                    <a:pt x="4512591" y="265216"/>
                    <a:pt x="4540231" y="254888"/>
                    <a:pt x="4568941" y="249419"/>
                  </a:cubicBezTo>
                  <a:cubicBezTo>
                    <a:pt x="4607481" y="242078"/>
                    <a:pt x="4722741" y="236705"/>
                    <a:pt x="4746151" y="235242"/>
                  </a:cubicBezTo>
                  <a:lnTo>
                    <a:pt x="5554225" y="249419"/>
                  </a:lnTo>
                  <a:cubicBezTo>
                    <a:pt x="5563964" y="249667"/>
                    <a:pt x="5573180" y="253944"/>
                    <a:pt x="5582579" y="256507"/>
                  </a:cubicBezTo>
                  <a:cubicBezTo>
                    <a:pt x="5675170" y="281759"/>
                    <a:pt x="5593488" y="258689"/>
                    <a:pt x="5667639" y="284860"/>
                  </a:cubicBezTo>
                  <a:cubicBezTo>
                    <a:pt x="5695823" y="294807"/>
                    <a:pt x="5724346" y="303763"/>
                    <a:pt x="5752700" y="313214"/>
                  </a:cubicBezTo>
                  <a:lnTo>
                    <a:pt x="5773965" y="320302"/>
                  </a:lnTo>
                  <a:lnTo>
                    <a:pt x="5816495" y="334479"/>
                  </a:lnTo>
                  <a:cubicBezTo>
                    <a:pt x="5894986" y="397272"/>
                    <a:pt x="5858024" y="383847"/>
                    <a:pt x="5915732" y="398274"/>
                  </a:cubicBezTo>
                  <a:cubicBezTo>
                    <a:pt x="5941292" y="500522"/>
                    <a:pt x="5894894" y="316254"/>
                    <a:pt x="5936997" y="476246"/>
                  </a:cubicBezTo>
                  <a:cubicBezTo>
                    <a:pt x="5944435" y="504510"/>
                    <a:pt x="5946749" y="534444"/>
                    <a:pt x="5958262" y="561307"/>
                  </a:cubicBezTo>
                  <a:cubicBezTo>
                    <a:pt x="5961787" y="569532"/>
                    <a:pt x="5992457" y="581646"/>
                    <a:pt x="6000793" y="582572"/>
                  </a:cubicBezTo>
                  <a:cubicBezTo>
                    <a:pt x="6036096" y="586494"/>
                    <a:pt x="6071676" y="587297"/>
                    <a:pt x="6107118" y="589660"/>
                  </a:cubicBezTo>
                  <a:cubicBezTo>
                    <a:pt x="6121295" y="594386"/>
                    <a:pt x="6135335" y="599543"/>
                    <a:pt x="6149648" y="603837"/>
                  </a:cubicBezTo>
                  <a:cubicBezTo>
                    <a:pt x="6158979" y="606637"/>
                    <a:pt x="6168760" y="607845"/>
                    <a:pt x="6178002" y="610926"/>
                  </a:cubicBezTo>
                  <a:cubicBezTo>
                    <a:pt x="6215070" y="623282"/>
                    <a:pt x="6218370" y="629012"/>
                    <a:pt x="6255974" y="646367"/>
                  </a:cubicBezTo>
                  <a:cubicBezTo>
                    <a:pt x="6274772" y="655043"/>
                    <a:pt x="6313300" y="669421"/>
                    <a:pt x="6333946" y="681809"/>
                  </a:cubicBezTo>
                  <a:cubicBezTo>
                    <a:pt x="6348556" y="690575"/>
                    <a:pt x="6361518" y="702004"/>
                    <a:pt x="6376476" y="710163"/>
                  </a:cubicBezTo>
                  <a:cubicBezTo>
                    <a:pt x="6387646" y="716256"/>
                    <a:pt x="6400795" y="718160"/>
                    <a:pt x="6411918" y="724339"/>
                  </a:cubicBezTo>
                  <a:cubicBezTo>
                    <a:pt x="6471070" y="757201"/>
                    <a:pt x="6409841" y="737997"/>
                    <a:pt x="6468625" y="752693"/>
                  </a:cubicBezTo>
                  <a:cubicBezTo>
                    <a:pt x="6505568" y="774858"/>
                    <a:pt x="6505907" y="772910"/>
                    <a:pt x="6539509" y="802312"/>
                  </a:cubicBezTo>
                  <a:cubicBezTo>
                    <a:pt x="6547053" y="808913"/>
                    <a:pt x="6553163" y="817053"/>
                    <a:pt x="6560774" y="823577"/>
                  </a:cubicBezTo>
                  <a:cubicBezTo>
                    <a:pt x="6569744" y="831265"/>
                    <a:pt x="6580346" y="836939"/>
                    <a:pt x="6589127" y="844842"/>
                  </a:cubicBezTo>
                  <a:cubicBezTo>
                    <a:pt x="6695588" y="940656"/>
                    <a:pt x="6575833" y="842711"/>
                    <a:pt x="6667100" y="915726"/>
                  </a:cubicBezTo>
                  <a:cubicBezTo>
                    <a:pt x="6672616" y="932274"/>
                    <a:pt x="6685305" y="966722"/>
                    <a:pt x="6688365" y="986609"/>
                  </a:cubicBezTo>
                  <a:cubicBezTo>
                    <a:pt x="6691618" y="1007756"/>
                    <a:pt x="6692279" y="1029246"/>
                    <a:pt x="6695453" y="1050405"/>
                  </a:cubicBezTo>
                  <a:cubicBezTo>
                    <a:pt x="6699372" y="1076530"/>
                    <a:pt x="6704449" y="1102473"/>
                    <a:pt x="6709630" y="1128377"/>
                  </a:cubicBezTo>
                  <a:cubicBezTo>
                    <a:pt x="6711541" y="1137930"/>
                    <a:pt x="6715116" y="1147121"/>
                    <a:pt x="6716718" y="1156730"/>
                  </a:cubicBezTo>
                  <a:cubicBezTo>
                    <a:pt x="6719850" y="1175520"/>
                    <a:pt x="6721444" y="1194535"/>
                    <a:pt x="6723807" y="1213437"/>
                  </a:cubicBezTo>
                  <a:cubicBezTo>
                    <a:pt x="6721444" y="1265418"/>
                    <a:pt x="6722683" y="1317689"/>
                    <a:pt x="6716718" y="1369381"/>
                  </a:cubicBezTo>
                  <a:cubicBezTo>
                    <a:pt x="6715507" y="1379878"/>
                    <a:pt x="6705883" y="1387710"/>
                    <a:pt x="6702541" y="1397735"/>
                  </a:cubicBezTo>
                  <a:cubicBezTo>
                    <a:pt x="6698731" y="1409165"/>
                    <a:pt x="6698623" y="1421554"/>
                    <a:pt x="6695453" y="1433177"/>
                  </a:cubicBezTo>
                  <a:cubicBezTo>
                    <a:pt x="6683774" y="1476001"/>
                    <a:pt x="6686605" y="1467713"/>
                    <a:pt x="6667100" y="1496972"/>
                  </a:cubicBezTo>
                  <a:cubicBezTo>
                    <a:pt x="6654795" y="1558491"/>
                    <a:pt x="6650367" y="1565067"/>
                    <a:pt x="6667100" y="1652916"/>
                  </a:cubicBezTo>
                  <a:cubicBezTo>
                    <a:pt x="6669311" y="1664521"/>
                    <a:pt x="6679395" y="1673581"/>
                    <a:pt x="6688365" y="1681270"/>
                  </a:cubicBezTo>
                  <a:cubicBezTo>
                    <a:pt x="6699510" y="1690823"/>
                    <a:pt x="6723588" y="1697736"/>
                    <a:pt x="6737983" y="1702535"/>
                  </a:cubicBezTo>
                  <a:cubicBezTo>
                    <a:pt x="6749797" y="1711986"/>
                    <a:pt x="6762117" y="1720837"/>
                    <a:pt x="6773425" y="1730888"/>
                  </a:cubicBezTo>
                  <a:cubicBezTo>
                    <a:pt x="6824995" y="1776728"/>
                    <a:pt x="6779700" y="1744522"/>
                    <a:pt x="6823044" y="1773419"/>
                  </a:cubicBezTo>
                  <a:cubicBezTo>
                    <a:pt x="6845076" y="1839517"/>
                    <a:pt x="6806766" y="1729708"/>
                    <a:pt x="6851397" y="1830126"/>
                  </a:cubicBezTo>
                  <a:cubicBezTo>
                    <a:pt x="6855354" y="1839028"/>
                    <a:pt x="6854868" y="1849434"/>
                    <a:pt x="6858486" y="1858479"/>
                  </a:cubicBezTo>
                  <a:cubicBezTo>
                    <a:pt x="6864373" y="1873195"/>
                    <a:pt x="6873655" y="1886378"/>
                    <a:pt x="6879751" y="1901009"/>
                  </a:cubicBezTo>
                  <a:cubicBezTo>
                    <a:pt x="6913447" y="1981881"/>
                    <a:pt x="6872258" y="1907426"/>
                    <a:pt x="6915193" y="1978981"/>
                  </a:cubicBezTo>
                  <a:cubicBezTo>
                    <a:pt x="6917556" y="1990795"/>
                    <a:pt x="6920126" y="2002569"/>
                    <a:pt x="6922281" y="2014423"/>
                  </a:cubicBezTo>
                  <a:cubicBezTo>
                    <a:pt x="6924852" y="2028563"/>
                    <a:pt x="6926251" y="2042923"/>
                    <a:pt x="6929369" y="2056953"/>
                  </a:cubicBezTo>
                  <a:cubicBezTo>
                    <a:pt x="6930990" y="2064247"/>
                    <a:pt x="6934095" y="2071130"/>
                    <a:pt x="6936458" y="2078219"/>
                  </a:cubicBezTo>
                  <a:cubicBezTo>
                    <a:pt x="6938821" y="2104210"/>
                    <a:pt x="6940309" y="2130295"/>
                    <a:pt x="6943546" y="2156191"/>
                  </a:cubicBezTo>
                  <a:cubicBezTo>
                    <a:pt x="6945040" y="2168146"/>
                    <a:pt x="6951157" y="2179596"/>
                    <a:pt x="6950634" y="2191632"/>
                  </a:cubicBezTo>
                  <a:cubicBezTo>
                    <a:pt x="6948353" y="2244092"/>
                    <a:pt x="6945260" y="2310050"/>
                    <a:pt x="6922281" y="2361753"/>
                  </a:cubicBezTo>
                  <a:cubicBezTo>
                    <a:pt x="6918821" y="2369538"/>
                    <a:pt x="6912619" y="2375795"/>
                    <a:pt x="6908104" y="2383019"/>
                  </a:cubicBezTo>
                  <a:cubicBezTo>
                    <a:pt x="6886159" y="2418130"/>
                    <a:pt x="6882558" y="2434216"/>
                    <a:pt x="6844309" y="2460991"/>
                  </a:cubicBezTo>
                  <a:cubicBezTo>
                    <a:pt x="6836328" y="2466578"/>
                    <a:pt x="6825406" y="2465716"/>
                    <a:pt x="6815955" y="2468079"/>
                  </a:cubicBezTo>
                  <a:cubicBezTo>
                    <a:pt x="6794690" y="2479893"/>
                    <a:pt x="6774247" y="2493327"/>
                    <a:pt x="6752160" y="2503521"/>
                  </a:cubicBezTo>
                  <a:cubicBezTo>
                    <a:pt x="6743315" y="2507603"/>
                    <a:pt x="6732929" y="2507188"/>
                    <a:pt x="6723807" y="2510609"/>
                  </a:cubicBezTo>
                  <a:cubicBezTo>
                    <a:pt x="6713913" y="2514319"/>
                    <a:pt x="6705384" y="2521175"/>
                    <a:pt x="6695453" y="2524786"/>
                  </a:cubicBezTo>
                  <a:cubicBezTo>
                    <a:pt x="6657324" y="2538651"/>
                    <a:pt x="6614153" y="2545299"/>
                    <a:pt x="6574951" y="2553139"/>
                  </a:cubicBezTo>
                  <a:cubicBezTo>
                    <a:pt x="6544725" y="2568252"/>
                    <a:pt x="6525571" y="2579066"/>
                    <a:pt x="6489890" y="2588581"/>
                  </a:cubicBezTo>
                  <a:cubicBezTo>
                    <a:pt x="6473747" y="2592886"/>
                    <a:pt x="6456710" y="2592681"/>
                    <a:pt x="6440272" y="2595670"/>
                  </a:cubicBezTo>
                  <a:cubicBezTo>
                    <a:pt x="6399003" y="2603174"/>
                    <a:pt x="6418734" y="2604599"/>
                    <a:pt x="6369388" y="2616935"/>
                  </a:cubicBezTo>
                  <a:cubicBezTo>
                    <a:pt x="6346847" y="2622570"/>
                    <a:pt x="6289719" y="2628316"/>
                    <a:pt x="6270151" y="2631112"/>
                  </a:cubicBezTo>
                  <a:cubicBezTo>
                    <a:pt x="6255923" y="2633145"/>
                    <a:pt x="6241797" y="2635837"/>
                    <a:pt x="6227620" y="2638200"/>
                  </a:cubicBezTo>
                  <a:cubicBezTo>
                    <a:pt x="6218169" y="2642926"/>
                    <a:pt x="6209673" y="2650541"/>
                    <a:pt x="6199267" y="2652377"/>
                  </a:cubicBezTo>
                  <a:cubicBezTo>
                    <a:pt x="6130613" y="2664492"/>
                    <a:pt x="6126504" y="2650640"/>
                    <a:pt x="6078765" y="2666553"/>
                  </a:cubicBezTo>
                  <a:cubicBezTo>
                    <a:pt x="6066694" y="2670577"/>
                    <a:pt x="6055394" y="2676706"/>
                    <a:pt x="6043323" y="2680730"/>
                  </a:cubicBezTo>
                  <a:cubicBezTo>
                    <a:pt x="6034081" y="2683811"/>
                    <a:pt x="6024336" y="2685143"/>
                    <a:pt x="6014969" y="2687819"/>
                  </a:cubicBezTo>
                  <a:cubicBezTo>
                    <a:pt x="6007785" y="2689872"/>
                    <a:pt x="6000912" y="2692941"/>
                    <a:pt x="5993704" y="2694907"/>
                  </a:cubicBezTo>
                  <a:cubicBezTo>
                    <a:pt x="5974906" y="2700034"/>
                    <a:pt x="5955088" y="2701848"/>
                    <a:pt x="5936997" y="2709084"/>
                  </a:cubicBezTo>
                  <a:cubicBezTo>
                    <a:pt x="5925183" y="2713809"/>
                    <a:pt x="5913716" y="2719518"/>
                    <a:pt x="5901555" y="2723260"/>
                  </a:cubicBezTo>
                  <a:cubicBezTo>
                    <a:pt x="5882932" y="2728990"/>
                    <a:pt x="5863445" y="2731625"/>
                    <a:pt x="5844848" y="2737437"/>
                  </a:cubicBezTo>
                  <a:cubicBezTo>
                    <a:pt x="5711012" y="2779261"/>
                    <a:pt x="5770799" y="2768505"/>
                    <a:pt x="5667639" y="2779967"/>
                  </a:cubicBezTo>
                  <a:cubicBezTo>
                    <a:pt x="5648737" y="2787055"/>
                    <a:pt x="5630845" y="2797913"/>
                    <a:pt x="5610932" y="2801232"/>
                  </a:cubicBezTo>
                  <a:cubicBezTo>
                    <a:pt x="5573569" y="2807459"/>
                    <a:pt x="5535266" y="2805175"/>
                    <a:pt x="5497518" y="2808321"/>
                  </a:cubicBezTo>
                  <a:cubicBezTo>
                    <a:pt x="5478534" y="2809903"/>
                    <a:pt x="5459693" y="2812891"/>
                    <a:pt x="5440811" y="2815409"/>
                  </a:cubicBezTo>
                  <a:cubicBezTo>
                    <a:pt x="5424250" y="2817617"/>
                    <a:pt x="5407519" y="2818949"/>
                    <a:pt x="5391193" y="2822498"/>
                  </a:cubicBezTo>
                  <a:cubicBezTo>
                    <a:pt x="5353114" y="2830776"/>
                    <a:pt x="5316661" y="2848259"/>
                    <a:pt x="5277779" y="2850851"/>
                  </a:cubicBezTo>
                  <a:lnTo>
                    <a:pt x="5171453" y="2857939"/>
                  </a:lnTo>
                  <a:lnTo>
                    <a:pt x="4136551" y="2836674"/>
                  </a:lnTo>
                  <a:cubicBezTo>
                    <a:pt x="4101734" y="2833009"/>
                    <a:pt x="4064962" y="2827460"/>
                    <a:pt x="4030225" y="2822498"/>
                  </a:cubicBezTo>
                  <a:cubicBezTo>
                    <a:pt x="4006597" y="2813047"/>
                    <a:pt x="3983307" y="2802703"/>
                    <a:pt x="3959341" y="2794144"/>
                  </a:cubicBezTo>
                  <a:cubicBezTo>
                    <a:pt x="3950167" y="2790867"/>
                    <a:pt x="3940143" y="2790385"/>
                    <a:pt x="3930988" y="2787056"/>
                  </a:cubicBezTo>
                  <a:cubicBezTo>
                    <a:pt x="3914077" y="2780907"/>
                    <a:pt x="3898544" y="2771158"/>
                    <a:pt x="3881369" y="2765791"/>
                  </a:cubicBezTo>
                  <a:cubicBezTo>
                    <a:pt x="3860577" y="2759293"/>
                    <a:pt x="3838622" y="2757227"/>
                    <a:pt x="3817574" y="2751614"/>
                  </a:cubicBezTo>
                  <a:cubicBezTo>
                    <a:pt x="3803135" y="2747764"/>
                    <a:pt x="3789784" y="2739894"/>
                    <a:pt x="3775044" y="2737437"/>
                  </a:cubicBezTo>
                  <a:cubicBezTo>
                    <a:pt x="3716034" y="2727602"/>
                    <a:pt x="3746742" y="2732382"/>
                    <a:pt x="3682895" y="2723260"/>
                  </a:cubicBezTo>
                  <a:lnTo>
                    <a:pt x="3463155" y="2737437"/>
                  </a:lnTo>
                  <a:cubicBezTo>
                    <a:pt x="3452732" y="2739174"/>
                    <a:pt x="3444962" y="2748711"/>
                    <a:pt x="3434802" y="2751614"/>
                  </a:cubicBezTo>
                  <a:cubicBezTo>
                    <a:pt x="3411633" y="2758234"/>
                    <a:pt x="3387397" y="2760373"/>
                    <a:pt x="3363918" y="2765791"/>
                  </a:cubicBezTo>
                  <a:cubicBezTo>
                    <a:pt x="3241751" y="2793983"/>
                    <a:pt x="3303200" y="2784638"/>
                    <a:pt x="3179620" y="2794144"/>
                  </a:cubicBezTo>
                  <a:lnTo>
                    <a:pt x="2754318" y="2787056"/>
                  </a:lnTo>
                  <a:cubicBezTo>
                    <a:pt x="2697451" y="2785025"/>
                    <a:pt x="2640867" y="2778031"/>
                    <a:pt x="2584197" y="2772879"/>
                  </a:cubicBezTo>
                  <a:cubicBezTo>
                    <a:pt x="2562889" y="2770942"/>
                    <a:pt x="2541536" y="2769128"/>
                    <a:pt x="2520402" y="2765791"/>
                  </a:cubicBezTo>
                  <a:cubicBezTo>
                    <a:pt x="2496601" y="2762033"/>
                    <a:pt x="2473347" y="2755188"/>
                    <a:pt x="2449518" y="2751614"/>
                  </a:cubicBezTo>
                  <a:cubicBezTo>
                    <a:pt x="2426035" y="2748092"/>
                    <a:pt x="2402235" y="2747148"/>
                    <a:pt x="2378634" y="2744526"/>
                  </a:cubicBezTo>
                  <a:cubicBezTo>
                    <a:pt x="2255909" y="2730890"/>
                    <a:pt x="2294889" y="2737701"/>
                    <a:pt x="2222690" y="2723260"/>
                  </a:cubicBezTo>
                  <a:cubicBezTo>
                    <a:pt x="2213239" y="2718535"/>
                    <a:pt x="2204361" y="2712425"/>
                    <a:pt x="2194337" y="2709084"/>
                  </a:cubicBezTo>
                  <a:cubicBezTo>
                    <a:pt x="2175853" y="2702923"/>
                    <a:pt x="2137630" y="2694907"/>
                    <a:pt x="2137630" y="2694907"/>
                  </a:cubicBezTo>
                  <a:cubicBezTo>
                    <a:pt x="2110564" y="2674608"/>
                    <a:pt x="2101103" y="2664871"/>
                    <a:pt x="2066746" y="2652377"/>
                  </a:cubicBezTo>
                  <a:cubicBezTo>
                    <a:pt x="2055423" y="2648260"/>
                    <a:pt x="2042779" y="2648960"/>
                    <a:pt x="2031304" y="2645288"/>
                  </a:cubicBezTo>
                  <a:cubicBezTo>
                    <a:pt x="1983620" y="2630029"/>
                    <a:pt x="1937221" y="2610929"/>
                    <a:pt x="1889537" y="2595670"/>
                  </a:cubicBezTo>
                  <a:cubicBezTo>
                    <a:pt x="1878062" y="2591998"/>
                    <a:pt x="1865635" y="2592043"/>
                    <a:pt x="1854095" y="2588581"/>
                  </a:cubicBezTo>
                  <a:cubicBezTo>
                    <a:pt x="1759176" y="2560106"/>
                    <a:pt x="1896230" y="2590810"/>
                    <a:pt x="1761946" y="2546051"/>
                  </a:cubicBezTo>
                  <a:cubicBezTo>
                    <a:pt x="1754858" y="2543688"/>
                    <a:pt x="1747483" y="2542055"/>
                    <a:pt x="1740681" y="2538963"/>
                  </a:cubicBezTo>
                  <a:cubicBezTo>
                    <a:pt x="1709078" y="2524598"/>
                    <a:pt x="1676821" y="2502675"/>
                    <a:pt x="1641444" y="2496432"/>
                  </a:cubicBezTo>
                  <a:cubicBezTo>
                    <a:pt x="1615743" y="2491897"/>
                    <a:pt x="1589463" y="2491707"/>
                    <a:pt x="1563472" y="2489344"/>
                  </a:cubicBezTo>
                  <a:cubicBezTo>
                    <a:pt x="1487863" y="2491707"/>
                    <a:pt x="1412137" y="2491613"/>
                    <a:pt x="1336644" y="2496432"/>
                  </a:cubicBezTo>
                  <a:cubicBezTo>
                    <a:pt x="1280757" y="2499999"/>
                    <a:pt x="1144259" y="2526154"/>
                    <a:pt x="1095639" y="2531874"/>
                  </a:cubicBezTo>
                  <a:cubicBezTo>
                    <a:pt x="1060362" y="2536024"/>
                    <a:pt x="1024721" y="2536130"/>
                    <a:pt x="989314" y="2538963"/>
                  </a:cubicBezTo>
                  <a:cubicBezTo>
                    <a:pt x="965644" y="2540857"/>
                    <a:pt x="942058" y="2543688"/>
                    <a:pt x="918430" y="2546051"/>
                  </a:cubicBezTo>
                  <a:cubicBezTo>
                    <a:pt x="169769" y="2536201"/>
                    <a:pt x="560430" y="2605845"/>
                    <a:pt x="344272" y="2524786"/>
                  </a:cubicBezTo>
                  <a:cubicBezTo>
                    <a:pt x="337276" y="2522163"/>
                    <a:pt x="330003" y="2520321"/>
                    <a:pt x="323007" y="2517698"/>
                  </a:cubicBezTo>
                  <a:cubicBezTo>
                    <a:pt x="311308" y="2513311"/>
                    <a:pt x="271080" y="2497822"/>
                    <a:pt x="259211" y="2489344"/>
                  </a:cubicBezTo>
                  <a:cubicBezTo>
                    <a:pt x="251054" y="2483517"/>
                    <a:pt x="245557" y="2474603"/>
                    <a:pt x="237946" y="2468079"/>
                  </a:cubicBezTo>
                  <a:cubicBezTo>
                    <a:pt x="188965" y="2426095"/>
                    <a:pt x="226238" y="2471781"/>
                    <a:pt x="181239" y="2404284"/>
                  </a:cubicBezTo>
                  <a:cubicBezTo>
                    <a:pt x="158350" y="2335615"/>
                    <a:pt x="169260" y="2376826"/>
                    <a:pt x="181239" y="2227074"/>
                  </a:cubicBezTo>
                  <a:cubicBezTo>
                    <a:pt x="181835" y="2219626"/>
                    <a:pt x="184182" y="2212026"/>
                    <a:pt x="188327" y="2205809"/>
                  </a:cubicBezTo>
                  <a:cubicBezTo>
                    <a:pt x="219684" y="2158775"/>
                    <a:pt x="200576" y="2209665"/>
                    <a:pt x="223769" y="2163279"/>
                  </a:cubicBezTo>
                  <a:cubicBezTo>
                    <a:pt x="258446" y="2093924"/>
                    <a:pt x="219281" y="2155834"/>
                    <a:pt x="252123" y="2106572"/>
                  </a:cubicBezTo>
                  <a:cubicBezTo>
                    <a:pt x="276585" y="2033182"/>
                    <a:pt x="263875" y="2079713"/>
                    <a:pt x="252123" y="1915186"/>
                  </a:cubicBezTo>
                  <a:cubicBezTo>
                    <a:pt x="250898" y="1898032"/>
                    <a:pt x="236963" y="1865128"/>
                    <a:pt x="230858" y="1851391"/>
                  </a:cubicBezTo>
                  <a:cubicBezTo>
                    <a:pt x="226566" y="1841735"/>
                    <a:pt x="220606" y="1832848"/>
                    <a:pt x="216681" y="1823037"/>
                  </a:cubicBezTo>
                  <a:cubicBezTo>
                    <a:pt x="211131" y="1809162"/>
                    <a:pt x="209187" y="1793873"/>
                    <a:pt x="202504" y="1780507"/>
                  </a:cubicBezTo>
                  <a:cubicBezTo>
                    <a:pt x="194884" y="1765268"/>
                    <a:pt x="174151" y="1737977"/>
                    <a:pt x="174151" y="1737977"/>
                  </a:cubicBezTo>
                  <a:cubicBezTo>
                    <a:pt x="169425" y="1716712"/>
                    <a:pt x="164963" y="1695386"/>
                    <a:pt x="159974" y="1674181"/>
                  </a:cubicBezTo>
                  <a:cubicBezTo>
                    <a:pt x="155511" y="1655215"/>
                    <a:pt x="149183" y="1636662"/>
                    <a:pt x="145797" y="1617474"/>
                  </a:cubicBezTo>
                  <a:cubicBezTo>
                    <a:pt x="130037" y="1528167"/>
                    <a:pt x="151984" y="1580229"/>
                    <a:pt x="124532" y="1525326"/>
                  </a:cubicBezTo>
                  <a:cubicBezTo>
                    <a:pt x="122169" y="1513512"/>
                    <a:pt x="120754" y="1501468"/>
                    <a:pt x="117444" y="1489884"/>
                  </a:cubicBezTo>
                  <a:cubicBezTo>
                    <a:pt x="111286" y="1468331"/>
                    <a:pt x="103268" y="1447353"/>
                    <a:pt x="96179" y="1426088"/>
                  </a:cubicBezTo>
                  <a:cubicBezTo>
                    <a:pt x="93816" y="1419000"/>
                    <a:pt x="90902" y="1412072"/>
                    <a:pt x="89090" y="1404823"/>
                  </a:cubicBezTo>
                  <a:cubicBezTo>
                    <a:pt x="81734" y="1375397"/>
                    <a:pt x="77766" y="1353358"/>
                    <a:pt x="67825" y="1326851"/>
                  </a:cubicBezTo>
                  <a:cubicBezTo>
                    <a:pt x="63357" y="1314937"/>
                    <a:pt x="58816" y="1303036"/>
                    <a:pt x="53648" y="1291409"/>
                  </a:cubicBezTo>
                  <a:cubicBezTo>
                    <a:pt x="49357" y="1281753"/>
                    <a:pt x="43396" y="1272867"/>
                    <a:pt x="39472" y="1263056"/>
                  </a:cubicBezTo>
                  <a:cubicBezTo>
                    <a:pt x="14167" y="1199792"/>
                    <a:pt x="38392" y="1240173"/>
                    <a:pt x="11118" y="1199260"/>
                  </a:cubicBezTo>
                  <a:cubicBezTo>
                    <a:pt x="-1824" y="1134550"/>
                    <a:pt x="-5477" y="1131652"/>
                    <a:pt x="11118" y="1036228"/>
                  </a:cubicBezTo>
                  <a:cubicBezTo>
                    <a:pt x="16100" y="1007581"/>
                    <a:pt x="38241" y="999330"/>
                    <a:pt x="53648" y="979521"/>
                  </a:cubicBezTo>
                  <a:cubicBezTo>
                    <a:pt x="64109" y="966072"/>
                    <a:pt x="82002" y="936991"/>
                    <a:pt x="82002" y="936991"/>
                  </a:cubicBezTo>
                  <a:cubicBezTo>
                    <a:pt x="97206" y="891377"/>
                    <a:pt x="77171" y="940918"/>
                    <a:pt x="110355" y="894460"/>
                  </a:cubicBezTo>
                  <a:cubicBezTo>
                    <a:pt x="134943" y="860037"/>
                    <a:pt x="116192" y="875698"/>
                    <a:pt x="131620" y="844842"/>
                  </a:cubicBezTo>
                  <a:cubicBezTo>
                    <a:pt x="135430" y="837222"/>
                    <a:pt x="142337" y="831362"/>
                    <a:pt x="145797" y="823577"/>
                  </a:cubicBezTo>
                  <a:cubicBezTo>
                    <a:pt x="145802" y="823565"/>
                    <a:pt x="163516" y="770420"/>
                    <a:pt x="167062" y="759781"/>
                  </a:cubicBezTo>
                  <a:cubicBezTo>
                    <a:pt x="169425" y="752693"/>
                    <a:pt x="170007" y="744733"/>
                    <a:pt x="174151" y="738516"/>
                  </a:cubicBezTo>
                  <a:cubicBezTo>
                    <a:pt x="214783" y="677565"/>
                    <a:pt x="166064" y="754688"/>
                    <a:pt x="195416" y="695986"/>
                  </a:cubicBezTo>
                  <a:cubicBezTo>
                    <a:pt x="199226" y="688366"/>
                    <a:pt x="204867" y="681809"/>
                    <a:pt x="209593" y="674721"/>
                  </a:cubicBezTo>
                  <a:cubicBezTo>
                    <a:pt x="211956" y="667633"/>
                    <a:pt x="214628" y="660640"/>
                    <a:pt x="216681" y="653456"/>
                  </a:cubicBezTo>
                  <a:cubicBezTo>
                    <a:pt x="219357" y="644089"/>
                    <a:pt x="219931" y="634056"/>
                    <a:pt x="223769" y="625102"/>
                  </a:cubicBezTo>
                  <a:cubicBezTo>
                    <a:pt x="227125" y="617272"/>
                    <a:pt x="233220" y="610925"/>
                    <a:pt x="237946" y="603837"/>
                  </a:cubicBezTo>
                  <a:lnTo>
                    <a:pt x="259211" y="540042"/>
                  </a:lnTo>
                  <a:cubicBezTo>
                    <a:pt x="261574" y="532954"/>
                    <a:pt x="259617" y="522119"/>
                    <a:pt x="266300" y="518777"/>
                  </a:cubicBezTo>
                  <a:lnTo>
                    <a:pt x="315918" y="518777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文本框 15"/>
            <p:cNvSpPr/>
            <p:nvPr/>
          </p:nvSpPr>
          <p:spPr>
            <a:xfrm>
              <a:off x="826920" y="1636200"/>
              <a:ext cx="7057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脸上长鼻子，头上挂扇子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四根粗柱子，一条小辫子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（打一动物名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3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副标题 2"/>
          <p:cNvSpPr/>
          <p:nvPr/>
        </p:nvSpPr>
        <p:spPr>
          <a:xfrm>
            <a:off x="3475080" y="1351080"/>
            <a:ext cx="46404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统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年级语文下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标题 1"/>
          <p:cNvSpPr/>
          <p:nvPr/>
        </p:nvSpPr>
        <p:spPr>
          <a:xfrm>
            <a:off x="3041640" y="574560"/>
            <a:ext cx="4043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9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大象的耳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直接连接符 6"/>
          <p:cNvSpPr/>
          <p:nvPr/>
        </p:nvSpPr>
        <p:spPr>
          <a:xfrm>
            <a:off x="3040200" y="1235160"/>
            <a:ext cx="47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2"/>
          <p:cNvSpPr/>
          <p:nvPr/>
        </p:nvSpPr>
        <p:spPr>
          <a:xfrm>
            <a:off x="4862520" y="441324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赫山万源学校   杨  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6"/>
          <p:cNvSpPr/>
          <p:nvPr/>
        </p:nvSpPr>
        <p:spPr>
          <a:xfrm>
            <a:off x="866880" y="298440"/>
            <a:ext cx="7146720" cy="59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             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课时目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正确、流利、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理解课文内容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明白故事的道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写好“扇、遇、痛”三个半包围结构的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合作目标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学会倾听，熟练运用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情境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表演法和发言卡进行合作学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矩形: 圆角 3"/>
          <p:cNvSpPr/>
          <p:nvPr/>
        </p:nvSpPr>
        <p:spPr>
          <a:xfrm>
            <a:off x="539640" y="298440"/>
            <a:ext cx="7632720" cy="42894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6d5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0" name="图片 4" descr=""/>
          <p:cNvPicPr/>
          <p:nvPr/>
        </p:nvPicPr>
        <p:blipFill>
          <a:blip r:embed="rId2"/>
          <a:stretch/>
        </p:blipFill>
        <p:spPr>
          <a:xfrm>
            <a:off x="6480" y="-142920"/>
            <a:ext cx="11840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01600"/>
            <a:ext cx="8229600" cy="8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2"/>
          <a:stretch/>
        </p:blipFill>
        <p:spPr>
          <a:xfrm>
            <a:off x="457200" y="1200240"/>
            <a:ext cx="8229600" cy="33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3" name="图片 8195" descr="w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54" name="文本框 8196"/>
          <p:cNvSpPr/>
          <p:nvPr/>
        </p:nvSpPr>
        <p:spPr>
          <a:xfrm>
            <a:off x="4179240" y="971640"/>
            <a:ext cx="180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文本框 8197"/>
          <p:cNvSpPr/>
          <p:nvPr/>
        </p:nvSpPr>
        <p:spPr>
          <a:xfrm>
            <a:off x="5941080" y="1006560"/>
            <a:ext cx="336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文本框 8198"/>
          <p:cNvSpPr/>
          <p:nvPr/>
        </p:nvSpPr>
        <p:spPr>
          <a:xfrm>
            <a:off x="533520" y="4572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 读 小 提 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文本框 8199"/>
          <p:cNvSpPr/>
          <p:nvPr/>
        </p:nvSpPr>
        <p:spPr>
          <a:xfrm>
            <a:off x="1523880" y="1600200"/>
            <a:ext cx="5932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文本框 8200"/>
          <p:cNvSpPr/>
          <p:nvPr/>
        </p:nvSpPr>
        <p:spPr>
          <a:xfrm>
            <a:off x="1459080" y="1503360"/>
            <a:ext cx="5475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文本框 8201"/>
          <p:cNvSpPr/>
          <p:nvPr/>
        </p:nvSpPr>
        <p:spPr>
          <a:xfrm>
            <a:off x="4191120" y="2114640"/>
            <a:ext cx="669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文本框 8202"/>
          <p:cNvSpPr/>
          <p:nvPr/>
        </p:nvSpPr>
        <p:spPr>
          <a:xfrm>
            <a:off x="0" y="17146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读一读：边读边圈出生字，注意读完后同桌互相检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想一想：这篇课文写了一件什么事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1" name="图片 8203" descr="boy1"/>
          <p:cNvPicPr/>
          <p:nvPr/>
        </p:nvPicPr>
        <p:blipFill>
          <a:blip r:embed="rId4"/>
          <a:stretch/>
        </p:blipFill>
        <p:spPr>
          <a:xfrm>
            <a:off x="6705720" y="3086280"/>
            <a:ext cx="3114720" cy="2000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矩形 2"/>
          <p:cNvSpPr/>
          <p:nvPr/>
        </p:nvSpPr>
        <p:spPr>
          <a:xfrm>
            <a:off x="1187280" y="843120"/>
            <a:ext cx="698508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hì     dā      yí     shù      gān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耷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拉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咦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竖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着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竹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wǔ    tòng      fán  shā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跳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舞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头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痛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心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扇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矩形 6"/>
          <p:cNvSpPr/>
          <p:nvPr/>
        </p:nvSpPr>
        <p:spPr>
          <a:xfrm>
            <a:off x="7002720" y="2678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773280" y="70920"/>
            <a:ext cx="518472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62000"/>
          </a:bodyPr>
          <a:p>
            <a:pPr marL="10620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会读：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会辨别多音字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扇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shā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扇风    扇动   扇扇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s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n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扇子    电风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似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s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似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好似  相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>Administrator</dc:creator>
  <dc:description>添加备注</dc:description>
  <cp:keywords>添加标记</cp:keywords>
  <dc:language>en-US</dc:language>
  <cp:lastModifiedBy>微软用户</cp:lastModifiedBy>
  <dcterms:modified xsi:type="dcterms:W3CDTF">2019-03-19T04:10:31Z</dcterms:modified>
  <cp:revision>784</cp:revision>
  <dc:subject>1</dc:subject>
  <dc:title>幻灯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  <property fmtid="{D5CDD505-2E9C-101B-9397-08002B2CF9AE}" pid="3" name="来源">
    <vt:lpwstr>状元成才路系列</vt:lpwstr>
  </property>
</Properties>
</file>