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media/image4.wmf" ContentType="image/x-wmf"/>
  <Override PartName="/ppt/media/image10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5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0C5-2BE5-4D91-B5F5-E8734E64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B5B-E2A9-4991-9E4F-F8CCC33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2CB-67BA-406E-9299-A73E43D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C58-E7C7-4389-88E4-3F4426DF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8DD-422F-4ABF-A811-276EF6FC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BD0-CF7B-4C9F-B16E-EFF7C2A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4FB-DC83-4371-A7D0-8A1F7EA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8F8-B0F1-4101-94DD-0A9126AD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B8F-8226-49EF-A516-240A7651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991-9618-4596-950D-8D2FCBD2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26F-A1C4-4D86-807E-4AD12C99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EF4-A7A2-4682-A982-7A7D488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"/>
          <p:cNvGrpSpPr/>
          <p:nvPr/>
        </p:nvGrpSpPr>
        <p:grpSpPr>
          <a:xfrm>
            <a:off x="82440" y="125280"/>
            <a:ext cx="1279800" cy="600120"/>
            <a:chOff x="82440" y="125280"/>
            <a:chExt cx="1279800" cy="600120"/>
          </a:xfrm>
        </p:grpSpPr>
        <p:sp>
          <p:nvSpPr>
            <p:cNvPr id="73" name="Freeform 5"/>
            <p:cNvSpPr/>
            <p:nvPr/>
          </p:nvSpPr>
          <p:spPr>
            <a:xfrm>
              <a:off x="717120" y="125280"/>
              <a:ext cx="334080" cy="354600"/>
            </a:xfrm>
            <a:custGeom>
              <a:avLst/>
              <a:gdLst/>
              <a:ahLst/>
              <a:rect l="l" t="t" r="r" b="b"/>
              <a:pathLst>
                <a:path w="685" h="729">
                  <a:moveTo>
                    <a:pt x="566" y="255"/>
                  </a:moveTo>
                  <a:cubicBezTo>
                    <a:pt x="631" y="266"/>
                    <a:pt x="606" y="168"/>
                    <a:pt x="517" y="150"/>
                  </a:cubicBezTo>
                  <a:cubicBezTo>
                    <a:pt x="578" y="148"/>
                    <a:pt x="572" y="103"/>
                    <a:pt x="499" y="89"/>
                  </a:cubicBezTo>
                  <a:cubicBezTo>
                    <a:pt x="565" y="31"/>
                    <a:pt x="346" y="0"/>
                    <a:pt x="245" y="52"/>
                  </a:cubicBezTo>
                  <a:cubicBezTo>
                    <a:pt x="144" y="92"/>
                    <a:pt x="51" y="195"/>
                    <a:pt x="0" y="302"/>
                  </a:cubicBezTo>
                  <a:cubicBezTo>
                    <a:pt x="164" y="658"/>
                    <a:pt x="164" y="658"/>
                    <a:pt x="164" y="658"/>
                  </a:cubicBezTo>
                  <a:cubicBezTo>
                    <a:pt x="251" y="729"/>
                    <a:pt x="409" y="689"/>
                    <a:pt x="505" y="581"/>
                  </a:cubicBezTo>
                  <a:cubicBezTo>
                    <a:pt x="537" y="615"/>
                    <a:pt x="598" y="554"/>
                    <a:pt x="569" y="478"/>
                  </a:cubicBezTo>
                  <a:cubicBezTo>
                    <a:pt x="603" y="527"/>
                    <a:pt x="627" y="490"/>
                    <a:pt x="600" y="421"/>
                  </a:cubicBezTo>
                  <a:cubicBezTo>
                    <a:pt x="685" y="445"/>
                    <a:pt x="664" y="312"/>
                    <a:pt x="566" y="256"/>
                  </a:cubicBezTo>
                  <a:cubicBezTo>
                    <a:pt x="566" y="256"/>
                    <a:pt x="566" y="256"/>
                    <a:pt x="566" y="255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82440" y="222120"/>
              <a:ext cx="318600" cy="340560"/>
            </a:xfrm>
            <a:custGeom>
              <a:avLst/>
              <a:gdLst/>
              <a:ahLst/>
              <a:rect l="l" t="t" r="r" b="b"/>
              <a:pathLst>
                <a:path w="652" h="700">
                  <a:moveTo>
                    <a:pt x="328" y="18"/>
                  </a:moveTo>
                  <a:cubicBezTo>
                    <a:pt x="211" y="0"/>
                    <a:pt x="5" y="102"/>
                    <a:pt x="89" y="138"/>
                  </a:cubicBezTo>
                  <a:cubicBezTo>
                    <a:pt x="22" y="176"/>
                    <a:pt x="31" y="222"/>
                    <a:pt x="91" y="204"/>
                  </a:cubicBezTo>
                  <a:cubicBezTo>
                    <a:pt x="10" y="252"/>
                    <a:pt x="18" y="356"/>
                    <a:pt x="78" y="324"/>
                  </a:cubicBezTo>
                  <a:cubicBezTo>
                    <a:pt x="78" y="325"/>
                    <a:pt x="78" y="325"/>
                    <a:pt x="78" y="325"/>
                  </a:cubicBezTo>
                  <a:cubicBezTo>
                    <a:pt x="0" y="413"/>
                    <a:pt x="24" y="551"/>
                    <a:pt x="99" y="499"/>
                  </a:cubicBezTo>
                  <a:cubicBezTo>
                    <a:pt x="95" y="576"/>
                    <a:pt x="131" y="605"/>
                    <a:pt x="149" y="544"/>
                  </a:cubicBezTo>
                  <a:cubicBezTo>
                    <a:pt x="146" y="629"/>
                    <a:pt x="226" y="669"/>
                    <a:pt x="246" y="625"/>
                  </a:cubicBezTo>
                  <a:cubicBezTo>
                    <a:pt x="376" y="700"/>
                    <a:pt x="545" y="687"/>
                    <a:pt x="608" y="588"/>
                  </a:cubicBezTo>
                  <a:cubicBezTo>
                    <a:pt x="652" y="183"/>
                    <a:pt x="652" y="183"/>
                    <a:pt x="652" y="183"/>
                  </a:cubicBezTo>
                  <a:cubicBezTo>
                    <a:pt x="566" y="95"/>
                    <a:pt x="440" y="24"/>
                    <a:pt x="328" y="18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779400" y="163440"/>
              <a:ext cx="207360" cy="224640"/>
            </a:xfrm>
            <a:custGeom>
              <a:avLst/>
              <a:gdLst/>
              <a:ahLst/>
              <a:rect l="l" t="t" r="r" b="b"/>
              <a:pathLst>
                <a:path w="426" h="460">
                  <a:moveTo>
                    <a:pt x="337" y="166"/>
                  </a:moveTo>
                  <a:cubicBezTo>
                    <a:pt x="247" y="0"/>
                    <a:pt x="82" y="79"/>
                    <a:pt x="0" y="198"/>
                  </a:cubicBezTo>
                  <a:cubicBezTo>
                    <a:pt x="57" y="178"/>
                    <a:pt x="117" y="178"/>
                    <a:pt x="97" y="211"/>
                  </a:cubicBezTo>
                  <a:cubicBezTo>
                    <a:pt x="146" y="206"/>
                    <a:pt x="158" y="233"/>
                    <a:pt x="120" y="246"/>
                  </a:cubicBezTo>
                  <a:cubicBezTo>
                    <a:pt x="184" y="240"/>
                    <a:pt x="220" y="305"/>
                    <a:pt x="162" y="303"/>
                  </a:cubicBezTo>
                  <a:cubicBezTo>
                    <a:pt x="162" y="303"/>
                    <a:pt x="224" y="391"/>
                    <a:pt x="238" y="460"/>
                  </a:cubicBezTo>
                  <a:cubicBezTo>
                    <a:pt x="348" y="422"/>
                    <a:pt x="426" y="329"/>
                    <a:pt x="337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52280" y="264960"/>
              <a:ext cx="183600" cy="219240"/>
            </a:xfrm>
            <a:custGeom>
              <a:avLst/>
              <a:gdLst/>
              <a:ahLst/>
              <a:rect l="l" t="t" r="r" b="b"/>
              <a:pathLst>
                <a:path w="377" h="451">
                  <a:moveTo>
                    <a:pt x="252" y="271"/>
                  </a:moveTo>
                  <a:cubicBezTo>
                    <a:pt x="196" y="292"/>
                    <a:pt x="209" y="216"/>
                    <a:pt x="274" y="201"/>
                  </a:cubicBezTo>
                  <a:cubicBezTo>
                    <a:pt x="232" y="200"/>
                    <a:pt x="236" y="170"/>
                    <a:pt x="286" y="159"/>
                  </a:cubicBezTo>
                  <a:cubicBezTo>
                    <a:pt x="254" y="132"/>
                    <a:pt x="314" y="113"/>
                    <a:pt x="377" y="114"/>
                  </a:cubicBezTo>
                  <a:cubicBezTo>
                    <a:pt x="256" y="23"/>
                    <a:pt x="67" y="0"/>
                    <a:pt x="33" y="193"/>
                  </a:cubicBezTo>
                  <a:cubicBezTo>
                    <a:pt x="0" y="383"/>
                    <a:pt x="107" y="450"/>
                    <a:pt x="228" y="451"/>
                  </a:cubicBezTo>
                  <a:cubicBezTo>
                    <a:pt x="219" y="378"/>
                    <a:pt x="252" y="271"/>
                    <a:pt x="252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181440" y="157680"/>
              <a:ext cx="824400" cy="567720"/>
            </a:xfrm>
            <a:custGeom>
              <a:avLst/>
              <a:gdLst/>
              <a:ahLst/>
              <a:rect l="l" t="t" r="r" b="b"/>
              <a:pathLst>
                <a:path w="1691" h="1165">
                  <a:moveTo>
                    <a:pt x="1139" y="207"/>
                  </a:moveTo>
                  <a:cubicBezTo>
                    <a:pt x="1139" y="207"/>
                    <a:pt x="1084" y="179"/>
                    <a:pt x="995" y="161"/>
                  </a:cubicBezTo>
                  <a:cubicBezTo>
                    <a:pt x="1001" y="130"/>
                    <a:pt x="936" y="94"/>
                    <a:pt x="868" y="126"/>
                  </a:cubicBezTo>
                  <a:cubicBezTo>
                    <a:pt x="917" y="86"/>
                    <a:pt x="885" y="53"/>
                    <a:pt x="815" y="86"/>
                  </a:cubicBezTo>
                  <a:cubicBezTo>
                    <a:pt x="834" y="0"/>
                    <a:pt x="650" y="97"/>
                    <a:pt x="588" y="199"/>
                  </a:cubicBezTo>
                  <a:cubicBezTo>
                    <a:pt x="548" y="214"/>
                    <a:pt x="507" y="234"/>
                    <a:pt x="465" y="259"/>
                  </a:cubicBezTo>
                  <a:cubicBezTo>
                    <a:pt x="212" y="411"/>
                    <a:pt x="0" y="1013"/>
                    <a:pt x="625" y="1119"/>
                  </a:cubicBezTo>
                  <a:cubicBezTo>
                    <a:pt x="1508" y="1165"/>
                    <a:pt x="1691" y="474"/>
                    <a:pt x="1139" y="207"/>
                  </a:cubicBezTo>
                  <a:close/>
                </a:path>
              </a:pathLst>
            </a:custGeom>
            <a:solidFill>
              <a:srgbClr val="c0d4bd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513000" y="466920"/>
              <a:ext cx="197640" cy="171720"/>
            </a:xfrm>
            <a:custGeom>
              <a:avLst/>
              <a:gdLst/>
              <a:ahLst/>
              <a:rect l="l" t="t" r="r" b="b"/>
              <a:pathLst>
                <a:path w="405" h="353">
                  <a:moveTo>
                    <a:pt x="295" y="71"/>
                  </a:moveTo>
                  <a:cubicBezTo>
                    <a:pt x="315" y="147"/>
                    <a:pt x="405" y="306"/>
                    <a:pt x="203" y="329"/>
                  </a:cubicBezTo>
                  <a:cubicBezTo>
                    <a:pt x="0" y="353"/>
                    <a:pt x="43" y="192"/>
                    <a:pt x="55" y="104"/>
                  </a:cubicBezTo>
                  <a:cubicBezTo>
                    <a:pt x="66" y="27"/>
                    <a:pt x="102" y="57"/>
                    <a:pt x="170" y="49"/>
                  </a:cubicBezTo>
                  <a:cubicBezTo>
                    <a:pt x="239" y="41"/>
                    <a:pt x="276" y="0"/>
                    <a:pt x="295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36760" y="394200"/>
              <a:ext cx="159120" cy="155160"/>
            </a:xfrm>
            <a:custGeom>
              <a:avLst/>
              <a:gdLst/>
              <a:ahLst/>
              <a:rect l="l" t="t" r="r" b="b"/>
              <a:pathLst>
                <a:path w="327" h="319">
                  <a:moveTo>
                    <a:pt x="105" y="11"/>
                  </a:moveTo>
                  <a:cubicBezTo>
                    <a:pt x="46" y="20"/>
                    <a:pt x="0" y="111"/>
                    <a:pt x="4" y="215"/>
                  </a:cubicBezTo>
                  <a:cubicBezTo>
                    <a:pt x="7" y="319"/>
                    <a:pt x="104" y="319"/>
                    <a:pt x="185" y="296"/>
                  </a:cubicBezTo>
                  <a:cubicBezTo>
                    <a:pt x="327" y="256"/>
                    <a:pt x="182" y="0"/>
                    <a:pt x="105" y="11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401760" y="498960"/>
              <a:ext cx="77760" cy="79200"/>
            </a:xfrm>
            <a:custGeom>
              <a:avLst/>
              <a:gdLst/>
              <a:ahLst/>
              <a:rect l="l" t="t" r="r" b="b"/>
              <a:pathLst>
                <a:path w="158" h="164">
                  <a:moveTo>
                    <a:pt x="153" y="73"/>
                  </a:moveTo>
                  <a:cubicBezTo>
                    <a:pt x="158" y="116"/>
                    <a:pt x="129" y="154"/>
                    <a:pt x="88" y="159"/>
                  </a:cubicBezTo>
                  <a:cubicBezTo>
                    <a:pt x="47" y="164"/>
                    <a:pt x="9" y="133"/>
                    <a:pt x="4" y="90"/>
                  </a:cubicBezTo>
                  <a:cubicBezTo>
                    <a:pt x="0" y="48"/>
                    <a:pt x="29" y="9"/>
                    <a:pt x="70" y="5"/>
                  </a:cubicBezTo>
                  <a:cubicBezTo>
                    <a:pt x="111" y="0"/>
                    <a:pt x="148" y="31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713520" y="463320"/>
              <a:ext cx="76680" cy="7920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153" y="73"/>
                  </a:moveTo>
                  <a:cubicBezTo>
                    <a:pt x="158" y="116"/>
                    <a:pt x="128" y="154"/>
                    <a:pt x="88" y="159"/>
                  </a:cubicBezTo>
                  <a:cubicBezTo>
                    <a:pt x="47" y="163"/>
                    <a:pt x="9" y="133"/>
                    <a:pt x="4" y="90"/>
                  </a:cubicBezTo>
                  <a:cubicBezTo>
                    <a:pt x="0" y="48"/>
                    <a:pt x="29" y="9"/>
                    <a:pt x="70" y="4"/>
                  </a:cubicBezTo>
                  <a:cubicBezTo>
                    <a:pt x="111" y="0"/>
                    <a:pt x="148" y="30"/>
                    <a:pt x="153" y="73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96160" y="559440"/>
              <a:ext cx="24120" cy="4248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47" y="42"/>
                  </a:moveTo>
                  <a:cubicBezTo>
                    <a:pt x="50" y="65"/>
                    <a:pt x="42" y="86"/>
                    <a:pt x="30" y="87"/>
                  </a:cubicBezTo>
                  <a:cubicBezTo>
                    <a:pt x="18" y="88"/>
                    <a:pt x="6" y="70"/>
                    <a:pt x="3" y="47"/>
                  </a:cubicBezTo>
                  <a:cubicBezTo>
                    <a:pt x="0" y="23"/>
                    <a:pt x="8" y="3"/>
                    <a:pt x="20" y="2"/>
                  </a:cubicBezTo>
                  <a:cubicBezTo>
                    <a:pt x="32" y="0"/>
                    <a:pt x="44" y="18"/>
                    <a:pt x="47" y="4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408960" y="391680"/>
              <a:ext cx="100440" cy="9936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182" y="143"/>
                  </a:moveTo>
                  <a:cubicBezTo>
                    <a:pt x="160" y="187"/>
                    <a:pt x="106" y="205"/>
                    <a:pt x="62" y="182"/>
                  </a:cubicBezTo>
                  <a:cubicBezTo>
                    <a:pt x="18" y="160"/>
                    <a:pt x="0" y="106"/>
                    <a:pt x="22" y="62"/>
                  </a:cubicBezTo>
                  <a:cubicBezTo>
                    <a:pt x="45" y="18"/>
                    <a:pt x="98" y="0"/>
                    <a:pt x="143" y="22"/>
                  </a:cubicBezTo>
                  <a:cubicBezTo>
                    <a:pt x="187" y="45"/>
                    <a:pt x="205" y="99"/>
                    <a:pt x="182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428040" y="399600"/>
              <a:ext cx="81360" cy="78480"/>
            </a:xfrm>
            <a:custGeom>
              <a:avLst/>
              <a:gdLst/>
              <a:ahLst/>
              <a:rect l="l" t="t" r="r" b="b"/>
              <a:pathLst>
                <a:path w="166" h="161">
                  <a:moveTo>
                    <a:pt x="104" y="6"/>
                  </a:moveTo>
                  <a:cubicBezTo>
                    <a:pt x="100" y="5"/>
                    <a:pt x="96" y="3"/>
                    <a:pt x="92" y="2"/>
                  </a:cubicBezTo>
                  <a:cubicBezTo>
                    <a:pt x="63" y="0"/>
                    <a:pt x="34" y="16"/>
                    <a:pt x="19" y="44"/>
                  </a:cubicBezTo>
                  <a:cubicBezTo>
                    <a:pt x="0" y="82"/>
                    <a:pt x="15" y="128"/>
                    <a:pt x="53" y="147"/>
                  </a:cubicBezTo>
                  <a:cubicBezTo>
                    <a:pt x="81" y="161"/>
                    <a:pt x="113" y="157"/>
                    <a:pt x="135" y="139"/>
                  </a:cubicBezTo>
                  <a:cubicBezTo>
                    <a:pt x="138" y="135"/>
                    <a:pt x="141" y="131"/>
                    <a:pt x="143" y="127"/>
                  </a:cubicBezTo>
                  <a:cubicBezTo>
                    <a:pt x="166" y="83"/>
                    <a:pt x="148" y="29"/>
                    <a:pt x="104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439560" y="401400"/>
              <a:ext cx="69840" cy="68760"/>
            </a:xfrm>
            <a:custGeom>
              <a:avLst/>
              <a:gdLst/>
              <a:ahLst/>
              <a:rect l="l" t="t" r="r" b="b"/>
              <a:pathLst>
                <a:path w="143" h="142">
                  <a:moveTo>
                    <a:pt x="81" y="2"/>
                  </a:moveTo>
                  <a:cubicBezTo>
                    <a:pt x="79" y="2"/>
                    <a:pt x="77" y="1"/>
                    <a:pt x="75" y="0"/>
                  </a:cubicBezTo>
                  <a:cubicBezTo>
                    <a:pt x="51" y="1"/>
                    <a:pt x="29" y="15"/>
                    <a:pt x="17" y="38"/>
                  </a:cubicBezTo>
                  <a:cubicBezTo>
                    <a:pt x="0" y="72"/>
                    <a:pt x="14" y="113"/>
                    <a:pt x="48" y="131"/>
                  </a:cubicBezTo>
                  <a:cubicBezTo>
                    <a:pt x="71" y="142"/>
                    <a:pt x="98" y="140"/>
                    <a:pt x="118" y="126"/>
                  </a:cubicBezTo>
                  <a:cubicBezTo>
                    <a:pt x="119" y="125"/>
                    <a:pt x="120" y="124"/>
                    <a:pt x="120" y="123"/>
                  </a:cubicBezTo>
                  <a:cubicBezTo>
                    <a:pt x="143" y="79"/>
                    <a:pt x="125" y="25"/>
                    <a:pt x="81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439560" y="403920"/>
              <a:ext cx="20520" cy="20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8" y="30"/>
                  </a:moveTo>
                  <a:cubicBezTo>
                    <a:pt x="34" y="39"/>
                    <a:pt x="22" y="43"/>
                    <a:pt x="13" y="38"/>
                  </a:cubicBezTo>
                  <a:cubicBezTo>
                    <a:pt x="3" y="34"/>
                    <a:pt x="0" y="22"/>
                    <a:pt x="4" y="13"/>
                  </a:cubicBezTo>
                  <a:cubicBezTo>
                    <a:pt x="9" y="3"/>
                    <a:pt x="20" y="0"/>
                    <a:pt x="30" y="4"/>
                  </a:cubicBezTo>
                  <a:cubicBezTo>
                    <a:pt x="39" y="9"/>
                    <a:pt x="43" y="21"/>
                    <a:pt x="38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658440" y="363600"/>
              <a:ext cx="99720" cy="98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182" y="142"/>
                  </a:moveTo>
                  <a:cubicBezTo>
                    <a:pt x="160" y="186"/>
                    <a:pt x="106" y="204"/>
                    <a:pt x="62" y="182"/>
                  </a:cubicBezTo>
                  <a:cubicBezTo>
                    <a:pt x="17" y="159"/>
                    <a:pt x="0" y="106"/>
                    <a:pt x="22" y="61"/>
                  </a:cubicBezTo>
                  <a:cubicBezTo>
                    <a:pt x="44" y="17"/>
                    <a:pt x="98" y="0"/>
                    <a:pt x="142" y="22"/>
                  </a:cubicBezTo>
                  <a:cubicBezTo>
                    <a:pt x="186" y="44"/>
                    <a:pt x="204" y="98"/>
                    <a:pt x="182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77520" y="370440"/>
              <a:ext cx="80280" cy="78480"/>
            </a:xfrm>
            <a:custGeom>
              <a:avLst/>
              <a:gdLst/>
              <a:ahLst/>
              <a:rect l="l" t="t" r="r" b="b"/>
              <a:pathLst>
                <a:path w="165" h="161">
                  <a:moveTo>
                    <a:pt x="103" y="6"/>
                  </a:moveTo>
                  <a:cubicBezTo>
                    <a:pt x="100" y="4"/>
                    <a:pt x="96" y="3"/>
                    <a:pt x="92" y="1"/>
                  </a:cubicBezTo>
                  <a:cubicBezTo>
                    <a:pt x="62" y="0"/>
                    <a:pt x="33" y="15"/>
                    <a:pt x="19" y="43"/>
                  </a:cubicBezTo>
                  <a:cubicBezTo>
                    <a:pt x="0" y="81"/>
                    <a:pt x="15" y="128"/>
                    <a:pt x="53" y="147"/>
                  </a:cubicBezTo>
                  <a:cubicBezTo>
                    <a:pt x="80" y="161"/>
                    <a:pt x="112" y="156"/>
                    <a:pt x="135" y="139"/>
                  </a:cubicBezTo>
                  <a:cubicBezTo>
                    <a:pt x="138" y="135"/>
                    <a:pt x="141" y="131"/>
                    <a:pt x="143" y="126"/>
                  </a:cubicBezTo>
                  <a:cubicBezTo>
                    <a:pt x="165" y="82"/>
                    <a:pt x="147" y="28"/>
                    <a:pt x="103" y="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89040" y="373320"/>
              <a:ext cx="69120" cy="687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80" y="2"/>
                  </a:moveTo>
                  <a:cubicBezTo>
                    <a:pt x="79" y="1"/>
                    <a:pt x="77" y="0"/>
                    <a:pt x="75" y="0"/>
                  </a:cubicBezTo>
                  <a:cubicBezTo>
                    <a:pt x="51" y="1"/>
                    <a:pt x="29" y="14"/>
                    <a:pt x="17" y="37"/>
                  </a:cubicBezTo>
                  <a:cubicBezTo>
                    <a:pt x="0" y="71"/>
                    <a:pt x="14" y="113"/>
                    <a:pt x="48" y="130"/>
                  </a:cubicBezTo>
                  <a:cubicBezTo>
                    <a:pt x="71" y="142"/>
                    <a:pt x="98" y="139"/>
                    <a:pt x="118" y="125"/>
                  </a:cubicBezTo>
                  <a:cubicBezTo>
                    <a:pt x="119" y="124"/>
                    <a:pt x="119" y="123"/>
                    <a:pt x="120" y="122"/>
                  </a:cubicBezTo>
                  <a:cubicBezTo>
                    <a:pt x="142" y="78"/>
                    <a:pt x="124" y="24"/>
                    <a:pt x="80" y="2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89040" y="375120"/>
              <a:ext cx="20880" cy="21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9" y="30"/>
                  </a:moveTo>
                  <a:cubicBezTo>
                    <a:pt x="34" y="40"/>
                    <a:pt x="23" y="44"/>
                    <a:pt x="13" y="39"/>
                  </a:cubicBezTo>
                  <a:cubicBezTo>
                    <a:pt x="4" y="34"/>
                    <a:pt x="0" y="23"/>
                    <a:pt x="5" y="13"/>
                  </a:cubicBezTo>
                  <a:cubicBezTo>
                    <a:pt x="10" y="4"/>
                    <a:pt x="21" y="0"/>
                    <a:pt x="30" y="5"/>
                  </a:cubicBezTo>
                  <a:cubicBezTo>
                    <a:pt x="40" y="10"/>
                    <a:pt x="44" y="21"/>
                    <a:pt x="3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50840" y="381960"/>
              <a:ext cx="145080" cy="68760"/>
            </a:xfrm>
            <a:custGeom>
              <a:avLst/>
              <a:gdLst/>
              <a:ahLst/>
              <a:rect l="l" t="t" r="r" b="b"/>
              <a:pathLst>
                <a:path w="297" h="142">
                  <a:moveTo>
                    <a:pt x="287" y="53"/>
                  </a:moveTo>
                  <a:cubicBezTo>
                    <a:pt x="276" y="40"/>
                    <a:pt x="252" y="52"/>
                    <a:pt x="237" y="60"/>
                  </a:cubicBezTo>
                  <a:cubicBezTo>
                    <a:pt x="237" y="48"/>
                    <a:pt x="234" y="34"/>
                    <a:pt x="234" y="22"/>
                  </a:cubicBezTo>
                  <a:cubicBezTo>
                    <a:pt x="233" y="0"/>
                    <a:pt x="172" y="111"/>
                    <a:pt x="169" y="47"/>
                  </a:cubicBezTo>
                  <a:cubicBezTo>
                    <a:pt x="163" y="40"/>
                    <a:pt x="150" y="71"/>
                    <a:pt x="138" y="81"/>
                  </a:cubicBezTo>
                  <a:cubicBezTo>
                    <a:pt x="135" y="72"/>
                    <a:pt x="129" y="47"/>
                    <a:pt x="122" y="50"/>
                  </a:cubicBezTo>
                  <a:cubicBezTo>
                    <a:pt x="112" y="58"/>
                    <a:pt x="106" y="72"/>
                    <a:pt x="104" y="84"/>
                  </a:cubicBezTo>
                  <a:cubicBezTo>
                    <a:pt x="85" y="72"/>
                    <a:pt x="90" y="41"/>
                    <a:pt x="68" y="38"/>
                  </a:cubicBezTo>
                  <a:cubicBezTo>
                    <a:pt x="63" y="37"/>
                    <a:pt x="75" y="60"/>
                    <a:pt x="69" y="75"/>
                  </a:cubicBezTo>
                  <a:cubicBezTo>
                    <a:pt x="46" y="65"/>
                    <a:pt x="15" y="22"/>
                    <a:pt x="7" y="37"/>
                  </a:cubicBezTo>
                  <a:cubicBezTo>
                    <a:pt x="0" y="88"/>
                    <a:pt x="80" y="128"/>
                    <a:pt x="80" y="128"/>
                  </a:cubicBezTo>
                  <a:cubicBezTo>
                    <a:pt x="94" y="142"/>
                    <a:pt x="171" y="137"/>
                    <a:pt x="194" y="135"/>
                  </a:cubicBezTo>
                  <a:cubicBezTo>
                    <a:pt x="261" y="128"/>
                    <a:pt x="297" y="69"/>
                    <a:pt x="287" y="5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214280" y="402120"/>
              <a:ext cx="138960" cy="145800"/>
            </a:xfrm>
            <a:custGeom>
              <a:avLst/>
              <a:gdLst/>
              <a:ahLst/>
              <a:rect l="l" t="t" r="r" b="b"/>
              <a:pathLst>
                <a:path w="284" h="299">
                  <a:moveTo>
                    <a:pt x="0" y="96"/>
                  </a:moveTo>
                  <a:cubicBezTo>
                    <a:pt x="55" y="74"/>
                    <a:pt x="208" y="0"/>
                    <a:pt x="246" y="52"/>
                  </a:cubicBezTo>
                  <a:cubicBezTo>
                    <a:pt x="284" y="104"/>
                    <a:pt x="160" y="240"/>
                    <a:pt x="131" y="270"/>
                  </a:cubicBezTo>
                  <a:cubicBezTo>
                    <a:pt x="102" y="299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239840" y="437040"/>
              <a:ext cx="92880" cy="75600"/>
            </a:xfrm>
            <a:custGeom>
              <a:avLst/>
              <a:gdLst/>
              <a:ahLst/>
              <a:rect l="l" t="t" r="r" b="b"/>
              <a:pathLst>
                <a:path w="189" h="156">
                  <a:moveTo>
                    <a:pt x="0" y="55"/>
                  </a:moveTo>
                  <a:cubicBezTo>
                    <a:pt x="36" y="41"/>
                    <a:pt x="112" y="0"/>
                    <a:pt x="160" y="17"/>
                  </a:cubicBezTo>
                  <a:cubicBezTo>
                    <a:pt x="189" y="27"/>
                    <a:pt x="116" y="141"/>
                    <a:pt x="68" y="151"/>
                  </a:cubicBezTo>
                  <a:cubicBezTo>
                    <a:pt x="41" y="156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875520" y="382680"/>
              <a:ext cx="135360" cy="153720"/>
            </a:xfrm>
            <a:custGeom>
              <a:avLst/>
              <a:gdLst/>
              <a:ahLst/>
              <a:rect l="l" t="t" r="r" b="b"/>
              <a:pathLst>
                <a:path w="279" h="314">
                  <a:moveTo>
                    <a:pt x="279" y="138"/>
                  </a:moveTo>
                  <a:cubicBezTo>
                    <a:pt x="231" y="105"/>
                    <a:pt x="98" y="0"/>
                    <a:pt x="49" y="42"/>
                  </a:cubicBezTo>
                  <a:cubicBezTo>
                    <a:pt x="0" y="85"/>
                    <a:pt x="92" y="245"/>
                    <a:pt x="114" y="280"/>
                  </a:cubicBezTo>
                  <a:cubicBezTo>
                    <a:pt x="136" y="314"/>
                    <a:pt x="279" y="138"/>
                    <a:pt x="279" y="138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898200" y="421200"/>
              <a:ext cx="84960" cy="82800"/>
            </a:xfrm>
            <a:custGeom>
              <a:avLst/>
              <a:gdLst/>
              <a:ahLst/>
              <a:rect l="l" t="t" r="r" b="b"/>
              <a:pathLst>
                <a:path w="174" h="170">
                  <a:moveTo>
                    <a:pt x="174" y="84"/>
                  </a:moveTo>
                  <a:cubicBezTo>
                    <a:pt x="143" y="61"/>
                    <a:pt x="81" y="0"/>
                    <a:pt x="30" y="4"/>
                  </a:cubicBezTo>
                  <a:cubicBezTo>
                    <a:pt x="0" y="6"/>
                    <a:pt x="39" y="135"/>
                    <a:pt x="84" y="158"/>
                  </a:cubicBezTo>
                  <a:cubicBezTo>
                    <a:pt x="108" y="170"/>
                    <a:pt x="174" y="84"/>
                    <a:pt x="174" y="84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879120" y="426600"/>
              <a:ext cx="445680" cy="294840"/>
            </a:xfrm>
            <a:custGeom>
              <a:avLst/>
              <a:gdLst/>
              <a:ahLst/>
              <a:rect l="l" t="t" r="r" b="b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solidFill>
              <a:srgbClr val="ffffff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67040" y="527040"/>
              <a:ext cx="63720" cy="31320"/>
            </a:xfrm>
            <a:custGeom>
              <a:avLst/>
              <a:gdLst/>
              <a:ahLst/>
              <a:rect l="l" t="t" r="r" b="b"/>
              <a:pathLst>
                <a:path w="130" h="65">
                  <a:moveTo>
                    <a:pt x="27" y="8"/>
                  </a:moveTo>
                  <a:cubicBezTo>
                    <a:pt x="57" y="3"/>
                    <a:pt x="98" y="0"/>
                    <a:pt x="112" y="10"/>
                  </a:cubicBezTo>
                  <a:cubicBezTo>
                    <a:pt x="130" y="22"/>
                    <a:pt x="82" y="65"/>
                    <a:pt x="67" y="65"/>
                  </a:cubicBezTo>
                  <a:cubicBezTo>
                    <a:pt x="52" y="64"/>
                    <a:pt x="0" y="24"/>
                    <a:pt x="27" y="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035720" y="574200"/>
              <a:ext cx="124920" cy="83520"/>
            </a:xfrm>
            <a:custGeom>
              <a:avLst/>
              <a:gdLst/>
              <a:ahLst/>
              <a:rect l="l" t="t" r="r" b="b"/>
              <a:pathLst>
                <a:path w="256" h="172">
                  <a:moveTo>
                    <a:pt x="31" y="16"/>
                  </a:moveTo>
                  <a:cubicBezTo>
                    <a:pt x="75" y="9"/>
                    <a:pt x="202" y="0"/>
                    <a:pt x="224" y="3"/>
                  </a:cubicBezTo>
                  <a:cubicBezTo>
                    <a:pt x="256" y="7"/>
                    <a:pt x="228" y="155"/>
                    <a:pt x="142" y="163"/>
                  </a:cubicBezTo>
                  <a:cubicBezTo>
                    <a:pt x="53" y="172"/>
                    <a:pt x="0" y="24"/>
                    <a:pt x="31" y="16"/>
                  </a:cubicBezTo>
                  <a:close/>
                </a:path>
              </a:pathLst>
            </a:custGeom>
            <a:solidFill>
              <a:srgbClr val="584b3a"/>
            </a:solidFill>
            <a:ln w="3240">
              <a:solidFill>
                <a:srgbClr val="584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958680" y="561960"/>
              <a:ext cx="61920" cy="50400"/>
            </a:xfrm>
            <a:custGeom>
              <a:avLst/>
              <a:gdLst/>
              <a:ahLst/>
              <a:rect l="l" t="t" r="r" b="b"/>
              <a:pathLst>
                <a:path w="126" h="104">
                  <a:moveTo>
                    <a:pt x="125" y="54"/>
                  </a:moveTo>
                  <a:cubicBezTo>
                    <a:pt x="124" y="82"/>
                    <a:pt x="95" y="104"/>
                    <a:pt x="61" y="102"/>
                  </a:cubicBezTo>
                  <a:cubicBezTo>
                    <a:pt x="27" y="101"/>
                    <a:pt x="0" y="77"/>
                    <a:pt x="1" y="49"/>
                  </a:cubicBezTo>
                  <a:cubicBezTo>
                    <a:pt x="2" y="21"/>
                    <a:pt x="31" y="0"/>
                    <a:pt x="65" y="1"/>
                  </a:cubicBezTo>
                  <a:cubicBezTo>
                    <a:pt x="100" y="3"/>
                    <a:pt x="126" y="26"/>
                    <a:pt x="125" y="54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1178280" y="554040"/>
              <a:ext cx="63720" cy="5328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127" y="46"/>
                  </a:moveTo>
                  <a:cubicBezTo>
                    <a:pt x="131" y="74"/>
                    <a:pt x="107" y="100"/>
                    <a:pt x="73" y="105"/>
                  </a:cubicBezTo>
                  <a:cubicBezTo>
                    <a:pt x="39" y="109"/>
                    <a:pt x="8" y="91"/>
                    <a:pt x="4" y="63"/>
                  </a:cubicBezTo>
                  <a:cubicBezTo>
                    <a:pt x="0" y="35"/>
                    <a:pt x="25" y="9"/>
                    <a:pt x="59" y="5"/>
                  </a:cubicBezTo>
                  <a:cubicBezTo>
                    <a:pt x="93" y="0"/>
                    <a:pt x="124" y="19"/>
                    <a:pt x="127" y="46"/>
                  </a:cubicBezTo>
                  <a:close/>
                </a:path>
              </a:pathLst>
            </a:cu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60200" y="598680"/>
              <a:ext cx="83880" cy="5652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43"/>
                  </a:moveTo>
                  <a:cubicBezTo>
                    <a:pt x="93" y="0"/>
                    <a:pt x="24" y="35"/>
                    <a:pt x="0" y="58"/>
                  </a:cubicBezTo>
                  <a:cubicBezTo>
                    <a:pt x="21" y="89"/>
                    <a:pt x="53" y="116"/>
                    <a:pt x="92" y="112"/>
                  </a:cubicBezTo>
                  <a:cubicBezTo>
                    <a:pt x="131" y="108"/>
                    <a:pt x="157" y="77"/>
                    <a:pt x="172" y="43"/>
                  </a:cubicBezTo>
                  <a:close/>
                </a:path>
              </a:pathLst>
            </a:custGeom>
            <a:solidFill>
              <a:srgbClr val="ce2c24"/>
            </a:solidFill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41840" y="429120"/>
              <a:ext cx="38160" cy="4788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19" y="90"/>
                  </a:moveTo>
                  <a:cubicBezTo>
                    <a:pt x="40" y="99"/>
                    <a:pt x="77" y="54"/>
                    <a:pt x="79" y="0"/>
                  </a:cubicBezTo>
                  <a:cubicBezTo>
                    <a:pt x="56" y="1"/>
                    <a:pt x="34" y="2"/>
                    <a:pt x="12" y="4"/>
                  </a:cubicBezTo>
                  <a:cubicBezTo>
                    <a:pt x="6" y="46"/>
                    <a:pt x="0" y="83"/>
                    <a:pt x="19" y="90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088280" y="429120"/>
              <a:ext cx="33840" cy="4860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27" y="96"/>
                  </a:moveTo>
                  <a:cubicBezTo>
                    <a:pt x="67" y="101"/>
                    <a:pt x="68" y="45"/>
                    <a:pt x="69" y="0"/>
                  </a:cubicBezTo>
                  <a:cubicBezTo>
                    <a:pt x="64" y="0"/>
                    <a:pt x="58" y="0"/>
                    <a:pt x="52" y="1"/>
                  </a:cubicBezTo>
                  <a:cubicBezTo>
                    <a:pt x="35" y="0"/>
                    <a:pt x="18" y="0"/>
                    <a:pt x="2" y="0"/>
                  </a:cubicBezTo>
                  <a:cubicBezTo>
                    <a:pt x="0" y="48"/>
                    <a:pt x="2" y="93"/>
                    <a:pt x="27" y="96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1132920" y="429120"/>
              <a:ext cx="38160" cy="52200"/>
            </a:xfrm>
            <a:custGeom>
              <a:avLst/>
              <a:gdLst/>
              <a:ahLst/>
              <a:rect l="l" t="t" r="r" b="b"/>
              <a:pathLst>
                <a:path w="78" h="107">
                  <a:moveTo>
                    <a:pt x="13" y="88"/>
                  </a:moveTo>
                  <a:cubicBezTo>
                    <a:pt x="28" y="107"/>
                    <a:pt x="78" y="89"/>
                    <a:pt x="71" y="5"/>
                  </a:cubicBezTo>
                  <a:cubicBezTo>
                    <a:pt x="50" y="2"/>
                    <a:pt x="29" y="0"/>
                    <a:pt x="7" y="0"/>
                  </a:cubicBezTo>
                  <a:cubicBezTo>
                    <a:pt x="8" y="34"/>
                    <a:pt x="0" y="71"/>
                    <a:pt x="13" y="88"/>
                  </a:cubicBezTo>
                  <a:close/>
                </a:path>
              </a:pathLst>
            </a:custGeom>
            <a:solidFill>
              <a:srgbClr val="d7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1159200" y="504360"/>
              <a:ext cx="64800" cy="3924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24" y="78"/>
                  </a:moveTo>
                  <a:cubicBezTo>
                    <a:pt x="124" y="78"/>
                    <a:pt x="124" y="78"/>
                    <a:pt x="124" y="78"/>
                  </a:cubicBezTo>
                  <a:cubicBezTo>
                    <a:pt x="118" y="79"/>
                    <a:pt x="114" y="74"/>
                    <a:pt x="114" y="69"/>
                  </a:cubicBezTo>
                  <a:cubicBezTo>
                    <a:pt x="113" y="38"/>
                    <a:pt x="87" y="20"/>
                    <a:pt x="62" y="20"/>
                  </a:cubicBezTo>
                  <a:cubicBezTo>
                    <a:pt x="36" y="20"/>
                    <a:pt x="20" y="39"/>
                    <a:pt x="20" y="71"/>
                  </a:cubicBezTo>
                  <a:cubicBezTo>
                    <a:pt x="20" y="76"/>
                    <a:pt x="15" y="80"/>
                    <a:pt x="10" y="81"/>
                  </a:cubicBezTo>
                  <a:cubicBezTo>
                    <a:pt x="4" y="81"/>
                    <a:pt x="0" y="76"/>
                    <a:pt x="0" y="71"/>
                  </a:cubicBezTo>
                  <a:cubicBezTo>
                    <a:pt x="1" y="19"/>
                    <a:pt x="34" y="1"/>
                    <a:pt x="62" y="1"/>
                  </a:cubicBezTo>
                  <a:cubicBezTo>
                    <a:pt x="96" y="0"/>
                    <a:pt x="133" y="26"/>
                    <a:pt x="133" y="69"/>
                  </a:cubicBezTo>
                  <a:cubicBezTo>
                    <a:pt x="133" y="74"/>
                    <a:pt x="129" y="78"/>
                    <a:pt x="124" y="78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212480" y="516600"/>
              <a:ext cx="21960" cy="122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25"/>
                  </a:moveTo>
                  <a:cubicBezTo>
                    <a:pt x="3" y="25"/>
                    <a:pt x="2" y="25"/>
                    <a:pt x="1" y="23"/>
                  </a:cubicBezTo>
                  <a:cubicBezTo>
                    <a:pt x="0" y="21"/>
                    <a:pt x="1" y="19"/>
                    <a:pt x="3" y="18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0"/>
                    <a:pt x="42" y="1"/>
                    <a:pt x="43" y="3"/>
                  </a:cubicBezTo>
                  <a:cubicBezTo>
                    <a:pt x="44" y="5"/>
                    <a:pt x="43" y="7"/>
                    <a:pt x="41" y="8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6" y="25"/>
                    <a:pt x="6" y="25"/>
                    <a:pt x="5" y="25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208160" y="504360"/>
              <a:ext cx="18360" cy="16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5" y="33"/>
                  </a:moveTo>
                  <a:cubicBezTo>
                    <a:pt x="3" y="33"/>
                    <a:pt x="2" y="33"/>
                    <a:pt x="1" y="32"/>
                  </a:cubicBezTo>
                  <a:cubicBezTo>
                    <a:pt x="0" y="30"/>
                    <a:pt x="0" y="28"/>
                    <a:pt x="2" y="26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3" y="0"/>
                    <a:pt x="35" y="0"/>
                    <a:pt x="37" y="2"/>
                  </a:cubicBezTo>
                  <a:cubicBezTo>
                    <a:pt x="38" y="4"/>
                    <a:pt x="38" y="6"/>
                    <a:pt x="36" y="8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5" y="33"/>
                    <a:pt x="5" y="33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975240" y="503640"/>
              <a:ext cx="64800" cy="388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23" y="81"/>
                  </a:moveTo>
                  <a:cubicBezTo>
                    <a:pt x="123" y="81"/>
                    <a:pt x="123" y="81"/>
                    <a:pt x="123" y="81"/>
                  </a:cubicBezTo>
                  <a:cubicBezTo>
                    <a:pt x="118" y="81"/>
                    <a:pt x="113" y="76"/>
                    <a:pt x="113" y="71"/>
                  </a:cubicBezTo>
                  <a:cubicBezTo>
                    <a:pt x="113" y="39"/>
                    <a:pt x="98" y="20"/>
                    <a:pt x="71" y="20"/>
                  </a:cubicBezTo>
                  <a:cubicBezTo>
                    <a:pt x="47" y="19"/>
                    <a:pt x="20" y="38"/>
                    <a:pt x="19" y="68"/>
                  </a:cubicBezTo>
                  <a:cubicBezTo>
                    <a:pt x="19" y="74"/>
                    <a:pt x="14" y="78"/>
                    <a:pt x="9" y="78"/>
                  </a:cubicBezTo>
                  <a:cubicBezTo>
                    <a:pt x="4" y="77"/>
                    <a:pt x="0" y="73"/>
                    <a:pt x="0" y="68"/>
                  </a:cubicBezTo>
                  <a:cubicBezTo>
                    <a:pt x="1" y="26"/>
                    <a:pt x="38" y="0"/>
                    <a:pt x="71" y="0"/>
                  </a:cubicBezTo>
                  <a:cubicBezTo>
                    <a:pt x="100" y="1"/>
                    <a:pt x="133" y="19"/>
                    <a:pt x="133" y="71"/>
                  </a:cubicBezTo>
                  <a:cubicBezTo>
                    <a:pt x="133" y="76"/>
                    <a:pt x="129" y="80"/>
                    <a:pt x="123" y="81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41"/>
            <p:cNvSpPr/>
            <p:nvPr/>
          </p:nvSpPr>
          <p:spPr>
            <a:xfrm>
              <a:off x="965880" y="515880"/>
              <a:ext cx="20880" cy="1188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9" y="26"/>
                  </a:moveTo>
                  <a:cubicBezTo>
                    <a:pt x="39" y="26"/>
                    <a:pt x="38" y="25"/>
                    <a:pt x="38" y="25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1" y="7"/>
                    <a:pt x="0" y="5"/>
                    <a:pt x="1" y="3"/>
                  </a:cubicBezTo>
                  <a:cubicBezTo>
                    <a:pt x="2" y="1"/>
                    <a:pt x="5" y="0"/>
                    <a:pt x="7" y="1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3" y="19"/>
                    <a:pt x="44" y="21"/>
                    <a:pt x="43" y="23"/>
                  </a:cubicBezTo>
                  <a:cubicBezTo>
                    <a:pt x="42" y="25"/>
                    <a:pt x="41" y="25"/>
                    <a:pt x="39" y="26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42"/>
            <p:cNvSpPr/>
            <p:nvPr/>
          </p:nvSpPr>
          <p:spPr>
            <a:xfrm>
              <a:off x="972720" y="503640"/>
              <a:ext cx="18360" cy="165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34"/>
                  </a:moveTo>
                  <a:cubicBezTo>
                    <a:pt x="33" y="34"/>
                    <a:pt x="32" y="33"/>
                    <a:pt x="31" y="33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4"/>
                    <a:pt x="2" y="2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8" y="28"/>
                    <a:pt x="38" y="30"/>
                    <a:pt x="37" y="32"/>
                  </a:cubicBezTo>
                  <a:cubicBezTo>
                    <a:pt x="36" y="33"/>
                    <a:pt x="35" y="33"/>
                    <a:pt x="34" y="34"/>
                  </a:cubicBezTo>
                  <a:close/>
                </a:path>
              </a:pathLst>
            </a:custGeom>
            <a:solidFill>
              <a:srgbClr val="584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252080" y="576000"/>
              <a:ext cx="110160" cy="4320"/>
              <a:chOff x="1252080" y="576000"/>
              <a:chExt cx="110160" cy="4320"/>
            </a:xfrm>
          </p:grpSpPr>
          <p:sp>
            <p:nvSpPr>
              <p:cNvPr id="112" name="Line 43"/>
              <p:cNvSpPr/>
              <p:nvPr/>
            </p:nvSpPr>
            <p:spPr>
              <a:xfrm>
                <a:off x="1252080" y="576000"/>
                <a:ext cx="110160" cy="432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1252080" y="576000"/>
                <a:ext cx="11016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250280" y="591480"/>
              <a:ext cx="105840" cy="27000"/>
              <a:chOff x="1250280" y="591480"/>
              <a:chExt cx="105840" cy="27000"/>
            </a:xfrm>
          </p:grpSpPr>
          <p:sp>
            <p:nvSpPr>
              <p:cNvPr id="115" name="Line 44"/>
              <p:cNvSpPr/>
              <p:nvPr/>
            </p:nvSpPr>
            <p:spPr>
              <a:xfrm>
                <a:off x="1250280" y="591480"/>
                <a:ext cx="105840" cy="2700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1250280" y="591480"/>
                <a:ext cx="10584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842040" y="601200"/>
              <a:ext cx="109440" cy="16200"/>
              <a:chOff x="842040" y="601200"/>
              <a:chExt cx="109440" cy="16200"/>
            </a:xfrm>
          </p:grpSpPr>
          <p:sp>
            <p:nvSpPr>
              <p:cNvPr id="118" name="Line 45"/>
              <p:cNvSpPr/>
              <p:nvPr/>
            </p:nvSpPr>
            <p:spPr>
              <a:xfrm flipH="1">
                <a:off x="842040" y="601200"/>
                <a:ext cx="109080" cy="1620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842400" y="601200"/>
                <a:ext cx="10908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839520" y="588240"/>
              <a:ext cx="110160" cy="5040"/>
              <a:chOff x="839520" y="588240"/>
              <a:chExt cx="110160" cy="5040"/>
            </a:xfrm>
          </p:grpSpPr>
          <p:sp>
            <p:nvSpPr>
              <p:cNvPr id="121" name="Line 46"/>
              <p:cNvSpPr/>
              <p:nvPr/>
            </p:nvSpPr>
            <p:spPr>
              <a:xfrm flipH="1">
                <a:off x="839520" y="588240"/>
                <a:ext cx="110160" cy="5040"/>
              </a:xfrm>
              <a:prstGeom prst="line">
                <a:avLst/>
              </a:prstGeom>
              <a:ln cap="rnd" w="3240">
                <a:solidFill>
                  <a:srgbClr val="604c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839520" y="588240"/>
                <a:ext cx="11016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Freeform 47"/>
            <p:cNvSpPr/>
            <p:nvPr/>
          </p:nvSpPr>
          <p:spPr>
            <a:xfrm>
              <a:off x="879120" y="426600"/>
              <a:ext cx="445680" cy="294840"/>
            </a:xfrm>
            <a:custGeom>
              <a:avLst/>
              <a:gdLst/>
              <a:ahLst/>
              <a:rect l="l" t="t" r="r" b="b"/>
              <a:pathLst>
                <a:path w="913" h="605">
                  <a:moveTo>
                    <a:pt x="481" y="6"/>
                  </a:moveTo>
                  <a:cubicBezTo>
                    <a:pt x="711" y="0"/>
                    <a:pt x="913" y="81"/>
                    <a:pt x="857" y="410"/>
                  </a:cubicBezTo>
                  <a:cubicBezTo>
                    <a:pt x="836" y="542"/>
                    <a:pt x="727" y="605"/>
                    <a:pt x="432" y="600"/>
                  </a:cubicBezTo>
                  <a:cubicBezTo>
                    <a:pt x="138" y="595"/>
                    <a:pt x="0" y="467"/>
                    <a:pt x="70" y="241"/>
                  </a:cubicBezTo>
                  <a:cubicBezTo>
                    <a:pt x="140" y="14"/>
                    <a:pt x="284" y="2"/>
                    <a:pt x="481" y="6"/>
                  </a:cubicBezTo>
                  <a:close/>
                </a:path>
              </a:pathLst>
            </a:custGeom>
            <a:noFill/>
            <a:ln cap="rnd" w="324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图片 50" descr=""/>
          <p:cNvPicPr/>
          <p:nvPr/>
        </p:nvPicPr>
        <p:blipFill>
          <a:blip r:embed="rId3"/>
          <a:stretch/>
        </p:blipFill>
        <p:spPr>
          <a:xfrm>
            <a:off x="8332920" y="3941640"/>
            <a:ext cx="738000" cy="12020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1" descr=""/>
          <p:cNvPicPr/>
          <p:nvPr/>
        </p:nvPicPr>
        <p:blipFill>
          <a:blip r:embed="rId4"/>
          <a:stretch/>
        </p:blipFill>
        <p:spPr>
          <a:xfrm>
            <a:off x="111240" y="4259160"/>
            <a:ext cx="1528560" cy="88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64F1-6253-4AE4-BA19-8B932F025B06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37B6-44D3-4E2A-9A2A-1685952778A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3"/>
          <p:cNvGrpSpPr/>
          <p:nvPr/>
        </p:nvGrpSpPr>
        <p:grpSpPr>
          <a:xfrm>
            <a:off x="826920" y="1276200"/>
            <a:ext cx="7239240" cy="2857680"/>
            <a:chOff x="826920" y="1276200"/>
            <a:chExt cx="7239240" cy="2857680"/>
          </a:xfrm>
        </p:grpSpPr>
        <p:sp>
          <p:nvSpPr>
            <p:cNvPr id="202" name="任意多边形: 形状 2"/>
            <p:cNvSpPr/>
            <p:nvPr/>
          </p:nvSpPr>
          <p:spPr>
            <a:xfrm>
              <a:off x="1115640" y="1276200"/>
              <a:ext cx="6950520" cy="2857680"/>
            </a:xfrm>
            <a:custGeom>
              <a:avLst/>
              <a:gdLst/>
              <a:ahLst/>
              <a:rect l="l" t="t" r="r" b="b"/>
              <a:pathLst>
                <a:path w="6950665" h="2857939">
                  <a:moveTo>
                    <a:pt x="315918" y="518777"/>
                  </a:moveTo>
                  <a:lnTo>
                    <a:pt x="315918" y="518777"/>
                  </a:lnTo>
                  <a:cubicBezTo>
                    <a:pt x="325369" y="495149"/>
                    <a:pt x="331040" y="469631"/>
                    <a:pt x="344272" y="447893"/>
                  </a:cubicBezTo>
                  <a:cubicBezTo>
                    <a:pt x="352804" y="433876"/>
                    <a:pt x="412068" y="352543"/>
                    <a:pt x="443509" y="327391"/>
                  </a:cubicBezTo>
                  <a:cubicBezTo>
                    <a:pt x="464094" y="310923"/>
                    <a:pt x="503482" y="287421"/>
                    <a:pt x="528569" y="277772"/>
                  </a:cubicBezTo>
                  <a:cubicBezTo>
                    <a:pt x="544624" y="271597"/>
                    <a:pt x="561747" y="268654"/>
                    <a:pt x="578188" y="263595"/>
                  </a:cubicBezTo>
                  <a:cubicBezTo>
                    <a:pt x="592471" y="259200"/>
                    <a:pt x="606279" y="253269"/>
                    <a:pt x="620718" y="249419"/>
                  </a:cubicBezTo>
                  <a:cubicBezTo>
                    <a:pt x="641767" y="243806"/>
                    <a:pt x="663741" y="241802"/>
                    <a:pt x="684514" y="235242"/>
                  </a:cubicBezTo>
                  <a:cubicBezTo>
                    <a:pt x="708781" y="227579"/>
                    <a:pt x="730601" y="212610"/>
                    <a:pt x="755397" y="206888"/>
                  </a:cubicBezTo>
                  <a:cubicBezTo>
                    <a:pt x="789341" y="199055"/>
                    <a:pt x="903045" y="189600"/>
                    <a:pt x="946783" y="185623"/>
                  </a:cubicBezTo>
                  <a:cubicBezTo>
                    <a:pt x="968048" y="180897"/>
                    <a:pt x="988796" y="171625"/>
                    <a:pt x="1010579" y="171446"/>
                  </a:cubicBezTo>
                  <a:cubicBezTo>
                    <a:pt x="1725659" y="165585"/>
                    <a:pt x="1554109" y="146355"/>
                    <a:pt x="1868272" y="185623"/>
                  </a:cubicBezTo>
                  <a:cubicBezTo>
                    <a:pt x="1877723" y="190349"/>
                    <a:pt x="1886504" y="196764"/>
                    <a:pt x="1896625" y="199800"/>
                  </a:cubicBezTo>
                  <a:cubicBezTo>
                    <a:pt x="1923866" y="207972"/>
                    <a:pt x="1937301" y="202418"/>
                    <a:pt x="1960420" y="213977"/>
                  </a:cubicBezTo>
                  <a:cubicBezTo>
                    <a:pt x="1968040" y="217787"/>
                    <a:pt x="1974066" y="224343"/>
                    <a:pt x="1981686" y="228153"/>
                  </a:cubicBezTo>
                  <a:cubicBezTo>
                    <a:pt x="2061191" y="267905"/>
                    <a:pt x="1928081" y="190435"/>
                    <a:pt x="2031304" y="249419"/>
                  </a:cubicBezTo>
                  <a:cubicBezTo>
                    <a:pt x="2038701" y="253646"/>
                    <a:pt x="2044592" y="260604"/>
                    <a:pt x="2052569" y="263595"/>
                  </a:cubicBezTo>
                  <a:cubicBezTo>
                    <a:pt x="2060500" y="266569"/>
                    <a:pt x="2125757" y="276975"/>
                    <a:pt x="2130541" y="277772"/>
                  </a:cubicBezTo>
                  <a:cubicBezTo>
                    <a:pt x="2175434" y="275409"/>
                    <a:pt x="2220449" y="274754"/>
                    <a:pt x="2265220" y="270684"/>
                  </a:cubicBezTo>
                  <a:cubicBezTo>
                    <a:pt x="2272661" y="270007"/>
                    <a:pt x="2279490" y="266219"/>
                    <a:pt x="2286486" y="263595"/>
                  </a:cubicBezTo>
                  <a:cubicBezTo>
                    <a:pt x="2339929" y="243554"/>
                    <a:pt x="2303744" y="256721"/>
                    <a:pt x="2350281" y="235242"/>
                  </a:cubicBezTo>
                  <a:cubicBezTo>
                    <a:pt x="2425104" y="200708"/>
                    <a:pt x="2394083" y="209744"/>
                    <a:pt x="2463695" y="199800"/>
                  </a:cubicBezTo>
                  <a:cubicBezTo>
                    <a:pt x="2480235" y="192712"/>
                    <a:pt x="2496932" y="185981"/>
                    <a:pt x="2513314" y="178535"/>
                  </a:cubicBezTo>
                  <a:cubicBezTo>
                    <a:pt x="2552965" y="160512"/>
                    <a:pt x="2540124" y="161365"/>
                    <a:pt x="2591286" y="143093"/>
                  </a:cubicBezTo>
                  <a:cubicBezTo>
                    <a:pt x="2607485" y="137308"/>
                    <a:pt x="2624658" y="134567"/>
                    <a:pt x="2640904" y="128916"/>
                  </a:cubicBezTo>
                  <a:cubicBezTo>
                    <a:pt x="2787069" y="78076"/>
                    <a:pt x="2707269" y="93107"/>
                    <a:pt x="2803937" y="79298"/>
                  </a:cubicBezTo>
                  <a:cubicBezTo>
                    <a:pt x="2818114" y="72209"/>
                    <a:pt x="2831038" y="61662"/>
                    <a:pt x="2846467" y="58032"/>
                  </a:cubicBezTo>
                  <a:cubicBezTo>
                    <a:pt x="2871871" y="52054"/>
                    <a:pt x="2898485" y="53676"/>
                    <a:pt x="2924439" y="50944"/>
                  </a:cubicBezTo>
                  <a:cubicBezTo>
                    <a:pt x="2943384" y="48950"/>
                    <a:pt x="2962244" y="46219"/>
                    <a:pt x="2981146" y="43856"/>
                  </a:cubicBezTo>
                  <a:cubicBezTo>
                    <a:pt x="3192748" y="-40786"/>
                    <a:pt x="3027190" y="20192"/>
                    <a:pt x="3590746" y="36767"/>
                  </a:cubicBezTo>
                  <a:cubicBezTo>
                    <a:pt x="3640568" y="38232"/>
                    <a:pt x="3739602" y="50944"/>
                    <a:pt x="3739602" y="50944"/>
                  </a:cubicBezTo>
                  <a:cubicBezTo>
                    <a:pt x="3753779" y="55670"/>
                    <a:pt x="3767763" y="61016"/>
                    <a:pt x="3782132" y="65121"/>
                  </a:cubicBezTo>
                  <a:cubicBezTo>
                    <a:pt x="3800866" y="70474"/>
                    <a:pt x="3820242" y="73486"/>
                    <a:pt x="3838839" y="79298"/>
                  </a:cubicBezTo>
                  <a:cubicBezTo>
                    <a:pt x="3858108" y="85320"/>
                    <a:pt x="3876277" y="94542"/>
                    <a:pt x="3895546" y="100563"/>
                  </a:cubicBezTo>
                  <a:cubicBezTo>
                    <a:pt x="3914143" y="106374"/>
                    <a:pt x="3933656" y="108927"/>
                    <a:pt x="3952253" y="114739"/>
                  </a:cubicBezTo>
                  <a:cubicBezTo>
                    <a:pt x="4083906" y="155881"/>
                    <a:pt x="3957610" y="123168"/>
                    <a:pt x="4037314" y="143093"/>
                  </a:cubicBezTo>
                  <a:cubicBezTo>
                    <a:pt x="4044402" y="150181"/>
                    <a:pt x="4050422" y="158531"/>
                    <a:pt x="4058579" y="164358"/>
                  </a:cubicBezTo>
                  <a:cubicBezTo>
                    <a:pt x="4067177" y="170500"/>
                    <a:pt x="4077758" y="173292"/>
                    <a:pt x="4086932" y="178535"/>
                  </a:cubicBezTo>
                  <a:cubicBezTo>
                    <a:pt x="4125405" y="200520"/>
                    <a:pt x="4090475" y="186805"/>
                    <a:pt x="4129462" y="199800"/>
                  </a:cubicBezTo>
                  <a:cubicBezTo>
                    <a:pt x="4138913" y="213977"/>
                    <a:pt x="4152428" y="226166"/>
                    <a:pt x="4157816" y="242330"/>
                  </a:cubicBezTo>
                  <a:cubicBezTo>
                    <a:pt x="4160179" y="249418"/>
                    <a:pt x="4160237" y="257761"/>
                    <a:pt x="4164904" y="263595"/>
                  </a:cubicBezTo>
                  <a:cubicBezTo>
                    <a:pt x="4177142" y="278893"/>
                    <a:pt x="4197496" y="280604"/>
                    <a:pt x="4214523" y="284860"/>
                  </a:cubicBezTo>
                  <a:cubicBezTo>
                    <a:pt x="4226359" y="284452"/>
                    <a:pt x="4419072" y="283028"/>
                    <a:pt x="4483881" y="270684"/>
                  </a:cubicBezTo>
                  <a:cubicBezTo>
                    <a:pt x="4512591" y="265216"/>
                    <a:pt x="4540231" y="254888"/>
                    <a:pt x="4568941" y="249419"/>
                  </a:cubicBezTo>
                  <a:cubicBezTo>
                    <a:pt x="4607481" y="242078"/>
                    <a:pt x="4722741" y="236705"/>
                    <a:pt x="4746151" y="235242"/>
                  </a:cubicBezTo>
                  <a:lnTo>
                    <a:pt x="5554225" y="249419"/>
                  </a:lnTo>
                  <a:cubicBezTo>
                    <a:pt x="5563964" y="249667"/>
                    <a:pt x="5573180" y="253944"/>
                    <a:pt x="5582579" y="256507"/>
                  </a:cubicBezTo>
                  <a:cubicBezTo>
                    <a:pt x="5675170" y="281759"/>
                    <a:pt x="5593488" y="258689"/>
                    <a:pt x="5667639" y="284860"/>
                  </a:cubicBezTo>
                  <a:cubicBezTo>
                    <a:pt x="5695823" y="294807"/>
                    <a:pt x="5724346" y="303763"/>
                    <a:pt x="5752700" y="313214"/>
                  </a:cubicBezTo>
                  <a:lnTo>
                    <a:pt x="5773965" y="320302"/>
                  </a:lnTo>
                  <a:lnTo>
                    <a:pt x="5816495" y="334479"/>
                  </a:lnTo>
                  <a:cubicBezTo>
                    <a:pt x="5894986" y="397272"/>
                    <a:pt x="5858024" y="383847"/>
                    <a:pt x="5915732" y="398274"/>
                  </a:cubicBezTo>
                  <a:cubicBezTo>
                    <a:pt x="5941292" y="500522"/>
                    <a:pt x="5894894" y="316254"/>
                    <a:pt x="5936997" y="476246"/>
                  </a:cubicBezTo>
                  <a:cubicBezTo>
                    <a:pt x="5944435" y="504510"/>
                    <a:pt x="5946749" y="534444"/>
                    <a:pt x="5958262" y="561307"/>
                  </a:cubicBezTo>
                  <a:cubicBezTo>
                    <a:pt x="5961787" y="569532"/>
                    <a:pt x="5992457" y="581646"/>
                    <a:pt x="6000793" y="582572"/>
                  </a:cubicBezTo>
                  <a:cubicBezTo>
                    <a:pt x="6036096" y="586494"/>
                    <a:pt x="6071676" y="587297"/>
                    <a:pt x="6107118" y="589660"/>
                  </a:cubicBezTo>
                  <a:cubicBezTo>
                    <a:pt x="6121295" y="594386"/>
                    <a:pt x="6135335" y="599543"/>
                    <a:pt x="6149648" y="603837"/>
                  </a:cubicBezTo>
                  <a:cubicBezTo>
                    <a:pt x="6158979" y="606637"/>
                    <a:pt x="6168760" y="607845"/>
                    <a:pt x="6178002" y="610926"/>
                  </a:cubicBezTo>
                  <a:cubicBezTo>
                    <a:pt x="6215070" y="623282"/>
                    <a:pt x="6218370" y="629012"/>
                    <a:pt x="6255974" y="646367"/>
                  </a:cubicBezTo>
                  <a:cubicBezTo>
                    <a:pt x="6274772" y="655043"/>
                    <a:pt x="6313300" y="669421"/>
                    <a:pt x="6333946" y="681809"/>
                  </a:cubicBezTo>
                  <a:cubicBezTo>
                    <a:pt x="6348556" y="690575"/>
                    <a:pt x="6361518" y="702004"/>
                    <a:pt x="6376476" y="710163"/>
                  </a:cubicBezTo>
                  <a:cubicBezTo>
                    <a:pt x="6387646" y="716256"/>
                    <a:pt x="6400795" y="718160"/>
                    <a:pt x="6411918" y="724339"/>
                  </a:cubicBezTo>
                  <a:cubicBezTo>
                    <a:pt x="6471070" y="757201"/>
                    <a:pt x="6409841" y="737997"/>
                    <a:pt x="6468625" y="752693"/>
                  </a:cubicBezTo>
                  <a:cubicBezTo>
                    <a:pt x="6505568" y="774858"/>
                    <a:pt x="6505907" y="772910"/>
                    <a:pt x="6539509" y="802312"/>
                  </a:cubicBezTo>
                  <a:cubicBezTo>
                    <a:pt x="6547053" y="808913"/>
                    <a:pt x="6553163" y="817053"/>
                    <a:pt x="6560774" y="823577"/>
                  </a:cubicBezTo>
                  <a:cubicBezTo>
                    <a:pt x="6569744" y="831265"/>
                    <a:pt x="6580346" y="836939"/>
                    <a:pt x="6589127" y="844842"/>
                  </a:cubicBezTo>
                  <a:cubicBezTo>
                    <a:pt x="6695588" y="940656"/>
                    <a:pt x="6575833" y="842711"/>
                    <a:pt x="6667100" y="915726"/>
                  </a:cubicBezTo>
                  <a:cubicBezTo>
                    <a:pt x="6672616" y="932274"/>
                    <a:pt x="6685305" y="966722"/>
                    <a:pt x="6688365" y="986609"/>
                  </a:cubicBezTo>
                  <a:cubicBezTo>
                    <a:pt x="6691618" y="1007756"/>
                    <a:pt x="6692279" y="1029246"/>
                    <a:pt x="6695453" y="1050405"/>
                  </a:cubicBezTo>
                  <a:cubicBezTo>
                    <a:pt x="6699372" y="1076530"/>
                    <a:pt x="6704449" y="1102473"/>
                    <a:pt x="6709630" y="1128377"/>
                  </a:cubicBezTo>
                  <a:cubicBezTo>
                    <a:pt x="6711541" y="1137930"/>
                    <a:pt x="6715116" y="1147121"/>
                    <a:pt x="6716718" y="1156730"/>
                  </a:cubicBezTo>
                  <a:cubicBezTo>
                    <a:pt x="6719850" y="1175520"/>
                    <a:pt x="6721444" y="1194535"/>
                    <a:pt x="6723807" y="1213437"/>
                  </a:cubicBezTo>
                  <a:cubicBezTo>
                    <a:pt x="6721444" y="1265418"/>
                    <a:pt x="6722683" y="1317689"/>
                    <a:pt x="6716718" y="1369381"/>
                  </a:cubicBezTo>
                  <a:cubicBezTo>
                    <a:pt x="6715507" y="1379878"/>
                    <a:pt x="6705883" y="1387710"/>
                    <a:pt x="6702541" y="1397735"/>
                  </a:cubicBezTo>
                  <a:cubicBezTo>
                    <a:pt x="6698731" y="1409165"/>
                    <a:pt x="6698623" y="1421554"/>
                    <a:pt x="6695453" y="1433177"/>
                  </a:cubicBezTo>
                  <a:cubicBezTo>
                    <a:pt x="6683774" y="1476001"/>
                    <a:pt x="6686605" y="1467713"/>
                    <a:pt x="6667100" y="1496972"/>
                  </a:cubicBezTo>
                  <a:cubicBezTo>
                    <a:pt x="6654795" y="1558491"/>
                    <a:pt x="6650367" y="1565067"/>
                    <a:pt x="6667100" y="1652916"/>
                  </a:cubicBezTo>
                  <a:cubicBezTo>
                    <a:pt x="6669311" y="1664521"/>
                    <a:pt x="6679395" y="1673581"/>
                    <a:pt x="6688365" y="1681270"/>
                  </a:cubicBezTo>
                  <a:cubicBezTo>
                    <a:pt x="6699510" y="1690823"/>
                    <a:pt x="6723588" y="1697736"/>
                    <a:pt x="6737983" y="1702535"/>
                  </a:cubicBezTo>
                  <a:cubicBezTo>
                    <a:pt x="6749797" y="1711986"/>
                    <a:pt x="6762117" y="1720837"/>
                    <a:pt x="6773425" y="1730888"/>
                  </a:cubicBezTo>
                  <a:cubicBezTo>
                    <a:pt x="6824995" y="1776728"/>
                    <a:pt x="6779700" y="1744522"/>
                    <a:pt x="6823044" y="1773419"/>
                  </a:cubicBezTo>
                  <a:cubicBezTo>
                    <a:pt x="6845076" y="1839517"/>
                    <a:pt x="6806766" y="1729708"/>
                    <a:pt x="6851397" y="1830126"/>
                  </a:cubicBezTo>
                  <a:cubicBezTo>
                    <a:pt x="6855354" y="1839028"/>
                    <a:pt x="6854868" y="1849434"/>
                    <a:pt x="6858486" y="1858479"/>
                  </a:cubicBezTo>
                  <a:cubicBezTo>
                    <a:pt x="6864373" y="1873195"/>
                    <a:pt x="6873655" y="1886378"/>
                    <a:pt x="6879751" y="1901009"/>
                  </a:cubicBezTo>
                  <a:cubicBezTo>
                    <a:pt x="6913447" y="1981881"/>
                    <a:pt x="6872258" y="1907426"/>
                    <a:pt x="6915193" y="1978981"/>
                  </a:cubicBezTo>
                  <a:cubicBezTo>
                    <a:pt x="6917556" y="1990795"/>
                    <a:pt x="6920126" y="2002569"/>
                    <a:pt x="6922281" y="2014423"/>
                  </a:cubicBezTo>
                  <a:cubicBezTo>
                    <a:pt x="6924852" y="2028563"/>
                    <a:pt x="6926251" y="2042923"/>
                    <a:pt x="6929369" y="2056953"/>
                  </a:cubicBezTo>
                  <a:cubicBezTo>
                    <a:pt x="6930990" y="2064247"/>
                    <a:pt x="6934095" y="2071130"/>
                    <a:pt x="6936458" y="2078219"/>
                  </a:cubicBezTo>
                  <a:cubicBezTo>
                    <a:pt x="6938821" y="2104210"/>
                    <a:pt x="6940309" y="2130295"/>
                    <a:pt x="6943546" y="2156191"/>
                  </a:cubicBezTo>
                  <a:cubicBezTo>
                    <a:pt x="6945040" y="2168146"/>
                    <a:pt x="6951157" y="2179596"/>
                    <a:pt x="6950634" y="2191632"/>
                  </a:cubicBezTo>
                  <a:cubicBezTo>
                    <a:pt x="6948353" y="2244092"/>
                    <a:pt x="6945260" y="2310050"/>
                    <a:pt x="6922281" y="2361753"/>
                  </a:cubicBezTo>
                  <a:cubicBezTo>
                    <a:pt x="6918821" y="2369538"/>
                    <a:pt x="6912619" y="2375795"/>
                    <a:pt x="6908104" y="2383019"/>
                  </a:cubicBezTo>
                  <a:cubicBezTo>
                    <a:pt x="6886159" y="2418130"/>
                    <a:pt x="6882558" y="2434216"/>
                    <a:pt x="6844309" y="2460991"/>
                  </a:cubicBezTo>
                  <a:cubicBezTo>
                    <a:pt x="6836328" y="2466578"/>
                    <a:pt x="6825406" y="2465716"/>
                    <a:pt x="6815955" y="2468079"/>
                  </a:cubicBezTo>
                  <a:cubicBezTo>
                    <a:pt x="6794690" y="2479893"/>
                    <a:pt x="6774247" y="2493327"/>
                    <a:pt x="6752160" y="2503521"/>
                  </a:cubicBezTo>
                  <a:cubicBezTo>
                    <a:pt x="6743315" y="2507603"/>
                    <a:pt x="6732929" y="2507188"/>
                    <a:pt x="6723807" y="2510609"/>
                  </a:cubicBezTo>
                  <a:cubicBezTo>
                    <a:pt x="6713913" y="2514319"/>
                    <a:pt x="6705384" y="2521175"/>
                    <a:pt x="6695453" y="2524786"/>
                  </a:cubicBezTo>
                  <a:cubicBezTo>
                    <a:pt x="6657324" y="2538651"/>
                    <a:pt x="6614153" y="2545299"/>
                    <a:pt x="6574951" y="2553139"/>
                  </a:cubicBezTo>
                  <a:cubicBezTo>
                    <a:pt x="6544725" y="2568252"/>
                    <a:pt x="6525571" y="2579066"/>
                    <a:pt x="6489890" y="2588581"/>
                  </a:cubicBezTo>
                  <a:cubicBezTo>
                    <a:pt x="6473747" y="2592886"/>
                    <a:pt x="6456710" y="2592681"/>
                    <a:pt x="6440272" y="2595670"/>
                  </a:cubicBezTo>
                  <a:cubicBezTo>
                    <a:pt x="6399003" y="2603174"/>
                    <a:pt x="6418734" y="2604599"/>
                    <a:pt x="6369388" y="2616935"/>
                  </a:cubicBezTo>
                  <a:cubicBezTo>
                    <a:pt x="6346847" y="2622570"/>
                    <a:pt x="6289719" y="2628316"/>
                    <a:pt x="6270151" y="2631112"/>
                  </a:cubicBezTo>
                  <a:cubicBezTo>
                    <a:pt x="6255923" y="2633145"/>
                    <a:pt x="6241797" y="2635837"/>
                    <a:pt x="6227620" y="2638200"/>
                  </a:cubicBezTo>
                  <a:cubicBezTo>
                    <a:pt x="6218169" y="2642926"/>
                    <a:pt x="6209673" y="2650541"/>
                    <a:pt x="6199267" y="2652377"/>
                  </a:cubicBezTo>
                  <a:cubicBezTo>
                    <a:pt x="6130613" y="2664492"/>
                    <a:pt x="6126504" y="2650640"/>
                    <a:pt x="6078765" y="2666553"/>
                  </a:cubicBezTo>
                  <a:cubicBezTo>
                    <a:pt x="6066694" y="2670577"/>
                    <a:pt x="6055394" y="2676706"/>
                    <a:pt x="6043323" y="2680730"/>
                  </a:cubicBezTo>
                  <a:cubicBezTo>
                    <a:pt x="6034081" y="2683811"/>
                    <a:pt x="6024336" y="2685143"/>
                    <a:pt x="6014969" y="2687819"/>
                  </a:cubicBezTo>
                  <a:cubicBezTo>
                    <a:pt x="6007785" y="2689872"/>
                    <a:pt x="6000912" y="2692941"/>
                    <a:pt x="5993704" y="2694907"/>
                  </a:cubicBezTo>
                  <a:cubicBezTo>
                    <a:pt x="5974906" y="2700034"/>
                    <a:pt x="5955088" y="2701848"/>
                    <a:pt x="5936997" y="2709084"/>
                  </a:cubicBezTo>
                  <a:cubicBezTo>
                    <a:pt x="5925183" y="2713809"/>
                    <a:pt x="5913716" y="2719518"/>
                    <a:pt x="5901555" y="2723260"/>
                  </a:cubicBezTo>
                  <a:cubicBezTo>
                    <a:pt x="5882932" y="2728990"/>
                    <a:pt x="5863445" y="2731625"/>
                    <a:pt x="5844848" y="2737437"/>
                  </a:cubicBezTo>
                  <a:cubicBezTo>
                    <a:pt x="5711012" y="2779261"/>
                    <a:pt x="5770799" y="2768505"/>
                    <a:pt x="5667639" y="2779967"/>
                  </a:cubicBezTo>
                  <a:cubicBezTo>
                    <a:pt x="5648737" y="2787055"/>
                    <a:pt x="5630845" y="2797913"/>
                    <a:pt x="5610932" y="2801232"/>
                  </a:cubicBezTo>
                  <a:cubicBezTo>
                    <a:pt x="5573569" y="2807459"/>
                    <a:pt x="5535266" y="2805175"/>
                    <a:pt x="5497518" y="2808321"/>
                  </a:cubicBezTo>
                  <a:cubicBezTo>
                    <a:pt x="5478534" y="2809903"/>
                    <a:pt x="5459693" y="2812891"/>
                    <a:pt x="5440811" y="2815409"/>
                  </a:cubicBezTo>
                  <a:cubicBezTo>
                    <a:pt x="5424250" y="2817617"/>
                    <a:pt x="5407519" y="2818949"/>
                    <a:pt x="5391193" y="2822498"/>
                  </a:cubicBezTo>
                  <a:cubicBezTo>
                    <a:pt x="5353114" y="2830776"/>
                    <a:pt x="5316661" y="2848259"/>
                    <a:pt x="5277779" y="2850851"/>
                  </a:cubicBezTo>
                  <a:lnTo>
                    <a:pt x="5171453" y="2857939"/>
                  </a:lnTo>
                  <a:lnTo>
                    <a:pt x="4136551" y="2836674"/>
                  </a:lnTo>
                  <a:cubicBezTo>
                    <a:pt x="4101734" y="2833009"/>
                    <a:pt x="4064962" y="2827460"/>
                    <a:pt x="4030225" y="2822498"/>
                  </a:cubicBezTo>
                  <a:cubicBezTo>
                    <a:pt x="4006597" y="2813047"/>
                    <a:pt x="3983307" y="2802703"/>
                    <a:pt x="3959341" y="2794144"/>
                  </a:cubicBezTo>
                  <a:cubicBezTo>
                    <a:pt x="3950167" y="2790867"/>
                    <a:pt x="3940143" y="2790385"/>
                    <a:pt x="3930988" y="2787056"/>
                  </a:cubicBezTo>
                  <a:cubicBezTo>
                    <a:pt x="3914077" y="2780907"/>
                    <a:pt x="3898544" y="2771158"/>
                    <a:pt x="3881369" y="2765791"/>
                  </a:cubicBezTo>
                  <a:cubicBezTo>
                    <a:pt x="3860577" y="2759293"/>
                    <a:pt x="3838622" y="2757227"/>
                    <a:pt x="3817574" y="2751614"/>
                  </a:cubicBezTo>
                  <a:cubicBezTo>
                    <a:pt x="3803135" y="2747764"/>
                    <a:pt x="3789784" y="2739894"/>
                    <a:pt x="3775044" y="2737437"/>
                  </a:cubicBezTo>
                  <a:cubicBezTo>
                    <a:pt x="3716034" y="2727602"/>
                    <a:pt x="3746742" y="2732382"/>
                    <a:pt x="3682895" y="2723260"/>
                  </a:cubicBezTo>
                  <a:lnTo>
                    <a:pt x="3463155" y="2737437"/>
                  </a:lnTo>
                  <a:cubicBezTo>
                    <a:pt x="3452732" y="2739174"/>
                    <a:pt x="3444962" y="2748711"/>
                    <a:pt x="3434802" y="2751614"/>
                  </a:cubicBezTo>
                  <a:cubicBezTo>
                    <a:pt x="3411633" y="2758234"/>
                    <a:pt x="3387397" y="2760373"/>
                    <a:pt x="3363918" y="2765791"/>
                  </a:cubicBezTo>
                  <a:cubicBezTo>
                    <a:pt x="3241751" y="2793983"/>
                    <a:pt x="3303200" y="2784638"/>
                    <a:pt x="3179620" y="2794144"/>
                  </a:cubicBezTo>
                  <a:lnTo>
                    <a:pt x="2754318" y="2787056"/>
                  </a:lnTo>
                  <a:cubicBezTo>
                    <a:pt x="2697451" y="2785025"/>
                    <a:pt x="2640867" y="2778031"/>
                    <a:pt x="2584197" y="2772879"/>
                  </a:cubicBezTo>
                  <a:cubicBezTo>
                    <a:pt x="2562889" y="2770942"/>
                    <a:pt x="2541536" y="2769128"/>
                    <a:pt x="2520402" y="2765791"/>
                  </a:cubicBezTo>
                  <a:cubicBezTo>
                    <a:pt x="2496601" y="2762033"/>
                    <a:pt x="2473347" y="2755188"/>
                    <a:pt x="2449518" y="2751614"/>
                  </a:cubicBezTo>
                  <a:cubicBezTo>
                    <a:pt x="2426035" y="2748092"/>
                    <a:pt x="2402235" y="2747148"/>
                    <a:pt x="2378634" y="2744526"/>
                  </a:cubicBezTo>
                  <a:cubicBezTo>
                    <a:pt x="2255909" y="2730890"/>
                    <a:pt x="2294889" y="2737701"/>
                    <a:pt x="2222690" y="2723260"/>
                  </a:cubicBezTo>
                  <a:cubicBezTo>
                    <a:pt x="2213239" y="2718535"/>
                    <a:pt x="2204361" y="2712425"/>
                    <a:pt x="2194337" y="2709084"/>
                  </a:cubicBezTo>
                  <a:cubicBezTo>
                    <a:pt x="2175853" y="2702923"/>
                    <a:pt x="2137630" y="2694907"/>
                    <a:pt x="2137630" y="2694907"/>
                  </a:cubicBezTo>
                  <a:cubicBezTo>
                    <a:pt x="2110564" y="2674608"/>
                    <a:pt x="2101103" y="2664871"/>
                    <a:pt x="2066746" y="2652377"/>
                  </a:cubicBezTo>
                  <a:cubicBezTo>
                    <a:pt x="2055423" y="2648260"/>
                    <a:pt x="2042779" y="2648960"/>
                    <a:pt x="2031304" y="2645288"/>
                  </a:cubicBezTo>
                  <a:cubicBezTo>
                    <a:pt x="1983620" y="2630029"/>
                    <a:pt x="1937221" y="2610929"/>
                    <a:pt x="1889537" y="2595670"/>
                  </a:cubicBezTo>
                  <a:cubicBezTo>
                    <a:pt x="1878062" y="2591998"/>
                    <a:pt x="1865635" y="2592043"/>
                    <a:pt x="1854095" y="2588581"/>
                  </a:cubicBezTo>
                  <a:cubicBezTo>
                    <a:pt x="1759176" y="2560106"/>
                    <a:pt x="1896230" y="2590810"/>
                    <a:pt x="1761946" y="2546051"/>
                  </a:cubicBezTo>
                  <a:cubicBezTo>
                    <a:pt x="1754858" y="2543688"/>
                    <a:pt x="1747483" y="2542055"/>
                    <a:pt x="1740681" y="2538963"/>
                  </a:cubicBezTo>
                  <a:cubicBezTo>
                    <a:pt x="1709078" y="2524598"/>
                    <a:pt x="1676821" y="2502675"/>
                    <a:pt x="1641444" y="2496432"/>
                  </a:cubicBezTo>
                  <a:cubicBezTo>
                    <a:pt x="1615743" y="2491897"/>
                    <a:pt x="1589463" y="2491707"/>
                    <a:pt x="1563472" y="2489344"/>
                  </a:cubicBezTo>
                  <a:cubicBezTo>
                    <a:pt x="1487863" y="2491707"/>
                    <a:pt x="1412137" y="2491613"/>
                    <a:pt x="1336644" y="2496432"/>
                  </a:cubicBezTo>
                  <a:cubicBezTo>
                    <a:pt x="1280757" y="2499999"/>
                    <a:pt x="1144259" y="2526154"/>
                    <a:pt x="1095639" y="2531874"/>
                  </a:cubicBezTo>
                  <a:cubicBezTo>
                    <a:pt x="1060362" y="2536024"/>
                    <a:pt x="1024721" y="2536130"/>
                    <a:pt x="989314" y="2538963"/>
                  </a:cubicBezTo>
                  <a:cubicBezTo>
                    <a:pt x="965644" y="2540857"/>
                    <a:pt x="942058" y="2543688"/>
                    <a:pt x="918430" y="2546051"/>
                  </a:cubicBezTo>
                  <a:cubicBezTo>
                    <a:pt x="169769" y="2536201"/>
                    <a:pt x="560430" y="2605845"/>
                    <a:pt x="344272" y="2524786"/>
                  </a:cubicBezTo>
                  <a:cubicBezTo>
                    <a:pt x="337276" y="2522163"/>
                    <a:pt x="330003" y="2520321"/>
                    <a:pt x="323007" y="2517698"/>
                  </a:cubicBezTo>
                  <a:cubicBezTo>
                    <a:pt x="311308" y="2513311"/>
                    <a:pt x="271080" y="2497822"/>
                    <a:pt x="259211" y="2489344"/>
                  </a:cubicBezTo>
                  <a:cubicBezTo>
                    <a:pt x="251054" y="2483517"/>
                    <a:pt x="245557" y="2474603"/>
                    <a:pt x="237946" y="2468079"/>
                  </a:cubicBezTo>
                  <a:cubicBezTo>
                    <a:pt x="188965" y="2426095"/>
                    <a:pt x="226238" y="2471781"/>
                    <a:pt x="181239" y="2404284"/>
                  </a:cubicBezTo>
                  <a:cubicBezTo>
                    <a:pt x="158350" y="2335615"/>
                    <a:pt x="169260" y="2376826"/>
                    <a:pt x="181239" y="2227074"/>
                  </a:cubicBezTo>
                  <a:cubicBezTo>
                    <a:pt x="181835" y="2219626"/>
                    <a:pt x="184182" y="2212026"/>
                    <a:pt x="188327" y="2205809"/>
                  </a:cubicBezTo>
                  <a:cubicBezTo>
                    <a:pt x="219684" y="2158775"/>
                    <a:pt x="200576" y="2209665"/>
                    <a:pt x="223769" y="2163279"/>
                  </a:cubicBezTo>
                  <a:cubicBezTo>
                    <a:pt x="258446" y="2093924"/>
                    <a:pt x="219281" y="2155834"/>
                    <a:pt x="252123" y="2106572"/>
                  </a:cubicBezTo>
                  <a:cubicBezTo>
                    <a:pt x="276585" y="2033182"/>
                    <a:pt x="263875" y="2079713"/>
                    <a:pt x="252123" y="1915186"/>
                  </a:cubicBezTo>
                  <a:cubicBezTo>
                    <a:pt x="250898" y="1898032"/>
                    <a:pt x="236963" y="1865128"/>
                    <a:pt x="230858" y="1851391"/>
                  </a:cubicBezTo>
                  <a:cubicBezTo>
                    <a:pt x="226566" y="1841735"/>
                    <a:pt x="220606" y="1832848"/>
                    <a:pt x="216681" y="1823037"/>
                  </a:cubicBezTo>
                  <a:cubicBezTo>
                    <a:pt x="211131" y="1809162"/>
                    <a:pt x="209187" y="1793873"/>
                    <a:pt x="202504" y="1780507"/>
                  </a:cubicBezTo>
                  <a:cubicBezTo>
                    <a:pt x="194884" y="1765268"/>
                    <a:pt x="174151" y="1737977"/>
                    <a:pt x="174151" y="1737977"/>
                  </a:cubicBezTo>
                  <a:cubicBezTo>
                    <a:pt x="169425" y="1716712"/>
                    <a:pt x="164963" y="1695386"/>
                    <a:pt x="159974" y="1674181"/>
                  </a:cubicBezTo>
                  <a:cubicBezTo>
                    <a:pt x="155511" y="1655215"/>
                    <a:pt x="149183" y="1636662"/>
                    <a:pt x="145797" y="1617474"/>
                  </a:cubicBezTo>
                  <a:cubicBezTo>
                    <a:pt x="130037" y="1528167"/>
                    <a:pt x="151984" y="1580229"/>
                    <a:pt x="124532" y="1525326"/>
                  </a:cubicBezTo>
                  <a:cubicBezTo>
                    <a:pt x="122169" y="1513512"/>
                    <a:pt x="120754" y="1501468"/>
                    <a:pt x="117444" y="1489884"/>
                  </a:cubicBezTo>
                  <a:cubicBezTo>
                    <a:pt x="111286" y="1468331"/>
                    <a:pt x="103268" y="1447353"/>
                    <a:pt x="96179" y="1426088"/>
                  </a:cubicBezTo>
                  <a:cubicBezTo>
                    <a:pt x="93816" y="1419000"/>
                    <a:pt x="90902" y="1412072"/>
                    <a:pt x="89090" y="1404823"/>
                  </a:cubicBezTo>
                  <a:cubicBezTo>
                    <a:pt x="81734" y="1375397"/>
                    <a:pt x="77766" y="1353358"/>
                    <a:pt x="67825" y="1326851"/>
                  </a:cubicBezTo>
                  <a:cubicBezTo>
                    <a:pt x="63357" y="1314937"/>
                    <a:pt x="58816" y="1303036"/>
                    <a:pt x="53648" y="1291409"/>
                  </a:cubicBezTo>
                  <a:cubicBezTo>
                    <a:pt x="49357" y="1281753"/>
                    <a:pt x="43396" y="1272867"/>
                    <a:pt x="39472" y="1263056"/>
                  </a:cubicBezTo>
                  <a:cubicBezTo>
                    <a:pt x="14167" y="1199792"/>
                    <a:pt x="38392" y="1240173"/>
                    <a:pt x="11118" y="1199260"/>
                  </a:cubicBezTo>
                  <a:cubicBezTo>
                    <a:pt x="-1824" y="1134550"/>
                    <a:pt x="-5477" y="1131652"/>
                    <a:pt x="11118" y="1036228"/>
                  </a:cubicBezTo>
                  <a:cubicBezTo>
                    <a:pt x="16100" y="1007581"/>
                    <a:pt x="38241" y="999330"/>
                    <a:pt x="53648" y="979521"/>
                  </a:cubicBezTo>
                  <a:cubicBezTo>
                    <a:pt x="64109" y="966072"/>
                    <a:pt x="82002" y="936991"/>
                    <a:pt x="82002" y="936991"/>
                  </a:cubicBezTo>
                  <a:cubicBezTo>
                    <a:pt x="97206" y="891377"/>
                    <a:pt x="77171" y="940918"/>
                    <a:pt x="110355" y="894460"/>
                  </a:cubicBezTo>
                  <a:cubicBezTo>
                    <a:pt x="134943" y="860037"/>
                    <a:pt x="116192" y="875698"/>
                    <a:pt x="131620" y="844842"/>
                  </a:cubicBezTo>
                  <a:cubicBezTo>
                    <a:pt x="135430" y="837222"/>
                    <a:pt x="142337" y="831362"/>
                    <a:pt x="145797" y="823577"/>
                  </a:cubicBezTo>
                  <a:cubicBezTo>
                    <a:pt x="145802" y="823565"/>
                    <a:pt x="163516" y="770420"/>
                    <a:pt x="167062" y="759781"/>
                  </a:cubicBezTo>
                  <a:cubicBezTo>
                    <a:pt x="169425" y="752693"/>
                    <a:pt x="170007" y="744733"/>
                    <a:pt x="174151" y="738516"/>
                  </a:cubicBezTo>
                  <a:cubicBezTo>
                    <a:pt x="214783" y="677565"/>
                    <a:pt x="166064" y="754688"/>
                    <a:pt x="195416" y="695986"/>
                  </a:cubicBezTo>
                  <a:cubicBezTo>
                    <a:pt x="199226" y="688366"/>
                    <a:pt x="204867" y="681809"/>
                    <a:pt x="209593" y="674721"/>
                  </a:cubicBezTo>
                  <a:cubicBezTo>
                    <a:pt x="211956" y="667633"/>
                    <a:pt x="214628" y="660640"/>
                    <a:pt x="216681" y="653456"/>
                  </a:cubicBezTo>
                  <a:cubicBezTo>
                    <a:pt x="219357" y="644089"/>
                    <a:pt x="219931" y="634056"/>
                    <a:pt x="223769" y="625102"/>
                  </a:cubicBezTo>
                  <a:cubicBezTo>
                    <a:pt x="227125" y="617272"/>
                    <a:pt x="233220" y="610925"/>
                    <a:pt x="237946" y="603837"/>
                  </a:cubicBezTo>
                  <a:lnTo>
                    <a:pt x="259211" y="540042"/>
                  </a:lnTo>
                  <a:cubicBezTo>
                    <a:pt x="261574" y="532954"/>
                    <a:pt x="259617" y="522119"/>
                    <a:pt x="266300" y="518777"/>
                  </a:cubicBezTo>
                  <a:lnTo>
                    <a:pt x="315918" y="518777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文本框 15"/>
            <p:cNvSpPr/>
            <p:nvPr/>
          </p:nvSpPr>
          <p:spPr>
            <a:xfrm>
              <a:off x="826920" y="1636200"/>
              <a:ext cx="7057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脸上长鼻子，头上挂扇子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四根粗柱子，一条小辫子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打一动物名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8"/>
          <p:cNvSpPr/>
          <p:nvPr/>
        </p:nvSpPr>
        <p:spPr>
          <a:xfrm>
            <a:off x="255600" y="95400"/>
            <a:ext cx="822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兔子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咦，大象啊，你的耳朵怎么耷拉下来了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大象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生来就是这样啊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兔子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看，我的耳朵是竖着的，你的耳朵一定是有病了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来，大象又遇到了小羊。小羊也说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大象啊，你的耳朵怎么是耷拉着的呢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鹿、小马，还有小老鼠，见到了大象，都要说他的耳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7"/>
          <p:cNvSpPr/>
          <p:nvPr/>
        </p:nvSpPr>
        <p:spPr>
          <a:xfrm>
            <a:off x="987480" y="95400"/>
            <a:ext cx="12096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椭圆 1"/>
          <p:cNvSpPr/>
          <p:nvPr/>
        </p:nvSpPr>
        <p:spPr>
          <a:xfrm>
            <a:off x="4629240" y="2530440"/>
            <a:ext cx="8748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椭圆 2"/>
          <p:cNvSpPr/>
          <p:nvPr/>
        </p:nvSpPr>
        <p:spPr>
          <a:xfrm>
            <a:off x="4137120" y="3546360"/>
            <a:ext cx="1366920" cy="54000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椭圆 4"/>
          <p:cNvSpPr/>
          <p:nvPr/>
        </p:nvSpPr>
        <p:spPr>
          <a:xfrm>
            <a:off x="896760" y="3544920"/>
            <a:ext cx="874800" cy="53964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椭圆 5"/>
          <p:cNvSpPr/>
          <p:nvPr/>
        </p:nvSpPr>
        <p:spPr>
          <a:xfrm>
            <a:off x="2128680" y="3484440"/>
            <a:ext cx="874800" cy="54000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组合 12"/>
          <p:cNvGrpSpPr/>
          <p:nvPr/>
        </p:nvGrpSpPr>
        <p:grpSpPr>
          <a:xfrm>
            <a:off x="1954080" y="693720"/>
            <a:ext cx="4975200" cy="1801800"/>
            <a:chOff x="1954080" y="693720"/>
            <a:chExt cx="4975200" cy="1801800"/>
          </a:xfrm>
        </p:grpSpPr>
        <p:sp>
          <p:nvSpPr>
            <p:cNvPr id="451" name="思想气泡: 云 8"/>
            <p:cNvSpPr/>
            <p:nvPr/>
          </p:nvSpPr>
          <p:spPr>
            <a:xfrm>
              <a:off x="1954080" y="693720"/>
              <a:ext cx="4975200" cy="1801800"/>
            </a:xfrm>
            <a:prstGeom prst="cloudCallout">
              <a:avLst>
                <a:gd name="adj1" fmla="val -56824"/>
                <a:gd name="adj2" fmla="val 32064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6"/>
            <p:cNvSpPr/>
            <p:nvPr/>
          </p:nvSpPr>
          <p:spPr>
            <a:xfrm>
              <a:off x="2137680" y="908640"/>
              <a:ext cx="446472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咦，大象啊，你的耳朵怎么耷拉下来了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3" name="图片 6" descr=""/>
          <p:cNvPicPr/>
          <p:nvPr/>
        </p:nvPicPr>
        <p:blipFill>
          <a:blip r:embed="rId1"/>
          <a:srcRect l="19478" t="0" r="22220" b="0"/>
          <a:stretch/>
        </p:blipFill>
        <p:spPr>
          <a:xfrm>
            <a:off x="517680" y="905040"/>
            <a:ext cx="1114200" cy="202716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6" descr=""/>
          <p:cNvPicPr/>
          <p:nvPr/>
        </p:nvPicPr>
        <p:blipFill>
          <a:blip r:embed="rId2"/>
          <a:stretch/>
        </p:blipFill>
        <p:spPr>
          <a:xfrm>
            <a:off x="6562800" y="3067200"/>
            <a:ext cx="2421000" cy="1533240"/>
          </a:xfrm>
          <a:prstGeom prst="rect">
            <a:avLst/>
          </a:prstGeom>
          <a:ln w="0">
            <a:noFill/>
          </a:ln>
        </p:spPr>
      </p:pic>
      <p:grpSp>
        <p:nvGrpSpPr>
          <p:cNvPr id="455" name="组合 19"/>
          <p:cNvGrpSpPr/>
          <p:nvPr/>
        </p:nvGrpSpPr>
        <p:grpSpPr>
          <a:xfrm>
            <a:off x="2232000" y="2881440"/>
            <a:ext cx="4618080" cy="1353960"/>
            <a:chOff x="2232000" y="2881440"/>
            <a:chExt cx="4618080" cy="1353960"/>
          </a:xfrm>
        </p:grpSpPr>
        <p:sp>
          <p:nvSpPr>
            <p:cNvPr id="456" name="思想气泡: 云 17"/>
            <p:cNvSpPr/>
            <p:nvPr/>
          </p:nvSpPr>
          <p:spPr>
            <a:xfrm>
              <a:off x="2232000" y="2881440"/>
              <a:ext cx="4521240" cy="1353960"/>
            </a:xfrm>
            <a:prstGeom prst="cloudCallout">
              <a:avLst>
                <a:gd name="adj1" fmla="val 59532"/>
                <a:gd name="adj2" fmla="val 28740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2785680" y="3173400"/>
              <a:ext cx="40644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我生来就是这样啊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"/>
          <p:cNvSpPr/>
          <p:nvPr/>
        </p:nvSpPr>
        <p:spPr>
          <a:xfrm>
            <a:off x="3244680" y="329724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生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1"/>
          <p:cNvGrpSpPr/>
          <p:nvPr/>
        </p:nvGrpSpPr>
        <p:grpSpPr>
          <a:xfrm>
            <a:off x="2152800" y="843120"/>
            <a:ext cx="6019560" cy="2903400"/>
            <a:chOff x="2152800" y="843120"/>
            <a:chExt cx="6019560" cy="2903400"/>
          </a:xfrm>
        </p:grpSpPr>
        <p:sp>
          <p:nvSpPr>
            <p:cNvPr id="460" name="思想气泡: 云 2"/>
            <p:cNvSpPr/>
            <p:nvPr/>
          </p:nvSpPr>
          <p:spPr>
            <a:xfrm>
              <a:off x="2152800" y="843120"/>
              <a:ext cx="6019560" cy="2903400"/>
            </a:xfrm>
            <a:prstGeom prst="cloudCallout">
              <a:avLst>
                <a:gd name="adj1" fmla="val -56824"/>
                <a:gd name="adj2" fmla="val 32064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Text Box 6"/>
            <p:cNvSpPr/>
            <p:nvPr/>
          </p:nvSpPr>
          <p:spPr>
            <a:xfrm>
              <a:off x="2484000" y="1530000"/>
              <a:ext cx="554436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你看，我的耳朵是竖着的，你的耳朵一定是有病了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2" name="图片 4" descr=""/>
          <p:cNvPicPr/>
          <p:nvPr/>
        </p:nvPicPr>
        <p:blipFill>
          <a:blip r:embed="rId1"/>
          <a:srcRect l="19471" t="0" r="22208" b="0"/>
          <a:stretch/>
        </p:blipFill>
        <p:spPr>
          <a:xfrm>
            <a:off x="638280" y="1995480"/>
            <a:ext cx="1349280" cy="2452680"/>
          </a:xfrm>
          <a:prstGeom prst="rect">
            <a:avLst/>
          </a:prstGeom>
          <a:ln w="0">
            <a:noFill/>
          </a:ln>
        </p:spPr>
      </p:pic>
      <p:sp>
        <p:nvSpPr>
          <p:cNvPr id="463" name="椭圆 5"/>
          <p:cNvSpPr/>
          <p:nvPr/>
        </p:nvSpPr>
        <p:spPr>
          <a:xfrm>
            <a:off x="5400720" y="2185920"/>
            <a:ext cx="961920" cy="65412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3"/>
          <p:cNvSpPr/>
          <p:nvPr/>
        </p:nvSpPr>
        <p:spPr>
          <a:xfrm>
            <a:off x="2949480" y="17478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组合 4"/>
          <p:cNvGrpSpPr/>
          <p:nvPr/>
        </p:nvGrpSpPr>
        <p:grpSpPr>
          <a:xfrm>
            <a:off x="2916360" y="484200"/>
            <a:ext cx="5040360" cy="2290680"/>
            <a:chOff x="2916360" y="484200"/>
            <a:chExt cx="5040360" cy="2290680"/>
          </a:xfrm>
        </p:grpSpPr>
        <p:sp>
          <p:nvSpPr>
            <p:cNvPr id="466" name="思想气泡: 云 2"/>
            <p:cNvSpPr/>
            <p:nvPr/>
          </p:nvSpPr>
          <p:spPr>
            <a:xfrm>
              <a:off x="2916360" y="484200"/>
              <a:ext cx="5040360" cy="2290680"/>
            </a:xfrm>
            <a:prstGeom prst="cloudCallout">
              <a:avLst>
                <a:gd name="adj1" fmla="val -60069"/>
                <a:gd name="adj2" fmla="val 2104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Text Box 6"/>
            <p:cNvSpPr/>
            <p:nvPr/>
          </p:nvSpPr>
          <p:spPr>
            <a:xfrm>
              <a:off x="3096360" y="873360"/>
              <a:ext cx="453636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大象啊，你的耳朵怎么是耷拉着的呢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8" name="图片 1" descr=""/>
          <p:cNvPicPr/>
          <p:nvPr/>
        </p:nvPicPr>
        <p:blipFill>
          <a:blip r:embed="rId1"/>
          <a:srcRect l="0" t="0" r="0" b="3808"/>
          <a:stretch/>
        </p:blipFill>
        <p:spPr>
          <a:xfrm>
            <a:off x="1227240" y="1238400"/>
            <a:ext cx="1689120" cy="20160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1271520" y="3321000"/>
            <a:ext cx="660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马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还有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老鼠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见到了大象，都要说他的耳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293760" y="1703520"/>
            <a:ext cx="1607760" cy="1569960"/>
            <a:chOff x="293760" y="1703520"/>
            <a:chExt cx="1607760" cy="1569960"/>
          </a:xfrm>
        </p:grpSpPr>
        <p:sp>
          <p:nvSpPr>
            <p:cNvPr id="471" name="Freeform 5"/>
            <p:cNvSpPr/>
            <p:nvPr/>
          </p:nvSpPr>
          <p:spPr>
            <a:xfrm>
              <a:off x="1272960" y="3141000"/>
              <a:ext cx="299160" cy="132480"/>
            </a:xfrm>
            <a:custGeom>
              <a:avLst/>
              <a:gdLst/>
              <a:ahLst/>
              <a:rect l="l" t="t" r="r" b="b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1275480" y="3222360"/>
              <a:ext cx="296280" cy="50760"/>
            </a:xfrm>
            <a:custGeom>
              <a:avLst/>
              <a:gdLst/>
              <a:ahLst/>
              <a:rect l="l" t="t" r="r" b="b"/>
              <a:pathLst>
                <a:path w="277" h="48">
                  <a:moveTo>
                    <a:pt x="141" y="44"/>
                  </a:moveTo>
                  <a:cubicBezTo>
                    <a:pt x="239" y="48"/>
                    <a:pt x="276" y="37"/>
                    <a:pt x="277" y="16"/>
                  </a:cubicBezTo>
                  <a:cubicBezTo>
                    <a:pt x="270" y="9"/>
                    <a:pt x="260" y="4"/>
                    <a:pt x="249" y="4"/>
                  </a:cubicBezTo>
                  <a:cubicBezTo>
                    <a:pt x="231" y="4"/>
                    <a:pt x="216" y="15"/>
                    <a:pt x="211" y="29"/>
                  </a:cubicBezTo>
                  <a:cubicBezTo>
                    <a:pt x="204" y="17"/>
                    <a:pt x="191" y="9"/>
                    <a:pt x="175" y="9"/>
                  </a:cubicBezTo>
                  <a:cubicBezTo>
                    <a:pt x="160" y="9"/>
                    <a:pt x="146" y="18"/>
                    <a:pt x="140" y="30"/>
                  </a:cubicBezTo>
                  <a:cubicBezTo>
                    <a:pt x="133" y="17"/>
                    <a:pt x="119" y="8"/>
                    <a:pt x="103" y="8"/>
                  </a:cubicBezTo>
                  <a:cubicBezTo>
                    <a:pt x="88" y="8"/>
                    <a:pt x="75" y="15"/>
                    <a:pt x="68" y="26"/>
                  </a:cubicBezTo>
                  <a:cubicBezTo>
                    <a:pt x="63" y="11"/>
                    <a:pt x="48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7"/>
            <p:cNvSpPr/>
            <p:nvPr/>
          </p:nvSpPr>
          <p:spPr>
            <a:xfrm>
              <a:off x="745560" y="3141000"/>
              <a:ext cx="297720" cy="132480"/>
            </a:xfrm>
            <a:custGeom>
              <a:avLst/>
              <a:gdLst/>
              <a:ahLst/>
              <a:rect l="l" t="t" r="r" b="b"/>
              <a:pathLst>
                <a:path w="279" h="124">
                  <a:moveTo>
                    <a:pt x="3" y="0"/>
                  </a:moveTo>
                  <a:cubicBezTo>
                    <a:pt x="3" y="16"/>
                    <a:pt x="0" y="64"/>
                    <a:pt x="1" y="83"/>
                  </a:cubicBezTo>
                  <a:cubicBezTo>
                    <a:pt x="3" y="117"/>
                    <a:pt x="43" y="115"/>
                    <a:pt x="143" y="120"/>
                  </a:cubicBezTo>
                  <a:cubicBezTo>
                    <a:pt x="243" y="124"/>
                    <a:pt x="279" y="112"/>
                    <a:pt x="279" y="90"/>
                  </a:cubicBezTo>
                  <a:cubicBezTo>
                    <a:pt x="279" y="75"/>
                    <a:pt x="279" y="17"/>
                    <a:pt x="279" y="17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8"/>
            <p:cNvSpPr/>
            <p:nvPr/>
          </p:nvSpPr>
          <p:spPr>
            <a:xfrm>
              <a:off x="471600" y="2631600"/>
              <a:ext cx="272520" cy="281160"/>
            </a:xfrm>
            <a:custGeom>
              <a:avLst/>
              <a:gdLst/>
              <a:ahLst/>
              <a:rect l="l" t="t" r="r" b="b"/>
              <a:pathLst>
                <a:path w="254" h="262">
                  <a:moveTo>
                    <a:pt x="180" y="0"/>
                  </a:moveTo>
                  <a:cubicBezTo>
                    <a:pt x="180" y="0"/>
                    <a:pt x="71" y="62"/>
                    <a:pt x="54" y="71"/>
                  </a:cubicBezTo>
                  <a:cubicBezTo>
                    <a:pt x="0" y="99"/>
                    <a:pt x="71" y="262"/>
                    <a:pt x="133" y="235"/>
                  </a:cubicBezTo>
                  <a:cubicBezTo>
                    <a:pt x="254" y="172"/>
                    <a:pt x="254" y="172"/>
                    <a:pt x="254" y="172"/>
                  </a:cubicBez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9"/>
            <p:cNvSpPr/>
            <p:nvPr/>
          </p:nvSpPr>
          <p:spPr>
            <a:xfrm>
              <a:off x="501120" y="2712960"/>
              <a:ext cx="114480" cy="17928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73" y="123"/>
                  </a:moveTo>
                  <a:cubicBezTo>
                    <a:pt x="77" y="116"/>
                    <a:pt x="77" y="108"/>
                    <a:pt x="74" y="101"/>
                  </a:cubicBezTo>
                  <a:cubicBezTo>
                    <a:pt x="70" y="91"/>
                    <a:pt x="60" y="86"/>
                    <a:pt x="49" y="88"/>
                  </a:cubicBezTo>
                  <a:cubicBezTo>
                    <a:pt x="55" y="79"/>
                    <a:pt x="57" y="68"/>
                    <a:pt x="52" y="59"/>
                  </a:cubicBezTo>
                  <a:cubicBezTo>
                    <a:pt x="48" y="50"/>
                    <a:pt x="40" y="46"/>
                    <a:pt x="31" y="46"/>
                  </a:cubicBezTo>
                  <a:cubicBezTo>
                    <a:pt x="38" y="39"/>
                    <a:pt x="42" y="29"/>
                    <a:pt x="40" y="19"/>
                  </a:cubicBezTo>
                  <a:cubicBezTo>
                    <a:pt x="38" y="9"/>
                    <a:pt x="30" y="2"/>
                    <a:pt x="21" y="0"/>
                  </a:cubicBezTo>
                  <a:cubicBezTo>
                    <a:pt x="0" y="18"/>
                    <a:pt x="7" y="63"/>
                    <a:pt x="25" y="101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5" y="101"/>
                    <a:pt x="25" y="101"/>
                    <a:pt x="25" y="102"/>
                  </a:cubicBezTo>
                  <a:cubicBezTo>
                    <a:pt x="43" y="138"/>
                    <a:pt x="72" y="167"/>
                    <a:pt x="100" y="161"/>
                  </a:cubicBezTo>
                  <a:cubicBezTo>
                    <a:pt x="105" y="153"/>
                    <a:pt x="107" y="144"/>
                    <a:pt x="103" y="135"/>
                  </a:cubicBezTo>
                  <a:cubicBezTo>
                    <a:pt x="98" y="124"/>
                    <a:pt x="86" y="120"/>
                    <a:pt x="73" y="12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0"/>
            <p:cNvSpPr/>
            <p:nvPr/>
          </p:nvSpPr>
          <p:spPr>
            <a:xfrm>
              <a:off x="646200" y="2576880"/>
              <a:ext cx="138600" cy="255600"/>
            </a:xfrm>
            <a:custGeom>
              <a:avLst/>
              <a:gdLst/>
              <a:ahLst/>
              <a:rect l="l" t="t" r="r" b="b"/>
              <a:pathLst>
                <a:path w="130" h="240">
                  <a:moveTo>
                    <a:pt x="114" y="0"/>
                  </a:moveTo>
                  <a:cubicBezTo>
                    <a:pt x="114" y="0"/>
                    <a:pt x="25" y="45"/>
                    <a:pt x="13" y="53"/>
                  </a:cubicBezTo>
                  <a:cubicBezTo>
                    <a:pt x="0" y="61"/>
                    <a:pt x="67" y="221"/>
                    <a:pt x="87" y="240"/>
                  </a:cubicBezTo>
                  <a:cubicBezTo>
                    <a:pt x="130" y="229"/>
                    <a:pt x="130" y="229"/>
                    <a:pt x="130" y="229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11"/>
            <p:cNvSpPr/>
            <p:nvPr/>
          </p:nvSpPr>
          <p:spPr>
            <a:xfrm>
              <a:off x="1553040" y="2575440"/>
              <a:ext cx="237960" cy="234000"/>
            </a:xfrm>
            <a:custGeom>
              <a:avLst/>
              <a:gdLst/>
              <a:ahLst/>
              <a:rect l="l" t="t" r="r" b="b"/>
              <a:pathLst>
                <a:path w="222" h="219">
                  <a:moveTo>
                    <a:pt x="21" y="0"/>
                  </a:moveTo>
                  <a:cubicBezTo>
                    <a:pt x="21" y="0"/>
                    <a:pt x="144" y="28"/>
                    <a:pt x="162" y="32"/>
                  </a:cubicBezTo>
                  <a:cubicBezTo>
                    <a:pt x="222" y="43"/>
                    <a:pt x="200" y="219"/>
                    <a:pt x="133" y="212"/>
                  </a:cubicBezTo>
                  <a:cubicBezTo>
                    <a:pt x="0" y="186"/>
                    <a:pt x="0" y="186"/>
                    <a:pt x="0" y="186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2"/>
            <p:cNvSpPr/>
            <p:nvPr/>
          </p:nvSpPr>
          <p:spPr>
            <a:xfrm>
              <a:off x="1692000" y="2611440"/>
              <a:ext cx="75960" cy="190800"/>
            </a:xfrm>
            <a:custGeom>
              <a:avLst/>
              <a:gdLst/>
              <a:ahLst/>
              <a:rect l="l" t="t" r="r" b="b"/>
              <a:pathLst>
                <a:path w="72" h="178">
                  <a:moveTo>
                    <a:pt x="25" y="133"/>
                  </a:moveTo>
                  <a:cubicBezTo>
                    <a:pt x="20" y="127"/>
                    <a:pt x="18" y="120"/>
                    <a:pt x="18" y="113"/>
                  </a:cubicBezTo>
                  <a:cubicBezTo>
                    <a:pt x="20" y="102"/>
                    <a:pt x="28" y="94"/>
                    <a:pt x="39" y="93"/>
                  </a:cubicBezTo>
                  <a:cubicBezTo>
                    <a:pt x="31" y="86"/>
                    <a:pt x="26" y="76"/>
                    <a:pt x="27" y="66"/>
                  </a:cubicBezTo>
                  <a:cubicBezTo>
                    <a:pt x="29" y="57"/>
                    <a:pt x="36" y="50"/>
                    <a:pt x="44" y="47"/>
                  </a:cubicBezTo>
                  <a:cubicBezTo>
                    <a:pt x="35" y="43"/>
                    <a:pt x="29" y="35"/>
                    <a:pt x="28" y="25"/>
                  </a:cubicBezTo>
                  <a:cubicBezTo>
                    <a:pt x="27" y="15"/>
                    <a:pt x="32" y="5"/>
                    <a:pt x="41" y="0"/>
                  </a:cubicBezTo>
                  <a:cubicBezTo>
                    <a:pt x="65" y="12"/>
                    <a:pt x="72" y="57"/>
                    <a:pt x="66" y="99"/>
                  </a:cubicBezTo>
                  <a:cubicBezTo>
                    <a:pt x="65" y="99"/>
                    <a:pt x="65" y="99"/>
                    <a:pt x="65" y="99"/>
                  </a:cubicBezTo>
                  <a:cubicBezTo>
                    <a:pt x="65" y="99"/>
                    <a:pt x="65" y="99"/>
                    <a:pt x="66" y="99"/>
                  </a:cubicBezTo>
                  <a:cubicBezTo>
                    <a:pt x="59" y="139"/>
                    <a:pt x="40" y="175"/>
                    <a:pt x="11" y="178"/>
                  </a:cubicBezTo>
                  <a:cubicBezTo>
                    <a:pt x="4" y="172"/>
                    <a:pt x="0" y="163"/>
                    <a:pt x="1" y="154"/>
                  </a:cubicBezTo>
                  <a:cubicBezTo>
                    <a:pt x="2" y="142"/>
                    <a:pt x="13" y="134"/>
                    <a:pt x="25" y="133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3"/>
            <p:cNvSpPr/>
            <p:nvPr/>
          </p:nvSpPr>
          <p:spPr>
            <a:xfrm>
              <a:off x="1459800" y="2550240"/>
              <a:ext cx="136080" cy="241920"/>
            </a:xfrm>
            <a:custGeom>
              <a:avLst/>
              <a:gdLst/>
              <a:ahLst/>
              <a:rect l="l" t="t" r="r" b="b"/>
              <a:pathLst>
                <a:path w="127" h="225">
                  <a:moveTo>
                    <a:pt x="0" y="0"/>
                  </a:moveTo>
                  <a:cubicBezTo>
                    <a:pt x="0" y="0"/>
                    <a:pt x="98" y="18"/>
                    <a:pt x="113" y="22"/>
                  </a:cubicBezTo>
                  <a:cubicBezTo>
                    <a:pt x="127" y="27"/>
                    <a:pt x="108" y="199"/>
                    <a:pt x="96" y="223"/>
                  </a:cubicBezTo>
                  <a:cubicBezTo>
                    <a:pt x="51" y="225"/>
                    <a:pt x="51" y="225"/>
                    <a:pt x="51" y="2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14"/>
            <p:cNvSpPr/>
            <p:nvPr/>
          </p:nvSpPr>
          <p:spPr>
            <a:xfrm>
              <a:off x="745560" y="2482560"/>
              <a:ext cx="784440" cy="477360"/>
            </a:xfrm>
            <a:custGeom>
              <a:avLst/>
              <a:gdLst/>
              <a:ahLst/>
              <a:rect l="l" t="t" r="r" b="b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15"/>
            <p:cNvSpPr/>
            <p:nvPr/>
          </p:nvSpPr>
          <p:spPr>
            <a:xfrm>
              <a:off x="753480" y="2766600"/>
              <a:ext cx="766080" cy="658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0" y="20"/>
                  </a:moveTo>
                  <a:cubicBezTo>
                    <a:pt x="0" y="29"/>
                    <a:pt x="0" y="39"/>
                    <a:pt x="0" y="47"/>
                  </a:cubicBezTo>
                  <a:cubicBezTo>
                    <a:pt x="36" y="51"/>
                    <a:pt x="150" y="61"/>
                    <a:pt x="295" y="61"/>
                  </a:cubicBezTo>
                  <a:cubicBezTo>
                    <a:pt x="421" y="61"/>
                    <a:pt x="572" y="53"/>
                    <a:pt x="716" y="27"/>
                  </a:cubicBezTo>
                  <a:cubicBezTo>
                    <a:pt x="715" y="19"/>
                    <a:pt x="713" y="10"/>
                    <a:pt x="712" y="0"/>
                  </a:cubicBezTo>
                  <a:cubicBezTo>
                    <a:pt x="403" y="56"/>
                    <a:pt x="63" y="26"/>
                    <a:pt x="0" y="20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16"/>
            <p:cNvSpPr/>
            <p:nvPr/>
          </p:nvSpPr>
          <p:spPr>
            <a:xfrm>
              <a:off x="756000" y="2707920"/>
              <a:ext cx="756000" cy="64800"/>
            </a:xfrm>
            <a:custGeom>
              <a:avLst/>
              <a:gdLst/>
              <a:ahLst/>
              <a:rect l="l" t="t" r="r" b="b"/>
              <a:pathLst>
                <a:path w="706" h="60">
                  <a:moveTo>
                    <a:pt x="1" y="19"/>
                  </a:moveTo>
                  <a:cubicBezTo>
                    <a:pt x="1" y="28"/>
                    <a:pt x="0" y="37"/>
                    <a:pt x="0" y="46"/>
                  </a:cubicBezTo>
                  <a:cubicBezTo>
                    <a:pt x="39" y="50"/>
                    <a:pt x="150" y="60"/>
                    <a:pt x="293" y="60"/>
                  </a:cubicBezTo>
                  <a:cubicBezTo>
                    <a:pt x="417" y="60"/>
                    <a:pt x="564" y="52"/>
                    <a:pt x="706" y="27"/>
                  </a:cubicBezTo>
                  <a:cubicBezTo>
                    <a:pt x="705" y="18"/>
                    <a:pt x="703" y="9"/>
                    <a:pt x="702" y="0"/>
                  </a:cubicBezTo>
                  <a:cubicBezTo>
                    <a:pt x="399" y="53"/>
                    <a:pt x="70" y="26"/>
                    <a:pt x="1" y="19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17"/>
            <p:cNvSpPr/>
            <p:nvPr/>
          </p:nvSpPr>
          <p:spPr>
            <a:xfrm>
              <a:off x="758160" y="2649600"/>
              <a:ext cx="744840" cy="62280"/>
            </a:xfrm>
            <a:custGeom>
              <a:avLst/>
              <a:gdLst/>
              <a:ahLst/>
              <a:rect l="l" t="t" r="r" b="b"/>
              <a:pathLst>
                <a:path w="695" h="58">
                  <a:moveTo>
                    <a:pt x="695" y="27"/>
                  </a:moveTo>
                  <a:cubicBezTo>
                    <a:pt x="693" y="18"/>
                    <a:pt x="692" y="9"/>
                    <a:pt x="690" y="0"/>
                  </a:cubicBezTo>
                  <a:cubicBezTo>
                    <a:pt x="395" y="51"/>
                    <a:pt x="77" y="25"/>
                    <a:pt x="2" y="18"/>
                  </a:cubicBezTo>
                  <a:cubicBezTo>
                    <a:pt x="1" y="27"/>
                    <a:pt x="1" y="36"/>
                    <a:pt x="0" y="45"/>
                  </a:cubicBezTo>
                  <a:cubicBezTo>
                    <a:pt x="42" y="49"/>
                    <a:pt x="151" y="58"/>
                    <a:pt x="290" y="58"/>
                  </a:cubicBezTo>
                  <a:cubicBezTo>
                    <a:pt x="411" y="58"/>
                    <a:pt x="555" y="51"/>
                    <a:pt x="695" y="27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8"/>
            <p:cNvSpPr/>
            <p:nvPr/>
          </p:nvSpPr>
          <p:spPr>
            <a:xfrm>
              <a:off x="763560" y="2590920"/>
              <a:ext cx="728280" cy="61200"/>
            </a:xfrm>
            <a:custGeom>
              <a:avLst/>
              <a:gdLst/>
              <a:ahLst/>
              <a:rect l="l" t="t" r="r" b="b"/>
              <a:pathLst>
                <a:path w="681" h="56">
                  <a:moveTo>
                    <a:pt x="681" y="26"/>
                  </a:moveTo>
                  <a:cubicBezTo>
                    <a:pt x="679" y="17"/>
                    <a:pt x="677" y="8"/>
                    <a:pt x="675" y="0"/>
                  </a:cubicBezTo>
                  <a:cubicBezTo>
                    <a:pt x="388" y="47"/>
                    <a:pt x="84" y="23"/>
                    <a:pt x="2" y="16"/>
                  </a:cubicBezTo>
                  <a:cubicBezTo>
                    <a:pt x="2" y="24"/>
                    <a:pt x="1" y="33"/>
                    <a:pt x="0" y="43"/>
                  </a:cubicBezTo>
                  <a:cubicBezTo>
                    <a:pt x="44" y="47"/>
                    <a:pt x="152" y="56"/>
                    <a:pt x="286" y="56"/>
                  </a:cubicBezTo>
                  <a:cubicBezTo>
                    <a:pt x="405" y="56"/>
                    <a:pt x="545" y="49"/>
                    <a:pt x="681" y="26"/>
                  </a:cubicBezTo>
                  <a:close/>
                </a:path>
              </a:pathLst>
            </a:custGeom>
            <a:solidFill>
              <a:srgbClr val="c0d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9"/>
            <p:cNvSpPr/>
            <p:nvPr/>
          </p:nvSpPr>
          <p:spPr>
            <a:xfrm>
              <a:off x="745560" y="2482560"/>
              <a:ext cx="784440" cy="477360"/>
            </a:xfrm>
            <a:custGeom>
              <a:avLst/>
              <a:gdLst/>
              <a:ahLst/>
              <a:rect l="l" t="t" r="r" b="b"/>
              <a:pathLst>
                <a:path w="733" h="446">
                  <a:moveTo>
                    <a:pt x="22" y="88"/>
                  </a:moveTo>
                  <a:cubicBezTo>
                    <a:pt x="22" y="88"/>
                    <a:pt x="0" y="328"/>
                    <a:pt x="10" y="387"/>
                  </a:cubicBezTo>
                  <a:cubicBezTo>
                    <a:pt x="10" y="387"/>
                    <a:pt x="544" y="446"/>
                    <a:pt x="733" y="365"/>
                  </a:cubicBezTo>
                  <a:cubicBezTo>
                    <a:pt x="733" y="365"/>
                    <a:pt x="705" y="120"/>
                    <a:pt x="679" y="60"/>
                  </a:cubicBezTo>
                  <a:cubicBezTo>
                    <a:pt x="653" y="0"/>
                    <a:pt x="22" y="88"/>
                    <a:pt x="22" y="88"/>
                  </a:cubicBezTo>
                  <a:close/>
                </a:path>
              </a:pathLst>
            </a:custGeom>
            <a:noFill/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0"/>
            <p:cNvSpPr/>
            <p:nvPr/>
          </p:nvSpPr>
          <p:spPr>
            <a:xfrm>
              <a:off x="722880" y="2556360"/>
              <a:ext cx="851760" cy="639000"/>
            </a:xfrm>
            <a:custGeom>
              <a:avLst/>
              <a:gdLst/>
              <a:ahLst/>
              <a:rect l="l" t="t" r="r" b="b"/>
              <a:pathLst>
                <a:path w="796" h="598">
                  <a:moveTo>
                    <a:pt x="754" y="248"/>
                  </a:moveTo>
                  <a:cubicBezTo>
                    <a:pt x="739" y="254"/>
                    <a:pt x="710" y="262"/>
                    <a:pt x="673" y="269"/>
                  </a:cubicBezTo>
                  <a:cubicBezTo>
                    <a:pt x="663" y="0"/>
                    <a:pt x="663" y="0"/>
                    <a:pt x="663" y="0"/>
                  </a:cubicBezTo>
                  <a:cubicBezTo>
                    <a:pt x="602" y="2"/>
                    <a:pt x="602" y="2"/>
                    <a:pt x="602" y="2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500" y="294"/>
                    <a:pt x="342" y="305"/>
                    <a:pt x="191" y="293"/>
                  </a:cubicBezTo>
                  <a:cubicBezTo>
                    <a:pt x="191" y="1"/>
                    <a:pt x="191" y="1"/>
                    <a:pt x="191" y="1"/>
                  </a:cubicBezTo>
                  <a:cubicBezTo>
                    <a:pt x="130" y="1"/>
                    <a:pt x="130" y="1"/>
                    <a:pt x="130" y="1"/>
                  </a:cubicBezTo>
                  <a:cubicBezTo>
                    <a:pt x="130" y="287"/>
                    <a:pt x="130" y="287"/>
                    <a:pt x="130" y="287"/>
                  </a:cubicBezTo>
                  <a:cubicBezTo>
                    <a:pt x="94" y="283"/>
                    <a:pt x="58" y="277"/>
                    <a:pt x="24" y="269"/>
                  </a:cubicBezTo>
                  <a:cubicBezTo>
                    <a:pt x="24" y="269"/>
                    <a:pt x="0" y="562"/>
                    <a:pt x="22" y="575"/>
                  </a:cubicBezTo>
                  <a:cubicBezTo>
                    <a:pt x="43" y="589"/>
                    <a:pt x="296" y="598"/>
                    <a:pt x="304" y="578"/>
                  </a:cubicBezTo>
                  <a:cubicBezTo>
                    <a:pt x="311" y="560"/>
                    <a:pt x="309" y="493"/>
                    <a:pt x="309" y="493"/>
                  </a:cubicBezTo>
                  <a:cubicBezTo>
                    <a:pt x="333" y="503"/>
                    <a:pt x="490" y="492"/>
                    <a:pt x="508" y="492"/>
                  </a:cubicBezTo>
                  <a:cubicBezTo>
                    <a:pt x="519" y="492"/>
                    <a:pt x="506" y="578"/>
                    <a:pt x="516" y="580"/>
                  </a:cubicBezTo>
                  <a:cubicBezTo>
                    <a:pt x="551" y="590"/>
                    <a:pt x="796" y="597"/>
                    <a:pt x="796" y="570"/>
                  </a:cubicBezTo>
                  <a:cubicBezTo>
                    <a:pt x="796" y="543"/>
                    <a:pt x="773" y="324"/>
                    <a:pt x="754" y="248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1428120" y="1752840"/>
              <a:ext cx="473400" cy="823680"/>
            </a:xfrm>
            <a:custGeom>
              <a:avLst/>
              <a:gdLst/>
              <a:ahLst/>
              <a:rect l="l" t="t" r="r" b="b"/>
              <a:pathLst>
                <a:path w="442" h="769">
                  <a:moveTo>
                    <a:pt x="0" y="226"/>
                  </a:moveTo>
                  <a:cubicBezTo>
                    <a:pt x="86" y="171"/>
                    <a:pt x="388" y="0"/>
                    <a:pt x="418" y="422"/>
                  </a:cubicBezTo>
                  <a:cubicBezTo>
                    <a:pt x="442" y="769"/>
                    <a:pt x="199" y="746"/>
                    <a:pt x="64" y="704"/>
                  </a:cubicBez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1458720" y="1866600"/>
              <a:ext cx="362880" cy="637560"/>
            </a:xfrm>
            <a:custGeom>
              <a:avLst/>
              <a:gdLst/>
              <a:ahLst/>
              <a:rect l="l" t="t" r="r" b="b"/>
              <a:pathLst>
                <a:path w="340" h="596">
                  <a:moveTo>
                    <a:pt x="0" y="175"/>
                  </a:moveTo>
                  <a:cubicBezTo>
                    <a:pt x="66" y="132"/>
                    <a:pt x="298" y="0"/>
                    <a:pt x="321" y="327"/>
                  </a:cubicBezTo>
                  <a:cubicBezTo>
                    <a:pt x="340" y="596"/>
                    <a:pt x="153" y="579"/>
                    <a:pt x="49" y="546"/>
                  </a:cubicBezTo>
                  <a:lnTo>
                    <a:pt x="0" y="175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3"/>
            <p:cNvSpPr/>
            <p:nvPr/>
          </p:nvSpPr>
          <p:spPr>
            <a:xfrm>
              <a:off x="293760" y="1703520"/>
              <a:ext cx="502920" cy="818640"/>
            </a:xfrm>
            <a:custGeom>
              <a:avLst/>
              <a:gdLst/>
              <a:ahLst/>
              <a:rect l="l" t="t" r="r" b="b"/>
              <a:pathLst>
                <a:path w="469" h="764">
                  <a:moveTo>
                    <a:pt x="469" y="246"/>
                  </a:moveTo>
                  <a:cubicBezTo>
                    <a:pt x="386" y="186"/>
                    <a:pt x="94" y="0"/>
                    <a:pt x="42" y="419"/>
                  </a:cubicBezTo>
                  <a:cubicBezTo>
                    <a:pt x="0" y="764"/>
                    <a:pt x="243" y="755"/>
                    <a:pt x="381" y="719"/>
                  </a:cubicBezTo>
                  <a:lnTo>
                    <a:pt x="469" y="246"/>
                  </a:ln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24"/>
            <p:cNvSpPr/>
            <p:nvPr/>
          </p:nvSpPr>
          <p:spPr>
            <a:xfrm>
              <a:off x="377640" y="1819440"/>
              <a:ext cx="385560" cy="636480"/>
            </a:xfrm>
            <a:custGeom>
              <a:avLst/>
              <a:gdLst/>
              <a:ahLst/>
              <a:rect l="l" t="t" r="r" b="b"/>
              <a:pathLst>
                <a:path w="360" h="594">
                  <a:moveTo>
                    <a:pt x="360" y="191"/>
                  </a:moveTo>
                  <a:cubicBezTo>
                    <a:pt x="296" y="145"/>
                    <a:pt x="72" y="0"/>
                    <a:pt x="32" y="326"/>
                  </a:cubicBezTo>
                  <a:cubicBezTo>
                    <a:pt x="0" y="594"/>
                    <a:pt x="187" y="586"/>
                    <a:pt x="292" y="558"/>
                  </a:cubicBezTo>
                  <a:lnTo>
                    <a:pt x="360" y="191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25"/>
            <p:cNvSpPr/>
            <p:nvPr/>
          </p:nvSpPr>
          <p:spPr>
            <a:xfrm>
              <a:off x="569880" y="1898280"/>
              <a:ext cx="1047960" cy="822240"/>
            </a:xfrm>
            <a:custGeom>
              <a:avLst/>
              <a:gdLst/>
              <a:ahLst/>
              <a:rect l="l" t="t" r="r" b="b"/>
              <a:pathLst>
                <a:path w="979" h="768">
                  <a:moveTo>
                    <a:pt x="475" y="14"/>
                  </a:moveTo>
                  <a:cubicBezTo>
                    <a:pt x="673" y="28"/>
                    <a:pt x="979" y="0"/>
                    <a:pt x="948" y="389"/>
                  </a:cubicBezTo>
                  <a:cubicBezTo>
                    <a:pt x="919" y="768"/>
                    <a:pt x="688" y="667"/>
                    <a:pt x="477" y="649"/>
                  </a:cubicBezTo>
                  <a:cubicBezTo>
                    <a:pt x="265" y="631"/>
                    <a:pt x="0" y="693"/>
                    <a:pt x="48" y="351"/>
                  </a:cubicBezTo>
                  <a:cubicBezTo>
                    <a:pt x="88" y="61"/>
                    <a:pt x="207" y="10"/>
                    <a:pt x="475" y="14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Oval 26"/>
            <p:cNvSpPr/>
            <p:nvPr/>
          </p:nvSpPr>
          <p:spPr>
            <a:xfrm>
              <a:off x="1355760" y="2259720"/>
              <a:ext cx="141120" cy="14112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7"/>
            <p:cNvSpPr/>
            <p:nvPr/>
          </p:nvSpPr>
          <p:spPr>
            <a:xfrm>
              <a:off x="1202760" y="2369520"/>
              <a:ext cx="150120" cy="118080"/>
            </a:xfrm>
            <a:custGeom>
              <a:avLst/>
              <a:gdLst/>
              <a:ahLst/>
              <a:rect l="l" t="t" r="r" b="b"/>
              <a:pathLst>
                <a:path w="140" h="110">
                  <a:moveTo>
                    <a:pt x="13" y="50"/>
                  </a:moveTo>
                  <a:cubicBezTo>
                    <a:pt x="21" y="47"/>
                    <a:pt x="88" y="69"/>
                    <a:pt x="140" y="0"/>
                  </a:cubicBezTo>
                  <a:cubicBezTo>
                    <a:pt x="137" y="22"/>
                    <a:pt x="103" y="110"/>
                    <a:pt x="0" y="96"/>
                  </a:cubicBezTo>
                  <a:lnTo>
                    <a:pt x="13" y="50"/>
                  </a:ln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8"/>
            <p:cNvSpPr/>
            <p:nvPr/>
          </p:nvSpPr>
          <p:spPr>
            <a:xfrm>
              <a:off x="683280" y="2184480"/>
              <a:ext cx="592200" cy="618480"/>
            </a:xfrm>
            <a:custGeom>
              <a:avLst/>
              <a:gdLst/>
              <a:ahLst/>
              <a:rect l="l" t="t" r="r" b="b"/>
              <a:pathLst>
                <a:path w="553" h="578">
                  <a:moveTo>
                    <a:pt x="293" y="198"/>
                  </a:moveTo>
                  <a:cubicBezTo>
                    <a:pt x="263" y="0"/>
                    <a:pt x="553" y="11"/>
                    <a:pt x="544" y="187"/>
                  </a:cubicBezTo>
                  <a:cubicBezTo>
                    <a:pt x="525" y="357"/>
                    <a:pt x="379" y="559"/>
                    <a:pt x="123" y="573"/>
                  </a:cubicBezTo>
                  <a:cubicBezTo>
                    <a:pt x="39" y="578"/>
                    <a:pt x="0" y="544"/>
                    <a:pt x="40" y="522"/>
                  </a:cubicBezTo>
                  <a:cubicBezTo>
                    <a:pt x="75" y="510"/>
                    <a:pt x="32" y="487"/>
                    <a:pt x="33" y="473"/>
                  </a:cubicBezTo>
                  <a:cubicBezTo>
                    <a:pt x="34" y="459"/>
                    <a:pt x="53" y="436"/>
                    <a:pt x="99" y="470"/>
                  </a:cubicBezTo>
                  <a:cubicBezTo>
                    <a:pt x="146" y="505"/>
                    <a:pt x="272" y="447"/>
                    <a:pt x="292" y="351"/>
                  </a:cubicBezTo>
                  <a:cubicBezTo>
                    <a:pt x="313" y="255"/>
                    <a:pt x="293" y="198"/>
                    <a:pt x="293" y="198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604c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29"/>
            <p:cNvSpPr/>
            <p:nvPr/>
          </p:nvSpPr>
          <p:spPr>
            <a:xfrm>
              <a:off x="847440" y="2168280"/>
              <a:ext cx="46800" cy="7128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3" y="34"/>
                  </a:moveTo>
                  <a:cubicBezTo>
                    <a:pt x="41" y="52"/>
                    <a:pt x="31" y="66"/>
                    <a:pt x="20" y="65"/>
                  </a:cubicBezTo>
                  <a:cubicBezTo>
                    <a:pt x="8" y="64"/>
                    <a:pt x="0" y="49"/>
                    <a:pt x="1" y="32"/>
                  </a:cubicBezTo>
                  <a:cubicBezTo>
                    <a:pt x="2" y="14"/>
                    <a:pt x="13" y="0"/>
                    <a:pt x="24" y="1"/>
                  </a:cubicBezTo>
                  <a:cubicBezTo>
                    <a:pt x="36" y="2"/>
                    <a:pt x="44" y="17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30"/>
            <p:cNvSpPr/>
            <p:nvPr/>
          </p:nvSpPr>
          <p:spPr>
            <a:xfrm>
              <a:off x="856440" y="2184480"/>
              <a:ext cx="11520" cy="11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31"/>
            <p:cNvSpPr/>
            <p:nvPr/>
          </p:nvSpPr>
          <p:spPr>
            <a:xfrm>
              <a:off x="1329840" y="2202480"/>
              <a:ext cx="47160" cy="6984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43" y="34"/>
                  </a:moveTo>
                  <a:cubicBezTo>
                    <a:pt x="42" y="51"/>
                    <a:pt x="31" y="65"/>
                    <a:pt x="20" y="64"/>
                  </a:cubicBezTo>
                  <a:cubicBezTo>
                    <a:pt x="9" y="63"/>
                    <a:pt x="0" y="48"/>
                    <a:pt x="2" y="31"/>
                  </a:cubicBezTo>
                  <a:cubicBezTo>
                    <a:pt x="3" y="13"/>
                    <a:pt x="13" y="0"/>
                    <a:pt x="24" y="0"/>
                  </a:cubicBezTo>
                  <a:cubicBezTo>
                    <a:pt x="36" y="1"/>
                    <a:pt x="44" y="16"/>
                    <a:pt x="43" y="3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32"/>
            <p:cNvSpPr/>
            <p:nvPr/>
          </p:nvSpPr>
          <p:spPr>
            <a:xfrm>
              <a:off x="1338840" y="2217960"/>
              <a:ext cx="12600" cy="11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1" y="6"/>
                  </a:moveTo>
                  <a:cubicBezTo>
                    <a:pt x="11" y="9"/>
                    <a:pt x="8" y="11"/>
                    <a:pt x="5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2" y="3"/>
                    <a:pt x="1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3"/>
            <p:cNvSpPr/>
            <p:nvPr/>
          </p:nvSpPr>
          <p:spPr>
            <a:xfrm>
              <a:off x="1329840" y="2360520"/>
              <a:ext cx="38160" cy="316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8" y="8"/>
                    <a:pt x="33" y="29"/>
                    <a:pt x="34" y="30"/>
                  </a:cubicBezTo>
                  <a:cubicBezTo>
                    <a:pt x="34" y="30"/>
                    <a:pt x="34" y="30"/>
                    <a:pt x="35" y="3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29"/>
                    <a:pt x="36" y="29"/>
                  </a:cubicBezTo>
                  <a:cubicBezTo>
                    <a:pt x="32" y="1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Oval 34"/>
            <p:cNvSpPr/>
            <p:nvPr/>
          </p:nvSpPr>
          <p:spPr>
            <a:xfrm>
              <a:off x="865440" y="2877120"/>
              <a:ext cx="52200" cy="5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Oval 35"/>
            <p:cNvSpPr/>
            <p:nvPr/>
          </p:nvSpPr>
          <p:spPr>
            <a:xfrm>
              <a:off x="1387440" y="2859480"/>
              <a:ext cx="53280" cy="5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6"/>
            <p:cNvSpPr/>
            <p:nvPr/>
          </p:nvSpPr>
          <p:spPr>
            <a:xfrm>
              <a:off x="747000" y="3222360"/>
              <a:ext cx="296280" cy="50760"/>
            </a:xfrm>
            <a:custGeom>
              <a:avLst/>
              <a:gdLst/>
              <a:ahLst/>
              <a:rect l="l" t="t" r="r" b="b"/>
              <a:pathLst>
                <a:path w="277" h="48">
                  <a:moveTo>
                    <a:pt x="141" y="44"/>
                  </a:moveTo>
                  <a:cubicBezTo>
                    <a:pt x="239" y="48"/>
                    <a:pt x="275" y="37"/>
                    <a:pt x="277" y="16"/>
                  </a:cubicBezTo>
                  <a:cubicBezTo>
                    <a:pt x="270" y="9"/>
                    <a:pt x="259" y="4"/>
                    <a:pt x="248" y="4"/>
                  </a:cubicBezTo>
                  <a:cubicBezTo>
                    <a:pt x="231" y="4"/>
                    <a:pt x="216" y="15"/>
                    <a:pt x="210" y="29"/>
                  </a:cubicBezTo>
                  <a:cubicBezTo>
                    <a:pt x="203" y="17"/>
                    <a:pt x="190" y="9"/>
                    <a:pt x="175" y="9"/>
                  </a:cubicBezTo>
                  <a:cubicBezTo>
                    <a:pt x="159" y="9"/>
                    <a:pt x="146" y="18"/>
                    <a:pt x="139" y="30"/>
                  </a:cubicBezTo>
                  <a:cubicBezTo>
                    <a:pt x="133" y="17"/>
                    <a:pt x="119" y="8"/>
                    <a:pt x="102" y="8"/>
                  </a:cubicBezTo>
                  <a:cubicBezTo>
                    <a:pt x="87" y="8"/>
                    <a:pt x="75" y="15"/>
                    <a:pt x="68" y="26"/>
                  </a:cubicBezTo>
                  <a:cubicBezTo>
                    <a:pt x="62" y="11"/>
                    <a:pt x="47" y="0"/>
                    <a:pt x="29" y="0"/>
                  </a:cubicBezTo>
                  <a:cubicBezTo>
                    <a:pt x="18" y="0"/>
                    <a:pt x="7" y="4"/>
                    <a:pt x="0" y="12"/>
                  </a:cubicBezTo>
                  <a:cubicBezTo>
                    <a:pt x="5" y="41"/>
                    <a:pt x="46" y="39"/>
                    <a:pt x="141" y="44"/>
                  </a:cubicBezTo>
                  <a:close/>
                </a:path>
              </a:pathLst>
            </a:custGeom>
            <a:solidFill>
              <a:srgbClr val="604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Oval 37"/>
            <p:cNvSpPr/>
            <p:nvPr/>
          </p:nvSpPr>
          <p:spPr>
            <a:xfrm>
              <a:off x="725400" y="2223000"/>
              <a:ext cx="141120" cy="142200"/>
            </a:xfrm>
            <a:prstGeom prst="ellipse">
              <a:avLst/>
            </a:prstGeom>
            <a:solidFill>
              <a:srgbClr val="ede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8"/>
            <p:cNvSpPr/>
            <p:nvPr/>
          </p:nvSpPr>
          <p:spPr>
            <a:xfrm>
              <a:off x="984960" y="1730160"/>
              <a:ext cx="446760" cy="268200"/>
            </a:xfrm>
            <a:custGeom>
              <a:avLst/>
              <a:gdLst/>
              <a:ahLst/>
              <a:rect l="l" t="t" r="r" b="b"/>
              <a:pathLst>
                <a:path w="417" h="250">
                  <a:moveTo>
                    <a:pt x="289" y="109"/>
                  </a:moveTo>
                  <a:cubicBezTo>
                    <a:pt x="295" y="96"/>
                    <a:pt x="313" y="91"/>
                    <a:pt x="307" y="79"/>
                  </a:cubicBezTo>
                  <a:cubicBezTo>
                    <a:pt x="301" y="65"/>
                    <a:pt x="282" y="85"/>
                    <a:pt x="269" y="102"/>
                  </a:cubicBezTo>
                  <a:cubicBezTo>
                    <a:pt x="245" y="94"/>
                    <a:pt x="219" y="83"/>
                    <a:pt x="194" y="68"/>
                  </a:cubicBezTo>
                  <a:cubicBezTo>
                    <a:pt x="79" y="0"/>
                    <a:pt x="61" y="85"/>
                    <a:pt x="24" y="168"/>
                  </a:cubicBezTo>
                  <a:cubicBezTo>
                    <a:pt x="0" y="250"/>
                    <a:pt x="303" y="184"/>
                    <a:pt x="389" y="210"/>
                  </a:cubicBezTo>
                  <a:cubicBezTo>
                    <a:pt x="417" y="140"/>
                    <a:pt x="364" y="132"/>
                    <a:pt x="289" y="109"/>
                  </a:cubicBezTo>
                  <a:close/>
                </a:path>
              </a:pathLst>
            </a:custGeom>
            <a:solidFill>
              <a:srgbClr val="d7a500"/>
            </a:solidFill>
            <a:ln w="6480">
              <a:solidFill>
                <a:srgbClr val="604c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5" name="图片 2" descr=""/>
          <p:cNvPicPr/>
          <p:nvPr/>
        </p:nvPicPr>
        <p:blipFill>
          <a:blip r:embed="rId1"/>
          <a:stretch/>
        </p:blipFill>
        <p:spPr>
          <a:xfrm>
            <a:off x="2948040" y="149400"/>
            <a:ext cx="1722240" cy="162540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4603680" y="1295280"/>
            <a:ext cx="2546280" cy="218448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5" descr=""/>
          <p:cNvPicPr/>
          <p:nvPr/>
        </p:nvPicPr>
        <p:blipFill>
          <a:blip r:embed="rId3"/>
          <a:srcRect l="0" t="0" r="2298" b="15520"/>
          <a:stretch/>
        </p:blipFill>
        <p:spPr>
          <a:xfrm flipH="1">
            <a:off x="3044520" y="3718080"/>
            <a:ext cx="16254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08" name="直接箭头连接符 6"/>
          <p:cNvCxnSpPr/>
          <p:nvPr/>
        </p:nvCxnSpPr>
        <p:spPr>
          <a:xfrm flipH="1">
            <a:off x="1877760" y="1383840"/>
            <a:ext cx="1305360" cy="63252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09" name="直接箭头连接符 7"/>
          <p:cNvCxnSpPr/>
          <p:nvPr/>
        </p:nvCxnSpPr>
        <p:spPr>
          <a:xfrm flipH="1">
            <a:off x="1999800" y="2451240"/>
            <a:ext cx="3293280" cy="8640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510" name="直接箭头连接符 8"/>
          <p:cNvCxnSpPr/>
          <p:nvPr/>
        </p:nvCxnSpPr>
        <p:spPr>
          <a:xfrm flipH="1" flipV="1">
            <a:off x="1855080" y="2958480"/>
            <a:ext cx="1189800" cy="113076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511" name="文本框 10"/>
          <p:cNvSpPr/>
          <p:nvPr/>
        </p:nvSpPr>
        <p:spPr>
          <a:xfrm>
            <a:off x="5472000" y="2968560"/>
            <a:ext cx="35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思想气泡: 云 2"/>
          <p:cNvSpPr/>
          <p:nvPr/>
        </p:nvSpPr>
        <p:spPr>
          <a:xfrm>
            <a:off x="5025960" y="149400"/>
            <a:ext cx="4149720" cy="849240"/>
          </a:xfrm>
          <a:prstGeom prst="cloudCallout">
            <a:avLst>
              <a:gd name="adj1" fmla="val -60069"/>
              <a:gd name="adj2" fmla="val 21041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楷体"/>
                <a:ea typeface="楷体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人小组情境演示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"/>
          <p:cNvSpPr/>
          <p:nvPr/>
        </p:nvSpPr>
        <p:spPr>
          <a:xfrm>
            <a:off x="701640" y="1243080"/>
            <a:ext cx="722808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朋友们都这样说，大象又会怎么想？还会怎么做呢？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默读第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--1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自然段，寻找答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图片 8" descr=""/>
          <p:cNvPicPr/>
          <p:nvPr/>
        </p:nvPicPr>
        <p:blipFill>
          <a:blip r:embed="rId1"/>
          <a:srcRect l="19846" t="20548" r="19208" b="10947"/>
          <a:stretch/>
        </p:blipFill>
        <p:spPr>
          <a:xfrm>
            <a:off x="4746600" y="307800"/>
            <a:ext cx="12412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20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25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26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37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38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39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43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60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61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62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826920" y="1452600"/>
            <a:ext cx="7777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也不安起来，他自言自语地说：“他们都这么说，是不是我的耳朵真的有毛病啦？我得让我的耳朵竖起来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椭圆 7"/>
          <p:cNvSpPr/>
          <p:nvPr/>
        </p:nvSpPr>
        <p:spPr>
          <a:xfrm>
            <a:off x="2941560" y="1542960"/>
            <a:ext cx="874800" cy="540000"/>
          </a:xfrm>
          <a:prstGeom prst="ellipse">
            <a:avLst/>
          </a:pr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: 圆角 12"/>
          <p:cNvSpPr/>
          <p:nvPr/>
        </p:nvSpPr>
        <p:spPr>
          <a:xfrm>
            <a:off x="1301760" y="2203560"/>
            <a:ext cx="251460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直接连接符 13"/>
          <p:cNvSpPr/>
          <p:nvPr/>
        </p:nvSpPr>
        <p:spPr>
          <a:xfrm flipV="1">
            <a:off x="4211640" y="2695320"/>
            <a:ext cx="4105440" cy="11160"/>
          </a:xfrm>
          <a:prstGeom prst="line">
            <a:avLst/>
          </a:prstGeom>
          <a:ln w="38160">
            <a:solidFill>
              <a:srgbClr val="f692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4"/>
          <p:cNvSpPr/>
          <p:nvPr/>
        </p:nvSpPr>
        <p:spPr>
          <a:xfrm>
            <a:off x="684360" y="700200"/>
            <a:ext cx="77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象为什么“不安”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直接连接符 17"/>
          <p:cNvSpPr/>
          <p:nvPr/>
        </p:nvSpPr>
        <p:spPr>
          <a:xfrm>
            <a:off x="873000" y="3362400"/>
            <a:ext cx="1609920" cy="1440"/>
          </a:xfrm>
          <a:prstGeom prst="line">
            <a:avLst/>
          </a:prstGeom>
          <a:ln w="38160">
            <a:solidFill>
              <a:srgbClr val="f692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816120" y="3610080"/>
            <a:ext cx="1941480" cy="727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开始怀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2"/>
          <p:cNvSpPr/>
          <p:nvPr/>
        </p:nvSpPr>
        <p:spPr>
          <a:xfrm>
            <a:off x="6943680" y="2197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真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16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3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34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3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3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56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5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5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731880" y="1508040"/>
            <a:ext cx="691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天，大象站着睡觉的时候，就用两根竹竿把耳朵撑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: 圆角 2"/>
          <p:cNvSpPr/>
          <p:nvPr/>
        </p:nvSpPr>
        <p:spPr>
          <a:xfrm>
            <a:off x="814320" y="2279520"/>
            <a:ext cx="45021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6"/>
          <p:cNvSpPr/>
          <p:nvPr/>
        </p:nvSpPr>
        <p:spPr>
          <a:xfrm>
            <a:off x="900000" y="1347840"/>
            <a:ext cx="7431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是，大象的耳朵眼儿里，经常有小虫子飞进去，还在里面跳舞，吵得他又头痛，又心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: 圆角 2"/>
          <p:cNvSpPr/>
          <p:nvPr/>
        </p:nvSpPr>
        <p:spPr>
          <a:xfrm>
            <a:off x="971640" y="2728800"/>
            <a:ext cx="289872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矩形: 圆角 4"/>
          <p:cNvSpPr/>
          <p:nvPr/>
        </p:nvSpPr>
        <p:spPr>
          <a:xfrm>
            <a:off x="4226040" y="2095560"/>
            <a:ext cx="21063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5076720" y="3333600"/>
            <a:ext cx="158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拟 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箭头: 右 6"/>
          <p:cNvSpPr/>
          <p:nvPr/>
        </p:nvSpPr>
        <p:spPr>
          <a:xfrm flipH="1" rot="16200000">
            <a:off x="5544720" y="2844000"/>
            <a:ext cx="646200" cy="28908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6"/>
          <p:cNvSpPr/>
          <p:nvPr/>
        </p:nvSpPr>
        <p:spPr>
          <a:xfrm>
            <a:off x="503280" y="2359080"/>
            <a:ext cx="8137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最后，大象还是把他的耳朵放了下来。这样，虫子飞不进去了。有虫子来的话，大象只要把他的大耳朵一扇，就能把他们赶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矩形: 圆角 2"/>
          <p:cNvSpPr/>
          <p:nvPr/>
        </p:nvSpPr>
        <p:spPr>
          <a:xfrm>
            <a:off x="4260960" y="2489040"/>
            <a:ext cx="367164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矩形 4"/>
          <p:cNvSpPr/>
          <p:nvPr/>
        </p:nvSpPr>
        <p:spPr>
          <a:xfrm>
            <a:off x="503280" y="700200"/>
            <a:ext cx="8209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象最后是怎么做的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8" name="图片 8" descr=""/>
          <p:cNvPicPr/>
          <p:nvPr/>
        </p:nvPicPr>
        <p:blipFill>
          <a:blip r:embed="rId1"/>
          <a:srcRect l="19846" t="20548" r="19208" b="10947"/>
          <a:stretch/>
        </p:blipFill>
        <p:spPr>
          <a:xfrm>
            <a:off x="3019320" y="1352520"/>
            <a:ext cx="1241640" cy="838080"/>
          </a:xfrm>
          <a:prstGeom prst="rect">
            <a:avLst/>
          </a:prstGeom>
          <a:ln w="0">
            <a:noFill/>
          </a:ln>
        </p:spPr>
      </p:pic>
      <p:sp>
        <p:nvSpPr>
          <p:cNvPr id="929" name="直接连接符 4"/>
          <p:cNvSpPr/>
          <p:nvPr/>
        </p:nvSpPr>
        <p:spPr>
          <a:xfrm>
            <a:off x="5076720" y="3651120"/>
            <a:ext cx="3311640" cy="0"/>
          </a:xfrm>
          <a:prstGeom prst="line">
            <a:avLst/>
          </a:prstGeom>
          <a:ln w="3168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直接连接符 9"/>
          <p:cNvSpPr/>
          <p:nvPr/>
        </p:nvSpPr>
        <p:spPr>
          <a:xfrm>
            <a:off x="611280" y="4300560"/>
            <a:ext cx="7777080" cy="0"/>
          </a:xfrm>
          <a:prstGeom prst="line">
            <a:avLst/>
          </a:prstGeom>
          <a:ln w="3168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副标题 2"/>
          <p:cNvSpPr/>
          <p:nvPr/>
        </p:nvSpPr>
        <p:spPr>
          <a:xfrm>
            <a:off x="3475080" y="1351080"/>
            <a:ext cx="464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统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标题 1"/>
          <p:cNvSpPr/>
          <p:nvPr/>
        </p:nvSpPr>
        <p:spPr>
          <a:xfrm>
            <a:off x="3041640" y="574560"/>
            <a:ext cx="4043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大象的耳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6"/>
          <p:cNvSpPr/>
          <p:nvPr/>
        </p:nvSpPr>
        <p:spPr>
          <a:xfrm>
            <a:off x="3040200" y="1235160"/>
            <a:ext cx="4752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4290840" y="2101680"/>
            <a:ext cx="17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4862520" y="441324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赫山万源学校   杨  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rcRect l="0" t="14800" r="0" b="1020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6"/>
          <p:cNvSpPr/>
          <p:nvPr/>
        </p:nvSpPr>
        <p:spPr>
          <a:xfrm>
            <a:off x="755640" y="843120"/>
            <a:ext cx="76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说：“我还是让耳朵耷拉着吧。人家是人家，我是我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: 圆角 2"/>
          <p:cNvSpPr/>
          <p:nvPr/>
        </p:nvSpPr>
        <p:spPr>
          <a:xfrm>
            <a:off x="843120" y="1585800"/>
            <a:ext cx="372888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箭头: 右 3"/>
          <p:cNvSpPr/>
          <p:nvPr/>
        </p:nvSpPr>
        <p:spPr>
          <a:xfrm flipH="1" rot="16200000">
            <a:off x="2331000" y="2301840"/>
            <a:ext cx="460440" cy="289080"/>
          </a:xfrm>
          <a:prstGeom prst="rightArrow">
            <a:avLst>
              <a:gd name="adj1" fmla="val 50000"/>
              <a:gd name="adj2" fmla="val 49973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1154160" y="2787480"/>
            <a:ext cx="6835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象认识到每个人的具体情况各不相同，不能盲目模仿和照搬别人的做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矩形 4"/>
          <p:cNvSpPr/>
          <p:nvPr/>
        </p:nvSpPr>
        <p:spPr>
          <a:xfrm>
            <a:off x="816120" y="1781280"/>
            <a:ext cx="7008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人家是人家，我是我。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请你结合生活实际，说说你是怎么理解这句话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文本框 6"/>
          <p:cNvSpPr/>
          <p:nvPr/>
        </p:nvSpPr>
        <p:spPr>
          <a:xfrm>
            <a:off x="892080" y="485640"/>
            <a:ext cx="51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运用发言卡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小组交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文本框 11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文本框 16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文本框 17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28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29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30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文本框 34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文本框 51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文本框 52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53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任意多边形: 形状 3"/>
          <p:cNvSpPr/>
          <p:nvPr/>
        </p:nvSpPr>
        <p:spPr>
          <a:xfrm>
            <a:off x="558720" y="304920"/>
            <a:ext cx="7682040" cy="3909960"/>
          </a:xfrm>
          <a:custGeom>
            <a:avLst/>
            <a:gdLst/>
            <a:ahLst/>
            <a:rect l="l" t="t" r="r" b="b"/>
            <a:pathLst>
              <a:path w="7681871" h="4320540">
                <a:moveTo>
                  <a:pt x="358140" y="198120"/>
                </a:moveTo>
                <a:lnTo>
                  <a:pt x="358140" y="198120"/>
                </a:lnTo>
                <a:cubicBezTo>
                  <a:pt x="437309" y="206917"/>
                  <a:pt x="425864" y="204045"/>
                  <a:pt x="510540" y="220980"/>
                </a:cubicBezTo>
                <a:cubicBezTo>
                  <a:pt x="533503" y="225573"/>
                  <a:pt x="556059" y="232150"/>
                  <a:pt x="579120" y="236220"/>
                </a:cubicBezTo>
                <a:cubicBezTo>
                  <a:pt x="599287" y="239779"/>
                  <a:pt x="619742" y="241447"/>
                  <a:pt x="640080" y="243840"/>
                </a:cubicBezTo>
                <a:cubicBezTo>
                  <a:pt x="736206" y="255149"/>
                  <a:pt x="708585" y="251455"/>
                  <a:pt x="830580" y="259080"/>
                </a:cubicBezTo>
                <a:cubicBezTo>
                  <a:pt x="986056" y="297949"/>
                  <a:pt x="922947" y="284987"/>
                  <a:pt x="1264920" y="259080"/>
                </a:cubicBezTo>
                <a:cubicBezTo>
                  <a:pt x="1393732" y="249322"/>
                  <a:pt x="1326438" y="231359"/>
                  <a:pt x="1409700" y="205740"/>
                </a:cubicBezTo>
                <a:cubicBezTo>
                  <a:pt x="1426866" y="200458"/>
                  <a:pt x="1445260" y="200660"/>
                  <a:pt x="1463040" y="198120"/>
                </a:cubicBezTo>
                <a:cubicBezTo>
                  <a:pt x="1540366" y="153934"/>
                  <a:pt x="1520696" y="161914"/>
                  <a:pt x="1630680" y="121920"/>
                </a:cubicBezTo>
                <a:cubicBezTo>
                  <a:pt x="1657086" y="112318"/>
                  <a:pt x="1719401" y="98261"/>
                  <a:pt x="1744980" y="91440"/>
                </a:cubicBezTo>
                <a:cubicBezTo>
                  <a:pt x="1762847" y="86675"/>
                  <a:pt x="1780145" y="79608"/>
                  <a:pt x="1798320" y="76200"/>
                </a:cubicBezTo>
                <a:cubicBezTo>
                  <a:pt x="1820927" y="71961"/>
                  <a:pt x="1844101" y="71620"/>
                  <a:pt x="1866900" y="68580"/>
                </a:cubicBezTo>
                <a:cubicBezTo>
                  <a:pt x="1882215" y="66538"/>
                  <a:pt x="1897380" y="63500"/>
                  <a:pt x="1912620" y="60960"/>
                </a:cubicBezTo>
                <a:lnTo>
                  <a:pt x="2964180" y="68580"/>
                </a:lnTo>
                <a:cubicBezTo>
                  <a:pt x="2981212" y="69053"/>
                  <a:pt x="2994330" y="84520"/>
                  <a:pt x="3009900" y="91440"/>
                </a:cubicBezTo>
                <a:cubicBezTo>
                  <a:pt x="3034167" y="102225"/>
                  <a:pt x="3050325" y="101049"/>
                  <a:pt x="3078480" y="106680"/>
                </a:cubicBezTo>
                <a:cubicBezTo>
                  <a:pt x="3088749" y="108734"/>
                  <a:pt x="3098929" y="111291"/>
                  <a:pt x="3108960" y="114300"/>
                </a:cubicBezTo>
                <a:cubicBezTo>
                  <a:pt x="3124347" y="118916"/>
                  <a:pt x="3138834" y="126899"/>
                  <a:pt x="3154680" y="129540"/>
                </a:cubicBezTo>
                <a:cubicBezTo>
                  <a:pt x="3184849" y="134568"/>
                  <a:pt x="3215686" y="134117"/>
                  <a:pt x="3246120" y="137160"/>
                </a:cubicBezTo>
                <a:cubicBezTo>
                  <a:pt x="3415061" y="154054"/>
                  <a:pt x="3152271" y="135104"/>
                  <a:pt x="3429000" y="152400"/>
                </a:cubicBezTo>
                <a:lnTo>
                  <a:pt x="3825240" y="129540"/>
                </a:lnTo>
                <a:cubicBezTo>
                  <a:pt x="3855766" y="127632"/>
                  <a:pt x="3886425" y="126402"/>
                  <a:pt x="3916680" y="121920"/>
                </a:cubicBezTo>
                <a:cubicBezTo>
                  <a:pt x="3955115" y="116226"/>
                  <a:pt x="3992498" y="104430"/>
                  <a:pt x="4030980" y="99060"/>
                </a:cubicBezTo>
                <a:cubicBezTo>
                  <a:pt x="4101821" y="89175"/>
                  <a:pt x="4244340" y="76200"/>
                  <a:pt x="4244340" y="76200"/>
                </a:cubicBezTo>
                <a:cubicBezTo>
                  <a:pt x="4269740" y="68580"/>
                  <a:pt x="4294435" y="58002"/>
                  <a:pt x="4320540" y="53340"/>
                </a:cubicBezTo>
                <a:cubicBezTo>
                  <a:pt x="4365825" y="45253"/>
                  <a:pt x="4411980" y="43180"/>
                  <a:pt x="4457700" y="38100"/>
                </a:cubicBezTo>
                <a:cubicBezTo>
                  <a:pt x="4480560" y="35560"/>
                  <a:pt x="4503726" y="34991"/>
                  <a:pt x="4526280" y="30480"/>
                </a:cubicBezTo>
                <a:cubicBezTo>
                  <a:pt x="4551680" y="25400"/>
                  <a:pt x="4576864" y="19082"/>
                  <a:pt x="4602480" y="15240"/>
                </a:cubicBezTo>
                <a:cubicBezTo>
                  <a:pt x="4629138" y="11241"/>
                  <a:pt x="4749067" y="1754"/>
                  <a:pt x="4770120" y="0"/>
                </a:cubicBezTo>
                <a:cubicBezTo>
                  <a:pt x="4912360" y="2540"/>
                  <a:pt x="5054694" y="1857"/>
                  <a:pt x="5196840" y="7620"/>
                </a:cubicBezTo>
                <a:cubicBezTo>
                  <a:pt x="5339943" y="13421"/>
                  <a:pt x="5314748" y="-15644"/>
                  <a:pt x="5349240" y="53340"/>
                </a:cubicBezTo>
                <a:cubicBezTo>
                  <a:pt x="5365939" y="136836"/>
                  <a:pt x="5345059" y="49810"/>
                  <a:pt x="5372100" y="121920"/>
                </a:cubicBezTo>
                <a:cubicBezTo>
                  <a:pt x="5386256" y="159671"/>
                  <a:pt x="5370168" y="153458"/>
                  <a:pt x="5402580" y="190500"/>
                </a:cubicBezTo>
                <a:cubicBezTo>
                  <a:pt x="5410943" y="200058"/>
                  <a:pt x="5421701" y="207680"/>
                  <a:pt x="5433060" y="213360"/>
                </a:cubicBezTo>
                <a:cubicBezTo>
                  <a:pt x="5486036" y="239848"/>
                  <a:pt x="5542271" y="231725"/>
                  <a:pt x="5600700" y="236220"/>
                </a:cubicBezTo>
                <a:cubicBezTo>
                  <a:pt x="5626151" y="238178"/>
                  <a:pt x="5651500" y="241300"/>
                  <a:pt x="5676900" y="243840"/>
                </a:cubicBezTo>
                <a:cubicBezTo>
                  <a:pt x="5712460" y="251460"/>
                  <a:pt x="5747494" y="262189"/>
                  <a:pt x="5783580" y="266700"/>
                </a:cubicBezTo>
                <a:cubicBezTo>
                  <a:pt x="5849304" y="274915"/>
                  <a:pt x="5981700" y="281940"/>
                  <a:pt x="5981700" y="281940"/>
                </a:cubicBezTo>
                <a:lnTo>
                  <a:pt x="7056120" y="266700"/>
                </a:lnTo>
                <a:cubicBezTo>
                  <a:pt x="7079116" y="266240"/>
                  <a:pt x="7101901" y="262120"/>
                  <a:pt x="7124700" y="259080"/>
                </a:cubicBezTo>
                <a:cubicBezTo>
                  <a:pt x="7140015" y="257038"/>
                  <a:pt x="7155180" y="254000"/>
                  <a:pt x="7170420" y="251460"/>
                </a:cubicBezTo>
                <a:cubicBezTo>
                  <a:pt x="7296247" y="254195"/>
                  <a:pt x="7499978" y="148557"/>
                  <a:pt x="7528560" y="281940"/>
                </a:cubicBezTo>
                <a:cubicBezTo>
                  <a:pt x="7534510" y="309708"/>
                  <a:pt x="7539371" y="337709"/>
                  <a:pt x="7543800" y="365760"/>
                </a:cubicBezTo>
                <a:cubicBezTo>
                  <a:pt x="7546994" y="385988"/>
                  <a:pt x="7548880" y="406400"/>
                  <a:pt x="7551420" y="426720"/>
                </a:cubicBezTo>
                <a:cubicBezTo>
                  <a:pt x="7553960" y="508000"/>
                  <a:pt x="7552640" y="589493"/>
                  <a:pt x="7559040" y="670560"/>
                </a:cubicBezTo>
                <a:cubicBezTo>
                  <a:pt x="7560304" y="686575"/>
                  <a:pt x="7570384" y="700695"/>
                  <a:pt x="7574280" y="716280"/>
                </a:cubicBezTo>
                <a:cubicBezTo>
                  <a:pt x="7620770" y="902242"/>
                  <a:pt x="7564738" y="735296"/>
                  <a:pt x="7604760" y="815340"/>
                </a:cubicBezTo>
                <a:cubicBezTo>
                  <a:pt x="7615661" y="837142"/>
                  <a:pt x="7614147" y="860507"/>
                  <a:pt x="7620000" y="883920"/>
                </a:cubicBezTo>
                <a:cubicBezTo>
                  <a:pt x="7626432" y="909647"/>
                  <a:pt x="7635240" y="934720"/>
                  <a:pt x="7642860" y="960120"/>
                </a:cubicBezTo>
                <a:cubicBezTo>
                  <a:pt x="7645400" y="985520"/>
                  <a:pt x="7645474" y="1011289"/>
                  <a:pt x="7650480" y="1036320"/>
                </a:cubicBezTo>
                <a:cubicBezTo>
                  <a:pt x="7653163" y="1049733"/>
                  <a:pt x="7665402" y="1060745"/>
                  <a:pt x="7665720" y="1074420"/>
                </a:cubicBezTo>
                <a:cubicBezTo>
                  <a:pt x="7667965" y="1170947"/>
                  <a:pt x="7662484" y="1267526"/>
                  <a:pt x="7658100" y="1363980"/>
                </a:cubicBezTo>
                <a:cubicBezTo>
                  <a:pt x="7657398" y="1379414"/>
                  <a:pt x="7654920" y="1394901"/>
                  <a:pt x="7650480" y="1409700"/>
                </a:cubicBezTo>
                <a:cubicBezTo>
                  <a:pt x="7647216" y="1420580"/>
                  <a:pt x="7639122" y="1429505"/>
                  <a:pt x="7635240" y="1440180"/>
                </a:cubicBezTo>
                <a:cubicBezTo>
                  <a:pt x="7602564" y="1530040"/>
                  <a:pt x="7640220" y="1459819"/>
                  <a:pt x="7597140" y="1531620"/>
                </a:cubicBezTo>
                <a:cubicBezTo>
                  <a:pt x="7592060" y="1549400"/>
                  <a:pt x="7587928" y="1567479"/>
                  <a:pt x="7581900" y="1584960"/>
                </a:cubicBezTo>
                <a:cubicBezTo>
                  <a:pt x="7562517" y="1641172"/>
                  <a:pt x="7534310" y="1694663"/>
                  <a:pt x="7520940" y="1752600"/>
                </a:cubicBezTo>
                <a:cubicBezTo>
                  <a:pt x="7488782" y="1891949"/>
                  <a:pt x="7504325" y="1818353"/>
                  <a:pt x="7475220" y="1973580"/>
                </a:cubicBezTo>
                <a:cubicBezTo>
                  <a:pt x="7460567" y="2178716"/>
                  <a:pt x="7459698" y="2073674"/>
                  <a:pt x="7520940" y="2400300"/>
                </a:cubicBezTo>
                <a:cubicBezTo>
                  <a:pt x="7523900" y="2416089"/>
                  <a:pt x="7529273" y="2431516"/>
                  <a:pt x="7536180" y="2446020"/>
                </a:cubicBezTo>
                <a:cubicBezTo>
                  <a:pt x="7554745" y="2485006"/>
                  <a:pt x="7580532" y="2520462"/>
                  <a:pt x="7597140" y="2560320"/>
                </a:cubicBezTo>
                <a:cubicBezTo>
                  <a:pt x="7609840" y="2590800"/>
                  <a:pt x="7625103" y="2620335"/>
                  <a:pt x="7635240" y="2651760"/>
                </a:cubicBezTo>
                <a:cubicBezTo>
                  <a:pt x="7650560" y="2699253"/>
                  <a:pt x="7673340" y="2796540"/>
                  <a:pt x="7673340" y="2796540"/>
                </a:cubicBezTo>
                <a:cubicBezTo>
                  <a:pt x="7682576" y="2916607"/>
                  <a:pt x="7689391" y="2936452"/>
                  <a:pt x="7665720" y="3078480"/>
                </a:cubicBezTo>
                <a:cubicBezTo>
                  <a:pt x="7662919" y="3095287"/>
                  <a:pt x="7649413" y="3108472"/>
                  <a:pt x="7642860" y="3124200"/>
                </a:cubicBezTo>
                <a:cubicBezTo>
                  <a:pt x="7636681" y="3139029"/>
                  <a:pt x="7633586" y="3155005"/>
                  <a:pt x="7627620" y="3169920"/>
                </a:cubicBezTo>
                <a:cubicBezTo>
                  <a:pt x="7623401" y="3180467"/>
                  <a:pt x="7617949" y="3190500"/>
                  <a:pt x="7612380" y="3200400"/>
                </a:cubicBezTo>
                <a:cubicBezTo>
                  <a:pt x="7595080" y="3231155"/>
                  <a:pt x="7578316" y="3262283"/>
                  <a:pt x="7559040" y="3291840"/>
                </a:cubicBezTo>
                <a:cubicBezTo>
                  <a:pt x="7516025" y="3357797"/>
                  <a:pt x="7443134" y="3445846"/>
                  <a:pt x="7391400" y="3497580"/>
                </a:cubicBezTo>
                <a:cubicBezTo>
                  <a:pt x="7360920" y="3528060"/>
                  <a:pt x="7335826" y="3565110"/>
                  <a:pt x="7299960" y="3589020"/>
                </a:cubicBezTo>
                <a:cubicBezTo>
                  <a:pt x="7167980" y="3677006"/>
                  <a:pt x="7250435" y="3618824"/>
                  <a:pt x="7139940" y="3703320"/>
                </a:cubicBezTo>
                <a:cubicBezTo>
                  <a:pt x="7097017" y="3736143"/>
                  <a:pt x="7080235" y="3743252"/>
                  <a:pt x="7048500" y="3779520"/>
                </a:cubicBezTo>
                <a:cubicBezTo>
                  <a:pt x="7040137" y="3789078"/>
                  <a:pt x="7033260" y="3799840"/>
                  <a:pt x="7025640" y="3810000"/>
                </a:cubicBezTo>
                <a:cubicBezTo>
                  <a:pt x="7023100" y="3820160"/>
                  <a:pt x="7019319" y="3830088"/>
                  <a:pt x="7018020" y="3840480"/>
                </a:cubicBezTo>
                <a:cubicBezTo>
                  <a:pt x="7008383" y="3917574"/>
                  <a:pt x="7022153" y="3916034"/>
                  <a:pt x="6995160" y="3970020"/>
                </a:cubicBezTo>
                <a:cubicBezTo>
                  <a:pt x="6991064" y="3978211"/>
                  <a:pt x="6985641" y="3985729"/>
                  <a:pt x="6979920" y="3992880"/>
                </a:cubicBezTo>
                <a:cubicBezTo>
                  <a:pt x="6955135" y="4023862"/>
                  <a:pt x="6936732" y="4062312"/>
                  <a:pt x="6903720" y="4084320"/>
                </a:cubicBezTo>
                <a:cubicBezTo>
                  <a:pt x="6896100" y="4089400"/>
                  <a:pt x="6888089" y="4093937"/>
                  <a:pt x="6880860" y="4099560"/>
                </a:cubicBezTo>
                <a:cubicBezTo>
                  <a:pt x="6864448" y="4112325"/>
                  <a:pt x="6826002" y="4147181"/>
                  <a:pt x="6804660" y="4160520"/>
                </a:cubicBezTo>
                <a:cubicBezTo>
                  <a:pt x="6795027" y="4166540"/>
                  <a:pt x="6783813" y="4169740"/>
                  <a:pt x="6774180" y="4175760"/>
                </a:cubicBezTo>
                <a:cubicBezTo>
                  <a:pt x="6763410" y="4182491"/>
                  <a:pt x="6755617" y="4194230"/>
                  <a:pt x="6743700" y="4198620"/>
                </a:cubicBezTo>
                <a:cubicBezTo>
                  <a:pt x="6666630" y="4227014"/>
                  <a:pt x="6609480" y="4232165"/>
                  <a:pt x="6530340" y="4244340"/>
                </a:cubicBezTo>
                <a:lnTo>
                  <a:pt x="5905500" y="4229100"/>
                </a:lnTo>
                <a:cubicBezTo>
                  <a:pt x="5872121" y="4227695"/>
                  <a:pt x="5839568" y="4218181"/>
                  <a:pt x="5806440" y="4213860"/>
                </a:cubicBezTo>
                <a:cubicBezTo>
                  <a:pt x="5781128" y="4210558"/>
                  <a:pt x="5755640" y="4208780"/>
                  <a:pt x="5730240" y="4206240"/>
                </a:cubicBezTo>
                <a:cubicBezTo>
                  <a:pt x="5707380" y="4198620"/>
                  <a:pt x="5684691" y="4190466"/>
                  <a:pt x="5661660" y="4183380"/>
                </a:cubicBezTo>
                <a:cubicBezTo>
                  <a:pt x="5651650" y="4180300"/>
                  <a:pt x="5641115" y="4179072"/>
                  <a:pt x="5631180" y="4175760"/>
                </a:cubicBezTo>
                <a:cubicBezTo>
                  <a:pt x="5610203" y="4168768"/>
                  <a:pt x="5591622" y="4158250"/>
                  <a:pt x="5570220" y="4152900"/>
                </a:cubicBezTo>
                <a:cubicBezTo>
                  <a:pt x="5557655" y="4149759"/>
                  <a:pt x="5544820" y="4147820"/>
                  <a:pt x="5532120" y="4145280"/>
                </a:cubicBezTo>
                <a:cubicBezTo>
                  <a:pt x="5524500" y="4140200"/>
                  <a:pt x="5517451" y="4134136"/>
                  <a:pt x="5509260" y="4130040"/>
                </a:cubicBezTo>
                <a:cubicBezTo>
                  <a:pt x="5502076" y="4126448"/>
                  <a:pt x="5494432" y="4122420"/>
                  <a:pt x="5486400" y="4122420"/>
                </a:cubicBezTo>
                <a:cubicBezTo>
                  <a:pt x="5417773" y="4122420"/>
                  <a:pt x="5349240" y="4127500"/>
                  <a:pt x="5280660" y="4130040"/>
                </a:cubicBezTo>
                <a:cubicBezTo>
                  <a:pt x="5232400" y="4137660"/>
                  <a:pt x="5182231" y="4137450"/>
                  <a:pt x="5135880" y="4152900"/>
                </a:cubicBezTo>
                <a:cubicBezTo>
                  <a:pt x="4852960" y="4247207"/>
                  <a:pt x="5116296" y="4162246"/>
                  <a:pt x="4914900" y="4221480"/>
                </a:cubicBezTo>
                <a:cubicBezTo>
                  <a:pt x="4899488" y="4226013"/>
                  <a:pt x="4884602" y="4232222"/>
                  <a:pt x="4869180" y="4236720"/>
                </a:cubicBezTo>
                <a:cubicBezTo>
                  <a:pt x="4823627" y="4250006"/>
                  <a:pt x="4777373" y="4260865"/>
                  <a:pt x="4732020" y="4274820"/>
                </a:cubicBezTo>
                <a:cubicBezTo>
                  <a:pt x="4711278" y="4281202"/>
                  <a:pt x="4691455" y="4290264"/>
                  <a:pt x="4671060" y="4297680"/>
                </a:cubicBezTo>
                <a:cubicBezTo>
                  <a:pt x="4663511" y="4300425"/>
                  <a:pt x="4656054" y="4303617"/>
                  <a:pt x="4648200" y="4305300"/>
                </a:cubicBezTo>
                <a:cubicBezTo>
                  <a:pt x="4620432" y="4311250"/>
                  <a:pt x="4592320" y="4315460"/>
                  <a:pt x="4564380" y="4320540"/>
                </a:cubicBezTo>
                <a:lnTo>
                  <a:pt x="4053840" y="4305300"/>
                </a:lnTo>
                <a:cubicBezTo>
                  <a:pt x="4027473" y="4304201"/>
                  <a:pt x="3962235" y="4280850"/>
                  <a:pt x="3947160" y="4274820"/>
                </a:cubicBezTo>
                <a:cubicBezTo>
                  <a:pt x="3931340" y="4268492"/>
                  <a:pt x="3917394" y="4257943"/>
                  <a:pt x="3901440" y="4251960"/>
                </a:cubicBezTo>
                <a:cubicBezTo>
                  <a:pt x="3851228" y="4233131"/>
                  <a:pt x="3808370" y="4225351"/>
                  <a:pt x="3756660" y="4213860"/>
                </a:cubicBezTo>
                <a:cubicBezTo>
                  <a:pt x="3585675" y="4116155"/>
                  <a:pt x="3834591" y="4251411"/>
                  <a:pt x="3634740" y="4168140"/>
                </a:cubicBezTo>
                <a:cubicBezTo>
                  <a:pt x="3624793" y="4163995"/>
                  <a:pt x="3621236" y="4150627"/>
                  <a:pt x="3611880" y="4145280"/>
                </a:cubicBezTo>
                <a:cubicBezTo>
                  <a:pt x="3602787" y="4140084"/>
                  <a:pt x="3591560" y="4140200"/>
                  <a:pt x="3581400" y="4137660"/>
                </a:cubicBezTo>
                <a:lnTo>
                  <a:pt x="2766060" y="4160520"/>
                </a:lnTo>
                <a:cubicBezTo>
                  <a:pt x="2732961" y="4161623"/>
                  <a:pt x="2699785" y="4163456"/>
                  <a:pt x="2667000" y="4168140"/>
                </a:cubicBezTo>
                <a:cubicBezTo>
                  <a:pt x="2622607" y="4174482"/>
                  <a:pt x="2550708" y="4194769"/>
                  <a:pt x="2499360" y="4198620"/>
                </a:cubicBezTo>
                <a:cubicBezTo>
                  <a:pt x="2415621" y="4204900"/>
                  <a:pt x="2331660" y="4207877"/>
                  <a:pt x="2247900" y="4213860"/>
                </a:cubicBezTo>
                <a:lnTo>
                  <a:pt x="2141220" y="4221480"/>
                </a:lnTo>
                <a:cubicBezTo>
                  <a:pt x="2128520" y="4224020"/>
                  <a:pt x="2115921" y="4227131"/>
                  <a:pt x="2103120" y="4229100"/>
                </a:cubicBezTo>
                <a:cubicBezTo>
                  <a:pt x="1896252" y="4260926"/>
                  <a:pt x="1661310" y="4231642"/>
                  <a:pt x="1470660" y="4229100"/>
                </a:cubicBezTo>
                <a:cubicBezTo>
                  <a:pt x="1281971" y="4202144"/>
                  <a:pt x="1362623" y="4220417"/>
                  <a:pt x="1226820" y="4183380"/>
                </a:cubicBezTo>
                <a:cubicBezTo>
                  <a:pt x="1193166" y="4158140"/>
                  <a:pt x="1179108" y="4152394"/>
                  <a:pt x="1158240" y="4107180"/>
                </a:cubicBezTo>
                <a:cubicBezTo>
                  <a:pt x="1157657" y="4105916"/>
                  <a:pt x="1148138" y="4024502"/>
                  <a:pt x="1135380" y="4023360"/>
                </a:cubicBezTo>
                <a:cubicBezTo>
                  <a:pt x="970919" y="4008632"/>
                  <a:pt x="805180" y="4018280"/>
                  <a:pt x="640080" y="4015740"/>
                </a:cubicBezTo>
                <a:cubicBezTo>
                  <a:pt x="624840" y="4013200"/>
                  <a:pt x="609266" y="4012185"/>
                  <a:pt x="594360" y="4008120"/>
                </a:cubicBezTo>
                <a:cubicBezTo>
                  <a:pt x="581164" y="4004521"/>
                  <a:pt x="569787" y="3994909"/>
                  <a:pt x="556260" y="3992880"/>
                </a:cubicBezTo>
                <a:cubicBezTo>
                  <a:pt x="518498" y="3987216"/>
                  <a:pt x="480060" y="3987800"/>
                  <a:pt x="441960" y="3985260"/>
                </a:cubicBezTo>
                <a:cubicBezTo>
                  <a:pt x="414020" y="3977640"/>
                  <a:pt x="386236" y="3969424"/>
                  <a:pt x="358140" y="3962400"/>
                </a:cubicBezTo>
                <a:cubicBezTo>
                  <a:pt x="335422" y="3956720"/>
                  <a:pt x="311487" y="3955382"/>
                  <a:pt x="289560" y="3947160"/>
                </a:cubicBezTo>
                <a:cubicBezTo>
                  <a:pt x="270386" y="3939970"/>
                  <a:pt x="254341" y="3926218"/>
                  <a:pt x="236220" y="3916680"/>
                </a:cubicBezTo>
                <a:cubicBezTo>
                  <a:pt x="206064" y="3900808"/>
                  <a:pt x="175260" y="3886200"/>
                  <a:pt x="144780" y="3870960"/>
                </a:cubicBezTo>
                <a:cubicBezTo>
                  <a:pt x="129540" y="3863340"/>
                  <a:pt x="112691" y="3858323"/>
                  <a:pt x="99060" y="3848100"/>
                </a:cubicBezTo>
                <a:lnTo>
                  <a:pt x="38100" y="3802380"/>
                </a:lnTo>
                <a:cubicBezTo>
                  <a:pt x="11699" y="3736377"/>
                  <a:pt x="29880" y="3791162"/>
                  <a:pt x="15240" y="3703320"/>
                </a:cubicBezTo>
                <a:cubicBezTo>
                  <a:pt x="13518" y="3692990"/>
                  <a:pt x="9342" y="3683170"/>
                  <a:pt x="7620" y="3672840"/>
                </a:cubicBezTo>
                <a:cubicBezTo>
                  <a:pt x="4253" y="3652640"/>
                  <a:pt x="2540" y="3632200"/>
                  <a:pt x="0" y="3611880"/>
                </a:cubicBezTo>
                <a:cubicBezTo>
                  <a:pt x="2540" y="3510280"/>
                  <a:pt x="3107" y="3408612"/>
                  <a:pt x="7620" y="3307080"/>
                </a:cubicBezTo>
                <a:cubicBezTo>
                  <a:pt x="9269" y="3269968"/>
                  <a:pt x="19569" y="3265796"/>
                  <a:pt x="30480" y="3230880"/>
                </a:cubicBezTo>
                <a:cubicBezTo>
                  <a:pt x="120769" y="2941954"/>
                  <a:pt x="9123" y="3279710"/>
                  <a:pt x="68580" y="3101340"/>
                </a:cubicBezTo>
                <a:cubicBezTo>
                  <a:pt x="71120" y="3063240"/>
                  <a:pt x="73479" y="3025128"/>
                  <a:pt x="76200" y="2987040"/>
                </a:cubicBezTo>
                <a:cubicBezTo>
                  <a:pt x="78560" y="2954007"/>
                  <a:pt x="83820" y="2921098"/>
                  <a:pt x="83820" y="2887980"/>
                </a:cubicBezTo>
                <a:cubicBezTo>
                  <a:pt x="83820" y="2664446"/>
                  <a:pt x="80626" y="2440911"/>
                  <a:pt x="76200" y="2217420"/>
                </a:cubicBezTo>
                <a:cubicBezTo>
                  <a:pt x="74336" y="2123308"/>
                  <a:pt x="75663" y="2139608"/>
                  <a:pt x="53340" y="2072640"/>
                </a:cubicBezTo>
                <a:cubicBezTo>
                  <a:pt x="55880" y="1945640"/>
                  <a:pt x="56170" y="1818575"/>
                  <a:pt x="60960" y="1691640"/>
                </a:cubicBezTo>
                <a:cubicBezTo>
                  <a:pt x="61263" y="1683614"/>
                  <a:pt x="66632" y="1676572"/>
                  <a:pt x="68580" y="1668780"/>
                </a:cubicBezTo>
                <a:cubicBezTo>
                  <a:pt x="74260" y="1646062"/>
                  <a:pt x="79970" y="1623299"/>
                  <a:pt x="83820" y="1600200"/>
                </a:cubicBezTo>
                <a:cubicBezTo>
                  <a:pt x="99350" y="1507019"/>
                  <a:pt x="77867" y="1558767"/>
                  <a:pt x="106680" y="1501140"/>
                </a:cubicBezTo>
                <a:cubicBezTo>
                  <a:pt x="109220" y="1488440"/>
                  <a:pt x="110892" y="1475535"/>
                  <a:pt x="114300" y="1463040"/>
                </a:cubicBezTo>
                <a:cubicBezTo>
                  <a:pt x="122646" y="1432437"/>
                  <a:pt x="142483" y="1384127"/>
                  <a:pt x="152400" y="1356360"/>
                </a:cubicBezTo>
                <a:cubicBezTo>
                  <a:pt x="168031" y="1312594"/>
                  <a:pt x="170063" y="1291765"/>
                  <a:pt x="198120" y="1249680"/>
                </a:cubicBezTo>
                <a:cubicBezTo>
                  <a:pt x="206090" y="1237725"/>
                  <a:pt x="220630" y="1231155"/>
                  <a:pt x="228600" y="1219200"/>
                </a:cubicBezTo>
                <a:cubicBezTo>
                  <a:pt x="241202" y="1200297"/>
                  <a:pt x="248920" y="1178560"/>
                  <a:pt x="259080" y="1158240"/>
                </a:cubicBezTo>
                <a:lnTo>
                  <a:pt x="274320" y="1127760"/>
                </a:lnTo>
                <a:cubicBezTo>
                  <a:pt x="279400" y="1117600"/>
                  <a:pt x="283716" y="1107020"/>
                  <a:pt x="289560" y="1097280"/>
                </a:cubicBezTo>
                <a:cubicBezTo>
                  <a:pt x="328210" y="1032864"/>
                  <a:pt x="295597" y="1084256"/>
                  <a:pt x="335280" y="1028700"/>
                </a:cubicBezTo>
                <a:cubicBezTo>
                  <a:pt x="340603" y="1021248"/>
                  <a:pt x="345025" y="1013166"/>
                  <a:pt x="350520" y="1005840"/>
                </a:cubicBezTo>
                <a:cubicBezTo>
                  <a:pt x="360278" y="992829"/>
                  <a:pt x="372476" y="981591"/>
                  <a:pt x="381000" y="967740"/>
                </a:cubicBezTo>
                <a:cubicBezTo>
                  <a:pt x="392907" y="948392"/>
                  <a:pt x="401320" y="927100"/>
                  <a:pt x="411480" y="906780"/>
                </a:cubicBezTo>
                <a:cubicBezTo>
                  <a:pt x="416560" y="896620"/>
                  <a:pt x="420419" y="885751"/>
                  <a:pt x="426720" y="876300"/>
                </a:cubicBezTo>
                <a:lnTo>
                  <a:pt x="441960" y="853440"/>
                </a:lnTo>
                <a:cubicBezTo>
                  <a:pt x="444500" y="830580"/>
                  <a:pt x="444408" y="807272"/>
                  <a:pt x="449580" y="784860"/>
                </a:cubicBezTo>
                <a:cubicBezTo>
                  <a:pt x="452134" y="773792"/>
                  <a:pt x="460120" y="764721"/>
                  <a:pt x="464820" y="754380"/>
                </a:cubicBezTo>
                <a:cubicBezTo>
                  <a:pt x="472825" y="736770"/>
                  <a:pt x="480060" y="718820"/>
                  <a:pt x="487680" y="701040"/>
                </a:cubicBezTo>
                <a:cubicBezTo>
                  <a:pt x="492882" y="675032"/>
                  <a:pt x="499670" y="643218"/>
                  <a:pt x="502920" y="617220"/>
                </a:cubicBezTo>
                <a:cubicBezTo>
                  <a:pt x="515913" y="513275"/>
                  <a:pt x="502572" y="572892"/>
                  <a:pt x="518160" y="510540"/>
                </a:cubicBezTo>
                <a:cubicBezTo>
                  <a:pt x="513214" y="401732"/>
                  <a:pt x="527793" y="386367"/>
                  <a:pt x="502920" y="320040"/>
                </a:cubicBezTo>
                <a:cubicBezTo>
                  <a:pt x="498117" y="307233"/>
                  <a:pt x="495524" y="293146"/>
                  <a:pt x="487680" y="281940"/>
                </a:cubicBezTo>
                <a:cubicBezTo>
                  <a:pt x="479258" y="269908"/>
                  <a:pt x="446089" y="237209"/>
                  <a:pt x="426720" y="228600"/>
                </a:cubicBezTo>
                <a:lnTo>
                  <a:pt x="358140" y="198120"/>
                </a:lnTo>
                <a:close/>
              </a:path>
            </a:pathLst>
          </a:custGeom>
          <a:noFill/>
          <a:ln w="442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814320" y="709560"/>
            <a:ext cx="7274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这个故事告诉我们：每个人都有自己的特点，要正确对待别人的看法，要有自己的判断，不要为了迎合别人而盲目地改变自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组合 7"/>
          <p:cNvGrpSpPr/>
          <p:nvPr/>
        </p:nvGrpSpPr>
        <p:grpSpPr>
          <a:xfrm>
            <a:off x="1800360" y="1689120"/>
            <a:ext cx="836640" cy="882720"/>
            <a:chOff x="1800360" y="1689120"/>
            <a:chExt cx="836640" cy="882720"/>
          </a:xfrm>
        </p:grpSpPr>
        <p:grpSp>
          <p:nvGrpSpPr>
            <p:cNvPr id="1041" name="组合 7"/>
            <p:cNvGrpSpPr/>
            <p:nvPr/>
          </p:nvGrpSpPr>
          <p:grpSpPr>
            <a:xfrm>
              <a:off x="1800360" y="1720800"/>
              <a:ext cx="836640" cy="851040"/>
              <a:chOff x="1800360" y="1720800"/>
              <a:chExt cx="836640" cy="851040"/>
            </a:xfrm>
          </p:grpSpPr>
          <p:sp>
            <p:nvSpPr>
              <p:cNvPr id="1042" name="矩形 1"/>
              <p:cNvSpPr/>
              <p:nvPr/>
            </p:nvSpPr>
            <p:spPr>
              <a:xfrm>
                <a:off x="1800360" y="172080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直接连接符 4"/>
              <p:cNvSpPr/>
              <p:nvPr/>
            </p:nvSpPr>
            <p:spPr>
              <a:xfrm>
                <a:off x="1800360" y="213300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直接连接符 6"/>
              <p:cNvSpPr/>
              <p:nvPr/>
            </p:nvSpPr>
            <p:spPr>
              <a:xfrm>
                <a:off x="2219040" y="17341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5" name="文本框 64"/>
            <p:cNvSpPr/>
            <p:nvPr/>
          </p:nvSpPr>
          <p:spPr>
            <a:xfrm>
              <a:off x="1825560" y="168912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扇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6" name="组合 11"/>
          <p:cNvGrpSpPr/>
          <p:nvPr/>
        </p:nvGrpSpPr>
        <p:grpSpPr>
          <a:xfrm>
            <a:off x="6416640" y="1698480"/>
            <a:ext cx="836640" cy="882720"/>
            <a:chOff x="6416640" y="1698480"/>
            <a:chExt cx="836640" cy="882720"/>
          </a:xfrm>
        </p:grpSpPr>
        <p:grpSp>
          <p:nvGrpSpPr>
            <p:cNvPr id="1047" name="组合 7"/>
            <p:cNvGrpSpPr/>
            <p:nvPr/>
          </p:nvGrpSpPr>
          <p:grpSpPr>
            <a:xfrm>
              <a:off x="6416640" y="1730160"/>
              <a:ext cx="836640" cy="851040"/>
              <a:chOff x="6416640" y="1730160"/>
              <a:chExt cx="836640" cy="851040"/>
            </a:xfrm>
          </p:grpSpPr>
          <p:sp>
            <p:nvSpPr>
              <p:cNvPr id="1048" name="矩形 1"/>
              <p:cNvSpPr/>
              <p:nvPr/>
            </p:nvSpPr>
            <p:spPr>
              <a:xfrm>
                <a:off x="6416640" y="173016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直接连接符 4"/>
              <p:cNvSpPr/>
              <p:nvPr/>
            </p:nvSpPr>
            <p:spPr>
              <a:xfrm>
                <a:off x="6416640" y="214236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直接连接符 6"/>
              <p:cNvSpPr/>
              <p:nvPr/>
            </p:nvSpPr>
            <p:spPr>
              <a:xfrm>
                <a:off x="6835320" y="174348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1" name="文本框 64"/>
            <p:cNvSpPr/>
            <p:nvPr/>
          </p:nvSpPr>
          <p:spPr>
            <a:xfrm>
              <a:off x="6441840" y="169848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遇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2" name="组合 17"/>
          <p:cNvGrpSpPr/>
          <p:nvPr/>
        </p:nvGrpSpPr>
        <p:grpSpPr>
          <a:xfrm>
            <a:off x="3965400" y="1712880"/>
            <a:ext cx="836640" cy="882720"/>
            <a:chOff x="3965400" y="1712880"/>
            <a:chExt cx="836640" cy="882720"/>
          </a:xfrm>
        </p:grpSpPr>
        <p:grpSp>
          <p:nvGrpSpPr>
            <p:cNvPr id="1053" name="组合 7"/>
            <p:cNvGrpSpPr/>
            <p:nvPr/>
          </p:nvGrpSpPr>
          <p:grpSpPr>
            <a:xfrm>
              <a:off x="3965400" y="1744560"/>
              <a:ext cx="836640" cy="851040"/>
              <a:chOff x="3965400" y="1744560"/>
              <a:chExt cx="836640" cy="851040"/>
            </a:xfrm>
          </p:grpSpPr>
          <p:sp>
            <p:nvSpPr>
              <p:cNvPr id="1054" name="矩形 1"/>
              <p:cNvSpPr/>
              <p:nvPr/>
            </p:nvSpPr>
            <p:spPr>
              <a:xfrm>
                <a:off x="3965400" y="174456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直接连接符 4"/>
              <p:cNvSpPr/>
              <p:nvPr/>
            </p:nvSpPr>
            <p:spPr>
              <a:xfrm>
                <a:off x="3965400" y="215676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直接连接符 6"/>
              <p:cNvSpPr/>
              <p:nvPr/>
            </p:nvSpPr>
            <p:spPr>
              <a:xfrm>
                <a:off x="4384080" y="175788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7" name="文本框 64"/>
            <p:cNvSpPr/>
            <p:nvPr/>
          </p:nvSpPr>
          <p:spPr>
            <a:xfrm>
              <a:off x="3990600" y="171288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痛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"/>
          <p:cNvGrpSpPr/>
          <p:nvPr/>
        </p:nvGrpSpPr>
        <p:grpSpPr>
          <a:xfrm>
            <a:off x="181080" y="366840"/>
            <a:ext cx="2765160" cy="925560"/>
            <a:chOff x="181080" y="366840"/>
            <a:chExt cx="2765160" cy="925560"/>
          </a:xfrm>
        </p:grpSpPr>
        <p:pic>
          <p:nvPicPr>
            <p:cNvPr id="1059" name="Text Box 15" descr=""/>
            <p:cNvPicPr/>
            <p:nvPr/>
          </p:nvPicPr>
          <p:blipFill>
            <a:blip r:embed="rId1"/>
            <a:stretch/>
          </p:blipFill>
          <p:spPr>
            <a:xfrm>
              <a:off x="892440" y="366840"/>
              <a:ext cx="20538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图片 51" descr=""/>
            <p:cNvPicPr/>
            <p:nvPr/>
          </p:nvPicPr>
          <p:blipFill>
            <a:blip r:embed="rId2"/>
            <a:stretch/>
          </p:blipFill>
          <p:spPr>
            <a:xfrm>
              <a:off x="181080" y="434880"/>
              <a:ext cx="1002600" cy="79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1" name="文本框 1"/>
          <p:cNvSpPr/>
          <p:nvPr/>
        </p:nvSpPr>
        <p:spPr>
          <a:xfrm>
            <a:off x="2535120" y="1116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左上包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3"/>
          <p:cNvSpPr/>
          <p:nvPr/>
        </p:nvSpPr>
        <p:spPr>
          <a:xfrm>
            <a:off x="6256440" y="111600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左下包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5"/>
          <p:cNvSpPr/>
          <p:nvPr/>
        </p:nvSpPr>
        <p:spPr>
          <a:xfrm>
            <a:off x="1355760" y="28400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扇动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扇风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扇子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àn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6"/>
          <p:cNvSpPr/>
          <p:nvPr/>
        </p:nvSpPr>
        <p:spPr>
          <a:xfrm>
            <a:off x="3965400" y="284004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心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痛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痛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7"/>
          <p:cNvSpPr/>
          <p:nvPr/>
        </p:nvSpPr>
        <p:spPr>
          <a:xfrm>
            <a:off x="6251400" y="2840040"/>
            <a:ext cx="16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遇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相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机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4"/>
          <p:cNvSpPr/>
          <p:nvPr/>
        </p:nvSpPr>
        <p:spPr>
          <a:xfrm>
            <a:off x="3303720" y="406440"/>
            <a:ext cx="40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一看二写三评四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矩形 1"/>
          <p:cNvSpPr/>
          <p:nvPr/>
        </p:nvSpPr>
        <p:spPr>
          <a:xfrm>
            <a:off x="969840" y="733320"/>
            <a:ext cx="720432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邯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h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郸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学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据说，赵国的首都邯郸的人走路的姿态很好看，动作非常优雅、轻快。燕国有一个少年听到这个传说，非常羡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xi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n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慕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(m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ù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邯郸人，就走了很远的路去赵国，想学习邯郸人走路的方法。刚开始，他整天站在街头，仔细研究每个人走路的姿态，再慢慢模仿他们，可是都没有成功。后来，他想可能是受到过去走路习惯的影响吧，所以，他决定要彻底忘掉以前走路的方法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3"/>
          <p:cNvGrpSpPr/>
          <p:nvPr/>
        </p:nvGrpSpPr>
        <p:grpSpPr>
          <a:xfrm>
            <a:off x="568440" y="233280"/>
            <a:ext cx="1944720" cy="500040"/>
            <a:chOff x="568440" y="233280"/>
            <a:chExt cx="1944720" cy="500040"/>
          </a:xfrm>
        </p:grpSpPr>
        <p:sp>
          <p:nvSpPr>
            <p:cNvPr id="1069" name="圆角矩形 7"/>
            <p:cNvSpPr/>
            <p:nvPr/>
          </p:nvSpPr>
          <p:spPr>
            <a:xfrm>
              <a:off x="1180080" y="336600"/>
              <a:ext cx="1333080" cy="33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68440" y="233280"/>
              <a:ext cx="815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文本框 16"/>
            <p:cNvSpPr/>
            <p:nvPr/>
          </p:nvSpPr>
          <p:spPr>
            <a:xfrm>
              <a:off x="1374480" y="351000"/>
              <a:ext cx="11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矩形 1"/>
          <p:cNvSpPr/>
          <p:nvPr/>
        </p:nvSpPr>
        <p:spPr>
          <a:xfrm>
            <a:off x="665280" y="912960"/>
            <a:ext cx="7761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从那时起，他更专心研究邯郸人走路的姿势，不过，再怎么努力他还是学不会，最后他只好放弃。可是，因为他把以前走路的方法忘得一干二净，已经不知道该怎么走路了，只好一路爬着回去。别人看到他的样子，都忍不住笑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3" name="图片 30" descr=""/>
          <p:cNvPicPr/>
          <p:nvPr/>
        </p:nvPicPr>
        <p:blipFill>
          <a:blip r:embed="rId1"/>
          <a:stretch/>
        </p:blipFill>
        <p:spPr>
          <a:xfrm>
            <a:off x="663480" y="2438280"/>
            <a:ext cx="3025800" cy="21369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1" descr=""/>
          <p:cNvPicPr/>
          <p:nvPr/>
        </p:nvPicPr>
        <p:blipFill>
          <a:blip r:embed="rId2"/>
          <a:stretch/>
        </p:blipFill>
        <p:spPr>
          <a:xfrm>
            <a:off x="5924520" y="4753080"/>
            <a:ext cx="203832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4"/>
          <p:cNvSpPr/>
          <p:nvPr/>
        </p:nvSpPr>
        <p:spPr>
          <a:xfrm>
            <a:off x="857160" y="1073160"/>
            <a:ext cx="582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冰波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名赵冰波，杭州人。国家一级作家。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州作家协会副主席。 主要作品有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童话集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窗下的树皮小屋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毒蜘蛛之死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冰波童话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爱的故事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蛤蟆小姐减肥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中篇童话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怪蜗牛奇遇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长颈鹿拉拉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红蜻蜓，红蜻蜓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长篇童话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怪蛋之谜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狼蝙蝠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2"/>
          <p:cNvSpPr/>
          <p:nvPr/>
        </p:nvSpPr>
        <p:spPr>
          <a:xfrm>
            <a:off x="3886200" y="34920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8ed5"/>
                </a:solidFill>
                <a:latin typeface="Calibri"/>
                <a:ea typeface="宋体"/>
              </a:rPr>
              <a:t>我爱阅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7" name="图片 2" descr="08af64b191252d2e85d8a02859dd3b34"/>
          <p:cNvPicPr/>
          <p:nvPr/>
        </p:nvPicPr>
        <p:blipFill>
          <a:blip r:embed="rId1"/>
          <a:stretch/>
        </p:blipFill>
        <p:spPr>
          <a:xfrm>
            <a:off x="5818320" y="200160"/>
            <a:ext cx="26971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Box 1"/>
          <p:cNvSpPr/>
          <p:nvPr/>
        </p:nvSpPr>
        <p:spPr>
          <a:xfrm>
            <a:off x="1784520" y="2155680"/>
            <a:ext cx="53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跟家人或朋友分享这个故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组合 27"/>
          <p:cNvGrpSpPr/>
          <p:nvPr/>
        </p:nvGrpSpPr>
        <p:grpSpPr>
          <a:xfrm>
            <a:off x="3012840" y="866520"/>
            <a:ext cx="2597040" cy="646560"/>
            <a:chOff x="3012840" y="866520"/>
            <a:chExt cx="2597040" cy="646560"/>
          </a:xfrm>
        </p:grpSpPr>
        <p:sp>
          <p:nvSpPr>
            <p:cNvPr id="1080" name="矩形: 圆角 28"/>
            <p:cNvSpPr/>
            <p:nvPr/>
          </p:nvSpPr>
          <p:spPr>
            <a:xfrm rot="671400">
              <a:off x="3058920" y="91872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: 圆角 29"/>
            <p:cNvSpPr/>
            <p:nvPr/>
          </p:nvSpPr>
          <p:spPr>
            <a:xfrm rot="21203400">
              <a:off x="3713040" y="91548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后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矩形: 圆角 30"/>
            <p:cNvSpPr/>
            <p:nvPr/>
          </p:nvSpPr>
          <p:spPr>
            <a:xfrm rot="497400">
              <a:off x="4351320" y="937440"/>
              <a:ext cx="592200" cy="535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矩形: 圆角 30"/>
            <p:cNvSpPr/>
            <p:nvPr/>
          </p:nvSpPr>
          <p:spPr>
            <a:xfrm rot="21330600">
              <a:off x="4997520" y="939600"/>
              <a:ext cx="592200" cy="532080"/>
            </a:xfrm>
            <a:prstGeom prst="roundRect">
              <a:avLst>
                <a:gd name="adj" fmla="val 16667"/>
              </a:avLst>
            </a:prstGeom>
            <a:solidFill>
              <a:srgbClr val="ccff66">
                <a:alpha val="7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矩形 1" descr=""/>
          <p:cNvPicPr/>
          <p:nvPr/>
        </p:nvPicPr>
        <p:blipFill>
          <a:blip r:embed="rId1"/>
          <a:stretch/>
        </p:blipFill>
        <p:spPr>
          <a:xfrm>
            <a:off x="3562200" y="197172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866880" y="298440"/>
            <a:ext cx="714672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课时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课文内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明白故事的道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写好“扇、遇、痛”三个半包围结构的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合作目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学会倾听，熟练运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情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表演法和发言卡进行合作学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: 圆角 3"/>
          <p:cNvSpPr/>
          <p:nvPr/>
        </p:nvSpPr>
        <p:spPr>
          <a:xfrm>
            <a:off x="539640" y="298440"/>
            <a:ext cx="7632720" cy="4289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图片 4" descr=""/>
          <p:cNvPicPr/>
          <p:nvPr/>
        </p:nvPicPr>
        <p:blipFill>
          <a:blip r:embed="rId1"/>
          <a:stretch/>
        </p:blipFill>
        <p:spPr>
          <a:xfrm>
            <a:off x="6480" y="-142920"/>
            <a:ext cx="1184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2" descr=""/>
          <p:cNvPicPr/>
          <p:nvPr/>
        </p:nvPicPr>
        <p:blipFill>
          <a:blip r:embed="rId1"/>
          <a:srcRect l="0" t="15856" r="0" b="0"/>
          <a:stretch/>
        </p:blipFill>
        <p:spPr>
          <a:xfrm>
            <a:off x="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8"/>
          <p:cNvSpPr/>
          <p:nvPr/>
        </p:nvSpPr>
        <p:spPr>
          <a:xfrm>
            <a:off x="324000" y="3435480"/>
            <a:ext cx="849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142920" y="3147840"/>
            <a:ext cx="1474920" cy="157356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 1"/>
          <p:cNvGrpSpPr/>
          <p:nvPr/>
        </p:nvGrpSpPr>
        <p:grpSpPr>
          <a:xfrm>
            <a:off x="2782800" y="237960"/>
            <a:ext cx="3248280" cy="766440"/>
            <a:chOff x="2782800" y="237960"/>
            <a:chExt cx="3248280" cy="766440"/>
          </a:xfrm>
        </p:grpSpPr>
        <p:grpSp>
          <p:nvGrpSpPr>
            <p:cNvPr id="218" name="组合 6"/>
            <p:cNvGrpSpPr/>
            <p:nvPr/>
          </p:nvGrpSpPr>
          <p:grpSpPr>
            <a:xfrm>
              <a:off x="2782800" y="237960"/>
              <a:ext cx="2419920" cy="766440"/>
              <a:chOff x="2782800" y="237960"/>
              <a:chExt cx="2419920" cy="766440"/>
            </a:xfrm>
          </p:grpSpPr>
          <p:sp>
            <p:nvSpPr>
              <p:cNvPr id="219" name="TextBox 5"/>
              <p:cNvSpPr/>
              <p:nvPr/>
            </p:nvSpPr>
            <p:spPr>
              <a:xfrm rot="554400">
                <a:off x="3679560" y="285840"/>
                <a:ext cx="649080" cy="64260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5648000"/>
              </a:gradFill>
              <a:ln w="9360">
                <a:solidFill>
                  <a:srgbClr val="46aac5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TextBox 5"/>
              <p:cNvSpPr/>
              <p:nvPr/>
            </p:nvSpPr>
            <p:spPr>
              <a:xfrm rot="20879400">
                <a:off x="2842560" y="303120"/>
                <a:ext cx="630000" cy="642600"/>
              </a:xfrm>
              <a:prstGeom prst="rect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920000"/>
              </a:gradFill>
              <a:ln w="9360">
                <a:solidFill>
                  <a:srgbClr val="be4b4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大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TextBox 5"/>
              <p:cNvSpPr/>
              <p:nvPr/>
            </p:nvSpPr>
            <p:spPr>
              <a:xfrm rot="21170400">
                <a:off x="4534920" y="302760"/>
                <a:ext cx="630000" cy="6426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632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过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TextBox 5"/>
            <p:cNvSpPr/>
            <p:nvPr/>
          </p:nvSpPr>
          <p:spPr>
            <a:xfrm rot="533400">
              <a:off x="5355000" y="295200"/>
              <a:ext cx="630000" cy="64260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5666000"/>
            </a:gradFill>
            <a:ln w="9360">
              <a:solidFill>
                <a:srgbClr val="7d60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63828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152712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2414520" y="1133640"/>
            <a:ext cx="9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30372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191120" y="1131840"/>
            <a:ext cx="95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508176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5969160" y="113364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6856560" y="1133640"/>
            <a:ext cx="95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7745400" y="1131840"/>
            <a:ext cx="9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4.81481E-006 L 0.04948 0.00124 E">
                                      <p:cBhvr>
                                        <p:cTn id="2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0.00124 L 0.12031 0.00124 E">
                                      <p:cBhvr>
                                        <p:cTn id="3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31 0.00124 L 0.22274 0.00124 E">
                                      <p:cBhvr>
                                        <p:cTn id="4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274 0.00124 L 0.30104 0.00124 E">
                                      <p:cBhvr>
                                        <p:cTn id="55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104 0.00124 L 0.38247 0.00124 E">
                                      <p:cBhvr>
                                        <p:cTn id="6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247 0.00124 L 0.49045 0.00124 E">
                                      <p:cBhvr>
                                        <p:cTn id="77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45 0.00124 L 0.56927 0.00124 E">
                                      <p:cBhvr>
                                        <p:cTn id="88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927 0.00124 L 0.65573 0.00124 E">
                                      <p:cBhvr>
                                        <p:cTn id="99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573 0.00124 L 0.77396 -0.02685 E">
                                      <p:cBhvr>
                                        <p:cTn id="11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3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3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4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4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4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66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6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6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合 10"/>
          <p:cNvGrpSpPr/>
          <p:nvPr/>
        </p:nvGrpSpPr>
        <p:grpSpPr>
          <a:xfrm>
            <a:off x="179280" y="369720"/>
            <a:ext cx="4264200" cy="925560"/>
            <a:chOff x="179280" y="369720"/>
            <a:chExt cx="4264200" cy="925560"/>
          </a:xfrm>
        </p:grpSpPr>
        <p:pic>
          <p:nvPicPr>
            <p:cNvPr id="317" name="Text Box 15" descr=""/>
            <p:cNvPicPr/>
            <p:nvPr/>
          </p:nvPicPr>
          <p:blipFill>
            <a:blip r:embed="rId1"/>
            <a:stretch/>
          </p:blipFill>
          <p:spPr>
            <a:xfrm>
              <a:off x="906480" y="369720"/>
              <a:ext cx="3537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图片 12" descr=""/>
            <p:cNvPicPr/>
            <p:nvPr/>
          </p:nvPicPr>
          <p:blipFill>
            <a:blip r:embed="rId2"/>
            <a:stretch/>
          </p:blipFill>
          <p:spPr>
            <a:xfrm>
              <a:off x="179280" y="444960"/>
              <a:ext cx="1041120" cy="78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矩形 4"/>
          <p:cNvSpPr/>
          <p:nvPr/>
        </p:nvSpPr>
        <p:spPr>
          <a:xfrm>
            <a:off x="282600" y="2219400"/>
            <a:ext cx="8572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象有一对大耳朵，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）的耷拉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象只要把他的大耳朵一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 ），就能把他们赶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"/>
          <p:cNvSpPr/>
          <p:nvPr/>
        </p:nvSpPr>
        <p:spPr>
          <a:xfrm>
            <a:off x="6080040" y="228456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7"/>
          <p:cNvSpPr/>
          <p:nvPr/>
        </p:nvSpPr>
        <p:spPr>
          <a:xfrm>
            <a:off x="5851440" y="155592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0"/>
          <p:cNvSpPr/>
          <p:nvPr/>
        </p:nvSpPr>
        <p:spPr>
          <a:xfrm>
            <a:off x="4740120" y="279252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2"/>
          <p:cNvSpPr/>
          <p:nvPr/>
        </p:nvSpPr>
        <p:spPr>
          <a:xfrm>
            <a:off x="4371840" y="224784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3"/>
          <p:cNvSpPr/>
          <p:nvPr/>
        </p:nvSpPr>
        <p:spPr>
          <a:xfrm>
            <a:off x="1768320" y="155412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14"/>
          <p:cNvSpPr/>
          <p:nvPr/>
        </p:nvSpPr>
        <p:spPr>
          <a:xfrm>
            <a:off x="3263760" y="155412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16"/>
          <p:cNvSpPr/>
          <p:nvPr/>
        </p:nvSpPr>
        <p:spPr>
          <a:xfrm>
            <a:off x="4448160" y="15541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6"/>
          <p:cNvSpPr/>
          <p:nvPr/>
        </p:nvSpPr>
        <p:spPr>
          <a:xfrm>
            <a:off x="866880" y="298440"/>
            <a:ext cx="714672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     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课时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课文内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明白故事的道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写好“扇、遇、痛”三个半包围结构的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合作目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学会倾听，熟练运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情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表演法和发言卡进行合作学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: 圆角 3"/>
          <p:cNvSpPr/>
          <p:nvPr/>
        </p:nvSpPr>
        <p:spPr>
          <a:xfrm>
            <a:off x="539640" y="298440"/>
            <a:ext cx="7632720" cy="4289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图片 4" descr=""/>
          <p:cNvPicPr/>
          <p:nvPr/>
        </p:nvPicPr>
        <p:blipFill>
          <a:blip r:embed="rId1"/>
          <a:stretch/>
        </p:blipFill>
        <p:spPr>
          <a:xfrm>
            <a:off x="6480" y="-142920"/>
            <a:ext cx="1184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 rot="16248600">
            <a:off x="5912640" y="129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6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3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51"/>
          <p:cNvSpPr/>
          <p:nvPr/>
        </p:nvSpPr>
        <p:spPr>
          <a:xfrm rot="16248600">
            <a:off x="5896800" y="341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4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44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4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4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7"/>
          <p:cNvSpPr/>
          <p:nvPr/>
        </p:nvSpPr>
        <p:spPr>
          <a:xfrm rot="18142800">
            <a:off x="6719760" y="3373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6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6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36"/>
          <p:cNvSpPr/>
          <p:nvPr/>
        </p:nvSpPr>
        <p:spPr>
          <a:xfrm rot="2809800">
            <a:off x="3863880" y="17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37"/>
          <p:cNvSpPr/>
          <p:nvPr/>
        </p:nvSpPr>
        <p:spPr>
          <a:xfrm rot="4009800">
            <a:off x="3863520" y="226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32"/>
          <p:cNvSpPr/>
          <p:nvPr/>
        </p:nvSpPr>
        <p:spPr>
          <a:xfrm rot="5400000">
            <a:off x="1190880" y="321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47"/>
          <p:cNvSpPr/>
          <p:nvPr/>
        </p:nvSpPr>
        <p:spPr>
          <a:xfrm rot="5220000">
            <a:off x="751680" y="2880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50"/>
          <p:cNvSpPr/>
          <p:nvPr/>
        </p:nvSpPr>
        <p:spPr>
          <a:xfrm rot="4020000">
            <a:off x="3751560" y="334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51"/>
          <p:cNvSpPr/>
          <p:nvPr/>
        </p:nvSpPr>
        <p:spPr>
          <a:xfrm rot="4020000">
            <a:off x="4122000" y="356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45"/>
          <p:cNvSpPr/>
          <p:nvPr/>
        </p:nvSpPr>
        <p:spPr>
          <a:xfrm rot="2809800">
            <a:off x="2280600" y="151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46"/>
          <p:cNvSpPr/>
          <p:nvPr/>
        </p:nvSpPr>
        <p:spPr>
          <a:xfrm rot="2809800">
            <a:off x="2651040" y="17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50"/>
          <p:cNvSpPr/>
          <p:nvPr/>
        </p:nvSpPr>
        <p:spPr>
          <a:xfrm rot="2809800">
            <a:off x="3125160" y="2389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51"/>
          <p:cNvSpPr/>
          <p:nvPr/>
        </p:nvSpPr>
        <p:spPr>
          <a:xfrm rot="2809800">
            <a:off x="3495240" y="260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32"/>
          <p:cNvSpPr/>
          <p:nvPr/>
        </p:nvSpPr>
        <p:spPr>
          <a:xfrm rot="5400000">
            <a:off x="4800960" y="3665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727200" y="1995480"/>
            <a:ext cx="813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象有一对大耳朵，像扇子似的耷拉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"/>
          <p:cNvSpPr/>
          <p:nvPr/>
        </p:nvSpPr>
        <p:spPr>
          <a:xfrm>
            <a:off x="6837480" y="2066760"/>
            <a:ext cx="874440" cy="541440"/>
          </a:xfrm>
          <a:prstGeom prst="ellips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4"/>
          <p:cNvSpPr/>
          <p:nvPr/>
        </p:nvSpPr>
        <p:spPr>
          <a:xfrm>
            <a:off x="5138640" y="2641680"/>
            <a:ext cx="1698840" cy="0"/>
          </a:xfrm>
          <a:prstGeom prst="line">
            <a:avLst/>
          </a:prstGeom>
          <a:ln w="38160">
            <a:solidFill>
              <a:srgbClr val="f692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9"/>
          <p:cNvSpPr/>
          <p:nvPr/>
        </p:nvSpPr>
        <p:spPr>
          <a:xfrm>
            <a:off x="6659640" y="2666880"/>
            <a:ext cx="13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下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图片 12" descr=""/>
          <p:cNvPicPr/>
          <p:nvPr/>
        </p:nvPicPr>
        <p:blipFill>
          <a:blip r:embed="rId1"/>
          <a:stretch/>
        </p:blipFill>
        <p:spPr>
          <a:xfrm>
            <a:off x="179280" y="369720"/>
            <a:ext cx="1049400" cy="925560"/>
          </a:xfrm>
          <a:prstGeom prst="rect">
            <a:avLst/>
          </a:prstGeom>
          <a:ln w="0">
            <a:noFill/>
          </a:ln>
        </p:spPr>
      </p:pic>
      <p:sp>
        <p:nvSpPr>
          <p:cNvPr id="432" name="矩形 4"/>
          <p:cNvSpPr/>
          <p:nvPr/>
        </p:nvSpPr>
        <p:spPr>
          <a:xfrm>
            <a:off x="826920" y="1203480"/>
            <a:ext cx="7775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齐读课文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然段，说说大象耳朵有什么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: 圆角 15"/>
          <p:cNvSpPr/>
          <p:nvPr/>
        </p:nvSpPr>
        <p:spPr>
          <a:xfrm>
            <a:off x="2341440" y="2114640"/>
            <a:ext cx="20289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图片 5" descr=""/>
          <p:cNvPicPr/>
          <p:nvPr/>
        </p:nvPicPr>
        <p:blipFill>
          <a:blip r:embed="rId2"/>
          <a:stretch/>
        </p:blipFill>
        <p:spPr>
          <a:xfrm rot="13050600">
            <a:off x="4374720" y="2650680"/>
            <a:ext cx="1498680" cy="1913040"/>
          </a:xfrm>
          <a:prstGeom prst="rect">
            <a:avLst/>
          </a:prstGeom>
          <a:ln w="0">
            <a:noFill/>
          </a:ln>
        </p:spPr>
      </p:pic>
      <p:grpSp>
        <p:nvGrpSpPr>
          <p:cNvPr id="435" name="组合 6"/>
          <p:cNvGrpSpPr/>
          <p:nvPr/>
        </p:nvGrpSpPr>
        <p:grpSpPr>
          <a:xfrm>
            <a:off x="704880" y="2809800"/>
            <a:ext cx="2820960" cy="2116080"/>
            <a:chOff x="704880" y="2809800"/>
            <a:chExt cx="2820960" cy="2116080"/>
          </a:xfrm>
        </p:grpSpPr>
        <p:pic>
          <p:nvPicPr>
            <p:cNvPr id="436" name="图片 3" descr=""/>
            <p:cNvPicPr/>
            <p:nvPr/>
          </p:nvPicPr>
          <p:blipFill>
            <a:blip r:embed="rId3"/>
            <a:stretch/>
          </p:blipFill>
          <p:spPr>
            <a:xfrm>
              <a:off x="704880" y="2809800"/>
              <a:ext cx="282096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椭圆 18"/>
            <p:cNvSpPr/>
            <p:nvPr/>
          </p:nvSpPr>
          <p:spPr>
            <a:xfrm>
              <a:off x="2116080" y="2825640"/>
              <a:ext cx="874800" cy="938160"/>
            </a:xfrm>
            <a:prstGeom prst="ellipse">
              <a:avLst/>
            </a:pr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图片 2" descr="IMG_20180406_173120"/>
          <p:cNvPicPr/>
          <p:nvPr/>
        </p:nvPicPr>
        <p:blipFill>
          <a:blip r:embed="rId4"/>
          <a:stretch/>
        </p:blipFill>
        <p:spPr>
          <a:xfrm>
            <a:off x="7737480" y="2771640"/>
            <a:ext cx="1376280" cy="19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3"/>
          <p:cNvGrpSpPr/>
          <p:nvPr/>
        </p:nvGrpSpPr>
        <p:grpSpPr>
          <a:xfrm>
            <a:off x="6305400" y="200160"/>
            <a:ext cx="2386080" cy="1269720"/>
            <a:chOff x="6305400" y="200160"/>
            <a:chExt cx="2386080" cy="1269720"/>
          </a:xfrm>
        </p:grpSpPr>
        <p:sp>
          <p:nvSpPr>
            <p:cNvPr id="440" name="思想气泡: 云 2"/>
            <p:cNvSpPr/>
            <p:nvPr/>
          </p:nvSpPr>
          <p:spPr>
            <a:xfrm>
              <a:off x="6305400" y="200160"/>
              <a:ext cx="2386080" cy="1269720"/>
            </a:xfrm>
            <a:prstGeom prst="cloudCallout">
              <a:avLst>
                <a:gd name="adj1" fmla="val -56824"/>
                <a:gd name="adj2" fmla="val 32064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 Box 6"/>
            <p:cNvSpPr/>
            <p:nvPr/>
          </p:nvSpPr>
          <p:spPr>
            <a:xfrm>
              <a:off x="6491160" y="386640"/>
              <a:ext cx="20142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我会阅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2" name="文本框 8"/>
          <p:cNvSpPr/>
          <p:nvPr/>
        </p:nvSpPr>
        <p:spPr>
          <a:xfrm>
            <a:off x="896760" y="1695600"/>
            <a:ext cx="60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大象遇到了哪些朋友？都说了什么？请将朋友名字画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圈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说的话语画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横线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9"/>
          <p:cNvSpPr/>
          <p:nvPr/>
        </p:nvSpPr>
        <p:spPr>
          <a:xfrm>
            <a:off x="434880" y="200160"/>
            <a:ext cx="55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小声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-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Administrator</dc:creator>
  <dc:description>添加备注</dc:description>
  <cp:keywords>添加标记</cp:keywords>
  <dc:language>en-US</dc:language>
  <cp:lastModifiedBy>Administrator</cp:lastModifiedBy>
  <dcterms:modified xsi:type="dcterms:W3CDTF">2018-04-22T12:26:41Z</dcterms:modified>
  <cp:revision>779</cp:revision>
  <dc:subject>1</dc:subject>
  <dc:title>幻灯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来源">
    <vt:lpwstr>状元成才路系列</vt:lpwstr>
  </property>
</Properties>
</file>