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0.gif" ContentType="image/gif"/>
  <Override PartName="/ppt/media/image21.png" ContentType="image/png"/>
  <Override PartName="/ppt/media/image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71B-2F5A-413F-B117-A988375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843D-3003-499A-B026-BAF812D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35D-397C-4B60-BC1A-F4B427B6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27E-B6E7-4B0F-A9FC-0E71C844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E9A-9E1D-4563-8483-AED8809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71E-56CE-4B77-864F-49168CAE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966-CEC2-4168-9BEB-97B9C12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563-4862-4CF3-A882-4103220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D58-88B4-41CB-8234-A2C39307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266-CB51-414F-8E54-ACA402AA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666-EC45-4FA5-8BC5-8772FB9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2AB-2AF0-4BED-98A2-DA775A86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08F-E7EB-4D91-B280-B1505257CB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AF]3PDI@IM%D%WXALZ1X8NN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4343"/>
          <p:cNvSpPr/>
          <p:nvPr/>
        </p:nvSpPr>
        <p:spPr>
          <a:xfrm>
            <a:off x="441360" y="484020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4416480" y="2127240"/>
            <a:ext cx="3110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矩形 11" descr=""/>
          <p:cNvPicPr/>
          <p:nvPr/>
        </p:nvPicPr>
        <p:blipFill>
          <a:blip r:embed="rId2"/>
          <a:stretch/>
        </p:blipFill>
        <p:spPr>
          <a:xfrm>
            <a:off x="1011240" y="1339920"/>
            <a:ext cx="77421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"/>
          <p:cNvGrpSpPr/>
          <p:nvPr/>
        </p:nvGrpSpPr>
        <p:grpSpPr>
          <a:xfrm>
            <a:off x="250920" y="1924200"/>
            <a:ext cx="8653320" cy="1542240"/>
            <a:chOff x="250920" y="1924200"/>
            <a:chExt cx="8653320" cy="1542240"/>
          </a:xfrm>
        </p:grpSpPr>
        <p:sp>
          <p:nvSpPr>
            <p:cNvPr id="195" name="TextBox 2"/>
            <p:cNvSpPr/>
            <p:nvPr/>
          </p:nvSpPr>
          <p:spPr>
            <a:xfrm>
              <a:off x="250920" y="2093040"/>
              <a:ext cx="8519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熊   用 喇叭 大 声  喊：“大家注意，动  物 王  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要开大会，请  你 们 都 参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4"/>
            <p:cNvSpPr/>
            <p:nvPr/>
          </p:nvSpPr>
          <p:spPr>
            <a:xfrm>
              <a:off x="250920" y="2639880"/>
              <a:ext cx="53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ào kāi dà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nǐ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ōu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TextBox 5"/>
            <p:cNvSpPr/>
            <p:nvPr/>
          </p:nvSpPr>
          <p:spPr>
            <a:xfrm>
              <a:off x="480960" y="1924200"/>
              <a:ext cx="84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bɑ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 ji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hù y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á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Box 7"/>
          <p:cNvSpPr/>
          <p:nvPr/>
        </p:nvSpPr>
        <p:spPr>
          <a:xfrm>
            <a:off x="3132000" y="33480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34920">
            <a:solidFill>
              <a:srgbClr val="00b050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一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595960" y="1276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次狗熊怎么通知大家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http://pic2.ooopic.com/11/35/69/25bOOOPICe3.jpg"/>
          <p:cNvPicPr/>
          <p:nvPr/>
        </p:nvPicPr>
        <p:blipFill>
          <a:blip r:embed="rId2"/>
          <a:stretch/>
        </p:blipFill>
        <p:spPr>
          <a:xfrm>
            <a:off x="4189320" y="2639880"/>
            <a:ext cx="3494160" cy="21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2"/>
          <p:cNvGrpSpPr/>
          <p:nvPr/>
        </p:nvGrpSpPr>
        <p:grpSpPr>
          <a:xfrm>
            <a:off x="1536840" y="155520"/>
            <a:ext cx="5543280" cy="2595240"/>
            <a:chOff x="1536840" y="155520"/>
            <a:chExt cx="5543280" cy="2595240"/>
          </a:xfrm>
        </p:grpSpPr>
        <p:pic>
          <p:nvPicPr>
            <p:cNvPr id="202" name="Picture 2" descr="http://pic38.nipic.com/20140228/2531170_153015453000_2.jpg"/>
            <p:cNvPicPr/>
            <p:nvPr/>
          </p:nvPicPr>
          <p:blipFill>
            <a:blip r:embed="rId2"/>
            <a:srcRect l="0" t="0" r="0" b="4885"/>
            <a:stretch/>
          </p:blipFill>
          <p:spPr>
            <a:xfrm>
              <a:off x="2698560" y="155520"/>
              <a:ext cx="2828880" cy="25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"/>
            <p:cNvSpPr/>
            <p:nvPr/>
          </p:nvSpPr>
          <p:spPr>
            <a:xfrm>
              <a:off x="1536840" y="1595160"/>
              <a:ext cx="5543280" cy="733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大家注意，动物王国要开大会，请你们都参加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4" name="Picture 4" descr="http://www.qqmofasi.com/data/attachments/2014/06/06/78_C302TKENx2zqdUTQEDhu_large.jpg"/>
          <p:cNvPicPr/>
          <p:nvPr/>
        </p:nvPicPr>
        <p:blipFill>
          <a:blip r:embed="rId3"/>
          <a:srcRect l="19540" t="0" r="18935" b="0"/>
          <a:stretch/>
        </p:blipFill>
        <p:spPr>
          <a:xfrm>
            <a:off x="6961320" y="3014640"/>
            <a:ext cx="2182680" cy="2129040"/>
          </a:xfrm>
          <a:prstGeom prst="rect">
            <a:avLst/>
          </a:prstGeom>
          <a:ln w="0">
            <a:noFill/>
          </a:ln>
        </p:spPr>
      </p:pic>
      <p:sp>
        <p:nvSpPr>
          <p:cNvPr id="205" name="椭圆形标注 3"/>
          <p:cNvSpPr/>
          <p:nvPr/>
        </p:nvSpPr>
        <p:spPr>
          <a:xfrm>
            <a:off x="3851280" y="2919240"/>
            <a:ext cx="2624040" cy="1320840"/>
          </a:xfrm>
          <a:prstGeom prst="wedgeEllipseCallout">
            <a:avLst>
              <a:gd name="adj1" fmla="val 67958"/>
              <a:gd name="adj2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说一百遍，大会也开不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5"/>
          <p:cNvGrpSpPr/>
          <p:nvPr/>
        </p:nvGrpSpPr>
        <p:grpSpPr>
          <a:xfrm>
            <a:off x="0" y="3236760"/>
            <a:ext cx="4097520" cy="1683000"/>
            <a:chOff x="0" y="3236760"/>
            <a:chExt cx="4097520" cy="1683000"/>
          </a:xfrm>
        </p:grpSpPr>
        <p:pic>
          <p:nvPicPr>
            <p:cNvPr id="207" name="Picture 6" descr="http://pic2.sc.chinaz.com/Files/pic/faces/2953/11.gif"/>
            <p:cNvPicPr/>
            <p:nvPr/>
          </p:nvPicPr>
          <p:blipFill>
            <a:blip r:embed="rId4"/>
            <a:stretch/>
          </p:blipFill>
          <p:spPr>
            <a:xfrm>
              <a:off x="0" y="3236760"/>
              <a:ext cx="168264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Box 4"/>
            <p:cNvSpPr/>
            <p:nvPr/>
          </p:nvSpPr>
          <p:spPr>
            <a:xfrm>
              <a:off x="1996560" y="42400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为什么狐狸这么说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直接连接符 7"/>
          <p:cNvSpPr/>
          <p:nvPr/>
        </p:nvSpPr>
        <p:spPr>
          <a:xfrm>
            <a:off x="4064040" y="2243160"/>
            <a:ext cx="2763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16"/>
          <p:cNvGrpSpPr/>
          <p:nvPr/>
        </p:nvGrpSpPr>
        <p:grpSpPr>
          <a:xfrm>
            <a:off x="7236000" y="1623960"/>
            <a:ext cx="1439640" cy="798480"/>
            <a:chOff x="7236000" y="1623960"/>
            <a:chExt cx="1439640" cy="798480"/>
          </a:xfrm>
        </p:grpSpPr>
        <p:sp>
          <p:nvSpPr>
            <p:cNvPr id="211" name="心形 14"/>
            <p:cNvSpPr/>
            <p:nvPr/>
          </p:nvSpPr>
          <p:spPr>
            <a:xfrm>
              <a:off x="7236000" y="1623960"/>
              <a:ext cx="1439640" cy="798480"/>
            </a:xfrm>
            <a:custGeom>
              <a:avLst/>
              <a:gdLst>
                <a:gd name="textAreaLeft" fmla="*/ 239760 w 1439640"/>
                <a:gd name="textAreaRight" fmla="*/ 1199880 w 1439640"/>
                <a:gd name="textAreaTop" fmla="*/ 199440 h 798480"/>
                <a:gd name="textAreaBottom" fmla="*/ 532440 h 798480"/>
              </a:gdLst>
              <a:ahLst/>
              <a:rect l="textAreaLeft" t="textAreaTop" r="textAreaRight" b="textAreaBottom"/>
              <a:pathLst>
                <a:path w="1440160" h="797640">
                  <a:moveTo>
                    <a:pt x="720080" y="199410"/>
                  </a:moveTo>
                  <a:cubicBezTo>
                    <a:pt x="1020113" y="-265880"/>
                    <a:pt x="2190243" y="199410"/>
                    <a:pt x="720080" y="797640"/>
                  </a:cubicBezTo>
                  <a:cubicBezTo>
                    <a:pt x="-750083" y="199410"/>
                    <a:pt x="420047" y="-265880"/>
                    <a:pt x="720080" y="1994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5"/>
            <p:cNvSpPr/>
            <p:nvPr/>
          </p:nvSpPr>
          <p:spPr>
            <a:xfrm>
              <a:off x="7451640" y="1764000"/>
              <a:ext cx="12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事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20"/>
          <p:cNvGrpSpPr/>
          <p:nvPr/>
        </p:nvGrpSpPr>
        <p:grpSpPr>
          <a:xfrm>
            <a:off x="127080" y="2127240"/>
            <a:ext cx="1530360" cy="1209600"/>
            <a:chOff x="127080" y="2127240"/>
            <a:chExt cx="1530360" cy="1209600"/>
          </a:xfrm>
        </p:grpSpPr>
        <p:sp>
          <p:nvSpPr>
            <p:cNvPr id="214" name="心形 21"/>
            <p:cNvSpPr/>
            <p:nvPr/>
          </p:nvSpPr>
          <p:spPr>
            <a:xfrm>
              <a:off x="127080" y="2127240"/>
              <a:ext cx="1440000" cy="1209600"/>
            </a:xfrm>
            <a:custGeom>
              <a:avLst/>
              <a:gdLst>
                <a:gd name="textAreaLeft" fmla="*/ 239760 w 1440000"/>
                <a:gd name="textAreaRight" fmla="*/ 1200240 w 1440000"/>
                <a:gd name="textAreaTop" fmla="*/ 302400 h 1209600"/>
                <a:gd name="textAreaBottom" fmla="*/ 806400 h 1209600"/>
              </a:gdLst>
              <a:ahLst/>
              <a:rect l="textAreaLeft" t="textAreaTop" r="textAreaRight" b="textAreaBottom"/>
              <a:pathLst>
                <a:path w="1440463" h="1209881">
                  <a:moveTo>
                    <a:pt x="720232" y="302470"/>
                  </a:moveTo>
                  <a:cubicBezTo>
                    <a:pt x="1020328" y="-403294"/>
                    <a:pt x="2190704" y="302470"/>
                    <a:pt x="720232" y="1209881"/>
                  </a:cubicBezTo>
                  <a:cubicBezTo>
                    <a:pt x="-750241" y="302470"/>
                    <a:pt x="420135" y="-403294"/>
                    <a:pt x="720232" y="30247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22"/>
            <p:cNvSpPr/>
            <p:nvPr/>
          </p:nvSpPr>
          <p:spPr>
            <a:xfrm>
              <a:off x="433800" y="2239920"/>
              <a:ext cx="12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黑体"/>
                  <a:ea typeface="黑体"/>
                </a:rPr>
                <a:t>参加人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直接连接符 23"/>
          <p:cNvSpPr/>
          <p:nvPr/>
        </p:nvSpPr>
        <p:spPr>
          <a:xfrm>
            <a:off x="1900080" y="2836800"/>
            <a:ext cx="798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http://pic.58pic.com/58pic/15/37/84/26v58PICTrX_1024.jpg"/>
          <p:cNvPicPr/>
          <p:nvPr/>
        </p:nvPicPr>
        <p:blipFill>
          <a:blip r:embed="rId2"/>
          <a:srcRect l="2473" t="0" r="0" b="0"/>
          <a:stretch/>
        </p:blipFill>
        <p:spPr>
          <a:xfrm>
            <a:off x="4680" y="339840"/>
            <a:ext cx="8831520" cy="44701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"/>
          <p:cNvSpPr/>
          <p:nvPr/>
        </p:nvSpPr>
        <p:spPr>
          <a:xfrm>
            <a:off x="1076400" y="1631880"/>
            <a:ext cx="7056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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狗熊的喊话只通知了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________________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这件事和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_________________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并没有说明大会召开的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__________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5654520" y="17035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动物王国要开大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3249720" y="2386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参加会议的成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3386160" y="299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34920">
            <a:solidFill>
              <a:srgbClr val="00b050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二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组合 13"/>
          <p:cNvGrpSpPr/>
          <p:nvPr/>
        </p:nvGrpSpPr>
        <p:grpSpPr>
          <a:xfrm>
            <a:off x="539640" y="1779480"/>
            <a:ext cx="8874360" cy="1542600"/>
            <a:chOff x="539640" y="1779480"/>
            <a:chExt cx="8874360" cy="1542600"/>
          </a:xfrm>
        </p:grpSpPr>
        <p:sp>
          <p:nvSpPr>
            <p:cNvPr id="224" name="TextBox 2"/>
            <p:cNvSpPr/>
            <p:nvPr/>
          </p:nvSpPr>
          <p:spPr>
            <a:xfrm>
              <a:off x="539640" y="1948680"/>
              <a:ext cx="8766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   熊 又  用 喇叭 大 声  喊：“大家 注意，动  物 王 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要在  明 天  开大会，请  你 们 都 参 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15"/>
            <p:cNvSpPr/>
            <p:nvPr/>
          </p:nvSpPr>
          <p:spPr>
            <a:xfrm>
              <a:off x="539640" y="2496960"/>
              <a:ext cx="87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ó yào zài mí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tiān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nǐ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ōu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769680" y="1779480"/>
              <a:ext cx="864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 bā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 ji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hù y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án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"/>
          <p:cNvGrpSpPr/>
          <p:nvPr/>
        </p:nvGrpSpPr>
        <p:grpSpPr>
          <a:xfrm>
            <a:off x="1547640" y="50760"/>
            <a:ext cx="5545440" cy="2813400"/>
            <a:chOff x="1547640" y="50760"/>
            <a:chExt cx="5545440" cy="2813400"/>
          </a:xfrm>
        </p:grpSpPr>
        <p:pic>
          <p:nvPicPr>
            <p:cNvPr id="228" name="Picture 2" descr="http://pic38.nipic.com/20140228/2531170_153015453000_2.jpg"/>
            <p:cNvPicPr/>
            <p:nvPr/>
          </p:nvPicPr>
          <p:blipFill>
            <a:blip r:embed="rId2"/>
            <a:srcRect l="0" t="0" r="0" b="4885"/>
            <a:stretch/>
          </p:blipFill>
          <p:spPr>
            <a:xfrm>
              <a:off x="2710080" y="50760"/>
              <a:ext cx="282996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3"/>
            <p:cNvSpPr/>
            <p:nvPr/>
          </p:nvSpPr>
          <p:spPr>
            <a:xfrm>
              <a:off x="1547640" y="1490760"/>
              <a:ext cx="5545440" cy="1373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大家注意，动物王国要在明天开大会，请你们都参加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Box 4"/>
          <p:cNvSpPr/>
          <p:nvPr/>
        </p:nvSpPr>
        <p:spPr>
          <a:xfrm>
            <a:off x="1620720" y="3724200"/>
            <a:ext cx="7777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看看大狗熊的通知，思考为什么这次大灰狼又说大会开不了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1"/>
          <p:cNvGrpSpPr/>
          <p:nvPr/>
        </p:nvGrpSpPr>
        <p:grpSpPr>
          <a:xfrm>
            <a:off x="-34920" y="3003480"/>
            <a:ext cx="1582560" cy="2395440"/>
            <a:chOff x="-34920" y="3003480"/>
            <a:chExt cx="1582560" cy="2395440"/>
          </a:xfrm>
        </p:grpSpPr>
        <p:pic>
          <p:nvPicPr>
            <p:cNvPr id="232" name="Picture 2" descr="http://www.hui-ben.com/yiwu/20150207/news_img/20121018170453.jpg"/>
            <p:cNvPicPr/>
            <p:nvPr/>
          </p:nvPicPr>
          <p:blipFill>
            <a:blip r:embed="rId3"/>
            <a:stretch/>
          </p:blipFill>
          <p:spPr>
            <a:xfrm>
              <a:off x="-34920" y="3003480"/>
              <a:ext cx="1582560" cy="20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Box 2"/>
            <p:cNvSpPr/>
            <p:nvPr/>
          </p:nvSpPr>
          <p:spPr>
            <a:xfrm>
              <a:off x="388800" y="5059440"/>
              <a:ext cx="9320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7"/>
          <p:cNvGrpSpPr/>
          <p:nvPr/>
        </p:nvGrpSpPr>
        <p:grpSpPr>
          <a:xfrm>
            <a:off x="1908000" y="2787480"/>
            <a:ext cx="2160720" cy="1081080"/>
            <a:chOff x="1908000" y="2787480"/>
            <a:chExt cx="2160720" cy="1081080"/>
          </a:xfrm>
        </p:grpSpPr>
        <p:sp>
          <p:nvSpPr>
            <p:cNvPr id="235" name="圆角矩形标注 5"/>
            <p:cNvSpPr/>
            <p:nvPr/>
          </p:nvSpPr>
          <p:spPr>
            <a:xfrm>
              <a:off x="1908000" y="2787480"/>
              <a:ext cx="2160720" cy="1081080"/>
            </a:xfrm>
            <a:prstGeom prst="wedgeRoundRectCallout">
              <a:avLst>
                <a:gd name="adj1" fmla="val -74569"/>
                <a:gd name="adj2" fmla="val 41083"/>
                <a:gd name="adj3" fmla="val 16667"/>
              </a:avLst>
            </a:prstGeom>
            <a:noFill/>
            <a:ln w="25560">
              <a:solidFill>
                <a:srgbClr val="0000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6"/>
            <p:cNvSpPr/>
            <p:nvPr/>
          </p:nvSpPr>
          <p:spPr>
            <a:xfrm>
              <a:off x="1908000" y="285084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你说一百遍，大会也开不起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://www.hui-ben.com/yiwu/20150207/news_img/20121018170453.jpg"/>
          <p:cNvPicPr/>
          <p:nvPr/>
        </p:nvPicPr>
        <p:blipFill>
          <a:blip r:embed="rId2"/>
          <a:stretch/>
        </p:blipFill>
        <p:spPr>
          <a:xfrm>
            <a:off x="539640" y="1203480"/>
            <a:ext cx="2151000" cy="310824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7"/>
          <p:cNvGrpSpPr/>
          <p:nvPr/>
        </p:nvGrpSpPr>
        <p:grpSpPr>
          <a:xfrm>
            <a:off x="3419640" y="700200"/>
            <a:ext cx="3889080" cy="1511280"/>
            <a:chOff x="3419640" y="700200"/>
            <a:chExt cx="3889080" cy="1511280"/>
          </a:xfrm>
        </p:grpSpPr>
        <p:sp>
          <p:nvSpPr>
            <p:cNvPr id="239" name="圆角矩形标注 5"/>
            <p:cNvSpPr/>
            <p:nvPr/>
          </p:nvSpPr>
          <p:spPr>
            <a:xfrm>
              <a:off x="3419640" y="700200"/>
              <a:ext cx="3889080" cy="1511280"/>
            </a:xfrm>
            <a:prstGeom prst="wedgeRoundRectCallout">
              <a:avLst>
                <a:gd name="adj1" fmla="val -74569"/>
                <a:gd name="adj2" fmla="val 41083"/>
                <a:gd name="adj3" fmla="val 16667"/>
              </a:avLst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6"/>
            <p:cNvSpPr/>
            <p:nvPr/>
          </p:nvSpPr>
          <p:spPr>
            <a:xfrm>
              <a:off x="3419640" y="788760"/>
              <a:ext cx="38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因为你没告诉大家，在明天什么时候开，上午还是下午，几点钟开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Box 8"/>
          <p:cNvSpPr/>
          <p:nvPr/>
        </p:nvSpPr>
        <p:spPr>
          <a:xfrm>
            <a:off x="2824200" y="2355840"/>
            <a:ext cx="5675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大灰狼的话指出了狗熊通知的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时间不具体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，大家不知道大会明天几点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13"/>
          <p:cNvGrpSpPr/>
          <p:nvPr/>
        </p:nvGrpSpPr>
        <p:grpSpPr>
          <a:xfrm>
            <a:off x="146160" y="1276200"/>
            <a:ext cx="8889840" cy="1542600"/>
            <a:chOff x="146160" y="1276200"/>
            <a:chExt cx="8889840" cy="1542600"/>
          </a:xfrm>
        </p:grpSpPr>
        <p:sp>
          <p:nvSpPr>
            <p:cNvPr id="243" name="TextBox 2"/>
            <p:cNvSpPr/>
            <p:nvPr/>
          </p:nvSpPr>
          <p:spPr>
            <a:xfrm>
              <a:off x="146160" y="1445400"/>
              <a:ext cx="88898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 熊  又  用 喇叭 大 声  喊：“大家 注意，动  物 王  国要 在  明 天   上  午八点  开大会，请  你 们 都 参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5"/>
            <p:cNvSpPr/>
            <p:nvPr/>
          </p:nvSpPr>
          <p:spPr>
            <a:xfrm>
              <a:off x="146160" y="1994040"/>
              <a:ext cx="86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ó yào zài mí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tiān shà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ǔ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iǎn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nǐ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ōu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Box 16"/>
            <p:cNvSpPr/>
            <p:nvPr/>
          </p:nvSpPr>
          <p:spPr>
            <a:xfrm>
              <a:off x="212760" y="1276200"/>
              <a:ext cx="872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 ji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hù y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án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34920">
            <a:solidFill>
              <a:srgbClr val="00b050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三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20348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组合 1"/>
          <p:cNvGrpSpPr/>
          <p:nvPr/>
        </p:nvGrpSpPr>
        <p:grpSpPr>
          <a:xfrm>
            <a:off x="1547640" y="50760"/>
            <a:ext cx="5545440" cy="2813400"/>
            <a:chOff x="1547640" y="50760"/>
            <a:chExt cx="5545440" cy="2813400"/>
          </a:xfrm>
        </p:grpSpPr>
        <p:pic>
          <p:nvPicPr>
            <p:cNvPr id="250" name="Picture 2" descr="http://pic38.nipic.com/20140228/2531170_153015453000_2.jpg"/>
            <p:cNvPicPr/>
            <p:nvPr/>
          </p:nvPicPr>
          <p:blipFill>
            <a:blip r:embed="rId1"/>
            <a:srcRect l="0" t="0" r="0" b="4885"/>
            <a:stretch/>
          </p:blipFill>
          <p:spPr>
            <a:xfrm>
              <a:off x="2710080" y="50760"/>
              <a:ext cx="282996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3"/>
            <p:cNvSpPr/>
            <p:nvPr/>
          </p:nvSpPr>
          <p:spPr>
            <a:xfrm>
              <a:off x="1547640" y="1490760"/>
              <a:ext cx="5545440" cy="1373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大家注意，动物王国要在明天上午八点开大会，请你们都参加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4"/>
          <p:cNvSpPr/>
          <p:nvPr/>
        </p:nvSpPr>
        <p:spPr>
          <a:xfrm>
            <a:off x="2009520" y="34354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现在大家能按时来参加森林大会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1"/>
          <p:cNvGrpSpPr/>
          <p:nvPr/>
        </p:nvGrpSpPr>
        <p:grpSpPr>
          <a:xfrm>
            <a:off x="1123920" y="411120"/>
            <a:ext cx="2808360" cy="1484280"/>
            <a:chOff x="1123920" y="411120"/>
            <a:chExt cx="2808360" cy="1484280"/>
          </a:xfrm>
        </p:grpSpPr>
        <p:sp>
          <p:nvSpPr>
            <p:cNvPr id="254" name="云形标注 2"/>
            <p:cNvSpPr/>
            <p:nvPr/>
          </p:nvSpPr>
          <p:spPr>
            <a:xfrm>
              <a:off x="1123920" y="411120"/>
              <a:ext cx="2808360" cy="1484280"/>
            </a:xfrm>
            <a:prstGeom prst="cloudCallout">
              <a:avLst>
                <a:gd name="adj1" fmla="val -39060"/>
                <a:gd name="adj2" fmla="val 72416"/>
              </a:avLst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3"/>
            <p:cNvSpPr/>
            <p:nvPr/>
          </p:nvSpPr>
          <p:spPr>
            <a:xfrm>
              <a:off x="1465200" y="728640"/>
              <a:ext cx="246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为什么不能？是谁说出了原因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6" name="Picture 7" descr="http://www.ppt123.net/beijing/UploadFiles_8374/201203/2012032517501559.jpg"/>
          <p:cNvPicPr/>
          <p:nvPr/>
        </p:nvPicPr>
        <p:blipFill>
          <a:blip r:embed="rId2"/>
          <a:stretch/>
        </p:blipFill>
        <p:spPr>
          <a:xfrm>
            <a:off x="0" y="2284560"/>
            <a:ext cx="2247840" cy="20858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9"/>
          <p:cNvSpPr/>
          <p:nvPr/>
        </p:nvSpPr>
        <p:spPr>
          <a:xfrm>
            <a:off x="52560" y="-135000"/>
            <a:ext cx="304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5"/>
          <p:cNvGrpSpPr/>
          <p:nvPr/>
        </p:nvGrpSpPr>
        <p:grpSpPr>
          <a:xfrm>
            <a:off x="7113600" y="1806480"/>
            <a:ext cx="2054160" cy="3283200"/>
            <a:chOff x="7113600" y="1806480"/>
            <a:chExt cx="2054160" cy="3283200"/>
          </a:xfrm>
        </p:grpSpPr>
        <p:pic>
          <p:nvPicPr>
            <p:cNvPr id="259" name="Picture 11" descr="http://img1.juimg.com/141207/330520-14120H33I084.jpg"/>
            <p:cNvPicPr/>
            <p:nvPr/>
          </p:nvPicPr>
          <p:blipFill>
            <a:blip r:embed="rId3"/>
            <a:stretch/>
          </p:blipFill>
          <p:spPr>
            <a:xfrm>
              <a:off x="7113600" y="2329560"/>
              <a:ext cx="2054160" cy="27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Box 8"/>
            <p:cNvSpPr/>
            <p:nvPr/>
          </p:nvSpPr>
          <p:spPr>
            <a:xfrm>
              <a:off x="7603200" y="1806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梅花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椭圆形标注 6"/>
          <p:cNvSpPr/>
          <p:nvPr/>
        </p:nvSpPr>
        <p:spPr>
          <a:xfrm>
            <a:off x="4286160" y="1139760"/>
            <a:ext cx="2737080" cy="1513080"/>
          </a:xfrm>
          <a:prstGeom prst="wedgeEllipseCallout">
            <a:avLst>
              <a:gd name="adj1" fmla="val 64462"/>
              <a:gd name="adj2" fmla="val 6124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会在哪儿开呀？你得说清楚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2668680" y="3197160"/>
            <a:ext cx="396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狗熊的通知没有告诉大家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开会的地点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13"/>
          <p:cNvGrpSpPr/>
          <p:nvPr/>
        </p:nvGrpSpPr>
        <p:grpSpPr>
          <a:xfrm>
            <a:off x="101520" y="1808280"/>
            <a:ext cx="8929800" cy="1542600"/>
            <a:chOff x="101520" y="1808280"/>
            <a:chExt cx="8929800" cy="1542600"/>
          </a:xfrm>
        </p:grpSpPr>
        <p:sp>
          <p:nvSpPr>
            <p:cNvPr id="264" name="TextBox 2"/>
            <p:cNvSpPr/>
            <p:nvPr/>
          </p:nvSpPr>
          <p:spPr>
            <a:xfrm>
              <a:off x="101520" y="1977480"/>
              <a:ext cx="8893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熊   又 用 喇叭 大 声  喊：“ 明  天  上  午八 点，在森 林 广    场  开大会，请大 家 准 时 参 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5"/>
            <p:cNvSpPr/>
            <p:nvPr/>
          </p:nvSpPr>
          <p:spPr>
            <a:xfrm>
              <a:off x="101520" y="2525760"/>
              <a:ext cx="78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ē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í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ǎnɡ chǎnɡ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 dà jiā zhǔ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í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16"/>
            <p:cNvSpPr/>
            <p:nvPr/>
          </p:nvSpPr>
          <p:spPr>
            <a:xfrm>
              <a:off x="331560" y="1808280"/>
              <a:ext cx="86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ínɡ tiān shànɡ wǔ  bā diǎn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à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34920">
            <a:solidFill>
              <a:srgbClr val="00b050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四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K)H]G{MOW3SC1TJHX~~2C`Q"/>
          <p:cNvPicPr/>
          <p:nvPr/>
        </p:nvPicPr>
        <p:blipFill>
          <a:blip r:embed="rId1"/>
          <a:stretch/>
        </p:blipFill>
        <p:spPr>
          <a:xfrm>
            <a:off x="-12600" y="-28440"/>
            <a:ext cx="9171000" cy="518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1044720" y="116856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朋友们，你们喜欢小动物吗？最喜欢什么动物？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"/>
          <p:cNvGrpSpPr/>
          <p:nvPr/>
        </p:nvGrpSpPr>
        <p:grpSpPr>
          <a:xfrm>
            <a:off x="1382760" y="123840"/>
            <a:ext cx="5276880" cy="2812680"/>
            <a:chOff x="1382760" y="123840"/>
            <a:chExt cx="5276880" cy="2812680"/>
          </a:xfrm>
        </p:grpSpPr>
        <p:pic>
          <p:nvPicPr>
            <p:cNvPr id="269" name="Picture 2" descr="http://pic38.nipic.com/20140228/2531170_153015453000_2.jpg"/>
            <p:cNvPicPr/>
            <p:nvPr/>
          </p:nvPicPr>
          <p:blipFill>
            <a:blip r:embed="rId2"/>
            <a:srcRect l="0" t="0" r="0" b="4885"/>
            <a:stretch/>
          </p:blipFill>
          <p:spPr>
            <a:xfrm>
              <a:off x="2544840" y="123840"/>
              <a:ext cx="2829240" cy="25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3"/>
            <p:cNvSpPr/>
            <p:nvPr/>
          </p:nvSpPr>
          <p:spPr>
            <a:xfrm>
              <a:off x="1382760" y="1563120"/>
              <a:ext cx="5276880" cy="1373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明天上午八点，在森林广场开大会，请大家准时参加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直接连接符 5"/>
          <p:cNvSpPr/>
          <p:nvPr/>
        </p:nvSpPr>
        <p:spPr>
          <a:xfrm>
            <a:off x="2211480" y="2255760"/>
            <a:ext cx="206856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8"/>
          <p:cNvGrpSpPr/>
          <p:nvPr/>
        </p:nvGrpSpPr>
        <p:grpSpPr>
          <a:xfrm>
            <a:off x="6553080" y="3189240"/>
            <a:ext cx="1317600" cy="1603440"/>
            <a:chOff x="6553080" y="3189240"/>
            <a:chExt cx="1317600" cy="1603440"/>
          </a:xfrm>
        </p:grpSpPr>
        <p:pic>
          <p:nvPicPr>
            <p:cNvPr id="273" name="图片 13" descr=""/>
            <p:cNvPicPr/>
            <p:nvPr/>
          </p:nvPicPr>
          <p:blipFill>
            <a:blip r:embed="rId3"/>
            <a:srcRect l="66739" t="0" r="0" b="50006"/>
            <a:stretch/>
          </p:blipFill>
          <p:spPr>
            <a:xfrm>
              <a:off x="6553080" y="3189240"/>
              <a:ext cx="13176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矩形 16"/>
            <p:cNvSpPr/>
            <p:nvPr/>
          </p:nvSpPr>
          <p:spPr>
            <a:xfrm>
              <a:off x="6989760" y="3900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人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17"/>
          <p:cNvGrpSpPr/>
          <p:nvPr/>
        </p:nvGrpSpPr>
        <p:grpSpPr>
          <a:xfrm>
            <a:off x="900000" y="3268800"/>
            <a:ext cx="1311480" cy="1603080"/>
            <a:chOff x="900000" y="3268800"/>
            <a:chExt cx="1311480" cy="1603080"/>
          </a:xfrm>
        </p:grpSpPr>
        <p:pic>
          <p:nvPicPr>
            <p:cNvPr id="276" name="图片 6" descr=""/>
            <p:cNvPicPr/>
            <p:nvPr/>
          </p:nvPicPr>
          <p:blipFill>
            <a:blip r:embed="rId4"/>
            <a:srcRect l="0" t="0" r="66921" b="50006"/>
            <a:stretch/>
          </p:blipFill>
          <p:spPr>
            <a:xfrm>
              <a:off x="900000" y="3268800"/>
              <a:ext cx="1311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矩形 19"/>
            <p:cNvSpPr/>
            <p:nvPr/>
          </p:nvSpPr>
          <p:spPr>
            <a:xfrm>
              <a:off x="1298160" y="398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20"/>
          <p:cNvGrpSpPr/>
          <p:nvPr/>
        </p:nvGrpSpPr>
        <p:grpSpPr>
          <a:xfrm>
            <a:off x="2867040" y="3189240"/>
            <a:ext cx="1319040" cy="1603440"/>
            <a:chOff x="2867040" y="3189240"/>
            <a:chExt cx="1319040" cy="1603440"/>
          </a:xfrm>
        </p:grpSpPr>
        <p:pic>
          <p:nvPicPr>
            <p:cNvPr id="279" name="图片 7" descr=""/>
            <p:cNvPicPr/>
            <p:nvPr/>
          </p:nvPicPr>
          <p:blipFill>
            <a:blip r:embed="rId5"/>
            <a:srcRect l="66739" t="0" r="0" b="50006"/>
            <a:stretch/>
          </p:blipFill>
          <p:spPr>
            <a:xfrm>
              <a:off x="2867040" y="3189240"/>
              <a:ext cx="13190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矩形 22"/>
            <p:cNvSpPr/>
            <p:nvPr/>
          </p:nvSpPr>
          <p:spPr>
            <a:xfrm>
              <a:off x="3283560" y="3902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地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23"/>
          <p:cNvGrpSpPr/>
          <p:nvPr/>
        </p:nvGrpSpPr>
        <p:grpSpPr>
          <a:xfrm>
            <a:off x="4748040" y="3179880"/>
            <a:ext cx="1311480" cy="1603080"/>
            <a:chOff x="4748040" y="3179880"/>
            <a:chExt cx="1311480" cy="1603080"/>
          </a:xfrm>
        </p:grpSpPr>
        <p:pic>
          <p:nvPicPr>
            <p:cNvPr id="282" name="图片 12" descr=""/>
            <p:cNvPicPr/>
            <p:nvPr/>
          </p:nvPicPr>
          <p:blipFill>
            <a:blip r:embed="rId6"/>
            <a:srcRect l="0" t="0" r="66921" b="50006"/>
            <a:stretch/>
          </p:blipFill>
          <p:spPr>
            <a:xfrm>
              <a:off x="4748040" y="3179880"/>
              <a:ext cx="1311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矩形 25"/>
            <p:cNvSpPr/>
            <p:nvPr/>
          </p:nvSpPr>
          <p:spPr>
            <a:xfrm>
              <a:off x="5119920" y="38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事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直接连接符 28"/>
          <p:cNvSpPr/>
          <p:nvPr/>
        </p:nvSpPr>
        <p:spPr>
          <a:xfrm>
            <a:off x="5024520" y="2211480"/>
            <a:ext cx="141912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直接连接符 31"/>
          <p:cNvSpPr/>
          <p:nvPr/>
        </p:nvSpPr>
        <p:spPr>
          <a:xfrm>
            <a:off x="1542960" y="2787480"/>
            <a:ext cx="100188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接连接符 34"/>
          <p:cNvSpPr/>
          <p:nvPr/>
        </p:nvSpPr>
        <p:spPr>
          <a:xfrm>
            <a:off x="3282840" y="2816280"/>
            <a:ext cx="676440" cy="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340280" y="67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结局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组合 4"/>
          <p:cNvGrpSpPr/>
          <p:nvPr/>
        </p:nvGrpSpPr>
        <p:grpSpPr>
          <a:xfrm>
            <a:off x="755640" y="1120680"/>
            <a:ext cx="7805880" cy="1600560"/>
            <a:chOff x="755640" y="1120680"/>
            <a:chExt cx="7805880" cy="1600560"/>
          </a:xfrm>
        </p:grpSpPr>
        <p:sp>
          <p:nvSpPr>
            <p:cNvPr id="289" name="TextBox 3"/>
            <p:cNvSpPr/>
            <p:nvPr/>
          </p:nvSpPr>
          <p:spPr>
            <a:xfrm>
              <a:off x="785520" y="1120680"/>
              <a:ext cx="77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dì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èr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tiā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shànɡ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wǔ   dònɡ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dōu lái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dào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sē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lí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ɡǎnɡ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chǎnɡ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zhǔ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shí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jiā le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hu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2"/>
            <p:cNvSpPr/>
            <p:nvPr/>
          </p:nvSpPr>
          <p:spPr>
            <a:xfrm>
              <a:off x="755640" y="1347840"/>
              <a:ext cx="7776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5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b050"/>
                  </a:solidFill>
                  <a:latin typeface="Calibri"/>
                </a:rPr>
                <a:t>第二 天   上   午，动 物们  都 来  到 森 林  广场，准   时 参  加了大会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文本框 2"/>
          <p:cNvSpPr/>
          <p:nvPr/>
        </p:nvSpPr>
        <p:spPr>
          <a:xfrm>
            <a:off x="885960" y="4842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3797280" y="844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怎么写通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357120" y="1427040"/>
            <a:ext cx="8280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通知包括标题、正文、落款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标题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写在第一行正中间，所以只写“通知”二字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正文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另起一行，空两格写正文，要写清楚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Calibri"/>
              </a:rPr>
              <a:t>通知什么人、什么时间、在什么地方做什么事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，有时还要写清楚通知事件的目的、意义及具体要求和作法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落款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分两行写在正文右下方，一行署名、一行写日期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2"/>
          <p:cNvSpPr/>
          <p:nvPr/>
        </p:nvSpPr>
        <p:spPr>
          <a:xfrm>
            <a:off x="395280" y="577800"/>
            <a:ext cx="82821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周五早上八点，请参加运动会入场式的各班同学，在教学楼门前集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先队大队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826920" y="1058760"/>
            <a:ext cx="7993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本周五早上八点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点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教学楼门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加人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参加运动会入场的各班同学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事情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集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人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少先队大队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时间：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16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年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月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3"/>
          <p:cNvGrpSpPr/>
          <p:nvPr/>
        </p:nvGrpSpPr>
        <p:grpSpPr>
          <a:xfrm>
            <a:off x="468360" y="196920"/>
            <a:ext cx="1655640" cy="1692360"/>
            <a:chOff x="468360" y="196920"/>
            <a:chExt cx="1655640" cy="1692360"/>
          </a:xfrm>
        </p:grpSpPr>
        <p:sp>
          <p:nvSpPr>
            <p:cNvPr id="297" name="Rectangle 4"/>
            <p:cNvSpPr/>
            <p:nvPr/>
          </p:nvSpPr>
          <p:spPr>
            <a:xfrm>
              <a:off x="468360" y="196920"/>
              <a:ext cx="165564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468360" y="1042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29600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3"/>
          <p:cNvGrpSpPr/>
          <p:nvPr/>
        </p:nvGrpSpPr>
        <p:grpSpPr>
          <a:xfrm>
            <a:off x="2124000" y="196920"/>
            <a:ext cx="1656000" cy="1692360"/>
            <a:chOff x="2124000" y="196920"/>
            <a:chExt cx="1656000" cy="1692360"/>
          </a:xfrm>
        </p:grpSpPr>
        <p:sp>
          <p:nvSpPr>
            <p:cNvPr id="301" name="Rectangle 4"/>
            <p:cNvSpPr/>
            <p:nvPr/>
          </p:nvSpPr>
          <p:spPr>
            <a:xfrm>
              <a:off x="2124000" y="196920"/>
              <a:ext cx="165600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2124000" y="1042920"/>
              <a:ext cx="1656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295164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Group 3"/>
          <p:cNvGrpSpPr/>
          <p:nvPr/>
        </p:nvGrpSpPr>
        <p:grpSpPr>
          <a:xfrm>
            <a:off x="3780000" y="196920"/>
            <a:ext cx="1655640" cy="1692360"/>
            <a:chOff x="3780000" y="196920"/>
            <a:chExt cx="1655640" cy="1692360"/>
          </a:xfrm>
        </p:grpSpPr>
        <p:sp>
          <p:nvSpPr>
            <p:cNvPr id="305" name="Rectangle 4"/>
            <p:cNvSpPr/>
            <p:nvPr/>
          </p:nvSpPr>
          <p:spPr>
            <a:xfrm>
              <a:off x="3780000" y="196920"/>
              <a:ext cx="165564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>
              <a:off x="3780000" y="1042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460764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Group 3"/>
          <p:cNvGrpSpPr/>
          <p:nvPr/>
        </p:nvGrpSpPr>
        <p:grpSpPr>
          <a:xfrm>
            <a:off x="468360" y="2500200"/>
            <a:ext cx="1655640" cy="1693800"/>
            <a:chOff x="468360" y="2500200"/>
            <a:chExt cx="1655640" cy="1693800"/>
          </a:xfrm>
        </p:grpSpPr>
        <p:sp>
          <p:nvSpPr>
            <p:cNvPr id="309" name="Rectangle 4"/>
            <p:cNvSpPr/>
            <p:nvPr/>
          </p:nvSpPr>
          <p:spPr>
            <a:xfrm>
              <a:off x="468360" y="2500200"/>
              <a:ext cx="165564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5"/>
            <p:cNvSpPr/>
            <p:nvPr/>
          </p:nvSpPr>
          <p:spPr>
            <a:xfrm>
              <a:off x="468360" y="3346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>
              <a:off x="129600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3"/>
          <p:cNvGrpSpPr/>
          <p:nvPr/>
        </p:nvGrpSpPr>
        <p:grpSpPr>
          <a:xfrm>
            <a:off x="2124000" y="2500200"/>
            <a:ext cx="1656000" cy="1693800"/>
            <a:chOff x="2124000" y="2500200"/>
            <a:chExt cx="1656000" cy="1693800"/>
          </a:xfrm>
        </p:grpSpPr>
        <p:sp>
          <p:nvSpPr>
            <p:cNvPr id="313" name="Rectangle 4"/>
            <p:cNvSpPr/>
            <p:nvPr/>
          </p:nvSpPr>
          <p:spPr>
            <a:xfrm>
              <a:off x="2124000" y="2500200"/>
              <a:ext cx="165600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2124000" y="3346920"/>
              <a:ext cx="1656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>
              <a:off x="295164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Group 3"/>
          <p:cNvGrpSpPr/>
          <p:nvPr/>
        </p:nvGrpSpPr>
        <p:grpSpPr>
          <a:xfrm>
            <a:off x="3780000" y="2500200"/>
            <a:ext cx="1655640" cy="1693800"/>
            <a:chOff x="3780000" y="2500200"/>
            <a:chExt cx="1655640" cy="1693800"/>
          </a:xfrm>
        </p:grpSpPr>
        <p:sp>
          <p:nvSpPr>
            <p:cNvPr id="317" name="Rectangle 4"/>
            <p:cNvSpPr/>
            <p:nvPr/>
          </p:nvSpPr>
          <p:spPr>
            <a:xfrm>
              <a:off x="3780000" y="2500200"/>
              <a:ext cx="165564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3780000" y="3346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460764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Text Box 32"/>
          <p:cNvSpPr/>
          <p:nvPr/>
        </p:nvSpPr>
        <p:spPr>
          <a:xfrm>
            <a:off x="612720" y="195120"/>
            <a:ext cx="15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539640" y="2500200"/>
            <a:ext cx="15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还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3924360" y="195120"/>
            <a:ext cx="15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3924360" y="2500200"/>
            <a:ext cx="15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2195640" y="2500200"/>
            <a:ext cx="16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2195640" y="195120"/>
            <a:ext cx="159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684360" y="700200"/>
            <a:ext cx="676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不要）（要钱）（要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yāo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求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连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连续）（连长）（连接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百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百姓）（一百）（千方百计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还有）（还是）（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uán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给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舌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舌头）（口舌）（舌尖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一点）（点名）（几点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"/>
          <p:cNvGrpSpPr/>
          <p:nvPr/>
        </p:nvGrpSpPr>
        <p:grpSpPr>
          <a:xfrm>
            <a:off x="468360" y="196920"/>
            <a:ext cx="1655640" cy="1692360"/>
            <a:chOff x="468360" y="196920"/>
            <a:chExt cx="1655640" cy="1692360"/>
          </a:xfrm>
        </p:grpSpPr>
        <p:sp>
          <p:nvSpPr>
            <p:cNvPr id="328" name="Rectangle 4"/>
            <p:cNvSpPr/>
            <p:nvPr/>
          </p:nvSpPr>
          <p:spPr>
            <a:xfrm>
              <a:off x="468360" y="196920"/>
              <a:ext cx="165564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468360" y="1042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129600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3"/>
          <p:cNvGrpSpPr/>
          <p:nvPr/>
        </p:nvGrpSpPr>
        <p:grpSpPr>
          <a:xfrm>
            <a:off x="2124000" y="196920"/>
            <a:ext cx="1656000" cy="1692360"/>
            <a:chOff x="2124000" y="196920"/>
            <a:chExt cx="1656000" cy="1692360"/>
          </a:xfrm>
        </p:grpSpPr>
        <p:sp>
          <p:nvSpPr>
            <p:cNvPr id="332" name="Rectangle 4"/>
            <p:cNvSpPr/>
            <p:nvPr/>
          </p:nvSpPr>
          <p:spPr>
            <a:xfrm>
              <a:off x="2124000" y="196920"/>
              <a:ext cx="165600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124000" y="1042920"/>
              <a:ext cx="1656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>
              <a:off x="295164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Group 3"/>
          <p:cNvGrpSpPr/>
          <p:nvPr/>
        </p:nvGrpSpPr>
        <p:grpSpPr>
          <a:xfrm>
            <a:off x="3780000" y="196920"/>
            <a:ext cx="1655640" cy="1692360"/>
            <a:chOff x="3780000" y="196920"/>
            <a:chExt cx="1655640" cy="1692360"/>
          </a:xfrm>
        </p:grpSpPr>
        <p:sp>
          <p:nvSpPr>
            <p:cNvPr id="336" name="Rectangle 4"/>
            <p:cNvSpPr/>
            <p:nvPr/>
          </p:nvSpPr>
          <p:spPr>
            <a:xfrm>
              <a:off x="3780000" y="196920"/>
              <a:ext cx="1655640" cy="16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5"/>
            <p:cNvSpPr/>
            <p:nvPr/>
          </p:nvSpPr>
          <p:spPr>
            <a:xfrm>
              <a:off x="3780000" y="1042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4607640" y="196920"/>
              <a:ext cx="0" cy="16923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3"/>
          <p:cNvGrpSpPr/>
          <p:nvPr/>
        </p:nvGrpSpPr>
        <p:grpSpPr>
          <a:xfrm>
            <a:off x="468360" y="2500200"/>
            <a:ext cx="1655640" cy="1693800"/>
            <a:chOff x="468360" y="2500200"/>
            <a:chExt cx="1655640" cy="1693800"/>
          </a:xfrm>
        </p:grpSpPr>
        <p:sp>
          <p:nvSpPr>
            <p:cNvPr id="340" name="Rectangle 4"/>
            <p:cNvSpPr/>
            <p:nvPr/>
          </p:nvSpPr>
          <p:spPr>
            <a:xfrm>
              <a:off x="468360" y="2500200"/>
              <a:ext cx="165564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468360" y="3346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129600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3"/>
          <p:cNvGrpSpPr/>
          <p:nvPr/>
        </p:nvGrpSpPr>
        <p:grpSpPr>
          <a:xfrm>
            <a:off x="2124000" y="2500200"/>
            <a:ext cx="1656000" cy="1693800"/>
            <a:chOff x="2124000" y="2500200"/>
            <a:chExt cx="1656000" cy="1693800"/>
          </a:xfrm>
        </p:grpSpPr>
        <p:sp>
          <p:nvSpPr>
            <p:cNvPr id="344" name="Rectangle 4"/>
            <p:cNvSpPr/>
            <p:nvPr/>
          </p:nvSpPr>
          <p:spPr>
            <a:xfrm>
              <a:off x="2124000" y="2500200"/>
              <a:ext cx="165600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2124000" y="3346920"/>
              <a:ext cx="1656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295164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3"/>
          <p:cNvGrpSpPr/>
          <p:nvPr/>
        </p:nvGrpSpPr>
        <p:grpSpPr>
          <a:xfrm>
            <a:off x="3780000" y="2500200"/>
            <a:ext cx="1655640" cy="1693800"/>
            <a:chOff x="3780000" y="2500200"/>
            <a:chExt cx="1655640" cy="1693800"/>
          </a:xfrm>
        </p:grpSpPr>
        <p:sp>
          <p:nvSpPr>
            <p:cNvPr id="348" name="Rectangle 4"/>
            <p:cNvSpPr/>
            <p:nvPr/>
          </p:nvSpPr>
          <p:spPr>
            <a:xfrm>
              <a:off x="3780000" y="2500200"/>
              <a:ext cx="1655640" cy="169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3780000" y="3346920"/>
              <a:ext cx="165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Line 6"/>
            <p:cNvSpPr/>
            <p:nvPr/>
          </p:nvSpPr>
          <p:spPr>
            <a:xfrm>
              <a:off x="4607640" y="2500200"/>
              <a:ext cx="0" cy="16938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Text Box 32"/>
          <p:cNvSpPr/>
          <p:nvPr/>
        </p:nvSpPr>
        <p:spPr>
          <a:xfrm>
            <a:off x="612720" y="195120"/>
            <a:ext cx="15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539640" y="2500200"/>
            <a:ext cx="159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ff"/>
                </a:solidFill>
                <a:latin typeface="楷体"/>
                <a:ea typeface="楷体"/>
              </a:rPr>
              <a:t>还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4"/>
          <p:cNvSpPr/>
          <p:nvPr/>
        </p:nvSpPr>
        <p:spPr>
          <a:xfrm>
            <a:off x="3924360" y="195120"/>
            <a:ext cx="15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b050"/>
                </a:solidFill>
                <a:latin typeface="楷体"/>
                <a:ea typeface="楷体"/>
              </a:rPr>
              <a:t>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3924360" y="2500200"/>
            <a:ext cx="159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2195640" y="2500200"/>
            <a:ext cx="16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2195640" y="195120"/>
            <a:ext cx="159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ff"/>
                </a:solidFill>
                <a:latin typeface="楷体"/>
                <a:ea typeface="楷体"/>
              </a:rPr>
              <a:t>连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4" descr="K)H]G{MOW3SC1TJHX~~2C`Q"/>
          <p:cNvPicPr/>
          <p:nvPr/>
        </p:nvPicPr>
        <p:blipFill>
          <a:blip r:embed="rId1"/>
          <a:stretch/>
        </p:blipFill>
        <p:spPr>
          <a:xfrm>
            <a:off x="0" y="-17640"/>
            <a:ext cx="9172440" cy="51832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"/>
          <p:cNvSpPr/>
          <p:nvPr/>
        </p:nvSpPr>
        <p:spPr>
          <a:xfrm>
            <a:off x="1808280" y="523800"/>
            <a:ext cx="552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初读课文，整体感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360" y="1301760"/>
            <a:ext cx="12531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、课文有几个自然段？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出自然段序号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、圈出课文中的生字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借助拼音读一读，认一认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K)H]G{MOW3SC1TJHX~~2C`Q"/>
          <p:cNvPicPr/>
          <p:nvPr/>
        </p:nvPicPr>
        <p:blipFill>
          <a:blip r:embed="rId1"/>
          <a:stretch/>
        </p:blipFill>
        <p:spPr>
          <a:xfrm>
            <a:off x="-150840" y="-106200"/>
            <a:ext cx="9309240" cy="526068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179280" y="91584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物 虎  熊  通  注 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79360" y="36180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wù  hǔ xióng tōng   zhù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976320" y="2973240"/>
            <a:ext cx="85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ǎ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     zhǔn     dì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文本框 1" descr=""/>
          <p:cNvPicPr/>
          <p:nvPr/>
        </p:nvPicPr>
        <p:blipFill>
          <a:blip r:embed="rId2"/>
          <a:stretch/>
        </p:blipFill>
        <p:spPr>
          <a:xfrm>
            <a:off x="792000" y="3556080"/>
            <a:ext cx="8334360" cy="82224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058760" y="1590840"/>
            <a:ext cx="63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biàn   b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ǎ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    shé    gu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文本框 6" descr=""/>
          <p:cNvPicPr/>
          <p:nvPr/>
        </p:nvPicPr>
        <p:blipFill>
          <a:blip r:embed="rId3"/>
          <a:stretch/>
        </p:blipFill>
        <p:spPr>
          <a:xfrm>
            <a:off x="900000" y="2211480"/>
            <a:ext cx="683892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K)H]G{MOW3SC1TJHX~~2C`Q"/>
          <p:cNvPicPr/>
          <p:nvPr/>
        </p:nvPicPr>
        <p:blipFill>
          <a:blip r:embed="rId1"/>
          <a:stretch/>
        </p:blipFill>
        <p:spPr>
          <a:xfrm>
            <a:off x="-12600" y="-28440"/>
            <a:ext cx="9171000" cy="518292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"/>
          <p:cNvSpPr/>
          <p:nvPr/>
        </p:nvSpPr>
        <p:spPr>
          <a:xfrm>
            <a:off x="81000" y="99360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物  虎  熊  通  注 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文本框 1" descr=""/>
          <p:cNvPicPr/>
          <p:nvPr/>
        </p:nvPicPr>
        <p:blipFill>
          <a:blip r:embed="rId2"/>
          <a:stretch/>
        </p:blipFill>
        <p:spPr>
          <a:xfrm>
            <a:off x="792000" y="3556080"/>
            <a:ext cx="8334360" cy="822240"/>
          </a:xfrm>
          <a:prstGeom prst="rect">
            <a:avLst/>
          </a:prstGeom>
          <a:ln w="0">
            <a:noFill/>
          </a:ln>
        </p:spPr>
      </p:pic>
      <p:pic>
        <p:nvPicPr>
          <p:cNvPr id="130" name="文本框 6" descr=""/>
          <p:cNvPicPr/>
          <p:nvPr/>
        </p:nvPicPr>
        <p:blipFill>
          <a:blip r:embed="rId3"/>
          <a:stretch/>
        </p:blipFill>
        <p:spPr>
          <a:xfrm>
            <a:off x="857160" y="2228760"/>
            <a:ext cx="6838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%E8%8B%B9%E6%9E%9C%E6%A0%91-15010001"/>
          <p:cNvPicPr/>
          <p:nvPr/>
        </p:nvPicPr>
        <p:blipFill>
          <a:blip r:embed="rId1"/>
          <a:srcRect l="0" t="0" r="829" b="4628"/>
          <a:stretch/>
        </p:blipFill>
        <p:spPr>
          <a:xfrm>
            <a:off x="2340000" y="120600"/>
            <a:ext cx="4998960" cy="50230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5181480" y="514440"/>
            <a:ext cx="1401840" cy="1115280"/>
            <a:chOff x="5181480" y="514440"/>
            <a:chExt cx="1401840" cy="1115280"/>
          </a:xfrm>
        </p:grpSpPr>
        <p:pic>
          <p:nvPicPr>
            <p:cNvPr id="133" name="Picture 4" descr="20091211_93dc3f57c17e51aff940PoOjxgMGI0YI"/>
            <p:cNvPicPr/>
            <p:nvPr/>
          </p:nvPicPr>
          <p:blipFill>
            <a:blip r:embed="rId2"/>
            <a:srcRect l="8961" t="6742" r="7827" b="7830"/>
            <a:stretch/>
          </p:blipFill>
          <p:spPr>
            <a:xfrm>
              <a:off x="5181480" y="514440"/>
              <a:ext cx="1401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5"/>
            <p:cNvSpPr/>
            <p:nvPr/>
          </p:nvSpPr>
          <p:spPr>
            <a:xfrm>
              <a:off x="5430600" y="62136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通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6"/>
          <p:cNvGrpSpPr/>
          <p:nvPr/>
        </p:nvGrpSpPr>
        <p:grpSpPr>
          <a:xfrm>
            <a:off x="4067280" y="1330200"/>
            <a:ext cx="1401480" cy="1115280"/>
            <a:chOff x="4067280" y="1330200"/>
            <a:chExt cx="1401480" cy="1115280"/>
          </a:xfrm>
        </p:grpSpPr>
        <p:pic>
          <p:nvPicPr>
            <p:cNvPr id="136" name="Picture 7" descr="20091211_93dc3f57c17e51aff940PoOjxgMGI0YI"/>
            <p:cNvPicPr/>
            <p:nvPr/>
          </p:nvPicPr>
          <p:blipFill>
            <a:blip r:embed="rId3"/>
            <a:srcRect l="8961" t="6742" r="7827" b="7830"/>
            <a:stretch/>
          </p:blipFill>
          <p:spPr>
            <a:xfrm>
              <a:off x="4067280" y="1330200"/>
              <a:ext cx="1401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8"/>
            <p:cNvSpPr/>
            <p:nvPr/>
          </p:nvSpPr>
          <p:spPr>
            <a:xfrm>
              <a:off x="4316040" y="14371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百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5940360" y="1924200"/>
            <a:ext cx="1401840" cy="1115280"/>
            <a:chOff x="5940360" y="1924200"/>
            <a:chExt cx="1401840" cy="1115280"/>
          </a:xfrm>
        </p:grpSpPr>
        <p:pic>
          <p:nvPicPr>
            <p:cNvPr id="139" name="Picture 10" descr="20091211_93dc3f57c17e51aff940PoOjxgMGI0YI"/>
            <p:cNvPicPr/>
            <p:nvPr/>
          </p:nvPicPr>
          <p:blipFill>
            <a:blip r:embed="rId4"/>
            <a:srcRect l="8961" t="6742" r="7827" b="7830"/>
            <a:stretch/>
          </p:blipFill>
          <p:spPr>
            <a:xfrm>
              <a:off x="5940360" y="1924200"/>
              <a:ext cx="1401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1"/>
            <p:cNvSpPr/>
            <p:nvPr/>
          </p:nvSpPr>
          <p:spPr>
            <a:xfrm>
              <a:off x="6189480" y="203112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鬼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2627280" y="801720"/>
            <a:ext cx="1401840" cy="1115280"/>
            <a:chOff x="2627280" y="801720"/>
            <a:chExt cx="1401840" cy="1115280"/>
          </a:xfrm>
        </p:grpSpPr>
        <p:pic>
          <p:nvPicPr>
            <p:cNvPr id="142" name="Picture 13" descr="20091211_93dc3f57c17e51aff940PoOjxgMGI0YI"/>
            <p:cNvPicPr/>
            <p:nvPr/>
          </p:nvPicPr>
          <p:blipFill>
            <a:blip r:embed="rId5"/>
            <a:srcRect l="8961" t="6742" r="7827" b="7830"/>
            <a:stretch/>
          </p:blipFill>
          <p:spPr>
            <a:xfrm>
              <a:off x="2627280" y="801720"/>
              <a:ext cx="14018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4"/>
            <p:cNvSpPr/>
            <p:nvPr/>
          </p:nvSpPr>
          <p:spPr>
            <a:xfrm>
              <a:off x="2876400" y="90864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虎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5"/>
          <p:cNvGrpSpPr/>
          <p:nvPr/>
        </p:nvGrpSpPr>
        <p:grpSpPr>
          <a:xfrm>
            <a:off x="3780000" y="316080"/>
            <a:ext cx="1401480" cy="1115280"/>
            <a:chOff x="3780000" y="316080"/>
            <a:chExt cx="1401480" cy="1115280"/>
          </a:xfrm>
        </p:grpSpPr>
        <p:pic>
          <p:nvPicPr>
            <p:cNvPr id="145" name="Picture 16" descr="20091211_93dc3f57c17e51aff940PoOjxgMGI0YI"/>
            <p:cNvPicPr/>
            <p:nvPr/>
          </p:nvPicPr>
          <p:blipFill>
            <a:blip r:embed="rId6"/>
            <a:srcRect l="8961" t="6742" r="7827" b="7830"/>
            <a:stretch/>
          </p:blipFill>
          <p:spPr>
            <a:xfrm>
              <a:off x="3780000" y="316080"/>
              <a:ext cx="14014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7"/>
            <p:cNvSpPr/>
            <p:nvPr/>
          </p:nvSpPr>
          <p:spPr>
            <a:xfrm>
              <a:off x="4028760" y="42300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18"/>
          <p:cNvGrpSpPr/>
          <p:nvPr/>
        </p:nvGrpSpPr>
        <p:grpSpPr>
          <a:xfrm>
            <a:off x="3995640" y="2368440"/>
            <a:ext cx="1401840" cy="1115280"/>
            <a:chOff x="3995640" y="2368440"/>
            <a:chExt cx="1401840" cy="1115280"/>
          </a:xfrm>
        </p:grpSpPr>
        <p:pic>
          <p:nvPicPr>
            <p:cNvPr id="148" name="Picture 19" descr="20091211_93dc3f57c17e51aff940PoOjxgMGI0YI"/>
            <p:cNvPicPr/>
            <p:nvPr/>
          </p:nvPicPr>
          <p:blipFill>
            <a:blip r:embed="rId7"/>
            <a:srcRect l="8961" t="6742" r="7827" b="7830"/>
            <a:stretch/>
          </p:blipFill>
          <p:spPr>
            <a:xfrm>
              <a:off x="3995640" y="2368440"/>
              <a:ext cx="14018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20"/>
            <p:cNvSpPr/>
            <p:nvPr/>
          </p:nvSpPr>
          <p:spPr>
            <a:xfrm>
              <a:off x="4244760" y="247536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脸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WordArt 3"/>
          <p:cNvSpPr txBox="1"/>
          <p:nvPr/>
        </p:nvSpPr>
        <p:spPr>
          <a:xfrm>
            <a:off x="324000" y="195120"/>
            <a:ext cx="25416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99ff"/>
                </a:solidFill>
                <a:latin typeface="宋体"/>
              </a:rPr>
              <a:t>我们一起摘苹果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99ff"/>
              </a:solidFill>
              <a:latin typeface="宋体"/>
              <a:ea typeface="宋体"/>
            </a:endParaRPr>
          </a:p>
        </p:txBody>
      </p:sp>
      <p:grpSp>
        <p:nvGrpSpPr>
          <p:cNvPr id="151" name="Group 22"/>
          <p:cNvGrpSpPr/>
          <p:nvPr/>
        </p:nvGrpSpPr>
        <p:grpSpPr>
          <a:xfrm>
            <a:off x="1819440" y="1317600"/>
            <a:ext cx="1401480" cy="1226160"/>
            <a:chOff x="1819440" y="1317600"/>
            <a:chExt cx="1401480" cy="1226160"/>
          </a:xfrm>
        </p:grpSpPr>
        <p:pic>
          <p:nvPicPr>
            <p:cNvPr id="152" name="Picture 23" descr="20091211_93dc3f57c17e51aff940PoOjxgMGI0YI"/>
            <p:cNvPicPr/>
            <p:nvPr/>
          </p:nvPicPr>
          <p:blipFill>
            <a:blip r:embed="rId8"/>
            <a:srcRect l="8961" t="6742" r="7827" b="7830"/>
            <a:stretch/>
          </p:blipFill>
          <p:spPr>
            <a:xfrm>
              <a:off x="1819440" y="1317600"/>
              <a:ext cx="14014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4"/>
            <p:cNvSpPr/>
            <p:nvPr/>
          </p:nvSpPr>
          <p:spPr>
            <a:xfrm>
              <a:off x="2016000" y="153540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物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5181480" y="1428840"/>
            <a:ext cx="1401840" cy="1115280"/>
            <a:chOff x="5181480" y="1428840"/>
            <a:chExt cx="1401840" cy="1115280"/>
          </a:xfrm>
        </p:grpSpPr>
        <p:pic>
          <p:nvPicPr>
            <p:cNvPr id="155" name="Picture 26" descr="20091211_93dc3f57c17e51aff940PoOjxgMGI0YI"/>
            <p:cNvPicPr/>
            <p:nvPr/>
          </p:nvPicPr>
          <p:blipFill>
            <a:blip r:embed="rId9"/>
            <a:srcRect l="8961" t="6742" r="7827" b="7830"/>
            <a:stretch/>
          </p:blipFill>
          <p:spPr>
            <a:xfrm>
              <a:off x="5181480" y="1428840"/>
              <a:ext cx="1401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5430600" y="153576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舌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28"/>
          <p:cNvGrpSpPr/>
          <p:nvPr/>
        </p:nvGrpSpPr>
        <p:grpSpPr>
          <a:xfrm>
            <a:off x="6248520" y="914400"/>
            <a:ext cx="1401480" cy="1115280"/>
            <a:chOff x="6248520" y="914400"/>
            <a:chExt cx="1401480" cy="1115280"/>
          </a:xfrm>
        </p:grpSpPr>
        <p:pic>
          <p:nvPicPr>
            <p:cNvPr id="158" name="Picture 29" descr="20091211_93dc3f57c17e51aff940PoOjxgMGI0YI"/>
            <p:cNvPicPr/>
            <p:nvPr/>
          </p:nvPicPr>
          <p:blipFill>
            <a:blip r:embed="rId10"/>
            <a:srcRect l="8961" t="6742" r="7827" b="7830"/>
            <a:stretch/>
          </p:blipFill>
          <p:spPr>
            <a:xfrm>
              <a:off x="6248520" y="914400"/>
              <a:ext cx="1401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0"/>
            <p:cNvSpPr/>
            <p:nvPr/>
          </p:nvSpPr>
          <p:spPr>
            <a:xfrm>
              <a:off x="6497280" y="10213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注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1"/>
          <p:cNvGrpSpPr/>
          <p:nvPr/>
        </p:nvGrpSpPr>
        <p:grpSpPr>
          <a:xfrm>
            <a:off x="2971800" y="1771560"/>
            <a:ext cx="1401840" cy="1115280"/>
            <a:chOff x="2971800" y="1771560"/>
            <a:chExt cx="1401840" cy="1115280"/>
          </a:xfrm>
        </p:grpSpPr>
        <p:pic>
          <p:nvPicPr>
            <p:cNvPr id="161" name="Picture 32" descr="20091211_93dc3f57c17e51aff940PoOjxgMGI0YI"/>
            <p:cNvPicPr/>
            <p:nvPr/>
          </p:nvPicPr>
          <p:blipFill>
            <a:blip r:embed="rId11"/>
            <a:srcRect l="8961" t="6742" r="7827" b="7830"/>
            <a:stretch/>
          </p:blipFill>
          <p:spPr>
            <a:xfrm>
              <a:off x="2971800" y="1771560"/>
              <a:ext cx="14018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33"/>
            <p:cNvSpPr/>
            <p:nvPr/>
          </p:nvSpPr>
          <p:spPr>
            <a:xfrm>
              <a:off x="3220920" y="187848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遍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4"/>
          <p:cNvGrpSpPr/>
          <p:nvPr/>
        </p:nvGrpSpPr>
        <p:grpSpPr>
          <a:xfrm>
            <a:off x="5003640" y="2355840"/>
            <a:ext cx="1401840" cy="1115640"/>
            <a:chOff x="5003640" y="2355840"/>
            <a:chExt cx="1401840" cy="1115640"/>
          </a:xfrm>
        </p:grpSpPr>
        <p:pic>
          <p:nvPicPr>
            <p:cNvPr id="164" name="Picture 35" descr="20091211_93dc3f57c17e51aff940PoOjxgMGI0YI"/>
            <p:cNvPicPr/>
            <p:nvPr/>
          </p:nvPicPr>
          <p:blipFill>
            <a:blip r:embed="rId12"/>
            <a:srcRect l="8961" t="6742" r="7827" b="7830"/>
            <a:stretch/>
          </p:blipFill>
          <p:spPr>
            <a:xfrm>
              <a:off x="5003640" y="2355840"/>
              <a:ext cx="140184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36"/>
            <p:cNvSpPr/>
            <p:nvPr/>
          </p:nvSpPr>
          <p:spPr>
            <a:xfrm>
              <a:off x="5252760" y="246312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准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2084400" y="2290680"/>
            <a:ext cx="1401840" cy="1115280"/>
            <a:chOff x="2084400" y="2290680"/>
            <a:chExt cx="1401840" cy="1115280"/>
          </a:xfrm>
        </p:grpSpPr>
        <p:pic>
          <p:nvPicPr>
            <p:cNvPr id="167" name="Picture 23" descr="20091211_93dc3f57c17e51aff940PoOjxgMGI0YI"/>
            <p:cNvPicPr/>
            <p:nvPr/>
          </p:nvPicPr>
          <p:blipFill>
            <a:blip r:embed="rId13"/>
            <a:srcRect l="8961" t="6742" r="7827" b="7830"/>
            <a:stretch/>
          </p:blipFill>
          <p:spPr>
            <a:xfrm>
              <a:off x="2084400" y="2290680"/>
              <a:ext cx="14018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4"/>
            <p:cNvSpPr/>
            <p:nvPr/>
          </p:nvSpPr>
          <p:spPr>
            <a:xfrm>
              <a:off x="2333520" y="239760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意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34"/>
          <p:cNvGrpSpPr/>
          <p:nvPr/>
        </p:nvGrpSpPr>
        <p:grpSpPr>
          <a:xfrm>
            <a:off x="3119400" y="2738520"/>
            <a:ext cx="1401840" cy="1115280"/>
            <a:chOff x="3119400" y="2738520"/>
            <a:chExt cx="1401840" cy="1115280"/>
          </a:xfrm>
        </p:grpSpPr>
        <p:pic>
          <p:nvPicPr>
            <p:cNvPr id="170" name="Picture 35" descr="20091211_93dc3f57c17e51aff940PoOjxgMGI0YI"/>
            <p:cNvPicPr/>
            <p:nvPr/>
          </p:nvPicPr>
          <p:blipFill>
            <a:blip r:embed="rId14"/>
            <a:srcRect l="8961" t="6742" r="7827" b="7830"/>
            <a:stretch/>
          </p:blipFill>
          <p:spPr>
            <a:xfrm>
              <a:off x="3119400" y="2738520"/>
              <a:ext cx="14018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36"/>
            <p:cNvSpPr/>
            <p:nvPr/>
          </p:nvSpPr>
          <p:spPr>
            <a:xfrm>
              <a:off x="3368520" y="2845440"/>
              <a:ext cx="10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Calibri"/>
                </a:rPr>
                <a:t>第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L 0.10503 0.5787 E">
                                      <p:cBhvr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6181 L 0.10677 0.72847 E">
                                      <p:cBhvr>
                                        <p:cTn id="1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7824 L -0.19826 0.76713 E">
                                      <p:cBhvr>
                                        <p:cTn id="2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181 0.083704 L -0.171042 0.680278 E">
                                      <p:cBhvr>
                                        <p:cTn id="27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53 0.006204 L -0.303264 0.481019 E">
                                      <p:cBhvr>
                                        <p:cTn id="3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22222E-006 L 0.15 0.46666 E">
                                      <p:cBhvr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01146 0.36805 E">
                                      <p:cBhvr>
                                        <p:cTn id="39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31 -0.008889 L -0.225972 0.32787 E">
                                      <p:cBhvr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0185 L -0.25347 0.40065 E">
                                      <p:cBhvr>
                                        <p:cTn id="47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3 0.0081 L 0.19843 0.61736 E">
                                      <p:cBhvr>
                                        <p:cTn id="5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8776E-006 L -0.21822 0.3567 E">
                                      <p:cBhvr>
                                        <p:cTn id="55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33 0.012593 L -0.269236 0.31713 E">
                                      <p:cBhvr>
                                        <p:cTn id="59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8776E-006 L -0.21822 0.3567 E">
                                      <p:cBhvr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K)H]G{MOW3SC1TJHX~~2C`Q"/>
          <p:cNvPicPr/>
          <p:nvPr/>
        </p:nvPicPr>
        <p:blipFill>
          <a:blip r:embed="rId1"/>
          <a:stretch/>
        </p:blipFill>
        <p:spPr>
          <a:xfrm>
            <a:off x="-82440" y="-66600"/>
            <a:ext cx="9240840" cy="522108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"/>
          <p:cNvSpPr/>
          <p:nvPr/>
        </p:nvSpPr>
        <p:spPr>
          <a:xfrm>
            <a:off x="549360" y="746280"/>
            <a:ext cx="8453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狗熊  注意  老虎  参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鬼脸   喇叭    通知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清楚   准时    梅花鹿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009880" y="5698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中写到了动物王国的哪几种动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3"/>
          <p:cNvGrpSpPr/>
          <p:nvPr/>
        </p:nvGrpSpPr>
        <p:grpSpPr>
          <a:xfrm>
            <a:off x="3564000" y="1924200"/>
            <a:ext cx="1800000" cy="2066400"/>
            <a:chOff x="3564000" y="1924200"/>
            <a:chExt cx="1800000" cy="2066400"/>
          </a:xfrm>
        </p:grpSpPr>
        <p:pic>
          <p:nvPicPr>
            <p:cNvPr id="176" name="Picture 2" descr=""/>
            <p:cNvPicPr/>
            <p:nvPr/>
          </p:nvPicPr>
          <p:blipFill>
            <a:blip r:embed="rId2"/>
            <a:srcRect l="0" t="32233" r="0" b="0"/>
            <a:stretch/>
          </p:blipFill>
          <p:spPr>
            <a:xfrm>
              <a:off x="3564000" y="1924200"/>
              <a:ext cx="1800000" cy="15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2"/>
            <p:cNvSpPr/>
            <p:nvPr/>
          </p:nvSpPr>
          <p:spPr>
            <a:xfrm>
              <a:off x="3997800" y="3470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狐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4"/>
          <p:cNvGrpSpPr/>
          <p:nvPr/>
        </p:nvGrpSpPr>
        <p:grpSpPr>
          <a:xfrm>
            <a:off x="36360" y="1708200"/>
            <a:ext cx="2232000" cy="2309400"/>
            <a:chOff x="36360" y="1708200"/>
            <a:chExt cx="2232000" cy="2309400"/>
          </a:xfrm>
        </p:grpSpPr>
        <p:pic>
          <p:nvPicPr>
            <p:cNvPr id="179" name="Picture 4" descr="http://img.taopic.com/uploads/allimg/130327/267859-13032G1322442.jpg"/>
            <p:cNvPicPr/>
            <p:nvPr/>
          </p:nvPicPr>
          <p:blipFill>
            <a:blip r:embed="rId3"/>
            <a:srcRect l="0" t="0" r="0" b="16334"/>
            <a:stretch/>
          </p:blipFill>
          <p:spPr>
            <a:xfrm>
              <a:off x="36360" y="1708200"/>
              <a:ext cx="2232000" cy="18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6"/>
            <p:cNvSpPr/>
            <p:nvPr/>
          </p:nvSpPr>
          <p:spPr>
            <a:xfrm>
              <a:off x="807120" y="3497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老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5"/>
          <p:cNvGrpSpPr/>
          <p:nvPr/>
        </p:nvGrpSpPr>
        <p:grpSpPr>
          <a:xfrm>
            <a:off x="2124000" y="1851120"/>
            <a:ext cx="1295640" cy="2098440"/>
            <a:chOff x="2124000" y="1851120"/>
            <a:chExt cx="1295640" cy="2098440"/>
          </a:xfrm>
        </p:grpSpPr>
        <p:pic>
          <p:nvPicPr>
            <p:cNvPr id="182" name="Picture 6" descr="http://imgx.xiawu.com/xzimg/i4/i1/17462030908493012/T1Lb0aFq4eXXXXXXXX_!!0-item_pic.jpg"/>
            <p:cNvPicPr/>
            <p:nvPr/>
          </p:nvPicPr>
          <p:blipFill>
            <a:blip r:embed="rId4"/>
            <a:stretch/>
          </p:blipFill>
          <p:spPr>
            <a:xfrm>
              <a:off x="2124000" y="1851120"/>
              <a:ext cx="1295640" cy="15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9"/>
            <p:cNvSpPr/>
            <p:nvPr/>
          </p:nvSpPr>
          <p:spPr>
            <a:xfrm>
              <a:off x="2468160" y="3429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狗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1"/>
          <p:cNvGrpSpPr/>
          <p:nvPr/>
        </p:nvGrpSpPr>
        <p:grpSpPr>
          <a:xfrm>
            <a:off x="5221440" y="1419120"/>
            <a:ext cx="1584000" cy="2576880"/>
            <a:chOff x="5221440" y="1419120"/>
            <a:chExt cx="1584000" cy="2576880"/>
          </a:xfrm>
        </p:grpSpPr>
        <p:pic>
          <p:nvPicPr>
            <p:cNvPr id="185" name="Picture 2" descr="http://www.hui-ben.com/yiwu/20150207/news_img/20121018170453.jpg"/>
            <p:cNvPicPr/>
            <p:nvPr/>
          </p:nvPicPr>
          <p:blipFill>
            <a:blip r:embed="rId5"/>
            <a:stretch/>
          </p:blipFill>
          <p:spPr>
            <a:xfrm>
              <a:off x="5221440" y="1419120"/>
              <a:ext cx="1584000" cy="20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Box 2"/>
            <p:cNvSpPr/>
            <p:nvPr/>
          </p:nvSpPr>
          <p:spPr>
            <a:xfrm>
              <a:off x="5701680" y="3475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大灰狼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3"/>
          <p:cNvGrpSpPr/>
          <p:nvPr/>
        </p:nvGrpSpPr>
        <p:grpSpPr>
          <a:xfrm>
            <a:off x="7164360" y="1563840"/>
            <a:ext cx="1441440" cy="2263320"/>
            <a:chOff x="7164360" y="1563840"/>
            <a:chExt cx="1441440" cy="2263320"/>
          </a:xfrm>
        </p:grpSpPr>
        <p:pic>
          <p:nvPicPr>
            <p:cNvPr id="188" name="Picture 4" descr="http://p4.so.qhmsg.com/t01ca2acffd2cbdc964.jpg"/>
            <p:cNvPicPr/>
            <p:nvPr/>
          </p:nvPicPr>
          <p:blipFill>
            <a:blip r:embed="rId6"/>
            <a:stretch/>
          </p:blipFill>
          <p:spPr>
            <a:xfrm>
              <a:off x="7164360" y="1563840"/>
              <a:ext cx="1441440" cy="17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5"/>
            <p:cNvSpPr/>
            <p:nvPr/>
          </p:nvSpPr>
          <p:spPr>
            <a:xfrm>
              <a:off x="7474680" y="3306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梅花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306360" y="1308240"/>
            <a:ext cx="444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课文，思考下列问题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468360" y="1770120"/>
            <a:ext cx="8569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动物王国要开大会，狗熊一共给动物们下了几次通知？每一次是怎样通知的？在书中画出来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"/>
          <p:cNvSpPr/>
          <p:nvPr/>
        </p:nvSpPr>
        <p:spPr>
          <a:xfrm>
            <a:off x="885960" y="4842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课文解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4427640" y="2932200"/>
            <a:ext cx="243180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Administrator</cp:lastModifiedBy>
  <dcterms:modified xsi:type="dcterms:W3CDTF">2018-05-24T16:16:36Z</dcterms:modified>
  <cp:revision>3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12</vt:lpwstr>
  </property>
</Properties>
</file>