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446-7E31-4CAD-8E8F-1127F16E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B15-D5B3-4157-A08C-6B463D93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55F-5BBB-4E5E-A63F-E9EA5C35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9D1-6944-480C-AD31-D9738293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9FB-628B-44A8-820A-F7EF3578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6A7-C31E-49E9-AD70-01C17A86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DED-A476-4663-87B1-5876F969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2BC-2C50-45AC-B43C-9B64A95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B87-447F-4E8D-801B-AE97D1F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622-901E-4FD2-B3DB-1AC49245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30D-1EB4-4824-8948-E392CEC1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279-D2AB-408F-BBD4-F8200A0C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1FE7-7E4B-4BD5-81ED-AE134351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C82C-8A81-4C97-A170-AD9609FB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BEE7-507E-40AD-BFF0-6984F6E9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15BE-B090-47B1-B529-D31AE62D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244B-73FD-47F9-A72A-2487081D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35DC-C201-4270-A5D5-7D58516E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FFB5-5693-4F3B-B003-DA85241E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4069-5DC2-4ADB-8F97-4761F588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AAE3-2A12-4C9F-85F9-6FC57BF4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B25B-8EF4-48AD-B1BF-FFA4B45B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F950-E0AB-49D5-9A0A-C1AA06A2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DBBD-4B25-4EFD-B36A-9A9DB3D6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5A72-9CE0-430D-AA3A-FBF73B26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B0763-AB2C-4B81-BB0A-B54FCB3A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23A0-92E7-499C-9B4F-71E7CF50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04E1-CCDF-4C06-9149-AB930276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B850-FB70-4365-9641-28D7411B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4EB2A-5D73-46E1-A33A-2B6336EE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2472E-BDE6-41EC-81C8-6A4F4894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817B-F6E1-4F54-A717-1153108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9BBA-FC74-4A72-920E-91346DB9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1EC5-CA44-4398-9A61-E25DCAF0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6D81-3CE2-4C42-8B0E-748929A2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3D2C-BB2F-4EB6-9B1B-E1BCAB18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41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38C4-DA0A-4C32-94EB-6B5362C3BC8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3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65A2-0954-4B5E-A6C1-90FDAAF2894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2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8f9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125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34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B92-6564-415B-99FA-FEFB16C8F2C6}" type="slidenum">
              <a:rPr b="0" lang="en-US" sz="14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5.png"/><Relationship Id="rId14" Type="http://schemas.openxmlformats.org/officeDocument/2006/relationships/image" Target="../media/image11.png"/><Relationship Id="rId15" Type="http://schemas.openxmlformats.org/officeDocument/2006/relationships/image" Target="../media/image16.png"/><Relationship Id="rId16" Type="http://schemas.openxmlformats.org/officeDocument/2006/relationships/image" Target="../media/image11.png"/><Relationship Id="rId17" Type="http://schemas.openxmlformats.org/officeDocument/2006/relationships/image" Target="../media/image17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2" descr="AF]3PDI@IM%D%WXALZ1X8NN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66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4416480" y="2835360"/>
            <a:ext cx="3110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168" name="矩形 11" descr=""/>
          <p:cNvPicPr/>
          <p:nvPr/>
        </p:nvPicPr>
        <p:blipFill>
          <a:blip r:embed="rId2"/>
          <a:stretch/>
        </p:blipFill>
        <p:spPr>
          <a:xfrm>
            <a:off x="1011240" y="1785960"/>
            <a:ext cx="77421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" descr="K)H]G{MOW3SC1TJHX~~2C`Q"/>
          <p:cNvPicPr/>
          <p:nvPr/>
        </p:nvPicPr>
        <p:blipFill>
          <a:blip r:embed="rId1"/>
          <a:stretch/>
        </p:blipFill>
        <p:spPr>
          <a:xfrm>
            <a:off x="-135000" y="-130320"/>
            <a:ext cx="9293400" cy="70041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"/>
          <p:cNvSpPr/>
          <p:nvPr/>
        </p:nvSpPr>
        <p:spPr>
          <a:xfrm>
            <a:off x="461880" y="1216080"/>
            <a:ext cx="843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34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292934"/>
                </a:solidFill>
                <a:latin typeface="楷体"/>
                <a:ea typeface="楷体"/>
              </a:rPr>
              <a:t>大家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注意</a:t>
            </a:r>
            <a:r>
              <a:rPr b="1" lang="zh-CN" sz="6000" spc="-1" strike="noStrike">
                <a:solidFill>
                  <a:srgbClr val="292934"/>
                </a:solidFill>
                <a:latin typeface="楷体"/>
                <a:ea typeface="楷体"/>
              </a:rPr>
              <a:t>，动物王国要开大会，请你们都参加！</a:t>
            </a:r>
            <a:endParaRPr b="0" lang="en-US" sz="60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40" name="图片 2" descr="timg"/>
          <p:cNvPicPr/>
          <p:nvPr/>
        </p:nvPicPr>
        <p:blipFill>
          <a:blip r:embed="rId2"/>
          <a:stretch/>
        </p:blipFill>
        <p:spPr>
          <a:xfrm rot="20820000">
            <a:off x="42480" y="4225680"/>
            <a:ext cx="1760400" cy="177480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1"/>
          <p:cNvSpPr/>
          <p:nvPr/>
        </p:nvSpPr>
        <p:spPr>
          <a:xfrm>
            <a:off x="1981080" y="4457880"/>
            <a:ext cx="6626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狗熊忘记了告诉大家开会的日期。</a:t>
            </a:r>
            <a:endParaRPr b="0" lang="en-US" sz="40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1" descr="K)H]G{MOW3SC1TJHX~~2C`Q"/>
          <p:cNvPicPr/>
          <p:nvPr/>
        </p:nvPicPr>
        <p:blipFill>
          <a:blip r:embed="rId1"/>
          <a:stretch/>
        </p:blipFill>
        <p:spPr>
          <a:xfrm>
            <a:off x="-220680" y="-195120"/>
            <a:ext cx="9379080" cy="706896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1"/>
          <p:cNvSpPr/>
          <p:nvPr/>
        </p:nvSpPr>
        <p:spPr>
          <a:xfrm>
            <a:off x="-352440" y="2428920"/>
            <a:ext cx="901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292934"/>
                </a:solidFill>
                <a:latin typeface="宋体"/>
              </a:rPr>
              <a:t>请你读一读</a:t>
            </a:r>
            <a:r>
              <a:rPr b="1" lang="en-US" sz="4000" spc="-1" strike="noStrike">
                <a:solidFill>
                  <a:srgbClr val="292934"/>
                </a:solidFill>
                <a:latin typeface="宋体"/>
              </a:rPr>
              <a:t>1~6</a:t>
            </a:r>
            <a:r>
              <a:rPr b="1" lang="zh-CN" sz="4000" spc="-1" strike="noStrike">
                <a:solidFill>
                  <a:srgbClr val="292934"/>
                </a:solidFill>
                <a:latin typeface="宋体"/>
              </a:rPr>
              <a:t>自然段，来演一演吧！</a:t>
            </a:r>
            <a:r>
              <a:rPr b="1" lang="zh-CN" sz="3600" spc="-1" strike="noStrike">
                <a:solidFill>
                  <a:srgbClr val="292934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K)H]G{MOW3SC1TJHX~~2C`Q"/>
          <p:cNvPicPr/>
          <p:nvPr/>
        </p:nvPicPr>
        <p:blipFill>
          <a:blip r:embed="rId1"/>
          <a:stretch/>
        </p:blipFill>
        <p:spPr>
          <a:xfrm>
            <a:off x="-220680" y="-195120"/>
            <a:ext cx="9379080" cy="7068960"/>
          </a:xfrm>
          <a:prstGeom prst="rect">
            <a:avLst/>
          </a:prstGeom>
          <a:ln w="0">
            <a:noFill/>
          </a:ln>
        </p:spPr>
      </p:pic>
      <p:sp>
        <p:nvSpPr>
          <p:cNvPr id="245" name="文本框 2"/>
          <p:cNvSpPr/>
          <p:nvPr/>
        </p:nvSpPr>
        <p:spPr>
          <a:xfrm>
            <a:off x="54000" y="824040"/>
            <a:ext cx="88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34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大家注意，动物王国要开大会，请你们都参加！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你说一百遍，大会也开不起来。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为什么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？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因为你没告诉大家，大会在哪一天开，是今天，还是明天，还是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en-US" sz="3600" spc="-1" strike="noStrike">
                <a:solidFill>
                  <a:srgbClr val="292934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对，对，对！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” 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大会就在明天开，你快去通知大家吧！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" descr="K)H]G{MOW3SC1TJHX~~2C`Q"/>
          <p:cNvPicPr/>
          <p:nvPr/>
        </p:nvPicPr>
        <p:blipFill>
          <a:blip r:embed="rId1"/>
          <a:stretch/>
        </p:blipFill>
        <p:spPr>
          <a:xfrm>
            <a:off x="-135000" y="-130320"/>
            <a:ext cx="9293400" cy="700416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1"/>
          <p:cNvSpPr/>
          <p:nvPr/>
        </p:nvSpPr>
        <p:spPr>
          <a:xfrm>
            <a:off x="2851200" y="4314960"/>
            <a:ext cx="598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狗熊忘记了告诉大家开会的具体时间。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48" name="文本框 2"/>
          <p:cNvSpPr/>
          <p:nvPr/>
        </p:nvSpPr>
        <p:spPr>
          <a:xfrm>
            <a:off x="88920" y="1143000"/>
            <a:ext cx="884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34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292934"/>
                </a:solidFill>
                <a:latin typeface="楷体"/>
                <a:ea typeface="楷体"/>
              </a:rPr>
              <a:t>大家注意，动物王国要在明天开大会，请你们都参加！</a:t>
            </a:r>
            <a:endParaRPr b="0" lang="en-US" sz="60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49" name="图片 3" descr="timg (1)"/>
          <p:cNvPicPr/>
          <p:nvPr/>
        </p:nvPicPr>
        <p:blipFill>
          <a:blip r:embed="rId2"/>
          <a:stretch/>
        </p:blipFill>
        <p:spPr>
          <a:xfrm rot="20700000">
            <a:off x="118800" y="4074840"/>
            <a:ext cx="24764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1" descr="K)H]G{MOW3SC1TJHX~~2C`Q"/>
          <p:cNvPicPr/>
          <p:nvPr/>
        </p:nvPicPr>
        <p:blipFill>
          <a:blip r:embed="rId1"/>
          <a:stretch/>
        </p:blipFill>
        <p:spPr>
          <a:xfrm>
            <a:off x="-220680" y="-195120"/>
            <a:ext cx="9379080" cy="706896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"/>
          <p:cNvSpPr/>
          <p:nvPr/>
        </p:nvSpPr>
        <p:spPr>
          <a:xfrm>
            <a:off x="-23760" y="2428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292934"/>
                </a:solidFill>
                <a:latin typeface="宋体"/>
              </a:rPr>
              <a:t>请你读一读</a:t>
            </a:r>
            <a:r>
              <a:rPr b="1" lang="en-US" sz="4000" spc="-1" strike="noStrike">
                <a:solidFill>
                  <a:srgbClr val="292934"/>
                </a:solidFill>
                <a:latin typeface="宋体"/>
              </a:rPr>
              <a:t>7~12</a:t>
            </a:r>
            <a:r>
              <a:rPr b="1" lang="zh-CN" sz="4000" spc="-1" strike="noStrike">
                <a:solidFill>
                  <a:srgbClr val="292934"/>
                </a:solidFill>
                <a:latin typeface="宋体"/>
              </a:rPr>
              <a:t>自然段，来演一演第二个场景吧！</a:t>
            </a:r>
            <a:r>
              <a:rPr b="1" lang="zh-CN" sz="3600" spc="-1" strike="noStrike">
                <a:solidFill>
                  <a:srgbClr val="292934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" descr="K)H]G{MOW3SC1TJHX~~2C`Q"/>
          <p:cNvPicPr/>
          <p:nvPr/>
        </p:nvPicPr>
        <p:blipFill>
          <a:blip r:embed="rId1"/>
          <a:stretch/>
        </p:blipFill>
        <p:spPr>
          <a:xfrm>
            <a:off x="-220680" y="-195120"/>
            <a:ext cx="9379080" cy="706896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2"/>
          <p:cNvSpPr/>
          <p:nvPr/>
        </p:nvSpPr>
        <p:spPr>
          <a:xfrm>
            <a:off x="54000" y="824040"/>
            <a:ext cx="88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34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大家注意，动物王国要在明天开大会，请你们都参加！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你说一百遍，大会也开不起来。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为什么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？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因为你没告诉大家，在明天什么时候开，上午还是下午，几点钟开。</a:t>
            </a:r>
            <a:r>
              <a:rPr b="1" lang="en-US" sz="3600" spc="-1" strike="noStrike">
                <a:solidFill>
                  <a:srgbClr val="292934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有道理，有道理！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” 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大会就在明天上午八点开，你再去通知大家吧！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1" descr="K)H]G{MOW3SC1TJHX~~2C`Q"/>
          <p:cNvPicPr/>
          <p:nvPr/>
        </p:nvPicPr>
        <p:blipFill>
          <a:blip r:embed="rId1"/>
          <a:stretch/>
        </p:blipFill>
        <p:spPr>
          <a:xfrm>
            <a:off x="-135000" y="-130320"/>
            <a:ext cx="9293400" cy="700416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1"/>
          <p:cNvSpPr/>
          <p:nvPr/>
        </p:nvSpPr>
        <p:spPr>
          <a:xfrm>
            <a:off x="2851200" y="4314960"/>
            <a:ext cx="598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狗熊忘记了告诉大家开会的地点。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56" name="文本框 2"/>
          <p:cNvSpPr/>
          <p:nvPr/>
        </p:nvSpPr>
        <p:spPr>
          <a:xfrm>
            <a:off x="88920" y="1143000"/>
            <a:ext cx="884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34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292934"/>
                </a:solidFill>
                <a:latin typeface="楷体"/>
                <a:ea typeface="楷体"/>
              </a:rPr>
              <a:t>大家注意，动物王国要在明天上午八点开大会，请你们都参加！</a:t>
            </a:r>
            <a:endParaRPr b="0" lang="en-US" sz="60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57" name="图片 3" descr="C:\Users\Lin\Desktop\timg (2).jpgtimg (2)"/>
          <p:cNvPicPr/>
          <p:nvPr/>
        </p:nvPicPr>
        <p:blipFill>
          <a:blip r:embed="rId2"/>
          <a:stretch/>
        </p:blipFill>
        <p:spPr>
          <a:xfrm rot="20700000">
            <a:off x="212760" y="4074840"/>
            <a:ext cx="22892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" descr="K)H]G{MOW3SC1TJHX~~2C`Q"/>
          <p:cNvPicPr/>
          <p:nvPr/>
        </p:nvPicPr>
        <p:blipFill>
          <a:blip r:embed="rId1"/>
          <a:stretch/>
        </p:blipFill>
        <p:spPr>
          <a:xfrm>
            <a:off x="-220680" y="-195120"/>
            <a:ext cx="9379080" cy="706896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1"/>
          <p:cNvSpPr/>
          <p:nvPr/>
        </p:nvSpPr>
        <p:spPr>
          <a:xfrm>
            <a:off x="-23760" y="2428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34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292934"/>
                </a:solidFill>
                <a:latin typeface="宋体"/>
              </a:rPr>
              <a:t>请你读一读</a:t>
            </a:r>
            <a:r>
              <a:rPr b="1" lang="en-US" sz="4000" spc="-1" strike="noStrike">
                <a:solidFill>
                  <a:srgbClr val="292934"/>
                </a:solidFill>
                <a:latin typeface="宋体"/>
              </a:rPr>
              <a:t>13~16</a:t>
            </a:r>
            <a:r>
              <a:rPr b="1" lang="zh-CN" sz="4000" spc="-1" strike="noStrike">
                <a:solidFill>
                  <a:srgbClr val="292934"/>
                </a:solidFill>
                <a:latin typeface="宋体"/>
              </a:rPr>
              <a:t>自然段，来演一演第三个场景吧！</a:t>
            </a:r>
            <a:r>
              <a:rPr b="1" lang="zh-CN" sz="3600" spc="-1" strike="noStrike">
                <a:solidFill>
                  <a:srgbClr val="292934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1" descr="K)H]G{MOW3SC1TJHX~~2C`Q"/>
          <p:cNvPicPr/>
          <p:nvPr/>
        </p:nvPicPr>
        <p:blipFill>
          <a:blip r:embed="rId1"/>
          <a:stretch/>
        </p:blipFill>
        <p:spPr>
          <a:xfrm>
            <a:off x="-220680" y="-195120"/>
            <a:ext cx="9379080" cy="706896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2"/>
          <p:cNvSpPr/>
          <p:nvPr/>
        </p:nvSpPr>
        <p:spPr>
          <a:xfrm>
            <a:off x="54000" y="824040"/>
            <a:ext cx="882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34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大家注意，动物王国要在明天上午八点开大会，请你们都参加！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大会在哪儿开呀？你得说清楚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我怎么没问清楚呢？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    “</a:t>
            </a:r>
            <a:r>
              <a:rPr b="1" lang="zh-CN" sz="3600" spc="-1" strike="noStrike">
                <a:solidFill>
                  <a:srgbClr val="292934"/>
                </a:solidFill>
                <a:latin typeface="宋体"/>
              </a:rPr>
              <a:t>哎呀！忘了说地点。大会在森林广场开，你再去通知大家吧！”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1" descr="K)H]G{MOW3SC1TJHX~~2C`Q"/>
          <p:cNvPicPr/>
          <p:nvPr/>
        </p:nvPicPr>
        <p:blipFill>
          <a:blip r:embed="rId1"/>
          <a:stretch/>
        </p:blipFill>
        <p:spPr>
          <a:xfrm>
            <a:off x="-135000" y="-130320"/>
            <a:ext cx="9293400" cy="700416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49400" y="2011320"/>
            <a:ext cx="884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34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292934"/>
                </a:solidFill>
                <a:latin typeface="楷体"/>
                <a:ea typeface="楷体"/>
              </a:rPr>
              <a:t>请注意啦！明天上午八点，在森林广场开大会，请大家准时参加！</a:t>
            </a:r>
            <a:endParaRPr b="0" lang="en-US" sz="60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64" name="图片 3" descr="C:\Users\Lin\Desktop\timg (3).jpgtimg (3)"/>
          <p:cNvPicPr/>
          <p:nvPr/>
        </p:nvPicPr>
        <p:blipFill>
          <a:blip r:embed="rId2"/>
          <a:stretch/>
        </p:blipFill>
        <p:spPr>
          <a:xfrm rot="20700000">
            <a:off x="61920" y="284040"/>
            <a:ext cx="228924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5" name="组合 17"/>
          <p:cNvGrpSpPr/>
          <p:nvPr/>
        </p:nvGrpSpPr>
        <p:grpSpPr>
          <a:xfrm>
            <a:off x="755640" y="5030640"/>
            <a:ext cx="1311120" cy="1603440"/>
            <a:chOff x="755640" y="5030640"/>
            <a:chExt cx="1311120" cy="1603440"/>
          </a:xfrm>
        </p:grpSpPr>
        <p:pic>
          <p:nvPicPr>
            <p:cNvPr id="266" name="图片 6" descr=""/>
            <p:cNvPicPr/>
            <p:nvPr/>
          </p:nvPicPr>
          <p:blipFill>
            <a:blip r:embed="rId3"/>
            <a:srcRect l="0" t="0" r="66921" b="50006"/>
            <a:stretch/>
          </p:blipFill>
          <p:spPr>
            <a:xfrm>
              <a:off x="755640" y="5030640"/>
              <a:ext cx="131112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矩形 19"/>
            <p:cNvSpPr/>
            <p:nvPr/>
          </p:nvSpPr>
          <p:spPr>
            <a:xfrm>
              <a:off x="1153440" y="5744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时间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3459240" y="5030640"/>
            <a:ext cx="1319040" cy="1603440"/>
            <a:chOff x="3459240" y="5030640"/>
            <a:chExt cx="1319040" cy="1603440"/>
          </a:xfrm>
        </p:grpSpPr>
        <p:pic>
          <p:nvPicPr>
            <p:cNvPr id="269" name="图片 7" descr=""/>
            <p:cNvPicPr/>
            <p:nvPr/>
          </p:nvPicPr>
          <p:blipFill>
            <a:blip r:embed="rId4"/>
            <a:srcRect l="66739" t="0" r="0" b="50006"/>
            <a:stretch/>
          </p:blipFill>
          <p:spPr>
            <a:xfrm>
              <a:off x="3459240" y="5030640"/>
              <a:ext cx="13190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矩形 22"/>
            <p:cNvSpPr/>
            <p:nvPr/>
          </p:nvSpPr>
          <p:spPr>
            <a:xfrm>
              <a:off x="3875760" y="5743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地点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71" name="组合 18"/>
          <p:cNvGrpSpPr/>
          <p:nvPr/>
        </p:nvGrpSpPr>
        <p:grpSpPr>
          <a:xfrm>
            <a:off x="6421320" y="5030640"/>
            <a:ext cx="1317600" cy="1603440"/>
            <a:chOff x="6421320" y="5030640"/>
            <a:chExt cx="1317600" cy="1603440"/>
          </a:xfrm>
        </p:grpSpPr>
        <p:pic>
          <p:nvPicPr>
            <p:cNvPr id="272" name="图片 13" descr=""/>
            <p:cNvPicPr/>
            <p:nvPr/>
          </p:nvPicPr>
          <p:blipFill>
            <a:blip r:embed="rId5"/>
            <a:srcRect l="66739" t="0" r="0" b="50006"/>
            <a:stretch/>
          </p:blipFill>
          <p:spPr>
            <a:xfrm>
              <a:off x="6421320" y="5030640"/>
              <a:ext cx="13176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矩形 16"/>
            <p:cNvSpPr/>
            <p:nvPr/>
          </p:nvSpPr>
          <p:spPr>
            <a:xfrm>
              <a:off x="6858360" y="5742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人物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" descr="K)H]G{MOW3SC1TJHX~~2C`Q"/>
          <p:cNvPicPr/>
          <p:nvPr/>
        </p:nvPicPr>
        <p:blipFill>
          <a:blip r:embed="rId1"/>
          <a:stretch/>
        </p:blipFill>
        <p:spPr>
          <a:xfrm>
            <a:off x="-14400" y="-39600"/>
            <a:ext cx="9172800" cy="6913440"/>
          </a:xfrm>
          <a:prstGeom prst="rect">
            <a:avLst/>
          </a:prstGeom>
          <a:ln w="0">
            <a:noFill/>
          </a:ln>
        </p:spPr>
      </p:pic>
      <p:pic>
        <p:nvPicPr>
          <p:cNvPr id="170" name="矩形 11" descr=""/>
          <p:cNvPicPr/>
          <p:nvPr/>
        </p:nvPicPr>
        <p:blipFill>
          <a:blip r:embed="rId2"/>
          <a:stretch/>
        </p:blipFill>
        <p:spPr>
          <a:xfrm>
            <a:off x="907920" y="3568680"/>
            <a:ext cx="7743960" cy="1311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1114560" y="1573200"/>
            <a:ext cx="69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34"/>
                </a:solidFill>
                <a:latin typeface="黑体"/>
                <a:ea typeface="黑体"/>
              </a:rPr>
              <a:t>小朋友们，你们喜欢小动物吗？最喜欢什么动物？</a:t>
            </a:r>
            <a:endParaRPr b="0" lang="en-US" sz="40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1" descr="K)H]G{MOW3SC1TJHX~~2C`Q"/>
          <p:cNvPicPr/>
          <p:nvPr/>
        </p:nvPicPr>
        <p:blipFill>
          <a:blip r:embed="rId1"/>
          <a:stretch/>
        </p:blipFill>
        <p:spPr>
          <a:xfrm>
            <a:off x="-135000" y="-130320"/>
            <a:ext cx="9293400" cy="700416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49400" y="2011320"/>
            <a:ext cx="884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92934"/>
                </a:solidFill>
                <a:latin typeface="楷体"/>
                <a:ea typeface="楷体"/>
              </a:rPr>
              <a:t>    </a:t>
            </a:r>
            <a:r>
              <a:rPr b="1" lang="zh-CN" sz="6000" spc="-1" strike="noStrike">
                <a:solidFill>
                  <a:srgbClr val="292934"/>
                </a:solidFill>
                <a:latin typeface="楷体"/>
                <a:ea typeface="楷体"/>
              </a:rPr>
              <a:t>请注意啦！明天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上午八点</a:t>
            </a:r>
            <a:r>
              <a:rPr b="1" lang="zh-CN" sz="6000" spc="-1" strike="noStrike">
                <a:solidFill>
                  <a:srgbClr val="292934"/>
                </a:solidFill>
                <a:latin typeface="楷体"/>
                <a:ea typeface="楷体"/>
              </a:rPr>
              <a:t>，在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森林广场</a:t>
            </a:r>
            <a:r>
              <a:rPr b="1" lang="zh-CN" sz="6000" spc="-1" strike="noStrike">
                <a:solidFill>
                  <a:srgbClr val="292934"/>
                </a:solidFill>
                <a:latin typeface="楷体"/>
                <a:ea typeface="楷体"/>
              </a:rPr>
              <a:t>开大会，请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大家</a:t>
            </a:r>
            <a:r>
              <a:rPr b="1" lang="zh-CN" sz="6000" spc="-1" strike="noStrike">
                <a:solidFill>
                  <a:srgbClr val="292934"/>
                </a:solidFill>
                <a:latin typeface="楷体"/>
                <a:ea typeface="楷体"/>
              </a:rPr>
              <a:t>准时参加！</a:t>
            </a:r>
            <a:endParaRPr b="0" lang="en-US" sz="60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76" name="图片 3" descr="C:\Users\Lin\Desktop\timg (3).jpgtimg (3)"/>
          <p:cNvPicPr/>
          <p:nvPr/>
        </p:nvPicPr>
        <p:blipFill>
          <a:blip r:embed="rId2"/>
          <a:stretch/>
        </p:blipFill>
        <p:spPr>
          <a:xfrm rot="20700000">
            <a:off x="61920" y="284040"/>
            <a:ext cx="228924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77" name="组合 17"/>
          <p:cNvGrpSpPr/>
          <p:nvPr/>
        </p:nvGrpSpPr>
        <p:grpSpPr>
          <a:xfrm>
            <a:off x="755640" y="5030640"/>
            <a:ext cx="1311120" cy="1603440"/>
            <a:chOff x="755640" y="5030640"/>
            <a:chExt cx="1311120" cy="1603440"/>
          </a:xfrm>
        </p:grpSpPr>
        <p:pic>
          <p:nvPicPr>
            <p:cNvPr id="278" name="图片 6" descr=""/>
            <p:cNvPicPr/>
            <p:nvPr/>
          </p:nvPicPr>
          <p:blipFill>
            <a:blip r:embed="rId3"/>
            <a:srcRect l="0" t="0" r="66921" b="50006"/>
            <a:stretch/>
          </p:blipFill>
          <p:spPr>
            <a:xfrm>
              <a:off x="755640" y="5030640"/>
              <a:ext cx="131112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矩形 19"/>
            <p:cNvSpPr/>
            <p:nvPr/>
          </p:nvSpPr>
          <p:spPr>
            <a:xfrm>
              <a:off x="1153440" y="5744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时间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80" name="组合 20"/>
          <p:cNvGrpSpPr/>
          <p:nvPr/>
        </p:nvGrpSpPr>
        <p:grpSpPr>
          <a:xfrm>
            <a:off x="3459240" y="5030640"/>
            <a:ext cx="1319040" cy="1603440"/>
            <a:chOff x="3459240" y="5030640"/>
            <a:chExt cx="1319040" cy="1603440"/>
          </a:xfrm>
        </p:grpSpPr>
        <p:pic>
          <p:nvPicPr>
            <p:cNvPr id="281" name="图片 7" descr=""/>
            <p:cNvPicPr/>
            <p:nvPr/>
          </p:nvPicPr>
          <p:blipFill>
            <a:blip r:embed="rId4"/>
            <a:srcRect l="66739" t="0" r="0" b="50006"/>
            <a:stretch/>
          </p:blipFill>
          <p:spPr>
            <a:xfrm>
              <a:off x="3459240" y="5030640"/>
              <a:ext cx="13190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矩形 22"/>
            <p:cNvSpPr/>
            <p:nvPr/>
          </p:nvSpPr>
          <p:spPr>
            <a:xfrm>
              <a:off x="3875760" y="5743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地点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83" name="组合 18"/>
          <p:cNvGrpSpPr/>
          <p:nvPr/>
        </p:nvGrpSpPr>
        <p:grpSpPr>
          <a:xfrm>
            <a:off x="6421320" y="5030640"/>
            <a:ext cx="1317600" cy="1603440"/>
            <a:chOff x="6421320" y="5030640"/>
            <a:chExt cx="1317600" cy="1603440"/>
          </a:xfrm>
        </p:grpSpPr>
        <p:pic>
          <p:nvPicPr>
            <p:cNvPr id="284" name="图片 13" descr=""/>
            <p:cNvPicPr/>
            <p:nvPr/>
          </p:nvPicPr>
          <p:blipFill>
            <a:blip r:embed="rId5"/>
            <a:srcRect l="66739" t="0" r="0" b="50006"/>
            <a:stretch/>
          </p:blipFill>
          <p:spPr>
            <a:xfrm>
              <a:off x="6421320" y="5030640"/>
              <a:ext cx="13176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16"/>
            <p:cNvSpPr/>
            <p:nvPr/>
          </p:nvSpPr>
          <p:spPr>
            <a:xfrm>
              <a:off x="6858360" y="5742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人物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1" descr="K)H]G{MOW3SC1TJHX~~2C`Q"/>
          <p:cNvPicPr/>
          <p:nvPr/>
        </p:nvPicPr>
        <p:blipFill>
          <a:blip r:embed="rId1"/>
          <a:stretch/>
        </p:blipFill>
        <p:spPr>
          <a:xfrm>
            <a:off x="-14400" y="-39600"/>
            <a:ext cx="9172800" cy="691344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"/>
          <p:cNvSpPr/>
          <p:nvPr/>
        </p:nvSpPr>
        <p:spPr>
          <a:xfrm>
            <a:off x="555480" y="1158840"/>
            <a:ext cx="803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楷体"/>
                <a:ea typeface="楷体"/>
              </a:rPr>
              <a:t>   </a:t>
            </a:r>
            <a:r>
              <a:rPr b="1" lang="en-US" sz="4000" spc="-1" strike="noStrike">
                <a:solidFill>
                  <a:srgbClr val="292934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292934"/>
                </a:solidFill>
                <a:latin typeface="楷体"/>
                <a:ea typeface="楷体"/>
              </a:rPr>
              <a:t>经过四次通知开会成功，你能总结出通知一件事情必须讲清楚哪几点吗？</a:t>
            </a:r>
            <a:endParaRPr b="0" lang="en-US" sz="40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88" name="文本框 4"/>
          <p:cNvSpPr/>
          <p:nvPr/>
        </p:nvSpPr>
        <p:spPr>
          <a:xfrm>
            <a:off x="996840" y="3505320"/>
            <a:ext cx="67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具体时间   地点   人物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图片 1" descr="K)H]G{MOW3SC1TJHX~~2C`Q"/>
          <p:cNvPicPr/>
          <p:nvPr/>
        </p:nvPicPr>
        <p:blipFill>
          <a:blip r:embed="rId1"/>
          <a:stretch/>
        </p:blipFill>
        <p:spPr>
          <a:xfrm>
            <a:off x="-157320" y="-147600"/>
            <a:ext cx="9315720" cy="702144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430200" y="552600"/>
            <a:ext cx="8282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黑体"/>
                <a:ea typeface="黑体"/>
              </a:rPr>
              <a:t>读一读，说一说。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通知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34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292934"/>
                </a:solidFill>
                <a:latin typeface="黑体"/>
                <a:ea typeface="黑体"/>
              </a:rPr>
              <a:t>本周五早上八点，请参加运动会入场式的各班同学，在教学楼门前集合。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800" spc="-1" strike="noStrike">
                <a:solidFill>
                  <a:srgbClr val="292934"/>
                </a:solidFill>
                <a:latin typeface="黑体"/>
                <a:ea typeface="黑体"/>
              </a:rPr>
              <a:t>少先队大队部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黑体"/>
                <a:ea typeface="黑体"/>
              </a:rPr>
              <a:t>                              </a:t>
            </a:r>
            <a:r>
              <a:rPr b="1" lang="en-US" sz="2800" spc="-1" strike="noStrike">
                <a:solidFill>
                  <a:srgbClr val="292934"/>
                </a:solidFill>
                <a:latin typeface="黑体"/>
                <a:ea typeface="黑体"/>
              </a:rPr>
              <a:t>2016</a:t>
            </a:r>
            <a:r>
              <a:rPr b="1" lang="zh-CN" sz="2800" spc="-1" strike="noStrike">
                <a:solidFill>
                  <a:srgbClr val="292934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292934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292934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292934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292934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1" descr="K)H]G{MOW3SC1TJHX~~2C`Q"/>
          <p:cNvPicPr/>
          <p:nvPr/>
        </p:nvPicPr>
        <p:blipFill>
          <a:blip r:embed="rId1"/>
          <a:stretch/>
        </p:blipFill>
        <p:spPr>
          <a:xfrm>
            <a:off x="-65160" y="-77760"/>
            <a:ext cx="9223560" cy="69516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2"/>
          <p:cNvSpPr/>
          <p:nvPr/>
        </p:nvSpPr>
        <p:spPr>
          <a:xfrm>
            <a:off x="301680" y="663480"/>
            <a:ext cx="91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本周五早上八点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点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教学楼门前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加人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参加运动会入场的同学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事情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集合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知人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少先队大队部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知时间：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2016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年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4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月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20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日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1" descr="K)H]G{MOW3SC1TJHX~~2C`Q"/>
          <p:cNvPicPr/>
          <p:nvPr/>
        </p:nvPicPr>
        <p:blipFill>
          <a:blip r:embed="rId1"/>
          <a:stretch/>
        </p:blipFill>
        <p:spPr>
          <a:xfrm>
            <a:off x="-235080" y="-235080"/>
            <a:ext cx="9344160" cy="70423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3"/>
          <p:cNvSpPr/>
          <p:nvPr/>
        </p:nvSpPr>
        <p:spPr>
          <a:xfrm>
            <a:off x="3871080" y="1122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怎么写通知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95" name="TextBox 4"/>
          <p:cNvSpPr/>
          <p:nvPr/>
        </p:nvSpPr>
        <p:spPr>
          <a:xfrm>
            <a:off x="297000" y="2087640"/>
            <a:ext cx="8280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92934"/>
                </a:solidFill>
                <a:latin typeface="Calibri"/>
              </a:rPr>
              <a:t>通知包括标题、正文、落款。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标题：</a:t>
            </a:r>
            <a:r>
              <a:rPr b="1" lang="zh-CN" sz="2600" spc="-1" strike="noStrike">
                <a:solidFill>
                  <a:srgbClr val="292934"/>
                </a:solidFill>
                <a:latin typeface="Calibri"/>
              </a:rPr>
              <a:t>写在第一行正中间，所以只写“通知”二字。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正文：</a:t>
            </a:r>
            <a:r>
              <a:rPr b="1" lang="zh-CN" sz="2600" spc="-1" strike="noStrike">
                <a:solidFill>
                  <a:srgbClr val="292934"/>
                </a:solidFill>
                <a:latin typeface="Calibri"/>
              </a:rPr>
              <a:t>另起一行，空两格写正文，要写清楚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Calibri"/>
              </a:rPr>
              <a:t>通知什么人、什么时间、在什么地方做什么事</a:t>
            </a:r>
            <a:r>
              <a:rPr b="1" lang="zh-CN" sz="2600" spc="-1" strike="noStrike">
                <a:solidFill>
                  <a:srgbClr val="292934"/>
                </a:solidFill>
                <a:latin typeface="Calibri"/>
              </a:rPr>
              <a:t>。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落款：</a:t>
            </a:r>
            <a:r>
              <a:rPr b="1" lang="zh-CN" sz="2600" spc="-1" strike="noStrike">
                <a:solidFill>
                  <a:srgbClr val="292934"/>
                </a:solidFill>
                <a:latin typeface="Calibri"/>
              </a:rPr>
              <a:t>分两行写在正文右下方，一行写通知人、一行写日期。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1" descr="K)H]G{MOW3SC1TJHX~~2C`Q"/>
          <p:cNvPicPr/>
          <p:nvPr/>
        </p:nvPicPr>
        <p:blipFill>
          <a:blip r:embed="rId1"/>
          <a:stretch/>
        </p:blipFill>
        <p:spPr>
          <a:xfrm>
            <a:off x="-65160" y="-77760"/>
            <a:ext cx="9223560" cy="69516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2"/>
          <p:cNvSpPr/>
          <p:nvPr/>
        </p:nvSpPr>
        <p:spPr>
          <a:xfrm>
            <a:off x="301680" y="663480"/>
            <a:ext cx="91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本周二上午八点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点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操场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加人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参加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庆六一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”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文艺表演的同学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事情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集合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知人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少先队大队部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知时间：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2017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年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5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月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日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1" descr="K)H]G{MOW3SC1TJHX~~2C`Q"/>
          <p:cNvPicPr/>
          <p:nvPr/>
        </p:nvPicPr>
        <p:blipFill>
          <a:blip r:embed="rId1"/>
          <a:stretch/>
        </p:blipFill>
        <p:spPr>
          <a:xfrm>
            <a:off x="-65160" y="-77760"/>
            <a:ext cx="9223560" cy="695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组合 4"/>
          <p:cNvGrpSpPr/>
          <p:nvPr/>
        </p:nvGrpSpPr>
        <p:grpSpPr>
          <a:xfrm>
            <a:off x="306360" y="1031760"/>
            <a:ext cx="8531280" cy="3745080"/>
            <a:chOff x="306360" y="1031760"/>
            <a:chExt cx="8531280" cy="3745080"/>
          </a:xfrm>
        </p:grpSpPr>
        <p:sp>
          <p:nvSpPr>
            <p:cNvPr id="300" name="横卷形 2"/>
            <p:cNvSpPr/>
            <p:nvPr/>
          </p:nvSpPr>
          <p:spPr>
            <a:xfrm>
              <a:off x="306360" y="1031760"/>
              <a:ext cx="8531280" cy="3745080"/>
            </a:xfrm>
            <a:prstGeom prst="horizontalScroll">
              <a:avLst>
                <a:gd name="adj" fmla="val 12500"/>
              </a:avLst>
            </a:pr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  <p:sp>
          <p:nvSpPr>
            <p:cNvPr id="301" name="TextBox 2"/>
            <p:cNvSpPr/>
            <p:nvPr/>
          </p:nvSpPr>
          <p:spPr>
            <a:xfrm>
              <a:off x="927720" y="1417320"/>
              <a:ext cx="7738560" cy="28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通知</a:t>
              </a:r>
              <a:endParaRPr b="0" lang="en-US" sz="3600" spc="-1" strike="noStrike">
                <a:solidFill>
                  <a:srgbClr val="292934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本周二上午八点，请参加“庆六一”文艺表演的同学，在操场集合。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                    </a:t>
              </a:r>
              <a:r>
                <a:rPr b="1" lang="zh-CN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少先队大部</a:t>
              </a:r>
              <a:r>
                <a:rPr b="1" lang="en-US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                              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                      </a:t>
              </a:r>
              <a:r>
                <a:rPr b="1" lang="en-US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2017</a:t>
              </a:r>
              <a:r>
                <a:rPr b="1" lang="zh-CN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292934"/>
                  </a:solidFill>
                  <a:latin typeface="楷体_GB2312"/>
                  <a:ea typeface="楷体_GB2312"/>
                </a:rPr>
                <a:t>日</a:t>
              </a: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1" descr="K)H]G{MOW3SC1TJHX~~2C`Q"/>
          <p:cNvPicPr/>
          <p:nvPr/>
        </p:nvPicPr>
        <p:blipFill>
          <a:blip r:embed="rId1"/>
          <a:stretch/>
        </p:blipFill>
        <p:spPr>
          <a:xfrm>
            <a:off x="-65160" y="-77760"/>
            <a:ext cx="9223560" cy="69516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2"/>
          <p:cNvSpPr/>
          <p:nvPr/>
        </p:nvSpPr>
        <p:spPr>
          <a:xfrm>
            <a:off x="301680" y="663480"/>
            <a:ext cx="91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本周三下午一点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点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教室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加人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参加拔河的同学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事情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集合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知人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张老师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知时间：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2017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年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5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月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日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4" descr="K)H]G{MOW3SC1TJHX~~2C`Q"/>
          <p:cNvPicPr/>
          <p:nvPr/>
        </p:nvPicPr>
        <p:blipFill>
          <a:blip r:embed="rId1"/>
          <a:stretch/>
        </p:blipFill>
        <p:spPr>
          <a:xfrm>
            <a:off x="-14400" y="-39600"/>
            <a:ext cx="9172800" cy="691344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"/>
          <p:cNvSpPr/>
          <p:nvPr/>
        </p:nvSpPr>
        <p:spPr>
          <a:xfrm>
            <a:off x="1808280" y="698400"/>
            <a:ext cx="552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34"/>
                </a:solidFill>
                <a:latin typeface="楷体"/>
                <a:ea typeface="楷体"/>
              </a:rPr>
              <a:t>初读课文，整体感知。</a:t>
            </a:r>
            <a:endParaRPr b="0" lang="en-US" sz="40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174" name="图片 6" descr=""/>
          <p:cNvPicPr/>
          <p:nvPr/>
        </p:nvPicPr>
        <p:blipFill>
          <a:blip r:embed="rId2"/>
          <a:stretch/>
        </p:blipFill>
        <p:spPr>
          <a:xfrm>
            <a:off x="-14400" y="3218040"/>
            <a:ext cx="2908440" cy="36558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" descr="]ZN8)MZBJ7V4811HBRKYBTW"/>
          <p:cNvPicPr/>
          <p:nvPr/>
        </p:nvPicPr>
        <p:blipFill>
          <a:blip r:embed="rId3"/>
          <a:stretch/>
        </p:blipFill>
        <p:spPr>
          <a:xfrm>
            <a:off x="5611680" y="4359240"/>
            <a:ext cx="3546720" cy="25146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"/>
          <p:cNvSpPr/>
          <p:nvPr/>
        </p:nvSpPr>
        <p:spPr>
          <a:xfrm>
            <a:off x="3987000" y="1736640"/>
            <a:ext cx="154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、课文有几个自然段？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、找出课文中难读的生字，看清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拼音读一读，认一认。</a:t>
            </a: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K)H]G{MOW3SC1TJHX~~2C`Q"/>
          <p:cNvPicPr/>
          <p:nvPr/>
        </p:nvPicPr>
        <p:blipFill>
          <a:blip r:embed="rId1"/>
          <a:stretch/>
        </p:blipFill>
        <p:spPr>
          <a:xfrm>
            <a:off x="-152280" y="-144360"/>
            <a:ext cx="9310680" cy="7018200"/>
          </a:xfrm>
          <a:prstGeom prst="rect">
            <a:avLst/>
          </a:prstGeom>
          <a:ln w="0">
            <a:noFill/>
          </a:ln>
        </p:spPr>
      </p:pic>
      <p:pic>
        <p:nvPicPr>
          <p:cNvPr id="178" name="文本框 1" descr=""/>
          <p:cNvPicPr/>
          <p:nvPr/>
        </p:nvPicPr>
        <p:blipFill>
          <a:blip r:embed="rId2"/>
          <a:stretch/>
        </p:blipFill>
        <p:spPr>
          <a:xfrm>
            <a:off x="225360" y="1309680"/>
            <a:ext cx="9205920" cy="109692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1"/>
          <p:cNvSpPr/>
          <p:nvPr/>
        </p:nvSpPr>
        <p:spPr>
          <a:xfrm>
            <a:off x="279360" y="480960"/>
            <a:ext cx="93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wù  hǔ xióng tōng   zhù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yì</a:t>
            </a:r>
            <a:endParaRPr b="0" lang="en-US" sz="4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0" name="文本框 1"/>
          <p:cNvSpPr/>
          <p:nvPr/>
        </p:nvSpPr>
        <p:spPr>
          <a:xfrm>
            <a:off x="976320" y="3963960"/>
            <a:ext cx="857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li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</a:rPr>
              <a:t>ǎ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     zhǔn     dì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181" name="文本框 1" descr=""/>
          <p:cNvPicPr/>
          <p:nvPr/>
        </p:nvPicPr>
        <p:blipFill>
          <a:blip r:embed="rId3"/>
          <a:stretch/>
        </p:blipFill>
        <p:spPr>
          <a:xfrm>
            <a:off x="792000" y="4740120"/>
            <a:ext cx="8334360" cy="1098720"/>
          </a:xfrm>
          <a:prstGeom prst="rect">
            <a:avLst/>
          </a:prstGeom>
          <a:ln w="0">
            <a:noFill/>
          </a:ln>
        </p:spPr>
      </p:pic>
      <p:sp>
        <p:nvSpPr>
          <p:cNvPr id="182" name="文本框 2"/>
          <p:cNvSpPr/>
          <p:nvPr/>
        </p:nvSpPr>
        <p:spPr>
          <a:xfrm>
            <a:off x="1058760" y="2119320"/>
            <a:ext cx="634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biàn   b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</a:rPr>
              <a:t>ǎ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i    shé    gu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183" name="文本框 6" descr=""/>
          <p:cNvPicPr/>
          <p:nvPr/>
        </p:nvPicPr>
        <p:blipFill>
          <a:blip r:embed="rId4"/>
          <a:stretch/>
        </p:blipFill>
        <p:spPr>
          <a:xfrm>
            <a:off x="857160" y="2971800"/>
            <a:ext cx="683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1" descr="K)H]G{MOW3SC1TJHX~~2C`Q"/>
          <p:cNvPicPr/>
          <p:nvPr/>
        </p:nvPicPr>
        <p:blipFill>
          <a:blip r:embed="rId1"/>
          <a:stretch/>
        </p:blipFill>
        <p:spPr>
          <a:xfrm>
            <a:off x="-14400" y="-39600"/>
            <a:ext cx="9172800" cy="691344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1"/>
          <p:cNvSpPr/>
          <p:nvPr/>
        </p:nvSpPr>
        <p:spPr>
          <a:xfrm>
            <a:off x="81000" y="1324080"/>
            <a:ext cx="92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92934"/>
                </a:solidFill>
                <a:latin typeface="楷体"/>
                <a:ea typeface="楷体"/>
              </a:rPr>
              <a:t>物  虎  熊  通  注 意</a:t>
            </a:r>
            <a:endParaRPr b="0" lang="en-US" sz="66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186" name="文本框 1" descr=""/>
          <p:cNvPicPr/>
          <p:nvPr/>
        </p:nvPicPr>
        <p:blipFill>
          <a:blip r:embed="rId2"/>
          <a:stretch/>
        </p:blipFill>
        <p:spPr>
          <a:xfrm>
            <a:off x="792000" y="4740120"/>
            <a:ext cx="8334360" cy="1098720"/>
          </a:xfrm>
          <a:prstGeom prst="rect">
            <a:avLst/>
          </a:prstGeom>
          <a:ln w="0">
            <a:noFill/>
          </a:ln>
        </p:spPr>
      </p:pic>
      <p:pic>
        <p:nvPicPr>
          <p:cNvPr id="187" name="文本框 6" descr=""/>
          <p:cNvPicPr/>
          <p:nvPr/>
        </p:nvPicPr>
        <p:blipFill>
          <a:blip r:embed="rId3"/>
          <a:stretch/>
        </p:blipFill>
        <p:spPr>
          <a:xfrm>
            <a:off x="857160" y="2971800"/>
            <a:ext cx="683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C:\Users\Administrator\AppData\Roaming\Tencent\Users\394424136\QQ\WinTemp\RichOle\V6%_4ILYEU]M`SEX48[~BB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2"/>
          <p:cNvGrpSpPr/>
          <p:nvPr/>
        </p:nvGrpSpPr>
        <p:grpSpPr>
          <a:xfrm>
            <a:off x="2362320" y="380880"/>
            <a:ext cx="1447200" cy="1218960"/>
            <a:chOff x="2362320" y="380880"/>
            <a:chExt cx="1447200" cy="1218960"/>
          </a:xfrm>
        </p:grpSpPr>
        <p:pic>
          <p:nvPicPr>
            <p:cNvPr id="190" name="Picture 3" descr="25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14284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Rectangle 4" descr=""/>
            <p:cNvPicPr/>
            <p:nvPr/>
          </p:nvPicPr>
          <p:blipFill>
            <a:blip r:embed="rId3"/>
            <a:stretch/>
          </p:blipFill>
          <p:spPr>
            <a:xfrm>
              <a:off x="2587680" y="533160"/>
              <a:ext cx="122184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5"/>
          <p:cNvGrpSpPr/>
          <p:nvPr/>
        </p:nvGrpSpPr>
        <p:grpSpPr>
          <a:xfrm>
            <a:off x="6095880" y="609480"/>
            <a:ext cx="1447560" cy="1219320"/>
            <a:chOff x="6095880" y="609480"/>
            <a:chExt cx="1447560" cy="1219320"/>
          </a:xfrm>
        </p:grpSpPr>
        <p:pic>
          <p:nvPicPr>
            <p:cNvPr id="193" name="Picture 6" descr="25"/>
            <p:cNvPicPr/>
            <p:nvPr/>
          </p:nvPicPr>
          <p:blipFill>
            <a:blip r:embed="rId4"/>
            <a:stretch/>
          </p:blipFill>
          <p:spPr>
            <a:xfrm>
              <a:off x="6095880" y="609480"/>
              <a:ext cx="14475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7"/>
            <p:cNvSpPr/>
            <p:nvPr/>
          </p:nvSpPr>
          <p:spPr>
            <a:xfrm>
              <a:off x="6520320" y="7459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292934"/>
                  </a:solidFill>
                  <a:latin typeface="楷体"/>
                  <a:ea typeface="楷体"/>
                </a:rPr>
                <a:t>舌</a:t>
              </a:r>
              <a:endParaRPr b="0" lang="en-US" sz="60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195" name="Group 8"/>
          <p:cNvGrpSpPr/>
          <p:nvPr/>
        </p:nvGrpSpPr>
        <p:grpSpPr>
          <a:xfrm>
            <a:off x="3286080" y="3214800"/>
            <a:ext cx="1447920" cy="1218960"/>
            <a:chOff x="3286080" y="3214800"/>
            <a:chExt cx="1447920" cy="1218960"/>
          </a:xfrm>
        </p:grpSpPr>
        <p:pic>
          <p:nvPicPr>
            <p:cNvPr id="196" name="Picture 9" descr="25"/>
            <p:cNvPicPr/>
            <p:nvPr/>
          </p:nvPicPr>
          <p:blipFill>
            <a:blip r:embed="rId5"/>
            <a:stretch/>
          </p:blipFill>
          <p:spPr>
            <a:xfrm>
              <a:off x="3286080" y="3214800"/>
              <a:ext cx="14479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10"/>
            <p:cNvSpPr/>
            <p:nvPr/>
          </p:nvSpPr>
          <p:spPr>
            <a:xfrm>
              <a:off x="3745800" y="33670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292934"/>
                  </a:solidFill>
                  <a:latin typeface="楷体"/>
                  <a:ea typeface="楷体"/>
                </a:rPr>
                <a:t>鬼</a:t>
              </a:r>
              <a:endParaRPr b="0" lang="en-US" sz="60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198" name="Group 11"/>
          <p:cNvGrpSpPr/>
          <p:nvPr/>
        </p:nvGrpSpPr>
        <p:grpSpPr>
          <a:xfrm>
            <a:off x="685800" y="2286000"/>
            <a:ext cx="1447560" cy="1219320"/>
            <a:chOff x="685800" y="2286000"/>
            <a:chExt cx="1447560" cy="1219320"/>
          </a:xfrm>
        </p:grpSpPr>
        <p:pic>
          <p:nvPicPr>
            <p:cNvPr id="199" name="Picture 12" descr="25"/>
            <p:cNvPicPr/>
            <p:nvPr/>
          </p:nvPicPr>
          <p:blipFill>
            <a:blip r:embed="rId6"/>
            <a:stretch/>
          </p:blipFill>
          <p:spPr>
            <a:xfrm>
              <a:off x="685800" y="2286000"/>
              <a:ext cx="1358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Rectangle 13" descr=""/>
            <p:cNvPicPr/>
            <p:nvPr/>
          </p:nvPicPr>
          <p:blipFill>
            <a:blip r:embed="rId7"/>
            <a:stretch/>
          </p:blipFill>
          <p:spPr>
            <a:xfrm>
              <a:off x="971640" y="2432160"/>
              <a:ext cx="116172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Group 14"/>
          <p:cNvGrpSpPr/>
          <p:nvPr/>
        </p:nvGrpSpPr>
        <p:grpSpPr>
          <a:xfrm>
            <a:off x="4114800" y="2362320"/>
            <a:ext cx="1447920" cy="1218960"/>
            <a:chOff x="4114800" y="2362320"/>
            <a:chExt cx="1447920" cy="1218960"/>
          </a:xfrm>
        </p:grpSpPr>
        <p:pic>
          <p:nvPicPr>
            <p:cNvPr id="202" name="Picture 15" descr="25"/>
            <p:cNvPicPr/>
            <p:nvPr/>
          </p:nvPicPr>
          <p:blipFill>
            <a:blip r:embed="rId8"/>
            <a:stretch/>
          </p:blipFill>
          <p:spPr>
            <a:xfrm>
              <a:off x="4114800" y="2362320"/>
              <a:ext cx="14479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16"/>
            <p:cNvSpPr/>
            <p:nvPr/>
          </p:nvSpPr>
          <p:spPr>
            <a:xfrm>
              <a:off x="4498200" y="25146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292934"/>
                  </a:solidFill>
                  <a:latin typeface="楷体"/>
                  <a:ea typeface="楷体"/>
                </a:rPr>
                <a:t>脸</a:t>
              </a:r>
              <a:endParaRPr b="0" lang="en-US" sz="60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04" name="Group 17"/>
          <p:cNvGrpSpPr/>
          <p:nvPr/>
        </p:nvGrpSpPr>
        <p:grpSpPr>
          <a:xfrm>
            <a:off x="4800600" y="1066680"/>
            <a:ext cx="1447560" cy="1219320"/>
            <a:chOff x="4800600" y="1066680"/>
            <a:chExt cx="1447560" cy="1219320"/>
          </a:xfrm>
        </p:grpSpPr>
        <p:pic>
          <p:nvPicPr>
            <p:cNvPr id="205" name="Picture 18" descr="25"/>
            <p:cNvPicPr/>
            <p:nvPr/>
          </p:nvPicPr>
          <p:blipFill>
            <a:blip r:embed="rId9"/>
            <a:stretch/>
          </p:blipFill>
          <p:spPr>
            <a:xfrm>
              <a:off x="4800600" y="1066680"/>
              <a:ext cx="14475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Rectangle 19"/>
            <p:cNvSpPr/>
            <p:nvPr/>
          </p:nvSpPr>
          <p:spPr>
            <a:xfrm>
              <a:off x="5225040" y="12189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292934"/>
                  </a:solidFill>
                  <a:latin typeface="楷体"/>
                  <a:ea typeface="楷体"/>
                </a:rPr>
                <a:t>准</a:t>
              </a:r>
              <a:endParaRPr b="0" lang="en-US" sz="60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07" name="Group 20"/>
          <p:cNvGrpSpPr/>
          <p:nvPr/>
        </p:nvGrpSpPr>
        <p:grpSpPr>
          <a:xfrm>
            <a:off x="609480" y="3429000"/>
            <a:ext cx="1447560" cy="1219320"/>
            <a:chOff x="609480" y="3429000"/>
            <a:chExt cx="1447560" cy="1219320"/>
          </a:xfrm>
        </p:grpSpPr>
        <p:pic>
          <p:nvPicPr>
            <p:cNvPr id="208" name="Picture 21" descr="25"/>
            <p:cNvPicPr/>
            <p:nvPr/>
          </p:nvPicPr>
          <p:blipFill>
            <a:blip r:embed="rId10"/>
            <a:stretch/>
          </p:blipFill>
          <p:spPr>
            <a:xfrm>
              <a:off x="609480" y="3429000"/>
              <a:ext cx="1428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Rectangle 22" descr=""/>
            <p:cNvPicPr/>
            <p:nvPr/>
          </p:nvPicPr>
          <p:blipFill>
            <a:blip r:embed="rId11"/>
            <a:stretch/>
          </p:blipFill>
          <p:spPr>
            <a:xfrm>
              <a:off x="834840" y="3581280"/>
              <a:ext cx="122220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23"/>
          <p:cNvGrpSpPr/>
          <p:nvPr/>
        </p:nvGrpSpPr>
        <p:grpSpPr>
          <a:xfrm>
            <a:off x="3886200" y="152280"/>
            <a:ext cx="1447560" cy="1219320"/>
            <a:chOff x="3886200" y="152280"/>
            <a:chExt cx="1447560" cy="1219320"/>
          </a:xfrm>
        </p:grpSpPr>
        <p:pic>
          <p:nvPicPr>
            <p:cNvPr id="211" name="Picture 24" descr="25"/>
            <p:cNvPicPr/>
            <p:nvPr/>
          </p:nvPicPr>
          <p:blipFill>
            <a:blip r:embed="rId12"/>
            <a:stretch/>
          </p:blipFill>
          <p:spPr>
            <a:xfrm>
              <a:off x="3886200" y="152280"/>
              <a:ext cx="14288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Rectangle 25" descr=""/>
            <p:cNvPicPr/>
            <p:nvPr/>
          </p:nvPicPr>
          <p:blipFill>
            <a:blip r:embed="rId13"/>
            <a:stretch/>
          </p:blipFill>
          <p:spPr>
            <a:xfrm>
              <a:off x="4111560" y="228600"/>
              <a:ext cx="1222200" cy="100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29"/>
          <p:cNvGrpSpPr/>
          <p:nvPr/>
        </p:nvGrpSpPr>
        <p:grpSpPr>
          <a:xfrm>
            <a:off x="1066680" y="1066680"/>
            <a:ext cx="1447560" cy="1219320"/>
            <a:chOff x="1066680" y="1066680"/>
            <a:chExt cx="1447560" cy="1219320"/>
          </a:xfrm>
        </p:grpSpPr>
        <p:pic>
          <p:nvPicPr>
            <p:cNvPr id="214" name="Picture 30" descr="25"/>
            <p:cNvPicPr/>
            <p:nvPr/>
          </p:nvPicPr>
          <p:blipFill>
            <a:blip r:embed="rId14"/>
            <a:stretch/>
          </p:blipFill>
          <p:spPr>
            <a:xfrm>
              <a:off x="1066680" y="1066680"/>
              <a:ext cx="13586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Rectangle 31" descr=""/>
            <p:cNvPicPr/>
            <p:nvPr/>
          </p:nvPicPr>
          <p:blipFill>
            <a:blip r:embed="rId15"/>
            <a:stretch/>
          </p:blipFill>
          <p:spPr>
            <a:xfrm>
              <a:off x="1352520" y="1203120"/>
              <a:ext cx="116172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35"/>
          <p:cNvGrpSpPr/>
          <p:nvPr/>
        </p:nvGrpSpPr>
        <p:grpSpPr>
          <a:xfrm>
            <a:off x="3048120" y="1523880"/>
            <a:ext cx="1447200" cy="1218960"/>
            <a:chOff x="3048120" y="1523880"/>
            <a:chExt cx="1447200" cy="1218960"/>
          </a:xfrm>
        </p:grpSpPr>
        <p:pic>
          <p:nvPicPr>
            <p:cNvPr id="217" name="Picture 36" descr="25"/>
            <p:cNvPicPr/>
            <p:nvPr/>
          </p:nvPicPr>
          <p:blipFill>
            <a:blip r:embed="rId16"/>
            <a:stretch/>
          </p:blipFill>
          <p:spPr>
            <a:xfrm>
              <a:off x="3048120" y="1523880"/>
              <a:ext cx="14284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Rectangle 37" descr=""/>
            <p:cNvPicPr/>
            <p:nvPr/>
          </p:nvPicPr>
          <p:blipFill>
            <a:blip r:embed="rId17"/>
            <a:stretch/>
          </p:blipFill>
          <p:spPr>
            <a:xfrm>
              <a:off x="3273480" y="1660320"/>
              <a:ext cx="122184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38"/>
          <p:cNvGrpSpPr/>
          <p:nvPr/>
        </p:nvGrpSpPr>
        <p:grpSpPr>
          <a:xfrm>
            <a:off x="2209680" y="2514600"/>
            <a:ext cx="1447560" cy="1219320"/>
            <a:chOff x="2209680" y="2514600"/>
            <a:chExt cx="1447560" cy="1219320"/>
          </a:xfrm>
        </p:grpSpPr>
        <p:pic>
          <p:nvPicPr>
            <p:cNvPr id="220" name="Picture 39" descr="25"/>
            <p:cNvPicPr/>
            <p:nvPr/>
          </p:nvPicPr>
          <p:blipFill>
            <a:blip r:embed="rId18"/>
            <a:stretch/>
          </p:blipFill>
          <p:spPr>
            <a:xfrm>
              <a:off x="2209680" y="2514600"/>
              <a:ext cx="14475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40"/>
            <p:cNvSpPr/>
            <p:nvPr/>
          </p:nvSpPr>
          <p:spPr>
            <a:xfrm>
              <a:off x="2678760" y="25970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292934"/>
                  </a:solidFill>
                  <a:latin typeface="楷体"/>
                  <a:ea typeface="楷体"/>
                </a:rPr>
                <a:t>遍</a:t>
              </a:r>
              <a:endParaRPr b="0" lang="en-US" sz="60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grpSp>
        <p:nvGrpSpPr>
          <p:cNvPr id="222" name="Group 41"/>
          <p:cNvGrpSpPr/>
          <p:nvPr/>
        </p:nvGrpSpPr>
        <p:grpSpPr>
          <a:xfrm>
            <a:off x="2209680" y="3962520"/>
            <a:ext cx="1447920" cy="1218960"/>
            <a:chOff x="2209680" y="3962520"/>
            <a:chExt cx="1447920" cy="1218960"/>
          </a:xfrm>
        </p:grpSpPr>
        <p:pic>
          <p:nvPicPr>
            <p:cNvPr id="223" name="Picture 42" descr="25"/>
            <p:cNvPicPr/>
            <p:nvPr/>
          </p:nvPicPr>
          <p:blipFill>
            <a:blip r:embed="rId19"/>
            <a:stretch/>
          </p:blipFill>
          <p:spPr>
            <a:xfrm>
              <a:off x="2209680" y="3962520"/>
              <a:ext cx="14479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43"/>
            <p:cNvSpPr/>
            <p:nvPr/>
          </p:nvSpPr>
          <p:spPr>
            <a:xfrm>
              <a:off x="2669400" y="4038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292934"/>
                  </a:solidFill>
                  <a:latin typeface="楷体"/>
                  <a:ea typeface="楷体"/>
                </a:rPr>
                <a:t>百</a:t>
              </a:r>
              <a:endParaRPr b="0" lang="en-US" sz="60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pic>
        <p:nvPicPr>
          <p:cNvPr id="225" name="Picture 6" descr="25"/>
          <p:cNvPicPr/>
          <p:nvPr/>
        </p:nvPicPr>
        <p:blipFill>
          <a:blip r:embed="rId20"/>
          <a:stretch/>
        </p:blipFill>
        <p:spPr>
          <a:xfrm>
            <a:off x="6080040" y="2314440"/>
            <a:ext cx="14479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"/>
          <p:cNvSpPr/>
          <p:nvPr/>
        </p:nvSpPr>
        <p:spPr>
          <a:xfrm>
            <a:off x="6504840" y="2451240"/>
            <a:ext cx="63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92934"/>
                </a:solidFill>
                <a:latin typeface="楷体"/>
                <a:ea typeface="楷体"/>
              </a:rPr>
              <a:t>第</a:t>
            </a:r>
            <a:endParaRPr b="0" lang="en-US" sz="60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11055 C -0.00173 0.11911 -0.00104 0.12628 -0.00017 0.1353 C 0.0007 0.17253 -0.00069 0.21716 0.00851 0.2537 C 0.00955 0.26712 0.01007 0.28192 0.01598 0.29325 C 0.01893 0.30481 0.02153 0.31615 0.02448 0.32771 C 0.0257 0.33257 0.02709 0.33765 0.0283 0.34251 C 0.02865 0.34413 0.02952 0.34737 0.02952 0.34737 C 0.02986 0.3513 0.03195 0.36055 0.03195 0.36541 E">
                                      <p:cBhvr>
                                        <p:cTn id="24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10523 C -0.0085 0.10592 -0.01666 0.10384 -0.02326 0.10846 C -0.0243 0.10916 -0.02482 0.11101 -0.02569 0.11193 C -0.03055 0.11679 -0.03611 0.11841 -0.04062 0.12327 C -0.04479 0.12766 -0.04843 0.13252 -0.05295 0.13645 C -0.05607 0.14292 -0.06059 0.14709 -0.06527 0.15125 C -0.0684 0.15772 -0.07222 0.16536 -0.0776 0.16767 C -0.08125 0.17276 -0.08437 0.17854 -0.08871 0.18247 C -0.09114 0.18733 -0.09496 0.1908 -0.09739 0.19565 C -0.10086 0.20282 -0.11007 0.21693 -0.11597 0.22202 C -0.12621 0.23104 -0.1125 0.21508 -0.12326 0.22687 C -0.1276 0.23173 -0.12361 0.22895 -0.1283 0.23358 C -0.13073 0.23589 -0.1335 0.23751 -0.13559 0.24006 C -0.13645 0.24121 -0.13732 0.24237 -0.13819 0.24329 C -0.14062 0.24561 -0.1427 0.24884 -0.14548 0.25 C -0.1467 0.25046 -0.1493 0.25162 -0.1493 0.25162 E">
                                      <p:cBhvr>
                                        <p:cTn id="2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268 C 0.00139 0.20976 3.33333000000075E-006 0.32169 0.01007 0.42831 C 0.01198 0.48196 0.00902 0.44866 0.0125 0.46947 C 0.01302 0.47225 0.01319 0.47502 0.01371 0.4778 C 0.01441 0.48104 0.01614 0.48751 0.01614 0.48751 E">
                                      <p:cBhvr>
                                        <p:cTn id="32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0.10731 C -0.00677 0.11147 -0.00833 0.11541 -0.01215 0.11888 C -0.01701 0.12882 -0.02274 0.13761 -0.0283 0.14686 C -0.03073 0.15079 -0.03177 0.15611 -0.03437 0.16004 C -0.03732 0.16444 -0.04114 0.16721 -0.04427 0.17137 C -0.04583 0.17808 -0.04913 0.17947 -0.05295 0.18456 C -0.05468 0.19149 -0.05573 0.19543 -0.06041 0.19936 C -0.06944 0.2241 -0.07656 0.24584 -0.08003 0.27336 C -0.08055 0.28331 -0.08055 0.29996 -0.08264 0.31129 C -0.0842 0.32031 -0.08784 0.32887 -0.08993 0.33765 C -0.09045 0.33997 -0.0927 0.34066 -0.09375 0.34251 C -0.09652 0.34714 -0.09722 0.35407 -0.10104 0.35731 C -0.10555 0.36124 -0.10729 0.36564 -0.11093 0.37049 C -0.11562 0.37697 -0.12014 0.37859 -0.12448 0.38691 C -0.1283 0.39408 -0.13142 0.40495 -0.1368 0.40981 C -0.13819 0.41513 -0.14305 0.42461 -0.14305 0.42461 C -0.146 0.43641 -0.14323 0.43271 -0.1493 0.43779 C -0.14965 0.44103 -0.15052 0.44774 -0.15052 0.44774 E">
                                      <p:cBhvr>
                                        <p:cTn id="3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10939 C 0.00139 0.13321 0.00591 0.19935 -0.00208 0.23774 C -0.00694 0.28955 -0.00625 0.34181 -0.00937 0.39385 C -0.01059 0.41397 -0.01076 0.43524 -0.01562 0.45467 C -0.01718 0.46785 -0.01961 0.48497 -0.02552 0.49584 C -0.02691 0.50139 -0.02986 0.51526 -0.03281 0.51896 C -0.03802 0.52544 -0.03889 0.53122 -0.04027 0.54024 C -0.03993 0.55666 -0.04166 0.60638 -0.02916 0.62419 C -0.02708 0.63251 -0.02291 0.645 -0.02291 0.65379 E">
                                      <p:cBhvr>
                                        <p:cTn id="40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11009 C -0.00608 0.11679 -0.00122 0.11101 -0.00764 0.11517 C -0.01267 0.11841 -0.01042 0.11864 -0.01493 0.12327 C -0.01736 0.12581 -0.0224 0.12998 -0.0224 0.12998 C -0.03524 0.15565 -0.0184 0.12466 -0.03472 0.1464 C -0.03698 0.1494 -0.03872 0.15333 -0.04097 0.15634 C -0.04236 0.15819 -0.04444 0.15912 -0.04583 0.1612 C -0.05104 0.16906 -0.0533 0.17577 -0.05937 0.18247 C -0.0651 0.18895 -0.06892 0.19566 -0.07292 0.20398 C -0.07448 0.20722 -0.07795 0.21369 -0.07795 0.21369 C -0.07986 0.22156 -0.0849 0.22641 -0.08785 0.23358 C -0.09028 0.23913 -0.09219 0.2463 -0.09514 0.25162 C -0.09618 0.25347 -0.09774 0.25486 -0.09896 0.25648 C -0.10104 0.25925 -0.1033 0.26157 -0.10503 0.2648 C -0.10885 0.27197 -0.11319 0.27799 -0.11875 0.28284 C -0.12153 0.28839 -0.125 0.2914 -0.12847 0.29603 C -0.13021 0.30227 -0.13177 0.30389 -0.13594 0.30759 C -0.14167 0.31915 -0.1342 0.30574 -0.1434 0.31568 C -0.15087 0.32378 -0.15521 0.33696 -0.16319 0.34367 C -0.16545 0.35269 -0.17326 0.35754 -0.17795 0.36517 C -0.18455 0.37581 -0.1901 0.38853 -0.19774 0.39801 C -0.19913 0.40333 -0.20382 0.41282 -0.20382 0.41282 C -0.20521 0.42438 -0.20868 0.43178 -0.21128 0.44242 C -0.21163 0.44843 -0.21181 0.45444 -0.2125 0.46046 C -0.21302 0.46393 -0.21493 0.4704 -0.21493 0.4704 C -0.21719 0.49122 -0.22344 0.51041 -0.22604 0.53122 C -0.22708 0.53978 -0.22812 0.54764 -0.22986 0.55597 C -0.23056 0.55921 -0.23229 0.56568 -0.23229 0.56568 C -0.23316 0.57332 -0.23472 0.57956 -0.23472 0.58719 E">
                                      <p:cBhvr>
                                        <p:cTn id="44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10731 C -0.00382 0.11587 -0.00156 0.10893 -0.00538 0.11563 C -0.00712 0.11887 -0.01042 0.12535 -0.01042 0.12535 C -0.01267 0.13506 -0.00972 0.12627 -0.01528 0.13367 C -0.02101 0.14131 -0.02604 0.15148 -0.03125 0.16004 C -0.04201 0.17808 -0.05017 0.19843 -0.05972 0.21739 C -0.0625 0.23289 -0.06997 0.24584 -0.07448 0.26018 C -0.07656 0.26642 -0.07674 0.27359 -0.0783 0.28007 C -0.07865 0.28885 -0.07865 0.29764 -0.07951 0.3062 C -0.07986 0.31059 -0.08108 0.31499 -0.08194 0.31938 C -0.08264 0.32285 -0.08437 0.32933 -0.08437 0.32933 C -0.08681 0.3661 -0.09306 0.40958 -0.10538 0.44288 C -0.11024 0.45629 -0.11042 0.47294 -0.11649 0.48566 C -0.11788 0.50093 -0.12031 0.53007 -0.12396 0.54487 C -0.12865 0.56337 -0.13316 0.58279 -0.13507 0.60222 C -0.13802 0.63252 -0.13663 0.66559 -0.15104 0.69103 C -0.15538 0.70884 -0.14861 0.68247 -0.15486 0.70097 C -0.15764 0.70907 -0.15764 0.71762 -0.16215 0.7241 C -0.16406 0.73659 -0.1684 0.74908 -0.1684 0.7618 E">
                                      <p:cBhvr>
                                        <p:cTn id="4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11147 C -0.00573 0.11402 -0.01007 0.12165 -0.01563 0.12627 C -0.02379 0.13321 -0.03177 0.14084 -0.04028 0.14755 C -0.04896 0.15449 -0.05504 0.16235 -0.06493 0.16559 C -0.07309 0.17299 -0.08143 0.17577 -0.09098 0.17877 C -0.09966 0.18479 -0.10729 0.18895 -0.11684 0.19195 C -0.12431 0.19982 -0.13386 0.20236 -0.14271 0.20676 C -0.15191 0.21115 -0.15139 0.21323 -0.1625 0.21508 C -0.1717 0.21809 -0.17969 0.22503 -0.18837 0.22988 C -0.20573 0.2396 -0.179 0.22133 -0.19948 0.23474 C -0.20747 0.23983 -0.21511 0.24607 -0.22292 0.25116 C -0.22813 0.2544 -0.23108 0.26041 -0.23664 0.26272 C -0.24254 0.26804 -0.24948 0.2729 -0.25625 0.2759 C -0.26042 0.28122 -0.26476 0.28585 -0.26997 0.28909 C -0.27361 0.29649 -0.28247 0.30736 -0.28716 0.3136 C -0.2974 0.32725 -0.30295 0.34621 -0.3132 0.35985 C -0.31528 0.36841 -0.31372 0.36355 -0.31927 0.37466 C -0.32014 0.37627 -0.3217 0.37951 -0.3217 0.37951 C -0.32309 0.38738 -0.32466 0.39408 -0.32795 0.40079 C -0.32969 0.40796 -0.33195 0.4149 -0.33664 0.41906 C -0.33698 0.42068 -0.33733 0.4223 -0.33785 0.42392 C -0.33854 0.42577 -0.33976 0.42692 -0.34028 0.42877 C -0.34289 0.43664 -0.34445 0.44542 -0.34653 0.45352 C -0.3474 0.45676 -0.34809 0.46022 -0.34896 0.46346 C -0.34983 0.46716 -0.35382 0.47318 -0.35382 0.47318 E">
                                      <p:cBhvr>
                                        <p:cTn id="5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10453 C -0.00799 0.10615 -0.01146 0.10939 -0.0165 0.11101 C -0.0217 0.11517 -0.02535 0.1191 -0.03125 0.12095 C -0.03542 0.12627 -0.05452 0.13876 -0.05973 0.14223 C -0.06129 0.14315 -0.06198 0.1457 -0.06337 0.14708 C -0.0665 0.15055 -0.07032 0.15333 -0.07327 0.15703 C -0.07448 0.15865 -0.0757 0.16027 -0.07709 0.16189 C -0.08316 0.16882 -0.08959 0.17322 -0.0967 0.17854 C -0.10643 0.18571 -0.10816 0.19056 -0.11893 0.19496 C -0.12483 0.20259 -0.12136 0.19843 -0.13004 0.20629 C -0.13664 0.21207 -0.14219 0.22271 -0.14983 0.22618 C -0.15104 0.22849 -0.15382 0.23404 -0.15608 0.23589 C -0.16129 0.24005 -0.1691 0.24306 -0.17327 0.24907 C -0.17726 0.25485 -0.1842 0.2611 -0.18941 0.26549 C -0.19792 0.27266 -0.18802 0.2611 -0.1967 0.27058 C -0.20174 0.27613 -0.20625 0.28191 -0.21164 0.287 C -0.21736 0.29856 -0.22657 0.30712 -0.23507 0.31498 C -0.24063 0.32007 -0.24445 0.32678 -0.25104 0.32979 C -0.2566 0.33672 -0.26181 0.34389 -0.26719 0.35106 C -0.27761 0.36471 -0.29271 0.3735 -0.30539 0.38228 C -0.31007 0.38552 -0.31233 0.38876 -0.31771 0.39061 C -0.32604 0.40125 -0.33559 0.41096 -0.34497 0.42021 C -0.34879 0.42391 -0.35365 0.42599 -0.35729 0.43016 C -0.36493 0.43848 -0.36945 0.44889 -0.3783 0.45467 C -0.38039 0.4586 -0.38177 0.463 -0.38438 0.46623 C -0.38559 0.46785 -0.38698 0.46924 -0.3882 0.47109 C -0.39236 0.4778 -0.39219 0.48404 -0.39792 0.48936 C -0.40139 0.50185 -0.39618 0.4852 -0.40782 0.50578 C -0.41563 0.51966 -0.42396 0.53214 -0.43125 0.54671 C -0.4349 0.55411 -0.43976 0.56175 -0.43993 0.57146 C -0.44028 0.60592 -0.43993 0.64061 -0.43993 0.67507 E">
                                      <p:cBhvr>
                                        <p:cTn id="5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10939 C -0.00747 0.11471 -0.01459 0.12211 -0.02275 0.12743 C -0.0349 0.14362 -0.01893 0.12164 -0.02882 0.13737 C -0.03438 0.14616 -0.03056 0.13876 -0.03629 0.14547 C -0.04966 0.16142 -0.06268 0.179 -0.07448 0.19658 C -0.08195 0.20768 -0.09063 0.21646 -0.09792 0.2278 C -0.10556 0.23959 -0.11702 0.24792 -0.12396 0.26064 C -0.129 0.26989 -0.13507 0.27868 -0.14115 0.287 C -0.14462 0.29764 -0.14983 0.30065 -0.15608 0.30828 C -0.1632 0.31683 -0.16858 0.32632 -0.1757 0.33464 C -0.18004 0.33973 -0.18212 0.34528 -0.18681 0.34921 C -0.19063 0.35615 -0.19566 0.36193 -0.19931 0.3691 C -0.20625 0.38251 -0.21233 0.39616 -0.22014 0.40865 C -0.22275 0.41281 -0.22552 0.41697 -0.22761 0.42183 C -0.22882 0.42461 -0.22969 0.42761 -0.23125 0.43016 C -0.23299 0.43316 -0.2375 0.43825 -0.2375 0.43825 C -0.23924 0.44773 -0.24393 0.45328 -0.2474 0.46138 C -0.25504 0.47872 -0.24879 0.4704 -0.25486 0.4778 C -0.25799 0.49052 -0.26007 0.50439 -0.26598 0.51549 C -0.26736 0.52151 -0.26823 0.52659 -0.27084 0.53191 C -0.2724 0.53839 -0.27761 0.54348 -0.28073 0.55018 C -0.28282 0.56105 -0.28733 0.56822 -0.29063 0.57817 C -0.29427 0.58904 -0.29393 0.60106 -0.2967 0.61239 C -0.29809 0.6302 -0.29896 0.64755 -0.30174 0.66512 C -0.30261 0.67067 -0.30434 0.67599 -0.30539 0.68177 C -0.30625 0.68617 -0.30782 0.69449 -0.30782 0.69449 C -0.30886 0.70976 -0.3092 0.72479 -0.31285 0.7389 C -0.31459 0.75532 -0.31893 0.77197 -0.31893 0.78839 E">
                                      <p:cBhvr>
                                        <p:cTn id="60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11009 C -0.01857 0.11934 -0.03611 0.13067 -0.0533 0.14316 C -0.05659 0.14547 -0.06007 0.14686 -0.06319 0.14963 C -0.06753 0.15356 -0.07083 0.15935 -0.07552 0.16282 C -0.07812 0.16467 -0.08142 0.16443 -0.08402 0.16605 C -0.09114 0.17068 -0.09722 0.17554 -0.10503 0.17762 C -0.11788 0.18756 -0.12986 0.19843 -0.1434 0.20722 C -0.15 0.21161 -0.15902 0.21971 -0.16562 0.22526 C -0.16909 0.22826 -0.17152 0.23335 -0.17552 0.2352 C -0.18472 0.23937 -0.196 0.24561 -0.20382 0.25324 C -0.21597 0.26504 -0.20121 0.25162 -0.21493 0.26157 C -0.22395 0.26827 -0.23159 0.2766 -0.24097 0.28284 C -0.2467 0.28654 -0.25069 0.29279 -0.25573 0.29764 C -0.26493 0.30643 -0.25659 0.29556 -0.26441 0.30435 C -0.26909 0.30967 -0.27083 0.31638 -0.27673 0.31915 C -0.28211 0.32493 -0.28715 0.33164 -0.2927 0.33719 C -0.29913 0.34367 -0.30642 0.34968 -0.3125 0.35685 C -0.32066 0.36656 -0.32812 0.37766 -0.33593 0.38807 C -0.33923 0.39246 -0.34201 0.39778 -0.34583 0.40125 C -0.34826 0.40356 -0.35121 0.40518 -0.3533 0.40796 C -0.36041 0.41744 -0.36666 0.43155 -0.37673 0.43571 C -0.38333 0.44172 -0.38941 0.45259 -0.39652 0.4556 C -0.40416 0.46231 -0.40989 0.4748 -0.41875 0.4785 C -0.42361 0.48867 -0.43194 0.49977 -0.43958 0.50648 C -0.45 0.52914 -0.46666 0.54672 -0.47916 0.5673 C -0.48507 0.57678 -0.49288 0.59112 -0.50139 0.5969 C -0.50434 0.60315 -0.50781 0.60754 -0.5125 0.61171 C -0.51823 0.62373 -0.51076 0.61009 -0.51996 0.62003 C -0.52586 0.62651 -0.52708 0.63784 -0.53472 0.64131 C -0.53559 0.64293 -0.53663 0.64455 -0.53715 0.6464 C -0.53784 0.64848 -0.53767 0.65079 -0.53836 0.65287 C -0.53941 0.65565 -0.54184 0.65727 -0.5434 0.65958 C -0.54375 0.6612 -0.54409 0.66282 -0.54461 0.66443 C -0.54531 0.66628 -0.54652 0.66744 -0.54705 0.66929 C -0.55243 0.68594 -0.54652 0.67369 -0.55208 0.68409 C -0.55486 0.69589 -0.55104 0.68201 -0.55694 0.69404 C -0.55764 0.69542 -0.55764 0.69727 -0.55816 0.69889 C -0.56041 0.70491 -0.56284 0.70699 -0.56684 0.71208 C -0.56892 0.71485 -0.57083 0.71786 -0.57291 0.7204 C -0.57378 0.72156 -0.57552 0.72364 -0.57552 0.72364 E">
                                      <p:cBhvr>
                                        <p:cTn id="6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10731 C -0.00451 0.11448 -0.01007 0.11749 -0.0151 0.12049 C -0.02361 0.12535 -0.03246 0.12882 -0.04097 0.13368 C -0.0467 0.13691 -0.05121 0.14246 -0.05712 0.14501 C -0.06076 0.15033 -0.06562 0.15102 -0.07066 0.15333 C -0.07344 0.15449 -0.07535 0.15842 -0.07812 0.15981 C -0.08403 0.16282 -0.08715 0.1649 -0.09288 0.16975 C -0.0967 0.17322 -0.10538 0.17507 -0.11007 0.17646 C -0.11892 0.18224 -0.12743 0.18802 -0.13611 0.1945 C -0.14045 0.19774 -0.14288 0.20306 -0.14722 0.20606 C -0.15052 0.20837 -0.15399 0.20976 -0.15712 0.21254 C -0.16094 0.21601 -0.16337 0.22063 -0.16701 0.2241 C -0.16944 0.22641 -0.1743 0.23058 -0.1743 0.23058 C -0.1776 0.23751 -0.18073 0.24121 -0.18663 0.24376 C -0.1908 0.24908 -0.19496 0.25301 -0.20035 0.25532 C -0.21059 0.26897 -0.19774 0.25255 -0.20764 0.26342 C -0.21319 0.26943 -0.21701 0.27729 -0.22257 0.28331 C -0.22673 0.2877 -0.22726 0.29232 -0.23229 0.29487 C -0.23316 0.29603 -0.2342 0.29695 -0.23489 0.29811 C -0.23576 0.29949 -0.23628 0.30158 -0.23732 0.30296 C -0.24062 0.30736 -0.24323 0.30921 -0.24601 0.31453 C -0.24809 0.32285 -0.25139 0.32516 -0.2559 0.33095 C -0.25677 0.33442 -0.26007 0.34413 -0.26319 0.34413 E">
                                      <p:cBhvr>
                                        <p:cTn id="6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9236 0.009167 L -0.017292 0.018333 L -0.026458 0.022963 L -0.035625 0.029074 L -0.047153 0.035185 L -0.056319 0.041296 L -0.066667 0.048981 L -0.077014 0.055093 L -0.087292 0.064259 L -0.095347 0.070463 L -0.104583 0.078056 L -0.11375 0.084167 L -0.126389 0.096481 L -0.134444 0.102593 L -0.142431 0.111759 L -0.151667 0.119444 L -0.161944 0.128611 L -0.172292 0.137778 L -0.180347 0.145463 L -0.189514 0.156204 L -0.19875 0.16537 L -0.207917 0.174537 L -0.217083 0.182222 L -0.226319 0.191389 L -0.234306 0.199074 L -0.242361 0.206759 L -0.251597 0.214352 L -0.260764 0.218981 L -0.269931 0.223519 L -0.282569 0.231204 L -0.291736 0.237315 L -0.299792 0.243426 L -0.307847 0.24963 L -0.315903 0.252685 L -0.327361 0.261852 L -0.336528 0.267963 L -0.345764 0.272593 L -0.354931 0.280185 L -0.364097 0.28787 L -0.373333 0.295556 L -0.383681 0.303148 L -0.391667 0.309352 L -0.400903 0.315463 L -0.411181 0.323148 L -0.420417 0.332315 L -0.430764 0.339907 L -0.439931 0.347593 L -0.447986 0.353704 L -0.455972 0.359815 L -0.465208 0.370556 L -0.474375 0.379722 L -0.482431 0.388981 L -0.490486 0.396574 L -0.498472 0.407315 L -0.506528 0.415 L -0.514583 0.425741 L -0.522639 0.437963 L -0.527222 0.448704 L -0.531806 0.459352 L -0.535278 0.470093 E">
                                      <p:cBhvr>
                                        <p:cTn id="72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9236 0.009167 L -0.017292 0.018333 L -0.026458 0.022963 L -0.035625 0.029074 L -0.047153 0.035185 L -0.056319 0.041296 L -0.066667 0.048981 L -0.077014 0.055093 L -0.087292 0.064259 L -0.095347 0.070463 L -0.104583 0.078056 L -0.11375 0.084167 L -0.126389 0.096481 L -0.134444 0.102593 L -0.142431 0.111759 L -0.151667 0.119444 L -0.161944 0.128611 L -0.172292 0.137778 L -0.180347 0.145463 L -0.189514 0.156204 L -0.19875 0.16537 L -0.207917 0.174537 L -0.217083 0.182222 L -0.226319 0.191389 L -0.234306 0.199074 L -0.242361 0.206759 L -0.251597 0.214352 L -0.260764 0.218981 L -0.269931 0.223519 L -0.282569 0.231204 L -0.291736 0.237315 L -0.299792 0.243426 L -0.307847 0.24963 L -0.315903 0.252685 L -0.327361 0.261852 L -0.336528 0.267963 L -0.345764 0.272593 L -0.354931 0.280185 L -0.364097 0.28787 L -0.373333 0.295556 L -0.383681 0.303148 L -0.391667 0.309352 L -0.400903 0.315463 L -0.411181 0.323148 L -0.420417 0.332315 L -0.430764 0.339907 L -0.439931 0.347593 L -0.447986 0.353704 L -0.455972 0.359815 L -0.465208 0.370556 L -0.474375 0.379722 L -0.482431 0.388981 L -0.490486 0.396574 L -0.498472 0.407315 L -0.506528 0.415 L -0.514583 0.425741 L -0.522639 0.437963 L -0.527222 0.448704 L -0.531806 0.459352 L -0.535278 0.470093 E">
                                      <p:cBhvr>
                                        <p:cTn id="7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" descr="K)H]G{MOW3SC1TJHX~~2C`Q"/>
          <p:cNvPicPr/>
          <p:nvPr/>
        </p:nvPicPr>
        <p:blipFill>
          <a:blip r:embed="rId1"/>
          <a:stretch/>
        </p:blipFill>
        <p:spPr>
          <a:xfrm>
            <a:off x="-84240" y="-92160"/>
            <a:ext cx="9242640" cy="6966000"/>
          </a:xfrm>
          <a:prstGeom prst="rect">
            <a:avLst/>
          </a:prstGeom>
          <a:ln w="0">
            <a:noFill/>
          </a:ln>
        </p:spPr>
      </p:pic>
      <p:sp>
        <p:nvSpPr>
          <p:cNvPr id="228" name="文本框 1"/>
          <p:cNvSpPr/>
          <p:nvPr/>
        </p:nvSpPr>
        <p:spPr>
          <a:xfrm>
            <a:off x="549360" y="995400"/>
            <a:ext cx="8453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2934"/>
                </a:solidFill>
                <a:latin typeface="楷体"/>
                <a:ea typeface="楷体"/>
              </a:rPr>
              <a:t>狗熊  注意  老虎  参加</a:t>
            </a:r>
            <a:endParaRPr b="0" lang="en-US" sz="54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2934"/>
                </a:solidFill>
                <a:latin typeface="楷体"/>
                <a:ea typeface="楷体"/>
              </a:rPr>
              <a:t>  </a:t>
            </a:r>
            <a:endParaRPr b="0" lang="en-US" sz="54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2934"/>
                </a:solidFill>
                <a:latin typeface="楷体"/>
                <a:ea typeface="楷体"/>
              </a:rPr>
              <a:t>鬼脸   喇叭    通知  </a:t>
            </a:r>
            <a:endParaRPr b="0" lang="en-US" sz="54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2934"/>
                </a:solidFill>
                <a:latin typeface="楷体"/>
                <a:ea typeface="楷体"/>
              </a:rPr>
              <a:t> </a:t>
            </a:r>
            <a:endParaRPr b="0" lang="en-US" sz="54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2934"/>
                </a:solidFill>
                <a:latin typeface="楷体"/>
                <a:ea typeface="楷体"/>
              </a:rPr>
              <a:t>清楚   准时    梅花鹿 </a:t>
            </a:r>
            <a:endParaRPr b="0" lang="en-US" sz="5400" spc="-1" strike="noStrike">
              <a:solidFill>
                <a:srgbClr val="292934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2934"/>
                </a:solidFill>
                <a:latin typeface="楷体"/>
                <a:ea typeface="楷体"/>
              </a:rPr>
              <a:t>  </a:t>
            </a:r>
            <a:endParaRPr b="0" lang="en-US" sz="54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K)H]G{MOW3SC1TJHX~~2C`Q"/>
          <p:cNvPicPr/>
          <p:nvPr/>
        </p:nvPicPr>
        <p:blipFill>
          <a:blip r:embed="rId1"/>
          <a:stretch/>
        </p:blipFill>
        <p:spPr>
          <a:xfrm>
            <a:off x="-119160" y="-117360"/>
            <a:ext cx="9277560" cy="6991200"/>
          </a:xfrm>
          <a:prstGeom prst="rect">
            <a:avLst/>
          </a:prstGeom>
          <a:ln w="0">
            <a:noFill/>
          </a:ln>
        </p:spPr>
      </p:pic>
      <p:sp>
        <p:nvSpPr>
          <p:cNvPr id="230" name="文本框 99"/>
          <p:cNvSpPr/>
          <p:nvPr/>
        </p:nvSpPr>
        <p:spPr>
          <a:xfrm>
            <a:off x="369720" y="460440"/>
            <a:ext cx="444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92934"/>
                </a:solidFill>
                <a:latin typeface="楷体"/>
                <a:ea typeface="楷体"/>
              </a:rPr>
              <a:t>文章里写了多少动物？</a:t>
            </a:r>
            <a:endParaRPr b="0" lang="en-US" sz="44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31" name="图片 1" descr="PZL1IH25U[7{UC$NKUF)@IU"/>
          <p:cNvPicPr/>
          <p:nvPr/>
        </p:nvPicPr>
        <p:blipFill>
          <a:blip r:embed="rId2"/>
          <a:stretch/>
        </p:blipFill>
        <p:spPr>
          <a:xfrm>
            <a:off x="-14400" y="3216240"/>
            <a:ext cx="3086280" cy="36576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" descr="IZE1XUH(B77QUCT0WLL[WU2"/>
          <p:cNvPicPr/>
          <p:nvPr/>
        </p:nvPicPr>
        <p:blipFill>
          <a:blip r:embed="rId3"/>
          <a:stretch/>
        </p:blipFill>
        <p:spPr>
          <a:xfrm>
            <a:off x="3071880" y="3216240"/>
            <a:ext cx="6086520" cy="365760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4"/>
          <p:cNvSpPr/>
          <p:nvPr/>
        </p:nvSpPr>
        <p:spPr>
          <a:xfrm>
            <a:off x="449280" y="2022480"/>
            <a:ext cx="44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老虎、狗熊、狐狸、大灰狼、梅花鹿。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34" name="图片 5" descr="L`QDJDG1WDTZ98Q_]PL`JTN"/>
          <p:cNvPicPr/>
          <p:nvPr/>
        </p:nvPicPr>
        <p:blipFill>
          <a:blip r:embed="rId4"/>
          <a:stretch/>
        </p:blipFill>
        <p:spPr>
          <a:xfrm>
            <a:off x="5530680" y="-39600"/>
            <a:ext cx="36277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1" descr="K)H]G{MOW3SC1TJHX~~2C`Q"/>
          <p:cNvPicPr/>
          <p:nvPr/>
        </p:nvPicPr>
        <p:blipFill>
          <a:blip r:embed="rId1"/>
          <a:stretch/>
        </p:blipFill>
        <p:spPr>
          <a:xfrm>
            <a:off x="-104760" y="-108000"/>
            <a:ext cx="9263160" cy="69818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1109520" y="1335240"/>
            <a:ext cx="6834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动物王国要开大会，狗熊一共给动物们下了几次通知？</a:t>
            </a:r>
            <a:endParaRPr b="0" lang="en-US" sz="40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237" name="矩形 2" descr=""/>
          <p:cNvPicPr/>
          <p:nvPr/>
        </p:nvPicPr>
        <p:blipFill>
          <a:blip r:embed="rId2"/>
          <a:stretch/>
        </p:blipFill>
        <p:spPr>
          <a:xfrm>
            <a:off x="3438360" y="3641760"/>
            <a:ext cx="169884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cp:keywords/>
  <dc:language>en-US</dc:language>
  <cp:lastModifiedBy>微软用户</cp:lastModifiedBy>
  <dcterms:modified xsi:type="dcterms:W3CDTF">2018-03-25T10:18:28Z</dcterms:modified>
  <cp:revision>65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