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79A-A2F6-4D4C-B99F-E34B97FF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5D0-D203-4DC9-9404-8E0E9A66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EC3-D380-481A-BAEE-7237694A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84D-8D1C-42CD-8F85-EB6FF88F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1ED-554A-4178-AC1C-DEFB0623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D96-509C-4E6D-A35A-90B874B2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416-C6C8-4609-8EE4-882911C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408-AF28-4804-88CD-7BDDB64B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1B9-7074-4B67-85EE-8E5D48C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A4B-AD85-4F32-A9BB-79D12839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16D-B7D3-4977-94E9-7954B6E2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A7B-FC1E-44B8-B77D-E91550D6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1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rcRect l="0" t="0" r="0" b="20498"/>
          <a:stretch/>
        </p:blipFill>
        <p:spPr>
          <a:xfrm>
            <a:off x="0" y="58680"/>
            <a:ext cx="9144000" cy="5207040"/>
          </a:xfrm>
          <a:prstGeom prst="rect">
            <a:avLst/>
          </a:prstGeom>
          <a:ln w="0">
            <a:noFill/>
          </a:ln>
        </p:spPr>
      </p:pic>
      <p:sp>
        <p:nvSpPr>
          <p:cNvPr id="40" name="矩形 8"/>
          <p:cNvSpPr/>
          <p:nvPr/>
        </p:nvSpPr>
        <p:spPr>
          <a:xfrm>
            <a:off x="31680" y="6400800"/>
            <a:ext cx="9112320" cy="114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http://i01.pic.sogou.com/58755012e9728896"/>
          <p:cNvPicPr/>
          <p:nvPr/>
        </p:nvPicPr>
        <p:blipFill>
          <a:blip r:embed="rId3"/>
          <a:stretch/>
        </p:blipFill>
        <p:spPr>
          <a:xfrm>
            <a:off x="7404120" y="5864400"/>
            <a:ext cx="623880" cy="682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90E8-05C0-43E4-B97E-5297509B45D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2165400" y="1052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7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王国开大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Users\apple\Desktop\空\slide0042_image005.JPG"/>
          <p:cNvPicPr/>
          <p:nvPr/>
        </p:nvPicPr>
        <p:blipFill>
          <a:blip r:embed="rId1"/>
          <a:stretch/>
        </p:blipFill>
        <p:spPr>
          <a:xfrm>
            <a:off x="1476360" y="1844640"/>
            <a:ext cx="61912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C:\Documents and Settings\Administrator\Application Data\Tencent\Users\491632989\QQ\WinTemp\RichOle\IZUPZBE]_FAX8GT4_1FJIJ8.png"/>
          <p:cNvPicPr/>
          <p:nvPr/>
        </p:nvPicPr>
        <p:blipFill>
          <a:blip r:embed="rId1"/>
          <a:stretch/>
        </p:blipFill>
        <p:spPr>
          <a:xfrm>
            <a:off x="1500120" y="1785960"/>
            <a:ext cx="171468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cuments and Settings\Administrator\Application Data\Tencent\Users\491632989\QQ\WinTemp\RichOle\SP9C64{Q[)4@D}LB38MQ~~K.png"/>
          <p:cNvPicPr/>
          <p:nvPr/>
        </p:nvPicPr>
        <p:blipFill>
          <a:blip r:embed="rId2"/>
          <a:stretch/>
        </p:blipFill>
        <p:spPr>
          <a:xfrm>
            <a:off x="4143240" y="1785960"/>
            <a:ext cx="1663920" cy="17143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1500120" y="3857760"/>
            <a:ext cx="164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不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还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要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143240" y="3857760"/>
            <a:ext cx="171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舌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舌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舌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1042920" y="1052640"/>
            <a:ext cx="69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7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王国开大会（第二课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Users\apple\Desktop\空\slide0042_image005.JPG"/>
          <p:cNvPicPr/>
          <p:nvPr/>
        </p:nvPicPr>
        <p:blipFill>
          <a:blip r:embed="rId1"/>
          <a:stretch/>
        </p:blipFill>
        <p:spPr>
          <a:xfrm>
            <a:off x="1835280" y="1844640"/>
            <a:ext cx="5761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-100080"/>
            <a:ext cx="52563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和字词朋友打招呼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动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物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老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虎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狗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知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注意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十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遍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鬼脸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时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二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圆角矩形标注 3"/>
          <p:cNvSpPr/>
          <p:nvPr/>
        </p:nvSpPr>
        <p:spPr>
          <a:xfrm>
            <a:off x="4067280" y="4221000"/>
            <a:ext cx="3457440" cy="1152720"/>
          </a:xfrm>
          <a:prstGeom prst="wedgeRoundRectCallout">
            <a:avLst>
              <a:gd name="adj1" fmla="val 46773"/>
              <a:gd name="adj2" fmla="val 84546"/>
              <a:gd name="adj3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558ed5"/>
                </a:solidFill>
                <a:latin typeface="楷体"/>
                <a:ea typeface="楷体"/>
              </a:rPr>
              <a:t>我能选择几个词说说课文讲了一件什么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421000"/>
            <a:ext cx="8569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小组合作学习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学：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勾画出狗熊是怎么通知大家的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互学：小伙伴互相说说自己的想法及理由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展学：小组汇报，一人主讲，一人补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矩形 3" descr=""/>
          <p:cNvPicPr/>
          <p:nvPr/>
        </p:nvPicPr>
        <p:blipFill>
          <a:blip r:embed="rId1"/>
          <a:stretch/>
        </p:blipFill>
        <p:spPr>
          <a:xfrm>
            <a:off x="476280" y="781200"/>
            <a:ext cx="7997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3"/>
          <p:cNvSpPr/>
          <p:nvPr/>
        </p:nvSpPr>
        <p:spPr>
          <a:xfrm>
            <a:off x="500040" y="78588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狗熊用喇叭大声喊：“大家注意，动物王国要开大会，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参加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642960" y="196992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狗熊又用喇叭大声喊：“大家注意，动物王国要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明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大会，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参加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"/>
          <p:cNvSpPr/>
          <p:nvPr/>
        </p:nvSpPr>
        <p:spPr>
          <a:xfrm>
            <a:off x="642960" y="33577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狗熊又用喇叭大声喊：“大家注意，动物王国要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明天上午八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大会，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参加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714240" y="4724280"/>
            <a:ext cx="803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注意啦！”狗熊又用喇叭大声喊，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明天上午八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森林广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大会，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时参加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0" y="1607760"/>
            <a:ext cx="3095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所有动物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明天上午八点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森林广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000" y="1628640"/>
            <a:ext cx="332244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谁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具体时间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哪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2276640"/>
            <a:ext cx="8229600" cy="32018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通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（时间）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（地点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召开动物大会，请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（参加人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准时参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动物王国委员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矩形 3" descr=""/>
          <p:cNvPicPr/>
          <p:nvPr/>
        </p:nvPicPr>
        <p:blipFill>
          <a:blip r:embed="rId1"/>
          <a:stretch/>
        </p:blipFill>
        <p:spPr>
          <a:xfrm>
            <a:off x="-146160" y="712800"/>
            <a:ext cx="38228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14400" y="2227320"/>
            <a:ext cx="8229600" cy="39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能和小伙伴合作，选择课文中的段落分角色朗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菜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——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——1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——1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矩形 3" descr=""/>
          <p:cNvPicPr/>
          <p:nvPr/>
        </p:nvPicPr>
        <p:blipFill>
          <a:blip r:embed="rId1"/>
          <a:stretch/>
        </p:blipFill>
        <p:spPr>
          <a:xfrm>
            <a:off x="-146160" y="500040"/>
            <a:ext cx="38228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矩形 3" descr=""/>
          <p:cNvPicPr/>
          <p:nvPr/>
        </p:nvPicPr>
        <p:blipFill>
          <a:blip r:embed="rId1"/>
          <a:stretch/>
        </p:blipFill>
        <p:spPr>
          <a:xfrm>
            <a:off x="-146160" y="500040"/>
            <a:ext cx="3822840" cy="157788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4"/>
          <p:cNvGrpSpPr/>
          <p:nvPr/>
        </p:nvGrpSpPr>
        <p:grpSpPr>
          <a:xfrm>
            <a:off x="1987560" y="2506680"/>
            <a:ext cx="5446800" cy="2552760"/>
            <a:chOff x="1987560" y="2506680"/>
            <a:chExt cx="5446800" cy="2552760"/>
          </a:xfrm>
        </p:grpSpPr>
        <p:pic>
          <p:nvPicPr>
            <p:cNvPr id="147" name="内容占位符 3" descr=""/>
            <p:cNvPicPr/>
            <p:nvPr/>
          </p:nvPicPr>
          <p:blipFill>
            <a:blip r:embed="rId2"/>
            <a:stretch/>
          </p:blipFill>
          <p:spPr>
            <a:xfrm>
              <a:off x="1987560" y="2535840"/>
              <a:ext cx="2490120" cy="25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6"/>
            <p:cNvSpPr/>
            <p:nvPr/>
          </p:nvSpPr>
          <p:spPr>
            <a:xfrm>
              <a:off x="2206440" y="2506680"/>
              <a:ext cx="191700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连</a:t>
              </a:r>
              <a:r>
                <a:rPr b="1" lang="zh-CN" sz="8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组合 7"/>
            <p:cNvGrpSpPr/>
            <p:nvPr/>
          </p:nvGrpSpPr>
          <p:grpSpPr>
            <a:xfrm>
              <a:off x="5089680" y="2534040"/>
              <a:ext cx="2344680" cy="2506320"/>
              <a:chOff x="5089680" y="2534040"/>
              <a:chExt cx="2344680" cy="2506320"/>
            </a:xfrm>
          </p:grpSpPr>
          <p:pic>
            <p:nvPicPr>
              <p:cNvPr id="150" name="内容占位符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089680" y="2534040"/>
                <a:ext cx="2344680" cy="250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Box 9"/>
              <p:cNvSpPr/>
              <p:nvPr/>
            </p:nvSpPr>
            <p:spPr>
              <a:xfrm>
                <a:off x="5277240" y="2550240"/>
                <a:ext cx="153432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0" spc="-1" strike="noStrike">
                    <a:solidFill>
                      <a:srgbClr val="ff0000"/>
                    </a:solidFill>
                    <a:latin typeface="楷体"/>
                    <a:ea typeface="楷体"/>
                  </a:rPr>
                  <a:t>还</a:t>
                </a:r>
                <a:r>
                  <a:rPr b="1" lang="zh-CN" sz="8000" spc="-1" strike="noStrike">
                    <a:solidFill>
                      <a:srgbClr val="ff0000"/>
                    </a:solidFill>
                    <a:latin typeface="楷体"/>
                    <a:ea typeface="楷体"/>
                  </a:rPr>
                  <a:t> 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71640" y="1341360"/>
          <a:ext cx="6892920" cy="4718160"/>
        </p:xfrm>
        <a:graphic>
          <a:graphicData uri="http://schemas.openxmlformats.org/drawingml/2006/table">
            <a:tbl>
              <a:tblPr/>
              <a:tblGrid>
                <a:gridCol w="763560"/>
                <a:gridCol w="2141640"/>
                <a:gridCol w="3987720"/>
              </a:tblGrid>
              <a:tr h="468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70c0"/>
                          </a:solidFill>
                          <a:latin typeface="宋体"/>
                        </a:rPr>
                        <a:t>第一课时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70c0"/>
                          </a:solidFill>
                          <a:latin typeface="宋体"/>
                        </a:rPr>
                        <a:t>第二课时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1f9f9"/>
                    </a:solidFill>
                  </a:tcPr>
                </a:tc>
              </a:tr>
              <a:tr h="487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识字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物、虎、熊、通、注、意、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鬼、脸、准、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写字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要、舌、百、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连、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343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教学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1f9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、整体感知课文内容。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（核心目标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、把课文读通顺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、初步了解通知的内容和格式</a:t>
                      </a:r>
                      <a:r>
                        <a:rPr b="1" lang="zh-CN" sz="2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核心目标</a:t>
                      </a:r>
                      <a:r>
                        <a:rPr b="1" lang="zh-CN" sz="2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、联系上下文，说说为什么动物大会开不起来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、分角色朗读课文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39"/>
          <p:cNvSpPr/>
          <p:nvPr/>
        </p:nvSpPr>
        <p:spPr>
          <a:xfrm>
            <a:off x="611280" y="476280"/>
            <a:ext cx="9283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5514"/>
                </a:solidFill>
                <a:latin typeface="微软雅黑"/>
                <a:ea typeface="微软雅黑"/>
              </a:rPr>
              <a:t>课时分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C:\Users\apple\Desktop\空\slide0042_image005.JPG"/>
          <p:cNvPicPr/>
          <p:nvPr/>
        </p:nvPicPr>
        <p:blipFill>
          <a:blip r:embed="rId1"/>
          <a:stretch/>
        </p:blipFill>
        <p:spPr>
          <a:xfrm>
            <a:off x="2195640" y="1989000"/>
            <a:ext cx="5292720" cy="3672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165400" y="1052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7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王国开大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2484360" y="1698120"/>
            <a:ext cx="4319640" cy="2556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42960" y="4286160"/>
            <a:ext cx="157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牺、牲牧、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1847880" cy="20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285840" y="3071880"/>
            <a:ext cx="36385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同侧圆角矩形 1"/>
          <p:cNvSpPr/>
          <p:nvPr/>
        </p:nvSpPr>
        <p:spPr>
          <a:xfrm>
            <a:off x="468360" y="111276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线连接符 21"/>
          <p:cNvSpPr/>
          <p:nvPr/>
        </p:nvSpPr>
        <p:spPr>
          <a:xfrm flipV="1">
            <a:off x="468360" y="1773000"/>
            <a:ext cx="2071800" cy="6120"/>
          </a:xfrm>
          <a:prstGeom prst="line">
            <a:avLst/>
          </a:prstGeom>
          <a:ln w="38160">
            <a:solidFill>
              <a:srgbClr val="8eb4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917360" y="2205000"/>
            <a:ext cx="51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同桌轮读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7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动物王国开大会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同桌抽读生字和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22160" y="5229360"/>
            <a:ext cx="11178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直线连接符 21"/>
          <p:cNvSpPr/>
          <p:nvPr/>
        </p:nvSpPr>
        <p:spPr>
          <a:xfrm flipV="1">
            <a:off x="196920" y="1484280"/>
            <a:ext cx="2287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920880" y="6429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读课文，了解大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500040" y="128592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文章里写了哪些动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571680" y="185724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Calibri"/>
              </a:rPr>
              <a:t>老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虎</a:t>
            </a:r>
            <a:r>
              <a:rPr b="1" lang="zh-CN" sz="2800" spc="-1" strike="noStrike">
                <a:solidFill>
                  <a:srgbClr val="7030a0"/>
                </a:solidFill>
                <a:latin typeface="Calibri"/>
              </a:rPr>
              <a:t>、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熊</a:t>
            </a:r>
            <a:r>
              <a:rPr b="1" lang="zh-CN" sz="2800" spc="-1" strike="noStrike">
                <a:solidFill>
                  <a:srgbClr val="7030a0"/>
                </a:solidFill>
                <a:latin typeface="Calibri"/>
              </a:rPr>
              <a:t>、狐狸、大灰狼、梅花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643280" y="2786040"/>
            <a:ext cx="19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虎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虑、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71720" y="2357280"/>
            <a:ext cx="2901960" cy="4214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3"/>
          <p:cNvSpPr/>
          <p:nvPr/>
        </p:nvSpPr>
        <p:spPr>
          <a:xfrm>
            <a:off x="4357800" y="385776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狗熊、熊猫、北极熊、猫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"/>
              </a:rPr>
              <a:t>熊掌、熊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熊熊大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1428840" y="121428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说课文讲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928800" y="192888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老虎让狗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通</a:t>
            </a: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知动物们参加大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000080" y="27147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通知、通过、打通、通道、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1000080" y="1214280"/>
            <a:ext cx="5572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说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狗熊，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“     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勾出来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虎，用“            ”勾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的用自己喜欢的方式勾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5"/>
          <p:cNvSpPr/>
          <p:nvPr/>
        </p:nvSpPr>
        <p:spPr>
          <a:xfrm>
            <a:off x="3071880" y="3214800"/>
            <a:ext cx="928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7"/>
          <p:cNvSpPr/>
          <p:nvPr/>
        </p:nvSpPr>
        <p:spPr>
          <a:xfrm>
            <a:off x="3071880" y="3357720"/>
            <a:ext cx="928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3"/>
          <p:cNvSpPr/>
          <p:nvPr/>
        </p:nvSpPr>
        <p:spPr>
          <a:xfrm>
            <a:off x="500040" y="785880"/>
            <a:ext cx="83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狗熊用喇叭大声喊：“大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注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动物王国要开大会，请你们都参加！”一连说了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500040" y="15001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狗熊一听，伸了伸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头，做了个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鬼脸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连忙说：“对，对，对！”于是就去问老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642960" y="21430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狗熊又用喇叭大声喊：“大家注意，动物王国要在明天开大会，请你们都参加！”一连说了十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854000" y="28576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什么？”狗熊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1143000" y="321480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狗熊一听，说：“有道理，有道理！”于是又去问老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642960" y="371484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狗熊又用喇叭大声喊：“大家注意，动物王国要在明天上午八点开大会，请你们都参加！”一连说了十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785880" y="44290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狗熊捶捶自己的脑袋，说：“我怎么没问清楚呢？”于是又去问老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714240" y="521496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注意啦！”狗熊又用喇叭大声喊，“明天上午八点，在森林广场开大会，请大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参加！”一连说了十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同侧圆角矩形 1"/>
          <p:cNvSpPr/>
          <p:nvPr/>
        </p:nvSpPr>
        <p:spPr>
          <a:xfrm>
            <a:off x="468360" y="1112760"/>
            <a:ext cx="2000160" cy="515880"/>
          </a:xfrm>
          <a:prstGeom prst="pie">
            <a:avLst/>
          </a:prstGeom>
          <a:solidFill>
            <a:srgbClr val="c6d9f1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619280" y="242100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虎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熊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意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鬼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脸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766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3:50:33Z</dcterms:created>
  <dc:creator/>
  <dc:description/>
  <cp:keywords/>
  <dc:language>en-US</dc:language>
  <cp:lastModifiedBy>微软用户</cp:lastModifiedBy>
  <dcterms:modified xsi:type="dcterms:W3CDTF">2018-03-25T10:12:56Z</dcterms:modified>
  <cp:revision>87</cp:revision>
  <dc:subject/>
  <dc:title>幻灯片 1</dc:title>
</cp:coreProperties>
</file>