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0FB-858D-4759-A9ED-93C90041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4A7-831E-4A8B-9B7D-979B6AD6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70F-91E5-4BFC-A004-F836066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D0D-068E-4D2B-8E7D-21A944EB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E97-E337-4CD9-9CEE-BC4E1627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41C-7501-4A5F-9C8A-15946905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BA6-2CDF-4998-9B3B-407B824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666-737D-44AB-8073-B05A7EC4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CBB-33AB-48C8-A80C-026E323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43D-B50A-426B-A1B6-2744037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4BD-42DC-4A89-A044-D11A615B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CEF-1752-41E0-A443-2D195FE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6940-F6A5-4B3E-AD19-B7D3D7480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当世界年纪还小的时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当世界年纪还小的时候，每样东西都必须学习怎么生活。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 石头学起来很简单，它们只要不断变硬变重。它们是最先完成的东西。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 太阳开始发光，它学着怎么上山下山。它也试过做别的事，但是都没成功。譬如说唱歌，它难听的声音，把这个新世界吓坏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105520"/>
            <a:ext cx="6400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月亮刚开始不知道自己该学什么好。真的要发光吗？白天的时候，它觉得这主意不好，晚上的时候，它又觉得这主意不错。它实在无法决定，所以它只好反反覆覆，一下变圆，一下又变缺。于是它学会的是不断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水学着怎么流动。它很快就学会了，因为只有一种方式，那就是：一直往低的地方流，往低的地方流，往低的地方流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458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4343400"/>
            <a:ext cx="883944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风刚开始很安静，就好像它根本不存在似的，突然，不知怎么地，它发现自己可以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那时候生活就是这么简单，只要每样东西都做它自己认为最容易的事就行了。对火来说容易的事，对木头就未必；对鱼来说容易的事，对鸟就未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嘘！不要继续。这个故事没有结局，只有开头，而且有很多开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很久很久以前，当世界年纪还小的时候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22960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这篇短文介绍了石头和（        ），（        ），  （        ），（        ），  （        ）这些事物是怎么学习生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介绍了石头学会变硬变重，太阳学会（            ），月亮学会（            ），水学会（            ），风学会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想像：请你仿照文章，接着写一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很久很久以前，当世界年纪还小的时候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想像：星星是怎么变成星座的？云是怎么学会下雨的？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9-03-21T05:20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