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C6B-60CA-4748-900A-76CAD4EF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EF5-8145-4963-A290-F4BE169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B25-D370-4664-9A3A-B1105161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C62-4D04-404F-8B32-87DDD276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6F3-580E-4185-81DB-9D36447F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422-6005-405E-A0DE-6D25972C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2F9-8072-43FD-A147-94FE325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0AB-312F-4064-9A2C-1AE85719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307-3748-4019-978B-D0DA1E3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5DC-66EC-4229-B99B-33AB7B6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A41-4059-49B4-AD20-AAE58CD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17E-3115-4BC3-B8EF-959ACF2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D09-8A21-439B-B52A-2FE5AE32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insrc_20060323085684374637" descr=""/>
          <p:cNvPicPr/>
          <p:nvPr/>
        </p:nvPicPr>
        <p:blipFill>
          <a:blip r:embed="rId1"/>
          <a:srcRect l="6151" t="8819" r="5965" b="8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692280"/>
            <a:ext cx="4968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冬日看海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6093000"/>
            <a:ext cx="5143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濮阳市实验中学  魏静林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无标题a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10680" y="1484280"/>
            <a:ext cx="5482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新词：癖好   憬悟  风情  花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手法：心小见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无标题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6000" y="719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我遇到他的那天，西北风正在北京久旱无雨的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灰色天宇推磨般号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7080" y="2128680"/>
            <a:ext cx="35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环境描写                  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无标题k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719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后来看见他见到屋顶上闪亮的电灯时，激动得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笑着流下了眼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当那盏电灯在孩子们热烈的掌声中放出电光，将那简陋的教室照耀得通亮时，他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又一次笑着流下了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6120" y="4125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无标题k" descr="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7280" y="719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他说这十来天里，把冬日的海景看了个够，从各个角度看，在各种光线下看，从容地看，哼着歌看，甚至跳着舞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6480" y="299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动作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无标题k" descr="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7280" y="719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冬日观海的人离开北京，坐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硬座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回那遥远的地方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38120" y="256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细节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无标题k" descr="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7280" y="719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每一个最平凡的小人物，只要以敬业精神点燃执著追求的火把，都能使自已的人生闪烁出童话般美丽的灵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9560" y="285264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画龙点睛    突出主题    内涵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无标题a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8680" y="260280"/>
            <a:ext cx="1547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6" name="3bea2072-ab79-479b-afd7-1581ffe3161b" descr=""/>
          <p:cNvPicPr/>
          <p:nvPr/>
        </p:nvPicPr>
        <p:blipFill>
          <a:blip r:embed="rId4"/>
          <a:stretch/>
        </p:blipFill>
        <p:spPr>
          <a:xfrm rot="21447000">
            <a:off x="2235240" y="258480"/>
            <a:ext cx="681120" cy="83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1413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读一读下面这些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781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狭 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9080" y="22734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37600" y="27781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癖 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7880" y="220176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93240" y="27781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尽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02000" y="22017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j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3480" y="40734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祈 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0400" y="3570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8880" y="40734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眸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95600" y="3641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93240" y="40734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憬 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69600" y="36417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j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97440" y="486576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说说下面的词各指多大年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77040" y="558648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花甲             而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ef435f605a82601730eec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9528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与课文零距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2565360"/>
            <a:ext cx="712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看标题，提疑问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ef435f605a82601730eec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9528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与课文零距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565360"/>
            <a:ext cx="712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朗读课文，整体感知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ef435f605a82601730eec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与课文零距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58920" y="2060640"/>
            <a:ext cx="70581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速读课文，提取信息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1" name=""/>
          <p:cNvSpPr/>
          <p:nvPr/>
        </p:nvSpPr>
        <p:spPr>
          <a:xfrm>
            <a:off x="1896480" y="4430880"/>
            <a:ext cx="586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看海？ 冬日？  几件事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ef435f605a82601730eec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9528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与课文零距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76360" y="2565360"/>
            <a:ext cx="68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默读课文，揣摩情感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83960" y="967320"/>
            <a:ext cx="8744040" cy="6618600"/>
            <a:chOff x="183960" y="967320"/>
            <a:chExt cx="8744040" cy="6618600"/>
          </a:xfrm>
        </p:grpSpPr>
        <p:pic>
          <p:nvPicPr>
            <p:cNvPr id="76" name="001fd06372f70a72887326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8850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83960" y="967320"/>
              <a:ext cx="729000" cy="66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人民的好卫士——任长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179280" y="1339920"/>
            <a:ext cx="360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5.</a:t>
            </a: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以小见大，由点及面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2602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楷体_GB2312"/>
              </a:rPr>
              <a:t>与课文零距离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96720" y="549360"/>
            <a:ext cx="10006920" cy="6332400"/>
            <a:chOff x="-396720" y="549360"/>
            <a:chExt cx="10006920" cy="6332400"/>
          </a:xfrm>
        </p:grpSpPr>
        <p:pic>
          <p:nvPicPr>
            <p:cNvPr id="81" name="F2005060121131400000" descr=""/>
            <p:cNvPicPr/>
            <p:nvPr/>
          </p:nvPicPr>
          <p:blipFill>
            <a:blip r:embed="rId2"/>
            <a:srcRect l="0" t="2249" r="0" b="0"/>
            <a:stretch/>
          </p:blipFill>
          <p:spPr>
            <a:xfrm>
              <a:off x="-396720" y="3597120"/>
              <a:ext cx="4787640" cy="32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F200906131817393162804219" descr=""/>
            <p:cNvPicPr/>
            <p:nvPr/>
          </p:nvPicPr>
          <p:blipFill>
            <a:blip r:embed="rId3"/>
            <a:stretch/>
          </p:blipFill>
          <p:spPr>
            <a:xfrm>
              <a:off x="3851280" y="549360"/>
              <a:ext cx="228564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xin_360602091108796242812" descr=""/>
            <p:cNvPicPr/>
            <p:nvPr/>
          </p:nvPicPr>
          <p:blipFill>
            <a:blip r:embed="rId4"/>
            <a:srcRect l="998" t="0" r="0" b="0"/>
            <a:stretch/>
          </p:blipFill>
          <p:spPr>
            <a:xfrm>
              <a:off x="6804000" y="3597120"/>
              <a:ext cx="2806200" cy="32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xinsrc_35206020309585461944080" descr=""/>
            <p:cNvPicPr/>
            <p:nvPr/>
          </p:nvPicPr>
          <p:blipFill>
            <a:blip r:embed="rId5"/>
            <a:srcRect l="0" t="10598" r="0" b="8330"/>
            <a:stretch/>
          </p:blipFill>
          <p:spPr>
            <a:xfrm>
              <a:off x="4354560" y="3597120"/>
              <a:ext cx="243936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453120" y="3597120"/>
              <a:ext cx="3781800" cy="581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王顺友——马班邮路的坚守者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143080" y="-84600"/>
            <a:ext cx="6245280" cy="7376040"/>
            <a:chOff x="2143080" y="-84600"/>
            <a:chExt cx="6245280" cy="7376040"/>
          </a:xfrm>
        </p:grpSpPr>
        <p:pic>
          <p:nvPicPr>
            <p:cNvPr id="87" name="tqq" descr=""/>
            <p:cNvPicPr/>
            <p:nvPr/>
          </p:nvPicPr>
          <p:blipFill>
            <a:blip r:embed="rId6"/>
            <a:srcRect l="0" t="0" r="0" b="7771"/>
            <a:stretch/>
          </p:blipFill>
          <p:spPr>
            <a:xfrm>
              <a:off x="3946320" y="549360"/>
              <a:ext cx="294984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20080622091950578" descr=""/>
            <p:cNvPicPr/>
            <p:nvPr/>
          </p:nvPicPr>
          <p:blipFill>
            <a:blip r:embed="rId7"/>
            <a:srcRect l="0" t="6810" r="0" b="11463"/>
            <a:stretch/>
          </p:blipFill>
          <p:spPr>
            <a:xfrm>
              <a:off x="2143080" y="4390920"/>
              <a:ext cx="5329080" cy="29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476840" y="-84600"/>
              <a:ext cx="911520" cy="60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永不褪色的板书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79280" y="1324080"/>
            <a:ext cx="9144000" cy="5776920"/>
            <a:chOff x="179280" y="1324080"/>
            <a:chExt cx="9144000" cy="5776920"/>
          </a:xfrm>
        </p:grpSpPr>
        <p:grpSp>
          <p:nvGrpSpPr>
            <p:cNvPr id="91" name=""/>
            <p:cNvGrpSpPr/>
            <p:nvPr/>
          </p:nvGrpSpPr>
          <p:grpSpPr>
            <a:xfrm>
              <a:off x="4680000" y="1324080"/>
              <a:ext cx="4643280" cy="5776920"/>
              <a:chOff x="4680000" y="1324080"/>
              <a:chExt cx="4643280" cy="5776920"/>
            </a:xfrm>
          </p:grpSpPr>
          <p:pic>
            <p:nvPicPr>
              <p:cNvPr id="92" name="d" descr=""/>
              <p:cNvPicPr/>
              <p:nvPr/>
            </p:nvPicPr>
            <p:blipFill>
              <a:blip r:embed="rId8"/>
              <a:srcRect l="29478" t="3582" r="0" b="18692"/>
              <a:stretch/>
            </p:blipFill>
            <p:spPr>
              <a:xfrm>
                <a:off x="4680000" y="1324080"/>
                <a:ext cx="4500360" cy="371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639_3" descr=""/>
              <p:cNvPicPr/>
              <p:nvPr/>
            </p:nvPicPr>
            <p:blipFill>
              <a:blip r:embed="rId9"/>
              <a:srcRect l="0" t="0" r="0" b="14742"/>
              <a:stretch/>
            </p:blipFill>
            <p:spPr>
              <a:xfrm>
                <a:off x="4680000" y="4967280"/>
                <a:ext cx="464328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20091683854987" descr=""/>
            <p:cNvPicPr/>
            <p:nvPr/>
          </p:nvPicPr>
          <p:blipFill>
            <a:blip r:embed="rId10"/>
            <a:srcRect l="0" t="0" r="0" b="6833"/>
            <a:stretch/>
          </p:blipFill>
          <p:spPr>
            <a:xfrm>
              <a:off x="179280" y="1916280"/>
              <a:ext cx="4643280" cy="5157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" dur="1" nodeType="withEffect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24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nodeType="withEffect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nodeType="withEffect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ef435f605a82601730eec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95280" y="26028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与课文零距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6360" y="1844640"/>
            <a:ext cx="68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6.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精读课文，品味语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292640"/>
            <a:ext cx="80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划出你认为写得最精彩的语句或段落，读一读，并说说理由。（可从修辞、用词、内涵等方面来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6453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③ ④ 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99e8840fac17eac437d1229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24000" y="260280"/>
            <a:ext cx="316044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与作者零距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04" name=""/>
          <p:cNvSpPr/>
          <p:nvPr/>
        </p:nvSpPr>
        <p:spPr>
          <a:xfrm>
            <a:off x="2743920" y="16286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归纳总结，每课一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492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假如你是作者刘心武，记者采访你，请你谈一谈本文写作成功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0:18:24Z</dcterms:created>
  <dc:creator>Administrator</dc:creator>
  <dc:description/>
  <dc:language>en-US</dc:language>
  <cp:lastModifiedBy>zmj</cp:lastModifiedBy>
  <dcterms:modified xsi:type="dcterms:W3CDTF">2011-05-05T06:58:07Z</dcterms:modified>
  <cp:revision>4</cp:revision>
  <dc:subject/>
  <dc:title>幻灯片 1</dc:title>
</cp:coreProperties>
</file>