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reeze.wav" ContentType="audio/x-wav"/>
  <Override PartName="/ppt/media/image6.jpeg" ContentType="image/jpeg"/>
  <Override PartName="/ppt/media/image12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gif" ContentType="image/gif"/>
  <Override PartName="/ppt/media/chimes.wav" ContentType="audio/x-wav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31F-1D9F-495C-927B-CA69E873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638-EA74-47EE-8BDC-93E5A3CF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A8E-B326-4C0A-B5D4-9CCA750F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66F-322F-4AE2-B9F3-9691E2E1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066-EB16-4B0A-BCDD-6B71FB59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B6C-6E1B-4355-9D34-53C69A1F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046-3CDF-463B-B7A5-AC813C24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225-B449-43C1-8108-D6672097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856-87E1-43E4-995F-CA22714A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F76-83E5-44B5-85C9-BCF5014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D09-9845-4925-86A4-2C8479C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858-016C-497F-A250-7FDF3E43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A626-3A53-4FD4-9541-00C310C6D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2360" y="1052640"/>
            <a:ext cx="597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213372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过渡句：于是他决定亲自来看看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8000" y="2637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作者为什么要写主人公看电灯的故事？与标题是否冲突？这一个故事在整篇文章中用了什么叙事顺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280" y="1700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这说明这位老师看海并不是一时冲动，而是对事业的无比热爱，这一事例对“冬日看海”有利的补充。使人物形象更加丰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981000"/>
            <a:ext cx="72007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第二天天还没亮，便揣上干粮，往一百多里外的县城走去。他足足走到那天深夜，才抵达县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68360" y="19890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朗读课文，比一比谁更认真。（大家要遵守游戏规则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37af7e7a4ad93dd50bd1874a" descr=""/>
          <p:cNvPicPr/>
          <p:nvPr/>
        </p:nvPicPr>
        <p:blipFill>
          <a:blip r:embed="rId2"/>
          <a:stretch/>
        </p:blipFill>
        <p:spPr>
          <a:xfrm>
            <a:off x="7721640" y="5373720"/>
            <a:ext cx="142236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3" name="breeze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84360" y="2997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主人公为什么要冬日看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56000" y="2924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这篇文章体现了看海人怎样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0920" y="1700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平凡而不平庸，不论在怎样艰苦环境中，只要我们始终拥有一颗追求美好与光明的心，我们的 生活就是有意义的有价值的。就会充满色彩和灵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d3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5640" y="2565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134"/>
                </a:solidFill>
                <a:latin typeface="Arial"/>
              </a:rPr>
              <a:t>教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981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134"/>
                </a:solidFill>
                <a:latin typeface="Arial"/>
              </a:rPr>
              <a:t>步行千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98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134"/>
                </a:solidFill>
                <a:latin typeface="Arial"/>
              </a:rPr>
              <a:t>看电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350028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134"/>
                </a:solidFill>
                <a:latin typeface="Arial"/>
              </a:rPr>
              <a:t>冬日北戴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350028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134"/>
                </a:solidFill>
                <a:latin typeface="Arial"/>
              </a:rPr>
              <a:t>看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476360" y="141264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292428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1970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37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34936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执著，敬业，认真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乐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1268280"/>
            <a:ext cx="897120" cy="1150920"/>
          </a:xfrm>
          <a:custGeom>
            <a:avLst/>
            <a:gdLst/>
            <a:ahLst/>
            <a:rect l="l" t="t" r="r" b="b"/>
            <a:pathLst>
              <a:path w="656" h="861">
                <a:moveTo>
                  <a:pt x="496" y="0"/>
                </a:moveTo>
                <a:cubicBezTo>
                  <a:pt x="519" y="32"/>
                  <a:pt x="618" y="112"/>
                  <a:pt x="637" y="193"/>
                </a:cubicBezTo>
                <a:cubicBezTo>
                  <a:pt x="656" y="274"/>
                  <a:pt x="640" y="405"/>
                  <a:pt x="609" y="487"/>
                </a:cubicBezTo>
                <a:cubicBezTo>
                  <a:pt x="578" y="569"/>
                  <a:pt x="555" y="626"/>
                  <a:pt x="453" y="688"/>
                </a:cubicBezTo>
                <a:cubicBezTo>
                  <a:pt x="352" y="751"/>
                  <a:pt x="95" y="826"/>
                  <a:pt x="0" y="8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2492280"/>
            <a:ext cx="647640" cy="1052640"/>
          </a:xfrm>
          <a:custGeom>
            <a:avLst/>
            <a:gdLst/>
            <a:ahLst/>
            <a:rect l="l" t="t" r="r" b="b"/>
            <a:pathLst>
              <a:path w="405" h="663">
                <a:moveTo>
                  <a:pt x="390" y="663"/>
                </a:moveTo>
                <a:cubicBezTo>
                  <a:pt x="390" y="614"/>
                  <a:pt x="405" y="467"/>
                  <a:pt x="392" y="366"/>
                </a:cubicBezTo>
                <a:cubicBezTo>
                  <a:pt x="379" y="265"/>
                  <a:pt x="334" y="181"/>
                  <a:pt x="269" y="120"/>
                </a:cubicBezTo>
                <a:cubicBezTo>
                  <a:pt x="204" y="59"/>
                  <a:pt x="57" y="2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70640" y="851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小练习：欣赏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2060640"/>
            <a:ext cx="590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表达句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我认为＿＿＿＿＿＿这个句子写得好，因为＿＿＿＿＿＿＿＿＿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03280" y="83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寄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1408000">
            <a:off x="1638000" y="19904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敬业给人以力量，执著给人以信念，一个敬业的人，其人生中必有收获。同样的，作为学生，认真完成学业，也是 对“学生”这一职业的敬业，生活由我们自己创造，未来掌握在我们自己的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0104032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10094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132600">
            <a:off x="2195280" y="981000"/>
            <a:ext cx="410832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b30134">
                        <a:alpha val="83137"/>
                      </a:srgbClr>
                    </a:gs>
                    <a:gs pos="100000">
                      <a:srgbClr val="f945c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冬日看海人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b30134">
                      <a:alpha val="83137"/>
                    </a:srgbClr>
                  </a:gs>
                  <a:gs pos="100000">
                    <a:srgbClr val="f945ca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4170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刘心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中国当代作家，红学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成名作《班主任》被视为伤痕文学的代表作。其长篇小说《钟鼓楼》曾获茅盾文学奖。当代主流作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字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18716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眸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祈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萦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狭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号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00720" y="1915920"/>
            <a:ext cx="28080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闪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抵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僻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憬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阔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57680" y="2506680"/>
            <a:ext cx="583596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默读课文并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文章讲了几个故事，分别是什么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找出连接这两个故事的过渡句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。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7812000" y="6426360"/>
            <a:ext cx="1332000" cy="431640"/>
          </a:xfrm>
          <a:custGeom>
            <a:avLst/>
            <a:gdLst>
              <a:gd name="textAreaLeft" fmla="*/ 77760 w 1332000"/>
              <a:gd name="textAreaRight" fmla="*/ 1254240 w 1332000"/>
              <a:gd name="textAreaTop" fmla="*/ 77760 h 431640"/>
              <a:gd name="textAreaBottom" fmla="*/ 353880 h 431640"/>
            </a:gdLst>
            <a:ahLst/>
            <a:rect l="textAreaLeft" t="textAreaTop" r="textAreaRight" b="textAreaBottom"/>
            <a:pathLst>
              <a:path w="66618" h="21600">
                <a:moveTo>
                  <a:pt x="0" y="0"/>
                </a:moveTo>
                <a:lnTo>
                  <a:pt x="66618" y="0"/>
                </a:lnTo>
                <a:lnTo>
                  <a:pt x="66618" y="21600"/>
                </a:lnTo>
                <a:lnTo>
                  <a:pt x="0" y="21600"/>
                </a:lnTo>
                <a:close/>
              </a:path>
              <a:path fill="lightenLess" w="66618" h="21600">
                <a:moveTo>
                  <a:pt x="0" y="0"/>
                </a:moveTo>
                <a:lnTo>
                  <a:pt x="66618" y="0"/>
                </a:lnTo>
                <a:lnTo>
                  <a:pt x="62727" y="3891"/>
                </a:lnTo>
                <a:lnTo>
                  <a:pt x="3891" y="3891"/>
                </a:lnTo>
                <a:close/>
              </a:path>
              <a:path fill="darken" w="66618" h="21600">
                <a:moveTo>
                  <a:pt x="66618" y="0"/>
                </a:moveTo>
                <a:lnTo>
                  <a:pt x="66618" y="21600"/>
                </a:lnTo>
                <a:lnTo>
                  <a:pt x="62727" y="17709"/>
                </a:lnTo>
                <a:lnTo>
                  <a:pt x="62727" y="3891"/>
                </a:lnTo>
                <a:close/>
              </a:path>
              <a:path fill="darkenLess" w="66618" h="21600">
                <a:moveTo>
                  <a:pt x="66618" y="21600"/>
                </a:moveTo>
                <a:lnTo>
                  <a:pt x="0" y="21600"/>
                </a:lnTo>
                <a:lnTo>
                  <a:pt x="3891" y="17709"/>
                </a:lnTo>
                <a:lnTo>
                  <a:pt x="62727" y="17709"/>
                </a:lnTo>
                <a:close/>
              </a:path>
              <a:path fill="lighten" w="66618" h="21600">
                <a:moveTo>
                  <a:pt x="0" y="21600"/>
                </a:moveTo>
                <a:lnTo>
                  <a:pt x="0" y="0"/>
                </a:lnTo>
                <a:lnTo>
                  <a:pt x="3891" y="3891"/>
                </a:lnTo>
                <a:lnTo>
                  <a:pt x="3891" y="17709"/>
                </a:lnTo>
                <a:close/>
              </a:path>
              <a:path fill="darken" w="66618" h="21600">
                <a:moveTo>
                  <a:pt x="28159" y="10800"/>
                </a:moveTo>
                <a:lnTo>
                  <a:pt x="38459" y="5650"/>
                </a:lnTo>
                <a:lnTo>
                  <a:pt x="38459" y="159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1628640"/>
            <a:ext cx="518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两个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故事一：主人公步行千里去看电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故事二：主人公冬日到北戴河看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1:32:06Z</dcterms:created>
  <dc:creator>Lenovo User</dc:creator>
  <dc:description/>
  <dc:language>en-US</dc:language>
  <cp:lastModifiedBy>zmj</cp:lastModifiedBy>
  <dcterms:modified xsi:type="dcterms:W3CDTF">2012-03-21T02:59:48Z</dcterms:modified>
  <cp:revision>4</cp:revision>
  <dc:subject/>
  <dc:title>幻灯片 1</dc:title>
</cp:coreProperties>
</file>