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C21-0E6E-42D8-B358-DC9C1DD8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49A-0C51-4B7B-8DD2-2F88D71A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4FB-B315-4A2A-9C1E-AE30BA8A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5F0-E9AE-480F-B0D8-DA841C10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B1A2-EF30-410F-87D8-245F508C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74BC-23B2-4317-A310-A1C06117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5245-DCF2-4ACF-AD9A-01555C12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1256-3185-4111-B3D8-910829C3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1B09-1C6C-4E72-8A10-E71E64D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6B97-6968-4992-9C19-9A7C2F8C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A3B0-E6D4-4B21-A623-E0BC8C07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85D-A30F-4E60-A35E-39D72FA2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24A1-32F3-485F-B8F8-1BE57A4F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7EC0-A144-4451-9378-DBF4C83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0B39-BCC1-4D21-A1AE-83DCBFBD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64D4-9EA0-499C-B4E7-A4CFAF27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E896-76C2-4404-9536-90E83CA4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EE9-9804-4946-B638-211DD1E0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059-4F54-413F-B591-5FB70EB5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484-5A59-4F83-B8A0-F6E0A790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7BC-B938-4829-ABD4-1313D3F4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827-837D-42BB-AC06-8AE888AA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BD3-B7F6-4793-A57A-63C875D5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0A6-D31E-473C-9A54-96AC31C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4a1d"/>
                </a:solidFill>
                <a:latin typeface="幼圆"/>
              </a:rPr>
              <a:t>Click to edit the title text format</a:t>
            </a: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2d2015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Comic Sans MS"/>
                <a:ea typeface="隶书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Comic Sans MS"/>
                <a:ea typeface="隶书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06EF-2CDC-425D-BF4B-0BA0A178C187}" type="slidenum">
              <a:rPr b="0" lang="zh-CN" sz="1200" spc="-1" strike="noStrike">
                <a:solidFill>
                  <a:srgbClr val="1c1c1c"/>
                </a:solidFill>
                <a:latin typeface="Comic Sans MS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54a1d"/>
                </a:solidFill>
                <a:latin typeface="幼圆"/>
              </a:rPr>
              <a:t>Click to edit the title text format</a:t>
            </a:r>
            <a:endParaRPr b="1" lang="en-US" sz="4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c1c1c"/>
                </a:solidFill>
                <a:latin typeface="Comic Sans MS"/>
                <a:ea typeface="隶书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c1c1c"/>
                </a:solidFill>
                <a:latin typeface="Comic Sans MS"/>
                <a:ea typeface="隶书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9BA6-BB14-4AC2-BC4D-3383DE2B73FB}" type="slidenum">
              <a:rPr b="0" lang="zh-CN" sz="1000" spc="-1" strike="noStrike">
                <a:solidFill>
                  <a:srgbClr val="1c1c1c"/>
                </a:solidFill>
                <a:latin typeface="Comic Sans MS"/>
                <a:ea typeface="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幼圆"/>
              </a:rPr>
              <a:t>题目解说</a:t>
            </a: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5194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015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宋体"/>
              </a:rPr>
              <a:t>课文节选的就是老人与鲨鱼搏斗的情景，是小说临近结尾的部分，也是故事情节的高潮，约占全书六分之一。本部分写了老人与鲨鱼三个回合的搏斗。</a:t>
            </a:r>
            <a:endParaRPr b="0" lang="en-US" sz="36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808360" cy="424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新宋体"/>
                <a:ea typeface="新宋体"/>
              </a:rPr>
              <a:t>知识链接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</a:rPr>
              <a:t>小说的三要素：</a:t>
            </a:r>
            <a:endParaRPr b="0" lang="en-US" sz="6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人物</a:t>
            </a: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--</a:t>
            </a: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故事情节</a:t>
            </a: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--</a:t>
            </a: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环境</a:t>
            </a:r>
            <a:endParaRPr b="0" lang="en-US" sz="60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384840" y="4419720"/>
            <a:ext cx="200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人老</a:t>
            </a:r>
            <a:endParaRPr b="0" lang="en-US" sz="6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77240" y="4343400"/>
            <a:ext cx="200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鲨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斗</a:t>
            </a:r>
            <a:endParaRPr b="0" lang="en-US" sz="6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06240" y="4343400"/>
            <a:ext cx="200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海大</a:t>
            </a:r>
            <a:endParaRPr b="0" lang="en-US" sz="6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5053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5053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35053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471120" y="23184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Arial"/>
                <a:ea typeface="华文行楷"/>
              </a:rPr>
              <a:t>梳理情节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65680" y="1341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彩云"/>
              </a:rPr>
              <a:t>自主合作探究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02120" y="299736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本文写了几次斗鲨的场面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各有什么异同？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48360" y="494172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复述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45920" y="195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华文行楷"/>
              </a:rPr>
              <a:t>突破难点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26120" y="1413000"/>
            <a:ext cx="6213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第一层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和鲨鱼的搏斗  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智斗独鲨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---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用刀子杀死了一条铲鼻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力斗双鲨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---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用短棍击退了两条加拉诺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大马林鱼半个身子都被咬烂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决斗群鲨—用短棍劈打成群的鲨鱼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短棍丢掉又用舵把，大马林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鱼只剩下了残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706920"/>
            <a:ext cx="32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1341360"/>
            <a:ext cx="646200" cy="4680000"/>
          </a:xfrm>
          <a:prstGeom prst="rect">
            <a:avLst/>
          </a:prstGeom>
          <a:solidFill>
            <a:srgbClr val="b1a59d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67640" y="1268280"/>
            <a:ext cx="647640" cy="4753080"/>
          </a:xfrm>
          <a:prstGeom prst="rect">
            <a:avLst/>
          </a:prstGeom>
          <a:solidFill>
            <a:srgbClr val="b1a59d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9800" y="1413000"/>
            <a:ext cx="7898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直面一切，永不言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320" y="1341360"/>
            <a:ext cx="13993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坚毅顽强，热爱生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2362320"/>
            <a:ext cx="1752480" cy="2286000"/>
          </a:xfrm>
          <a:prstGeom prst="ellipse">
            <a:avLst/>
          </a:prstGeom>
          <a:solidFill>
            <a:srgbClr val="b1a59d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27432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1c1c1c"/>
                </a:solidFill>
                <a:latin typeface="华文行楷"/>
                <a:ea typeface="华文行楷"/>
              </a:rPr>
              <a:t>斗</a:t>
            </a:r>
            <a:endParaRPr b="0" lang="en-US" sz="9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1938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智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32767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44798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决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2971800"/>
            <a:ext cx="1143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21337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独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2767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双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4495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群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514600"/>
            <a:ext cx="761760" cy="30492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657600"/>
            <a:ext cx="68580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90920" y="4495320"/>
            <a:ext cx="838080" cy="38124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257800" y="2514240"/>
            <a:ext cx="609480" cy="3049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3657600"/>
            <a:ext cx="53352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4495680"/>
            <a:ext cx="838080" cy="3049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75600" y="1413000"/>
            <a:ext cx="7898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斗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63240" y="1413000"/>
            <a:ext cx="7898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3600" y="1916280"/>
            <a:ext cx="48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海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15440" y="1916280"/>
            <a:ext cx="48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明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8320" y="1916280"/>
            <a:ext cx="48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威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45920" y="195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华文行楷"/>
              </a:rPr>
              <a:t>突破难点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170028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斗” 的理解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1280" y="2708280"/>
            <a:ext cx="599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第一层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和鲨鱼的搏斗  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智斗独鲨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---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力斗双鲨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---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决斗群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800" y="5084640"/>
            <a:ext cx="87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第二层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和自己的战斗，和生活的战斗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706920"/>
            <a:ext cx="32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0000" y="3706920"/>
            <a:ext cx="32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幼圆"/>
              </a:rPr>
              <a:t>       </a:t>
            </a:r>
            <a:r>
              <a:rPr b="1" lang="zh-CN" sz="3600" spc="-1" strike="noStrike">
                <a:solidFill>
                  <a:srgbClr val="654a1d"/>
                </a:solidFill>
                <a:latin typeface="幼圆"/>
              </a:rPr>
              <a:t>美点品评</a:t>
            </a: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170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桑地亚哥在同象征厄运的鲨鱼的斗争中虽然失败了，但他却捍卫了“人的灵魂的尊严”，老人是一个胜利的失败者，一个失败的英雄，是海明威塑造的一个典型的“硬汉子”形象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c1c1c"/>
                </a:solidFill>
                <a:latin typeface="幼圆"/>
              </a:rPr>
              <a:t>●</a:t>
            </a:r>
            <a:r>
              <a:rPr b="1" lang="zh-CN" sz="6000" spc="-1" strike="noStrike">
                <a:solidFill>
                  <a:srgbClr val="0066ff"/>
                </a:solidFill>
                <a:latin typeface="幼圆"/>
              </a:rPr>
              <a:t>名言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064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2015"/>
                </a:solidFill>
                <a:latin typeface="Comic Sans MS"/>
              </a:rPr>
              <a:t>        </a:t>
            </a:r>
            <a:endParaRPr b="0" lang="en-US" sz="4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2015"/>
                </a:solidFill>
                <a:latin typeface="Comic Sans MS"/>
              </a:rPr>
              <a:t>      </a:t>
            </a:r>
            <a:r>
              <a:rPr b="1" lang="zh-CN" sz="4000" spc="-1" strike="noStrike">
                <a:solidFill>
                  <a:srgbClr val="2d2015"/>
                </a:solidFill>
                <a:latin typeface="Comic Sans MS"/>
              </a:rPr>
              <a:t>一个人并不是生来要给打败的，你尽可把他消灭掉，可就是打不败他。</a:t>
            </a:r>
            <a:endParaRPr b="0" lang="en-US" sz="4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201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2015"/>
                </a:solidFill>
                <a:latin typeface="Comic Sans MS"/>
              </a:rPr>
              <a:t>                   </a:t>
            </a:r>
            <a:r>
              <a:rPr b="1" lang="zh-CN" sz="4000" spc="-1" strike="noStrike">
                <a:solidFill>
                  <a:srgbClr val="2d2015"/>
                </a:solidFill>
                <a:latin typeface="Comic Sans MS"/>
              </a:rPr>
              <a:t>----</a:t>
            </a:r>
            <a:r>
              <a:rPr b="1" lang="zh-CN" sz="4000" spc="-1" strike="noStrike">
                <a:solidFill>
                  <a:srgbClr val="2d2015"/>
                </a:solidFill>
                <a:latin typeface="Comic Sans MS"/>
              </a:rPr>
              <a:t>海明威</a:t>
            </a:r>
            <a:endParaRPr b="0" lang="en-US" sz="40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c1c1c"/>
                </a:solidFill>
                <a:latin typeface="幼圆"/>
              </a:rPr>
              <a:t>●</a:t>
            </a:r>
            <a:r>
              <a:rPr b="1" lang="zh-CN" sz="6000" spc="-1" strike="noStrike">
                <a:solidFill>
                  <a:srgbClr val="0066ff"/>
                </a:solidFill>
                <a:latin typeface="幼圆"/>
              </a:rPr>
              <a:t>人物形象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97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2015"/>
                </a:solidFill>
                <a:latin typeface="Comic Sans MS"/>
              </a:rPr>
              <a:t>主人公： </a:t>
            </a:r>
            <a:r>
              <a:rPr b="1" lang="zh-CN" sz="4400" spc="-1" strike="noStrike">
                <a:solidFill>
                  <a:srgbClr val="0066ff"/>
                </a:solidFill>
                <a:latin typeface="Comic Sans MS"/>
              </a:rPr>
              <a:t>桑地亚哥</a:t>
            </a:r>
            <a:endParaRPr b="0" lang="en-US" sz="4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2015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2d2015"/>
                </a:solidFill>
                <a:latin typeface="Comic Sans MS"/>
              </a:rPr>
              <a:t>他是勇敢自信的化身，他具有勇往直前战胜困难的高贵品质，他是一个顶天立地的英雄，一个永不言败的硬汉。</a:t>
            </a:r>
            <a:endParaRPr b="0" lang="en-US" sz="4400" spc="-1" strike="noStrike">
              <a:solidFill>
                <a:srgbClr val="2d201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c1c1c"/>
                </a:solidFill>
                <a:latin typeface="幼圆"/>
              </a:rPr>
              <a:t>●</a:t>
            </a:r>
            <a:r>
              <a:rPr b="1" lang="zh-CN" sz="6000" spc="-1" strike="noStrike">
                <a:solidFill>
                  <a:srgbClr val="0066ff"/>
                </a:solidFill>
                <a:latin typeface="幼圆"/>
              </a:rPr>
              <a:t>文学与生活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97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d2015"/>
                </a:solidFill>
                <a:latin typeface="Comic Sans MS"/>
              </a:rPr>
              <a:t>      </a:t>
            </a:r>
            <a:endParaRPr b="0" lang="en-US" sz="48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d2015"/>
                </a:solidFill>
                <a:latin typeface="Comic Sans MS"/>
              </a:rPr>
              <a:t>     </a:t>
            </a:r>
            <a:r>
              <a:rPr b="0" lang="zh-CN" sz="4800" spc="-1" strike="noStrike">
                <a:solidFill>
                  <a:srgbClr val="2d2015"/>
                </a:solidFill>
                <a:latin typeface="Comic Sans MS"/>
              </a:rPr>
              <a:t>学完了课文，你有什么收获？</a:t>
            </a:r>
            <a:endParaRPr b="0" lang="en-US" sz="48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4292640"/>
            <a:ext cx="6840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幼圆"/>
                <a:ea typeface="幼圆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幼圆"/>
                <a:ea typeface="幼圆"/>
              </a:rPr>
              <a:t>做人要做精神和意志永远打不垮的人。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56000" y="1125360"/>
            <a:ext cx="3057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斗 鲨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2565360"/>
            <a:ext cx="563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015"/>
                </a:solidFill>
                <a:latin typeface="Comic Sans MS"/>
                <a:ea typeface="隶书"/>
              </a:rPr>
              <a:t>　　　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  <a:ea typeface="隶书"/>
              </a:rPr>
              <a:t>　</a:t>
            </a:r>
            <a:r>
              <a:rPr b="0" lang="zh-CN" sz="3200" spc="-1" strike="noStrike">
                <a:solidFill>
                  <a:srgbClr val="996633"/>
                </a:solidFill>
                <a:latin typeface="Comic Sans MS"/>
                <a:ea typeface="隶书"/>
              </a:rPr>
              <a:t>　</a:t>
            </a:r>
            <a:r>
              <a:rPr b="1" lang="zh-CN" sz="4000" spc="-1" strike="noStrike">
                <a:solidFill>
                  <a:srgbClr val="996633"/>
                </a:solidFill>
                <a:latin typeface="Comic Sans MS"/>
                <a:ea typeface="华文新魏"/>
              </a:rPr>
              <a:t>　　　海明威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31480" y="19512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行楷"/>
              </a:rPr>
              <a:t>教学目标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14800" y="1393920"/>
            <a:ext cx="47646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准确把握小说三要素，能够运用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小说三要素分析本文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赏析 “老人”这个人物形象，把握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其硬汉性格的内涵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71840" y="122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31480" y="19512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行楷"/>
              </a:rPr>
              <a:t>教学目标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640" y="1484280"/>
            <a:ext cx="75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新宋体"/>
              </a:rPr>
              <a:t>情感态度和价值观：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培养热爱生活的健康情操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让学生认识到：在人生的道路上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无论遇到怎样的困难和挫折，都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要勇敢的去面对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689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幼圆"/>
                <a:ea typeface="华文行楷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幼圆"/>
                <a:ea typeface="华文行楷"/>
              </a:rPr>
              <a:t>海明威</a:t>
            </a:r>
            <a:endParaRPr b="1" lang="en-US" sz="48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56000" y="1412640"/>
            <a:ext cx="478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隶书"/>
              </a:rPr>
              <a:t>    </a:t>
            </a:r>
            <a:r>
              <a:rPr b="1" lang="zh-CN" sz="3600" spc="-1" strike="noStrike">
                <a:solidFill>
                  <a:srgbClr val="0066cc"/>
                </a:solidFill>
                <a:latin typeface="隶书"/>
              </a:rPr>
              <a:t>美国作家。获</a:t>
            </a:r>
            <a:r>
              <a:rPr b="1" lang="zh-CN" sz="3600" spc="-1" strike="noStrike">
                <a:solidFill>
                  <a:srgbClr val="0066cc"/>
                </a:solidFill>
                <a:latin typeface="隶书"/>
              </a:rPr>
              <a:t>1954</a:t>
            </a:r>
            <a:r>
              <a:rPr b="1" lang="zh-CN" sz="3600" spc="-1" strike="noStrike">
                <a:solidFill>
                  <a:srgbClr val="0066cc"/>
                </a:solidFill>
                <a:latin typeface="隶书"/>
              </a:rPr>
              <a:t>年诺贝尔文学奖。主要作品有小说《老人与海》《战地钟声》      早期长篇小说《太阳照样升起》《永别了，武器》成为表现美国“迷惘的一代”的主要代表作。</a:t>
            </a:r>
            <a:endParaRPr b="0" lang="en-US" sz="36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211640" cy="5661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4360" y="76500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d700"/>
                </a:solidFill>
                <a:latin typeface="Arial"/>
              </a:rPr>
              <a:t>瑞典诺贝尔授奖委员会的评价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989000"/>
            <a:ext cx="8642160" cy="4068360"/>
          </a:xfrm>
          <a:prstGeom prst="rect">
            <a:avLst/>
          </a:prstGeom>
          <a:solidFill>
            <a:srgbClr val="e7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勇气是海明威的中心主题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《老人与海》写的是一个老人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展现的却是一个世界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689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幼圆"/>
                <a:ea typeface="华文行楷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幼圆"/>
                <a:ea typeface="华文行楷"/>
              </a:rPr>
              <a:t>海明威</a:t>
            </a:r>
            <a:endParaRPr b="1" lang="en-US" sz="48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56000" y="1412640"/>
            <a:ext cx="478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cc"/>
                </a:solidFill>
                <a:latin typeface="隶书"/>
              </a:rPr>
              <a:t>           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1899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年出生于一个医生家庭。曾参加第一次世界大战，后以战地记者身份参加第二次世界大战和西班牙内战，晚年患多种疾病，精神抑郁，完全丧失工作能力，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1961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年自杀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  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211640" cy="566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幼圆"/>
              </a:rPr>
              <a:t>节选前的故事梗概</a:t>
            </a:r>
            <a:endParaRPr b="1" lang="en-US" sz="4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65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d2015"/>
                </a:solidFill>
                <a:latin typeface="Comic Sans MS"/>
              </a:rPr>
              <a:t>　</a:t>
            </a:r>
            <a:endParaRPr b="0" lang="en-US" sz="1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  <a:ea typeface="宋体"/>
              </a:rPr>
              <a:t>桑地亚哥是古巴的一个老渔夫，他年轻时非常出色，强健有力，他曾经和一个黑人比赛掰腕子，比了一天一夜，最后终于战胜了对手。到了晚年，他的经历和反应都不如从前，妻子死后，他一个人孤独地住在海边简陋的小茅棚里。</a:t>
            </a:r>
            <a:endParaRPr b="0" lang="en-US" sz="36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  <a:ea typeface="宋体"/>
              </a:rPr>
              <a:t>　　有一段时间，老渔夫独自乘小船打鱼，他接连打了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  <a:ea typeface="宋体"/>
              </a:rPr>
              <a:t>84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  <a:ea typeface="宋体"/>
              </a:rPr>
              <a:t>天，但一条鱼也没有捕到。本来一个叫曼诺林的男孩子总是跟他在一起，可是日子一久曼诺林的父母认为老头悖运，吩咐孩子搭另一条船出海，</a:t>
            </a:r>
            <a:endParaRPr b="0" lang="en-US" sz="36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幼圆"/>
              </a:rPr>
              <a:t>节选前的故事梗概</a:t>
            </a:r>
            <a:endParaRPr b="1" lang="en-US" sz="4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85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天，他独自一人乘船出航到很远的地方，竟捕捉到一条比小船还长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英尺的大马林鱼，经过顽强搏斗，最终制服了大鱼，猎获了他梦寐以求的目标。但在归途中，又被成群的鲨鱼轮番侵食。</a:t>
            </a:r>
            <a:endParaRPr b="0" lang="en-US" sz="36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20:43Z</dcterms:created>
  <dc:creator>微软用户</dc:creator>
  <dc:description/>
  <dc:language>en-US</dc:language>
  <cp:lastModifiedBy>gaoshaoyan</cp:lastModifiedBy>
  <dcterms:modified xsi:type="dcterms:W3CDTF">2008-12-05T14:25:35Z</dcterms:modified>
  <cp:revision>122</cp:revision>
  <dc:subject/>
  <dc:title>幻灯片 1</dc:title>
</cp:coreProperties>
</file>