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42A-87A7-4B8D-A590-A82A8BA2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0A8-B4FB-414E-A76C-3A5FBBD2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CEB-FBC1-49C7-B983-1F615527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767-0C92-40A6-B83B-C7C878EC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C21-5C08-4D63-8703-1391E3AE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C55-D4ED-454D-9237-12E56955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613-55AE-4D32-8DF0-210C5AC2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1EA-F4CD-4B63-9DF7-ACC551D6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3986-9F7C-439E-8E8C-A04C0B0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17AF-4492-44DD-BC9F-38C5D71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8F9-FC2D-4C9D-849E-FB961E6F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3C2-D5A2-421C-8BA9-E59F972E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9C0B-4E9C-445C-9605-1234BCE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3312-4D5A-4F0C-82D4-88169AA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505F-05EB-46E0-A5E8-ED616E18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AB7B-6C30-4509-AB58-704B150D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9817-2BA5-4BAA-AA7C-78A6325E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816-965D-4D6D-8A13-88B87F7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B42-B6AE-432E-A84F-28D2E8C4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C3F-D019-47BD-B076-A8FCABDA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EAD-FCAC-4288-BFB0-A63D3A1F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059-E47D-4BB3-8750-03DDAD04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BA7-6444-44E5-9959-8ACAE634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C61-8063-4D61-B27F-7BEA456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2d201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48E6-C0D2-4F0C-AFAB-6136F4854571}" type="slidenum">
              <a:rPr b="0" lang="zh-CN" sz="1200" spc="-1" strike="noStrike">
                <a:solidFill>
                  <a:srgbClr val="1c1c1c"/>
                </a:solidFill>
                <a:latin typeface="Comic Sans MS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54a1d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c1c1c"/>
                </a:solidFill>
                <a:latin typeface="Comic Sans MS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7DC-8FB4-44A6-807B-B9B28AE68587}" type="slidenum">
              <a:rPr b="0" lang="zh-CN" sz="1000" spc="-1" strike="noStrike">
                <a:solidFill>
                  <a:srgbClr val="1c1c1c"/>
                </a:solidFill>
                <a:latin typeface="Comic Sans MS"/>
                <a:ea typeface="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015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2d2015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015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2d2015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2d2015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015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25480" y="1179360"/>
            <a:ext cx="1991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23e26"/>
                </a:solidFill>
                <a:latin typeface="Arial"/>
                <a:ea typeface="华文行楷"/>
              </a:rPr>
              <a:t>斗   鲨</a:t>
            </a:r>
            <a:endParaRPr b="0" lang="en-US" sz="7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4365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泊四中      李长青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2360" y="2924280"/>
            <a:ext cx="12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说  课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17520" y="35712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冀教版《语文》八年级上册第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6140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课件制作    李长青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8436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9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7280" y="507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cc"/>
                </a:solidFill>
                <a:latin typeface="Arial"/>
                <a:ea typeface="华文行楷"/>
              </a:rPr>
              <a:t>课时安排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共需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分钟）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2320" y="141300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课时：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通过多媒体展示《老人与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海》故事梗概及学生课下对本文相关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知识的搜集整理导入对本文内容的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述和故事情节的梳理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" y="4245120"/>
            <a:ext cx="87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二课时：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通过电影片段欣赏及文本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的研讨来剖析人物性格品质、探究思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想内涵，通过对比阅读探讨文化内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556000" y="1125360"/>
            <a:ext cx="3057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斗 鲨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256536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  <a:ea typeface="隶书"/>
              </a:rPr>
              <a:t>　　　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  <a:ea typeface="隶书"/>
              </a:rPr>
              <a:t>　</a:t>
            </a:r>
            <a:r>
              <a:rPr b="0" lang="zh-CN" sz="3200" spc="-1" strike="noStrike">
                <a:solidFill>
                  <a:srgbClr val="996633"/>
                </a:solidFill>
                <a:latin typeface="Comic Sans MS"/>
                <a:ea typeface="隶书"/>
              </a:rPr>
              <a:t>　</a:t>
            </a:r>
            <a:r>
              <a:rPr b="1" lang="zh-CN" sz="4000" spc="-1" strike="noStrike">
                <a:solidFill>
                  <a:srgbClr val="996633"/>
                </a:solidFill>
                <a:latin typeface="Comic Sans MS"/>
                <a:ea typeface="华文新魏"/>
              </a:rPr>
              <a:t>　　　海明威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3933720"/>
            <a:ext cx="5638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幼圆"/>
                <a:ea typeface="幼圆"/>
              </a:rPr>
              <a:t>　　　　　　　　　　　　　　　　　　　　　　　　　　　　　　　　　　　　　　　　　　　　　　　</a:t>
            </a:r>
            <a:r>
              <a:rPr b="0" lang="zh-CN" sz="4400" spc="-1" strike="noStrike">
                <a:solidFill>
                  <a:srgbClr val="339933"/>
                </a:solidFill>
                <a:latin typeface="幼圆"/>
                <a:ea typeface="华文新魏"/>
              </a:rPr>
              <a:t>第一课时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981000"/>
            <a:ext cx="7827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茫茫的大海，孤独的扁舟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硕大的马林鱼，疲惫的老人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风浪和暗流，白天又黑夜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成群的鲨鱼出现了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老人又要为保卫自己的收获而战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</a:rPr>
              <a:t>于是他拿起一切武器。。。。。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765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d700"/>
                </a:solidFill>
                <a:latin typeface="Arial"/>
              </a:rPr>
              <a:t>瑞典诺贝尔授奖委员会的评价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989000"/>
            <a:ext cx="8642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勇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海明威的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中心主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《老人与海》写的是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一个老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展现的却是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一个世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幼圆"/>
              </a:rPr>
              <a:t>《老人与海》故事梗概</a:t>
            </a:r>
            <a:endParaRPr b="1" lang="en-US" sz="4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62752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　</a:t>
            </a:r>
            <a:r>
              <a:rPr b="1" lang="zh-CN" sz="2400" spc="-1" strike="noStrike">
                <a:solidFill>
                  <a:srgbClr val="2d2015"/>
                </a:solidFill>
                <a:latin typeface="Comic Sans MS"/>
              </a:rPr>
              <a:t>桑地亚哥是古巴的一个老渔夫，他年轻时非常出色，强健有力，他曾经和一个黑人比赛掰腕子，比了一天一夜，最后终于战胜了对手。到了晚年，他的经历和反应都不如从前，老婆死后，他一个人孤独地住在海边简陋的小茅棚里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015"/>
                </a:solidFill>
                <a:latin typeface="Comic Sans MS"/>
              </a:rPr>
              <a:t>　　有一段时间，老渔夫独自乘小船打鱼，他接连打了</a:t>
            </a:r>
            <a:r>
              <a:rPr b="1" lang="zh-CN" sz="2400" spc="-1" strike="noStrike">
                <a:solidFill>
                  <a:srgbClr val="2d2015"/>
                </a:solidFill>
                <a:latin typeface="Comic Sans MS"/>
              </a:rPr>
              <a:t>84</a:t>
            </a:r>
            <a:r>
              <a:rPr b="1" lang="zh-CN" sz="2400" spc="-1" strike="noStrike">
                <a:solidFill>
                  <a:srgbClr val="2d2015"/>
                </a:solidFill>
                <a:latin typeface="Comic Sans MS"/>
              </a:rPr>
              <a:t>天，但一条鱼也没有捕到。本来一个叫曼诺林的男孩子总是跟他在一起，可是日子一久曼诺林的父母认为老头悖运，吩咐孩子搭另一条船出海，果然第一个星期就捕到三条好鱼。孩子每次见到老头每天空船而归，心里非常难受，总要帮他拿拿东西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772000" cy="5400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512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d2015"/>
                </a:solidFill>
                <a:latin typeface="Comic Sans MS"/>
              </a:rPr>
              <a:t>       </a:t>
            </a:r>
            <a:r>
              <a:rPr b="0" lang="zh-CN" sz="2200" spc="-1" strike="noStrike">
                <a:solidFill>
                  <a:srgbClr val="2d2015"/>
                </a:solidFill>
                <a:latin typeface="Comic Sans MS"/>
              </a:rPr>
              <a:t>桑地亚哥瘦削憔悴，后颈满是皱纹，脸上长着疙瘩，但他的双眼象海水一样湛蓝，毫无沮丧之色。他和孩子是忘年交。老头教会孩子捕鱼，因为孩子很爱他。村里很多打鱼的人都因为老头捉不到鱼拿他开玩笑，但是在曼诺林的眼里，老头是最好的渔夫。他们打鱼不但是为了挣钱，而是把它看作共同爱好的事业。孩子为老头准备饭菜，跟他一起评论垒球赛。老头特别崇拜垒球好手狄马吉奥。他是渔民的儿子，脚跟上虽长有骨剌，但打起球来生龙活虎。老头认变自己已经年迈，体力不比壮年，但他懂得许多捕鱼的决窍，而且决心很大，因此他仍是个好渔夫。</a:t>
            </a:r>
            <a:endParaRPr b="0" lang="en-US" sz="2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24360" y="1341360"/>
            <a:ext cx="3175200" cy="514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9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老人和孩子相约第二天，也就是第</a:t>
            </a: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85</a:t>
            </a: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天一早一起出海。当晚老头做了个梦，梦见自己少年当水手时远航非洲见到在海滩上嬉戏的狮子。醒后他踏着月光去叫醒孩子，两人分乘两条船，出港后各自驶向自己选择的海面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　　天还没有亮，老头已经放下鱼饵。鱼饵的肚子里包着鱼钩的把子，鱼钩的突出部分都裹着新鲜的沙丁鱼。 鱼饵香气四溢，味道鲜美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29080" cy="4968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0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正当桑地亚哥目不转睛地望着钓丝的时候，他看见露出水面的一根绿色竿子急遽地附入水中。他用右手的大拇指和食指轻轻捏着钓丝。接着钓丝又动了一下，拉力不猛。老头明白，一百英寻之下的海水深处，一条马林鱼正在吃鱼钓上的沙丁鱼。他感觉到下面轻轻的扯动，非常高兴。过了一会儿他觉得有一件硬梆梆、沉甸甸的东西，这分明是马林鱼的重量，他断定这是一条大鱼。这激起他要向它挑战的决心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457440" cy="489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194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Comic Sans MS"/>
              </a:rPr>
              <a:t>老人先松开钓丝，然后大喝一声，用尽全身的力气收拢钓丝，但鱼并不肯轻易屈服，非但没有上来一英寸，反而慢慢游开去。老头把钓丝背在脊梁上增加对抗马林鱼的拉力，可是作用不大，他眼睁睁地看着小船向西北方飘去。老头想鱼这样用力过猛很快就会死的，但四个小时后，鱼依然拖着小船向浩渺无边的海面游去，老头也照旧毫不松劲地拉住背在脊梁上的钓丝。他们对抗着。</a:t>
            </a: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3097080" cy="4608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12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这时，老人回头望去，陆地已从他的视线中消失。太阳西坠，繁星满天。老人根据对星的观察作出判断：那条大鱼整夜都没有改变方向，夜里天气冷了，老头的汗水干了，他觉得浑身上冷冰冰的。他把一个麻袋垫在肩膀上的钓丝下面减少摩擦，再弯腰靠在船头上，他就感到舒服多了。为了能坚持下去，他不断的和鱼、鸟、大海对话，不断的回忆往事，并想到了曼诺林，他大声地自言自语：“要是孩子在这儿多好啊，好让他帮帮我，再瞧瞧这一切。”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952720" cy="4176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新宋体"/>
                <a:ea typeface="新宋体"/>
              </a:rPr>
              <a:t>设计理念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基于我校教学资源现有条件，结合新课程标准的要求，充分发挥集体力量和个人的智慧，构建特色课堂和魅力课堂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   </a:t>
            </a: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一 依托网络充实课堂信息量 ；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   </a:t>
            </a: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二 立足于学生的发展，精心构思，巧妙设计，让学生在快乐中被吸引，在吸引中被调动，在调动中合作探究；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   </a:t>
            </a: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三 强化人文熏陶，在循序渐进中完成 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新宋体"/>
              </a:rPr>
              <a:t>“文本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新宋体"/>
              </a:rPr>
              <a:t>---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新宋体"/>
              </a:rPr>
              <a:t>语言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新宋体"/>
              </a:rPr>
              <a:t>---</a:t>
            </a:r>
            <a:r>
              <a:rPr b="1" lang="zh-CN" sz="2800" spc="-1" strike="noStrike">
                <a:solidFill>
                  <a:srgbClr val="0066ff"/>
                </a:solidFill>
                <a:latin typeface="Comic Sans MS"/>
                <a:ea typeface="新宋体"/>
              </a:rPr>
              <a:t>文化”</a:t>
            </a: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的引领。从而增加学生的知识积淀，提高学生的语文能力，培养学生健康向上的精神品格。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5398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omic Sans MS"/>
              </a:rPr>
              <a:t>破晓前天很冷，老头抵着木头取暖。他想鱼能支持多久我也能支持多久。他用温柔的语调大声说：“鱼啊，只要我不死就要同你周旋到底。”太阳升起后，老头发觉鱼还没有疲倦，只是钓丝的斜度显示鱼可能要跳起来，这正是他求之不得的事。他说：“鱼啊，我爱你，而且十分尊敬你。可是今天天黑以前我一定要把你弄死。”鱼开始不安分了，它突然把小船扯得晃荡了一下。老头用右手去摸钓丝，发现那只手正在流血。过了一会他的左手又抽起筋来，但他仍竭力坚持。他吃了几片金枪鱼肉好增加点力气来对付那条大鱼。</a:t>
            </a:r>
            <a:r>
              <a:rPr b="1" lang="zh-CN" sz="2400" spc="-1" strike="noStrike">
                <a:solidFill>
                  <a:srgbClr val="ffff00"/>
                </a:solidFill>
                <a:latin typeface="Comic Sans MS"/>
              </a:rPr>
              <a:t> 　</a:t>
            </a:r>
            <a:endParaRPr b="0" lang="en-US" sz="2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302436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2015"/>
                </a:solidFill>
                <a:latin typeface="Comic Sans MS"/>
              </a:rPr>
              <a:t>正在这时钓丝慢慢升起来，大鱼终于露出水里。在阳光下，这浑身明亮夺目，色彩斑斓。它足有</a:t>
            </a:r>
            <a:r>
              <a:rPr b="0" lang="zh-CN" sz="2000" spc="-1" strike="noStrike">
                <a:solidFill>
                  <a:srgbClr val="2d2015"/>
                </a:solidFill>
                <a:latin typeface="Comic Sans MS"/>
              </a:rPr>
              <a:t>18</a:t>
            </a:r>
            <a:r>
              <a:rPr b="0" lang="zh-CN" sz="2000" spc="-1" strike="noStrike">
                <a:solidFill>
                  <a:srgbClr val="2d2015"/>
                </a:solidFill>
                <a:latin typeface="Comic Sans MS"/>
              </a:rPr>
              <a:t>英尺长，比他的船还要大。它的喙长得象一根垒球棒，尖得象一把细长的利剑。它那大镰刀似的尾巴入水中后，钓 丝也飞快地滑下去。 　　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2d2015"/>
                </a:solidFill>
                <a:latin typeface="Comic Sans MS"/>
              </a:rPr>
              <a:t>　　老人和大鱼一直相持到日落，双方已搏斗了两天一夜，老头不禁回想起年轻时在卡萨兰卡跟一个黑人比赛扳手的经历。他俩把胳膊肘放在桌上划粉笔线的地方，前臂直，两手握紧，就这样相持了一天一夜。八小时后每隔四个钟头就换一个裁判，让他们轮流睡觉。他和黑人的手指甲里都流出血来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2d2015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95272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5338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有一次黑人喝了甜酒使出全身力气，竟把他的手压下去将近三英寸，但桑提阿果又把手扳回原来的位置，并且在第二天天亮时奋力把黑人的手扳倒，从此他成了人们心目中的英雄。 　　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　　老人和大鱼的持久战又从黑夜延续到天明。大鱼跃起十几次后开始绕着小船打转。老人头昏眼花，只见眼前黑点在晃动，但他仍紧紧拉着钓丝。当鱼游到他身边时，他放下钓丝踩在脚下，然后把鱼叉高高举起扎进鱼身。大鱼跳到半空，充分展示了它的美和力量，然后轰隆一声落到水里，浪花溅满老头一身，也溅湿了整条小船。 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75040" cy="4081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鱼仰身朝天，银白色的肚皮翻上来，从它心脏流出来的血染红了蓝色的海水。老头把大鱼绑在船边胜利返航。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…… 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         </a:t>
            </a: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船驶进小港时，人们看见船旁硕大无朋的白色鱼脊骨。望着那副骨架，老人自问是什么打败了他，结论是：“什么都不是，是我出海太远了。” 　　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2d2015"/>
                </a:solidFill>
                <a:latin typeface="Comic Sans MS"/>
              </a:rPr>
              <a:t>　　第二天早上，孩子来看望老头，见到他疲倦得熟睡不醒时不禁放声大哭。老头醒来后，孩子给他端一杯热气 腾腾的咖啡。两人相约过几天一起去打鱼，孩子说他还有很东西要学。孩子离去后，老头睡着了，他又梦见非洲的狮子。</a:t>
            </a: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808360" cy="4248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689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华文行楷"/>
              </a:rPr>
              <a:t>海明威</a:t>
            </a:r>
            <a:endParaRPr b="1" lang="en-US" sz="48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78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隶书"/>
              </a:rPr>
              <a:t>    </a:t>
            </a:r>
            <a:r>
              <a:rPr b="0" lang="zh-CN" sz="3600" spc="-1" strike="noStrike">
                <a:solidFill>
                  <a:srgbClr val="0066cc"/>
                </a:solidFill>
                <a:latin typeface="隶书"/>
              </a:rPr>
              <a:t>美国作家。获</a:t>
            </a:r>
            <a:r>
              <a:rPr b="0" lang="zh-CN" sz="3600" spc="-1" strike="noStrike">
                <a:solidFill>
                  <a:srgbClr val="0066cc"/>
                </a:solidFill>
                <a:latin typeface="隶书"/>
              </a:rPr>
              <a:t>1954</a:t>
            </a:r>
            <a:r>
              <a:rPr b="0" lang="zh-CN" sz="3600" spc="-1" strike="noStrike">
                <a:solidFill>
                  <a:srgbClr val="0066cc"/>
                </a:solidFill>
                <a:latin typeface="隶书"/>
              </a:rPr>
              <a:t>年诺贝尔文学奖。主要作品有小说《老人与海》《战地钟声》</a:t>
            </a:r>
            <a:r>
              <a:rPr b="0" lang="zh-CN" sz="3600" spc="-1" strike="noStrike">
                <a:solidFill>
                  <a:srgbClr val="2d2015"/>
                </a:solidFill>
                <a:latin typeface="隶书"/>
              </a:rPr>
              <a:t>。</a:t>
            </a:r>
            <a:endParaRPr b="0" lang="en-US" sz="36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211640" cy="5661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34800" y="260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相关链接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413000"/>
            <a:ext cx="70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课前准备 （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多媒体展示成果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。根据下发的自学模板，做上课前的知识准备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。通过书籍或网络了解海明威其人其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。课外读《老人与海》全文及《热爱生命》人教版《芦花荡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54a1d"/>
                </a:solidFill>
                <a:latin typeface="新宋体"/>
                <a:ea typeface="新宋体"/>
              </a:rPr>
              <a:t>课文自学摸板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268280"/>
          <a:ext cx="8497800" cy="5349960"/>
        </p:xfrm>
        <a:graphic>
          <a:graphicData uri="http://schemas.openxmlformats.org/drawingml/2006/table">
            <a:tbl>
              <a:tblPr/>
              <a:tblGrid>
                <a:gridCol w="4354560"/>
                <a:gridCol w="414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课题</a:t>
                      </a:r>
                      <a:endParaRPr b="0" lang="en-US" sz="2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109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推介词</a:t>
                      </a:r>
                      <a:r>
                        <a:rPr b="1" i="1" lang="zh-CN" sz="2000" spc="-1" strike="noStrike">
                          <a:solidFill>
                            <a:srgbClr val="0066ff"/>
                          </a:solidFill>
                          <a:latin typeface="Comic Sans MS"/>
                          <a:ea typeface="隶书"/>
                        </a:rPr>
                        <a:t>（根据自读时的收获和感悟，用诗化的语言向他人推荐本文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自主积累 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。识文断字</a:t>
                      </a:r>
                      <a:r>
                        <a:rPr b="1" i="1" lang="zh-CN" sz="2000" spc="-1" strike="noStrike">
                          <a:solidFill>
                            <a:srgbClr val="0066ff"/>
                          </a:solidFill>
                          <a:latin typeface="Comic Sans MS"/>
                          <a:ea typeface="隶书"/>
                        </a:rPr>
                        <a:t>（字词积累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              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。学海拾零</a:t>
                      </a:r>
                      <a:r>
                        <a:rPr b="1" i="1" lang="zh-CN" sz="2000" spc="-1" strike="noStrike">
                          <a:solidFill>
                            <a:srgbClr val="0066ff"/>
                          </a:solidFill>
                          <a:latin typeface="Comic Sans MS"/>
                          <a:ea typeface="隶书"/>
                        </a:rPr>
                        <a:t>（相关文学常识及背景材料</a:t>
                      </a:r>
                      <a:r>
                        <a:rPr b="1" i="1" lang="zh-CN" sz="2800" spc="-1" strike="noStrike">
                          <a:solidFill>
                            <a:srgbClr val="0066ff"/>
                          </a:solidFill>
                          <a:latin typeface="Comic Sans MS"/>
                          <a:ea typeface="隶书"/>
                        </a:rPr>
                        <a:t>）</a:t>
                      </a:r>
                      <a:endParaRPr b="0" lang="en-US" sz="2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文本体验   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。文本印象</a:t>
                      </a:r>
                      <a:endParaRPr b="0" lang="en-US" sz="2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                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。引玉之砖</a:t>
                      </a:r>
                      <a:endParaRPr b="0" lang="en-US" sz="2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                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。合作探究</a:t>
                      </a:r>
                      <a:r>
                        <a:rPr b="1" i="1" lang="zh-CN" sz="2000" spc="-1" strike="noStrike">
                          <a:solidFill>
                            <a:srgbClr val="0066ff"/>
                          </a:solidFill>
                          <a:latin typeface="Comic Sans MS"/>
                          <a:ea typeface="新宋体"/>
                        </a:rPr>
                        <a:t>（内容，结构，主题，写法）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反思悟学</a:t>
                      </a:r>
                      <a:endParaRPr b="0" lang="en-US" sz="2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新宋体"/>
                <a:ea typeface="新宋体"/>
              </a:rPr>
              <a:t>知识链接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小说的三要素：</a:t>
            </a:r>
            <a:endParaRPr b="0" lang="en-US" sz="60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2d201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人物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--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故事情节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--</a:t>
            </a:r>
            <a:r>
              <a:rPr b="1" lang="zh-CN" sz="6000" spc="-1" strike="noStrike">
                <a:solidFill>
                  <a:srgbClr val="2d2015"/>
                </a:solidFill>
                <a:latin typeface="Comic Sans MS"/>
              </a:rPr>
              <a:t>环境</a:t>
            </a:r>
            <a:endParaRPr b="0" lang="en-US" sz="60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384840" y="4419720"/>
            <a:ext cx="200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人老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77240" y="4343400"/>
            <a:ext cx="200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鲨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斗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06240" y="4343400"/>
            <a:ext cx="200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海大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35053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5053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5053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0200" y="-20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17002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速读全文，用自己的话概述全文内容。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0200" y="122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52040" y="2602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感知故事情节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400536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从文章的角度感知作品的主要内容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471120" y="23184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梳理情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65680" y="1341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自主合作探究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02120" y="299736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本文写了几次斗鲨的场面，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各有什么异同？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48360" y="494172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复述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幼圆"/>
              </a:rPr>
              <a:t>   </a:t>
            </a:r>
            <a:r>
              <a:rPr b="1" lang="zh-CN" sz="5400" spc="-1" strike="noStrike">
                <a:solidFill>
                  <a:srgbClr val="0066ff"/>
                </a:solidFill>
                <a:latin typeface="幼圆"/>
              </a:rPr>
              <a:t>教材分析</a:t>
            </a:r>
            <a:endParaRPr b="1" lang="en-US" sz="54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《斗鲨》一文是美国著名作家海明威的代表作《老人与海》的节选，是冀教版《语文》八年级上册第五单元“生命”单元的第一篇文章。学习本文在明确小说三要素的基础上，要体味人物的”硬汉形象“以及心理刻画的作用，学习语言的简实之美，比对中西文化的不同，接受坚毅，勇敢，无畏，永不言败人格魅力的熏陶。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556000" y="1125360"/>
            <a:ext cx="3057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斗 鲨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256536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015"/>
                </a:solidFill>
                <a:latin typeface="Comic Sans MS"/>
                <a:ea typeface="隶书"/>
              </a:rPr>
              <a:t>　　　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  <a:ea typeface="隶书"/>
              </a:rPr>
              <a:t>　</a:t>
            </a:r>
            <a:r>
              <a:rPr b="0" lang="zh-CN" sz="3200" spc="-1" strike="noStrike">
                <a:solidFill>
                  <a:srgbClr val="996633"/>
                </a:solidFill>
                <a:latin typeface="Comic Sans MS"/>
                <a:ea typeface="隶书"/>
              </a:rPr>
              <a:t>　</a:t>
            </a:r>
            <a:r>
              <a:rPr b="1" lang="zh-CN" sz="4000" spc="-1" strike="noStrike">
                <a:solidFill>
                  <a:srgbClr val="996633"/>
                </a:solidFill>
                <a:latin typeface="Comic Sans MS"/>
                <a:ea typeface="华文新魏"/>
              </a:rPr>
              <a:t>　　　海明威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3933720"/>
            <a:ext cx="5638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幼圆"/>
                <a:ea typeface="幼圆"/>
              </a:rPr>
              <a:t>　　　　　　　　　　　　　　　　　　　　　　　　　　　　　　　　　　　　　　　　　　　　　　　</a:t>
            </a:r>
            <a:r>
              <a:rPr b="0" lang="zh-CN" sz="4400" spc="-1" strike="noStrike">
                <a:solidFill>
                  <a:srgbClr val="339933"/>
                </a:solidFill>
                <a:latin typeface="幼圆"/>
                <a:ea typeface="华文新魏"/>
              </a:rPr>
              <a:t>第二课时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548520" y="254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拓展延伸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700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从文学的角度赏析小说的诗意美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386064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从文化的角度深化文本的内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幼圆"/>
              </a:rPr>
              <a:t>       </a:t>
            </a: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美点品评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1749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。人物的纯粹之美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。内涵的意蕴之美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。写法的简实之美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126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用“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的老人”评价老人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249228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从老人身上，你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看到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了什么？老人归来，你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想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对他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说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些什么？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4365720"/>
            <a:ext cx="45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作品有如冰山，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露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在水面的只有八分之一，其余八分之七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隐藏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在水下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------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海明威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343400" y="4343400"/>
            <a:ext cx="3352680" cy="2209680"/>
          </a:xfrm>
          <a:custGeom>
            <a:avLst/>
            <a:gdLst>
              <a:gd name="textAreaLeft" fmla="*/ 787680 w 3352680"/>
              <a:gd name="textAreaRight" fmla="*/ 2562480 w 3352680"/>
              <a:gd name="textAreaTop" fmla="*/ 259560 h 2209680"/>
              <a:gd name="textAreaBottom" fmla="*/ 1386000 h 2209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267080"/>
            <a:ext cx="3048120" cy="2362320"/>
          </a:xfrm>
          <a:prstGeom prst="smileyFace">
            <a:avLst>
              <a:gd name="adj" fmla="val 9282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31" name="2006110911211340874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429000" y="604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c1c1c"/>
                </a:solidFill>
                <a:latin typeface="Arial"/>
              </a:rPr>
              <a:t>品评示例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8129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2.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跟它们斗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,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他说，“我要跟它们斗到死”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4987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3.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什么也没有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,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他说出声来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,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只怪我出海太远了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03480"/>
            <a:ext cx="60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1.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来吧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加拉诺鲨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,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老人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,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再过来吧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.”   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1040" y="32767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抓关键句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9800" y="32767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品关键词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3886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6400" y="4572000"/>
            <a:ext cx="5060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动作 语言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心理 情态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886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419720"/>
            <a:ext cx="2133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增删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朗读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运用</a:t>
            </a:r>
            <a:r>
              <a:rPr b="1" lang="zh-CN" sz="6000" spc="-1" strike="noStrike">
                <a:solidFill>
                  <a:srgbClr val="1c1c1c"/>
                </a:solidFill>
                <a:latin typeface="幼圆"/>
              </a:rPr>
              <a:t>●</a:t>
            </a: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实践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064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2015"/>
                </a:solidFill>
                <a:latin typeface="Comic Sans MS"/>
              </a:rPr>
              <a:t>        </a:t>
            </a:r>
            <a:r>
              <a:rPr b="1" lang="zh-CN" sz="5400" spc="-1" strike="noStrike">
                <a:solidFill>
                  <a:srgbClr val="2d2015"/>
                </a:solidFill>
                <a:latin typeface="Comic Sans MS"/>
              </a:rPr>
              <a:t>如果给文中的老人塑一个像，你觉得文中哪个场面的造型最能体现老人的形象。说出你选择的依据和理由</a:t>
            </a:r>
            <a:endParaRPr b="0" lang="en-US" sz="54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幼圆"/>
              </a:rPr>
              <a:t>       </a:t>
            </a: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思考与升华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2286000"/>
            <a:ext cx="81532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话题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：通过选读杰克</a:t>
            </a:r>
            <a:r>
              <a:rPr b="0" lang="zh-CN" sz="1600" spc="-1" strike="noStrike">
                <a:solidFill>
                  <a:srgbClr val="2d2015"/>
                </a:solidFill>
                <a:latin typeface="Comic Sans MS"/>
              </a:rPr>
              <a:t>●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伦敦的《热爱生命》和人教版课文《芦花荡》，比较中西方对生命题材的理想化处理有什么不同。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探究调查</a:t>
            </a:r>
            <a:endParaRPr b="1" lang="en-US" sz="36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1447920"/>
          <a:ext cx="8076960" cy="449568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676160"/>
                <a:gridCol w="1600200"/>
                <a:gridCol w="18288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篇名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主要人物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主要情节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人物性格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d2015"/>
                          </a:solidFill>
                          <a:latin typeface="Comic Sans MS"/>
                          <a:ea typeface="隶书"/>
                        </a:rPr>
                        <a:t>讨论探究结果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55640" y="1341360"/>
            <a:ext cx="646200" cy="4680000"/>
          </a:xfrm>
          <a:prstGeom prst="rect">
            <a:avLst/>
          </a:prstGeom>
          <a:solidFill>
            <a:srgbClr val="b1a59d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1268280"/>
            <a:ext cx="647640" cy="4753080"/>
          </a:xfrm>
          <a:prstGeom prst="rect">
            <a:avLst/>
          </a:prstGeom>
          <a:solidFill>
            <a:srgbClr val="b1a59d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69800" y="1413000"/>
            <a:ext cx="7898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直面一切，永不言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8320" y="1341360"/>
            <a:ext cx="13993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坚毅顽强，热爱生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2362320"/>
            <a:ext cx="1752480" cy="2286000"/>
          </a:xfrm>
          <a:prstGeom prst="ellipse">
            <a:avLst/>
          </a:prstGeom>
          <a:solidFill>
            <a:srgbClr val="b1a59d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幼圆"/>
              </a:rPr>
              <a:t>板书设计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7432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1c1c1c"/>
                </a:solidFill>
                <a:latin typeface="华文行楷"/>
                <a:ea typeface="华文行楷"/>
              </a:rPr>
              <a:t>斗</a:t>
            </a:r>
            <a:endParaRPr b="0" lang="en-US" sz="9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21938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智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3276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44798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决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2971800"/>
            <a:ext cx="114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2133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独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276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双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4495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群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2514600"/>
            <a:ext cx="761760" cy="30492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657600"/>
            <a:ext cx="68580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90920" y="4495320"/>
            <a:ext cx="838080" cy="38124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257800" y="2514240"/>
            <a:ext cx="609480" cy="3049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3657600"/>
            <a:ext cx="53352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495680"/>
            <a:ext cx="838080" cy="3049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775600" y="1413000"/>
            <a:ext cx="789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63240" y="1413000"/>
            <a:ext cx="7898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3600" y="1916280"/>
            <a:ext cx="48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海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15440" y="1916280"/>
            <a:ext cx="48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明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88320" y="1916280"/>
            <a:ext cx="48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威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幼圆"/>
              </a:rPr>
              <a:t>设计小结</a:t>
            </a:r>
            <a:endParaRPr b="1" lang="en-US" sz="6000" spc="-1" strike="noStrike">
              <a:solidFill>
                <a:srgbClr val="654a1d"/>
              </a:solidFill>
              <a:latin typeface="幼圆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2d2015"/>
                </a:solidFill>
                <a:latin typeface="Comic Sans MS"/>
              </a:rPr>
              <a:t>本课教学设计把握三个循序渐进层次即：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从文章的角度感知作品的主要内容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二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从文学的角度赏析小说的诗意美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三从文化的角度深化文本的内涵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1c1c1c"/>
                </a:solidFill>
                <a:latin typeface="Comic Sans MS"/>
              </a:rPr>
              <a:t>小说题材的教学把握好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“整体感知内容—梳理故事情节—研读人物形象—品析写法风格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探究文化内涵“</a:t>
            </a:r>
            <a:r>
              <a:rPr b="0" lang="zh-CN" sz="3200" spc="-1" strike="noStrike">
                <a:solidFill>
                  <a:srgbClr val="1c1c1c"/>
                </a:solidFill>
                <a:latin typeface="Comic Sans MS"/>
              </a:rPr>
              <a:t>的教学流程</a:t>
            </a:r>
            <a:r>
              <a:rPr b="0" lang="zh-CN" sz="3200" spc="-1" strike="noStrike">
                <a:solidFill>
                  <a:srgbClr val="1c1c1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构建“课前准备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课上互动探究—课下拓展延伸”的立体课堂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d2015"/>
              </a:solidFill>
              <a:latin typeface="Comic Sans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31480" y="19512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教学目标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341360"/>
            <a:ext cx="53344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知识和能力目标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准确把握小说三要素的概念，能够运用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小说三要素分析本文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区分人物描写的不同方法，能综合运用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4a1d"/>
                </a:solidFill>
                <a:latin typeface="Arial"/>
              </a:rPr>
              <a:t>人物描写的方法来构建人物立体形象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697120" y="893880"/>
            <a:ext cx="383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谢谢听课，</a:t>
            </a:r>
            <a:endParaRPr b="0" lang="en-US" sz="9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敬请指正！</a:t>
            </a:r>
            <a:endParaRPr b="0" lang="en-US" sz="9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84560" y="50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31480" y="19512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教学目标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7960" y="1700280"/>
            <a:ext cx="47646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过程和方法目标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揣摩文中心理描写的句子，体会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它的妙处，并分析其作用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赏析 “老人”这个人物形象，把握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其硬汉性格的内涵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84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71840" y="122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1480" y="19512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行楷"/>
              </a:rPr>
              <a:t>教学目标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484280"/>
            <a:ext cx="75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新宋体"/>
              </a:rPr>
              <a:t>情感态度和价值观：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培养学生热爱生活的健康情操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让学生认识到：在人生的道路上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无论遇到怎样的困难和挫折，都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523e26"/>
                </a:solidFill>
                <a:latin typeface="Arial"/>
              </a:rPr>
              <a:t>要勇敢的去面对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25840" y="1700640"/>
            <a:ext cx="55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重点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通过体会这个故事的传奇色彩，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分析老人的硬汉性格，感悟其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性格中的真与美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揣摩文中心理描写的妙处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0760" y="2620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华文行楷"/>
              </a:rPr>
              <a:t>重点难点分析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7120" y="4581360"/>
            <a:ext cx="85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难点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大段心理描写在文中的作用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如何理解本文的思想文化内涵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26800" y="195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cc"/>
                </a:solidFill>
                <a:latin typeface="Arial"/>
                <a:ea typeface="华文行楷"/>
              </a:rPr>
              <a:t>突出重点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27664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第一步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整体感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4290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第二步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具体描摹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508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第三步：深入挖掘、突出关键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26080" y="220500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华文新魏"/>
              </a:rPr>
              <a:t>讨论探究法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67040" y="342900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  <a:ea typeface="华文新魏"/>
              </a:rPr>
              <a:t>品读法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6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人物分析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516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探幽发微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45920" y="195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华文行楷"/>
              </a:rPr>
              <a:t>突破难点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7002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斗” 的理解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1280" y="2708280"/>
            <a:ext cx="599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第一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和鲨鱼的搏斗  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智斗独鲨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力斗双鲨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---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决斗群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800" y="5084640"/>
            <a:ext cx="87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第二层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和自己的战斗，和生活的战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9560" y="170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点拨法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3706920"/>
            <a:ext cx="32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20:43Z</dcterms:created>
  <dc:creator>微软用户</dc:creator>
  <dc:description/>
  <dc:language>en-US</dc:language>
  <cp:lastModifiedBy>微软中国</cp:lastModifiedBy>
  <dcterms:modified xsi:type="dcterms:W3CDTF">2007-12-11T15:39:29Z</dcterms:modified>
  <cp:revision>114</cp:revision>
  <dc:subject/>
  <dc:title>幻灯片 1</dc:title>
</cp:coreProperties>
</file>