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7E19-30EB-463A-9B35-298D1F036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3780-6174-406C-942A-DF6E4537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8FB3-F9D9-4870-A342-F4651C36E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D4F6-2AA3-4FA6-9DD2-03EB2AAB4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E1C7-DA32-48DA-B863-CF1DE002E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2594-634A-4E72-9E22-FEBB900D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7011-0F67-446D-A9C4-1A41AFA2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3343-8D91-4BEB-B0F8-B2C34B94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A483-B087-4F44-BF1D-C0D9DCD3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2A03-D1A3-4827-B6FA-BF1FA1F4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E709-39D1-48BB-A31E-36999AC7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C6A0-A82D-4837-9FF4-03649C49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AC61-EDC3-4E6D-9AFC-D3F2B6C2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5B7E-61CD-47A0-A275-2E5D69C9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445D-A489-4F06-B83A-65701451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A77A-A585-4C0B-AD83-C739264B6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534D-3C1B-4359-AB70-893DB99AC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822C-1624-4645-928C-6084AABC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64A0-7A2E-4AE8-BB01-77057F31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3128-96B6-48D7-ADFE-7BC34146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A153-9EDF-4889-A58B-C5AA689E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D0AD-C915-4860-806B-BF28E441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10D5-44A7-4056-BD3E-5D080AF3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2CDA-B27F-4FDA-AD33-840216B0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9FF9-F295-4159-A2BD-013CF7AF5390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FF89-8D2E-45AB-9A72-11CA4BDA651D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435640" y="476280"/>
            <a:ext cx="28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林寺桃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59640" y="12682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唐】白居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76720" y="220500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人间四月芳菲尽，山寺桃花始盛开。长恨春归无觅处，不知转入此中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c0039"/>
                </a:solidFill>
                <a:latin typeface="Arial"/>
              </a:rPr>
              <a:t>作者介绍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25680" y="1773360"/>
            <a:ext cx="6718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白居易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7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4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字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乐天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晚年又号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香山居士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河南新郑（今郑州新郑）人，我国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唐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伟大的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现实主义诗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中国文学史上负有盛名且影响深远的诗人和文学家。他的诗歌题材广泛，形式多样，语言平易通俗，有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“诗魔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“诗王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之称。官至翰林学士、左赞善大夫。有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《白氏长庆集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传世，代表诗作有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《长恨歌》、《卖炭翁》、《琵琶行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等。白居易故居纪念馆坐落于洛阳市郊。白园（白居易墓）坐落在洛阳城南香山的琵琶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48360" y="260280"/>
            <a:ext cx="1727280" cy="115272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195640" y="189000"/>
            <a:ext cx="2376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重点字解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410920" y="1125000"/>
            <a:ext cx="6480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）人间：指庐山下的平地村落。从大林寺上看，好比天堂——人间 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）芳菲：盛开的花，亦可泛指花，花草艳盛的阳春景色。 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）尽：指花都凋谢了。 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）始：才开始；刚刚开始。 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）长恨：常常惋惜。 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）春归：春天回去了。 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）觅：寻找。 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）不知：岂料、想不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）转：反。 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）此中：这深山的寺庙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40360" y="3789360"/>
            <a:ext cx="2303640" cy="22320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9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268000" y="522000"/>
            <a:ext cx="687564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人间四月芳菲尽，山寺桃花始盛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66ff"/>
                </a:solidFill>
                <a:latin typeface="Arial"/>
              </a:rPr>
              <a:t>四月，正是平地上春归芳菲落尽的时候，高山古寺之中的桃花竟才刚刚盛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长恨春归无觅处，不知转入此中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66ff"/>
                </a:solidFill>
                <a:latin typeface="Arial"/>
              </a:rPr>
              <a:t>我常常为春天的逝去，为其无处寻觅而伤感</a:t>
            </a:r>
            <a:r>
              <a:rPr b="0" lang="zh-CN" sz="2400" spc="-1" strike="noStrike">
                <a:solidFill>
                  <a:srgbClr val="0066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66ff"/>
                </a:solidFill>
                <a:latin typeface="Arial"/>
              </a:rPr>
              <a:t>此时重新遇到春景后，喜出望外，猛然醒悟：没想到春天反倒在这深山寺庙之中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96360" y="5734080"/>
            <a:ext cx="1331640" cy="907920"/>
          </a:xfrm>
          <a:custGeom>
            <a:avLst/>
            <a:gdLst>
              <a:gd name="textAreaLeft" fmla="*/ 312840 w 1331640"/>
              <a:gd name="textAreaRight" fmla="*/ 1017720 w 1331640"/>
              <a:gd name="textAreaTop" fmla="*/ 106560 h 907920"/>
              <a:gd name="textAreaBottom" fmla="*/ 569520 h 907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093080" y="18900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内容理解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438280" y="404280"/>
            <a:ext cx="64008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人间四月芳菲尽，山寺桃花始盛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</a:rPr>
              <a:t>写诗人登山时已届孟夏，正属大地春归，芳菲落尽的时候了。但不期在高山古寺之中，又遇上了意想不到的春景 —— 一片始盛的桃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长恨春归无觅处，不知转入此中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3399ff"/>
                </a:solidFill>
                <a:latin typeface="Arial"/>
              </a:rPr>
              <a:t>诗人想到，自己曾因为惜春、恋春，以至怨恨春去的无情，但谁知却是错怪了春，原来春并未归去，只不过像小孩子跟人捉迷藏一样，偷偷地躲到这块地方来罢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211640" y="0"/>
            <a:ext cx="27860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诗句欣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0" name=""/>
          <p:cNvSpPr/>
          <p:nvPr/>
        </p:nvSpPr>
        <p:spPr>
          <a:xfrm>
            <a:off x="7667640" y="404640"/>
            <a:ext cx="1081080" cy="1008360"/>
          </a:xfrm>
          <a:prstGeom prst="sun">
            <a:avLst>
              <a:gd name="adj" fmla="val 25000"/>
            </a:avLst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9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437920" y="259920"/>
            <a:ext cx="6705720" cy="659772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名句赏析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</a:rPr>
              <a:t>长恨春归无觅处，不知转入此中来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人间四月，江南大地的春花已经落尽，但诗人却意外地在高山古寺之中遇上了一片刚刚盛开的桃花。这两句表现了诗人的惊喜之情和对春天的热爱、留恋。这里，诗人把春光拟人化，它不仅形象美丽，而且顽皮好动，仿佛会和人捉迷藏似的，写得活灵活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大林寺所在地，地势较高、气候寒冷，一般地方桃花在早春二月开放，四月凋谢，这里却到四月才盛开。诗人说“春归无觅处”、“转入此中来”，多么风趣！春天哪有脚步？怎会转移呀？这是诗人丰富的想象，也是他惊讶、喜悦心情的自然流露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28000" y="5805360"/>
            <a:ext cx="863640" cy="7905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340000" y="1052640"/>
            <a:ext cx="6804000" cy="580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用自己的话把整首诗的意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概括一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ff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9900ff"/>
                </a:solidFill>
                <a:latin typeface="Arial"/>
              </a:rPr>
              <a:t>四月，正是平地上春归芳菲落尽的时候</a:t>
            </a:r>
            <a:r>
              <a:rPr b="0" lang="zh-CN" sz="2000" spc="-1" strike="noStrike">
                <a:solidFill>
                  <a:srgbClr val="9900ff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9900ff"/>
                </a:solidFill>
                <a:latin typeface="Arial"/>
              </a:rPr>
              <a:t>高山古寺之中的桃花竟才刚刚盛放</a:t>
            </a:r>
            <a:r>
              <a:rPr b="0" lang="zh-CN" sz="2000" spc="-1" strike="noStrike">
                <a:solidFill>
                  <a:srgbClr val="9900ff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9900ff"/>
                </a:solidFill>
                <a:latin typeface="Arial"/>
              </a:rPr>
              <a:t>我常常为春天的逝去，为其无处寻觅而伤感</a:t>
            </a:r>
            <a:r>
              <a:rPr b="0" lang="zh-CN" sz="2000" spc="-1" strike="noStrike">
                <a:solidFill>
                  <a:srgbClr val="9900ff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9900ff"/>
                </a:solidFill>
                <a:latin typeface="Arial"/>
              </a:rPr>
              <a:t>此时重新遇到春景后，喜出望外，猛然醒悟：没想到春天反倒在这深山寺庙之中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这首诗抒发了作者怎样的思想感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9900ff"/>
                </a:solidFill>
                <a:latin typeface="Arial"/>
              </a:rPr>
              <a:t>由一种愁绪满怀的叹逝之情，突变到惊异、欣喜，以至心花怒放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95640" y="-1179360"/>
            <a:ext cx="3240360" cy="1655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9294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相关练习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5" name=""/>
          <p:cNvSpPr/>
          <p:nvPr/>
        </p:nvSpPr>
        <p:spPr>
          <a:xfrm>
            <a:off x="2411280" y="5373720"/>
            <a:ext cx="720720" cy="122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172360" y="692280"/>
            <a:ext cx="79236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2</a:t>
            </a: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分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438280" y="260280"/>
            <a:ext cx="64008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9900ff"/>
                </a:solidFill>
                <a:latin typeface="Arial"/>
              </a:rPr>
              <a:t>写出作者</a:t>
            </a:r>
            <a:r>
              <a:rPr b="0" lang="zh-CN" sz="2800" spc="-1" strike="noStrike">
                <a:solidFill>
                  <a:srgbClr val="9900ff"/>
                </a:solidFill>
                <a:latin typeface="Arial"/>
              </a:rPr>
              <a:t>又遇上了意想不到的春景的诗句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人间四月芳菲尽，山寺桃花始盛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ff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9900ff"/>
                </a:solidFill>
                <a:latin typeface="Arial"/>
              </a:rPr>
              <a:t>诗中直接抒情、表达出作者喜出望外的情感的是哪两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长恨春归无觅处，不知转入此中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067280" y="549360"/>
            <a:ext cx="2643120" cy="876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补充习题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885080" y="549360"/>
            <a:ext cx="68580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2</a:t>
            </a: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分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 rot="896400">
            <a:off x="3924360" y="2852640"/>
            <a:ext cx="4502160" cy="2062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再见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11:20:00Z</dcterms:created>
  <dc:creator>微软中国</dc:creator>
  <dc:description/>
  <dc:language>en-US</dc:language>
  <cp:lastModifiedBy>微软中国</cp:lastModifiedBy>
  <dcterms:modified xsi:type="dcterms:W3CDTF">2012-10-22T12:47:28Z</dcterms:modified>
  <cp:revision>5</cp:revision>
  <dc:subject/>
  <dc:title>幻灯片 1</dc:title>
</cp:coreProperties>
</file>