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hyperlink" Target="http://baike.so.com/doc/350467.html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m.kongfz.com/pics.php?imgId=13943780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WordArt 3"/>
          <p:cNvSpPr txBox="1"/>
          <p:nvPr/>
        </p:nvSpPr>
        <p:spPr>
          <a:xfrm>
            <a:off x="468360" y="1844640"/>
            <a:ext cx="77040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欢迎同学们欣赏</a:t>
            </a:r>
            <a:endParaRPr b="1" lang="en-US" sz="6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9" name="WordArt 4"/>
          <p:cNvSpPr txBox="1"/>
          <p:nvPr/>
        </p:nvSpPr>
        <p:spPr>
          <a:xfrm>
            <a:off x="2268360" y="3573360"/>
            <a:ext cx="34340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59000"/>
                    </a:srgbClr>
                  </a:outerShdw>
                </a:effectLst>
                <a:latin typeface="黑体"/>
              </a:rPr>
              <a:t>你猜这是什么季节？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5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54259931260518357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116000" y="692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大林寺桃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u=1094818873,1536566332&amp;fm=23&amp;gp=0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5905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pic>
        <p:nvPicPr>
          <p:cNvPr id="84" name="Picture 5" descr="91b9bc0208919fe1277fb59e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者不禁感叹道，原以为春天已经过去了，却想不到可爱的春天，却调皮地东躲西藏，偷偷地跑到这深山的古寺中来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这真是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长恨春归无觅处，不知转入此中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91b9bc0208919fe1277fb59e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042920" y="692280"/>
            <a:ext cx="734544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大林寺桃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唐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人间四月芳菲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山寺桃花始盛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长恨春归无觅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不知转入此中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91b9bc0208919fe1277fb59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88748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70160" y="1700280"/>
            <a:ext cx="18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57200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547640" y="1125360"/>
            <a:ext cx="10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s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940360" y="1125360"/>
            <a:ext cx="100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fē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537560" y="1628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796000" y="1700280"/>
            <a:ext cx="113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763640" y="37162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m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547640" y="4221000"/>
            <a:ext cx="120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5867280" y="4149720"/>
            <a:ext cx="11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332000" y="1197000"/>
            <a:ext cx="19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32560" y="4370400"/>
            <a:ext cx="59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724360" y="36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zhuǎ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91b9bc0208919fe1277fb59e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395280" y="476280"/>
            <a:ext cx="813744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大林寺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唐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间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月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芳菲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山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桃花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始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长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春归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无觅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不知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转入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此中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91b9bc0208919fe1277fb59e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50920" y="0"/>
            <a:ext cx="8532720" cy="65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人间：（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芳菲：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尽：（　　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４、山寺：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５、始：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６、长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(         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798640" y="2708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指花凋谢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747960" y="1341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指庐山下的平地村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76720" y="4292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70800" y="19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429720" y="350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指大林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029400" y="429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072960" y="508464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常常怨恨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91b9bc0208919fe1277fb59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866240" y="1398600"/>
            <a:ext cx="415224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归：（　　　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觅：（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：（　　　　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：（　　   ）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中：（　　　　　　　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308040" y="14130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春天回去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672640" y="2276640"/>
            <a:ext cx="7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寻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191840" y="314172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岂料、想不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667960" y="40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转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349800" y="4869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深山的寺庙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91b9bc0208919fe1277fb59e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79280" y="1557360"/>
            <a:ext cx="89186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句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四月里别处的春花都凋谢了， 大林寺的桃花却刚刚开放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常说春天走了再也没地方寻找， 却没料到春天却悄悄地转移到这里来了。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72480" y="411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诗全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91b9bc0208919fe1277fb59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小结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首诗前两句讲四月春末在山寺见到桃花，后两句表达诗人在山寺遇到春天的喜悦心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91b9bc0208919fe1277fb59e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79280" y="692280"/>
            <a:ext cx="867564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林寺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桃花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季节上为什么比山下要开得迟呢？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拔越高，温度越低，所以季节的出现也较晚。从气象的角度来解释，答案只有一个，这就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受了气温差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影响。也就是说，大林寺桃花之所以开得迟，原因是由于这里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势高，而气温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缘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6b16a41074204ce3f6039e5c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3"/>
          <p:cNvSpPr/>
          <p:nvPr/>
        </p:nvSpPr>
        <p:spPr>
          <a:xfrm>
            <a:off x="267984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7770c4c6011c1de28326ac7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00569b461e8baac3b3b7dceb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86f3ee0dceeb83d337d12268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5a3820b1af791cecd8335a70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b66723f12d9e25800b46e068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e2fe76ecd03e0bb0b3fb956f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de954516343c456fdd5401ba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91b9bc0208919fe1277fb59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84360" y="907920"/>
            <a:ext cx="770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请小朋友们欣赏高山的图片，从中理解为什么说山势越高，气温越低的原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90403234711567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200812170226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2008120810100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2008110144229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200711199211600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01300000267769122621431981500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1421P52T4D95886F159DT20060612104246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2608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45584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31840" y="235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2748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04020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04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47184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17656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967120" y="134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91b9bc0208919fe1277fb59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826920" y="1989000"/>
            <a:ext cx="76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请欣赏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桃花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美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0904090826454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317081561264592606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20063192054184084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344243896517182024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4271569_235423024433_2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3386143969829270685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3371788746017046239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f1d2a932e6c65fda1b4cff3d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12063431668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39727378212946752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062a4812b1d8e640cb80c48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4644da54d7a479f3b645ae08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5f58d5c15226648138db49e6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2009040212211046759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92f37289be8b4cb8a5c272fc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c175e693b8d9eeb0a877a4f4"/>
          <p:cNvPicPr/>
          <p:nvPr/>
        </p:nvPicPr>
        <p:blipFill>
          <a:blip r:embed="rId8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1b9bc0208919fe1277fb59e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395280" y="476280"/>
            <a:ext cx="813744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大林寺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唐．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白居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间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月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芳菲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山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桃花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始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长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春归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无觅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不知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转入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此中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u=1094818873,1536566332&amp;fm=23&amp;gp=0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5905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91b9bc0208919fe1277fb59e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6200" y="2599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Tahoma"/>
              </a:rPr>
              <a:t>填空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间四月（  ）尽，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山寺（   ）始盛开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长恨春归无（   ）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    ）转入此中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131480" y="28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91b9bc0208919fe1277fb59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684360" y="765000"/>
            <a:ext cx="30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课后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481200" y="2421000"/>
            <a:ext cx="1089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、抄写生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、借助注释初步理解古诗大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、有感情地朗读并背诵古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91b9bc0208919fe1277fb59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3"/>
          <p:cNvSpPr txBox="1"/>
          <p:nvPr/>
        </p:nvSpPr>
        <p:spPr>
          <a:xfrm>
            <a:off x="1979640" y="2060640"/>
            <a:ext cx="4897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91b9bc0208919fe1277fb59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9280" y="2133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从以上的图片中你能看出是什么季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700360" y="3573360"/>
            <a:ext cx="3240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春天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91b9bc0208919fe1277fb59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50920" y="9079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学过哪些关于春天的古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149560" y="2523960"/>
            <a:ext cx="44888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春日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》【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宋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朱    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春晓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黑体"/>
              </a:rPr>
              <a:t>》【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唐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黑体"/>
              </a:rPr>
              <a:t>】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68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91b9bc0208919fe1277fb59e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187280" y="105264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诗人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白居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258920" y="436572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原名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赋得古原草送别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632400" y="2693880"/>
            <a:ext cx="170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草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91b9bc0208919fe1277fb59e"/>
          <p:cNvPicPr/>
          <p:nvPr/>
        </p:nvPicPr>
        <p:blipFill>
          <a:blip r:embed="rId2">
            <a:lum bright="48000"/>
          </a:blip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0175ff6fa31232c3d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3789360"/>
            <a:ext cx="266364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2268360" y="120168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392200" y="914400"/>
            <a:ext cx="505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895480" y="914400"/>
            <a:ext cx="477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547640" y="89856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唐代诗人     白居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835280" y="1989000"/>
            <a:ext cx="5400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大林寺桃花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u=1094818873,1536566332&amp;fm=23&amp;gp=0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5905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Tahoma"/>
              </a:rPr>
              <a:t>作者简介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pic>
        <p:nvPicPr>
          <p:cNvPr id="68" name="Picture 5" descr="91b9bc0208919fe1277fb59e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白居易，唐朝中期的大诗人，晚年住在香山，自称为“香山居士”，他对诗歌进行过改革，主张学习民歌。他的诗歌，语言浅显易懂，深受人们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[老照片/唱片/地图拍卖品]珍贵老照片：民国十二年太虚法师在大林寺主持世界佛教徒会议，此为会场大门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419640" y="260280"/>
            <a:ext cx="34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大林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544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江西庐山香炉峰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3962770689921561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347840" y="1114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104320" y="1162800"/>
            <a:ext cx="8506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如今的大林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u=1094818873,1536566332&amp;fm=23&amp;gp=0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5905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pic>
        <p:nvPicPr>
          <p:cNvPr id="78" name="Picture 5" descr="91b9bc0208919fe1277fb59e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0" y="-22536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已经是农历四月了，粉红的桃花凋谢了，百花盛开的春天悄悄地过去了。可是有一天作者登上庐山顶上的大林寺，却发现那巍峨庄严的寺墙内，竟然有一片刚刚盛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桃花荡漾着浓浓的春意。所以作者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间四月芳菲尽，山寺桃花始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09:39:26Z</dcterms:created>
  <dc:creator>微软用户</dc:creator>
  <dc:description/>
  <cp:keywords/>
  <dc:language>en-US</dc:language>
  <cp:lastModifiedBy>Qi,Dongxiao</cp:lastModifiedBy>
  <cp:lastPrinted>1899-12-30T00:00:00Z</cp:lastPrinted>
  <dcterms:modified xsi:type="dcterms:W3CDTF">2016-11-29T05:39:58Z</dcterms:modified>
  <cp:revision>1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NXTAG2">
    <vt:lpwstr>00080036340000000000010251600207f7000400038000</vt:lpwstr>
  </property>
</Properties>
</file>