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chimes.wav" ContentType="audio/x-wav"/>
  <Override PartName="/ppt/media/image16.png" ContentType="image/png"/>
  <Override PartName="/ppt/media/image15.jpeg" ContentType="image/jpeg"/>
  <Override PartName="/ppt/media/type.wav" ContentType="audio/x-wav"/>
  <Override PartName="/ppt/media/image13.jpeg" ContentType="image/jpeg"/>
  <Override PartName="/ppt/media/image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4C0-EA29-4059-BCC9-C7F87694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619-3FCE-4A20-83B6-87BB8BD3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5DF-C59F-4F01-BB45-8B3A5649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133-D68C-4222-AD5E-5E3642C8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3B4-F365-499A-B9E4-7E266851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5C7-FCAC-4C9C-8E55-557D3294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DC4-E053-4B9D-9037-700BCAE5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7B4-0456-411C-8419-05D9B283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4FC-46FC-458D-A4AD-54B81A1D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00D-DFC6-403E-AEF9-9015AE0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565-FD01-43EE-88B3-9435A338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C50-A6D6-4BE8-9759-81EF528D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C6FA-F735-431A-A3AC-A23DB35A17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1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huanti_Guohua_Xieyishanshui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042920" y="1052640"/>
            <a:ext cx="6408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华文新魏"/>
              </a:rPr>
              <a:t>渡荆门送别</a:t>
            </a:r>
            <a:endParaRPr b="1" lang="en-US" sz="3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745400" y="2527560"/>
            <a:ext cx="1003320" cy="457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405160"/>
            <a:ext cx="822960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颔联描写了荆门的地理形势和壮阔景象。是从动态的角度来描写的（诗人乘船，山和江水随着船的移动而逐渐远去）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连绵的群山随着平原的出现消失了；江水奔流着涌入了无际的旷野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标题 1" descr=""/>
          <p:cNvPicPr/>
          <p:nvPr/>
        </p:nvPicPr>
        <p:blipFill>
          <a:blip r:embed="rId1"/>
          <a:stretch/>
        </p:blipFill>
        <p:spPr>
          <a:xfrm>
            <a:off x="554040" y="360360"/>
            <a:ext cx="818208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619000"/>
            <a:ext cx="82296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同。颔联是以动态变化的角度来写景，而颈联是以静态的角度来写的。“天镜”指的是月亮，“海楼”指的是云彩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抬头遥看万里长空，只见一轮明月，犹如天上飞下的明镜，皎洁澄澈，普照大地。那飘荡在碧空的朵朵彩云，忽而连结在一起，构成了壮观的海市蜃楼的幻影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标题 2" descr=""/>
          <p:cNvPicPr/>
          <p:nvPr/>
        </p:nvPicPr>
        <p:blipFill>
          <a:blip r:embed="rId1"/>
          <a:stretch/>
        </p:blipFill>
        <p:spPr>
          <a:xfrm>
            <a:off x="268200" y="-79200"/>
            <a:ext cx="8425080" cy="30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拟人的修辞手法。抒发了作者对故乡的依恋之情还有离乡惜别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标题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650440" cy="13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山随平野尽"/>
          <p:cNvPicPr/>
          <p:nvPr/>
        </p:nvPicPr>
        <p:blipFill>
          <a:blip r:embed="rId1"/>
          <a:stretch/>
        </p:blipFill>
        <p:spPr>
          <a:xfrm>
            <a:off x="-320760" y="0"/>
            <a:ext cx="9750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50920" y="47628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诗表达作者什么样的思想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过对长江两岸秀丽景色的描绘，反映了诗人开阔情怀和奋发进取的精神，同时表现了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诗人对故乡山水的无限思念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江入大荒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564000" y="54936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山随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平野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95280" y="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绘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45080" y="16509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巴山尽头现出平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山随平野尽"/>
          <p:cNvPicPr/>
          <p:nvPr/>
        </p:nvPicPr>
        <p:blipFill>
          <a:blip r:embed="rId1"/>
          <a:stretch/>
        </p:blipFill>
        <p:spPr>
          <a:xfrm>
            <a:off x="-249120" y="0"/>
            <a:ext cx="9750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492360" y="54936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江入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大荒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027240" y="1701720"/>
            <a:ext cx="5073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0840" y="1828800"/>
            <a:ext cx="43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长江沿着旷野奔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月下飞天镜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539640" y="62064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54936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月下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飞天镜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8000" y="18194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月影如飞下来的明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云生结海楼"/>
          <p:cNvPicPr/>
          <p:nvPr/>
        </p:nvPicPr>
        <p:blipFill>
          <a:blip r:embed="rId1"/>
          <a:stretch/>
        </p:blipFill>
        <p:spPr>
          <a:xfrm>
            <a:off x="-177840" y="0"/>
            <a:ext cx="9531360" cy="6772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4284720" y="98100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云生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结海楼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429080" y="23004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云霞升起形成海市蜃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356120" y="22860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渡 荆 门 送 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144792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渡远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荆门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外，来从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楚国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山随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平野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尽，江入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大荒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流。（远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月下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飞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天镜，云生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结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海楼。（近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仍怜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故乡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水，万里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行舟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645080" y="4726080"/>
            <a:ext cx="449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还是故乡的水好啊，把我的船送到万里之外，还不忍分别。（抒情、拟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788000" y="1486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从蜀地远渡出游，来到荆门这个地方。（叙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16360" y="234936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两岸的山峦渐渐消失了，眼前是一望无际的广阔的原野。江水冲着广阔原野奔腾而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645080" y="3645000"/>
            <a:ext cx="44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夜晚明月映入水中，如同飞下的天镜，黄昏时，云霞飘飞，如同海市蜃楼一般变幻多姿。（写景、想象、比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0" y="1682640"/>
            <a:ext cx="8369280" cy="19558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2" descr=""/>
          <p:cNvPicPr/>
          <p:nvPr/>
        </p:nvPicPr>
        <p:blipFill>
          <a:blip r:embed="rId2"/>
          <a:stretch/>
        </p:blipFill>
        <p:spPr>
          <a:xfrm>
            <a:off x="176040" y="55440"/>
            <a:ext cx="8517240" cy="1597320"/>
          </a:xfrm>
          <a:prstGeom prst="rect">
            <a:avLst/>
          </a:prstGeom>
          <a:ln w="0">
            <a:noFill/>
          </a:ln>
        </p:spPr>
      </p:pic>
      <p:sp>
        <p:nvSpPr>
          <p:cNvPr id="46" name="矩形 8"/>
          <p:cNvSpPr/>
          <p:nvPr/>
        </p:nvSpPr>
        <p:spPr>
          <a:xfrm>
            <a:off x="0" y="328464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荆门，即荆门山，位于今湖北宜都县西北，长江南岸，与北岸虎牙山隔江对峙，形势险要，自古即有楚蜀咽喉之称。李白这次出蜀，由水路乘船远行，经巴渝，出三峡，直向荆门山之外驶去，目的是到湖北、湖南一带楚国故地游览。</a:t>
            </a:r>
            <a:r>
              <a:rPr b="0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58920" y="44280"/>
            <a:ext cx="83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李白（７０１－７６２），字太白，唐代诗人，是继屈原之后又一伟大的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宋体"/>
              </a:rPr>
              <a:t>浪漫主义诗人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号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青莲居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欧阳修六一居士，李清照易安居士，白居易香山居士，苏轼东坡居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李白的诗歌现存九百九十多首，豪迈奔放，别具一格。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宋体"/>
              </a:rPr>
              <a:t>追求心身自由和解放的昂扬向上的精神是他诗篇的主旋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李白是中国文学史上最伟大的诗人之一，与杜甫并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“李杜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对后代的诗歌创作产生过深远的影响</a:t>
            </a:r>
            <a:r>
              <a:rPr b="1" lang="zh-CN" sz="2800" spc="-1" strike="noStrike">
                <a:solidFill>
                  <a:srgbClr val="ccec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:\初中作业\语文作业\语文课件\p0134.jpg"/>
          <p:cNvPicPr/>
          <p:nvPr/>
        </p:nvPicPr>
        <p:blipFill>
          <a:blip r:embed="rId1"/>
          <a:stretch/>
        </p:blipFill>
        <p:spPr>
          <a:xfrm>
            <a:off x="398520" y="3573360"/>
            <a:ext cx="81360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三峡"/>
          <p:cNvPicPr/>
          <p:nvPr/>
        </p:nvPicPr>
        <p:blipFill>
          <a:blip r:embed="rId1"/>
          <a:stretch/>
        </p:blipFill>
        <p:spPr>
          <a:xfrm>
            <a:off x="0" y="0"/>
            <a:ext cx="9182160" cy="691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08000" y="4428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Arial"/>
                <a:ea typeface="黑体"/>
              </a:rPr>
              <a:t>介绍创作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6360" y="793800"/>
            <a:ext cx="914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440" y="760320"/>
            <a:ext cx="915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李白青少年时期是在蜀中度过的，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</a:rPr>
              <a:t>把蜀地当作自己的故乡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所以他有不少诗篇反映出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</a:rPr>
              <a:t>对蜀中生活的怀念之情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这一次从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</a:rPr>
              <a:t>三峡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出蜀，面对江汉平原，眼界大开，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</a:rPr>
              <a:t>心旷神怡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不由得即景抒情，写下了这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广为传诵的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</a:rPr>
              <a:t>五言律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50440" y="304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1413000"/>
            <a:ext cx="9144000" cy="204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诗人李白一生足迹几乎踏遍了祖国的名山大川，写了不少歌颂祖国壮丽河山的名诗佳篇。这首诗是诗人于开元十三年（</a:t>
            </a:r>
            <a:r>
              <a:rPr b="1" lang="en-US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726</a:t>
            </a:r>
            <a:r>
              <a:rPr b="1" lang="zh-CN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）辞亲远游，出蜀至荆门时赠别友人而作。诗人在二十五岁之前一直住在四川，这次是诗人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第一次离开故乡</a:t>
            </a:r>
            <a:r>
              <a:rPr b="1" lang="zh-CN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开始漫游全国，准备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实现自己的理想抱负</a:t>
            </a:r>
            <a:r>
              <a:rPr b="1" lang="zh-CN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。出蜀东下，此诗即在旅游途中所作。从诗意看，诗人与送行者同舟共发，是在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舟中吟送</a:t>
            </a:r>
            <a:r>
              <a:rPr b="1" lang="zh-CN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山随平野尽"/>
          <p:cNvPicPr/>
          <p:nvPr/>
        </p:nvPicPr>
        <p:blipFill>
          <a:blip r:embed="rId1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2840" y="588960"/>
            <a:ext cx="92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原文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首联   渡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荆门外，来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楚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交代旅程</a:t>
            </a:r>
            <a:br>
              <a:rPr sz="3600"/>
            </a:b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联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hàn</a:t>
            </a:r>
            <a:r>
              <a:rPr b="1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山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平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尽，江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大荒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喜悦开朗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颈联   月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飞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天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云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海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新奇景色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尾联   仍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故乡水，万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送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思念故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08000" y="0"/>
            <a:ext cx="30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诵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禅院钟声.mp3" descr=""/>
          <p:cNvPicPr/>
          <p:nvPr/>
        </p:nvPicPr>
        <p:blipFill>
          <a:blip r:embed="rId1"/>
          <a:stretch/>
        </p:blipFill>
        <p:spPr>
          <a:xfrm>
            <a:off x="-99072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分组读译，理解诗句，概括内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79280" y="907920"/>
            <a:ext cx="2664000" cy="132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隶书"/>
                <a:ea typeface="华文隶书"/>
              </a:rPr>
              <a:t>渡远荆门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隶书"/>
                <a:ea typeface="华文隶书"/>
              </a:rPr>
              <a:t>来从楚国游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50920" y="2421000"/>
            <a:ext cx="26622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山随平野尽，江入大荒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059280" y="2349360"/>
            <a:ext cx="58338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隶书"/>
                <a:ea typeface="华文隶书"/>
              </a:rPr>
              <a:t>巴山尽头现出平川，长江水流入广阔无际的原野。</a:t>
            </a:r>
            <a:r>
              <a:rPr b="0" lang="zh-CN" sz="2800" spc="-1" strike="noStrike">
                <a:solidFill>
                  <a:srgbClr val="cc0066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132000" y="3573360"/>
            <a:ext cx="5689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隶书"/>
                <a:ea typeface="华文隶书"/>
              </a:rPr>
              <a:t>皎洁的明月在空中流转，如同飞在空中的明镜。云气在大江面上变幻莫测，如同海市蜃楼一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50920" y="5229360"/>
            <a:ext cx="2808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仍怜故乡水，万里送行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276720" y="5229360"/>
            <a:ext cx="5616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隶书"/>
                <a:ea typeface="华文隶书"/>
              </a:rPr>
              <a:t>虽然进入异地，我仍然依恋着故乡的水水山山，不远万里，一直伴着我这位游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179280" y="3645000"/>
            <a:ext cx="2808360" cy="132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月下飞天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隶书"/>
                <a:ea typeface="华文隶书"/>
              </a:rPr>
              <a:t>云生结海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3348000" y="765000"/>
            <a:ext cx="5111640" cy="132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从远处的荆门山外渡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远去古老的楚国漫游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通过对长江两岸秀丽景色的描绘，反映了诗人开阔情怀和奋发进取的精神，同时表现了诗人对故乡山水的无限眷恋、思念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山随平野尽"/>
          <p:cNvPicPr/>
          <p:nvPr/>
        </p:nvPicPr>
        <p:blipFill>
          <a:blip r:embed="rId1"/>
          <a:stretch/>
        </p:blipFill>
        <p:spPr>
          <a:xfrm>
            <a:off x="-320760" y="0"/>
            <a:ext cx="97506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-108000" y="260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渡荆门送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一首五言律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联交代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120" y="2349360"/>
            <a:ext cx="26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交代此行的目的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哪里来，去往哪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0:24:52Z</dcterms:created>
  <dc:creator>Legend User</dc:creator>
  <dc:description/>
  <cp:keywords/>
  <dc:language>en-US</dc:language>
  <cp:lastModifiedBy>SkyUser</cp:lastModifiedBy>
  <dcterms:modified xsi:type="dcterms:W3CDTF">2018-09-25T11:13:53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