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6DF-9C9C-4B63-9C2A-7D13742D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D9A-C59F-4FDE-A510-67ECD707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583-32FE-446A-8F08-1F111445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360-8D41-4F5A-9264-31283226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E4E-3E41-4893-AD24-046085A7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386-37D6-43AE-A044-B7602AAD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D4C-1852-46DF-90C7-C2FF4CCF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794-7611-4EA9-B005-7C953B8D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EA6-2E90-4467-9158-5F636D72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5F7-BAD5-4941-989F-C8BB6759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CC4-65F9-4666-A37C-2C300E01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AED-3D95-4847-B551-E449327E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39CA-C808-4A84-88FD-1910C2C0E3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huanti_Guohua_Xieyishanshui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042920" y="1052640"/>
            <a:ext cx="6408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华文新魏"/>
              </a:rPr>
              <a:t>渡荆门送别</a:t>
            </a:r>
            <a:endParaRPr b="1" lang="en-US" sz="3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745400" y="2527560"/>
            <a:ext cx="1003320" cy="457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云生结海楼"/>
          <p:cNvPicPr/>
          <p:nvPr/>
        </p:nvPicPr>
        <p:blipFill>
          <a:blip r:embed="rId1"/>
          <a:stretch/>
        </p:blipFill>
        <p:spPr>
          <a:xfrm>
            <a:off x="-177840" y="0"/>
            <a:ext cx="9531360" cy="6772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284720" y="98100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云生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结海楼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429080" y="230040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云霞升起形成海市蜃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356120" y="228600"/>
            <a:ext cx="20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渡 荆 门 送 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         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144792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渡远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荆门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外，来从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楚国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山随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平野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尽，江入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大荒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流。（远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月下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飞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天镜，云生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结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海楼。（近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仍怜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故乡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水，万里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行舟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645080" y="4726080"/>
            <a:ext cx="4495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还是故乡的水好啊，把我的船送到万里之外，还不忍分别。（抒情、拟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788000" y="1486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从蜀地远渡出游，来到荆门这个地方。（叙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716360" y="234936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两岸的山峦渐渐消失了，眼前是一望无际的广阔的原野。江水冲着广阔原野奔腾而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45080" y="3645000"/>
            <a:ext cx="44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夜晚明月映入水中，如同飞下的天镜，黄昏时，云霞飘飞，如同海市蜃楼一般变幻多姿。（写景、想象、比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渡荆门送别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58920" y="44280"/>
            <a:ext cx="831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李白（７０１－７６２），字太白，唐代诗人，是继屈原之后又一伟大的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宋体"/>
                <a:ea typeface="宋体"/>
              </a:rPr>
              <a:t>浪漫主义诗人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号青莲居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欧阳修六一居士，李清照易安居士，白居易香山居士，苏轼东坡居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李白的诗歌现存九百九十多首，豪迈奔放，别具一格。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宋体"/>
              </a:rPr>
              <a:t>追求心身自由和解放的昂扬向上的精神是他诗篇的主旋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李白是中国文学史上最伟大的诗人之一，与杜甫并称“李杜”，对后代的诗歌创作产生过深远的影响</a:t>
            </a:r>
            <a:r>
              <a:rPr b="1" lang="zh-CN" sz="2800" spc="-1" strike="noStrike">
                <a:solidFill>
                  <a:srgbClr val="ccec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D:\初中作业\语文作业\语文课件\p0134.jpg"/>
          <p:cNvPicPr/>
          <p:nvPr/>
        </p:nvPicPr>
        <p:blipFill>
          <a:blip r:embed="rId1"/>
          <a:stretch/>
        </p:blipFill>
        <p:spPr>
          <a:xfrm>
            <a:off x="398520" y="3573360"/>
            <a:ext cx="81360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三峡"/>
          <p:cNvPicPr/>
          <p:nvPr/>
        </p:nvPicPr>
        <p:blipFill>
          <a:blip r:embed="rId1"/>
          <a:stretch/>
        </p:blipFill>
        <p:spPr>
          <a:xfrm>
            <a:off x="0" y="0"/>
            <a:ext cx="9182160" cy="6912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08000" y="4428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Arial"/>
                <a:ea typeface="黑体"/>
              </a:rPr>
              <a:t>介绍创作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6360" y="793800"/>
            <a:ext cx="9145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8440" y="760320"/>
            <a:ext cx="915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李白青少年时期是在蜀中度过的，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</a:rPr>
              <a:t>把蜀地当作自己的故乡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所以他有不少诗篇反映出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</a:rPr>
              <a:t>对蜀中生活的怀念之情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这一次从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</a:rPr>
              <a:t>三峡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出蜀，面对江汉平原，眼界大开，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</a:rPr>
              <a:t>心旷神怡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不由得即景抒情，写下了这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</a:rPr>
              <a:t>广为传诵的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</a:rPr>
              <a:t>五言律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山随平野尽"/>
          <p:cNvPicPr/>
          <p:nvPr/>
        </p:nvPicPr>
        <p:blipFill>
          <a:blip r:embed="rId1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42840" y="588960"/>
            <a:ext cx="92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原文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首联   渡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荆门外，来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楚国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交代旅程</a:t>
            </a:r>
            <a:br>
              <a:rPr sz="3600"/>
            </a:b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联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hàn</a:t>
            </a:r>
            <a:r>
              <a:rPr b="1" lang="zh-CN" sz="1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山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平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尽，江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大荒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喜悦开朗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颈联   月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飞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天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云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海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新奇景色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尾联   仍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故乡水，万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送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思念故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译文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从荆门外渡江，远去楚国漫游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巴山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尽头现出平川，长江沿着旷野奔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月影如飞下来的明镜，云霞升起形成海市蜃楼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更加喜爱故乡的水，不辞万里送我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08000" y="0"/>
            <a:ext cx="30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诵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月下飞天镜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4920" y="0"/>
            <a:ext cx="90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赏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47600" y="766800"/>
            <a:ext cx="896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渡荆门送别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是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一首五言律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首联交代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颔联写景，描绘了一幅怎样的画面？是从什么角度来写景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这一联中的“随”、“尽”、“入”三个字用的好，想一想好在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颈联则变换视角，描写长江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近、远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，这联诗所描绘的是怎样的画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尾联运用了什么修辞手法？从尾联来看，这首送别诗是否是为朋友送行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全诗表达作者什么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山随平野尽"/>
          <p:cNvPicPr/>
          <p:nvPr/>
        </p:nvPicPr>
        <p:blipFill>
          <a:blip r:embed="rId1"/>
          <a:stretch/>
        </p:blipFill>
        <p:spPr>
          <a:xfrm>
            <a:off x="-320760" y="0"/>
            <a:ext cx="97506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0920" y="476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全诗表达作者什么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过对长江两岸秀丽景色的描绘，反映了诗人开阔情怀和奋发进取的精神，同时表现了诗人对故乡山水的无限思念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江入大荒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564000" y="54936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山随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平野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95280" y="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绘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645080" y="16509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巴山尽头现出平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山随平野尽"/>
          <p:cNvPicPr/>
          <p:nvPr/>
        </p:nvPicPr>
        <p:blipFill>
          <a:blip r:embed="rId1"/>
          <a:stretch/>
        </p:blipFill>
        <p:spPr>
          <a:xfrm>
            <a:off x="-249120" y="0"/>
            <a:ext cx="9750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492360" y="549360"/>
            <a:ext cx="48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江入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大荒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027240" y="1701720"/>
            <a:ext cx="5073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290840" y="1828800"/>
            <a:ext cx="43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长江沿着旷野奔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月下飞天镜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539640" y="62064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0" y="549360"/>
            <a:ext cx="42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月下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飞天镜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8000" y="18194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月影如飞下来的明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0:24:52Z</dcterms:created>
  <dc:creator>Legend User</dc:creator>
  <dc:description/>
  <cp:keywords/>
  <dc:language>en-US</dc:language>
  <cp:lastModifiedBy>Root</cp:lastModifiedBy>
  <dcterms:modified xsi:type="dcterms:W3CDTF">2014-12-14T03:03:50Z</dcterms:modified>
  <cp:revision>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