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B10-B41A-495F-930A-B93AF6DD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7CD-815C-4F21-9D9F-14334570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5CB-3A4A-4F08-B878-76893C94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212-FCE8-4DCC-A025-B123EF08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32F-8186-4003-8CB3-FF6D66D7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2DB-39E9-4DBA-9F08-60825740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BCB-D586-4005-A580-0E44C5D0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FFA-433B-4ED7-B84E-E8AF2FF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D85-CE1E-4659-816D-3D98A01D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448-ABC1-40FD-ACCF-8A8F16F0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79C-3F7A-47BD-966F-F69660F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A23-F14A-46F5-8714-DB2C8A85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04D2-03D3-48EB-9157-31C5C03528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ic.sogou.com/d?query=&#637;%CB%E6&#445;&#1200;%BE%A1%A3%AC%BD%AD%C8%EB%B4%F3%BB%C4%C1%F7&amp;mood=0&amp;picformat=0&amp;mode=1&amp;di=2&amp;p=26050500&amp;dp=1&amp;w=05009900&amp;dr=1&amp;_asf=pic.sogou.com&amp;_ast=1417334169&amp;did=3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D4%C2%C1%C1&amp;mood=0&amp;picformat=0&amp;mode=1&amp;di=0&amp;p=26050500&amp;dp=1&amp;did=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D4%C2%C1%C1&amp;mood=0&amp;picformat=0&amp;mode=1&amp;di=0&amp;p=26050500&amp;dp=1&amp;did=39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D4%C2%C1%C1&amp;mood=0&amp;picformat=0&amp;mode=1&amp;di=0&amp;p=26050500&amp;dp=1&amp;did=5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D4%C2%C1%C1&amp;mood=0&amp;picformat=0&amp;mode=1&amp;di=0&amp;p=26050500&amp;dp=1&amp;did=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D4%C2%C1%C1&amp;mood=0&amp;picformat=0&amp;mode=1&amp;di=0&amp;p=26050500&amp;dp=1&amp;did=17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ic.sogou.com/d?query=%D4%C2%C1%C1&amp;mood=0&amp;picformat=0&amp;mode=1&amp;di=0&amp;p=26050500&amp;dp=1&amp;did=12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6626"/>
          <p:cNvSpPr/>
          <p:nvPr/>
        </p:nvSpPr>
        <p:spPr>
          <a:xfrm>
            <a:off x="6287760" y="2276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李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6627" descr=""/>
          <p:cNvPicPr/>
          <p:nvPr/>
        </p:nvPicPr>
        <p:blipFill>
          <a:blip r:embed="rId1"/>
          <a:stretch/>
        </p:blipFill>
        <p:spPr>
          <a:xfrm>
            <a:off x="42840" y="-475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26628"/>
          <p:cNvSpPr/>
          <p:nvPr/>
        </p:nvSpPr>
        <p:spPr>
          <a:xfrm>
            <a:off x="1187280" y="333360"/>
            <a:ext cx="676944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渡荆门送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85680" y="5719680"/>
            <a:ext cx="90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禄丰县彩云中学何春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渡荆门送别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了何景何情？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山随平野尽，江入大荒流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诗人乘舟顺流而下，刚出三峡，两岸山渐次消失，长江进入广阔平野时的开阔境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9220" descr="1a6fbb6e920a1c60-d2d1177142cf52b6-765655e4f32855756c847cd23d8d9e4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69000"/>
            <a:ext cx="914400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月下飞天镜，云生结海楼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映在江水里的云彩和月亮的美丽形象。“飞”“结”是用拟人化手法，写出令人神往的生动而优美的画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仍怜故乡水，万里送行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故乡的水送我至万里之外，情意何长！诗人借“万里送行舟”的故乡水，抒发了他热爱和思念故乡的强烈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题目中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送别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以删掉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题目中的“送别”不可以删掉。因为，诗人不说自己思念故乡，而说故乡之水恋恋不舍地一路送我远行，它怀着深情厚谊，万里送行舟，从对面写来，越发显出自己的思乡深情。所以，题目中的“送别”不可以删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句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山随平野尽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入大荒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随着低平的原野的出现逐渐消失，江水在一望无际的原野中奔流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随平野尽，江入大荒流”，写得逼真如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随”字将群山与原野的位置逐渐变换、推移，真切地表现出来，写活了，给人们以空间感和流动感。一个“入”字形象生动，自然贴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709560"/>
            <a:ext cx="822960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文鼎CS魏碑"/>
                <a:ea typeface="文鼎CS魏碑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文鼎CS魏碑"/>
                <a:ea typeface="文鼎CS魏碑"/>
              </a:rPr>
              <a:t>诗人选取日、月、江、天这样的瑰丽意象，显得意境高远，风格雄健，形象奇伟，想象瑰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3315" descr="13b5d0f75b18a3b6-02474231a63be6b9-cb4f6f11b2c206071366192862a766e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全诗通过对长江两岸秀丽景色的描绘，反映了诗人开阔的情怀和奋发进取的精神，同时表现了诗人对故乡山水的无限眷恋、思念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5363" descr="ac75323d6b6de243-503c0c74be6ae02f-b51e509c10116cbd028ec77467503e92_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复习有关李白的文学常识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结合写作背景，整体把握诗歌的思想内容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领会诗歌的意境美、语言美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背诵并默写诗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27651" descr="12400ee0679b6e1e-f0b91d6f9753a2cf-1fd12af559516be2ef4a26c82a6e581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4437000"/>
            <a:ext cx="226692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人李白一生足迹几乎踏遍了祖国的名山大川，写了不少歌颂祖国壮丽河山的名诗佳篇。这首诗是诗人于开元十三年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辞亲远游，出蜀至荆门时赠别友人而作。诗人在二十五岁之前一直住在四川，这次是诗人第一次离开故乡开始漫游全国，准备实现自己的理想抱负。出蜀东下，此诗即在旅游途中所作。从诗意看，诗人与送行者同舟共发，是在舟中吟送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0509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68000" y="0"/>
            <a:ext cx="6875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李白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01-76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唐代伟大诗人，字太白，号青莲居士。祖籍陇西成纪。人称“诗仙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是我国继屈原之后又一个杰出的浪漫主义诗人。他的诗风雄奇豪放，想象丰富，语言流转自然，韵律和谐多变。杜甫曾给予李白的诗篇极高的评价：“笔落惊风雨，诗成泣鬼神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075" descr="tu4"/>
          <p:cNvPicPr/>
          <p:nvPr/>
        </p:nvPicPr>
        <p:blipFill>
          <a:blip r:embed="rId1"/>
          <a:stretch/>
        </p:blipFill>
        <p:spPr>
          <a:xfrm>
            <a:off x="0" y="1197000"/>
            <a:ext cx="234000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渡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荆 门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送 别      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渡远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荆门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外，来从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楚国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游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随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平野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尽，江入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荒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月下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飞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镜，云生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海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仍怜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故乡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，万里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送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行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5125" descr="13b5d0f75b18a3b6-02474231a63be6b9-cb4f6f11b2c206071366192862a766e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解释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 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远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远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荆门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名，在今湖北省宜昌市西北长江南岸，其状如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又与北岸之虎牙山相对，水势湍急，十分险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荆门外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指荆门以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此即入古楚国境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来从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“来到”或“来向”解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江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长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大荒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广阔无际的原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下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移下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⑧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天镜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指水中所见一轮明月之影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海楼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海市蜃楼，这里形容江上云霞的美丽景色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⑩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仍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频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⑾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怜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9699" descr="3c28af542f2d49f7-da1566425074a021-9e003a4568ba203a56674c9887051a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363528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从蜀地远渡出游，来到荆门这个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岸的山峦渐渐消失了，眼前是一望无际的广阔的原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江水冲着广阔原野奔腾而去。夜晚明月映入水中，如同飞下的天镜，黄昏时，云霞飘飞，如同海市蜃楼一般变幻多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故乡的水好啊，把我的船送到万里之外，还不忍分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首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远渡地点，出蜀目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颔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游动视觉，景色壮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颈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中映月，云霞飘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尾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由景及情，思恋故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8195"/>
          <p:cNvSpPr/>
          <p:nvPr/>
        </p:nvSpPr>
        <p:spPr>
          <a:xfrm>
            <a:off x="468360" y="4581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叙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8196"/>
          <p:cNvSpPr/>
          <p:nvPr/>
        </p:nvSpPr>
        <p:spPr>
          <a:xfrm>
            <a:off x="3419640" y="458136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绘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8197"/>
          <p:cNvSpPr/>
          <p:nvPr/>
        </p:nvSpPr>
        <p:spPr>
          <a:xfrm>
            <a:off x="6372360" y="4581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抒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右箭头 8198"/>
          <p:cNvSpPr/>
          <p:nvPr/>
        </p:nvSpPr>
        <p:spPr>
          <a:xfrm>
            <a:off x="1835280" y="4869000"/>
            <a:ext cx="1657080" cy="360360"/>
          </a:xfrm>
          <a:prstGeom prst="rightArrow">
            <a:avLst>
              <a:gd name="adj1" fmla="val 50000"/>
              <a:gd name="adj2" fmla="val 114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右箭头 8199"/>
          <p:cNvSpPr/>
          <p:nvPr/>
        </p:nvSpPr>
        <p:spPr>
          <a:xfrm>
            <a:off x="4716360" y="4797360"/>
            <a:ext cx="1657440" cy="360360"/>
          </a:xfrm>
          <a:prstGeom prst="rightArrow">
            <a:avLst>
              <a:gd name="adj1" fmla="val 50000"/>
              <a:gd name="adj2" fmla="val 1149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8200" descr="12400ee0679b6e1e-af640e269b3a3e1c-05ee89a2b3c9ba6cf34bb11b08b2394f_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06:19:57Z</dcterms:created>
  <dc:creator>未知用户</dc:creator>
  <dc:description/>
  <dc:language>en-US</dc:language>
  <cp:lastModifiedBy>Administrator</cp:lastModifiedBy>
  <dcterms:modified xsi:type="dcterms:W3CDTF">2018-10-09T15:28:28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