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9CE-EBB3-4CAC-819B-3FA5F35B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908-675D-468C-BC68-A8450C5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318-948B-4195-9ACB-9E3FC771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897-E576-482A-A994-2A620AF8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36FB-F95F-4317-BE71-D940F3EA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C87-EC29-48AB-938C-775ACE5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CBA-6443-4AB4-8596-AE3C7C4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45E-2F91-4E88-B474-73ED7FA2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19-2C77-4642-8202-3AB0786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1E1-FEDA-4ABD-8174-1838F1E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864-D4B3-43A9-98C0-E253082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22D-7251-4925-A466-C26092A1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809-35CC-4D81-8A70-BDC9BF820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0948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137160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渡荆门送别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87760" y="3357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李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9612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黄   鹤   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200a"/>
                </a:solidFill>
                <a:latin typeface="Times New Roman"/>
                <a:ea typeface="华文行楷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昔人已乘黄鹤去，此地空余黄鹤楼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鹤一去不复返，白云千载空悠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晴川历历汉阳树，芳草萋萋鹦鹉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暮乡关何处是？烟波江上使人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61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黄   鹤   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200a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昔人已乘黄鹤去，此地空余黄鹤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2" action="ppaction://hlinksldjump"/>
              </a:rPr>
              <a:t>传说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仙人已乘黄鹤飞去，这里只留下空空的黄鹤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黄鹤一去不复返，白云千载空悠悠。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3" action="ppaction://hlinksldjump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黄鹤飞去不会再回来了，而千百年来白云却依旧悠然自得地飘来飘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晴川历历汉阳树，芳草萋萋鹦鹉洲。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所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登楼隔江相望，汉阳的树木清晰可见，鹦鹉洲上的春草长得茂盛喜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暮乡关何处是？烟波江上使人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4" action="ppaction://hlinksldjump"/>
              </a:rPr>
              <a:t>。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所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可是日近黄昏，极目远眺，我的故乡在哪儿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凝视长江上面浩渺的烟波，真使人发愁啊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635280" y="146160"/>
            <a:ext cx="550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据《报恩录》记载，黄鹤楼原为辛氏开设的酒店，一道士为了感谢她千杯之恩，临行前在壁上画了一只鹤，告之它能下来起舞助兴。从此宾客盈门，生意兴隆。过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道士复来，取笛吹奏，并跨上黄鹤直上云天。辛氏为了纪念这位帮她致富的仙翁，便在其地起楼，取名“黄鹤楼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说是有一位名叫费祎的人，在黄鹤山中修炼成仙，然后乘黄鹤升天。后来人们为怀念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便在这黄鹤山上建造了一座黄鹤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210240" y="189000"/>
            <a:ext cx="13993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美丽的传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6372360" y="6524640"/>
            <a:ext cx="720720" cy="333360"/>
          </a:xfrm>
          <a:custGeom>
            <a:avLst/>
            <a:gdLst>
              <a:gd name="textAreaLeft" fmla="*/ 21600 w 720720"/>
              <a:gd name="textAreaRight" fmla="*/ 699120 w 720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6672" h="21600">
                <a:moveTo>
                  <a:pt x="0" y="0"/>
                </a:moveTo>
                <a:lnTo>
                  <a:pt x="46672" y="0"/>
                </a:lnTo>
                <a:lnTo>
                  <a:pt x="46672" y="21600"/>
                </a:lnTo>
                <a:lnTo>
                  <a:pt x="0" y="21600"/>
                </a:lnTo>
                <a:close/>
              </a:path>
              <a:path fill="lightenLess" w="46672" h="21600">
                <a:moveTo>
                  <a:pt x="0" y="0"/>
                </a:moveTo>
                <a:lnTo>
                  <a:pt x="46672" y="0"/>
                </a:lnTo>
                <a:lnTo>
                  <a:pt x="45272" y="1400"/>
                </a:lnTo>
                <a:lnTo>
                  <a:pt x="1400" y="1400"/>
                </a:lnTo>
                <a:close/>
              </a:path>
              <a:path fill="darken" w="46672" h="21600">
                <a:moveTo>
                  <a:pt x="46672" y="0"/>
                </a:moveTo>
                <a:lnTo>
                  <a:pt x="46672" y="21600"/>
                </a:lnTo>
                <a:lnTo>
                  <a:pt x="45272" y="20200"/>
                </a:lnTo>
                <a:lnTo>
                  <a:pt x="45272" y="1400"/>
                </a:lnTo>
                <a:close/>
              </a:path>
              <a:path fill="darkenLess" w="46672" h="21600">
                <a:moveTo>
                  <a:pt x="46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72" y="20200"/>
                </a:lnTo>
                <a:close/>
              </a:path>
              <a:path fill="lighten" w="46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72" h="21600">
                <a:moveTo>
                  <a:pt x="16329" y="10800"/>
                </a:moveTo>
                <a:lnTo>
                  <a:pt x="30342" y="3794"/>
                </a:lnTo>
                <a:lnTo>
                  <a:pt x="3034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黄鹤一去不复返，白云千载空悠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江天相接的自然画面因白云的衬托愈显宏丽阔大，受此景象的感染，诗人的心境渐渐开朗，胸中的情思也随之插上了纵横驰骋的翅膀：黄鹤楼久远的历史和美丽的传说一幕幕在眼前回放，但终归物是人非、鹤去楼空。人们留下什么才能经得起岁月的考验？她不是别的，她是任地老天荒、海枯石烂也割舍不断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绵绵乡恋、悠悠乡情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本句抒发了诗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岁月难再、物是人非的感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也为下文写乡关难归的无限愁思铺垫，因而成为深值关注和反复品味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04000" y="630864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9217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日暮乡关何处是？烟波江上使人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阳落山，黑夜来临，鸟要归巢，船要归航，游子要归乡，然而天下游子的故乡又在何处呢？江上的雾蔼一片迷蒙，眼底也生出的浓浓迷雾，那是一种隐隐的泪花和心系天下苍生的广义乡愁，问乡乡不语，思乡不见乡。面对此情此景，谁人不生乡愁也无由。诗作以一“愁”收篇，准确地表达了日暮时分诗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登临黄鹤楼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2743200" cy="4343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380880"/>
            <a:ext cx="6248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华文隶书"/>
                <a:ea typeface="华文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李白（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701~762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），唐代伟大诗人，字太白，号青莲居士。祖籍陇西成纪。人称“诗仙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他是我国继屈原之后又一个杰出的浪漫主义诗人。他常以奔放的激情抒发自己的抱负和理想，以强烈的叛逆精神和傲岸不驯的态度抨击社会，鞭挞权贵。他的诗风雄奇豪放，想象丰富，语言流转自然，韵律和谐多变。杜甫曾给予李白的诗篇极高的评价：“笔落惊风雨，诗成泣鬼神。</a:t>
            </a:r>
            <a:r>
              <a:rPr b="0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0440" y="304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隶书"/>
                <a:ea typeface="华文隶书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诗人李白一生足迹几乎踏遍了祖国的名山大川，写了不少歌颂祖国壮丽河山的名诗佳篇。这首诗是诗人于开元十三年（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726</a:t>
            </a: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）辞亲远游，出蜀至荆门时赠别友人而作。诗人在二十五岁之前一直住在四川，这次是诗人第一次离开故乡开始漫游全国，准备实现自己的理想抱负。出蜀东下，此诗即在旅游途中所作。从诗意看，诗人与送行者同舟共发，是在舟中吟送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557360"/>
            <a:ext cx="8424720" cy="68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渡荆门送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华文隶书"/>
                <a:ea typeface="华文隶书"/>
              </a:rPr>
              <a:t>渡远荆门外，来从楚国游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  <a:ea typeface="华文隶书"/>
              </a:rPr>
              <a:t>山随平野尽，江入大荒流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  <a:ea typeface="华文隶书"/>
              </a:rPr>
              <a:t>月下飞天镜，云生结海楼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  <a:ea typeface="华文隶书"/>
              </a:rPr>
              <a:t>仍怜故乡水，万里送行舟。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1430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808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行楷"/>
                <a:ea typeface="华文行楷"/>
              </a:rPr>
              <a:t>朗读文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99072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诗句解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907920"/>
            <a:ext cx="266400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  <a:ea typeface="华文隶书"/>
              </a:rPr>
              <a:t>渡远荆门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  <a:ea typeface="华文隶书"/>
              </a:rPr>
              <a:t>来从楚国游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421000"/>
            <a:ext cx="2662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山随平野尽，江入大荒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2349360"/>
            <a:ext cx="58338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巴山尽头现出平川，长江水流入广阔无际的原野。</a:t>
            </a:r>
            <a:r>
              <a:rPr b="0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3573360"/>
            <a:ext cx="5689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隶书"/>
                <a:ea typeface="华文隶书"/>
              </a:rPr>
              <a:t>皎洁的明月在空中流转，如同飞在空中的明镜。云气在大江面上变幻莫测，如同海市蜃楼一般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229360"/>
            <a:ext cx="28083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仍怜故乡水，万里送行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5229360"/>
            <a:ext cx="5616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  <a:ea typeface="华文隶书"/>
              </a:rPr>
              <a:t>虽然进入异地，我仍然依恋着故乡的水水山山，不远万里，一直伴着我这位游子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645000"/>
            <a:ext cx="280836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月下飞天镜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隶书"/>
                <a:ea typeface="华文隶书"/>
              </a:rPr>
              <a:t>云生结海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765000"/>
            <a:ext cx="5111640" cy="132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从远荆门山外渡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远去古老的楚国漫游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0"/>
            <a:ext cx="91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深入探究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989000"/>
            <a:ext cx="864216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月下飞天镜”是月夜俯视所见。明月本在天上，倒映在流速缓慢的长江水中，好像从天上飞来一面明镜。“云生结海楼”是白昼眺望所见。云多，则天空高远，反衬原野低平、江岸辽阔、两岸平旷的景色，在自然美景中融进了诗人见到平原时欣喜的感受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76500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月下飞天镜，云生结海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890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90792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仍怜故乡水，万里送行舟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060640"/>
            <a:ext cx="8136000" cy="4465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乡水”是指流经故乡的水，“万里送行舟”指的是故乡水如今怀着深情厚意载我远行。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拟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手法，借写故乡水有情，不远万里，依恋不舍送我远别故乡，表达了诗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离开故乡时依依不舍，思念故乡的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7280" y="2276640"/>
            <a:ext cx="72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表达诗人对长江中游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秀丽景象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赞叹和对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故乡山水的留恋</a:t>
            </a:r>
            <a:r>
              <a:rPr b="1" lang="zh-CN" sz="50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80880"/>
            <a:ext cx="2819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中心思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14400" y="31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照片标题：黄鹤楼：江城五月落梅花&#13;&#10;上传网友：fanlu123456         &#13;&#10;携程推荐：★★&#13;&#10;投票人数：10"/>
          <p:cNvPicPr/>
          <p:nvPr/>
        </p:nvPicPr>
        <p:blipFill>
          <a:blip r:embed="rId2"/>
          <a:stretch/>
        </p:blipFill>
        <p:spPr>
          <a:xfrm>
            <a:off x="-108000" y="-33480"/>
            <a:ext cx="9252000" cy="6891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0" y="1484280"/>
            <a:ext cx="172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黄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鹤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楼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5" name=""/>
          <p:cNvSpPr/>
          <p:nvPr/>
        </p:nvSpPr>
        <p:spPr>
          <a:xfrm>
            <a:off x="1887120" y="40053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08:14Z</dcterms:created>
  <dc:creator>QuZhiSong</dc:creator>
  <dc:description/>
  <dc:language>en-US</dc:language>
  <cp:lastModifiedBy>微软中国</cp:lastModifiedBy>
  <dcterms:modified xsi:type="dcterms:W3CDTF">2010-03-30T01:00:51Z</dcterms:modified>
  <cp:revision>52</cp:revision>
  <dc:subject/>
  <dc:title>PowerPoint 演示文稿</dc:title>
</cp:coreProperties>
</file>