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type.wav" ContentType="audio/x-wav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3399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99"/>
                </a:solidFill>
                <a:latin typeface="华文隶书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华文隶书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3399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A5E-1F7C-4994-8ACE-D48BCD01B721}" type="slidenum">
              <a:rPr b="0" lang="zh-CN" sz="1200" spc="-1" strike="noStrike">
                <a:solidFill>
                  <a:srgbClr val="333399"/>
                </a:solidFill>
                <a:latin typeface="华文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6AB-7B46-439B-94C3-4F5F9480A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危难之间显身手。话不在多，而在</a:t>
            </a:r>
            <a:r>
              <a:rPr b="1" lang="zh-CN" sz="1200" spc="-1" strike="noStrike">
                <a:solidFill>
                  <a:srgbClr val="000066"/>
                </a:solidFill>
                <a:latin typeface="Calibri"/>
              </a:rPr>
              <a:t>敏捷、巧妙、适时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。千钧一发时的一句话，更是收到了</a:t>
            </a:r>
            <a:r>
              <a:rPr b="1" lang="zh-CN" sz="1200" spc="-1" strike="noStrike">
                <a:solidFill>
                  <a:srgbClr val="000066"/>
                </a:solidFill>
                <a:latin typeface="Calibri"/>
              </a:rPr>
              <a:t>以少胜多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</a:rPr>
              <a:t>的效果。你学会了吗？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13F-3607-4578-AA2C-D4255C39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574-90D7-41E8-BC42-97EA53CF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149-FF8C-4651-8B5F-F8940388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5C1-FD68-421D-9DBA-E83528CE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806-E079-4909-BA71-92E87089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4FD-A65B-44DD-966E-4C8EE4EB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3C34-0E11-4EC6-8A64-5DEBF0C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495F-620B-4A03-A076-E7A6D05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D1C5-08A7-417C-8331-E2E6DF5A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9D5C-863C-49CA-B2B3-644FBF44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C8A-DF19-4E0E-ABFC-BF5F6E0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823-EDA8-49D1-AB2A-D396C49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50CC-39EC-4C46-B6C5-DF11523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4D30-27E6-4933-839A-C36C0252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BDE-26D4-48EF-B4CA-0D261A03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DB1D-FDB9-4DD4-AAD8-C2128D56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55D-74C4-43C7-B036-48D69C94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9289-3840-4D78-A761-D4E6C7BB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DEC8-14FE-4262-9DA0-48E3454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1720D-7C4F-4639-A1AF-D76DED7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67AC-4DEE-4B89-8DF7-0932DC75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3EDF-13C2-47FD-82B1-DA092B9D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28F-C624-4B75-8481-15FC2597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B437-44DA-4CD1-AB69-6DEE45E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2F30-B9FB-454D-A379-576CD5F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5C90-8406-4DE2-8BE9-EEC8C44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636B-76C7-4F37-A0B3-4118109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F7E1-19EC-4330-AEC8-0D87C65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56F7-A261-430D-BE43-BFA7B5F1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A9FA-4299-4DF8-BCAF-00FD797A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9F4E-CF64-467E-A9A7-13381432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8525-6B08-4D5B-9ADF-43348A3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D428-6AC3-4D7C-AC81-1F4EC438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1F6-5093-4056-AFCA-9A6EEA13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93CD-C5CA-4A8A-8DEF-F7214E1E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7F7C-834D-4951-A70E-0804645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BA5B-1E12-4A53-A021-97DECE5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D727-F2D7-4D5B-ACB4-378CD7B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ED4D-F81D-4A52-944A-FA47C4B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9971-BB64-4C63-B672-64E67AA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0FBD6-14C9-498A-BAF5-18CE2450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6069-7662-4FC5-A211-AEF5DEF7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B025-D6BD-4A27-BC23-D69CACFE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2BBE-A838-4338-AF99-C866558D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FC9-2BB6-4C97-9F23-2D0A31A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D7D9-5473-4434-B28D-4E2E5DF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16FF-8410-4CCC-BAF0-7642FBC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177BC-3555-4C89-A3EF-E4046DE3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A4EE-2F88-4248-81C6-5E4F65F1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0AEA-B389-4A21-89A5-1971F142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7F98-6763-4820-AB48-BAAB3549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73A93-760B-4CB9-8A60-8D46F2E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B5354-2783-4EFA-97EC-78B6977C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4DC6-A6ED-49EF-83CB-CE6460AF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231A-F5CB-4F26-BA35-C5923EC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298-A533-4B75-83D0-BEB2837A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6CE3-49E4-486C-929B-1266361E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9359-071E-4E2C-81BA-E036169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29DA-6BE5-4E39-B2E4-DCE94767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E0460-3A32-43FC-AEC9-5B962E6F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AAE0-FFED-4B9B-803B-84DCA078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1368-268F-492E-99DD-A362E31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A56A-C664-4775-B664-3E433939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9569-8E68-4F8A-A300-3302178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47B8-4C68-437E-8D10-8BD30F9E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5DF1-8A95-4497-8845-3B9706E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1ED-7669-4414-9150-D197FBC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53BF-09A8-4A86-8166-8D73F9A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7C20B-7587-45EF-ADB5-D42A11CE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B9B1-FFD2-4766-8961-A3BF4D89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F519-70F4-407A-A389-419F138A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8284-BB92-4C6B-BD4A-A24D4BFA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37B24-3E9F-4B39-8B79-D16BC545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E313-1721-4CD1-ABE2-5433CEB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FAAE3-11DE-49C3-9E1E-80ECAB16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33D9-A69E-441A-B8DC-C2EA7ADE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1019A-A876-4BAA-89E1-8AD946B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607-597A-4CBD-A94F-F22EA75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1E03F-F829-4409-A98C-4F2346C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F970-7D0A-4EC5-B00A-327BB50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81FC-6B56-48CF-B4C3-36BCC87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E2D3-6770-40FF-BE87-4AB9F530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265F3-1BA5-458D-B505-FCDA2362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DD315-9635-476D-9F87-3B8B5E08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64808-1445-465E-8F36-E74986A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45109-20E5-4618-AFC7-EC6404C4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04A5B-F82C-43B8-A027-C450B2BD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02466-635F-4BE8-9198-1D3D6426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029-7A1B-4DC1-8F0A-A7532EC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F31A-FD07-4C67-8203-6F731C8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06C4-B3ED-4D1E-9CA9-43FC80F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5BCC9-95BD-4FF1-A577-6991D263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ED1E8-8AB9-4677-A655-0F2E66B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BB66-9533-4663-BEE5-DFA0E7E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4FFF4-1B8C-4B41-8D28-4E97DC13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E3283-FD64-4417-8AA0-68D9FA04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0E6-EA1A-4A51-A514-5E991787063B}" type="slidenum">
              <a:rPr b="0" lang="en-US" sz="1000" spc="-1" strike="noStrike">
                <a:solidFill>
                  <a:srgbClr val="000000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a1f28"/>
                  </a:solidFill>
                  <a:latin typeface="华文隶书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9214-1563-46A9-B984-4FC7823A3307}" type="slidenum">
              <a:rPr b="0" lang="en-US" sz="1000" spc="-1" strike="noStrike">
                <a:solidFill>
                  <a:srgbClr val="ffffff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E7D4-CF10-4D12-8BAD-D07C57F74C70}" type="slidenum">
              <a:rPr b="0" lang="en-US" sz="1000" spc="-1" strike="noStrike">
                <a:solidFill>
                  <a:srgbClr val="ffffff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2478-6C5A-43FB-B3B8-4DE003835D1A}" type="slidenum">
              <a:rPr b="0" lang="en-US" sz="1000" spc="-1" strike="noStrike">
                <a:solidFill>
                  <a:srgbClr val="ffffff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79EA-9108-4C1E-9AF2-09980F07D98B}" type="slidenum">
              <a:rPr b="0" lang="en-US" sz="1000" spc="-1" strike="noStrike">
                <a:solidFill>
                  <a:srgbClr val="000000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259B-8324-4817-BFAF-1BA24BB92D69}" type="slidenum">
              <a:rPr b="0" lang="en-US" sz="1000" spc="-1" strike="noStrike">
                <a:solidFill>
                  <a:srgbClr val="ffffff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E7D5-633A-42F8-B664-D74807E37FD5}" type="slidenum">
              <a:rPr b="0" lang="en-US" sz="1000" spc="-1" strike="noStrike">
                <a:solidFill>
                  <a:srgbClr val="000000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a1f28"/>
                </a:solidFill>
                <a:latin typeface="华文隶书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华文隶书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F80C-82F4-45E8-A397-D41374242B6C}" type="slidenum">
              <a:rPr b="0" lang="en-US" sz="1000" spc="-1" strike="noStrike">
                <a:solidFill>
                  <a:srgbClr val="ffffff"/>
                </a:solidFill>
                <a:latin typeface="华文隶书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华文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image" Target="../media/image18.jpeg"/><Relationship Id="rId5" Type="http://schemas.openxmlformats.org/officeDocument/2006/relationships/slide" Target="slide8.xml"/><Relationship Id="rId6" Type="http://schemas.openxmlformats.org/officeDocument/2006/relationships/image" Target="../media/image19.jpeg"/><Relationship Id="rId7" Type="http://schemas.openxmlformats.org/officeDocument/2006/relationships/slide" Target="slide8.xml"/><Relationship Id="rId8" Type="http://schemas.openxmlformats.org/officeDocument/2006/relationships/image" Target="../media/image20.jpe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image" Target="../media/image14.jpeg"/><Relationship Id="rId6" Type="http://schemas.openxmlformats.org/officeDocument/2006/relationships/slide" Target="slide4.xml"/><Relationship Id="rId7" Type="http://schemas.openxmlformats.org/officeDocument/2006/relationships/image" Target="../media/image14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禅院钟声.mp3" descr=""/>
          <p:cNvPicPr/>
          <p:nvPr/>
        </p:nvPicPr>
        <p:blipFill>
          <a:blip r:embed="rId1"/>
          <a:stretch/>
        </p:blipFill>
        <p:spPr>
          <a:xfrm>
            <a:off x="-609480" y="472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1547640" y="137160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a1f28"/>
                </a:solidFill>
                <a:latin typeface="Times New Roman"/>
                <a:ea typeface="华文行楷"/>
              </a:rPr>
              <a:t>渡荆门送别</a:t>
            </a:r>
            <a:endParaRPr b="0" lang="en-US" sz="96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6287760" y="3357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</a:rPr>
              <a:t>李白</a:t>
            </a:r>
            <a:endParaRPr b="0" lang="en-US" sz="54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5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79280" y="18900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深入探究</a:t>
            </a:r>
            <a:endParaRPr b="0" lang="en-US" sz="4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755640" y="90792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仍怜故乡水，万里送行舟。 </a:t>
            </a:r>
            <a:endParaRPr b="0" lang="en-US" sz="4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395280" y="2060640"/>
            <a:ext cx="8136000" cy="4465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Times New Roman"/>
                <a:ea typeface="宋体"/>
              </a:rPr>
              <a:t>  “</a:t>
            </a:r>
            <a:r>
              <a:rPr b="1" lang="zh-CN" sz="4000" spc="-1" strike="noStrike">
                <a:solidFill>
                  <a:srgbClr val="464646"/>
                </a:solidFill>
                <a:latin typeface="Times New Roman"/>
                <a:ea typeface="宋体"/>
              </a:rPr>
              <a:t>故乡水”是指流经故乡的水，“万里送行舟”指的是故乡水如今怀着深情厚意载我远行。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拟人</a:t>
            </a:r>
            <a:r>
              <a:rPr b="1" lang="zh-CN" sz="4000" spc="-1" strike="noStrike">
                <a:solidFill>
                  <a:srgbClr val="464646"/>
                </a:solidFill>
                <a:latin typeface="Times New Roman"/>
                <a:ea typeface="宋体"/>
              </a:rPr>
              <a:t>的手法，借写故乡水有情，不远万里，依恋不舍送我远别故乡，表达了诗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离开故乡时依依不舍，思念故乡的感情。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1" name="type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67080" y="3357720"/>
            <a:ext cx="4876920" cy="3500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2428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kuimen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9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3"/>
          <p:cNvSpPr/>
          <p:nvPr/>
        </p:nvSpPr>
        <p:spPr>
          <a:xfrm>
            <a:off x="1042920" y="765000"/>
            <a:ext cx="61581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互助释疑</a:t>
            </a:r>
            <a:endParaRPr b="0" lang="en-US" sz="44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endParaRPr b="0" lang="en-US" sz="1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187280" y="2205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24" name="矩形 1"/>
          <p:cNvSpPr/>
          <p:nvPr/>
        </p:nvSpPr>
        <p:spPr>
          <a:xfrm>
            <a:off x="216000" y="255600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师友互相质疑，有师友彼此无法解决的问题，提出来，全班讨论解决。</a:t>
            </a:r>
            <a:endParaRPr b="0" lang="en-US" sz="36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66"/>
                </a:solidFill>
                <a:latin typeface="Lucida Sans Unicode"/>
              </a:rPr>
              <a:t>渡荆门送别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66"/>
                </a:solidFill>
                <a:latin typeface="Lucida Sans Unicode"/>
              </a:rPr>
              <a:t>渡远荆门外，来从楚国游。 </a:t>
            </a:r>
            <a:br>
              <a:rPr sz="2700"/>
            </a:br>
            <a:r>
              <a:rPr b="1" lang="zh-CN" sz="2700" spc="-1" strike="noStrike">
                <a:solidFill>
                  <a:srgbClr val="cc0066"/>
                </a:solidFill>
                <a:latin typeface="Lucida Sans Unicode"/>
              </a:rPr>
              <a:t>山随平野尽，江入大荒流。 </a:t>
            </a:r>
            <a:br>
              <a:rPr sz="2700"/>
            </a:br>
            <a:r>
              <a:rPr b="1" lang="zh-CN" sz="2700" spc="-1" strike="noStrike">
                <a:solidFill>
                  <a:srgbClr val="cc0066"/>
                </a:solidFill>
                <a:latin typeface="Lucida Sans Unicode"/>
              </a:rPr>
              <a:t>月下飞天镜，云生结海楼。 </a:t>
            </a:r>
            <a:br>
              <a:rPr sz="2700"/>
            </a:br>
            <a:r>
              <a:rPr b="1" lang="zh-CN" sz="2700" spc="-1" strike="noStrike">
                <a:solidFill>
                  <a:srgbClr val="cc0066"/>
                </a:solidFill>
                <a:latin typeface="Lucida Sans Unicode"/>
              </a:rPr>
              <a:t>仍怜故乡水，万里送行舟。 </a:t>
            </a:r>
            <a:br>
              <a:rPr sz="2700"/>
            </a:br>
            <a:r>
              <a:rPr b="1" lang="zh-CN" sz="2700" spc="-1" strike="noStrike">
                <a:solidFill>
                  <a:srgbClr val="cc006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1063080" y="1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巩固拓展</a:t>
            </a:r>
            <a:endParaRPr b="0" lang="en-US" sz="44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2" name="type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86000"/>
            <a:ext cx="822960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颔联描写了荆门的地理形势和壮阔景象。是从动态的角度来描写的（诗人乘船，山和江水随着船的移动而逐渐远去）。</a:t>
            </a:r>
            <a:br>
              <a:rPr sz="2700"/>
            </a:b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　　连绵的群山随着平原的出现消失了；江水奔流着涌入了无际的旷野。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标题 1" descr=""/>
          <p:cNvPicPr/>
          <p:nvPr/>
        </p:nvPicPr>
        <p:blipFill>
          <a:blip r:embed="rId1"/>
          <a:stretch/>
        </p:blipFill>
        <p:spPr>
          <a:xfrm>
            <a:off x="554040" y="360360"/>
            <a:ext cx="8182080" cy="1974960"/>
          </a:xfrm>
          <a:prstGeom prst="rect">
            <a:avLst/>
          </a:prstGeom>
          <a:ln w="0">
            <a:noFill/>
          </a:ln>
        </p:spPr>
      </p:pic>
      <p:sp>
        <p:nvSpPr>
          <p:cNvPr id="430" name="矩形 3"/>
          <p:cNvSpPr/>
          <p:nvPr/>
        </p:nvSpPr>
        <p:spPr>
          <a:xfrm>
            <a:off x="46296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巩固拓展</a:t>
            </a:r>
            <a:endParaRPr b="0" lang="en-US" sz="44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2" name="type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249984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不同。颔联是以动态变化的角度来写景，而颈联是以静态的角度来写的。“天镜”指的是月亮，“海楼”指的是云彩。</a:t>
            </a:r>
            <a:br>
              <a:rPr sz="2700"/>
            </a:br>
            <a:br>
              <a:rPr sz="2700"/>
            </a:b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　　抬头遥看万里长空，只见一轮明月，犹如天上飞下的明镜，皎洁澄澈，普照大地。那飘荡在碧空的朵朵彩云，忽而连结在一起，构成了壮观的海市蜃楼的幻影。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标题 2" descr=""/>
          <p:cNvPicPr/>
          <p:nvPr/>
        </p:nvPicPr>
        <p:blipFill>
          <a:blip r:embed="rId1"/>
          <a:stretch/>
        </p:blipFill>
        <p:spPr>
          <a:xfrm>
            <a:off x="268200" y="-79200"/>
            <a:ext cx="8425080" cy="3011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2" name="type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拟人的修辞手法。抒发了作者对故乡的依恋之情还有离乡惜别之情。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标题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65044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2" name="type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F-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"/>
          <p:cNvSpPr/>
          <p:nvPr/>
        </p:nvSpPr>
        <p:spPr>
          <a:xfrm>
            <a:off x="1908000" y="2276640"/>
            <a:ext cx="7236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节课我学会（懂得）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……</a:t>
            </a:r>
            <a:endParaRPr b="0" lang="en-US" sz="36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节课我想对师傅（学友）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……</a:t>
            </a:r>
            <a:endParaRPr b="0" lang="en-US" sz="36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从知识方面、学法方面、师友互助方面进行总结，师傅尽可能帮助学友总结全面。</a:t>
            </a: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37" name="WordArt 4"/>
          <p:cNvSpPr txBox="1"/>
          <p:nvPr/>
        </p:nvSpPr>
        <p:spPr>
          <a:xfrm>
            <a:off x="2916360" y="692280"/>
            <a:ext cx="3047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总结提高</a:t>
            </a:r>
            <a:endParaRPr b="0" lang="en-US" sz="6000" spc="1" strike="noStrike">
              <a:ln w="0">
                <a:noFill/>
              </a:ln>
              <a:solidFill>
                <a:srgbClr val="3333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8" name="WordArt 5"/>
          <p:cNvSpPr txBox="1"/>
          <p:nvPr/>
        </p:nvSpPr>
        <p:spPr>
          <a:xfrm>
            <a:off x="0" y="4365720"/>
            <a:ext cx="208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255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友情提示：</a:t>
            </a:r>
            <a:endParaRPr b="0" lang="en-US" sz="2400" spc="1" strike="noStrike">
              <a:ln w="255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3295800" y="1905120"/>
            <a:ext cx="24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环节一 师友总结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3" descr=""/>
          <p:cNvPicPr/>
          <p:nvPr/>
        </p:nvPicPr>
        <p:blipFill>
          <a:blip r:embed="rId1"/>
          <a:stretch/>
        </p:blipFill>
        <p:spPr>
          <a:xfrm>
            <a:off x="0" y="1682640"/>
            <a:ext cx="8369280" cy="1955880"/>
          </a:xfrm>
          <a:prstGeom prst="rect">
            <a:avLst/>
          </a:prstGeom>
          <a:ln w="0">
            <a:noFill/>
          </a:ln>
        </p:spPr>
      </p:pic>
      <p:pic>
        <p:nvPicPr>
          <p:cNvPr id="381" name="Rectangle 2" descr=""/>
          <p:cNvPicPr/>
          <p:nvPr/>
        </p:nvPicPr>
        <p:blipFill>
          <a:blip r:embed="rId2"/>
          <a:stretch/>
        </p:blipFill>
        <p:spPr>
          <a:xfrm>
            <a:off x="176040" y="55440"/>
            <a:ext cx="8517240" cy="1597320"/>
          </a:xfrm>
          <a:prstGeom prst="rect">
            <a:avLst/>
          </a:prstGeom>
          <a:ln w="0">
            <a:noFill/>
          </a:ln>
        </p:spPr>
      </p:pic>
      <p:sp>
        <p:nvSpPr>
          <p:cNvPr id="382" name="矩形 8"/>
          <p:cNvSpPr/>
          <p:nvPr/>
        </p:nvSpPr>
        <p:spPr>
          <a:xfrm>
            <a:off x="142920" y="2786040"/>
            <a:ext cx="6715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</a:rPr>
              <a:t>荆门，即荆门山，位于今湖北宜都县西北，长江南岸，与北岸虎牙山隔江对峙，形势险要，自古即有楚蜀咽喉之称。</a:t>
            </a: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Times New Roman"/>
              </a:rPr>
              <a:t>李白这次出蜀，由水路乘船远行，经巴渝，出三峡，直向荆门山之外驶去，目的是到湖北、湖南一带楚国故地游览。</a:t>
            </a:r>
            <a:r>
              <a:rPr b="0" lang="zh-CN" sz="2800" spc="-1" strike="noStrike">
                <a:solidFill>
                  <a:srgbClr val="ff0000"/>
                </a:solidFill>
                <a:latin typeface="华文隶书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作者简介</a:t>
            </a:r>
            <a:endParaRPr b="0" lang="en-US" sz="5400" spc="-1" strike="noStrike">
              <a:solidFill>
                <a:srgbClr val="da1f28"/>
              </a:solidFill>
              <a:latin typeface="华文隶书"/>
            </a:endParaRPr>
          </a:p>
        </p:txBody>
      </p:sp>
      <p:pic>
        <p:nvPicPr>
          <p:cNvPr id="384" name="Picture 4" descr="libai"/>
          <p:cNvPicPr/>
          <p:nvPr/>
        </p:nvPicPr>
        <p:blipFill>
          <a:blip r:embed="rId1"/>
          <a:stretch/>
        </p:blipFill>
        <p:spPr>
          <a:xfrm>
            <a:off x="0" y="2514600"/>
            <a:ext cx="2743200" cy="434340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2895480" y="380880"/>
            <a:ext cx="62485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1f28"/>
                </a:solidFill>
                <a:latin typeface="华文隶书"/>
              </a:rPr>
              <a:t>        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李白（</a:t>
            </a:r>
            <a:r>
              <a:rPr b="1" lang="en-US" sz="3200" spc="-1" strike="noStrike">
                <a:solidFill>
                  <a:srgbClr val="da1f28"/>
                </a:solidFill>
                <a:latin typeface="华文隶书"/>
              </a:rPr>
              <a:t>701~762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），唐代伟大诗人，字太白，号青莲居士。祖籍陇西成纪。人称</a:t>
            </a:r>
            <a:r>
              <a:rPr b="1" lang="zh-CN" sz="3200" spc="-1" strike="noStrike">
                <a:solidFill>
                  <a:srgbClr val="da1f28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诗仙</a:t>
            </a:r>
            <a:r>
              <a:rPr b="1" lang="zh-CN" sz="3200" spc="-1" strike="noStrike">
                <a:solidFill>
                  <a:srgbClr val="da1f28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。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    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他是我国继屈原之后又一个杰出的浪漫主义诗人。他常以奔放的激情抒发自己的抱负和理想，以强烈的叛逆精神和傲岸不驯的态度抨击社会，鞭挞权贵。他的诗风雄奇豪放，想象丰富，语言流转自然，韵律和谐多变。杜甫曾给予李白的诗篇极高的评价：</a:t>
            </a:r>
            <a:r>
              <a:rPr b="1" lang="zh-CN" sz="3200" spc="-1" strike="noStrike">
                <a:solidFill>
                  <a:srgbClr val="da1f28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笔落惊风雨，诗成泣鬼神。</a:t>
            </a:r>
            <a:r>
              <a:rPr b="0" lang="zh-CN" sz="3200" spc="-1" strike="noStrike">
                <a:solidFill>
                  <a:srgbClr val="da1f28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550440" y="304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写作背景</a:t>
            </a:r>
            <a:endParaRPr b="0" lang="en-US" sz="5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2781360"/>
            <a:ext cx="9144000" cy="1556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1f28"/>
                </a:solidFill>
                <a:latin typeface="华文隶书"/>
              </a:rPr>
              <a:t>    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诗人李白一生足迹几乎踏遍了祖国的名山大川，写了不少歌颂祖国壮丽河山的名诗佳篇。这首诗是诗人于开元十三年（</a:t>
            </a:r>
            <a:r>
              <a:rPr b="1" lang="en-US" sz="3200" spc="-1" strike="noStrike">
                <a:solidFill>
                  <a:srgbClr val="da1f28"/>
                </a:solidFill>
                <a:latin typeface="华文隶书"/>
              </a:rPr>
              <a:t>726</a:t>
            </a: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）辞亲远游，出蜀至荆门时赠别友人而作。诗人在二十五岁之前一直住在四川，这次是诗人第一次离开故乡开始漫游全国，准备实现自己的理想抱负。出蜀东下，此诗即在旅游途中所作。从诗意看，诗人与送行者同舟共发，是在舟中吟送的。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青色山峰2"/>
          <p:cNvPicPr/>
          <p:nvPr/>
        </p:nvPicPr>
        <p:blipFill>
          <a:blip r:embed="rId1"/>
          <a:stretch/>
        </p:blipFill>
        <p:spPr>
          <a:xfrm>
            <a:off x="0" y="0"/>
            <a:ext cx="4535640" cy="1990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2f17c50338cede87d53f7ce1"/>
          <p:cNvPicPr/>
          <p:nvPr/>
        </p:nvPicPr>
        <p:blipFill>
          <a:blip r:embed="rId2"/>
          <a:stretch/>
        </p:blipFill>
        <p:spPr>
          <a:xfrm rot="600000">
            <a:off x="5632200" y="295200"/>
            <a:ext cx="2992320" cy="5651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笔墨"/>
          <p:cNvPicPr/>
          <p:nvPr/>
        </p:nvPicPr>
        <p:blipFill>
          <a:blip r:embed="rId3"/>
          <a:stretch/>
        </p:blipFill>
        <p:spPr>
          <a:xfrm>
            <a:off x="181080" y="3718080"/>
            <a:ext cx="5111640" cy="31413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5">
            <a:hlinkClick r:id="rId4" action="ppaction://hlinksldjump"/>
          </p:cNvPr>
          <p:cNvSpPr/>
          <p:nvPr/>
        </p:nvSpPr>
        <p:spPr>
          <a:xfrm>
            <a:off x="4282920" y="6524640"/>
            <a:ext cx="646200" cy="270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92" name="AutoShape 6">
            <a:hlinkClick r:id="rId6" action="ppaction://hlinksldjump"/>
          </p:cNvPr>
          <p:cNvSpPr/>
          <p:nvPr/>
        </p:nvSpPr>
        <p:spPr>
          <a:xfrm>
            <a:off x="5076720" y="6524640"/>
            <a:ext cx="644760" cy="27000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900000" y="1981080"/>
            <a:ext cx="74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a1f28"/>
                </a:solidFill>
                <a:latin typeface="华文隶书"/>
              </a:rPr>
              <a:t>1</a:t>
            </a:r>
            <a:r>
              <a:rPr b="1" lang="zh-CN" sz="4000" spc="-1" strike="noStrike">
                <a:solidFill>
                  <a:srgbClr val="da1f28"/>
                </a:solidFill>
                <a:latin typeface="华文隶书"/>
              </a:rPr>
              <a:t>了解作者，积累字词。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a1f28"/>
                </a:solidFill>
                <a:latin typeface="华文隶书"/>
              </a:rPr>
              <a:t>2</a:t>
            </a:r>
            <a:r>
              <a:rPr b="1" lang="zh-CN" sz="4000" spc="-1" strike="noStrike">
                <a:solidFill>
                  <a:srgbClr val="da1f28"/>
                </a:solidFill>
                <a:latin typeface="华文隶书"/>
              </a:rPr>
              <a:t>理解诗意，体会情感。</a:t>
            </a:r>
            <a:r>
              <a:rPr b="0" lang="zh-CN" sz="4000" spc="-1" strike="noStrike">
                <a:solidFill>
                  <a:srgbClr val="da1f28"/>
                </a:solidFill>
                <a:latin typeface="华文隶书"/>
              </a:rPr>
              <a:t> 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a1f28"/>
                </a:solidFill>
                <a:latin typeface="华文隶书"/>
              </a:rPr>
              <a:t>3</a:t>
            </a:r>
            <a:r>
              <a:rPr b="1" lang="zh-CN" sz="4000" spc="-1" strike="noStrike">
                <a:solidFill>
                  <a:srgbClr val="da1f28"/>
                </a:solidFill>
                <a:latin typeface="华文隶书"/>
              </a:rPr>
              <a:t>赏析艺术，品味语言。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a1f28"/>
                </a:solidFill>
                <a:latin typeface="华文隶书"/>
              </a:rPr>
              <a:t>4</a:t>
            </a:r>
            <a:r>
              <a:rPr b="1" lang="zh-CN" sz="4000" spc="-1" strike="noStrike">
                <a:solidFill>
                  <a:srgbClr val="da1f28"/>
                </a:solidFill>
                <a:latin typeface="华文隶书"/>
              </a:rPr>
              <a:t>想象意境，感情背诵。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762120" y="6858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</a:rPr>
              <a:t>学习目标</a:t>
            </a:r>
            <a:endParaRPr b="0" lang="en-US" sz="44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395280" y="1557360"/>
            <a:ext cx="8424720" cy="68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渡荆门送别</a:t>
            </a:r>
            <a:endParaRPr b="0" lang="en-US" sz="6600" spc="-1" strike="noStrike">
              <a:solidFill>
                <a:srgbClr val="da1f28"/>
              </a:solidFill>
              <a:latin typeface="华文隶书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华文隶书"/>
              </a:rPr>
              <a:t>渡远荆门外，来从楚国游。 </a:t>
            </a:r>
            <a:br>
              <a:rPr sz="5400"/>
            </a:br>
            <a:r>
              <a:rPr b="1" lang="zh-CN" sz="5400" spc="-1" strike="noStrike">
                <a:solidFill>
                  <a:srgbClr val="cc0066"/>
                </a:solidFill>
                <a:latin typeface="华文隶书"/>
              </a:rPr>
              <a:t>山随平野尽，江入大荒流。 </a:t>
            </a:r>
            <a:br>
              <a:rPr sz="5400"/>
            </a:br>
            <a:r>
              <a:rPr b="1" lang="zh-CN" sz="5400" spc="-1" strike="noStrike">
                <a:solidFill>
                  <a:srgbClr val="cc0066"/>
                </a:solidFill>
                <a:latin typeface="华文隶书"/>
              </a:rPr>
              <a:t>月下飞天镜，云生结海楼。 </a:t>
            </a:r>
            <a:br>
              <a:rPr sz="5400"/>
            </a:br>
            <a:r>
              <a:rPr b="1" lang="zh-CN" sz="5400" spc="-1" strike="noStrike">
                <a:solidFill>
                  <a:srgbClr val="cc0066"/>
                </a:solidFill>
                <a:latin typeface="华文隶书"/>
              </a:rPr>
              <a:t>仍怜故乡水，万里送行舟。 </a:t>
            </a:r>
            <a:br>
              <a:rPr sz="5400"/>
            </a:br>
            <a:endParaRPr b="0" lang="en-US" sz="5400" spc="-1" strike="noStrike">
              <a:solidFill>
                <a:srgbClr val="da1f28"/>
              </a:solidFill>
              <a:latin typeface="华文隶书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a1f28"/>
              </a:solidFill>
              <a:latin typeface="华文隶书"/>
            </a:endParaRPr>
          </a:p>
        </p:txBody>
      </p:sp>
      <p:pic>
        <p:nvPicPr>
          <p:cNvPr id="396" name="yw305.mp3" descr=""/>
          <p:cNvPicPr/>
          <p:nvPr/>
        </p:nvPicPr>
        <p:blipFill>
          <a:blip r:embed="rId1"/>
          <a:stretch/>
        </p:blipFill>
        <p:spPr>
          <a:xfrm>
            <a:off x="-11430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5"/>
          <p:cNvSpPr/>
          <p:nvPr/>
        </p:nvSpPr>
        <p:spPr>
          <a:xfrm>
            <a:off x="304920" y="380880"/>
            <a:ext cx="8196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听读诗歌，注意字音句读。思考这首诗写了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什么内容？表达了什么情感？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  <p:pic>
        <p:nvPicPr>
          <p:cNvPr id="398" name="渡荆门送别.mp3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9" name="矩形 7"/>
          <p:cNvSpPr/>
          <p:nvPr/>
        </p:nvSpPr>
        <p:spPr>
          <a:xfrm>
            <a:off x="357120" y="17859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交流感知</a:t>
            </a:r>
            <a:endParaRPr b="0" lang="en-US" sz="36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3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8628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禅院钟声.mp3" descr=""/>
          <p:cNvPicPr/>
          <p:nvPr/>
        </p:nvPicPr>
        <p:blipFill>
          <a:blip r:embed="rId1"/>
          <a:stretch/>
        </p:blipFill>
        <p:spPr>
          <a:xfrm>
            <a:off x="-99072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"/>
          <p:cNvSpPr/>
          <p:nvPr/>
        </p:nvSpPr>
        <p:spPr>
          <a:xfrm>
            <a:off x="0" y="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分组读译，理解诗句，概括内容。</a:t>
            </a:r>
            <a:endParaRPr b="0" lang="en-US" sz="4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79280" y="907920"/>
            <a:ext cx="266400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隶书"/>
              </a:rPr>
              <a:t>渡远荆门外，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隶书"/>
              </a:rPr>
              <a:t>来从楚国游。 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250920" y="2421000"/>
            <a:ext cx="2662200" cy="5814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山随平野尽，江入大荒流。 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59280" y="2349360"/>
            <a:ext cx="5833800" cy="5205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隶书"/>
              </a:rPr>
              <a:t>巴山尽头现出平川，长江水流入广阔无际的原野。</a:t>
            </a:r>
            <a:r>
              <a:rPr b="0" lang="zh-CN" sz="2800" spc="-1" strike="noStrike">
                <a:solidFill>
                  <a:srgbClr val="cc0066"/>
                </a:solidFill>
                <a:latin typeface="华文隶书"/>
              </a:rPr>
              <a:t> </a:t>
            </a: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132000" y="3573360"/>
            <a:ext cx="5689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1f28"/>
                </a:solidFill>
                <a:latin typeface="华文隶书"/>
              </a:rPr>
              <a:t>皎洁的明月在空中流转，如同飞在空中的明镜。云气在大江面上变幻莫测，如同海市蜃楼一般。 </a:t>
            </a: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250920" y="5229360"/>
            <a:ext cx="2808360" cy="5814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仍怜故乡水，万里送行舟。 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276720" y="5229360"/>
            <a:ext cx="5616360" cy="5205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隶书"/>
              </a:rPr>
              <a:t>虽然进入异地，我仍然依恋着故乡的水水山山，不远万里，一直伴着我这位游子。 </a:t>
            </a:r>
            <a:endParaRPr b="0" lang="en-US" sz="28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179280" y="3645000"/>
            <a:ext cx="2808360" cy="132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月下飞天镜，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a1f28"/>
                </a:solidFill>
                <a:latin typeface="华文隶书"/>
              </a:rPr>
              <a:t>云生结海楼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09" name="Text Box 14"/>
          <p:cNvSpPr/>
          <p:nvPr/>
        </p:nvSpPr>
        <p:spPr>
          <a:xfrm>
            <a:off x="3348000" y="765000"/>
            <a:ext cx="5111640" cy="1323000"/>
          </a:xfrm>
          <a:prstGeom prst="rect">
            <a:avLst/>
          </a:prstGeom>
          <a:solidFill>
            <a:srgbClr val="44b9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</a:rPr>
              <a:t>从远处的荆门山外渡江，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</a:rPr>
              <a:t>远去古老的楚国漫游。 </a:t>
            </a:r>
            <a:endParaRPr b="0" lang="en-US" sz="32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2" name="typ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 Unicode"/>
              </a:rPr>
              <a:t>通过对长江两岸秀丽景色的描绘，反映了诗人开阔情怀和奋发进取的精神，同时表现了诗人对故乡山水的无限眷恋、思念之情。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2" name="type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24000" y="0"/>
            <a:ext cx="91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研读共品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赏析诗句，深入探究</a:t>
            </a:r>
            <a:r>
              <a:rPr b="0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24000" y="1989000"/>
            <a:ext cx="8642160" cy="1312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</a:rPr>
              <a:t>月下飞天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</a:rPr>
              <a:t>是月夜俯视所见。明月本在天上，倒映在流速缓慢的长江水中，好像从天上飞来一面明镜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</a:rPr>
              <a:t>云生结海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</a:rPr>
              <a:t>是白昼眺望所见。云多，则天空高远，反衬原野低平、江岸辽阔、两岸平旷的景色，在自然美景中融进了诗人见到平原时欣喜的感受。 </a:t>
            </a:r>
            <a:endParaRPr b="0" lang="en-US" sz="4000" spc="-1" strike="noStrike">
              <a:solidFill>
                <a:srgbClr val="da1f28"/>
              </a:solidFill>
              <a:latin typeface="华文隶书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539640" y="765000"/>
            <a:ext cx="727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月下飞天镜，云生结海楼</a:t>
            </a:r>
            <a:endParaRPr b="0" lang="en-US" sz="4800" spc="-1" strike="noStrike">
              <a:solidFill>
                <a:srgbClr val="da1f28"/>
              </a:solidFill>
              <a:latin typeface="华文隶书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a1f28"/>
              </a:solidFill>
              <a:latin typeface="华文隶书"/>
            </a:endParaRPr>
          </a:p>
        </p:txBody>
      </p:sp>
    </p:spTree>
  </p:cSld>
  <p:transition spd="med">
    <p:randomBar dir="horz"/>
    <p:sndAc>
      <p:stSnd>
        <p:snd r:embed="rId1" name="type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08:14Z</dcterms:created>
  <dc:creator>QuZhiSong</dc:creator>
  <dc:description/>
  <dc:language>en-US</dc:language>
  <cp:lastModifiedBy>admin</cp:lastModifiedBy>
  <dcterms:modified xsi:type="dcterms:W3CDTF">2015-04-23T01:03:59Z</dcterms:modified>
  <cp:revision>61</cp:revision>
  <dc:subject/>
  <dc:title>PowerPoint 演示文稿</dc:title>
</cp:coreProperties>
</file>