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695-F04A-4075-B6A9-2B592D25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E02D-4095-4C2E-B22F-BDB325F8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654-1FF9-4544-A7AA-E5EFAB09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244-A93A-4563-9C64-7F7721B2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20A-FA35-413C-B2E7-DBC594D9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1EF-B3E1-47F9-8745-C1FA5544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0EF-92BB-45AC-92B4-165350A0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2101-38CB-47A8-A0CB-B970E9E8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E22-462B-4321-8979-437903AC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1C75-3F86-40E6-BF2B-62084502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D6D-3044-44D8-B6BC-0D7B7A92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649-0411-4757-AE8C-ACA6310E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8DA8-0E0F-4817-BECE-41B83D977B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lash.tzsy.cn/swf/2002-09/20020923_220800_662.swf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052640"/>
            <a:ext cx="7704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ffff"/>
                </a:solidFill>
                <a:latin typeface="Arial"/>
                <a:ea typeface="华文彩云"/>
              </a:rPr>
              <a:t>大江保卫战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" dur="1" fill="hold"/>
                                  <p:tgtEl>
                                    <p:spTgt spid="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6920" y="1052640"/>
            <a:ext cx="7490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哪里有洪水，哪里就有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军旗飘扬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；哪里有危险，哪里就有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军徽闪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．滔滔洪水中的群众，看到了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红五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看到了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迷彩服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就像看到了他们的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大救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"/>
          </p:cNvPr>
          <p:cNvSpPr/>
          <p:nvPr/>
        </p:nvSpPr>
        <p:spPr>
          <a:xfrm>
            <a:off x="7380360" y="5589720"/>
            <a:ext cx="86364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1280" y="1197000"/>
            <a:ext cx="81374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１搜集一两个抗洪小故事，讲给同学听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２给在抗洪中牺牲的解放军叔叔写一段你最想说的话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260280"/>
            <a:ext cx="80643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学习要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划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圈画出感受最深的句子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写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围绕这些句子写出你的感受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轮流读课文，读出你的感受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1773360"/>
            <a:ext cx="68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0"/>
            <a:ext cx="874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支队长一声令下：“上！”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顿时，一条长龙在崩塌的堤坝下出现了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官兵们肩扛沉重的沙包，在泥水中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来回穿梭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有的为了行走快捷，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索性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赤脚奔跑起来。嶙峋的片石割破了脚趾，他们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全然不顾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心中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只有一个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念头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：“大堤，保住大堤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981000"/>
            <a:ext cx="8172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狂风卷着巨浪，猛烈地撕扯着堤岸。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战士们高声喊道：“狂风为我们呐喊！暴雨为我们助威！巨浪为我们加油！”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个个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奋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跳入水中，用自己的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血肉之躯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筑起了一道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人墙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55640" y="260280"/>
            <a:ext cx="77770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抗洪口号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站着是根伫立的桩、倒下是袋拦洪的沙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水不退、人不撤，誓与大堤共存亡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 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流血流汗不流泪，掉皮掉肉不掉队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620640"/>
            <a:ext cx="820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经过几小时的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鏖战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，大堤保住了，官兵们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浑身上下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却是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伤痕累累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。“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风声雨声涛声，声声震耳；雨水汗水血水，水水相融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。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0"/>
            <a:ext cx="8137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汹涌的激流中，战士们的冲锋舟劈波斩浪，飞向漂动的树梢，飞向灭顶的房屋，飞向摇摇晃晃的电杆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02:48:16Z</dcterms:created>
  <dc:creator>hx</dc:creator>
  <dc:description/>
  <dc:language>en-US</dc:language>
  <cp:lastModifiedBy>hx</cp:lastModifiedBy>
  <dcterms:modified xsi:type="dcterms:W3CDTF">2006-02-21T00:33:40Z</dcterms:modified>
  <cp:revision>6</cp:revision>
  <dc:subject/>
  <dc:title>幻灯片 1</dc:title>
</cp:coreProperties>
</file>