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D8-160C-4982-A9D9-08ED158C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B57-E062-4135-890F-021A4F3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C93-DBE3-4F4C-AD4A-1FD5E9DA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8A8-B559-4731-9687-1DB0F770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D2D-6E5F-4F44-8ECF-2C394C83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D66-E598-442A-98E7-D78E07C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977E-107B-46F9-867E-5B8BB42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8AB-D9C9-4CF4-9089-D135F75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D34D-202C-4767-9E2D-0E8B4B4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BAF-3A5E-4FB4-B99A-7930B3DE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6DB-B1B9-48E9-8622-D4EAB02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FFC-E63B-49C6-ACE1-C9DA126B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B06-7EBB-46F6-BA38-64814B4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DA3-EAED-4526-A7BA-5F494B8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7220-C509-491F-A7DF-AA96503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ABE0-695B-4E8F-8C72-87478CA9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33BC-A854-4D37-90C6-0575F09C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160-1371-4654-ABE7-5B25FDC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5DE-74FF-4933-B0E1-5E7E41A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2CF-B387-4232-8360-8AA655D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B1B-33D5-413B-92C2-D3BC64B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1B0-69EB-4042-8470-EA2FFCD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BB1-CA00-4C32-B15D-B148B92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91B-D76E-43A9-A748-3D399CC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462-8EE3-44A1-8668-63A0F366BA5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F50-6A3A-4DFB-9F11-62DA27C5059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79640" y="112536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为了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1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-316080"/>
            <a:ext cx="77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黑体"/>
              </a:rPr>
              <a:t>大江保卫战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Comic Sans MS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助拼音读准字音，读顺句子，读通课文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轻声读课文，自学生字词语，结合上下文或查字典理解词语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再读课文，提出一些自己不懂的问题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1197000"/>
            <a:ext cx="676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嶙峋 肆虐 撕咬 崩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塌陷 堤坝 脚趾 撕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泥  赛城湖  冲锋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然不顾  奔腾不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夜兼程  劈波斩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铮铮铁汉  惊心动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89000"/>
            <a:ext cx="7812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写长江遭遇特大洪水，人民子弟兵打响了大江保卫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~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写我部队官兵在大江保卫战中表现神勇，涌现出许多动人事迹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赞扬了人民子弟兵的精神永远铭记在人民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《习字册》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课文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5:39:58Z</dcterms:created>
  <dc:creator>微软用户</dc:creator>
  <dc:description/>
  <dc:language>en-US</dc:language>
  <cp:lastModifiedBy>上海绿茶网络科技</cp:lastModifiedBy>
  <dcterms:modified xsi:type="dcterms:W3CDTF">2011-02-27T06:29:43Z</dcterms:modified>
  <cp:revision>39</cp:revision>
  <dc:subject/>
  <dc:title>幻灯片 1</dc:title>
</cp:coreProperties>
</file>