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whoosh.wav" ContentType="audio/x-wav"/>
  <Override PartName="/ppt/media/image10.jpeg" ContentType="image/jpeg"/>
  <Override PartName="/ppt/media/arrow.wav" ContentType="audio/x-wav"/>
  <Override PartName="/ppt/media/image13.jpeg" ContentType="image/jpeg"/>
  <Override PartName="/ppt/media/camera.wav" ContentType="audio/x-wav"/>
  <Override PartName="/ppt/media/explode.wav" ContentType="audio/x-wav"/>
  <Override PartName="/ppt/media/image16.jpeg" ContentType="image/jpeg"/>
  <Override PartName="/ppt/media/image15.jpeg" ContentType="image/jpeg"/>
  <Override PartName="/ppt/media/image14.gif" ContentType="image/gif"/>
  <Override PartName="/ppt/media/image12.png" ContentType="image/png"/>
  <Override PartName="/ppt/media/image11.gif" ContentType="image/gi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157-71F6-4764-9F9D-DC0F7C56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439-F6EF-400A-87E1-18EAE29F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0C854-3C1D-4155-9159-81B3F53D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8048C-0128-4BA9-94C2-FE74964D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89678-56F7-400D-A1EB-752DF089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38D98-6AC6-425C-9FC7-D8FB4032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7837C-E7F1-43C2-A1FB-1EC747F9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A6CA8-43B0-4F82-B087-D7B9046E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45282-1C39-4AD6-8D8E-EA8DBB8C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0A56B-9360-488C-9B4A-A4501D05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72E1F-70B7-4C1E-962C-C0A3FC5C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471D0-A964-43F0-83B1-283BB8B8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B6B-857A-40C9-9E0A-5B474E2E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BA550-54E8-4B15-A906-E3392969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2F672-07B1-40E5-AB5F-6883EB4F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B853A-294E-47E8-895D-38D6EA58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95982-C34C-431D-BAAB-A06BF57A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EB6FA-A68F-42A5-A4A2-E731DA34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AF253-395B-4731-97B3-F7C8FCD4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0271E-6520-44C5-ABFF-67F35885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E8A67-8DA0-437A-900C-C72B9B22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68FEE-D532-4885-A215-F5CA94E5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E833E-FC0E-4AE4-A510-52627D89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833-4BD0-4311-8087-3C57AF67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E0C9C-1713-404F-87D7-802F96AC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D5AF8-700B-4F16-A1BF-FF169D6C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DF24F-DC94-4A19-B7B4-9A6CDA4C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540C6-92B8-458F-9AD1-5E6CBE53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442C2-C7A4-47D4-94CB-A71DCABB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10D8E-2132-4078-A648-0F903FF6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BF289-96FD-4640-BAB8-9C9E82C6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79A6B-A561-4ABB-971A-C2162E0F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675D9-5EF7-45E5-8C51-99FEB83F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5C53C-2C65-41E1-845D-DD59BC60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2EDCF-C50E-4960-B4F2-2D4E7BD5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EA261-1C39-45B1-92A6-FBF30AD8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48835-9346-4162-9E7D-5748427A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F0C0C-BF53-432A-A3E4-87E94FF8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CE66F-087D-4F95-B2E6-DB136CD2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2E23E-19D1-4ED8-9280-A5DFB962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88A5F-B9BE-4717-845B-9403CB53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69A8F-5743-496B-AD31-27E2C3D4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AA4DE-8E5D-4140-A911-8E7395EE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80456-2F8E-4BBE-A8C7-815AD7EA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E21B4-0449-4057-A8F2-7AEA2F92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D608D-6078-4047-80CC-5D642303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030AB-4115-479E-8E52-C7AA06BD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C4E3A-8111-49E6-B72A-6CE99ED7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691BB-E8C8-4A51-BA5A-36F4A59A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811F4-3D67-4420-B7DB-7C6893E7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87376-F20A-434E-AC9D-D93E12C9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4249F-2519-4F76-82B6-5775C26C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BF411-BDB2-4758-961C-3891AD16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ABD05-A1DC-4A97-9FEF-067D9C20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F76C6-8E20-492D-8E25-AFCDACFA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4E19B-D475-46F3-A1ED-7DBE9435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BBD-9293-4553-8158-3C58AD65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34F3C-B309-40D0-BB6B-B1239E13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B872A-ECB8-4584-A263-0897C752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1417F-FD07-455D-8D53-51DEC84F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878F8-24D9-44DF-98AD-AB2FDB2B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B88E5-2E5A-4D6F-BB74-B7C1A737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BFA7-44A7-48AA-B9D9-5E2175CB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0B99-B26B-4425-B5F0-502D30AD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8112-B1BA-48D0-885B-6B181E52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3402-C3C3-438A-8266-107B955A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45182-01FB-4A01-837B-F00DE1F5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19E-68A9-4854-BB2B-244432BF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FA385-F681-4E27-AFD7-384252B6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27B9-B13F-4D1E-B8E9-5464562B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2145-37A0-44BC-9304-DB18ACB6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24D5-FC5E-4BB2-A2AB-603829ED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88A7F-8A2A-41CE-AB00-D0C56AFA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EEEE-FA6B-467A-8E1D-5F5B2E18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E6CCB-67BE-4C7C-965F-72544C7F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FE2C-8BD3-4FBB-B2C8-E5E41690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BEAF-EC32-42BA-A204-4AB261CA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AF54E-B380-4363-9BBE-E196B08C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CA5-7E15-4348-85EC-63278AF1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E312-353C-41A4-B347-C28E44B8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C85AF-1D7D-47EE-9178-FF3C4A2F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BC40-51B3-4D75-9A09-29E598D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E1964-2359-464D-AE5C-607D7FDA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C5140-36B6-41B1-A129-2824069F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ADB96-E614-421F-8DC6-4AEAF66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5A14A-7722-4882-A6CC-79FE1E2C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4CA44-017B-422B-95AA-0A9C4B8E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F936-9255-4C27-8B28-24B717A7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25E35-0EB1-43DB-A0B5-B542B19F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14F-A4CF-4EBA-BB82-BC8FB6B4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21C67-302E-4213-9834-D003480A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C04A-D955-499E-8009-30A83995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9071E-420C-4859-91BD-9A1A5648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464D6-B908-4B7C-889B-F0D4B351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7951A-A271-4DC5-BA29-E568317E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B392-3492-4A88-B72F-0243F11C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08234-19BD-4599-A911-329C6FE8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813D4-5901-475B-92FD-63688E45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8E3E0-A7EB-4E68-972C-50BC0582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70A2B-1297-4904-9FB3-53BD16AE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B0A-3353-4E6D-8AC6-C221F852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15CD7-FD77-4A8E-B030-E68A9808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7889C-C804-457D-92D2-D26BBFC5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0D8B4-08FE-4161-A205-56C8DA8C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3B3AC-270F-4D8B-99E3-5B392587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D8B93-7D1B-4716-82D2-1A303305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1E7FD-B5E6-479B-A9CE-B89415CE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3C948-DD77-49E9-8015-B3979AEA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22351-F318-4CED-A73C-58A65856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DB335-CF24-494A-BC68-B7171F96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B7B34-74CF-4EDE-9867-6B705CC3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4D3-B446-4890-B3A8-2FD480CE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B088E-6ADF-47BB-A688-E537A6B4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C1279-26A3-4AD1-9AF3-01CECBE9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A1639-5CBA-4D80-9CFA-09276D09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E99B1-209A-4C2E-A19D-3A6029A8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C367F-6A70-40AC-80B2-24BBDC05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6A224-06B4-4AA7-86EB-C5B50C38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FA236-0C1C-4696-B34E-E087D5B6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C0E35-7F1C-4DF6-9E55-F6F45D23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196FE-FCAA-42FD-BBA8-B11163F7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73C87-08F0-4A38-A7EA-C1E6A783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2EC-4E25-4519-BACF-2084CAF0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A857C-E7C2-408D-91D2-5C3195C8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E8CA9-2254-489F-81F8-D7D4B7D3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EC999-1819-4AA6-83BD-8822CB49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3EA71-5A39-4847-AFC8-3570A00B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D7CF0-B700-4987-A203-4393E5B0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60A9A-B0F2-40B5-8B83-A679823C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77C7D-DEE2-4233-9493-C1E93D75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039FF-9691-42E1-AB24-24C955FB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4705F-341A-4CC6-AF79-1FF5429E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2F15C-1816-42D3-9822-13CF8ADF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AF9-54C6-4419-B669-9CDDFF3A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A7DC8-0C5F-4325-A84B-B45C2B87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73816-DD1A-4A4D-A4B0-DCAB69F3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134C8-25D5-4731-A002-1CFFB0E3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6FA46-1C01-4742-9148-5B9BDC67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C9C7C-AE4A-4818-97B8-16679227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CEC0A-A21B-414E-87D2-EB4DE484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51CCA-5BAD-4D5A-A367-055BFAEE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333C8-9772-42AD-9ECB-2BCEF470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B5E49-5E9C-49CE-AEF7-C47C24B7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F0B60-3438-4A0F-A580-4B31FE54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C46E-AE7C-466E-83B6-BD6602B2FF8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52BF-E41E-4B34-BCDA-B707BC9750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DB81-8F07-4BB9-8878-C616135E09F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7CF8-5C80-4C84-B5C4-164D0BCFB99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DC42-BFA9-45EC-A539-4936D6137CA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41F6-CD8C-4A7B-B713-5264B77B24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9E9A-5588-47F0-A3D0-0F7D363BFA2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3C7D-015F-4806-A77B-149BE8547F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78BF-91B8-414D-99D4-C049AA0963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8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8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9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1A2A-BD78-4045-BC86-1FB707549FE8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6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6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7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9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6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6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7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4F6D-3AB9-4501-90C7-84723F90FDED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388F-F5ED-4743-8A2A-78FD4508B9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arrow.wav"/><Relationship Id="rId3" Type="http://schemas.openxmlformats.org/officeDocument/2006/relationships/audio" Target="../media/explode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52280" y="304920"/>
            <a:ext cx="2743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9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 rot="5400000">
            <a:off x="-1066680" y="2209680"/>
            <a:ext cx="525780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短歌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13" name=""/>
          <p:cNvSpPr/>
          <p:nvPr/>
        </p:nvSpPr>
        <p:spPr>
          <a:xfrm>
            <a:off x="2666880" y="4419720"/>
            <a:ext cx="106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曹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3886200" y="685800"/>
            <a:ext cx="4724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0" y="228600"/>
            <a:ext cx="9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黑体"/>
              </a:rPr>
              <a:t>本诗感情色彩最浓的是哪一个字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74720" y="3276720"/>
            <a:ext cx="329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慨当以慷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忧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思难忘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何以解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忧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，唯有杜康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忧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从中来，不可断绝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776360" y="1523880"/>
            <a:ext cx="10947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诗人为何忧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124080" y="1752480"/>
            <a:ext cx="1828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忧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52280" y="0"/>
            <a:ext cx="899172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对酒当歌，人生几何！譬如朝露，去日苦多。慨当以慷，忧思难忘。何以解忧？唯有杜康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青青子衿，悠悠我心。但为君故，沉吟至今。呦呦鹿鸣，食野之苹。我有嘉宾，鼓瑟吹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明明如月，何时可掇？忧从中来，不可断绝。越陌度阡，枉用相存。契阔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心念旧恩。  月明星稀，乌鹊南飞。绕树三匝，何枝可依？山不厌高 ，海不厌深。周公吐哺，天下归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343400" y="1295280"/>
            <a:ext cx="68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黑体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2362320" y="22860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短歌行（其一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6324480" y="609480"/>
            <a:ext cx="12193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曹操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2286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429000" y="3657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248520" y="49528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657600" y="6278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82080" cy="746748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第一层次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4419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对酒当歌，人生几何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譬如朝露，去日苦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慨当以慷，忧思难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何以解忧？唯有杜康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1371600"/>
            <a:ext cx="41911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朝露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比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光阴易逝，人生苦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达了作者对人生短促的感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334120" y="4038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杜康——酒（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借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50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50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500"/>
                                        <p:tgtEl>
                                          <p:spTgt spid="8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990720" y="228600"/>
            <a:ext cx="2666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第二层次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09480" y="1523880"/>
            <a:ext cx="3962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青青子衿，悠悠我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但为君故，沉吟至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呦呦鹿鸣，食野之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有嘉宾，鼓瑟吹笙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724280" y="914400"/>
            <a:ext cx="40388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青青子衿，悠悠我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青青子衿，悠悠我心。纵我不往，子宁不嗣音？（《诗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郑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子衿》）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呦呦鹿鸣，食野之苹。我有嘉宾，鼓瑟吹笙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《诗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鹿鸣》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257800" y="49528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手法：引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990720" y="228600"/>
            <a:ext cx="2666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第三层次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3520" y="1523880"/>
            <a:ext cx="45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宋体"/>
              </a:rPr>
              <a:t>明明如月，何时可掇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宋体"/>
              </a:rPr>
              <a:t>忧从中来，不可断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宋体"/>
              </a:rPr>
              <a:t>越陌度阡，枉用相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宋体"/>
              </a:rPr>
              <a:t>契阔谈</a:t>
            </a:r>
            <a:r>
              <a:rPr b="1" lang="zh-CN" sz="3200" spc="-1" strike="noStrike">
                <a:solidFill>
                  <a:srgbClr val="3366cc"/>
                </a:solidFill>
                <a:latin typeface="宋体"/>
              </a:rPr>
              <a:t>，心念旧恩</a:t>
            </a:r>
            <a:r>
              <a:rPr b="0" lang="zh-CN" sz="3200" spc="-1" strike="noStrike">
                <a:solidFill>
                  <a:srgbClr val="3366cc"/>
                </a:solidFill>
                <a:latin typeface="Arial"/>
                <a:ea typeface="PMingLiU"/>
              </a:rPr>
              <a:t>。</a:t>
            </a:r>
            <a:r>
              <a:rPr b="0" lang="zh-CN" sz="3200" spc="-1" strike="noStrike">
                <a:solidFill>
                  <a:srgbClr val="3366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572000" y="990720"/>
            <a:ext cx="4191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明明如月，何时可掇”</a:t>
            </a:r>
            <a:r>
              <a:rPr b="0" lang="zh-CN" sz="3200" spc="-1" strike="noStrike">
                <a:solidFill>
                  <a:srgbClr val="060656"/>
                </a:solidFill>
                <a:latin typeface="Arial"/>
              </a:rPr>
              <a:t>比喻人才难得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0656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60656"/>
                </a:solidFill>
                <a:latin typeface="Arial"/>
              </a:rPr>
              <a:t>这里写求贤不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724280" y="3048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想象和大家一起畅谈的情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495680" y="43434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66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Arial"/>
              </a:rPr>
              <a:t>贤才不得的惆怅与畅饮的欢快正反对照，忧喜交织，写出求贤心情，以及对贤才的礼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380880" y="1295280"/>
            <a:ext cx="4496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PMingLiU"/>
              </a:rPr>
              <a:t>月明星稀，乌鹊南飞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PMingLiU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PMingLiU"/>
              </a:rPr>
              <a:t>绕树三匝，何枝可依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PMingLiU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PMingLiU"/>
              </a:rPr>
              <a:t>山不厌高，海不厌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  <a:ea typeface="PMingLiU"/>
              </a:rPr>
              <a:t>周公吐哺，天下归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28600" y="0"/>
            <a:ext cx="2666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第四层次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419720" y="1219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乌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比喻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贤才，暗喻人才南流。（焦急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419720" y="4267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作者以周公自比，表达求贤之诚恳，要统一天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495680" y="205740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人才无所依托（惋惜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191120" y="2666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借用《管子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形势解》之语。暗喻曹操自己像山一表明要宽宏大量，广纳人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8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52280" y="0"/>
            <a:ext cx="899172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对酒当歌，人生几何！譬如朝露，去日苦多。慨当以慷，忧思难忘。何以解忧？唯有杜康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青青子衿，悠悠我心。但为君故，沉吟至今。呦呦鹿鸣，食野之苹。我有嘉宾，鼓瑟吹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明明如月，何时可掇？忧从中来，不可断绝。越陌度阡，枉用相存。契阔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心念旧恩。  月明星稀，乌鹊南飞。绕树三匝，何枝可依？山不厌高 ，海不厌深。周公吐哺，天下归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2362320" y="22860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短歌行（其一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6324480" y="609480"/>
            <a:ext cx="12193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曹操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15760" y="685800"/>
            <a:ext cx="331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463416"/>
                </a:solidFill>
                <a:uFillTx/>
                <a:latin typeface="Arial"/>
              </a:rPr>
              <a:t>devil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191120" y="8380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99"/>
                </a:solidFill>
                <a:latin typeface="Arial"/>
              </a:rPr>
              <a:t>恶魔、恶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21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peak of the devil and he will co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33520" y="3276720"/>
            <a:ext cx="807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翻译：说曹操，曹操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228600" y="380952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他在北方屯田，兴修水利；用人唯才，加强集权，所统治的地区社会经济得到恢复和发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019920" y="281952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85800" y="388620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政治家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3" name=""/>
          <p:cNvSpPr/>
          <p:nvPr/>
        </p:nvSpPr>
        <p:spPr>
          <a:xfrm>
            <a:off x="4876920" y="91440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dc5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曹操，字孟德，小字阿瞒，沛国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今安徽亳州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军事家：讨董卓，击灭袁术、袁绍，统一北方形成与吴、蜀鼎立的局面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76320" y="1757520"/>
            <a:ext cx="906768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：建安风骨的领袖，与其子曹植、曹丕合称“三曹”。曹操诗歌现存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余首，大致分为两类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有的反映当时社会动乱，军阀混战给人民带来的灾难。如《蒿里行》：“白骨露于野，千里无鸡鸣。生民百遗一，念之断人肠。”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有的抒发个人的政治理想和抱负。如《步出夏门行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龟虽寿》：“老骥伏枥，志在千里；烈士暮年，壮心不已。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2120" y="6094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文学家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《短歌行》是汉乐府曲调名，“长歌”、“短歌”是指歌词音节的长短而言。 短歌行以汉乐府旧题来写时事。  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66680" y="457200"/>
            <a:ext cx="4191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短歌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1680" cy="685800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1313280" y="1600200"/>
            <a:ext cx="66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001"/>
              </a:spcBef>
              <a:buClr>
                <a:srgbClr val="66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思考问题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819520" y="1752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66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全诗的感情基调是怎样的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2971800" y="335268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慷慨悲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52280" y="0"/>
            <a:ext cx="899172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对酒当歌，人生几何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譬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如朝露，去日苦多。慨当以慷，忧思难忘。何以解忧？唯有杜康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青青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衿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悠悠我心。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君故，沉吟至今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呦呦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鹿鸣，食野之苹。我有嘉宾，鼓瑟吹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明明如月，何时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掇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？忧从中来，不可断绝。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陌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度阡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枉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用相存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契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阔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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心念旧恩。  月明星稀，乌鹊南飞。绕树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何枝可依？山不厌高 ，海不厌深。周公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天下归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3434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黑体"/>
              </a:rPr>
              <a:t>p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72400" y="20574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黑体"/>
              </a:rPr>
              <a:t>j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05120" y="26668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黑体"/>
              </a:rPr>
              <a:t>wè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257800" y="2743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黑体"/>
              </a:rPr>
              <a:t>yō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077320" y="39625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黑体"/>
              </a:rPr>
              <a:t>m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505320" y="39625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黑体"/>
              </a:rPr>
              <a:t>du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ō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黑体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666880" y="46483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黑体"/>
              </a:rPr>
              <a:t>q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666880" y="53341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黑体"/>
              </a:rPr>
              <a:t>z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219320" y="60199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黑体"/>
              </a:rPr>
              <a:t>b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83808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cc00"/>
                </a:solidFill>
                <a:latin typeface="Arial"/>
              </a:rPr>
              <a:t>wǎ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2362320" y="22860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短歌行（其一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6324480" y="609480"/>
            <a:ext cx="12193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曹操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5" name=""/>
          <p:cNvSpPr/>
          <p:nvPr/>
        </p:nvSpPr>
        <p:spPr>
          <a:xfrm>
            <a:off x="3733920" y="4648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yà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2-14T02:31:4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