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4A7-C53E-499D-8321-1D6A629E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822-E25E-48D4-BDFE-28097ACE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C29-6B07-496C-A83A-2AE65B6C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0D8-E79A-4ECA-8338-F36999C1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C87F-A3DE-4C69-889F-D3EC9C4B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4627-35BB-49E7-948A-38255979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E11F-D3BF-46B2-BB10-A30C7EC6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B7A3-F4AD-4BFE-811E-061DB457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7876-086A-4E4C-87EB-ECACCD60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BA72-744E-421E-8E30-E3919ED2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838C-252F-464D-B9F4-1BC8E74E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738-A7D0-4DAC-80A3-8D5E8FCD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8792-2913-4885-9472-7FA30711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EF2C-D767-4B08-B37D-89DFB6FA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C204-CBA2-42F4-970A-3F2D1067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5DDC-7CE3-41C4-A6F1-9BBF767D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1608-4421-40C4-BB44-0464AEDD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12D05-6288-4743-B553-3F21AB75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9F20F-D4AF-4111-8321-88B63D54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A1A53-7C1A-4338-8613-4BFCAEEE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574E6-617D-444B-8C1A-B30F497D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F23B3-A003-4F30-8E45-6B904D93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082-C84E-4FCA-ACDE-C2137A19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96210-A681-4A96-A9AA-37F3EF42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45E64-1A56-400D-80E3-8E5AE61A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AB7EC-1C53-4876-ACB1-0BB602C7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6EB17-F396-43C8-AC01-D206E048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2A3D1-7F89-4466-BA93-68BB4AED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10FF8-2ECA-4682-90E3-BBB6D492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1F91B-C3EB-411A-B0EB-FDC9AE79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9541F-CCF9-444E-99D6-2E2B2694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3C11C-5486-4C57-9D26-B939B250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29362-926A-413E-BAE2-F33E520F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953-4F29-4365-B4C5-FE5A29B3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CC1DE-424A-4938-BB8C-8B0F7041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375FC-F3EE-4985-A133-F96D594A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49925-763D-4BF0-B15F-7CB2FE30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F334F-D5F2-4CD9-A087-90F880BB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A3A8A-2EAE-4F17-B376-233522F1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81A5E-0935-45A2-8288-69A80A3E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347D9-8069-45EB-89B5-99CF1B2B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FDF45-91BB-4018-B72F-7F977D1A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2AF8A-BF2F-4177-B33B-E3219ED2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AFC-FC44-40EF-BA56-66692382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AB2-800A-484A-9E30-D7476049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6AF-3BB2-4103-A548-AB09D74F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258-FFD8-40AC-837F-CC0FE3BA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928-81ED-47DA-A509-99A49B74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A70B-398A-4734-8CE1-27D45547F1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7683-4AA7-416F-AD64-3BF4318DAF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A58A-5D3E-4CAA-9181-C55884F8C4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42A6-46AE-42AB-BFC2-BCD86DD1B43C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8.jpeg"/><Relationship Id="rId4" Type="http://schemas.openxmlformats.org/officeDocument/2006/relationships/slide" Target="slide3.xm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-757080" y="-325440"/>
            <a:ext cx="10264680" cy="7183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-280080" y="0"/>
            <a:ext cx="18262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短歌行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迷你简启体"/>
              </a:rPr>
              <a:t> 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48160" y="1844640"/>
            <a:ext cx="11552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曹 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353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青青子衿，悠悠我心。但为君故，沉吟至今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呦呦鹿鸣，食野之苹。我有嘉宾，鼓瑟吹笙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明明如月，何时可掇？忧从中来，不可断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越陌度阡，枉用相存。契阔谈宴，心念旧恩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716280"/>
            <a:ext cx="3765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3500280"/>
            <a:ext cx="777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起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又称“兴” ，先说其他事物，再说要说的事物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52240" y="765000"/>
            <a:ext cx="859140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明星稀，乌鹊南飞。绕树三匝，何枝可依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不厌高，水不厌深。周公吐哺，天下归心。</a:t>
            </a:r>
            <a:br>
              <a:rPr sz="3200"/>
            </a:b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285264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迷你简启体"/>
              </a:rPr>
              <a:t>★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诗的最后一句借用周公吐哺的典故意在说明什么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3789360"/>
            <a:ext cx="756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这是诗人发出的召唤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天下的贤才们都到我这里来吧，让我们一起建功立业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3360" y="69192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短歌行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曹操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对酒当歌，人生几何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朝露，去日苦多。     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慨当以慷，忧思难忘。何以解忧？唯有杜康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青青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悠悠我心。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君故，沉吟至今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呦鹿鸣，食野之苹。我有嘉宾，鼓瑟吹笙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明明如月，何时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？忧从中来，不可断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度阡，枉用相存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阔谈宴，心念旧恩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月明星稀，乌鹊南飞。绕树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何枝可依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山不厌高，水不厌深。周公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天下归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卑鄙的圣人"/>
          <p:cNvPicPr/>
          <p:nvPr/>
        </p:nvPicPr>
        <p:blipFill>
          <a:blip r:embed="rId2"/>
          <a:stretch/>
        </p:blipFill>
        <p:spPr>
          <a:xfrm>
            <a:off x="1440" y="0"/>
            <a:ext cx="4643640" cy="6842160"/>
          </a:xfrm>
          <a:prstGeom prst="rect">
            <a:avLst/>
          </a:prstGeom>
          <a:ln w="0">
            <a:noFill/>
          </a:ln>
        </p:spPr>
      </p:pic>
      <p:pic>
        <p:nvPicPr>
          <p:cNvPr id="209" name="WordArt 3" descr=""/>
          <p:cNvPicPr/>
          <p:nvPr/>
        </p:nvPicPr>
        <p:blipFill>
          <a:blip r:embed="rId3"/>
          <a:stretch/>
        </p:blipFill>
        <p:spPr>
          <a:xfrm>
            <a:off x="6516720" y="549360"/>
            <a:ext cx="94464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26560" y="1125000"/>
            <a:ext cx="88203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治世之能臣，乱世之奸雄。”     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许劭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抑可谓非常之人，超世之杰矣。”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陈寿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《三国志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历观古今书籍所载，贪残虐烈无道之臣，于操为甚。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     ——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裴松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三国志（注）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曹操之所以任天下之智力，术也，非道也。”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              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王夫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读通鉴论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》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危制变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料敌设奇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将之智有馀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乘之才不足。”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</a:t>
            </a:r>
            <a:r>
              <a:rPr b="0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唐太宗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资治通鉴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司马光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曹操是一个有本事的人，至少是一位英雄。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                      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鲁迅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而已集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拓展延伸</a:t>
            </a:r>
            <a:br>
              <a:rPr sz="4000"/>
            </a:b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说曹操曹操就到”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英语里是这样翻译的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“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peak of the devil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nd he appears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“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evil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=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魔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魔鬼成了曹操的代名词。无独有偶，在中国的戏剧、文学的舞台上曹操也经常以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奸诈多疑、自私凶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形象出现，结合所了解的知识，讨论为什么会是这样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859280" y="260280"/>
            <a:ext cx="129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4" name=""/>
          <p:cNvSpPr/>
          <p:nvPr/>
        </p:nvSpPr>
        <p:spPr>
          <a:xfrm>
            <a:off x="5080680" y="1052640"/>
            <a:ext cx="789840" cy="65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迷你简启体"/>
              </a:rPr>
              <a:t>背诵并默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迷你简启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迷你简启体"/>
              </a:rPr>
              <a:t>短歌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迷你简启体"/>
              </a:rPr>
              <a:t>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66080" y="2951280"/>
            <a:ext cx="4888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72880" y="4005360"/>
            <a:ext cx="1155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谢谢大家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826920" y="692280"/>
            <a:ext cx="3980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caocao"/>
          <p:cNvPicPr/>
          <p:nvPr/>
        </p:nvPicPr>
        <p:blipFill>
          <a:blip r:embed="rId2"/>
          <a:srcRect l="0" t="22234" r="0" b="0"/>
          <a:stretch/>
        </p:blipFill>
        <p:spPr>
          <a:xfrm>
            <a:off x="468360" y="981000"/>
            <a:ext cx="3959280" cy="4799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00720" y="90792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迷你简启体"/>
              </a:rPr>
              <a:t>          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曹操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1700280"/>
            <a:ext cx="4465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迷你简启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曹操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5—2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字孟德，小名阿瞒，沛国谯郡（今安徽亳州）人，东汉末年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政治家、军事家、文学家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“外定武功，内兴文学”；统一中国北方；他知人善察，唯才是举；也是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建安文学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开创者和组织者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解  题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685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短歌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汉乐府的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曲调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“长歌”、“短歌”是依照歌词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音调的长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言。一般说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歌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比较热烈奔放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短歌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比较短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适于抒发内心的忧愁和苦闷。诗句都是四字句，就称之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短歌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是古代诗歌的一种文学体裁。除了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还有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歌、吟、引、曲、谣、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都是诗歌的体裁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创作背景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92000" y="1413000"/>
            <a:ext cx="532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建安十三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曹操率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大军南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阵长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欲一举荡平孙刘势力。大战前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宴文武百官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至半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忽闻乌鹊往南飞鸣而去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曹操感此景而持槊赋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短歌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此诗格调高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情丰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诗人内心世界的真实写照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309564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395280" y="333360"/>
            <a:ext cx="8352000" cy="60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短歌行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曹操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酒当歌，人生几何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朝露，去日苦多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  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慨当以慷，忧思难忘。何以解忧？唯有杜康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  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青子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悠悠我心。但为君故，沉吟至今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   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呦鹿鸣，食野之苹。我有嘉宾，鼓瑟吹笙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  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明如月，何时可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忧从中来，不可断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  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度阡，枉用相存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阔谈宴，心念旧恩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  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明星稀，乌鹊南飞。绕树三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何枝可依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不厌高，水不厌深。周公吐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天下归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643280" y="1052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ì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050920" y="2276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jī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900000" y="29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迷你简启体"/>
              </a:rPr>
              <a:t>ōu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403280" y="4221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mò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635280" y="3645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启体"/>
              </a:rPr>
              <a:t> 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迷你简启体"/>
              </a:rPr>
              <a:t>c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迷你简启体"/>
              </a:rPr>
              <a:t>hu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迷你简启体"/>
              </a:rPr>
              <a:t>ò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4716360" y="4221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qì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724360" y="4869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z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迷你简启体"/>
              </a:rPr>
              <a:t>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5796000" y="558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迷你简启体"/>
              </a:rPr>
              <a:t>ǔ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600200" y="4516200"/>
            <a:ext cx="5819760" cy="177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900000" y="530064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348000" y="1989000"/>
            <a:ext cx="2757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忧</a:t>
            </a:r>
            <a:endParaRPr b="0" lang="en-US" sz="189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9" name="Picture 5" descr="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81920" y="46080"/>
            <a:ext cx="1162080" cy="1800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162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476360" y="1557000"/>
            <a:ext cx="590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慨当以慷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忧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思难忘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何以解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忧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？唯有杜康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忧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从中来，不可断绝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85406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对酒当歌，人生几何？譬如朝露，去日苦多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慨当以慷，忧思难忘。何以解忧？唯有杜康。</a:t>
            </a:r>
            <a:br>
              <a:rPr sz="3200"/>
            </a:b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2997360"/>
            <a:ext cx="65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2997360"/>
            <a:ext cx="69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反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表达了对人生的思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357336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比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抒发了对年华易逝的感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4149720"/>
            <a:ext cx="640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设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自问自答，突出心中的苦闷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30400" y="5075280"/>
            <a:ext cx="4809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472428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借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形象突出引人联想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曹操的情绪是不是消极、低沉的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916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李    白 “人生得意须尽欢，莫使金樽空对月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辛弃疾 “了却君王天下事，赢得生前身后名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曹    操 “老骥伏枥，志在千里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烈士暮年，壮心不已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00:30:45Z</dcterms:created>
  <dc:creator>User</dc:creator>
  <dc:description/>
  <cp:keywords/>
  <dc:language>en-US</dc:language>
  <cp:lastModifiedBy>微软中国</cp:lastModifiedBy>
  <cp:lastPrinted>1899-12-30T00:00:00Z</cp:lastPrinted>
  <dcterms:modified xsi:type="dcterms:W3CDTF">2014-08-14T03:19:34Z</dcterms:modified>
  <cp:revision>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