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89B-2D3A-4C0C-B561-EDBDF6F0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734-4E90-4326-A05C-2AE3363B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701-1202-40AE-9A42-3A0FDFF2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022-77BD-44D8-8963-D9DC090A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D605-B0CF-40FA-ABED-FBB04822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BC1D-F6BF-44FB-8B0B-6F82B8B0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55FC-8970-475F-8169-CD505A6C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4A65-CE16-4D83-8395-37BB7481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6C30-F3FE-4DA5-A132-2E4A1725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C966-BF70-4287-8A62-BF5FABFE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DF35-E575-4FA0-8AF6-E4A4AF1D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D60-0FB9-40B8-B0E9-C93F271E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82E2-9955-4B36-8098-0C599807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0BF9-1715-4549-8740-0B05BAE8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1888-B71B-47DD-B97B-D9FCDC24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D330-43B5-4D02-B994-24FD37BF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6E72-B645-4616-BAC1-FAE836AF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031A-924F-475A-8359-A190B9F4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1668-EB93-42C4-8941-4EE09055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252BD-E4DF-4737-8779-83C3E011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5FE2-204F-4057-81F3-B66D9F02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EA3A-B373-420C-93B8-C2061421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691-B2ED-45C2-B654-59D73A35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BBF8A-95A7-4BED-B358-62727608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8E09A-C61D-4B50-9009-69E2CFFD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C542D-2586-44D9-8F9A-719A3A72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C724-BD53-4758-A8BC-BF4E40BD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1347D-CE89-421E-B518-E46E52EC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E4AA-1588-45BA-870D-E33F5111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05EF5-FB25-4A9E-81F4-84A4CB9D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57FCF-270F-4EAA-8882-38524E47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8E24-57B4-40D1-813A-30737226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C877-756F-4F94-A3E6-D12E6B98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17F-0A8C-4BD4-9A62-6EAF59D0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9007D-2BE6-4A75-B745-F75E7210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4DDFE-663F-47A1-8F16-51806814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9F85E-CF22-48D8-B6EF-E3E6A79A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82925-E5A4-4848-82E2-59F760ED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94E8-5828-49A6-AC5D-48971025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A98FD-1C32-4C14-8F9A-A7EE700E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79FE0-CA30-4F9C-9B3C-40BA7F6A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50F0-BA02-4147-B504-09CFECE9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61EA-35D6-4190-BBB4-607AF18A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BBF88-C6C3-4D6F-B881-9625BF6B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7FE-6DD1-4AC6-9E49-8BDD6110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20840-A954-4D7C-94BD-9FB9D92B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1AED9-7ACC-4FCF-8C51-E989BBCE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4ED6D-ADDD-4836-BAEA-3FEAB7CF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C5EC9-3030-4CA5-A0DB-9FF34F7F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37376-F1D0-4A9C-9F7A-3B67B89C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764F-BC86-4B42-BAB2-310A4F71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D488C-6863-4DA0-BBC5-0EEC24F2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EA75-0E1D-4C34-8F69-4C987F58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FF9B1-6AD7-489F-94CB-51D8933E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60A70-AA69-4C80-B541-97DF535C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251-3201-4F79-984F-060F3033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D1331-CA10-4318-93D7-BC21B501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560-632E-4951-9C12-C7D49F03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D99-6A27-4986-8D81-12AD2106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1DE-886B-42B3-A737-AFFB6602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7360" y="274320"/>
            <a:ext cx="70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47360" y="1600200"/>
            <a:ext cx="70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473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99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62720" y="6244920"/>
            <a:ext cx="1324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FA8D-9E08-446A-9696-6F721971438F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800000"/>
                </a:solidFill>
                <a:latin typeface="Times New Roman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800000"/>
                </a:solidFill>
                <a:latin typeface="Times New Roman"/>
                <a:ea typeface="MS P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8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AF86-D64F-4B9A-8CA4-05B1BF29485E}" type="slidenum">
              <a:rPr b="0" lang="ja-JP" sz="1400" spc="-1" strike="noStrike">
                <a:solidFill>
                  <a:srgbClr val="8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EA37-DFE5-48F7-8327-F8453C07CB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0AC6-81B5-4720-A802-AA36323F83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74E4-C54F-431E-A2F7-8E7406513C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96000" y="6381720"/>
            <a:ext cx="698400" cy="476280"/>
          </a:xfrm>
          <a:prstGeom prst="ellipse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32720" y="6381720"/>
            <a:ext cx="611280" cy="476280"/>
          </a:xfrm>
          <a:prstGeom prst="ellipse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3"/>
          <p:cNvSpPr txBox="1"/>
          <p:nvPr/>
        </p:nvSpPr>
        <p:spPr>
          <a:xfrm>
            <a:off x="395280" y="333360"/>
            <a:ext cx="4176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个性解读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56536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你</a:t>
            </a:r>
            <a:r>
              <a:rPr b="1" lang="zh-CN" sz="7200" spc="-1" strike="noStrike">
                <a:solidFill>
                  <a:srgbClr val="800000"/>
                </a:solidFill>
                <a:latin typeface="Arial"/>
                <a:ea typeface="黑体"/>
              </a:rPr>
              <a:t>读出</a:t>
            </a: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了怎样的曹操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1" descr=""/>
          <p:cNvPicPr/>
          <p:nvPr/>
        </p:nvPicPr>
        <p:blipFill>
          <a:blip r:embed="rId2"/>
          <a:stretch/>
        </p:blipFill>
        <p:spPr>
          <a:xfrm>
            <a:off x="0" y="-74520"/>
            <a:ext cx="9253440" cy="6932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华文新魏"/>
              </a:rPr>
              <a:t>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华文新魏"/>
              </a:rPr>
              <a:t>曹操面对人生苦短，虽“忧”却只争朝夕，为实现自己的志向而不断努力。那么正值青春年少的你们，</a:t>
            </a:r>
            <a:r>
              <a:rPr b="1" lang="zh-CN" sz="6600" spc="-1" strike="noStrike">
                <a:solidFill>
                  <a:srgbClr val="800000"/>
                </a:solidFill>
                <a:latin typeface="Arial"/>
                <a:ea typeface="华文新魏"/>
              </a:rPr>
              <a:t>怎样让我们的生命更有意义些呢？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拓展延伸：古今同“忧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253440" cy="6940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</a:rPr>
              <a:t>人生“三字”经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7058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0033cc"/>
                </a:solidFill>
                <a:latin typeface="Arial"/>
              </a:rPr>
              <a:t>实：充实、实在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62400" y="2565360"/>
            <a:ext cx="59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达：通达、达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62400" y="3789360"/>
            <a:ext cx="59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趣：趣味、情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274320"/>
            <a:ext cx="461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研究性探讨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197000"/>
            <a:ext cx="9144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在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三国演义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和戏剧舞台里曹操的性格特征是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阴险、奸诈、残暴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。这和曹操在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短歌行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等诗句中透露出的情操是否有极大的反差。形成差异的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原因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132000" y="620640"/>
            <a:ext cx="58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华文行楷"/>
              </a:rPr>
              <a:t>政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华文行楷"/>
              </a:rPr>
              <a:t>经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华文行楷"/>
              </a:rPr>
              <a:t>文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4076640"/>
            <a:ext cx="19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</a:rPr>
              <a:t>人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</a:rPr>
              <a:t>性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1052640"/>
            <a:ext cx="122400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褒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贬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0" y="404640"/>
            <a:ext cx="91440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行楷"/>
              </a:rPr>
              <a:t>人生不满百，常怀千岁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行楷"/>
              </a:rPr>
              <a:t>      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行楷"/>
              </a:rPr>
              <a:t>当站在历史的关口，每个人都会产生危机感和忧患意识，为自己的前途感到彷徨和苦闷。但我们不能因此沉湎其中，更要因忧患而迸发出巨大生命能量，在朗朗长空留下我们光辉灿烂的人生轨迹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5" descr=""/>
          <p:cNvPicPr/>
          <p:nvPr/>
        </p:nvPicPr>
        <p:blipFill>
          <a:blip r:embed="rId2"/>
          <a:stretch/>
        </p:blipFill>
        <p:spPr>
          <a:xfrm>
            <a:off x="-14400" y="-14400"/>
            <a:ext cx="9174240" cy="68882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028000" y="6375240"/>
            <a:ext cx="914400" cy="482760"/>
          </a:xfrm>
          <a:prstGeom prst="ellipse">
            <a:avLst/>
          </a:prstGeom>
          <a:solidFill>
            <a:srgbClr val="ccecff">
              <a:alpha val="44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21040" cy="4221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4869000"/>
            <a:ext cx="40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Arial"/>
                <a:ea typeface="MS PGothic"/>
              </a:rPr>
              <a:t>魏</a:t>
            </a:r>
            <a:r>
              <a:rPr b="1" lang="en-US" sz="5400" spc="-1" strike="noStrike">
                <a:solidFill>
                  <a:srgbClr val="cc6600"/>
                </a:solidFill>
                <a:latin typeface="Arial"/>
                <a:ea typeface="MS PGothic"/>
              </a:rPr>
              <a:t>·</a:t>
            </a:r>
            <a:r>
              <a:rPr b="1" lang="zh-CN" sz="5400" spc="-1" strike="noStrike">
                <a:solidFill>
                  <a:srgbClr val="cc6600"/>
                </a:solidFill>
                <a:latin typeface="Arial"/>
                <a:ea typeface="MS PGothic"/>
              </a:rPr>
              <a:t>曹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5516640"/>
            <a:ext cx="403380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文学成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08560" y="1577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360" y="0"/>
            <a:ext cx="6443640" cy="521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政治上最得意的一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军事上最成功的一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惨败的一仗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受肯定的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受指责的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受争议的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无争议的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20093241048305017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6137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572"/>
                </a:solidFill>
                <a:latin typeface="华文行楷"/>
                <a:ea typeface="华文行楷"/>
              </a:rPr>
              <a:t>短 歌 行</a:t>
            </a:r>
            <a:endParaRPr b="0" lang="en-US" sz="8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微软简行楷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33cc"/>
                </a:solidFill>
                <a:latin typeface="微软简行楷"/>
                <a:ea typeface="黑体"/>
              </a:rPr>
              <a:t>汉乐府曲调名，是用于宴会场合的歌辞；“长歌”、“短歌”是针对</a:t>
            </a:r>
            <a:r>
              <a:rPr b="1" lang="zh-CN" sz="6000" spc="-1" strike="noStrike">
                <a:solidFill>
                  <a:srgbClr val="de02c2"/>
                </a:solidFill>
                <a:latin typeface="微软简行楷"/>
                <a:ea typeface="黑体"/>
              </a:rPr>
              <a:t>歌词音节</a:t>
            </a:r>
            <a:r>
              <a:rPr b="1" lang="zh-CN" sz="4800" spc="-1" strike="noStrike">
                <a:solidFill>
                  <a:srgbClr val="0033cc"/>
                </a:solidFill>
                <a:latin typeface="微软简行楷"/>
                <a:ea typeface="黑体"/>
              </a:rPr>
              <a:t>的</a:t>
            </a:r>
            <a:r>
              <a:rPr b="1" lang="zh-CN" sz="6000" spc="-1" strike="noStrike">
                <a:solidFill>
                  <a:srgbClr val="de02c2"/>
                </a:solidFill>
                <a:latin typeface="微软简行楷"/>
                <a:ea typeface="黑体"/>
              </a:rPr>
              <a:t>长、短</a:t>
            </a:r>
            <a:r>
              <a:rPr b="1" lang="zh-CN" sz="4800" spc="-1" strike="noStrike">
                <a:solidFill>
                  <a:srgbClr val="0033cc"/>
                </a:solidFill>
                <a:latin typeface="微软简行楷"/>
                <a:ea typeface="黑体"/>
              </a:rPr>
              <a:t>而言的。 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53020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04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Arial"/>
                <a:ea typeface="华文楷体"/>
              </a:rPr>
              <a:t>全诗的感情基调是怎样的？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67640" y="5877000"/>
            <a:ext cx="914400" cy="431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95280" y="333360"/>
            <a:ext cx="525636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听朗读  思考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843280" y="2565360"/>
            <a:ext cx="431640" cy="934920"/>
          </a:xfrm>
          <a:prstGeom prst="upArrow">
            <a:avLst>
              <a:gd name="adj1" fmla="val 50000"/>
              <a:gd name="adj2" fmla="val 54149"/>
            </a:avLst>
          </a:prstGeom>
          <a:solidFill>
            <a:srgbClr val="ccecff">
              <a:alpha val="44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1341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Arial"/>
                <a:ea typeface="黑体"/>
              </a:rPr>
              <a:t>心绪忧伤，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意气激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25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对酒当歌，人生几何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譬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朝露，去日苦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25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慨当以慷，忧思难忘。何以解忧？惟有杜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25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青青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悠悠我心。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君故，沉吟至今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25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呦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鹿鸣，食野之苹。我有嘉宾，鼓瑟吹笙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25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明明如月，何时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掇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？忧从中来，不可断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25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度阡，枉用相存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阔谈宴，心念旧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25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月明星稀，乌鹊南飞。绕树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何枝可依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60640" indent="-260640">
              <a:lnSpc>
                <a:spcPct val="125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山不厌高，海不厌深。周公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天下归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5634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692280"/>
            <a:ext cx="40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  <a:ea typeface="宋体"/>
              </a:rPr>
              <a:t>p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75720" y="2133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宋体"/>
              </a:rPr>
              <a:t>j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60720" y="2133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宋体"/>
              </a:rPr>
              <a:t>wè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28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宋体"/>
              </a:rPr>
              <a:t>yō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24480" y="357336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宋体"/>
              </a:rPr>
              <a:t>du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1800" y="4221000"/>
            <a:ext cx="3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宋体"/>
              </a:rPr>
              <a:t>q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7080" y="4221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宋体"/>
              </a:rPr>
              <a:t>m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2436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宋体"/>
              </a:rPr>
              <a:t>z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5661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宋体"/>
              </a:rPr>
              <a:t>b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826920" y="189000"/>
            <a:ext cx="7947360" cy="6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3" action="ppaction://hlinksldjump"/>
              </a:rPr>
              <a:t>全班配乐朗读，感受作者的</a:t>
            </a:r>
            <a:r>
              <a:rPr b="1" lang="zh-CN" sz="3200" spc="-1" strike="noStrike" u="sng">
                <a:solidFill>
                  <a:srgbClr val="990099"/>
                </a:solidFill>
                <a:uFillTx/>
                <a:latin typeface="Arial"/>
              </a:rPr>
              <a:t>慷慨悲壮</a:t>
            </a:r>
            <a:r>
              <a:rPr b="0" lang="zh-CN" sz="3200" spc="-1" strike="noStrike">
                <a:solidFill>
                  <a:srgbClr val="9900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824400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1975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华文新魏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69992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</a:t>
            </a:r>
            <a:r>
              <a:rPr b="1" lang="zh-CN" sz="7200" spc="-1" strike="noStrike">
                <a:solidFill>
                  <a:srgbClr val="000099"/>
                </a:solidFill>
                <a:latin typeface="Arial"/>
                <a:ea typeface="华文行楷"/>
              </a:rPr>
              <a:t>你认为感情色彩最浓的是哪个字眼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250560" y="335772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品味语言：如何写</a:t>
            </a: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华文行楷"/>
              </a:rPr>
              <a:t>“忧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176560" y="673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404640"/>
            <a:ext cx="521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结合诗句，体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79280" y="2133720"/>
            <a:ext cx="8569440" cy="1224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知人论世：为何而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7200" spc="-1" strike="noStrike">
                <a:solidFill>
                  <a:srgbClr val="cc0000"/>
                </a:solidFill>
                <a:latin typeface="Arial"/>
                <a:ea typeface="华文行楷"/>
              </a:rPr>
              <a:t>忧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”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187280" y="5589720"/>
            <a:ext cx="352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组讨论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475920"/>
            <a:ext cx="464328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新魏"/>
              </a:rPr>
              <a:t>全诗的着眼点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新魏"/>
              </a:rPr>
              <a:t>全诗的落脚点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69992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708360" y="1341360"/>
            <a:ext cx="136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忧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419640" y="3645000"/>
            <a:ext cx="1368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志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0" name=""/>
          <p:cNvSpPr/>
          <p:nvPr/>
        </p:nvSpPr>
        <p:spPr>
          <a:xfrm>
            <a:off x="5003640" y="765000"/>
            <a:ext cx="279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</a:rPr>
              <a:t>时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</a:rPr>
              <a:t>人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</a:rPr>
              <a:t>功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76720" y="3789360"/>
            <a:ext cx="247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</a:rPr>
              <a:t>一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</a:rPr>
              <a:t>天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14280" y="404640"/>
            <a:ext cx="20091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低沉         昂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2360" y="2781360"/>
            <a:ext cx="0" cy="1366920"/>
          </a:xfrm>
          <a:prstGeom prst="line">
            <a:avLst/>
          </a:prstGeom>
          <a:ln w="181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50920" y="189000"/>
            <a:ext cx="37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思考下面两点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4:25:43Z</dcterms:created>
  <dc:creator>微软用户</dc:creator>
  <dc:description/>
  <dc:language>en-US</dc:language>
  <cp:lastModifiedBy>微软用户</cp:lastModifiedBy>
  <cp:lastPrinted>2012-12-23T11:05:33Z</cp:lastPrinted>
  <dcterms:modified xsi:type="dcterms:W3CDTF">2014-08-07T14:06:14Z</dcterms:modified>
  <cp:revision>1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