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  <p:custShowLst>
    <p:custShow name="自定义放映 1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EF7-A5E4-4D6F-89BE-65E67AE9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195-2B41-4D58-BF1E-49A3703C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B30C-322D-4247-89C0-DF270AE9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B1B5-233C-4FEB-BD78-679E4D4A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B723-82A0-4192-B86B-6A6665A4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B06-080D-432B-B11B-B63EF58D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0980-5048-4296-9D7B-7CF63086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A10-0977-4687-A9A5-AD6C7EE2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A86-0AEA-4594-8B03-1F8F3CAE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E7C0-2DE0-482F-88F8-36CFAF94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75C-36C2-4078-959A-59B6D140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A3B-49D4-47EA-B1E7-0131601B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43FF-2B93-423E-B5F4-D52C22408C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c.chinadownz.com/html/FengJin/cxqd/20050605234257(3)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ahangzhou.com/Pic/HtmlPage/2005-09-01/TT_1147_3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6840" y="533520"/>
            <a:ext cx="2009160" cy="556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东方风来满眼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62520" y="52783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广东惠阳高级中学　　　小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533520"/>
            <a:ext cx="77724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邓小平深圳谈话的意义何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提示：联系背景与歌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666880"/>
            <a:ext cx="662940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针对人们的疑惑，小平同志强调姓“社”不姓“资”。谈话涉及改革开放和社会主义建设的方向，道路，性质等问题，讲得深刻，精辟。坚定了人们的信心，进一步深化改革，使社会主义建设取得更加辉煌的成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600200" y="380880"/>
            <a:ext cx="54100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谈话”灵活地体现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小平同志的哪些性格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2514600"/>
            <a:ext cx="8534160" cy="228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信、坚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细致、认真、一丝不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思维敏捷、严密，高瞻远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2280" y="838080"/>
            <a:ext cx="8534520" cy="3750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扩展阅读：请同学们阅读教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　　５７－６０页，《真实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　　速地报道生活》一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通讯报道有何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此类文章应注意什么问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14600" y="191124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华文行楷"/>
              </a:rPr>
              <a:t>再　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0"/>
            <a:ext cx="419112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一九七九年那是一个春天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有一位老人在中国的南海边画了一个圈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神话般地崛起座座城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奇迹般聚起座座金山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春雷啊唤醒了长天内外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春辉啊暖透了大江两岸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啊，中国，中国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你迈开了气壮山河的新步伐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你迈开了气壮山河的新步伐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走进万象更新的春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75280" y="3276720"/>
            <a:ext cx="3867120" cy="3111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一九九二年又是一个春天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有一位老人在中国的南海边写下诗篇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天地间荡起滚滚春潮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征途上扬起浩浩风帆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春风啊吹绿了东方神州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春雨啊滋润了华夏故园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啊，中国，中国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你展开了一幅百年的新画卷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你展开了一幅百年的新画卷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捧出万紫千红的春天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啊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3160" y="3200400"/>
            <a:ext cx="200916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欣赏音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041560" y="152280"/>
            <a:ext cx="40100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背景介绍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209680"/>
            <a:ext cx="73915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中国１９７８年就已经开始实行经济改革政策，但直到上世纪９０年代初国内就这条路线是否正确仍存在争论。邓小平９２年视察深圳等地，给中国经济改革计划以巨大推动，意义深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304920"/>
            <a:ext cx="312444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解题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733920"/>
            <a:ext cx="73152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文是一篇通讯报道，记邓小平同志１９９２年到深圳视察之事。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东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指中国，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指改革开放之风，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满眼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用比喻的修辞说明改革开放使中国大地生机勃勃，使中国特色的社会主义建设取得了伟大成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76520"/>
            <a:ext cx="7391160" cy="1373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东方风来满眼春”是唐代有“诗鬼”之称的诗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贺的诗句，表现了诗人对无限的春光的热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欢呼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79440" y="235080"/>
            <a:ext cx="542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作者简介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6002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陈锡添，中国人大新闻系业。当时，他是当地指派的唯一的文字记者，全程随同采访。１９９２年３月２６日发表了此文，曾引起强烈反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44560" y="53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84360" y="228600"/>
            <a:ext cx="56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重点字词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90512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葱笼　　踱步　　神采奕奕：形容焕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健康．　颁布　　俯瞰：从高处向下看．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李灏　　鳞次栉比：一行挨着一行，形容街道繁华．　侃侃而谈　　荟萃：集中在一起．　证券　　萦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228600"/>
            <a:ext cx="89154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本文是以什么为顺序，以什么为线索记叙邓小平同志的深圳考察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2514600"/>
            <a:ext cx="594360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以时间为顺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以行踪为线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90720" y="22860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理结构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2057400"/>
            <a:ext cx="655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请同学们认真阅读每个部分，梳理文章结构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提示：行踪　谈话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84360" y="228600"/>
            <a:ext cx="329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结构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447920"/>
            <a:ext cx="8991720" cy="3933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一．以“春”总领全文，介绍文章主题及意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二．参观深圳市容，讲话内容：特区姓“社”不姓资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三．参观国贸大厦，讲话内容：建设有中国特色的社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　　主义，一个中心，两个基本点，两手都要抓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四．参观华侨城，讲话内容：走社会主义道路就要逐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　　实现共同富裕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五．同省市负责人谈话：改革开放胆子要大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六．视察珠海特区，结束南巡．讲话内容：改革开放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　　怕犯错误，有错误及时改正，“要搞快点”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inK</cp:lastModifiedBy>
  <dcterms:modified xsi:type="dcterms:W3CDTF">2005-09-13T16:12:32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