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8.gif" ContentType="image/gif"/>
  <Override PartName="/ppt/media/image7.gif" ContentType="image/gif"/>
  <Override PartName="/ppt/media/image6.gif" ContentType="image/gif"/>
  <Override PartName="/ppt/media/image9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gif" ContentType="image/gif"/>
  <Override PartName="/ppt/media/image17.png" ContentType="image/png"/>
  <Override PartName="/ppt/media/image10.png" ContentType="image/png"/>
  <Override PartName="/ppt/media/image2.gif" ContentType="image/gif"/>
  <Override PartName="/ppt/media/image11.png" ContentType="image/png"/>
  <Override PartName="/ppt/media/image3.png" ContentType="image/png"/>
  <Override PartName="/ppt/media/image1.jpeg" ContentType="image/jpeg"/>
  <Override PartName="/ppt/media/image4.gif" ContentType="image/gif"/>
  <Override PartName="/ppt/media/image13.png" ContentType="image/png"/>
  <Override PartName="/ppt/media/image5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007B-E344-486C-A996-242DBCB50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E5CE-09EB-4FB2-A07F-894D73F25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3DEA-8960-4FDD-9F92-F2A25BBEB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A675-ECAE-4456-9133-6730AF7C0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8397-F4B6-42AF-A939-F4082A8A5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F053-3063-4042-9C24-528521018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C27E-E730-4CFB-932A-4D47832F0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ACA1-3D89-4877-B622-27740D5D2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0AE4-EDD5-44F6-AC61-35A1FF303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6A0A-4FBC-4AA3-ACDC-E3BD09A7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7FDB-A843-4A28-A361-F97CC2BA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12B7-23CC-4B4D-98F3-D3EAAB91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18EDF-CEA8-47F7-AF58-5DC0371173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导入新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836640"/>
            <a:ext cx="9144000" cy="60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灯笼，悬挂起来的或手提的照明用具。旧时没有电，灯笼是主要的照明用具。以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灯笼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为题，点明了文章的写作对象。同时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灯笼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也是文章的线索，全文是围绕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灯笼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来写的。</a:t>
            </a:r>
            <a:br>
              <a:rPr sz="40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1" descr="IMG_256"/>
          <p:cNvPicPr/>
          <p:nvPr/>
        </p:nvPicPr>
        <p:blipFill>
          <a:blip r:embed="rId1"/>
          <a:stretch/>
        </p:blipFill>
        <p:spPr>
          <a:xfrm>
            <a:off x="0" y="3963960"/>
            <a:ext cx="9144000" cy="29653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-12960" y="3240"/>
            <a:ext cx="9118440" cy="68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马前卒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mǎ   qián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zú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比喻没有目的地  为人奔走效劳的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人情世故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rén  qíng     shì   gù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指为人处世的方法、道理和经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甚了然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bú  shèn   liǎo   rán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太了解，不怎么清楚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幽悄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yōu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qiǎo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幽深寂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家来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jiā   lái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方言，即回家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垂珠联珑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huí   zhū  lián  l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óng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悬挂、装饰有连串珠玉宝石，形容宅第的奢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25560"/>
            <a:ext cx="8229600" cy="7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分析结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2240" y="972720"/>
            <a:ext cx="9132840" cy="58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一部分（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——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：总写喜爱灯笼的原因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二部分（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——1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：通过对灯笼的回忆、联想，表现了浓浓的爱国情怀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图片 66584" descr="t018f6a28ae7dca53b8"/>
          <p:cNvPicPr/>
          <p:nvPr/>
        </p:nvPicPr>
        <p:blipFill>
          <a:blip r:embed="rId1"/>
          <a:stretch/>
        </p:blipFill>
        <p:spPr>
          <a:xfrm>
            <a:off x="12600" y="4600440"/>
            <a:ext cx="9132840" cy="22194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0" y="816120"/>
            <a:ext cx="910584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文章为什么以“灯笼”为题？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“灯笼”是文本的线索，作者正是通过描写有关的灯笼的事件以表达自己的情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课文写的是什么时候的事？作者是从哪些角度来写灯笼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①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世纪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0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年代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②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是从文化和情感两个角度来写灯笼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1"/>
          <p:cNvSpPr/>
          <p:nvPr/>
        </p:nvSpPr>
        <p:spPr>
          <a:xfrm>
            <a:off x="2901960" y="0"/>
            <a:ext cx="347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整体感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图片 2" descr=""/>
          <p:cNvPicPr/>
          <p:nvPr/>
        </p:nvPicPr>
        <p:blipFill>
          <a:blip r:embed="rId1"/>
          <a:stretch/>
        </p:blipFill>
        <p:spPr>
          <a:xfrm>
            <a:off x="7581960" y="0"/>
            <a:ext cx="1523880" cy="14349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-12960" y="801720"/>
            <a:ext cx="9171000" cy="60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第一段叙写了小时候喜欢火、光的情景，请说说这样写的作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①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丰富了文章内容，增添了情趣，避免叙述的呆板和结构的单调，引起读者的阅读兴趣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②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引出下文，为下文叙述喜爱灯笼做铺垫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1"/>
          <p:cNvSpPr/>
          <p:nvPr/>
        </p:nvSpPr>
        <p:spPr>
          <a:xfrm>
            <a:off x="2759040" y="104760"/>
            <a:ext cx="3193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1"/>
          <p:cNvSpPr/>
          <p:nvPr/>
        </p:nvSpPr>
        <p:spPr>
          <a:xfrm>
            <a:off x="2511360" y="-63360"/>
            <a:ext cx="368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问题探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图片 2" descr=""/>
          <p:cNvPicPr/>
          <p:nvPr/>
        </p:nvPicPr>
        <p:blipFill>
          <a:blip r:embed="rId1"/>
          <a:stretch/>
        </p:blipFill>
        <p:spPr>
          <a:xfrm>
            <a:off x="4546440" y="5148360"/>
            <a:ext cx="4611960" cy="16970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-360" y="-9720"/>
            <a:ext cx="9131400" cy="68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第二自然段中哪些句子可以看 出“我”对灯笼的喜爱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连活活的太阳算着，一切亮光之中，我爱皎洁的月 华，如沸的繁星，同一支夜晚来挑着照路的灯笼。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强调了“我”对“灯笼”的情有独钟。（点题。过渡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1" descr=""/>
          <p:cNvPicPr/>
          <p:nvPr/>
        </p:nvPicPr>
        <p:blipFill>
          <a:blip r:embed="rId1"/>
          <a:stretch/>
        </p:blipFill>
        <p:spPr>
          <a:xfrm>
            <a:off x="0" y="4599000"/>
            <a:ext cx="913140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2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4040" y="-9720"/>
            <a:ext cx="9078840" cy="61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课文三至十自然段写 了关于灯笼的哪些事？为什么要回忆这几件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七件往事：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）挑着灯笼接祖父，听祖父讲进京赶考的掌故。 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）接过母亲递给的纱灯上下灯学； 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）乡俗还愿时，村口红灯高照； 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）跟着龙灯跑个半夜，伴着小灯入梦； 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）族姊远嫁，宅第红灯高挂； 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）在纱灯上描红； 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）想象宫灯的样子和宫灯下的景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原因：怀恋过往，表明灯笼对“我”的意义重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-12600" y="4680"/>
            <a:ext cx="9144000" cy="69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灯笼有着 怎样的意义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）祖孙情笃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）母子情深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）家乡人的淳朴、善良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我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与灯笼情缘深远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）灯笼记录着岁月的沧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）灯笼显示着主人的地位和权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） 对宫灯进行想象，体验深长的历史况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图片 1" descr=""/>
          <p:cNvPicPr/>
          <p:nvPr/>
        </p:nvPicPr>
        <p:blipFill>
          <a:blip r:embed="rId1"/>
          <a:stretch/>
        </p:blipFill>
        <p:spPr>
          <a:xfrm>
            <a:off x="6845400" y="4680"/>
            <a:ext cx="2286000" cy="34020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2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2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7800" y="-9360"/>
            <a:ext cx="9080280" cy="68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阅读第十一自然段，思考：对古时将军挑灯看剑的 描写有什么深刻意义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引述历史上保家卫国的名将，表达自己做“灯笼下的马前卒”的誓愿。从历史文化及个人情感上表达灯笼对 于“我”及整个民族的重要意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1" descr=""/>
          <p:cNvPicPr/>
          <p:nvPr/>
        </p:nvPicPr>
        <p:blipFill>
          <a:blip r:embed="rId1"/>
          <a:stretch/>
        </p:blipFill>
        <p:spPr>
          <a:xfrm>
            <a:off x="-65160" y="4586400"/>
            <a:ext cx="918360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0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语言品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-12600" y="673200"/>
            <a:ext cx="9131040" cy="61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垂珠联珑的朱门却早已褪色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表面写族姊家华贵朱门颜色变暗淡了，不再鲜艳了实际上写族姊家庭早已衰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雪夜入蔡，同胡人不敢南下牧马的故事是同日月一样亮起了人的耳目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李愬、蒙恬等昔日大将以智慧和勇气抗击敌寇，保家卫国，其英雄事迹与日月同辉，激励着后人，表达了作者对这些英雄的敬慕之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巩固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2600" y="723960"/>
            <a:ext cx="9105840" cy="62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结合全文，简析作者喜爱灯笼的原因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①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灯笼寄托着祖父、母亲等亲人的慈爱和牵挂，也寄 托着作者对亲人的感激之情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②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许多乡情民俗与灯笼结下太多的缘分，给作者留下 很多美好的回忆；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图片 66588" descr="t01b29c290af34b9bd0"/>
          <p:cNvPicPr/>
          <p:nvPr/>
        </p:nvPicPr>
        <p:blipFill>
          <a:blip r:embed="rId1"/>
          <a:stretch/>
        </p:blipFill>
        <p:spPr>
          <a:xfrm>
            <a:off x="12600" y="5727600"/>
            <a:ext cx="9105840" cy="11970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4040"/>
            <a:ext cx="822960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灯笼文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0" y="606600"/>
            <a:ext cx="9091440" cy="62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灯笼，又称灯彩，是一种古老的中国传统工艺品。起源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多年前的西汉时期，每年的农历正月十五元宵节前后，人们都挂起象征团圆意义的红灯笼，来营造一种喜庆的氛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后来灯笼就成了中国人喜庆的象征。经过历代灯彩艺人的继承和发展，形成了丰富多彩的品种和高超的工艺水平。从种类上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宫灯、纱灯、吊灯等等。从造型上分，有人物、山水、花鸟、龙凤、鱼虫等等，除此之外还有专供人们赏玩的走马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-12960" y="-22680"/>
            <a:ext cx="9156600" cy="69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③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灯笼能为夜行人指路，温暖他人；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④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记录、传承着家族历史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⑤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引发作者联想起古代将领挑灯看剑，抗击敌人的情景， 激发爱国热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图片 1" descr=""/>
          <p:cNvPicPr/>
          <p:nvPr/>
        </p:nvPicPr>
        <p:blipFill>
          <a:blip r:embed="rId1"/>
          <a:stretch/>
        </p:blipFill>
        <p:spPr>
          <a:xfrm>
            <a:off x="-12600" y="2901960"/>
            <a:ext cx="9156600" cy="40226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-25920" y="-9360"/>
            <a:ext cx="9117000" cy="68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 分析并评价文章结尾话所表现的作者的观点态度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①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赞颂古代将军塞外点兵，挑灯看剑，英勇杀敌的气概； 他们激发了自己的爱国情怀，作者热切希望冲上前线，奋 勇杀敌，打击日寇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②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同时也表达作者了对时局的担忧和对未来的期望。希望有更强大的力量，有更具凝聚力的精神，团结抗战，打败敌人，保卫好自己的家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960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主题思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5560" y="934560"/>
            <a:ext cx="9105840" cy="60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篇文章以散文自由的笔法，抒写了关于灯笼的一些记忆，从不同方面表达了灯笼对于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乃至全民族的重要意义，同时也表现了我与时代同呼吸、共命运的担当精神和爱国情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图片 1" descr=""/>
          <p:cNvPicPr/>
          <p:nvPr/>
        </p:nvPicPr>
        <p:blipFill>
          <a:blip r:embed="rId1"/>
          <a:stretch/>
        </p:blipFill>
        <p:spPr>
          <a:xfrm>
            <a:off x="25560" y="4206960"/>
            <a:ext cx="9105840" cy="27828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40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阅读感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-19080" y="893880"/>
            <a:ext cx="9182160" cy="62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《灯笼》的作者吴伯箫在回忆童年生活的篇章里，流露着爱国主义的情感。爱国主义是 对祖国的一种深厚感情，是一个民族的一种神 圣美好的心理情感，蕴藏于每个公民的感情世 界之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图片 1" descr=""/>
          <p:cNvPicPr/>
          <p:nvPr/>
        </p:nvPicPr>
        <p:blipFill>
          <a:blip r:embed="rId1"/>
          <a:stretch/>
        </p:blipFill>
        <p:spPr>
          <a:xfrm>
            <a:off x="-19080" y="4249800"/>
            <a:ext cx="9182160" cy="27306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-77760" y="-60480"/>
            <a:ext cx="9236160" cy="703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我们应该热爱养育自己成长的祖国山 河、文化、历史；关心祖国的前途和命运，把 个人的命运同祖国的命运紧密地联系在一起； 有强烈的民族自尊心和自豪感以及对祖国的无 限忠诚和为祖国的独立富强而英勇献身的精神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每个人都要做一个爱国的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图片 1" descr=""/>
          <p:cNvPicPr/>
          <p:nvPr/>
        </p:nvPicPr>
        <p:blipFill>
          <a:blip r:embed="rId1"/>
          <a:stretch/>
        </p:blipFill>
        <p:spPr>
          <a:xfrm>
            <a:off x="-77760" y="4406760"/>
            <a:ext cx="9236160" cy="24814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教学目标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5560" y="801360"/>
            <a:ext cx="9105840" cy="59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积累生字词，了解有关作者的文学常识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熟读课文，能概括文章的主要内容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理清文章的写作思路，理解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灯笼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所体现出的深刻的文化内涵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分析作者的情感变化，体会作者与时代同呼吸、共命运的担当精神和家国情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00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写作背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5560" y="607680"/>
            <a:ext cx="9092880" cy="63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本文写于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世纪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代中期，那是中华民族一个多灾多难的时代，作者以灯笼为题，从文化和情感两个方面表达了灯笼对于他乃至民族的重要意义，最后作者跳出了个人的情感圈子，升华为对家国情怀的表达，呈现了一个执着追求革命和艺术的知识分子与时代共命运，与人民同呼吸的内心世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35876" descr="t01111c265b0c57e2ae"/>
          <p:cNvPicPr/>
          <p:nvPr/>
        </p:nvPicPr>
        <p:blipFill>
          <a:blip r:embed="rId1"/>
          <a:stretch/>
        </p:blipFill>
        <p:spPr>
          <a:xfrm>
            <a:off x="-157320" y="5962680"/>
            <a:ext cx="9871200" cy="12222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65160" y="-38520"/>
            <a:ext cx="3740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作者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47760" y="-38520"/>
            <a:ext cx="6057720" cy="69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吴伯萧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906—198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原名熙成，笔名山屋、山荪，是我国当代著名文学家和教育家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90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日出生于山东省莱芜市吴花园村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93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投奔革命圣地延安，进入中国人民抗日军政大学学习，是抗战时期伟大的文学家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图片 4" descr=""/>
          <p:cNvPicPr/>
          <p:nvPr/>
        </p:nvPicPr>
        <p:blipFill>
          <a:blip r:embed="rId1"/>
          <a:stretch/>
        </p:blipFill>
        <p:spPr>
          <a:xfrm>
            <a:off x="12600" y="1035000"/>
            <a:ext cx="2832120" cy="58514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文体知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5200" y="698040"/>
            <a:ext cx="90658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散文是一种抒发作者真情实感，写作方法灵活的记叙类文学体裁。散文的最大特点是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形散神聚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形散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指题材广泛，写法多样，又指结构自由，不拘一格；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神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既指中心集中，又指有贯穿全文的线索。散文写人写事只是表面现象，从根本上说它写的是作者的情感体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图片 53265" descr="4"/>
          <p:cNvPicPr/>
          <p:nvPr/>
        </p:nvPicPr>
        <p:blipFill>
          <a:blip r:embed="rId1"/>
          <a:stretch/>
        </p:blipFill>
        <p:spPr>
          <a:xfrm>
            <a:off x="0" y="6254640"/>
            <a:ext cx="9144000" cy="6159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4040"/>
            <a:ext cx="8229600" cy="65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读准字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-52920" y="867960"/>
            <a:ext cx="9183960" cy="60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恐吓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hè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乡绅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hē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神龛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kān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争讼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ò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斡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wò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旋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xuán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锵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qiāng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怅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hàng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惘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wǎng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熙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xī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熙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犬吠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fèi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官衔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xi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á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褪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uì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色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hǎi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幽悄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qiǎ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静穆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mù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霍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huò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骠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iào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图片 73750" descr="t017ad25186a066ac2f"/>
          <p:cNvPicPr/>
          <p:nvPr/>
        </p:nvPicPr>
        <p:blipFill>
          <a:blip r:embed="rId1"/>
          <a:stretch/>
        </p:blipFill>
        <p:spPr>
          <a:xfrm>
            <a:off x="3878280" y="961920"/>
            <a:ext cx="857160" cy="16560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000"/>
            <a:ext cx="822960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学习词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-27000" y="895320"/>
            <a:ext cx="9158400" cy="59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争讼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zhēng   sòng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因争论而诉讼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领域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lǐng    yù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从事一种专业活动或事业  的范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斡旋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wò   xuán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调节周旋。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静穆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jìng    mù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安静而严肃。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思慕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ī    mù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怀念，追慕。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怅惘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hàng   wǎng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因失意而心事重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图片 73742" descr="t01c1e58abfde53607b"/>
          <p:cNvPicPr/>
          <p:nvPr/>
        </p:nvPicPr>
        <p:blipFill>
          <a:blip r:embed="rId1"/>
          <a:stretch/>
        </p:blipFill>
        <p:spPr>
          <a:xfrm>
            <a:off x="7378560" y="2865600"/>
            <a:ext cx="1952640" cy="18651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-25920" y="17280"/>
            <a:ext cx="9131400" cy="68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锵然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qiāng   rán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形容金宝珠玉等声音清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褪色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uì     shǎi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比喻某种情景意识、本色等逐渐淡漠以至忘记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燎原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liáo   yuán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火延烧原野。比喻气势旺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熙熙然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xī   xī   rán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温和欢乐的样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暖融融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nuǎn   róng    róng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温暖宜人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温暖舒适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图片 73734" descr="t01bef1a65a11508885"/>
          <p:cNvPicPr/>
          <p:nvPr/>
        </p:nvPicPr>
        <p:blipFill>
          <a:blip r:embed="rId1"/>
          <a:stretch/>
        </p:blipFill>
        <p:spPr>
          <a:xfrm>
            <a:off x="5607000" y="5504040"/>
            <a:ext cx="4140360" cy="13539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7T14:57:40Z</dcterms:created>
  <dc:creator>雨林木风</dc:creator>
  <dc:description/>
  <dc:language>en-US</dc:language>
  <cp:lastModifiedBy>Administrator</cp:lastModifiedBy>
  <dcterms:modified xsi:type="dcterms:W3CDTF">2018-03-03T15:12:19Z</dcterms:modified>
  <cp:revision>4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8.0.5950</vt:lpwstr>
  </property>
</Properties>
</file>