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AAB-B74C-4E82-A63C-D98FDD49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2BC-5435-433F-88E0-6B10C871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84D-6A37-44D4-8623-A4C32744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0C4-B4E7-4C87-A181-446844DD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ACA-ACF5-461D-805F-D8C7FC3E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DB1-67EB-4FA7-8E6E-6C4F01B0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985-51FA-4EE0-B687-2A0CDA31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6D6-038D-47D8-9A86-449468B7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2A7-F541-4101-BD5E-6504E88B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C81-BAE2-4EB5-AABA-2D9AFC5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391-37E5-4820-9CF0-8588282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D14-8231-4B3E-81DA-DAF167F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FCD9-6988-4B93-BC93-D796069740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3" descr="https://timgsa.baidu.com/timg?image&amp;quality=80&amp;size=b9999_10000&amp;sec=1514437630927&amp;di=9d0d6e6b9e6cf8a8cf8a4302fe746be8&amp;imgtype=0&amp;src=http%3A%2F%2Fimgsrc.baidu.com%2Fimgad%2Fpic%2Fitem%2Fd439b6003af33a878aa8da23cd5c10385243b5c6.jpg"/>
          <p:cNvPicPr/>
          <p:nvPr/>
        </p:nvPicPr>
        <p:blipFill>
          <a:blip r:embed="rId1"/>
          <a:srcRect l="0" t="1614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文本框 1"/>
          <p:cNvSpPr/>
          <p:nvPr/>
        </p:nvSpPr>
        <p:spPr>
          <a:xfrm>
            <a:off x="2163600" y="960480"/>
            <a:ext cx="6599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华文琥珀"/>
                <a:ea typeface="华文琥珀"/>
              </a:rPr>
              <a:t>4</a:t>
            </a:r>
            <a:r>
              <a:rPr b="1" lang="zh-CN" sz="11500" spc="-1" strike="noStrike">
                <a:solidFill>
                  <a:srgbClr val="ffffff"/>
                </a:solidFill>
                <a:latin typeface="华文琥珀"/>
                <a:ea typeface="华文琥珀"/>
              </a:rPr>
              <a:t>、灯 笼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2"/>
          <p:cNvSpPr/>
          <p:nvPr/>
        </p:nvSpPr>
        <p:spPr>
          <a:xfrm>
            <a:off x="4965840" y="330372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吴伯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组合 27"/>
          <p:cNvGrpSpPr/>
          <p:nvPr/>
        </p:nvGrpSpPr>
        <p:grpSpPr>
          <a:xfrm>
            <a:off x="387360" y="228240"/>
            <a:ext cx="2732400" cy="1044000"/>
            <a:chOff x="387360" y="228240"/>
            <a:chExt cx="2732400" cy="1044000"/>
          </a:xfrm>
        </p:grpSpPr>
        <p:sp>
          <p:nvSpPr>
            <p:cNvPr id="1422" name="矩形: 圆角 28"/>
            <p:cNvSpPr/>
            <p:nvPr/>
          </p:nvSpPr>
          <p:spPr>
            <a:xfrm rot="20527200">
              <a:off x="482400" y="41472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: 圆角 29"/>
            <p:cNvSpPr/>
            <p:nvPr/>
          </p:nvSpPr>
          <p:spPr>
            <a:xfrm rot="294000">
              <a:off x="1146240" y="45072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: 圆角 30"/>
            <p:cNvSpPr/>
            <p:nvPr/>
          </p:nvSpPr>
          <p:spPr>
            <a:xfrm rot="1137000">
              <a:off x="1800000" y="304920"/>
              <a:ext cx="591840" cy="71352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38">
                  <a:moveTo>
                    <a:pt x="3600" y="0"/>
                  </a:moveTo>
                  <a:arcTo wR="3600" hR="3600" stAng="16200000" swAng="-5400000"/>
                  <a:lnTo>
                    <a:pt x="0" y="22438"/>
                  </a:lnTo>
                  <a:arcTo wR="3600" hR="3600" stAng="10800000" swAng="-5400000"/>
                  <a:lnTo>
                    <a:pt x="18000" y="260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: 圆角 31"/>
            <p:cNvSpPr/>
            <p:nvPr/>
          </p:nvSpPr>
          <p:spPr>
            <a:xfrm rot="20889600">
              <a:off x="2462040" y="50544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矩形 1"/>
          <p:cNvSpPr/>
          <p:nvPr/>
        </p:nvSpPr>
        <p:spPr>
          <a:xfrm>
            <a:off x="512640" y="1557360"/>
            <a:ext cx="8264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由读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然段，思考：作者叙写小时候喜欢火、光的情景，请说说这样写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矩形 6"/>
          <p:cNvSpPr/>
          <p:nvPr/>
        </p:nvSpPr>
        <p:spPr>
          <a:xfrm>
            <a:off x="576360" y="3119400"/>
            <a:ext cx="8197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丰富了文章内容，增添了情趣，避免叙述的呆板和结构的单调，引起读者的阅读兴趣；引出下文，为下文叙述喜爱灯笼做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矩形 5"/>
          <p:cNvSpPr/>
          <p:nvPr/>
        </p:nvSpPr>
        <p:spPr>
          <a:xfrm>
            <a:off x="328680" y="3919680"/>
            <a:ext cx="847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将“灯笼”的光与“太阳”的光、“月华”“繁星”的光相提并论，强调了“我”对“灯笼”的情有独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7"/>
          <p:cNvSpPr/>
          <p:nvPr/>
        </p:nvSpPr>
        <p:spPr>
          <a:xfrm>
            <a:off x="353880" y="677880"/>
            <a:ext cx="8266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快速读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然段，思考：从哪些句子可以看出“我”对灯笼的喜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矩形 8"/>
          <p:cNvSpPr/>
          <p:nvPr/>
        </p:nvSpPr>
        <p:spPr>
          <a:xfrm>
            <a:off x="347760" y="2286000"/>
            <a:ext cx="8435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连活活的太阳算着，一切亮光之中，我爱皎洁的月华，如沸的繁星，同一支夜晚来挑着照路的灯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矩形 4"/>
          <p:cNvSpPr/>
          <p:nvPr/>
        </p:nvSpPr>
        <p:spPr>
          <a:xfrm>
            <a:off x="474840" y="1278000"/>
            <a:ext cx="822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真的，灯笼的缘结得太多了，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记忆的网里挤着的就都是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5"/>
          <p:cNvSpPr/>
          <p:nvPr/>
        </p:nvSpPr>
        <p:spPr>
          <a:xfrm>
            <a:off x="336600" y="3219480"/>
            <a:ext cx="847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夸张与比喻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形象地表达出了“我”与“灯笼”之间结下的缘分之多，使表达显得形象生动，突出了“我”对灯笼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文本框 36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文本框 37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文本框 53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文本框 54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文本框 55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矩形 4"/>
          <p:cNvSpPr/>
          <p:nvPr/>
        </p:nvSpPr>
        <p:spPr>
          <a:xfrm>
            <a:off x="430200" y="309600"/>
            <a:ext cx="7934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组讨论：哪几段回忆了关于灯笼的事？围绕灯笼具体写了哪些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矩形 5"/>
          <p:cNvSpPr/>
          <p:nvPr/>
        </p:nvSpPr>
        <p:spPr>
          <a:xfrm>
            <a:off x="347760" y="1754280"/>
            <a:ext cx="89564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）挑着灯笼接祖父回家，听祖父讲进京赶考的掌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）接过母亲递给的纱灯上下灯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）乡俗还愿时，村口红灯高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）跟着龙灯跑个半夜，伴着小灯入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）族姊远嫁，宅第红灯高挂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）在纱灯上描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7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）由宫灯、唱词联想到汉献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8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）联想到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挑灯看剑的名将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，表达做灯笼下的马前卒的誓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矩形 3"/>
          <p:cNvSpPr/>
          <p:nvPr/>
        </p:nvSpPr>
        <p:spPr>
          <a:xfrm>
            <a:off x="4640400" y="6110280"/>
            <a:ext cx="391932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怀恋过往，表明灯笼对“我”的意义重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1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6" name="矩形 4" descr=""/>
          <p:cNvPicPr/>
          <p:nvPr/>
        </p:nvPicPr>
        <p:blipFill>
          <a:blip r:embed="rId1"/>
          <a:stretch/>
        </p:blipFill>
        <p:spPr>
          <a:xfrm>
            <a:off x="496800" y="887400"/>
            <a:ext cx="7934400" cy="811080"/>
          </a:xfrm>
          <a:prstGeom prst="rect">
            <a:avLst/>
          </a:prstGeom>
          <a:ln w="0">
            <a:noFill/>
          </a:ln>
        </p:spPr>
      </p:pic>
      <p:sp>
        <p:nvSpPr>
          <p:cNvPr id="1537" name="矩形 5"/>
          <p:cNvSpPr/>
          <p:nvPr/>
        </p:nvSpPr>
        <p:spPr>
          <a:xfrm>
            <a:off x="706320" y="2678040"/>
            <a:ext cx="7710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村犬遥遥向灯笼吠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种熙熙然庭院的静穆，是一辈子思慕着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双波形 6"/>
          <p:cNvSpPr/>
          <p:nvPr/>
        </p:nvSpPr>
        <p:spPr>
          <a:xfrm>
            <a:off x="2728800" y="4567320"/>
            <a:ext cx="4024440" cy="1279440"/>
          </a:xfrm>
          <a:custGeom>
            <a:avLst/>
            <a:gdLst>
              <a:gd name="textAreaLeft" fmla="*/ 0 w 4024440"/>
              <a:gd name="textAreaRight" fmla="*/ 4024800 w 4024440"/>
              <a:gd name="textAreaTop" fmla="*/ 159840 h 1279440"/>
              <a:gd name="textAreaBottom" fmla="*/ 11196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映照着长幼情笃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矩形 5"/>
          <p:cNvSpPr/>
          <p:nvPr/>
        </p:nvSpPr>
        <p:spPr>
          <a:xfrm>
            <a:off x="519120" y="379440"/>
            <a:ext cx="8040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母亲给留着的消夜食品便都是在亲手接过了灯笼去后递给自己的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母亲的头发也全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双波形 6"/>
          <p:cNvSpPr/>
          <p:nvPr/>
        </p:nvSpPr>
        <p:spPr>
          <a:xfrm>
            <a:off x="2473200" y="1928880"/>
            <a:ext cx="4024440" cy="1279440"/>
          </a:xfrm>
          <a:custGeom>
            <a:avLst/>
            <a:gdLst>
              <a:gd name="textAreaLeft" fmla="*/ 0 w 4024440"/>
              <a:gd name="textAreaRight" fmla="*/ 4024800 w 4024440"/>
              <a:gd name="textAreaTop" fmla="*/ 159840 h 1279440"/>
              <a:gd name="textAreaBottom" fmla="*/ 11196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宣照着母子情深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矩形 7"/>
          <p:cNvSpPr/>
          <p:nvPr/>
        </p:nvSpPr>
        <p:spPr>
          <a:xfrm>
            <a:off x="519120" y="3149640"/>
            <a:ext cx="7994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真是，若有孤行客，黑夜摸路。正自四面虚惊的时候，忽然发现星天下红灯高照，总会以去村不远而默默高兴起来的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双波形 8"/>
          <p:cNvSpPr/>
          <p:nvPr/>
        </p:nvSpPr>
        <p:spPr>
          <a:xfrm>
            <a:off x="2600280" y="5359320"/>
            <a:ext cx="4160880" cy="1278000"/>
          </a:xfrm>
          <a:custGeom>
            <a:avLst/>
            <a:gdLst>
              <a:gd name="textAreaLeft" fmla="*/ 0 w 4160880"/>
              <a:gd name="textAreaRight" fmla="*/ 4161240 w 4160880"/>
              <a:gd name="textAreaTop" fmla="*/ 159480 h 1278000"/>
              <a:gd name="textAreaBottom" fmla="*/ 111852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慰藉着孤行客的心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文本框 39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文本框 40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文本框 56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57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文本框 58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矩形 5"/>
          <p:cNvSpPr/>
          <p:nvPr/>
        </p:nvSpPr>
        <p:spPr>
          <a:xfrm>
            <a:off x="519120" y="379440"/>
            <a:ext cx="8040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进士第的官衔灯该还有吧，垂珠联珑的朱门却早已褪色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双波形 6"/>
          <p:cNvSpPr/>
          <p:nvPr/>
        </p:nvSpPr>
        <p:spPr>
          <a:xfrm>
            <a:off x="2473200" y="1928880"/>
            <a:ext cx="4205520" cy="1279440"/>
          </a:xfrm>
          <a:custGeom>
            <a:avLst/>
            <a:gdLst>
              <a:gd name="textAreaLeft" fmla="*/ 0 w 4205520"/>
              <a:gd name="textAreaRight" fmla="*/ 4205880 w 4205520"/>
              <a:gd name="textAreaTop" fmla="*/ 159840 h 1279440"/>
              <a:gd name="textAreaBottom" fmla="*/ 11196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记录着岁月的沧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矩形 7"/>
          <p:cNvSpPr/>
          <p:nvPr/>
        </p:nvSpPr>
        <p:spPr>
          <a:xfrm>
            <a:off x="519120" y="3149640"/>
            <a:ext cx="7994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若是纱灯上的字是“尚书府”或“某某县正堂”之类，懂得了意思，也会觉得不凡的；但普普通通一家纯德堂的家用灯笼，可也未始勾不起爱好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双波形 8"/>
          <p:cNvSpPr/>
          <p:nvPr/>
        </p:nvSpPr>
        <p:spPr>
          <a:xfrm>
            <a:off x="2600280" y="5359320"/>
            <a:ext cx="5186520" cy="1278000"/>
          </a:xfrm>
          <a:custGeom>
            <a:avLst/>
            <a:gdLst>
              <a:gd name="textAreaLeft" fmla="*/ 0 w 5186520"/>
              <a:gd name="textAreaRight" fmla="*/ 5186520 w 5186520"/>
              <a:gd name="textAreaTop" fmla="*/ 159480 h 1278000"/>
              <a:gd name="textAreaBottom" fmla="*/ 111852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显示着主人的地位和权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文本框 36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文本框 37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文本框 53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文本框 54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文本框 55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矩形 4"/>
          <p:cNvSpPr/>
          <p:nvPr/>
        </p:nvSpPr>
        <p:spPr>
          <a:xfrm>
            <a:off x="378000" y="457200"/>
            <a:ext cx="8008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由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-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然段，思考：关于宫灯的想象和对古时将军挑灯看剑的描写有什么深刻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矩形 5"/>
          <p:cNvSpPr/>
          <p:nvPr/>
        </p:nvSpPr>
        <p:spPr>
          <a:xfrm>
            <a:off x="430200" y="2068560"/>
            <a:ext cx="8113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对宫灯进行想象，体验深长的历史况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引述历史上保家卫国的名将，表达自己做“灯笼下的马前卒”的誓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"/>
          <p:cNvSpPr/>
          <p:nvPr/>
        </p:nvSpPr>
        <p:spPr>
          <a:xfrm>
            <a:off x="866880" y="4546440"/>
            <a:ext cx="5916600" cy="60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从历史文化及个人情感上表达灯笼对于“我”及整个民族的重要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心形 2"/>
          <p:cNvSpPr/>
          <p:nvPr/>
        </p:nvSpPr>
        <p:spPr>
          <a:xfrm>
            <a:off x="6985080" y="4325760"/>
            <a:ext cx="1822320" cy="1899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升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1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1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2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1" name="组合 27"/>
          <p:cNvGrpSpPr/>
          <p:nvPr/>
        </p:nvGrpSpPr>
        <p:grpSpPr>
          <a:xfrm>
            <a:off x="382320" y="124920"/>
            <a:ext cx="2732760" cy="1044000"/>
            <a:chOff x="382320" y="124920"/>
            <a:chExt cx="2732760" cy="1044000"/>
          </a:xfrm>
        </p:grpSpPr>
        <p:sp>
          <p:nvSpPr>
            <p:cNvPr id="1752" name="矩形: 圆角 28"/>
            <p:cNvSpPr/>
            <p:nvPr/>
          </p:nvSpPr>
          <p:spPr>
            <a:xfrm rot="20527200">
              <a:off x="477360" y="31140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矩形: 圆角 29"/>
            <p:cNvSpPr/>
            <p:nvPr/>
          </p:nvSpPr>
          <p:spPr>
            <a:xfrm rot="294000">
              <a:off x="1141200" y="34740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矩形: 圆角 30"/>
            <p:cNvSpPr/>
            <p:nvPr/>
          </p:nvSpPr>
          <p:spPr>
            <a:xfrm rot="1137000">
              <a:off x="1794960" y="201600"/>
              <a:ext cx="592200" cy="713520"/>
            </a:xfrm>
            <a:custGeom>
              <a:avLst/>
              <a:gdLst>
                <a:gd name="textAreaLeft" fmla="*/ 28800 w 592200"/>
                <a:gd name="textAreaRight" fmla="*/ 563400 w 5922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22">
                  <a:moveTo>
                    <a:pt x="3600" y="0"/>
                  </a:moveTo>
                  <a:arcTo wR="3600" hR="3600" stAng="16200000" swAng="-5400000"/>
                  <a:lnTo>
                    <a:pt x="0" y="22422"/>
                  </a:lnTo>
                  <a:arcTo wR="3600" hR="3600" stAng="10800000" swAng="-5400000"/>
                  <a:lnTo>
                    <a:pt x="18000" y="26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: 圆角 31"/>
            <p:cNvSpPr/>
            <p:nvPr/>
          </p:nvSpPr>
          <p:spPr>
            <a:xfrm rot="20889600">
              <a:off x="2457360" y="40212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TextBox 6"/>
          <p:cNvSpPr/>
          <p:nvPr/>
        </p:nvSpPr>
        <p:spPr>
          <a:xfrm>
            <a:off x="660240" y="1174680"/>
            <a:ext cx="664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合全文，简析作者喜爱灯笼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矩形 1"/>
          <p:cNvSpPr/>
          <p:nvPr/>
        </p:nvSpPr>
        <p:spPr>
          <a:xfrm>
            <a:off x="538200" y="2233440"/>
            <a:ext cx="8116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灯笼寄托着祖父、母亲等亲人的慈爱和牵挂，也寄托着作者对亲人的感激之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许多乡情民俗与灯笼结下太多的缘分，给作者留下很多美好的回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矩形 1"/>
          <p:cNvSpPr/>
          <p:nvPr/>
        </p:nvSpPr>
        <p:spPr>
          <a:xfrm>
            <a:off x="538200" y="1555920"/>
            <a:ext cx="8116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灯笼能为夜行人指路，温暖他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记录、传承着家族历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引发作者联想起古代将领挑灯看剑，抗击敌人的情景，激发爱国热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7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38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54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55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56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组合 27"/>
          <p:cNvGrpSpPr/>
          <p:nvPr/>
        </p:nvGrpSpPr>
        <p:grpSpPr>
          <a:xfrm>
            <a:off x="407880" y="539280"/>
            <a:ext cx="2732400" cy="1044000"/>
            <a:chOff x="407880" y="539280"/>
            <a:chExt cx="2732400" cy="1044000"/>
          </a:xfrm>
        </p:grpSpPr>
        <p:sp>
          <p:nvSpPr>
            <p:cNvPr id="1171" name="矩形: 圆角 28"/>
            <p:cNvSpPr/>
            <p:nvPr/>
          </p:nvSpPr>
          <p:spPr>
            <a:xfrm rot="20527200">
              <a:off x="502920" y="72576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矩形: 圆角 29"/>
            <p:cNvSpPr/>
            <p:nvPr/>
          </p:nvSpPr>
          <p:spPr>
            <a:xfrm rot="294000">
              <a:off x="1166760" y="76176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矩形: 圆角 30"/>
            <p:cNvSpPr/>
            <p:nvPr/>
          </p:nvSpPr>
          <p:spPr>
            <a:xfrm rot="1137000">
              <a:off x="1820520" y="615960"/>
              <a:ext cx="591840" cy="71352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38">
                  <a:moveTo>
                    <a:pt x="3600" y="0"/>
                  </a:moveTo>
                  <a:arcTo wR="3600" hR="3600" stAng="16200000" swAng="-5400000"/>
                  <a:lnTo>
                    <a:pt x="0" y="22438"/>
                  </a:lnTo>
                  <a:arcTo wR="3600" hR="3600" stAng="10800000" swAng="-5400000"/>
                  <a:lnTo>
                    <a:pt x="18000" y="260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矩形: 圆角 31"/>
            <p:cNvSpPr/>
            <p:nvPr/>
          </p:nvSpPr>
          <p:spPr>
            <a:xfrm rot="20889600">
              <a:off x="2482560" y="8164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矩形 1"/>
          <p:cNvSpPr/>
          <p:nvPr/>
        </p:nvSpPr>
        <p:spPr>
          <a:xfrm>
            <a:off x="420840" y="1905120"/>
            <a:ext cx="8373960" cy="19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体会散文形散神不散的特点。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体会作者是怎样将与“灯笼”相关的各情节有序的结合在一起的。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领悟作者在叙事过程中蕴含着的情感变化及升华。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TextBox 6"/>
          <p:cNvSpPr/>
          <p:nvPr/>
        </p:nvSpPr>
        <p:spPr>
          <a:xfrm>
            <a:off x="853920" y="1773360"/>
            <a:ext cx="7653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结尾说：“唉，壮，于今灯笼又不够了。应该数火把，数探海灯，数燎原的一把烈火！”结合文章，分析并评价这句话所表现的作者的观点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矩形 1"/>
          <p:cNvSpPr/>
          <p:nvPr/>
        </p:nvSpPr>
        <p:spPr>
          <a:xfrm>
            <a:off x="419040" y="1195560"/>
            <a:ext cx="8163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作者热烈赞颂古代将军塞外点兵，挑灯看剑，英勇杀敌的气概；他们激发了自己的爱国情怀，作者热切希望冲上前线，奋勇杀敌，打击日寇；同时表达了对时局的担忧和对未来的期望，希望有更强大的力量，有更具凝聚力的精神，团结抗战，打败敌人，保卫好自己的家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文本框 52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文本框 53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69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70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71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组合 27"/>
          <p:cNvGrpSpPr/>
          <p:nvPr/>
        </p:nvGrpSpPr>
        <p:grpSpPr>
          <a:xfrm>
            <a:off x="345960" y="381960"/>
            <a:ext cx="2732400" cy="1044000"/>
            <a:chOff x="345960" y="381960"/>
            <a:chExt cx="2732400" cy="1044000"/>
          </a:xfrm>
        </p:grpSpPr>
        <p:sp>
          <p:nvSpPr>
            <p:cNvPr id="1862" name="矩形: 圆角 28"/>
            <p:cNvSpPr/>
            <p:nvPr/>
          </p:nvSpPr>
          <p:spPr>
            <a:xfrm rot="20527200">
              <a:off x="441000" y="56844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矩形: 圆角 29"/>
            <p:cNvSpPr/>
            <p:nvPr/>
          </p:nvSpPr>
          <p:spPr>
            <a:xfrm rot="294000">
              <a:off x="1104840" y="60444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矩形: 圆角 30"/>
            <p:cNvSpPr/>
            <p:nvPr/>
          </p:nvSpPr>
          <p:spPr>
            <a:xfrm rot="1137000">
              <a:off x="1758600" y="458640"/>
              <a:ext cx="591840" cy="71352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38">
                  <a:moveTo>
                    <a:pt x="3600" y="0"/>
                  </a:moveTo>
                  <a:arcTo wR="3600" hR="3600" stAng="16200000" swAng="-5400000"/>
                  <a:lnTo>
                    <a:pt x="0" y="22438"/>
                  </a:lnTo>
                  <a:arcTo wR="3600" hR="3600" stAng="10800000" swAng="-5400000"/>
                  <a:lnTo>
                    <a:pt x="18000" y="260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: 圆角 31"/>
            <p:cNvSpPr/>
            <p:nvPr/>
          </p:nvSpPr>
          <p:spPr>
            <a:xfrm rot="20889600">
              <a:off x="2420640" y="65916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TextBox 19"/>
          <p:cNvSpPr/>
          <p:nvPr/>
        </p:nvSpPr>
        <p:spPr>
          <a:xfrm>
            <a:off x="1258920" y="1811160"/>
            <a:ext cx="39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叙写小时候喜欢火、光、灯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Box 34"/>
          <p:cNvSpPr/>
          <p:nvPr/>
        </p:nvSpPr>
        <p:spPr>
          <a:xfrm>
            <a:off x="1228680" y="3479760"/>
            <a:ext cx="43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抒写关于灯笼的记忆，说明灯笼的意义重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Box 37"/>
          <p:cNvSpPr/>
          <p:nvPr/>
        </p:nvSpPr>
        <p:spPr>
          <a:xfrm>
            <a:off x="1258920" y="5370480"/>
            <a:ext cx="38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抒发作者的爱国情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7"/>
          <p:cNvGrpSpPr/>
          <p:nvPr/>
        </p:nvGrpSpPr>
        <p:grpSpPr>
          <a:xfrm>
            <a:off x="422280" y="2503440"/>
            <a:ext cx="836640" cy="3797280"/>
            <a:chOff x="422280" y="2503440"/>
            <a:chExt cx="836640" cy="3797280"/>
          </a:xfrm>
        </p:grpSpPr>
        <p:sp>
          <p:nvSpPr>
            <p:cNvPr id="1870" name="TextBox 6"/>
            <p:cNvSpPr/>
            <p:nvPr/>
          </p:nvSpPr>
          <p:spPr>
            <a:xfrm>
              <a:off x="422280" y="3578760"/>
              <a:ext cx="667800" cy="27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灯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左大括号 27"/>
            <p:cNvSpPr/>
            <p:nvPr/>
          </p:nvSpPr>
          <p:spPr>
            <a:xfrm>
              <a:off x="1038240" y="2503440"/>
              <a:ext cx="220680" cy="3342240"/>
            </a:xfrm>
            <a:custGeom>
              <a:avLst/>
              <a:gdLst>
                <a:gd name="textAreaLeft" fmla="*/ 141120 w 220680"/>
                <a:gd name="textAreaRight" fmla="*/ 221040 w 220680"/>
                <a:gd name="textAreaTop" fmla="*/ 7560 h 3342240"/>
                <a:gd name="textAreaBottom" fmla="*/ 3334680 h 334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9"/>
                    <a:pt x="10800" y="158"/>
                  </a:cubicBezTo>
                  <a:lnTo>
                    <a:pt x="10800" y="10642"/>
                  </a:lnTo>
                  <a:cubicBezTo>
                    <a:pt x="10800" y="10721"/>
                    <a:pt x="5400" y="10800"/>
                    <a:pt x="0" y="10800"/>
                  </a:cubicBezTo>
                  <a:cubicBezTo>
                    <a:pt x="5400" y="10800"/>
                    <a:pt x="10800" y="10879"/>
                    <a:pt x="10800" y="10958"/>
                  </a:cubicBezTo>
                  <a:lnTo>
                    <a:pt x="10800" y="21442"/>
                  </a:lnTo>
                  <a:cubicBezTo>
                    <a:pt x="10800" y="2152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TextBox 19"/>
          <p:cNvSpPr/>
          <p:nvPr/>
        </p:nvSpPr>
        <p:spPr>
          <a:xfrm>
            <a:off x="5029200" y="198108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记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TextBox 19"/>
          <p:cNvSpPr/>
          <p:nvPr/>
        </p:nvSpPr>
        <p:spPr>
          <a:xfrm>
            <a:off x="5051520" y="3720960"/>
            <a:ext cx="37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记叙、描写、抒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Box 19"/>
          <p:cNvSpPr/>
          <p:nvPr/>
        </p:nvSpPr>
        <p:spPr>
          <a:xfrm>
            <a:off x="4444920" y="53704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抒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2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7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5" name="组合 27"/>
          <p:cNvGrpSpPr/>
          <p:nvPr/>
        </p:nvGrpSpPr>
        <p:grpSpPr>
          <a:xfrm>
            <a:off x="376200" y="414000"/>
            <a:ext cx="2732400" cy="1044000"/>
            <a:chOff x="376200" y="414000"/>
            <a:chExt cx="2732400" cy="1044000"/>
          </a:xfrm>
        </p:grpSpPr>
        <p:sp>
          <p:nvSpPr>
            <p:cNvPr id="1876" name="矩形: 圆角 28"/>
            <p:cNvSpPr/>
            <p:nvPr/>
          </p:nvSpPr>
          <p:spPr>
            <a:xfrm rot="20527200">
              <a:off x="471240" y="6004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矩形: 圆角 29"/>
            <p:cNvSpPr/>
            <p:nvPr/>
          </p:nvSpPr>
          <p:spPr>
            <a:xfrm rot="294000">
              <a:off x="1135080" y="6364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矩形: 圆角 30"/>
            <p:cNvSpPr/>
            <p:nvPr/>
          </p:nvSpPr>
          <p:spPr>
            <a:xfrm rot="1137000">
              <a:off x="1788840" y="490680"/>
              <a:ext cx="591840" cy="71352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38">
                  <a:moveTo>
                    <a:pt x="3600" y="0"/>
                  </a:moveTo>
                  <a:arcTo wR="3600" hR="3600" stAng="16200000" swAng="-5400000"/>
                  <a:lnTo>
                    <a:pt x="0" y="22438"/>
                  </a:lnTo>
                  <a:arcTo wR="3600" hR="3600" stAng="10800000" swAng="-5400000"/>
                  <a:lnTo>
                    <a:pt x="18000" y="260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矩形: 圆角 31"/>
            <p:cNvSpPr/>
            <p:nvPr/>
          </p:nvSpPr>
          <p:spPr>
            <a:xfrm rot="20889600">
              <a:off x="2450880" y="69120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0" name="矩形 1"/>
          <p:cNvSpPr/>
          <p:nvPr/>
        </p:nvSpPr>
        <p:spPr>
          <a:xfrm>
            <a:off x="460440" y="1797120"/>
            <a:ext cx="831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文回忆了“我”关于灯笼的一些记忆，从文化层面及个人情感层面表达了灯笼对于他乃至民族的重要意义，表达了“我”对时局的担忧和对未来的期望，希望有更强大的力量，有更具凝聚力的精神，团结抗战，打败敌人，保卫好自己的家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组合 27"/>
          <p:cNvGrpSpPr/>
          <p:nvPr/>
        </p:nvGrpSpPr>
        <p:grpSpPr>
          <a:xfrm>
            <a:off x="188640" y="721800"/>
            <a:ext cx="2732760" cy="1044000"/>
            <a:chOff x="188640" y="721800"/>
            <a:chExt cx="2732760" cy="1044000"/>
          </a:xfrm>
        </p:grpSpPr>
        <p:sp>
          <p:nvSpPr>
            <p:cNvPr id="1177" name="矩形: 圆角 28"/>
            <p:cNvSpPr/>
            <p:nvPr/>
          </p:nvSpPr>
          <p:spPr>
            <a:xfrm rot="20527200">
              <a:off x="283680" y="9082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矩形: 圆角 29"/>
            <p:cNvSpPr/>
            <p:nvPr/>
          </p:nvSpPr>
          <p:spPr>
            <a:xfrm rot="294000">
              <a:off x="947520" y="9442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矩形: 圆角 30"/>
            <p:cNvSpPr/>
            <p:nvPr/>
          </p:nvSpPr>
          <p:spPr>
            <a:xfrm rot="1137000">
              <a:off x="1601280" y="798480"/>
              <a:ext cx="592200" cy="713520"/>
            </a:xfrm>
            <a:custGeom>
              <a:avLst/>
              <a:gdLst>
                <a:gd name="textAreaLeft" fmla="*/ 28800 w 592200"/>
                <a:gd name="textAreaRight" fmla="*/ 563400 w 5922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22">
                  <a:moveTo>
                    <a:pt x="3600" y="0"/>
                  </a:moveTo>
                  <a:arcTo wR="3600" hR="3600" stAng="16200000" swAng="-5400000"/>
                  <a:lnTo>
                    <a:pt x="0" y="22422"/>
                  </a:lnTo>
                  <a:arcTo wR="3600" hR="3600" stAng="10800000" swAng="-5400000"/>
                  <a:lnTo>
                    <a:pt x="18000" y="26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矩形: 圆角 31"/>
            <p:cNvSpPr/>
            <p:nvPr/>
          </p:nvSpPr>
          <p:spPr>
            <a:xfrm rot="20889600">
              <a:off x="2263680" y="99900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矩形 7"/>
          <p:cNvSpPr/>
          <p:nvPr/>
        </p:nvSpPr>
        <p:spPr>
          <a:xfrm>
            <a:off x="2517840" y="2057400"/>
            <a:ext cx="6033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吴伯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06—198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原名熙成，笔名山屋、山荪，是我国当代著名文学家和教育家。他的作品主要收集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羽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黑红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北极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忘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吴伯萧散文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图片 1" descr=""/>
          <p:cNvPicPr/>
          <p:nvPr/>
        </p:nvPicPr>
        <p:blipFill>
          <a:blip r:embed="rId1"/>
          <a:stretch/>
        </p:blipFill>
        <p:spPr>
          <a:xfrm>
            <a:off x="365040" y="2478240"/>
            <a:ext cx="1968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组合 27"/>
          <p:cNvGrpSpPr/>
          <p:nvPr/>
        </p:nvGrpSpPr>
        <p:grpSpPr>
          <a:xfrm>
            <a:off x="347400" y="551880"/>
            <a:ext cx="2732760" cy="1044000"/>
            <a:chOff x="347400" y="551880"/>
            <a:chExt cx="2732760" cy="1044000"/>
          </a:xfrm>
        </p:grpSpPr>
        <p:sp>
          <p:nvSpPr>
            <p:cNvPr id="1184" name="矩形: 圆角 28"/>
            <p:cNvSpPr/>
            <p:nvPr/>
          </p:nvSpPr>
          <p:spPr>
            <a:xfrm rot="20527200">
              <a:off x="442440" y="73836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: 圆角 29"/>
            <p:cNvSpPr/>
            <p:nvPr/>
          </p:nvSpPr>
          <p:spPr>
            <a:xfrm rot="294000">
              <a:off x="1106280" y="77436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: 圆角 30"/>
            <p:cNvSpPr/>
            <p:nvPr/>
          </p:nvSpPr>
          <p:spPr>
            <a:xfrm rot="1137000">
              <a:off x="1760040" y="628560"/>
              <a:ext cx="592200" cy="713520"/>
            </a:xfrm>
            <a:custGeom>
              <a:avLst/>
              <a:gdLst>
                <a:gd name="textAreaLeft" fmla="*/ 28800 w 592200"/>
                <a:gd name="textAreaRight" fmla="*/ 563400 w 5922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22">
                  <a:moveTo>
                    <a:pt x="3600" y="0"/>
                  </a:moveTo>
                  <a:arcTo wR="3600" hR="3600" stAng="16200000" swAng="-5400000"/>
                  <a:lnTo>
                    <a:pt x="0" y="22422"/>
                  </a:lnTo>
                  <a:arcTo wR="3600" hR="3600" stAng="10800000" swAng="-5400000"/>
                  <a:lnTo>
                    <a:pt x="18000" y="26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: 圆角 31"/>
            <p:cNvSpPr/>
            <p:nvPr/>
          </p:nvSpPr>
          <p:spPr>
            <a:xfrm rot="20889600">
              <a:off x="2422440" y="8290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矩形 1"/>
          <p:cNvSpPr/>
          <p:nvPr/>
        </p:nvSpPr>
        <p:spPr>
          <a:xfrm>
            <a:off x="561960" y="1860480"/>
            <a:ext cx="8240760" cy="648360"/>
          </a:xfrm>
          <a:prstGeom prst="rect">
            <a:avLst/>
          </a:prstGeom>
          <a:noFill/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文写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三十年代，那是中华民族一个多灾多难的时代，作者以“灯笼”为题，从文化及情感两方面表达了灯笼对于他乃至民族的重要意义，最后跳出个人情感圈子，升华为对家国情怀的表达，呈现了一个执著追求革命和艺术的知识分子和与时代共命运、与人民同呼吸的内心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27"/>
          <p:cNvGrpSpPr/>
          <p:nvPr/>
        </p:nvGrpSpPr>
        <p:grpSpPr>
          <a:xfrm>
            <a:off x="347400" y="551880"/>
            <a:ext cx="2732760" cy="1044000"/>
            <a:chOff x="347400" y="551880"/>
            <a:chExt cx="2732760" cy="1044000"/>
          </a:xfrm>
        </p:grpSpPr>
        <p:sp>
          <p:nvSpPr>
            <p:cNvPr id="1190" name="矩形: 圆角 28"/>
            <p:cNvSpPr/>
            <p:nvPr/>
          </p:nvSpPr>
          <p:spPr>
            <a:xfrm rot="20527200">
              <a:off x="442440" y="73836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: 圆角 29"/>
            <p:cNvSpPr/>
            <p:nvPr/>
          </p:nvSpPr>
          <p:spPr>
            <a:xfrm rot="294000">
              <a:off x="1106280" y="77436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矩形: 圆角 30"/>
            <p:cNvSpPr/>
            <p:nvPr/>
          </p:nvSpPr>
          <p:spPr>
            <a:xfrm rot="1137000">
              <a:off x="1760040" y="628560"/>
              <a:ext cx="592200" cy="713520"/>
            </a:xfrm>
            <a:custGeom>
              <a:avLst/>
              <a:gdLst>
                <a:gd name="textAreaLeft" fmla="*/ 28800 w 592200"/>
                <a:gd name="textAreaRight" fmla="*/ 563400 w 5922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22">
                  <a:moveTo>
                    <a:pt x="3600" y="0"/>
                  </a:moveTo>
                  <a:arcTo wR="3600" hR="3600" stAng="16200000" swAng="-5400000"/>
                  <a:lnTo>
                    <a:pt x="0" y="22422"/>
                  </a:lnTo>
                  <a:arcTo wR="3600" hR="3600" stAng="10800000" swAng="-5400000"/>
                  <a:lnTo>
                    <a:pt x="18000" y="26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: 圆角 31"/>
            <p:cNvSpPr/>
            <p:nvPr/>
          </p:nvSpPr>
          <p:spPr>
            <a:xfrm rot="20889600">
              <a:off x="2422440" y="8290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矩形 1"/>
          <p:cNvSpPr/>
          <p:nvPr/>
        </p:nvSpPr>
        <p:spPr>
          <a:xfrm>
            <a:off x="465120" y="1841400"/>
            <a:ext cx="8240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散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一种抒发作者真情实感、写作方式灵活的记叙类文学体裁。散文最大的特点是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形散神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；“形散”既指题材广泛、写法多样，又指结构自由、不拘一格；“神聚”既指中心集中，又指有贯穿全文的线索。散文写人写事都只是表面现象，从根本上说写的是情感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53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文本框 54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70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71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文本框 72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382680" y="2806560"/>
            <a:ext cx="8470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争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   领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域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斡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 ）静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   思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慕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熙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熙然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褪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色（     ）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怅惘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1563840" y="292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sò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5"/>
          <p:cNvSpPr/>
          <p:nvPr/>
        </p:nvSpPr>
        <p:spPr>
          <a:xfrm>
            <a:off x="4618080" y="3716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m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6"/>
          <p:cNvSpPr/>
          <p:nvPr/>
        </p:nvSpPr>
        <p:spPr>
          <a:xfrm>
            <a:off x="1530360" y="371304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m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11"/>
          <p:cNvSpPr/>
          <p:nvPr/>
        </p:nvSpPr>
        <p:spPr>
          <a:xfrm>
            <a:off x="4573440" y="288288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12"/>
          <p:cNvSpPr/>
          <p:nvPr/>
        </p:nvSpPr>
        <p:spPr>
          <a:xfrm>
            <a:off x="4174200" y="460836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hànɡ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12"/>
          <p:cNvSpPr/>
          <p:nvPr/>
        </p:nvSpPr>
        <p:spPr>
          <a:xfrm>
            <a:off x="1691640" y="46022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t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1"/>
          <p:cNvSpPr/>
          <p:nvPr/>
        </p:nvSpPr>
        <p:spPr>
          <a:xfrm>
            <a:off x="7224840" y="2889360"/>
            <a:ext cx="152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wò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矩形 2"/>
          <p:cNvSpPr/>
          <p:nvPr/>
        </p:nvSpPr>
        <p:spPr>
          <a:xfrm>
            <a:off x="658440" y="194472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生难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4" name="组合 27"/>
          <p:cNvGrpSpPr/>
          <p:nvPr/>
        </p:nvGrpSpPr>
        <p:grpSpPr>
          <a:xfrm>
            <a:off x="326880" y="617040"/>
            <a:ext cx="2732400" cy="1044000"/>
            <a:chOff x="326880" y="617040"/>
            <a:chExt cx="2732400" cy="1044000"/>
          </a:xfrm>
        </p:grpSpPr>
        <p:sp>
          <p:nvSpPr>
            <p:cNvPr id="1305" name="矩形: 圆角 28"/>
            <p:cNvSpPr/>
            <p:nvPr/>
          </p:nvSpPr>
          <p:spPr>
            <a:xfrm rot="20527200">
              <a:off x="421920" y="80352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矩形: 圆角 29"/>
            <p:cNvSpPr/>
            <p:nvPr/>
          </p:nvSpPr>
          <p:spPr>
            <a:xfrm rot="294000">
              <a:off x="1085760" y="83952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: 圆角 30"/>
            <p:cNvSpPr/>
            <p:nvPr/>
          </p:nvSpPr>
          <p:spPr>
            <a:xfrm rot="1137000">
              <a:off x="1739520" y="693720"/>
              <a:ext cx="591840" cy="71352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38">
                  <a:moveTo>
                    <a:pt x="3600" y="0"/>
                  </a:moveTo>
                  <a:arcTo wR="3600" hR="3600" stAng="16200000" swAng="-5400000"/>
                  <a:lnTo>
                    <a:pt x="0" y="22438"/>
                  </a:lnTo>
                  <a:arcTo wR="3600" hR="3600" stAng="10800000" swAng="-5400000"/>
                  <a:lnTo>
                    <a:pt x="18000" y="260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矩形: 圆角 31"/>
            <p:cNvSpPr/>
            <p:nvPr/>
          </p:nvSpPr>
          <p:spPr>
            <a:xfrm rot="20889600">
              <a:off x="2401560" y="89424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Text Box 12"/>
          <p:cNvSpPr/>
          <p:nvPr/>
        </p:nvSpPr>
        <p:spPr>
          <a:xfrm>
            <a:off x="7868520" y="373392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矩形 1"/>
          <p:cNvSpPr/>
          <p:nvPr/>
        </p:nvSpPr>
        <p:spPr>
          <a:xfrm>
            <a:off x="627120" y="19836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词语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1"/>
          <p:cNvSpPr/>
          <p:nvPr/>
        </p:nvSpPr>
        <p:spPr>
          <a:xfrm>
            <a:off x="1077840" y="884160"/>
            <a:ext cx="749628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争讼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争论而诉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斡旋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调解周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静穆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而严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慕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怀念；追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怅惘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失意而心事重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领域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事一种专门活动或事业的范围、部类或部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矩形 1"/>
          <p:cNvSpPr/>
          <p:nvPr/>
        </p:nvSpPr>
        <p:spPr>
          <a:xfrm>
            <a:off x="598320" y="1200240"/>
            <a:ext cx="812808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褪色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喻某种情景、意识、本色等逐渐淡漠以至忘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熙熙然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温和欢乐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暖融融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容温暖宜人；温暖舒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马前卒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喻没有目的地为人奔走效力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情世故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为人处世的方法、道理和经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文本框 43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文本框 44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文本框 60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文本框 61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文本框 62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27"/>
          <p:cNvGrpSpPr/>
          <p:nvPr/>
        </p:nvGrpSpPr>
        <p:grpSpPr>
          <a:xfrm>
            <a:off x="196560" y="306000"/>
            <a:ext cx="2732760" cy="1044000"/>
            <a:chOff x="196560" y="306000"/>
            <a:chExt cx="2732760" cy="1044000"/>
          </a:xfrm>
        </p:grpSpPr>
        <p:sp>
          <p:nvSpPr>
            <p:cNvPr id="1414" name="矩形: 圆角 28"/>
            <p:cNvSpPr/>
            <p:nvPr/>
          </p:nvSpPr>
          <p:spPr>
            <a:xfrm rot="20527200">
              <a:off x="291600" y="4924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: 圆角 29"/>
            <p:cNvSpPr/>
            <p:nvPr/>
          </p:nvSpPr>
          <p:spPr>
            <a:xfrm rot="294000">
              <a:off x="955440" y="52848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: 圆角 30"/>
            <p:cNvSpPr/>
            <p:nvPr/>
          </p:nvSpPr>
          <p:spPr>
            <a:xfrm rot="1137000">
              <a:off x="1609200" y="382680"/>
              <a:ext cx="592200" cy="713520"/>
            </a:xfrm>
            <a:custGeom>
              <a:avLst/>
              <a:gdLst>
                <a:gd name="textAreaLeft" fmla="*/ 28800 w 592200"/>
                <a:gd name="textAreaRight" fmla="*/ 563400 w 5922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22">
                  <a:moveTo>
                    <a:pt x="3600" y="0"/>
                  </a:moveTo>
                  <a:arcTo wR="3600" hR="3600" stAng="16200000" swAng="-5400000"/>
                  <a:lnTo>
                    <a:pt x="0" y="22422"/>
                  </a:lnTo>
                  <a:arcTo wR="3600" hR="3600" stAng="10800000" swAng="-5400000"/>
                  <a:lnTo>
                    <a:pt x="18000" y="26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: 圆角 31"/>
            <p:cNvSpPr/>
            <p:nvPr/>
          </p:nvSpPr>
          <p:spPr>
            <a:xfrm rot="20889600">
              <a:off x="2271600" y="58320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矩形 6"/>
          <p:cNvSpPr/>
          <p:nvPr/>
        </p:nvSpPr>
        <p:spPr>
          <a:xfrm>
            <a:off x="789120" y="1405080"/>
            <a:ext cx="6178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真读课文，思考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11"/>
          <p:cNvSpPr/>
          <p:nvPr/>
        </p:nvSpPr>
        <p:spPr>
          <a:xfrm>
            <a:off x="927000" y="2576520"/>
            <a:ext cx="7659720" cy="520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文章为什么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灯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12"/>
          <p:cNvSpPr/>
          <p:nvPr/>
        </p:nvSpPr>
        <p:spPr>
          <a:xfrm>
            <a:off x="868320" y="4206960"/>
            <a:ext cx="7674120" cy="648360"/>
          </a:xfrm>
          <a:prstGeom prst="rect">
            <a:avLst/>
          </a:prstGeom>
          <a:solidFill>
            <a:srgbClr val="92d05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灯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本文的线索，本文正是通过描写有关灯笼的事件以表达自己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30T13:04:04Z</dcterms:created>
  <dc:creator>Administrator</dc:creator>
  <dc:description/>
  <dc:language>en-US</dc:language>
  <cp:lastModifiedBy>Administrator</cp:lastModifiedBy>
  <dcterms:modified xsi:type="dcterms:W3CDTF">2018-03-05T03:32:2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