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3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68.xml" ContentType="application/vnd.openxmlformats-officedocument.theme+xml"/>
  <Override PartName="/ppt/theme/theme88.xml" ContentType="application/vnd.openxmlformats-officedocument.theme+xml"/>
  <Override PartName="/ppt/theme/theme76.xml" ContentType="application/vnd.openxmlformats-officedocument.theme+xml"/>
  <Override PartName="/ppt/theme/theme87.xml" ContentType="application/vnd.openxmlformats-officedocument.theme+xml"/>
  <Override PartName="/ppt/theme/theme75.xml" ContentType="application/vnd.openxmlformats-officedocument.theme+xml"/>
  <Override PartName="/ppt/theme/theme86.xml" ContentType="application/vnd.openxmlformats-officedocument.theme+xml"/>
  <Override PartName="/ppt/theme/theme74.xml" ContentType="application/vnd.openxmlformats-officedocument.theme+xml"/>
  <Override PartName="/ppt/theme/theme85.xml" ContentType="application/vnd.openxmlformats-officedocument.theme+xml"/>
  <Override PartName="/ppt/theme/theme73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80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82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1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9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</p:sldMasterIdLst>
  <p:notesMasterIdLst>
    <p:notesMasterId r:id="rId89"/>
  </p:notesMasterIdLst>
  <p:sldIdLst>
    <p:sldId id="256" r:id="rId90"/>
    <p:sldId id="257" r:id="rId91"/>
    <p:sldId id="258" r:id="rId92"/>
    <p:sldId id="259" r:id="rId93"/>
    <p:sldId id="260" r:id="rId94"/>
    <p:sldId id="261" r:id="rId95"/>
    <p:sldId id="262" r:id="rId96"/>
    <p:sldId id="263" r:id="rId97"/>
    <p:sldId id="264" r:id="rId98"/>
    <p:sldId id="265" r:id="rId99"/>
    <p:sldId id="266" r:id="rId100"/>
    <p:sldId id="267" r:id="rId101"/>
    <p:sldId id="268" r:id="rId102"/>
    <p:sldId id="269" r:id="rId103"/>
    <p:sldId id="270" r:id="rId104"/>
    <p:sldId id="271" r:id="rId105"/>
    <p:sldId id="272" r:id="rId106"/>
    <p:sldId id="273" r:id="rId107"/>
    <p:sldId id="274" r:id="rId108"/>
    <p:sldId id="275" r:id="rId109"/>
    <p:sldId id="276" r:id="rId110"/>
    <p:sldId id="277" r:id="rId111"/>
    <p:sldId id="278" r:id="rId112"/>
    <p:sldId id="279" r:id="rId113"/>
    <p:sldId id="280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notesMaster" Target="notesMasters/notesMaster1.xml"/><Relationship Id="rId90" Type="http://schemas.openxmlformats.org/officeDocument/2006/relationships/slide" Target="slides/slide1.xml"/><Relationship Id="rId91" Type="http://schemas.openxmlformats.org/officeDocument/2006/relationships/slide" Target="slides/slide2.xml"/><Relationship Id="rId92" Type="http://schemas.openxmlformats.org/officeDocument/2006/relationships/slide" Target="slides/slide3.xml"/><Relationship Id="rId93" Type="http://schemas.openxmlformats.org/officeDocument/2006/relationships/slide" Target="slides/slide4.xml"/><Relationship Id="rId94" Type="http://schemas.openxmlformats.org/officeDocument/2006/relationships/slide" Target="slides/slide5.xml"/><Relationship Id="rId95" Type="http://schemas.openxmlformats.org/officeDocument/2006/relationships/slide" Target="slides/slide6.xml"/><Relationship Id="rId96" Type="http://schemas.openxmlformats.org/officeDocument/2006/relationships/slide" Target="slides/slide7.xml"/><Relationship Id="rId97" Type="http://schemas.openxmlformats.org/officeDocument/2006/relationships/slide" Target="slides/slide8.xml"/><Relationship Id="rId98" Type="http://schemas.openxmlformats.org/officeDocument/2006/relationships/slide" Target="slides/slide9.xml"/><Relationship Id="rId99" Type="http://schemas.openxmlformats.org/officeDocument/2006/relationships/slide" Target="slides/slide10.xml"/><Relationship Id="rId100" Type="http://schemas.openxmlformats.org/officeDocument/2006/relationships/slide" Target="slides/slide11.xml"/><Relationship Id="rId101" Type="http://schemas.openxmlformats.org/officeDocument/2006/relationships/slide" Target="slides/slide12.xml"/><Relationship Id="rId102" Type="http://schemas.openxmlformats.org/officeDocument/2006/relationships/slide" Target="slides/slide13.xml"/><Relationship Id="rId103" Type="http://schemas.openxmlformats.org/officeDocument/2006/relationships/slide" Target="slides/slide14.xml"/><Relationship Id="rId104" Type="http://schemas.openxmlformats.org/officeDocument/2006/relationships/slide" Target="slides/slide15.xml"/><Relationship Id="rId105" Type="http://schemas.openxmlformats.org/officeDocument/2006/relationships/slide" Target="slides/slide16.xml"/><Relationship Id="rId106" Type="http://schemas.openxmlformats.org/officeDocument/2006/relationships/slide" Target="slides/slide17.xml"/><Relationship Id="rId107" Type="http://schemas.openxmlformats.org/officeDocument/2006/relationships/slide" Target="slides/slide18.xml"/><Relationship Id="rId108" Type="http://schemas.openxmlformats.org/officeDocument/2006/relationships/slide" Target="slides/slide19.xml"/><Relationship Id="rId109" Type="http://schemas.openxmlformats.org/officeDocument/2006/relationships/slide" Target="slides/slide20.xml"/><Relationship Id="rId110" Type="http://schemas.openxmlformats.org/officeDocument/2006/relationships/slide" Target="slides/slide21.xml"/><Relationship Id="rId111" Type="http://schemas.openxmlformats.org/officeDocument/2006/relationships/slide" Target="slides/slide22.xml"/><Relationship Id="rId112" Type="http://schemas.openxmlformats.org/officeDocument/2006/relationships/slide" Target="slides/slide23.xml"/><Relationship Id="rId113" Type="http://schemas.openxmlformats.org/officeDocument/2006/relationships/slide" Target="slides/slide24.xml"/><Relationship Id="rId114" Type="http://schemas.openxmlformats.org/officeDocument/2006/relationships/slide" Target="slides/slide25.xml"/><Relationship Id="rId1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PlaceHolder 2"/>
          <p:cNvSpPr>
            <a:spLocks noGrp="1"/>
          </p:cNvSpPr>
          <p:nvPr>
            <p:ph type="dt" idx="20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2" name="PlaceHolder 5"/>
          <p:cNvSpPr>
            <a:spLocks noGrp="1"/>
          </p:cNvSpPr>
          <p:nvPr>
            <p:ph type="ftr" idx="20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PlaceHolder 6"/>
          <p:cNvSpPr>
            <a:spLocks noGrp="1"/>
          </p:cNvSpPr>
          <p:nvPr>
            <p:ph type="sldNum" idx="20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62D8-2388-407D-8665-F7CDBD19F13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1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2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5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6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9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0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3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4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C572-A7C5-4CD5-9F50-3EBF4CAC0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E12D-74C9-4305-825D-410B8560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3E528-122C-416C-B575-B460B9DF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A54F6FD-364E-4A64-B3ED-6E0BF67A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B8E611F-CB4A-482D-8AC7-9C45A84E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97BB282B-A2AF-4023-A279-B564C464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DAD2F73-6A00-489F-BEED-9AE31150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B5BE974-E193-4BEF-8E39-60382C69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A89D1AC3-C722-4D15-B5F9-21581D69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E9ED861-6DF8-4D52-8D5E-95E67629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3EF44541-5405-40F6-81A5-1D6C0F1BC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90B35F4-273D-47E3-B9C9-61ACE3893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11A73A6-8330-4AB6-8B08-05FBE788F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24D33-DAFD-462C-9F3C-AB980223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D8CB8AB-1460-4255-93DD-012D6E22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BFFC524-B832-44D1-9D33-313448B3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5565F06-2DE2-44AB-90D5-8634F302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4460FBD-3431-448E-B468-5C4B6852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37DC536-1C92-4756-B319-6BA54243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B610F6A-245A-4E93-B313-54AF5912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995F05AD-FD10-4DAD-AFD5-A3A6B37E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0F691B3-8B9F-4B01-B8EA-2D8D5999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2DF9C10D-C2BE-46B8-8921-28AB40C0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D7A7FA08-91B5-4D3D-A12B-2212ED895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8EDC5-4A7F-4EFC-9C45-E187C6BA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80057CAB-04D7-41F2-AD91-8945ADF5E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28E2B80-4AAB-417B-9E07-BFA2818E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0F4D785-E41C-40C3-A5E4-A0B545B4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0488842-F383-4E9D-8382-B11FC2BD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DADD356-7A91-40F6-8434-996AD15D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2A6A125-D01D-47B5-BFE4-9EA44489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2D57041-87E3-42EB-A4D3-FA62C4FF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2C292D77-12FA-4981-994E-615F5C6F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8434A76C-B2F6-42F1-B3BA-77D8CF49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3EDC0C8-B2F4-4237-8BFB-67327F94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7FF03-8E49-4F1C-A1A0-82C1004A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5D59D27-AA39-4D32-9515-B84DD4C1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D8612B2-0B2F-4386-A449-B5A3443FE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6FFB301-F3F6-4E81-8707-0C7107471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8236191-33C6-4494-94E2-477DC0B55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9D5437E-AD31-4410-91A3-5455F42A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F7660A4-288A-47DE-9328-B7860928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C5870C0-0E2D-4C2A-BE1B-1FFD6DB0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2F310424-C0F2-45DB-9AF5-9CB8BFD3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1F3C378-9C97-4FEA-A5BE-23254DDD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BBCDB70-DFA2-4977-A06C-4BF2B403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53439-DC50-493B-A88E-3A374C60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3905898-6132-49D7-B2DF-33BF42C0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28D7BEA3-7E25-42B9-93D4-C1571BB2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01F6BFF-9496-4FA5-9BA4-0CD437A2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4AB807E-AFF3-4A87-B469-1180BCD75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F02F8AF5-9DA5-40AC-9983-A1CF82390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11EE5-B013-4771-9D9C-48051192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2BECF-1A68-45D5-B2E1-62725AD3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46768-B6D7-4192-899B-9BE1F37F1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FA4EA-0AA4-4A70-BD5C-930BB5DA5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A23B-D2A9-4A25-84A4-F9A4B856D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D7F6-DE84-40B4-B147-153B97FBF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EAD7-2844-467C-A44E-25FF9F13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7207-76F1-408C-9943-4564E09F3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56DB-1318-4A6A-B361-6F59B49C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C63F-A3DD-4C92-8348-2129B1CC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07CF-496B-4E6A-870F-54A02715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88F4-9625-4B1F-BA00-E5BC66C7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A513-B964-416B-9CF9-6DA87BD3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BD96-FA8F-4EDF-8730-1DB0E400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C9C1-D2B5-4C4D-ADE2-3E53F80A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8469A-6D70-434D-85BA-9086D4A8C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97E48-4091-4F13-81E7-48CEB3EA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277695-ABAC-4E13-A51C-565884A1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974CD-296B-474F-A571-27DE8E35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4E406-F553-4872-AA2A-A9D358D3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F8F73B-CAB5-4F16-98FF-0D837505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820930-F4AB-44D4-BDCD-43B769CE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0511-0BDE-423F-B2BB-A074EE9D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46A4B-A4A8-4537-9727-BCFA3713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40AEFA-4EC8-40D7-A5E4-AFB6746C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4A22B-F93F-44A5-AA4A-4B9714B7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DF0B3-89A8-4EB1-9F1E-515DF4D42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B61011-3100-4DA3-B5F8-0C79AE94D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B6B248-9BCD-4DC8-8D2E-0A0D52A54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3EC10-B583-4555-906E-D035242D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53361C-07B9-4228-9EA6-8CAFD8DE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8D878-C4AF-4FC4-8FE3-79723A3F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02483F-024C-47AA-9F3A-C97329D8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1E1C-2E91-434D-9F7D-0A0AE59D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44C066-9176-48DD-B136-2F945AEF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1272B4-1A4B-44BC-8096-E231E999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0D068E-74D8-4374-863B-917D7EFF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837022-7E55-4597-B17D-0E6CB2A6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CA809-9695-4B37-9CAE-C678E468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231D2-7A3E-48F0-8C23-AEA2A28F6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E3389-C9E1-4DCE-995B-420D8B807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E2A6-4B9D-4C1A-A648-801FC9CE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5B1F8-8E1C-4816-A75C-02D22F33F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8141-7D60-4E2C-9900-53FA3228D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AEE88-DB6F-457D-8490-3407ACBA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31594-2641-4887-BB49-0DFC5C7B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7757E-2351-4AEA-9B44-F3505579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C194E-BC99-4988-8385-3A39C981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0EF07-3FAB-4FCF-B92A-37F9AB0F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05F1C-6D8D-4707-9A75-5B695D13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79309-B3BB-4BD9-8953-CC4258FB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079F9-09DC-46F3-87B6-BD014CD1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AFD6B-52C4-40F4-93E6-17ECDC54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5E5FC-D008-44E3-B48B-E7AF50AD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DB33-BDC6-4154-81C1-DE6A5376E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F86B5-0CA9-4191-AB40-33E7585BD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955527-45BC-425A-B674-EC40DC0C1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08B3DA-A4FF-42F0-9EE2-B82780AF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1686D6-B9F5-46C5-9543-C25467FD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3DF41F-506A-443E-B3AF-D684044B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3A2A67-232B-451A-8D1F-FB261CC2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4D92F-53D8-44C2-A2EB-05440578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F960FC-6613-4564-AF99-FE029394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ED3D06-F549-4B63-921F-16AB5149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94BF0B-F76D-4083-AEDD-A5C54F25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7B005-01AF-40AB-8005-C7292E60B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A46D5D-7F64-49DB-B0CB-725DF67E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9D561-DAB0-49B8-827E-5851C1975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43D34-5F71-4B7C-8AB3-A24A565CD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97E0A4-CA7B-40F0-9359-6DF67BF84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580109-A65A-4D73-BA71-02820894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BBA991-F2B9-4265-AE13-5E2DEEBC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68F6FC-C826-4372-9B73-DD179EFA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D6564F-DEA5-4139-AACC-F4D528B9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086B57-CA5F-425B-8647-4997B3EA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36034A-5190-4FAE-B83A-94F5831B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72C74-4814-4FEA-BA15-B5A9473B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ECD7A7-1083-4459-83AD-79526E6B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A751EF-4C6C-4C92-828D-CF084389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157DEC-3987-4551-B33F-25A181B3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170763-AEF9-4BC0-9703-154BC5C46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CD6C71-5E67-467D-A295-6D48DFC8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8D7370-7CF8-4DF0-A364-33768FA19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E5CF27-F7FD-4541-B320-25BAB501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5ABCB5-E0A6-4BB5-857B-C51CD695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136B14-E4C0-443B-86B7-9884C318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9B806D-8E3D-4548-8479-D4D00716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AF9DE-7233-41CE-B4A5-DF836AC6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CEC1C7-76E4-4F4E-82D7-A689A353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E76F61-4EE5-45FC-A68F-CE2B3847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A0790D-12AF-44FE-9CB9-66957A24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6E6B94-4CEF-4F92-BDCA-64CD979C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8D81E6-3110-433B-80C2-4F20BA85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D926BD-9264-4E0F-8831-D6D97F971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FCF5B0-7CA2-4231-954F-84771EFF3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8644C7-B35A-4616-87E0-FFA6A0A81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1EC559-BF50-4C31-BDE3-C4DE368B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B16786-B342-48D2-8F71-9775554D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B6D3-BCF3-4774-86FD-9A6182B0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88A3F-53BD-468B-B866-0793C9ED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07FC2B-0D07-4D68-8B47-7C84472F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7E8741-EB66-4BDC-8EF9-1C0E5BB6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E5CCA2-3583-4FAD-BB6A-414216C6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5981AE-68BF-4515-844B-D6206612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EB7C94-99C7-4D22-8980-0CF7B29B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072EFC-F6B1-4ED9-A30B-6FA0F233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A46F69-0520-4919-9CC2-008D21B5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1D063D-3BED-4AA0-BEDC-F51C4D6D9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DFBD54-5B68-48C8-BA21-7D481DD1D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AE22E8-B361-4B77-AD28-7615F5EA3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95A5E-C7E5-4648-8854-7CBAEEEB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9A023D-72B7-4800-A24B-3173431A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A11186-D2FA-43F8-92F1-72BEFE93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CAF365-B3BB-48AF-9191-6CA35B29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ECCFB6-3019-47BE-BFD4-47C5C418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32C833-0B52-4FF3-B312-018B753A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A43404-C3F4-4977-92E6-D35D8CCA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9710AA-22F0-4FFF-B1FB-5EC111DE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A01B04-FB5B-410A-A48F-54732FC5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9081EF-FE58-470D-A19F-085CF484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9F74FB-4E98-49B1-971F-1295ED624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E87E1-BB28-4D4E-BF42-27ACAFDF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FB1116-10BD-4A61-95CA-D196F62D5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92C02B-276B-47FC-BBA3-314778336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E4D5E9-F756-4B12-BEC6-61677B6B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909EAD-FA98-4B53-A234-17F54B6A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AD8A53-F9DE-4087-82F4-17F4E676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972244-8D4F-4438-9715-F6684434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A66A54-9086-498C-8C8A-02BCD757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99497F-5EDB-4324-828B-2BB785DA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8156DA-00CE-4CCB-AD40-B1DE87D1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1AE429-1544-4260-8EA1-5236CCF5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A331C-31A7-4E77-91FE-D5A3E345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ACCF63-74B7-4A8D-A17C-B9F15627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44D85A-0543-4227-AAE1-2AE90D9A1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1A4C7D-4F91-466D-992C-854F90614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E98421-2C6E-4DF6-B98A-E93EA918D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F9A76E-5C02-4B67-AA4D-99CF415E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270B9E-4A05-40CE-95ED-095A877C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8B3A4F-81D3-42CF-B742-24472646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D56A64-FC67-4DA3-A64D-74235EB7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D45C01-65D5-4DC1-88CE-56453A2D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44DA62-47B6-4A3F-A98B-16764408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5C919-BF57-4E15-85B2-71275B9D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B30151-FA5E-4A4A-8EBF-BBEFA9FD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B3BD51-524C-4E44-8F24-F5363B10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9FAF61-23D2-4FE0-A918-A003171D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59D705-6FBA-4160-8585-BC093D88D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9328B7-21F7-4F44-A911-7A1AEE991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C9E48A-5C6D-4C74-AF2D-E114B27F3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11B3D5-80DB-454D-A992-5AE03C5B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BFE9AC-4EB9-417E-8B7F-DA3A24BC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BA217F-8D51-46EA-B253-9EDFB298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044487-9DA8-4106-8548-8B49768B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3A549-C353-4C27-9C0F-D77438FE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23808D-C09D-4DF6-8B78-734D30D7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02B536-B44D-4C17-BBA1-6DD382BD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8778FD-309C-4353-8135-8D45C6D8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61DAE9-1A1C-40D4-B757-28D544A5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49CFEF-B49B-4165-B44D-92ECC348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0F7824-D7F0-43A3-9513-BE3EA3BB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F1E49F-15ED-4E6B-803F-B16581B65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23799E-3415-4507-B1BC-0EB149301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FD2299-0FBD-4ACF-BF2A-283D53DC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00D539-E1B3-479D-B54D-D8039A3B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39430-54EF-4DCE-A9A3-3DAC392C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659065-C627-418F-87ED-9E79D1CA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65BE6B-2649-492A-BB5E-09AA6311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7F65C4-6320-4268-98B3-807D1711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C27D66-9709-4080-8FAF-4C2246F6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EC2CBB-FA52-40A3-8656-80A70214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CA7F48-4531-4D0B-9C7E-FFC14CEF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0FAB88-4228-41BD-9D2C-28F33971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AF6A69-AF37-46C1-BE6D-1DEF4D904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C4539A-A93E-4F45-B944-D79101DF6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508B49-B931-460E-8E65-04ECB95F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04361-C300-4AA8-B68B-7688718B6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A7D9EA-2C72-4450-B891-E365013C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51DBEB-4B02-4303-8CF3-7B4CB29A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378399-8656-4502-9F2A-CAF39651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76C814-305E-4940-9DBF-B8C8AC2D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991202-8E78-431E-A85D-CDF0B9D0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5A5564-70F7-4934-9AA6-35A24596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1122D3-30A2-4E1A-A0E5-325CFD08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8BF4A9-2EC5-454E-AAB5-C31068BA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D63B95-B05A-416A-B2F2-E96AA2EA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8D6096-3CD1-40EC-A147-D3638EE49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7850B-3374-43A4-835D-D7B4DC130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FACD81-EFE4-43C4-A7D0-BC9863BA3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7C4C5F-CE7F-42EF-84D7-4CC91C7A8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314966-422A-4BCE-825C-E54270BB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0F3E60-DAC2-4988-A152-2C0F36B4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00EEF3-3089-4A22-914B-7A045EFC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5AC80C-3BF5-472C-80A3-D0FC0A78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118AF0-58D4-48B1-B287-71E9F16A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3B4157-37F1-4265-9F69-C1B68CBE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51F143-B5A4-4FFD-9853-346D78A8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D2BCCC-2BFC-4C38-9994-97DB78AE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5A3BD-49DD-425B-A5CB-35F607E7C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BF7DF5-EEDF-430E-8C29-3B27ACAE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10A6CF-4A1B-430B-B84C-E29E4BA1D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25E92A-EF90-4AA2-A64D-761A138A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FF1BC9-1413-4B6D-B4DE-8D7FDA378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F06FAF-32F2-4C22-A534-B02CA409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911007-28A0-4FAD-B68B-6DFA9069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91C2DC-C8DC-476A-8760-926F890D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F2A2E4-8F95-4FF1-A94C-69C0F8E4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F73A8D-641A-48D7-81E1-E7B79121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E46078-63D2-4F81-8050-5DD98284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8133-622E-4878-A459-33CB34D0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E38E6-979D-4F59-93EA-0DE0A2B8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CE8205-E8B7-4834-8B70-EFAE0305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890792-F6DB-4581-95FF-E67B763D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8FC758-9A0C-4666-A42D-232D5A8B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F3E726-604E-41A5-AD08-A4754C828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C89E75-5376-4BB8-B428-FBA45A17A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107190-AF01-47BE-8CE5-0B3CEE8AA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0FD23F-C7FB-4832-88E4-FF819E54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9E4B59-2FDF-4196-89A6-CED82C05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50E97E-89A6-4F71-AC91-A167306D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7FF932-E4BD-4FE8-81E9-31709F41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84CB9-5A4C-47D2-B4CE-41445AA4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3E031E-849F-41DC-A5E0-E7A6BAD2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C20B4A-41DF-4ECB-91C6-FA4EB15F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7B4E96-2620-4D62-8775-9B50116F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9F8608-E5DD-45DB-B3D9-A712812F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CFDC46-4A74-4A25-9EF6-55CF6D96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FD860A-728B-4C6A-81A0-0E377C9F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8AA0F0-872D-479B-AE6D-62F3D9F83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B699454-07BD-438D-8882-AF42DA207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00D1465-DAB9-4BD4-8D55-A600E0B7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CB9F643-0EA3-48C0-9EBC-E036D334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F2711-9FC2-4911-A495-8DDEF0A0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DFE3F0-821B-4A3C-94F5-54BE05AE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D39AFC-726D-4BFA-961F-3A919CFC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0C5BDED-6FD0-4ED6-AAD1-B33AFAE6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70DEFF-C08D-46CB-B7CE-C87DD668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4F410F9-24F7-4100-87BA-A48B55F3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336DB4-40D1-41E7-A35D-D813FA32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7F3677B-A3EB-4E24-B864-82F65E2C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7BB7EF9-0841-4BCD-A9CB-F1EC70386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1A12AC-1293-4C6B-AF64-A5634D710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16CB86-5492-45B3-8775-344E107AB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B0080-A55E-4CA1-9596-43EB23DF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B33F06A-646B-44FE-8C05-08D3B647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A47F491-B56A-41BD-813F-2A9A6F3C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A54659-3144-4EE8-ADA8-C9F6F164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603CCD-BCDB-43CC-BFAC-841028E4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7EDF00-CD0E-407B-825E-338B666B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44978A5-E66B-40B4-9B07-DF07C410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6A07C81-CB37-4496-BBCD-4F15DAB4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6A072CB-5DBF-4B2B-8190-505D81F1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4494E3C-4D20-4D73-B88D-86B98E11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55B2296-F23F-4BD3-8A90-D464AD206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8514D-DE20-439D-95E9-9ACB8322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A2C7A9-622F-4C31-BD6E-CA90D8F73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45EEC0-D513-49E9-B83D-5B119A336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2C9F4A-0701-4DFF-B4A7-03D5C77D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7B07660-D2D6-4150-ABD4-2A94E7C4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EC24898-71EF-48B8-9679-7C54C072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4849670-8412-43E9-8069-E4277C3D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8CFAAD-754C-4DFA-B7BA-92C489DC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64BF55-2685-4DAC-819F-C7B0BEC7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0CF49D5-B616-47D6-A43E-6A4F9451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518D3F1-ED5E-4FC5-9E68-45FDA9D7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54E04-DACA-47A3-944F-9D765898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8DB5E2-C05A-43CE-8411-75E2A2BD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4DBEA57-8B08-4253-86E4-0120E24C0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606BB9C-104F-42E2-A829-1555DF29E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DD5EC1-8E26-4F16-88E8-EC3AD22DE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1DEAD9-6839-494B-8213-F96431EB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694FF73-3F7A-4968-AD6B-B05B0ABB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D43134B-985E-4145-A3F6-B9725E2C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D35D742-4826-462D-9758-00D2D0A6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42DC27-DB87-4358-8017-FAC5D98D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7DF6456-52BB-4EBF-880B-FD67A83A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E7D8D-4695-484D-9F22-805EFCDA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8A9D39B-2B86-4EC7-A52D-7B15F51F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99D13D0-5597-4FAB-8DCD-0EC3C7BE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1E84B7B-5C4C-4AFE-AB80-3208BC2C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1223031-958C-41A1-8B17-D93075F39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6F86EBF-B198-4A6A-87F1-5366C7820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F29125A-08E6-4A35-AC45-6AAB1A1C0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C6FC2A4-A1C7-4983-B3E4-59C8DBF2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9CBFF41-E905-4BFE-9C84-A45EB746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EE76F91-5BAD-4EF0-BEE2-DAF9AE32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48B887C-1671-45F0-97B4-1802648F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188E6-1827-49B0-8C3A-43F363D0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CA06668-8160-4A2F-A476-CE4EC8D0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8AEAE1A-86E2-4C1A-8DD6-634E3F9C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24095DF-4619-4E42-93E5-0894C463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D8DC683-FC9C-4A8F-90DE-22D955D8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D8A10D8-EF83-4C43-9350-4938DE57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B7D6E4D-4E0A-4760-81CD-03D06B845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3AE0BD7-FD4B-4DD9-89E4-7FF60AEF5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1FE19B9-F7EF-497C-92FD-FDB5012A7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7AAD7B8-BF4C-447B-96BD-69FE2FCA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03392EE-D1F6-4D18-8525-BF2FDE1B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0EE8E-A96A-4BA4-A9E9-48BB1F71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62D0B66-466D-4AFA-8109-24F7AD31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448F989-194B-4C9F-89C2-179A5451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672F854-415B-492C-963C-F44EB49A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7F8240F-DB06-4997-AF74-A933CA74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AF4CF1D-C236-4C24-80E8-FD2BB889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CEC97AF-3A79-4F9A-9BDC-52B22683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B87A063-DC05-463C-BDC5-7D98AEA2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4435DDA-D6D0-4310-B526-AF0E0D007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5B813FF-04F2-4206-9027-FEE0F1C96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D1E5E57-43FA-4C0B-96D2-66759E8D5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49E23-4D32-477D-94F9-D68B566DA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160ABDD-565F-463D-8691-1A804D8B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913405C-5BC8-429E-9B83-1F1FA8A0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FDAEC72-A0C3-4FA3-8A38-B5BC1D04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CC3B665-2918-47FB-B6D5-A5244FDE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3AD9929-498A-4EB9-988F-4B3F365A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26925AD-B2BF-40E9-8D2B-82BCE634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7AEC807-1792-4CD8-AF2D-AC40480B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0281119-613D-4F5C-8272-BAACD297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ECA56BC-70A4-4B5D-8661-2BB06648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5ED6565-6E76-43CA-888E-AFDAE5958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8A65-6974-4D41-9842-AA4A642F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8B02B-633A-40B2-8452-183FD4BA0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BFB20B5-AC0D-4503-AD70-E9E128B5F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03000D9-64F6-4BB0-8C4F-213669EB8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9234935-5CC1-4F19-A079-D675D8DF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9C89E7C-8DDA-458F-8050-C1EB3C2E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D1B7A45-D738-40BA-A944-18571142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D580D6B-8D39-4CBB-A7E3-9176CDDD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B5AC9AD-62B5-4E9D-AD12-262E2572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7AD2D0D-476A-41FC-901E-3DF306ED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8887A90-41F2-46CA-B33E-B2A58F3F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119E4E3-CCB8-4E70-8883-B530E1BE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F8224-8A79-463F-BB45-FFC8DABE6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60BC212-AA38-42DC-9E0F-01D62341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58D25DD-15C3-452C-B7C3-0FEA80E72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F69EC5B-180D-4B2B-92E9-2911D5893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4DB915B-97FC-43C9-B8BC-320E807D8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9FD76AD-B25B-42C7-ADC8-EC2480D0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3B9A596-E1B3-4FF6-BBEF-C2356AF3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E829DF9-934D-4623-8622-21F660F7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184A31B-B8BD-4A5D-B340-EDA1DA62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29BEB69-0B8F-47D8-BA94-44188C7A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020EABD-5166-4765-97C5-C18945DA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14764-B235-4A29-8636-90CA6940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B0F2D32-9B38-4EAB-9E0C-42618D0C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A72C555-686F-45A7-B75A-8895EFB4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63ED664-F2E7-441D-81DC-6BB37332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084549D-C6AF-4772-B884-2E43D6636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6ED74E1-A3B4-4455-BA6D-9566B1651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8C3EB4E-D8BA-4087-A98F-8754AE548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322DA43-C281-4400-9196-E6643C16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1E3F21D-CDC2-426F-8EDD-9436359F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25859FC-08ED-42A0-AD1D-9B31B51A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AB54933-0114-47E5-9646-8A4357FE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5741A-9EF0-4514-B6B2-7EB2D51A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106BDC0-3BB1-43F9-B6CC-2DF7BCD9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A31F2BE-952D-48B5-830F-7CF3A034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F2E2CB6-7536-4AAD-9B66-41E07B74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3501560-D455-41D6-82B5-A7F9D516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5521F7F-9A18-43AA-B323-8E4FF1E3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335E26E-7C5F-4506-AEFE-A6537089F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FD2A681-4616-45C9-B936-0CE973BA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053CD59-07AF-4470-861B-D71D18F2A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49E138C-E03C-4E79-804D-44CE9B10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45FE4C9-319F-4F39-9F2B-E3850E9E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99694-2FE0-4CCC-8F67-1C16C820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7FFEAA5-6C50-4B99-A6D7-E80ED58C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2BCB2D3-FDDA-4CB5-B653-C704EDB1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410AA43-554E-4CD6-9819-BB21FC0D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AE9A953-A067-4B2C-AF60-E6F8F395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6CDFF49-5591-4348-814C-2DBD43C7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5FDBFC1-371D-40D3-A3DC-BBB9F214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05A63D3-AB62-4D83-8277-F9F106E9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4B94D59-F1B3-4AC9-9340-EF2708410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858F68A-A4EB-4757-9A21-03D2A426F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E36DAB3-F03B-4B34-B746-1945C37E2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972AF-8A24-4087-86E0-ECC0AE16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A4E3624-B528-4293-97CE-4CFF9741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49A5113-1CC8-4315-903D-F3259BA6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B19655D-1A68-40FA-B6AD-35014225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F387381-40F7-48C6-9651-801E8667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0A1C5E4-79CC-42FD-B31B-811AFCD5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6EF39C8-C421-4329-BAA2-A801728B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C81EF7E-539F-4741-B10F-DBCDCE9C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863F946-9260-4EEE-8428-28F36F9F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9582674-D525-432B-83CE-BABCBB20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3F3A091-1587-46B3-A446-5D5F7FE7C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94F1F-22B9-4EED-9623-F9153FAE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FB10B57-FC4A-470F-B01D-807C28DCB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CB90224-8146-4634-953E-E5882332E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92125FA-3CA8-4B16-8027-67E75320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AFC8F48-D777-43E4-BDBE-08AC4FD5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053AA64-B544-401F-87A2-CD42B915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8080890-9B86-4AEA-B797-0DF291FC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7317E89-42E9-48A9-88E2-D85E624B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4D22195-3D38-4884-8247-23DA771F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F533630-3E88-4CC5-9615-21475F07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2990F28-BD3A-4E30-8D47-13578569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95E4C-933D-4D0B-AE6C-3B6AFD34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8442E0F-D137-46D4-8739-50AE2C15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6771034-087D-47C4-AE3F-294817102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85B24BF-69A4-4D46-BD62-BC956BE25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A966C39-12EB-42CA-A7D1-64AF09C61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AD04DD0-2602-4CE6-A01E-3770F831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A869050-5A85-4590-8A64-4B725027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427497D-4BE0-4375-AE54-500031EC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A046106-AD3F-4178-8C1C-84B8D02F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3ED734D-1CFD-4776-ADD6-BF66430B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7E7B1A3-D422-40C1-B9D5-1B06C383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46862-2F89-40C8-8EAE-9A791B46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87C5A3A-6AD0-4F19-8CD9-CF6F0715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6B6796D-EC17-4912-B3E5-5F1DF678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DCEBDA9-95C5-42E7-B4D0-DD6FE749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E7CA234-B9B1-4B5A-97B7-0FD1D7455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3B8A46F-A905-41C8-93AC-EC1301C1D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220FDDC-24F9-4175-A016-ACE833A6F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0710441-7098-496D-8A80-2C5FF762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005C13A-2D05-4837-A4E9-9A25D214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15E8201-CA5D-465B-A377-6BAB53B9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A28F628-2F02-4115-9015-29C92485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7B348-33E8-4967-AD58-C4F840DA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9D972CC-7B60-4E61-81B0-87A2A6BB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18536DB-8882-4597-9574-8B38CCB7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B77CADB-AB25-4E40-A798-EFCDFA4D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AB0F949-B9EF-470F-87D4-EE5DC49F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2584932-3E82-4A3F-9E68-01050AA9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064A056-37E9-4959-A6BA-378C9F17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EB3BE4E-E92B-41E7-96EF-5F2E8E783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92C6C5F-9C61-44F5-9713-9D1028026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7E26FB3-672F-4F6F-AE17-658DD5DD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4834841-F928-41F6-9204-5C70211B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1B34-2832-49AB-B8B1-8A7CEFD7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B82CA-326F-4CF1-AB05-11DB25B1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F31468F-34B7-45A8-ABB3-E59997CC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8DA8D5C-01D7-4FD5-A0C8-707101ED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EC3F9A6-7AA2-4A34-8E02-9AF79572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2ADDF9D-9AC2-4564-9F73-6F3AA2EC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43216B6-B959-4177-B411-92EBC5B8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0A95869-E800-4576-953E-CDD8DE01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4560E36-B182-4844-AD2C-A9DFB447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65330EE-1BF2-483C-9E1C-ED48D6773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90AB8C5-461C-4858-B1AB-8F63301BB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929C2DF-9070-4235-BD30-0DF377AF3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43EBB-0F21-42E6-8210-FBA42C6B2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5F811CD-7862-48CB-A2F3-6BD50E72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78A910D-B803-4035-B031-30176AB5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150DE32-112A-45D3-8836-7CF5D360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38C800F-1C95-428B-8D72-299FDCF4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51678B2-8139-43CF-97BB-782CDE8E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011BC56-839F-40DF-9ACD-EC7ECF1D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438B0B8-3AFD-4338-87AC-E6306A3A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2464469-351D-4112-A052-23B82656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28F05AE-9C6C-4B13-9A23-81E90D21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397A000-4DE6-414E-9152-6B4638AEC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CD308-D4C7-48B9-9C54-85B7BECE6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64EE9FA-2992-4D4D-907B-777F8AAB9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8974CB6-924E-4FC1-B8EB-32AD06005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4D6D07D-F949-40AA-A425-FAE14ED6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08C3FED-3965-450B-ACDF-E8AB9374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BE2AA45-E9D9-4B0E-A2E7-B8E08382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6579B05-3DBC-4BE7-BE71-820C893F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856E549-E60A-43FC-919D-6CBD183C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8D81194-1784-4154-97DE-A5839E55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D36B900-C613-48B4-B8DA-420C824F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85000BA-71C5-4B4F-BBB4-1E1F37ED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D5EBC-0760-4560-917A-BA331F3B3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FD2583B-B977-4D59-9686-9D59AE73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D19D477-A780-4D62-899E-81203894F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44E8D75-3EE9-438B-B50F-A1C5C3240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8446A77-1C7B-4CE4-AD01-441450DB9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C9EA5F0-F29C-4551-B0A7-272B4F26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C6B66EC-39D1-4E68-BC3E-9CD6CA8D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F57D90F-327B-47C3-BE2D-185A0431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34868C8-27A2-4A19-99EE-F4D94043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312B335-0844-4975-B50E-C36AAC65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F5992F0-DBCD-414D-B712-9D8D0A71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C1231-5AB8-477A-92FA-3402923A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6A70A78-8A65-479A-BFA0-48911BC2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63DBBD3-5437-4542-9D8A-7B684AA5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F12821F-8A5A-48BB-8A76-7A494004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51720EC-729F-4C1D-9170-34995737A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9804648-A8F2-468E-A4E2-A668F614C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FF60B5D-3432-4C81-BD89-AF7AF40BA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E2D8770-7448-4632-8F79-36F3C7BB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EE5FC1F-5135-45AB-943A-7D26D475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E16E72B-FCAB-4A9F-9FFA-70EAED13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C184A0D-6E70-4BAA-86A9-47A63140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EAE5C-4206-4BFC-B7E7-11547DD8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38E63A7-5572-4E12-867F-4D001CDD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AE64D44-C4E0-438A-B646-5A77194B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D974311-B64C-4D57-809A-43D24BA0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392DA90-185A-442A-96F7-F3617DED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84EF801-E5E9-4C58-80C3-D53ED749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FF892FF-085E-4B28-8645-7426CCCA9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005C76F-4942-4ADF-A42F-82FE13C6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280DD05-5636-4AD8-866C-F78E1472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C1912EA-CEBE-4586-B423-70E7E93B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821022A-5BAA-4D9A-897A-DA6114CE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A920E-3507-44D6-80AA-C22E44B5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6648719-4821-4A97-9C44-DB723D92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705EAD7-13DC-46AE-B7B7-DF74D322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D27D3D2-F704-4E43-926B-85B0C821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7854341-2646-4E3F-9019-8EFEC5AC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734550F-E05C-4432-9893-2A11D46E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946FA39-BB13-4F26-A374-8EF8EC13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635A7AB-0425-4181-971A-9D565726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0BDC4EB-F250-497E-AFA3-B4D149DF6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623CEF8-2982-4C21-9B45-FC1E9D95D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BD0F160-8E3C-4C25-B66D-52BB754C9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EF8F7-35B8-4045-9E79-14F5F2C3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4D95316-C94A-4CE1-B23B-EA93AC98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5C57870-D30A-41C1-88A9-28AA39B9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B753327-8A74-4AFC-A087-81F11437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C099075-9A3E-42D5-8911-ED176D6E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29456CC-8759-4DA7-BC16-77F6B09C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309FD0A-6A37-44E5-AE2A-5B16595F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EFA8A09-6F41-47F0-BBE0-FD870A46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2A7B1F4-E332-4A3F-8971-7BA2EA48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EECB11A-A821-4C97-AD7A-25438B9E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3FA141A-F948-45B4-BA42-7EABE7508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1B873-B678-4AA2-968D-E8621FD3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6C6479F-CA76-42DF-8C8D-05297A53C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3CE1B0F-9EC8-44D8-A03B-F1598E709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B7AEBF2-EA7A-4F22-9DC2-8B48D08F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7360DF5-269E-4E28-818A-B6A54B5F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C04A4CA-E90D-4E59-9DFF-BE212B41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2634D13-83F9-43D4-94E2-0CDD61DF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B35ACEC-BEF8-4462-A6D9-B4B9ADBB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BE5587E-4EF9-4A6A-8863-D8CD26D5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44665AB-B2A2-4245-9AED-44DADF81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47F9A5B-28DE-46C7-A08C-D51E58D1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33F79-C77C-4D93-AF18-4EB72C65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F3E047D-08C1-4747-888E-BF9966A3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99B2040-15AF-4348-99B0-C3878E33B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4E7A6DF-235E-4A72-9506-EAC5F0C33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0D4934D-E732-4471-B007-7B08C2391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423E3EB-BBC4-4394-AA35-9FE4D589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EFAE9AA-F5DF-4CE1-A3C3-BAF41D3E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9315089-7C46-4B0B-90A2-133F9C0A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6CB182F-4248-4E78-8A23-4629CCC3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CFE9C25-50DB-453C-81C1-17172143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3134B67-0332-441F-9259-3012384F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66D6-919F-4B37-9F66-1909895F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A3DB9-8998-4DFC-B2A8-58EA5ED5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EE5D975-59B8-46C3-A881-7A6EEFE4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F41FBCF-BFAA-4173-B6BB-AE43B0DA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66E5E82-0D66-4FBF-85F7-3A42BDBD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053E6AA-8B82-4D8A-97C1-4F106ABC8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F46DF6B-4450-41B8-9827-6D39D6BFF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64CF52D-AF28-4F8A-8E26-22292B9FA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1CF1DAE-FCA9-4A9C-94D8-9DE3195D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11314CE-ACD8-4FFC-AFB5-29F47998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F26A7F5-3873-48E7-A2E3-DBD3F8A3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08620EB-9282-4A39-8A7F-6527B915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8FC2F-F850-4C73-A33E-84DB6709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6760124-D69E-4C66-8278-EE739071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C14F185-0222-4E2A-AF71-85E9AF4A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0829D01-2925-4A21-9532-7967B1BF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EB72C30-A37A-4D65-A302-1D882639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D52226A-8932-4614-BE7C-C94747AE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5E793C1-127E-4D5A-8B36-71D303A27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E91FFC0-9349-417D-B6E7-3FE823ECD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B0F8674-DFFB-47F3-A08E-C6E49DF11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1DE2FFE-4E7F-45E1-A5DE-D51D6B86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3D7D7CC-B82E-465B-AC2B-D9479E17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8A2EA-F97B-48EB-9F02-403110C7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0E5FCE2-BA58-4F15-932C-FC4CBBF3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B01F443-F4E1-46C6-AA16-36E5A381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5EF4984-E26B-413C-ADBF-245E8034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88DB51A-0DC5-40DA-9878-1E534F21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190898C-106C-465B-8B85-C542A250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794A663-0999-4BBB-A86D-A78082A1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A3157E0-BE80-4B97-96DA-7AB30DB3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FB8810E-734F-4666-8D8A-7CFE0FF6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F736CF3-2D48-4F33-BE99-D2357EE6C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4E25EBC-06CE-4C53-BCEF-3B682DE1C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ABDC8-0926-4C06-ADED-0A4353A21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ECBDB36-73A4-4926-943C-A0CF55E0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6627727-CD3D-4756-92E8-2606FE8B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3882345-FF9E-480A-8AB6-2351982F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B70B036-579C-45E5-9D30-C71949AA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7B485DF-0FC6-426E-A1B2-1F4FD86B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91E8441-874D-42AD-9FC1-12B53AE9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FF7E658-52B6-4498-A3E4-F8B2B0B1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DDED087-C446-4950-98D4-7F2D5E73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6963806-5E1D-4A7C-BB5F-DC36E381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70F1915-924F-4D8E-8955-176B12661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D682B-5302-4959-8056-B1B87879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73E2DBE-59FB-48A4-BF8E-65AD9035A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B656CB2-D7C6-4C3A-8C81-A38931C7E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5D4B9F4-B8A4-4906-9E54-902003FD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D60B2D1-8B48-4BAC-BE62-8F4D22CF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608DF47-2D41-47E1-93F8-4F9A084A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BD9A8BA-0B71-403D-BB4E-28ED0039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AFFF7DB-F0AF-4019-BA57-439A7D25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4EFFEC7-8D80-470E-BDE7-1AF0A2D3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EA5DDCD-9F65-4926-92B4-2BFA4C3D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8002489-307E-43DF-942E-D093B35D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D27B8-D2A6-447B-B9F5-57D542B2F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BCF617F-4D9A-440D-91F4-FCA3BE49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E5695DF-6FDD-4C70-9401-1508E7215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06004ED-4711-439A-B8FD-A6992602F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1255AF8-4CBB-4E69-AF5C-648C0804D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C9402BF-27C0-4F71-B866-E10B6F74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4025EBD-CF72-465E-BF36-A34D7485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BE3788A-C0BE-468B-BDF0-D3AF75CB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A0C75D5-FB26-4907-B96B-FEAAE28D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A9F3FD2-ABA8-4250-9EDB-F09B5B17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9881A9B-1412-4A9B-AE88-A3B44976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2EB04-13FB-4FC2-A02A-02D8E826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EA1E0D1-3415-422D-B73B-6A7A2638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DA672D9-9357-4BFB-B2BD-1DD1DEF2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E6FA92F-4F76-463A-AFF3-7E2B4EAA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3EE4929-23D7-42E9-800D-D8C055C0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19A75CB-BC9F-4D4D-A0CE-4CAD86273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6B9EF41-6C9C-40D5-9549-9E88FCA3A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C4FAFBB-449E-4799-8508-901C5597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09E99F6-A1BD-4FB5-BADD-50AD8931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C7FEB35-D34F-4456-AEE3-5F4B06B4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124B16F-F9D0-4DCE-BBC3-24C8A95B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58344-E062-4475-BF56-6ED344B0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5290EBD-81A2-4D8C-8529-EA8E2A20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39C4F38-D429-4832-BBD2-74AFC445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99A80FF-FBB8-49B9-A42B-BA2CCDC0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82E2BBF-E695-44CB-8530-BCDB9472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9028166-7AFB-43DD-A161-038F3633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BF22823-1C4C-4F1B-BF7B-4BC4FE9AA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A7575DC-6331-4888-964D-13C146045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210017F-B0E1-41FD-B259-6321CDCDF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033E916-26B8-44A9-96F8-A738E8AA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6E17526-2D71-476B-B838-4E8C3F77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B4895-D1F2-409E-A92D-8FB88E15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7A0545E-07A7-44B6-93DA-65C00858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B6BB2CD-7F64-43D9-81A0-B6142601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E4E9CF5-ACF0-43FC-98EB-BFFC2A6C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6A87B57-9844-4A1E-AE7D-2A000C0E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33F3806-0359-4C75-93BD-069C1FA4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6E13D6B-81D3-4DA9-959A-4F1B021C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5FF6D3E-A2FE-4B34-991A-41475922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9EA3DAF-FA00-41FC-9E4D-F67595863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9908C66-9686-4735-8C8E-317BB95C8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53E2F80-0CCA-42AD-9DA5-C0EDB6D8D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754C8-B417-433A-9A6B-CAD103B5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12EA43A-AC6E-4DB2-A443-D76F48BC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6E0DB20-AA1F-4203-8FEC-D446901C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845AF20-6196-4935-91B6-21531041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8BDC523-C3CB-4059-B755-E950DA71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805D501-6893-4420-8954-7636ABE5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1F54E77-CE1A-471E-B517-0DA14AEB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26F64F0-1D18-475E-80CE-F3FE5327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0B9AB6F-0CCA-4970-B0B7-DB40E4F2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168676B-0CFC-4ADF-B853-4F6FD8A0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963449D-19E0-43C6-B81C-F5B07FBC1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E451-0FC0-41A9-B700-BB392A66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96BD2-649B-4B99-A330-9112CEA9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5A284DE-DD27-4CD6-9349-7B25E77EC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89B3F0C-8512-4D5B-910E-54E040DA7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A2BE692-0256-4D2A-A156-956C8C2D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AF0E5C6-E463-451A-A1D2-572535A1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28FB0CE-1736-4DE0-8B3F-33CBC73F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4B537FC-8D50-4B8A-9D23-565E6E78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E81E34C-88F4-4A5B-B937-2795ECCD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5E8FE07-0422-4C59-A346-901E445C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DBA16BA-742F-4F24-87F9-A3D2E59E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63006FD-4019-4F8D-827E-6331B920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334B1-A736-49FC-B3E7-6DDA1CA0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BCE7C5C-02AF-4CE3-979C-F9BE73CE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D4C7743-7DFF-4A97-BA98-7D987EC9E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7C4CF89-1AA8-456D-920E-CA362E484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95D4FB9-4CAD-4954-A7D6-1049BAA77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5CCD7AD-9759-4D88-BD74-0DECEE1F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0BFF503-8F68-4FFC-9766-65BB212D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0AD44B0-70A9-4DCA-A401-65E68B9A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F2E3234-D43A-4D80-9E81-2D1F6684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B6EC970-48AF-4C0D-819E-78A52DE4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06103F2-5AC8-4EDF-8E6E-38322500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1A931-157C-4B8A-A36B-235CF267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96AC977-8CAD-4EFB-A5E0-D2D9BF46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A89D416-5FE9-4579-BAE5-05D42261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A5835C1-02D3-47E7-828E-3CECA454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45C92DD-616D-4FE9-BC4D-F261E954C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5DAC710-EB0C-4BF9-872D-82D23AC72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AA8F806-57E8-4B20-8650-00E17F4F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15272AD-80C4-4EC7-B9E7-5DC26A5B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C65D8B1-B8B2-4224-96A8-1526C570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C43A873-68E3-48FA-98C6-20F21C2C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53575BD-1116-4043-8DB5-AF6173A2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33932-57A5-40B4-8D7F-AE87EC38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D62552C-E7E3-4AB5-BFA8-A72390E4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545F2C2-9C29-4E73-BC7E-3CCAF88F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A01633A-45F0-4117-AA01-7C615AD7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2B873F5-EA13-452E-8CB8-EC41B8E9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29CD04C-41C2-45CD-8885-4C939464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392E66A-173E-4FC6-B303-A5230864C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F4DBFFB-A0B1-40E6-B701-6084A740C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A4B414D-F602-4287-92AA-4C5C354A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11C2364-3D8A-412F-A867-6B4C7274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6A1D95F-F65A-47F2-B4B0-9095064C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2A5CA-2C48-4297-89CC-05A1C290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35312AA-C333-464C-9CC0-195194E1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372BD2D-021C-4093-BFC2-CEEC3408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58687F2-8C89-4DCB-8D88-3F45502D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02DEB88-79E0-49C7-A40F-15D160FA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6208574-45DA-4ADF-8A1D-2811EF7F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2E08A0A-A844-4511-A9A6-9F268679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187ADF4-6DEC-4F91-B9C2-DE06FFC7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F51CDEE-B25C-4A79-999E-F6B637E18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7EDC244-3DEC-4F11-B81D-62C2FF762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6B859D8-B0D6-4E99-828D-9BBDCE7B3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700D5-30CF-482C-822B-3370974E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1A34479-BEFE-47B0-81CD-A9FE600C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F6F220AB-19E9-4264-8E77-79553584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9F3A321-2AD8-4844-A110-ED28C526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D37BC3E-FDCA-4374-B41B-06EB0528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BEFB319-A46B-4748-ACCF-24DAFB90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23A3113-A6DB-4EC7-81EB-B8C0F893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FB21034-62CF-477D-8A85-216827DF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FF450B5-C72B-4338-AC5E-76245A4E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124EA92-11CE-41B2-A9FD-A007676B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27FBD87-826C-4665-87D4-6C5E033F0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D7B79-E480-4DA7-9652-43CBA5E1D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92BFCAA-E9E9-4EA0-9B98-A5117A4BD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D4901A9-DEDC-4C1F-BC16-2F6AD5F9C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904F052-A221-450D-9090-3772D7BD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1EC452E-1A0B-42DF-A923-44748603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D369201-EEA5-4C5C-BE76-0C7C8F8B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ECA05DB-DC5E-4B6D-9796-D7612AD5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0BA95D7-6293-48E2-A47E-A61F7536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BE019D4E-8409-4460-8A5E-EB97C34C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BD669B2E-EA52-4BC2-9A1C-07A74738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37D7585-1F4C-49DF-BF61-A4F878A5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D5198-727A-4016-A371-3D47799F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B242ABEF-861A-470E-84BF-CE9905F2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C4C9EB9-C79B-44E6-8A1F-D70A2EAAF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2545A49-C069-4DD9-9B53-D6E6E5DB5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67348B2-56DC-4491-AFD8-8F6F57E7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76C61685-2E3F-4BDF-B475-041B0806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C562249C-2DD5-4CB3-BE96-677199E2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648DDC2-712E-4190-8F74-FA0BDB03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47A06BF8-2680-431D-B0A1-7658A73D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19680E24-4B9D-42C1-9F3E-6BB2967A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EF4A432-5A9B-451C-877E-3D8129B3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50ACA-BB22-476B-862D-F348B71E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7666B719-88C1-42F9-9818-47BD9FA5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D2F361D-A86E-42A4-AE8C-40449859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B5C33B18-233D-4580-B3FE-69D2F0CC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C8FA33BF-7A83-4A5B-B6B7-4FA95A2AE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A2EE81A8-5D59-4EC5-A9EE-886870E3E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C6FE06E2-534E-4930-B372-C6A1CA20A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F684A4DB-E61D-4C89-96D2-3847D6C5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82A7329C-E439-492C-9EF9-B64D2BF3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38200132-39ED-472C-BB55-7397BE28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617BE40A-8D0E-4CE8-AF3A-F89BE882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2212F-63EA-45E0-B98F-88A11A4C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814157A1-1EA9-4761-AA0A-83E4D409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314DF029-FB6D-406B-91A9-868F51FA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B709D1EE-CA81-4A49-8E75-B123478B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469D275F-CDBD-428E-8AF3-C84354AB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CF8F4002-9678-4B0E-BAEB-3ED23FD5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A019319-B80B-40B8-806E-DB68D0253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B0303719-F264-4A13-B1F0-6562B682D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2C4B7EA-00E7-42F0-8A68-BDCC2595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D1DEB6F-5699-4CA6-A9AB-4B71754E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85B8E7F-5B45-418F-B19D-A83E5778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89.xml"/><Relationship Id="rId5" Type="http://schemas.openxmlformats.org/officeDocument/2006/relationships/slideLayout" Target="../slideLayouts/slideLayout890.xml"/><Relationship Id="rId6" Type="http://schemas.openxmlformats.org/officeDocument/2006/relationships/slideLayout" Target="../slideLayouts/slideLayout891.xml"/><Relationship Id="rId7" Type="http://schemas.openxmlformats.org/officeDocument/2006/relationships/slideLayout" Target="../slideLayouts/slideLayout892.xml"/><Relationship Id="rId8" Type="http://schemas.openxmlformats.org/officeDocument/2006/relationships/slideLayout" Target="../slideLayouts/slideLayout893.xml"/><Relationship Id="rId9" Type="http://schemas.openxmlformats.org/officeDocument/2006/relationships/slideLayout" Target="../slideLayouts/slideLayout894.xml"/><Relationship Id="rId10" Type="http://schemas.openxmlformats.org/officeDocument/2006/relationships/slideLayout" Target="../slideLayouts/slideLayout895.xml"/><Relationship Id="rId11" Type="http://schemas.openxmlformats.org/officeDocument/2006/relationships/slideLayout" Target="../slideLayouts/slideLayout896.xml"/><Relationship Id="rId12" Type="http://schemas.openxmlformats.org/officeDocument/2006/relationships/slideLayout" Target="../slideLayouts/slideLayout897.xml"/><Relationship Id="rId13" Type="http://schemas.openxmlformats.org/officeDocument/2006/relationships/slideLayout" Target="../slideLayouts/slideLayout898.xml"/><Relationship Id="rId14" Type="http://schemas.openxmlformats.org/officeDocument/2006/relationships/slideLayout" Target="../slideLayouts/slideLayout899.xml"/><Relationship Id="rId15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901.xml"/><Relationship Id="rId5" Type="http://schemas.openxmlformats.org/officeDocument/2006/relationships/slideLayout" Target="../slideLayouts/slideLayout902.xml"/><Relationship Id="rId6" Type="http://schemas.openxmlformats.org/officeDocument/2006/relationships/slideLayout" Target="../slideLayouts/slideLayout903.xml"/><Relationship Id="rId7" Type="http://schemas.openxmlformats.org/officeDocument/2006/relationships/slideLayout" Target="../slideLayouts/slideLayout904.xml"/><Relationship Id="rId8" Type="http://schemas.openxmlformats.org/officeDocument/2006/relationships/slideLayout" Target="../slideLayouts/slideLayout905.xml"/><Relationship Id="rId9" Type="http://schemas.openxmlformats.org/officeDocument/2006/relationships/slideLayout" Target="../slideLayouts/slideLayout906.xml"/><Relationship Id="rId10" Type="http://schemas.openxmlformats.org/officeDocument/2006/relationships/slideLayout" Target="../slideLayouts/slideLayout907.xml"/><Relationship Id="rId11" Type="http://schemas.openxmlformats.org/officeDocument/2006/relationships/slideLayout" Target="../slideLayouts/slideLayout908.xml"/><Relationship Id="rId12" Type="http://schemas.openxmlformats.org/officeDocument/2006/relationships/slideLayout" Target="../slideLayouts/slideLayout909.xml"/><Relationship Id="rId13" Type="http://schemas.openxmlformats.org/officeDocument/2006/relationships/slideLayout" Target="../slideLayouts/slideLayout910.xml"/><Relationship Id="rId14" Type="http://schemas.openxmlformats.org/officeDocument/2006/relationships/slideLayout" Target="../slideLayouts/slideLayout911.xml"/><Relationship Id="rId15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21C1-6577-4403-863B-3E3AB7F1DE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e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B140-DC0A-4274-ADE8-5CF74636BA4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342D-44FC-4573-9962-FD79829690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1D61-1C9D-4014-AC49-D1487A2952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矩形 6"/>
          <p:cNvSpPr/>
          <p:nvPr/>
        </p:nvSpPr>
        <p:spPr>
          <a:xfrm>
            <a:off x="0" y="2438280"/>
            <a:ext cx="9144000" cy="33530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6A6A-8C1F-46A0-A7FF-641F9EE95A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A1F8-7655-4D4A-8406-5C949F301C2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DBAD-4E0A-4D32-8EE8-7F2088BDA81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55FB-FB58-45B8-ACE1-670412C83D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B93B-4D41-456E-8022-CE25F8F4994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758D-B094-4193-B90A-ED01132F250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CB4F-9E66-4872-8D9E-4D39AFF924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230B-C077-4B44-B075-71F105873F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832F-E9DF-4871-A923-94413EF9134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1C1D-CE80-4D3C-BC48-730AF43620E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B856-2376-4D5C-BEB5-C6F4F06F52D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061E-5078-4F70-AE94-0E7217899D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矩形 6"/>
          <p:cNvSpPr/>
          <p:nvPr/>
        </p:nvSpPr>
        <p:spPr>
          <a:xfrm>
            <a:off x="0" y="2438280"/>
            <a:ext cx="9144000" cy="33530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4B2F-5562-4458-AF47-4737AC75B25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CD68-6726-4575-9352-89C00163F2A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D389-5523-4E59-9BE4-6157D5681A8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F0E2-F63D-4D16-8984-D9F77CF2A4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5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CCCE-7CAB-4560-BE73-6876F0BA461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5"/>
          <p:cNvSpPr>
            <a:spLocks noGrp="1"/>
          </p:cNvSpPr>
          <p:nvPr>
            <p:ph type="sldNum" idx="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4F43-5205-40BD-8E6B-F18573EAF33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9875-114E-45AF-BE55-BA1FE75372D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 type="dt" idx="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5"/>
          <p:cNvSpPr>
            <a:spLocks noGrp="1"/>
          </p:cNvSpPr>
          <p:nvPr>
            <p:ph type="sldNum" idx="8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6A8F-CA49-4883-BB08-B620166AD8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 type="dt" idx="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5"/>
          <p:cNvSpPr>
            <a:spLocks noGrp="1"/>
          </p:cNvSpPr>
          <p:nvPr>
            <p:ph type="sldNum" idx="9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911B-F3FD-4F74-A002-30769E833D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FCFE-4BAF-4DC1-A6C8-DC9EEC4B75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 type="dt" idx="9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5"/>
          <p:cNvSpPr>
            <a:spLocks noGrp="1"/>
          </p:cNvSpPr>
          <p:nvPr>
            <p:ph type="sldNum" idx="9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61E6-9AFB-48F9-BBEC-BCE4E378BCD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0531-06E7-4519-A762-9E08C2C461D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矩形 6"/>
          <p:cNvSpPr/>
          <p:nvPr/>
        </p:nvSpPr>
        <p:spPr>
          <a:xfrm>
            <a:off x="0" y="2438280"/>
            <a:ext cx="9144000" cy="33530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 type="dt" idx="9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5"/>
          <p:cNvSpPr>
            <a:spLocks noGrp="1"/>
          </p:cNvSpPr>
          <p:nvPr>
            <p:ph type="sldNum" idx="9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1545-D871-4F6B-B27B-FBE1029C734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 type="dt" idx="1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5"/>
          <p:cNvSpPr>
            <a:spLocks noGrp="1"/>
          </p:cNvSpPr>
          <p:nvPr>
            <p:ph type="sldNum" idx="10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A9A3-AE5E-4041-8A2A-9AA3BC1A95D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 type="dt" idx="10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5"/>
          <p:cNvSpPr>
            <a:spLocks noGrp="1"/>
          </p:cNvSpPr>
          <p:nvPr>
            <p:ph type="sldNum" idx="10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C7E8-93B0-45BD-86AF-B4A7E36D132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 type="dt" idx="10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PlaceHolder 5"/>
          <p:cNvSpPr>
            <a:spLocks noGrp="1"/>
          </p:cNvSpPr>
          <p:nvPr>
            <p:ph type="sldNum" idx="10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66C6-1809-407D-B750-5B8ECAE292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 type="dt" idx="10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PlaceHolder 5"/>
          <p:cNvSpPr>
            <a:spLocks noGrp="1"/>
          </p:cNvSpPr>
          <p:nvPr>
            <p:ph type="sldNum" idx="1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ED60-D824-47F1-9A75-CFDA0E63DF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 type="dt" idx="11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 type="ftr" idx="1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5"/>
          <p:cNvSpPr>
            <a:spLocks noGrp="1"/>
          </p:cNvSpPr>
          <p:nvPr>
            <p:ph type="sldNum" idx="11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2F25-D25F-43F3-B961-C81657B0CE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 type="dt" idx="11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5"/>
          <p:cNvSpPr>
            <a:spLocks noGrp="1"/>
          </p:cNvSpPr>
          <p:nvPr>
            <p:ph type="sldNum" idx="11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A20B-1BBD-45A3-AA5C-D5F627E4C2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 type="dt" idx="11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PlaceHolder 4"/>
          <p:cNvSpPr>
            <a:spLocks noGrp="1"/>
          </p:cNvSpPr>
          <p:nvPr>
            <p:ph type="ftr" idx="1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PlaceHolder 5"/>
          <p:cNvSpPr>
            <a:spLocks noGrp="1"/>
          </p:cNvSpPr>
          <p:nvPr>
            <p:ph type="sldNum" idx="12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E652-56F1-47DA-B509-D8C92B8F2C7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448D-C201-4E7F-927A-5D260223DB5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7" name="PlaceHolder 3"/>
          <p:cNvSpPr>
            <a:spLocks noGrp="1"/>
          </p:cNvSpPr>
          <p:nvPr>
            <p:ph type="dt" idx="12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PlaceHolder 4"/>
          <p:cNvSpPr>
            <a:spLocks noGrp="1"/>
          </p:cNvSpPr>
          <p:nvPr>
            <p:ph type="ftr" idx="1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PlaceHolder 5"/>
          <p:cNvSpPr>
            <a:spLocks noGrp="1"/>
          </p:cNvSpPr>
          <p:nvPr>
            <p:ph type="sldNum" idx="12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C29E-4EF1-4860-8C14-D7F05ABDDF9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 type="dt" idx="12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4"/>
          <p:cNvSpPr>
            <a:spLocks noGrp="1"/>
          </p:cNvSpPr>
          <p:nvPr>
            <p:ph type="ftr" idx="1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5"/>
          <p:cNvSpPr>
            <a:spLocks noGrp="1"/>
          </p:cNvSpPr>
          <p:nvPr>
            <p:ph type="sldNum" idx="12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B5F2-CEF3-4ADD-AB8A-61CDB108135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9" name="PlaceHolder 3"/>
          <p:cNvSpPr>
            <a:spLocks noGrp="1"/>
          </p:cNvSpPr>
          <p:nvPr>
            <p:ph type="dt" idx="12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PlaceHolder 4"/>
          <p:cNvSpPr>
            <a:spLocks noGrp="1"/>
          </p:cNvSpPr>
          <p:nvPr>
            <p:ph type="ftr" idx="1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PlaceHolder 5"/>
          <p:cNvSpPr>
            <a:spLocks noGrp="1"/>
          </p:cNvSpPr>
          <p:nvPr>
            <p:ph type="sldNum" idx="12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E60F-9BAA-4D67-BF9C-39D0C738D0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0" name="PlaceHolder 3"/>
          <p:cNvSpPr>
            <a:spLocks noGrp="1"/>
          </p:cNvSpPr>
          <p:nvPr>
            <p:ph type="dt" idx="13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PlaceHolder 4"/>
          <p:cNvSpPr>
            <a:spLocks noGrp="1"/>
          </p:cNvSpPr>
          <p:nvPr>
            <p:ph type="ftr" idx="1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PlaceHolder 5"/>
          <p:cNvSpPr>
            <a:spLocks noGrp="1"/>
          </p:cNvSpPr>
          <p:nvPr>
            <p:ph type="sldNum" idx="13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5000-33D5-40FB-83F7-7282BCB28FE4}" type="slidenum">
              <a:rPr b="0" lang="zh-CN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矩形 6"/>
          <p:cNvSpPr/>
          <p:nvPr/>
        </p:nvSpPr>
        <p:spPr>
          <a:xfrm>
            <a:off x="0" y="2438280"/>
            <a:ext cx="9144000" cy="33530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 type="dt" idx="13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PlaceHolder 4"/>
          <p:cNvSpPr>
            <a:spLocks noGrp="1"/>
          </p:cNvSpPr>
          <p:nvPr>
            <p:ph type="ftr" idx="1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PlaceHolder 5"/>
          <p:cNvSpPr>
            <a:spLocks noGrp="1"/>
          </p:cNvSpPr>
          <p:nvPr>
            <p:ph type="sldNum" idx="13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A25C-F72E-414D-B3F2-7548A44938F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 type="dt" idx="13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 type="ftr" idx="1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PlaceHolder 5"/>
          <p:cNvSpPr>
            <a:spLocks noGrp="1"/>
          </p:cNvSpPr>
          <p:nvPr>
            <p:ph type="sldNum" idx="13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0287-0717-4350-A008-747B917B6A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4" name="PlaceHolder 3"/>
          <p:cNvSpPr>
            <a:spLocks noGrp="1"/>
          </p:cNvSpPr>
          <p:nvPr>
            <p:ph type="dt" idx="13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PlaceHolder 4"/>
          <p:cNvSpPr>
            <a:spLocks noGrp="1"/>
          </p:cNvSpPr>
          <p:nvPr>
            <p:ph type="ftr" idx="1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PlaceHolder 5"/>
          <p:cNvSpPr>
            <a:spLocks noGrp="1"/>
          </p:cNvSpPr>
          <p:nvPr>
            <p:ph type="sldNum" idx="14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9AA8-CFD1-4366-8DFD-2129EB392A0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5" name="PlaceHolder 3"/>
          <p:cNvSpPr>
            <a:spLocks noGrp="1"/>
          </p:cNvSpPr>
          <p:nvPr>
            <p:ph type="dt" idx="14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PlaceHolder 4"/>
          <p:cNvSpPr>
            <a:spLocks noGrp="1"/>
          </p:cNvSpPr>
          <p:nvPr>
            <p:ph type="ftr" idx="1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PlaceHolder 5"/>
          <p:cNvSpPr>
            <a:spLocks noGrp="1"/>
          </p:cNvSpPr>
          <p:nvPr>
            <p:ph type="sldNum" idx="14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D6F3-74EC-4AB7-AE7E-97C46AF3B63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6" name="PlaceHolder 3"/>
          <p:cNvSpPr>
            <a:spLocks noGrp="1"/>
          </p:cNvSpPr>
          <p:nvPr>
            <p:ph type="dt" idx="14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PlaceHolder 4"/>
          <p:cNvSpPr>
            <a:spLocks noGrp="1"/>
          </p:cNvSpPr>
          <p:nvPr>
            <p:ph type="ftr" idx="1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PlaceHolder 5"/>
          <p:cNvSpPr>
            <a:spLocks noGrp="1"/>
          </p:cNvSpPr>
          <p:nvPr>
            <p:ph type="sldNum" idx="14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CE20-5AC3-4480-93B1-F286DD0C0B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7" name="PlaceHolder 3"/>
          <p:cNvSpPr>
            <a:spLocks noGrp="1"/>
          </p:cNvSpPr>
          <p:nvPr>
            <p:ph type="dt" idx="14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PlaceHolder 4"/>
          <p:cNvSpPr>
            <a:spLocks noGrp="1"/>
          </p:cNvSpPr>
          <p:nvPr>
            <p:ph type="ftr" idx="1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PlaceHolder 5"/>
          <p:cNvSpPr>
            <a:spLocks noGrp="1"/>
          </p:cNvSpPr>
          <p:nvPr>
            <p:ph type="sldNum" idx="15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6EF8-1E55-4B67-B25E-00DE35EEAFD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2058840"/>
            <a:ext cx="82296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EB3B-6EE7-404E-AB4B-695FE30D574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图片 1" descr="789.jpg"/>
          <p:cNvPicPr/>
          <p:nvPr/>
        </p:nvPicPr>
        <p:blipFill>
          <a:blip r:embed="rId3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 type="dt" idx="15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 type="ftr" idx="1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 type="sldNum" idx="15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D5B8-C4B9-459A-B909-8CBB52A850C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9" name="PlaceHolder 3"/>
          <p:cNvSpPr>
            <a:spLocks noGrp="1"/>
          </p:cNvSpPr>
          <p:nvPr>
            <p:ph type="dt" idx="15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PlaceHolder 4"/>
          <p:cNvSpPr>
            <a:spLocks noGrp="1"/>
          </p:cNvSpPr>
          <p:nvPr>
            <p:ph type="ftr" idx="1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PlaceHolder 5"/>
          <p:cNvSpPr>
            <a:spLocks noGrp="1"/>
          </p:cNvSpPr>
          <p:nvPr>
            <p:ph type="sldNum" idx="15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DC5C-1BA6-459F-899B-4D0F5C5A2A7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0" name="PlaceHolder 3"/>
          <p:cNvSpPr>
            <a:spLocks noGrp="1"/>
          </p:cNvSpPr>
          <p:nvPr>
            <p:ph type="dt" idx="15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PlaceHolder 4"/>
          <p:cNvSpPr>
            <a:spLocks noGrp="1"/>
          </p:cNvSpPr>
          <p:nvPr>
            <p:ph type="ftr" idx="1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PlaceHolder 5"/>
          <p:cNvSpPr>
            <a:spLocks noGrp="1"/>
          </p:cNvSpPr>
          <p:nvPr>
            <p:ph type="sldNum" idx="15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5541-6179-4827-9161-96551BC5F0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 type="dt" idx="16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 type="ftr" idx="1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PlaceHolder 5"/>
          <p:cNvSpPr>
            <a:spLocks noGrp="1"/>
          </p:cNvSpPr>
          <p:nvPr>
            <p:ph type="sldNum" idx="16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F7E4-58DA-44CF-850E-F0191AA1F6C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2" name="PlaceHolder 3"/>
          <p:cNvSpPr>
            <a:spLocks noGrp="1"/>
          </p:cNvSpPr>
          <p:nvPr>
            <p:ph type="dt" idx="16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PlaceHolder 4"/>
          <p:cNvSpPr>
            <a:spLocks noGrp="1"/>
          </p:cNvSpPr>
          <p:nvPr>
            <p:ph type="ftr" idx="1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PlaceHolder 5"/>
          <p:cNvSpPr>
            <a:spLocks noGrp="1"/>
          </p:cNvSpPr>
          <p:nvPr>
            <p:ph type="sldNum" idx="16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E40A-5F13-4FDB-90BE-201BC8B3715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1" name="图片 1" descr="789.jpg"/>
          <p:cNvPicPr/>
          <p:nvPr/>
        </p:nvPicPr>
        <p:blipFill>
          <a:blip r:embed="rId3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 type="body"/>
          </p:nvPr>
        </p:nvSpPr>
        <p:spPr>
          <a:xfrm>
            <a:off x="457200" y="2058840"/>
            <a:ext cx="82296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 type="dt" idx="166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PlaceHolder 4"/>
          <p:cNvSpPr>
            <a:spLocks noGrp="1"/>
          </p:cNvSpPr>
          <p:nvPr>
            <p:ph type="ftr" idx="167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PlaceHolder 5"/>
          <p:cNvSpPr>
            <a:spLocks noGrp="1"/>
          </p:cNvSpPr>
          <p:nvPr>
            <p:ph type="sldNum" idx="168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E8F9-D07A-4F17-8E12-13C2D090BC8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4"/>
    <p:sldLayoutId id="2147484612" r:id="rId5"/>
    <p:sldLayoutId id="2147484613" r:id="rId6"/>
    <p:sldLayoutId id="2147484614" r:id="rId7"/>
    <p:sldLayoutId id="2147484615" r:id="rId8"/>
    <p:sldLayoutId id="2147484616" r:id="rId9"/>
    <p:sldLayoutId id="2147484617" r:id="rId10"/>
    <p:sldLayoutId id="2147484618" r:id="rId11"/>
    <p:sldLayoutId id="2147484619" r:id="rId12"/>
    <p:sldLayoutId id="2147484620" r:id="rId13"/>
    <p:sldLayoutId id="2147484621" r:id="rId14"/>
    <p:sldLayoutId id="2147484622" r:id="rId15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3" name="图片 1" descr="789.jpg"/>
          <p:cNvPicPr/>
          <p:nvPr/>
        </p:nvPicPr>
        <p:blipFill>
          <a:blip r:embed="rId3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3024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PlaceHolder 2"/>
          <p:cNvSpPr>
            <a:spLocks noGrp="1"/>
          </p:cNvSpPr>
          <p:nvPr>
            <p:ph type="body"/>
          </p:nvPr>
        </p:nvSpPr>
        <p:spPr>
          <a:xfrm>
            <a:off x="457200" y="2058840"/>
            <a:ext cx="82296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PlaceHolder 3"/>
          <p:cNvSpPr>
            <a:spLocks noGrp="1"/>
          </p:cNvSpPr>
          <p:nvPr>
            <p:ph type="dt" idx="169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PlaceHolder 4"/>
          <p:cNvSpPr>
            <a:spLocks noGrp="1"/>
          </p:cNvSpPr>
          <p:nvPr>
            <p:ph type="ftr" idx="170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PlaceHolder 5"/>
          <p:cNvSpPr>
            <a:spLocks noGrp="1"/>
          </p:cNvSpPr>
          <p:nvPr>
            <p:ph type="sldNum" idx="171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0D45-9FC4-4526-88F7-C05BEB7B2F7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4"/>
    <p:sldLayoutId id="2147484625" r:id="rId5"/>
    <p:sldLayoutId id="2147484626" r:id="rId6"/>
    <p:sldLayoutId id="2147484627" r:id="rId7"/>
    <p:sldLayoutId id="2147484628" r:id="rId8"/>
    <p:sldLayoutId id="2147484629" r:id="rId9"/>
    <p:sldLayoutId id="2147484630" r:id="rId10"/>
    <p:sldLayoutId id="2147484631" r:id="rId11"/>
    <p:sldLayoutId id="2147484632" r:id="rId12"/>
    <p:sldLayoutId id="2147484633" r:id="rId13"/>
    <p:sldLayoutId id="2147484634" r:id="rId14"/>
    <p:sldLayoutId id="2147484635" r:id="rId15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矩形 6"/>
          <p:cNvSpPr/>
          <p:nvPr/>
        </p:nvSpPr>
        <p:spPr>
          <a:xfrm>
            <a:off x="0" y="2438280"/>
            <a:ext cx="9144000" cy="33530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8" name="PlaceHolder 3"/>
          <p:cNvSpPr>
            <a:spLocks noGrp="1"/>
          </p:cNvSpPr>
          <p:nvPr>
            <p:ph type="dt" idx="17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PlaceHolder 4"/>
          <p:cNvSpPr>
            <a:spLocks noGrp="1"/>
          </p:cNvSpPr>
          <p:nvPr>
            <p:ph type="ftr" idx="17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PlaceHolder 5"/>
          <p:cNvSpPr>
            <a:spLocks noGrp="1"/>
          </p:cNvSpPr>
          <p:nvPr>
            <p:ph type="sldNum" idx="17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7BF4-F648-4180-8AE2-B5FDB8F8831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9" name="PlaceHolder 3"/>
          <p:cNvSpPr>
            <a:spLocks noGrp="1"/>
          </p:cNvSpPr>
          <p:nvPr>
            <p:ph type="dt" idx="17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PlaceHolder 4"/>
          <p:cNvSpPr>
            <a:spLocks noGrp="1"/>
          </p:cNvSpPr>
          <p:nvPr>
            <p:ph type="ftr" idx="17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PlaceHolder 5"/>
          <p:cNvSpPr>
            <a:spLocks noGrp="1"/>
          </p:cNvSpPr>
          <p:nvPr>
            <p:ph type="sldNum" idx="17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D6E4-D6D2-4711-9550-43D1E6C3934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0" name="PlaceHolder 3"/>
          <p:cNvSpPr>
            <a:spLocks noGrp="1"/>
          </p:cNvSpPr>
          <p:nvPr>
            <p:ph type="dt" idx="17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PlaceHolder 4"/>
          <p:cNvSpPr>
            <a:spLocks noGrp="1"/>
          </p:cNvSpPr>
          <p:nvPr>
            <p:ph type="ftr" idx="17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PlaceHolder 5"/>
          <p:cNvSpPr>
            <a:spLocks noGrp="1"/>
          </p:cNvSpPr>
          <p:nvPr>
            <p:ph type="sldNum" idx="18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C2B8-A2F5-443A-A201-59150A8A8A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2058840"/>
            <a:ext cx="82296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9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20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3352-76E5-435C-A1AB-217D555066E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图片 1" descr="789.jpg"/>
          <p:cNvPicPr/>
          <p:nvPr/>
        </p:nvPicPr>
        <p:blipFill>
          <a:blip r:embed="rId3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 type="dt" idx="18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PlaceHolder 4"/>
          <p:cNvSpPr>
            <a:spLocks noGrp="1"/>
          </p:cNvSpPr>
          <p:nvPr>
            <p:ph type="ftr" idx="18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PlaceHolder 5"/>
          <p:cNvSpPr>
            <a:spLocks noGrp="1"/>
          </p:cNvSpPr>
          <p:nvPr>
            <p:ph type="sldNum" idx="18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D8EC-6ECB-4585-BBE0-DA38D4A2560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 type="dt" idx="18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PlaceHolder 4"/>
          <p:cNvSpPr>
            <a:spLocks noGrp="1"/>
          </p:cNvSpPr>
          <p:nvPr>
            <p:ph type="ftr" idx="18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PlaceHolder 5"/>
          <p:cNvSpPr>
            <a:spLocks noGrp="1"/>
          </p:cNvSpPr>
          <p:nvPr>
            <p:ph type="sldNum" idx="18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BFEE-1D1C-47D4-BC5B-4337F734157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3" name="PlaceHolder 3"/>
          <p:cNvSpPr>
            <a:spLocks noGrp="1"/>
          </p:cNvSpPr>
          <p:nvPr>
            <p:ph type="dt" idx="18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PlaceHolder 4"/>
          <p:cNvSpPr>
            <a:spLocks noGrp="1"/>
          </p:cNvSpPr>
          <p:nvPr>
            <p:ph type="ftr" idx="18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PlaceHolder 5"/>
          <p:cNvSpPr>
            <a:spLocks noGrp="1"/>
          </p:cNvSpPr>
          <p:nvPr>
            <p:ph type="sldNum" idx="18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4DDD-C4B2-4776-952C-41EC2926410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4" name="PlaceHolder 3"/>
          <p:cNvSpPr>
            <a:spLocks noGrp="1"/>
          </p:cNvSpPr>
          <p:nvPr>
            <p:ph type="dt" idx="19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PlaceHolder 4"/>
          <p:cNvSpPr>
            <a:spLocks noGrp="1"/>
          </p:cNvSpPr>
          <p:nvPr>
            <p:ph type="ftr" idx="19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PlaceHolder 5"/>
          <p:cNvSpPr>
            <a:spLocks noGrp="1"/>
          </p:cNvSpPr>
          <p:nvPr>
            <p:ph type="sldNum" idx="19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F44F-F0F6-4811-9918-553AA3718E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5" name="PlaceHolder 3"/>
          <p:cNvSpPr>
            <a:spLocks noGrp="1"/>
          </p:cNvSpPr>
          <p:nvPr>
            <p:ph type="dt" idx="19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PlaceHolder 4"/>
          <p:cNvSpPr>
            <a:spLocks noGrp="1"/>
          </p:cNvSpPr>
          <p:nvPr>
            <p:ph type="ftr" idx="19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PlaceHolder 5"/>
          <p:cNvSpPr>
            <a:spLocks noGrp="1"/>
          </p:cNvSpPr>
          <p:nvPr>
            <p:ph type="sldNum" idx="19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67E3-7754-48E9-82F7-337A150C364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6" name="PlaceHolder 3"/>
          <p:cNvSpPr>
            <a:spLocks noGrp="1"/>
          </p:cNvSpPr>
          <p:nvPr>
            <p:ph type="dt" idx="19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PlaceHolder 4"/>
          <p:cNvSpPr>
            <a:spLocks noGrp="1"/>
          </p:cNvSpPr>
          <p:nvPr>
            <p:ph type="ftr" idx="19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PlaceHolder 5"/>
          <p:cNvSpPr>
            <a:spLocks noGrp="1"/>
          </p:cNvSpPr>
          <p:nvPr>
            <p:ph type="sldNum" idx="19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CD54-F204-404F-8A60-896E992A296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37" name="PlaceHolder 3"/>
          <p:cNvSpPr>
            <a:spLocks noGrp="1"/>
          </p:cNvSpPr>
          <p:nvPr>
            <p:ph type="dt" idx="19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PlaceHolder 4"/>
          <p:cNvSpPr>
            <a:spLocks noGrp="1"/>
          </p:cNvSpPr>
          <p:nvPr>
            <p:ph type="ftr" idx="20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PlaceHolder 5"/>
          <p:cNvSpPr>
            <a:spLocks noGrp="1"/>
          </p:cNvSpPr>
          <p:nvPr>
            <p:ph type="sldNum" idx="20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0EE7-2C71-46D9-9DA9-5461E592708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8" name="PlaceHolder 3"/>
          <p:cNvSpPr>
            <a:spLocks noGrp="1"/>
          </p:cNvSpPr>
          <p:nvPr>
            <p:ph type="dt" idx="20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PlaceHolder 4"/>
          <p:cNvSpPr>
            <a:spLocks noGrp="1"/>
          </p:cNvSpPr>
          <p:nvPr>
            <p:ph type="ftr" idx="20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PlaceHolder 5"/>
          <p:cNvSpPr>
            <a:spLocks noGrp="1"/>
          </p:cNvSpPr>
          <p:nvPr>
            <p:ph type="sldNum" idx="20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5967-F172-4748-B8E5-F9AA6726A9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6A61-C8DF-4562-9DBB-EACD2F97D18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76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525" name="内容占位符 3" descr=""/>
          <p:cNvPicPr/>
          <p:nvPr/>
        </p:nvPicPr>
        <p:blipFill>
          <a:blip r:embed="rId1"/>
          <a:stretch/>
        </p:blipFill>
        <p:spPr>
          <a:xfrm>
            <a:off x="-65160" y="-3240"/>
            <a:ext cx="9171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0" name="矩形 5"/>
          <p:cNvSpPr/>
          <p:nvPr/>
        </p:nvSpPr>
        <p:spPr>
          <a:xfrm>
            <a:off x="328680" y="3919680"/>
            <a:ext cx="84708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矩形 8"/>
          <p:cNvSpPr/>
          <p:nvPr/>
        </p:nvSpPr>
        <p:spPr>
          <a:xfrm>
            <a:off x="347760" y="2286000"/>
            <a:ext cx="843588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连活活的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太阳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算着，一切亮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光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之中，我爱皎洁的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月华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，如沸的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繁星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，同一支夜晚来挑着照路的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灯笼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3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2" name="矩形 4"/>
          <p:cNvSpPr/>
          <p:nvPr/>
        </p:nvSpPr>
        <p:spPr>
          <a:xfrm>
            <a:off x="474840" y="1278000"/>
            <a:ext cx="82263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真的，灯笼的缘结得太多了，</a:t>
            </a:r>
            <a:r>
              <a:rPr b="1" lang="zh-CN" sz="3600" spc="-1" strike="noStrike">
                <a:solidFill>
                  <a:srgbClr val="ff00ff"/>
                </a:solidFill>
                <a:latin typeface="楷体"/>
                <a:ea typeface="楷体"/>
              </a:rPr>
              <a:t>记忆的网里挤着的就都是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文本框 32"/>
          <p:cNvSpPr/>
          <p:nvPr/>
        </p:nvSpPr>
        <p:spPr>
          <a:xfrm>
            <a:off x="4541760" y="3900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文本框 34"/>
          <p:cNvSpPr/>
          <p:nvPr/>
        </p:nvSpPr>
        <p:spPr>
          <a:xfrm rot="21319800">
            <a:off x="8130960" y="2197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文本框 36"/>
          <p:cNvSpPr/>
          <p:nvPr/>
        </p:nvSpPr>
        <p:spPr>
          <a:xfrm rot="16248600">
            <a:off x="5930280" y="1783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文本框 37"/>
          <p:cNvSpPr/>
          <p:nvPr/>
        </p:nvSpPr>
        <p:spPr>
          <a:xfrm rot="17448600">
            <a:off x="5400000" y="232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文本框 45"/>
          <p:cNvSpPr/>
          <p:nvPr/>
        </p:nvSpPr>
        <p:spPr>
          <a:xfrm rot="16248600">
            <a:off x="6490440" y="181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文本框 46"/>
          <p:cNvSpPr/>
          <p:nvPr/>
        </p:nvSpPr>
        <p:spPr>
          <a:xfrm rot="21174600">
            <a:off x="7135200" y="212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文本框 47"/>
          <p:cNvSpPr/>
          <p:nvPr/>
        </p:nvSpPr>
        <p:spPr>
          <a:xfrm rot="17448600">
            <a:off x="7724160" y="3359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文本框 49"/>
          <p:cNvSpPr/>
          <p:nvPr/>
        </p:nvSpPr>
        <p:spPr>
          <a:xfrm rot="657000">
            <a:off x="8235000" y="160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文本框 50"/>
          <p:cNvSpPr/>
          <p:nvPr/>
        </p:nvSpPr>
        <p:spPr>
          <a:xfrm rot="1480200">
            <a:off x="7458120" y="1687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文本框 51"/>
          <p:cNvSpPr/>
          <p:nvPr/>
        </p:nvSpPr>
        <p:spPr>
          <a:xfrm rot="16248600">
            <a:off x="8435160" y="3647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文本框 32"/>
          <p:cNvSpPr/>
          <p:nvPr/>
        </p:nvSpPr>
        <p:spPr>
          <a:xfrm>
            <a:off x="3328920" y="4748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文本框 34"/>
          <p:cNvSpPr/>
          <p:nvPr/>
        </p:nvSpPr>
        <p:spPr>
          <a:xfrm rot="4150200">
            <a:off x="4528440" y="469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文本框 36"/>
          <p:cNvSpPr/>
          <p:nvPr/>
        </p:nvSpPr>
        <p:spPr>
          <a:xfrm rot="20220000">
            <a:off x="3967920" y="1763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文本框 37"/>
          <p:cNvSpPr/>
          <p:nvPr/>
        </p:nvSpPr>
        <p:spPr>
          <a:xfrm rot="21420000">
            <a:off x="4198320" y="276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文本框 45"/>
          <p:cNvSpPr/>
          <p:nvPr/>
        </p:nvSpPr>
        <p:spPr>
          <a:xfrm rot="20220000">
            <a:off x="4528440" y="1792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文本框 46"/>
          <p:cNvSpPr/>
          <p:nvPr/>
        </p:nvSpPr>
        <p:spPr>
          <a:xfrm rot="20220000">
            <a:off x="4898160" y="2077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文本框 47"/>
          <p:cNvSpPr/>
          <p:nvPr/>
        </p:nvSpPr>
        <p:spPr>
          <a:xfrm rot="21420000">
            <a:off x="5131800" y="3007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文本框 49"/>
          <p:cNvSpPr/>
          <p:nvPr/>
        </p:nvSpPr>
        <p:spPr>
          <a:xfrm rot="16248600">
            <a:off x="6379200" y="284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文本框 50"/>
          <p:cNvSpPr/>
          <p:nvPr/>
        </p:nvSpPr>
        <p:spPr>
          <a:xfrm rot="21429600">
            <a:off x="5657040" y="348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文本框 51"/>
          <p:cNvSpPr/>
          <p:nvPr/>
        </p:nvSpPr>
        <p:spPr>
          <a:xfrm rot="16248600">
            <a:off x="5914080" y="4606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文本框 32"/>
          <p:cNvSpPr/>
          <p:nvPr/>
        </p:nvSpPr>
        <p:spPr>
          <a:xfrm rot="1209600">
            <a:off x="1203840" y="5194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文本框 34"/>
          <p:cNvSpPr/>
          <p:nvPr/>
        </p:nvSpPr>
        <p:spPr>
          <a:xfrm rot="4150200">
            <a:off x="2207520" y="4634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文本框 36"/>
          <p:cNvSpPr/>
          <p:nvPr/>
        </p:nvSpPr>
        <p:spPr>
          <a:xfrm rot="20220000">
            <a:off x="1672560" y="433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文本框 37"/>
          <p:cNvSpPr/>
          <p:nvPr/>
        </p:nvSpPr>
        <p:spPr>
          <a:xfrm rot="1029600">
            <a:off x="2553120" y="3700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文本框 45"/>
          <p:cNvSpPr/>
          <p:nvPr/>
        </p:nvSpPr>
        <p:spPr>
          <a:xfrm rot="20220000">
            <a:off x="3229920" y="4222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文本框 46"/>
          <p:cNvSpPr/>
          <p:nvPr/>
        </p:nvSpPr>
        <p:spPr>
          <a:xfrm rot="21429600">
            <a:off x="855000" y="2068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文本框 47"/>
          <p:cNvSpPr/>
          <p:nvPr/>
        </p:nvSpPr>
        <p:spPr>
          <a:xfrm rot="1029600">
            <a:off x="896400" y="4560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文本框 49"/>
          <p:cNvSpPr/>
          <p:nvPr/>
        </p:nvSpPr>
        <p:spPr>
          <a:xfrm rot="21429600">
            <a:off x="3077640" y="514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文本框 50"/>
          <p:cNvSpPr/>
          <p:nvPr/>
        </p:nvSpPr>
        <p:spPr>
          <a:xfrm rot="21429600">
            <a:off x="4225320" y="425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文本框 51"/>
          <p:cNvSpPr/>
          <p:nvPr/>
        </p:nvSpPr>
        <p:spPr>
          <a:xfrm rot="21429600">
            <a:off x="4392000" y="5265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文本框 36"/>
          <p:cNvSpPr/>
          <p:nvPr/>
        </p:nvSpPr>
        <p:spPr>
          <a:xfrm rot="16528800">
            <a:off x="391320" y="275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文本框 37"/>
          <p:cNvSpPr/>
          <p:nvPr/>
        </p:nvSpPr>
        <p:spPr>
          <a:xfrm rot="4150200">
            <a:off x="1403640" y="2905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文本框 36"/>
          <p:cNvSpPr/>
          <p:nvPr/>
        </p:nvSpPr>
        <p:spPr>
          <a:xfrm rot="21429600">
            <a:off x="389880" y="1809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文本框 37"/>
          <p:cNvSpPr/>
          <p:nvPr/>
        </p:nvSpPr>
        <p:spPr>
          <a:xfrm rot="1029600">
            <a:off x="1405800" y="227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文本框 45"/>
          <p:cNvSpPr/>
          <p:nvPr/>
        </p:nvSpPr>
        <p:spPr>
          <a:xfrm rot="20220000">
            <a:off x="2185200" y="155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文本框 46"/>
          <p:cNvSpPr/>
          <p:nvPr/>
        </p:nvSpPr>
        <p:spPr>
          <a:xfrm rot="20220000">
            <a:off x="2755080" y="1782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文本框 47"/>
          <p:cNvSpPr/>
          <p:nvPr/>
        </p:nvSpPr>
        <p:spPr>
          <a:xfrm rot="21420000">
            <a:off x="2483640" y="253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文本框 49"/>
          <p:cNvSpPr/>
          <p:nvPr/>
        </p:nvSpPr>
        <p:spPr>
          <a:xfrm rot="20220000">
            <a:off x="3344040" y="2077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文本框 50"/>
          <p:cNvSpPr/>
          <p:nvPr/>
        </p:nvSpPr>
        <p:spPr>
          <a:xfrm rot="20220000">
            <a:off x="2917080" y="2852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文本框 51"/>
          <p:cNvSpPr/>
          <p:nvPr/>
        </p:nvSpPr>
        <p:spPr>
          <a:xfrm rot="20220000">
            <a:off x="3552120" y="3034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文本框 32"/>
          <p:cNvSpPr/>
          <p:nvPr/>
        </p:nvSpPr>
        <p:spPr>
          <a:xfrm rot="1209600">
            <a:off x="5182200" y="4745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文本框 34"/>
          <p:cNvSpPr/>
          <p:nvPr/>
        </p:nvSpPr>
        <p:spPr>
          <a:xfrm rot="20568600">
            <a:off x="6378480" y="5219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文本框 36"/>
          <p:cNvSpPr/>
          <p:nvPr/>
        </p:nvSpPr>
        <p:spPr>
          <a:xfrm rot="368400">
            <a:off x="5841000" y="3839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文本框 37"/>
          <p:cNvSpPr/>
          <p:nvPr/>
        </p:nvSpPr>
        <p:spPr>
          <a:xfrm rot="829200">
            <a:off x="5352120" y="5326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文本框 45"/>
          <p:cNvSpPr/>
          <p:nvPr/>
        </p:nvSpPr>
        <p:spPr>
          <a:xfrm rot="17097000">
            <a:off x="6847560" y="3360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文本框 46"/>
          <p:cNvSpPr/>
          <p:nvPr/>
        </p:nvSpPr>
        <p:spPr>
          <a:xfrm rot="2701800">
            <a:off x="7634520" y="4111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文本框 47"/>
          <p:cNvSpPr/>
          <p:nvPr/>
        </p:nvSpPr>
        <p:spPr>
          <a:xfrm rot="18142800">
            <a:off x="6812640" y="456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文本框 53"/>
          <p:cNvSpPr/>
          <p:nvPr/>
        </p:nvSpPr>
        <p:spPr>
          <a:xfrm rot="18419400">
            <a:off x="8175960" y="4382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文本框 54"/>
          <p:cNvSpPr/>
          <p:nvPr/>
        </p:nvSpPr>
        <p:spPr>
          <a:xfrm rot="17959200">
            <a:off x="7308000" y="481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文本框 55"/>
          <p:cNvSpPr/>
          <p:nvPr/>
        </p:nvSpPr>
        <p:spPr>
          <a:xfrm rot="1549200">
            <a:off x="8096400" y="3230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文本框 32"/>
          <p:cNvSpPr/>
          <p:nvPr/>
        </p:nvSpPr>
        <p:spPr>
          <a:xfrm rot="4189800">
            <a:off x="4354920" y="3371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文本框 34"/>
          <p:cNvSpPr/>
          <p:nvPr/>
        </p:nvSpPr>
        <p:spPr>
          <a:xfrm rot="8340000">
            <a:off x="4987800" y="421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文本框 36"/>
          <p:cNvSpPr/>
          <p:nvPr/>
        </p:nvSpPr>
        <p:spPr>
          <a:xfrm rot="20439000">
            <a:off x="5841360" y="2361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文本框 37"/>
          <p:cNvSpPr/>
          <p:nvPr/>
        </p:nvSpPr>
        <p:spPr>
          <a:xfrm rot="39000">
            <a:off x="5717520" y="3058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文本框 45"/>
          <p:cNvSpPr/>
          <p:nvPr/>
        </p:nvSpPr>
        <p:spPr>
          <a:xfrm rot="20439000">
            <a:off x="6401520" y="2391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文本框 46"/>
          <p:cNvSpPr/>
          <p:nvPr/>
        </p:nvSpPr>
        <p:spPr>
          <a:xfrm rot="20439000">
            <a:off x="6771600" y="267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文本框 47"/>
          <p:cNvSpPr/>
          <p:nvPr/>
        </p:nvSpPr>
        <p:spPr>
          <a:xfrm rot="39000">
            <a:off x="7252560" y="3303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文本框 49"/>
          <p:cNvSpPr/>
          <p:nvPr/>
        </p:nvSpPr>
        <p:spPr>
          <a:xfrm rot="20439000">
            <a:off x="8089200" y="2782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1" name="文本框 50"/>
          <p:cNvSpPr/>
          <p:nvPr/>
        </p:nvSpPr>
        <p:spPr>
          <a:xfrm rot="20439000">
            <a:off x="7555680" y="260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文本框 51"/>
          <p:cNvSpPr/>
          <p:nvPr/>
        </p:nvSpPr>
        <p:spPr>
          <a:xfrm rot="20439000">
            <a:off x="8031960" y="3752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文本框 32"/>
          <p:cNvSpPr/>
          <p:nvPr/>
        </p:nvSpPr>
        <p:spPr>
          <a:xfrm rot="4189800">
            <a:off x="2832480" y="448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文本框 34"/>
          <p:cNvSpPr/>
          <p:nvPr/>
        </p:nvSpPr>
        <p:spPr>
          <a:xfrm rot="8340000">
            <a:off x="3988800" y="378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文本框 36"/>
          <p:cNvSpPr/>
          <p:nvPr/>
        </p:nvSpPr>
        <p:spPr>
          <a:xfrm rot="2809800">
            <a:off x="3880440" y="234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文本框 37"/>
          <p:cNvSpPr/>
          <p:nvPr/>
        </p:nvSpPr>
        <p:spPr>
          <a:xfrm rot="4009800">
            <a:off x="3880080" y="3066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文本框 45"/>
          <p:cNvSpPr/>
          <p:nvPr/>
        </p:nvSpPr>
        <p:spPr>
          <a:xfrm rot="2809800">
            <a:off x="4440960" y="2371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文本框 46"/>
          <p:cNvSpPr/>
          <p:nvPr/>
        </p:nvSpPr>
        <p:spPr>
          <a:xfrm rot="2809800">
            <a:off x="4811400" y="2657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文本框 47"/>
          <p:cNvSpPr/>
          <p:nvPr/>
        </p:nvSpPr>
        <p:spPr>
          <a:xfrm rot="4009800">
            <a:off x="4811040" y="3380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文本框 49"/>
          <p:cNvSpPr/>
          <p:nvPr/>
        </p:nvSpPr>
        <p:spPr>
          <a:xfrm rot="20439000">
            <a:off x="6292440" y="3420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文本框 50"/>
          <p:cNvSpPr/>
          <p:nvPr/>
        </p:nvSpPr>
        <p:spPr>
          <a:xfrm rot="4020000">
            <a:off x="5285520" y="3536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文本框 51"/>
          <p:cNvSpPr/>
          <p:nvPr/>
        </p:nvSpPr>
        <p:spPr>
          <a:xfrm rot="20439000">
            <a:off x="5666760" y="4319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文本框 32"/>
          <p:cNvSpPr/>
          <p:nvPr/>
        </p:nvSpPr>
        <p:spPr>
          <a:xfrm rot="5400000">
            <a:off x="1208880" y="433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4" name="文本框 34"/>
          <p:cNvSpPr/>
          <p:nvPr/>
        </p:nvSpPr>
        <p:spPr>
          <a:xfrm rot="8340000">
            <a:off x="1945800" y="4763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文本框 36"/>
          <p:cNvSpPr/>
          <p:nvPr/>
        </p:nvSpPr>
        <p:spPr>
          <a:xfrm rot="2809800">
            <a:off x="1929960" y="3671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文本框 37"/>
          <p:cNvSpPr/>
          <p:nvPr/>
        </p:nvSpPr>
        <p:spPr>
          <a:xfrm rot="5220000">
            <a:off x="2364120" y="4047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文本框 45"/>
          <p:cNvSpPr/>
          <p:nvPr/>
        </p:nvSpPr>
        <p:spPr>
          <a:xfrm rot="2809800">
            <a:off x="2877120" y="369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文本框 46"/>
          <p:cNvSpPr/>
          <p:nvPr/>
        </p:nvSpPr>
        <p:spPr>
          <a:xfrm rot="4020000">
            <a:off x="767160" y="2647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文本框 47"/>
          <p:cNvSpPr/>
          <p:nvPr/>
        </p:nvSpPr>
        <p:spPr>
          <a:xfrm rot="5220000">
            <a:off x="768600" y="3891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文本框 49"/>
          <p:cNvSpPr/>
          <p:nvPr/>
        </p:nvSpPr>
        <p:spPr>
          <a:xfrm rot="4020000">
            <a:off x="2531160" y="501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文本框 50"/>
          <p:cNvSpPr/>
          <p:nvPr/>
        </p:nvSpPr>
        <p:spPr>
          <a:xfrm rot="4020000">
            <a:off x="3769200" y="4516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文本框 51"/>
          <p:cNvSpPr/>
          <p:nvPr/>
        </p:nvSpPr>
        <p:spPr>
          <a:xfrm rot="4020000">
            <a:off x="4139280" y="4803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文本框 32"/>
          <p:cNvSpPr/>
          <p:nvPr/>
        </p:nvSpPr>
        <p:spPr>
          <a:xfrm rot="20719200">
            <a:off x="581400" y="3379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文本框 34"/>
          <p:cNvSpPr/>
          <p:nvPr/>
        </p:nvSpPr>
        <p:spPr>
          <a:xfrm rot="8340000">
            <a:off x="1318680" y="3483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文本框 36"/>
          <p:cNvSpPr/>
          <p:nvPr/>
        </p:nvSpPr>
        <p:spPr>
          <a:xfrm rot="4020000">
            <a:off x="1737360" y="204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6" name="文本框 37"/>
          <p:cNvSpPr/>
          <p:nvPr/>
        </p:nvSpPr>
        <p:spPr>
          <a:xfrm rot="5220000">
            <a:off x="1737000" y="276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文本框 45"/>
          <p:cNvSpPr/>
          <p:nvPr/>
        </p:nvSpPr>
        <p:spPr>
          <a:xfrm rot="2809800">
            <a:off x="2297880" y="207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8" name="文本框 46"/>
          <p:cNvSpPr/>
          <p:nvPr/>
        </p:nvSpPr>
        <p:spPr>
          <a:xfrm rot="2809800">
            <a:off x="2667600" y="2358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文本框 47"/>
          <p:cNvSpPr/>
          <p:nvPr/>
        </p:nvSpPr>
        <p:spPr>
          <a:xfrm rot="4009800">
            <a:off x="2395800" y="3112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文本框 49"/>
          <p:cNvSpPr/>
          <p:nvPr/>
        </p:nvSpPr>
        <p:spPr>
          <a:xfrm rot="2809800">
            <a:off x="3255120" y="2657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文本框 50"/>
          <p:cNvSpPr/>
          <p:nvPr/>
        </p:nvSpPr>
        <p:spPr>
          <a:xfrm rot="2809800">
            <a:off x="3142800" y="323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文本框 51"/>
          <p:cNvSpPr/>
          <p:nvPr/>
        </p:nvSpPr>
        <p:spPr>
          <a:xfrm rot="2809800">
            <a:off x="3512160" y="352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3" name="文本框 32"/>
          <p:cNvSpPr/>
          <p:nvPr/>
        </p:nvSpPr>
        <p:spPr>
          <a:xfrm rot="5400000">
            <a:off x="4818960" y="493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文本框 34"/>
          <p:cNvSpPr/>
          <p:nvPr/>
        </p:nvSpPr>
        <p:spPr>
          <a:xfrm rot="3159000">
            <a:off x="5883480" y="5369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5" name="文本框 36"/>
          <p:cNvSpPr/>
          <p:nvPr/>
        </p:nvSpPr>
        <p:spPr>
          <a:xfrm rot="20439000">
            <a:off x="6305400" y="3928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6" name="文本框 37"/>
          <p:cNvSpPr/>
          <p:nvPr/>
        </p:nvSpPr>
        <p:spPr>
          <a:xfrm rot="39000">
            <a:off x="6305040" y="4652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7" name="文本框 45"/>
          <p:cNvSpPr/>
          <p:nvPr/>
        </p:nvSpPr>
        <p:spPr>
          <a:xfrm rot="20439000">
            <a:off x="6865200" y="3957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文本框 46"/>
          <p:cNvSpPr/>
          <p:nvPr/>
        </p:nvSpPr>
        <p:spPr>
          <a:xfrm rot="20439000">
            <a:off x="7235280" y="4242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文本框 47"/>
          <p:cNvSpPr/>
          <p:nvPr/>
        </p:nvSpPr>
        <p:spPr>
          <a:xfrm rot="39000">
            <a:off x="6922440" y="5001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文本框 49"/>
          <p:cNvSpPr/>
          <p:nvPr/>
        </p:nvSpPr>
        <p:spPr>
          <a:xfrm rot="20439000">
            <a:off x="7755840" y="4630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文本框 50"/>
          <p:cNvSpPr/>
          <p:nvPr/>
        </p:nvSpPr>
        <p:spPr>
          <a:xfrm rot="20439000">
            <a:off x="7709760" y="5122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文本框 51"/>
          <p:cNvSpPr/>
          <p:nvPr/>
        </p:nvSpPr>
        <p:spPr>
          <a:xfrm rot="20439000">
            <a:off x="6847920" y="155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矩形 4"/>
          <p:cNvSpPr/>
          <p:nvPr/>
        </p:nvSpPr>
        <p:spPr>
          <a:xfrm>
            <a:off x="179280" y="836640"/>
            <a:ext cx="8964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分组讨论：围绕“灯笼”具体写了哪些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事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4" name="矩形 4"/>
          <p:cNvSpPr/>
          <p:nvPr/>
        </p:nvSpPr>
        <p:spPr>
          <a:xfrm>
            <a:off x="108000" y="887400"/>
            <a:ext cx="832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558ed5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b0f0"/>
                </a:solidFill>
                <a:latin typeface="宋体"/>
              </a:rPr>
              <a:t>灯笼有着怎样的意义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矩形 5"/>
          <p:cNvSpPr/>
          <p:nvPr/>
        </p:nvSpPr>
        <p:spPr>
          <a:xfrm>
            <a:off x="706320" y="2678040"/>
            <a:ext cx="7710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村犬遥遥向灯笼吠了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那种熙熙然庭院的静穆，是一辈子思慕着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双波形 6"/>
          <p:cNvSpPr/>
          <p:nvPr/>
        </p:nvSpPr>
        <p:spPr>
          <a:xfrm>
            <a:off x="2728800" y="4567320"/>
            <a:ext cx="4024440" cy="1279440"/>
          </a:xfrm>
          <a:custGeom>
            <a:avLst/>
            <a:gdLst>
              <a:gd name="textAreaLeft" fmla="*/ 0 w 4024440"/>
              <a:gd name="textAreaRight" fmla="*/ 4024800 w 4024440"/>
              <a:gd name="textAreaTop" fmla="*/ 159840 h 1279440"/>
              <a:gd name="textAreaBottom" fmla="*/ 1119600 h 127944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灯笼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映照着长幼情笃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" dur="500"/>
                                        <p:tgtEl>
                                          <p:spTgt spid="3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" dur="500"/>
                                        <p:tgtEl>
                                          <p:spTgt spid="3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矩形 5"/>
          <p:cNvSpPr/>
          <p:nvPr/>
        </p:nvSpPr>
        <p:spPr>
          <a:xfrm>
            <a:off x="519120" y="379440"/>
            <a:ext cx="8040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母亲给留着的消夜食品便都是在亲手接过了灯笼去后递给自己的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母亲的头发也全白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双波形 6"/>
          <p:cNvSpPr/>
          <p:nvPr/>
        </p:nvSpPr>
        <p:spPr>
          <a:xfrm>
            <a:off x="2473200" y="1928880"/>
            <a:ext cx="4024440" cy="1279440"/>
          </a:xfrm>
          <a:custGeom>
            <a:avLst/>
            <a:gdLst>
              <a:gd name="textAreaLeft" fmla="*/ 0 w 4024440"/>
              <a:gd name="textAreaRight" fmla="*/ 4024800 w 4024440"/>
              <a:gd name="textAreaTop" fmla="*/ 159840 h 1279440"/>
              <a:gd name="textAreaBottom" fmla="*/ 1119600 h 127944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灯笼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宣照着母子情深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矩形 7"/>
          <p:cNvSpPr/>
          <p:nvPr/>
        </p:nvSpPr>
        <p:spPr>
          <a:xfrm>
            <a:off x="519120" y="3149640"/>
            <a:ext cx="7994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真是，若有孤行客，黑夜摸路。正自四面虚惊的时候，忽然发现星天下红灯高照，总会以去村不远而默默高兴起来的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双波形 8"/>
          <p:cNvSpPr/>
          <p:nvPr/>
        </p:nvSpPr>
        <p:spPr>
          <a:xfrm>
            <a:off x="2600280" y="5359320"/>
            <a:ext cx="4160880" cy="1278000"/>
          </a:xfrm>
          <a:custGeom>
            <a:avLst/>
            <a:gdLst>
              <a:gd name="textAreaLeft" fmla="*/ 0 w 4160880"/>
              <a:gd name="textAreaRight" fmla="*/ 4161240 w 4160880"/>
              <a:gd name="textAreaTop" fmla="*/ 159480 h 1278000"/>
              <a:gd name="textAreaBottom" fmla="*/ 111852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灯笼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慰藉着孤行客的心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" dur="500"/>
                                        <p:tgtEl>
                                          <p:spTgt spid="3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3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3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" dur="500"/>
                                        <p:tgtEl>
                                          <p:spTgt spid="3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1" name="文本框 32"/>
          <p:cNvSpPr/>
          <p:nvPr/>
        </p:nvSpPr>
        <p:spPr>
          <a:xfrm>
            <a:off x="4541760" y="3900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文本框 34"/>
          <p:cNvSpPr/>
          <p:nvPr/>
        </p:nvSpPr>
        <p:spPr>
          <a:xfrm rot="21319800">
            <a:off x="8130960" y="2197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文本框 36"/>
          <p:cNvSpPr/>
          <p:nvPr/>
        </p:nvSpPr>
        <p:spPr>
          <a:xfrm rot="16248600">
            <a:off x="5930280" y="1783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文本框 37"/>
          <p:cNvSpPr/>
          <p:nvPr/>
        </p:nvSpPr>
        <p:spPr>
          <a:xfrm rot="17448600">
            <a:off x="5400000" y="232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文本框 45"/>
          <p:cNvSpPr/>
          <p:nvPr/>
        </p:nvSpPr>
        <p:spPr>
          <a:xfrm rot="16248600">
            <a:off x="6490440" y="181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文本框 46"/>
          <p:cNvSpPr/>
          <p:nvPr/>
        </p:nvSpPr>
        <p:spPr>
          <a:xfrm rot="21174600">
            <a:off x="7135200" y="212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文本框 47"/>
          <p:cNvSpPr/>
          <p:nvPr/>
        </p:nvSpPr>
        <p:spPr>
          <a:xfrm rot="17448600">
            <a:off x="7724160" y="3359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8" name="文本框 49"/>
          <p:cNvSpPr/>
          <p:nvPr/>
        </p:nvSpPr>
        <p:spPr>
          <a:xfrm rot="657000">
            <a:off x="8235000" y="160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9" name="文本框 50"/>
          <p:cNvSpPr/>
          <p:nvPr/>
        </p:nvSpPr>
        <p:spPr>
          <a:xfrm rot="1480200">
            <a:off x="7458120" y="1687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文本框 51"/>
          <p:cNvSpPr/>
          <p:nvPr/>
        </p:nvSpPr>
        <p:spPr>
          <a:xfrm rot="16248600">
            <a:off x="8435160" y="3647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文本框 32"/>
          <p:cNvSpPr/>
          <p:nvPr/>
        </p:nvSpPr>
        <p:spPr>
          <a:xfrm>
            <a:off x="3328920" y="4748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文本框 34"/>
          <p:cNvSpPr/>
          <p:nvPr/>
        </p:nvSpPr>
        <p:spPr>
          <a:xfrm rot="4150200">
            <a:off x="4528440" y="469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文本框 36"/>
          <p:cNvSpPr/>
          <p:nvPr/>
        </p:nvSpPr>
        <p:spPr>
          <a:xfrm rot="20220000">
            <a:off x="3967920" y="1763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文本框 37"/>
          <p:cNvSpPr/>
          <p:nvPr/>
        </p:nvSpPr>
        <p:spPr>
          <a:xfrm rot="21420000">
            <a:off x="4198320" y="276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文本框 45"/>
          <p:cNvSpPr/>
          <p:nvPr/>
        </p:nvSpPr>
        <p:spPr>
          <a:xfrm rot="20220000">
            <a:off x="4528440" y="1792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文本框 46"/>
          <p:cNvSpPr/>
          <p:nvPr/>
        </p:nvSpPr>
        <p:spPr>
          <a:xfrm rot="20220000">
            <a:off x="4898160" y="2077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文本框 47"/>
          <p:cNvSpPr/>
          <p:nvPr/>
        </p:nvSpPr>
        <p:spPr>
          <a:xfrm rot="21420000">
            <a:off x="5131800" y="3007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文本框 49"/>
          <p:cNvSpPr/>
          <p:nvPr/>
        </p:nvSpPr>
        <p:spPr>
          <a:xfrm rot="16248600">
            <a:off x="6379200" y="284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9" name="文本框 50"/>
          <p:cNvSpPr/>
          <p:nvPr/>
        </p:nvSpPr>
        <p:spPr>
          <a:xfrm rot="21429600">
            <a:off x="5657040" y="348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0" name="文本框 51"/>
          <p:cNvSpPr/>
          <p:nvPr/>
        </p:nvSpPr>
        <p:spPr>
          <a:xfrm rot="16248600">
            <a:off x="5914080" y="4606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文本框 32"/>
          <p:cNvSpPr/>
          <p:nvPr/>
        </p:nvSpPr>
        <p:spPr>
          <a:xfrm rot="1209600">
            <a:off x="1203840" y="5194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文本框 34"/>
          <p:cNvSpPr/>
          <p:nvPr/>
        </p:nvSpPr>
        <p:spPr>
          <a:xfrm rot="4150200">
            <a:off x="2207520" y="4634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文本框 36"/>
          <p:cNvSpPr/>
          <p:nvPr/>
        </p:nvSpPr>
        <p:spPr>
          <a:xfrm rot="20220000">
            <a:off x="1672560" y="433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文本框 37"/>
          <p:cNvSpPr/>
          <p:nvPr/>
        </p:nvSpPr>
        <p:spPr>
          <a:xfrm rot="1029600">
            <a:off x="2553120" y="3700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文本框 45"/>
          <p:cNvSpPr/>
          <p:nvPr/>
        </p:nvSpPr>
        <p:spPr>
          <a:xfrm rot="20220000">
            <a:off x="3229920" y="4222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文本框 46"/>
          <p:cNvSpPr/>
          <p:nvPr/>
        </p:nvSpPr>
        <p:spPr>
          <a:xfrm rot="21429600">
            <a:off x="855000" y="2068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文本框 47"/>
          <p:cNvSpPr/>
          <p:nvPr/>
        </p:nvSpPr>
        <p:spPr>
          <a:xfrm rot="1029600">
            <a:off x="896400" y="4560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8" name="文本框 49"/>
          <p:cNvSpPr/>
          <p:nvPr/>
        </p:nvSpPr>
        <p:spPr>
          <a:xfrm rot="21429600">
            <a:off x="3077640" y="514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文本框 50"/>
          <p:cNvSpPr/>
          <p:nvPr/>
        </p:nvSpPr>
        <p:spPr>
          <a:xfrm rot="21429600">
            <a:off x="4225320" y="425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0" name="文本框 51"/>
          <p:cNvSpPr/>
          <p:nvPr/>
        </p:nvSpPr>
        <p:spPr>
          <a:xfrm rot="21429600">
            <a:off x="4392000" y="5265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1" name="文本框 39"/>
          <p:cNvSpPr/>
          <p:nvPr/>
        </p:nvSpPr>
        <p:spPr>
          <a:xfrm rot="16528800">
            <a:off x="391320" y="275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2" name="文本框 40"/>
          <p:cNvSpPr/>
          <p:nvPr/>
        </p:nvSpPr>
        <p:spPr>
          <a:xfrm rot="4150200">
            <a:off x="1403640" y="2905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文本框 36"/>
          <p:cNvSpPr/>
          <p:nvPr/>
        </p:nvSpPr>
        <p:spPr>
          <a:xfrm rot="21429600">
            <a:off x="389880" y="1809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文本框 37"/>
          <p:cNvSpPr/>
          <p:nvPr/>
        </p:nvSpPr>
        <p:spPr>
          <a:xfrm rot="1029600">
            <a:off x="1405800" y="227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5" name="文本框 45"/>
          <p:cNvSpPr/>
          <p:nvPr/>
        </p:nvSpPr>
        <p:spPr>
          <a:xfrm rot="20220000">
            <a:off x="2185200" y="155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6" name="文本框 46"/>
          <p:cNvSpPr/>
          <p:nvPr/>
        </p:nvSpPr>
        <p:spPr>
          <a:xfrm rot="20220000">
            <a:off x="2755080" y="1782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7" name="文本框 47"/>
          <p:cNvSpPr/>
          <p:nvPr/>
        </p:nvSpPr>
        <p:spPr>
          <a:xfrm rot="21420000">
            <a:off x="2483640" y="253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8" name="文本框 49"/>
          <p:cNvSpPr/>
          <p:nvPr/>
        </p:nvSpPr>
        <p:spPr>
          <a:xfrm rot="20220000">
            <a:off x="3344040" y="2077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文本框 50"/>
          <p:cNvSpPr/>
          <p:nvPr/>
        </p:nvSpPr>
        <p:spPr>
          <a:xfrm rot="20220000">
            <a:off x="2917080" y="2852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0" name="文本框 51"/>
          <p:cNvSpPr/>
          <p:nvPr/>
        </p:nvSpPr>
        <p:spPr>
          <a:xfrm rot="20220000">
            <a:off x="3552120" y="3034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1" name="文本框 32"/>
          <p:cNvSpPr/>
          <p:nvPr/>
        </p:nvSpPr>
        <p:spPr>
          <a:xfrm rot="1209600">
            <a:off x="5182200" y="4745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2" name="文本框 34"/>
          <p:cNvSpPr/>
          <p:nvPr/>
        </p:nvSpPr>
        <p:spPr>
          <a:xfrm rot="20568600">
            <a:off x="6378480" y="5219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3" name="文本框 36"/>
          <p:cNvSpPr/>
          <p:nvPr/>
        </p:nvSpPr>
        <p:spPr>
          <a:xfrm rot="368400">
            <a:off x="5841000" y="3839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4" name="文本框 37"/>
          <p:cNvSpPr/>
          <p:nvPr/>
        </p:nvSpPr>
        <p:spPr>
          <a:xfrm rot="829200">
            <a:off x="5352120" y="5326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5" name="文本框 45"/>
          <p:cNvSpPr/>
          <p:nvPr/>
        </p:nvSpPr>
        <p:spPr>
          <a:xfrm rot="17097000">
            <a:off x="6847560" y="3360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文本框 46"/>
          <p:cNvSpPr/>
          <p:nvPr/>
        </p:nvSpPr>
        <p:spPr>
          <a:xfrm rot="2701800">
            <a:off x="7634520" y="4111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文本框 47"/>
          <p:cNvSpPr/>
          <p:nvPr/>
        </p:nvSpPr>
        <p:spPr>
          <a:xfrm rot="18142800">
            <a:off x="6812640" y="456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文本框 56"/>
          <p:cNvSpPr/>
          <p:nvPr/>
        </p:nvSpPr>
        <p:spPr>
          <a:xfrm rot="18419400">
            <a:off x="8175960" y="4382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文本框 57"/>
          <p:cNvSpPr/>
          <p:nvPr/>
        </p:nvSpPr>
        <p:spPr>
          <a:xfrm rot="17959200">
            <a:off x="7308000" y="481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文本框 58"/>
          <p:cNvSpPr/>
          <p:nvPr/>
        </p:nvSpPr>
        <p:spPr>
          <a:xfrm rot="1549200">
            <a:off x="8096400" y="3230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文本框 32"/>
          <p:cNvSpPr/>
          <p:nvPr/>
        </p:nvSpPr>
        <p:spPr>
          <a:xfrm rot="4189800">
            <a:off x="4354920" y="3371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文本框 34"/>
          <p:cNvSpPr/>
          <p:nvPr/>
        </p:nvSpPr>
        <p:spPr>
          <a:xfrm rot="8340000">
            <a:off x="4987800" y="421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3" name="文本框 36"/>
          <p:cNvSpPr/>
          <p:nvPr/>
        </p:nvSpPr>
        <p:spPr>
          <a:xfrm rot="20439000">
            <a:off x="5841360" y="2361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文本框 37"/>
          <p:cNvSpPr/>
          <p:nvPr/>
        </p:nvSpPr>
        <p:spPr>
          <a:xfrm rot="39000">
            <a:off x="5717520" y="3058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文本框 45"/>
          <p:cNvSpPr/>
          <p:nvPr/>
        </p:nvSpPr>
        <p:spPr>
          <a:xfrm rot="20439000">
            <a:off x="6401520" y="2391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文本框 46"/>
          <p:cNvSpPr/>
          <p:nvPr/>
        </p:nvSpPr>
        <p:spPr>
          <a:xfrm rot="20439000">
            <a:off x="6771600" y="267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文本框 47"/>
          <p:cNvSpPr/>
          <p:nvPr/>
        </p:nvSpPr>
        <p:spPr>
          <a:xfrm rot="39000">
            <a:off x="7252560" y="3303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文本框 49"/>
          <p:cNvSpPr/>
          <p:nvPr/>
        </p:nvSpPr>
        <p:spPr>
          <a:xfrm rot="20439000">
            <a:off x="8089200" y="2782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文本框 50"/>
          <p:cNvSpPr/>
          <p:nvPr/>
        </p:nvSpPr>
        <p:spPr>
          <a:xfrm rot="20439000">
            <a:off x="7555680" y="260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文本框 51"/>
          <p:cNvSpPr/>
          <p:nvPr/>
        </p:nvSpPr>
        <p:spPr>
          <a:xfrm rot="20439000">
            <a:off x="8031960" y="3752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文本框 32"/>
          <p:cNvSpPr/>
          <p:nvPr/>
        </p:nvSpPr>
        <p:spPr>
          <a:xfrm rot="4189800">
            <a:off x="2832480" y="448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文本框 34"/>
          <p:cNvSpPr/>
          <p:nvPr/>
        </p:nvSpPr>
        <p:spPr>
          <a:xfrm rot="8340000">
            <a:off x="3988800" y="378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文本框 36"/>
          <p:cNvSpPr/>
          <p:nvPr/>
        </p:nvSpPr>
        <p:spPr>
          <a:xfrm rot="2809800">
            <a:off x="3880440" y="234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文本框 37"/>
          <p:cNvSpPr/>
          <p:nvPr/>
        </p:nvSpPr>
        <p:spPr>
          <a:xfrm rot="4009800">
            <a:off x="3880080" y="3066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文本框 45"/>
          <p:cNvSpPr/>
          <p:nvPr/>
        </p:nvSpPr>
        <p:spPr>
          <a:xfrm rot="2809800">
            <a:off x="4440960" y="2371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文本框 46"/>
          <p:cNvSpPr/>
          <p:nvPr/>
        </p:nvSpPr>
        <p:spPr>
          <a:xfrm rot="2809800">
            <a:off x="4811400" y="2657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7" name="文本框 47"/>
          <p:cNvSpPr/>
          <p:nvPr/>
        </p:nvSpPr>
        <p:spPr>
          <a:xfrm rot="4009800">
            <a:off x="4811040" y="3380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文本框 49"/>
          <p:cNvSpPr/>
          <p:nvPr/>
        </p:nvSpPr>
        <p:spPr>
          <a:xfrm rot="20439000">
            <a:off x="6292440" y="3420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文本框 50"/>
          <p:cNvSpPr/>
          <p:nvPr/>
        </p:nvSpPr>
        <p:spPr>
          <a:xfrm rot="4020000">
            <a:off x="5285520" y="3536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0" name="文本框 51"/>
          <p:cNvSpPr/>
          <p:nvPr/>
        </p:nvSpPr>
        <p:spPr>
          <a:xfrm rot="20439000">
            <a:off x="5666760" y="4319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1" name="文本框 32"/>
          <p:cNvSpPr/>
          <p:nvPr/>
        </p:nvSpPr>
        <p:spPr>
          <a:xfrm rot="5400000">
            <a:off x="1208880" y="433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2" name="文本框 34"/>
          <p:cNvSpPr/>
          <p:nvPr/>
        </p:nvSpPr>
        <p:spPr>
          <a:xfrm rot="8340000">
            <a:off x="1945800" y="4763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3" name="文本框 36"/>
          <p:cNvSpPr/>
          <p:nvPr/>
        </p:nvSpPr>
        <p:spPr>
          <a:xfrm rot="2809800">
            <a:off x="1929960" y="3671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4" name="文本框 37"/>
          <p:cNvSpPr/>
          <p:nvPr/>
        </p:nvSpPr>
        <p:spPr>
          <a:xfrm rot="5220000">
            <a:off x="2364120" y="4047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5" name="文本框 45"/>
          <p:cNvSpPr/>
          <p:nvPr/>
        </p:nvSpPr>
        <p:spPr>
          <a:xfrm rot="2809800">
            <a:off x="2877120" y="369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文本框 46"/>
          <p:cNvSpPr/>
          <p:nvPr/>
        </p:nvSpPr>
        <p:spPr>
          <a:xfrm rot="4020000">
            <a:off x="767160" y="2647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文本框 47"/>
          <p:cNvSpPr/>
          <p:nvPr/>
        </p:nvSpPr>
        <p:spPr>
          <a:xfrm rot="5220000">
            <a:off x="768600" y="3891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文本框 49"/>
          <p:cNvSpPr/>
          <p:nvPr/>
        </p:nvSpPr>
        <p:spPr>
          <a:xfrm rot="4020000">
            <a:off x="2531160" y="501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9" name="文本框 50"/>
          <p:cNvSpPr/>
          <p:nvPr/>
        </p:nvSpPr>
        <p:spPr>
          <a:xfrm rot="4020000">
            <a:off x="3769200" y="4516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0" name="文本框 51"/>
          <p:cNvSpPr/>
          <p:nvPr/>
        </p:nvSpPr>
        <p:spPr>
          <a:xfrm rot="4020000">
            <a:off x="4139280" y="4803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1" name="文本框 32"/>
          <p:cNvSpPr/>
          <p:nvPr/>
        </p:nvSpPr>
        <p:spPr>
          <a:xfrm rot="20719200">
            <a:off x="581400" y="3379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2" name="文本框 34"/>
          <p:cNvSpPr/>
          <p:nvPr/>
        </p:nvSpPr>
        <p:spPr>
          <a:xfrm rot="8340000">
            <a:off x="1318680" y="3483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3" name="文本框 36"/>
          <p:cNvSpPr/>
          <p:nvPr/>
        </p:nvSpPr>
        <p:spPr>
          <a:xfrm rot="4020000">
            <a:off x="1737360" y="204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文本框 37"/>
          <p:cNvSpPr/>
          <p:nvPr/>
        </p:nvSpPr>
        <p:spPr>
          <a:xfrm rot="5220000">
            <a:off x="1737000" y="276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文本框 45"/>
          <p:cNvSpPr/>
          <p:nvPr/>
        </p:nvSpPr>
        <p:spPr>
          <a:xfrm rot="2809800">
            <a:off x="2297880" y="207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6" name="文本框 46"/>
          <p:cNvSpPr/>
          <p:nvPr/>
        </p:nvSpPr>
        <p:spPr>
          <a:xfrm rot="2809800">
            <a:off x="2667600" y="2358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文本框 47"/>
          <p:cNvSpPr/>
          <p:nvPr/>
        </p:nvSpPr>
        <p:spPr>
          <a:xfrm rot="4009800">
            <a:off x="2395800" y="3112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8" name="文本框 49"/>
          <p:cNvSpPr/>
          <p:nvPr/>
        </p:nvSpPr>
        <p:spPr>
          <a:xfrm rot="2809800">
            <a:off x="3255120" y="2657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9" name="文本框 50"/>
          <p:cNvSpPr/>
          <p:nvPr/>
        </p:nvSpPr>
        <p:spPr>
          <a:xfrm rot="2809800">
            <a:off x="3142800" y="323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0" name="文本框 51"/>
          <p:cNvSpPr/>
          <p:nvPr/>
        </p:nvSpPr>
        <p:spPr>
          <a:xfrm rot="2809800">
            <a:off x="3512160" y="352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1" name="文本框 32"/>
          <p:cNvSpPr/>
          <p:nvPr/>
        </p:nvSpPr>
        <p:spPr>
          <a:xfrm rot="5400000">
            <a:off x="4818960" y="493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2" name="文本框 34"/>
          <p:cNvSpPr/>
          <p:nvPr/>
        </p:nvSpPr>
        <p:spPr>
          <a:xfrm rot="3159000">
            <a:off x="5883480" y="5369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文本框 36"/>
          <p:cNvSpPr/>
          <p:nvPr/>
        </p:nvSpPr>
        <p:spPr>
          <a:xfrm rot="20439000">
            <a:off x="6305400" y="3928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文本框 37"/>
          <p:cNvSpPr/>
          <p:nvPr/>
        </p:nvSpPr>
        <p:spPr>
          <a:xfrm rot="39000">
            <a:off x="6305040" y="4652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5" name="文本框 45"/>
          <p:cNvSpPr/>
          <p:nvPr/>
        </p:nvSpPr>
        <p:spPr>
          <a:xfrm rot="20439000">
            <a:off x="6865200" y="3957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6" name="文本框 46"/>
          <p:cNvSpPr/>
          <p:nvPr/>
        </p:nvSpPr>
        <p:spPr>
          <a:xfrm rot="20439000">
            <a:off x="7235280" y="4242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7" name="文本框 47"/>
          <p:cNvSpPr/>
          <p:nvPr/>
        </p:nvSpPr>
        <p:spPr>
          <a:xfrm rot="39000">
            <a:off x="6922440" y="5001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文本框 49"/>
          <p:cNvSpPr/>
          <p:nvPr/>
        </p:nvSpPr>
        <p:spPr>
          <a:xfrm rot="20439000">
            <a:off x="7755840" y="4630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9" name="文本框 50"/>
          <p:cNvSpPr/>
          <p:nvPr/>
        </p:nvSpPr>
        <p:spPr>
          <a:xfrm rot="20439000">
            <a:off x="7709760" y="5122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0" name="文本框 51"/>
          <p:cNvSpPr/>
          <p:nvPr/>
        </p:nvSpPr>
        <p:spPr>
          <a:xfrm rot="20439000">
            <a:off x="6847920" y="155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1" name="矩形 5"/>
          <p:cNvSpPr/>
          <p:nvPr/>
        </p:nvSpPr>
        <p:spPr>
          <a:xfrm>
            <a:off x="519120" y="379440"/>
            <a:ext cx="80406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进士第的官衔灯该还有吧，垂珠联珑的朱门却早已褪色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双波形 6"/>
          <p:cNvSpPr/>
          <p:nvPr/>
        </p:nvSpPr>
        <p:spPr>
          <a:xfrm>
            <a:off x="2473200" y="1928880"/>
            <a:ext cx="4205520" cy="1279440"/>
          </a:xfrm>
          <a:custGeom>
            <a:avLst/>
            <a:gdLst>
              <a:gd name="textAreaLeft" fmla="*/ 0 w 4205520"/>
              <a:gd name="textAreaRight" fmla="*/ 4205880 w 4205520"/>
              <a:gd name="textAreaTop" fmla="*/ 159840 h 1279440"/>
              <a:gd name="textAreaBottom" fmla="*/ 1119600 h 127944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灯笼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记录着岁月的沧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矩形 7"/>
          <p:cNvSpPr/>
          <p:nvPr/>
        </p:nvSpPr>
        <p:spPr>
          <a:xfrm>
            <a:off x="519120" y="3149640"/>
            <a:ext cx="7994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若是纱灯上的字是“尚书府”或“某某县正堂”之类，懂得了意思，也会觉得不凡的；但普普通通一家纯德堂的家用灯笼，可也未始勾不起爱好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4" name="双波形 8"/>
          <p:cNvSpPr/>
          <p:nvPr/>
        </p:nvSpPr>
        <p:spPr>
          <a:xfrm>
            <a:off x="2600280" y="5359320"/>
            <a:ext cx="5186520" cy="1278000"/>
          </a:xfrm>
          <a:custGeom>
            <a:avLst/>
            <a:gdLst>
              <a:gd name="textAreaLeft" fmla="*/ 0 w 5186520"/>
              <a:gd name="textAreaRight" fmla="*/ 5186520 w 5186520"/>
              <a:gd name="textAreaTop" fmla="*/ 159480 h 1278000"/>
              <a:gd name="textAreaBottom" fmla="*/ 111852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灯笼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显示着主人的地位和权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" dur="500"/>
                                        <p:tgtEl>
                                          <p:spTgt spid="3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1" dur="500"/>
                                        <p:tgtEl>
                                          <p:spTgt spid="3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" dur="500"/>
                                        <p:tgtEl>
                                          <p:spTgt spid="3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" dur="500"/>
                                        <p:tgtEl>
                                          <p:spTgt spid="3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文本框 32"/>
          <p:cNvSpPr/>
          <p:nvPr/>
        </p:nvSpPr>
        <p:spPr>
          <a:xfrm>
            <a:off x="4541760" y="3900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文本框 34"/>
          <p:cNvSpPr/>
          <p:nvPr/>
        </p:nvSpPr>
        <p:spPr>
          <a:xfrm rot="21319800">
            <a:off x="8130960" y="2197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文本框 36"/>
          <p:cNvSpPr/>
          <p:nvPr/>
        </p:nvSpPr>
        <p:spPr>
          <a:xfrm rot="16248600">
            <a:off x="5930280" y="1783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8" name="文本框 37"/>
          <p:cNvSpPr/>
          <p:nvPr/>
        </p:nvSpPr>
        <p:spPr>
          <a:xfrm rot="17448600">
            <a:off x="5400000" y="232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9" name="文本框 45"/>
          <p:cNvSpPr/>
          <p:nvPr/>
        </p:nvSpPr>
        <p:spPr>
          <a:xfrm rot="16248600">
            <a:off x="6490440" y="181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0" name="文本框 46"/>
          <p:cNvSpPr/>
          <p:nvPr/>
        </p:nvSpPr>
        <p:spPr>
          <a:xfrm rot="21174600">
            <a:off x="7135200" y="212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1" name="文本框 47"/>
          <p:cNvSpPr/>
          <p:nvPr/>
        </p:nvSpPr>
        <p:spPr>
          <a:xfrm rot="17448600">
            <a:off x="7724160" y="3359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2" name="文本框 49"/>
          <p:cNvSpPr/>
          <p:nvPr/>
        </p:nvSpPr>
        <p:spPr>
          <a:xfrm rot="657000">
            <a:off x="8235000" y="160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3" name="文本框 50"/>
          <p:cNvSpPr/>
          <p:nvPr/>
        </p:nvSpPr>
        <p:spPr>
          <a:xfrm rot="1480200">
            <a:off x="7458120" y="1687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4" name="文本框 51"/>
          <p:cNvSpPr/>
          <p:nvPr/>
        </p:nvSpPr>
        <p:spPr>
          <a:xfrm rot="16248600">
            <a:off x="8435160" y="3647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5" name="文本框 32"/>
          <p:cNvSpPr/>
          <p:nvPr/>
        </p:nvSpPr>
        <p:spPr>
          <a:xfrm>
            <a:off x="3328920" y="4748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6" name="文本框 34"/>
          <p:cNvSpPr/>
          <p:nvPr/>
        </p:nvSpPr>
        <p:spPr>
          <a:xfrm rot="4150200">
            <a:off x="4528440" y="469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7" name="文本框 36"/>
          <p:cNvSpPr/>
          <p:nvPr/>
        </p:nvSpPr>
        <p:spPr>
          <a:xfrm rot="20220000">
            <a:off x="3967920" y="1763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8" name="文本框 37"/>
          <p:cNvSpPr/>
          <p:nvPr/>
        </p:nvSpPr>
        <p:spPr>
          <a:xfrm rot="21420000">
            <a:off x="4198320" y="276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9" name="文本框 45"/>
          <p:cNvSpPr/>
          <p:nvPr/>
        </p:nvSpPr>
        <p:spPr>
          <a:xfrm rot="20220000">
            <a:off x="4528440" y="1792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0" name="文本框 46"/>
          <p:cNvSpPr/>
          <p:nvPr/>
        </p:nvSpPr>
        <p:spPr>
          <a:xfrm rot="20220000">
            <a:off x="4898160" y="2077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1" name="文本框 47"/>
          <p:cNvSpPr/>
          <p:nvPr/>
        </p:nvSpPr>
        <p:spPr>
          <a:xfrm rot="21420000">
            <a:off x="5131800" y="3007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2" name="文本框 49"/>
          <p:cNvSpPr/>
          <p:nvPr/>
        </p:nvSpPr>
        <p:spPr>
          <a:xfrm rot="16248600">
            <a:off x="6379200" y="284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3" name="文本框 50"/>
          <p:cNvSpPr/>
          <p:nvPr/>
        </p:nvSpPr>
        <p:spPr>
          <a:xfrm rot="21429600">
            <a:off x="5657040" y="348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4" name="文本框 51"/>
          <p:cNvSpPr/>
          <p:nvPr/>
        </p:nvSpPr>
        <p:spPr>
          <a:xfrm rot="16248600">
            <a:off x="5914080" y="4606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5" name="文本框 32"/>
          <p:cNvSpPr/>
          <p:nvPr/>
        </p:nvSpPr>
        <p:spPr>
          <a:xfrm rot="1209600">
            <a:off x="1203840" y="5194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6" name="文本框 34"/>
          <p:cNvSpPr/>
          <p:nvPr/>
        </p:nvSpPr>
        <p:spPr>
          <a:xfrm rot="4150200">
            <a:off x="2207520" y="4634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文本框 36"/>
          <p:cNvSpPr/>
          <p:nvPr/>
        </p:nvSpPr>
        <p:spPr>
          <a:xfrm rot="20220000">
            <a:off x="1672560" y="433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文本框 37"/>
          <p:cNvSpPr/>
          <p:nvPr/>
        </p:nvSpPr>
        <p:spPr>
          <a:xfrm rot="1029600">
            <a:off x="2553120" y="3700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文本框 45"/>
          <p:cNvSpPr/>
          <p:nvPr/>
        </p:nvSpPr>
        <p:spPr>
          <a:xfrm rot="20220000">
            <a:off x="3229920" y="4222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0" name="文本框 46"/>
          <p:cNvSpPr/>
          <p:nvPr/>
        </p:nvSpPr>
        <p:spPr>
          <a:xfrm rot="21429600">
            <a:off x="855000" y="2068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1" name="文本框 47"/>
          <p:cNvSpPr/>
          <p:nvPr/>
        </p:nvSpPr>
        <p:spPr>
          <a:xfrm rot="1029600">
            <a:off x="896400" y="4560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2" name="文本框 49"/>
          <p:cNvSpPr/>
          <p:nvPr/>
        </p:nvSpPr>
        <p:spPr>
          <a:xfrm rot="21429600">
            <a:off x="3077640" y="514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3" name="文本框 50"/>
          <p:cNvSpPr/>
          <p:nvPr/>
        </p:nvSpPr>
        <p:spPr>
          <a:xfrm rot="21429600">
            <a:off x="4225320" y="425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文本框 51"/>
          <p:cNvSpPr/>
          <p:nvPr/>
        </p:nvSpPr>
        <p:spPr>
          <a:xfrm rot="21429600">
            <a:off x="4392000" y="5265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文本框 36"/>
          <p:cNvSpPr/>
          <p:nvPr/>
        </p:nvSpPr>
        <p:spPr>
          <a:xfrm rot="16528800">
            <a:off x="391320" y="275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文本框 37"/>
          <p:cNvSpPr/>
          <p:nvPr/>
        </p:nvSpPr>
        <p:spPr>
          <a:xfrm rot="4150200">
            <a:off x="1403640" y="2905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7" name="文本框 36"/>
          <p:cNvSpPr/>
          <p:nvPr/>
        </p:nvSpPr>
        <p:spPr>
          <a:xfrm rot="21429600">
            <a:off x="389880" y="1809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文本框 37"/>
          <p:cNvSpPr/>
          <p:nvPr/>
        </p:nvSpPr>
        <p:spPr>
          <a:xfrm rot="1029600">
            <a:off x="1405800" y="227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文本框 45"/>
          <p:cNvSpPr/>
          <p:nvPr/>
        </p:nvSpPr>
        <p:spPr>
          <a:xfrm rot="20220000">
            <a:off x="2185200" y="155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0" name="文本框 46"/>
          <p:cNvSpPr/>
          <p:nvPr/>
        </p:nvSpPr>
        <p:spPr>
          <a:xfrm rot="20220000">
            <a:off x="2755080" y="1782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1" name="文本框 47"/>
          <p:cNvSpPr/>
          <p:nvPr/>
        </p:nvSpPr>
        <p:spPr>
          <a:xfrm rot="21420000">
            <a:off x="2483640" y="253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2" name="文本框 49"/>
          <p:cNvSpPr/>
          <p:nvPr/>
        </p:nvSpPr>
        <p:spPr>
          <a:xfrm rot="20220000">
            <a:off x="3344040" y="2077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文本框 50"/>
          <p:cNvSpPr/>
          <p:nvPr/>
        </p:nvSpPr>
        <p:spPr>
          <a:xfrm rot="20220000">
            <a:off x="2917080" y="2852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4" name="文本框 51"/>
          <p:cNvSpPr/>
          <p:nvPr/>
        </p:nvSpPr>
        <p:spPr>
          <a:xfrm rot="20220000">
            <a:off x="3552120" y="3034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5" name="文本框 32"/>
          <p:cNvSpPr/>
          <p:nvPr/>
        </p:nvSpPr>
        <p:spPr>
          <a:xfrm rot="1209600">
            <a:off x="5182200" y="4745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6" name="文本框 34"/>
          <p:cNvSpPr/>
          <p:nvPr/>
        </p:nvSpPr>
        <p:spPr>
          <a:xfrm rot="20568600">
            <a:off x="6378480" y="5219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7" name="文本框 36"/>
          <p:cNvSpPr/>
          <p:nvPr/>
        </p:nvSpPr>
        <p:spPr>
          <a:xfrm rot="368400">
            <a:off x="5841000" y="3839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8" name="文本框 37"/>
          <p:cNvSpPr/>
          <p:nvPr/>
        </p:nvSpPr>
        <p:spPr>
          <a:xfrm rot="829200">
            <a:off x="5352120" y="5326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9" name="文本框 45"/>
          <p:cNvSpPr/>
          <p:nvPr/>
        </p:nvSpPr>
        <p:spPr>
          <a:xfrm rot="17097000">
            <a:off x="6847560" y="3360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0" name="文本框 46"/>
          <p:cNvSpPr/>
          <p:nvPr/>
        </p:nvSpPr>
        <p:spPr>
          <a:xfrm rot="2701800">
            <a:off x="7634520" y="4111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1" name="文本框 47"/>
          <p:cNvSpPr/>
          <p:nvPr/>
        </p:nvSpPr>
        <p:spPr>
          <a:xfrm rot="18142800">
            <a:off x="6812640" y="456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2" name="文本框 53"/>
          <p:cNvSpPr/>
          <p:nvPr/>
        </p:nvSpPr>
        <p:spPr>
          <a:xfrm rot="18419400">
            <a:off x="8175960" y="4382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3" name="文本框 54"/>
          <p:cNvSpPr/>
          <p:nvPr/>
        </p:nvSpPr>
        <p:spPr>
          <a:xfrm rot="17959200">
            <a:off x="7308000" y="481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4" name="文本框 55"/>
          <p:cNvSpPr/>
          <p:nvPr/>
        </p:nvSpPr>
        <p:spPr>
          <a:xfrm rot="1549200">
            <a:off x="8096400" y="3230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5" name="文本框 32"/>
          <p:cNvSpPr/>
          <p:nvPr/>
        </p:nvSpPr>
        <p:spPr>
          <a:xfrm rot="4189800">
            <a:off x="4354920" y="3371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6" name="文本框 34"/>
          <p:cNvSpPr/>
          <p:nvPr/>
        </p:nvSpPr>
        <p:spPr>
          <a:xfrm rot="8340000">
            <a:off x="4987800" y="421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文本框 36"/>
          <p:cNvSpPr/>
          <p:nvPr/>
        </p:nvSpPr>
        <p:spPr>
          <a:xfrm rot="20439000">
            <a:off x="5841360" y="2361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文本框 37"/>
          <p:cNvSpPr/>
          <p:nvPr/>
        </p:nvSpPr>
        <p:spPr>
          <a:xfrm rot="39000">
            <a:off x="5717520" y="3058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9" name="文本框 45"/>
          <p:cNvSpPr/>
          <p:nvPr/>
        </p:nvSpPr>
        <p:spPr>
          <a:xfrm rot="20439000">
            <a:off x="6401520" y="2391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文本框 46"/>
          <p:cNvSpPr/>
          <p:nvPr/>
        </p:nvSpPr>
        <p:spPr>
          <a:xfrm rot="20439000">
            <a:off x="6771600" y="267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文本框 47"/>
          <p:cNvSpPr/>
          <p:nvPr/>
        </p:nvSpPr>
        <p:spPr>
          <a:xfrm rot="39000">
            <a:off x="7252560" y="3303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文本框 49"/>
          <p:cNvSpPr/>
          <p:nvPr/>
        </p:nvSpPr>
        <p:spPr>
          <a:xfrm rot="20439000">
            <a:off x="8089200" y="2782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3" name="文本框 50"/>
          <p:cNvSpPr/>
          <p:nvPr/>
        </p:nvSpPr>
        <p:spPr>
          <a:xfrm rot="20439000">
            <a:off x="7555680" y="260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4" name="文本框 51"/>
          <p:cNvSpPr/>
          <p:nvPr/>
        </p:nvSpPr>
        <p:spPr>
          <a:xfrm rot="20439000">
            <a:off x="8031960" y="3752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文本框 32"/>
          <p:cNvSpPr/>
          <p:nvPr/>
        </p:nvSpPr>
        <p:spPr>
          <a:xfrm rot="4189800">
            <a:off x="2832480" y="448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6" name="文本框 34"/>
          <p:cNvSpPr/>
          <p:nvPr/>
        </p:nvSpPr>
        <p:spPr>
          <a:xfrm rot="8340000">
            <a:off x="3988800" y="378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文本框 36"/>
          <p:cNvSpPr/>
          <p:nvPr/>
        </p:nvSpPr>
        <p:spPr>
          <a:xfrm rot="2809800">
            <a:off x="3880440" y="234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8" name="文本框 37"/>
          <p:cNvSpPr/>
          <p:nvPr/>
        </p:nvSpPr>
        <p:spPr>
          <a:xfrm rot="4009800">
            <a:off x="3880080" y="3066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文本框 45"/>
          <p:cNvSpPr/>
          <p:nvPr/>
        </p:nvSpPr>
        <p:spPr>
          <a:xfrm rot="2809800">
            <a:off x="4440960" y="2371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文本框 46"/>
          <p:cNvSpPr/>
          <p:nvPr/>
        </p:nvSpPr>
        <p:spPr>
          <a:xfrm rot="2809800">
            <a:off x="4811400" y="2657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文本框 47"/>
          <p:cNvSpPr/>
          <p:nvPr/>
        </p:nvSpPr>
        <p:spPr>
          <a:xfrm rot="4009800">
            <a:off x="4811040" y="3380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2" name="文本框 49"/>
          <p:cNvSpPr/>
          <p:nvPr/>
        </p:nvSpPr>
        <p:spPr>
          <a:xfrm rot="20439000">
            <a:off x="6292440" y="3420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文本框 50"/>
          <p:cNvSpPr/>
          <p:nvPr/>
        </p:nvSpPr>
        <p:spPr>
          <a:xfrm rot="4020000">
            <a:off x="5285520" y="3536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4" name="文本框 51"/>
          <p:cNvSpPr/>
          <p:nvPr/>
        </p:nvSpPr>
        <p:spPr>
          <a:xfrm rot="20439000">
            <a:off x="5666760" y="4319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5" name="文本框 32"/>
          <p:cNvSpPr/>
          <p:nvPr/>
        </p:nvSpPr>
        <p:spPr>
          <a:xfrm rot="5400000">
            <a:off x="1208880" y="433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6" name="文本框 34"/>
          <p:cNvSpPr/>
          <p:nvPr/>
        </p:nvSpPr>
        <p:spPr>
          <a:xfrm rot="8340000">
            <a:off x="1945800" y="4763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7" name="文本框 36"/>
          <p:cNvSpPr/>
          <p:nvPr/>
        </p:nvSpPr>
        <p:spPr>
          <a:xfrm rot="2809800">
            <a:off x="1929960" y="3671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8" name="文本框 37"/>
          <p:cNvSpPr/>
          <p:nvPr/>
        </p:nvSpPr>
        <p:spPr>
          <a:xfrm rot="5220000">
            <a:off x="2364120" y="4047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9" name="文本框 45"/>
          <p:cNvSpPr/>
          <p:nvPr/>
        </p:nvSpPr>
        <p:spPr>
          <a:xfrm rot="2809800">
            <a:off x="2877120" y="369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0" name="文本框 46"/>
          <p:cNvSpPr/>
          <p:nvPr/>
        </p:nvSpPr>
        <p:spPr>
          <a:xfrm rot="4020000">
            <a:off x="767160" y="2647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1" name="文本框 47"/>
          <p:cNvSpPr/>
          <p:nvPr/>
        </p:nvSpPr>
        <p:spPr>
          <a:xfrm rot="5220000">
            <a:off x="768600" y="3891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2" name="文本框 49"/>
          <p:cNvSpPr/>
          <p:nvPr/>
        </p:nvSpPr>
        <p:spPr>
          <a:xfrm rot="4020000">
            <a:off x="2531160" y="501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3" name="文本框 50"/>
          <p:cNvSpPr/>
          <p:nvPr/>
        </p:nvSpPr>
        <p:spPr>
          <a:xfrm rot="4020000">
            <a:off x="3769200" y="4516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4" name="文本框 51"/>
          <p:cNvSpPr/>
          <p:nvPr/>
        </p:nvSpPr>
        <p:spPr>
          <a:xfrm rot="4020000">
            <a:off x="4139280" y="4803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5" name="文本框 32"/>
          <p:cNvSpPr/>
          <p:nvPr/>
        </p:nvSpPr>
        <p:spPr>
          <a:xfrm rot="20719200">
            <a:off x="581400" y="3379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6" name="文本框 34"/>
          <p:cNvSpPr/>
          <p:nvPr/>
        </p:nvSpPr>
        <p:spPr>
          <a:xfrm rot="8340000">
            <a:off x="1318680" y="3483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文本框 36"/>
          <p:cNvSpPr/>
          <p:nvPr/>
        </p:nvSpPr>
        <p:spPr>
          <a:xfrm rot="4020000">
            <a:off x="1737360" y="204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8" name="文本框 37"/>
          <p:cNvSpPr/>
          <p:nvPr/>
        </p:nvSpPr>
        <p:spPr>
          <a:xfrm rot="5220000">
            <a:off x="1737000" y="276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文本框 45"/>
          <p:cNvSpPr/>
          <p:nvPr/>
        </p:nvSpPr>
        <p:spPr>
          <a:xfrm rot="2809800">
            <a:off x="2297880" y="207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0" name="文本框 46"/>
          <p:cNvSpPr/>
          <p:nvPr/>
        </p:nvSpPr>
        <p:spPr>
          <a:xfrm rot="2809800">
            <a:off x="2667600" y="2358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文本框 47"/>
          <p:cNvSpPr/>
          <p:nvPr/>
        </p:nvSpPr>
        <p:spPr>
          <a:xfrm rot="4009800">
            <a:off x="2395800" y="3112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文本框 49"/>
          <p:cNvSpPr/>
          <p:nvPr/>
        </p:nvSpPr>
        <p:spPr>
          <a:xfrm rot="2809800">
            <a:off x="3255120" y="2657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文本框 50"/>
          <p:cNvSpPr/>
          <p:nvPr/>
        </p:nvSpPr>
        <p:spPr>
          <a:xfrm rot="2809800">
            <a:off x="3142800" y="323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文本框 51"/>
          <p:cNvSpPr/>
          <p:nvPr/>
        </p:nvSpPr>
        <p:spPr>
          <a:xfrm rot="2809800">
            <a:off x="3512160" y="352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文本框 32"/>
          <p:cNvSpPr/>
          <p:nvPr/>
        </p:nvSpPr>
        <p:spPr>
          <a:xfrm rot="5400000">
            <a:off x="4818960" y="493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6" name="文本框 34"/>
          <p:cNvSpPr/>
          <p:nvPr/>
        </p:nvSpPr>
        <p:spPr>
          <a:xfrm rot="3159000">
            <a:off x="5883480" y="5369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7" name="文本框 36"/>
          <p:cNvSpPr/>
          <p:nvPr/>
        </p:nvSpPr>
        <p:spPr>
          <a:xfrm rot="20439000">
            <a:off x="6305400" y="3928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8" name="文本框 37"/>
          <p:cNvSpPr/>
          <p:nvPr/>
        </p:nvSpPr>
        <p:spPr>
          <a:xfrm rot="39000">
            <a:off x="6305040" y="4652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9" name="文本框 45"/>
          <p:cNvSpPr/>
          <p:nvPr/>
        </p:nvSpPr>
        <p:spPr>
          <a:xfrm rot="20439000">
            <a:off x="6865200" y="3957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0" name="文本框 46"/>
          <p:cNvSpPr/>
          <p:nvPr/>
        </p:nvSpPr>
        <p:spPr>
          <a:xfrm rot="20439000">
            <a:off x="7235280" y="4242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1" name="文本框 47"/>
          <p:cNvSpPr/>
          <p:nvPr/>
        </p:nvSpPr>
        <p:spPr>
          <a:xfrm rot="39000">
            <a:off x="6922440" y="5001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2" name="文本框 49"/>
          <p:cNvSpPr/>
          <p:nvPr/>
        </p:nvSpPr>
        <p:spPr>
          <a:xfrm rot="20439000">
            <a:off x="7755840" y="4630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3" name="文本框 50"/>
          <p:cNvSpPr/>
          <p:nvPr/>
        </p:nvSpPr>
        <p:spPr>
          <a:xfrm rot="20439000">
            <a:off x="7709760" y="5122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4" name="文本框 51"/>
          <p:cNvSpPr/>
          <p:nvPr/>
        </p:nvSpPr>
        <p:spPr>
          <a:xfrm rot="20439000">
            <a:off x="6847920" y="155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5" name="矩形 4"/>
          <p:cNvSpPr/>
          <p:nvPr/>
        </p:nvSpPr>
        <p:spPr>
          <a:xfrm>
            <a:off x="378000" y="457200"/>
            <a:ext cx="8008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自由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-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自然段，思考：关于宫灯的想象和对古时将军挑灯看剑的描写有什么深刻意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6" name="矩形 5"/>
          <p:cNvSpPr/>
          <p:nvPr/>
        </p:nvSpPr>
        <p:spPr>
          <a:xfrm>
            <a:off x="430200" y="2068560"/>
            <a:ext cx="81136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ff00ff"/>
                </a:solidFill>
                <a:latin typeface="楷体"/>
                <a:ea typeface="楷体"/>
              </a:rPr>
              <a:t>对宫灯进行想象，体验深长的历史况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ff00ff"/>
                </a:solidFill>
                <a:latin typeface="楷体"/>
                <a:ea typeface="楷体"/>
              </a:rPr>
              <a:t>引述历史上保家卫国的名将，表达自己做“灯笼下的马前卒”的誓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7" name="矩形 3"/>
          <p:cNvSpPr/>
          <p:nvPr/>
        </p:nvSpPr>
        <p:spPr>
          <a:xfrm>
            <a:off x="866880" y="4546440"/>
            <a:ext cx="5916600" cy="605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从历史文化及个人情感上表达灯笼对于“我”及整个民族的重要意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8" name="心形 2"/>
          <p:cNvSpPr/>
          <p:nvPr/>
        </p:nvSpPr>
        <p:spPr>
          <a:xfrm>
            <a:off x="6985080" y="4325760"/>
            <a:ext cx="1822320" cy="18990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升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8" dur="500"/>
                                        <p:tgtEl>
                                          <p:spTgt spid="3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3" dur="500"/>
                                        <p:tgtEl>
                                          <p:spTgt spid="3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8" dur="500"/>
                                        <p:tgtEl>
                                          <p:spTgt spid="3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3" dur="500"/>
                                        <p:tgtEl>
                                          <p:spTgt spid="3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9" name="TextBox 6"/>
          <p:cNvSpPr/>
          <p:nvPr/>
        </p:nvSpPr>
        <p:spPr>
          <a:xfrm>
            <a:off x="179280" y="896760"/>
            <a:ext cx="7121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合全文，简析作者喜爱灯笼的原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0" name="矩形 1"/>
          <p:cNvSpPr/>
          <p:nvPr/>
        </p:nvSpPr>
        <p:spPr>
          <a:xfrm>
            <a:off x="250920" y="1628640"/>
            <a:ext cx="84042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①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灯笼寄托着祖父、母亲等亲人的慈爱和牵挂，也寄托着作者对亲人的感激之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②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许多乡情民俗与灯笼结下太多的缘分，给作者留下很多美好的回忆；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③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灯笼能为夜行人指路，温暖他人；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④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记录、传承着家族历史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⑤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引发作者联想起古代将领挑灯看剑，抗击敌人的情景，激发爱国热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1" name="矩形 7"/>
          <p:cNvSpPr/>
          <p:nvPr/>
        </p:nvSpPr>
        <p:spPr>
          <a:xfrm>
            <a:off x="179280" y="189000"/>
            <a:ext cx="551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华文行楷"/>
                <a:ea typeface="华文行楷"/>
              </a:rPr>
              <a:t>合作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0" dur="500"/>
                                        <p:tgtEl>
                                          <p:spTgt spid="3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5" dur="500"/>
                                        <p:tgtEl>
                                          <p:spTgt spid="3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2" name="TextBox 6"/>
          <p:cNvSpPr/>
          <p:nvPr/>
        </p:nvSpPr>
        <p:spPr>
          <a:xfrm>
            <a:off x="395280" y="1773360"/>
            <a:ext cx="8569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文章结尾说：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“唉，壮，于今灯笼又不够了。应该数火把，数探海灯，数燎原的一把烈火！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合文章，分析并评价这句话所表现的作者的观点态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3" name="矩形 1"/>
          <p:cNvSpPr/>
          <p:nvPr/>
        </p:nvSpPr>
        <p:spPr>
          <a:xfrm>
            <a:off x="324000" y="189000"/>
            <a:ext cx="480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华文行楷"/>
                <a:ea typeface="华文行楷"/>
              </a:rPr>
              <a:t>合作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4" name="矩形 1"/>
          <p:cNvSpPr/>
          <p:nvPr/>
        </p:nvSpPr>
        <p:spPr>
          <a:xfrm>
            <a:off x="561960" y="1860480"/>
            <a:ext cx="8240760" cy="648360"/>
          </a:xfrm>
          <a:prstGeom prst="rect">
            <a:avLst/>
          </a:prstGeom>
          <a:noFill/>
          <a:ln cap="rnd"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本文写于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30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年代</a:t>
            </a:r>
            <a:r>
              <a:rPr b="1" lang="zh-CN" sz="2800" spc="-1" strike="noStrike">
                <a:solidFill>
                  <a:srgbClr val="002060"/>
                </a:solidFill>
                <a:latin typeface="Calibri"/>
              </a:rPr>
              <a:t>。这个时期，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强邻虎视眈眈，大兵压境，蚕食我国大片领土。</a:t>
            </a:r>
            <a:r>
              <a:rPr b="1" lang="zh-CN" sz="2800" spc="-1" strike="noStrike">
                <a:solidFill>
                  <a:srgbClr val="002060"/>
                </a:solidFill>
                <a:latin typeface="Calibri"/>
              </a:rPr>
              <a:t>在国民党统治下，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中国人民过着屈辱且贫困的生活，群众的反抗斗争风起云涌。</a:t>
            </a:r>
            <a:r>
              <a:rPr b="1" lang="zh-CN" sz="2800" spc="-1" strike="noStrike">
                <a:solidFill>
                  <a:srgbClr val="002060"/>
                </a:solidFill>
                <a:latin typeface="Calibri"/>
              </a:rPr>
              <a:t>吴伯箫这一时期的散文，表现了他对生活的热爱，对祖国乡土的深情眷恋，对现实的不满，也透露出人民被压抑着的愤怒情绪，回荡着爱国主义的激越旋律。即使在回忆童年生活的篇章里，这一旋律也时常跳跃而出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5" name="TextBox 6"/>
          <p:cNvSpPr/>
          <p:nvPr/>
        </p:nvSpPr>
        <p:spPr>
          <a:xfrm>
            <a:off x="250920" y="90792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背景链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2" dur="500"/>
                                        <p:tgtEl>
                                          <p:spTgt spid="3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6" name="图片 25614" descr="Ar_012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8610480" y="5867280"/>
            <a:ext cx="395280" cy="173160"/>
          </a:xfrm>
          <a:prstGeom prst="rect">
            <a:avLst/>
          </a:prstGeom>
          <a:ln w="0">
            <a:noFill/>
          </a:ln>
        </p:spPr>
      </p:pic>
      <p:pic>
        <p:nvPicPr>
          <p:cNvPr id="3527" name="图片 2" descr=""/>
          <p:cNvPicPr/>
          <p:nvPr/>
        </p:nvPicPr>
        <p:blipFill>
          <a:blip r:embed="rId2"/>
          <a:stretch/>
        </p:blipFill>
        <p:spPr>
          <a:xfrm>
            <a:off x="-458640" y="0"/>
            <a:ext cx="9602640" cy="7104240"/>
          </a:xfrm>
          <a:prstGeom prst="rect">
            <a:avLst/>
          </a:prstGeom>
          <a:ln w="0">
            <a:noFill/>
          </a:ln>
        </p:spPr>
      </p:pic>
    </p:spTree>
  </p:cSld>
  <p:transition spd="slow" advTm="29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6" name="矩形 1"/>
          <p:cNvSpPr/>
          <p:nvPr/>
        </p:nvSpPr>
        <p:spPr>
          <a:xfrm>
            <a:off x="324000" y="476280"/>
            <a:ext cx="85690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作者热烈赞颂古代将军塞外点兵，挑灯看剑，英勇杀敌的气概；他们激发了自己的爱国情怀，作者热切希望冲上前线，奋勇杀敌，打击日寇；同时表达了对时局的担忧和对未来的期望，希望有更强大的力量，有更具凝聚力的精神，团结抗战，打败敌人，保卫好自己的家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9" dur="500"/>
                                        <p:tgtEl>
                                          <p:spTgt spid="3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7" name="矩形 1"/>
          <p:cNvSpPr/>
          <p:nvPr/>
        </p:nvSpPr>
        <p:spPr>
          <a:xfrm>
            <a:off x="460440" y="1797120"/>
            <a:ext cx="83167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本文回忆了“我”关于灯笼的一些记忆，从文化层面及个人情感层面表达了灯笼对于他乃至民族的重要意义，表达了“我”对时局的担忧和对未来的期望，希望有更强大的力量，有更具凝聚力的精神，团结抗战，打败敌人，保卫好自己的家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8" name="TextBox 1"/>
          <p:cNvSpPr/>
          <p:nvPr/>
        </p:nvSpPr>
        <p:spPr>
          <a:xfrm>
            <a:off x="608040" y="941400"/>
            <a:ext cx="360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概括主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9" name="Picture 5" descr=""/>
          <p:cNvPicPr/>
          <p:nvPr/>
        </p:nvPicPr>
        <p:blipFill>
          <a:blip r:embed="rId1"/>
          <a:stretch/>
        </p:blipFill>
        <p:spPr>
          <a:xfrm>
            <a:off x="-1411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80" name="标题 1"/>
          <p:cNvSpPr/>
          <p:nvPr/>
        </p:nvSpPr>
        <p:spPr>
          <a:xfrm>
            <a:off x="0" y="549360"/>
            <a:ext cx="65167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动动笔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过年的那些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1" name="直接连接符 14"/>
          <p:cNvSpPr/>
          <p:nvPr/>
        </p:nvSpPr>
        <p:spPr>
          <a:xfrm>
            <a:off x="1736640" y="5321160"/>
            <a:ext cx="5388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2" name="组合 27"/>
          <p:cNvGrpSpPr/>
          <p:nvPr/>
        </p:nvGrpSpPr>
        <p:grpSpPr>
          <a:xfrm>
            <a:off x="376200" y="414000"/>
            <a:ext cx="2732040" cy="1044000"/>
            <a:chOff x="376200" y="414000"/>
            <a:chExt cx="2732040" cy="1044000"/>
          </a:xfrm>
        </p:grpSpPr>
        <p:sp>
          <p:nvSpPr>
            <p:cNvPr id="3983" name="矩形: 圆角 28"/>
            <p:cNvSpPr/>
            <p:nvPr/>
          </p:nvSpPr>
          <p:spPr>
            <a:xfrm rot="20527200">
              <a:off x="471600" y="600120"/>
              <a:ext cx="590400" cy="714600"/>
            </a:xfrm>
            <a:custGeom>
              <a:avLst/>
              <a:gdLst>
                <a:gd name="textAreaLeft" fmla="*/ 28800 w 590400"/>
                <a:gd name="textAreaRight" fmla="*/ 561600 w 590400"/>
                <a:gd name="textAreaTop" fmla="*/ 28800 h 714600"/>
                <a:gd name="textAreaBottom" fmla="*/ 685800 h 714600"/>
              </a:gdLst>
              <a:ahLst/>
              <a:rect l="textAreaLeft" t="textAreaTop" r="textAreaRight" b="textAreaBottom"/>
              <a:pathLst>
                <a:path w="21600" h="26141">
                  <a:moveTo>
                    <a:pt x="3600" y="0"/>
                  </a:moveTo>
                  <a:arcTo wR="3600" hR="3600" stAng="16200000" swAng="-5400000"/>
                  <a:lnTo>
                    <a:pt x="0" y="22541"/>
                  </a:lnTo>
                  <a:arcTo wR="3600" hR="3600" stAng="10800000" swAng="-5400000"/>
                  <a:lnTo>
                    <a:pt x="18000" y="2614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cc"/>
            </a:solidFill>
            <a:ln w="6480">
              <a:solidFill>
                <a:srgbClr val="ff9999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矩形: 圆角 29"/>
            <p:cNvSpPr/>
            <p:nvPr/>
          </p:nvSpPr>
          <p:spPr>
            <a:xfrm rot="294000">
              <a:off x="1135080" y="636480"/>
              <a:ext cx="590400" cy="712800"/>
            </a:xfrm>
            <a:custGeom>
              <a:avLst/>
              <a:gdLst>
                <a:gd name="textAreaLeft" fmla="*/ 28800 w 590400"/>
                <a:gd name="textAreaRight" fmla="*/ 561600 w 590400"/>
                <a:gd name="textAreaTop" fmla="*/ 28800 h 712800"/>
                <a:gd name="textAreaBottom" fmla="*/ 684000 h 712800"/>
              </a:gdLst>
              <a:ahLst/>
              <a:rect l="textAreaLeft" t="textAreaTop" r="textAreaRight" b="textAreaBottom"/>
              <a:pathLst>
                <a:path w="21600" h="26075">
                  <a:moveTo>
                    <a:pt x="3600" y="0"/>
                  </a:moveTo>
                  <a:arcTo wR="3600" hR="3600" stAng="16200000" swAng="-5400000"/>
                  <a:lnTo>
                    <a:pt x="0" y="22475"/>
                  </a:lnTo>
                  <a:arcTo wR="3600" hR="3600" stAng="10800000" swAng="-5400000"/>
                  <a:lnTo>
                    <a:pt x="18000" y="260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cc"/>
            </a:solidFill>
            <a:ln w="6480">
              <a:solidFill>
                <a:srgbClr val="99ff99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5" name="矩形: 圆角 30"/>
            <p:cNvSpPr/>
            <p:nvPr/>
          </p:nvSpPr>
          <p:spPr>
            <a:xfrm rot="1137000">
              <a:off x="1788840" y="490680"/>
              <a:ext cx="591840" cy="712800"/>
            </a:xfrm>
            <a:custGeom>
              <a:avLst/>
              <a:gdLst>
                <a:gd name="textAreaLeft" fmla="*/ 28800 w 591840"/>
                <a:gd name="textAreaRight" fmla="*/ 563040 w 591840"/>
                <a:gd name="textAreaTop" fmla="*/ 28800 h 712800"/>
                <a:gd name="textAreaBottom" fmla="*/ 684000 h 712800"/>
              </a:gdLst>
              <a:ahLst/>
              <a:rect l="textAreaLeft" t="textAreaTop" r="textAreaRight" b="textAreaBottom"/>
              <a:pathLst>
                <a:path w="21600" h="26012">
                  <a:moveTo>
                    <a:pt x="3600" y="0"/>
                  </a:moveTo>
                  <a:arcTo wR="3600" hR="3600" stAng="16200000" swAng="-5400000"/>
                  <a:lnTo>
                    <a:pt x="0" y="22412"/>
                  </a:lnTo>
                  <a:arcTo wR="3600" hR="3600" stAng="10800000" swAng="-5400000"/>
                  <a:lnTo>
                    <a:pt x="18000" y="260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6" name="矩形: 圆角 31"/>
            <p:cNvSpPr/>
            <p:nvPr/>
          </p:nvSpPr>
          <p:spPr>
            <a:xfrm rot="20889600">
              <a:off x="2450880" y="691920"/>
              <a:ext cx="590400" cy="712800"/>
            </a:xfrm>
            <a:custGeom>
              <a:avLst/>
              <a:gdLst>
                <a:gd name="textAreaLeft" fmla="*/ 28800 w 590400"/>
                <a:gd name="textAreaRight" fmla="*/ 561600 w 590400"/>
                <a:gd name="textAreaTop" fmla="*/ 28800 h 712800"/>
                <a:gd name="textAreaBottom" fmla="*/ 684000 h 712800"/>
              </a:gdLst>
              <a:ahLst/>
              <a:rect l="textAreaLeft" t="textAreaTop" r="textAreaRight" b="textAreaBottom"/>
              <a:pathLst>
                <a:path w="21600" h="26075">
                  <a:moveTo>
                    <a:pt x="3600" y="0"/>
                  </a:moveTo>
                  <a:arcTo wR="3600" hR="3600" stAng="16200000" swAng="-5400000"/>
                  <a:lnTo>
                    <a:pt x="0" y="22475"/>
                  </a:lnTo>
                  <a:arcTo wR="3600" hR="3600" stAng="10800000" swAng="-5400000"/>
                  <a:lnTo>
                    <a:pt x="18000" y="260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6480">
              <a:solidFill>
                <a:srgbClr val="66ccff">
                  <a:alpha val="1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7" name="矩形 1"/>
          <p:cNvSpPr/>
          <p:nvPr/>
        </p:nvSpPr>
        <p:spPr>
          <a:xfrm>
            <a:off x="2244600" y="1547640"/>
            <a:ext cx="5467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破阵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陈同甫赋壮词以寄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8" name="矩形 1"/>
          <p:cNvSpPr/>
          <p:nvPr/>
        </p:nvSpPr>
        <p:spPr>
          <a:xfrm>
            <a:off x="669960" y="2546280"/>
            <a:ext cx="792000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醉里挑灯看剑，梦回吹角连营。八百里分麾下炙，五十弦翻塞外声，沙场秋点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马作的卢飞快，弓如霹雳弦惊。了却君王天下事，赢得生前身后名。可怜白发生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9" name="组合 27"/>
          <p:cNvGrpSpPr/>
          <p:nvPr/>
        </p:nvGrpSpPr>
        <p:grpSpPr>
          <a:xfrm>
            <a:off x="185760" y="969480"/>
            <a:ext cx="2732040" cy="1044000"/>
            <a:chOff x="185760" y="969480"/>
            <a:chExt cx="2732040" cy="1044000"/>
          </a:xfrm>
        </p:grpSpPr>
        <p:sp>
          <p:nvSpPr>
            <p:cNvPr id="3990" name="矩形: 圆角 28"/>
            <p:cNvSpPr/>
            <p:nvPr/>
          </p:nvSpPr>
          <p:spPr>
            <a:xfrm rot="20527200">
              <a:off x="281160" y="1155600"/>
              <a:ext cx="590400" cy="714600"/>
            </a:xfrm>
            <a:custGeom>
              <a:avLst/>
              <a:gdLst>
                <a:gd name="textAreaLeft" fmla="*/ 28800 w 590400"/>
                <a:gd name="textAreaRight" fmla="*/ 561600 w 590400"/>
                <a:gd name="textAreaTop" fmla="*/ 28800 h 714600"/>
                <a:gd name="textAreaBottom" fmla="*/ 685800 h 714600"/>
              </a:gdLst>
              <a:ahLst/>
              <a:rect l="textAreaLeft" t="textAreaTop" r="textAreaRight" b="textAreaBottom"/>
              <a:pathLst>
                <a:path w="21600" h="26141">
                  <a:moveTo>
                    <a:pt x="3600" y="0"/>
                  </a:moveTo>
                  <a:arcTo wR="3600" hR="3600" stAng="16200000" swAng="-5400000"/>
                  <a:lnTo>
                    <a:pt x="0" y="22541"/>
                  </a:lnTo>
                  <a:arcTo wR="3600" hR="3600" stAng="10800000" swAng="-5400000"/>
                  <a:lnTo>
                    <a:pt x="18000" y="2614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cc"/>
            </a:solidFill>
            <a:ln w="6480">
              <a:solidFill>
                <a:srgbClr val="ff9999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1" name="矩形: 圆角 29"/>
            <p:cNvSpPr/>
            <p:nvPr/>
          </p:nvSpPr>
          <p:spPr>
            <a:xfrm rot="294000">
              <a:off x="944640" y="1191960"/>
              <a:ext cx="590400" cy="712800"/>
            </a:xfrm>
            <a:custGeom>
              <a:avLst/>
              <a:gdLst>
                <a:gd name="textAreaLeft" fmla="*/ 28800 w 590400"/>
                <a:gd name="textAreaRight" fmla="*/ 561600 w 590400"/>
                <a:gd name="textAreaTop" fmla="*/ 28800 h 712800"/>
                <a:gd name="textAreaBottom" fmla="*/ 684000 h 712800"/>
              </a:gdLst>
              <a:ahLst/>
              <a:rect l="textAreaLeft" t="textAreaTop" r="textAreaRight" b="textAreaBottom"/>
              <a:pathLst>
                <a:path w="21600" h="26075">
                  <a:moveTo>
                    <a:pt x="3600" y="0"/>
                  </a:moveTo>
                  <a:arcTo wR="3600" hR="3600" stAng="16200000" swAng="-5400000"/>
                  <a:lnTo>
                    <a:pt x="0" y="22475"/>
                  </a:lnTo>
                  <a:arcTo wR="3600" hR="3600" stAng="10800000" swAng="-5400000"/>
                  <a:lnTo>
                    <a:pt x="18000" y="260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cc"/>
            </a:solidFill>
            <a:ln w="6480">
              <a:solidFill>
                <a:srgbClr val="99ff99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2" name="矩形: 圆角 30"/>
            <p:cNvSpPr/>
            <p:nvPr/>
          </p:nvSpPr>
          <p:spPr>
            <a:xfrm rot="1137000">
              <a:off x="1598400" y="1046160"/>
              <a:ext cx="591840" cy="712800"/>
            </a:xfrm>
            <a:custGeom>
              <a:avLst/>
              <a:gdLst>
                <a:gd name="textAreaLeft" fmla="*/ 28800 w 591840"/>
                <a:gd name="textAreaRight" fmla="*/ 563040 w 591840"/>
                <a:gd name="textAreaTop" fmla="*/ 28800 h 712800"/>
                <a:gd name="textAreaBottom" fmla="*/ 684000 h 712800"/>
              </a:gdLst>
              <a:ahLst/>
              <a:rect l="textAreaLeft" t="textAreaTop" r="textAreaRight" b="textAreaBottom"/>
              <a:pathLst>
                <a:path w="21600" h="26012">
                  <a:moveTo>
                    <a:pt x="3600" y="0"/>
                  </a:moveTo>
                  <a:arcTo wR="3600" hR="3600" stAng="16200000" swAng="-5400000"/>
                  <a:lnTo>
                    <a:pt x="0" y="22412"/>
                  </a:lnTo>
                  <a:arcTo wR="3600" hR="3600" stAng="10800000" swAng="-5400000"/>
                  <a:lnTo>
                    <a:pt x="18000" y="260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3" name="矩形: 圆角 31"/>
            <p:cNvSpPr/>
            <p:nvPr/>
          </p:nvSpPr>
          <p:spPr>
            <a:xfrm rot="20889600">
              <a:off x="2260440" y="1247400"/>
              <a:ext cx="590400" cy="712800"/>
            </a:xfrm>
            <a:custGeom>
              <a:avLst/>
              <a:gdLst>
                <a:gd name="textAreaLeft" fmla="*/ 28800 w 590400"/>
                <a:gd name="textAreaRight" fmla="*/ 561600 w 590400"/>
                <a:gd name="textAreaTop" fmla="*/ 28800 h 712800"/>
                <a:gd name="textAreaBottom" fmla="*/ 684000 h 712800"/>
              </a:gdLst>
              <a:ahLst/>
              <a:rect l="textAreaLeft" t="textAreaTop" r="textAreaRight" b="textAreaBottom"/>
              <a:pathLst>
                <a:path w="21600" h="26075">
                  <a:moveTo>
                    <a:pt x="3600" y="0"/>
                  </a:moveTo>
                  <a:arcTo wR="3600" hR="3600" stAng="16200000" swAng="-5400000"/>
                  <a:lnTo>
                    <a:pt x="0" y="22475"/>
                  </a:lnTo>
                  <a:arcTo wR="3600" hR="3600" stAng="10800000" swAng="-5400000"/>
                  <a:lnTo>
                    <a:pt x="18000" y="260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6480">
              <a:solidFill>
                <a:srgbClr val="66ccff">
                  <a:alpha val="1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4" name="TextBox 4"/>
          <p:cNvSpPr/>
          <p:nvPr/>
        </p:nvSpPr>
        <p:spPr>
          <a:xfrm>
            <a:off x="741240" y="2743200"/>
            <a:ext cx="7278840" cy="14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查阅相关资料了解吴伯箫的创作道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课外阅读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吴伯箫散文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5" name="PlaceHolder 1"/>
          <p:cNvSpPr>
            <a:spLocks noGrp="1"/>
          </p:cNvSpPr>
          <p:nvPr>
            <p:ph type="title"/>
          </p:nvPr>
        </p:nvSpPr>
        <p:spPr>
          <a:xfrm>
            <a:off x="4449600" y="5644800"/>
            <a:ext cx="455616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再           见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996" name="图片 25614" descr="Ar_012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8610480" y="5867280"/>
            <a:ext cx="395280" cy="173160"/>
          </a:xfrm>
          <a:prstGeom prst="rect">
            <a:avLst/>
          </a:prstGeom>
          <a:ln w="0">
            <a:noFill/>
          </a:ln>
        </p:spPr>
      </p:pic>
      <p:pic>
        <p:nvPicPr>
          <p:cNvPr id="3997" name="图片 3" descr=""/>
          <p:cNvPicPr/>
          <p:nvPr/>
        </p:nvPicPr>
        <p:blipFill>
          <a:blip r:embed="rId2"/>
          <a:stretch/>
        </p:blipFill>
        <p:spPr>
          <a:xfrm>
            <a:off x="9360" y="0"/>
            <a:ext cx="9158400" cy="5645160"/>
          </a:xfrm>
          <a:prstGeom prst="rect">
            <a:avLst/>
          </a:prstGeom>
          <a:ln w="0">
            <a:noFill/>
          </a:ln>
        </p:spPr>
      </p:pic>
      <p:pic>
        <p:nvPicPr>
          <p:cNvPr id="3998" name="纯音乐 - 正月十五闹花灯 (唢呐).mp3" descr=""/>
          <p:cNvPicPr/>
          <p:nvPr/>
        </p:nvPicPr>
        <p:blipFill>
          <a:blip r:embed="rId3"/>
          <a:stretch/>
        </p:blipFill>
        <p:spPr>
          <a:xfrm>
            <a:off x="3035160" y="5867280"/>
            <a:ext cx="619200" cy="619200"/>
          </a:xfrm>
          <a:prstGeom prst="rect">
            <a:avLst/>
          </a:prstGeom>
          <a:ln w="0">
            <a:noFill/>
          </a:ln>
        </p:spPr>
      </p:pic>
    </p:spTree>
  </p:cSld>
  <p:transition spd="slow" advTm="29000">
    <p:circl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3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48088" fill="hold"/>
                                        <p:tgtEl>
                                          <p:spTgt spid="39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8" name="Picture 3" descr="https://timgsa.baidu.com/timg?image&amp;quality=80&amp;size=b9999_10000&amp;sec=1514437630927&amp;di=9d0d6e6b9e6cf8a8cf8a4302fe746be8&amp;imgtype=0&amp;src=http%3A%2F%2Fimgsrc.baidu.com%2Fimgad%2Fpic%2Fitem%2Fd439b6003af33a878aa8da23cd5c10385243b5c6.jpg"/>
          <p:cNvPicPr/>
          <p:nvPr/>
        </p:nvPicPr>
        <p:blipFill>
          <a:blip r:embed="rId1"/>
          <a:srcRect l="0" t="16148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30" name="标题 1"/>
          <p:cNvSpPr/>
          <p:nvPr/>
        </p:nvSpPr>
        <p:spPr>
          <a:xfrm>
            <a:off x="0" y="404640"/>
            <a:ext cx="4211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灯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直接连接符 14"/>
          <p:cNvSpPr/>
          <p:nvPr/>
        </p:nvSpPr>
        <p:spPr>
          <a:xfrm>
            <a:off x="1736640" y="5321160"/>
            <a:ext cx="5388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文本框 99"/>
          <p:cNvSpPr/>
          <p:nvPr/>
        </p:nvSpPr>
        <p:spPr>
          <a:xfrm>
            <a:off x="2916360" y="5540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灯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一种笼状灯具。其外层多以细篾或铁丝等制骨架，而蒙以纸或纱类等透明物，内燃灯烛。供照明、装饰或玩赏。灯笼，又称灯彩，是一种古老的中国传统工艺品。起源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年前的西汉时期，每年的农历正月十五元宵节前后，人们都挂起象征团圆意义的红灯笼，来营造一种喜庆的氛围。后来灯笼就成了中国人喜庆的象征。经过历代灯彩艺人的继承和发展，形成了丰富多彩的品种和高超的工艺水平。从种类上分，有宫灯、纱灯、吊灯等等。从造型上分，有人物、山水、花鸟、龙凤、鱼虫等等，除此之外还有专供人们赏玩的走马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文本框 1"/>
          <p:cNvSpPr/>
          <p:nvPr/>
        </p:nvSpPr>
        <p:spPr>
          <a:xfrm>
            <a:off x="3132000" y="0"/>
            <a:ext cx="379584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Times New Roman"/>
              </a:rPr>
              <a:t>知识链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4" name="图片 2" descr=""/>
          <p:cNvPicPr/>
          <p:nvPr/>
        </p:nvPicPr>
        <p:blipFill>
          <a:blip r:embed="rId1"/>
          <a:srcRect l="0" t="0" r="1586" b="10069"/>
          <a:stretch/>
        </p:blipFill>
        <p:spPr>
          <a:xfrm>
            <a:off x="0" y="554040"/>
            <a:ext cx="2916360" cy="2395440"/>
          </a:xfrm>
          <a:prstGeom prst="rect">
            <a:avLst/>
          </a:prstGeom>
          <a:ln w="0">
            <a:noFill/>
          </a:ln>
        </p:spPr>
      </p:pic>
      <p:pic>
        <p:nvPicPr>
          <p:cNvPr id="3535" name="图片 3" descr=""/>
          <p:cNvPicPr/>
          <p:nvPr/>
        </p:nvPicPr>
        <p:blipFill>
          <a:blip r:embed="rId2"/>
          <a:srcRect l="0" t="0" r="1063" b="9450"/>
          <a:stretch/>
        </p:blipFill>
        <p:spPr>
          <a:xfrm>
            <a:off x="0" y="3784680"/>
            <a:ext cx="291636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3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2000"/>
                                        <p:tgtEl>
                                          <p:spTgt spid="3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3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6" name="矩形 7"/>
          <p:cNvSpPr/>
          <p:nvPr/>
        </p:nvSpPr>
        <p:spPr>
          <a:xfrm>
            <a:off x="2517840" y="2057400"/>
            <a:ext cx="60339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吴伯萧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906—198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原名熙成，笔名山屋、山荪，是我国当代著名文学家和教育家。他的作品主要收集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羽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黑红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北极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忘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吴伯萧散文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7" name="图片 1" descr=""/>
          <p:cNvPicPr/>
          <p:nvPr/>
        </p:nvPicPr>
        <p:blipFill>
          <a:blip r:embed="rId1"/>
          <a:stretch/>
        </p:blipFill>
        <p:spPr>
          <a:xfrm>
            <a:off x="365040" y="2481120"/>
            <a:ext cx="19702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3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8" name="文本框 32"/>
          <p:cNvSpPr/>
          <p:nvPr/>
        </p:nvSpPr>
        <p:spPr>
          <a:xfrm>
            <a:off x="4541760" y="3900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文本框 34"/>
          <p:cNvSpPr/>
          <p:nvPr/>
        </p:nvSpPr>
        <p:spPr>
          <a:xfrm rot="21319800">
            <a:off x="8130960" y="2197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文本框 36"/>
          <p:cNvSpPr/>
          <p:nvPr/>
        </p:nvSpPr>
        <p:spPr>
          <a:xfrm rot="16248600">
            <a:off x="5930280" y="1783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文本框 37"/>
          <p:cNvSpPr/>
          <p:nvPr/>
        </p:nvSpPr>
        <p:spPr>
          <a:xfrm rot="17448600">
            <a:off x="5400000" y="232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文本框 45"/>
          <p:cNvSpPr/>
          <p:nvPr/>
        </p:nvSpPr>
        <p:spPr>
          <a:xfrm rot="16248600">
            <a:off x="6490440" y="181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文本框 46"/>
          <p:cNvSpPr/>
          <p:nvPr/>
        </p:nvSpPr>
        <p:spPr>
          <a:xfrm rot="21174600">
            <a:off x="7135200" y="212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文本框 47"/>
          <p:cNvSpPr/>
          <p:nvPr/>
        </p:nvSpPr>
        <p:spPr>
          <a:xfrm rot="17448600">
            <a:off x="7724160" y="3359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文本框 49"/>
          <p:cNvSpPr/>
          <p:nvPr/>
        </p:nvSpPr>
        <p:spPr>
          <a:xfrm rot="657000">
            <a:off x="8235000" y="160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文本框 50"/>
          <p:cNvSpPr/>
          <p:nvPr/>
        </p:nvSpPr>
        <p:spPr>
          <a:xfrm rot="1480200">
            <a:off x="7458120" y="1687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文本框 51"/>
          <p:cNvSpPr/>
          <p:nvPr/>
        </p:nvSpPr>
        <p:spPr>
          <a:xfrm rot="16248600">
            <a:off x="8435160" y="3647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文本框 32"/>
          <p:cNvSpPr/>
          <p:nvPr/>
        </p:nvSpPr>
        <p:spPr>
          <a:xfrm>
            <a:off x="3328920" y="4748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文本框 34"/>
          <p:cNvSpPr/>
          <p:nvPr/>
        </p:nvSpPr>
        <p:spPr>
          <a:xfrm rot="4150200">
            <a:off x="4528440" y="469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文本框 36"/>
          <p:cNvSpPr/>
          <p:nvPr/>
        </p:nvSpPr>
        <p:spPr>
          <a:xfrm rot="20220000">
            <a:off x="3967920" y="1763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文本框 37"/>
          <p:cNvSpPr/>
          <p:nvPr/>
        </p:nvSpPr>
        <p:spPr>
          <a:xfrm rot="21420000">
            <a:off x="4198320" y="276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文本框 45"/>
          <p:cNvSpPr/>
          <p:nvPr/>
        </p:nvSpPr>
        <p:spPr>
          <a:xfrm rot="20220000">
            <a:off x="4528440" y="1792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文本框 46"/>
          <p:cNvSpPr/>
          <p:nvPr/>
        </p:nvSpPr>
        <p:spPr>
          <a:xfrm rot="20220000">
            <a:off x="4898160" y="2077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文本框 47"/>
          <p:cNvSpPr/>
          <p:nvPr/>
        </p:nvSpPr>
        <p:spPr>
          <a:xfrm rot="21420000">
            <a:off x="5131800" y="3007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文本框 49"/>
          <p:cNvSpPr/>
          <p:nvPr/>
        </p:nvSpPr>
        <p:spPr>
          <a:xfrm rot="16248600">
            <a:off x="6379200" y="284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文本框 50"/>
          <p:cNvSpPr/>
          <p:nvPr/>
        </p:nvSpPr>
        <p:spPr>
          <a:xfrm rot="21429600">
            <a:off x="5657040" y="348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文本框 51"/>
          <p:cNvSpPr/>
          <p:nvPr/>
        </p:nvSpPr>
        <p:spPr>
          <a:xfrm rot="16248600">
            <a:off x="5914080" y="4606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文本框 32"/>
          <p:cNvSpPr/>
          <p:nvPr/>
        </p:nvSpPr>
        <p:spPr>
          <a:xfrm rot="1209600">
            <a:off x="1203840" y="5194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文本框 34"/>
          <p:cNvSpPr/>
          <p:nvPr/>
        </p:nvSpPr>
        <p:spPr>
          <a:xfrm rot="4150200">
            <a:off x="2207520" y="4634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文本框 36"/>
          <p:cNvSpPr/>
          <p:nvPr/>
        </p:nvSpPr>
        <p:spPr>
          <a:xfrm rot="20220000">
            <a:off x="1672560" y="433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文本框 37"/>
          <p:cNvSpPr/>
          <p:nvPr/>
        </p:nvSpPr>
        <p:spPr>
          <a:xfrm rot="1029600">
            <a:off x="2553120" y="3700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文本框 45"/>
          <p:cNvSpPr/>
          <p:nvPr/>
        </p:nvSpPr>
        <p:spPr>
          <a:xfrm rot="20220000">
            <a:off x="3229920" y="4222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文本框 46"/>
          <p:cNvSpPr/>
          <p:nvPr/>
        </p:nvSpPr>
        <p:spPr>
          <a:xfrm rot="21429600">
            <a:off x="855000" y="2068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文本框 47"/>
          <p:cNvSpPr/>
          <p:nvPr/>
        </p:nvSpPr>
        <p:spPr>
          <a:xfrm rot="1029600">
            <a:off x="896400" y="4560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文本框 49"/>
          <p:cNvSpPr/>
          <p:nvPr/>
        </p:nvSpPr>
        <p:spPr>
          <a:xfrm rot="21429600">
            <a:off x="3077640" y="514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文本框 50"/>
          <p:cNvSpPr/>
          <p:nvPr/>
        </p:nvSpPr>
        <p:spPr>
          <a:xfrm rot="21429600">
            <a:off x="4225320" y="425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文本框 51"/>
          <p:cNvSpPr/>
          <p:nvPr/>
        </p:nvSpPr>
        <p:spPr>
          <a:xfrm rot="21429600">
            <a:off x="4392000" y="5265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文本框 53"/>
          <p:cNvSpPr/>
          <p:nvPr/>
        </p:nvSpPr>
        <p:spPr>
          <a:xfrm rot="16528800">
            <a:off x="391320" y="275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文本框 54"/>
          <p:cNvSpPr/>
          <p:nvPr/>
        </p:nvSpPr>
        <p:spPr>
          <a:xfrm rot="4150200">
            <a:off x="1403640" y="2905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文本框 36"/>
          <p:cNvSpPr/>
          <p:nvPr/>
        </p:nvSpPr>
        <p:spPr>
          <a:xfrm rot="21429600">
            <a:off x="389880" y="1809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文本框 37"/>
          <p:cNvSpPr/>
          <p:nvPr/>
        </p:nvSpPr>
        <p:spPr>
          <a:xfrm rot="1029600">
            <a:off x="1405800" y="227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文本框 45"/>
          <p:cNvSpPr/>
          <p:nvPr/>
        </p:nvSpPr>
        <p:spPr>
          <a:xfrm rot="20220000">
            <a:off x="2185200" y="155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文本框 46"/>
          <p:cNvSpPr/>
          <p:nvPr/>
        </p:nvSpPr>
        <p:spPr>
          <a:xfrm rot="20220000">
            <a:off x="2755080" y="1782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文本框 47"/>
          <p:cNvSpPr/>
          <p:nvPr/>
        </p:nvSpPr>
        <p:spPr>
          <a:xfrm rot="21420000">
            <a:off x="2483640" y="253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文本框 49"/>
          <p:cNvSpPr/>
          <p:nvPr/>
        </p:nvSpPr>
        <p:spPr>
          <a:xfrm rot="20220000">
            <a:off x="3344040" y="2077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文本框 50"/>
          <p:cNvSpPr/>
          <p:nvPr/>
        </p:nvSpPr>
        <p:spPr>
          <a:xfrm rot="20220000">
            <a:off x="2917080" y="2852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文本框 51"/>
          <p:cNvSpPr/>
          <p:nvPr/>
        </p:nvSpPr>
        <p:spPr>
          <a:xfrm rot="20220000">
            <a:off x="3552120" y="3034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文本框 32"/>
          <p:cNvSpPr/>
          <p:nvPr/>
        </p:nvSpPr>
        <p:spPr>
          <a:xfrm rot="1209600">
            <a:off x="5182200" y="4745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文本框 34"/>
          <p:cNvSpPr/>
          <p:nvPr/>
        </p:nvSpPr>
        <p:spPr>
          <a:xfrm rot="20568600">
            <a:off x="6378480" y="5219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文本框 36"/>
          <p:cNvSpPr/>
          <p:nvPr/>
        </p:nvSpPr>
        <p:spPr>
          <a:xfrm rot="368400">
            <a:off x="5841000" y="3839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文本框 37"/>
          <p:cNvSpPr/>
          <p:nvPr/>
        </p:nvSpPr>
        <p:spPr>
          <a:xfrm rot="829200">
            <a:off x="5352120" y="5326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文本框 45"/>
          <p:cNvSpPr/>
          <p:nvPr/>
        </p:nvSpPr>
        <p:spPr>
          <a:xfrm rot="17097000">
            <a:off x="6847560" y="3360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文本框 46"/>
          <p:cNvSpPr/>
          <p:nvPr/>
        </p:nvSpPr>
        <p:spPr>
          <a:xfrm rot="2701800">
            <a:off x="7634520" y="4111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文本框 47"/>
          <p:cNvSpPr/>
          <p:nvPr/>
        </p:nvSpPr>
        <p:spPr>
          <a:xfrm rot="18142800">
            <a:off x="6812640" y="456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文本框 70"/>
          <p:cNvSpPr/>
          <p:nvPr/>
        </p:nvSpPr>
        <p:spPr>
          <a:xfrm rot="18419400">
            <a:off x="8175960" y="4382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文本框 71"/>
          <p:cNvSpPr/>
          <p:nvPr/>
        </p:nvSpPr>
        <p:spPr>
          <a:xfrm rot="17959200">
            <a:off x="7308000" y="481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文本框 72"/>
          <p:cNvSpPr/>
          <p:nvPr/>
        </p:nvSpPr>
        <p:spPr>
          <a:xfrm rot="1549200">
            <a:off x="8096400" y="3230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文本框 32"/>
          <p:cNvSpPr/>
          <p:nvPr/>
        </p:nvSpPr>
        <p:spPr>
          <a:xfrm rot="4189800">
            <a:off x="4354920" y="3371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文本框 34"/>
          <p:cNvSpPr/>
          <p:nvPr/>
        </p:nvSpPr>
        <p:spPr>
          <a:xfrm rot="8340000">
            <a:off x="4987800" y="421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文本框 36"/>
          <p:cNvSpPr/>
          <p:nvPr/>
        </p:nvSpPr>
        <p:spPr>
          <a:xfrm rot="20439000">
            <a:off x="5841360" y="2361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文本框 37"/>
          <p:cNvSpPr/>
          <p:nvPr/>
        </p:nvSpPr>
        <p:spPr>
          <a:xfrm rot="39000">
            <a:off x="5717520" y="3058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文本框 45"/>
          <p:cNvSpPr/>
          <p:nvPr/>
        </p:nvSpPr>
        <p:spPr>
          <a:xfrm rot="20439000">
            <a:off x="6401520" y="2391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文本框 46"/>
          <p:cNvSpPr/>
          <p:nvPr/>
        </p:nvSpPr>
        <p:spPr>
          <a:xfrm rot="20439000">
            <a:off x="6771600" y="267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文本框 47"/>
          <p:cNvSpPr/>
          <p:nvPr/>
        </p:nvSpPr>
        <p:spPr>
          <a:xfrm rot="39000">
            <a:off x="7252560" y="3303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文本框 49"/>
          <p:cNvSpPr/>
          <p:nvPr/>
        </p:nvSpPr>
        <p:spPr>
          <a:xfrm rot="20439000">
            <a:off x="8089200" y="2782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文本框 50"/>
          <p:cNvSpPr/>
          <p:nvPr/>
        </p:nvSpPr>
        <p:spPr>
          <a:xfrm rot="20439000">
            <a:off x="7555680" y="260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文本框 51"/>
          <p:cNvSpPr/>
          <p:nvPr/>
        </p:nvSpPr>
        <p:spPr>
          <a:xfrm rot="20439000">
            <a:off x="8031960" y="3752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文本框 32"/>
          <p:cNvSpPr/>
          <p:nvPr/>
        </p:nvSpPr>
        <p:spPr>
          <a:xfrm rot="4189800">
            <a:off x="2832480" y="448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文本框 34"/>
          <p:cNvSpPr/>
          <p:nvPr/>
        </p:nvSpPr>
        <p:spPr>
          <a:xfrm rot="8340000">
            <a:off x="3988800" y="378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文本框 36"/>
          <p:cNvSpPr/>
          <p:nvPr/>
        </p:nvSpPr>
        <p:spPr>
          <a:xfrm rot="2809800">
            <a:off x="3880440" y="234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文本框 37"/>
          <p:cNvSpPr/>
          <p:nvPr/>
        </p:nvSpPr>
        <p:spPr>
          <a:xfrm rot="4009800">
            <a:off x="3880080" y="3066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文本框 45"/>
          <p:cNvSpPr/>
          <p:nvPr/>
        </p:nvSpPr>
        <p:spPr>
          <a:xfrm rot="2809800">
            <a:off x="4440960" y="2371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文本框 46"/>
          <p:cNvSpPr/>
          <p:nvPr/>
        </p:nvSpPr>
        <p:spPr>
          <a:xfrm rot="2809800">
            <a:off x="4811400" y="2657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文本框 47"/>
          <p:cNvSpPr/>
          <p:nvPr/>
        </p:nvSpPr>
        <p:spPr>
          <a:xfrm rot="4009800">
            <a:off x="4811040" y="3380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文本框 49"/>
          <p:cNvSpPr/>
          <p:nvPr/>
        </p:nvSpPr>
        <p:spPr>
          <a:xfrm rot="20439000">
            <a:off x="6292440" y="3420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文本框 50"/>
          <p:cNvSpPr/>
          <p:nvPr/>
        </p:nvSpPr>
        <p:spPr>
          <a:xfrm rot="4020000">
            <a:off x="5285520" y="3536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文本框 51"/>
          <p:cNvSpPr/>
          <p:nvPr/>
        </p:nvSpPr>
        <p:spPr>
          <a:xfrm rot="20439000">
            <a:off x="5666760" y="4319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文本框 32"/>
          <p:cNvSpPr/>
          <p:nvPr/>
        </p:nvSpPr>
        <p:spPr>
          <a:xfrm rot="5400000">
            <a:off x="1208880" y="433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文本框 34"/>
          <p:cNvSpPr/>
          <p:nvPr/>
        </p:nvSpPr>
        <p:spPr>
          <a:xfrm rot="8340000">
            <a:off x="1945800" y="4763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文本框 36"/>
          <p:cNvSpPr/>
          <p:nvPr/>
        </p:nvSpPr>
        <p:spPr>
          <a:xfrm rot="2809800">
            <a:off x="1929960" y="3671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文本框 37"/>
          <p:cNvSpPr/>
          <p:nvPr/>
        </p:nvSpPr>
        <p:spPr>
          <a:xfrm rot="5220000">
            <a:off x="2364120" y="4047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文本框 45"/>
          <p:cNvSpPr/>
          <p:nvPr/>
        </p:nvSpPr>
        <p:spPr>
          <a:xfrm rot="2809800">
            <a:off x="2877120" y="369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文本框 46"/>
          <p:cNvSpPr/>
          <p:nvPr/>
        </p:nvSpPr>
        <p:spPr>
          <a:xfrm rot="4020000">
            <a:off x="767160" y="2647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文本框 47"/>
          <p:cNvSpPr/>
          <p:nvPr/>
        </p:nvSpPr>
        <p:spPr>
          <a:xfrm rot="5220000">
            <a:off x="768600" y="3891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文本框 49"/>
          <p:cNvSpPr/>
          <p:nvPr/>
        </p:nvSpPr>
        <p:spPr>
          <a:xfrm rot="4020000">
            <a:off x="2531160" y="501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文本框 50"/>
          <p:cNvSpPr/>
          <p:nvPr/>
        </p:nvSpPr>
        <p:spPr>
          <a:xfrm rot="4020000">
            <a:off x="3769200" y="4516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文本框 51"/>
          <p:cNvSpPr/>
          <p:nvPr/>
        </p:nvSpPr>
        <p:spPr>
          <a:xfrm rot="4020000">
            <a:off x="4139280" y="4803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文本框 32"/>
          <p:cNvSpPr/>
          <p:nvPr/>
        </p:nvSpPr>
        <p:spPr>
          <a:xfrm rot="20719200">
            <a:off x="581400" y="3379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文本框 34"/>
          <p:cNvSpPr/>
          <p:nvPr/>
        </p:nvSpPr>
        <p:spPr>
          <a:xfrm rot="8340000">
            <a:off x="1318680" y="3483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文本框 36"/>
          <p:cNvSpPr/>
          <p:nvPr/>
        </p:nvSpPr>
        <p:spPr>
          <a:xfrm rot="4020000">
            <a:off x="1737360" y="204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文本框 37"/>
          <p:cNvSpPr/>
          <p:nvPr/>
        </p:nvSpPr>
        <p:spPr>
          <a:xfrm rot="5220000">
            <a:off x="1737000" y="276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文本框 45"/>
          <p:cNvSpPr/>
          <p:nvPr/>
        </p:nvSpPr>
        <p:spPr>
          <a:xfrm rot="2809800">
            <a:off x="2297880" y="207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文本框 46"/>
          <p:cNvSpPr/>
          <p:nvPr/>
        </p:nvSpPr>
        <p:spPr>
          <a:xfrm rot="2809800">
            <a:off x="2667600" y="2358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文本框 47"/>
          <p:cNvSpPr/>
          <p:nvPr/>
        </p:nvSpPr>
        <p:spPr>
          <a:xfrm rot="4009800">
            <a:off x="2395800" y="3112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文本框 49"/>
          <p:cNvSpPr/>
          <p:nvPr/>
        </p:nvSpPr>
        <p:spPr>
          <a:xfrm rot="2809800">
            <a:off x="3255120" y="2657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文本框 50"/>
          <p:cNvSpPr/>
          <p:nvPr/>
        </p:nvSpPr>
        <p:spPr>
          <a:xfrm rot="2809800">
            <a:off x="3142800" y="323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文本框 51"/>
          <p:cNvSpPr/>
          <p:nvPr/>
        </p:nvSpPr>
        <p:spPr>
          <a:xfrm rot="2809800">
            <a:off x="3512160" y="352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文本框 32"/>
          <p:cNvSpPr/>
          <p:nvPr/>
        </p:nvSpPr>
        <p:spPr>
          <a:xfrm rot="5400000">
            <a:off x="4818960" y="493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文本框 34"/>
          <p:cNvSpPr/>
          <p:nvPr/>
        </p:nvSpPr>
        <p:spPr>
          <a:xfrm rot="3159000">
            <a:off x="5883480" y="5369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文本框 36"/>
          <p:cNvSpPr/>
          <p:nvPr/>
        </p:nvSpPr>
        <p:spPr>
          <a:xfrm rot="20439000">
            <a:off x="6305400" y="3928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文本框 37"/>
          <p:cNvSpPr/>
          <p:nvPr/>
        </p:nvSpPr>
        <p:spPr>
          <a:xfrm rot="39000">
            <a:off x="6305040" y="4652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文本框 45"/>
          <p:cNvSpPr/>
          <p:nvPr/>
        </p:nvSpPr>
        <p:spPr>
          <a:xfrm rot="20439000">
            <a:off x="6865200" y="3957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文本框 46"/>
          <p:cNvSpPr/>
          <p:nvPr/>
        </p:nvSpPr>
        <p:spPr>
          <a:xfrm rot="20439000">
            <a:off x="7235280" y="4242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文本框 47"/>
          <p:cNvSpPr/>
          <p:nvPr/>
        </p:nvSpPr>
        <p:spPr>
          <a:xfrm rot="39000">
            <a:off x="6922440" y="5001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文本框 49"/>
          <p:cNvSpPr/>
          <p:nvPr/>
        </p:nvSpPr>
        <p:spPr>
          <a:xfrm rot="20439000">
            <a:off x="7755840" y="4630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文本框 50"/>
          <p:cNvSpPr/>
          <p:nvPr/>
        </p:nvSpPr>
        <p:spPr>
          <a:xfrm rot="20439000">
            <a:off x="7709760" y="5122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文本框 51"/>
          <p:cNvSpPr/>
          <p:nvPr/>
        </p:nvSpPr>
        <p:spPr>
          <a:xfrm rot="20439000">
            <a:off x="6847920" y="155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Calibri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Text Box 3"/>
          <p:cNvSpPr/>
          <p:nvPr/>
        </p:nvSpPr>
        <p:spPr>
          <a:xfrm>
            <a:off x="382680" y="2806560"/>
            <a:ext cx="84708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争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讼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     ）   领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域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     ）   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斡旋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       ）静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穆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     ）   思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慕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     ）   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熙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熙然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褪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色（     ）   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怅惘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Text Box 4"/>
          <p:cNvSpPr/>
          <p:nvPr/>
        </p:nvSpPr>
        <p:spPr>
          <a:xfrm>
            <a:off x="1563840" y="292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sò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Text Box 5"/>
          <p:cNvSpPr/>
          <p:nvPr/>
        </p:nvSpPr>
        <p:spPr>
          <a:xfrm>
            <a:off x="4618080" y="371628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m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Text Box 6"/>
          <p:cNvSpPr/>
          <p:nvPr/>
        </p:nvSpPr>
        <p:spPr>
          <a:xfrm>
            <a:off x="1530360" y="3713040"/>
            <a:ext cx="99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m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Text Box 11"/>
          <p:cNvSpPr/>
          <p:nvPr/>
        </p:nvSpPr>
        <p:spPr>
          <a:xfrm>
            <a:off x="4573440" y="2882880"/>
            <a:ext cx="10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y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Text Box 12"/>
          <p:cNvSpPr/>
          <p:nvPr/>
        </p:nvSpPr>
        <p:spPr>
          <a:xfrm>
            <a:off x="4174200" y="4608360"/>
            <a:ext cx="23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chànɡ wǎ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Text Box 12"/>
          <p:cNvSpPr/>
          <p:nvPr/>
        </p:nvSpPr>
        <p:spPr>
          <a:xfrm>
            <a:off x="1691640" y="460224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tu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Text Box 11"/>
          <p:cNvSpPr/>
          <p:nvPr/>
        </p:nvSpPr>
        <p:spPr>
          <a:xfrm>
            <a:off x="7224840" y="2889360"/>
            <a:ext cx="152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wò xu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矩形 2"/>
          <p:cNvSpPr/>
          <p:nvPr/>
        </p:nvSpPr>
        <p:spPr>
          <a:xfrm>
            <a:off x="828000" y="19447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生难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Text Box 12"/>
          <p:cNvSpPr/>
          <p:nvPr/>
        </p:nvSpPr>
        <p:spPr>
          <a:xfrm>
            <a:off x="7868520" y="3733920"/>
            <a:ext cx="49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x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矩形 1"/>
          <p:cNvSpPr/>
          <p:nvPr/>
        </p:nvSpPr>
        <p:spPr>
          <a:xfrm>
            <a:off x="108000" y="708120"/>
            <a:ext cx="892800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散文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一种抒发作者真情实感、写作方式灵活的记叙类文学体裁。散文最大的特点是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形散神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”；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“形散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既指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题材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广泛、写法多样，又指结构自由、不拘一格；“神聚”既指</a:t>
            </a:r>
            <a:r>
              <a:rPr b="1" lang="zh-CN" sz="3600" spc="-1" strike="noStrike">
                <a:solidFill>
                  <a:srgbClr val="c00000"/>
                </a:solidFill>
                <a:latin typeface="黑体"/>
                <a:ea typeface="黑体"/>
              </a:rPr>
              <a:t>中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集中，又指有贯穿全文的</a:t>
            </a:r>
            <a:r>
              <a:rPr b="1" lang="zh-CN" sz="3600" spc="-1" strike="noStrike">
                <a:solidFill>
                  <a:srgbClr val="c00000"/>
                </a:solidFill>
                <a:latin typeface="黑体"/>
                <a:ea typeface="黑体"/>
              </a:rPr>
              <a:t>线索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散文写人写事都只是表面现象，从根本上说写的是</a:t>
            </a:r>
            <a:r>
              <a:rPr b="1" lang="zh-CN" sz="3600" spc="-1" strike="noStrike">
                <a:solidFill>
                  <a:srgbClr val="c00000"/>
                </a:solidFill>
                <a:latin typeface="黑体"/>
                <a:ea typeface="黑体"/>
              </a:rPr>
              <a:t>情感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体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" dur="500"/>
                                        <p:tgtEl>
                                          <p:spTgt spid="3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文本框 1"/>
          <p:cNvSpPr/>
          <p:nvPr/>
        </p:nvSpPr>
        <p:spPr>
          <a:xfrm>
            <a:off x="3463920" y="380880"/>
            <a:ext cx="225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华文行楷"/>
                <a:ea typeface="华文行楷"/>
              </a:rPr>
              <a:t>整体感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30T13:04:04Z</dcterms:created>
  <dc:creator>Administrator</dc:creator>
  <dc:description/>
  <dc:language>en-US</dc:language>
  <cp:lastModifiedBy>AutoBVT</cp:lastModifiedBy>
  <dcterms:modified xsi:type="dcterms:W3CDTF">2019-05-20T02:36:07Z</dcterms:modified>
  <cp:revision>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