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chimes.wav" ContentType="audio/x-wav"/>
  <Override PartName="/ppt/media/image16.png" ContentType="image/png"/>
  <Override PartName="/ppt/media/image6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13.jpeg" ContentType="image/jpeg"/>
  <Override PartName="/ppt/media/image4.png" ContentType="image/png"/>
  <Override PartName="/ppt/media/image1.png" ContentType="image/png"/>
  <Override PartName="/ppt/media/image21.gif" ContentType="image/gif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7F51-BB46-488A-A1C6-628BB593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324C-0967-452F-A85E-329C707C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6334C-DFDC-400A-B76D-860C8153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BC629-18AF-41B4-AF67-603AA9A8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63AD8-39CC-4AA9-A9AA-C085FE6E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A8CDE-F253-4DEE-93AA-ACF0A407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2640B-A45A-4E35-ADC1-1789E7A7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D1A30-393E-4246-B516-A0B6769C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2EACA-00DD-4B30-8D5B-25B9E60C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062E5-ECCE-4546-A337-2AAA198F0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8E770-361B-4A23-AD5E-493350232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A41F9-4A82-4ABB-8C40-0489BF8D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BE04-30A4-4901-8CAC-F010E3777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0A22A-4488-43B1-B36C-A412C831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61326-20E5-4B5A-BF70-3CE7DFDF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147BD-E493-4825-B14E-5D7F306A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3CB33-44B4-4FC1-B33B-F9A59B32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357D5-C560-4F3E-BCC0-A5A1208E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1EAAE-A712-457F-9E2A-1429FBF3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EE38B-6E97-48A9-A098-3ABF8F9B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9D8C5-9653-4C92-9C26-471216EF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71E27-6BB7-4066-8C2C-E4D3CE2F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DF701-736C-43BF-BAD5-8F4CA8A98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BB4A-B325-496E-8FB3-7E825A55B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775C7-2339-4F8B-B817-37B1D30A8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2DA2D-1A2F-469B-BD12-87F583B75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86C7B-6E8F-4836-8AF0-0CFF4BD0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3B768-76DE-450A-B33A-3F1E6956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F4EC4-0D7C-447B-99FA-36641CCE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CF65C-3C65-48CB-B570-6F2BF0A2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F26FC-F4EC-457D-9846-7B32ECB7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0BA7A-F442-4D55-B2F0-BDDAC543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AA20B-6FEA-4891-BAF8-76DB45FA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1C324-A25A-46C1-809E-E0921904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C721-0C7E-440C-B6BA-609CD0585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C1497-797A-4E32-A95C-7D8BC646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50963-5E98-4603-BE64-5C1FBD357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BA7CF-8277-49F5-82F6-137CA0DF4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ECCE6-35AF-45F3-9420-69D7B33CF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1C9D4-8DE2-4B44-83F2-B0CE973A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E08F1-2116-4178-99D4-E1819CD1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61152-79E6-4013-BC67-30758E71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3E93D-0148-4350-A33B-27B347A6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38A70-7B3A-4A67-ACA8-AC6A2FC7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BA993-33AF-49F4-B213-003A7F35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B664-9D36-4B4A-8CD1-F07C66D4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CF6D8-1A06-42C1-86C7-FEC7E30B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CFEB7-C138-4CC0-9B54-B08A54F0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72250-2729-4B85-8754-9E52C1CC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93F50-DF35-471B-9F79-C16A892BB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42388-F344-4C69-80F1-EDAA4B23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518953-BF7E-4CE8-A458-A2C22D426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78151C-4E20-413C-9178-B2B9ACCE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1FF7C-34B0-463C-A9DE-D824536B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A7669-426F-45C8-8183-9B1A4B7D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799D05-608C-448B-B366-E16BC21A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031D-F593-4539-9AE5-E824E14C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DC1EF-F756-4370-B3D7-710C9C8A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025BA-9422-4D5B-BF84-84400071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E87C64-B644-421E-9BED-CC11964B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A13CD-6B46-4516-9067-DD34B2DC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B6C8E-A23F-4EA9-BF12-5ED6B3E6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7999A-78F1-4599-B62A-DE9927651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9057CA-60A1-4DEA-AD2D-E6C69F79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C3E91-A7E2-4794-AF87-811AF5CA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257F6-EEAF-4DFE-A8BE-1A760BC1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8693F-7CD0-4EAB-BED5-3A2D44FF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3481-CD9E-4649-8785-A2A3D47A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07EDE-34CF-48F0-BED2-40442DBF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76920-9DA0-4C0C-A8DB-3F507604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3E5E6-5DCC-4C35-A38F-18F86D16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6121B-9CFE-47AF-828B-7BC1678C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F2EE0-AA79-4CF7-9719-C5A6946C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A661B-7D04-48C6-A508-B472A6AF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F2E66-6D41-42A5-BE18-8FA4CCD1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5D669-4831-4827-9B74-BA8682948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D0DFF-3D6C-4736-B8A8-5FBEDCA4C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CD29BD-B1D2-4345-B91F-FDB00B98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A4C8-E88B-408F-B26C-8C5778C4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37A1F-9F70-4C07-B29C-85001A49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F4A703-0505-4E78-B1DD-7287672E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DD3488-A079-44DF-A719-4F4195D0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B0C941-026E-42FA-B2D8-63218636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489666-F0F5-49FF-8C90-46D0785E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AD296-3829-490E-9338-EF29BBAE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3B4CD8-5E60-4D12-BCBF-B689F21C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FA8C9A-FD6C-4BB0-90F2-590995F9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20A91-435F-422F-A2EF-4C225DAB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8C6D1F-36B2-4911-BA9A-8A652B6AA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C479-8035-4940-BD89-D748F8C8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63017C-6A3E-4F9C-8FAB-45CDF60DB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390442-5529-4CC9-81EF-580C6317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706C4B-7D75-4C8F-B68F-EA3AA4F8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7A75C2-1F6A-4A34-BEF9-56D602D4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0463DB-E49D-4C29-BD33-816C2D26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5DB2C1-79BE-4198-8007-61F816A1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9B4401-97EB-4A75-BBCA-1A91B7F4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1C7AB5-C426-4E27-8F07-F21AEF48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CA2E29-FCA8-430F-B5E2-A373E332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2A362F-5CE0-49BF-B083-99FEEFF9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3306-E2DC-4224-9031-7B908E84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D1F31B-FCF0-49C3-9EC1-33864B9E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7C5FED-721F-417A-B210-C4B48461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7C52D3-5C94-4401-A050-7F33B3366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5046-077F-456C-9E2E-3B45871D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F0C5-FD92-4DC4-B0A3-E8B4FA9C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12BE-31E3-43FC-9707-FB01AAA2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914B-DDD7-4087-BF54-D2701254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931D-8A46-4B45-8FF6-E9E101B5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FCFB-8445-4F62-9BCD-3793E89A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A688-CB8C-4291-B0A4-16C54E76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1E2B-FC7B-448C-BCA5-F122BF45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0796-B4F1-467A-8F27-02A110A0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201E-84EB-465E-8B8A-452BE4AD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A6564-43F9-46B3-980E-5838803C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9F75A-E546-40D6-986C-8FDE30B9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6AE51-7FE8-41BD-B0CF-0C9DBA41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089E9-BDF0-4CC0-98BD-26E57EBA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FC2C0-5CC6-4EA9-873F-6E9A4053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E7E17-3E54-42DD-AC14-1C4C3A66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24EAC-3EBB-4A66-B43A-6991CEC6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C132E-E53C-42FF-BB20-1E800B8F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3EA61-D337-4A35-9113-B91459C1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635E-57DE-4FA4-9117-4AE2EB95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E650F-F1B1-48BA-A72D-ABCA26D0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DAF1B-D6B5-4CB4-8C93-01FD7D326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EE4FC-0739-4708-A437-A4386A33E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247DD-5CEC-422F-A313-328FB6AB3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453DD-239E-4671-B982-B4B67CA1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D2871-4651-44A2-9D33-53170EB0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77C77-D05B-40B8-938D-16CAC240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E960F-CA15-4EF8-A9C5-7EF47743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D873E-6D30-4079-8109-5E3AF7B1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5C4EF-5EA1-460B-B938-95A606EA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C945-DDD1-4498-8D23-1A87AF25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A72BD-C695-4796-A77E-C055AF78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74176-7217-4C73-964F-A3AE0CF0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7B722-2511-4D33-94C5-B86C471D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9B1F4-B32F-45A0-B2BC-B3733813E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4F32D-0B01-426D-B70C-D6A3BF558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6876A-8955-49CA-98AA-38F3CEC5B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B771D-0511-4240-8477-A0B3231D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53F52-D0EE-44E0-B029-FFD7A527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A4636-3AA0-4C10-9FB6-C8CA16EC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2AA14-438A-4096-9406-80E11607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88FA-FD7C-4C29-B16C-57BBB3DF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2F37B-C949-4BA2-9732-58BD2ACE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DE181-D29A-4192-BB94-017EC630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FD46B-42B9-4A95-8815-3F02B31C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305D7-5238-4840-A748-49C87602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A4C83-928E-44D2-AF48-A0AAAF81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29E84-4237-42DC-8D3E-D80C4C968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1D8BA-26FB-4AE0-93B3-AF20D2EF6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31DE9-659A-470C-BDC5-551C14255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E2AE5-5958-4417-887C-B79B98AB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E9873-A587-42F8-BC29-83D50F0A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hyperlink" Target="http://www.roonen.com/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hyperlink" Target="http://www.roonen.com/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hyperlink" Target="http://www.roonen.com/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0" y="6378480"/>
            <a:ext cx="9144000" cy="479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33399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隶书"/>
            </a:endParaRPr>
          </a:p>
        </p:txBody>
      </p:sp>
      <p:pic>
        <p:nvPicPr>
          <p:cNvPr id="1" name="Picture 12" descr="花纹1"/>
          <p:cNvPicPr/>
          <p:nvPr/>
        </p:nvPicPr>
        <p:blipFill>
          <a:blip r:embed="rId2"/>
          <a:stretch/>
        </p:blipFill>
        <p:spPr>
          <a:xfrm>
            <a:off x="7593120" y="5126040"/>
            <a:ext cx="155088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1"/>
          <p:cNvSpPr/>
          <p:nvPr/>
        </p:nvSpPr>
        <p:spPr>
          <a:xfrm>
            <a:off x="0" y="0"/>
            <a:ext cx="9144000" cy="65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33399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隶书"/>
            </a:endParaRPr>
          </a:p>
        </p:txBody>
      </p:sp>
      <p:grpSp>
        <p:nvGrpSpPr>
          <p:cNvPr id="3" name="Group 5"/>
          <p:cNvGrpSpPr/>
          <p:nvPr/>
        </p:nvGrpSpPr>
        <p:grpSpPr>
          <a:xfrm>
            <a:off x="228600" y="171360"/>
            <a:ext cx="952560" cy="952560"/>
            <a:chOff x="228600" y="171360"/>
            <a:chExt cx="952560" cy="952560"/>
          </a:xfrm>
        </p:grpSpPr>
        <p:sp>
          <p:nvSpPr>
            <p:cNvPr id="4" name="Oval 9"/>
            <p:cNvSpPr/>
            <p:nvPr/>
          </p:nvSpPr>
          <p:spPr>
            <a:xfrm>
              <a:off x="228600" y="171360"/>
              <a:ext cx="952560" cy="9525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0000"/>
                </a:solidFill>
                <a:latin typeface="隶书"/>
              </a:endParaRPr>
            </a:p>
          </p:txBody>
        </p:sp>
        <p:sp>
          <p:nvSpPr>
            <p:cNvPr id="5" name="Oval 10"/>
            <p:cNvSpPr/>
            <p:nvPr/>
          </p:nvSpPr>
          <p:spPr>
            <a:xfrm>
              <a:off x="289080" y="227880"/>
              <a:ext cx="826560" cy="8269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0000"/>
                </a:solidFill>
                <a:latin typeface="隶书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9F85-EC2F-470D-8431-3EC07EF3E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41C5-159B-460B-97C1-B61A463E42D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733B-F157-435B-921E-5AFBAE610C5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537F-60E2-414D-98F7-A47F35F2A4D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FBA2-2254-4EB0-838F-631E6AB050B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1A98-5798-47CE-9693-C51CF65B8BA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A30A-6CCE-4280-8673-D272D0EA91C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C46D-76BC-4072-935C-7B9BB836814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1691-B68D-4C60-BDCE-DC32BB0F0D2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712A-A1F2-4B99-A97A-50B5B29A570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C050-6B7C-43EB-8B14-44E01233138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CC0C-A2D4-4B9A-8F31-525C652D91A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01D5-CDED-4FCF-A1EE-45C2C850ECC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E4E0-DADE-45F3-B893-87335AFEC6F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0729-DE0E-4B19-8951-1A76E0D3925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38BF-26C0-428F-8440-A58B383A643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C83F-472A-4534-885E-DBAA686E11A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公司图标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61240" y="0"/>
            <a:ext cx="48276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公司图标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61240" y="0"/>
            <a:ext cx="48276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公司图标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61240" y="0"/>
            <a:ext cx="48276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7" descr="主题背景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6"/>
          <p:cNvGrpSpPr/>
          <p:nvPr/>
        </p:nvGrpSpPr>
        <p:grpSpPr>
          <a:xfrm>
            <a:off x="1981080" y="0"/>
            <a:ext cx="3505320" cy="6858000"/>
            <a:chOff x="1981080" y="0"/>
            <a:chExt cx="3505320" cy="6858000"/>
          </a:xfrm>
        </p:grpSpPr>
        <p:sp>
          <p:nvSpPr>
            <p:cNvPr id="201" name="Rectangle 9"/>
            <p:cNvSpPr/>
            <p:nvPr/>
          </p:nvSpPr>
          <p:spPr>
            <a:xfrm>
              <a:off x="1981080" y="0"/>
              <a:ext cx="2819520" cy="685800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0000"/>
                </a:solidFill>
                <a:latin typeface="隶书"/>
              </a:endParaRPr>
            </a:p>
          </p:txBody>
        </p:sp>
        <p:sp>
          <p:nvSpPr>
            <p:cNvPr id="202" name="Rectangle 10"/>
            <p:cNvSpPr/>
            <p:nvPr/>
          </p:nvSpPr>
          <p:spPr>
            <a:xfrm>
              <a:off x="2666880" y="0"/>
              <a:ext cx="2133720" cy="685800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0000"/>
                </a:solidFill>
                <a:latin typeface="隶书"/>
              </a:endParaRPr>
            </a:p>
          </p:txBody>
        </p:sp>
        <p:sp>
          <p:nvSpPr>
            <p:cNvPr id="203" name="Rectangle 11"/>
            <p:cNvSpPr/>
            <p:nvPr/>
          </p:nvSpPr>
          <p:spPr>
            <a:xfrm>
              <a:off x="3352680" y="0"/>
              <a:ext cx="1447920" cy="685800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0000"/>
                </a:solidFill>
                <a:latin typeface="隶书"/>
              </a:endParaRPr>
            </a:p>
          </p:txBody>
        </p:sp>
        <p:sp>
          <p:nvSpPr>
            <p:cNvPr id="204" name="Rectangle 12"/>
            <p:cNvSpPr/>
            <p:nvPr/>
          </p:nvSpPr>
          <p:spPr>
            <a:xfrm>
              <a:off x="4038480" y="0"/>
              <a:ext cx="1447920" cy="685800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0000"/>
                </a:solidFill>
                <a:latin typeface="隶书"/>
              </a:endParaRPr>
            </a:p>
          </p:txBody>
        </p:sp>
      </p:grpSp>
      <p:grpSp>
        <p:nvGrpSpPr>
          <p:cNvPr id="205" name="Group 11"/>
          <p:cNvGrpSpPr/>
          <p:nvPr/>
        </p:nvGrpSpPr>
        <p:grpSpPr>
          <a:xfrm>
            <a:off x="2008080" y="1170000"/>
            <a:ext cx="1494000" cy="1494000"/>
            <a:chOff x="2008080" y="1170000"/>
            <a:chExt cx="1494000" cy="1494000"/>
          </a:xfrm>
        </p:grpSpPr>
        <p:sp>
          <p:nvSpPr>
            <p:cNvPr id="206" name="Oval 14"/>
            <p:cNvSpPr/>
            <p:nvPr/>
          </p:nvSpPr>
          <p:spPr>
            <a:xfrm>
              <a:off x="2008080" y="1170000"/>
              <a:ext cx="1494000" cy="14940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0000"/>
                </a:solidFill>
                <a:latin typeface="隶书"/>
              </a:endParaRPr>
            </a:p>
          </p:txBody>
        </p:sp>
        <p:sp>
          <p:nvSpPr>
            <p:cNvPr id="207" name="Oval 15"/>
            <p:cNvSpPr/>
            <p:nvPr/>
          </p:nvSpPr>
          <p:spPr>
            <a:xfrm>
              <a:off x="2103480" y="1260360"/>
              <a:ext cx="1295280" cy="12956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0000"/>
                </a:solidFill>
                <a:latin typeface="隶书"/>
              </a:endParaRPr>
            </a:p>
          </p:txBody>
        </p:sp>
      </p:grpSp>
      <p:grpSp>
        <p:nvGrpSpPr>
          <p:cNvPr id="208" name="Group 14"/>
          <p:cNvGrpSpPr/>
          <p:nvPr/>
        </p:nvGrpSpPr>
        <p:grpSpPr>
          <a:xfrm>
            <a:off x="4268880" y="4643280"/>
            <a:ext cx="1066680" cy="1067040"/>
            <a:chOff x="4268880" y="4643280"/>
            <a:chExt cx="1066680" cy="1067040"/>
          </a:xfrm>
        </p:grpSpPr>
        <p:sp>
          <p:nvSpPr>
            <p:cNvPr id="209" name="Oval 17"/>
            <p:cNvSpPr/>
            <p:nvPr/>
          </p:nvSpPr>
          <p:spPr>
            <a:xfrm>
              <a:off x="4268880" y="4643280"/>
              <a:ext cx="1066680" cy="10670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0000"/>
                </a:solidFill>
                <a:latin typeface="隶书"/>
              </a:endParaRPr>
            </a:p>
          </p:txBody>
        </p:sp>
        <p:sp>
          <p:nvSpPr>
            <p:cNvPr id="210" name="Oval 18"/>
            <p:cNvSpPr/>
            <p:nvPr/>
          </p:nvSpPr>
          <p:spPr>
            <a:xfrm>
              <a:off x="4336920" y="4707720"/>
              <a:ext cx="924840" cy="9241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0000"/>
                </a:solidFill>
                <a:latin typeface="隶书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23C0-7B02-4A95-ABF8-8CB4D03939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4F04-921B-4F0A-B613-1E139ECEB5B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C0C9-CEFD-4B71-A20A-ED46B02A206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E8BE-CD7C-49D8-9401-97F27DAC85D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357A-1540-4221-9BE0-8BB51991AFB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C69F-E2A1-4FCD-992D-0E5A00DE2C0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A6D6-AADE-42B2-8CA4-852EAAAFCF3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file:///../../../&#30446;&#24405;.ppt" TargetMode="External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 Box 2"/>
          <p:cNvSpPr/>
          <p:nvPr/>
        </p:nvSpPr>
        <p:spPr>
          <a:xfrm>
            <a:off x="5508720" y="26370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礼记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663" name="Text Box 3"/>
          <p:cNvSpPr/>
          <p:nvPr/>
        </p:nvSpPr>
        <p:spPr>
          <a:xfrm>
            <a:off x="3471120" y="549360"/>
            <a:ext cx="353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黑体"/>
              </a:rPr>
              <a:t>大道之行也</a:t>
            </a:r>
            <a:endParaRPr b="0" lang="en-US" sz="8800" spc="-1" strike="noStrike">
              <a:solidFill>
                <a:srgbClr val="ff0000"/>
              </a:solidFill>
              <a:latin typeface="隶书"/>
            </a:endParaRPr>
          </a:p>
        </p:txBody>
      </p:sp>
      <p:pic>
        <p:nvPicPr>
          <p:cNvPr id="664" name="图片 1" descr=""/>
          <p:cNvPicPr/>
          <p:nvPr/>
        </p:nvPicPr>
        <p:blipFill>
          <a:blip r:embed="rId2"/>
          <a:stretch/>
        </p:blipFill>
        <p:spPr>
          <a:xfrm>
            <a:off x="395280" y="2216160"/>
            <a:ext cx="4089240" cy="40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Line 5"/>
          <p:cNvSpPr/>
          <p:nvPr/>
        </p:nvSpPr>
        <p:spPr>
          <a:xfrm>
            <a:off x="5148360" y="803160"/>
            <a:ext cx="0" cy="525780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隶书"/>
            </a:endParaRPr>
          </a:p>
        </p:txBody>
      </p:sp>
      <p:pic>
        <p:nvPicPr>
          <p:cNvPr id="681" name="Picture 6" descr="文白对译1"/>
          <p:cNvPicPr/>
          <p:nvPr/>
        </p:nvPicPr>
        <p:blipFill>
          <a:blip r:embed="rId1"/>
          <a:stretch/>
        </p:blipFill>
        <p:spPr>
          <a:xfrm>
            <a:off x="468360" y="765000"/>
            <a:ext cx="2828880" cy="59076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7"/>
          <p:cNvSpPr/>
          <p:nvPr/>
        </p:nvSpPr>
        <p:spPr>
          <a:xfrm>
            <a:off x="6442560" y="692280"/>
            <a:ext cx="10342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点词语</a:t>
            </a:r>
            <a:endParaRPr b="0" lang="en-US" sz="28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683" name="Text Box 8"/>
          <p:cNvSpPr/>
          <p:nvPr/>
        </p:nvSpPr>
        <p:spPr>
          <a:xfrm>
            <a:off x="498600" y="1544760"/>
            <a:ext cx="451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大道之行也，天下为公，选贤与能，讲信修睦。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684" name="Text Box 9"/>
          <p:cNvSpPr/>
          <p:nvPr/>
        </p:nvSpPr>
        <p:spPr>
          <a:xfrm>
            <a:off x="468360" y="294012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译文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]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大道施行的时候，天下是人们所共有的，把有贤德、有才能的人选出来（给大家办事），（人人）讲求诚信，崇尚和睦。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685" name="Text Box 10"/>
          <p:cNvSpPr/>
          <p:nvPr/>
        </p:nvSpPr>
        <p:spPr>
          <a:xfrm>
            <a:off x="5370840" y="1471680"/>
            <a:ext cx="105984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大道：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隶书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之：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隶书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与：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④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修：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686" name="Text Box 11"/>
          <p:cNvSpPr/>
          <p:nvPr/>
        </p:nvSpPr>
        <p:spPr>
          <a:xfrm>
            <a:off x="6235560" y="1473120"/>
            <a:ext cx="25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古代指政治上的最高理想。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687" name="Text Box 12"/>
          <p:cNvSpPr/>
          <p:nvPr/>
        </p:nvSpPr>
        <p:spPr>
          <a:xfrm>
            <a:off x="5959440" y="2260440"/>
            <a:ext cx="25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主谓之间取消句子独立，不译。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688" name="Text Box 13"/>
          <p:cNvSpPr/>
          <p:nvPr/>
        </p:nvSpPr>
        <p:spPr>
          <a:xfrm>
            <a:off x="5967360" y="3095640"/>
            <a:ext cx="25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jǔ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举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689" name="Text Box 14"/>
          <p:cNvSpPr/>
          <p:nvPr/>
        </p:nvSpPr>
        <p:spPr>
          <a:xfrm>
            <a:off x="5946840" y="3654360"/>
            <a:ext cx="25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培养。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Line 4"/>
          <p:cNvSpPr/>
          <p:nvPr/>
        </p:nvSpPr>
        <p:spPr>
          <a:xfrm>
            <a:off x="5148360" y="803160"/>
            <a:ext cx="0" cy="525780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691" name="Text Box 5"/>
          <p:cNvSpPr/>
          <p:nvPr/>
        </p:nvSpPr>
        <p:spPr>
          <a:xfrm>
            <a:off x="6442560" y="692280"/>
            <a:ext cx="10342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点词语</a:t>
            </a:r>
            <a:endParaRPr b="0" lang="en-US" sz="28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692" name="Text Box 6"/>
          <p:cNvSpPr/>
          <p:nvPr/>
        </p:nvSpPr>
        <p:spPr>
          <a:xfrm>
            <a:off x="498600" y="833400"/>
            <a:ext cx="45115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故人不独亲其亲，不独子其子，使老有所终，壮有所用，幼有所长，矜、寡、孤、独、废疾者皆有所养，男有分，女有归。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693" name="Text Box 7"/>
          <p:cNvSpPr/>
          <p:nvPr/>
        </p:nvSpPr>
        <p:spPr>
          <a:xfrm>
            <a:off x="504720" y="2544840"/>
            <a:ext cx="460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译文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]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因此人们不单奉养自己的父母，不单抚育自己的子女，要使老年人能终其天年，中年人能为社会效力，幼童能顺利地成长，使老而无妻的人、老而无夫的人、幼年丧父的孩子、老而无子的人、残疾人都能得到供养。男子要有职业，女子要及时婚配。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694" name="Text Box 8"/>
          <p:cNvSpPr/>
          <p:nvPr/>
        </p:nvSpPr>
        <p:spPr>
          <a:xfrm>
            <a:off x="5284440" y="1327320"/>
            <a:ext cx="876960" cy="47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亲：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隶书"/>
            </a:endParaRPr>
          </a:p>
          <a:p>
            <a:pPr>
              <a:lnSpc>
                <a:spcPct val="100000"/>
              </a:lnSpc>
              <a:spcBef>
                <a:spcPts val="69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矜：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寡：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④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孤：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⑤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独：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⑥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分：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⑦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归：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695" name="Text Box 9"/>
          <p:cNvSpPr/>
          <p:nvPr/>
        </p:nvSpPr>
        <p:spPr>
          <a:xfrm>
            <a:off x="5530680" y="1328760"/>
            <a:ext cx="333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一个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亲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用如动词，以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亲。下文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子其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中的第一个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也是动词。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696" name="Text Box 10"/>
          <p:cNvSpPr/>
          <p:nvPr/>
        </p:nvSpPr>
        <p:spPr>
          <a:xfrm>
            <a:off x="5959440" y="2860560"/>
            <a:ext cx="25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老而无妻的人。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697" name="Text Box 13"/>
          <p:cNvSpPr/>
          <p:nvPr/>
        </p:nvSpPr>
        <p:spPr>
          <a:xfrm>
            <a:off x="5937120" y="3409920"/>
            <a:ext cx="25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老而无夫的人。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698" name="Text Box 14"/>
          <p:cNvSpPr/>
          <p:nvPr/>
        </p:nvSpPr>
        <p:spPr>
          <a:xfrm>
            <a:off x="5948280" y="3936960"/>
            <a:ext cx="25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幼而无父的人。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699" name="Text Box 15"/>
          <p:cNvSpPr/>
          <p:nvPr/>
        </p:nvSpPr>
        <p:spPr>
          <a:xfrm>
            <a:off x="5948280" y="4486320"/>
            <a:ext cx="25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老而无子的人。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700" name="Text Box 17"/>
          <p:cNvSpPr/>
          <p:nvPr/>
        </p:nvSpPr>
        <p:spPr>
          <a:xfrm>
            <a:off x="5927760" y="5048280"/>
            <a:ext cx="321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职份，指职业、职守。</a:t>
            </a:r>
            <a:endParaRPr b="0" lang="en-US" sz="22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5896080" y="5586480"/>
            <a:ext cx="25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女子出嫁。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Line 4"/>
          <p:cNvSpPr/>
          <p:nvPr/>
        </p:nvSpPr>
        <p:spPr>
          <a:xfrm>
            <a:off x="5148360" y="803160"/>
            <a:ext cx="0" cy="525780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703" name="Text Box 6"/>
          <p:cNvSpPr/>
          <p:nvPr/>
        </p:nvSpPr>
        <p:spPr>
          <a:xfrm>
            <a:off x="6442560" y="692280"/>
            <a:ext cx="10342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点词语</a:t>
            </a:r>
            <a:endParaRPr b="0" lang="en-US" sz="28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704" name="Text Box 7"/>
          <p:cNvSpPr/>
          <p:nvPr/>
        </p:nvSpPr>
        <p:spPr>
          <a:xfrm>
            <a:off x="498600" y="755640"/>
            <a:ext cx="45115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货恶其弃于地也，不必藏于已；力恶其不出于身也，不必为已。是故谋闭而不兴，盗窃乱贼而不作，故外户而不闭，是谓大同。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705" name="Text Box 8"/>
          <p:cNvSpPr/>
          <p:nvPr/>
        </p:nvSpPr>
        <p:spPr>
          <a:xfrm>
            <a:off x="468360" y="281772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译文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]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人们）憎恶财货被抛弃在地上的现象（而要去收贮它），却不是为了独自享用；（也）憎恶那种在共同劳动中不肯尽力的行为，总要不为私利而劳动。这样一来，就不会有人搞阴谋，不会有人盗窃财物和兴兵作乱，（家家户户）都不用关大门了，这就叫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社会。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706" name="Text Box 14"/>
          <p:cNvSpPr/>
          <p:nvPr/>
        </p:nvSpPr>
        <p:spPr>
          <a:xfrm>
            <a:off x="5304240" y="1405080"/>
            <a:ext cx="10598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恶：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是故：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谋闭：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④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乱：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⑤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贼：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⑥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作：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⑦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外户：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⑧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闭：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⑨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大同：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707" name="Text Box 15"/>
          <p:cNvSpPr/>
          <p:nvPr/>
        </p:nvSpPr>
        <p:spPr>
          <a:xfrm>
            <a:off x="6024600" y="140652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w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ù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憎恶。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708" name="Text Box 16"/>
          <p:cNvSpPr/>
          <p:nvPr/>
        </p:nvSpPr>
        <p:spPr>
          <a:xfrm>
            <a:off x="6175440" y="197640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因此，所以。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709" name="Text Box 17"/>
          <p:cNvSpPr/>
          <p:nvPr/>
        </p:nvSpPr>
        <p:spPr>
          <a:xfrm>
            <a:off x="6175440" y="248112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奸邪之谋。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710" name="Text Box 18"/>
          <p:cNvSpPr/>
          <p:nvPr/>
        </p:nvSpPr>
        <p:spPr>
          <a:xfrm>
            <a:off x="5970600" y="304020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指造反。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711" name="Text Box 19"/>
          <p:cNvSpPr/>
          <p:nvPr/>
        </p:nvSpPr>
        <p:spPr>
          <a:xfrm>
            <a:off x="5927760" y="361008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指害人。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712" name="Text Box 20"/>
          <p:cNvSpPr/>
          <p:nvPr/>
        </p:nvSpPr>
        <p:spPr>
          <a:xfrm>
            <a:off x="5896080" y="414828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兴起。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713" name="Text Box 21"/>
          <p:cNvSpPr/>
          <p:nvPr/>
        </p:nvSpPr>
        <p:spPr>
          <a:xfrm>
            <a:off x="6218280" y="469728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泛指大门。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714" name="Text Box 22"/>
          <p:cNvSpPr/>
          <p:nvPr/>
        </p:nvSpPr>
        <p:spPr>
          <a:xfrm>
            <a:off x="5991120" y="5257800"/>
            <a:ext cx="25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用门闩插门。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715" name="Text Box 23"/>
          <p:cNvSpPr/>
          <p:nvPr/>
        </p:nvSpPr>
        <p:spPr>
          <a:xfrm>
            <a:off x="6184800" y="5753160"/>
            <a:ext cx="23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指理想社会。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2"/>
          <p:cNvSpPr/>
          <p:nvPr/>
        </p:nvSpPr>
        <p:spPr>
          <a:xfrm>
            <a:off x="4038480" y="1295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天下为公</a:t>
            </a:r>
            <a:endParaRPr b="0" lang="en-US" sz="28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717" name="Rectangle 3"/>
          <p:cNvSpPr/>
          <p:nvPr/>
        </p:nvSpPr>
        <p:spPr>
          <a:xfrm>
            <a:off x="4038480" y="17668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选贤与能</a:t>
            </a:r>
            <a:endParaRPr b="0" lang="en-US" sz="28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718" name="Rectangle 4"/>
          <p:cNvSpPr/>
          <p:nvPr/>
        </p:nvSpPr>
        <p:spPr>
          <a:xfrm>
            <a:off x="4038480" y="2286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讲信修睦</a:t>
            </a:r>
            <a:endParaRPr b="0" lang="en-US" sz="28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719" name="Rectangle 5"/>
          <p:cNvSpPr/>
          <p:nvPr/>
        </p:nvSpPr>
        <p:spPr>
          <a:xfrm>
            <a:off x="1961280" y="17524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大道之行也</a:t>
            </a:r>
            <a:endParaRPr b="0" lang="en-US" sz="2800" spc="-1" strike="noStrike">
              <a:solidFill>
                <a:srgbClr val="ff0000"/>
              </a:solidFill>
              <a:latin typeface="隶书"/>
            </a:endParaRPr>
          </a:p>
        </p:txBody>
      </p:sp>
      <p:grpSp>
        <p:nvGrpSpPr>
          <p:cNvPr id="720" name="Group 6"/>
          <p:cNvGrpSpPr/>
          <p:nvPr/>
        </p:nvGrpSpPr>
        <p:grpSpPr>
          <a:xfrm>
            <a:off x="3657600" y="1523520"/>
            <a:ext cx="380880" cy="991080"/>
            <a:chOff x="3657600" y="1523520"/>
            <a:chExt cx="380880" cy="991080"/>
          </a:xfrm>
        </p:grpSpPr>
        <p:sp>
          <p:nvSpPr>
            <p:cNvPr id="721" name="Line 7"/>
            <p:cNvSpPr/>
            <p:nvPr/>
          </p:nvSpPr>
          <p:spPr>
            <a:xfrm flipV="1">
              <a:off x="3657600" y="1523520"/>
              <a:ext cx="380880" cy="304920"/>
            </a:xfrm>
            <a:prstGeom prst="line">
              <a:avLst/>
            </a:prstGeom>
            <a:ln w="28440">
              <a:solidFill>
                <a:srgbClr val="984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0000"/>
                </a:solidFill>
                <a:latin typeface="隶书"/>
              </a:endParaRPr>
            </a:p>
          </p:txBody>
        </p:sp>
        <p:sp>
          <p:nvSpPr>
            <p:cNvPr id="722" name="Line 8"/>
            <p:cNvSpPr/>
            <p:nvPr/>
          </p:nvSpPr>
          <p:spPr>
            <a:xfrm>
              <a:off x="3657600" y="2286000"/>
              <a:ext cx="380880" cy="228600"/>
            </a:xfrm>
            <a:prstGeom prst="line">
              <a:avLst/>
            </a:prstGeom>
            <a:ln w="28440">
              <a:solidFill>
                <a:srgbClr val="984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0000"/>
                </a:solidFill>
                <a:latin typeface="隶书"/>
              </a:endParaRPr>
            </a:p>
          </p:txBody>
        </p:sp>
        <p:sp>
          <p:nvSpPr>
            <p:cNvPr id="723" name="Line 9"/>
            <p:cNvSpPr/>
            <p:nvPr/>
          </p:nvSpPr>
          <p:spPr>
            <a:xfrm>
              <a:off x="3657600" y="2057400"/>
              <a:ext cx="380880" cy="0"/>
            </a:xfrm>
            <a:prstGeom prst="line">
              <a:avLst/>
            </a:prstGeom>
            <a:ln w="28440">
              <a:solidFill>
                <a:srgbClr val="984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0000"/>
                </a:solidFill>
                <a:latin typeface="隶书"/>
              </a:endParaRPr>
            </a:p>
          </p:txBody>
        </p:sp>
      </p:grpSp>
      <p:sp>
        <p:nvSpPr>
          <p:cNvPr id="724" name="AutoShape 10"/>
          <p:cNvSpPr/>
          <p:nvPr/>
        </p:nvSpPr>
        <p:spPr>
          <a:xfrm flipH="1">
            <a:off x="6933600" y="1523880"/>
            <a:ext cx="228600" cy="990720"/>
          </a:xfrm>
          <a:custGeom>
            <a:avLst/>
            <a:gdLst>
              <a:gd name="textAreaLeft" fmla="*/ 145800 w 228600"/>
              <a:gd name="textAreaRight" fmla="*/ 22860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725" name="Rectangle 11"/>
          <p:cNvSpPr/>
          <p:nvPr/>
        </p:nvSpPr>
        <p:spPr>
          <a:xfrm>
            <a:off x="7238880" y="169056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纲领</a:t>
            </a:r>
            <a:endParaRPr b="0" lang="en-US" sz="28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726" name="Rectangle 12"/>
          <p:cNvSpPr/>
          <p:nvPr/>
        </p:nvSpPr>
        <p:spPr>
          <a:xfrm>
            <a:off x="1600200" y="2743200"/>
            <a:ext cx="45720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独亲其亲，不独子其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28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727" name="Rectangle 13"/>
          <p:cNvSpPr/>
          <p:nvPr/>
        </p:nvSpPr>
        <p:spPr>
          <a:xfrm>
            <a:off x="1600200" y="3200400"/>
            <a:ext cx="45720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男有分，女有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28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728" name="Rectangle 14"/>
          <p:cNvSpPr/>
          <p:nvPr/>
        </p:nvSpPr>
        <p:spPr>
          <a:xfrm>
            <a:off x="1600200" y="3657600"/>
            <a:ext cx="53341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货恶其弃于地也，不必藏于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28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729" name="Rectangle 15"/>
          <p:cNvSpPr/>
          <p:nvPr/>
        </p:nvSpPr>
        <p:spPr>
          <a:xfrm>
            <a:off x="1600200" y="5229360"/>
            <a:ext cx="60958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故谋闭而不兴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谓大同</a:t>
            </a:r>
            <a:endParaRPr b="0" lang="en-US" sz="28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730" name="AutoShape 16"/>
          <p:cNvSpPr/>
          <p:nvPr/>
        </p:nvSpPr>
        <p:spPr>
          <a:xfrm flipH="1">
            <a:off x="6933600" y="2971800"/>
            <a:ext cx="228600" cy="1600200"/>
          </a:xfrm>
          <a:custGeom>
            <a:avLst/>
            <a:gdLst>
              <a:gd name="textAreaLeft" fmla="*/ 145800 w 228600"/>
              <a:gd name="textAreaRight" fmla="*/ 22860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731" name="Text Box 17"/>
          <p:cNvSpPr/>
          <p:nvPr/>
        </p:nvSpPr>
        <p:spPr>
          <a:xfrm>
            <a:off x="7319520" y="2706120"/>
            <a:ext cx="606960" cy="20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Times New Roman"/>
                <a:ea typeface="楷体_GB2312"/>
              </a:rPr>
              <a:t>表现特征</a:t>
            </a:r>
            <a:endParaRPr b="0" lang="en-US" sz="28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732" name="Text Box 18"/>
          <p:cNvSpPr/>
          <p:nvPr/>
        </p:nvSpPr>
        <p:spPr>
          <a:xfrm>
            <a:off x="7319520" y="4601160"/>
            <a:ext cx="60696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Times New Roman"/>
                <a:ea typeface="楷体_GB2312"/>
              </a:rPr>
              <a:t>总括语</a:t>
            </a:r>
            <a:endParaRPr b="0" lang="en-US" sz="28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733" name="AutoShape 19"/>
          <p:cNvSpPr/>
          <p:nvPr/>
        </p:nvSpPr>
        <p:spPr>
          <a:xfrm>
            <a:off x="2133720" y="2286000"/>
            <a:ext cx="228600" cy="533520"/>
          </a:xfrm>
          <a:prstGeom prst="downArrow">
            <a:avLst>
              <a:gd name="adj1" fmla="val 50000"/>
              <a:gd name="adj2" fmla="val 5833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734" name="AutoShape 20"/>
          <p:cNvSpPr/>
          <p:nvPr/>
        </p:nvSpPr>
        <p:spPr>
          <a:xfrm>
            <a:off x="2133720" y="4724280"/>
            <a:ext cx="228600" cy="533520"/>
          </a:xfrm>
          <a:prstGeom prst="downArrow">
            <a:avLst>
              <a:gd name="adj1" fmla="val 50000"/>
              <a:gd name="adj2" fmla="val 5833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735" name="Rectangle 21"/>
          <p:cNvSpPr/>
          <p:nvPr/>
        </p:nvSpPr>
        <p:spPr>
          <a:xfrm>
            <a:off x="1600200" y="4162320"/>
            <a:ext cx="53341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力恶其不出于身也，不必为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28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736" name="TextBox 1"/>
          <p:cNvSpPr/>
          <p:nvPr/>
        </p:nvSpPr>
        <p:spPr>
          <a:xfrm>
            <a:off x="1600200" y="560520"/>
            <a:ext cx="45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</a:rPr>
              <a:t>文章可分为几层</a:t>
            </a:r>
            <a:endParaRPr b="0" lang="en-US" sz="36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737" name="TextBox 2"/>
          <p:cNvSpPr/>
          <p:nvPr/>
        </p:nvSpPr>
        <p:spPr>
          <a:xfrm>
            <a:off x="839880" y="112680"/>
            <a:ext cx="260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</a:rPr>
              <a:t>交流研习</a:t>
            </a:r>
            <a:endParaRPr b="0" lang="en-US" sz="3600" spc="-1" strike="noStrike">
              <a:solidFill>
                <a:srgbClr val="ff0000"/>
              </a:solidFill>
              <a:latin typeface="隶书"/>
            </a:endParaRPr>
          </a:p>
        </p:txBody>
      </p:sp>
    </p:spTree>
  </p:cSld>
  <p:transition spd="slow">
    <p:randomBar dir="vert"/>
    <p:sndAc>
      <p:stSnd>
        <p:snd r:embed="rId2" name="chimes.wav"/>
      </p:stSnd>
    </p:sndAc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Estrangelo Edessa"/>
                <a:ea typeface="华文行楷"/>
              </a:rPr>
              <a:t>交流研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24000" y="1655640"/>
            <a:ext cx="8424720" cy="30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本文是从哪几个方面来说明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  <a:ea typeface="楷体_GB2312"/>
              </a:rPr>
              <a:t>“大同”社会的特征的？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  <p:sndAc>
      <p:stSnd>
        <p:snd r:embed="rId2" name="chimes.wav"/>
      </p:stSnd>
    </p:sndAc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2050560" y="639360"/>
            <a:ext cx="44751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大同社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218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人人都受到全社会的关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人人都能安居乐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货尽其用，人尽其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4"/>
          <p:cNvGrpSpPr/>
          <p:nvPr/>
        </p:nvGrpSpPr>
        <p:grpSpPr>
          <a:xfrm>
            <a:off x="609480" y="990720"/>
            <a:ext cx="990360" cy="5104800"/>
            <a:chOff x="609480" y="990720"/>
            <a:chExt cx="990360" cy="5104800"/>
          </a:xfrm>
        </p:grpSpPr>
        <p:sp>
          <p:nvSpPr>
            <p:cNvPr id="743" name="AutoShape 5"/>
            <p:cNvSpPr/>
            <p:nvPr/>
          </p:nvSpPr>
          <p:spPr>
            <a:xfrm>
              <a:off x="609480" y="990720"/>
              <a:ext cx="990360" cy="510480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0000"/>
                </a:solidFill>
                <a:latin typeface="隶书"/>
              </a:endParaRPr>
            </a:p>
          </p:txBody>
        </p:sp>
        <p:sp>
          <p:nvSpPr>
            <p:cNvPr id="744" name="Text Box 6"/>
            <p:cNvSpPr/>
            <p:nvPr/>
          </p:nvSpPr>
          <p:spPr>
            <a:xfrm>
              <a:off x="838080" y="1796760"/>
              <a:ext cx="609480" cy="28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天</a:t>
              </a:r>
              <a:endParaRPr b="0" lang="en-US" sz="3200" spc="-1" strike="noStrike">
                <a:solidFill>
                  <a:srgbClr val="ff0000"/>
                </a:solidFill>
                <a:latin typeface="隶书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下</a:t>
              </a:r>
              <a:endParaRPr b="0" lang="en-US" sz="3200" spc="-1" strike="noStrike">
                <a:solidFill>
                  <a:srgbClr val="ff0000"/>
                </a:solidFill>
                <a:latin typeface="隶书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为</a:t>
              </a:r>
              <a:endParaRPr b="0" lang="en-US" sz="3200" spc="-1" strike="noStrike">
                <a:solidFill>
                  <a:srgbClr val="ff0000"/>
                </a:solidFill>
                <a:latin typeface="隶书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公</a:t>
              </a:r>
              <a:endParaRPr b="0" lang="en-US" sz="3200" spc="-1" strike="noStrike">
                <a:solidFill>
                  <a:srgbClr val="ff0000"/>
                </a:solidFill>
                <a:latin typeface="隶书"/>
              </a:endParaRPr>
            </a:p>
          </p:txBody>
        </p:sp>
      </p:grpSp>
      <p:grpSp>
        <p:nvGrpSpPr>
          <p:cNvPr id="745" name="Group 7"/>
          <p:cNvGrpSpPr/>
          <p:nvPr/>
        </p:nvGrpSpPr>
        <p:grpSpPr>
          <a:xfrm>
            <a:off x="7467480" y="990720"/>
            <a:ext cx="990720" cy="5104800"/>
            <a:chOff x="7467480" y="990720"/>
            <a:chExt cx="990720" cy="5104800"/>
          </a:xfrm>
        </p:grpSpPr>
        <p:sp>
          <p:nvSpPr>
            <p:cNvPr id="746" name="AutoShape 8"/>
            <p:cNvSpPr/>
            <p:nvPr/>
          </p:nvSpPr>
          <p:spPr>
            <a:xfrm>
              <a:off x="7467480" y="990720"/>
              <a:ext cx="990720" cy="510480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0000"/>
                </a:solidFill>
                <a:latin typeface="隶书"/>
              </a:endParaRPr>
            </a:p>
          </p:txBody>
        </p:sp>
        <p:sp>
          <p:nvSpPr>
            <p:cNvPr id="747" name="Text Box 9"/>
            <p:cNvSpPr/>
            <p:nvPr/>
          </p:nvSpPr>
          <p:spPr>
            <a:xfrm>
              <a:off x="7696080" y="1796760"/>
              <a:ext cx="609480" cy="28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天</a:t>
              </a:r>
              <a:endParaRPr b="0" lang="en-US" sz="3200" spc="-1" strike="noStrike">
                <a:solidFill>
                  <a:srgbClr val="ff0000"/>
                </a:solidFill>
                <a:latin typeface="隶书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下</a:t>
              </a:r>
              <a:endParaRPr b="0" lang="en-US" sz="3200" spc="-1" strike="noStrike">
                <a:solidFill>
                  <a:srgbClr val="ff0000"/>
                </a:solidFill>
                <a:latin typeface="隶书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无</a:t>
              </a:r>
              <a:endParaRPr b="0" lang="en-US" sz="3200" spc="-1" strike="noStrike">
                <a:solidFill>
                  <a:srgbClr val="ff0000"/>
                </a:solidFill>
                <a:latin typeface="隶书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恶</a:t>
              </a:r>
              <a:endParaRPr b="0" lang="en-US" sz="3200" spc="-1" strike="noStrike">
                <a:solidFill>
                  <a:srgbClr val="ff0000"/>
                </a:solidFill>
                <a:latin typeface="隶书"/>
              </a:endParaRPr>
            </a:p>
          </p:txBody>
        </p:sp>
      </p:grpSp>
    </p:spTree>
  </p:cSld>
  <p:transition spd="slow">
    <p:randomBar dir="vert"/>
    <p:sndAc>
      <p:stSnd>
        <p:snd r:embed="rId2" name="chimes.wav"/>
      </p:stSnd>
    </p:sndAc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1000"/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3"/>
          <p:cNvSpPr/>
          <p:nvPr/>
        </p:nvSpPr>
        <p:spPr>
          <a:xfrm>
            <a:off x="826920" y="7477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作者所描绘的大同社会的景象是什么？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749" name="Rectangle 4"/>
          <p:cNvSpPr/>
          <p:nvPr/>
        </p:nvSpPr>
        <p:spPr>
          <a:xfrm>
            <a:off x="826920" y="1419120"/>
            <a:ext cx="747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故谋闭而不兴，盗窃乱贼而不作，故外户而不闭，是谓大同。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750" name="Text Box 5"/>
          <p:cNvSpPr/>
          <p:nvPr/>
        </p:nvSpPr>
        <p:spPr>
          <a:xfrm>
            <a:off x="826920" y="2639880"/>
            <a:ext cx="754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如何理解孔子关于“大同”社会的思想意义？ 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751" name="Text Box 6"/>
          <p:cNvSpPr/>
          <p:nvPr/>
        </p:nvSpPr>
        <p:spPr>
          <a:xfrm>
            <a:off x="826920" y="331308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社会是以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五帝之世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传闻为依据，经过加工提炼后构想出来的一个理想社会的模式，建立一个合理的社会，以消除现实社会中的黑暗现象和不合理的地方。因此，它源于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五帝之世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又高于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五帝之世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752" name="TextBox 1"/>
          <p:cNvSpPr/>
          <p:nvPr/>
        </p:nvSpPr>
        <p:spPr>
          <a:xfrm>
            <a:off x="1623960" y="3078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</a:rPr>
              <a:t>精准讲习</a:t>
            </a:r>
            <a:endParaRPr b="0" lang="en-US" sz="3200" spc="-1" strike="noStrike">
              <a:solidFill>
                <a:srgbClr val="ff0000"/>
              </a:solidFill>
              <a:latin typeface="隶书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2"/>
          <p:cNvSpPr/>
          <p:nvPr/>
        </p:nvSpPr>
        <p:spPr>
          <a:xfrm>
            <a:off x="826920" y="981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文中“大同”社会跟陶渊明描绘的那个“世外桃源”有没有相似的地方？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754" name="Rectangle 3"/>
          <p:cNvSpPr/>
          <p:nvPr/>
        </p:nvSpPr>
        <p:spPr>
          <a:xfrm>
            <a:off x="826920" y="2149560"/>
            <a:ext cx="747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要透过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桃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中的生活现象来认识这个社会，例如从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黄发垂髫，并怡然自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中可以看出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桃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中的老人和孩子生活极其幸福、快乐，这就是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社会中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老有所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”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幼有所长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由此还可以推知矜、寡、孤、独、废疾者这五种人同样受到全社会的关爱。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042560" y="836280"/>
            <a:ext cx="352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文人笔下的理想社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3"/>
          <p:cNvSpPr/>
          <p:nvPr/>
        </p:nvSpPr>
        <p:spPr>
          <a:xfrm>
            <a:off x="1332000" y="2205000"/>
            <a:ext cx="2482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孟子：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陶渊明：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范仲淹：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757" name="Text Box 4"/>
          <p:cNvSpPr/>
          <p:nvPr/>
        </p:nvSpPr>
        <p:spPr>
          <a:xfrm>
            <a:off x="2556000" y="2205000"/>
            <a:ext cx="60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老吾老，以及人之老；幼吾幼，以及人之幼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758" name="Rectangle 5"/>
          <p:cNvSpPr/>
          <p:nvPr/>
        </p:nvSpPr>
        <p:spPr>
          <a:xfrm>
            <a:off x="3167280" y="33512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黄发垂髫，并怡然自乐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759" name="Rectangle 6"/>
          <p:cNvSpPr/>
          <p:nvPr/>
        </p:nvSpPr>
        <p:spPr>
          <a:xfrm>
            <a:off x="3106080" y="44118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政通人和，百废俱兴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468360" y="2637000"/>
            <a:ext cx="79200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民幼有所教，老有所养，分业操作，各得其所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国家为人民共有，政治为人民共管，利益为人民共享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3"/>
          <p:cNvSpPr/>
          <p:nvPr/>
        </p:nvSpPr>
        <p:spPr>
          <a:xfrm>
            <a:off x="1479240" y="1073160"/>
            <a:ext cx="26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孙中山向往的理想社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ff0000"/>
              </a:solidFill>
              <a:latin typeface="隶书"/>
            </a:endParaRPr>
          </a:p>
        </p:txBody>
      </p:sp>
      <p:pic>
        <p:nvPicPr>
          <p:cNvPr id="762" name="Picture 4" descr="知识扩展"/>
          <p:cNvPicPr/>
          <p:nvPr/>
        </p:nvPicPr>
        <p:blipFill>
          <a:blip r:embed="rId2"/>
          <a:stretch/>
        </p:blipFill>
        <p:spPr>
          <a:xfrm>
            <a:off x="533520" y="0"/>
            <a:ext cx="2004840" cy="74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5" descr="124BH22G30-E038"/>
          <p:cNvPicPr/>
          <p:nvPr/>
        </p:nvPicPr>
        <p:blipFill>
          <a:blip r:embed="rId1"/>
          <a:stretch/>
        </p:blipFill>
        <p:spPr>
          <a:xfrm>
            <a:off x="511200" y="727200"/>
            <a:ext cx="8116920" cy="549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Text Box 5"/>
          <p:cNvSpPr/>
          <p:nvPr/>
        </p:nvSpPr>
        <p:spPr>
          <a:xfrm>
            <a:off x="826920" y="2008080"/>
            <a:ext cx="5437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    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关爱”是千百年来常谈常新的话题，在生活中，处处充满关爱，师生之情、父母之爱、同学之谊时刻在温暖着我们。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请谈谈你印象中最深的一次见闻，来体现“关爱”这一主题。 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</p:txBody>
      </p:sp>
      <p:pic>
        <p:nvPicPr>
          <p:cNvPr id="764" name="Picture 6" descr="图片15"/>
          <p:cNvPicPr/>
          <p:nvPr/>
        </p:nvPicPr>
        <p:blipFill>
          <a:blip r:embed="rId1"/>
          <a:stretch/>
        </p:blipFill>
        <p:spPr>
          <a:xfrm>
            <a:off x="6640560" y="2008080"/>
            <a:ext cx="2012760" cy="4025880"/>
          </a:xfrm>
          <a:prstGeom prst="rect">
            <a:avLst/>
          </a:prstGeom>
          <a:ln w="0">
            <a:noFill/>
          </a:ln>
        </p:spPr>
      </p:pic>
      <p:sp>
        <p:nvSpPr>
          <p:cNvPr id="765" name="TextBox 1"/>
          <p:cNvSpPr/>
          <p:nvPr/>
        </p:nvSpPr>
        <p:spPr>
          <a:xfrm>
            <a:off x="1633680" y="755640"/>
            <a:ext cx="66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</a:rPr>
              <a:t>强化练习</a:t>
            </a:r>
            <a:endParaRPr b="0" lang="en-US" sz="3600" spc="-1" strike="noStrike">
              <a:solidFill>
                <a:srgbClr val="ff0000"/>
              </a:solidFill>
              <a:latin typeface="隶书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AutoShape 8"/>
          <p:cNvSpPr/>
          <p:nvPr/>
        </p:nvSpPr>
        <p:spPr>
          <a:xfrm>
            <a:off x="585720" y="2571840"/>
            <a:ext cx="7991640" cy="227952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25560">
            <a:solidFill>
              <a:srgbClr val="00ffff"/>
            </a:solidFill>
            <a:miter/>
          </a:ln>
          <a:effectLst>
            <a:outerShdw dist="17819" dir="2700000" blurRad="0" rotWithShape="0">
              <a:srgbClr val="005e9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767" name="Rectangle 9"/>
          <p:cNvSpPr/>
          <p:nvPr/>
        </p:nvSpPr>
        <p:spPr>
          <a:xfrm>
            <a:off x="936720" y="2931840"/>
            <a:ext cx="7248600" cy="1464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玉不琢，不成器；人不学，不知义。</a:t>
            </a:r>
            <a:endParaRPr b="0" lang="en-US" sz="3000" spc="-1" strike="noStrike">
              <a:solidFill>
                <a:srgbClr val="ff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                     </a:t>
            </a:r>
            <a:r>
              <a:rPr b="0" lang="en-US" sz="3000" spc="-1" strike="noStrike">
                <a:solidFill>
                  <a:srgbClr val="ff0000"/>
                </a:solidFill>
                <a:latin typeface="宋体"/>
                <a:ea typeface="黑体"/>
              </a:rPr>
              <a:t>——</a:t>
            </a:r>
            <a:r>
              <a:rPr b="0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礼记</a:t>
            </a:r>
            <a:r>
              <a:rPr b="0" lang="en-US" sz="3000" spc="-1" strike="noStrike">
                <a:solidFill>
                  <a:srgbClr val="ff0000"/>
                </a:solidFill>
                <a:latin typeface="宋体"/>
                <a:ea typeface="黑体"/>
              </a:rPr>
              <a:t>·</a:t>
            </a:r>
            <a:r>
              <a:rPr b="0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学记</a:t>
            </a:r>
            <a:endParaRPr b="0" lang="en-US" sz="3000" spc="-1" strike="noStrike">
              <a:solidFill>
                <a:srgbClr val="ff0000"/>
              </a:solidFill>
              <a:latin typeface="隶书"/>
            </a:endParaRPr>
          </a:p>
        </p:txBody>
      </p:sp>
      <p:pic>
        <p:nvPicPr>
          <p:cNvPr id="768" name="Picture 12" descr="图片1"/>
          <p:cNvPicPr/>
          <p:nvPr/>
        </p:nvPicPr>
        <p:blipFill>
          <a:blip r:embed="rId1"/>
          <a:stretch/>
        </p:blipFill>
        <p:spPr>
          <a:xfrm>
            <a:off x="2568600" y="789120"/>
            <a:ext cx="4638600" cy="103644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13" descr="点此返回目录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29160" y="5122800"/>
            <a:ext cx="3460680" cy="11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5" descr="2292332210332469546"/>
          <p:cNvPicPr/>
          <p:nvPr/>
        </p:nvPicPr>
        <p:blipFill>
          <a:blip r:embed="rId1"/>
          <a:stretch/>
        </p:blipFill>
        <p:spPr>
          <a:xfrm>
            <a:off x="558720" y="695160"/>
            <a:ext cx="8028000" cy="54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5" descr="1433833531364881439"/>
          <p:cNvPicPr/>
          <p:nvPr/>
        </p:nvPicPr>
        <p:blipFill>
          <a:blip r:embed="rId1"/>
          <a:stretch/>
        </p:blipFill>
        <p:spPr>
          <a:xfrm>
            <a:off x="595440" y="662040"/>
            <a:ext cx="797544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3"/>
          <p:cNvSpPr/>
          <p:nvPr/>
        </p:nvSpPr>
        <p:spPr>
          <a:xfrm>
            <a:off x="684360" y="2036880"/>
            <a:ext cx="77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．掌握相关文言词，翻译并背诵课文。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．整体感知文意，理清文章脉络，尽快形成背诵思路，提高诵读能力。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．了解古代先贤圣哲关于人类社会的伟大理想，把握“大同”社会的基本特征。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大道之行也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反映了我国古代人民对美好生活的向往，学习古人敢于冲破现实羁绊，大胆追求理想的精神和智慧，激发学生树立为人类造福的远大理想。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</p:txBody>
      </p:sp>
      <p:pic>
        <p:nvPicPr>
          <p:cNvPr id="669" name="Picture 11" descr="学习目标"/>
          <p:cNvPicPr/>
          <p:nvPr/>
        </p:nvPicPr>
        <p:blipFill>
          <a:blip r:embed="rId1"/>
          <a:srcRect l="3826" t="12895" r="8110" b="8658"/>
          <a:stretch/>
        </p:blipFill>
        <p:spPr>
          <a:xfrm>
            <a:off x="2395440" y="1085760"/>
            <a:ext cx="3541680" cy="92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 Box 5"/>
          <p:cNvSpPr/>
          <p:nvPr/>
        </p:nvSpPr>
        <p:spPr>
          <a:xfrm>
            <a:off x="2759040" y="952560"/>
            <a:ext cx="58514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礼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，儒家经典之一，亦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小戴礼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小戴礼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，相传为西汉戴圣编纂。全书包括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中庸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》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大学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等四十九篇，除有关我国古代社会情况和各种礼节制度的记述外，还包括了孔子及其门人言行的一些小故事。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礼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中国古代一部重要的典章制度书籍，又是一部重要的仁义道德教科书。是孔子以后战国至秦汉之间儒家的作品，全书保存了先秦时代的重要史料。其语言简洁生动，具有一定的文学价值。</a:t>
            </a:r>
            <a:endParaRPr b="0" lang="en-US" sz="2400" spc="-1" strike="noStrike">
              <a:solidFill>
                <a:srgbClr val="ff0000"/>
              </a:solidFill>
              <a:latin typeface="隶书"/>
            </a:endParaRPr>
          </a:p>
        </p:txBody>
      </p:sp>
      <p:pic>
        <p:nvPicPr>
          <p:cNvPr id="671" name="Picture 11" descr="礼记"/>
          <p:cNvPicPr/>
          <p:nvPr/>
        </p:nvPicPr>
        <p:blipFill>
          <a:blip r:embed="rId1"/>
          <a:stretch/>
        </p:blipFill>
        <p:spPr>
          <a:xfrm>
            <a:off x="692280" y="1828800"/>
            <a:ext cx="1968480" cy="288144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19" descr="图片4"/>
          <p:cNvPicPr/>
          <p:nvPr/>
        </p:nvPicPr>
        <p:blipFill>
          <a:blip r:embed="rId2"/>
          <a:stretch/>
        </p:blipFill>
        <p:spPr>
          <a:xfrm>
            <a:off x="547560" y="914400"/>
            <a:ext cx="2797200" cy="64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3"/>
          <p:cNvSpPr/>
          <p:nvPr/>
        </p:nvSpPr>
        <p:spPr>
          <a:xfrm>
            <a:off x="1704960" y="223056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674" name="Text Box 4"/>
          <p:cNvSpPr/>
          <p:nvPr/>
        </p:nvSpPr>
        <p:spPr>
          <a:xfrm>
            <a:off x="620640" y="944640"/>
            <a:ext cx="789012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  <a:ea typeface="宋体"/>
              </a:rPr>
              <a:t>　  本文是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  <a:ea typeface="宋体"/>
              </a:rPr>
              <a:t>《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  <a:ea typeface="宋体"/>
              </a:rPr>
              <a:t>礼记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  <a:ea typeface="宋体"/>
              </a:rPr>
              <a:t>·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  <a:ea typeface="宋体"/>
              </a:rPr>
              <a:t>礼运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  <a:ea typeface="宋体"/>
              </a:rPr>
              <a:t>》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  <a:ea typeface="宋体"/>
              </a:rPr>
              <a:t>开头部分里的一段话，主旨是阐明理想中的“大同”社会的基本特征。原文此前还有一段文字记述孔子说这番话的来由，照录如下：“昔者仲尼与于蜡宾（参加国君在年终举行的祭典，蜡，读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  <a:ea typeface="宋体"/>
              </a:rPr>
              <a:t>zhà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  <a:ea typeface="宋体"/>
              </a:rPr>
              <a:t>），事毕，出游于观（读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  <a:ea typeface="宋体"/>
              </a:rPr>
              <a:t>ɡuān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  <a:ea typeface="宋体"/>
              </a:rPr>
              <a:t>，宫门外两旁的台楼）之上，喟然而叹，仲尼之叹，盖叹鲁也（意思是鲁国已经丧失了国礼）。言偃（即子游，孔子的学生）在侧，曰：“君子何叹？”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  <a:ea typeface="宋体"/>
              </a:rPr>
              <a:t>(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  <a:ea typeface="宋体"/>
              </a:rPr>
              <a:t>孔子何叹？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  <a:ea typeface="宋体"/>
              </a:rPr>
              <a:t>)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  <a:ea typeface="宋体"/>
              </a:rPr>
              <a:t>孔子曰：“大道之行也，与三代之英（夏、商、周、三代的英贤），丘未之逮也（因出生晚，未能赶上）而有志焉。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  <a:ea typeface="宋体"/>
              </a:rPr>
              <a:t>"</a:t>
            </a:r>
            <a:endParaRPr b="0" lang="en-US" sz="2200" spc="-1" strike="noStrike">
              <a:solidFill>
                <a:srgbClr val="ff0000"/>
              </a:solidFill>
              <a:latin typeface="隶书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  <a:ea typeface="宋体"/>
              </a:rPr>
              <a:t>从这段文字可以看出，孔子是因为生活在变乱纷乘的春秋末期，迫切希望出现一个太平盛世，所以有这番言论。 </a:t>
            </a:r>
            <a:endParaRPr b="0" lang="en-US" sz="2200" spc="-1" strike="noStrike">
              <a:solidFill>
                <a:srgbClr val="ff0000"/>
              </a:solidFill>
              <a:latin typeface="隶书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6" descr="97875402000771554908-fm"/>
          <p:cNvPicPr/>
          <p:nvPr/>
        </p:nvPicPr>
        <p:blipFill>
          <a:blip r:embed="rId1"/>
          <a:stretch/>
        </p:blipFill>
        <p:spPr>
          <a:xfrm>
            <a:off x="2824200" y="787320"/>
            <a:ext cx="3241800" cy="4494240"/>
          </a:xfrm>
          <a:prstGeom prst="rect">
            <a:avLst/>
          </a:prstGeom>
          <a:ln w="0">
            <a:noFill/>
          </a:ln>
        </p:spPr>
      </p:pic>
      <p:pic>
        <p:nvPicPr>
          <p:cNvPr id="676" name="大道之行朗读" descr=""/>
          <p:cNvPicPr/>
          <p:nvPr/>
        </p:nvPicPr>
        <p:blipFill>
          <a:blip r:embed="rId2"/>
          <a:stretch/>
        </p:blipFill>
        <p:spPr>
          <a:xfrm>
            <a:off x="6932520" y="3470400"/>
            <a:ext cx="619200" cy="61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63072" fill="hold"/>
                                        <p:tgtEl>
                                          <p:spTgt spid="6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2"/>
          <p:cNvSpPr/>
          <p:nvPr/>
        </p:nvSpPr>
        <p:spPr>
          <a:xfrm>
            <a:off x="2133720" y="2409840"/>
            <a:ext cx="42670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贤</a:t>
            </a:r>
            <a:r>
              <a:rPr b="1" lang="zh-CN" sz="28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ǔ</a:t>
            </a:r>
            <a:endParaRPr b="0" lang="en-US" sz="2800" spc="-1" strike="noStrike">
              <a:solidFill>
                <a:srgbClr val="ff0000"/>
              </a:solidFill>
              <a:latin typeface="隶书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男有</a:t>
            </a:r>
            <a:r>
              <a:rPr b="1" lang="zh-CN" sz="28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女有归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endParaRPr b="0" lang="en-US" sz="2800" spc="-1" strike="noStrike">
              <a:solidFill>
                <a:srgbClr val="ff0000"/>
              </a:solidFill>
              <a:latin typeface="隶书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货</a:t>
            </a:r>
            <a:r>
              <a:rPr b="1" lang="zh-CN" sz="28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弃于地也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ù</a:t>
            </a:r>
            <a:endParaRPr b="0" lang="en-US" sz="2800" spc="-1" strike="noStrike">
              <a:solidFill>
                <a:srgbClr val="ff0000"/>
              </a:solidFill>
              <a:latin typeface="隶书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678" name="Text Box 3"/>
          <p:cNvSpPr/>
          <p:nvPr/>
        </p:nvSpPr>
        <p:spPr>
          <a:xfrm>
            <a:off x="1447920" y="155736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音并解释</a:t>
            </a:r>
            <a:endParaRPr b="0" lang="en-US" sz="3200" spc="-1" strike="noStrike">
              <a:solidFill>
                <a:srgbClr val="ff0000"/>
              </a:solidFill>
              <a:latin typeface="隶书"/>
            </a:endParaRPr>
          </a:p>
        </p:txBody>
      </p:sp>
      <p:sp>
        <p:nvSpPr>
          <p:cNvPr id="679" name="Text Box 5"/>
          <p:cNvSpPr/>
          <p:nvPr/>
        </p:nvSpPr>
        <p:spPr>
          <a:xfrm>
            <a:off x="826920" y="62064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定向预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3600" spc="-1" strike="noStrike">
              <a:solidFill>
                <a:srgbClr val="ff0000"/>
              </a:solidFill>
              <a:latin typeface="隶书"/>
            </a:endParaRPr>
          </a:p>
        </p:txBody>
      </p:sp>
    </p:spTree>
  </p:cSld>
  <p:transition spd="slow">
    <p:randomBar dir="vert"/>
    <p:sndAc>
      <p:stSnd>
        <p:snd r:embed="rId2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30T09:17:58Z</dcterms:created>
  <dc:creator/>
  <dc:description>
</dc:description>
  <cp:keywords/>
  <dc:language>en-US</dc:language>
  <cp:lastModifiedBy>微软用户</cp:lastModifiedBy>
  <dcterms:modified xsi:type="dcterms:W3CDTF">2019-04-29T01:12:42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27</vt:lpwstr>
  </property>
</Properties>
</file>