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chimes.wav" ContentType="audio/x-wav"/>
  <Override PartName="/ppt/media/image16.jpeg" ContentType="image/jpeg"/>
  <Override PartName="/ppt/media/arrow.wav" ContentType="audio/x-wav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A5F-6A86-451D-9C4A-0C838FB5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720-225A-4E13-A489-A8F39E9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883-3E87-4668-A52D-72862F23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9B7-6378-4133-B5AF-D36C6C19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9C3-16A8-423E-95D5-D56000D6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DE9-40C7-4157-ADF4-B0BF617F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129-C88B-4BB8-8122-9DC061F7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60A-3743-4B3F-8F54-2C2F559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000B-7DFA-4E7A-8306-BDB9711F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6A6F-C5EC-4AB3-B30D-44652162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ECC-749B-47DE-81D8-DE3E51F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282-1FA5-4526-B85F-B687FB61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96F-E6A4-4187-9D3C-BF3B274C8A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8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rrow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52880" y="76212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巨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76212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 </a:t>
            </a: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1447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819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胡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茂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躺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宽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</a:t>
            </a: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胸</a:t>
            </a: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168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绒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缓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6765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连绵的山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167652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茂密的森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9718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浓密的胡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29718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甜蜜的呼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4197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厚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44197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自在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跳跃翻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arrow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3880" y="190512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7 </a:t>
            </a:r>
            <a:r>
              <a:rPr b="1" lang="zh-CN" sz="8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地巨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600200"/>
            <a:ext cx="7620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简述课文  交流感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0"/>
            <a:ext cx="7391520" cy="13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一个人坐在草地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望着远方连绵的山群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总是把我们的大地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想象成一位和蔼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起伏的胸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丘陵和盆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全身盖满小草织成的绒衣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高兴时就摘一片云彩作手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头发和胡须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那茂密的森林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每一次的呼吸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风在山谷里来去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的太阳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他手上的红气球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早晨，让它缓缓地升起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黄昏，又让它缓缓地下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和蔼的巨人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静静地躺了几千万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宽厚地对待我们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让我们在他身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自由自在地跳跃翻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5" name="arrow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6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7825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9480" y="1600200"/>
            <a:ext cx="76201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（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简述课文  交流感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09480" y="1066680"/>
            <a:ext cx="80010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250920"/>
            <a:ext cx="80010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当我一个人坐在草地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望着远方连绵的山群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总是把我们的大地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想象成一位和蔼的巨人。</a:t>
            </a:r>
            <a:br>
              <a:rPr sz="54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14400" y="250920"/>
            <a:ext cx="80010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当我一个人坐在草地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望着远方连绵的山群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总是把我们的大地，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想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成一位和蔼的巨人。</a:t>
            </a:r>
            <a:br>
              <a:rPr sz="54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9480" y="1066680"/>
            <a:ext cx="80010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98760" y="26668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楷体_GB2312"/>
              </a:rPr>
              <a:t>和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304920"/>
            <a:ext cx="7620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１、研读生字，诵读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２、简述课文，交流感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３、巧记生字，书写美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95280" y="0"/>
            <a:ext cx="7391520" cy="13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一个人坐在草地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望着远方连绵的山群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总是把我们的大地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想象成一位和蔼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起伏的胸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丘陵和盆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全身盖满小草织成的绒衣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高兴时就摘一片云彩作手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头发和胡须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那茂密的森林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每一次的呼吸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风在山谷里来去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的太阳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他手上的红气球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早晨，让它缓缓地升起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黄昏，又让它缓缓地下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和蔼的巨人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静静地躺了几千万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宽厚地对待我们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让我们在他身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自由自在地跳跃翻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3" name="arrow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60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0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278256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" y="1447920"/>
            <a:ext cx="7620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</a:t>
            </a:r>
            <a:r>
              <a:rPr b="0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巧记生字 书写美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5029200" y="46483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730160" cy="17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362320" y="380880"/>
            <a:ext cx="172872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3" name=""/>
          <p:cNvSpPr/>
          <p:nvPr/>
        </p:nvSpPr>
        <p:spPr>
          <a:xfrm>
            <a:off x="179280" y="2708280"/>
            <a:ext cx="4608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给词语找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想办法记住生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6629400" y="3808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419720" y="380880"/>
            <a:ext cx="1805040" cy="18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6" name=""/>
          <p:cNvSpPr/>
          <p:nvPr/>
        </p:nvSpPr>
        <p:spPr>
          <a:xfrm>
            <a:off x="457200" y="304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708360" y="2637000"/>
            <a:ext cx="1752480" cy="175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5867280" y="2590920"/>
            <a:ext cx="1752840" cy="175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3049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2484360" y="4724280"/>
            <a:ext cx="175284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69343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2" name=""/>
          <p:cNvSpPr/>
          <p:nvPr/>
        </p:nvSpPr>
        <p:spPr>
          <a:xfrm>
            <a:off x="2514600" y="304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群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808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象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3808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丘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2708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90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密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3" name="arrow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1" name=""/>
          <p:cNvSpPr/>
          <p:nvPr/>
        </p:nvSpPr>
        <p:spPr>
          <a:xfrm>
            <a:off x="5029200" y="46483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宽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50920" y="404640"/>
            <a:ext cx="1730160" cy="173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362320" y="380880"/>
            <a:ext cx="172872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6" name=""/>
          <p:cNvSpPr/>
          <p:nvPr/>
        </p:nvSpPr>
        <p:spPr>
          <a:xfrm>
            <a:off x="179280" y="2708280"/>
            <a:ext cx="46087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给词语找朋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想办法记住生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6629400" y="3808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4419720" y="380880"/>
            <a:ext cx="1805040" cy="1805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"/>
          <p:cNvSpPr/>
          <p:nvPr/>
        </p:nvSpPr>
        <p:spPr>
          <a:xfrm>
            <a:off x="457200" y="304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望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3708360" y="2637000"/>
            <a:ext cx="1752480" cy="175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5867280" y="2590920"/>
            <a:ext cx="1752840" cy="1752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3049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2484360" y="4724280"/>
            <a:ext cx="175284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6934320" y="4724280"/>
            <a:ext cx="1752480" cy="175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2514600" y="304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群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808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象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3808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丘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2708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须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59092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茂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密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4724280"/>
            <a:ext cx="1589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躺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3" name="arrow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9480" y="1066680"/>
            <a:ext cx="800100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1447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819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胡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茂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躺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宽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和</a:t>
            </a: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胸</a:t>
            </a: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114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绒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53341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缓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304920"/>
            <a:ext cx="883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１、发挥想象，感受大地巨人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２、诵读课文，读出对大自然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３、学习写法，仿编诗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600200"/>
            <a:ext cx="7619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学习目标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黑体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研读生字  诵读课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2209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楷体_GB2312"/>
              </a:rPr>
              <a:t>你从诗中的哪些语句体会到大地像一位巨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380880"/>
            <a:ext cx="9372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起伏的胸肌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丘陵和盆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他全身盖满小草织成的绒衣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高兴时就摘一片云彩作手巾。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486400" y="91440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丘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4038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形的一种，指地势起伏不平，连接成大片的小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3" name="arrow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盆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380880"/>
            <a:ext cx="9372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起伏的胸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丘陵和盆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他全身盖满小草织成的绒衣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高兴时就摘一片云彩作手巾。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533520"/>
            <a:ext cx="84582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的头发和胡须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那茂密的森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每一次的呼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风在山谷里来去的声音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茂密的森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14400" y="53352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空的太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是他手上的红气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让它缓缓地升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黄昏，又让它缓缓地下沉。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28600" y="228600"/>
            <a:ext cx="7772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位和蔼的巨人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静静地躺了几千万年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宽厚地对待我们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我们在他身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自由自在地跳跃翻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8600" y="228600"/>
            <a:ext cx="7772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位和蔼的巨人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静静地躺了几千万年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宽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对待我们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我们在他身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自由自在地跳跃翻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95280" y="0"/>
            <a:ext cx="7391520" cy="135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地巨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一个人坐在草地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望着远方连绵的山群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总是把我们的大地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想象成一位和蔼的巨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起伏的胸肌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丘陵和盆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全身盖满小草织成的绒衣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高兴时就摘一片云彩作手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头发和胡须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那茂密的森林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每一次的呼吸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风在山谷里来去的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空的太阳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是他手上的红气球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早晨，让它缓缓地升起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黄昏，又让它缓缓地下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位和蔼的巨人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静静地躺了几千万年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他宽厚地对待我们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让我们在他身上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自由自在地跳跃翻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3" name="arrow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60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78256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380880"/>
            <a:ext cx="93726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起伏的胸肌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丘陵和盆地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他全身盖满小草织成的绒衣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高兴时就摘一片云彩作手巾。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380880"/>
            <a:ext cx="9372600" cy="60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流淌的热血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（               ）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无边的海洋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他（                       ）。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380880"/>
            <a:ext cx="937260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他（                ）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是（               ）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（                    ）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 （                              ）。</a:t>
            </a:r>
            <a:br>
              <a:rPr sz="48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14400" y="250920"/>
            <a:ext cx="8001000" cy="64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当我一个人坐在草地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望着远方连绵的山群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总是把我们的大地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想象成一位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和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巨人。</a:t>
            </a:r>
            <a:br>
              <a:rPr sz="5400"/>
            </a:br>
            <a:br>
              <a:rPr sz="54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228600"/>
            <a:ext cx="7772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位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和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巨人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静静地躺了几千万年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他宽厚地对待我们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让我们在他身上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自由自在地跳跃翻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1447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33412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0" y="350532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486400" y="91440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丘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038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地形的一种，指地势起伏不平，连接成大片的小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3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望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山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14479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14479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819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胡</a:t>
            </a: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7432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茂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arrow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楷体_GB2312"/>
              </a:rPr>
              <a:t>茂密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的森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9-27T03:26:57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