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6D5C-909B-45B4-92BF-CDD74D163348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E2D8-30D4-493F-A7AD-A527EE4AD3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slide" Target="../slides/slide4.xml"/><Relationship Id="rId17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63BC-4089-4BC5-8F04-9670843B0CA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BA0A-DCCB-4645-8876-E85087203A5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美术课件：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www.1ppt.com/kejian/meish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科学课件：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www.1ppt.com/kejian/kexue/     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物理课件：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www.1ppt.com/kejian/wuli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化学课件：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www.1ppt.com/kejian/huaxue/  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生物课件：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www.1ppt.com/kejian/shengw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地理课件：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www.1ppt.com/kejian/dili/          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历史课件：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www.1ppt.com/kejian/lishi/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FE8F-4061-44BD-9C75-45EAF5C6F9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8191-D733-4DE8-AED2-9EF6F705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D3F-9BA3-47DA-AC13-F70B1977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4E48-5B0F-487F-A63C-10ADB434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4F14-BFEC-4B58-BCDC-9BAD3440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111-44DC-462B-BDA3-69D65CD1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59D-5C3D-466D-BCA4-ADAED4EF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4BB-BE15-48DE-99B9-332C7F00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EBB-319F-4736-942F-7F1C910C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4461-AC80-42FF-992A-4B3089B3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5D5-852C-47F6-9C87-D323FE63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DB9A-8147-4B1F-81B9-6033C64C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21A9-1C0A-488E-ABD3-C3776A66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3109-635D-4462-B6E7-5F5A0CAE00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0" y="1117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大地巨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线连接符 21"/>
          <p:cNvSpPr/>
          <p:nvPr/>
        </p:nvSpPr>
        <p:spPr>
          <a:xfrm>
            <a:off x="2700360" y="2276640"/>
            <a:ext cx="3816360" cy="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20100919072833050043"/>
          <p:cNvPicPr/>
          <p:nvPr/>
        </p:nvPicPr>
        <p:blipFill>
          <a:blip r:embed="rId1"/>
          <a:stretch/>
        </p:blipFill>
        <p:spPr>
          <a:xfrm>
            <a:off x="1187280" y="2205000"/>
            <a:ext cx="6553440" cy="40244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3135960" y="2637000"/>
            <a:ext cx="340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起伏的胸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是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丘陵和盆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他全身盖满小草织成的绒衣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高兴时就摘一片云彩作手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20100919072833050043"/>
          <p:cNvPicPr/>
          <p:nvPr/>
        </p:nvPicPr>
        <p:blipFill>
          <a:blip r:embed="rId1"/>
          <a:stretch/>
        </p:blipFill>
        <p:spPr>
          <a:xfrm>
            <a:off x="468360" y="1916280"/>
            <a:ext cx="8136000" cy="4346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2286000" y="2833560"/>
            <a:ext cx="495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的头发和胡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那茂密的森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每一次的呼吸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风在山谷里来去的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116000" y="310464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句式想象大地巨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      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地巨人也和我们一样，有眼睛，有鼻子，有眉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你能用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句想象心目中巨人的模样吗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8016708_213006745184_2"/>
          <p:cNvPicPr/>
          <p:nvPr/>
        </p:nvPicPr>
        <p:blipFill>
          <a:blip r:embed="rId1"/>
          <a:stretch/>
        </p:blipFill>
        <p:spPr>
          <a:xfrm>
            <a:off x="2340000" y="1628640"/>
            <a:ext cx="63388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286000" y="228456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当我一个人坐在草地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望着远方连绵的山群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我总是把我们的大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想象成一位和蔼的巨人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286000" y="228456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当我一个人坐在草地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望着远方连绵的山群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我总是把我们的大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想象成一位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和蔼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的巨人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解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570840" y="2742840"/>
            <a:ext cx="2001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地巨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和蔼 博大 宽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主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124000" y="232236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流淌的热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法点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042920" y="37641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大地巨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一首优美的诗歌。文章想象丰富，描写生动，语言通俗，笔调灵活。作者以暗喻的方法，把大地比作一位可亲可敬的巨人，通过想象，将自然界中的许多自然想象巧妙地与巨人的想象结合在一起，让我们感受到自然的博大与宽广，读来倍感亲切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258920" y="2889360"/>
            <a:ext cx="67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完这首诗，大家一定了解了为什么说大地是一位巨人了，你想对这位巨人说些什么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51" name="直线连接符 21"/>
            <p:cNvSpPr/>
            <p:nvPr/>
          </p:nvSpPr>
          <p:spPr>
            <a:xfrm flipV="1">
              <a:off x="268200" y="1689120"/>
              <a:ext cx="225576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同侧圆角矩形 23"/>
            <p:cNvSpPr/>
            <p:nvPr/>
          </p:nvSpPr>
          <p:spPr>
            <a:xfrm>
              <a:off x="452160" y="112536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1000080" y="2428920"/>
            <a:ext cx="7358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684360" y="34902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章想象丰富，描写生动。作者以暗喻的方法，把大地比作一位可亲可敬的巨人，通过想象，将自然界中的许多自然想象巧妙地与巨人的想象结合在一起，让我们感受到自然的博大与宽广，读来倍感亲切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灵感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286000" y="283356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流淌的热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奔腾不息的河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强壮的骨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雄伟挺拔的高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3286080" y="12142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042920" y="2276640"/>
            <a:ext cx="6775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选字填空。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摇  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遥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远  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摇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晃  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遥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望  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摇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摆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杨  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     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扬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    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杨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     (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杨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树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57" name="直线连接符 21"/>
            <p:cNvSpPr/>
            <p:nvPr/>
          </p:nvSpPr>
          <p:spPr>
            <a:xfrm flipV="1">
              <a:off x="268200" y="1689120"/>
              <a:ext cx="225576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同侧圆角矩形 23"/>
            <p:cNvSpPr/>
            <p:nvPr/>
          </p:nvSpPr>
          <p:spPr>
            <a:xfrm>
              <a:off x="452160" y="112536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预习检查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/>
          <p:cNvSpPr/>
          <p:nvPr/>
        </p:nvSpPr>
        <p:spPr>
          <a:xfrm>
            <a:off x="928800" y="1785960"/>
            <a:ext cx="77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755640" y="25711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说到巨人，你的脑海中浮现了什么想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读一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连绵的山群   和蔼的巨人   胸肌  丘陵  胡须 茂密 的森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缓缓   宽厚    自由自在    跳跃翻滚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6"/>
          <p:cNvSpPr/>
          <p:nvPr/>
        </p:nvSpPr>
        <p:spPr>
          <a:xfrm>
            <a:off x="2340000" y="28526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1285920" y="3429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050920" y="2276640"/>
            <a:ext cx="588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填一填，读一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连绵的（山群 ）  和蔼的（巨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起伏的（胸肌 ）  茂密的（森林）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试一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胸肌  丘陵  胡须   缓缓   宽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由自在    跳跃翻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476360" y="3002400"/>
            <a:ext cx="61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当我一个人坐在草地上，望着远方连绵的山群，我总是把我们的大地，想象成一位和蔼的巨人。现在让我们一起去认识一下这位和蔼的大地巨人吧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71" name="直线连接符 21"/>
            <p:cNvSpPr/>
            <p:nvPr/>
          </p:nvSpPr>
          <p:spPr>
            <a:xfrm flipV="1">
              <a:off x="468360" y="192384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同侧圆角矩形 7"/>
            <p:cNvSpPr/>
            <p:nvPr/>
          </p:nvSpPr>
          <p:spPr>
            <a:xfrm>
              <a:off x="468360" y="126828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4367520" y="29973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你从诗中的哪些语句体会到大地像一位巨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20100919072833050043"/>
          <p:cNvPicPr/>
          <p:nvPr/>
        </p:nvPicPr>
        <p:blipFill>
          <a:blip r:embed="rId1"/>
          <a:stretch/>
        </p:blipFill>
        <p:spPr>
          <a:xfrm>
            <a:off x="684360" y="1916280"/>
            <a:ext cx="7632720" cy="42940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3064320" y="2852640"/>
            <a:ext cx="340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起伏的胸肌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是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丘陵和盆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他全身盖满小草织成的绒衣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高兴时就摘一片云彩作手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丘陵1"/>
          <p:cNvPicPr/>
          <p:nvPr/>
        </p:nvPicPr>
        <p:blipFill>
          <a:blip r:embed="rId1"/>
          <a:stretch/>
        </p:blipFill>
        <p:spPr>
          <a:xfrm>
            <a:off x="179280" y="2973240"/>
            <a:ext cx="4321440" cy="3313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丘陵2"/>
          <p:cNvPicPr/>
          <p:nvPr/>
        </p:nvPicPr>
        <p:blipFill>
          <a:blip r:embed="rId2"/>
          <a:stretch/>
        </p:blipFill>
        <p:spPr>
          <a:xfrm>
            <a:off x="4572000" y="981000"/>
            <a:ext cx="3924360" cy="28782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4716360" y="429264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形的一种，指地势起伏不平，连接成大片的小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2987640" y="2205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丘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盆地2"/>
          <p:cNvPicPr/>
          <p:nvPr/>
        </p:nvPicPr>
        <p:blipFill>
          <a:blip r:embed="rId1"/>
          <a:stretch/>
        </p:blipFill>
        <p:spPr>
          <a:xfrm>
            <a:off x="1835280" y="2781360"/>
            <a:ext cx="6011640" cy="3557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3995640" y="1844640"/>
            <a:ext cx="11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盆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5T11:26:00Z</dcterms:created>
  <dc:creator>第一PPT模板网-WWW.1PPT.COM</dc:creator>
  <dc:description/>
  <cp:keywords>第一PPT模板网-WWW.1PPT.COM</cp:keywords>
  <dc:language>en-US</dc:language>
  <cp:lastModifiedBy>微软用户</cp:lastModifiedBy>
  <dcterms:modified xsi:type="dcterms:W3CDTF">2019-07-14T09:21:44Z</dcterms:modified>
  <cp:revision>13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