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16C-EECB-431C-B4F6-F522116F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E5B-C29D-40F0-820C-8529154B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342-AB06-4938-89B0-0576C161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FDE-3E87-423F-A532-1F28AFBE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2F5-86EF-4FFB-8F61-1340607A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1B7-A803-4EBB-8E19-1202A829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5B6-C3C0-4269-A83B-E7CD073B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E37-295B-42CB-92C6-377A919C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1C9-E72E-4B76-95EC-9C8E7187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34A-1431-4ADF-B683-6B393D7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461-0D66-459B-BE67-3E3D4C2F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D2B-D878-4AB4-A83F-C47D80A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8B4B-512B-46CB-AE40-2BE475CC36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登  池  上  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400" y="38862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谢灵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4337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池塘生春草，园柳变鸣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诗人从冬去春回的众多景象中选择了一个细小而典型的镜头：不知不觉间楼外枯草瑟瑟的池塘里竟然春草繁生了；小园垂柳丛中禽鸟鸣声也已变换。正是从池塘小园的变化中，久病的诗人突然意识到，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外面已是一派浓郁的春意。这里写景，有声有色，远近交错，充满了蓬勃生气。“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池塘”二句为历来诗论家交口赞赏。它的妙处就在于自然清新，不假绳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4338"/>
          <p:cNvSpPr/>
          <p:nvPr/>
        </p:nvSpPr>
        <p:spPr>
          <a:xfrm>
            <a:off x="656280" y="-1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名句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5361"/>
          <p:cNvSpPr/>
          <p:nvPr/>
        </p:nvSpPr>
        <p:spPr>
          <a:xfrm>
            <a:off x="0" y="205740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比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用虬和鸿的进退得所来说明自己进退失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对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用乐景衬托哀伤，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用生趣盎然的江南春景，来衬托诗人内心的抑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15362"/>
          <p:cNvSpPr/>
          <p:nvPr/>
        </p:nvSpPr>
        <p:spPr>
          <a:xfrm>
            <a:off x="1287000" y="3524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写作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6390"/>
          <p:cNvSpPr/>
          <p:nvPr/>
        </p:nvSpPr>
        <p:spPr>
          <a:xfrm>
            <a:off x="0" y="45720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_GB2312"/>
              </a:rPr>
              <a:t>谢灵运是诗歌史上自觉以山水入诗的第一人。他以富丽精工的语言、生动鲜明的辞采，细致逼真地刻画了自然景色，表现了山水的绚丽多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_GB2312"/>
              </a:rPr>
              <a:t>白云抱幽石，绿筱媚清涟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_GB2312"/>
              </a:rPr>
              <a:t>《过始宁墅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_GB2312"/>
              </a:rPr>
              <a:t>云日相辉映，空水共澄鲜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_GB2312"/>
              </a:rPr>
              <a:t>《登江中孤屿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_GB2312"/>
              </a:rPr>
              <a:t>明月照积雪，朔风劲且哀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_GB2312"/>
              </a:rPr>
              <a:t>《岁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6145"/>
          <p:cNvSpPr/>
          <p:nvPr/>
        </p:nvSpPr>
        <p:spPr>
          <a:xfrm>
            <a:off x="0" y="762120"/>
            <a:ext cx="8931240" cy="15570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谢灵运作为南朝门第最为华贵的士族家庭的子弟，作为东晋名将谢玄之孙、爵位继承人，又自幼颖悟过人，长成后骄纵自负，在政治上自然抱有很大的雄心。而宋武帝刘裕去世后，诸子年幼，形势不稳，又使他深深卷入权力斗争的漩涡。刘裕的长子刘义符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少帝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即位后，大臣徐羡之等人把持朝政。刘裕次子刘义真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庐陵王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过去甚得父亲的欢心，颇有觊觎帝位之意。他与谢灵运关系密切，常对人说，如果他做皇帝，便用谢灵运为宰相。这情况很容易造成矛盾的激化。而谢灵运完全是诗人的性格，高傲、坦露、褊躁，不擅于政治权谋。他常对徐羡之等施以批评攻讦，引起对方的猜忌，终于在永初三年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(422)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被逐出京都，迁为偏僻的永嘉郡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今浙江温州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太守。这是谢灵运首次在政治上受到沉重打击。来永嘉后的第一个冬天，他长久卧病，至明年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景平元年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春始愈，于是登楼观景，写下《登池上楼》这一名篇，抒写郁闷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6146"/>
          <p:cNvSpPr/>
          <p:nvPr/>
        </p:nvSpPr>
        <p:spPr>
          <a:xfrm>
            <a:off x="670320" y="17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者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7169"/>
          <p:cNvSpPr/>
          <p:nvPr/>
        </p:nvSpPr>
        <p:spPr>
          <a:xfrm>
            <a:off x="289080" y="380880"/>
            <a:ext cx="832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潜虬媚幽姿，飞鸿响远音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薄霄愧云浮，栖川怍渊沉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进德智所拙，退耕力不任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狥禄反穷海，卧痾对空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7170"/>
          <p:cNvSpPr/>
          <p:nvPr/>
        </p:nvSpPr>
        <p:spPr>
          <a:xfrm>
            <a:off x="304920" y="2743200"/>
            <a:ext cx="8321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前八句为第一层，主要写官场失意后的不满与当时矛盾的处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   “</a:t>
            </a: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潜虬”一句喻深藏不露、孤高自赏的生活，“飞鸿”一句喻奋进高飞、声名动世的境界；下面两句说无论前者还是后者，自己都不能做到，深感惭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第三句紧接第二句，第四句远承第一句：是说自己颇有退隐之心，只是为形势所格，无法实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8193"/>
          <p:cNvSpPr/>
          <p:nvPr/>
        </p:nvSpPr>
        <p:spPr>
          <a:xfrm>
            <a:off x="457200" y="1295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因为当时谢灵运如果拒绝赴任，就是公开表示与当权者对抗，极可能招致更大麻烦。下面进一步写自己于无奈中来到这偏僻的海隅，入冬后久卧病床，所对唯有萧索枯瑟之空林。全诗由虚入实，由远及近，气氛渐渐降到最低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9217"/>
          <p:cNvSpPr/>
          <p:nvPr/>
        </p:nvSpPr>
        <p:spPr>
          <a:xfrm>
            <a:off x="228600" y="2819520"/>
            <a:ext cx="832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自“衾枕”以下八句为第二层，写登楼所见满目春色。写卧病中不知不觉，已是冬去春来，倾耳”、“举目”两句，写出诗人对自然风光的极度喜爱。池塘水波轻拍，在倾耳细听之际，令人虑澄意解；远山参差耸立，使人心旷神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9218"/>
          <p:cNvSpPr/>
          <p:nvPr/>
        </p:nvSpPr>
        <p:spPr>
          <a:xfrm>
            <a:off x="2057400" y="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衾枕昧节候，褰开暂窥临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倾耳聆波澜，举目眺岖嵚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初景革绪风，新阳改故阴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池塘生春草，园柳变鸣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1265"/>
          <p:cNvSpPr/>
          <p:nvPr/>
        </p:nvSpPr>
        <p:spPr>
          <a:xfrm>
            <a:off x="228600" y="228600"/>
            <a:ext cx="8702640" cy="13737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池塘生春草，园柳变鸣禽”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谢诗中最著名的诗句之一看起来，这一联诗很平常，景色亦并无特别之处。但应该注意到，它很好地表现了初春之特征及诗人当时的心情。池塘周围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尤其是向阳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草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因为得池水滋润，又有坡地挡住寒风，故复苏得早，生长得快，其青青之色也特别的鲜嫩，有欣欣向荣的生气，使人感受到春天万物勃发的生机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“园柳变鸣禽”，写柳枝上已有刚刚迁徙来的鸟儿在鸣叫，这同样是细微而不易察觉的变化。两句诗表现了诗人敏锐的感觉，以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忧郁的心情在春的节律中发生的振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此种自然生动而富有韵味的诗句，显得特出。总之，放在特定的文学环境和具体的诗篇之中来看，“池塘生春草，园柳变鸣禽”的确不失为佳句，单独抽出来加以评论，就没有多少意义了。从全诗来看，写到这里，情绪渐渐转向开朗欣喜的暖色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2289"/>
          <p:cNvSpPr/>
          <p:nvPr/>
        </p:nvSpPr>
        <p:spPr>
          <a:xfrm>
            <a:off x="3399480" y="68400"/>
            <a:ext cx="3106800" cy="1556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祁祁伤豳歌，萋萋感楚吟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索居易永久，离群难处心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持操岂独古，无闷征在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12290"/>
          <p:cNvSpPr/>
          <p:nvPr/>
        </p:nvSpPr>
        <p:spPr>
          <a:xfrm>
            <a:off x="609480" y="25909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12291"/>
          <p:cNvSpPr/>
          <p:nvPr/>
        </p:nvSpPr>
        <p:spPr>
          <a:xfrm>
            <a:off x="228600" y="1981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最后六句为第三层．开头两句由登楼观春联想到古代描写春景的诗，借用典故表示自己的感慨，情绪又转向感伤。“豳歌”，指《诗经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豳风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七月》一篇，《七月》是周公在遭受流言、出居东都以避谗害时作的，谢灵运用此典故，带有暗喻的意思。 “楚吟”，指《楚辞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招隐士》一篇，其中有“春草生兮萋萋”之句。所谓“感楚吟”，是说有感于隐士的生活。这两句表示要从困窘的处境中摆脱出来，决心走隐居的道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3313"/>
          <p:cNvSpPr/>
          <p:nvPr/>
        </p:nvSpPr>
        <p:spPr>
          <a:xfrm>
            <a:off x="457200" y="609480"/>
            <a:ext cx="80773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着“索居”、“离群”两句，写隐居生活令人难以接受的一面。但不管怎祥，他归隐的决心已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全诗结束两句意思是：坚持节操岂止古人能够做到，《周易》所谓“遁世无闷”在今人身上同样可以得到征验！这样，诗的情绪便从进退维谷的困境中解脱出来，以高亢的声调收结全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0241"/>
          <p:cNvSpPr/>
          <p:nvPr/>
        </p:nvSpPr>
        <p:spPr>
          <a:xfrm>
            <a:off x="136440" y="554040"/>
            <a:ext cx="885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10242"/>
          <p:cNvSpPr/>
          <p:nvPr/>
        </p:nvSpPr>
        <p:spPr>
          <a:xfrm>
            <a:off x="60480" y="782640"/>
            <a:ext cx="862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10243"/>
          <p:cNvSpPr/>
          <p:nvPr/>
        </p:nvSpPr>
        <p:spPr>
          <a:xfrm>
            <a:off x="441360" y="1239840"/>
            <a:ext cx="832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10244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本诗以登池上楼为中心，抒发了种种复杂的情绪。这里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孤芳自赏的情调，政治失意的牢骚，进退不得的苦闷，对政敌含而不露的怨愤，归隐的志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虽然语言颇觉隐晦，却是真实地表现了内心活动的过程。诗中写景部分与抒情结合得相当密切，并且成为诗中情绪变化的枢纽。对景物的描绘，也体现出诗人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自然的喜爱和敏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而这正是他能够开创山水诗一派的条件。只是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语言过于深奥、句式缺少变化，因求对仗而造成某些重复，也是显著的弱点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这些都有待于诗歌的发展来纠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31T09:24:03Z</dcterms:created>
  <dc:creator/>
  <dc:description/>
  <dc:language>en-US</dc:language>
  <cp:lastModifiedBy>admin</cp:lastModifiedBy>
  <dcterms:modified xsi:type="dcterms:W3CDTF">2019-05-31T09:24:0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