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EBAC-E02C-46D5-B5A2-2C4AA3138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ED42-C211-4F3C-B022-D37145A9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102D-E7C3-4A1B-964A-DAB060AE2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8FF0-4AA5-407E-93AA-B86C9765B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F2B0-DC5E-4A6E-A36B-428C78F6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67BE-AE45-4FF2-A4EE-329383A5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6C32-C931-4CDB-ADF3-748B5FCB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BE9B-2865-46B0-9787-E8A9F52D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B040-F93F-4DA5-ADF6-9F651ADB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E78D-8210-4BD8-BE22-19F5E282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0203-DC93-4418-8078-91C1F3C2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0B25-ADF9-4C52-BE8A-5277EEF3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AEBD-60A9-495C-884E-1E3D729F1F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7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971800" y="380880"/>
            <a:ext cx="5810400" cy="5810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802800" y="304920"/>
            <a:ext cx="28616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  <a:ea typeface="华文新魏"/>
              </a:rPr>
              <a:t>登池上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49760" y="4830840"/>
            <a:ext cx="850680" cy="31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谢灵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12880" y="3246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43200" y="533520"/>
            <a:ext cx="5486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祁祁伤豳歌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萋萋感楚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28480" y="2286000"/>
            <a:ext cx="237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应为：伤祁祁豳歌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感萋萋楚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0560" y="3809880"/>
            <a:ext cx="6886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日迟迟，采蘩祁祁。女心伤悲，殆及公子同归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自《诗经•豳风•七月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孙游兮不归，春草生兮萋萋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自《楚辞•招隐士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017800" y="1981080"/>
            <a:ext cx="496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作者看到生机勃发的春天，为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想到的竟然是这两首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40080" y="5014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Arial"/>
                <a:ea typeface="华文行楷"/>
              </a:rPr>
              <a:t>讨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68760" y="35812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山水不足以娱其情，名理不足以解其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095880" y="4630680"/>
            <a:ext cx="281952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895480" y="533520"/>
            <a:ext cx="5486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索居易永久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离群难处心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220968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楷体_GB2312"/>
              </a:rPr>
              <a:t>索居：独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楷体_GB2312"/>
              </a:rPr>
              <a:t>易永久：容易感到日子过得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楷体_GB2312"/>
              </a:rPr>
              <a:t>难处心：内心难以安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4038480"/>
            <a:ext cx="8763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方面，写出一般人对隐居生活的看法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方面也写出作者对隐居生活隐隐的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虑，侧面反映出他仍然渴望回到五光十色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官场，再被当权者所重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14600" y="533520"/>
            <a:ext cx="5486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持操岂独古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无闷征在今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5040" y="2503440"/>
            <a:ext cx="8321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楷体_GB2312"/>
              </a:rPr>
              <a:t>保持节操岂止古人才能做到，（所谓的）“遁世无闷”今天就在我身上得到了证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90960" y="4722840"/>
            <a:ext cx="518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前两句作者抒发了对独居生活的满腹牢骚，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面表现出作者想回归官场，但是为什么这里又自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古人的避世无闷呢？是不是有矛盾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5560" y="422424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华文行楷"/>
              </a:rPr>
              <a:t>讨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486400" y="4143240"/>
            <a:ext cx="3314880" cy="2486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0880" y="30492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Arial"/>
                <a:ea typeface="华文行楷"/>
              </a:rPr>
              <a:t>课堂小结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华文行楷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600200"/>
            <a:ext cx="9753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写景清新如画、自然天成、体察入微、描写生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且布置工巧，由远及近，从视觉到听觉，错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本文由写景转入抒怀。化用古诗传达了自己矛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心情：厌倦排斥离群索居的孤独寂寞之感，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表示自己要保持高尚的节操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追求遁世无闷的隐居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16430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初九曰：“潜龙勿用。”何谓也？子曰：“龙，德而隐者也。不易乎世，不成乎名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遁世无闷，不见是而无闷，乐则行之，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违之，确乎其不可拔，潜龙也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45720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《易经•乾卦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51055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050480" y="6019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51055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50480" y="6019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08920" y="11883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鸿渐于陆，其羽可用为仪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25909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《易经•渐卦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304920"/>
            <a:ext cx="595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华文新魏"/>
              </a:rPr>
              <a:t>登高赋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7794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抒发内心之感慨、阐述人生哲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26668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欲穷千里目，更上一层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登鹳雀楼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3755880"/>
            <a:ext cx="929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前无古人，后无来者，念天地之悠悠，独怆然而涕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登幽洲台歌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5040" y="5051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14400" y="4952880"/>
            <a:ext cx="1523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想一想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54864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方正舒体"/>
              </a:rPr>
              <a:t>还能回忆起类似的诗句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3657600" cy="6019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18280" y="458640"/>
            <a:ext cx="413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谢灵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91120" y="1851120"/>
            <a:ext cx="30398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文学史上山水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派的开创者，东晋名将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玄的孙子，小名客儿，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又称之为谢客。年长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袭封为康乐公，后降为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乐候，因此也称为“ 谢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乐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733920" y="2971800"/>
            <a:ext cx="5181480" cy="3657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942200" y="414360"/>
            <a:ext cx="5545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谢灵运博览群书，才学名动京师。但是他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政治所归属的王、谢门阀贵族一派，和当时执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出身较卑微的刘宋王族间存在着矛盾，虽他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身名门、兼负才华、热衷政权，但却不受重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现实和理想落差悬殊的刺激下，他的性情偏激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常怀愤愤，少帝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任永嘉太守，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久称疾辞官，隐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稽，文帝时为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川内史，最后在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场倾轧中被杀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rId1" action="ppaction://hlinksldjump"/>
          </p:cNvPr>
          <p:cNvSpPr/>
          <p:nvPr/>
        </p:nvSpPr>
        <p:spPr>
          <a:xfrm>
            <a:off x="228600" y="30492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潜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：潜游的虬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2" action="ppaction://hlinksldjump"/>
          </p:cNvPr>
          <p:cNvSpPr/>
          <p:nvPr/>
        </p:nvSpPr>
        <p:spPr>
          <a:xfrm>
            <a:off x="4724280" y="31896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飞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：高飞的鸿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12193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05720" y="129528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远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22860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宁静安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58080" y="228600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恣意飞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2209680"/>
            <a:ext cx="358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华文新魏"/>
              </a:rPr>
              <a:t>对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724120" y="4191120"/>
            <a:ext cx="3524400" cy="2530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90720" y="411480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华文新魏"/>
              </a:rPr>
              <a:t>退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3080" y="403848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华文新魏"/>
              </a:rPr>
              <a:t>进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3124080"/>
            <a:ext cx="382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薄霄云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3168720"/>
            <a:ext cx="247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沉渊栖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34120" y="4648320"/>
            <a:ext cx="3531960" cy="19508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22440" y="1012680"/>
            <a:ext cx="695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初景革绪风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新阳改故阴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87840" y="3124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对仗整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22760" y="4114800"/>
            <a:ext cx="160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Arial"/>
                <a:ea typeface="华文新魏"/>
              </a:rPr>
              <a:t>      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  <a:ea typeface="华文新魏"/>
              </a:rPr>
              <a:t>写出一片春意盎然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Arial"/>
                <a:ea typeface="华文新魏"/>
              </a:rPr>
              <a:t>生机初发之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422440" y="533520"/>
            <a:ext cx="695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池塘生春草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园柳变鸣禽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7925040" cy="41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737160" y="601560"/>
            <a:ext cx="5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塘：堤岸。（池塘：园池的边上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14479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楷体_GB2312"/>
              </a:rPr>
              <a:t>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772160" y="4038480"/>
            <a:ext cx="3990960" cy="2752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806040" y="2438280"/>
            <a:ext cx="75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楷体_GB2312"/>
              </a:rPr>
              <a:t>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15238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颜色美、动态美、生机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79520" y="3429000"/>
            <a:ext cx="41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鸣禽种类的变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74800" y="3124080"/>
            <a:ext cx="0" cy="30492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31800" y="2590920"/>
            <a:ext cx="372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禽鸟声音变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74800" y="3962520"/>
            <a:ext cx="0" cy="30456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62120" y="4221000"/>
            <a:ext cx="42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季节的变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266688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  <a:ea typeface="方正舒体"/>
              </a:rPr>
              <a:t>春天来了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19360" y="50292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听觉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6094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华文新魏"/>
              </a:rPr>
              <a:t>描绘出一派生机勃发之态，春趣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华文新魏"/>
              </a:rPr>
              <a:t>然、有声有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486400" y="4114800"/>
            <a:ext cx="2946240" cy="2184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0880" y="25146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池塘春草谢家池，万古千秋五字新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元好问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论诗绝句三十首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mj</cp:lastModifiedBy>
  <dcterms:modified xsi:type="dcterms:W3CDTF">2011-07-14T13:04:37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