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  <p:sldId id="267" r:id="rId35"/>
    <p:sldId id="268" r:id="rId36"/>
    <p:sldId id="269" r:id="rId37"/>
    <p:sldId id="270" r:id="rId38"/>
    <p:sldId id="271" r:id="rId39"/>
    <p:sldId id="272" r:id="rId40"/>
    <p:sldId id="273" r:id="rId41"/>
    <p:sldId id="274" r:id="rId42"/>
    <p:sldId id="275" r:id="rId43"/>
    <p:sldId id="276" r:id="rId44"/>
    <p:sldId id="277" r:id="rId45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slide" Target="slides/slide12.xml"/><Relationship Id="rId36" Type="http://schemas.openxmlformats.org/officeDocument/2006/relationships/slide" Target="slides/slide13.xml"/><Relationship Id="rId37" Type="http://schemas.openxmlformats.org/officeDocument/2006/relationships/slide" Target="slides/slide14.xml"/><Relationship Id="rId38" Type="http://schemas.openxmlformats.org/officeDocument/2006/relationships/slide" Target="slides/slide15.xml"/><Relationship Id="rId39" Type="http://schemas.openxmlformats.org/officeDocument/2006/relationships/slide" Target="slides/slide16.xml"/><Relationship Id="rId40" Type="http://schemas.openxmlformats.org/officeDocument/2006/relationships/slide" Target="slides/slide17.xml"/><Relationship Id="rId41" Type="http://schemas.openxmlformats.org/officeDocument/2006/relationships/slide" Target="slides/slide18.xml"/><Relationship Id="rId42" Type="http://schemas.openxmlformats.org/officeDocument/2006/relationships/slide" Target="slides/slide19.xml"/><Relationship Id="rId43" Type="http://schemas.openxmlformats.org/officeDocument/2006/relationships/slide" Target="slides/slide20.xml"/><Relationship Id="rId44" Type="http://schemas.openxmlformats.org/officeDocument/2006/relationships/slide" Target="slides/slide21.xml"/><Relationship Id="rId45" Type="http://schemas.openxmlformats.org/officeDocument/2006/relationships/slide" Target="slides/slide2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8A8EB-BF59-43E1-BAA9-6133F39E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D42AF-E091-464D-B64A-1F73AF0B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8581A-DD59-44EB-BCF0-6072D9FF3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74B9E-A950-4C4E-B9E5-C908F792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57DC7-1C01-4E0A-B0AC-4B4CAED12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506B9-1F6E-42C1-81BF-9430B6E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4AF45-8DC7-49A3-B118-30CD18FEC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F8419-693B-4456-A98F-35CD93D61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E9D3C-D574-4D5C-8DEA-4671BB27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7F34F-C4DD-432E-B594-9FFFF39D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E8D45-B846-4E1D-A01F-385CFDAF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A18C9-C6DD-4041-A49C-F9CE72E85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0691B-A7C8-4F3C-B8A8-589668F1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F64FA-76DC-4C01-B12C-65C9001B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80574-4DEE-4468-B4D9-AEB59C58C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3E727-9E13-4841-9857-C38676BF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FCB4D-373E-455C-BB9A-FAB8CD91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4F73F-4D55-46CD-8188-06BE29B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269BA-E312-4C57-903E-C117F31D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EF7F4-4BDE-4DA2-A06F-1D40DDEC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C0371-8175-488F-979E-BB4C89AD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1A468-8ABF-4461-A6BA-6565E97C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797713-8E25-4B8E-9ED4-D2F4E213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0FBD96-FE9E-44BA-BFE3-A1FE5584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E6DEC-AA4F-4704-9162-26139F85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FB268-40DA-4A1E-9166-CD4C45C0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EC68F-1662-436C-823F-4D7591EE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AC01E-8F8C-494D-B0DA-DED0F115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EDFEB8-3A5C-4B33-8760-47DAD221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91E044-1A9B-4C09-9340-6F16028F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17C606-8C3B-4FEC-A525-3793BFC2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85670C-6B51-404F-8F90-48CDE3F6A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615DFD-82DA-4632-BCDD-9658816E3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E5F41C-195D-4335-ABF4-6D64376CF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E961E-386B-45B2-92F9-798AB88F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4CA4E-49C3-4554-8D07-369C4CE5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06802-C15D-4E3E-888E-D004E088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37B86-44A1-4BC8-AB79-C8EAD5D3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F1F8E-2B12-44E4-8040-D901752D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FEA8E-A63B-4B07-AFBF-93359A30D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A3911-7D15-4E1A-A62A-1B6B1D21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A32890-A19C-42AD-BAAE-4E7F64F2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1F8D1-14D4-4EEF-A1C5-35A6172B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22F93-E68C-40BE-853F-D44D7CED1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E6E0F-4506-4B1E-9240-CDCA3BFDF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A40A6-290F-4044-87C7-F7291CD4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391EAF-AC44-49E7-A36F-D8C5CCBD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7A14D5-3677-4BAB-8D34-32A61E2E8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70BEF-9612-4942-8E48-4ACB976B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BC029-8FE7-4CB2-9DC9-8E77D291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060BA8-2E2F-403F-91F5-E74B5FF3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2F4C7-7FCE-424C-867B-2A3EE3F8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A78F8-BB61-4826-AADF-87AC901B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766C2-78EF-445F-8104-9A0CDD2A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BC50D-812D-4B26-B268-C7F9DAB4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DC56E-06A5-4029-BEC3-079A5A15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F87245-A51C-405D-A6D5-449F9F09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BC1E9-35CB-4448-B3E5-F443014DF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C3857-6C06-4140-9660-F9CF094E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7784A9-DE7D-402C-B349-FCAF40132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C57AA-FCF0-40E7-B193-93BE4EEA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C407D-DD9E-4997-836E-5266E69C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A3B2A6-9C4A-453E-B6D2-F8EC991B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0A2BD-2E65-48A1-A531-29EAB8D2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4142A-EEA6-4199-8765-C8B66189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849014-B58D-481D-8A81-6FD67B1C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686E68-A3AF-48C0-92D2-6AC6AD2AA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A381A-07F0-4046-8505-81AB66737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62A41-7715-4596-956C-4BE3F1519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3BBCB1-FD36-4968-8C95-65E2DF96B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976EA-5085-4CF4-AE73-FDF52F6F4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ADA60C-56ED-4D5E-A54F-56270B25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692C7-F087-4681-BBDB-B9FCD115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F372C4-F874-468F-B2D4-A76605D18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211F20-B865-45A1-B470-6348A959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43FC7-A0B1-47F7-AD7C-087BF31A9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093FC-E0DD-45E1-AA21-6A8F4A6D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3D9593-94BB-4E02-BB06-FEE95173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7590C-3EBC-4144-A555-01FA60FD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1085DB-1486-4345-BD7E-FF982DF1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958C8C-D9C9-4DDC-B4AD-162A944D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A823F-CB3A-4879-BE8B-A5B6ACBE8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65276-D316-43E6-BC37-32EFB6BD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01730D-6A16-49C0-BDB1-E0D79966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DBB9D6-8BB7-43A0-873B-9D8FBCAA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ED90DA-A6A1-4771-BF64-792EEDD8B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37FCB-5D29-49ED-BAEB-A00376F6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A1F2E2-A6E2-42ED-8146-7532D465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5BF983-8A22-4965-A993-EFA0786E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6E4D4-F6EA-4EB0-83F8-A3AF6C37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DA16D1-FB67-48D5-8C4D-6F836555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48264-1396-4D82-B71C-916EE94AC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262EB4-E9B2-4E59-92DB-A6C2DCD6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EB5324-6B13-465F-ACC7-6923DC7A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F49894-BC2C-49F1-BA50-72FCB66B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56F6E-58FB-4898-AF06-21EC22B5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B9028-E3B5-4C03-8498-48DF1C3D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99F47-7814-404F-8549-24F44D07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C0761C-A587-4702-A2E5-63ED3D422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D8D7A-662E-4838-BC0E-7EBB5BC0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625A25-EEDA-4120-A28B-CD13CD0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19A861-778D-4DA6-965A-29A5B3E4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B7BA36-DA9A-4BCF-9FDB-F7634AA12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FF8E3-D48E-4098-B3E9-BD9FB8CB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BE957-0C3D-4F4C-B0A2-C3D120AEE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AD1B6-918C-487F-B993-9EE5B6AA6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6054F-0903-4ECE-9F76-C5E66AD5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F4C798-698A-4A08-B971-6BEFA7F4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1A38D-6193-486C-A7F9-FB44FD70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C4B1D-7D7E-40BD-87A7-2CF945AAD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1D8DF-15B2-4F70-A487-9E24A558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A8C173-56CA-4321-9C2B-DE049FC6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B1BB8-E050-4B4C-BE73-6ACFABBB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DB76EC-A273-4C73-929D-C3B4EEF2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AE20C-9EF2-455B-95F5-7BCD1CE6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DED2B-05B7-4A9A-8A9B-B522D832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2B2FB-E897-475D-9F72-A793A4255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208AC4-FEB2-4683-9165-D9D3FEA6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7E20BA-2D79-4614-A9E5-B2B3EFA9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3B95C4-52E8-49F6-B69B-D0FEF11C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D2C26D-C710-4A75-AE26-3916A24B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FD249-CC81-4BDE-B0FF-DF6677F5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F0B57-FF1B-4E9D-824E-8914AAC3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418C12-9F5E-4BD5-B458-0AFE71D3A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A7E66E-226B-4D7E-B432-45328353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B6B03A-E315-425B-B029-780F48B6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9EC0E9-0040-4ED6-8508-6232C211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0B9DC-CB4C-4A95-8CAC-8F3710D7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3F1EEB-EAFB-47E1-950C-897F4751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20999-63F0-4A98-8AC4-365A69469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DB7B9B-4CDE-4A9C-998A-37598EAC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2A9A1C-7D76-4515-B509-405920DB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7BDC88-D83B-40A8-93D3-F12814E1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48100B-DE2A-42C9-A757-2F48D8ED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0C6E75-658D-49D9-98AA-8F27270D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A100FA-EF3B-4D48-99E6-915AFF52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0123EA-5B13-4CA9-8250-03ECE035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B02A1-3D1B-4A1E-9ECB-4BDB752A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7EA46D-9728-4BB2-9A2A-CA5F52F6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89F1F-D000-4C93-9AE2-8965E882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C48F1B-E541-41D3-BE51-5BA858D46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8B860D-8487-40BC-A8DE-9310BC311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4C7136-CEBC-4882-B072-5AB68D2B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06D923-0424-4811-981B-7862C29B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73CF86-028A-459B-AD2B-F8C43204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9109E-448E-4B38-8C69-D58C11EA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F4447-9CE1-4222-B637-2D79C3B9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C00EC-AC27-413C-949E-87D15423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512545-A9BF-4C0E-887F-6680D98B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8811DC-BBBF-4DD0-A07B-C97E27C7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AC4-4E2D-4B11-8F64-EF10003F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16C3E2-E90E-489A-B3A0-A1A3A63F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EC62D4-B627-4A45-8AF5-3F385927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DDF3BF-8874-4579-918C-924D401A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BE11FD-1275-4F2B-AF98-87AB870CC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F069F3-A8FF-49C7-B92A-6C01E2A7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44502C-D8F2-42DA-A25A-8F0AA091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D7F9B7-1ED4-4D72-8033-2EA3ECB4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E5AA60-DEC9-4E7C-8E7F-9C8BFE99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C497F5-8716-4DB0-BC21-D4572C62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302683-A572-45EE-8296-13FC25E9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B85E-27B2-43DC-A20A-9C575EA6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C8F601-F857-40C5-BD97-AF00AB18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5A5081-B836-4AC2-9C2A-C879C98A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BA89CF-C648-4482-8EDB-0B09FC803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011947-CA33-4FCD-865F-9E82566C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EE4D97-5AF5-4370-BF6D-13676E78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248-9474-40EE-88E1-C25BDB0E4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9C56-6087-4AB4-B184-3605C0C96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FE9B-78D0-448B-B9D3-3A39B70F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63BB-B19C-439E-AF1D-715AA33E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2456-1499-43E2-BC3A-2F3305FB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2D97-87AF-4FF2-9973-F615D0C2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0EB-F1F0-4F5D-BEE2-C531ED7B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09AA-7600-4BA6-A92C-34EB7BEA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9438-A325-4870-9B7F-146AB430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304C-29AE-4A10-9CB4-C9CE89C8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D053A-5CA5-47B0-BEF8-62073F90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2DAA-DAEC-435E-9A35-85E2515A5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8564-0304-43E8-BE0F-B24898AB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29876-B9B0-4031-80B5-B56DCD86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E2888-F014-43AD-B725-F545F28D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E821-345A-47CF-B560-C8EAA054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A614-E8E0-414B-8208-8809F899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063E-224A-438E-B146-5ECF343A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FBEF-6F09-49D0-8D67-52C09AE9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B05E-2424-4A1A-B259-382DC917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7B3E-C73E-4180-850B-C5338B03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5F124-277B-48C4-83F8-B005DDDF4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CF8F9-53D2-4E6E-8C8F-5D2650F8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B8DE-CAF3-44C4-96A9-D9CB2A2E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EC956-D63F-4E9E-BC43-37B78126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A44C2-2D05-4A5B-AAE6-71CCA4D9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9C44A-253C-467D-95D8-9B4C72B94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1FCE0-304B-4788-B834-0242AB84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4BAFE-B735-43E1-8D57-AFB991D9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EFBDD-A722-4631-AF11-D56B9B79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687C-9BF9-4BE2-AD92-920B5E06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9B1FE-6CC6-47D3-A2C1-2934C1EA6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1DED-BDF1-431D-B21C-EBB6A1F5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2E856-FCBB-4325-BC85-454C5783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19A6E-ECC3-4669-A720-9A2A28BC3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77B00-5F76-4D7F-A49D-B928E422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B7F75-C057-454E-A4F9-860754A5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6609-5FE9-4DC7-AA03-FB25B578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1AD68-F3D8-479E-9563-ACD19922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D13A-7A55-4E78-977B-84953B118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FE8A-4397-49AC-B357-CB7019E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447B7-7D6F-4FB1-AFEF-61C16581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667EA-C7E0-49F5-9A1D-52701753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BDCD8-043A-4ADF-835F-C878638CC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6EA6A-9499-48A9-9521-9D5B8D500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5779B-5D6E-4BA4-A3A2-10C9E16A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A88D1-891D-4E5E-B903-549F8351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2EFAE-D10E-42A6-9D28-0D00E469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6828D-31C1-4828-A8F9-B31449D1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AD54A-1FFD-493E-A02B-6C445042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B4D32-644D-4A76-9E2A-246178EA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383F8-C7EC-4A9B-B7CD-55DAE688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27D1-1E4C-4C0E-958B-453DBC83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B691D-0A57-4413-A5CE-175AB5C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9F2A1-8E06-4834-9724-94DEBB46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16ED6-FBEC-4942-BC55-3F697477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5AC27-A575-4519-B85F-7CE9FC91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F356A-F7F2-4581-8391-4579F5BF1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FDEF0-A5C0-4043-AF83-E93B93A4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50631-568C-4757-A01A-8F81C30F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24F0E-035A-4CA4-A64B-73CF80C9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58D44-70BB-45EE-9A68-ADBF7AE1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2101D-A8E0-4107-880B-97527241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54886-C5BB-486F-992E-901FD2F1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0CBD1-393A-42DB-8614-63D8BA2E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DA153-7421-4F1E-BC27-879CE969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A9397-5122-4F5A-8DF5-F1F2D605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B5DF0-DBBC-4E0D-A0A2-8D800341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89B12-F24E-48B2-B1AB-56B98C8F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C3353-59B7-48A3-8DC8-B2CD96F88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B089A7-16C3-466C-8FE0-6F9E1551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AECB3-D195-4E82-8765-2F783C14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89B060-257C-41A7-8EB6-4E8B2B7B7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17.xml"/><Relationship Id="rId7" Type="http://schemas.openxmlformats.org/officeDocument/2006/relationships/slideLayout" Target="../slideLayouts/slideLayout218.xml"/><Relationship Id="rId8" Type="http://schemas.openxmlformats.org/officeDocument/2006/relationships/slideLayout" Target="../slideLayouts/slideLayout219.xml"/><Relationship Id="rId9" Type="http://schemas.openxmlformats.org/officeDocument/2006/relationships/slideLayout" Target="../slideLayouts/slideLayout220.xml"/><Relationship Id="rId10" Type="http://schemas.openxmlformats.org/officeDocument/2006/relationships/slideLayout" Target="../slideLayouts/slideLayout221.xml"/><Relationship Id="rId11" Type="http://schemas.openxmlformats.org/officeDocument/2006/relationships/slideLayout" Target="../slideLayouts/slideLayout222.xml"/><Relationship Id="rId12" Type="http://schemas.openxmlformats.org/officeDocument/2006/relationships/slideLayout" Target="../slideLayouts/slideLayout223.xml"/><Relationship Id="rId13" Type="http://schemas.openxmlformats.org/officeDocument/2006/relationships/slideLayout" Target="../slideLayouts/slideLayout224.xml"/><Relationship Id="rId14" Type="http://schemas.openxmlformats.org/officeDocument/2006/relationships/slideLayout" Target="../slideLayouts/slideLayout225.xml"/><Relationship Id="rId15" Type="http://schemas.openxmlformats.org/officeDocument/2006/relationships/slideLayout" Target="../slideLayouts/slideLayout226.xml"/><Relationship Id="rId16" Type="http://schemas.openxmlformats.org/officeDocument/2006/relationships/slideLayout" Target="../slideLayouts/slideLayout227.xml"/><Relationship Id="rId17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29.xml"/><Relationship Id="rId7" Type="http://schemas.openxmlformats.org/officeDocument/2006/relationships/slideLayout" Target="../slideLayouts/slideLayout230.xml"/><Relationship Id="rId8" Type="http://schemas.openxmlformats.org/officeDocument/2006/relationships/slideLayout" Target="../slideLayouts/slideLayout231.xml"/><Relationship Id="rId9" Type="http://schemas.openxmlformats.org/officeDocument/2006/relationships/slideLayout" Target="../slideLayouts/slideLayout232.xml"/><Relationship Id="rId10" Type="http://schemas.openxmlformats.org/officeDocument/2006/relationships/slideLayout" Target="../slideLayouts/slideLayout233.xml"/><Relationship Id="rId11" Type="http://schemas.openxmlformats.org/officeDocument/2006/relationships/slideLayout" Target="../slideLayouts/slideLayout234.xml"/><Relationship Id="rId12" Type="http://schemas.openxmlformats.org/officeDocument/2006/relationships/slideLayout" Target="../slideLayouts/slideLayout235.xml"/><Relationship Id="rId13" Type="http://schemas.openxmlformats.org/officeDocument/2006/relationships/slideLayout" Target="../slideLayouts/slideLayout236.xml"/><Relationship Id="rId14" Type="http://schemas.openxmlformats.org/officeDocument/2006/relationships/slideLayout" Target="../slideLayouts/slideLayout237.xml"/><Relationship Id="rId15" Type="http://schemas.openxmlformats.org/officeDocument/2006/relationships/slideLayout" Target="../slideLayouts/slideLayout238.xml"/><Relationship Id="rId16" Type="http://schemas.openxmlformats.org/officeDocument/2006/relationships/slideLayout" Target="../slideLayouts/slideLayout239.xml"/><Relationship Id="rId17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41.xml"/><Relationship Id="rId7" Type="http://schemas.openxmlformats.org/officeDocument/2006/relationships/slideLayout" Target="../slideLayouts/slideLayout242.xml"/><Relationship Id="rId8" Type="http://schemas.openxmlformats.org/officeDocument/2006/relationships/slideLayout" Target="../slideLayouts/slideLayout243.xml"/><Relationship Id="rId9" Type="http://schemas.openxmlformats.org/officeDocument/2006/relationships/slideLayout" Target="../slideLayouts/slideLayout244.xml"/><Relationship Id="rId10" Type="http://schemas.openxmlformats.org/officeDocument/2006/relationships/slideLayout" Target="../slideLayouts/slideLayout245.xml"/><Relationship Id="rId11" Type="http://schemas.openxmlformats.org/officeDocument/2006/relationships/slideLayout" Target="../slideLayouts/slideLayout246.xml"/><Relationship Id="rId12" Type="http://schemas.openxmlformats.org/officeDocument/2006/relationships/slideLayout" Target="../slideLayouts/slideLayout247.xml"/><Relationship Id="rId13" Type="http://schemas.openxmlformats.org/officeDocument/2006/relationships/slideLayout" Target="../slideLayouts/slideLayout248.xml"/><Relationship Id="rId14" Type="http://schemas.openxmlformats.org/officeDocument/2006/relationships/slideLayout" Target="../slideLayouts/slideLayout249.xml"/><Relationship Id="rId15" Type="http://schemas.openxmlformats.org/officeDocument/2006/relationships/slideLayout" Target="../slideLayouts/slideLayout250.xml"/><Relationship Id="rId16" Type="http://schemas.openxmlformats.org/officeDocument/2006/relationships/slideLayout" Target="../slideLayouts/slideLayout251.xml"/><Relationship Id="rId17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2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5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7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8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44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44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44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44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8899-0ABE-4819-A8A3-2910F82B98C6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255A-2CAE-4E37-A1C6-6F47A27E7DA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49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49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49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49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7266-9DA4-4D11-A7DC-B46486C7E0F3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2F78-6B7D-4636-82E5-BF655D50D19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0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541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542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1565-A50A-42C7-95E0-3521732305C5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392C-AE1E-465C-9164-8D7A19E8C2A0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5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586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58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589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32E0-D499-4D2C-BBD1-FA2F50E73672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4ADF-686B-4EC4-8089-7BEC2B217914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631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632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3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634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7EB3-DA30-425C-89D7-9055C91CDFB7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7A7D0-8299-48C6-939F-565D5B4CB6F2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5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676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67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8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679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CF91-1588-4DD0-AFF0-736A3CE24AF7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072F-6B9E-4A60-B37A-10B6AB9D7A25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0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722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3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724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725" name="PlaceHolder 1"/>
          <p:cNvSpPr>
            <a:spLocks noGrp="1"/>
          </p:cNvSpPr>
          <p:nvPr>
            <p:ph type="dt" idx="4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D31A-45E6-461E-B736-43C03D12795F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ftr" idx="4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 type="sldNum" idx="4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928E-36BA-40F9-8958-D9E624402689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76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dt" idx="4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598A5-3D71-4980-B593-0EE9968723C1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ftr" idx="4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Num" idx="4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2BAD-9AA1-448C-9307-9B890443F0E5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812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3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815" name="PlaceHolder 1"/>
          <p:cNvSpPr>
            <a:spLocks noGrp="1"/>
          </p:cNvSpPr>
          <p:nvPr>
            <p:ph type="dt" idx="4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E868-BC31-4001-8FB5-01BD6A22F589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ftr" idx="4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 type="sldNum" idx="4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488B-A3DC-475C-B5F4-5F3579EDF34A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859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0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862" name="PlaceHolder 1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B720C-2875-45AA-A618-7E09AC7009ED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1455D-861B-425E-AC1B-FA3B16647058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6"/>
    <p:sldLayoutId id="2147483884" r:id="rId7"/>
    <p:sldLayoutId id="2147483885" r:id="rId8"/>
    <p:sldLayoutId id="2147483886" r:id="rId9"/>
    <p:sldLayoutId id="2147483887" r:id="rId10"/>
    <p:sldLayoutId id="2147483888" r:id="rId11"/>
    <p:sldLayoutId id="2147483889" r:id="rId12"/>
    <p:sldLayoutId id="2147483890" r:id="rId13"/>
    <p:sldLayoutId id="2147483891" r:id="rId14"/>
    <p:sldLayoutId id="2147483892" r:id="rId15"/>
    <p:sldLayoutId id="2147483893" r:id="rId16"/>
    <p:sldLayoutId id="2147483894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2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903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904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5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906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907" name="PlaceHolder 1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870C-8762-492A-A3BD-B8D1C30A3538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D820-5F6A-482B-87B7-8ED0BAB455F6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6"/>
    <p:sldLayoutId id="2147483897" r:id="rId7"/>
    <p:sldLayoutId id="2147483898" r:id="rId8"/>
    <p:sldLayoutId id="2147483899" r:id="rId9"/>
    <p:sldLayoutId id="2147483900" r:id="rId10"/>
    <p:sldLayoutId id="2147483901" r:id="rId11"/>
    <p:sldLayoutId id="2147483902" r:id="rId12"/>
    <p:sldLayoutId id="2147483903" r:id="rId13"/>
    <p:sldLayoutId id="2147483904" r:id="rId14"/>
    <p:sldLayoutId id="2147483905" r:id="rId15"/>
    <p:sldLayoutId id="2147483906" r:id="rId16"/>
    <p:sldLayoutId id="2147483907" r:id="rId17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矩形 8"/>
          <p:cNvSpPr/>
          <p:nvPr/>
        </p:nvSpPr>
        <p:spPr>
          <a:xfrm>
            <a:off x="-11160" y="720720"/>
            <a:ext cx="916632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7" name="图片 12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949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0" name="图片 10" descr=""/>
          <p:cNvPicPr/>
          <p:nvPr/>
        </p:nvPicPr>
        <p:blipFill>
          <a:blip r:embed="rId4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4" descr=""/>
          <p:cNvPicPr/>
          <p:nvPr/>
        </p:nvPicPr>
        <p:blipFill>
          <a:blip r:embed="rId5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952" name="PlaceHolder 1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1838-311B-42BE-B457-C097CCF38C81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E842-07D1-47DE-A53F-94E0F4D6AAD5}" type="slidenum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6"/>
    <p:sldLayoutId id="2147483910" r:id="rId7"/>
    <p:sldLayoutId id="2147483911" r:id="rId8"/>
    <p:sldLayoutId id="2147483912" r:id="rId9"/>
    <p:sldLayoutId id="2147483913" r:id="rId10"/>
    <p:sldLayoutId id="2147483914" r:id="rId11"/>
    <p:sldLayoutId id="2147483915" r:id="rId12"/>
    <p:sldLayoutId id="2147483916" r:id="rId13"/>
    <p:sldLayoutId id="2147483917" r:id="rId14"/>
    <p:sldLayoutId id="2147483918" r:id="rId15"/>
    <p:sldLayoutId id="2147483919" r:id="rId16"/>
    <p:sldLayoutId id="2147483920" r:id="rId17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F36A-0274-455E-9E58-8C3C6FCB99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7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998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0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1001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9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03B02-6357-40B4-9A7E-BFBD48DA36B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9F68-3BA9-4EEA-AEA5-6410235221C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14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14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B51D-F1A5-4B6C-B65F-D611DCAFA7C2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9D9AF-C945-4C25-B73C-67F33FEFA0E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19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AF7F-960E-4745-B951-48D5E5DEB1B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6373-82DA-444E-8DB4-85FA8531DC0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24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24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24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A9852-D50E-423B-B4E2-7D99F8107CD1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2450-1E51-4154-B5CF-1D053DBAD21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29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29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29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BC8F-32CF-4446-9257-F7C898CF5C4D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9F36-1F5D-43E4-8445-72C52D7BBFC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34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34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34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34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34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855C-CF87-4DB1-8D4D-9DD85588B63A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70C1-CBA9-4756-A150-0DA1E68E584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8"/>
          <p:cNvSpPr/>
          <p:nvPr/>
        </p:nvSpPr>
        <p:spPr>
          <a:xfrm>
            <a:off x="-9360" y="720720"/>
            <a:ext cx="9158040" cy="11268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图片 9" descr=""/>
          <p:cNvPicPr/>
          <p:nvPr/>
        </p:nvPicPr>
        <p:blipFill>
          <a:blip r:embed="rId2"/>
          <a:stretch/>
        </p:blipFill>
        <p:spPr>
          <a:xfrm>
            <a:off x="8327880" y="71280"/>
            <a:ext cx="601920" cy="581040"/>
          </a:xfrm>
          <a:prstGeom prst="rect">
            <a:avLst/>
          </a:prstGeom>
          <a:ln w="0">
            <a:noFill/>
          </a:ln>
        </p:spPr>
      </p:pic>
      <p:sp>
        <p:nvSpPr>
          <p:cNvPr id="391" name="矩形 7"/>
          <p:cNvSpPr/>
          <p:nvPr/>
        </p:nvSpPr>
        <p:spPr>
          <a:xfrm>
            <a:off x="-11160" y="5067360"/>
            <a:ext cx="9166320" cy="11124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矩形 12"/>
          <p:cNvSpPr/>
          <p:nvPr/>
        </p:nvSpPr>
        <p:spPr>
          <a:xfrm>
            <a:off x="-11160" y="1757520"/>
            <a:ext cx="9159840" cy="3225600"/>
          </a:xfrm>
          <a:prstGeom prst="rect">
            <a:avLst/>
          </a:prstGeom>
          <a:solidFill>
            <a:srgbClr val="f35b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图片 13" descr="QQ图片20180502122035"/>
          <p:cNvPicPr/>
          <p:nvPr/>
        </p:nvPicPr>
        <p:blipFill>
          <a:blip r:embed="rId3"/>
          <a:stretch/>
        </p:blipFill>
        <p:spPr>
          <a:xfrm>
            <a:off x="311040" y="108000"/>
            <a:ext cx="757440" cy="506520"/>
          </a:xfrm>
          <a:prstGeom prst="rect">
            <a:avLst/>
          </a:prstGeom>
          <a:ln w="0">
            <a:noFill/>
          </a:ln>
        </p:spPr>
      </p:pic>
      <p:sp>
        <p:nvSpPr>
          <p:cNvPr id="394" name="文本框 3"/>
          <p:cNvSpPr/>
          <p:nvPr/>
        </p:nvSpPr>
        <p:spPr>
          <a:xfrm>
            <a:off x="48279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图片 4" descr=""/>
          <p:cNvPicPr/>
          <p:nvPr/>
        </p:nvPicPr>
        <p:blipFill>
          <a:blip r:embed="rId4"/>
          <a:stretch/>
        </p:blipFill>
        <p:spPr>
          <a:xfrm>
            <a:off x="70182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396" name="图片 5" descr=""/>
          <p:cNvPicPr/>
          <p:nvPr/>
        </p:nvPicPr>
        <p:blipFill>
          <a:blip r:embed="rId5"/>
          <a:stretch/>
        </p:blipFill>
        <p:spPr>
          <a:xfrm>
            <a:off x="7597800" y="-50760"/>
            <a:ext cx="623880" cy="804960"/>
          </a:xfrm>
          <a:prstGeom prst="rect">
            <a:avLst/>
          </a:prstGeom>
          <a:ln w="0">
            <a:noFill/>
          </a:ln>
        </p:spPr>
      </p:pic>
      <p:sp>
        <p:nvSpPr>
          <p:cNvPr id="397" name="文本框 6"/>
          <p:cNvSpPr/>
          <p:nvPr/>
        </p:nvSpPr>
        <p:spPr>
          <a:xfrm>
            <a:off x="4815360" y="260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35b6d"/>
                </a:solidFill>
                <a:latin typeface="华文新魏"/>
                <a:ea typeface="华文新魏"/>
              </a:rPr>
              <a:t>万向思维精品图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8" name="图片 10" descr=""/>
          <p:cNvPicPr/>
          <p:nvPr/>
        </p:nvPicPr>
        <p:blipFill>
          <a:blip r:embed="rId6"/>
          <a:stretch/>
        </p:blipFill>
        <p:spPr>
          <a:xfrm>
            <a:off x="7005600" y="-49320"/>
            <a:ext cx="625680" cy="798480"/>
          </a:xfrm>
          <a:prstGeom prst="rect">
            <a:avLst/>
          </a:prstGeom>
          <a:ln w="0">
            <a:noFill/>
          </a:ln>
        </p:spPr>
      </p:pic>
      <p:pic>
        <p:nvPicPr>
          <p:cNvPr id="399" name="图片 14" descr=""/>
          <p:cNvPicPr/>
          <p:nvPr/>
        </p:nvPicPr>
        <p:blipFill>
          <a:blip r:embed="rId7"/>
          <a:stretch/>
        </p:blipFill>
        <p:spPr>
          <a:xfrm>
            <a:off x="7586640" y="-47520"/>
            <a:ext cx="620640" cy="79848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3DD0-210B-4E5D-87C0-E200A681701E}" type="datetime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A57F-959F-4195-8CC3-E92AE6156A7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0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文本框 1"/>
          <p:cNvSpPr/>
          <p:nvPr/>
        </p:nvSpPr>
        <p:spPr>
          <a:xfrm>
            <a:off x="957240" y="2357280"/>
            <a:ext cx="72295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*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创造宣言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陶行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14"/>
          <p:cNvSpPr/>
          <p:nvPr/>
        </p:nvSpPr>
        <p:spPr>
          <a:xfrm>
            <a:off x="627120" y="1255320"/>
            <a:ext cx="808668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作者的观点是怎样的？从文中找出能表明作者观点的句子， 并说明在文中什么位置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Calibri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矩形 2"/>
          <p:cNvSpPr/>
          <p:nvPr/>
        </p:nvSpPr>
        <p:spPr>
          <a:xfrm>
            <a:off x="652320" y="3025800"/>
            <a:ext cx="7588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作者认为“创造是人类发展的强大推动力”，而且他认为“处处是创造之地，天天是创造之时，人人是创造之人”，即使我们走两步退一步，也应该向着创造之路迈进。它在文章的中间部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6" dur="2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14"/>
          <p:cNvSpPr/>
          <p:nvPr/>
        </p:nvSpPr>
        <p:spPr>
          <a:xfrm>
            <a:off x="750960" y="1521360"/>
            <a:ext cx="74484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本文属于驳论文，作者主要针对哪几种错误观点进行反驳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矩形 2"/>
          <p:cNvSpPr/>
          <p:nvPr/>
        </p:nvSpPr>
        <p:spPr>
          <a:xfrm>
            <a:off x="739800" y="2862360"/>
            <a:ext cx="7500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Calibri"/>
              </a:rPr>
              <a:t>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在文章中，作者围绕五种“不能创造”的借口，进行了针锋相对的批驳。这五种错误观点是：①环境太平凡；②生活太单调；③年纪太小；④太无能；⑤山穷水尽，走投无路，陷入绝境，等死而已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14"/>
          <p:cNvSpPr/>
          <p:nvPr/>
        </p:nvSpPr>
        <p:spPr>
          <a:xfrm>
            <a:off x="450720" y="832320"/>
            <a:ext cx="77598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作者是怎样对错误观点进行批驳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Rectangle 14"/>
          <p:cNvSpPr/>
          <p:nvPr/>
        </p:nvSpPr>
        <p:spPr>
          <a:xfrm>
            <a:off x="474840" y="3618720"/>
            <a:ext cx="8381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文章中有作者的正面观点吗？如果有，是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矩形 3"/>
          <p:cNvSpPr/>
          <p:nvPr/>
        </p:nvSpPr>
        <p:spPr>
          <a:xfrm>
            <a:off x="380880" y="1523880"/>
            <a:ext cx="85885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作者主要运用了典型事例与名言警句来进行反驳。也就是说，此文主要运用了举例论证和引用论证这两种论证方法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矩形 4"/>
          <p:cNvSpPr/>
          <p:nvPr/>
        </p:nvSpPr>
        <p:spPr>
          <a:xfrm>
            <a:off x="414360" y="4529160"/>
            <a:ext cx="82072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作者在批驳了五种错误观点后，直接提出“处处是创造之地，天天是创造之时，人人是创造之人”的观点，鼓励人们进行创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2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" dur="2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14"/>
          <p:cNvSpPr/>
          <p:nvPr/>
        </p:nvSpPr>
        <p:spPr>
          <a:xfrm>
            <a:off x="439560" y="1942200"/>
            <a:ext cx="7844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文章题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宣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那么作者的宣言是什么？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矩形 2"/>
          <p:cNvSpPr/>
          <p:nvPr/>
        </p:nvSpPr>
        <p:spPr>
          <a:xfrm>
            <a:off x="566640" y="3157560"/>
            <a:ext cx="7597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作者在文章结尾，充满激情地道出：“只要有一滴汗，一滴血，一滴热情，便是创造之神所爱住的行宫，就能开创造之花，结创造之果，繁殖创造之森林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6" dur="2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17"/>
          <p:cNvSpPr/>
          <p:nvPr/>
        </p:nvSpPr>
        <p:spPr>
          <a:xfrm>
            <a:off x="376200" y="1649520"/>
            <a:ext cx="84535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人的塑像和大理石的塑像有一点不同，刀法如果用得不对，可以万像同毁，刀法如果用得对，则一笔下去，画龙点睛。”这里所用的几个比喻分别比喻什么？这句话怎么理解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3" name="Group 4"/>
          <p:cNvGrpSpPr/>
          <p:nvPr/>
        </p:nvGrpSpPr>
        <p:grpSpPr>
          <a:xfrm>
            <a:off x="789120" y="905040"/>
            <a:ext cx="3244320" cy="761400"/>
            <a:chOff x="789120" y="905040"/>
            <a:chExt cx="3244320" cy="761400"/>
          </a:xfrm>
        </p:grpSpPr>
        <p:pic>
          <p:nvPicPr>
            <p:cNvPr id="1094" name="Picture 5" descr="未标题-1"/>
            <p:cNvPicPr/>
            <p:nvPr/>
          </p:nvPicPr>
          <p:blipFill>
            <a:blip r:embed="rId1"/>
            <a:stretch/>
          </p:blipFill>
          <p:spPr>
            <a:xfrm>
              <a:off x="789120" y="905040"/>
              <a:ext cx="3244320" cy="76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文本框 2"/>
            <p:cNvSpPr/>
            <p:nvPr/>
          </p:nvSpPr>
          <p:spPr>
            <a:xfrm>
              <a:off x="1694160" y="907560"/>
              <a:ext cx="205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品评文章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6" name="矩形 5"/>
          <p:cNvSpPr/>
          <p:nvPr/>
        </p:nvSpPr>
        <p:spPr>
          <a:xfrm>
            <a:off x="304920" y="4191120"/>
            <a:ext cx="8653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刀法”比喻教育方法。“万像”比喻众多教育对象。“画龙点睛”比喻使众多教育对象成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全句的意思是：教育方法不当，可能使众多受教育者被毁，教育方法得当，可以使众多受教育者成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17"/>
          <p:cNvSpPr/>
          <p:nvPr/>
        </p:nvSpPr>
        <p:spPr>
          <a:xfrm>
            <a:off x="439560" y="1057320"/>
            <a:ext cx="8121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部分涉及的人和事有哪些？文中批评了哪五种“不能创造”的错误观点？作者得出的结论是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八大山人朱耷挥毫画几笔便成为一幅名贵的杰作；法国企业家雷塞布竟能在沙漠中造成苏彝士运河；不识字的慧能据说本是目不识丁的樵夫，偶听人讲经，顿悟佛理，后来成为禅宗的南宗开创者；遭遇八十一难之玄奘，毕竟取得佛经…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矩形 2"/>
          <p:cNvSpPr/>
          <p:nvPr/>
        </p:nvSpPr>
        <p:spPr>
          <a:xfrm>
            <a:off x="654120" y="1587600"/>
            <a:ext cx="80769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作者用这些例子来驳斥五个错误观点：①环境平凡；②生活单调；③年纪太小；④太无能了；⑤陷入绝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结论：说明处处都需要创造，天天都有创造的机会，人人都可以创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17"/>
          <p:cNvSpPr/>
          <p:nvPr/>
        </p:nvSpPr>
        <p:spPr>
          <a:xfrm>
            <a:off x="663480" y="1368360"/>
            <a:ext cx="81043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山樵夫的故事是怎样的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快速看这个故事，然后让学生复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觉得东山樵夫可爱吗？这个故事说明了什么？这个人物还让你想到谁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东山樵夫将泰山的茅草连同树苗带回家里焚烧取火。以东山樵夫的故事为喻，说明丧失创造力的可悲下场。想起了相比之下富有创造精神的愚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2000"/>
                                        <p:tgtEl>
                                          <p:spTgt spid="10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17"/>
          <p:cNvSpPr/>
          <p:nvPr/>
        </p:nvSpPr>
        <p:spPr>
          <a:xfrm>
            <a:off x="474840" y="1111320"/>
            <a:ext cx="80150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从文中我们可以看到作者的感情是怎样的？哪些句子明显表明了作者的感情？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作者渴望创造，热切呼唤：“创造之神！你回来呀！只要你肯回来，我们愿意把一切——我们的汗，我们的血，我们的心，我们的生命——都献给你。只要有一滴汗，一滴血，一滴热情，便是创造之神所爱住的行宫，就能开创造之花，结创造之果，繁殖创造之森林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2"/>
          <p:cNvSpPr/>
          <p:nvPr/>
        </p:nvSpPr>
        <p:spPr>
          <a:xfrm>
            <a:off x="2575080" y="1965240"/>
            <a:ext cx="3962160" cy="37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太平凡　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太单调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纪太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太无能　　　　　　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山穷水尽，陷入绝境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隶书"/>
              </a:rPr>
              <a:t>　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隶书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Box 3"/>
          <p:cNvSpPr/>
          <p:nvPr/>
        </p:nvSpPr>
        <p:spPr>
          <a:xfrm>
            <a:off x="5292720" y="25653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客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 Box 4"/>
          <p:cNvSpPr/>
          <p:nvPr/>
        </p:nvSpPr>
        <p:spPr>
          <a:xfrm>
            <a:off x="5364000" y="4005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主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Text Box 5"/>
          <p:cNvSpPr/>
          <p:nvPr/>
        </p:nvSpPr>
        <p:spPr>
          <a:xfrm>
            <a:off x="6281640" y="2044800"/>
            <a:ext cx="10335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缺　乏　自　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AutoShape 6"/>
          <p:cNvSpPr/>
          <p:nvPr/>
        </p:nvSpPr>
        <p:spPr>
          <a:xfrm>
            <a:off x="5148360" y="2133720"/>
            <a:ext cx="142920" cy="1199880"/>
          </a:xfrm>
          <a:custGeom>
            <a:avLst/>
            <a:gdLst>
              <a:gd name="textAreaLeft" fmla="*/ 0 w 142920"/>
              <a:gd name="textAreaRight" fmla="*/ 51480 w 142920"/>
              <a:gd name="textAreaTop" fmla="*/ 30960 h 1199880"/>
              <a:gd name="textAreaBottom" fmla="*/ 1168920 h 119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AutoShape 7"/>
          <p:cNvSpPr/>
          <p:nvPr/>
        </p:nvSpPr>
        <p:spPr>
          <a:xfrm>
            <a:off x="5148360" y="3645000"/>
            <a:ext cx="127080" cy="1271520"/>
          </a:xfrm>
          <a:custGeom>
            <a:avLst/>
            <a:gdLst>
              <a:gd name="textAreaLeft" fmla="*/ 0 w 127080"/>
              <a:gd name="textAreaRight" fmla="*/ 45720 w 127080"/>
              <a:gd name="textAreaTop" fmla="*/ 32760 h 1271520"/>
              <a:gd name="textAreaBottom" fmla="*/ 1238760 h 1271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AutoShape 8"/>
          <p:cNvSpPr/>
          <p:nvPr/>
        </p:nvSpPr>
        <p:spPr>
          <a:xfrm>
            <a:off x="5580000" y="3500280"/>
            <a:ext cx="990720" cy="236520"/>
          </a:xfrm>
          <a:prstGeom prst="rightArrow">
            <a:avLst>
              <a:gd name="adj1" fmla="val 50000"/>
              <a:gd name="adj2" fmla="val 104641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Text Box 11"/>
          <p:cNvSpPr/>
          <p:nvPr/>
        </p:nvSpPr>
        <p:spPr>
          <a:xfrm>
            <a:off x="2195640" y="981000"/>
            <a:ext cx="28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Calibri"/>
                <a:ea typeface="隶书"/>
              </a:rPr>
              <a:t>认识自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d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4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2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文本框 4105"/>
          <p:cNvSpPr/>
          <p:nvPr/>
        </p:nvSpPr>
        <p:spPr>
          <a:xfrm>
            <a:off x="484200" y="2171880"/>
            <a:ext cx="809784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同学们说说“什么是创造”，再结合自己的亲身体会或别人的经历具体说说你对“创造”的理解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旨在引发学生思考，激发他们“创造”的积极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那么生活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的我们的教育家，又是怎样理解“创造”的呢？今天我们来学习陶行知的《创造宣言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1" name="Group 9"/>
          <p:cNvGrpSpPr/>
          <p:nvPr/>
        </p:nvGrpSpPr>
        <p:grpSpPr>
          <a:xfrm>
            <a:off x="735120" y="1123920"/>
            <a:ext cx="3207960" cy="731520"/>
            <a:chOff x="735120" y="1123920"/>
            <a:chExt cx="3207960" cy="731520"/>
          </a:xfrm>
        </p:grpSpPr>
        <p:pic>
          <p:nvPicPr>
            <p:cNvPr id="1042" name="Picture 10" descr="未标题-1"/>
            <p:cNvPicPr/>
            <p:nvPr/>
          </p:nvPicPr>
          <p:blipFill>
            <a:blip r:embed="rId1"/>
            <a:stretch/>
          </p:blipFill>
          <p:spPr>
            <a:xfrm>
              <a:off x="735120" y="1123920"/>
              <a:ext cx="3207960" cy="73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文本框 2"/>
            <p:cNvSpPr/>
            <p:nvPr/>
          </p:nvSpPr>
          <p:spPr>
            <a:xfrm>
              <a:off x="1450800" y="1164960"/>
              <a:ext cx="2370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新课导入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文本框 13"/>
          <p:cNvSpPr/>
          <p:nvPr/>
        </p:nvSpPr>
        <p:spPr>
          <a:xfrm>
            <a:off x="10761840" y="2611440"/>
            <a:ext cx="309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Rectangle 11"/>
          <p:cNvSpPr/>
          <p:nvPr/>
        </p:nvSpPr>
        <p:spPr>
          <a:xfrm>
            <a:off x="374760" y="3452760"/>
            <a:ext cx="8477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陶行知用生动的事例证明了创造是人类发展的强大推动力。懒惰者、平庸者却不屑于创造，还为自己找出种种借口。先生用教育家的口吻告诫我们：“处处是创造之地，天天是创造之时，人人是创造之人，让我们至少走两步退一步，向着创造之路迈进吧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1" name="Group 2"/>
          <p:cNvGrpSpPr/>
          <p:nvPr/>
        </p:nvGrpSpPr>
        <p:grpSpPr>
          <a:xfrm>
            <a:off x="338040" y="1108080"/>
            <a:ext cx="2954160" cy="700200"/>
            <a:chOff x="338040" y="1108080"/>
            <a:chExt cx="2954160" cy="700200"/>
          </a:xfrm>
        </p:grpSpPr>
        <p:pic>
          <p:nvPicPr>
            <p:cNvPr id="1112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338040" y="1108080"/>
              <a:ext cx="295416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文本框 2"/>
            <p:cNvSpPr/>
            <p:nvPr/>
          </p:nvSpPr>
          <p:spPr>
            <a:xfrm>
              <a:off x="968760" y="1143000"/>
              <a:ext cx="172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小  结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文本框 13"/>
          <p:cNvSpPr/>
          <p:nvPr/>
        </p:nvSpPr>
        <p:spPr>
          <a:xfrm>
            <a:off x="10761840" y="2611440"/>
            <a:ext cx="3092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Rectangle 11"/>
          <p:cNvSpPr/>
          <p:nvPr/>
        </p:nvSpPr>
        <p:spPr>
          <a:xfrm>
            <a:off x="219240" y="1531080"/>
            <a:ext cx="87595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宋体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宣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驳—　　　　　　　    举例　　　　　 　　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环境太平凡　　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石头——不朽的塑像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)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　　　时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生活太单调　 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监牢里——《正气歌》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)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　 处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年纪太小　   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莫扎尔特——音乐家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　     人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太无能了　    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慧能——传黄梅教义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　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走投无路　    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玄奘——取得佛经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　      创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11"/>
          <p:cNvSpPr/>
          <p:nvPr/>
        </p:nvSpPr>
        <p:spPr>
          <a:xfrm>
            <a:off x="658800" y="2633400"/>
            <a:ext cx="767088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“感悟自信”为题，反省自己不能创造的借口，写一段不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字的文字。可以运用上课使用过的事例，也可以另外找类似的题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7" name="Group 2"/>
          <p:cNvGrpSpPr/>
          <p:nvPr/>
        </p:nvGrpSpPr>
        <p:grpSpPr>
          <a:xfrm>
            <a:off x="493560" y="1117440"/>
            <a:ext cx="3108240" cy="700200"/>
            <a:chOff x="493560" y="1117440"/>
            <a:chExt cx="3108240" cy="700200"/>
          </a:xfrm>
        </p:grpSpPr>
        <p:pic>
          <p:nvPicPr>
            <p:cNvPr id="1118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493560" y="1117440"/>
              <a:ext cx="3108240" cy="7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文本框 2"/>
            <p:cNvSpPr/>
            <p:nvPr/>
          </p:nvSpPr>
          <p:spPr>
            <a:xfrm>
              <a:off x="1123200" y="1152360"/>
              <a:ext cx="24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课后作业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>
    <p:wipe dir="d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6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文本框 4"/>
          <p:cNvSpPr/>
          <p:nvPr/>
        </p:nvSpPr>
        <p:spPr>
          <a:xfrm>
            <a:off x="1050840" y="2465280"/>
            <a:ext cx="6999480" cy="21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1480" rIns="51480" tIns="25560" bIns="25560" anchor="t">
            <a:spAutoFit/>
          </a:bodyPr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树立创造意识，培养敢于创造的精神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领会自信心与创造力的因果关系及自信心对个人发展的重要作用，培养学生的自信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5" name="Group 19"/>
          <p:cNvGrpSpPr/>
          <p:nvPr/>
        </p:nvGrpSpPr>
        <p:grpSpPr>
          <a:xfrm>
            <a:off x="441360" y="1128600"/>
            <a:ext cx="3358800" cy="793440"/>
            <a:chOff x="441360" y="1128600"/>
            <a:chExt cx="3358800" cy="793440"/>
          </a:xfrm>
        </p:grpSpPr>
        <p:pic>
          <p:nvPicPr>
            <p:cNvPr id="1046" name="Picture 18" descr="未标题-1"/>
            <p:cNvPicPr/>
            <p:nvPr/>
          </p:nvPicPr>
          <p:blipFill>
            <a:blip r:embed="rId1"/>
            <a:stretch/>
          </p:blipFill>
          <p:spPr>
            <a:xfrm>
              <a:off x="441360" y="1128600"/>
              <a:ext cx="3358800" cy="79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7" name="文本框 2"/>
            <p:cNvSpPr/>
            <p:nvPr/>
          </p:nvSpPr>
          <p:spPr>
            <a:xfrm>
              <a:off x="1236600" y="1202400"/>
              <a:ext cx="22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学习目标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8" name="AutoShape 14"/>
          <p:cNvSpPr/>
          <p:nvPr/>
        </p:nvSpPr>
        <p:spPr>
          <a:xfrm>
            <a:off x="4457880" y="3949560"/>
            <a:ext cx="22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 Box 3"/>
          <p:cNvSpPr/>
          <p:nvPr/>
        </p:nvSpPr>
        <p:spPr>
          <a:xfrm>
            <a:off x="4419720" y="6094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0" name="Text Box 4" descr=""/>
          <p:cNvPicPr/>
          <p:nvPr/>
        </p:nvPicPr>
        <p:blipFill>
          <a:blip r:embed="rId1"/>
          <a:stretch/>
        </p:blipFill>
        <p:spPr>
          <a:xfrm>
            <a:off x="4016520" y="1060560"/>
            <a:ext cx="5095800" cy="526248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3" descr=""/>
          <p:cNvPicPr/>
          <p:nvPr/>
        </p:nvPicPr>
        <p:blipFill>
          <a:blip r:embed="rId2"/>
          <a:stretch/>
        </p:blipFill>
        <p:spPr>
          <a:xfrm>
            <a:off x="219240" y="1971720"/>
            <a:ext cx="3619440" cy="2701800"/>
          </a:xfrm>
          <a:prstGeom prst="rect">
            <a:avLst/>
          </a:prstGeom>
          <a:ln w="0">
            <a:noFill/>
          </a:ln>
        </p:spPr>
      </p:pic>
      <p:grpSp>
        <p:nvGrpSpPr>
          <p:cNvPr id="1052" name="Group 6"/>
          <p:cNvGrpSpPr/>
          <p:nvPr/>
        </p:nvGrpSpPr>
        <p:grpSpPr>
          <a:xfrm>
            <a:off x="635040" y="958680"/>
            <a:ext cx="3469680" cy="852120"/>
            <a:chOff x="635040" y="958680"/>
            <a:chExt cx="3469680" cy="852120"/>
          </a:xfrm>
        </p:grpSpPr>
        <p:pic>
          <p:nvPicPr>
            <p:cNvPr id="1053" name="Picture 7" descr="未标题-1"/>
            <p:cNvPicPr/>
            <p:nvPr/>
          </p:nvPicPr>
          <p:blipFill>
            <a:blip r:embed="rId3"/>
            <a:stretch/>
          </p:blipFill>
          <p:spPr>
            <a:xfrm>
              <a:off x="635040" y="958680"/>
              <a:ext cx="3001680" cy="8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4" name="文本框 2"/>
            <p:cNvSpPr/>
            <p:nvPr/>
          </p:nvSpPr>
          <p:spPr>
            <a:xfrm>
              <a:off x="860760" y="1050840"/>
              <a:ext cx="324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走近作者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55" name="Text Box 8"/>
          <p:cNvSpPr/>
          <p:nvPr/>
        </p:nvSpPr>
        <p:spPr>
          <a:xfrm>
            <a:off x="1176480" y="4673520"/>
            <a:ext cx="179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陶行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2"/>
          <p:cNvSpPr/>
          <p:nvPr/>
        </p:nvSpPr>
        <p:spPr>
          <a:xfrm>
            <a:off x="642960" y="1824120"/>
            <a:ext cx="7738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7" name="Group 6"/>
          <p:cNvGrpSpPr/>
          <p:nvPr/>
        </p:nvGrpSpPr>
        <p:grpSpPr>
          <a:xfrm>
            <a:off x="985680" y="1052640"/>
            <a:ext cx="4039920" cy="833400"/>
            <a:chOff x="985680" y="1052640"/>
            <a:chExt cx="4039920" cy="833400"/>
          </a:xfrm>
        </p:grpSpPr>
        <p:pic>
          <p:nvPicPr>
            <p:cNvPr id="1058" name="Picture 7" descr="未标题-1"/>
            <p:cNvPicPr/>
            <p:nvPr/>
          </p:nvPicPr>
          <p:blipFill>
            <a:blip r:embed="rId1"/>
            <a:stretch/>
          </p:blipFill>
          <p:spPr>
            <a:xfrm>
              <a:off x="985680" y="1052640"/>
              <a:ext cx="3644640" cy="83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9" name="文本框 2" descr=""/>
            <p:cNvPicPr/>
            <p:nvPr/>
          </p:nvPicPr>
          <p:blipFill>
            <a:blip r:embed="rId2"/>
            <a:stretch/>
          </p:blipFill>
          <p:spPr>
            <a:xfrm>
              <a:off x="1452600" y="1110600"/>
              <a:ext cx="3573000" cy="64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0" name="Text Box 8"/>
          <p:cNvSpPr/>
          <p:nvPr/>
        </p:nvSpPr>
        <p:spPr>
          <a:xfrm>
            <a:off x="423720" y="2905200"/>
            <a:ext cx="8097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d7d31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ed7d31"/>
                </a:solidFill>
                <a:latin typeface="宋体"/>
              </a:rPr>
              <a:t>宣言”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是一种演讲辞，既是演讲，那它一定具备演讲稿的特点——文辞优美、感情充沛、说理生动、鼓动性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矩形 39"/>
          <p:cNvSpPr/>
          <p:nvPr/>
        </p:nvSpPr>
        <p:spPr>
          <a:xfrm>
            <a:off x="826920" y="2819520"/>
            <a:ext cx="7048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懒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 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词　　　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夫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养      </a:t>
            </a: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灌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2" name="Group 11"/>
          <p:cNvGrpSpPr/>
          <p:nvPr/>
        </p:nvGrpSpPr>
        <p:grpSpPr>
          <a:xfrm>
            <a:off x="436680" y="1219320"/>
            <a:ext cx="2934720" cy="771120"/>
            <a:chOff x="436680" y="1219320"/>
            <a:chExt cx="2934720" cy="771120"/>
          </a:xfrm>
        </p:grpSpPr>
        <p:pic>
          <p:nvPicPr>
            <p:cNvPr id="1063" name="Picture 12" descr="未标题-1"/>
            <p:cNvPicPr/>
            <p:nvPr/>
          </p:nvPicPr>
          <p:blipFill>
            <a:blip r:embed="rId1"/>
            <a:stretch/>
          </p:blipFill>
          <p:spPr>
            <a:xfrm>
              <a:off x="436680" y="1224360"/>
              <a:ext cx="2934720" cy="76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文本框 2"/>
            <p:cNvSpPr/>
            <p:nvPr/>
          </p:nvSpPr>
          <p:spPr>
            <a:xfrm>
              <a:off x="1075320" y="1219320"/>
              <a:ext cx="216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字词积累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5" name="矩形 5"/>
          <p:cNvSpPr/>
          <p:nvPr/>
        </p:nvSpPr>
        <p:spPr>
          <a:xfrm>
            <a:off x="750960" y="25797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lǎn du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矩形 6"/>
          <p:cNvSpPr/>
          <p:nvPr/>
        </p:nvSpPr>
        <p:spPr>
          <a:xfrm>
            <a:off x="2689200" y="2612880"/>
            <a:ext cx="10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dù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矩形 7"/>
          <p:cNvSpPr/>
          <p:nvPr/>
        </p:nvSpPr>
        <p:spPr>
          <a:xfrm>
            <a:off x="4648320" y="2525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nu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矩形 8"/>
          <p:cNvSpPr/>
          <p:nvPr/>
        </p:nvSpPr>
        <p:spPr>
          <a:xfrm>
            <a:off x="860400" y="3722760"/>
            <a:ext cx="1936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huà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矩形 9"/>
          <p:cNvSpPr/>
          <p:nvPr/>
        </p:nvSpPr>
        <p:spPr>
          <a:xfrm flipV="1" rot="10800000">
            <a:off x="2547720" y="3656880"/>
            <a:ext cx="181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guàn gà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矩形 1"/>
          <p:cNvSpPr/>
          <p:nvPr/>
        </p:nvSpPr>
        <p:spPr>
          <a:xfrm>
            <a:off x="546120" y="2124000"/>
            <a:ext cx="8184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60b14"/>
                </a:solidFill>
                <a:latin typeface="宋体"/>
              </a:rPr>
              <a:t>【画龙点睛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原形容梁代画家张僧繇作画的神妙。后多比喻写文章或讲话时，在关键处用几句话点明实质，使内容生动有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60b14"/>
                </a:solidFill>
                <a:latin typeface="宋体"/>
              </a:rPr>
              <a:t>【自暴自弃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暴，糟蹋、损害；弃，鄙弃。意为自己瞧不起自己，甘于落后或堕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1" name="Group 11"/>
          <p:cNvGrpSpPr/>
          <p:nvPr/>
        </p:nvGrpSpPr>
        <p:grpSpPr>
          <a:xfrm>
            <a:off x="436680" y="1219320"/>
            <a:ext cx="2934720" cy="771120"/>
            <a:chOff x="436680" y="1219320"/>
            <a:chExt cx="2934720" cy="771120"/>
          </a:xfrm>
        </p:grpSpPr>
        <p:pic>
          <p:nvPicPr>
            <p:cNvPr id="1072" name="Picture 12" descr="未标题-1"/>
            <p:cNvPicPr/>
            <p:nvPr/>
          </p:nvPicPr>
          <p:blipFill>
            <a:blip r:embed="rId1"/>
            <a:stretch/>
          </p:blipFill>
          <p:spPr>
            <a:xfrm>
              <a:off x="436680" y="1224360"/>
              <a:ext cx="2934720" cy="76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文本框 2"/>
            <p:cNvSpPr/>
            <p:nvPr/>
          </p:nvSpPr>
          <p:spPr>
            <a:xfrm>
              <a:off x="1075320" y="1219320"/>
              <a:ext cx="216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字词积累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2000"/>
                                        <p:tgtEl>
                                          <p:spTgt spid="10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2000"/>
                                        <p:tgtEl>
                                          <p:spTgt spid="10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矩形 5"/>
          <p:cNvSpPr/>
          <p:nvPr/>
        </p:nvSpPr>
        <p:spPr>
          <a:xfrm>
            <a:off x="636480" y="1685880"/>
            <a:ext cx="774540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60b14"/>
                </a:solidFill>
                <a:latin typeface="宋体"/>
              </a:rPr>
              <a:t>【山穷水尽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60b14"/>
                </a:solidFill>
                <a:latin typeface="宋体"/>
              </a:rPr>
              <a:t>【走投无路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矩形 2"/>
          <p:cNvSpPr/>
          <p:nvPr/>
        </p:nvSpPr>
        <p:spPr>
          <a:xfrm>
            <a:off x="582480" y="2475000"/>
            <a:ext cx="7620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意为山和水都到了尽头，借以比喻无路可走陷入绝境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矩形 3"/>
          <p:cNvSpPr/>
          <p:nvPr/>
        </p:nvSpPr>
        <p:spPr>
          <a:xfrm>
            <a:off x="744480" y="4465800"/>
            <a:ext cx="6139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路可走。比喻陷入绝境，没有出路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5b9b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14"/>
          <p:cNvSpPr/>
          <p:nvPr/>
        </p:nvSpPr>
        <p:spPr>
          <a:xfrm>
            <a:off x="565200" y="2576160"/>
            <a:ext cx="839952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看完整篇文章后的感觉是什么？文章中的材料涉及哪些方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8" name="Group 2"/>
          <p:cNvGrpSpPr/>
          <p:nvPr/>
        </p:nvGrpSpPr>
        <p:grpSpPr>
          <a:xfrm>
            <a:off x="581040" y="998640"/>
            <a:ext cx="3192120" cy="794880"/>
            <a:chOff x="581040" y="998640"/>
            <a:chExt cx="3192120" cy="794880"/>
          </a:xfrm>
        </p:grpSpPr>
        <p:pic>
          <p:nvPicPr>
            <p:cNvPr id="1079" name="Picture 3" descr="未标题-1"/>
            <p:cNvPicPr/>
            <p:nvPr/>
          </p:nvPicPr>
          <p:blipFill>
            <a:blip r:embed="rId1"/>
            <a:stretch/>
          </p:blipFill>
          <p:spPr>
            <a:xfrm>
              <a:off x="581040" y="998640"/>
              <a:ext cx="3192120" cy="79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0" name="文本框 2"/>
            <p:cNvSpPr/>
            <p:nvPr/>
          </p:nvSpPr>
          <p:spPr>
            <a:xfrm>
              <a:off x="1376280" y="1048680"/>
              <a:ext cx="235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cc"/>
                  </a:solidFill>
                  <a:latin typeface="黑体"/>
                  <a:ea typeface="黑体"/>
                </a:rPr>
                <a:t>整体感知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1" name="矩形 5"/>
          <p:cNvSpPr/>
          <p:nvPr/>
        </p:nvSpPr>
        <p:spPr>
          <a:xfrm>
            <a:off x="804960" y="3798720"/>
            <a:ext cx="7576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大量的人、事和很多经典的句子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文中的材料取自古今中外，涉及图画、雕塑、文学、音乐、数学、物理、地理等领域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7" dur="2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26T08:23:00Z</dcterms:created>
  <dc:creator/>
  <dc:description/>
  <cp:keywords/>
  <dc:language>en-US</dc:language>
  <cp:lastModifiedBy>微软用户</cp:lastModifiedBy>
  <dcterms:modified xsi:type="dcterms:W3CDTF">2018-09-05T09:49:12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520</vt:lpwstr>
  </property>
</Properties>
</file>