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2.gif" ContentType="image/gif"/>
  <Override PartName="/ppt/media/image3.jpeg" ContentType="image/jpeg"/>
  <Override PartName="/ppt/media/image18.gif" ContentType="image/gif"/>
  <Override PartName="/ppt/media/image17.gif" ContentType="image/gif"/>
  <Override PartName="/ppt/media/image2.jpeg" ContentType="image/jpeg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E8F-9F18-45DE-BE96-0389EEDE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526-ED53-46C1-9BAE-F7B0BE1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5745-E771-4E87-9653-6E08BA7B5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5DE5-C8D4-4B46-95CD-A469190D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1A21-621C-4B4C-ADCE-EBDD4B0E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9A4-DA65-46E2-866F-0ACA3443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A93B-0A89-4D27-9302-E1B92A76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2B13-2131-4047-B76D-5A462033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42FB-3FF2-4CE6-9A06-16971098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C466-DDEE-4E7F-B7EE-D3744D59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EEA2-C3A0-45E6-A63D-2F92DCF7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B63-DE5F-4E9C-B2F4-6DC413384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C3F2-1289-4A64-B12E-5F3B75509AA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新课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6240" y="733320"/>
            <a:ext cx="9085320" cy="61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同学们说说“什么是创造”，再结合自己的亲身体会或别人的经历具体说说你对“创造”的理解。那么生活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世纪的我们的教育家，又是怎样理解“创造”的呢？今天我们来学习陶行知的《创造宣言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49157" descr="5-2-4"/>
          <p:cNvPicPr/>
          <p:nvPr/>
        </p:nvPicPr>
        <p:blipFill>
          <a:blip r:embed="rId1"/>
          <a:stretch/>
        </p:blipFill>
        <p:spPr>
          <a:xfrm>
            <a:off x="-115920" y="-54000"/>
            <a:ext cx="1219320" cy="1295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66561" descr="八大山人纪念馆"/>
          <p:cNvPicPr/>
          <p:nvPr/>
        </p:nvPicPr>
        <p:blipFill>
          <a:blip r:embed="rId2"/>
          <a:stretch/>
        </p:blipFill>
        <p:spPr>
          <a:xfrm>
            <a:off x="-41400" y="4686480"/>
            <a:ext cx="9193320" cy="2184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0480" y="720720"/>
            <a:ext cx="9083520" cy="61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看完整篇文章后的感觉是什么？文章中的材料涉及哪些方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】大量的人、事和很多经典的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文中的材料取自古今中外，涉及图画、雕塑、文学、音乐、数学、物理、地理等领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95234" descr="angel081"/>
          <p:cNvPicPr/>
          <p:nvPr/>
        </p:nvPicPr>
        <p:blipFill>
          <a:blip r:embed="rId1"/>
          <a:stretch/>
        </p:blipFill>
        <p:spPr>
          <a:xfrm>
            <a:off x="3295800" y="5289480"/>
            <a:ext cx="5994360" cy="1470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的观点是怎样的？从文中找出能表明作者观点的句子， 并说明在文中什么位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认为“创造是人类发展的强大推动力”，而且他认为“处处是创造之地，天天是创造之时，人人是创造之人”，即使我们走两步退一步，也应该向着创造之路迈进。它在文章的中间部分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3265" descr="4"/>
          <p:cNvPicPr/>
          <p:nvPr/>
        </p:nvPicPr>
        <p:blipFill>
          <a:blip r:embed="rId1"/>
          <a:stretch/>
        </p:blipFill>
        <p:spPr>
          <a:xfrm>
            <a:off x="0" y="633888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本文属于驳论文，作者主要针对哪几种错误观点进行反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在文章中，作者围绕五种“不能创造”的借口，进行了针锋相对的批驳。这五种错误观点是：①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环境太平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；②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生活太单调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；③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年纪太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；④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太无能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；⑤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山穷水尽，走投无路，陷入绝境，等死而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。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  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61446" descr="w006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689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120" y="-25920"/>
            <a:ext cx="9156600" cy="692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作者是怎样对错误观点进行批驳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作者主要运用了典型事例与名言警句来进行反驳。也就是说，此文主要运用了举例论证和引用论证这两种论证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、文章中有作者的正面观点吗？如果有，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作者在批驳了五种错误观点后，直接提出“处处是创造之地，天天是创造之时，人人是创造之人”的观点，鼓励人们进行创造。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文章题为《创造宣言》，那么作者的宣言是什么？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作者在文章结尾，充满激情地道出：“只要有一滴汗，一滴血，一滴热情，便是创造之神所爱住的行宫，就能开创造之花，结创造之果，繁殖创造之森林。”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22548" descr="t01791e969b9c2aa868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3788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自主学习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99"/>
          <p:cNvSpPr/>
          <p:nvPr/>
        </p:nvSpPr>
        <p:spPr>
          <a:xfrm>
            <a:off x="-108000" y="555480"/>
            <a:ext cx="925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“活人的塑像和大理石的塑像有一点不同，刀法如果用得不对，可以万像同毁，刀法如果用得对，则一笔下去，画龙点睛。”这里所用的几个比喻分别比喻什么？这句话怎么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】“刀法”比喻教育方法。“万像”比喻众多教育对象。“画龙点睛”比喻使众多教育对象成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】全句的意思是：教育方法不当，可能使众多受教育者被毁，教育方法得当，可以使众多受教育者成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99"/>
          <p:cNvSpPr/>
          <p:nvPr/>
        </p:nvSpPr>
        <p:spPr>
          <a:xfrm>
            <a:off x="-7920" y="-28440"/>
            <a:ext cx="9221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、第二部分涉及的人和事有哪些？文中批评了哪五种“不能创造”的错误观点？作者得出的结论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】八大山人朱耷挥毫画几笔便成为一幅名贵的杰作；法国企业家雷塞布竟能在沙漠中造成苏彝士运河；不识字的慧能据说本是目不识丁的樵夫，偶听人讲经，顿悟佛理，后来成为禅宗的南宗开创者；遭遇八十一难之玄奘，毕竟取得佛经……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53265" descr="4"/>
          <p:cNvPicPr/>
          <p:nvPr/>
        </p:nvPicPr>
        <p:blipFill>
          <a:blip r:embed="rId1"/>
          <a:stretch/>
        </p:blipFill>
        <p:spPr>
          <a:xfrm>
            <a:off x="0" y="633888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1"/>
          <p:cNvSpPr/>
          <p:nvPr/>
        </p:nvSpPr>
        <p:spPr>
          <a:xfrm>
            <a:off x="1440" y="-14400"/>
            <a:ext cx="91155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作者用这些例子来驳斥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五个错误观点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①环境平凡；②生活单调；③年纪太小；④太无能了；⑤陷入绝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结论：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说明处处都需要创造，天天都有创造的机会，人人都可以创造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61449" descr="风景"/>
          <p:cNvPicPr/>
          <p:nvPr/>
        </p:nvPicPr>
        <p:blipFill>
          <a:blip r:embed="rId1"/>
          <a:stretch/>
        </p:blipFill>
        <p:spPr>
          <a:xfrm>
            <a:off x="-9360" y="3890880"/>
            <a:ext cx="9127800" cy="30099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99"/>
          <p:cNvSpPr/>
          <p:nvPr/>
        </p:nvSpPr>
        <p:spPr>
          <a:xfrm>
            <a:off x="-33480" y="-19080"/>
            <a:ext cx="915048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东山樵夫的故事是怎样的？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快速看这个故事，然后让学生复述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你觉得东山樵夫可爱吗？这个故事说明了什么？这个人物还让你想到谁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东山樵夫将泰山的茅草连同树苗带回家里焚烧取火。以东山樵夫的故事为喻，说明丧失创造力的可悲下场。想起了相比之下富有创造精神的愚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61441" descr="z2"/>
          <p:cNvPicPr/>
          <p:nvPr/>
        </p:nvPicPr>
        <p:blipFill>
          <a:blip r:embed="rId1"/>
          <a:stretch/>
        </p:blipFill>
        <p:spPr>
          <a:xfrm>
            <a:off x="-33480" y="5327640"/>
            <a:ext cx="9256680" cy="155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"/>
          <p:cNvSpPr/>
          <p:nvPr/>
        </p:nvSpPr>
        <p:spPr>
          <a:xfrm>
            <a:off x="-9360" y="-12600"/>
            <a:ext cx="9127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、从文中我们可以看到作者的感情是怎样的？哪些句子明显表明了作者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作者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渴望创造，热切呼唤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：“创造之神！你回来呀！只要你肯回来，我们愿意把一切——我们的汗，我们的血，我们的心，我们的生命——都献给你。只要有一滴汗，一滴血，一滴热情，便是创造之神所爱住的行宫，就能开创造之花，结创造之果，繁殖创造之森林。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0" y="18720"/>
            <a:ext cx="1596960" cy="40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482400"/>
                </a:solidFill>
                <a:latin typeface="Arial"/>
              </a:rPr>
              <a:t>创造宣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72200" y="2282400"/>
            <a:ext cx="3808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51000"/>
          </a:bodyPr>
          <a:p>
            <a:pPr marL="1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123"/>
          <p:cNvSpPr/>
          <p:nvPr/>
        </p:nvSpPr>
        <p:spPr>
          <a:xfrm>
            <a:off x="58680" y="287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5127"/>
          <p:cNvSpPr/>
          <p:nvPr/>
        </p:nvSpPr>
        <p:spPr>
          <a:xfrm>
            <a:off x="7102440" y="4365720"/>
            <a:ext cx="330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陶行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45057" descr="陶行知"/>
          <p:cNvPicPr/>
          <p:nvPr/>
        </p:nvPicPr>
        <p:blipFill>
          <a:blip r:embed="rId1"/>
          <a:stretch/>
        </p:blipFill>
        <p:spPr>
          <a:xfrm>
            <a:off x="-41400" y="19080"/>
            <a:ext cx="6726240" cy="504828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"/>
          <p:cNvSpPr/>
          <p:nvPr/>
        </p:nvSpPr>
        <p:spPr>
          <a:xfrm>
            <a:off x="2263680" y="5440320"/>
            <a:ext cx="52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驳论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品味语言（排比、比喻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0" y="650880"/>
            <a:ext cx="9144000" cy="62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“有人说……不能创造”五个段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突出强调缺乏自信的危害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但是就在监牢中，产生了《易经》之卦辞，产生了《正气歌》，产生了《国际歌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在单调恶劣环境中一样可以创造出惊世之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55297" descr="1"/>
          <p:cNvPicPr/>
          <p:nvPr/>
        </p:nvPicPr>
        <p:blipFill>
          <a:blip r:embed="rId1"/>
          <a:stretch/>
        </p:blipFill>
        <p:spPr>
          <a:xfrm>
            <a:off x="0" y="6558120"/>
            <a:ext cx="9126360" cy="299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八十一难之玄奘，毕竟取得佛经；粮水断绝，众叛亲离之哥伦布，毕竟发现了美洲；冻饿病三重压迫下之莫扎特，毕竟写出了《安魂曲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有志者排除万难就可取得巨大成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是的，生路是要勇气探出来，走出来，创造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开辟生路首先靠的是勇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67604" descr="t014c816e30942752c3"/>
          <p:cNvPicPr/>
          <p:nvPr/>
        </p:nvPicPr>
        <p:blipFill>
          <a:blip r:embed="rId1"/>
          <a:stretch/>
        </p:blipFill>
        <p:spPr>
          <a:xfrm>
            <a:off x="0" y="6122880"/>
            <a:ext cx="9144000" cy="735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-6480" y="12240"/>
            <a:ext cx="9266400" cy="555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所以，处处是创造之地，天天是创造之时，人人是创造之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创造是每个人都拥有的潜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汗干了，血干了，热情干了，僵了，死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强调没有创造力就如同没有了生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62518" descr="t01245d76c3fc0828db"/>
          <p:cNvPicPr/>
          <p:nvPr/>
        </p:nvPicPr>
        <p:blipFill>
          <a:blip r:embed="rId1"/>
          <a:stretch/>
        </p:blipFill>
        <p:spPr>
          <a:xfrm>
            <a:off x="-6480" y="4444920"/>
            <a:ext cx="9182160" cy="24177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7640" y="10800"/>
            <a:ext cx="9145440" cy="68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只要有一滴汗、一滴血、一滴热情，便是　创造之神所爱住的行宫，就能开创造之花，结创造之果，繁殖创造之森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　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强调任何一点的创造力，都会促进成就的取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63542" descr="t014a10199af74244ce"/>
          <p:cNvPicPr/>
          <p:nvPr/>
        </p:nvPicPr>
        <p:blipFill>
          <a:blip r:embed="rId1"/>
          <a:stretch/>
        </p:blipFill>
        <p:spPr>
          <a:xfrm>
            <a:off x="-6480" y="4137120"/>
            <a:ext cx="9134640" cy="27954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-6840" y="-12600"/>
            <a:ext cx="9132840" cy="61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、当英雄无用武之地，他除了大无畏之斧，还得有智慧之剑，金刚之信念与意志，才能开出一条生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在这句话中，作者把勇气比作斧，把智慧比作剑，把信念和意志比作金刚，说明当陷入绝境，走投无路时，只有勇气、智慧、信念与意志，才能使人绝处逢生，闯出一条生路。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63542" descr="t014a10199af74244ce"/>
          <p:cNvPicPr/>
          <p:nvPr/>
        </p:nvPicPr>
        <p:blipFill>
          <a:blip r:embed="rId1"/>
          <a:stretch/>
        </p:blipFill>
        <p:spPr>
          <a:xfrm>
            <a:off x="-6480" y="5419800"/>
            <a:ext cx="9134640" cy="1512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0" y="-49680"/>
            <a:ext cx="9121680" cy="689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写作特色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举例论证，说服力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破立结合，论证有力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叙议结合，观点鲜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课堂小结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陶行知先生以大量生动、典型、有说服力的事实，以充满激情的语言一再告诉我们：在创造面前人人平等。只要你愿意，只要你有勇气，有智慧，有信念和意志，你就可以成为创造之人。反复诵读、品味本文，可以让人与勇气握手，与自信重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67606" descr="t018f0a99de9aeb01c7"/>
          <p:cNvPicPr/>
          <p:nvPr/>
        </p:nvPicPr>
        <p:blipFill>
          <a:blip r:embed="rId1"/>
          <a:stretch/>
        </p:blipFill>
        <p:spPr>
          <a:xfrm>
            <a:off x="6494400" y="-49320"/>
            <a:ext cx="2631960" cy="2578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0" y="11160"/>
            <a:ext cx="9304560" cy="69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这篇议论文论述了怎样做学问。作者根据自己的经验，提出中心论点：治学必须有怀疑精神，才能辨伪去妄，才能建设新学说、启迪新发明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特色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中心论点鲜明突出，论证鞭辟入里，令人信服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引用名言、列举事例论证论点，说服力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53265" descr="4"/>
          <p:cNvPicPr/>
          <p:nvPr/>
        </p:nvPicPr>
        <p:blipFill>
          <a:blip r:embed="rId1"/>
          <a:stretch/>
        </p:blipFill>
        <p:spPr>
          <a:xfrm>
            <a:off x="0" y="2793960"/>
            <a:ext cx="9144000" cy="415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主题思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1800" y="552600"/>
            <a:ext cx="9034200" cy="55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作者用生动的事例，主要论述教育者需要探索创造理论和创造技术。文章的主旨是号召师生共同献身于创造，处处、天天、人人都要创造，教育要创造出真善美的活人，以达到教育的最大成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63542" descr="t014a10199af74244ce"/>
          <p:cNvPicPr/>
          <p:nvPr/>
        </p:nvPicPr>
        <p:blipFill>
          <a:blip r:embed="rId1"/>
          <a:stretch/>
        </p:blipFill>
        <p:spPr>
          <a:xfrm>
            <a:off x="3240" y="4968720"/>
            <a:ext cx="9360000" cy="179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6600"/>
            <a:ext cx="822960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阅读感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080" y="623520"/>
            <a:ext cx="9112320" cy="63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生活中有许多条件不如我们，健康不如我们，或者和我们一样平凡的人，都创造出了自己不平凡的人生。所以，只要我们有勇气，有自信，敢创造，同样也能书写出属于自己的精彩人生篇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图片 67610" descr="t012e51267d0854147e"/>
          <p:cNvPicPr/>
          <p:nvPr/>
        </p:nvPicPr>
        <p:blipFill>
          <a:blip r:embed="rId1"/>
          <a:stretch/>
        </p:blipFill>
        <p:spPr>
          <a:xfrm>
            <a:off x="-36360" y="4975200"/>
            <a:ext cx="9194760" cy="19083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-6840" y="-24120"/>
            <a:ext cx="9145800" cy="61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】正如陶行知先生在文中所言，除了有勇气、意志、信念之外，要创造还需要有智慧。而智慧主要来源于学习。我们只有现在好好努力，才能为将来更好的创造奠定坚实的基础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23556" descr="t010b5fd3d1ec046e0c"/>
          <p:cNvPicPr/>
          <p:nvPr/>
        </p:nvPicPr>
        <p:blipFill>
          <a:blip r:embed="rId1"/>
          <a:stretch/>
        </p:blipFill>
        <p:spPr>
          <a:xfrm>
            <a:off x="-6480" y="4227480"/>
            <a:ext cx="9145800" cy="26370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学习目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54000" y="658800"/>
            <a:ext cx="9096480" cy="62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积累生字词及和作者相关的文学常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习运用具体事例及理论论据驳斥错误观点，从而得出正确观点的驳论方法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品味文章语言的精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领会自信心与创造力的因果关系及自信心对个人发展的重要作用，培养学生的自信心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复习议论文相关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80" y="623880"/>
            <a:ext cx="9134640" cy="62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论据类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事实论据　理论论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论证方法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举例论证、对比论证、　引用论证、比喻论证、　类比论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议论类型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立论、　驳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驳论方法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驳论点、　驳论据、　驳论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议论文三要素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论点、　论据、　论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49157" descr="5-2-4"/>
          <p:cNvPicPr/>
          <p:nvPr/>
        </p:nvPicPr>
        <p:blipFill>
          <a:blip r:embed="rId1"/>
          <a:stretch/>
        </p:blipFill>
        <p:spPr>
          <a:xfrm>
            <a:off x="8172360" y="5918040"/>
            <a:ext cx="1219320" cy="9669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49157" descr="5-2-4"/>
          <p:cNvPicPr/>
          <p:nvPr/>
        </p:nvPicPr>
        <p:blipFill>
          <a:blip r:embed="rId2"/>
          <a:stretch/>
        </p:blipFill>
        <p:spPr>
          <a:xfrm>
            <a:off x="6029280" y="6137280"/>
            <a:ext cx="1219320" cy="861840"/>
          </a:xfrm>
          <a:prstGeom prst="rect">
            <a:avLst/>
          </a:prstGeom>
          <a:ln w="0">
            <a:noFill/>
          </a:ln>
        </p:spPr>
      </p:pic>
      <p:pic>
        <p:nvPicPr>
          <p:cNvPr id="57" name="图片 49157" descr="5-2-4"/>
          <p:cNvPicPr/>
          <p:nvPr/>
        </p:nvPicPr>
        <p:blipFill>
          <a:blip r:embed="rId3"/>
          <a:stretch/>
        </p:blipFill>
        <p:spPr>
          <a:xfrm>
            <a:off x="4089240" y="6058080"/>
            <a:ext cx="1219320" cy="9410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9157" descr="5-2-4"/>
          <p:cNvPicPr/>
          <p:nvPr/>
        </p:nvPicPr>
        <p:blipFill>
          <a:blip r:embed="rId4"/>
          <a:stretch/>
        </p:blipFill>
        <p:spPr>
          <a:xfrm>
            <a:off x="2052720" y="6137280"/>
            <a:ext cx="1218960" cy="7477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49157" descr="5-2-4"/>
          <p:cNvPicPr/>
          <p:nvPr/>
        </p:nvPicPr>
        <p:blipFill>
          <a:blip r:embed="rId5"/>
          <a:stretch/>
        </p:blipFill>
        <p:spPr>
          <a:xfrm>
            <a:off x="4680" y="6137280"/>
            <a:ext cx="1219320" cy="7477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2040" y="-127080"/>
            <a:ext cx="291132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25760" y="23400"/>
            <a:ext cx="6649920" cy="69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陶行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89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46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，安徽歙县人，是我国近现代著名教育思想家和实践家。他在实践中创立的“生活即育”“教学做合一”“社会即学校”为中心的教育理论，是我国教育思想史上的一座丰碑，是为世界所知晓的中国教育家。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5057" descr="陶行知"/>
          <p:cNvPicPr/>
          <p:nvPr/>
        </p:nvPicPr>
        <p:blipFill>
          <a:blip r:embed="rId1"/>
          <a:stretch/>
        </p:blipFill>
        <p:spPr>
          <a:xfrm>
            <a:off x="-31680" y="609480"/>
            <a:ext cx="2449440" cy="6204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8320" y="-6480"/>
            <a:ext cx="54421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-6840" y="488520"/>
            <a:ext cx="914580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ò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伤                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ù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词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ù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豢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养                  繁殖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í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伤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é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卦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u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辞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樵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iáo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夫                   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i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屋檐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yá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懒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ǎ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惰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uò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uà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龙点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暴自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q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穷水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jì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tóu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60420" descr="w035"/>
          <p:cNvPicPr/>
          <p:nvPr/>
        </p:nvPicPr>
        <p:blipFill>
          <a:blip r:embed="rId1"/>
          <a:stretch/>
        </p:blipFill>
        <p:spPr>
          <a:xfrm>
            <a:off x="3994200" y="782640"/>
            <a:ext cx="1143000" cy="6162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学习词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080" y="599760"/>
            <a:ext cx="91393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伤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hòng    shā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诬陷或恶意造谣，旨在毁坏人的名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遁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dùn    cí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指理屈词穷或不愿吐露真意时，用来支吾搪塞的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鲁钝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lǔ      dù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愚笨迟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懦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nuò    fū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软弱无所作为的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豢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àn  yǎ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喂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灌溉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guàn  gài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供给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79874" descr="angel048"/>
          <p:cNvPicPr/>
          <p:nvPr/>
        </p:nvPicPr>
        <p:blipFill>
          <a:blip r:embed="rId1"/>
          <a:stretch/>
        </p:blipFill>
        <p:spPr>
          <a:xfrm>
            <a:off x="5510160" y="4821120"/>
            <a:ext cx="3630600" cy="20210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7280" y="11160"/>
            <a:ext cx="9132840" cy="68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画龙点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uà  lóng  diǎn  jī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喻写文章或讲话时，在关键处用几句话点明实质，使内容生动有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暴自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ì  bào  zì  q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己瞧不起自己，甘于落后或堕落，不求上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穷水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shān  qióng  shuǐ  jìn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和水都到了尽头。比喻无路可走陷入绝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投无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zǒu  tóu  wú  lù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路可走，已到绝境。比喻处境极困难，找不到出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53265" descr="4"/>
          <p:cNvPicPr/>
          <p:nvPr/>
        </p:nvPicPr>
        <p:blipFill>
          <a:blip r:embed="rId1"/>
          <a:stretch/>
        </p:blipFill>
        <p:spPr>
          <a:xfrm>
            <a:off x="9360" y="6510240"/>
            <a:ext cx="9150480" cy="3826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7640" y="-12600"/>
            <a:ext cx="9121680" cy="69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分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：开门见山，引出论题：人类离不开创造。（总领全文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——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指出教育者创造的目的和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——1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作者驳斥了五种“不能创造”的错误观点，举例论述如何才能创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四部分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2——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以东山樵夫的故事为喻，说明丧失创造力的可悲下场，号召我们献身于创造。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33:00Z</dcterms:created>
  <dc:creator>微软用户</dc:creator>
  <dc:description/>
  <dc:language>en-US</dc:language>
  <cp:lastModifiedBy>Administrator</cp:lastModifiedBy>
  <dcterms:modified xsi:type="dcterms:W3CDTF">2018-10-02T02:28:30Z</dcterms:modified>
  <cp:revision>7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950</vt:lpwstr>
  </property>
</Properties>
</file>